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AF7-1F10-47C4-9EEC-49210C1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572-E5D7-4467-A718-A6E3540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CB9-97AE-4E01-B07E-8C522E87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65F-8AC1-4605-A8CA-8D64EC3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AD7-3C8A-487A-A2F2-7F10173A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BB3-EC10-4C11-92A3-A258AE41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7439-B8A9-40B5-814B-6CC8E669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DE6-3BBE-40AC-AA25-10C7E38E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DFB-19A4-4683-BC60-9D63F9C3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BB07-1AC0-4C2C-9394-6156AAB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654-0F3F-4A03-B3C6-5F1D771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9D4-1F5E-49D2-B612-ADF14D92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756-0875-4ACF-B1FC-C5CCA9B038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8" descr="蝴蝶.png"/>
          <p:cNvPicPr/>
          <p:nvPr/>
        </p:nvPicPr>
        <p:blipFill>
          <a:blip r:embed="rId1"/>
          <a:stretch/>
        </p:blipFill>
        <p:spPr>
          <a:xfrm flipH="1" rot="18291600">
            <a:off x="6593040" y="114984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荣德基.png"/>
          <p:cNvPicPr/>
          <p:nvPr/>
        </p:nvPicPr>
        <p:blipFill>
          <a:blip r:embed="rId2"/>
          <a:stretch/>
        </p:blipFill>
        <p:spPr>
          <a:xfrm>
            <a:off x="237960" y="76320"/>
            <a:ext cx="156240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0" descr="구름"/>
          <p:cNvPicPr/>
          <p:nvPr/>
        </p:nvPicPr>
        <p:blipFill>
          <a:blip r:embed="rId4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1"/>
          <p:cNvGrpSpPr/>
          <p:nvPr/>
        </p:nvGrpSpPr>
        <p:grpSpPr>
          <a:xfrm>
            <a:off x="0" y="0"/>
            <a:ext cx="9150480" cy="6885000"/>
            <a:chOff x="0" y="0"/>
            <a:chExt cx="9150480" cy="6885000"/>
          </a:xfrm>
        </p:grpSpPr>
        <p:pic>
          <p:nvPicPr>
            <p:cNvPr id="46" name="图片 5" descr=""/>
            <p:cNvPicPr/>
            <p:nvPr/>
          </p:nvPicPr>
          <p:blipFill>
            <a:blip r:embed="rId5"/>
            <a:stretch/>
          </p:blipFill>
          <p:spPr>
            <a:xfrm>
              <a:off x="5400" y="4873680"/>
              <a:ext cx="907812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矩形 10"/>
            <p:cNvSpPr/>
            <p:nvPr/>
          </p:nvSpPr>
          <p:spPr>
            <a:xfrm>
              <a:off x="0" y="0"/>
              <a:ext cx="9078120" cy="218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e0ec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图片 98" descr="海报.png"/>
            <p:cNvPicPr/>
            <p:nvPr/>
          </p:nvPicPr>
          <p:blipFill>
            <a:blip r:embed="rId6"/>
            <a:stretch/>
          </p:blipFill>
          <p:spPr>
            <a:xfrm>
              <a:off x="236160" y="2419200"/>
              <a:ext cx="2787840" cy="37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图片 8" descr="小花.png"/>
            <p:cNvPicPr/>
            <p:nvPr/>
          </p:nvPicPr>
          <p:blipFill>
            <a:blip r:embed="rId7"/>
            <a:stretch/>
          </p:blipFill>
          <p:spPr>
            <a:xfrm rot="1153200">
              <a:off x="7534800" y="5174640"/>
              <a:ext cx="113148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矩形 17" descr=""/>
            <p:cNvPicPr/>
            <p:nvPr/>
          </p:nvPicPr>
          <p:blipFill>
            <a:blip r:embed="rId8"/>
            <a:stretch/>
          </p:blipFill>
          <p:spPr>
            <a:xfrm>
              <a:off x="1724760" y="1530000"/>
              <a:ext cx="7425720" cy="315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50" descr="나뭇잎2"/>
          <p:cNvPicPr/>
          <p:nvPr/>
        </p:nvPicPr>
        <p:blipFill>
          <a:blip r:embed="rId9"/>
          <a:stretch/>
        </p:blipFill>
        <p:spPr>
          <a:xfrm rot="3370800">
            <a:off x="471960" y="1549800"/>
            <a:ext cx="1797120" cy="5889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8" descr="蝴蝶.png"/>
          <p:cNvPicPr/>
          <p:nvPr/>
        </p:nvPicPr>
        <p:blipFill>
          <a:blip r:embed="rId10"/>
          <a:stretch/>
        </p:blipFill>
        <p:spPr>
          <a:xfrm flipH="1" rot="18291600">
            <a:off x="6389640" y="9003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9" descr="구름"/>
          <p:cNvPicPr/>
          <p:nvPr/>
        </p:nvPicPr>
        <p:blipFill>
          <a:blip r:embed="rId11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0" descr="구름"/>
          <p:cNvPicPr/>
          <p:nvPr/>
        </p:nvPicPr>
        <p:blipFill>
          <a:blip r:embed="rId1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구름"/>
          <p:cNvPicPr/>
          <p:nvPr/>
        </p:nvPicPr>
        <p:blipFill>
          <a:blip r:embed="rId13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3" descr=""/>
          <p:cNvPicPr/>
          <p:nvPr/>
        </p:nvPicPr>
        <p:blipFill>
          <a:blip r:embed="rId2"/>
          <a:stretch/>
        </p:blipFill>
        <p:spPr>
          <a:xfrm>
            <a:off x="390600" y="974880"/>
            <a:ext cx="838188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3" descr=""/>
          <p:cNvPicPr/>
          <p:nvPr/>
        </p:nvPicPr>
        <p:blipFill>
          <a:blip r:embed="rId2"/>
          <a:stretch/>
        </p:blipFill>
        <p:spPr>
          <a:xfrm>
            <a:off x="512640" y="1189080"/>
            <a:ext cx="805824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3" descr=""/>
          <p:cNvPicPr/>
          <p:nvPr/>
        </p:nvPicPr>
        <p:blipFill>
          <a:blip r:embed="rId2"/>
          <a:stretch/>
        </p:blipFill>
        <p:spPr>
          <a:xfrm>
            <a:off x="738360" y="944640"/>
            <a:ext cx="804528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3" descr=""/>
          <p:cNvPicPr/>
          <p:nvPr/>
        </p:nvPicPr>
        <p:blipFill>
          <a:blip r:embed="rId2"/>
          <a:stretch/>
        </p:blipFill>
        <p:spPr>
          <a:xfrm>
            <a:off x="530280" y="1122480"/>
            <a:ext cx="8010360" cy="60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3" descr=""/>
          <p:cNvPicPr/>
          <p:nvPr/>
        </p:nvPicPr>
        <p:blipFill>
          <a:blip r:embed="rId2"/>
          <a:stretch/>
        </p:blipFill>
        <p:spPr>
          <a:xfrm>
            <a:off x="530280" y="1122480"/>
            <a:ext cx="8077320" cy="3979800"/>
          </a:xfrm>
          <a:prstGeom prst="rect">
            <a:avLst/>
          </a:prstGeom>
          <a:ln w="0">
            <a:noFill/>
          </a:ln>
        </p:spPr>
      </p:pic>
      <p:pic>
        <p:nvPicPr>
          <p:cNvPr id="97" name="矩形 1" descr=""/>
          <p:cNvPicPr/>
          <p:nvPr/>
        </p:nvPicPr>
        <p:blipFill>
          <a:blip r:embed="rId3"/>
          <a:stretch/>
        </p:blipFill>
        <p:spPr>
          <a:xfrm>
            <a:off x="4565520" y="1981080"/>
            <a:ext cx="438336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3" descr=""/>
          <p:cNvPicPr/>
          <p:nvPr/>
        </p:nvPicPr>
        <p:blipFill>
          <a:blip r:embed="rId2"/>
          <a:stretch/>
        </p:blipFill>
        <p:spPr>
          <a:xfrm>
            <a:off x="512640" y="1231920"/>
            <a:ext cx="82965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3" descr=""/>
          <p:cNvPicPr/>
          <p:nvPr/>
        </p:nvPicPr>
        <p:blipFill>
          <a:blip r:embed="rId2"/>
          <a:stretch/>
        </p:blipFill>
        <p:spPr>
          <a:xfrm>
            <a:off x="512640" y="1322280"/>
            <a:ext cx="821052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3" descr=""/>
          <p:cNvPicPr/>
          <p:nvPr/>
        </p:nvPicPr>
        <p:blipFill>
          <a:blip r:embed="rId2"/>
          <a:stretch/>
        </p:blipFill>
        <p:spPr>
          <a:xfrm>
            <a:off x="596880" y="1066680"/>
            <a:ext cx="8023320" cy="680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3" descr=""/>
          <p:cNvPicPr/>
          <p:nvPr/>
        </p:nvPicPr>
        <p:blipFill>
          <a:blip r:embed="rId2"/>
          <a:stretch/>
        </p:blipFill>
        <p:spPr>
          <a:xfrm>
            <a:off x="701640" y="1189080"/>
            <a:ext cx="7991640" cy="4535280"/>
          </a:xfrm>
          <a:prstGeom prst="rect">
            <a:avLst/>
          </a:prstGeom>
          <a:ln w="0">
            <a:noFill/>
          </a:ln>
        </p:spPr>
      </p:pic>
      <p:pic>
        <p:nvPicPr>
          <p:cNvPr id="58" name="矩形 1" descr=""/>
          <p:cNvPicPr/>
          <p:nvPr/>
        </p:nvPicPr>
        <p:blipFill>
          <a:blip r:embed="rId3"/>
          <a:stretch/>
        </p:blipFill>
        <p:spPr>
          <a:xfrm>
            <a:off x="689040" y="2846520"/>
            <a:ext cx="22366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3" descr=""/>
          <p:cNvPicPr/>
          <p:nvPr/>
        </p:nvPicPr>
        <p:blipFill>
          <a:blip r:embed="rId2"/>
          <a:stretch/>
        </p:blipFill>
        <p:spPr>
          <a:xfrm>
            <a:off x="371520" y="1238400"/>
            <a:ext cx="83088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3" descr=""/>
          <p:cNvPicPr/>
          <p:nvPr/>
        </p:nvPicPr>
        <p:blipFill>
          <a:blip r:embed="rId2"/>
          <a:stretch/>
        </p:blipFill>
        <p:spPr>
          <a:xfrm>
            <a:off x="371520" y="1122480"/>
            <a:ext cx="8528040" cy="603000"/>
          </a:xfrm>
          <a:prstGeom prst="rect">
            <a:avLst/>
          </a:prstGeom>
          <a:ln w="0">
            <a:noFill/>
          </a:ln>
        </p:spPr>
      </p:pic>
      <p:grpSp>
        <p:nvGrpSpPr>
          <p:cNvPr id="63" name="组合 2"/>
          <p:cNvGrpSpPr/>
          <p:nvPr/>
        </p:nvGrpSpPr>
        <p:grpSpPr>
          <a:xfrm>
            <a:off x="755640" y="1820880"/>
            <a:ext cx="8126280" cy="3892320"/>
            <a:chOff x="755640" y="1820880"/>
            <a:chExt cx="8126280" cy="3892320"/>
          </a:xfrm>
        </p:grpSpPr>
        <p:sp>
          <p:nvSpPr>
            <p:cNvPr id="64" name="矩形 1"/>
            <p:cNvSpPr/>
            <p:nvPr/>
          </p:nvSpPr>
          <p:spPr>
            <a:xfrm>
              <a:off x="755640" y="1820880"/>
              <a:ext cx="5616720" cy="11912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顶碗姑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一幅优美的剪纸深深吸引了我：一片茂盛的草地前，一位蒙古族姑娘正在翩翩起舞。她身着长长的花裙，体态婀娜，舞步轻盈。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宋体"/>
                </a:rPr>
                <a:t>①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她头顶三个精致的陶瓷碗，帽子上的一朵花尽情地绽放。少女的眼睛弯成了一条缝，脸上漾着丰收的喜悦。她不停地旋转，裙摆飞扬，如一位仙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矩形 6"/>
            <p:cNvSpPr/>
            <p:nvPr/>
          </p:nvSpPr>
          <p:spPr>
            <a:xfrm>
              <a:off x="6372360" y="1827000"/>
              <a:ext cx="2509560" cy="38862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①</a:t>
              </a:r>
              <a:r>
                <a:rPr b="0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描写第二幅剪纸中人物的动作、衣着等特点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2"/>
          <p:cNvGrpSpPr/>
          <p:nvPr/>
        </p:nvGrpSpPr>
        <p:grpSpPr>
          <a:xfrm>
            <a:off x="755640" y="1268280"/>
            <a:ext cx="8064360" cy="4084560"/>
            <a:chOff x="755640" y="1268280"/>
            <a:chExt cx="8064360" cy="4084560"/>
          </a:xfrm>
        </p:grpSpPr>
        <p:sp>
          <p:nvSpPr>
            <p:cNvPr id="68" name="矩形 1"/>
            <p:cNvSpPr/>
            <p:nvPr/>
          </p:nvSpPr>
          <p:spPr>
            <a:xfrm>
              <a:off x="755640" y="1268280"/>
              <a:ext cx="4824360" cy="19227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从天而降。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看着这美好的画面，我情不自禁地展开了幻想的翅膀，飞向童话的王国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宋体"/>
                </a:rPr>
                <a:t>③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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在蒙古这个部落中，有一位美丽的姑娘，她为人善良、正直，她的舞是跳得最好的，人们叫她舞梦姑娘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有一年，部落闹干旱，大地都裂开了一道道口子。在骄阳似火的日子里，牧草都枯死了，人们有一种要被晒死的感觉，人人像被晒干的狗尾巴草，个个无精打采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矩形 6"/>
            <p:cNvSpPr/>
            <p:nvPr/>
          </p:nvSpPr>
          <p:spPr>
            <a:xfrm>
              <a:off x="5580000" y="1283760"/>
              <a:ext cx="3240000" cy="406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②</a:t>
              </a: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想象女子跳舞的情景，如在眼前一般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③</a:t>
              </a: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编织童话，展开想象的翅膀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71" name="组合 3"/>
          <p:cNvGrpSpPr/>
          <p:nvPr/>
        </p:nvGrpSpPr>
        <p:grpSpPr>
          <a:xfrm>
            <a:off x="755640" y="1197000"/>
            <a:ext cx="8064360" cy="5112360"/>
            <a:chOff x="755640" y="1197000"/>
            <a:chExt cx="8064360" cy="5112360"/>
          </a:xfrm>
        </p:grpSpPr>
        <p:sp>
          <p:nvSpPr>
            <p:cNvPr id="72" name="矩形 1"/>
            <p:cNvSpPr/>
            <p:nvPr/>
          </p:nvSpPr>
          <p:spPr>
            <a:xfrm>
              <a:off x="755640" y="1197000"/>
              <a:ext cx="4787640" cy="146556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舞梦姑娘看到原本精神抖擞、勤劳能干的蒙古族人个个变得垂头丧气，心想：再这样下去怎么得了？一定要让大家振作起来，得想办法拯救家园。于是，舞梦姑娘来到牧场里，跳起了欢快的“顶碗舞”。她的舞姿轻快动人，人们纷纷走过来，欣赏这优美的舞姿，不禁啧啧赞叹：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舞梦姑娘跳得真好啊！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舞梦姑娘的舞姿感染了大家，大家都打起精神，围着舞梦姑娘也跳起来。舞梦姑娘又唱起歌来，大家一起载歌载舞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2000" spc="-1" strike="noStrike" baseline="30000">
                  <a:solidFill>
                    <a:srgbClr val="000000"/>
                  </a:solidFill>
                  <a:latin typeface="宋体"/>
                </a:rPr>
                <a:t>④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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矩形 6"/>
            <p:cNvSpPr/>
            <p:nvPr/>
          </p:nvSpPr>
          <p:spPr>
            <a:xfrm>
              <a:off x="5543280" y="1212480"/>
              <a:ext cx="3276720" cy="50968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④</a:t>
              </a:r>
              <a:r>
                <a:rPr b="1" lang="zh-CN" sz="22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给画面中人物赋予了顽强的毅力和善良的心地，使人物形象更立体鲜活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2"/>
          <p:cNvGrpSpPr/>
          <p:nvPr/>
        </p:nvGrpSpPr>
        <p:grpSpPr>
          <a:xfrm>
            <a:off x="755640" y="1278000"/>
            <a:ext cx="8064360" cy="7122600"/>
            <a:chOff x="755640" y="1278000"/>
            <a:chExt cx="8064360" cy="7122600"/>
          </a:xfrm>
        </p:grpSpPr>
        <p:sp>
          <p:nvSpPr>
            <p:cNvPr id="76" name="矩形 1"/>
            <p:cNvSpPr/>
            <p:nvPr/>
          </p:nvSpPr>
          <p:spPr>
            <a:xfrm>
              <a:off x="755640" y="1278000"/>
              <a:ext cx="4787640" cy="6426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天神被舞梦姑娘的顽强的毅力和善良的心地打动了，于是将神水倒入她顶的碗中，想帮助蒙古族人民渡过这一难关。舞梦姑娘看到大家欢乐的笑容，舒了口气。她想休息一会儿，当她把碗拿下来的时候，惊奇地发现碗里装满了水！她舍不得喝一口，于是她把碗里的水泼向牧场。顿时，草全长出来了，土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5543280" y="1293480"/>
              <a:ext cx="3276720" cy="7107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79" name="组合 2"/>
          <p:cNvGrpSpPr/>
          <p:nvPr/>
        </p:nvGrpSpPr>
        <p:grpSpPr>
          <a:xfrm>
            <a:off x="755640" y="1278000"/>
            <a:ext cx="8064360" cy="7122600"/>
            <a:chOff x="755640" y="1278000"/>
            <a:chExt cx="8064360" cy="7122600"/>
          </a:xfrm>
        </p:grpSpPr>
        <p:sp>
          <p:nvSpPr>
            <p:cNvPr id="80" name="矩形 1"/>
            <p:cNvSpPr/>
            <p:nvPr/>
          </p:nvSpPr>
          <p:spPr>
            <a:xfrm>
              <a:off x="755640" y="1278000"/>
              <a:ext cx="4787640" cy="17398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也不干裂了。舞梦姑娘又把水向花园一泼，园子里长出了小花，红的、白的、黄的、紫的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各色的花汇成了花的海洋，为大自然吐露芬芳。舞梦姑娘明白了：这是神水！她把部落的每一个角落都洒上水，部落又恢复了生机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蒙古族人们欢欣鼓舞，觉得是善良的舞梦姑娘给他们带来了幸福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矩形 6"/>
            <p:cNvSpPr/>
            <p:nvPr/>
          </p:nvSpPr>
          <p:spPr>
            <a:xfrm>
              <a:off x="5543280" y="1293480"/>
              <a:ext cx="3276720" cy="710712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标题 1" descr=""/>
          <p:cNvPicPr/>
          <p:nvPr/>
        </p:nvPicPr>
        <p:blipFill>
          <a:blip r:embed="rId1"/>
          <a:stretch/>
        </p:blipFill>
        <p:spPr>
          <a:xfrm>
            <a:off x="2773440" y="-6480"/>
            <a:ext cx="3902040" cy="970200"/>
          </a:xfrm>
          <a:prstGeom prst="rect">
            <a:avLst/>
          </a:prstGeom>
          <a:ln w="0">
            <a:noFill/>
          </a:ln>
        </p:spPr>
      </p:pic>
      <p:grpSp>
        <p:nvGrpSpPr>
          <p:cNvPr id="83" name="组合 3"/>
          <p:cNvGrpSpPr/>
          <p:nvPr/>
        </p:nvGrpSpPr>
        <p:grpSpPr>
          <a:xfrm>
            <a:off x="755640" y="1278000"/>
            <a:ext cx="8064360" cy="1137960"/>
            <a:chOff x="755640" y="1278000"/>
            <a:chExt cx="8064360" cy="1137960"/>
          </a:xfrm>
        </p:grpSpPr>
        <p:sp>
          <p:nvSpPr>
            <p:cNvPr id="84" name="矩形 1"/>
            <p:cNvSpPr/>
            <p:nvPr/>
          </p:nvSpPr>
          <p:spPr>
            <a:xfrm>
              <a:off x="755640" y="1278000"/>
              <a:ext cx="4787640" cy="64260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是她的舞蹈和神水给他们带来了吉祥。从此，蒙古族人在婚宴和喜庆佳节上都会跳顶碗舞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……</a:t>
              </a:r>
              <a:r>
                <a:rPr b="1" lang="zh-CN" sz="2400" spc="-1" strike="noStrike" baseline="30000">
                  <a:solidFill>
                    <a:srgbClr val="000000"/>
                  </a:solidFill>
                  <a:latin typeface="宋体"/>
                </a:rPr>
                <a:t>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矩形 6"/>
            <p:cNvSpPr/>
            <p:nvPr/>
          </p:nvSpPr>
          <p:spPr>
            <a:xfrm>
              <a:off x="5543280" y="1293480"/>
              <a:ext cx="3276720" cy="11224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800000"/>
                  </a:solidFill>
                  <a:latin typeface="宋体"/>
                </a:rPr>
                <a:t>点评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⑤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结合蒙古族的传统进行想象，想象自然合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2"/>
          <p:cNvSpPr/>
          <p:nvPr/>
        </p:nvSpPr>
        <p:spPr>
          <a:xfrm>
            <a:off x="826920" y="3284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宋体"/>
              </a:rPr>
              <a:t>总评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作者抓住第二幅剪纸进行介绍，不仅描绘了剪纸中人物的动作、衣着、舞姿，还想象了一个神奇的童话故事，赋予人物坚毅和善良的美德，使得人物立体感增强。最后联系蒙古族的传统，使得想象变得合情合理，自然妥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1T01:44:46Z</dcterms:created>
  <dc:creator>Administrator</dc:creator>
  <dc:description/>
  <dc:language>en-US</dc:language>
  <cp:lastModifiedBy>Administrator</cp:lastModifiedBy>
  <dcterms:modified xsi:type="dcterms:W3CDTF">2017-10-30T12:44:20Z</dcterms:modified>
  <cp:revision>38</cp:revision>
  <dc:subject/>
  <dc:title>PowerPoint 演示文稿</dc:title>
</cp:coreProperties>
</file>