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49E2-1667-4859-B84E-FC941863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1EE2-829C-410F-ACB3-002026DE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24C0-1714-4CFD-AF95-439DBF8A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1A17-ABFF-48BF-A3B8-FD191115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EDC3-1F2B-4F5C-A315-8EB729BC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BBF1-99CB-4605-B903-F98C2362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3B81-B8A4-45BC-A8B8-3CE68054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23B8-BBE6-49D9-8DA5-0BFD653E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36A5-F518-47C0-86CF-86B4E4E0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D45E-0E2A-4302-858D-202BB50C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46E4-954E-4ADC-8822-1B5C24EC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546D-E000-42F0-8966-C3282315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AA14-1EEA-4B14-A7DE-B90D7D4FBE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8" descr="蝴蝶.png"/>
          <p:cNvPicPr/>
          <p:nvPr/>
        </p:nvPicPr>
        <p:blipFill>
          <a:blip r:embed="rId1"/>
          <a:stretch/>
        </p:blipFill>
        <p:spPr>
          <a:xfrm flipH="1" rot="18291600">
            <a:off x="6593040" y="114984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6" descr="荣德基.png"/>
          <p:cNvPicPr/>
          <p:nvPr/>
        </p:nvPicPr>
        <p:blipFill>
          <a:blip r:embed="rId2"/>
          <a:stretch/>
        </p:blipFill>
        <p:spPr>
          <a:xfrm>
            <a:off x="237960" y="76320"/>
            <a:ext cx="156240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0" descr="구름"/>
          <p:cNvPicPr/>
          <p:nvPr/>
        </p:nvPicPr>
        <p:blipFill>
          <a:blip r:embed="rId4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1"/>
          <p:cNvGrpSpPr/>
          <p:nvPr/>
        </p:nvGrpSpPr>
        <p:grpSpPr>
          <a:xfrm>
            <a:off x="0" y="0"/>
            <a:ext cx="9150480" cy="6870600"/>
            <a:chOff x="0" y="0"/>
            <a:chExt cx="9150480" cy="6870600"/>
          </a:xfrm>
        </p:grpSpPr>
        <p:pic>
          <p:nvPicPr>
            <p:cNvPr id="46" name="图片 5" descr=""/>
            <p:cNvPicPr/>
            <p:nvPr/>
          </p:nvPicPr>
          <p:blipFill>
            <a:blip r:embed="rId5"/>
            <a:stretch/>
          </p:blipFill>
          <p:spPr>
            <a:xfrm>
              <a:off x="5400" y="4859280"/>
              <a:ext cx="91450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矩形 10"/>
            <p:cNvSpPr/>
            <p:nvPr/>
          </p:nvSpPr>
          <p:spPr>
            <a:xfrm>
              <a:off x="0" y="0"/>
              <a:ext cx="9145080" cy="218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7e0ec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8" name="图片 98" descr="海报.png"/>
            <p:cNvPicPr/>
            <p:nvPr/>
          </p:nvPicPr>
          <p:blipFill>
            <a:blip r:embed="rId6"/>
            <a:stretch/>
          </p:blipFill>
          <p:spPr>
            <a:xfrm>
              <a:off x="237960" y="2419560"/>
              <a:ext cx="2808360" cy="374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图片 8" descr="小花.png"/>
            <p:cNvPicPr/>
            <p:nvPr/>
          </p:nvPicPr>
          <p:blipFill>
            <a:blip r:embed="rId7"/>
            <a:stretch/>
          </p:blipFill>
          <p:spPr>
            <a:xfrm rot="1153200">
              <a:off x="7590240" y="5175360"/>
              <a:ext cx="113976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矩形 17" descr=""/>
            <p:cNvPicPr/>
            <p:nvPr/>
          </p:nvPicPr>
          <p:blipFill>
            <a:blip r:embed="rId8"/>
            <a:stretch/>
          </p:blipFill>
          <p:spPr>
            <a:xfrm>
              <a:off x="1932480" y="1530000"/>
              <a:ext cx="7084080" cy="315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Picture 50" descr="나뭇잎2"/>
          <p:cNvPicPr/>
          <p:nvPr/>
        </p:nvPicPr>
        <p:blipFill>
          <a:blip r:embed="rId9"/>
          <a:stretch/>
        </p:blipFill>
        <p:spPr>
          <a:xfrm rot="3370800">
            <a:off x="471960" y="1549800"/>
            <a:ext cx="1797120" cy="58896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8" descr="蝴蝶.png"/>
          <p:cNvPicPr/>
          <p:nvPr/>
        </p:nvPicPr>
        <p:blipFill>
          <a:blip r:embed="rId10"/>
          <a:stretch/>
        </p:blipFill>
        <p:spPr>
          <a:xfrm flipH="1" rot="18291600">
            <a:off x="6389640" y="9003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9" descr="구름"/>
          <p:cNvPicPr/>
          <p:nvPr/>
        </p:nvPicPr>
        <p:blipFill>
          <a:blip r:embed="rId11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0" descr="구름"/>
          <p:cNvPicPr/>
          <p:nvPr/>
        </p:nvPicPr>
        <p:blipFill>
          <a:blip r:embed="rId1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구름"/>
          <p:cNvPicPr/>
          <p:nvPr/>
        </p:nvPicPr>
        <p:blipFill>
          <a:blip r:embed="rId13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666720" y="11588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首诗实际上只有一句话，然而却形象传神地让人感受到秋天的来临。其中，最耐人寻味的就是那个比方：“如一叶扁舟，上面坐着秋天。”真是神来之笔，令人称奇！秋天风雨兼程，是乘着树叶小船来的。除了沉静的秋天，谁能这样悠然自得，乘风破浪，波澜不惊？秋天到了，树叶有的变黄了，有的变红了。就有那么一片红叶，落到了湖面上，轻轻地漂来荡去。这红叶一片，带来了秋的消息，可谓是“一叶落而知天下秋”。正是这一寻常景观，落入了诗人的视野，一个“坐”字，写活了秋天，写动了风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3" descr=""/>
          <p:cNvPicPr/>
          <p:nvPr/>
        </p:nvPicPr>
        <p:blipFill>
          <a:blip r:embed="rId2"/>
          <a:stretch/>
        </p:blipFill>
        <p:spPr>
          <a:xfrm>
            <a:off x="512640" y="1122480"/>
            <a:ext cx="838692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755640" y="1052640"/>
            <a:ext cx="792000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．说说喜欢的原因。喜欢一个电视栏目，多半都是有原因的，比如内容实用、形式活泼或者喜欢栏目的主持人，不管是什么原因，希望同学们能够大胆说。可以先笼统地说，就好像我们写作文列的提纲一样，通过几点表明自己喜欢的原因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．具体描述。具体地说出自己对这个栏目中某一期或者某一个场景，也或者是对主持人的某句话的印象，但必须是让你印象最深刻、给你影响最大的话，可以分成几个方面，有条理、有重点地进行描述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．首尾呼应。说明了自己喜欢的原因或印象最深的部分后，还要再表达一下对栏目的喜爱之情，以此和开头形成照应，使表达更加具有表现力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82" name="TextBox 3" descr=""/>
          <p:cNvPicPr/>
          <p:nvPr/>
        </p:nvPicPr>
        <p:blipFill>
          <a:blip r:embed="rId2"/>
          <a:stretch/>
        </p:blipFill>
        <p:spPr>
          <a:xfrm>
            <a:off x="731880" y="1122480"/>
            <a:ext cx="780876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3" descr=""/>
          <p:cNvPicPr/>
          <p:nvPr/>
        </p:nvPicPr>
        <p:blipFill>
          <a:blip r:embed="rId2"/>
          <a:stretch/>
        </p:blipFill>
        <p:spPr>
          <a:xfrm>
            <a:off x="725400" y="1146240"/>
            <a:ext cx="7948800" cy="4956120"/>
          </a:xfrm>
          <a:prstGeom prst="rect">
            <a:avLst/>
          </a:prstGeom>
          <a:ln w="0">
            <a:noFill/>
          </a:ln>
        </p:spPr>
      </p:pic>
      <p:pic>
        <p:nvPicPr>
          <p:cNvPr id="58" name="矩形 1" descr=""/>
          <p:cNvPicPr/>
          <p:nvPr/>
        </p:nvPicPr>
        <p:blipFill>
          <a:blip r:embed="rId3"/>
          <a:stretch/>
        </p:blipFill>
        <p:spPr>
          <a:xfrm>
            <a:off x="738360" y="2560680"/>
            <a:ext cx="221292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3" descr=""/>
          <p:cNvPicPr/>
          <p:nvPr/>
        </p:nvPicPr>
        <p:blipFill>
          <a:blip r:embed="rId2"/>
          <a:stretch/>
        </p:blipFill>
        <p:spPr>
          <a:xfrm>
            <a:off x="585720" y="1122480"/>
            <a:ext cx="821052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549360" y="1224000"/>
            <a:ext cx="806436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．抓住特点，写细致、写具体。在分别叙述家乡特产的各个特征时，要力求把每个特征都写细致、写具体。可以运用生动、形象的比喻和拟人等多种修辞手法，细致地描绘特产的某方面的特征，也可以运用对比的方法突出特产的特征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．把自己的喜爱之情写出来。提起家乡的特产，我们总会从心底升起一种自豪感。写自己对家乡特产的喜爱之情有两种表达方式：一种是直接式，就是在叙述家乡的特产的特点的同时把自己的感情直接地抒写出来。另一种是间接式，就是把自己对家乡的特产的喜爱之情融进字里行间，通过富有感情色彩的词语，通过富于变换的句式等表达出来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3" descr=""/>
          <p:cNvPicPr/>
          <p:nvPr/>
        </p:nvPicPr>
        <p:blipFill>
          <a:blip r:embed="rId2"/>
          <a:stretch/>
        </p:blipFill>
        <p:spPr>
          <a:xfrm>
            <a:off x="371520" y="974880"/>
            <a:ext cx="8528040" cy="604800"/>
          </a:xfrm>
          <a:prstGeom prst="rect">
            <a:avLst/>
          </a:prstGeom>
          <a:ln w="0">
            <a:noFill/>
          </a:ln>
        </p:spPr>
      </p:pic>
      <p:pic>
        <p:nvPicPr>
          <p:cNvPr id="65" name="组合 9" descr=""/>
          <p:cNvPicPr/>
          <p:nvPr/>
        </p:nvPicPr>
        <p:blipFill>
          <a:blip r:embed="rId3"/>
          <a:stretch/>
        </p:blipFill>
        <p:spPr>
          <a:xfrm>
            <a:off x="646200" y="1590840"/>
            <a:ext cx="82897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67" name="组合 9" descr=""/>
          <p:cNvPicPr/>
          <p:nvPr/>
        </p:nvPicPr>
        <p:blipFill>
          <a:blip r:embed="rId2"/>
          <a:stretch/>
        </p:blipFill>
        <p:spPr>
          <a:xfrm>
            <a:off x="646200" y="1231920"/>
            <a:ext cx="828972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69" name="组合 9" descr=""/>
          <p:cNvPicPr/>
          <p:nvPr/>
        </p:nvPicPr>
        <p:blipFill>
          <a:blip r:embed="rId2"/>
          <a:stretch/>
        </p:blipFill>
        <p:spPr>
          <a:xfrm>
            <a:off x="633240" y="1243080"/>
            <a:ext cx="8242560" cy="3170160"/>
          </a:xfrm>
          <a:prstGeom prst="rect">
            <a:avLst/>
          </a:prstGeom>
          <a:ln w="0">
            <a:noFill/>
          </a:ln>
        </p:spPr>
      </p:pic>
      <p:sp>
        <p:nvSpPr>
          <p:cNvPr id="70" name="矩形 7"/>
          <p:cNvSpPr/>
          <p:nvPr/>
        </p:nvSpPr>
        <p:spPr>
          <a:xfrm>
            <a:off x="826920" y="4338720"/>
            <a:ext cx="792180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4960" indent="-80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70c0"/>
                </a:solidFill>
                <a:latin typeface="宋体"/>
              </a:rPr>
              <a:t>总评：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本文写花生，从花生的茎、叶、花、壳、仁等特点入手，接着写花生的价值和食用方法，条理井然有序，字里行间洋溢着作者的自豪之情。另外，文中修辞手法的运用也使得花生的形象生动活泼，充满了情趣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3" descr=""/>
          <p:cNvPicPr/>
          <p:nvPr/>
        </p:nvPicPr>
        <p:blipFill>
          <a:blip r:embed="rId2"/>
          <a:stretch/>
        </p:blipFill>
        <p:spPr>
          <a:xfrm>
            <a:off x="463680" y="974880"/>
            <a:ext cx="828972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3" descr=""/>
          <p:cNvPicPr/>
          <p:nvPr/>
        </p:nvPicPr>
        <p:blipFill>
          <a:blip r:embed="rId2"/>
          <a:stretch/>
        </p:blipFill>
        <p:spPr>
          <a:xfrm>
            <a:off x="658800" y="1122480"/>
            <a:ext cx="8094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1T01:44:46Z</dcterms:created>
  <dc:creator>Administrator</dc:creator>
  <dc:description/>
  <dc:language>en-US</dc:language>
  <cp:lastModifiedBy>Administrator</cp:lastModifiedBy>
  <dcterms:modified xsi:type="dcterms:W3CDTF">2017-10-31T14:10:44Z</dcterms:modified>
  <cp:revision>19</cp:revision>
  <dc:subject/>
  <dc:title>PowerPoint 演示文稿</dc:title>
</cp:coreProperties>
</file>