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BC3-E1AE-4957-9D15-0E62EBDB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1BB-F587-4C45-8D1B-64327C4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3CD-11B9-4BCE-AE28-850C34A1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5DE-7364-49C4-8A26-5E2AD33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D3A-08DF-4CEA-8E67-7D3D491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38B-6E99-4A84-87F0-16B5D1B1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75F-3C4E-40EA-A55C-2E3FED37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BED-C622-445C-BBC6-EC4B4B36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359-1FD1-401A-8901-C4C3C6F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456-6B58-4020-BC14-3570FCC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9A5-65B9-427B-8D1B-F6283DE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424-E2DE-48CD-8DE0-7630BDD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A0A-85E4-4911-AD50-5EE1E24BC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hyperlink" Target="http://photo.blog.sina.com.cn/showpic.html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556000" y="2852640"/>
            <a:ext cx="417348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1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心的翅膀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332000" y="1197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冀教版  六年级  语文 上册  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拓展延伸"/>
          <p:cNvPicPr/>
          <p:nvPr/>
        </p:nvPicPr>
        <p:blipFill>
          <a:blip r:embed="rId1"/>
          <a:stretch/>
        </p:blipFill>
        <p:spPr>
          <a:xfrm>
            <a:off x="755640" y="981000"/>
            <a:ext cx="230364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39640" y="2781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设想如果人类没有想象力，世界将会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26920" y="2924280"/>
            <a:ext cx="73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张开心的翅膀，你一定也能用这个故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开头编出一个精彩的故事，请你把续编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写到小本本上，并讲给你的朋友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拓展延伸"/>
          <p:cNvPicPr/>
          <p:nvPr/>
        </p:nvPicPr>
        <p:blipFill>
          <a:blip r:embed="rId1"/>
          <a:stretch/>
        </p:blipFill>
        <p:spPr>
          <a:xfrm>
            <a:off x="755640" y="981000"/>
            <a:ext cx="23036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55640" y="321300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力比知识更重要，因为知识是有限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想象力概括世界上的一切，推动着进步，并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知识进化的源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爱因斯坦"/>
          <p:cNvPicPr/>
          <p:nvPr/>
        </p:nvPicPr>
        <p:blipFill>
          <a:blip r:embed="rId1"/>
          <a:stretch/>
        </p:blipFill>
        <p:spPr>
          <a:xfrm>
            <a:off x="755640" y="907920"/>
            <a:ext cx="129240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684360" y="2924280"/>
            <a:ext cx="7632720" cy="360"/>
            <a:chOff x="684360" y="2924280"/>
            <a:chExt cx="7632720" cy="360"/>
          </a:xfrm>
        </p:grpSpPr>
        <p:sp>
          <p:nvSpPr>
            <p:cNvPr id="105" name="Line 4"/>
            <p:cNvSpPr/>
            <p:nvPr/>
          </p:nvSpPr>
          <p:spPr>
            <a:xfrm>
              <a:off x="684360" y="2924280"/>
              <a:ext cx="7632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84360" y="292428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WordArt 5"/>
          <p:cNvSpPr txBox="1"/>
          <p:nvPr/>
        </p:nvSpPr>
        <p:spPr>
          <a:xfrm>
            <a:off x="2700360" y="1341360"/>
            <a:ext cx="2160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名人名言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2708280"/>
            <a:ext cx="322092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633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段没有结局的童话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421000"/>
            <a:ext cx="7632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狐狸总是在夜里干坏事，它盼望着黑夜长长的，可是每当公鸡鸣叫时，白天就来到了。狐狸以为是公鸡把白天叫来的，就在一个漆黑的夜晚，把公鸡咬死了。可公鸡死了以后，白天依然到来，于是狐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11280" y="2276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面对同一个故事的开头，成人和孩子续编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故事之间存在着怎样的差别？为什会如此，你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中悟出了什么？是从哪些词句感悟到的？画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画，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55640" y="9079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中心话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571400" cy="50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755640" y="278136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呜呼！不知他想象的翅膀在哪里折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可是受过高等教育的呀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11744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工程师的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645440" y="17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没有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87640" y="1989000"/>
            <a:ext cx="1297080" cy="360"/>
            <a:chOff x="2987640" y="1989000"/>
            <a:chExt cx="1297080" cy="360"/>
          </a:xfrm>
        </p:grpSpPr>
        <p:sp>
          <p:nvSpPr>
            <p:cNvPr id="52" name="Line 6"/>
            <p:cNvSpPr/>
            <p:nvPr/>
          </p:nvSpPr>
          <p:spPr>
            <a:xfrm>
              <a:off x="2987640" y="1989000"/>
              <a:ext cx="1297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987640" y="198900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7"/>
          <p:cNvSpPr/>
          <p:nvPr/>
        </p:nvSpPr>
        <p:spPr>
          <a:xfrm>
            <a:off x="1835280" y="43657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挠了挠头皮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想了好半天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 rot="5400000">
            <a:off x="3059280" y="1700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6" name="Picture 9" descr="未命名"/>
          <p:cNvPicPr/>
          <p:nvPr/>
        </p:nvPicPr>
        <p:blipFill>
          <a:blip r:embed="rId2"/>
          <a:stretch/>
        </p:blipFill>
        <p:spPr>
          <a:xfrm>
            <a:off x="5219640" y="4869000"/>
            <a:ext cx="5763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164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同事的表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571400" cy="50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4861080" y="1700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经验代替了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987640" y="1989000"/>
            <a:ext cx="1297080" cy="360"/>
            <a:chOff x="2987640" y="1989000"/>
            <a:chExt cx="1297080" cy="360"/>
          </a:xfrm>
        </p:grpSpPr>
        <p:sp>
          <p:nvSpPr>
            <p:cNvPr id="61" name="Line 5"/>
            <p:cNvSpPr/>
            <p:nvPr/>
          </p:nvSpPr>
          <p:spPr>
            <a:xfrm>
              <a:off x="2987640" y="1989000"/>
              <a:ext cx="1297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2987640" y="198900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WordArt 6"/>
          <p:cNvSpPr txBox="1"/>
          <p:nvPr/>
        </p:nvSpPr>
        <p:spPr>
          <a:xfrm rot="5400000">
            <a:off x="3059280" y="1700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11280" y="2781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多少有些像是在给学生分析应用题，能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一个好故事吗？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11280" y="17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小学生的表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5400000">
            <a:off x="3059280" y="1700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7" name="Picture 4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57140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41376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想象丰富，让人大喜过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987640" y="1989000"/>
            <a:ext cx="1297080" cy="360"/>
            <a:chOff x="2987640" y="1989000"/>
            <a:chExt cx="1297080" cy="360"/>
          </a:xfrm>
        </p:grpSpPr>
        <p:sp>
          <p:nvSpPr>
            <p:cNvPr id="70" name="Line 6"/>
            <p:cNvSpPr/>
            <p:nvPr/>
          </p:nvSpPr>
          <p:spPr>
            <a:xfrm>
              <a:off x="2987640" y="1989000"/>
              <a:ext cx="1297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987640" y="198900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539640" y="2708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孩子的心是长了翅膀的，尽管稚嫩，但飞得很高，飞得很美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76360" y="4508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学生们都有什么表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68360" y="170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胖男孩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571400" cy="50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小男孩1"/>
          <p:cNvPicPr/>
          <p:nvPr/>
        </p:nvPicPr>
        <p:blipFill>
          <a:blip r:embed="rId2"/>
          <a:stretch/>
        </p:blipFill>
        <p:spPr>
          <a:xfrm>
            <a:off x="971640" y="1700280"/>
            <a:ext cx="984240" cy="1800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492360" y="234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狐狸绞尽脑汁想计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86880" y="357264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女孩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微笑的小女孩"/>
          <p:cNvPicPr/>
          <p:nvPr/>
        </p:nvPicPr>
        <p:blipFill>
          <a:blip r:embed="rId3"/>
          <a:stretch/>
        </p:blipFill>
        <p:spPr>
          <a:xfrm>
            <a:off x="1116000" y="4076640"/>
            <a:ext cx="901800" cy="1808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4427640" y="3789360"/>
            <a:ext cx="237636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狂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穿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冲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来转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887640" y="177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其他人打开了一个想象的突破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6300720" y="3860640"/>
            <a:ext cx="432000" cy="2232360"/>
          </a:xfrm>
          <a:custGeom>
            <a:avLst/>
            <a:gdLst>
              <a:gd name="textAreaLeft" fmla="*/ 0 w 432000"/>
              <a:gd name="textAreaRight" fmla="*/ 155880 w 432000"/>
              <a:gd name="textAreaTop" fmla="*/ 57960 h 2232360"/>
              <a:gd name="textAreaBottom" fmla="*/ 217440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732720" y="4653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节多么生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9a109a6g6ed6e32dbf2c">
            <a:hlinkClick r:id="rId1"/>
          </p:cNvPr>
          <p:cNvPicPr/>
          <p:nvPr/>
        </p:nvPicPr>
        <p:blipFill>
          <a:blip r:embed="rId2"/>
          <a:srcRect l="28835" t="18097" r="13701" b="30212"/>
          <a:stretch/>
        </p:blipFill>
        <p:spPr>
          <a:xfrm>
            <a:off x="611280" y="1844640"/>
            <a:ext cx="1396800" cy="17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细读"/>
          <p:cNvPicPr/>
          <p:nvPr/>
        </p:nvPicPr>
        <p:blipFill>
          <a:blip r:embed="rId3"/>
          <a:stretch/>
        </p:blipFill>
        <p:spPr>
          <a:xfrm>
            <a:off x="684360" y="836640"/>
            <a:ext cx="1571400" cy="504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336760" y="162792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眼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24360" y="227664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急如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愤然跃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940360" y="2349360"/>
            <a:ext cx="144360" cy="1008360"/>
          </a:xfrm>
          <a:custGeom>
            <a:avLst/>
            <a:gdLst>
              <a:gd name="textAreaLeft" fmla="*/ 0 w 144360"/>
              <a:gd name="textAreaRight" fmla="*/ 52200 w 1443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27640" y="2349360"/>
            <a:ext cx="18734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思细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感丰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59a109a6g5464e243d9c9">
            <a:hlinkClick r:id="rId4"/>
          </p:cNvPr>
          <p:cNvPicPr/>
          <p:nvPr/>
        </p:nvPicPr>
        <p:blipFill>
          <a:blip r:embed="rId5"/>
          <a:srcRect l="22803" t="15885" r="36409" b="50006"/>
          <a:stretch/>
        </p:blipFill>
        <p:spPr>
          <a:xfrm>
            <a:off x="755640" y="4365720"/>
            <a:ext cx="1379520" cy="158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97964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腼腆的小女孩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492360" y="4437000"/>
            <a:ext cx="25923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转右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弹灰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舔手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51640" y="4581360"/>
            <a:ext cx="215640" cy="1656000"/>
          </a:xfrm>
          <a:custGeom>
            <a:avLst/>
            <a:gdLst>
              <a:gd name="textAreaLeft" fmla="*/ 0 w 215640"/>
              <a:gd name="textAreaRight" fmla="*/ 7776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940360" y="4941720"/>
            <a:ext cx="27352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节是多么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么精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826920" y="9079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回顾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92360" y="1989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大家说说“心的翅膀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92360" y="30686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美好的心灵，丰富的想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00:18Z</dcterms:created>
  <dc:creator/>
  <dc:description/>
  <dc:language>en-US</dc:language>
  <cp:lastModifiedBy>Administrator</cp:lastModifiedBy>
  <dcterms:modified xsi:type="dcterms:W3CDTF">2015-12-23T01:27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