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0.gif" ContentType="image/gif"/>
  <Override PartName="/ppt/media/image18.jpeg" ContentType="image/jpeg"/>
  <Override PartName="/ppt/media/image19.png" ContentType="image/pn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49C-7379-439A-911B-3879115E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0C1-9496-4541-AA00-B05A7DF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AF2-2D7B-4E86-8403-49C62ECC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EA9-78A3-48A8-8527-468DCF92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414B-76EA-4A76-B466-2537C012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A57-D97C-4A92-A6EE-04131130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464-72B0-49B7-8846-69EBD7C5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0273-1FAA-4027-86E8-9651FA7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8ABF-A027-4CDF-81C1-5D59272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A82D-F965-4689-8465-19F76497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113C-4C02-4578-9A57-AA7BD6A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EBE-D061-4072-824D-54AF217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20D2-C495-4491-971F-E74C981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1FC-CF83-4201-867E-EDECE2D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61FF-31AE-40B9-9E7E-5641C734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7B2F-B8F7-4313-8836-526D19E8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BDF5-5FFA-4544-ABE6-2590A744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2C14-08F9-4566-B8CD-7D67C465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032F-47DA-4D52-B675-E84B870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D9BB-9588-41C0-BE5B-4CC1827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7A36-30B4-4F78-9EFB-0ACEDF4D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0466-CDC5-4465-BFA3-F069FF22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7F1-BE4A-479A-A641-44D310DB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5CDE-438E-42CC-90D2-C996866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2093-8EEC-4631-BDA5-ADD5371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DC49-6863-47AD-9D68-A95440B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5868-94C9-4149-AB95-0FBF774E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DBFE-8F18-4804-9D88-ECBC573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9A2A-D65F-4D1D-BFBA-E95E6C60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8F68-C7FF-44CB-9DD9-D296295D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8B5B-BBE3-49F3-88BC-725D78F6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4C75-CEBA-440B-93AE-8B6F96A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B0B0-DB50-4619-B751-329D07B1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C9B-7C6D-4967-97E8-C3B95705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4B34-D2FD-4EF1-8F3F-D1DB12B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C7FA-F6EC-4339-9425-D04751D3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15B5-0A58-481D-B24E-9BF92FFA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C001-9E4A-4EAF-9C5F-64B2A86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1C0B-B134-4F30-9E79-487AA28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9C73-6267-423C-884F-C5E775B7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3AE40-D9A3-4D30-8389-2FF122A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ABD8-BEF6-482A-ABDF-3F725223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9D7C-FCA1-44A3-9275-FCAB348F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95A-9DB5-4CC5-AD14-863DF4A5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26F-A93E-4CEB-9CFD-5893238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BB5-7257-4AC9-AE5C-0D94FCF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F38-A667-418E-816D-145426F2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3AE-E7EB-44E2-ABFC-CA0DAE9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2BA-9C35-4E07-8707-CB7C4E8F9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8A8C-69B5-439B-9421-267F8BB780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8CBE-7EA3-4590-91D9-50439DC7BA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5C2F-6B0E-465D-9DB7-B4D3AF31621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7,11,&#24187;&#28783;&#29255; 11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&#36335;&#36335;&#28857;&#21517;&#22120;/&#36335;&#36335;&#28857;&#21517;&#22120;.exe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图片1热火"/>
          <p:cNvPicPr/>
          <p:nvPr/>
        </p:nvPicPr>
        <p:blipFill>
          <a:blip r:embed="rId1"/>
          <a:stretch/>
        </p:blipFill>
        <p:spPr>
          <a:xfrm>
            <a:off x="0" y="0"/>
            <a:ext cx="8317080" cy="6802560"/>
          </a:xfrm>
          <a:prstGeom prst="rect">
            <a:avLst/>
          </a:prstGeom>
          <a:ln w="0">
            <a:noFill/>
          </a:ln>
        </p:spPr>
      </p:pic>
      <p:sp>
        <p:nvSpPr>
          <p:cNvPr id="165" name="矩形 2"/>
          <p:cNvSpPr txBox="1"/>
          <p:nvPr/>
        </p:nvSpPr>
        <p:spPr>
          <a:xfrm>
            <a:off x="2340000" y="909720"/>
            <a:ext cx="489600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学　弈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1692360" y="1981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一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隶书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0" y="28526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华文彩云"/>
              </a:rPr>
              <a:t>学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3204720" y="191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惟弈秋之为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"/>
          <p:cNvSpPr/>
          <p:nvPr/>
        </p:nvSpPr>
        <p:spPr>
          <a:xfrm>
            <a:off x="5407200" y="1940040"/>
            <a:ext cx="19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专心致 志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"/>
          <p:cNvSpPr/>
          <p:nvPr/>
        </p:nvSpPr>
        <p:spPr>
          <a:xfrm>
            <a:off x="5536080" y="4173480"/>
            <a:ext cx="17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（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三心二意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1403280" y="40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一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3206160" y="42210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思援弓缴而射之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矩形 8" descr=""/>
          <p:cNvPicPr/>
          <p:nvPr/>
        </p:nvPicPr>
        <p:blipFill>
          <a:blip r:embed="rId1"/>
          <a:stretch/>
        </p:blipFill>
        <p:spPr>
          <a:xfrm>
            <a:off x="7710480" y="2055960"/>
            <a:ext cx="1068480" cy="2916000"/>
          </a:xfrm>
          <a:prstGeom prst="rect">
            <a:avLst/>
          </a:prstGeom>
          <a:ln w="0">
            <a:noFill/>
          </a:ln>
        </p:spPr>
      </p:pic>
      <p:sp>
        <p:nvSpPr>
          <p:cNvPr id="274" name="左大括号 9"/>
          <p:cNvSpPr/>
          <p:nvPr/>
        </p:nvSpPr>
        <p:spPr>
          <a:xfrm>
            <a:off x="1476360" y="2060640"/>
            <a:ext cx="142920" cy="244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63360 h 2448000"/>
              <a:gd name="textAreaBottom" fmla="*/ 238464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0"/>
          <p:cNvGrpSpPr/>
          <p:nvPr/>
        </p:nvGrpSpPr>
        <p:grpSpPr>
          <a:xfrm>
            <a:off x="2050920" y="5084640"/>
            <a:ext cx="4105440" cy="1525680"/>
            <a:chOff x="2050920" y="5084640"/>
            <a:chExt cx="4105440" cy="1525680"/>
          </a:xfrm>
        </p:grpSpPr>
        <p:sp>
          <p:nvSpPr>
            <p:cNvPr id="276" name="矩形 11"/>
            <p:cNvSpPr txBox="1"/>
            <p:nvPr/>
          </p:nvSpPr>
          <p:spPr>
            <a:xfrm>
              <a:off x="2050920" y="5157720"/>
              <a:ext cx="2592360" cy="14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行楷"/>
                </a:rPr>
                <a:t>道理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277" name="矩形 12"/>
            <p:cNvSpPr txBox="1"/>
            <p:nvPr/>
          </p:nvSpPr>
          <p:spPr>
            <a:xfrm>
              <a:off x="5219640" y="5084640"/>
              <a:ext cx="93672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7936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？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sp>
        <p:nvSpPr>
          <p:cNvPr id="278" name="矩形 13"/>
          <p:cNvSpPr txBox="1"/>
          <p:nvPr/>
        </p:nvSpPr>
        <p:spPr>
          <a:xfrm rot="21137400">
            <a:off x="1908000" y="4365360"/>
            <a:ext cx="4465800" cy="106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你做到了吗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79" name="矩形 14"/>
          <p:cNvSpPr txBox="1"/>
          <p:nvPr/>
        </p:nvSpPr>
        <p:spPr>
          <a:xfrm>
            <a:off x="539640" y="549360"/>
            <a:ext cx="3267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三关：“悟”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80" name="矩形 15"/>
          <p:cNvSpPr/>
          <p:nvPr/>
        </p:nvSpPr>
        <p:spPr>
          <a:xfrm>
            <a:off x="4548600" y="6922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幼圆"/>
              </a:rPr>
              <a:t>－－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幼圆"/>
              </a:rPr>
              <a:t>感悟道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6"/>
          <p:cNvSpPr txBox="1"/>
          <p:nvPr/>
        </p:nvSpPr>
        <p:spPr>
          <a:xfrm rot="6294000">
            <a:off x="7491960" y="3945240"/>
            <a:ext cx="1366920" cy="117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49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"/>
          <p:cNvSpPr/>
          <p:nvPr/>
        </p:nvSpPr>
        <p:spPr>
          <a:xfrm>
            <a:off x="684360" y="2781360"/>
            <a:ext cx="8135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使弈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诲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二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弈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援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弓缴而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之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虽与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之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俱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学，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弗若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之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、为是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其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智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弗若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？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曰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：非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然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"/>
          <p:cNvSpPr/>
          <p:nvPr/>
        </p:nvSpPr>
        <p:spPr>
          <a:xfrm>
            <a:off x="2556000" y="332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练　兵　场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900000" y="134136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222"/>
                </a:solidFill>
                <a:latin typeface="Arial"/>
                <a:ea typeface="隶书"/>
              </a:rPr>
              <a:t>一．解释彩色的词语并联系课文说说下列句子的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文本框 2"/>
          <p:cNvSpPr/>
          <p:nvPr/>
        </p:nvSpPr>
        <p:spPr>
          <a:xfrm>
            <a:off x="755640" y="1700280"/>
            <a:ext cx="792000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二、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　　本文写了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Times New Roman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是个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Times New Roman"/>
                <a:ea typeface="华文新魏"/>
              </a:rPr>
              <a:t>　　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，让他教两个学生，一人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Times New Roman"/>
                <a:ea typeface="华文新魏"/>
              </a:rPr>
              <a:t>　　　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，而另一人却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Times New Roman"/>
                <a:ea typeface="华文新魏"/>
              </a:rPr>
              <a:t>　　　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，结果后一人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Times New Roman"/>
                <a:ea typeface="华文新魏"/>
              </a:rPr>
              <a:t>　   　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前一人，这个故事告诉我们一个</a:t>
            </a:r>
            <a:r>
              <a:rPr b="1" lang="zh-CN" sz="3600" spc="-1" strike="noStrike" u="sng">
                <a:solidFill>
                  <a:srgbClr val="339933"/>
                </a:solidFill>
                <a:uFillTx/>
                <a:latin typeface="Times New Roman"/>
                <a:ea typeface="华文新魏"/>
              </a:rPr>
              <a:t>　　　的</a:t>
            </a:r>
            <a:r>
              <a:rPr b="1" lang="zh-CN" sz="36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道理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"/>
          <p:cNvSpPr/>
          <p:nvPr/>
        </p:nvSpPr>
        <p:spPr>
          <a:xfrm>
            <a:off x="2340000" y="4752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练　兵　场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1" descr="图片1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矩形 2"/>
          <p:cNvSpPr txBox="1"/>
          <p:nvPr/>
        </p:nvSpPr>
        <p:spPr>
          <a:xfrm>
            <a:off x="1258920" y="1700280"/>
            <a:ext cx="6767640" cy="16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放松休息一会儿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0" name="图片 3" descr="BIRD1"/>
          <p:cNvPicPr/>
          <p:nvPr/>
        </p:nvPicPr>
        <p:blipFill>
          <a:blip r:embed="rId2"/>
          <a:stretch/>
        </p:blipFill>
        <p:spPr>
          <a:xfrm>
            <a:off x="6588000" y="5157720"/>
            <a:ext cx="1114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"/>
          <p:cNvSpPr/>
          <p:nvPr/>
        </p:nvSpPr>
        <p:spPr>
          <a:xfrm>
            <a:off x="826920" y="150084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这节课在大家的共同努力下，我们已经顺利闯过了三关，而且还到了练兵场进行了训练，那么我们有哪些收获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"/>
          <p:cNvSpPr/>
          <p:nvPr/>
        </p:nvSpPr>
        <p:spPr>
          <a:xfrm>
            <a:off x="2987640" y="476280"/>
            <a:ext cx="28796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交 流 收 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3" descr="DOG3"/>
          <p:cNvPicPr/>
          <p:nvPr/>
        </p:nvPicPr>
        <p:blipFill>
          <a:blip r:embed="rId3"/>
          <a:stretch/>
        </p:blipFill>
        <p:spPr>
          <a:xfrm>
            <a:off x="7020000" y="4653000"/>
            <a:ext cx="1814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 txBox="1"/>
          <p:nvPr/>
        </p:nvSpPr>
        <p:spPr>
          <a:xfrm>
            <a:off x="684360" y="836640"/>
            <a:ext cx="7489800" cy="19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769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在感悟中读，读出感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5" name="文本框 2"/>
          <p:cNvSpPr/>
          <p:nvPr/>
        </p:nvSpPr>
        <p:spPr>
          <a:xfrm>
            <a:off x="971640" y="2349360"/>
            <a:ext cx="69850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弈秋，通国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之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善弈者也。使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弈秋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诲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二人弈，其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一人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专心致志，惟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弈秋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之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为听；一人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虽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听之，一心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以为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有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鸿鹄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将至，思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援弓缴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而射之。虽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与之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俱学，弗若之矣。为是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其智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弗若与？曰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：非然</a:t>
            </a:r>
            <a:r>
              <a:rPr b="1" lang="en-US" sz="3600" spc="-1" strike="noStrike">
                <a:solidFill>
                  <a:srgbClr val="ff0000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"/>
          <p:cNvSpPr/>
          <p:nvPr/>
        </p:nvSpPr>
        <p:spPr>
          <a:xfrm>
            <a:off x="3419640" y="1341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c5900"/>
                </a:solidFill>
                <a:latin typeface="Arial"/>
                <a:ea typeface="隶书"/>
              </a:rPr>
              <a:t>学  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1"/>
          <p:cNvSpPr txBox="1"/>
          <p:nvPr/>
        </p:nvSpPr>
        <p:spPr>
          <a:xfrm>
            <a:off x="1187280" y="836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134"/>
                <a:gd name="adj2" fmla="val 1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积累与提高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98" name="文本框 2"/>
          <p:cNvSpPr/>
          <p:nvPr/>
        </p:nvSpPr>
        <p:spPr>
          <a:xfrm>
            <a:off x="1042920" y="2637000"/>
            <a:ext cx="66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积累重点的文言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背诵全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积累整理有关学习的文言警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1" descr="zrfj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矩形 2"/>
          <p:cNvSpPr txBox="1"/>
          <p:nvPr/>
        </p:nvSpPr>
        <p:spPr>
          <a:xfrm>
            <a:off x="2268360" y="1773360"/>
            <a:ext cx="46818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谢  谢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国画"/>
          <p:cNvPicPr/>
          <p:nvPr/>
        </p:nvPicPr>
        <p:blipFill>
          <a:blip r:embed="rId1"/>
          <a:stretch/>
        </p:blipFill>
        <p:spPr>
          <a:xfrm>
            <a:off x="395280" y="1989000"/>
            <a:ext cx="2819520" cy="426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7" name="Picture 4" descr="2"/>
          <p:cNvPicPr/>
          <p:nvPr/>
        </p:nvPicPr>
        <p:blipFill>
          <a:blip r:embed="rId2"/>
          <a:stretch/>
        </p:blipFill>
        <p:spPr>
          <a:xfrm>
            <a:off x="6156360" y="2347920"/>
            <a:ext cx="2895480" cy="242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800600" y="1557360"/>
            <a:ext cx="6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Ar_011"/>
          <p:cNvPicPr/>
          <p:nvPr/>
        </p:nvPicPr>
        <p:blipFill>
          <a:blip r:embed="rId3"/>
          <a:stretch/>
        </p:blipFill>
        <p:spPr>
          <a:xfrm>
            <a:off x="4284720" y="3860640"/>
            <a:ext cx="838080" cy="77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Ar_009"/>
          <p:cNvPicPr/>
          <p:nvPr/>
        </p:nvPicPr>
        <p:blipFill>
          <a:blip r:embed="rId4"/>
          <a:stretch/>
        </p:blipFill>
        <p:spPr>
          <a:xfrm>
            <a:off x="5724360" y="2060640"/>
            <a:ext cx="1219320" cy="5331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8"/>
          <p:cNvSpPr/>
          <p:nvPr/>
        </p:nvSpPr>
        <p:spPr>
          <a:xfrm>
            <a:off x="4419720" y="2243160"/>
            <a:ext cx="1523880" cy="1371600"/>
          </a:xfrm>
          <a:custGeom>
            <a:avLst/>
            <a:gdLst>
              <a:gd name="textAreaLeft" fmla="*/ 357840 w 1523880"/>
              <a:gd name="textAreaRight" fmla="*/ 1166040 w 1523880"/>
              <a:gd name="textAreaTop" fmla="*/ 321840 h 1371600"/>
              <a:gd name="textAreaBottom" fmla="*/ 1049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7365960" y="386064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围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280320" y="400536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下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140360" y="2443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3203280" y="477000"/>
            <a:ext cx="3552840" cy="816840"/>
            <a:chOff x="3203280" y="477000"/>
            <a:chExt cx="3552840" cy="816840"/>
          </a:xfrm>
        </p:grpSpPr>
        <p:sp>
          <p:nvSpPr>
            <p:cNvPr id="176" name="AutoShape 14"/>
            <p:cNvSpPr/>
            <p:nvPr/>
          </p:nvSpPr>
          <p:spPr>
            <a:xfrm rot="60000">
              <a:off x="3209400" y="507600"/>
              <a:ext cx="3539880" cy="755280"/>
            </a:xfrm>
            <a:custGeom>
              <a:avLst/>
              <a:gdLst>
                <a:gd name="textAreaLeft" fmla="*/ 0 w 3539880"/>
                <a:gd name="textAreaRight" fmla="*/ 3540240 w 353988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3" y="0"/>
                  </a:lnTo>
                  <a:lnTo>
                    <a:pt x="21600" y="10800"/>
                  </a:lnTo>
                  <a:lnTo>
                    <a:pt x="16203" y="21600"/>
                  </a:lnTo>
                  <a:lnTo>
                    <a:pt x="0" y="21600"/>
                  </a:lnTo>
                  <a:lnTo>
                    <a:pt x="539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132080" y="554040"/>
              <a:ext cx="170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黑体"/>
                  <a:ea typeface="黑体"/>
                </a:rPr>
                <a:t>学  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"/>
          <p:cNvSpPr/>
          <p:nvPr/>
        </p:nvSpPr>
        <p:spPr>
          <a:xfrm>
            <a:off x="1116000" y="692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文言文是我们中华民族传统文化的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瑰宝，它语言简练，含义深刻 ，博大精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"/>
          <p:cNvSpPr txBox="1"/>
          <p:nvPr/>
        </p:nvSpPr>
        <p:spPr>
          <a:xfrm>
            <a:off x="468360" y="3573360"/>
            <a:ext cx="165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寻宝闯关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4043520" y="2852280"/>
            <a:ext cx="28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幼圆"/>
              </a:rPr>
              <a:t>第一关：“读”－读出韵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2195640" y="371592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幼圆"/>
              </a:rPr>
              <a:t>第二关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幼圆"/>
              </a:rPr>
              <a:t>: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幼圆"/>
              </a:rPr>
              <a:t>义”－疏通文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3215880" y="458100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幼圆"/>
              </a:rPr>
              <a:t>第三关：“悟”－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幼圆"/>
              </a:rPr>
              <a:t>感悟道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左大括号 6"/>
          <p:cNvSpPr/>
          <p:nvPr/>
        </p:nvSpPr>
        <p:spPr>
          <a:xfrm>
            <a:off x="2268360" y="2997360"/>
            <a:ext cx="216000" cy="201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200 h 2017440"/>
              <a:gd name="textAreaBottom" fmla="*/ 1965240 h 20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 txBox="1"/>
          <p:nvPr/>
        </p:nvSpPr>
        <p:spPr>
          <a:xfrm>
            <a:off x="1979640" y="1052640"/>
            <a:ext cx="525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敢不敢闯关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2299320" y="3644280"/>
            <a:ext cx="45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华文彩云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彩云"/>
              </a:rPr>
              <a:t>闯关寻宝活动”开始了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图片1热火"/>
          <p:cNvPicPr/>
          <p:nvPr/>
        </p:nvPicPr>
        <p:blipFill>
          <a:blip r:embed="rId1"/>
          <a:stretch/>
        </p:blipFill>
        <p:spPr>
          <a:xfrm>
            <a:off x="6084720" y="4600440"/>
            <a:ext cx="3059280" cy="2257560"/>
          </a:xfrm>
          <a:prstGeom prst="rect">
            <a:avLst/>
          </a:prstGeom>
          <a:ln w="0">
            <a:noFill/>
          </a:ln>
        </p:spPr>
      </p:pic>
      <p:sp>
        <p:nvSpPr>
          <p:cNvPr id="188" name="矩形 2"/>
          <p:cNvSpPr txBox="1"/>
          <p:nvPr/>
        </p:nvSpPr>
        <p:spPr>
          <a:xfrm>
            <a:off x="611280" y="549360"/>
            <a:ext cx="403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彩云"/>
              </a:rPr>
              <a:t>第一关：“读”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5269320" y="93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幼圆"/>
              </a:rPr>
              <a:t>－－读出韵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468360" y="2133720"/>
            <a:ext cx="61927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　１．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宋体"/>
              </a:rPr>
              <a:t>　２．正确断句与停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宋体"/>
              </a:rPr>
              <a:t>　３．速度要舒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  <a:ea typeface="宋体"/>
              </a:rPr>
              <a:t>　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宋体"/>
              </a:rPr>
              <a:t>．语气要抑扬顿挫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"/>
          <p:cNvSpPr txBox="1"/>
          <p:nvPr/>
        </p:nvSpPr>
        <p:spPr>
          <a:xfrm rot="5400000">
            <a:off x="-325440" y="3429000"/>
            <a:ext cx="3025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隶书"/>
              </a:rPr>
              <a:t>闯关提示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图片1fn"/>
          <p:cNvPicPr/>
          <p:nvPr/>
        </p:nvPicPr>
        <p:blipFill>
          <a:blip r:embed="rId1"/>
          <a:stretch/>
        </p:blipFill>
        <p:spPr>
          <a:xfrm>
            <a:off x="47520" y="0"/>
            <a:ext cx="9048960" cy="6859440"/>
          </a:xfrm>
          <a:prstGeom prst="rect">
            <a:avLst/>
          </a:prstGeom>
          <a:ln w="0">
            <a:noFill/>
          </a:ln>
        </p:spPr>
      </p:pic>
      <p:sp>
        <p:nvSpPr>
          <p:cNvPr id="193" name="矩形 2"/>
          <p:cNvSpPr/>
          <p:nvPr/>
        </p:nvSpPr>
        <p:spPr>
          <a:xfrm>
            <a:off x="1547640" y="1772640"/>
            <a:ext cx="72010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5222"/>
                </a:solidFill>
                <a:latin typeface="Arial"/>
                <a:ea typeface="Arial"/>
              </a:rPr>
              <a:t>　　　　　　　　 　　　</a:t>
            </a:r>
            <a:br>
              <a:rPr sz="4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诲　惟  鸿鹄  弓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俱　弗若　矣　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478160" y="17002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3061080" y="177336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w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"/>
          <p:cNvSpPr/>
          <p:nvPr/>
        </p:nvSpPr>
        <p:spPr>
          <a:xfrm>
            <a:off x="5150160" y="1773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h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734160" y="170028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zhu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6865920" y="35733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yu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278880" y="364500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>
            <a:off x="303480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99"/>
                </a:solidFill>
                <a:latin typeface="Arial"/>
                <a:ea typeface="隶书"/>
              </a:rPr>
              <a:t>注意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10" descr="图片1"/>
          <p:cNvPicPr/>
          <p:nvPr/>
        </p:nvPicPr>
        <p:blipFill>
          <a:blip r:embed="rId2"/>
          <a:stretch/>
        </p:blipFill>
        <p:spPr>
          <a:xfrm>
            <a:off x="7164360" y="513072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1"/>
          <p:cNvSpPr/>
          <p:nvPr/>
        </p:nvSpPr>
        <p:spPr>
          <a:xfrm>
            <a:off x="1619280" y="364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j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2"/>
          <p:cNvSpPr/>
          <p:nvPr/>
        </p:nvSpPr>
        <p:spPr>
          <a:xfrm>
            <a:off x="5364000" y="3573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y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042920" y="3011040"/>
            <a:ext cx="720108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弈秋，通国之  善弈者也。使  弈秋  诲  二人弈，其一人  专心致志，惟  弈秋之为听；一人  虽  听之，一心以为  有 鸿鹄  将至，思  援弓缴 而射之。虽  与之  俱学，弗若之矣。为是  其智  弗若与？曰：非然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38760" y="836640"/>
            <a:ext cx="9838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学   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40360" y="2060640"/>
            <a:ext cx="71280" cy="360360"/>
            <a:chOff x="4140360" y="2060640"/>
            <a:chExt cx="71280" cy="360360"/>
          </a:xfrm>
        </p:grpSpPr>
        <p:sp>
          <p:nvSpPr>
            <p:cNvPr id="207" name="Line 5"/>
            <p:cNvSpPr/>
            <p:nvPr/>
          </p:nvSpPr>
          <p:spPr>
            <a:xfrm flipH="1">
              <a:off x="4140360" y="20606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140360" y="20606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89800" y="2060640"/>
            <a:ext cx="71280" cy="360360"/>
            <a:chOff x="6589800" y="2060640"/>
            <a:chExt cx="71280" cy="360360"/>
          </a:xfrm>
        </p:grpSpPr>
        <p:sp>
          <p:nvSpPr>
            <p:cNvPr id="210" name="Line 6"/>
            <p:cNvSpPr/>
            <p:nvPr/>
          </p:nvSpPr>
          <p:spPr>
            <a:xfrm flipH="1">
              <a:off x="6589800" y="20606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589800" y="20606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620360" y="2637000"/>
            <a:ext cx="72000" cy="360360"/>
            <a:chOff x="1620360" y="2637000"/>
            <a:chExt cx="72000" cy="360360"/>
          </a:xfrm>
        </p:grpSpPr>
        <p:sp>
          <p:nvSpPr>
            <p:cNvPr id="213" name="Line 7"/>
            <p:cNvSpPr/>
            <p:nvPr/>
          </p:nvSpPr>
          <p:spPr>
            <a:xfrm flipH="1">
              <a:off x="1620360" y="2637000"/>
              <a:ext cx="7164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620720" y="2637000"/>
              <a:ext cx="71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532400" y="2693880"/>
            <a:ext cx="71280" cy="360360"/>
            <a:chOff x="4532400" y="2693880"/>
            <a:chExt cx="71280" cy="360360"/>
          </a:xfrm>
        </p:grpSpPr>
        <p:sp>
          <p:nvSpPr>
            <p:cNvPr id="216" name="Line 8"/>
            <p:cNvSpPr/>
            <p:nvPr/>
          </p:nvSpPr>
          <p:spPr>
            <a:xfrm flipH="1">
              <a:off x="4532400" y="269388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4532400" y="269388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035840" y="2692440"/>
            <a:ext cx="71280" cy="360360"/>
            <a:chOff x="7035840" y="2692440"/>
            <a:chExt cx="71280" cy="360360"/>
          </a:xfrm>
        </p:grpSpPr>
        <p:sp>
          <p:nvSpPr>
            <p:cNvPr id="219" name="Line 9"/>
            <p:cNvSpPr/>
            <p:nvPr/>
          </p:nvSpPr>
          <p:spPr>
            <a:xfrm flipH="1">
              <a:off x="7035840" y="26924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035840" y="26924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92000" y="3284640"/>
            <a:ext cx="72000" cy="360360"/>
            <a:chOff x="3492000" y="3284640"/>
            <a:chExt cx="72000" cy="360360"/>
          </a:xfrm>
        </p:grpSpPr>
        <p:sp>
          <p:nvSpPr>
            <p:cNvPr id="222" name="Line 10"/>
            <p:cNvSpPr/>
            <p:nvPr/>
          </p:nvSpPr>
          <p:spPr>
            <a:xfrm flipH="1">
              <a:off x="3492000" y="3284640"/>
              <a:ext cx="7164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492360" y="3284640"/>
              <a:ext cx="71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72040" y="3286080"/>
            <a:ext cx="71280" cy="360360"/>
            <a:chOff x="4172040" y="3286080"/>
            <a:chExt cx="71280" cy="360360"/>
          </a:xfrm>
        </p:grpSpPr>
        <p:sp>
          <p:nvSpPr>
            <p:cNvPr id="225" name="Line 11"/>
            <p:cNvSpPr/>
            <p:nvPr/>
          </p:nvSpPr>
          <p:spPr>
            <a:xfrm flipH="1">
              <a:off x="4172040" y="328608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172040" y="328608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996240" y="3286080"/>
            <a:ext cx="71280" cy="360360"/>
            <a:chOff x="6996240" y="3286080"/>
            <a:chExt cx="71280" cy="360360"/>
          </a:xfrm>
        </p:grpSpPr>
        <p:sp>
          <p:nvSpPr>
            <p:cNvPr id="228" name="Line 12"/>
            <p:cNvSpPr/>
            <p:nvPr/>
          </p:nvSpPr>
          <p:spPr>
            <a:xfrm flipH="1">
              <a:off x="6996240" y="328608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6996240" y="328608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66440" y="3876840"/>
            <a:ext cx="72000" cy="360360"/>
            <a:chOff x="1666440" y="3876840"/>
            <a:chExt cx="72000" cy="360360"/>
          </a:xfrm>
        </p:grpSpPr>
        <p:sp>
          <p:nvSpPr>
            <p:cNvPr id="231" name="Line 13"/>
            <p:cNvSpPr/>
            <p:nvPr/>
          </p:nvSpPr>
          <p:spPr>
            <a:xfrm flipH="1">
              <a:off x="1666440" y="3876840"/>
              <a:ext cx="7164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3876840"/>
              <a:ext cx="71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451320" y="3933720"/>
            <a:ext cx="71280" cy="360360"/>
            <a:chOff x="3451320" y="3933720"/>
            <a:chExt cx="71280" cy="360360"/>
          </a:xfrm>
        </p:grpSpPr>
        <p:sp>
          <p:nvSpPr>
            <p:cNvPr id="234" name="Line 14"/>
            <p:cNvSpPr/>
            <p:nvPr/>
          </p:nvSpPr>
          <p:spPr>
            <a:xfrm flipH="1">
              <a:off x="3451320" y="393372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451320" y="393372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789080" y="3933720"/>
            <a:ext cx="72000" cy="360360"/>
            <a:chOff x="4789080" y="3933720"/>
            <a:chExt cx="72000" cy="360360"/>
          </a:xfrm>
        </p:grpSpPr>
        <p:sp>
          <p:nvSpPr>
            <p:cNvPr id="237" name="Line 15"/>
            <p:cNvSpPr/>
            <p:nvPr/>
          </p:nvSpPr>
          <p:spPr>
            <a:xfrm flipH="1">
              <a:off x="4789080" y="3933720"/>
              <a:ext cx="7164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789440" y="3933720"/>
              <a:ext cx="71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883560" y="3876840"/>
            <a:ext cx="71280" cy="360360"/>
            <a:chOff x="6883560" y="3876840"/>
            <a:chExt cx="71280" cy="360360"/>
          </a:xfrm>
        </p:grpSpPr>
        <p:sp>
          <p:nvSpPr>
            <p:cNvPr id="240" name="Line 16"/>
            <p:cNvSpPr/>
            <p:nvPr/>
          </p:nvSpPr>
          <p:spPr>
            <a:xfrm flipH="1">
              <a:off x="6883560" y="38768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6883560" y="38768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853400" y="3902040"/>
            <a:ext cx="71280" cy="360360"/>
            <a:chOff x="7853400" y="3902040"/>
            <a:chExt cx="71280" cy="360360"/>
          </a:xfrm>
        </p:grpSpPr>
        <p:sp>
          <p:nvSpPr>
            <p:cNvPr id="243" name="Line 17"/>
            <p:cNvSpPr/>
            <p:nvPr/>
          </p:nvSpPr>
          <p:spPr>
            <a:xfrm flipH="1">
              <a:off x="7853400" y="39020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7853400" y="39020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858920" y="4508640"/>
            <a:ext cx="72000" cy="360360"/>
            <a:chOff x="4858920" y="4508640"/>
            <a:chExt cx="72000" cy="360360"/>
          </a:xfrm>
        </p:grpSpPr>
        <p:sp>
          <p:nvSpPr>
            <p:cNvPr id="246" name="Line 18"/>
            <p:cNvSpPr/>
            <p:nvPr/>
          </p:nvSpPr>
          <p:spPr>
            <a:xfrm flipH="1">
              <a:off x="4858920" y="4508640"/>
              <a:ext cx="7164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859280" y="4508640"/>
              <a:ext cx="71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012000" y="4508640"/>
            <a:ext cx="71280" cy="360360"/>
            <a:chOff x="6012000" y="4508640"/>
            <a:chExt cx="71280" cy="360360"/>
          </a:xfrm>
        </p:grpSpPr>
        <p:sp>
          <p:nvSpPr>
            <p:cNvPr id="249" name="Line 19"/>
            <p:cNvSpPr/>
            <p:nvPr/>
          </p:nvSpPr>
          <p:spPr>
            <a:xfrm flipH="1">
              <a:off x="6012000" y="45086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012000" y="45086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21" descr="png-14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692280"/>
            <a:ext cx="754200" cy="7538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2"/>
          <p:cNvSpPr/>
          <p:nvPr/>
        </p:nvSpPr>
        <p:spPr>
          <a:xfrm>
            <a:off x="250920" y="260280"/>
            <a:ext cx="237636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ff"/>
                </a:solidFill>
                <a:latin typeface="Arial"/>
                <a:ea typeface="黑体"/>
              </a:rPr>
              <a:t>朗读、停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667640" y="2060640"/>
            <a:ext cx="71280" cy="360360"/>
            <a:chOff x="7667640" y="2060640"/>
            <a:chExt cx="71280" cy="360360"/>
          </a:xfrm>
        </p:grpSpPr>
        <p:sp>
          <p:nvSpPr>
            <p:cNvPr id="254" name="Line 10"/>
            <p:cNvSpPr/>
            <p:nvPr/>
          </p:nvSpPr>
          <p:spPr>
            <a:xfrm flipH="1">
              <a:off x="7667640" y="2060640"/>
              <a:ext cx="71280" cy="360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7667640" y="2060640"/>
              <a:ext cx="7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596360" y="3284640"/>
            <a:ext cx="71280" cy="358560"/>
            <a:chOff x="7596360" y="3284640"/>
            <a:chExt cx="71280" cy="358560"/>
          </a:xfrm>
        </p:grpSpPr>
        <p:sp>
          <p:nvSpPr>
            <p:cNvPr id="257" name="Line 18"/>
            <p:cNvSpPr/>
            <p:nvPr/>
          </p:nvSpPr>
          <p:spPr>
            <a:xfrm flipH="1">
              <a:off x="7596360" y="3284640"/>
              <a:ext cx="71280" cy="3585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7596360" y="3284640"/>
              <a:ext cx="7128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开头.wma" descr=""/>
          <p:cNvPicPr/>
          <p:nvPr/>
        </p:nvPicPr>
        <p:blipFill>
          <a:blip r:embed="rId3"/>
          <a:stretch/>
        </p:blipFill>
        <p:spPr>
          <a:xfrm>
            <a:off x="7451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0766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1"/>
          <p:cNvSpPr/>
          <p:nvPr/>
        </p:nvSpPr>
        <p:spPr>
          <a:xfrm>
            <a:off x="3419640" y="54864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幼圆"/>
              </a:rPr>
              <a:t>－－疏通文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"/>
          <p:cNvSpPr txBox="1"/>
          <p:nvPr/>
        </p:nvSpPr>
        <p:spPr>
          <a:xfrm>
            <a:off x="0" y="260280"/>
            <a:ext cx="392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二关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:“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义”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2" name="文本框 3"/>
          <p:cNvSpPr/>
          <p:nvPr/>
        </p:nvSpPr>
        <p:spPr>
          <a:xfrm>
            <a:off x="755640" y="1484280"/>
            <a:ext cx="763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１．结合注释与插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　　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．注意古今词义差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　　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．注意调整语序合乎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　　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．联系上下文进行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．小组内要合作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　　　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隶书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．不懂的问题作上标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"/>
          <p:cNvSpPr txBox="1"/>
          <p:nvPr/>
        </p:nvSpPr>
        <p:spPr>
          <a:xfrm rot="5400000">
            <a:off x="-1114560" y="3429000"/>
            <a:ext cx="41749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闯关方法提示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24000" y="960480"/>
            <a:ext cx="84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弈秋，是全国的下棋高手。让他教两人下棋，其中一人非常专心，只听弈秋的教导；另一个人虽然也在听，心里却一直想着天上有天鹅飞过来，想要拉弓把它射下来。虽然他俩在一块儿学习，但是后一个人却不如前一个学得好。难道是他的智力不如前一个人吗？回答说：不是这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79280" y="189000"/>
            <a:ext cx="5616720" cy="76428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参考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0:46:20Z</dcterms:created>
  <dc:creator/>
  <dc:description/>
  <dc:language>en-US</dc:language>
  <cp:lastModifiedBy>lenovo</cp:lastModifiedBy>
  <dcterms:modified xsi:type="dcterms:W3CDTF">2015-10-09T12:01:23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