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E25-602E-49C7-BE39-47F8A34E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485-75E6-404F-8D2B-8257820C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349-E84F-4B22-9E22-8FBE08A5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660-D342-4EF9-AF51-A220DEDA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90E-3AE4-4B0D-99F4-E73955D3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08B-7F0A-4EA3-B6DD-8D27E2A0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57D-F121-49B3-BBF5-4A341ED2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D43-FA5C-4688-B62C-127130C0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631-8A60-4A99-A2D9-6109465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B5A-2939-4142-880F-47296B4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597-D92E-4A02-B1D0-4C8DCDA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7CB-E807-465F-8E7B-89FE33D9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275F-13C2-4188-A725-7015C45EA8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145 - 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8</a:t>
            </a:r>
            <a:r>
              <a:rPr b="0" lang="zh-CN" sz="80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*</a:t>
            </a:r>
            <a:r>
              <a:rPr b="0" lang="en-US" sz="80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  </a:t>
            </a:r>
            <a:r>
              <a:rPr b="0" lang="zh-CN" sz="8000" spc="-1" strike="noStrike">
                <a:solidFill>
                  <a:srgbClr val="ff0000"/>
                </a:solidFill>
                <a:latin typeface="方正胖娃_GBK"/>
                <a:ea typeface="方正胖娃_GBK"/>
              </a:rPr>
              <a:t>有月亮的晚上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深秋之时，夜凉如水，真有点儿“霏霏凉露沾衣”的感觉。圆圆的月亮挂在树梢上，看上去湿漉漉的，仿佛刚刚在清水里洗过一样。小河里波光粼粼，好像涌动着一河月亮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0" y="28584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诗情画意的描写，表现对月色的喜爱之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714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们沿着长满杨柳的河堤走着，时而走进树影里，时而走在月光下，这恰似走在“晚凉天净月华开”的意境之中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乡村的月色清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孩子们簇拥着我，蹦蹦跳跳，书包里的文具盒叮当作响。他们大声嚷，高声笑，全然没有了平时课堂上的拘谨。偶尔还有人“啊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嗬”地喊一嗓子，肆意挥洒着心中的快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学生的活泼快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一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1~~3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讲“我”陪学生们去学校做功课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4" descr="u=2110916904,3705909569&amp;fm=0&amp;gp=0.jpg"/>
          <p:cNvPicPr/>
          <p:nvPr/>
        </p:nvPicPr>
        <p:blipFill>
          <a:blip r:embed="rId1"/>
          <a:stretch/>
        </p:blipFill>
        <p:spPr>
          <a:xfrm>
            <a:off x="2706840" y="3638520"/>
            <a:ext cx="2700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285840"/>
            <a:ext cx="453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一路欢乐一路歌，到了学校走进教室后，学生们的言行马上收敛了。见我坐在桌前翻开书，他们便不再说笑，一个个轻手轻脚地坐到位子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言行一致，尊敬老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57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一阵翻动文具的响声之后，教室里便渐渐安静下来。孩子们开始做功课了，有的头发从耳边垂下，遮住了半边脸；有的眉头微皱，一本正经的样子；有的歪着头，拿起橡皮，用夸张的动作擦着本子：那天真、幼稚、淳朴的神情很是悦目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57920" y="928800"/>
            <a:ext cx="282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态度认真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0"/>
            <a:ext cx="5000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看了一会儿书，我站起来在教室里巡视。有的学生写得很快，字却不工整，不用批评他，只要走到他身边停一下，他写字的速度就骤然放慢，字也马上变得规规矩矩。谁也没说一句话，但又分明是进行了一次“对话”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71680" y="9288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心灵之间的“对话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月光下，夜风悄然潜入教室，窗外的大叶杨不时发出沙啦啦的响声。学生们说得不错，我看书，他们做功课，大家无言地相互守着，这样的确很好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情义无价，值得珍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二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4~~6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“我”在教室里陪伴学生的情景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4" descr="u=2124669214,2547115270&amp;fm=52&amp;gp=0.jpg"/>
          <p:cNvPicPr/>
          <p:nvPr/>
        </p:nvPicPr>
        <p:blipFill>
          <a:blip r:embed="rId1"/>
          <a:stretch/>
        </p:blipFill>
        <p:spPr>
          <a:xfrm>
            <a:off x="1627200" y="2901960"/>
            <a:ext cx="43956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是不会让学生待太久的，否则，他们的家长会惦记。只要功课一做完，我就赶他们回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对学生的关心细致入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1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读懂课文，理解文章的表达顺序，感受师生间的深厚情谊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2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学会以一颗纯净的心来面对生活，要处处体验美，发现美，创造美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168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孩子们说：“你不走，我们也不走。”我说：“你们先走吧，可以一边走，一边唱歌。我坐在教室里听你们唱，等听不到你们的歌声时，我再走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互相关心，为对方着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大家快活地答应了。他们一出校门就唱起来，而且故意大声唱。我想，孩子们一定是笑着唱的吧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用歌声陪伴老师，感谢老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山村的夜晚很宁静，那歌声夹带着稚气的童声，显得极为清亮，传得很远很远。清脆的歌声不时惊起此起彼伏的狗叫，于是，寂静的夜一下子被搅乱了，喧闹起来，生动起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85840" y="8571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珍藏在老师记忆里的画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714240"/>
            <a:ext cx="44956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听着孩子们的歌声，我能准确地判断出哪几个学生朝哪个方向分路了，进了哪道沟，上了哪条岭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歌声渐远渐弱，终于完全消失，狗也不叫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对山村的熟悉，对孩子的熟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夜又重归宁静。这时，只有明亮的月光默默地照着山野、村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暗示孩子们都到家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三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7~~8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描写学生们月夜高歌回家的情景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4" descr="u=2714823011,3994047545&amp;fm=52&amp;gp=0.jpg"/>
          <p:cNvPicPr/>
          <p:nvPr/>
        </p:nvPicPr>
        <p:blipFill>
          <a:blip r:embed="rId1"/>
          <a:stretch/>
        </p:blipFill>
        <p:spPr>
          <a:xfrm>
            <a:off x="1554120" y="2968560"/>
            <a:ext cx="40356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有月亮的晚上，真美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由衷的感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5" descr="u=2947631679,1784238564&amp;fm=52&amp;gp=0.jpg"/>
          <p:cNvPicPr/>
          <p:nvPr/>
        </p:nvPicPr>
        <p:blipFill>
          <a:blip r:embed="rId1"/>
          <a:stretch/>
        </p:blipFill>
        <p:spPr>
          <a:xfrm>
            <a:off x="420840" y="3565440"/>
            <a:ext cx="46209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四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9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抒发对月夜的赞美之情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3" descr="1_2009090413402726V6sN.gif"/>
          <p:cNvPicPr/>
          <p:nvPr/>
        </p:nvPicPr>
        <p:blipFill>
          <a:blip r:embed="rId1"/>
          <a:stretch/>
        </p:blipFill>
        <p:spPr>
          <a:xfrm>
            <a:off x="7215120" y="2786040"/>
            <a:ext cx="1214640" cy="3751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" descr="u=2110916904,3705909569&amp;fm=0&amp;gp=0.jpg"/>
          <p:cNvPicPr/>
          <p:nvPr/>
        </p:nvPicPr>
        <p:blipFill>
          <a:blip r:embed="rId2"/>
          <a:stretch/>
        </p:blipFill>
        <p:spPr>
          <a:xfrm>
            <a:off x="1047600" y="3048120"/>
            <a:ext cx="36766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内容占位符 3" descr="2008921352642332.gif"/>
          <p:cNvPicPr/>
          <p:nvPr/>
        </p:nvPicPr>
        <p:blipFill>
          <a:blip r:embed="rId1"/>
          <a:stretch/>
        </p:blipFill>
        <p:spPr>
          <a:xfrm>
            <a:off x="920880" y="566640"/>
            <a:ext cx="3517920" cy="46753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1_2009090413405020dlbC.gif"/>
          <p:cNvPicPr/>
          <p:nvPr/>
        </p:nvPicPr>
        <p:blipFill>
          <a:blip r:embed="rId2"/>
          <a:stretch/>
        </p:blipFill>
        <p:spPr>
          <a:xfrm>
            <a:off x="3286080" y="3500280"/>
            <a:ext cx="18669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5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8592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窗外传来叽叽喳喳的说话声，我故意大声问：“谁呀？”只听得一阵哄笑声。我知道，这是我的学生们来叫我去学校的。我拿起书走出屋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和谐的场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7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们这里是山地，学生居住分散，到学校要翻山、穿林、过河，走不少的路，所以，学生们晚上都是在家里学习的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介绍学校的自然环境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453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但是，学生几次向我提出，晚上要到学校做功课，并提出了许多理由：家里没通电，一盏油灯一家人争着用；家里人口多、太吵等等。总之，好像不到学校就无法完成功课似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同学们愿意到学校学习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642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见我还是不同意，学生就提出了折中的办法：没有月亮的晚上在家做功课，有月亮的晚上就到学校来。我仍不同意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迫切的希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其实，我是想利用晚上的时间，静下心来读读写写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“</a:t>
            </a: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我”不同意的原因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168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可是，到了有月亮的晚上，就有一群群学生来我家里。他们问我在家干啥，我说看书。他们就说，那咱们一起去学校吧，你看书，我们做功课，那多好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学生心中的美好愿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于是，我的心动了，腋下夹两本书，和孩子们一起踏着月色去学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对学生们无私的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7-07T00:15:17Z</dcterms:modified>
  <cp:revision>11</cp:revision>
  <dc:subject/>
  <dc:title/>
</cp:coreProperties>
</file>