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1863-D653-488D-95FE-513D9454B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4D88-36FB-4DD1-80CA-61D3B9DD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BF1-F641-485C-9F85-423F66DE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0F7C-10F8-43E6-8944-C9E1F2ED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4F0C-7788-4C68-83D8-AE634525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C64-3E20-4E2A-8056-BAAC6252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B82-A57C-491F-8789-D422EC49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6D6-7FDF-406E-BAE8-1F189591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BB7F-1A6A-47C2-A379-782B716A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608F-A988-48A6-8DA8-E4743396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7F1-E833-44F4-9CCB-08F55F1C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B919-E852-4859-9CE4-05EA0402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4B76-0A33-4641-BBDE-E629AA436A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32000" y="836640"/>
            <a:ext cx="28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寓言二则</a:t>
            </a:r>
            <a:endParaRPr b="1" lang="en-US" sz="2400" spc="1" strike="noStrike">
              <a:ln w="255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348000" y="3789360"/>
            <a:ext cx="2333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东施效颦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楚王好细腰</a:t>
            </a:r>
            <a:endParaRPr b="1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234936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42920" y="476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题解：东施效颦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2133720"/>
            <a:ext cx="54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ffff"/>
                </a:solidFill>
                <a:latin typeface="Times New Roman"/>
              </a:rPr>
              <a:t>效：效仿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zh-CN" sz="5400" spc="-1" strike="noStrike">
                <a:solidFill>
                  <a:srgbClr val="ccffff"/>
                </a:solidFill>
                <a:latin typeface="Times New Roman"/>
              </a:rPr>
              <a:t>模仿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36880" y="3213000"/>
            <a:ext cx="710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ffff"/>
                </a:solidFill>
                <a:latin typeface="Times New Roman"/>
              </a:rPr>
              <a:t>颦 </a:t>
            </a:r>
            <a:r>
              <a:rPr b="0" lang="en-US" sz="5400" spc="-1" strike="noStrike">
                <a:solidFill>
                  <a:srgbClr val="66ffff"/>
                </a:solidFill>
                <a:latin typeface="Times New Roman"/>
              </a:rPr>
              <a:t>pín :</a:t>
            </a:r>
            <a:r>
              <a:rPr b="0" lang="zh-CN" sz="5400" spc="-1" strike="noStrike">
                <a:solidFill>
                  <a:srgbClr val="66ffff"/>
                </a:solidFill>
                <a:latin typeface="Times New Roman"/>
              </a:rPr>
              <a:t>皱眉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292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6ffff"/>
                </a:solidFill>
                <a:latin typeface="Times New Roman"/>
              </a:rPr>
              <a:t>东施：越国的丑女。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544500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东施模仿西施病痛皱眉的样子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8000" y="220500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03640" y="404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古词今译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5520" y="1432080"/>
            <a:ext cx="832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西施：春秋越国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zhù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罗人（今浙江暨南）人，四大美女之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94600" y="2636280"/>
            <a:ext cx="5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心：害心疼病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37480" y="3357000"/>
            <a:ext cx="5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颦：皱着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58920" y="4149000"/>
            <a:ext cx="5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归：返回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4868280"/>
            <a:ext cx="5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里：乡里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5516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亦：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0" r="867" b="8755"/>
          <a:stretch/>
        </p:blipFill>
        <p:spPr>
          <a:xfrm>
            <a:off x="5221440" y="2494080"/>
            <a:ext cx="3425760" cy="367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2883600"/>
            <a:ext cx="4464000" cy="106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西施病心而颦其里，其里之丑人见而美之，归亦捧心而颦其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48360" y="2702520"/>
            <a:ext cx="3744720" cy="1556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译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西施心口痛，皱着眉头从街上走过。同村一个丑妇人看见西施这个样子，觉得很美，回去时也捂着胸口，皱眉触额，从街上走过。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55640" y="7650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古文今译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620640"/>
            <a:ext cx="3240000" cy="115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42920" y="907920"/>
            <a:ext cx="2619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>
                    <a:alpha val="99000"/>
                  </a:srgbClr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古文今译：</a:t>
            </a:r>
            <a:endParaRPr b="1" lang="en-US" sz="40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>
                  <a:alpha val="99000"/>
                </a:srgbClr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47" t="11591" r="0" b="6583"/>
          <a:stretch/>
        </p:blipFill>
        <p:spPr>
          <a:xfrm>
            <a:off x="396720" y="4680000"/>
            <a:ext cx="4391280" cy="170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8000" y="220500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16000" y="2822400"/>
            <a:ext cx="7201080" cy="581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cc0000"/>
                </a:solidFill>
                <a:latin typeface="仿宋_GB2312"/>
                <a:ea typeface="仿宋_GB2312"/>
              </a:rPr>
              <a:t>其里之富人见之，坚闭门而不出；贫人见之，挈妻子而去之走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87280" y="4407480"/>
            <a:ext cx="716472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译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村里的富人看见她这副模样，都紧闭着大门不愿出来；穷人见了，带着妻子儿女，远远避开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620640"/>
            <a:ext cx="3240000" cy="115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42920" y="907920"/>
            <a:ext cx="2619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>
                    <a:alpha val="99000"/>
                  </a:srgbClr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古文今译：</a:t>
            </a:r>
            <a:endParaRPr b="1" lang="en-US" sz="40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>
                  <a:alpha val="99000"/>
                </a:srgbClr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19640" y="189000"/>
            <a:ext cx="3600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203480" y="1401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8200" y="1052640"/>
            <a:ext cx="54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里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富人见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坚闭门而不出；贫人见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挈妻子而去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之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 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907920"/>
            <a:ext cx="4319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之的不同意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相当于“的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56360" y="2421000"/>
            <a:ext cx="352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相当于“这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此”，指之前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提到的事或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4221000"/>
            <a:ext cx="485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第三人称代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他”、“她”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它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08000" y="220500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360" y="2781360"/>
            <a:ext cx="7850160" cy="727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彼知颦美而不知颦所以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4360" y="4732200"/>
            <a:ext cx="784836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个丑妇看到西施皱眉的样子很美，却不明白她皱眉的样子为什么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5640" y="620640"/>
            <a:ext cx="3240000" cy="115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42920" y="907920"/>
            <a:ext cx="2619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8000"/>
                  </a:solidFill>
                  <a:miter/>
                </a:ln>
                <a:solidFill>
                  <a:srgbClr val="008000">
                    <a:alpha val="99000"/>
                  </a:srgbClr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古文今译：</a:t>
            </a:r>
            <a:endParaRPr b="1" lang="en-US" sz="4000" spc="1" strike="noStrike">
              <a:ln w="12600">
                <a:solidFill>
                  <a:srgbClr val="008000"/>
                </a:solidFill>
                <a:miter/>
              </a:ln>
              <a:solidFill>
                <a:srgbClr val="008000">
                  <a:alpha val="99000"/>
                </a:srgbClr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19640" y="189000"/>
            <a:ext cx="36003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916760" cy="4653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9640" y="5589720"/>
            <a:ext cx="806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邻居们见到东施效颦的样子，有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有的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908000" y="220500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1557360"/>
            <a:ext cx="7127640" cy="20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问题一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什么村子里人的看见东施的样子都远远避开或不出门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3933720"/>
            <a:ext cx="712944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（因为东施本来就很丑，再加上刻意模仿，五官再添愁苦之态，奇丑无比，令村里人见她都远远避开或不出门。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260280"/>
            <a:ext cx="3240000" cy="93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11280" y="620640"/>
            <a:ext cx="273528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讨论交流</a:t>
            </a:r>
            <a:endParaRPr b="1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3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539640" y="3645000"/>
            <a:ext cx="52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0000" y="1413000"/>
            <a:ext cx="7775640" cy="58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课文没写东施丑到什么程度，而写人们的反应，这是一种什么描写方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00000" y="2637000"/>
            <a:ext cx="777564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作者大胆舍弃对其眉、眼、口鼻等的具体描写，从侧面去描写东施仿效西施后的丑态引起人们的反应，这就是我们常说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仿宋_GB2312"/>
              </a:rPr>
              <a:t>侧面描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260280"/>
            <a:ext cx="3240000" cy="936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11280" y="620640"/>
            <a:ext cx="2735280" cy="57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隶书"/>
              </a:rPr>
              <a:t>讨论交流</a:t>
            </a:r>
            <a:endParaRPr b="1" lang="en-US" sz="2400" spc="1" strike="noStrike">
              <a:ln w="1260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隶书"/>
              <a:ea typeface="隶书"/>
            </a:endParaRPr>
          </a:p>
        </p:txBody>
      </p:sp>
      <p:sp>
        <p:nvSpPr>
          <p:cNvPr id="149" name=""/>
          <p:cNvSpPr/>
          <p:nvPr/>
        </p:nvSpPr>
        <p:spPr>
          <a:xfrm>
            <a:off x="900000" y="4076640"/>
            <a:ext cx="7775640" cy="2089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414972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这样的描写方法去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启发和调动读者的想像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让我们去创造“东施”一个自己认为最丑的东施形象，不同读者心目中的东施虽然各不相同，但同样都会是丑陋、愚蠢、可笑的，这种侧面烘托方法的运用，</a:t>
            </a:r>
            <a:r>
              <a:rPr b="1" lang="zh-CN" sz="2400" spc="-1" strike="noStrike">
                <a:solidFill>
                  <a:srgbClr val="cc0000"/>
                </a:solidFill>
                <a:latin typeface="Times New Roman"/>
              </a:rPr>
              <a:t>具有强烈的讽刺效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11280" y="549360"/>
            <a:ext cx="2448000" cy="581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问题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628640"/>
            <a:ext cx="7056360" cy="1068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西施皱眉捧心的样子为什么美？而东施皱眉捧心的样子为什么丑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3213000"/>
            <a:ext cx="7058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西施：自然流露 ，真实。（人本来就美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4292640"/>
            <a:ext cx="7058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东施：刻意模仿，忸怩作态，（人本来就丑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276720" y="189000"/>
            <a:ext cx="24382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38160">
                  <a:solidFill>
                    <a:srgbClr val="00ccff"/>
                  </a:solidFill>
                  <a:miter/>
                </a:ln>
                <a:solidFill>
                  <a:srgbClr val="00ccff"/>
                </a:solidFill>
                <a:effectLst>
                  <a:outerShdw dist="40186" dir="1096358" blurRad="0" rotWithShape="0">
                    <a:srgbClr val="b2b2b2">
                      <a:alpha val="79000"/>
                    </a:srgbClr>
                  </a:outerShdw>
                </a:effectLst>
                <a:latin typeface="黑体"/>
              </a:rPr>
              <a:t>导入</a:t>
            </a:r>
            <a:endParaRPr b="1" lang="en-US" sz="9600" spc="1" strike="noStrike">
              <a:ln w="38160">
                <a:solidFill>
                  <a:srgbClr val="00ccff"/>
                </a:solidFill>
                <a:miter/>
              </a:ln>
              <a:solidFill>
                <a:srgbClr val="00ccff"/>
              </a:solidFill>
              <a:effectLst>
                <a:outerShdw dist="40186" dir="1096358" blurRad="0" rotWithShape="0">
                  <a:srgbClr val="b2b2b2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700280"/>
            <a:ext cx="8893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同学们，在本单元的学习中我们共同来探究美与丑这一主题，我们欣赏了丑石内在的美，同时也借此感悟到了：生活中也有各种各样的美，美的人、美的事、美的物、美的情操、美的心灵等等。但我们也要对丑的恶行加以揭露，使我们的生活变得更加的美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今天，我们就来学习一则寓言故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——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东施效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让我们进一步认识真正的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24000" y="1413000"/>
            <a:ext cx="8496000" cy="581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说说读了这则寓言故事，明白了什么道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3141720"/>
            <a:ext cx="8496000" cy="1572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切实际地照搬照抄，效果一定会适得其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能盲目地去模仿，如果一味地模仿别人的话，可能会适得其反 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做任何事都不能不顾客观条件，盲目模仿，否则只会适得其反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11280" y="189000"/>
            <a:ext cx="4032360" cy="93636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700360" y="549360"/>
            <a:ext cx="3456000" cy="57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ff00"/>
                </a:solidFill>
                <a:latin typeface="隶书"/>
              </a:rPr>
              <a:t>总结全文</a:t>
            </a:r>
            <a:endParaRPr b="1" lang="en-US" sz="2400" spc="-1" strike="noStrike">
              <a:ln w="9360">
                <a:solidFill>
                  <a:srgbClr val="00ff00"/>
                </a:solidFill>
                <a:miter/>
              </a:ln>
              <a:solidFill>
                <a:srgbClr val="00ff00"/>
              </a:solidFill>
              <a:latin typeface="隶书"/>
              <a:ea typeface="隶书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2636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黑体"/>
              </a:rPr>
              <a:t>启示参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908000" y="220500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411280" y="2781360"/>
            <a:ext cx="509616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行楷"/>
              </a:rPr>
              <a:t>楚王好细腰</a:t>
            </a:r>
            <a:endParaRPr b="1" lang="en-US" sz="80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2349360"/>
            <a:ext cx="8496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墨 子：名翟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zhái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春秋战国时期的思想家、政治家、墨家学派的创始人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墨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书，是他的弟子和后人根据他的主张写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楚灵王：春秋时期楚国的国君，在位仅仅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268360" y="620640"/>
            <a:ext cx="457200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楷体_GB2312"/>
              </a:rPr>
              <a:t>介绍有关资料</a:t>
            </a:r>
            <a:endParaRPr b="1" lang="en-US" sz="6000" spc="1" strike="noStrike">
              <a:ln w="255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楷体_GB2312"/>
              <a:ea typeface="楷体_GB2312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1800360" cy="21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55640" y="69228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读准下列字的字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134136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256536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1989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à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198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ī zh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11280" y="25653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昔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00720" y="2565360"/>
            <a:ext cx="158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胁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989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ié x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4437000"/>
            <a:ext cx="9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44720" y="3716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ī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56000" y="443700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13080" y="378936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á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56000" y="443700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黎黑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00720" y="3789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í hē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56536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皆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16720" y="1989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jiē  y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43640" y="4437000"/>
            <a:ext cx="15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屏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72360" y="3789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ǐng x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75564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解释下列词语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1628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好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4797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黎黑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 rot="10800000">
            <a:off x="4644720" y="386172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43280" y="3141720"/>
            <a:ext cx="20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期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43280" y="2349360"/>
            <a:ext cx="17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胁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3933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280" y="1557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昔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68360" y="162864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喜欢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162864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从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84720" y="2349360"/>
            <a:ext cx="32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屏住呼吸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84720" y="3141720"/>
            <a:ext cx="281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第二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84720" y="386064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朝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197080" y="393372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都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68360" y="4869000"/>
            <a:ext cx="417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脸色黑而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314172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带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2349360"/>
            <a:ext cx="17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故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95640" y="242100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因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24000" y="314172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扎住腰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8360" y="3094920"/>
            <a:ext cx="4464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昔者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楚灵王</a:t>
            </a: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好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士细腰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48360" y="2698200"/>
            <a:ext cx="3744720" cy="155628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译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从前，楚灵王喜欢他的臣子有纤细的腰身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755640" y="7650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古文今译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620640"/>
            <a:ext cx="3240000" cy="115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42920" y="907920"/>
            <a:ext cx="2619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古文今译：</a:t>
            </a:r>
            <a:endParaRPr b="1" lang="en-US" sz="40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99000"/>
                </a:srgbClr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07" name=""/>
          <p:cNvSpPr/>
          <p:nvPr/>
        </p:nvSpPr>
        <p:spPr>
          <a:xfrm>
            <a:off x="3492360" y="4508640"/>
            <a:ext cx="1224000" cy="79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95640" y="335772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35280" y="4653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喜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1186920" y="3357720"/>
            <a:ext cx="792360" cy="13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5440" y="4797360"/>
            <a:ext cx="1224000" cy="79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60" y="4941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从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9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68360" y="2628360"/>
            <a:ext cx="640908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故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灵王之臣</a:t>
            </a: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皆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以一饭为</a:t>
            </a: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节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4909680"/>
            <a:ext cx="8209080" cy="10688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译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所以朝中一班大臣，把一日三餐减为只吃一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55640" y="7650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古文今译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620640"/>
            <a:ext cx="3240000" cy="115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42920" y="907920"/>
            <a:ext cx="2619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古文今译：</a:t>
            </a:r>
            <a:endParaRPr b="1" lang="en-US" sz="40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99000"/>
                </a:srgbClr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18" name=""/>
          <p:cNvSpPr/>
          <p:nvPr/>
        </p:nvSpPr>
        <p:spPr>
          <a:xfrm>
            <a:off x="325440" y="1916280"/>
            <a:ext cx="1224000" cy="79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8360" y="20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因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1619280" y="2565000"/>
            <a:ext cx="16574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508720" y="836640"/>
            <a:ext cx="1224000" cy="79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51640" y="981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867280" y="1628640"/>
            <a:ext cx="1447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3645000"/>
            <a:ext cx="1224000" cy="79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067280" y="37893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节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00360" y="3645000"/>
            <a:ext cx="11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1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68360" y="3094920"/>
            <a:ext cx="4464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胁息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然后</a:t>
            </a: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带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扶墙然后起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48360" y="2943000"/>
            <a:ext cx="3995640" cy="10688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译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每天起床整装，先要屏住呼吸，然后把腰带束紧，扶着墙壁站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55640" y="7650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古文今译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620640"/>
            <a:ext cx="3240000" cy="115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42920" y="907920"/>
            <a:ext cx="2619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古文今译：</a:t>
            </a:r>
            <a:endParaRPr b="1" lang="en-US" sz="40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99000"/>
                </a:srgbClr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4508640"/>
            <a:ext cx="1439640" cy="1081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35280" y="4653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扎住腰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4653000"/>
            <a:ext cx="1512720" cy="115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6920" y="479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屏住呼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402920" y="3429000"/>
            <a:ext cx="144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3429000"/>
            <a:ext cx="647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8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211640" y="2353680"/>
            <a:ext cx="4464000" cy="6426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比</a:t>
            </a: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期年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朝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</a:t>
            </a:r>
            <a:r>
              <a:rPr b="1" lang="zh-CN" sz="36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黎黑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之色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19280" y="4981320"/>
            <a:ext cx="6624720" cy="10688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译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等到一年后，满朝文武官员脸色都是黑黄黑黄的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55640" y="7650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楷体_GB2312"/>
              </a:rPr>
              <a:t>古文今译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41" name=""/>
          <p:cNvSpPr/>
          <p:nvPr/>
        </p:nvSpPr>
        <p:spPr>
          <a:xfrm>
            <a:off x="755640" y="620640"/>
            <a:ext cx="3240000" cy="1152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42920" y="907920"/>
            <a:ext cx="2619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99000"/>
                  </a:srgbClr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古文今译：</a:t>
            </a:r>
            <a:endParaRPr b="1" lang="en-US" sz="40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99000"/>
                </a:srgbClr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43" name=""/>
          <p:cNvSpPr/>
          <p:nvPr/>
        </p:nvSpPr>
        <p:spPr>
          <a:xfrm>
            <a:off x="6157800" y="3716280"/>
            <a:ext cx="1224000" cy="792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0072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朝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2349360"/>
            <a:ext cx="1800360" cy="1008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256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脸色黑而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81800" y="692280"/>
            <a:ext cx="1582560" cy="792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24360" y="83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第二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156360" y="1484280"/>
            <a:ext cx="71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804000" y="2708280"/>
            <a:ext cx="504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851280" y="2923920"/>
            <a:ext cx="5047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2651040" cy="1295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11280" y="2276640"/>
            <a:ext cx="806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知道楚王喜欢细腰后，大臣们的心里会想些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animClr clrSpc="rgb">
                                      <p:cBhvr>
                                        <p:cTn id="85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859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5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6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7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9052" b="14522"/>
          <a:stretch/>
        </p:blipFill>
        <p:spPr>
          <a:xfrm>
            <a:off x="179280" y="189000"/>
            <a:ext cx="3733920" cy="3446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rcRect l="1465" t="9323" r="0" b="10551"/>
          <a:stretch/>
        </p:blipFill>
        <p:spPr>
          <a:xfrm>
            <a:off x="4518000" y="333360"/>
            <a:ext cx="4470480" cy="323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8" name=""/>
          <p:cNvSpPr txBox="1"/>
          <p:nvPr/>
        </p:nvSpPr>
        <p:spPr>
          <a:xfrm>
            <a:off x="1908000" y="4365720"/>
            <a:ext cx="57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黑体"/>
              </a:rPr>
              <a:t>东施效颦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87280" y="191628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ff3300"/>
                </a:solidFill>
                <a:latin typeface="黑体"/>
                <a:ea typeface="黑体"/>
              </a:rPr>
              <a:t>故灵王之臣，皆以一饭为节，胁息然后带，扶墙然后起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03240" y="7650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大臣们是怎样做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4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5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00000" y="1773360"/>
            <a:ext cx="6767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⑴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你能否为大家演示一下“胁”“带”“扶”这几个动作，并用自己的具体的语言描绘自己的体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⑵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大家想一想：大臣在细腰的过程中是否有痛苦，他们会有思想矛盾吗？猜猜他们怎么想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⑶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再试着读读这句话，读出大臣们的矛盾心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2016000" cy="9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826920" y="198900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第二年，大臣的“努力”有了成效，满朝文武的脸色都是黑黄黑黄的了，看到这番景象楚王还乐得起来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755640" y="191628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灵王见之甚奇，问其原由而告之。灵王悔之，遂令臣子勿好细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71640" y="1052640"/>
            <a:ext cx="28573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补写结尾：</a:t>
            </a:r>
            <a:endParaRPr b="1" lang="en-US" sz="44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2340000" y="4149720"/>
            <a:ext cx="39495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rnd" w="12600">
                  <a:solidFill>
                    <a:srgbClr val="ff00ff"/>
                  </a:solidFill>
                  <a:custDash>
                    <a:ds d="100000" sp="1000"/>
                  </a:custDash>
                  <a:miter/>
                </a:ln>
                <a:solidFill>
                  <a:srgbClr val="ff00ff"/>
                </a:solidFill>
                <a:latin typeface="隶书"/>
              </a:rPr>
              <a:t>你能说说意思吗？</a:t>
            </a:r>
            <a:endParaRPr b="1" lang="en-US" sz="2400" spc="1" strike="noStrike">
              <a:ln cap="rnd" w="12600">
                <a:solidFill>
                  <a:srgbClr val="ff00ff"/>
                </a:solidFill>
                <a:custDash>
                  <a:ds d="100000" sp="1000"/>
                </a:custDash>
                <a:miter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24000" y="404640"/>
            <a:ext cx="2519280" cy="1368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55640" y="692280"/>
            <a:ext cx="1584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总结</a:t>
            </a:r>
            <a:endParaRPr b="1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64" name=""/>
          <p:cNvSpPr/>
          <p:nvPr/>
        </p:nvSpPr>
        <p:spPr>
          <a:xfrm>
            <a:off x="1116000" y="2205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这一则寓言对我们有些什么启发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3141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寓言告诉我们两点：那些投其所好（拍马屁）的人不会有什么好下场；任何一个领导者提倡什么，反对什么，对下面的影响非常大，如果提倡不健康的东西，就会给社会带来不良的影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9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9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3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4" dur="8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3564000" y="260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课后练习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67" name=""/>
          <p:cNvSpPr/>
          <p:nvPr/>
        </p:nvSpPr>
        <p:spPr>
          <a:xfrm>
            <a:off x="179280" y="836640"/>
            <a:ext cx="8785440" cy="56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积累与美有关的格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失去了真，同时也就失去了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美具有引人向善的作用和力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给下列句子注音，并写出字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颦：字音（ ）       字义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挈：字音（ ）       字义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亦：字音（ ）       字义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好：字音（ ）       字义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皆：字音（ ）       字义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胁：字音（ ）       字义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朝：字音（ ）       字义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79280" y="189000"/>
            <a:ext cx="8785440" cy="66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读句子，回答问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彼知颦美而不知颦所以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译文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知道西施美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东施效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个寓言故事告诉我们的道理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故灵王之臣皆以一饭为节，胁息然后带，扶墙然后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此时，灵王的大臣会想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楚王好细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个寓言故事告诉我们的道理是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、文学常识填空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墨子，名     ，春秋战国时期著名的    、    、    家学派的创始人。墨子的弟子根据他的主张，集成一书，便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庄子，名         ，                    时期著名的             家，      家学派的创始人之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35280" y="155736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1989000"/>
            <a:ext cx="539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64360" y="2349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71640" y="2708280"/>
            <a:ext cx="770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3500280"/>
            <a:ext cx="43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524720" y="3860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4221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95640" y="501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940360" y="5013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32720" y="501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67640" y="501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4000" y="537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580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95640" y="6308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59280" y="6308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372360" y="6308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12000" y="630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24000" y="260280"/>
            <a:ext cx="8605800" cy="40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五、根据句子的意思写出古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穷人见了，带着妻子儿女，远远避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从前，楚灵王喜欢他的臣子有纤细的腰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、根据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楚王好细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的情节、人物性格等展开合理、丰富的想象进行扩写，注意把人物的语言、动作、神态写具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从前，楚灵王喜欢他的臣子有纤细的腰身，这个消息迅速传开了。朝中的一班大臣得知这一消息后，便暗暗策划起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大臣们为了讨好楚灵王，把一日三餐改为只吃一餐。每天起床整装，首先要屏住呼吸，然后把腰带束紧，不管有多难受，都要把腰带拉到最紧，直到把皮肤勒出了一条深深的红印，最后扶着墙壁有气无力地站起来。他们的腰就都变成了细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87280" y="1700280"/>
            <a:ext cx="720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16000" y="2637000"/>
            <a:ext cx="74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50920" y="2619720"/>
            <a:ext cx="864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渐渐地，楚灵王更加喜爱他的那些臣子们了。大臣们虽然受到了楚灵王的宠爱，可以高官厚禄，可是他们也发现这样“勒腰”特别难受，每天吃不饱不说，还得勒紧腰带。便在背后聚在一起咒骂楚灵王。一个大臣首先发言：“楚灵王喜欢什么不好，偏偏喜欢细腰。”“对，如果不是他喜欢细腰，要是喜欢别的什么物质上的东西，我们也不至于吧自己折磨得那么惨。”另一个大臣也忍不住插嘴。别的官员唉声叹气地说：“为了我们的荣华富贵，就只好忍耐吧。”大臣们都同意了，个个把自己的腰带勒得更紧了。这样，大臣们为了让楚灵王宠信自己，就一直“勒腰”坚持下去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很快，眨眼到了第二年，满朝文武官员脸色都是黑黄黑黄的了，他们变得骨瘦如柴，两眼饿得直冒金光，都病奄奄的，连说话的力气都没有了。一个个上朝时肚子都不停地“咕噜咕噜”叫，把楚灵王说话的声音都给覆盖住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楚灵王很快发现大臣们都很不对劲，就秘密地派人去调查，终于查出了原由。原来是大臣们为了要讨好自己，而每天都把自己的腰折磨成细腰，好让自己给他们享不尽的荣华富贵。楚灵王知道后，竟大发雷霆！他叫人把那些专门要讨好自己的大臣抓起来，把他们贬为庶民，狠狠地教训了一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后来，楚灵王又在上朝时说了这件事，告诉大臣们以后要尽心尽职做事，不能只投其所好，假公济私，讨别人喜欢。不然的话，下场就会像那班大臣一样。不仅如此，楚灵王还把自己喜爱瘦腰的爱好给改了，改成喜爱为朝廷尽职尽责做事，不投其所好、假公济私的忠臣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从此，朝廷里又恢复了安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8000" y="220500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11280" y="2781360"/>
            <a:ext cx="509616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255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华文行楷"/>
              </a:rPr>
              <a:t>介绍小资料</a:t>
            </a:r>
            <a:endParaRPr b="1" lang="en-US" sz="8000" spc="1" strike="noStrike">
              <a:ln w="255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900" t="0" r="0" b="11834"/>
          <a:stretch/>
        </p:blipFill>
        <p:spPr>
          <a:xfrm>
            <a:off x="34920" y="260280"/>
            <a:ext cx="8970840" cy="6046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95280" y="3716280"/>
            <a:ext cx="820908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庄子：名周，战国时期宋国人。著名的哲学家、思想家、文学家，道家学派的创始人之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庄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书收入了庄周及其弟子的作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551600"/>
          </a:xfrm>
          <a:prstGeom prst="rect">
            <a:avLst/>
          </a:prstGeom>
          <a:solidFill>
            <a:srgbClr val="ffa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中国古代的四大美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08312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西施      貂禅     王昭君    杨玉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6048360" cy="3168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763640" y="5895720"/>
            <a:ext cx="7559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沉鱼 、闭月、  落雁、  羞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465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08360" y="465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92720" y="458136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948360" y="4653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280360" cy="61772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755640" y="620640"/>
            <a:ext cx="5329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国古代的四大美女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西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484360" y="1197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p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í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13080" y="1197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qi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1197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w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132000" y="189000"/>
            <a:ext cx="280044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学习生字新词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7" name=""/>
          <p:cNvSpPr/>
          <p:nvPr/>
        </p:nvSpPr>
        <p:spPr>
          <a:xfrm>
            <a:off x="2588400" y="1863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黑体"/>
              </a:rPr>
              <a:t>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315680" y="1844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黑体"/>
              </a:rPr>
              <a:t>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00040" y="1844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Arial"/>
                <a:ea typeface="黑体"/>
              </a:rPr>
              <a:t>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8000" y="2637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一颦一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08360" y="2637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扶老挈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51640" y="263700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Arial"/>
                <a:ea typeface="黑体"/>
              </a:rPr>
              <a:t>捂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635280" y="3429000"/>
            <a:ext cx="15242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比  较</a:t>
            </a:r>
            <a:endParaRPr b="1" lang="en-US" sz="40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41497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捂（        ）    梧（        ）    悟（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494172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频（        ）    颦（                 ）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5661000"/>
            <a:ext cx="53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挈（        ）    挚（        ）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4076640"/>
            <a:ext cx="10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捂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4076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梧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04000" y="4076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觉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08000" y="4941720"/>
            <a:ext cx="10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频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486900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颦一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5589720"/>
            <a:ext cx="10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挈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56000" y="558972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真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5280" y="404640"/>
            <a:ext cx="8424720" cy="3928320"/>
          </a:xfrm>
          <a:prstGeom prst="rect">
            <a:avLst/>
          </a:prstGeom>
          <a:solidFill>
            <a:srgbClr val="ffa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东施效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庄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西施病心而颦其里，其里之丑人见而美之，归亦捧心而颦其里。其里之富人见之，坚闭门而不出；贫人见之，挈妻子而去之走 。  彼知颦美而不知颦所以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19280" y="2421000"/>
            <a:ext cx="144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92400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8532360" y="2421000"/>
            <a:ext cx="142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971280" y="3213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492000" y="3213000"/>
            <a:ext cx="142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003280" y="3213000"/>
            <a:ext cx="730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979280" y="4005360"/>
            <a:ext cx="144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995640" y="3933720"/>
            <a:ext cx="144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8027640" y="3933720"/>
            <a:ext cx="14436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916000" y="4797360"/>
            <a:ext cx="1429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492360" y="4797360"/>
            <a:ext cx="144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7956360" y="4724280"/>
            <a:ext cx="14436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402920" y="5661000"/>
            <a:ext cx="14436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755640" y="83664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556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指导朗读</a:t>
            </a:r>
            <a:endParaRPr b="1" lang="en-US" sz="2400" spc="1" strike="noStrike">
              <a:ln w="2556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8:13:11Z</dcterms:created>
  <dc:creator>Administrator</dc:creator>
  <dc:description/>
  <dc:language>en-US</dc:language>
  <cp:lastModifiedBy/>
  <dcterms:modified xsi:type="dcterms:W3CDTF">2015-07-23T06:52:40Z</dcterms:modified>
  <cp:revision>7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