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CBF-AE41-4DEF-AAF4-D54ABDB1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6FE-32D0-460B-A886-A2E1888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A2D-94B9-41CA-A37F-5962FF58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D0C-E9BE-408C-A542-1634249F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0FB-DFBF-4CB4-BD3D-548B16A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484-D5DC-49B4-84C1-4F80AF2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781-FBE7-4111-AF6F-67CDCFF6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1A3-F566-46EA-8928-6556C7E8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688-4F34-44FE-A66E-E6EA385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AD3-1852-43C8-A394-01F45EF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CDB-893C-4CB0-AB04-C88ED1F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6A2-0BF4-4E2F-81D0-45985D8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70A-A054-4CA0-B28B-C3C580733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b6151debf2a7c666dc6638c1148eb49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f81bd"/>
                </a:solidFill>
                <a:latin typeface="方正胖娃_GBK"/>
                <a:ea typeface="方正胖娃_GBK"/>
              </a:rPr>
              <a:t>14</a:t>
            </a:r>
            <a:r>
              <a:rPr b="0" lang="zh-CN" sz="7200" spc="-1" strike="noStrike">
                <a:solidFill>
                  <a:srgbClr val="4f81bd"/>
                </a:solidFill>
                <a:latin typeface="方正胖娃_GBK"/>
                <a:ea typeface="方正胖娃_GBK"/>
              </a:rPr>
              <a:t>*</a:t>
            </a:r>
            <a:r>
              <a:rPr b="0" lang="zh-CN" sz="7200" spc="-1" strike="noStrike">
                <a:solidFill>
                  <a:srgbClr val="4f81bd"/>
                </a:solidFill>
                <a:latin typeface="方正胖娃_GBK"/>
                <a:ea typeface="方正胖娃_GBK"/>
              </a:rPr>
              <a:t>壮哉，少年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明代地理学家徐霞客，是一位热爱祖国、热爱大然的旅行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点明人物身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0"/>
            <a:ext cx="461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他从小就爱读地理、旅游和探险方面  的书，立志要亲自踏勘祖国的山山水水，去探索大自  然的奥秘。他从青年时代起，三十多年从未停止过旅  行，北至燕、晋，南临大海，西赴云、贵、川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时间长，范围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360" y="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最后，他把旅行中得到的知识，以流畅、优美的语言，写成一部真实记录祖国山水地貌的专著</a:t>
            </a:r>
            <a:r>
              <a:rPr b="0" lang="en-US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——《</a:t>
            </a: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徐霞客游记</a:t>
            </a:r>
            <a:r>
              <a:rPr b="0" lang="en-US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。岛中对桂林山水、阳朔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shuò</a:t>
            </a: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）溶洞、石林石峰作了生动的描绘。在探索石灰岩地貌特征方面，他是世界上作出巨大贡献的第一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29120" y="1600200"/>
            <a:ext cx="375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旅行，探索的贡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唐代诗人白居易，一生酷爱旅游，每当登高赏景时，便游兴大发，必吟诗作歌，倾泻他那满腔的激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旅游让人心情愉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360" y="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他的诗中，曾有“人间四月芳菲尽，山寺桃花始盛开”这样的名句。为什么同在四月，别处的桃花 “芳菲尽”，山中寺庙里却另有桃花“始盛开”呢？后人曾对此争论不休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旅行中的新发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到了宋代，科学家沈括也为此疑惑不解。一次，他登山游览，当时正是四月，山下的桃花已经凋零，可山里的桃花却正喷芳吐艳。他不由得想起那两句诗来。妙哇！白居易以桃花的盛衰表达山上山下的不同气候，这有多么贴切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286240" y="71424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登山解惑愉悦心情的表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登高，使白居易写出这样精美的诗句；游山，解开了沈括心中的疑惑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前文的概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二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2~~5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举例说明旅行的好处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857160"/>
            <a:ext cx="461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每逢节假日，少年朋友们总爱拥向原野、高山、森林和大海，在广阔的天地里，在壮丽多姿的大自然的抚爱中，领略知识，开阔眼界，培养兴趣，陶冶情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点明观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51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在国外，许多经济发达的国家都十分重视并鼓励青少年到外国旅行，不少十三四岁的少年就已经到过十几个国家。他们到处探新访奇，采集标本，了解民情，学到了在书本上难以学到的许多知识。他们认为，增长阅历，培养交往能力，是当代科技和经济发展的需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48360" y="69228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再次说明旅游的好处，点明主题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1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理解课文内容，感悟旅行带来的益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2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学习作者围绕一个主题，列举具体事例进行表达的方法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去旅行吧！在奇山秀水中尽情尽兴地玩儿吧！你的心胸会更加开阔，你的生活会更加丰富，你的意志会更加坚强，你的理想会更加崇高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极富号召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三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6~~7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点名旅行的好处，发出号召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6"/>
          <p:cNvSpPr txBox="1"/>
          <p:nvPr/>
        </p:nvSpPr>
        <p:spPr>
          <a:xfrm>
            <a:off x="1116000" y="2349360"/>
            <a:ext cx="727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！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字词通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1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热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zhōng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2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凭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吊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diào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3·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栩栩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如生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xǔ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4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倾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泻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xiè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壮哉，少年游！多少快乐，多少情趣，多么豪迈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点明主题，阐明观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一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开篇点题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4" descr=""/>
          <p:cNvPicPr/>
          <p:nvPr/>
        </p:nvPicPr>
        <p:blipFill>
          <a:blip r:embed="rId1"/>
          <a:stretch/>
        </p:blipFill>
        <p:spPr>
          <a:xfrm>
            <a:off x="1560600" y="3286080"/>
            <a:ext cx="3087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840" y="285840"/>
            <a:ext cx="432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自古以来，许多名人在他们最美好的青少年时期，就热衷于游历、考察、探索。云间峰巅、莽莽深林、海角沙滩、瀑布飞泉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到处都留下了他们的足迹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观点进行论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汉代史学家司马迁，在他二十岁的时候，就到祖国各地去旅行。凡是能去的地方，他都要涉足。或骑马，或乘船，或步行；走一路，游一路，写一路；搜集掌故，访古猎奇，考察史实，凭吊遗迹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4920" y="285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介绍司马迁旅行的方式，特点和目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旅行，大大丰富了他的知识，增进了他对祖国真挚深沉的爱，为后来撰著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史记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奠定了坚实的基础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获益匪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史记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中  那感人的栩栩如生的人物记载，达到了史学和文学的  高度统一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评价和赞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0:24:06Z</dcterms:created>
  <dc:creator/>
  <dc:description/>
  <dc:language>en-US</dc:language>
  <cp:lastModifiedBy>Administrator</cp:lastModifiedBy>
  <dcterms:modified xsi:type="dcterms:W3CDTF">2016-01-06T00:46:2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