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C72C-E807-44BE-8347-203B5FEF0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D067-5445-441F-854C-9E83DDE93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8F1D-6464-48DA-99E8-716D7D2AF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733D-8681-47F5-8316-5383DA85D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36D7-7663-4B32-A599-08B228DA1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492C-6F58-4B9C-A52F-F69B5B42D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E57E-BB26-43AB-95A6-66981FAD3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E54A-0446-45C4-92BA-60BF9B55E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C6FE-8824-46BF-B8FB-58A163ED3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31FA-D377-4DF9-B9DC-2D00FD2E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11B0-00DE-44FC-8AFD-C78E9B0F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26B5-E243-43BE-86A5-D939116E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EAE76-AB19-40FD-98B1-02706913B9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xinsrc_6e32843703ab480795b53b1398bce4e3"/>
          <p:cNvPicPr/>
          <p:nvPr/>
        </p:nvPicPr>
        <p:blipFill>
          <a:blip r:embed="rId1"/>
          <a:stretch/>
        </p:blipFill>
        <p:spPr>
          <a:xfrm>
            <a:off x="6372360" y="476280"/>
            <a:ext cx="2447640" cy="58323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2"/>
          <a:stretch/>
        </p:blipFill>
        <p:spPr>
          <a:xfrm>
            <a:off x="500040" y="928800"/>
            <a:ext cx="562140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课后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50560" y="620280"/>
            <a:ext cx="8893080" cy="543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一、读一读，选择正确的读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临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淄</a:t>
            </a:r>
            <a:r>
              <a:rPr b="1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zī z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ī</a:t>
            </a:r>
            <a:r>
              <a:rPr b="1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）  体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魄</a:t>
            </a:r>
            <a:r>
              <a:rPr b="1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pò 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ò</a:t>
            </a:r>
            <a:r>
              <a:rPr b="1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）  专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供</a:t>
            </a:r>
            <a:r>
              <a:rPr b="1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ɡ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ō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ɡ gòng</a:t>
            </a:r>
            <a:r>
              <a:rPr b="1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鬃</a:t>
            </a:r>
            <a:r>
              <a:rPr b="1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毛（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zō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ɡ zhōng</a:t>
            </a:r>
            <a:r>
              <a:rPr b="1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）   拥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塞</a:t>
            </a:r>
            <a:r>
              <a:rPr b="1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sè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）  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禁</a:t>
            </a:r>
            <a:r>
              <a:rPr b="1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不住（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jīn 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ìn</a:t>
            </a:r>
            <a:r>
              <a:rPr b="1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二、回答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为什么足球运动被称为“世界第一运动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三、各举出以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-10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开头的俗语（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包括成语、习惯用语等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例如：一是一，二是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179280" y="549360"/>
            <a:ext cx="856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华文中宋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人类不断地战胜自然，改造自然，靠的是这样的精神</a:t>
            </a: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协作，持之以恒。而这种精神在足球场上体现得淋漓尽致。今天，我们来学习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华文中宋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足球史话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华文中宋"/>
              </a:rPr>
              <a:t>》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，看看足球运动的历史与现状是怎样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Img220604443"/>
          <p:cNvPicPr/>
          <p:nvPr/>
        </p:nvPicPr>
        <p:blipFill>
          <a:blip r:embed="rId1"/>
          <a:stretch/>
        </p:blipFill>
        <p:spPr>
          <a:xfrm>
            <a:off x="4140360" y="3500280"/>
            <a:ext cx="4679640" cy="3097440"/>
          </a:xfrm>
          <a:prstGeom prst="rect">
            <a:avLst/>
          </a:prstGeom>
          <a:ln w="0">
            <a:noFill/>
          </a:ln>
        </p:spPr>
      </p:pic>
      <p:sp>
        <p:nvSpPr>
          <p:cNvPr id="45" name="Text Box 6"/>
          <p:cNvSpPr/>
          <p:nvPr/>
        </p:nvSpPr>
        <p:spPr>
          <a:xfrm>
            <a:off x="395280" y="443700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先学习基础知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250920" y="476280"/>
            <a:ext cx="8640720" cy="44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一起学词语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近义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昌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兴旺  强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健康  完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完备  破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损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酷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热爱  诞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出生  顽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坚强  降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落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反义词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昌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衰落  强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虚弱  完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残缺  破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保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酷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厌恶  诞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死亡  顽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软弱  勇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怯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5"/>
          <p:cNvSpPr/>
          <p:nvPr/>
        </p:nvSpPr>
        <p:spPr>
          <a:xfrm>
            <a:off x="324000" y="476280"/>
            <a:ext cx="8424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自由读文，思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本文向我们介绍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1979640" y="2205000"/>
            <a:ext cx="4392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起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演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发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250920" y="299736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足球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1"/>
          <p:cNvSpPr/>
          <p:nvPr/>
        </p:nvSpPr>
        <p:spPr>
          <a:xfrm rot="10800000">
            <a:off x="1692000" y="2349000"/>
            <a:ext cx="144360" cy="1800360"/>
          </a:xfrm>
          <a:custGeom>
            <a:avLst/>
            <a:gdLst>
              <a:gd name="textAreaLeft" fmla="*/ 0 w 144360"/>
              <a:gd name="textAreaRight" fmla="*/ 52200 w 14436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2"/>
          <p:cNvSpPr/>
          <p:nvPr/>
        </p:nvSpPr>
        <p:spPr>
          <a:xfrm flipH="1" rot="10800000">
            <a:off x="3059280" y="2349000"/>
            <a:ext cx="2449440" cy="1800360"/>
          </a:xfrm>
          <a:custGeom>
            <a:avLst/>
            <a:gdLst>
              <a:gd name="textAreaLeft" fmla="*/ 360 w 2449440"/>
              <a:gd name="textAreaRight" fmla="*/ 884880 w 244944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5580000" y="292428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2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理清思路：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       文章分为两个部分介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468360" y="242100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第一部分（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自然段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468360" y="314172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第二部分（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自然段）介绍中国是最早发明足球和进行足球比赛的国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468360" y="4076640"/>
            <a:ext cx="82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第三部分（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4-10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自然段）介绍现代足球的起源、演变、和发展的过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468360" y="508464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第四部分（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自然段）总结全文，用具体数字进一步说明足球运动深受世界各国人民的喜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华文中宋"/>
              </a:rPr>
              <a:t>现代足球的起源和发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395280" y="1916280"/>
          <a:ext cx="8229600" cy="4179600"/>
        </p:xfrm>
        <a:graphic>
          <a:graphicData uri="http://schemas.openxmlformats.org/drawingml/2006/table">
            <a:tbl>
              <a:tblPr/>
              <a:tblGrid>
                <a:gridCol w="1738440"/>
                <a:gridCol w="1119240"/>
                <a:gridCol w="5371920"/>
              </a:tblGrid>
              <a:tr h="884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时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国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足球起源和发展情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0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863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0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900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904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—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930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Text Box 45"/>
          <p:cNvSpPr/>
          <p:nvPr/>
        </p:nvSpPr>
        <p:spPr>
          <a:xfrm>
            <a:off x="179280" y="26028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小组学习：默读第三部分，填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4"/>
          <p:cNvSpPr/>
          <p:nvPr/>
        </p:nvSpPr>
        <p:spPr>
          <a:xfrm>
            <a:off x="1908000" y="2852640"/>
            <a:ext cx="16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英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（伦敦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6"/>
          <p:cNvSpPr/>
          <p:nvPr/>
        </p:nvSpPr>
        <p:spPr>
          <a:xfrm>
            <a:off x="3492360" y="2852640"/>
            <a:ext cx="49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成立世界上第一个足球协会，现代足球运动诞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8"/>
          <p:cNvSpPr/>
          <p:nvPr/>
        </p:nvSpPr>
        <p:spPr>
          <a:xfrm>
            <a:off x="4314600" y="386064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在第二届奥运会上被列为正式比赛项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9"/>
          <p:cNvSpPr/>
          <p:nvPr/>
        </p:nvSpPr>
        <p:spPr>
          <a:xfrm>
            <a:off x="1979640" y="443700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法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（巴黎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0"/>
          <p:cNvSpPr/>
          <p:nvPr/>
        </p:nvSpPr>
        <p:spPr>
          <a:xfrm>
            <a:off x="3826080" y="46674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国际足联宣告成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1"/>
          <p:cNvSpPr/>
          <p:nvPr/>
        </p:nvSpPr>
        <p:spPr>
          <a:xfrm>
            <a:off x="2340360" y="55324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乌拉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3"/>
          <p:cNvSpPr/>
          <p:nvPr/>
        </p:nvSpPr>
        <p:spPr>
          <a:xfrm>
            <a:off x="3492360" y="5300640"/>
            <a:ext cx="48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举办首届世界杯足球赛，从此现代足球运动日益发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思考：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      为什么中国发明足球最早而英国却是现代足球运动的起源地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395280" y="184464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华文中宋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这是因为宋朝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文强武弱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，统治者荒淫奢华，致使世风日下，足球逐渐从军中退出。对抗性渐渐减弱，表演性慢慢增强，常作为宫廷宴会的助兴演出。元、明、清三代，社会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重文轻武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以及官府的各种禁令，使我国古代足球逐渐绝迹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395280" y="4508640"/>
            <a:ext cx="8353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足球史话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按怎样的顺序讲述足球的历史？试用这种写法介绍一种体育活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时间顺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250920" y="1470600"/>
            <a:ext cx="8713800" cy="33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0" tIns="1728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介绍一种体育运动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--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田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  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田径是世界上最为普及的体育运动之一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老师的话：这一段总写田径的特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  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远在上古时代，人们为了生存，不得不投掷石块攻击猛兽，不得不跳过各种障碍获取食物，不得不走或跑一段距离到某个地方，这些求生，本能的动作在劳动中不断重复，让人类的身手更为敏捷，便形成了走、跑、跳跃和投掷的各种技能，随着社会的进步，人们又有意识地把这些技能作为健身运动来练习，渐渐的演变为体育比赛中的一个项目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老师的话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 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这一段介绍田径的起源、演变和发展。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    田径比赛有短跑，长跑，接力跑，跳远，跨栏等等，这些比赛或要求在短时间内表现出最快的速度，或要求在长时间内表现出最大的耐力，是以比速度、比高度、比远度和比耐力著称，最能体现出奥林匹克“更快、更高、更强”的格言，所以，在奥运会上，田径运动都被列为主要的比赛项，设置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4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块金牌，有“得田径者得天下”的说法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  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200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年雅典奥运会上，我国选手刘翔以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12.9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秒的速度获得男子跨栏冠军，站在了奥运会的最高领奖台上。刘翔的成功让我明白了：体育运动不仅能强身健体，还能锻炼一个人的毅力和意志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老师的话：这一段介绍田径的分项，特点、和意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   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如果你想强壮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跑步吧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!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如果你想健美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跑步吧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!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如果你想历练自己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跑步吧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老师的话：总结全文，发出呼吁。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 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 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68360" y="1267920"/>
            <a:ext cx="8229600" cy="23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足球运动成为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世界第一运动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，许多人爱看足球赛，为足球痴迷，你看过足球赛吗？从球员们的身上你看到了什么样的体育精神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2411280" y="3573360"/>
            <a:ext cx="46087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团结、协作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持之以恒的精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00:54:45Z</dcterms:created>
  <dc:creator/>
  <dc:description/>
  <dc:language>en-US</dc:language>
  <cp:lastModifiedBy>Administrator</cp:lastModifiedBy>
  <dcterms:modified xsi:type="dcterms:W3CDTF">2016-06-06T02:30:22Z</dcterms:modified>
  <cp:revision>17</cp:revision>
  <dc:subject/>
  <dc:title>幻灯片 1</dc:title>
</cp:coreProperties>
</file>