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885-8C69-443C-8CB9-4F624FE1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000-2776-4E45-B8EA-8DAEC811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9934-0FBD-4F32-9F66-80928EBF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882-42F7-460B-9D46-898FC8C4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9368-86D0-4AE6-ABF8-F8771CD81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E255-7D4E-42DA-9BB3-062D7802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22C5-FE15-4D08-8103-EA5ACD7F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C8E4-E55F-404B-973B-A76BD421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A886-F0DB-4A32-AF19-F2DF6365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10D9-AFC1-4FF9-862F-22D719C1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1BED-CFAC-433E-B5EF-EBBF00DA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B7A-AFCD-4AFD-AEEC-8C2149B8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F92C-0CAA-4DDE-975B-2D498DB9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C95A-ACCE-4194-8B6D-B3D5AF47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7758-C0CB-42DF-B0F1-50E22C2E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4E59-9242-4AD6-B056-7A47B977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E768-ABBB-4146-8B16-532A33ED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38A-CC19-4D77-86F7-07C81B2F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8DB-3C50-40BE-B3A0-79C3085F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B9C-5E72-4EB3-A695-EA20B1A4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EFB-692C-49AE-B87C-ADB3078F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C84-CFD3-4158-B08B-15E7749B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908-E834-4121-9057-01AB010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788-8854-4358-B1BD-E3EE9516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07B1-3A69-4477-A8D3-49D20EAE3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45FE-6F9E-4900-B9ED-DC65E5020C1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2,10,&#24187;&#28783;&#29255; 10" TargetMode="External"/><Relationship Id="rId2" Type="http://schemas.openxmlformats.org/officeDocument/2006/relationships/hyperlink" Target="280,12,&#24187;&#28783;&#29255; 12" TargetMode="External"/><Relationship Id="rId3" Type="http://schemas.openxmlformats.org/officeDocument/2006/relationships/hyperlink" Target="279,11,&#24187;&#28783;&#29255; 11" TargetMode="External"/><Relationship Id="rId4" Type="http://schemas.openxmlformats.org/officeDocument/2006/relationships/hyperlink" Target="284,15,&#24187;&#28783;&#29255; 15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6"/>
          <p:cNvSpPr txBox="1"/>
          <p:nvPr/>
        </p:nvSpPr>
        <p:spPr>
          <a:xfrm>
            <a:off x="1476360" y="2060640"/>
            <a:ext cx="482436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7 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最美好的礼物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1116000" y="62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中宋"/>
              </a:rPr>
              <a:t>第一次猜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187280" y="1916280"/>
            <a:ext cx="662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小男孩儿说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是说，这是你哥哥给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，而你不用花一分钱？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保罗点点头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922920" y="263700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啊！我希望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…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476360" y="3789360"/>
            <a:ext cx="68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保罗猜想的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476360" y="4327560"/>
            <a:ext cx="59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小男孩说的是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76720" y="3824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我希望也能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有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一个这样的哥哥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276720" y="4365720"/>
            <a:ext cx="40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我希望也能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一个那样的哥哥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8532720" y="6381720"/>
            <a:ext cx="432000" cy="287280"/>
          </a:xfrm>
          <a:custGeom>
            <a:avLst/>
            <a:gdLst>
              <a:gd name="textAreaLeft" fmla="*/ 18360 w 432000"/>
              <a:gd name="textAreaRight" fmla="*/ 413640 w 43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68" h="21600">
                <a:moveTo>
                  <a:pt x="0" y="0"/>
                </a:moveTo>
                <a:lnTo>
                  <a:pt x="32468" y="0"/>
                </a:lnTo>
                <a:lnTo>
                  <a:pt x="32468" y="21600"/>
                </a:lnTo>
                <a:lnTo>
                  <a:pt x="0" y="21600"/>
                </a:lnTo>
                <a:close/>
              </a:path>
              <a:path fill="lightenLess" w="32468" h="21600">
                <a:moveTo>
                  <a:pt x="0" y="0"/>
                </a:moveTo>
                <a:lnTo>
                  <a:pt x="32468" y="0"/>
                </a:lnTo>
                <a:lnTo>
                  <a:pt x="31068" y="1400"/>
                </a:lnTo>
                <a:lnTo>
                  <a:pt x="1400" y="1400"/>
                </a:lnTo>
                <a:close/>
              </a:path>
              <a:path fill="darken" w="32468" h="21600">
                <a:moveTo>
                  <a:pt x="32468" y="0"/>
                </a:moveTo>
                <a:lnTo>
                  <a:pt x="32468" y="21600"/>
                </a:lnTo>
                <a:lnTo>
                  <a:pt x="31068" y="20200"/>
                </a:lnTo>
                <a:lnTo>
                  <a:pt x="31068" y="1400"/>
                </a:lnTo>
                <a:close/>
              </a:path>
              <a:path fill="darkenLess" w="32468" h="21600">
                <a:moveTo>
                  <a:pt x="32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8" y="20200"/>
                </a:lnTo>
                <a:close/>
              </a:path>
              <a:path fill="lighten" w="32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8" h="21600">
                <a:moveTo>
                  <a:pt x="9227" y="10800"/>
                </a:moveTo>
                <a:lnTo>
                  <a:pt x="23240" y="3794"/>
                </a:lnTo>
                <a:lnTo>
                  <a:pt x="2324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116000" y="2205000"/>
            <a:ext cx="68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面对这个不同寻常的小男孩，保罗不由自主地邀请了小男孩坐上了自己的新车去兜风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00000" y="98100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一次惊人之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8244000" y="6381720"/>
            <a:ext cx="504720" cy="287280"/>
          </a:xfrm>
          <a:custGeom>
            <a:avLst/>
            <a:gdLst>
              <a:gd name="textAreaLeft" fmla="*/ 18360 w 504720"/>
              <a:gd name="textAreaRight" fmla="*/ 486360 w 504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28" y="1400"/>
                </a:lnTo>
                <a:lnTo>
                  <a:pt x="1400" y="140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28" y="20200"/>
                </a:lnTo>
                <a:lnTo>
                  <a:pt x="36528" y="140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28" y="2020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28" h="21600">
                <a:moveTo>
                  <a:pt x="11958" y="10800"/>
                </a:moveTo>
                <a:lnTo>
                  <a:pt x="25971" y="3794"/>
                </a:lnTo>
                <a:lnTo>
                  <a:pt x="2597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826920" y="4046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中宋"/>
              </a:rPr>
              <a:t>第二次意想不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11280" y="105264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小男孩儿请求保罗把车子开到家门前时，保罗认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他是在想什么？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2205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小男孩是想在邻居们面前炫耀一下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55640" y="2708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后来保罗怎么知道自己又错了？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321300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到了小男孩儿的住处，小男孩儿三步并作两步地跑上台阶，进入屋内。过了一会儿，他出来了，他扶着因患小儿麻痹症而跛脚的弟弟从屋里走出来。他把弟弟安置在下面那层台阶上，然后紧靠着他坐下。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55640" y="4653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他指着那部车子说：“看到了吗，弟弟？就像我在楼上跟你讲的一样，很漂亮，对不对？这是他哥哥送给他的圣诞礼物，他不用花一分钱！将来有一天，我也要送你一部这样的车子。这样你就可以看到我原来给你讲的橱窗里的那些圣诞礼物了。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26920" y="4046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中宋"/>
              </a:rPr>
              <a:t>第二次意想不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11280" y="105264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小男孩儿请求保罗把车子开到家门前时，保罗认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为他是在想什么？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42920" y="2205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小男孩是想在邻居们面前炫耀一下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55640" y="2708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后来保罗怎么知道自己又错了？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84360" y="3213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到了小男孩儿的住处，小男孩儿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三步并作两步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地跑上台阶，进入屋内。过了一会儿，他出来了，他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扶着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因患小儿麻痹症而跛脚的弟弟从屋里走出来。他把弟弟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安置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在下面那层台阶上，然后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紧靠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着他坐下。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755640" y="46530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他指着那部车子说：“看到了吗，弟弟？就像我在楼上跟你讲的一样，很漂亮，对不对？这是他哥哥送给他的圣诞礼物，他不用花一分钱！将来有一天，我也要送你一部这样的车子。这样你就可以看到我原来给你讲的橱窗里的那些圣诞礼物了。”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971640" y="1773360"/>
            <a:ext cx="77040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中宋"/>
                <a:ea typeface="华文中宋"/>
              </a:rPr>
              <a:t>讨论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小男孩的这段话仅仅是送一辆新车给弟弟吗？还送给了弟弟什么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？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4" name="Picture 3" descr="议和说"/>
          <p:cNvPicPr/>
          <p:nvPr/>
        </p:nvPicPr>
        <p:blipFill>
          <a:blip r:embed="rId1"/>
          <a:stretch/>
        </p:blipFill>
        <p:spPr>
          <a:xfrm>
            <a:off x="684360" y="907920"/>
            <a:ext cx="2109600" cy="5270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/>
          <p:cNvSpPr/>
          <p:nvPr/>
        </p:nvSpPr>
        <p:spPr>
          <a:xfrm>
            <a:off x="8532720" y="6524640"/>
            <a:ext cx="432000" cy="217440"/>
          </a:xfrm>
          <a:custGeom>
            <a:avLst/>
            <a:gdLst>
              <a:gd name="textAreaLeft" fmla="*/ 14040 w 432000"/>
              <a:gd name="textAreaRight" fmla="*/ 417960 w 43200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42879" h="21600">
                <a:moveTo>
                  <a:pt x="0" y="0"/>
                </a:moveTo>
                <a:lnTo>
                  <a:pt x="42879" y="0"/>
                </a:lnTo>
                <a:lnTo>
                  <a:pt x="42879" y="21600"/>
                </a:lnTo>
                <a:lnTo>
                  <a:pt x="0" y="21600"/>
                </a:lnTo>
                <a:close/>
              </a:path>
              <a:path fill="lightenLess" w="42879" h="21600">
                <a:moveTo>
                  <a:pt x="0" y="0"/>
                </a:moveTo>
                <a:lnTo>
                  <a:pt x="42879" y="0"/>
                </a:lnTo>
                <a:lnTo>
                  <a:pt x="41479" y="1400"/>
                </a:lnTo>
                <a:lnTo>
                  <a:pt x="1400" y="1400"/>
                </a:lnTo>
                <a:close/>
              </a:path>
              <a:path fill="darken" w="42879" h="21600">
                <a:moveTo>
                  <a:pt x="42879" y="0"/>
                </a:moveTo>
                <a:lnTo>
                  <a:pt x="42879" y="21600"/>
                </a:lnTo>
                <a:lnTo>
                  <a:pt x="41479" y="20200"/>
                </a:lnTo>
                <a:lnTo>
                  <a:pt x="41479" y="1400"/>
                </a:lnTo>
                <a:close/>
              </a:path>
              <a:path fill="darkenLess" w="42879" h="21600">
                <a:moveTo>
                  <a:pt x="428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479" y="20200"/>
                </a:lnTo>
                <a:close/>
              </a:path>
              <a:path fill="lighten" w="428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879" h="21600">
                <a:moveTo>
                  <a:pt x="14433" y="10800"/>
                </a:moveTo>
                <a:lnTo>
                  <a:pt x="28446" y="3794"/>
                </a:lnTo>
                <a:lnTo>
                  <a:pt x="28446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SC20100729134003750"/>
          <p:cNvPicPr/>
          <p:nvPr/>
        </p:nvPicPr>
        <p:blipFill>
          <a:blip r:embed="rId1"/>
          <a:stretch/>
        </p:blipFill>
        <p:spPr>
          <a:xfrm>
            <a:off x="684360" y="476280"/>
            <a:ext cx="403200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5512680" y="907920"/>
            <a:ext cx="6069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幸福的依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39640" y="4292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眼前的一切感动了保罗，激起了他无私助人的愿望 ：他走下车，抱起了腿有残疾的弟弟，带着小男孩儿兄弟俩开始了一次令人难忘的假期之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684360" y="404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第二次惊人之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8172360" y="6453360"/>
            <a:ext cx="503280" cy="21564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364" h="21600">
                <a:moveTo>
                  <a:pt x="0" y="0"/>
                </a:moveTo>
                <a:lnTo>
                  <a:pt x="50364" y="0"/>
                </a:lnTo>
                <a:lnTo>
                  <a:pt x="50364" y="21600"/>
                </a:lnTo>
                <a:lnTo>
                  <a:pt x="0" y="21600"/>
                </a:lnTo>
                <a:close/>
              </a:path>
              <a:path fill="lightenLess" w="50364" h="21600">
                <a:moveTo>
                  <a:pt x="0" y="0"/>
                </a:moveTo>
                <a:lnTo>
                  <a:pt x="50364" y="0"/>
                </a:lnTo>
                <a:lnTo>
                  <a:pt x="48964" y="1400"/>
                </a:lnTo>
                <a:lnTo>
                  <a:pt x="1400" y="1400"/>
                </a:lnTo>
                <a:close/>
              </a:path>
              <a:path fill="darken" w="50364" h="21600">
                <a:moveTo>
                  <a:pt x="50364" y="0"/>
                </a:moveTo>
                <a:lnTo>
                  <a:pt x="50364" y="21600"/>
                </a:lnTo>
                <a:lnTo>
                  <a:pt x="48964" y="20200"/>
                </a:lnTo>
                <a:lnTo>
                  <a:pt x="48964" y="1400"/>
                </a:lnTo>
                <a:close/>
              </a:path>
              <a:path fill="darkenLess" w="50364" h="21600">
                <a:moveTo>
                  <a:pt x="50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4" y="20200"/>
                </a:lnTo>
                <a:close/>
              </a:path>
              <a:path fill="lighten" w="50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4" h="21600">
                <a:moveTo>
                  <a:pt x="18176" y="10800"/>
                </a:moveTo>
                <a:lnTo>
                  <a:pt x="32188" y="3794"/>
                </a:lnTo>
                <a:lnTo>
                  <a:pt x="32188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小蜜蜂"/>
          <p:cNvPicPr/>
          <p:nvPr/>
        </p:nvPicPr>
        <p:blipFill>
          <a:blip r:embed="rId2"/>
          <a:stretch/>
        </p:blipFill>
        <p:spPr>
          <a:xfrm>
            <a:off x="6804000" y="4365720"/>
            <a:ext cx="2219400" cy="232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324000" y="404640"/>
            <a:ext cx="81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自学提示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读：读准字音，读流利句子，读通顺课文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思：想想课文主要讲了谁的什么故事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标：标自然段序号，在你读到有想法处标上批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200712251059596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致爱丽丝.mp3" descr=""/>
          <p:cNvPicPr/>
          <p:nvPr/>
        </p:nvPicPr>
        <p:blipFill>
          <a:blip r:embed="rId2"/>
          <a:stretch/>
        </p:blipFill>
        <p:spPr>
          <a:xfrm>
            <a:off x="8748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8747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整体感知"/>
          <p:cNvPicPr/>
          <p:nvPr/>
        </p:nvPicPr>
        <p:blipFill>
          <a:blip r:embed="rId1"/>
          <a:stretch/>
        </p:blipFill>
        <p:spPr>
          <a:xfrm>
            <a:off x="826920" y="981000"/>
            <a:ext cx="2017800" cy="417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116000" y="19162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课文写了一件怎么样的事？主要人物是谁？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755640" y="2924280"/>
            <a:ext cx="7561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课文讲述了圣诞节前一天，保罗偶然结识了一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生活贫困的小男孩儿，在短暂的相处中，小男孩儿的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行强烈地震撼了保罗的心灵，使他深深体会到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给予比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接受真的更令人快乐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 这篇课文以保罗和小男孩为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要人物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细读感悟"/>
          <p:cNvPicPr/>
          <p:nvPr/>
        </p:nvPicPr>
        <p:blipFill>
          <a:blip r:embed="rId1"/>
          <a:stretch/>
        </p:blipFill>
        <p:spPr>
          <a:xfrm>
            <a:off x="324000" y="260280"/>
            <a:ext cx="2104920" cy="563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826920" y="76500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小男孩儿的哪些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言行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让保罗意想不到，也让你意想不到呢？ 保罗是怎样从小男孩儿那里体会到“给予比接受真的更令人快乐”的呢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900000" y="1989000"/>
            <a:ext cx="7201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快速默读课文，找出保罗和小男孩的对话，以及描写小男孩行为和保罗心理活动的句子，可以把自己的体会标注在旁边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900000" y="364500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保罗又做出了哪些让你意想不到的举动呢？找出来谈谈体会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826920" y="476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保罗的意想不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826920" y="3500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保罗的惊人之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187280" y="155736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第一次意想不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187280" y="256536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第二次意想不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187280" y="443700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第一次惊人之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187280" y="5492880"/>
            <a:ext cx="2521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第二次惊人之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71640" y="162864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这个圣诞节都有谁得到了物？课题中的“最美好的礼物”指的是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73040" y="654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总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202120" y="407664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给予比接受真的更令人快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Picture 7" descr="小蜜蜂"/>
          <p:cNvPicPr/>
          <p:nvPr/>
        </p:nvPicPr>
        <p:blipFill>
          <a:blip r:embed="rId1"/>
          <a:stretch/>
        </p:blipFill>
        <p:spPr>
          <a:xfrm>
            <a:off x="6816600" y="420048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227664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同学之间写一写你的关于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给予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故事。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写作要侧重语言、动作、神态的描写。写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内容真实，情感真挚的关于给予的片段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写后相互交流，评议写作佳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618200" y="10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中宋"/>
              </a:rPr>
              <a:t>小练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4" descr="练习或作业"/>
          <p:cNvPicPr/>
          <p:nvPr/>
        </p:nvPicPr>
        <p:blipFill>
          <a:blip r:embed="rId1"/>
          <a:stretch/>
        </p:blipFill>
        <p:spPr>
          <a:xfrm>
            <a:off x="539640" y="981000"/>
            <a:ext cx="10000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611280" y="765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昨天从医院回来，坐在公交车上，一个女孩子在打电话，可能是电话没电了，她的电话打到一半就断线了，她拿着手机，无助地向四周望望，可能是希望有谁借电话给她用用，看着她无奈的眼神，我真想把电话借给她，可是我有些犹豫，只是静静地看着她。只见她又打开电话，继续拨打电话，还是像上次一样电话打到一半又没电了，她无奈地望着电话，摇摇头，叹息了一声。这次我没有犹豫把电话送了过去，她看到电话用惊讶地眼神看着我，我说：”借你用一用。“她随即给我一个甜甜的笑脸说：”谢谢！“接过电话打了起来，用完后她一再地对我表示感谢。听着她感谢的话语，我的心里暖融融的。虽然这只是一件小事，但我在别人为难的时候伸出了援助之手，我感到很快乐！希望你也有我这样的快乐，那样我们的世界就会温暖如春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780000" y="2602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快  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9" name="爱的奉献.mp3" descr=""/>
          <p:cNvPicPr/>
          <p:nvPr/>
        </p:nvPicPr>
        <p:blipFill>
          <a:blip r:embed="rId1"/>
          <a:stretch/>
        </p:blipFill>
        <p:spPr>
          <a:xfrm>
            <a:off x="8172360" y="6110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50169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6:43:45Z</dcterms:created>
  <dc:creator/>
  <dc:description/>
  <dc:language>en-US</dc:language>
  <cp:lastModifiedBy>Administrator</cp:lastModifiedBy>
  <dcterms:modified xsi:type="dcterms:W3CDTF">2016-01-06T00:50:58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