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E20-CCE4-429A-B9EF-5378F4A5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7E90-640D-45F0-ACFE-F2895D74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6876-EE18-4056-9FAE-C845273ED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306A-E772-4492-A3E9-9A6D88DD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FB8-3190-4A30-9DEC-30B2F2A3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9705-F585-4E1B-A2F5-4505E4A7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8345-DAE4-4D3C-8A6A-8C7E0FEE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67E-F9B9-4EF5-BE16-E3892F00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1C6C-099F-4B1C-9697-4F7AF71C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63A5-CED2-4A26-BECB-38A6308F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EE6-E55A-4073-8D62-AEB2AB35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C630-D3E7-4B9A-9F82-A31653A6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29AE-B899-4A9F-8786-170D61C463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hyperlink" Target="http://image.baidu.com/i?ct=503316480&amp;z=73854150&amp;tn=baiduimagedetail&amp;word=&#28023;&#20262;,&#20975;&#21202;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11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708360" y="4724280"/>
            <a:ext cx="1871640" cy="936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16000" y="3284640"/>
            <a:ext cx="1871640" cy="936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08360" y="3284640"/>
            <a:ext cx="1871640" cy="9363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126828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Wingdings 3"/>
                <a:ea typeface="Wingdings 3"/>
              </a:rPr>
              <a:t>做一个最好的你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1332000" y="3500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故     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3851280" y="3500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6000" y="4724280"/>
            <a:ext cx="1871640" cy="9367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780000" y="4941720"/>
            <a:ext cx="17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畅所欲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16000" y="4941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欣     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539640" y="333360"/>
            <a:ext cx="7991640" cy="61794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你成不了山顶上的高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那就当棵山谷里的小树吧    但要当棵溪边最好的小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你不能成为一棵大树     那就当一丛小灌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你不能成为一丛小灌木  那就当一片小草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你不是一只香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那就当尾小鲈鱼     但要当湖里最活跃的小鲈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我们不能全是船长     必须有人来做水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这里有许许多多的事要做   有大事  有小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但最重要的是我们身边的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你不能成为大道     那就当一条小路吧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你不能成为太阳    那就当一颗星星好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决定成败的不是你尺寸的大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而是要做一个最好的你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......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24446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95280" y="476280"/>
            <a:ext cx="8388360" cy="611352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根据自己的情况在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(     )</a:t>
            </a: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中填“是”或“否”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、我觉得自己有不少优点。（　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　   ２、我喜欢在课堂上回答问题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(    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、与陌生人相处，我很少局促不安。（     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、我的小伙伴很喜欢跟我一起玩。（      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、无论学什么，我觉得自己经过努力，一定能学会。（   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、我常常对自己的表现很满意。（    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、我比较容易成为别人的朋友。（  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、我知道有些人不太喜欢我，但我并不为此而担忧。（  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、每次坐在考场上，我总是信心十足。（    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、如果我做了件傻事，我会同在场的那些人一起大笑，不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得有多难堪。（      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、我心里觉得我会成为一个很棒的人。（     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12</a:t>
            </a:r>
            <a:r>
              <a:rPr b="1" lang="zh-CN" sz="2200" spc="-1" strike="noStrike">
                <a:solidFill>
                  <a:srgbClr val="3333cc"/>
                </a:solidFill>
                <a:latin typeface="Times New Roman"/>
              </a:rPr>
              <a:t>、尽管我还有不少毛病，但我肯定能该掉。（     ）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2" action="ppaction://hlinksldjump"/>
          </p:cNvPr>
          <p:cNvSpPr/>
          <p:nvPr/>
        </p:nvSpPr>
        <p:spPr>
          <a:xfrm>
            <a:off x="7667640" y="6237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5292720" y="-3267000"/>
            <a:ext cx="16535520" cy="12031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32720" y="333360"/>
            <a:ext cx="2206440" cy="28195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258920" y="1341360"/>
            <a:ext cx="540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海伦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凯勒面临什么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困难？她是怎样做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95640" y="4149720"/>
            <a:ext cx="748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自信，能让人在困难挫折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前，沉着应对，战胜困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2867040" cy="41054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620640"/>
            <a:ext cx="5796000" cy="1440000"/>
          </a:xfrm>
          <a:prstGeom prst="cloudCallout">
            <a:avLst>
              <a:gd name="adj1" fmla="val -47888"/>
              <a:gd name="adj2" fmla="val 993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981000"/>
            <a:ext cx="54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刘翔靠什么能在雅典摘冠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3573360"/>
            <a:ext cx="5472000" cy="163044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自信能开发潜能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帮助你走向成功之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88000" y="5734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结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2276640"/>
            <a:ext cx="6840720" cy="313128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拍一，我拍一，自己喜欢自己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拍二，我拍二，做好小事很重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拍三，我拍三，自己喝彩勇向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你拍四，我拍四，坚持一下敢冲刺。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11280" y="549360"/>
            <a:ext cx="5333760" cy="1030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大家一起拍拍手</a:t>
            </a:r>
            <a:endParaRPr b="0" lang="en-US" sz="60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"/>
          <p:cNvSpPr/>
          <p:nvPr/>
        </p:nvSpPr>
        <p:spPr>
          <a:xfrm>
            <a:off x="6804000" y="5805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71640" y="0"/>
            <a:ext cx="7200720" cy="1727280"/>
          </a:xfrm>
          <a:prstGeom prst="cloudCallout">
            <a:avLst>
              <a:gd name="adj1" fmla="val -60250"/>
              <a:gd name="adj2" fmla="val 8336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404640"/>
            <a:ext cx="56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培养自信的六大宝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8360" y="2421000"/>
            <a:ext cx="8353440" cy="3977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、主动与人说话，克服独思与自我封闭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、记住一些诸如“有志者事竟成”的名言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、讨论时积极发言，课堂也能积极发言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、勇于参加各种各样问题的讨论和辩论会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、不要一味地期待保护，树立“试一试”的自我意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zh-CN" sz="3000" spc="-1" strike="noStrike">
                <a:solidFill>
                  <a:srgbClr val="3333cc"/>
                </a:solidFill>
                <a:latin typeface="Times New Roman"/>
              </a:rPr>
              <a:t>、战略上藐视困难，战术上重视困难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812000" y="6237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11280" y="1268280"/>
            <a:ext cx="8229600" cy="3110040"/>
          </a:xfrm>
          <a:prstGeom prst="rect">
            <a:avLst/>
          </a:prstGeom>
          <a:solidFill>
            <a:srgbClr val="ffff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33cc"/>
                </a:solidFill>
                <a:latin typeface="华文新魏"/>
                <a:ea typeface="华文新魏"/>
              </a:rPr>
              <a:t>    </a:t>
            </a:r>
            <a:r>
              <a:rPr b="0" lang="zh-CN" sz="6600" spc="-1" strike="noStrike">
                <a:solidFill>
                  <a:srgbClr val="3333cc"/>
                </a:solidFill>
                <a:latin typeface="华文新魏"/>
                <a:ea typeface="华文新魏"/>
              </a:rPr>
              <a:t>每个人都是独特和美丽的，学会寻找你生命中的亮点！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179280" y="476280"/>
            <a:ext cx="8713800" cy="175068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0" lang="zh-CN" sz="2600" spc="-1" strike="noStrike">
                <a:solidFill>
                  <a:srgbClr val="3333cc"/>
                </a:solidFill>
                <a:latin typeface="Times New Roman"/>
              </a:rPr>
              <a:t>小泽征尔是世界著名的交响乐指挥家。在一次世界优秀指挥家大赛的决赛中，他按照评委会给的乐谱指挥演奏，敏锐地发现了不和谐的声音。起初，他以为是乐队演奏出了错误，就停下来重新演奏，但还是不对。他觉得是乐谱有问题。这时，在场的作曲家和评委会的权威人士坚持说乐谱绝对没有问题，是他错了。面对一大批音乐大师和权威人士，他思考再三，最后斩钉截铁地大声说：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zh-CN" sz="2600" spc="-1" strike="noStrike">
                <a:solidFill>
                  <a:srgbClr val="3333cc"/>
                </a:solidFill>
                <a:latin typeface="Times New Roman"/>
              </a:rPr>
              <a:t>不！一定是乐谱错了！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”</a:t>
            </a:r>
            <a:r>
              <a:rPr b="0" lang="zh-CN" sz="2600" spc="-1" strike="noStrike">
                <a:solidFill>
                  <a:srgbClr val="3333cc"/>
                </a:solidFill>
                <a:latin typeface="Times New Roman"/>
              </a:rPr>
              <a:t>话音刚落，评委席上的评委们立即站起来，报以热烈的掌声，祝贺他大赛夺魁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2600" spc="-1" strike="noStrike">
                <a:solidFill>
                  <a:srgbClr val="3333cc"/>
                </a:solidFill>
                <a:latin typeface="Times New Roman"/>
              </a:rPr>
              <a:t>原来，这是评委们精心设计的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"</a:t>
            </a:r>
            <a:r>
              <a:rPr b="0" lang="zh-CN" sz="2600" spc="-1" strike="noStrike">
                <a:solidFill>
                  <a:srgbClr val="3333cc"/>
                </a:solidFill>
                <a:latin typeface="Times New Roman"/>
              </a:rPr>
              <a:t>圈套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"</a:t>
            </a:r>
            <a:r>
              <a:rPr b="0" lang="zh-CN" sz="2600" spc="-1" strike="noStrike">
                <a:solidFill>
                  <a:srgbClr val="3333cc"/>
                </a:solidFill>
                <a:latin typeface="Times New Roman"/>
              </a:rPr>
              <a:t>，以此来检验指挥家在发现乐谱错误并遭到权威人士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"</a:t>
            </a:r>
            <a:r>
              <a:rPr b="0" lang="zh-CN" sz="2600" spc="-1" strike="noStrike">
                <a:solidFill>
                  <a:srgbClr val="3333cc"/>
                </a:solidFill>
                <a:latin typeface="Times New Roman"/>
              </a:rPr>
              <a:t>否定</a:t>
            </a:r>
            <a:r>
              <a:rPr b="0" lang="en-US" sz="2600" spc="-1" strike="noStrike">
                <a:solidFill>
                  <a:srgbClr val="3333cc"/>
                </a:solidFill>
                <a:latin typeface="Times New Roman"/>
              </a:rPr>
              <a:t>"</a:t>
            </a:r>
            <a:r>
              <a:rPr b="0" lang="zh-CN" sz="2600" spc="-1" strike="noStrike">
                <a:solidFill>
                  <a:srgbClr val="3333cc"/>
                </a:solidFill>
                <a:latin typeface="Times New Roman"/>
              </a:rPr>
              <a:t>的情况下，能否坚持自己的正确主张。前两位参加决赛的指挥家虽然也发现了错误，但终因随声附和权威们的意见而被淘汰。小泽征尔却因充满自信而摘取了世界指挥家大赛的桂冠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7596360" y="6237360"/>
            <a:ext cx="12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下一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9280" y="476280"/>
            <a:ext cx="8785440" cy="159588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尼克松是我们极为熟悉的美国总统，但就是这样一个大人物，却因为一个缺乏自信的错误而毁掉了自己的政治前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97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年，尼克松竞选连任。由于他在第一任期内政绩斐然，所以大多数政治评论家都预测尼克松将以绝对优势获得胜利。</a:t>
            </a:r>
            <a:br>
              <a:rPr sz="2800"/>
            </a:b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然而，尼克松本人却很不自信，他走不出过去几次失败的心理阴影，极度担心再次出现失败。在这种潜意识的驱使下，他鬼使神差地干出了后悔终生的蠢事。他指派手下的人潜入竞选对手总部的水门饭店，在对手的办公室里安装了窃听器。事发之后，他又连连阻止调查，推卸责任，在选举胜利后不久便被迫辞职。本来稳操胜券的尼克松，因缺乏自信而导致惨败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67640" y="6165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87280" y="1844640"/>
            <a:ext cx="6913800" cy="100800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读了名人故事后，你有什么想法或感受，说一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64360" y="616572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0920" y="836280"/>
            <a:ext cx="259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幼圆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628640"/>
            <a:ext cx="446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2637000"/>
            <a:ext cx="6121440" cy="242064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读一读比尔医生从亲身经历中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出的道理，说说你的体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说说罗森塔尔的实验得出了什么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论，这一结论对你有什么启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" action="ppaction://hlinksldjump"/>
          </p:cNvPr>
          <p:cNvSpPr/>
          <p:nvPr/>
        </p:nvSpPr>
        <p:spPr>
          <a:xfrm>
            <a:off x="5003640" y="602136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826920" y="692280"/>
            <a:ext cx="25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052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你对自己有信心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2205000"/>
            <a:ext cx="6264360" cy="311544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、依据自己的情况完成测试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、自读测试结果，想想这个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然段运用了哪些修辞手法，并说说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过自我评价，你是不是一个自信的人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如果不是，你对哪些方面不够自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" action="ppaction://hlinksldjump"/>
          </p:cNvPr>
          <p:cNvSpPr/>
          <p:nvPr/>
        </p:nvSpPr>
        <p:spPr>
          <a:xfrm>
            <a:off x="6227640" y="2421000"/>
            <a:ext cx="216000" cy="21600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4" action="ppaction://hlinksldjump"/>
          </p:cNvPr>
          <p:cNvSpPr/>
          <p:nvPr/>
        </p:nvSpPr>
        <p:spPr>
          <a:xfrm>
            <a:off x="5003640" y="6021360"/>
            <a:ext cx="720720" cy="287280"/>
          </a:xfrm>
          <a:prstGeom prst="rightArrow">
            <a:avLst>
              <a:gd name="adj1" fmla="val 50000"/>
              <a:gd name="adj2" fmla="val 6271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619280" y="1052640"/>
            <a:ext cx="3672000" cy="1079280"/>
          </a:xfrm>
          <a:prstGeom prst="cloudCallout">
            <a:avLst>
              <a:gd name="adj1" fmla="val -84671"/>
              <a:gd name="adj2" fmla="val 7632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58920" y="234936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1197000"/>
            <a:ext cx="25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"/>
              </a:rPr>
              <a:t>教你学自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1280" y="2997360"/>
            <a:ext cx="6192720" cy="2388600"/>
          </a:xfrm>
          <a:prstGeom prst="rect">
            <a:avLst/>
          </a:prstGeom>
          <a:solidFill>
            <a:srgbClr val="ffffff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自读课文，说说作者介绍了哪几种增强自信心的方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56360" y="836640"/>
            <a:ext cx="431640" cy="431640"/>
          </a:xfrm>
          <a:custGeom>
            <a:avLst/>
            <a:gdLst>
              <a:gd name="textAreaLeft" fmla="*/ 177840 w 431640"/>
              <a:gd name="textAreaRight" fmla="*/ 253800 w 431640"/>
              <a:gd name="textAreaTop" fmla="*/ 177840 h 431640"/>
              <a:gd name="textAreaBottom" fmla="*/ 2538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76720" y="5734080"/>
            <a:ext cx="432000" cy="504720"/>
          </a:xfrm>
          <a:custGeom>
            <a:avLst/>
            <a:gdLst>
              <a:gd name="textAreaLeft" fmla="*/ 177840 w 432000"/>
              <a:gd name="textAreaRight" fmla="*/ 254160 w 432000"/>
              <a:gd name="textAreaTop" fmla="*/ 208080 h 504720"/>
              <a:gd name="textAreaBottom" fmla="*/ 2966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755640" y="2637000"/>
            <a:ext cx="5256360" cy="231156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文章用诗一样的语言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作结尾，谁愿意像小诗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一样把最后一段读出来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907920"/>
            <a:ext cx="50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华文楷体"/>
                <a:ea typeface="华文楷体"/>
              </a:rPr>
              <a:t>我自信   我能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148360" y="6021360"/>
            <a:ext cx="576000" cy="287280"/>
          </a:xfrm>
          <a:prstGeom prst="rightArrow">
            <a:avLst>
              <a:gd name="adj1" fmla="val 50000"/>
              <a:gd name="adj2" fmla="val 501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444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619280" y="189000"/>
            <a:ext cx="6337440" cy="1295280"/>
          </a:xfrm>
          <a:prstGeom prst="cloudCallout">
            <a:avLst>
              <a:gd name="adj1" fmla="val -72444"/>
              <a:gd name="adj2" fmla="val 807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50920" y="4762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今天我做小诗人，看我的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00000" y="2349360"/>
            <a:ext cx="6336000" cy="324072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不能成为鲜花，那就做一片绿叶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不能成为大厦，那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不能成为雄鹰，那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                        ，那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                        ，那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27640" y="3284640"/>
            <a:ext cx="2232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27640" y="3789360"/>
            <a:ext cx="2232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4365720"/>
            <a:ext cx="1800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27640" y="4365720"/>
            <a:ext cx="2232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19280" y="4941720"/>
            <a:ext cx="18003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27640" y="4941720"/>
            <a:ext cx="2232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 action="ppaction://hlinksldjump"/>
          </p:cNvPr>
          <p:cNvSpPr/>
          <p:nvPr/>
        </p:nvSpPr>
        <p:spPr>
          <a:xfrm>
            <a:off x="6588000" y="6021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01080" y="1628640"/>
            <a:ext cx="358560" cy="505080"/>
          </a:xfrm>
          <a:custGeom>
            <a:avLst/>
            <a:gdLst>
              <a:gd name="textAreaLeft" fmla="*/ 147600 w 358560"/>
              <a:gd name="textAreaRight" fmla="*/ 210960 w 358560"/>
              <a:gd name="textAreaTop" fmla="*/ 208080 h 505080"/>
              <a:gd name="textAreaBottom" fmla="*/ 2970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sus</cp:lastModifiedBy>
  <dcterms:modified xsi:type="dcterms:W3CDTF">2012-09-18T16:48:22Z</dcterms:modified>
  <cp:revision>53</cp:revision>
  <dc:subject/>
  <dc:title>PowerPoint Presentation</dc:title>
</cp:coreProperties>
</file>