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28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9279D-3240-411B-B66B-1C1946FDE8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9B0B5-BE5E-44D6-BD1A-DD44D48401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7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302080" y="503280"/>
            <a:ext cx="3384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67" descr="海报.png"/>
          <p:cNvPicPr/>
          <p:nvPr/>
        </p:nvPicPr>
        <p:blipFill>
          <a:blip r:embed="rId4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2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3" name="AutoShape 508" descr=""/>
            <p:cNvPicPr/>
            <p:nvPr/>
          </p:nvPicPr>
          <p:blipFill>
            <a:blip r:embed="rId6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同侧圆角矩形 23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95360" y="1255680"/>
            <a:ext cx="815328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　用“进一法”解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生活中的数学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椭圆 26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26" descr=""/>
            <p:cNvPicPr/>
            <p:nvPr/>
          </p:nvPicPr>
          <p:blipFill>
            <a:blip r:embed="rId8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27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27" descr=""/>
            <p:cNvPicPr/>
            <p:nvPr/>
          </p:nvPicPr>
          <p:blipFill>
            <a:blip r:embed="rId9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28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28" descr=""/>
            <p:cNvPicPr/>
            <p:nvPr/>
          </p:nvPicPr>
          <p:blipFill>
            <a:blip r:embed="rId10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29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29" descr=""/>
            <p:cNvPicPr/>
            <p:nvPr/>
          </p:nvPicPr>
          <p:blipFill>
            <a:blip r:embed="rId11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30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30" descr=""/>
            <p:cNvPicPr/>
            <p:nvPr/>
          </p:nvPicPr>
          <p:blipFill>
            <a:blip r:embed="rId12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31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31" descr=""/>
            <p:cNvPicPr/>
            <p:nvPr/>
          </p:nvPicPr>
          <p:blipFill>
            <a:blip r:embed="rId13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Picture 50" descr="나뭇잎2"/>
          <p:cNvPicPr/>
          <p:nvPr/>
        </p:nvPicPr>
        <p:blipFill>
          <a:blip r:embed="rId14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36"/>
          <p:cNvSpPr/>
          <p:nvPr/>
        </p:nvSpPr>
        <p:spPr>
          <a:xfrm>
            <a:off x="1027080" y="2006640"/>
            <a:ext cx="713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运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后还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没有运完，余下的吨数虽然不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车，但是也需要货车再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，因此，就要用所得的商再加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就是总共要运的次数。总共要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2"/>
          <p:cNvSpPr/>
          <p:nvPr/>
        </p:nvSpPr>
        <p:spPr>
          <a:xfrm>
            <a:off x="5837400" y="3606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2947320" y="210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3"/>
          <p:cNvSpPr/>
          <p:nvPr/>
        </p:nvSpPr>
        <p:spPr>
          <a:xfrm>
            <a:off x="5174280" y="2109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4"/>
          <p:cNvSpPr/>
          <p:nvPr/>
        </p:nvSpPr>
        <p:spPr>
          <a:xfrm>
            <a:off x="6552720" y="31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6"/>
          <p:cNvSpPr/>
          <p:nvPr/>
        </p:nvSpPr>
        <p:spPr>
          <a:xfrm>
            <a:off x="992160" y="1306440"/>
            <a:ext cx="713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想一想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堆货物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。每次运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，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才能运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堆货物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。每次运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，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才能运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堆货物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。每次运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，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才能运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"/>
          <p:cNvSpPr/>
          <p:nvPr/>
        </p:nvSpPr>
        <p:spPr>
          <a:xfrm>
            <a:off x="7326360" y="1979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7336080" y="30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7359120" y="40356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995400" y="2706840"/>
            <a:ext cx="71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生活中解决运货物需要运的次数、装修要准备多少材料等问题，都要用到“进一法”。解决这类题目，先要用除法算出商，如果没有余数，那么商就是所要求的结果；如果有余数，不管余数是多少，只要把算得的商加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就是题目的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6"/>
          <p:cNvSpPr/>
          <p:nvPr/>
        </p:nvSpPr>
        <p:spPr>
          <a:xfrm>
            <a:off x="952560" y="193500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估计下面各题的商是几，再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2" name="对象 1"/>
          <p:cNvGraphicFramePr/>
          <p:nvPr/>
        </p:nvGraphicFramePr>
        <p:xfrm>
          <a:off x="1390680" y="2854440"/>
          <a:ext cx="100980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2854440"/>
                    <a:ext cx="10098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对象 3"/>
          <p:cNvGraphicFramePr/>
          <p:nvPr/>
        </p:nvGraphicFramePr>
        <p:xfrm>
          <a:off x="2851200" y="2811600"/>
          <a:ext cx="100944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对象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1200" y="2811600"/>
                    <a:ext cx="10094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对象 4"/>
          <p:cNvGraphicFramePr/>
          <p:nvPr/>
        </p:nvGraphicFramePr>
        <p:xfrm>
          <a:off x="4110120" y="2827440"/>
          <a:ext cx="100944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对象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0120" y="2827440"/>
                    <a:ext cx="10094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对象 5"/>
          <p:cNvGraphicFramePr/>
          <p:nvPr/>
        </p:nvGraphicFramePr>
        <p:xfrm>
          <a:off x="5611680" y="2800440"/>
          <a:ext cx="100980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对象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11680" y="2800440"/>
                    <a:ext cx="10098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组合 7"/>
          <p:cNvGrpSpPr/>
          <p:nvPr/>
        </p:nvGrpSpPr>
        <p:grpSpPr>
          <a:xfrm>
            <a:off x="957240" y="1062720"/>
            <a:ext cx="5238720" cy="733680"/>
            <a:chOff x="957240" y="1062720"/>
            <a:chExt cx="5238720" cy="733680"/>
          </a:xfrm>
        </p:grpSpPr>
        <p:pic>
          <p:nvPicPr>
            <p:cNvPr id="301" name="图片 22" descr="花盆.png"/>
            <p:cNvPicPr/>
            <p:nvPr/>
          </p:nvPicPr>
          <p:blipFill>
            <a:blip r:embed="rId9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文本框 23"/>
            <p:cNvSpPr/>
            <p:nvPr/>
          </p:nvSpPr>
          <p:spPr>
            <a:xfrm>
              <a:off x="1279440" y="1062720"/>
              <a:ext cx="49165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13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5"/>
          <p:cNvSpPr/>
          <p:nvPr/>
        </p:nvSpPr>
        <p:spPr>
          <a:xfrm>
            <a:off x="2424240" y="153504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 3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 3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组合 10"/>
          <p:cNvGrpSpPr/>
          <p:nvPr/>
        </p:nvGrpSpPr>
        <p:grpSpPr>
          <a:xfrm>
            <a:off x="1419480" y="1595520"/>
            <a:ext cx="2401560" cy="1247760"/>
            <a:chOff x="1419480" y="1595520"/>
            <a:chExt cx="2401560" cy="1247760"/>
          </a:xfrm>
        </p:grpSpPr>
        <p:sp>
          <p:nvSpPr>
            <p:cNvPr id="305" name="直接连接符 11"/>
            <p:cNvSpPr/>
            <p:nvPr/>
          </p:nvSpPr>
          <p:spPr>
            <a:xfrm>
              <a:off x="2440800" y="2117160"/>
              <a:ext cx="138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弧形 12"/>
            <p:cNvSpPr/>
            <p:nvPr/>
          </p:nvSpPr>
          <p:spPr>
            <a:xfrm rot="4684800">
              <a:off x="1453680" y="1747800"/>
              <a:ext cx="1076400" cy="942840"/>
            </a:xfrm>
            <a:custGeom>
              <a:avLst/>
              <a:gdLst/>
              <a:ahLst/>
              <a:rect l="l" t="t" r="r" b="b"/>
              <a:pathLst>
                <a:path stroke="0" w="1076623" h="992235">
                  <a:moveTo>
                    <a:pt x="538311" y="0"/>
                  </a:moveTo>
                  <a:cubicBezTo>
                    <a:pt x="733990" y="0"/>
                    <a:pt x="914259" y="97862"/>
                    <a:pt x="1009127" y="255592"/>
                  </a:cubicBezTo>
                  <a:lnTo>
                    <a:pt x="538312" y="496118"/>
                  </a:lnTo>
                  <a:cubicBezTo>
                    <a:pt x="538312" y="330745"/>
                    <a:pt x="538311" y="165373"/>
                    <a:pt x="538311" y="0"/>
                  </a:cubicBezTo>
                  <a:close/>
                </a:path>
                <a:path fill="none" w="1076623" h="992235">
                  <a:moveTo>
                    <a:pt x="538311" y="0"/>
                  </a:moveTo>
                  <a:cubicBezTo>
                    <a:pt x="733990" y="0"/>
                    <a:pt x="914259" y="97862"/>
                    <a:pt x="1009127" y="255592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矩形 13"/>
          <p:cNvSpPr/>
          <p:nvPr/>
        </p:nvSpPr>
        <p:spPr>
          <a:xfrm>
            <a:off x="1711800" y="2171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14"/>
          <p:cNvSpPr/>
          <p:nvPr/>
        </p:nvSpPr>
        <p:spPr>
          <a:xfrm>
            <a:off x="2341440" y="2971800"/>
            <a:ext cx="1590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5564160" y="168768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 2 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 2 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7"/>
          <p:cNvGrpSpPr/>
          <p:nvPr/>
        </p:nvGrpSpPr>
        <p:grpSpPr>
          <a:xfrm>
            <a:off x="4560840" y="1747800"/>
            <a:ext cx="2401920" cy="1247760"/>
            <a:chOff x="4560840" y="1747800"/>
            <a:chExt cx="2401920" cy="1247760"/>
          </a:xfrm>
        </p:grpSpPr>
        <p:sp>
          <p:nvSpPr>
            <p:cNvPr id="311" name="直接连接符 18"/>
            <p:cNvSpPr/>
            <p:nvPr/>
          </p:nvSpPr>
          <p:spPr>
            <a:xfrm>
              <a:off x="5582520" y="2269440"/>
              <a:ext cx="138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弧形 19"/>
            <p:cNvSpPr/>
            <p:nvPr/>
          </p:nvSpPr>
          <p:spPr>
            <a:xfrm rot="4684800">
              <a:off x="4595040" y="1900080"/>
              <a:ext cx="1076400" cy="942840"/>
            </a:xfrm>
            <a:custGeom>
              <a:avLst/>
              <a:gdLst/>
              <a:ahLst/>
              <a:rect l="l" t="t" r="r" b="b"/>
              <a:pathLst>
                <a:path stroke="0" w="1076623" h="992236">
                  <a:moveTo>
                    <a:pt x="538311" y="0"/>
                  </a:moveTo>
                  <a:cubicBezTo>
                    <a:pt x="733990" y="0"/>
                    <a:pt x="914259" y="97862"/>
                    <a:pt x="1009127" y="255592"/>
                  </a:cubicBezTo>
                  <a:lnTo>
                    <a:pt x="538312" y="496118"/>
                  </a:lnTo>
                  <a:cubicBezTo>
                    <a:pt x="538312" y="330745"/>
                    <a:pt x="538311" y="165373"/>
                    <a:pt x="538311" y="0"/>
                  </a:cubicBezTo>
                  <a:close/>
                </a:path>
                <a:path fill="none" w="1076623" h="992236">
                  <a:moveTo>
                    <a:pt x="538311" y="0"/>
                  </a:moveTo>
                  <a:cubicBezTo>
                    <a:pt x="733990" y="0"/>
                    <a:pt x="914259" y="97862"/>
                    <a:pt x="1009127" y="255592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矩形 20"/>
          <p:cNvSpPr/>
          <p:nvPr/>
        </p:nvSpPr>
        <p:spPr>
          <a:xfrm>
            <a:off x="4853520" y="2324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接连接符 21"/>
          <p:cNvSpPr/>
          <p:nvPr/>
        </p:nvSpPr>
        <p:spPr>
          <a:xfrm>
            <a:off x="5483160" y="3130560"/>
            <a:ext cx="1590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565360" y="404964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 0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 2  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合 23"/>
          <p:cNvGrpSpPr/>
          <p:nvPr/>
        </p:nvGrpSpPr>
        <p:grpSpPr>
          <a:xfrm>
            <a:off x="1571760" y="4108320"/>
            <a:ext cx="2401920" cy="1247760"/>
            <a:chOff x="1571760" y="4108320"/>
            <a:chExt cx="2401920" cy="1247760"/>
          </a:xfrm>
        </p:grpSpPr>
        <p:sp>
          <p:nvSpPr>
            <p:cNvPr id="317" name="直接连接符 24"/>
            <p:cNvSpPr/>
            <p:nvPr/>
          </p:nvSpPr>
          <p:spPr>
            <a:xfrm>
              <a:off x="2593440" y="4629960"/>
              <a:ext cx="138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弧形 25"/>
            <p:cNvSpPr/>
            <p:nvPr/>
          </p:nvSpPr>
          <p:spPr>
            <a:xfrm rot="4684800">
              <a:off x="1605960" y="4260600"/>
              <a:ext cx="1076400" cy="942840"/>
            </a:xfrm>
            <a:custGeom>
              <a:avLst/>
              <a:gdLst/>
              <a:ahLst/>
              <a:rect l="l" t="t" r="r" b="b"/>
              <a:pathLst>
                <a:path stroke="0" w="1076623" h="992235">
                  <a:moveTo>
                    <a:pt x="538311" y="0"/>
                  </a:moveTo>
                  <a:cubicBezTo>
                    <a:pt x="733990" y="0"/>
                    <a:pt x="914259" y="97862"/>
                    <a:pt x="1009127" y="255592"/>
                  </a:cubicBezTo>
                  <a:lnTo>
                    <a:pt x="538312" y="496118"/>
                  </a:lnTo>
                  <a:cubicBezTo>
                    <a:pt x="538312" y="330745"/>
                    <a:pt x="538311" y="165373"/>
                    <a:pt x="538311" y="0"/>
                  </a:cubicBezTo>
                  <a:close/>
                </a:path>
                <a:path fill="none" w="1076623" h="992235">
                  <a:moveTo>
                    <a:pt x="538311" y="0"/>
                  </a:moveTo>
                  <a:cubicBezTo>
                    <a:pt x="733990" y="0"/>
                    <a:pt x="914259" y="97862"/>
                    <a:pt x="1009127" y="255592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矩形 26"/>
          <p:cNvSpPr/>
          <p:nvPr/>
        </p:nvSpPr>
        <p:spPr>
          <a:xfrm>
            <a:off x="1864440" y="4686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27"/>
          <p:cNvSpPr/>
          <p:nvPr/>
        </p:nvSpPr>
        <p:spPr>
          <a:xfrm>
            <a:off x="2494080" y="5491080"/>
            <a:ext cx="1590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8"/>
          <p:cNvSpPr/>
          <p:nvPr/>
        </p:nvSpPr>
        <p:spPr>
          <a:xfrm>
            <a:off x="2003400" y="1069920"/>
            <a:ext cx="287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估计商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28"/>
          <p:cNvSpPr/>
          <p:nvPr/>
        </p:nvSpPr>
        <p:spPr>
          <a:xfrm>
            <a:off x="5281560" y="1100160"/>
            <a:ext cx="26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估计商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1982880" y="3627360"/>
            <a:ext cx="1830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估计商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5"/>
          <p:cNvSpPr/>
          <p:nvPr/>
        </p:nvSpPr>
        <p:spPr>
          <a:xfrm>
            <a:off x="5407200" y="406548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 2 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 0  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31"/>
          <p:cNvGrpSpPr/>
          <p:nvPr/>
        </p:nvGrpSpPr>
        <p:grpSpPr>
          <a:xfrm>
            <a:off x="4413240" y="4124520"/>
            <a:ext cx="2401920" cy="1247400"/>
            <a:chOff x="4413240" y="4124520"/>
            <a:chExt cx="2401920" cy="1247400"/>
          </a:xfrm>
        </p:grpSpPr>
        <p:sp>
          <p:nvSpPr>
            <p:cNvPr id="326" name="直接连接符 32"/>
            <p:cNvSpPr/>
            <p:nvPr/>
          </p:nvSpPr>
          <p:spPr>
            <a:xfrm>
              <a:off x="5434920" y="4646160"/>
              <a:ext cx="138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弧形 33"/>
            <p:cNvSpPr/>
            <p:nvPr/>
          </p:nvSpPr>
          <p:spPr>
            <a:xfrm rot="4684800">
              <a:off x="4447440" y="4276800"/>
              <a:ext cx="1076040" cy="942840"/>
            </a:xfrm>
            <a:custGeom>
              <a:avLst/>
              <a:gdLst/>
              <a:ahLst/>
              <a:rect l="l" t="t" r="r" b="b"/>
              <a:pathLst>
                <a:path stroke="0" w="1076623" h="992235">
                  <a:moveTo>
                    <a:pt x="538311" y="0"/>
                  </a:moveTo>
                  <a:cubicBezTo>
                    <a:pt x="733990" y="0"/>
                    <a:pt x="914259" y="97862"/>
                    <a:pt x="1009127" y="255592"/>
                  </a:cubicBezTo>
                  <a:lnTo>
                    <a:pt x="538312" y="496118"/>
                  </a:lnTo>
                  <a:cubicBezTo>
                    <a:pt x="538312" y="330745"/>
                    <a:pt x="538311" y="165373"/>
                    <a:pt x="538311" y="0"/>
                  </a:cubicBezTo>
                  <a:close/>
                </a:path>
                <a:path fill="none" w="1076623" h="992235">
                  <a:moveTo>
                    <a:pt x="538311" y="0"/>
                  </a:moveTo>
                  <a:cubicBezTo>
                    <a:pt x="733990" y="0"/>
                    <a:pt x="914259" y="97862"/>
                    <a:pt x="1009127" y="255592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矩形 34"/>
          <p:cNvSpPr/>
          <p:nvPr/>
        </p:nvSpPr>
        <p:spPr>
          <a:xfrm>
            <a:off x="4705920" y="4702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35"/>
          <p:cNvSpPr/>
          <p:nvPr/>
        </p:nvSpPr>
        <p:spPr>
          <a:xfrm>
            <a:off x="5335560" y="5506920"/>
            <a:ext cx="15890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2"/>
          <p:cNvSpPr/>
          <p:nvPr/>
        </p:nvSpPr>
        <p:spPr>
          <a:xfrm>
            <a:off x="5530680" y="3665520"/>
            <a:ext cx="979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估计商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6"/>
          <p:cNvSpPr/>
          <p:nvPr/>
        </p:nvSpPr>
        <p:spPr>
          <a:xfrm>
            <a:off x="1270080" y="14860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均每只青蛙一小时能吃几只害虫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2"/>
          <p:cNvSpPr/>
          <p:nvPr/>
        </p:nvSpPr>
        <p:spPr>
          <a:xfrm>
            <a:off x="1936800" y="4341960"/>
            <a:ext cx="524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2÷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平均每只青蛙一小时能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只害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1363680" y="2252520"/>
            <a:ext cx="6334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36"/>
          <p:cNvSpPr/>
          <p:nvPr/>
        </p:nvSpPr>
        <p:spPr>
          <a:xfrm>
            <a:off x="914400" y="133524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钱各能买几个球，还剩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2892600" y="434196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41280" y="2347920"/>
          <a:ext cx="5964480" cy="1890720"/>
        </p:xfrm>
        <a:graphic>
          <a:graphicData uri="http://schemas.openxmlformats.org/drawingml/2006/table">
            <a:tbl>
              <a:tblPr/>
              <a:tblGrid>
                <a:gridCol w="1490760"/>
                <a:gridCol w="1492200"/>
                <a:gridCol w="1490760"/>
                <a:gridCol w="14907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球 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足 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篮 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排 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价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量（个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剩下的钱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矩形 5"/>
          <p:cNvSpPr/>
          <p:nvPr/>
        </p:nvSpPr>
        <p:spPr>
          <a:xfrm>
            <a:off x="32695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6"/>
          <p:cNvSpPr/>
          <p:nvPr/>
        </p:nvSpPr>
        <p:spPr>
          <a:xfrm>
            <a:off x="4761720" y="3129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7"/>
          <p:cNvSpPr/>
          <p:nvPr/>
        </p:nvSpPr>
        <p:spPr>
          <a:xfrm>
            <a:off x="6226200" y="311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8"/>
          <p:cNvSpPr/>
          <p:nvPr/>
        </p:nvSpPr>
        <p:spPr>
          <a:xfrm>
            <a:off x="3205080" y="368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9"/>
          <p:cNvSpPr/>
          <p:nvPr/>
        </p:nvSpPr>
        <p:spPr>
          <a:xfrm>
            <a:off x="4694040" y="3713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10"/>
          <p:cNvSpPr/>
          <p:nvPr/>
        </p:nvSpPr>
        <p:spPr>
          <a:xfrm>
            <a:off x="6226200" y="3579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6"/>
          <p:cNvSpPr/>
          <p:nvPr/>
        </p:nvSpPr>
        <p:spPr>
          <a:xfrm>
            <a:off x="914400" y="166212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校买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袋水泥铺教室的地面，如果铺一个教室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袋 水泥，那么这些水泥够铺几个教室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2"/>
          <p:cNvSpPr/>
          <p:nvPr/>
        </p:nvSpPr>
        <p:spPr>
          <a:xfrm>
            <a:off x="2128680" y="3305160"/>
            <a:ext cx="42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0÷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       2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些水泥够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教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7"/>
          <p:cNvSpPr/>
          <p:nvPr/>
        </p:nvSpPr>
        <p:spPr>
          <a:xfrm>
            <a:off x="4145760" y="3373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36"/>
          <p:cNvSpPr/>
          <p:nvPr/>
        </p:nvSpPr>
        <p:spPr>
          <a:xfrm>
            <a:off x="1060560" y="2227320"/>
            <a:ext cx="70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橘子。每筐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，需要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筐就行了。余下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可以忽略不计。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34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0" name="矩形 5"/>
          <p:cNvSpPr/>
          <p:nvPr/>
        </p:nvSpPr>
        <p:spPr>
          <a:xfrm>
            <a:off x="1693800" y="4157640"/>
            <a:ext cx="57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辩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运用“进一法”解题时，当余数很小时，容易忽视用商加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1"/>
          <p:cNvSpPr/>
          <p:nvPr/>
        </p:nvSpPr>
        <p:spPr>
          <a:xfrm>
            <a:off x="7496640" y="347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5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5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1054080" y="1274760"/>
            <a:ext cx="70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了奖励同学，王老师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去玩具店给同学们买玩具，如果一个木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王老师可以买几个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2211480" y="2766960"/>
            <a:ext cx="4734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1"/>
          <p:cNvGrpSpPr/>
          <p:nvPr/>
        </p:nvGrpSpPr>
        <p:grpSpPr>
          <a:xfrm>
            <a:off x="892080" y="2087640"/>
            <a:ext cx="6000120" cy="635040"/>
            <a:chOff x="892080" y="2087640"/>
            <a:chExt cx="6000120" cy="635040"/>
          </a:xfrm>
        </p:grpSpPr>
        <p:pic>
          <p:nvPicPr>
            <p:cNvPr id="85" name="图片 34" descr="QQ截图20170213223835.png"/>
            <p:cNvPicPr/>
            <p:nvPr/>
          </p:nvPicPr>
          <p:blipFill>
            <a:blip r:embed="rId1"/>
            <a:stretch/>
          </p:blipFill>
          <p:spPr>
            <a:xfrm>
              <a:off x="892080" y="2087640"/>
              <a:ext cx="6872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35"/>
            <p:cNvSpPr/>
            <p:nvPr/>
          </p:nvSpPr>
          <p:spPr>
            <a:xfrm>
              <a:off x="2849760" y="2174760"/>
              <a:ext cx="404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光明小学四年级学生要向山区小朋友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9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本书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1"/>
          <p:cNvGrpSpPr/>
          <p:nvPr/>
        </p:nvGrpSpPr>
        <p:grpSpPr>
          <a:xfrm>
            <a:off x="306360" y="1047600"/>
            <a:ext cx="8317080" cy="666720"/>
            <a:chOff x="306360" y="1047600"/>
            <a:chExt cx="8317080" cy="666720"/>
          </a:xfrm>
        </p:grpSpPr>
        <p:sp>
          <p:nvSpPr>
            <p:cNvPr id="88" name="文本框 13"/>
            <p:cNvSpPr/>
            <p:nvPr/>
          </p:nvSpPr>
          <p:spPr>
            <a:xfrm>
              <a:off x="2016000" y="1071720"/>
              <a:ext cx="66074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60360" indent="-126036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三位数除以两位（调商）的笔算方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06360" y="1047600"/>
              <a:ext cx="164916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4"/>
          <p:cNvGrpSpPr/>
          <p:nvPr/>
        </p:nvGrpSpPr>
        <p:grpSpPr>
          <a:xfrm>
            <a:off x="1076400" y="2722680"/>
            <a:ext cx="7250040" cy="3728880"/>
            <a:chOff x="1076400" y="2722680"/>
            <a:chExt cx="7250040" cy="3728880"/>
          </a:xfrm>
        </p:grpSpPr>
        <p:grpSp>
          <p:nvGrpSpPr>
            <p:cNvPr id="91" name="组合 1"/>
            <p:cNvGrpSpPr/>
            <p:nvPr/>
          </p:nvGrpSpPr>
          <p:grpSpPr>
            <a:xfrm>
              <a:off x="5076720" y="5136840"/>
              <a:ext cx="3249720" cy="1314720"/>
              <a:chOff x="5076720" y="5136840"/>
              <a:chExt cx="3249720" cy="1314720"/>
            </a:xfrm>
          </p:grpSpPr>
          <p:pic>
            <p:nvPicPr>
              <p:cNvPr id="92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5076720" y="5284080"/>
                <a:ext cx="2200320" cy="7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7392960" y="5136840"/>
                <a:ext cx="933480" cy="131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" name="组合 3"/>
            <p:cNvGrpSpPr/>
            <p:nvPr/>
          </p:nvGrpSpPr>
          <p:grpSpPr>
            <a:xfrm>
              <a:off x="1076400" y="2722680"/>
              <a:ext cx="7211880" cy="2672280"/>
              <a:chOff x="1076400" y="2722680"/>
              <a:chExt cx="7211880" cy="2672280"/>
            </a:xfrm>
          </p:grpSpPr>
          <p:pic>
            <p:nvPicPr>
              <p:cNvPr id="95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3360" y="2944080"/>
                <a:ext cx="2104920" cy="1000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6" name="组合 2"/>
              <p:cNvGrpSpPr/>
              <p:nvPr/>
            </p:nvGrpSpPr>
            <p:grpSpPr>
              <a:xfrm>
                <a:off x="1076400" y="2722680"/>
                <a:ext cx="5615280" cy="2672280"/>
                <a:chOff x="1076400" y="2722680"/>
                <a:chExt cx="5615280" cy="2672280"/>
              </a:xfrm>
            </p:grpSpPr>
            <p:pic>
              <p:nvPicPr>
                <p:cNvPr id="97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76400" y="3058200"/>
                  <a:ext cx="1790640" cy="77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1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452680" y="2722680"/>
                  <a:ext cx="4239000" cy="2672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2271960" y="160164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包一包，怎么样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2479680" y="2290680"/>
            <a:ext cx="38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÷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包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·····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本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4"/>
          <p:cNvGrpSpPr/>
          <p:nvPr/>
        </p:nvGrpSpPr>
        <p:grpSpPr>
          <a:xfrm>
            <a:off x="4273560" y="3235320"/>
            <a:ext cx="3709800" cy="1455840"/>
            <a:chOff x="4273560" y="3235320"/>
            <a:chExt cx="3709800" cy="1455840"/>
          </a:xfrm>
        </p:grpSpPr>
        <p:pic>
          <p:nvPicPr>
            <p:cNvPr id="104" name="Picture 10" descr=""/>
            <p:cNvPicPr/>
            <p:nvPr/>
          </p:nvPicPr>
          <p:blipFill>
            <a:blip r:embed="rId1"/>
            <a:stretch/>
          </p:blipFill>
          <p:spPr>
            <a:xfrm>
              <a:off x="4273560" y="3410280"/>
              <a:ext cx="2448360" cy="8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1" descr=""/>
            <p:cNvPicPr/>
            <p:nvPr/>
          </p:nvPicPr>
          <p:blipFill>
            <a:blip r:embed="rId2"/>
            <a:stretch/>
          </p:blipFill>
          <p:spPr>
            <a:xfrm>
              <a:off x="6751080" y="3235320"/>
              <a:ext cx="1232280" cy="14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2320200" y="127800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包一包，可以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2073240" y="1924200"/>
            <a:ext cx="37036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5"/>
          <p:cNvSpPr/>
          <p:nvPr/>
        </p:nvSpPr>
        <p:spPr>
          <a:xfrm>
            <a:off x="1638360" y="1935000"/>
            <a:ext cx="416556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88960" y="3247920"/>
            <a:ext cx="1631880" cy="230040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52242"/>
          <p:cNvGrpSpPr/>
          <p:nvPr/>
        </p:nvGrpSpPr>
        <p:grpSpPr>
          <a:xfrm>
            <a:off x="4164120" y="4618080"/>
            <a:ext cx="3698640" cy="1295280"/>
            <a:chOff x="4164120" y="4618080"/>
            <a:chExt cx="3698640" cy="1295280"/>
          </a:xfrm>
        </p:grpSpPr>
        <p:pic>
          <p:nvPicPr>
            <p:cNvPr id="113" name="Picture 5" descr=""/>
            <p:cNvPicPr/>
            <p:nvPr/>
          </p:nvPicPr>
          <p:blipFill>
            <a:blip r:embed="rId2"/>
            <a:stretch/>
          </p:blipFill>
          <p:spPr>
            <a:xfrm>
              <a:off x="4164120" y="4889520"/>
              <a:ext cx="262944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6802560" y="4618080"/>
              <a:ext cx="1060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组合 16"/>
          <p:cNvGrpSpPr/>
          <p:nvPr/>
        </p:nvGrpSpPr>
        <p:grpSpPr>
          <a:xfrm>
            <a:off x="2220840" y="2066760"/>
            <a:ext cx="3462480" cy="2332080"/>
            <a:chOff x="2220840" y="2066760"/>
            <a:chExt cx="3462480" cy="2332080"/>
          </a:xfrm>
        </p:grpSpPr>
        <p:sp>
          <p:nvSpPr>
            <p:cNvPr id="116" name="矩形 20486"/>
            <p:cNvSpPr/>
            <p:nvPr/>
          </p:nvSpPr>
          <p:spPr>
            <a:xfrm>
              <a:off x="2220840" y="2066760"/>
              <a:ext cx="3455640" cy="2332080"/>
            </a:xfrm>
            <a:prstGeom prst="rect">
              <a:avLst/>
            </a:prstGeom>
            <a:solidFill>
              <a:srgbClr val="bc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组合 15"/>
            <p:cNvGrpSpPr/>
            <p:nvPr/>
          </p:nvGrpSpPr>
          <p:grpSpPr>
            <a:xfrm>
              <a:off x="2352600" y="2154960"/>
              <a:ext cx="3330720" cy="1985040"/>
              <a:chOff x="2352600" y="2154960"/>
              <a:chExt cx="3330720" cy="1985040"/>
            </a:xfrm>
          </p:grpSpPr>
          <p:grpSp>
            <p:nvGrpSpPr>
              <p:cNvPr id="118" name="组合 52224"/>
              <p:cNvGrpSpPr/>
              <p:nvPr/>
            </p:nvGrpSpPr>
            <p:grpSpPr>
              <a:xfrm>
                <a:off x="2355480" y="2226240"/>
                <a:ext cx="2494440" cy="1913760"/>
                <a:chOff x="2355480" y="2226240"/>
                <a:chExt cx="2494440" cy="1913760"/>
              </a:xfrm>
            </p:grpSpPr>
            <p:sp>
              <p:nvSpPr>
                <p:cNvPr id="119" name="矩形 20496"/>
                <p:cNvSpPr/>
                <p:nvPr/>
              </p:nvSpPr>
              <p:spPr>
                <a:xfrm>
                  <a:off x="3528000" y="2226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0" name="组合 52223"/>
                <p:cNvGrpSpPr/>
                <p:nvPr/>
              </p:nvGrpSpPr>
              <p:grpSpPr>
                <a:xfrm>
                  <a:off x="2355480" y="2570760"/>
                  <a:ext cx="2494440" cy="1569240"/>
                  <a:chOff x="2355480" y="2570760"/>
                  <a:chExt cx="2494440" cy="1569240"/>
                </a:xfrm>
              </p:grpSpPr>
              <p:sp>
                <p:nvSpPr>
                  <p:cNvPr id="121" name="矩形 20495"/>
                  <p:cNvSpPr/>
                  <p:nvPr/>
                </p:nvSpPr>
                <p:spPr>
                  <a:xfrm>
                    <a:off x="2355480" y="2570760"/>
                    <a:ext cx="485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" name="矩形 20510"/>
                  <p:cNvSpPr/>
                  <p:nvPr/>
                </p:nvSpPr>
                <p:spPr>
                  <a:xfrm>
                    <a:off x="2825640" y="3680280"/>
                    <a:ext cx="2024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商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大了，改商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。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23" name="组合 14"/>
              <p:cNvGrpSpPr/>
              <p:nvPr/>
            </p:nvGrpSpPr>
            <p:grpSpPr>
              <a:xfrm>
                <a:off x="2352600" y="2154960"/>
                <a:ext cx="3330720" cy="1230120"/>
                <a:chOff x="2352600" y="2154960"/>
                <a:chExt cx="3330720" cy="1230120"/>
              </a:xfrm>
            </p:grpSpPr>
            <p:grpSp>
              <p:nvGrpSpPr>
                <p:cNvPr id="124" name="组合 8"/>
                <p:cNvGrpSpPr/>
                <p:nvPr/>
              </p:nvGrpSpPr>
              <p:grpSpPr>
                <a:xfrm>
                  <a:off x="2352600" y="2154960"/>
                  <a:ext cx="1500120" cy="1230120"/>
                  <a:chOff x="2352600" y="2154960"/>
                  <a:chExt cx="1500120" cy="1230120"/>
                </a:xfrm>
              </p:grpSpPr>
              <p:grpSp>
                <p:nvGrpSpPr>
                  <p:cNvPr id="125" name="组合 7"/>
                  <p:cNvGrpSpPr/>
                  <p:nvPr/>
                </p:nvGrpSpPr>
                <p:grpSpPr>
                  <a:xfrm>
                    <a:off x="2352600" y="2154960"/>
                    <a:ext cx="1500120" cy="1230120"/>
                    <a:chOff x="2352600" y="2154960"/>
                    <a:chExt cx="1500120" cy="1230120"/>
                  </a:xfrm>
                </p:grpSpPr>
                <p:sp>
                  <p:nvSpPr>
                    <p:cNvPr id="126" name="矩形 20487"/>
                    <p:cNvSpPr/>
                    <p:nvPr/>
                  </p:nvSpPr>
                  <p:spPr>
                    <a:xfrm>
                      <a:off x="2909880" y="2559600"/>
                      <a:ext cx="942840" cy="82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9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9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27" name="组合 6"/>
                    <p:cNvGrpSpPr/>
                    <p:nvPr/>
                  </p:nvGrpSpPr>
                  <p:grpSpPr>
                    <a:xfrm>
                      <a:off x="2352600" y="2154960"/>
                      <a:ext cx="1462320" cy="459720"/>
                      <a:chOff x="2352600" y="2154960"/>
                      <a:chExt cx="1462320" cy="459720"/>
                    </a:xfrm>
                  </p:grpSpPr>
                  <p:sp>
                    <p:nvSpPr>
                      <p:cNvPr id="128" name="直接连接符 20492"/>
                      <p:cNvSpPr/>
                      <p:nvPr/>
                    </p:nvSpPr>
                    <p:spPr>
                      <a:xfrm>
                        <a:off x="2905200" y="2609640"/>
                        <a:ext cx="9097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29" name="矩形 20497"/>
                      <p:cNvSpPr/>
                      <p:nvPr/>
                    </p:nvSpPr>
                    <p:spPr>
                      <a:xfrm>
                        <a:off x="2352600" y="2154960"/>
                        <a:ext cx="485640" cy="459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0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pic>
                <p:nvPicPr>
                  <p:cNvPr id="130" name="Picture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8360" y="2609640"/>
                    <a:ext cx="21276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31" name="组合 13"/>
                <p:cNvGrpSpPr/>
                <p:nvPr/>
              </p:nvGrpSpPr>
              <p:grpSpPr>
                <a:xfrm>
                  <a:off x="3864240" y="2245320"/>
                  <a:ext cx="1819080" cy="871920"/>
                  <a:chOff x="3864240" y="2245320"/>
                  <a:chExt cx="1819080" cy="871920"/>
                </a:xfrm>
              </p:grpSpPr>
              <p:cxnSp>
                <p:nvCxnSpPr>
                  <p:cNvPr id="132" name="直接箭头连接符 20499"/>
                  <p:cNvCxnSpPr/>
                  <p:nvPr/>
                </p:nvCxnSpPr>
                <p:spPr>
                  <a:xfrm>
                    <a:off x="3864240" y="2872440"/>
                    <a:ext cx="349920" cy="1080"/>
                  </a:xfrm>
                  <a:prstGeom prst="straightConnector1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grpSp>
                <p:nvGrpSpPr>
                  <p:cNvPr id="133" name="组合 12"/>
                  <p:cNvGrpSpPr/>
                  <p:nvPr/>
                </p:nvGrpSpPr>
                <p:grpSpPr>
                  <a:xfrm>
                    <a:off x="4186800" y="2245320"/>
                    <a:ext cx="1496520" cy="871920"/>
                    <a:chOff x="4186800" y="2245320"/>
                    <a:chExt cx="1496520" cy="871920"/>
                  </a:xfrm>
                </p:grpSpPr>
                <p:sp>
                  <p:nvSpPr>
                    <p:cNvPr id="134" name="矩形 20507"/>
                    <p:cNvSpPr/>
                    <p:nvPr/>
                  </p:nvSpPr>
                  <p:spPr>
                    <a:xfrm>
                      <a:off x="5274000" y="2245320"/>
                      <a:ext cx="409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35" name="组合 11"/>
                    <p:cNvGrpSpPr/>
                    <p:nvPr/>
                  </p:nvGrpSpPr>
                  <p:grpSpPr>
                    <a:xfrm>
                      <a:off x="4186800" y="2646000"/>
                      <a:ext cx="1483920" cy="471240"/>
                      <a:chOff x="4186800" y="2646000"/>
                      <a:chExt cx="1483920" cy="471240"/>
                    </a:xfrm>
                  </p:grpSpPr>
                  <p:sp>
                    <p:nvSpPr>
                      <p:cNvPr id="136" name="矩形 20488"/>
                      <p:cNvSpPr/>
                      <p:nvPr/>
                    </p:nvSpPr>
                    <p:spPr>
                      <a:xfrm>
                        <a:off x="4727880" y="2657520"/>
                        <a:ext cx="9428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  9  6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7" name="组合 10"/>
                      <p:cNvGrpSpPr/>
                      <p:nvPr/>
                    </p:nvGrpSpPr>
                    <p:grpSpPr>
                      <a:xfrm>
                        <a:off x="4186800" y="2646000"/>
                        <a:ext cx="1406520" cy="459720"/>
                        <a:chOff x="4186800" y="2646000"/>
                        <a:chExt cx="1406520" cy="459720"/>
                      </a:xfrm>
                    </p:grpSpPr>
                    <p:sp>
                      <p:nvSpPr>
                        <p:cNvPr id="138" name="直接连接符 20502"/>
                        <p:cNvSpPr/>
                        <p:nvPr/>
                      </p:nvSpPr>
                      <p:spPr>
                        <a:xfrm>
                          <a:off x="4805640" y="2729880"/>
                          <a:ext cx="78768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4f81bd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39" name="组合 9"/>
                        <p:cNvGrpSpPr/>
                        <p:nvPr/>
                      </p:nvGrpSpPr>
                      <p:grpSpPr>
                        <a:xfrm>
                          <a:off x="4186800" y="2646000"/>
                          <a:ext cx="641880" cy="459720"/>
                          <a:chOff x="4186800" y="2646000"/>
                          <a:chExt cx="641880" cy="459720"/>
                        </a:xfrm>
                      </p:grpSpPr>
                      <p:sp>
                        <p:nvSpPr>
                          <p:cNvPr id="140" name="矩形 20500"/>
                          <p:cNvSpPr/>
                          <p:nvPr/>
                        </p:nvSpPr>
                        <p:spPr>
                          <a:xfrm>
                            <a:off x="4186800" y="2646000"/>
                            <a:ext cx="48564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pic>
                        <p:nvPicPr>
                          <p:cNvPr id="141" name="Picture 35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4615920" y="2724120"/>
                            <a:ext cx="212760" cy="329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grpSp>
                  </p:grpSp>
                </p:grpSp>
              </p:grpSp>
            </p:grpSp>
          </p:grpSp>
        </p:grpSp>
      </p:grpSp>
      <p:grpSp>
        <p:nvGrpSpPr>
          <p:cNvPr id="142" name="组合 21"/>
          <p:cNvGrpSpPr/>
          <p:nvPr/>
        </p:nvGrpSpPr>
        <p:grpSpPr>
          <a:xfrm>
            <a:off x="5989320" y="2066760"/>
            <a:ext cx="1454760" cy="1696680"/>
            <a:chOff x="5989320" y="2066760"/>
            <a:chExt cx="1454760" cy="1696680"/>
          </a:xfrm>
        </p:grpSpPr>
        <p:sp>
          <p:nvSpPr>
            <p:cNvPr id="143" name="直接连接符 52237"/>
            <p:cNvSpPr/>
            <p:nvPr/>
          </p:nvSpPr>
          <p:spPr>
            <a:xfrm>
              <a:off x="6478560" y="3247920"/>
              <a:ext cx="95400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组合 20"/>
            <p:cNvGrpSpPr/>
            <p:nvPr/>
          </p:nvGrpSpPr>
          <p:grpSpPr>
            <a:xfrm>
              <a:off x="5989320" y="2066760"/>
              <a:ext cx="1454760" cy="1696680"/>
              <a:chOff x="5989320" y="2066760"/>
              <a:chExt cx="1454760" cy="1696680"/>
            </a:xfrm>
          </p:grpSpPr>
          <p:sp>
            <p:nvSpPr>
              <p:cNvPr id="145" name="矩形 52238"/>
              <p:cNvSpPr/>
              <p:nvPr/>
            </p:nvSpPr>
            <p:spPr>
              <a:xfrm>
                <a:off x="6806160" y="330372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  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6" name="组合 19"/>
              <p:cNvGrpSpPr/>
              <p:nvPr/>
            </p:nvGrpSpPr>
            <p:grpSpPr>
              <a:xfrm>
                <a:off x="5989320" y="2066760"/>
                <a:ext cx="1442520" cy="1216080"/>
                <a:chOff x="5989320" y="2066760"/>
                <a:chExt cx="1442520" cy="1216080"/>
              </a:xfrm>
            </p:grpSpPr>
            <p:sp>
              <p:nvSpPr>
                <p:cNvPr id="147" name="矩形 52227"/>
                <p:cNvSpPr/>
                <p:nvPr/>
              </p:nvSpPr>
              <p:spPr>
                <a:xfrm>
                  <a:off x="6483600" y="2457360"/>
                  <a:ext cx="9428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  9  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  7  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48" name="组合 18"/>
                <p:cNvGrpSpPr/>
                <p:nvPr/>
              </p:nvGrpSpPr>
              <p:grpSpPr>
                <a:xfrm>
                  <a:off x="5989320" y="2066760"/>
                  <a:ext cx="1442520" cy="849600"/>
                  <a:chOff x="5989320" y="2066760"/>
                  <a:chExt cx="1442520" cy="849600"/>
                </a:xfrm>
              </p:grpSpPr>
              <p:sp>
                <p:nvSpPr>
                  <p:cNvPr id="149" name="矩形 52235"/>
                  <p:cNvSpPr/>
                  <p:nvPr/>
                </p:nvSpPr>
                <p:spPr>
                  <a:xfrm>
                    <a:off x="7096680" y="206676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50" name="组合 17"/>
                  <p:cNvGrpSpPr/>
                  <p:nvPr/>
                </p:nvGrpSpPr>
                <p:grpSpPr>
                  <a:xfrm>
                    <a:off x="5989320" y="2456640"/>
                    <a:ext cx="1442520" cy="459720"/>
                    <a:chOff x="5989320" y="2456640"/>
                    <a:chExt cx="1442520" cy="459720"/>
                  </a:xfrm>
                </p:grpSpPr>
                <p:sp>
                  <p:nvSpPr>
                    <p:cNvPr id="151" name="矩形 52234"/>
                    <p:cNvSpPr/>
                    <p:nvPr/>
                  </p:nvSpPr>
                  <p:spPr>
                    <a:xfrm>
                      <a:off x="5989320" y="2456640"/>
                      <a:ext cx="485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52" name="组合 5"/>
                    <p:cNvGrpSpPr/>
                    <p:nvPr/>
                  </p:nvGrpSpPr>
                  <p:grpSpPr>
                    <a:xfrm>
                      <a:off x="6381360" y="2466000"/>
                      <a:ext cx="1050480" cy="329040"/>
                      <a:chOff x="6381360" y="2466000"/>
                      <a:chExt cx="1050480" cy="329040"/>
                    </a:xfrm>
                  </p:grpSpPr>
                  <p:sp>
                    <p:nvSpPr>
                      <p:cNvPr id="153" name="直接连接符 52229"/>
                      <p:cNvSpPr/>
                      <p:nvPr/>
                    </p:nvSpPr>
                    <p:spPr>
                      <a:xfrm>
                        <a:off x="6557400" y="2476080"/>
                        <a:ext cx="874440" cy="1440"/>
                      </a:xfrm>
                      <a:prstGeom prst="line">
                        <a:avLst/>
                      </a:prstGeom>
                      <a:ln w="255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pic>
                    <p:nvPicPr>
                      <p:cNvPr id="154" name="Picture 3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81360" y="2466000"/>
                        <a:ext cx="212400" cy="32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2784600" y="127800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包一包，能正好包完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2073240" y="1924200"/>
            <a:ext cx="37036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25"/>
          <p:cNvSpPr/>
          <p:nvPr/>
        </p:nvSpPr>
        <p:spPr>
          <a:xfrm>
            <a:off x="1638360" y="1935000"/>
            <a:ext cx="416556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0486"/>
          <p:cNvSpPr/>
          <p:nvPr/>
        </p:nvSpPr>
        <p:spPr>
          <a:xfrm>
            <a:off x="1454040" y="2006640"/>
            <a:ext cx="4089600" cy="2627280"/>
          </a:xfrm>
          <a:prstGeom prst="rect">
            <a:avLst/>
          </a:prstGeom>
          <a:solidFill>
            <a:srgbClr val="bc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26"/>
          <p:cNvGrpSpPr/>
          <p:nvPr/>
        </p:nvGrpSpPr>
        <p:grpSpPr>
          <a:xfrm>
            <a:off x="1922040" y="2232000"/>
            <a:ext cx="3173760" cy="2203200"/>
            <a:chOff x="1922040" y="2232000"/>
            <a:chExt cx="3173760" cy="2203200"/>
          </a:xfrm>
        </p:grpSpPr>
        <p:sp>
          <p:nvSpPr>
            <p:cNvPr id="162" name="矩形 20500"/>
            <p:cNvSpPr/>
            <p:nvPr/>
          </p:nvSpPr>
          <p:spPr>
            <a:xfrm>
              <a:off x="3658320" y="2626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3" name="组合 25"/>
            <p:cNvGrpSpPr/>
            <p:nvPr/>
          </p:nvGrpSpPr>
          <p:grpSpPr>
            <a:xfrm>
              <a:off x="1922040" y="2232000"/>
              <a:ext cx="3173760" cy="2203200"/>
              <a:chOff x="1922040" y="2232000"/>
              <a:chExt cx="3173760" cy="2203200"/>
            </a:xfrm>
          </p:grpSpPr>
          <p:sp>
            <p:nvSpPr>
              <p:cNvPr id="164" name="直接连接符 7"/>
              <p:cNvSpPr/>
              <p:nvPr/>
            </p:nvSpPr>
            <p:spPr>
              <a:xfrm>
                <a:off x="4148280" y="3430440"/>
                <a:ext cx="947520" cy="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5" name="组合 24"/>
              <p:cNvGrpSpPr/>
              <p:nvPr/>
            </p:nvGrpSpPr>
            <p:grpSpPr>
              <a:xfrm>
                <a:off x="1922040" y="2232000"/>
                <a:ext cx="3173760" cy="2203200"/>
                <a:chOff x="1922040" y="2232000"/>
                <a:chExt cx="3173760" cy="2203200"/>
              </a:xfrm>
            </p:grpSpPr>
            <p:sp>
              <p:nvSpPr>
                <p:cNvPr id="166" name="矩形 8"/>
                <p:cNvSpPr/>
                <p:nvPr/>
              </p:nvSpPr>
              <p:spPr>
                <a:xfrm>
                  <a:off x="4453560" y="3320640"/>
                  <a:ext cx="637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67" name="组合 23"/>
                <p:cNvGrpSpPr/>
                <p:nvPr/>
              </p:nvGrpSpPr>
              <p:grpSpPr>
                <a:xfrm>
                  <a:off x="1922040" y="2232000"/>
                  <a:ext cx="3173760" cy="2203200"/>
                  <a:chOff x="1922040" y="2232000"/>
                  <a:chExt cx="3173760" cy="2203200"/>
                </a:xfrm>
              </p:grpSpPr>
              <p:sp>
                <p:nvSpPr>
                  <p:cNvPr id="168" name="矩形 20488"/>
                  <p:cNvSpPr/>
                  <p:nvPr/>
                </p:nvSpPr>
                <p:spPr>
                  <a:xfrm>
                    <a:off x="4147200" y="2643840"/>
                    <a:ext cx="94284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  9  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  9  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22"/>
                  <p:cNvGrpSpPr/>
                  <p:nvPr/>
                </p:nvGrpSpPr>
                <p:grpSpPr>
                  <a:xfrm>
                    <a:off x="1922040" y="2232000"/>
                    <a:ext cx="3173760" cy="2203200"/>
                    <a:chOff x="1922040" y="2232000"/>
                    <a:chExt cx="3173760" cy="2203200"/>
                  </a:xfrm>
                </p:grpSpPr>
                <p:sp>
                  <p:nvSpPr>
                    <p:cNvPr id="170" name="矩形 20507"/>
                    <p:cNvSpPr/>
                    <p:nvPr/>
                  </p:nvSpPr>
                  <p:spPr>
                    <a:xfrm>
                      <a:off x="4750920" y="224892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71" name="组合 21"/>
                    <p:cNvGrpSpPr/>
                    <p:nvPr/>
                  </p:nvGrpSpPr>
                  <p:grpSpPr>
                    <a:xfrm>
                      <a:off x="1922040" y="2232000"/>
                      <a:ext cx="3173760" cy="2203200"/>
                      <a:chOff x="1922040" y="2232000"/>
                      <a:chExt cx="3173760" cy="2203200"/>
                    </a:xfrm>
                  </p:grpSpPr>
                  <p:grpSp>
                    <p:nvGrpSpPr>
                      <p:cNvPr id="172" name="组合 20"/>
                      <p:cNvGrpSpPr/>
                      <p:nvPr/>
                    </p:nvGrpSpPr>
                    <p:grpSpPr>
                      <a:xfrm>
                        <a:off x="1922040" y="2232000"/>
                        <a:ext cx="2489760" cy="2203200"/>
                        <a:chOff x="1922040" y="2232000"/>
                        <a:chExt cx="2489760" cy="2203200"/>
                      </a:xfrm>
                    </p:grpSpPr>
                    <p:cxnSp>
                      <p:nvCxnSpPr>
                        <p:cNvPr id="173" name="直接箭头连接符 20499"/>
                        <p:cNvCxnSpPr/>
                        <p:nvPr/>
                      </p:nvCxnSpPr>
                      <p:spPr>
                        <a:xfrm>
                          <a:off x="3400200" y="2874600"/>
                          <a:ext cx="349920" cy="1080"/>
                        </a:xfrm>
                        <a:prstGeom prst="straightConnector1">
                          <a:avLst/>
                        </a:prstGeom>
                        <a:ln w="25560">
                          <a:solidFill>
                            <a:srgbClr val="ff0000"/>
                          </a:solidFill>
                          <a:miter/>
                          <a:tailEnd len="med" type="arrow" w="med"/>
                        </a:ln>
                      </p:spPr>
                    </p:cxnSp>
                    <p:grpSp>
                      <p:nvGrpSpPr>
                        <p:cNvPr id="174" name="组合 19"/>
                        <p:cNvGrpSpPr/>
                        <p:nvPr/>
                      </p:nvGrpSpPr>
                      <p:grpSpPr>
                        <a:xfrm>
                          <a:off x="1922040" y="2232000"/>
                          <a:ext cx="2489760" cy="2203200"/>
                          <a:chOff x="1922040" y="2232000"/>
                          <a:chExt cx="2489760" cy="2203200"/>
                        </a:xfrm>
                      </p:grpSpPr>
                      <p:sp>
                        <p:nvSpPr>
                          <p:cNvPr id="175" name="直接连接符 4"/>
                          <p:cNvSpPr/>
                          <p:nvPr/>
                        </p:nvSpPr>
                        <p:spPr>
                          <a:xfrm flipV="1">
                            <a:off x="2458800" y="3429000"/>
                            <a:ext cx="941400" cy="14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4f81bd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76" name="组合 18"/>
                          <p:cNvGrpSpPr/>
                          <p:nvPr/>
                        </p:nvGrpSpPr>
                        <p:grpSpPr>
                          <a:xfrm>
                            <a:off x="1922040" y="2232000"/>
                            <a:ext cx="2489760" cy="2203200"/>
                            <a:chOff x="1922040" y="2232000"/>
                            <a:chExt cx="2489760" cy="2203200"/>
                          </a:xfrm>
                        </p:grpSpPr>
                        <p:sp>
                          <p:nvSpPr>
                            <p:cNvPr id="177" name="矩形 5"/>
                            <p:cNvSpPr/>
                            <p:nvPr/>
                          </p:nvSpPr>
                          <p:spPr>
                            <a:xfrm>
                              <a:off x="2757600" y="3258720"/>
                              <a:ext cx="637920" cy="6426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5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  8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grpSp>
                          <p:nvGrpSpPr>
                            <p:cNvPr id="178" name="组合 17"/>
                            <p:cNvGrpSpPr/>
                            <p:nvPr/>
                          </p:nvGrpSpPr>
                          <p:grpSpPr>
                            <a:xfrm>
                              <a:off x="1922040" y="2232000"/>
                              <a:ext cx="2489760" cy="2203200"/>
                              <a:chOff x="1922040" y="2232000"/>
                              <a:chExt cx="2489760" cy="2203200"/>
                            </a:xfrm>
                          </p:grpSpPr>
                          <p:sp>
                            <p:nvSpPr>
                              <p:cNvPr id="179" name="矩形 20487"/>
                              <p:cNvSpPr/>
                              <p:nvPr/>
                            </p:nvSpPr>
                            <p:spPr>
                              <a:xfrm>
                                <a:off x="2464200" y="2643840"/>
                                <a:ext cx="942840" cy="8254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457200"/>
                                    <a:tab algn="l" pos="914400"/>
                                    <a:tab algn="l" pos="1371600"/>
                                    <a:tab algn="l" pos="1828800"/>
                                    <a:tab algn="l" pos="2286000"/>
                                    <a:tab algn="l" pos="2743200"/>
                                    <a:tab algn="l" pos="3200400"/>
                                    <a:tab algn="l" pos="3657600"/>
                                    <a:tab algn="l" pos="4114800"/>
                                    <a:tab algn="l" pos="4572000"/>
                                    <a:tab algn="l" pos="5029200"/>
                                    <a:tab algn="l" pos="5486400"/>
                                    <a:tab algn="l" pos="5943600"/>
                                    <a:tab algn="l" pos="6400800"/>
                                    <a:tab algn="l" pos="6858000"/>
                                    <a:tab algn="l" pos="7315200"/>
                                    <a:tab algn="l" pos="7772400"/>
                                    <a:tab algn="l" pos="8229600"/>
                                    <a:tab algn="l" pos="8686800"/>
                                    <a:tab algn="l" pos="91440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1  9  6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Calibri"/>
                                </a:endParaRPr>
                              </a:p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457200"/>
                                    <a:tab algn="l" pos="914400"/>
                                    <a:tab algn="l" pos="1371600"/>
                                    <a:tab algn="l" pos="1828800"/>
                                    <a:tab algn="l" pos="2286000"/>
                                    <a:tab algn="l" pos="2743200"/>
                                    <a:tab algn="l" pos="3200400"/>
                                    <a:tab algn="l" pos="3657600"/>
                                    <a:tab algn="l" pos="4114800"/>
                                    <a:tab algn="l" pos="4572000"/>
                                    <a:tab algn="l" pos="5029200"/>
                                    <a:tab algn="l" pos="5486400"/>
                                    <a:tab algn="l" pos="5943600"/>
                                    <a:tab algn="l" pos="6400800"/>
                                    <a:tab algn="l" pos="6858000"/>
                                    <a:tab algn="l" pos="7315200"/>
                                    <a:tab algn="l" pos="7772400"/>
                                    <a:tab algn="l" pos="8229600"/>
                                    <a:tab algn="l" pos="8686800"/>
                                    <a:tab algn="l" pos="91440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1  6  8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Calibri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80" name="组合 16"/>
                              <p:cNvGrpSpPr/>
                              <p:nvPr/>
                            </p:nvGrpSpPr>
                            <p:grpSpPr>
                              <a:xfrm>
                                <a:off x="1922040" y="2232000"/>
                                <a:ext cx="2489760" cy="2203200"/>
                                <a:chOff x="1922040" y="2232000"/>
                                <a:chExt cx="2489760" cy="2203200"/>
                              </a:xfrm>
                            </p:grpSpPr>
                            <p:grpSp>
                              <p:nvGrpSpPr>
                                <p:cNvPr id="181" name="组合 15"/>
                                <p:cNvGrpSpPr/>
                                <p:nvPr/>
                              </p:nvGrpSpPr>
                              <p:grpSpPr>
                                <a:xfrm>
                                  <a:off x="1922040" y="2232000"/>
                                  <a:ext cx="2489760" cy="2203200"/>
                                  <a:chOff x="1922040" y="2232000"/>
                                  <a:chExt cx="2489760" cy="2203200"/>
                                </a:xfrm>
                              </p:grpSpPr>
                              <p:sp>
                                <p:nvSpPr>
                                  <p:cNvPr id="182" name="矩形 20497"/>
                                  <p:cNvSpPr/>
                                  <p:nvPr/>
                                </p:nvSpPr>
                                <p:spPr>
                                  <a:xfrm>
                                    <a:off x="1922040" y="2261160"/>
                                    <a:ext cx="485640" cy="45972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ff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457200"/>
                                        <a:tab algn="l" pos="914400"/>
                                        <a:tab algn="l" pos="1371600"/>
                                        <a:tab algn="l" pos="1828800"/>
                                        <a:tab algn="l" pos="2286000"/>
                                        <a:tab algn="l" pos="2743200"/>
                                        <a:tab algn="l" pos="3200400"/>
                                        <a:tab algn="l" pos="3657600"/>
                                        <a:tab algn="l" pos="4114800"/>
                                        <a:tab algn="l" pos="4572000"/>
                                        <a:tab algn="l" pos="5029200"/>
                                        <a:tab algn="l" pos="5486400"/>
                                        <a:tab algn="l" pos="5943600"/>
                                        <a:tab algn="l" pos="6400800"/>
                                        <a:tab algn="l" pos="6858000"/>
                                        <a:tab algn="l" pos="7315200"/>
                                        <a:tab algn="l" pos="7772400"/>
                                        <a:tab algn="l" pos="8229600"/>
                                        <a:tab algn="l" pos="8686800"/>
                                        <a:tab algn="l" pos="91440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0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Calibri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83" name="组合 522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22400" y="2232000"/>
                                    <a:ext cx="2489400" cy="2203200"/>
                                    <a:chOff x="1922400" y="2232000"/>
                                    <a:chExt cx="2489400" cy="2203200"/>
                                  </a:xfrm>
                                </p:grpSpPr>
                                <p:sp>
                                  <p:nvSpPr>
                                    <p:cNvPr id="184" name="矩形 2049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960" y="2232000"/>
                                      <a:ext cx="33300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457200"/>
                                          <a:tab algn="l" pos="914400"/>
                                          <a:tab algn="l" pos="1371600"/>
                                          <a:tab algn="l" pos="1828800"/>
                                          <a:tab algn="l" pos="2286000"/>
                                          <a:tab algn="l" pos="2743200"/>
                                          <a:tab algn="l" pos="3200400"/>
                                          <a:tab algn="l" pos="3657600"/>
                                          <a:tab algn="l" pos="4114800"/>
                                          <a:tab algn="l" pos="4572000"/>
                                          <a:tab algn="l" pos="5029200"/>
                                          <a:tab algn="l" pos="5486400"/>
                                          <a:tab algn="l" pos="5943600"/>
                                          <a:tab algn="l" pos="6400800"/>
                                          <a:tab algn="l" pos="6858000"/>
                                          <a:tab algn="l" pos="7315200"/>
                                          <a:tab algn="l" pos="7772400"/>
                                          <a:tab algn="l" pos="8229600"/>
                                          <a:tab algn="l" pos="8686800"/>
                                          <a:tab algn="l" pos="91440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Calibri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85" name="组合 52223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922400" y="2644200"/>
                                      <a:ext cx="2489400" cy="1791000"/>
                                      <a:chOff x="1922400" y="2644200"/>
                                      <a:chExt cx="2489400" cy="1791000"/>
                                    </a:xfrm>
                                  </p:grpSpPr>
                                  <p:sp>
                                    <p:nvSpPr>
                                      <p:cNvPr id="186" name="矩形 20495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922400" y="2644200"/>
                                        <a:ext cx="485640" cy="459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457200"/>
                                            <a:tab algn="l" pos="914400"/>
                                            <a:tab algn="l" pos="1371600"/>
                                            <a:tab algn="l" pos="1828800"/>
                                            <a:tab algn="l" pos="2286000"/>
                                            <a:tab algn="l" pos="2743200"/>
                                            <a:tab algn="l" pos="3200400"/>
                                            <a:tab algn="l" pos="3657600"/>
                                            <a:tab algn="l" pos="4114800"/>
                                            <a:tab algn="l" pos="4572000"/>
                                            <a:tab algn="l" pos="5029200"/>
                                            <a:tab algn="l" pos="5486400"/>
                                            <a:tab algn="l" pos="5943600"/>
                                            <a:tab algn="l" pos="6400800"/>
                                            <a:tab algn="l" pos="6858000"/>
                                            <a:tab algn="l" pos="7315200"/>
                                            <a:tab algn="l" pos="7772400"/>
                                            <a:tab algn="l" pos="8229600"/>
                                            <a:tab algn="l" pos="8686800"/>
                                            <a:tab algn="l" pos="9144000"/>
                                          </a:tabLst>
                                        </a:pPr>
                                        <a:r>
                                          <a:rPr b="1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28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Calibri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87" name="矩形 20510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387520" y="3975480"/>
                                        <a:ext cx="2024280" cy="459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457200"/>
                                            <a:tab algn="l" pos="914400"/>
                                            <a:tab algn="l" pos="1371600"/>
                                            <a:tab algn="l" pos="1828800"/>
                                            <a:tab algn="l" pos="2286000"/>
                                            <a:tab algn="l" pos="2743200"/>
                                            <a:tab algn="l" pos="3200400"/>
                                            <a:tab algn="l" pos="3657600"/>
                                            <a:tab algn="l" pos="4114800"/>
                                            <a:tab algn="l" pos="4572000"/>
                                            <a:tab algn="l" pos="5029200"/>
                                            <a:tab algn="l" pos="5486400"/>
                                            <a:tab algn="l" pos="5943600"/>
                                            <a:tab algn="l" pos="6400800"/>
                                            <a:tab algn="l" pos="6858000"/>
                                            <a:tab algn="l" pos="7315200"/>
                                            <a:tab algn="l" pos="7772400"/>
                                            <a:tab algn="l" pos="8229600"/>
                                            <a:tab algn="l" pos="8686800"/>
                                            <a:tab algn="l" pos="9144000"/>
                                          </a:tabLst>
                                        </a:pPr>
                                        <a:r>
                                          <a:rPr b="1" lang="zh-CN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商</a:t>
                                        </a:r>
                                        <a:r>
                                          <a:rPr b="1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6</a:t>
                                        </a:r>
                                        <a:r>
                                          <a:rPr b="1" lang="zh-CN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小了，改商</a:t>
                                        </a:r>
                                        <a:r>
                                          <a:rPr b="1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7</a:t>
                                        </a:r>
                                        <a:r>
                                          <a:rPr b="1" lang="zh-CN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。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Calibri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pic>
                              <p:nvPicPr>
                                <p:cNvPr id="188" name="Picture 38" descr=""/>
                                <p:cNvPicPr/>
                                <p:nvPr/>
                              </p:nvPicPr>
                              <p:blipFill>
                                <a:blip r:embed="rId1"/>
                                <a:stretch/>
                              </p:blipFill>
                              <p:spPr>
                                <a:xfrm>
                                  <a:off x="2268360" y="2723400"/>
                                  <a:ext cx="1139760" cy="3412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</p:grpSp>
                      </p:grpSp>
                    </p:grpSp>
                  </p:grpSp>
                  <p:pic>
                    <p:nvPicPr>
                      <p:cNvPr id="189" name="Picture 39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56400" y="2703600"/>
                        <a:ext cx="1139400" cy="341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</p:grpSp>
      </p:grpSp>
      <p:grpSp>
        <p:nvGrpSpPr>
          <p:cNvPr id="190" name="组合 23551"/>
          <p:cNvGrpSpPr/>
          <p:nvPr/>
        </p:nvGrpSpPr>
        <p:grpSpPr>
          <a:xfrm>
            <a:off x="5911920" y="2081160"/>
            <a:ext cx="1525320" cy="1679400"/>
            <a:chOff x="5911920" y="2081160"/>
            <a:chExt cx="1525320" cy="1679400"/>
          </a:xfrm>
        </p:grpSpPr>
        <p:sp>
          <p:nvSpPr>
            <p:cNvPr id="191" name="直接连接符 52237"/>
            <p:cNvSpPr/>
            <p:nvPr/>
          </p:nvSpPr>
          <p:spPr>
            <a:xfrm>
              <a:off x="6338880" y="3287880"/>
              <a:ext cx="105120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组合 30"/>
            <p:cNvGrpSpPr/>
            <p:nvPr/>
          </p:nvGrpSpPr>
          <p:grpSpPr>
            <a:xfrm>
              <a:off x="5911920" y="2081160"/>
              <a:ext cx="1525320" cy="1679400"/>
              <a:chOff x="5911920" y="2081160"/>
              <a:chExt cx="1525320" cy="1679400"/>
            </a:xfrm>
          </p:grpSpPr>
          <p:sp>
            <p:nvSpPr>
              <p:cNvPr id="193" name="矩形 52238"/>
              <p:cNvSpPr/>
              <p:nvPr/>
            </p:nvSpPr>
            <p:spPr>
              <a:xfrm>
                <a:off x="6647040" y="33008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4" name="组合 29"/>
              <p:cNvGrpSpPr/>
              <p:nvPr/>
            </p:nvGrpSpPr>
            <p:grpSpPr>
              <a:xfrm>
                <a:off x="5911920" y="2081160"/>
                <a:ext cx="1518120" cy="1200960"/>
                <a:chOff x="5911920" y="2081160"/>
                <a:chExt cx="1518120" cy="1200960"/>
              </a:xfrm>
            </p:grpSpPr>
            <p:sp>
              <p:nvSpPr>
                <p:cNvPr id="195" name="矩形 52235"/>
                <p:cNvSpPr/>
                <p:nvPr/>
              </p:nvSpPr>
              <p:spPr>
                <a:xfrm>
                  <a:off x="7097040" y="2081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6" name="组合 28"/>
                <p:cNvGrpSpPr/>
                <p:nvPr/>
              </p:nvGrpSpPr>
              <p:grpSpPr>
                <a:xfrm>
                  <a:off x="5911920" y="2442600"/>
                  <a:ext cx="1514880" cy="839520"/>
                  <a:chOff x="5911920" y="2442600"/>
                  <a:chExt cx="1514880" cy="839520"/>
                </a:xfrm>
              </p:grpSpPr>
              <p:sp>
                <p:nvSpPr>
                  <p:cNvPr id="197" name="矩形 52234"/>
                  <p:cNvSpPr/>
                  <p:nvPr/>
                </p:nvSpPr>
                <p:spPr>
                  <a:xfrm>
                    <a:off x="5911920" y="2442600"/>
                    <a:ext cx="485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98" name="组合 27"/>
                  <p:cNvGrpSpPr/>
                  <p:nvPr/>
                </p:nvGrpSpPr>
                <p:grpSpPr>
                  <a:xfrm>
                    <a:off x="6232320" y="2456640"/>
                    <a:ext cx="1194480" cy="825480"/>
                    <a:chOff x="6232320" y="2456640"/>
                    <a:chExt cx="1194480" cy="825480"/>
                  </a:xfrm>
                </p:grpSpPr>
                <p:sp>
                  <p:nvSpPr>
                    <p:cNvPr id="199" name="矩形 52227"/>
                    <p:cNvSpPr/>
                    <p:nvPr/>
                  </p:nvSpPr>
                  <p:spPr>
                    <a:xfrm>
                      <a:off x="6483960" y="2456640"/>
                      <a:ext cx="942840" cy="82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9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9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pic>
                  <p:nvPicPr>
                    <p:cNvPr id="200" name="Picture 4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32320" y="2529360"/>
                      <a:ext cx="114012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</p:grpSp>
      <p:grpSp>
        <p:nvGrpSpPr>
          <p:cNvPr id="201" name="组合 14"/>
          <p:cNvGrpSpPr/>
          <p:nvPr/>
        </p:nvGrpSpPr>
        <p:grpSpPr>
          <a:xfrm>
            <a:off x="6413400" y="4308480"/>
            <a:ext cx="1400400" cy="1736640"/>
            <a:chOff x="6413400" y="4308480"/>
            <a:chExt cx="1400400" cy="1736640"/>
          </a:xfrm>
        </p:grpSpPr>
        <p:pic>
          <p:nvPicPr>
            <p:cNvPr id="202" name="Picture 41" descr=""/>
            <p:cNvPicPr/>
            <p:nvPr/>
          </p:nvPicPr>
          <p:blipFill>
            <a:blip r:embed="rId4"/>
            <a:stretch/>
          </p:blipFill>
          <p:spPr>
            <a:xfrm>
              <a:off x="6413400" y="4308480"/>
              <a:ext cx="1400400" cy="77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2" descr=""/>
            <p:cNvPicPr/>
            <p:nvPr/>
          </p:nvPicPr>
          <p:blipFill>
            <a:blip r:embed="rId5"/>
            <a:stretch/>
          </p:blipFill>
          <p:spPr>
            <a:xfrm>
              <a:off x="6727680" y="5144400"/>
              <a:ext cx="929160" cy="90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0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1"/>
          <p:cNvGrpSpPr/>
          <p:nvPr/>
        </p:nvGrpSpPr>
        <p:grpSpPr>
          <a:xfrm>
            <a:off x="1060560" y="1059480"/>
            <a:ext cx="4784760" cy="1308960"/>
            <a:chOff x="1060560" y="1059480"/>
            <a:chExt cx="4784760" cy="1308960"/>
          </a:xfrm>
        </p:grpSpPr>
        <p:pic>
          <p:nvPicPr>
            <p:cNvPr id="209" name="图片 22" descr="花盆.png"/>
            <p:cNvPicPr/>
            <p:nvPr/>
          </p:nvPicPr>
          <p:blipFill>
            <a:blip r:embed="rId3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13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图片 18" descr="QQ截图20170213230834.png"/>
            <p:cNvPicPr/>
            <p:nvPr/>
          </p:nvPicPr>
          <p:blipFill>
            <a:blip r:embed="rId4"/>
            <a:stretch/>
          </p:blipFill>
          <p:spPr>
            <a:xfrm>
              <a:off x="1060560" y="1741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20"/>
          <p:cNvSpPr/>
          <p:nvPr/>
        </p:nvSpPr>
        <p:spPr>
          <a:xfrm>
            <a:off x="1498680" y="2409840"/>
            <a:ext cx="66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试商的情况，很快说出各题准确的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组合 25"/>
          <p:cNvGrpSpPr/>
          <p:nvPr/>
        </p:nvGrpSpPr>
        <p:grpSpPr>
          <a:xfrm>
            <a:off x="1111320" y="3124080"/>
            <a:ext cx="1536840" cy="1870920"/>
            <a:chOff x="1111320" y="3124080"/>
            <a:chExt cx="1536840" cy="1870920"/>
          </a:xfrm>
        </p:grpSpPr>
        <p:sp>
          <p:nvSpPr>
            <p:cNvPr id="214" name="直接连接符 10"/>
            <p:cNvSpPr/>
            <p:nvPr/>
          </p:nvSpPr>
          <p:spPr>
            <a:xfrm>
              <a:off x="1654200" y="4454640"/>
              <a:ext cx="95580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5" name="组合 7"/>
            <p:cNvGrpSpPr/>
            <p:nvPr/>
          </p:nvGrpSpPr>
          <p:grpSpPr>
            <a:xfrm>
              <a:off x="1111320" y="3124080"/>
              <a:ext cx="1536840" cy="1870920"/>
              <a:chOff x="1111320" y="3124080"/>
              <a:chExt cx="1536840" cy="1870920"/>
            </a:xfrm>
          </p:grpSpPr>
          <p:grpSp>
            <p:nvGrpSpPr>
              <p:cNvPr id="216" name="组合 21523"/>
              <p:cNvGrpSpPr/>
              <p:nvPr/>
            </p:nvGrpSpPr>
            <p:grpSpPr>
              <a:xfrm>
                <a:off x="1111320" y="3124080"/>
                <a:ext cx="1536840" cy="1870920"/>
                <a:chOff x="1111320" y="3124080"/>
                <a:chExt cx="1536840" cy="1870920"/>
              </a:xfrm>
            </p:grpSpPr>
            <p:grpSp>
              <p:nvGrpSpPr>
                <p:cNvPr id="217" name="组合 21522"/>
                <p:cNvGrpSpPr/>
                <p:nvPr/>
              </p:nvGrpSpPr>
              <p:grpSpPr>
                <a:xfrm>
                  <a:off x="1111320" y="3124080"/>
                  <a:ext cx="1536840" cy="1364400"/>
                  <a:chOff x="1111320" y="3124080"/>
                  <a:chExt cx="1536840" cy="1364400"/>
                </a:xfrm>
              </p:grpSpPr>
              <p:sp>
                <p:nvSpPr>
                  <p:cNvPr id="218" name="矩形 1"/>
                  <p:cNvSpPr/>
                  <p:nvPr/>
                </p:nvSpPr>
                <p:spPr>
                  <a:xfrm>
                    <a:off x="1686600" y="3663000"/>
                    <a:ext cx="94284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  9  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  3  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19" name="组合 21521"/>
                  <p:cNvGrpSpPr/>
                  <p:nvPr/>
                </p:nvGrpSpPr>
                <p:grpSpPr>
                  <a:xfrm>
                    <a:off x="1111320" y="3124080"/>
                    <a:ext cx="1536840" cy="642600"/>
                    <a:chOff x="1111320" y="3124080"/>
                    <a:chExt cx="1536840" cy="642600"/>
                  </a:xfrm>
                </p:grpSpPr>
                <p:sp>
                  <p:nvSpPr>
                    <p:cNvPr id="220" name="矩形 7"/>
                    <p:cNvSpPr/>
                    <p:nvPr/>
                  </p:nvSpPr>
                  <p:spPr>
                    <a:xfrm>
                      <a:off x="2315160" y="3124080"/>
                      <a:ext cx="3330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1" name="矩形 8"/>
                    <p:cNvSpPr/>
                    <p:nvPr/>
                  </p:nvSpPr>
                  <p:spPr>
                    <a:xfrm>
                      <a:off x="1111320" y="3124080"/>
                      <a:ext cx="485640" cy="642600"/>
                    </a:xfrm>
                    <a:prstGeom prst="rect">
                      <a:avLst/>
                    </a:prstGeom>
                    <a:solidFill>
                      <a:srgbClr val="bce2e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22" name="矩形 11"/>
                <p:cNvSpPr/>
                <p:nvPr/>
              </p:nvSpPr>
              <p:spPr>
                <a:xfrm>
                  <a:off x="2008800" y="4352400"/>
                  <a:ext cx="637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  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3" name="组合 6"/>
              <p:cNvGrpSpPr/>
              <p:nvPr/>
            </p:nvGrpSpPr>
            <p:grpSpPr>
              <a:xfrm>
                <a:off x="1111320" y="3511440"/>
                <a:ext cx="1499400" cy="642600"/>
                <a:chOff x="1111320" y="3511440"/>
                <a:chExt cx="1499400" cy="642600"/>
              </a:xfrm>
            </p:grpSpPr>
            <p:sp>
              <p:nvSpPr>
                <p:cNvPr id="224" name="矩形 6"/>
                <p:cNvSpPr/>
                <p:nvPr/>
              </p:nvSpPr>
              <p:spPr>
                <a:xfrm>
                  <a:off x="1111320" y="3511440"/>
                  <a:ext cx="485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225" name="Picture 4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70240" y="3737160"/>
                  <a:ext cx="1140480" cy="34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26" name="组合 9"/>
          <p:cNvGrpSpPr/>
          <p:nvPr/>
        </p:nvGrpSpPr>
        <p:grpSpPr>
          <a:xfrm>
            <a:off x="3054240" y="3092400"/>
            <a:ext cx="1497240" cy="1861200"/>
            <a:chOff x="3054240" y="3092400"/>
            <a:chExt cx="1497240" cy="1861200"/>
          </a:xfrm>
        </p:grpSpPr>
        <p:sp>
          <p:nvSpPr>
            <p:cNvPr id="227" name="直接连接符 21515"/>
            <p:cNvSpPr/>
            <p:nvPr/>
          </p:nvSpPr>
          <p:spPr>
            <a:xfrm>
              <a:off x="3576600" y="4411800"/>
              <a:ext cx="92376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组合 8"/>
            <p:cNvGrpSpPr/>
            <p:nvPr/>
          </p:nvGrpSpPr>
          <p:grpSpPr>
            <a:xfrm>
              <a:off x="3054240" y="3092400"/>
              <a:ext cx="1497240" cy="1861200"/>
              <a:chOff x="3054240" y="3092400"/>
              <a:chExt cx="1497240" cy="1861200"/>
            </a:xfrm>
          </p:grpSpPr>
          <p:grpSp>
            <p:nvGrpSpPr>
              <p:cNvPr id="229" name="组合 21520"/>
              <p:cNvGrpSpPr/>
              <p:nvPr/>
            </p:nvGrpSpPr>
            <p:grpSpPr>
              <a:xfrm>
                <a:off x="3054240" y="3092400"/>
                <a:ext cx="1497240" cy="1861200"/>
                <a:chOff x="3054240" y="3092400"/>
                <a:chExt cx="1497240" cy="1861200"/>
              </a:xfrm>
            </p:grpSpPr>
            <p:sp>
              <p:nvSpPr>
                <p:cNvPr id="230" name="矩形 12"/>
                <p:cNvSpPr/>
                <p:nvPr/>
              </p:nvSpPr>
              <p:spPr>
                <a:xfrm>
                  <a:off x="3552120" y="3657240"/>
                  <a:ext cx="9428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  8  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  4  4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1" name="组合 21519"/>
                <p:cNvGrpSpPr/>
                <p:nvPr/>
              </p:nvGrpSpPr>
              <p:grpSpPr>
                <a:xfrm>
                  <a:off x="3054240" y="3092400"/>
                  <a:ext cx="1497240" cy="1861200"/>
                  <a:chOff x="3054240" y="3092400"/>
                  <a:chExt cx="1497240" cy="1861200"/>
                </a:xfrm>
              </p:grpSpPr>
              <p:grpSp>
                <p:nvGrpSpPr>
                  <p:cNvPr id="232" name="组合 21518"/>
                  <p:cNvGrpSpPr/>
                  <p:nvPr/>
                </p:nvGrpSpPr>
                <p:grpSpPr>
                  <a:xfrm>
                    <a:off x="3054240" y="3092400"/>
                    <a:ext cx="1497240" cy="1081080"/>
                    <a:chOff x="3054240" y="3092400"/>
                    <a:chExt cx="1497240" cy="1081080"/>
                  </a:xfrm>
                </p:grpSpPr>
                <p:grpSp>
                  <p:nvGrpSpPr>
                    <p:cNvPr id="233" name="组合 21517"/>
                    <p:cNvGrpSpPr/>
                    <p:nvPr/>
                  </p:nvGrpSpPr>
                  <p:grpSpPr>
                    <a:xfrm>
                      <a:off x="3054240" y="3092400"/>
                      <a:ext cx="492480" cy="1081080"/>
                      <a:chOff x="3054240" y="3092400"/>
                      <a:chExt cx="492480" cy="1081080"/>
                    </a:xfrm>
                  </p:grpSpPr>
                  <p:sp>
                    <p:nvSpPr>
                      <p:cNvPr id="234" name="矩形 29"/>
                      <p:cNvSpPr/>
                      <p:nvPr/>
                    </p:nvSpPr>
                    <p:spPr>
                      <a:xfrm>
                        <a:off x="3057480" y="3530880"/>
                        <a:ext cx="485640" cy="642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6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35" name="矩形 30"/>
                      <p:cNvSpPr/>
                      <p:nvPr/>
                    </p:nvSpPr>
                    <p:spPr>
                      <a:xfrm>
                        <a:off x="3054240" y="3092400"/>
                        <a:ext cx="492480" cy="642600"/>
                      </a:xfrm>
                      <a:prstGeom prst="rect">
                        <a:avLst/>
                      </a:prstGeom>
                      <a:solidFill>
                        <a:srgbClr val="bce2e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0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236" name="矩形 21503"/>
                    <p:cNvSpPr/>
                    <p:nvPr/>
                  </p:nvSpPr>
                  <p:spPr>
                    <a:xfrm>
                      <a:off x="4142160" y="3115080"/>
                      <a:ext cx="40932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37" name="矩形 21516"/>
                  <p:cNvSpPr/>
                  <p:nvPr/>
                </p:nvSpPr>
                <p:spPr>
                  <a:xfrm>
                    <a:off x="3865320" y="4311000"/>
                    <a:ext cx="637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  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pic>
            <p:nvPicPr>
              <p:cNvPr id="238" name="Picture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3378960" y="3727800"/>
                <a:ext cx="1139040" cy="341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9" name="组合 17"/>
          <p:cNvGrpSpPr/>
          <p:nvPr/>
        </p:nvGrpSpPr>
        <p:grpSpPr>
          <a:xfrm>
            <a:off x="4819680" y="3143160"/>
            <a:ext cx="1558080" cy="1389960"/>
            <a:chOff x="4819680" y="3143160"/>
            <a:chExt cx="1558080" cy="1389960"/>
          </a:xfrm>
        </p:grpSpPr>
        <p:sp>
          <p:nvSpPr>
            <p:cNvPr id="240" name="直接连接符 21538"/>
            <p:cNvSpPr/>
            <p:nvPr/>
          </p:nvSpPr>
          <p:spPr>
            <a:xfrm>
              <a:off x="5367240" y="4519800"/>
              <a:ext cx="95112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1" name="组合 15"/>
            <p:cNvGrpSpPr/>
            <p:nvPr/>
          </p:nvGrpSpPr>
          <p:grpSpPr>
            <a:xfrm>
              <a:off x="4819680" y="3143160"/>
              <a:ext cx="1558080" cy="1389960"/>
              <a:chOff x="4819680" y="3143160"/>
              <a:chExt cx="1558080" cy="1389960"/>
            </a:xfrm>
          </p:grpSpPr>
          <p:sp>
            <p:nvSpPr>
              <p:cNvPr id="242" name="矩形 21524"/>
              <p:cNvSpPr/>
              <p:nvPr/>
            </p:nvSpPr>
            <p:spPr>
              <a:xfrm>
                <a:off x="5431680" y="3707640"/>
                <a:ext cx="942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  4  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  5  6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3" name="组合 13"/>
              <p:cNvGrpSpPr/>
              <p:nvPr/>
            </p:nvGrpSpPr>
            <p:grpSpPr>
              <a:xfrm>
                <a:off x="4819680" y="3143160"/>
                <a:ext cx="1558080" cy="1025280"/>
                <a:chOff x="4819680" y="3143160"/>
                <a:chExt cx="1558080" cy="1025280"/>
              </a:xfrm>
            </p:grpSpPr>
            <p:sp>
              <p:nvSpPr>
                <p:cNvPr id="244" name="矩形 21542"/>
                <p:cNvSpPr/>
                <p:nvPr/>
              </p:nvSpPr>
              <p:spPr>
                <a:xfrm>
                  <a:off x="6044760" y="31431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45" name="组合 12"/>
                <p:cNvGrpSpPr/>
                <p:nvPr/>
              </p:nvGrpSpPr>
              <p:grpSpPr>
                <a:xfrm>
                  <a:off x="4819680" y="3157560"/>
                  <a:ext cx="1499760" cy="1010880"/>
                  <a:chOff x="4819680" y="3157560"/>
                  <a:chExt cx="1499760" cy="1010880"/>
                </a:xfrm>
              </p:grpSpPr>
              <p:sp>
                <p:nvSpPr>
                  <p:cNvPr id="246" name="矩形 21541"/>
                  <p:cNvSpPr/>
                  <p:nvPr/>
                </p:nvSpPr>
                <p:spPr>
                  <a:xfrm>
                    <a:off x="4819680" y="3157560"/>
                    <a:ext cx="485640" cy="642600"/>
                  </a:xfrm>
                  <a:prstGeom prst="rect">
                    <a:avLst/>
                  </a:prstGeom>
                  <a:solidFill>
                    <a:srgbClr val="bce2e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7" name="组合 11"/>
                  <p:cNvGrpSpPr/>
                  <p:nvPr/>
                </p:nvGrpSpPr>
                <p:grpSpPr>
                  <a:xfrm>
                    <a:off x="4819680" y="3525840"/>
                    <a:ext cx="1499760" cy="642600"/>
                    <a:chOff x="4819680" y="3525840"/>
                    <a:chExt cx="1499760" cy="642600"/>
                  </a:xfrm>
                </p:grpSpPr>
                <p:sp>
                  <p:nvSpPr>
                    <p:cNvPr id="248" name="矩形 21540"/>
                    <p:cNvSpPr/>
                    <p:nvPr/>
                  </p:nvSpPr>
                  <p:spPr>
                    <a:xfrm>
                      <a:off x="4819680" y="3525840"/>
                      <a:ext cx="48564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pic>
                  <p:nvPicPr>
                    <p:cNvPr id="249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79320" y="3735360"/>
                      <a:ext cx="114012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</p:grpSp>
      <p:grpSp>
        <p:nvGrpSpPr>
          <p:cNvPr id="250" name="组合 24"/>
          <p:cNvGrpSpPr/>
          <p:nvPr/>
        </p:nvGrpSpPr>
        <p:grpSpPr>
          <a:xfrm>
            <a:off x="6589800" y="3130560"/>
            <a:ext cx="1546560" cy="1400040"/>
            <a:chOff x="6589800" y="3130560"/>
            <a:chExt cx="1546560" cy="1400040"/>
          </a:xfrm>
        </p:grpSpPr>
        <p:sp>
          <p:nvSpPr>
            <p:cNvPr id="251" name="直接连接符 21553"/>
            <p:cNvSpPr/>
            <p:nvPr/>
          </p:nvSpPr>
          <p:spPr>
            <a:xfrm>
              <a:off x="7130880" y="4530600"/>
              <a:ext cx="94932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2" name="组合 23"/>
            <p:cNvGrpSpPr/>
            <p:nvPr/>
          </p:nvGrpSpPr>
          <p:grpSpPr>
            <a:xfrm>
              <a:off x="6589800" y="3130560"/>
              <a:ext cx="1546560" cy="1395000"/>
              <a:chOff x="6589800" y="3130560"/>
              <a:chExt cx="1546560" cy="1395000"/>
            </a:xfrm>
          </p:grpSpPr>
          <p:sp>
            <p:nvSpPr>
              <p:cNvPr id="253" name="矩形 21543"/>
              <p:cNvSpPr/>
              <p:nvPr/>
            </p:nvSpPr>
            <p:spPr>
              <a:xfrm>
                <a:off x="7193520" y="3700080"/>
                <a:ext cx="942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  6  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  7  8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4" name="组合 22"/>
              <p:cNvGrpSpPr/>
              <p:nvPr/>
            </p:nvGrpSpPr>
            <p:grpSpPr>
              <a:xfrm>
                <a:off x="6589800" y="3130560"/>
                <a:ext cx="1491480" cy="1094760"/>
                <a:chOff x="6589800" y="3130560"/>
                <a:chExt cx="1491480" cy="1094760"/>
              </a:xfrm>
            </p:grpSpPr>
            <p:grpSp>
              <p:nvGrpSpPr>
                <p:cNvPr id="255" name="组合 21"/>
                <p:cNvGrpSpPr/>
                <p:nvPr/>
              </p:nvGrpSpPr>
              <p:grpSpPr>
                <a:xfrm>
                  <a:off x="6589800" y="3130560"/>
                  <a:ext cx="1231200" cy="1094760"/>
                  <a:chOff x="6589800" y="3130560"/>
                  <a:chExt cx="1231200" cy="1094760"/>
                </a:xfrm>
              </p:grpSpPr>
              <p:grpSp>
                <p:nvGrpSpPr>
                  <p:cNvPr id="256" name="组合 20"/>
                  <p:cNvGrpSpPr/>
                  <p:nvPr/>
                </p:nvGrpSpPr>
                <p:grpSpPr>
                  <a:xfrm>
                    <a:off x="6589800" y="3190680"/>
                    <a:ext cx="485640" cy="1034640"/>
                    <a:chOff x="6589800" y="3190680"/>
                    <a:chExt cx="485640" cy="1034640"/>
                  </a:xfrm>
                </p:grpSpPr>
                <p:sp>
                  <p:nvSpPr>
                    <p:cNvPr id="257" name="矩形 21549"/>
                    <p:cNvSpPr/>
                    <p:nvPr/>
                  </p:nvSpPr>
                  <p:spPr>
                    <a:xfrm>
                      <a:off x="6589800" y="3582720"/>
                      <a:ext cx="48564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8" name="矩形 21550"/>
                    <p:cNvSpPr/>
                    <p:nvPr/>
                  </p:nvSpPr>
                  <p:spPr>
                    <a:xfrm>
                      <a:off x="6589800" y="3190680"/>
                      <a:ext cx="485640" cy="642600"/>
                    </a:xfrm>
                    <a:prstGeom prst="rect">
                      <a:avLst/>
                    </a:prstGeom>
                    <a:solidFill>
                      <a:srgbClr val="bce2e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59" name="矩形 21551"/>
                  <p:cNvSpPr/>
                  <p:nvPr/>
                </p:nvSpPr>
                <p:spPr>
                  <a:xfrm>
                    <a:off x="7488000" y="3130560"/>
                    <a:ext cx="3330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260" name="Picture 5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941160" y="3769920"/>
                  <a:ext cx="114012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6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1"/>
          <p:cNvGrpSpPr/>
          <p:nvPr/>
        </p:nvGrpSpPr>
        <p:grpSpPr>
          <a:xfrm>
            <a:off x="1060560" y="1059480"/>
            <a:ext cx="4784760" cy="733680"/>
            <a:chOff x="1060560" y="1059480"/>
            <a:chExt cx="4784760" cy="733680"/>
          </a:xfrm>
        </p:grpSpPr>
        <p:pic>
          <p:nvPicPr>
            <p:cNvPr id="266" name="图片 22" descr="花盆.png"/>
            <p:cNvPicPr/>
            <p:nvPr/>
          </p:nvPicPr>
          <p:blipFill>
            <a:blip r:embed="rId3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13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TextBox 20"/>
          <p:cNvSpPr/>
          <p:nvPr/>
        </p:nvSpPr>
        <p:spPr>
          <a:xfrm>
            <a:off x="1498680" y="2676600"/>
            <a:ext cx="72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什么情况下试商可能大？什么情况下试商可能小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4"/>
          <a:stretch/>
        </p:blipFill>
        <p:spPr>
          <a:xfrm>
            <a:off x="1222200" y="1822320"/>
            <a:ext cx="148608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27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TextBox 36"/>
          <p:cNvSpPr/>
          <p:nvPr/>
        </p:nvSpPr>
        <p:spPr>
          <a:xfrm>
            <a:off x="961920" y="1959120"/>
            <a:ext cx="72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堆沙子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，用载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的大货车来运，需运多少次才能运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这样想：求需要多少次运完，也就是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应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式计算。列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算出的商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余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1762200" y="36669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里面有多少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2"/>
          <p:cNvSpPr/>
          <p:nvPr/>
        </p:nvSpPr>
        <p:spPr>
          <a:xfrm>
            <a:off x="6534000" y="3666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3"/>
          <p:cNvSpPr/>
          <p:nvPr/>
        </p:nvSpPr>
        <p:spPr>
          <a:xfrm>
            <a:off x="3588120" y="424656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÷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4"/>
          <p:cNvSpPr/>
          <p:nvPr/>
        </p:nvSpPr>
        <p:spPr>
          <a:xfrm>
            <a:off x="7066800" y="425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6"/>
          <p:cNvSpPr/>
          <p:nvPr/>
        </p:nvSpPr>
        <p:spPr>
          <a:xfrm>
            <a:off x="2887560" y="4684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1:26:37Z</dcterms:modified>
  <cp:revision>47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