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4B7-7A84-4B27-800A-199D4E680B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32C-73DC-4EF6-A963-F2868F636E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  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计算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44936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计算器计算，并填写购物清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计算器探索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2100240" y="2924280"/>
            <a:ext cx="49435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6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这是一张购买体育用品的清单，请你填出相应的金额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计算器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6140520" y="357336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6045120" y="419112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6086520" y="4797360"/>
            <a:ext cx="9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084720" y="544500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118728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算出前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题的得数，再根据规律直接写出其他算式的得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7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76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6"/>
          <p:cNvSpPr/>
          <p:nvPr/>
        </p:nvSpPr>
        <p:spPr>
          <a:xfrm>
            <a:off x="2627280" y="2781360"/>
            <a:ext cx="7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2840040" y="335772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3127320" y="3887640"/>
            <a:ext cx="7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274920" y="443700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765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7654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76543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2916360" y="1700280"/>
            <a:ext cx="21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3132000" y="22305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3325680" y="2781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8888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4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矩形 7"/>
          <p:cNvSpPr/>
          <p:nvPr/>
        </p:nvSpPr>
        <p:spPr>
          <a:xfrm>
            <a:off x="684360" y="313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计算器上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×8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就可以了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819000" y="1728720"/>
            <a:ext cx="7493040" cy="642600"/>
            <a:chOff x="819000" y="1728720"/>
            <a:chExt cx="7493040" cy="642600"/>
          </a:xfrm>
        </p:grpSpPr>
        <p:sp>
          <p:nvSpPr>
            <p:cNvPr id="109" name="TextBox 36"/>
            <p:cNvSpPr/>
            <p:nvPr/>
          </p:nvSpPr>
          <p:spPr>
            <a:xfrm>
              <a:off x="819000" y="1728720"/>
              <a:ext cx="749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贝贝的计算器数字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失灵了，他想用计算器计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8×1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你能帮他想出计算的办法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9" descr=""/>
            <p:cNvPicPr/>
            <p:nvPr/>
          </p:nvPicPr>
          <p:blipFill>
            <a:blip r:embed="rId2"/>
            <a:stretch/>
          </p:blipFill>
          <p:spPr>
            <a:xfrm>
              <a:off x="4211640" y="1824840"/>
              <a:ext cx="45720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15:34Z</dcterms:modified>
  <cp:revision>3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