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66C-19B0-400F-9361-3FB34C08EC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A4A-6559-402F-B5DC-B9E319A9FC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  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十进制计数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6"/>
          <p:cNvSpPr/>
          <p:nvPr/>
        </p:nvSpPr>
        <p:spPr>
          <a:xfrm>
            <a:off x="512640" y="1728720"/>
            <a:ext cx="71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十一位数，最高位上的数字是最大的一位数，它是万级最高位上数字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，最低位上的数字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余各数位上都是最小的自然数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含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，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亿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万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19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8"/>
          <p:cNvSpPr/>
          <p:nvPr/>
        </p:nvSpPr>
        <p:spPr>
          <a:xfrm>
            <a:off x="2039760" y="3402000"/>
            <a:ext cx="18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300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5129280" y="3417840"/>
            <a:ext cx="14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1187280" y="3963960"/>
            <a:ext cx="14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3014640" y="3948120"/>
            <a:ext cx="14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4815000" y="3948120"/>
            <a:ext cx="14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32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736640" y="2421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亿以上数的数位和计数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亿以上数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个位起，第八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是亿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亿”相邻的计数单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十位数，它的最高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最高位是千亿位的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9600700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4110120" y="2303640"/>
            <a:ext cx="9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5940360" y="230652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173560" y="283860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6588000" y="284940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5022720" y="339876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2889360" y="3933720"/>
            <a:ext cx="9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3935520" y="4494240"/>
            <a:ext cx="9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5826240" y="4464000"/>
            <a:ext cx="9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1476360" y="508176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3363840" y="505476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级的计数单位是“一”，万级的计数单位是“万”，亿级的计数单位是“亿”。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级的数位包括亿、十亿、百亿、千亿。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最大的自然数。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7237440" y="290988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7207200" y="342900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7205760" y="4002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每个数中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表示多少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一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324480" cy="2600280"/>
          </a:xfrm>
          <a:prstGeom prst="rect">
            <a:avLst/>
          </a:prstGeom>
          <a:ln w="0">
            <a:noFill/>
          </a:ln>
        </p:spPr>
      </p:pic>
      <p:sp>
        <p:nvSpPr>
          <p:cNvPr id="105" name="直接连接符 2"/>
          <p:cNvSpPr/>
          <p:nvPr/>
        </p:nvSpPr>
        <p:spPr>
          <a:xfrm>
            <a:off x="3492360" y="3068640"/>
            <a:ext cx="1800360" cy="86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4"/>
          <p:cNvSpPr/>
          <p:nvPr/>
        </p:nvSpPr>
        <p:spPr>
          <a:xfrm flipV="1">
            <a:off x="3492360" y="3068640"/>
            <a:ext cx="1800360" cy="868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7"/>
          <p:cNvSpPr/>
          <p:nvPr/>
        </p:nvSpPr>
        <p:spPr>
          <a:xfrm flipH="1">
            <a:off x="3474720" y="4800600"/>
            <a:ext cx="1817640" cy="1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正确答案的序号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多位数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等于一亿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6907320" y="23144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含有三级，这个数最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数，最大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十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5811840" y="173196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1805040" y="22892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亿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千万表示的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00000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5178600" y="17287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588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两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的数相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811840" y="17701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32:38Z</dcterms:modified>
  <cp:revision>3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