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jpeg" ContentType="image/jpeg"/>
  <Override PartName="/ppt/media/image13.png" ContentType="image/png"/>
  <Override PartName="/ppt/media/chimes.wav" ContentType="audio/x-wav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7971-C644-407B-879D-A6BDFA8BC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97CD-C0BC-4A47-8472-364A6AD5B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97195F-D7D0-4258-A0AD-7454E6106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01908E-CDE7-4FDD-A403-2EFC195DD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BAD1E5-7224-4D13-BCC7-7616E65B7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D97814-72D7-49AB-AD4A-7295A96B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F71388-2ECA-4C1A-B84D-1AC3CE6C8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F3A63B-FEC7-4C0B-B8A3-3AA3473AA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8B4069-7793-43ED-8B5E-FF10F7F26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3E9FAE-FBCC-4BE6-A530-4A1243C58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B13D16-B650-4A32-9534-8EA4D2CC4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0C99-5217-4DDE-8FF2-8439F682A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87A8-6B57-40F6-BB90-769CB4563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5841A-EF9A-41BE-BB6E-6EC453B79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EC07E-F8D3-4247-B4C1-02D41CDB2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06C69-14D6-4B09-AA9F-7F63E3DF5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62B70-FF37-4502-AF8F-016D9E9D9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4F7F5-137A-4A82-8728-2AD469D0F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11A97-D058-48AF-8FF7-059ED1D0E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8872B-58E0-4789-8432-E429E587D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B2E0-53E2-4A8E-A0F0-37CE411EE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B6158-D32B-4075-ADE8-372CEF86F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E11F4-595D-415B-81AF-98EBA6E5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02128-8D7B-4DA7-8D37-5C73C2AA4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616E1-4DFA-4983-9A86-81FB43B2E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D5A8C-0F48-4799-9CF3-2410982D3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47149-492B-4628-A758-54E8A5019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4C1DC-7C2E-4C08-9011-53678FCC4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2D539-208A-4CE7-B9F6-23DC6265A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F7B05-560A-417B-8764-AC7546E4F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8C1A2-4C57-4381-844B-DC66CA183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DA60-B723-4162-ACA3-1D12328C9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62D7C-DE26-480C-AE11-B04AEB7A3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43744-9E9E-46D6-B546-5302308D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C9910-C52F-4129-B087-5167A0EA5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86636-57BB-4BC5-BD71-E1E1D25E3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CA790-9714-46E4-B853-9BFD2CF29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17E9A-4C86-4858-ABE5-9C18069A4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9BF97-B2DD-40D2-9501-FF6576D17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06200-A912-45A5-8F48-DAD2F3BC1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E0AC0-C134-4D42-9126-5F59AC482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E7875-D26B-4582-B56E-D4E77482E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578F-9D66-4128-AA5C-DB29F4A16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7411F-6110-46CE-BF95-57EF8453C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D5390-45B5-42DF-9C24-BF1D8D2E3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CBB66-B9CF-413F-A300-60425436F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F2BF7-EE38-48BA-B358-F904B397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92007-7862-4D36-AC16-2562AD0F3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CC25E-F54E-4DBD-A7F3-6AA91338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F6726-8861-4A1A-8EFC-14AA9BEC0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D3313-2A3E-4EA4-90A6-CCD99AFD2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A8FEB-3944-49D6-9266-3551C6D2B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506FD3-438D-4498-914F-43000005C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DA3B-45D7-4802-ABA7-3EC871926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C9D84-E602-4C90-A2F1-AFAF196AF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E24375-2DD3-472D-A115-D5A539B7A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E146B-234F-4542-9227-FF0E6C06E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CDB36A-10F5-433E-9C50-F889D00FB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1914E9-439A-4362-A9F7-8CE59E14B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0E191-2661-4E0A-9D0D-13158C0A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B93585-1D16-45D9-A881-8B33AF5F1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E7D6B7-0056-45CF-B3EB-ADB33BA1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BBC188-C252-42E1-A233-22E4DE77E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CF34F9-BE80-4DFC-99AD-AB0B675A8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09BF-376E-43AC-AD86-DF43E482E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C9CAF-11DC-42E1-ADFB-A3FB113FF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5BF9B2-0AF8-4388-8844-7F3709812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79D760-672D-473B-858F-8B8B6B464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387FD7-3411-4E07-B1E0-8E8FA12C4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97ED2D-2C48-49E4-ABA9-97FAF643C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41675C-F6F7-4744-9F85-63FAA2B54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33E7DE-9CE4-403F-BF16-597F33B6A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3810AE-7F76-42F4-8B37-2157EAB0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B86E22-FC49-49AA-BB14-2797D4D6F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439DAD-3BDB-4E13-B624-765909BF1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DFAB-D6C2-4C5D-865F-12E707EF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4FFC1-36F4-475A-9480-AE35C4386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9D35C5-DB22-429D-A54D-E5143BE11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2A8040-74ED-4E9A-91B7-E31147C76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2A8C22-7B88-4E70-A55C-5CD55745B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B46AB9-739A-497F-A94D-834CD2F35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EB0600-BC47-4D0D-8000-FAE1AA7D8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1A7637-2D2B-4FF9-9A18-4234D17E4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92B840-A2B8-4C5C-B96D-3ACBD66C9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F3605D-B839-4EC5-B06C-62E52DFA5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92B14C-A775-4A54-973F-5EF2D50B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4DD3-D8F4-49EF-A5AB-6709E5B58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FA4E02-E22E-4910-BBDE-8A48A0F5D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711DD2-C205-45A4-8A50-5C290D71F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DF13E6-9A15-478D-B2D6-7884C38D5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2D454C-4083-4EE8-9B28-E59E77662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77D592-B62F-45EE-A24A-50D7058AE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F2711D-7E5D-4D65-BEFC-394AB8BF8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7DB61E-22BA-4A6D-B5A1-ED82B9E71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D5C82D-969C-49F3-8651-8CAB7BAF7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BD8002-8C82-4AA2-BA4E-D5FB84954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6DFD19-4114-4911-B5A8-13C1B9F11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E404-37B0-4AB9-8E2B-0528CCC61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0BB243-A4DE-47E0-8211-C6FAAA55C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C1F618-231E-4244-AF33-38DC569B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DD40E4-28DB-4D28-8676-514DA5AF8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8908B9-E61D-4798-814B-1CD9A40C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E3F134-B941-4F1A-84FE-03AC9E595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E7752F-0F29-406F-A160-C77191CEC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4C523D-3502-4A36-8D96-F10A23247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204AC3-7701-4BF0-B7C9-47CD80D15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E48BB0-7ACB-4372-A4EA-5898128C6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C8F572-F924-4C27-ACAC-6A186085E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9A10A-7F35-4DF0-9AE0-277804E79A4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直接连接符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AFAE5-669C-445A-A0F1-8D9B067E4B95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54DDF-99F1-4F91-B9CF-50C9D3E1A77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直接连接符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B08E6-7B46-4762-887C-09D53F92A26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直接连接符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4D6C6-EF8D-405B-910D-B64DF1694739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A435D-DDA3-419C-AAFD-053C0AE80BF3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直接连接符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611C2-1CC3-43C7-A8CB-9106C1E74DC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141BC-1CB4-43CB-A78D-A4AA50BDB2A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F61DD-8962-4D30-831F-F03964A6B8E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WordArt 2"/>
          <p:cNvSpPr txBox="1"/>
          <p:nvPr/>
        </p:nvSpPr>
        <p:spPr>
          <a:xfrm>
            <a:off x="992160" y="1600200"/>
            <a:ext cx="71629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38160">
                  <a:solidFill>
                    <a:srgbClr val="ff6600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一个这样的老师</a:t>
            </a:r>
            <a:endParaRPr b="0" lang="en-US" sz="4800" spc="1" strike="noStrike">
              <a:ln w="38160">
                <a:solidFill>
                  <a:srgbClr val="ff6600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400" name="Picture 4" descr="6510378_140123562142_2"/>
          <p:cNvPicPr/>
          <p:nvPr/>
        </p:nvPicPr>
        <p:blipFill>
          <a:blip r:embed="rId1"/>
          <a:stretch/>
        </p:blipFill>
        <p:spPr>
          <a:xfrm>
            <a:off x="838080" y="3809880"/>
            <a:ext cx="2438640" cy="2373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标题 1" descr=""/>
          <p:cNvPicPr/>
          <p:nvPr/>
        </p:nvPicPr>
        <p:blipFill>
          <a:blip r:embed="rId1"/>
          <a:stretch/>
        </p:blipFill>
        <p:spPr>
          <a:xfrm>
            <a:off x="133200" y="262080"/>
            <a:ext cx="8864640" cy="106020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学会了新怀疑主义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把新怀疑主义带进了所有的课堂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把新怀疑主义带进了我们的生活，感受怀特森老师是一个对我们影响深远的老师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4e3b30"/>
                </a:solidFill>
                <a:latin typeface="Franklin Gothic Book"/>
              </a:rPr>
              <a:t>我正视着他的眼睛，告诉他，老师是一个</a:t>
            </a:r>
            <a:r>
              <a:rPr b="0" lang="en-US" sz="4800" spc="-1" strike="noStrike">
                <a:solidFill>
                  <a:srgbClr val="4e3b30"/>
                </a:solidFill>
                <a:latin typeface="Franklin Gothic Book"/>
              </a:rPr>
              <a:t>_____________</a:t>
            </a:r>
            <a:r>
              <a:rPr b="0" lang="zh-CN" sz="4800" spc="-1" strike="noStrike">
                <a:solidFill>
                  <a:srgbClr val="4e3b30"/>
                </a:solidFill>
                <a:latin typeface="Franklin Gothic Book"/>
              </a:rPr>
              <a:t>的人。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2" descr="105_uPRau6FR220k"/>
          <p:cNvPicPr/>
          <p:nvPr/>
        </p:nvPicPr>
        <p:blipFill>
          <a:blip r:embed="rId1">
            <a:lum bright="42000"/>
          </a:blip>
          <a:srcRect l="3334" t="0" r="0" b="1888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6" name="Text Box 3"/>
          <p:cNvSpPr/>
          <p:nvPr/>
        </p:nvSpPr>
        <p:spPr>
          <a:xfrm>
            <a:off x="990720" y="380880"/>
            <a:ext cx="70866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cc0066"/>
                </a:solidFill>
                <a:latin typeface="Arial"/>
              </a:rPr>
              <a:t>我们应该时刻保持警惕，用事实、用科学的方法，纠正错误，并且应当有坚持真理的毅力。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9" name="Picture 4" descr="722051f40cf4a57b100b2e955584e3d7-o"/>
          <p:cNvPicPr/>
          <p:nvPr/>
        </p:nvPicPr>
        <p:blipFill>
          <a:blip r:embed="rId1">
            <a:lum bright="24000"/>
          </a:blip>
          <a:srcRect l="0" t="12002" r="2003" b="1200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0" name="Text Box 5"/>
          <p:cNvSpPr/>
          <p:nvPr/>
        </p:nvSpPr>
        <p:spPr>
          <a:xfrm>
            <a:off x="992160" y="152280"/>
            <a:ext cx="24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a5644e"/>
                </a:solidFill>
                <a:latin typeface="Arial"/>
                <a:ea typeface="黑体"/>
              </a:rPr>
              <a:t>拓展延伸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6"/>
          <p:cNvSpPr/>
          <p:nvPr/>
        </p:nvSpPr>
        <p:spPr>
          <a:xfrm>
            <a:off x="609480" y="1371600"/>
            <a:ext cx="50450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cc0066"/>
                </a:solidFill>
                <a:latin typeface="黑体"/>
                <a:ea typeface="黑体"/>
              </a:rPr>
              <a:t>这篇文章的作者是美国著名作家大卫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  <a:ea typeface="黑体"/>
              </a:rPr>
              <a:t>·</a:t>
            </a:r>
            <a:r>
              <a:rPr b="1" lang="zh-CN" sz="2800" spc="-1" strike="noStrike">
                <a:solidFill>
                  <a:srgbClr val="cc0066"/>
                </a:solidFill>
                <a:latin typeface="黑体"/>
                <a:ea typeface="黑体"/>
              </a:rPr>
              <a:t>欧文，他写的《第一家爸爸银行》风靡全球。这本书是家庭教育类书籍，主要讲述了欧文在家里开银行的故事。这家私人银行的客户只有两人，那就是欧文的儿子和女儿。欧文在书中介绍了自己如何教育自己的两个孩子理财，成为积极的储户，理性的消费者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7" descr="1633727"/>
          <p:cNvPicPr/>
          <p:nvPr/>
        </p:nvPicPr>
        <p:blipFill>
          <a:blip r:embed="rId2"/>
          <a:stretch/>
        </p:blipFill>
        <p:spPr>
          <a:xfrm>
            <a:off x="5715000" y="1371600"/>
            <a:ext cx="31845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标题 1" descr=""/>
          <p:cNvPicPr/>
          <p:nvPr/>
        </p:nvPicPr>
        <p:blipFill>
          <a:blip r:embed="rId1"/>
          <a:stretch/>
        </p:blipFill>
        <p:spPr>
          <a:xfrm>
            <a:off x="298440" y="444600"/>
            <a:ext cx="8699400" cy="121896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e3b30"/>
                </a:solidFill>
                <a:latin typeface="Franklin Gothic Book"/>
              </a:rPr>
              <a:t>怀特森像一座灯塔</a:t>
            </a: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,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e3b30"/>
                </a:solidFill>
                <a:latin typeface="Franklin Gothic Book"/>
              </a:rPr>
              <a:t>用他的思想化成了一缕光辉</a:t>
            </a: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,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e3b30"/>
                </a:solidFill>
                <a:latin typeface="Franklin Gothic Book"/>
              </a:rPr>
              <a:t>洒满我人生的航道</a:t>
            </a: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,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e3b30"/>
                </a:solidFill>
                <a:latin typeface="Franklin Gothic Book"/>
              </a:rPr>
              <a:t>铸成了指引我前行的航标</a:t>
            </a: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!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e3b30"/>
                </a:solidFill>
                <a:latin typeface="Franklin Gothic Book"/>
              </a:rPr>
              <a:t>凯蒂旺普斯和小轿车事件</a:t>
            </a: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,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e3b30"/>
                </a:solidFill>
                <a:latin typeface="Franklin Gothic Book"/>
              </a:rPr>
              <a:t>似泉水洗涤了我的灵魂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4647960" y="1599840"/>
            <a:ext cx="4343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e3b30"/>
                </a:solidFill>
                <a:latin typeface="Franklin Gothic Book"/>
              </a:rPr>
              <a:t>震荡了我的心灵</a:t>
            </a: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,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e3b30"/>
                </a:solidFill>
                <a:latin typeface="Franklin Gothic Book"/>
              </a:rPr>
              <a:t>也净化了我的情愫</a:t>
            </a: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!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e3b30"/>
                </a:solidFill>
                <a:latin typeface="Franklin Gothic Book"/>
              </a:rPr>
              <a:t>引领质疑与学会探索</a:t>
            </a: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,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e3b30"/>
                </a:solidFill>
                <a:latin typeface="Franklin Gothic Book"/>
              </a:rPr>
              <a:t>这科学的精神如一股春风</a:t>
            </a: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,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e3b30"/>
                </a:solidFill>
                <a:latin typeface="Franklin Gothic Book"/>
              </a:rPr>
              <a:t>敲开了我的心扉</a:t>
            </a: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,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e3b30"/>
                </a:solidFill>
                <a:latin typeface="Franklin Gothic Book"/>
              </a:rPr>
              <a:t>也染绿了我的思想</a:t>
            </a: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!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标题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85428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Franklin Gothic Book"/>
              </a:rPr>
              <a:t>探索真理比占有真理更为可贵。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Franklin Gothic Book"/>
              </a:rPr>
              <a:t>                         </a:t>
            </a:r>
            <a:r>
              <a:rPr b="1" lang="en-US" sz="3200" spc="-1" strike="noStrike">
                <a:solidFill>
                  <a:srgbClr val="ff0000"/>
                </a:solidFill>
                <a:latin typeface="Franklin Gothic Book"/>
              </a:rPr>
              <a:t>---</a:t>
            </a:r>
            <a:r>
              <a:rPr b="1" lang="zh-CN" sz="3200" spc="-1" strike="noStrike">
                <a:solidFill>
                  <a:srgbClr val="ff0000"/>
                </a:solidFill>
                <a:latin typeface="Franklin Gothic Book"/>
              </a:rPr>
              <a:t>爱因斯坦（美国）</a:t>
            </a:r>
            <a:r>
              <a:rPr b="0" lang="zh-CN" sz="3200" spc="-1" strike="noStrike">
                <a:solidFill>
                  <a:srgbClr val="ff0000"/>
                </a:solidFill>
                <a:latin typeface="Franklin Gothic Book"/>
              </a:rPr>
              <a:t> 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Franklin Gothic Book"/>
              </a:rPr>
              <a:t>在科学上最好的助手是自己的头脑，而不是别的东西。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Franklin Gothic Book"/>
              </a:rPr>
              <a:t>                              </a:t>
            </a:r>
            <a:r>
              <a:rPr b="1" lang="en-US" sz="3200" spc="-1" strike="noStrike">
                <a:solidFill>
                  <a:srgbClr val="ff0000"/>
                </a:solidFill>
                <a:latin typeface="Franklin Gothic Book"/>
              </a:rPr>
              <a:t>---</a:t>
            </a:r>
            <a:r>
              <a:rPr b="1" lang="zh-CN" sz="3200" spc="-1" strike="noStrike">
                <a:solidFill>
                  <a:srgbClr val="ff0000"/>
                </a:solidFill>
                <a:latin typeface="Franklin Gothic Book"/>
              </a:rPr>
              <a:t>法布尔（法国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Picture 2" descr="722051f40cf4a57b100b2e955584e3d7-o"/>
          <p:cNvPicPr/>
          <p:nvPr/>
        </p:nvPicPr>
        <p:blipFill>
          <a:blip r:embed="rId1">
            <a:lum bright="24000"/>
          </a:blip>
          <a:srcRect l="0" t="12002" r="2003" b="1200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3"/>
          <p:cNvSpPr/>
          <p:nvPr/>
        </p:nvSpPr>
        <p:spPr>
          <a:xfrm>
            <a:off x="533520" y="4572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4"/>
          <p:cNvSpPr/>
          <p:nvPr/>
        </p:nvSpPr>
        <p:spPr>
          <a:xfrm>
            <a:off x="762120" y="198108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3300"/>
                </a:solidFill>
                <a:latin typeface="Arial"/>
                <a:ea typeface="华文新魏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6"/>
          <p:cNvSpPr/>
          <p:nvPr/>
        </p:nvSpPr>
        <p:spPr>
          <a:xfrm>
            <a:off x="533520" y="327672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50021"/>
                </a:solidFill>
                <a:latin typeface="Arial"/>
              </a:rPr>
              <a:t>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Picture 13" descr="图21"/>
          <p:cNvPicPr/>
          <p:nvPr/>
        </p:nvPicPr>
        <p:blipFill>
          <a:blip r:embed="rId2"/>
          <a:stretch/>
        </p:blipFill>
        <p:spPr>
          <a:xfrm>
            <a:off x="609480" y="571680"/>
            <a:ext cx="2210040" cy="1571400"/>
          </a:xfrm>
          <a:prstGeom prst="rect">
            <a:avLst/>
          </a:prstGeom>
          <a:ln w="0">
            <a:noFill/>
          </a:ln>
        </p:spPr>
      </p:pic>
      <p:sp>
        <p:nvSpPr>
          <p:cNvPr id="443" name="矩形 7"/>
          <p:cNvSpPr/>
          <p:nvPr/>
        </p:nvSpPr>
        <p:spPr>
          <a:xfrm>
            <a:off x="428760" y="3105000"/>
            <a:ext cx="7786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99"/>
                </a:solidFill>
                <a:latin typeface="黑体"/>
                <a:ea typeface="黑体"/>
              </a:rPr>
              <a:t>学会学习的人，是非常幸福的人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99"/>
                </a:solidFill>
                <a:latin typeface="黑体"/>
                <a:ea typeface="黑体"/>
              </a:rPr>
              <a:t>            </a:t>
            </a:r>
            <a:r>
              <a:rPr b="1" lang="en-US" sz="4800" spc="-1" strike="noStrike">
                <a:solidFill>
                  <a:srgbClr val="ff3399"/>
                </a:solidFill>
                <a:latin typeface="Arial"/>
                <a:ea typeface="黑体"/>
              </a:rPr>
              <a:t>——</a:t>
            </a:r>
            <a:r>
              <a:rPr b="1" lang="en-US" sz="4800" spc="-1" strike="noStrike">
                <a:solidFill>
                  <a:srgbClr val="ff3399"/>
                </a:solidFill>
                <a:latin typeface="黑体"/>
                <a:ea typeface="黑体"/>
              </a:rPr>
              <a:t> </a:t>
            </a:r>
            <a:r>
              <a:rPr b="1" lang="zh-CN" sz="4800" spc="-1" strike="noStrike">
                <a:solidFill>
                  <a:srgbClr val="ff3399"/>
                </a:solidFill>
                <a:latin typeface="黑体"/>
                <a:ea typeface="黑体"/>
              </a:rPr>
              <a:t>米南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5" name="Text Box 3"/>
          <p:cNvSpPr/>
          <p:nvPr/>
        </p:nvSpPr>
        <p:spPr>
          <a:xfrm>
            <a:off x="1143000" y="106668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4"/>
          <p:cNvSpPr/>
          <p:nvPr/>
        </p:nvSpPr>
        <p:spPr>
          <a:xfrm>
            <a:off x="1066680" y="3048120"/>
            <a:ext cx="7010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5"/>
          <p:cNvSpPr/>
          <p:nvPr/>
        </p:nvSpPr>
        <p:spPr>
          <a:xfrm>
            <a:off x="609480" y="1447920"/>
            <a:ext cx="748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作业（二选一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假如你是怀特森先生的学生，设想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20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年后你们师生欢聚一堂会是怎样的一番情景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你还知道哪些不迷信书本、不迷信权威的人物或故事吗？请搜集一两个这样的故事。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(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运用互联网搜集）</a:t>
            </a:r>
            <a:r>
              <a:rPr b="1" lang="en-US" sz="40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Picture 2" descr="dm7ler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49" name="WordArt 3"/>
          <p:cNvSpPr txBox="1"/>
          <p:nvPr/>
        </p:nvSpPr>
        <p:spPr>
          <a:xfrm rot="5400000">
            <a:off x="190440" y="2019240"/>
            <a:ext cx="3809880" cy="22096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谢谢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9"/>
                            </p:stCondLst>
                            <p:childTnLst>
                              <p:par>
                                <p:cTn id="67" nodeType="afterEffect" fill="hold" presetClass="emph" presetID="23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9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0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7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标题 1" descr=""/>
          <p:cNvPicPr/>
          <p:nvPr/>
        </p:nvPicPr>
        <p:blipFill>
          <a:blip r:embed="rId1"/>
          <a:stretch/>
        </p:blipFill>
        <p:spPr>
          <a:xfrm>
            <a:off x="12600" y="291960"/>
            <a:ext cx="8985240" cy="163368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9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e3b30"/>
                </a:solidFill>
                <a:latin typeface="Franklin Gothic Book"/>
              </a:rPr>
              <a:t>1</a:t>
            </a:r>
            <a:r>
              <a:rPr b="1" lang="zh-CN" sz="4800" spc="-1" strike="noStrike">
                <a:solidFill>
                  <a:srgbClr val="4e3b30"/>
                </a:solidFill>
                <a:latin typeface="Franklin Gothic Book"/>
              </a:rPr>
              <a:t>、</a:t>
            </a:r>
            <a:r>
              <a:rPr b="1" lang="zh-CN" sz="4800" spc="-1" strike="noStrike">
                <a:solidFill>
                  <a:srgbClr val="2a2003"/>
                </a:solidFill>
                <a:latin typeface="隶书"/>
                <a:ea typeface="隶书"/>
              </a:rPr>
              <a:t>用你喜欢的方式自由读课文，读准字音，看看你读懂了什么？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a2003"/>
                </a:solidFill>
                <a:latin typeface="隶书"/>
                <a:ea typeface="隶书"/>
              </a:rPr>
              <a:t>2</a:t>
            </a:r>
            <a:r>
              <a:rPr b="1" lang="zh-CN" sz="4800" spc="-1" strike="noStrike">
                <a:solidFill>
                  <a:srgbClr val="2a2003"/>
                </a:solidFill>
                <a:latin typeface="隶书"/>
                <a:ea typeface="隶书"/>
              </a:rPr>
              <a:t>、怀特森老师给你的印象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2"/>
          <p:cNvSpPr/>
          <p:nvPr/>
        </p:nvSpPr>
        <p:spPr>
          <a:xfrm>
            <a:off x="533520" y="1447920"/>
            <a:ext cx="822960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骨骼 反驳  警惕  惊讶  正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饶有兴趣   胸有成竹   气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郑重其事   冰川期  博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狡黠  凯蒂旺普斯  面面相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3"/>
          <p:cNvSpPr/>
          <p:nvPr/>
        </p:nvSpPr>
        <p:spPr>
          <a:xfrm>
            <a:off x="866160" y="380880"/>
            <a:ext cx="22104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你会读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2"/>
          <p:cNvSpPr/>
          <p:nvPr/>
        </p:nvSpPr>
        <p:spPr>
          <a:xfrm>
            <a:off x="990720" y="1449360"/>
            <a:ext cx="761976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03b14"/>
                </a:solidFill>
                <a:latin typeface="Arial"/>
              </a:rPr>
              <a:t>默读课文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0" lang="zh-CN" sz="3200" spc="-1" strike="noStrike">
                <a:solidFill>
                  <a:srgbClr val="603b14"/>
                </a:solidFill>
                <a:latin typeface="Arial"/>
              </a:rPr>
              <a:t>自然段。思考：</a:t>
            </a:r>
            <a:r>
              <a:rPr b="1" lang="zh-CN" sz="3200" spc="-1" strike="noStrike">
                <a:solidFill>
                  <a:srgbClr val="603b14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9900ff"/>
                </a:solidFill>
                <a:latin typeface="黑体"/>
                <a:ea typeface="黑体"/>
              </a:rPr>
              <a:t>在怀特森老师教“我们”的过程中“我”对怀特森老师的情感发生了怎样的变化？</a:t>
            </a:r>
            <a:r>
              <a:rPr b="1" lang="zh-CN" sz="4400" spc="-1" strike="noStrike">
                <a:solidFill>
                  <a:srgbClr val="002060"/>
                </a:solidFill>
                <a:latin typeface="黑体"/>
                <a:ea typeface="黑体"/>
              </a:rPr>
              <a:t>请勾画出描写“我”心理活动的句子，仔细体会并批注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3"/>
          <p:cNvSpPr/>
          <p:nvPr/>
        </p:nvSpPr>
        <p:spPr>
          <a:xfrm>
            <a:off x="1508400" y="457200"/>
            <a:ext cx="353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合作探究  深入感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4e3b30"/>
                </a:solidFill>
                <a:latin typeface="Franklin Gothic Book"/>
              </a:rPr>
              <a:t>喜欢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1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4e3b30"/>
                </a:solidFill>
                <a:latin typeface="Franklin Gothic Book"/>
              </a:rPr>
              <a:t>吃惊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1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4e3b30"/>
                </a:solidFill>
                <a:latin typeface="Franklin Gothic Book"/>
              </a:rPr>
              <a:t>愤怒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1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4e3b30"/>
                </a:solidFill>
                <a:latin typeface="Franklin Gothic Book"/>
              </a:rPr>
              <a:t>领会良苦用心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 Box 2"/>
          <p:cNvSpPr/>
          <p:nvPr/>
        </p:nvSpPr>
        <p:spPr>
          <a:xfrm>
            <a:off x="457200" y="228600"/>
            <a:ext cx="83059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3"/>
          <p:cNvSpPr/>
          <p:nvPr/>
        </p:nvSpPr>
        <p:spPr>
          <a:xfrm>
            <a:off x="669960" y="1317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4"/>
          <p:cNvSpPr/>
          <p:nvPr/>
        </p:nvSpPr>
        <p:spPr>
          <a:xfrm>
            <a:off x="533520" y="9907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d0d0d"/>
                </a:solidFill>
                <a:latin typeface="Arial"/>
              </a:rPr>
              <a:t>那你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为什么</a:t>
            </a:r>
            <a:r>
              <a:rPr b="1" lang="zh-CN" sz="3200" spc="-1" strike="noStrike">
                <a:solidFill>
                  <a:srgbClr val="0d0d0d"/>
                </a:solidFill>
                <a:latin typeface="Arial"/>
              </a:rPr>
              <a:t>要在课堂上郑重其事地讲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？为什么</a:t>
            </a:r>
            <a:r>
              <a:rPr b="1" lang="zh-CN" sz="3200" spc="-1" strike="noStrike">
                <a:solidFill>
                  <a:srgbClr val="0d0d0d"/>
                </a:solidFill>
                <a:latin typeface="Arial"/>
              </a:rPr>
              <a:t>还要考试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？</a:t>
            </a:r>
            <a:r>
              <a:rPr b="1" lang="zh-CN" sz="3200" spc="-1" strike="noStrike">
                <a:solidFill>
                  <a:srgbClr val="0d0d0d"/>
                </a:solidFill>
                <a:latin typeface="Arial"/>
              </a:rPr>
              <a:t>这种老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算什么老师？</a:t>
            </a:r>
            <a:r>
              <a:rPr b="1" lang="zh-CN" sz="3200" spc="-1" strike="noStrike">
                <a:solidFill>
                  <a:srgbClr val="0d0d0d"/>
                </a:solidFill>
                <a:latin typeface="Arial"/>
              </a:rPr>
              <a:t>一股怒火升上了我的心头，我紧紧抿住嘴唇，控制着自己不嚷出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5"/>
          <p:cNvSpPr/>
          <p:nvPr/>
        </p:nvSpPr>
        <p:spPr>
          <a:xfrm>
            <a:off x="457200" y="327672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66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难道你们自己没有想到吗？既然是‘绝迹’了，我们顶多只能发现它的骨骼化石。而我却向你们描述它的夜间视力、皮毛的颜色，以及许多具体特征，还给它起了个可笑的名字，你们竟一点也没有起疑心，这就是你们不及格的原因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自读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11—14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段，思考：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5" name="Text Box 4"/>
          <p:cNvSpPr/>
          <p:nvPr/>
        </p:nvSpPr>
        <p:spPr>
          <a:xfrm>
            <a:off x="838080" y="2057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5"/>
          <p:cNvSpPr/>
          <p:nvPr/>
        </p:nvSpPr>
        <p:spPr>
          <a:xfrm>
            <a:off x="914400" y="2362320"/>
            <a:ext cx="7391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上怀特森老师的课，每一节都是不寻常的探索。怀特森老师还教会了我们什么？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给我们带来了哪些深远影响呢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逐渐的，我们懂得了，书本上写的，老师说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的，并不是一贯正确的，事实上没有谁是一贯正确的。我们应该时刻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保持警惕，用事实，用科学的方法，纠正错误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，而且应当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有坚持真理的毅力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。同学们把这种学习方法称为</a:t>
            </a:r>
            <a:r>
              <a:rPr b="1" lang="zh-CN" sz="3200" spc="-1" strike="noStrike">
                <a:solidFill>
                  <a:srgbClr val="008000"/>
                </a:solidFill>
                <a:latin typeface="Franklin Gothic Book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新怀疑主义</a:t>
            </a:r>
            <a:r>
              <a:rPr b="1" lang="zh-CN" sz="3200" spc="-1" strike="noStrike">
                <a:solidFill>
                  <a:srgbClr val="008000"/>
                </a:solidFill>
                <a:latin typeface="Franklin Gothic Book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2a2003"/>
                </a:solidFill>
                <a:latin typeface="Franklin Gothic Book"/>
              </a:rPr>
              <a:t>接着他站起来，</a:t>
            </a:r>
            <a:r>
              <a:rPr b="1" lang="zh-CN" sz="4800" spc="-1" strike="noStrike">
                <a:solidFill>
                  <a:srgbClr val="ff0000"/>
                </a:solidFill>
                <a:latin typeface="Franklin Gothic Book"/>
              </a:rPr>
              <a:t>正视</a:t>
            </a:r>
            <a:r>
              <a:rPr b="0" lang="zh-CN" sz="4800" spc="-1" strike="noStrike">
                <a:solidFill>
                  <a:srgbClr val="2a2003"/>
                </a:solidFill>
                <a:latin typeface="Franklin Gothic Book"/>
              </a:rPr>
              <a:t>着老师的眼睛，说出怀疑的理由。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2a2003"/>
                </a:solidFill>
                <a:latin typeface="Franklin Gothic Book"/>
              </a:rPr>
              <a:t>我</a:t>
            </a:r>
            <a:r>
              <a:rPr b="1" lang="zh-CN" sz="4800" spc="-1" strike="noStrike">
                <a:solidFill>
                  <a:srgbClr val="ff0000"/>
                </a:solidFill>
                <a:latin typeface="Franklin Gothic Book"/>
              </a:rPr>
              <a:t>正视</a:t>
            </a:r>
            <a:r>
              <a:rPr b="0" lang="zh-CN" sz="4800" spc="-1" strike="noStrike">
                <a:solidFill>
                  <a:srgbClr val="2a2003"/>
                </a:solidFill>
                <a:latin typeface="Franklin Gothic Book"/>
              </a:rPr>
              <a:t>着他的眼睛，告诉他：“你错了。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”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6T06:26:14Z</dcterms:created>
  <dc:creator>微软用户</dc:creator>
  <dc:description/>
  <dc:language>en-US</dc:language>
  <cp:lastModifiedBy>Administrator</cp:lastModifiedBy>
  <dcterms:modified xsi:type="dcterms:W3CDTF">2017-04-12T10:11:18Z</dcterms:modified>
  <cp:revision>21</cp:revision>
  <dc:subject/>
  <dc:title>幻灯片 1</dc:title>
</cp:coreProperties>
</file>