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B091-93C7-436A-A77C-403EB884536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6FF3-5434-4A9B-88FD-DC18FA25D9A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9A80-63AE-45D1-8EDB-49FBE622C87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C12C-9699-46CD-BA22-65BD668CD24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8FBF-3EF6-4B82-9279-02592F2CECB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DD49-3ACE-411B-B190-43D3FB64DD3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25B0-61C3-480F-8F4D-2BAB79091C8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C1C0-999F-4040-BB0E-47DE5401CB9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0637-19CB-4F6A-8E40-122ECBA4F88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8D73-D11D-4FA0-B59E-F33BED42A19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F6D9-7D3E-4954-9278-25B6E3E6648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BDC5-3496-4C6F-A7D5-14091E41DB0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0A00-F859-4363-B31D-47B3FE36FB8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2EB8-7A7C-4858-B734-5FACDFADF9A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6572-BFB6-41C8-8314-22477BC8AD4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6779-B842-4791-A2EC-F8978C0F7CC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6AE1-8D34-4AEC-B2B0-E510590DE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A3B2-B9F3-4099-8EAC-77D1C16E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874E4-5DDF-4FE6-8197-BD98760F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1EED5-F8D9-45E6-97CB-B35EAB1A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55A8F-0BC5-419D-BD79-30C1A8CD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160A4-EFEF-41BB-A84C-27588F6C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375A0-4186-4E34-928C-CBA9A2A3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5F94E-6120-4B05-9508-E15961C0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C4927-66A4-4BFE-8E96-405D60A2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89130-027E-42DE-AD04-F010F12C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5F665-B22B-45D2-803A-865306C6F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3FCF8C-4077-413A-8E12-26293E49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AC77-7E60-41B7-8BF4-FF756077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9E71E-CEB7-4D76-989B-CCF5D99A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AC44A-F4EB-41EE-BA72-CE87C6BA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CF080-F40B-40BE-9569-5560FEFF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15BB4-898A-4131-B1A1-FFC0EE3C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F8D69-6AB2-4043-A6AC-C4401FD5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DCB193-B750-44B8-B440-150F698D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E4268-0858-4475-8EAD-15D0A463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7E0459-11ED-4415-8E9D-7AF507D7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8C684-152B-44DA-BA4C-865DDF41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7160E-7853-46F6-87D3-A70F24CA5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A1DB-07E4-4A2D-B4DE-A1CA9AD1E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EF2A1-80C5-4897-9521-E8351B59B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4808B-FD31-4980-967D-CB0A5C8E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06BFF-FE89-4534-83C8-6FF98013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87D92-5539-4760-963B-4895FB4A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7B8CB-10FA-4E07-899B-0844E37F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D23F2-EE14-40D6-983B-4029D443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FF493-11E6-4A42-B802-6C141B83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323A8-3016-41F8-A93F-3C0C6CC0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F2BFE-BA53-488D-8E4E-F63AA684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8703D-C55B-468E-8786-4B14E3AE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7EA4-81BE-4501-952B-521C6CBB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A4562-83B8-449B-8158-091D9F10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BB1B5-223B-4F02-B95F-F70420306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0E75D-E6E2-406C-976D-BCE44E096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FFB22-6BE4-432D-B5F9-66E45FAD7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7158D7-F0BF-433B-843F-615911D5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8D7BA2-4BA4-4657-883C-0FA69A27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EEC224-178F-4D06-A6BE-E7AAE4D4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83DA4-EBDE-4C11-AAD6-3CCD172A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97FC6-40E0-4F06-B827-D6672E2B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0DD87-1427-47A4-A07A-2F91F449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F4A1-F139-4A6C-8171-8F382CF1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F3717-18F8-4989-84D2-CF2F9346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3B08C-1060-4EEE-9FC5-311CE416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82736-A28D-425A-9000-D392B05C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5FA08A-F70A-43BF-8228-469B0F93E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31B1AE-07BB-47D9-9CE5-688DF573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3A2E-B2FE-4A6B-A60F-30181205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DCB1-1C0D-4AB0-BCED-0310297C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D659-AFE6-497A-AE42-CB3EA767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7EAC-1FB7-4BAD-BA61-A978E606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2B9A-8CCC-4F02-B49F-AB60A37F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E27C-A53F-48DE-8F33-F26D58A2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ADB1-7AEB-4E41-AAF0-46B665D7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AE49-AA02-4920-ADCB-CB8BD8D5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C40C-5371-4D9D-A71B-A1AD9456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6D91-6587-4BA4-9A93-2FF53FA5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7D54-A215-4B8D-9050-6505BB16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10735-28A2-4E13-9A15-4BB17DE71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69F63-3FBD-42E9-8A0A-4F2E198B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42DE5-E4E6-41AE-9A66-6225EE9D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C170A-3554-4A5B-B071-45C6D9AC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95D16-13FC-4F5B-A150-1CFF4FBA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6E3B-177C-48C2-AA28-A4157D7D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4A374-5842-4D63-8F7F-43E475A4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0E3F7-BF99-4D8D-8BE1-96DBBE3D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53334-E726-43EE-9B70-F0A5467D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CA2D4-33D2-44F2-89B5-D32E06BC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E5B02-F528-4FE0-8893-17837C7A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E2C39-4F86-492C-A00A-5B558362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5EEF6-991F-40DB-9049-5747E7BDB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8D773-10E9-40ED-BFB8-59C66AAD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213FF-2461-4281-849B-2CD849A6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67E79-6873-4B0C-8971-5D263334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411B-61C5-4FBF-856B-B122AC36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BFE23-0280-4815-82BA-4C0F24F6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F78E3-CA2D-4FBA-97A6-A3D6C32B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8812E-C228-43E3-8CC4-83E2E060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9A927-DFC6-44C4-8357-0AD24026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859E5-E3BA-4051-A4D8-B3ED7221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318D4-5FA2-4D65-84BF-F659BA35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ED7A3-066C-49C4-B179-2290900B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1F218-5F67-4744-847F-8E9534F3B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D8406-55C5-46D6-A263-F7E9F58C7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7DE76-D1C1-439C-816F-FBF8F8220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B009-A2E3-4FF4-9A2A-E25BCB94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900F2-0ABC-4436-AD87-1D26A56D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40761-2F47-451D-B818-9F346F26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0D689-6D71-46C6-9899-E58B3BA1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E8AFF-2DF4-4637-B249-B5D6EA45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E4D5B-8CCC-4CDA-AFDC-297B9E77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34EF0-25EE-404A-B2C0-C884777B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74BF9-5621-4F64-8917-FAB61078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BD310-7861-4AAF-A216-1E6D2EC9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3EA0C-BEBF-424C-A06C-E3E4596C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1ECE4-2CB0-4964-80C9-E0F8265B0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1A66-9F46-4DB8-AFF2-ACA9F5BE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D8B4B-90D9-4827-A0E9-1CCFB64E2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8EF66-5CB8-4CDF-90C3-B4E035D0A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95685-D183-4839-94FC-6A54D413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8300E-2658-4A99-96D1-8C6E2320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D1FFA-03E5-4E51-B4C6-2BF97C79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4B13F-98A6-4BCF-982A-E23639E5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FCBB8-0131-4477-B599-794BA27F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F82D0-1366-4E0C-86B2-679D8AE0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9EDEE-D951-4C00-807D-854C1233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B07F0-C224-44DA-B6EE-19658DA7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D235-6653-4DE8-A0EF-B5C9759E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64976-3793-47D5-98E3-91E65472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72435-BE39-46D1-A590-DCA16581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8519E-B8B3-49F7-8152-D3013472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8ED8F-F538-4B37-909B-D94FECE57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72A46-E430-4CD4-9FC9-AB26AD0A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2DEDF-2BDE-49BC-95E6-70E5D7A0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53506-C602-4B73-B61F-1D734A19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1BE89-B454-4338-8E40-0AEE6055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00041-F11C-4AB4-AAED-91849F9C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AD1F5-C9C9-420F-914D-AF257A7B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7CB3-8DE3-4BC8-B203-ED1D3149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CD867-703B-4580-B7B3-0243315E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CBA11-AB27-4B6F-8E44-C8D246B9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30DE4-D22E-476A-B0F9-261AC474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CB46D-6833-45CA-B168-3CE8CEDAE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EB8C2-3354-4C99-8A02-0CE6D4598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E0FBD-DC56-4142-A762-5458AB151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D092B-AD33-4A98-898D-E4BAA209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C0FD3-10C1-4FA7-A037-D2644696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76335-BEAC-4276-BB24-3630128D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138FE-5AFE-49D6-9FB8-FC910F38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56A5-4C2B-42C6-8D53-BA904DD8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B12A3-1C46-4B33-8DC4-A848B7A8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6C230-F303-4305-918A-C67DA08B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91B4D-6309-4167-A828-2A1EA9D0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4B88F-2C86-49AC-A0BC-E1393BD2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F6609-3AA1-4924-A1E7-DF770E4C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89BC2-60F3-4CD8-9015-E05827AC9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06757-7D29-4AE5-B1F4-2307B02E2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5D6F7-A514-495F-A64F-9F47D1CC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074D4-3B79-457B-96C5-2105249F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A5EC6-1FBF-46A4-8DE6-D3437B4B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4A57-503B-4091-8999-5E0434388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45E0-F327-4E02-B35A-CD20858F9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7452-7AE6-4C8B-A486-8A83B8392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CBFE-254C-4CF1-AA69-76FE9A53C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A130-C53B-4114-80C9-35429D5BE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C3D4-6EE6-43FE-A126-19E6C9E23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4DDB-E06D-443C-BA45-54F27C47B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DAEE-4163-4C61-970E-A411E3213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0DF7-2A93-48AF-B686-7408AD094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A2F8-9B58-48C1-B35E-8435635DB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E506-5C4C-47FC-A6EF-F4C44B4AA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B215-18E6-41ED-AD74-C3E1B545A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5" descr=""/>
          <p:cNvPicPr/>
          <p:nvPr/>
        </p:nvPicPr>
        <p:blipFill>
          <a:blip r:embed="rId1"/>
          <a:stretch/>
        </p:blipFill>
        <p:spPr>
          <a:xfrm>
            <a:off x="0" y="152280"/>
            <a:ext cx="9288360" cy="685800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凡尔赛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F:\江苏初一\下\凡尔赛宫\媒体素材\图形图像类\镜廊.jpg"/>
          <p:cNvPicPr/>
          <p:nvPr/>
        </p:nvPicPr>
        <p:blipFill>
          <a:blip r:embed="rId1"/>
          <a:stretch/>
        </p:blipFill>
        <p:spPr>
          <a:xfrm>
            <a:off x="3708360" y="2708280"/>
            <a:ext cx="5146560" cy="374328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5"/>
          <p:cNvSpPr/>
          <p:nvPr/>
        </p:nvSpPr>
        <p:spPr>
          <a:xfrm>
            <a:off x="2438280" y="5715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镜   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0"/>
          <p:cNvSpPr/>
          <p:nvPr/>
        </p:nvSpPr>
        <p:spPr>
          <a:xfrm>
            <a:off x="900000" y="5493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语言准确又富有文学性，描写与说明有机结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3" descr="凡尔赛宫(4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凡尔赛宫(5)"/>
          <p:cNvPicPr/>
          <p:nvPr/>
        </p:nvPicPr>
        <p:blipFill>
          <a:blip r:embed="rId1"/>
          <a:stretch/>
        </p:blipFill>
        <p:spPr>
          <a:xfrm>
            <a:off x="539640" y="476280"/>
            <a:ext cx="8136000" cy="6089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43" name="AutoShape 4">
            <a:hlinkClick r:id="rId2" action="ppaction://hlinksldjump"/>
          </p:cNvPr>
          <p:cNvSpPr/>
          <p:nvPr/>
        </p:nvSpPr>
        <p:spPr>
          <a:xfrm>
            <a:off x="7308720" y="5229360"/>
            <a:ext cx="1835280" cy="1628640"/>
          </a:xfrm>
          <a:custGeom>
            <a:avLst/>
            <a:gdLst>
              <a:gd name="textAreaLeft" fmla="*/ 105480 w 1835280"/>
              <a:gd name="textAreaRight" fmla="*/ 1729800 w 1835280"/>
              <a:gd name="textAreaTop" fmla="*/ 105480 h 1628640"/>
              <a:gd name="textAreaBottom" fmla="*/ 1523160 h 1628640"/>
            </a:gdLst>
            <a:ahLst/>
            <a:rect l="textAreaLeft" t="textAreaTop" r="textAreaRight" b="textAreaBottom"/>
            <a:pathLst>
              <a:path w="24340" h="21600">
                <a:moveTo>
                  <a:pt x="0" y="0"/>
                </a:moveTo>
                <a:lnTo>
                  <a:pt x="24340" y="0"/>
                </a:lnTo>
                <a:lnTo>
                  <a:pt x="24340" y="21600"/>
                </a:lnTo>
                <a:lnTo>
                  <a:pt x="0" y="21600"/>
                </a:lnTo>
                <a:close/>
              </a:path>
              <a:path fill="lightenLess" w="24340" h="21600">
                <a:moveTo>
                  <a:pt x="0" y="0"/>
                </a:moveTo>
                <a:lnTo>
                  <a:pt x="24340" y="0"/>
                </a:lnTo>
                <a:lnTo>
                  <a:pt x="22940" y="1400"/>
                </a:lnTo>
                <a:lnTo>
                  <a:pt x="1400" y="1400"/>
                </a:lnTo>
                <a:close/>
              </a:path>
              <a:path fill="darken" w="24340" h="21600">
                <a:moveTo>
                  <a:pt x="24340" y="0"/>
                </a:moveTo>
                <a:lnTo>
                  <a:pt x="24340" y="21600"/>
                </a:lnTo>
                <a:lnTo>
                  <a:pt x="22940" y="20200"/>
                </a:lnTo>
                <a:lnTo>
                  <a:pt x="22940" y="1400"/>
                </a:lnTo>
                <a:close/>
              </a:path>
              <a:path fill="darkenLess" w="24340" h="21600">
                <a:moveTo>
                  <a:pt x="243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40" y="20200"/>
                </a:lnTo>
                <a:close/>
              </a:path>
              <a:path fill="lighten" w="243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5" descr="6[2]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4" descr="MV765"/>
          <p:cNvPicPr/>
          <p:nvPr/>
        </p:nvPicPr>
        <p:blipFill>
          <a:blip r:embed="rId1"/>
          <a:stretch/>
        </p:blipFill>
        <p:spPr>
          <a:xfrm>
            <a:off x="0" y="0"/>
            <a:ext cx="5580000" cy="33526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6" descr="JZ036180"/>
          <p:cNvPicPr/>
          <p:nvPr/>
        </p:nvPicPr>
        <p:blipFill>
          <a:blip r:embed="rId2"/>
          <a:stretch/>
        </p:blipFill>
        <p:spPr>
          <a:xfrm>
            <a:off x="0" y="3394080"/>
            <a:ext cx="5580000" cy="346392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7"/>
          <p:cNvSpPr/>
          <p:nvPr/>
        </p:nvSpPr>
        <p:spPr>
          <a:xfrm>
            <a:off x="6557040" y="-236160"/>
            <a:ext cx="1094760" cy="73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华文行楷"/>
              </a:rPr>
              <a:t>凡尔赛宫的今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Box 1"/>
          <p:cNvSpPr/>
          <p:nvPr/>
        </p:nvSpPr>
        <p:spPr>
          <a:xfrm>
            <a:off x="1332000" y="1125360"/>
            <a:ext cx="604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课后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从凡尔赛宫看中西方建筑艺术的差异有哪些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Group 2"/>
          <p:cNvGrpSpPr/>
          <p:nvPr/>
        </p:nvGrpSpPr>
        <p:grpSpPr>
          <a:xfrm>
            <a:off x="0" y="476280"/>
            <a:ext cx="3276360" cy="1107000"/>
            <a:chOff x="0" y="476280"/>
            <a:chExt cx="3276360" cy="1107000"/>
          </a:xfrm>
        </p:grpSpPr>
        <p:pic>
          <p:nvPicPr>
            <p:cNvPr id="502" name="Picture 3" descr="20064148224995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0" y="476280"/>
              <a:ext cx="49536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Text Box 4"/>
            <p:cNvSpPr/>
            <p:nvPr/>
          </p:nvSpPr>
          <p:spPr>
            <a:xfrm>
              <a:off x="722520" y="514440"/>
              <a:ext cx="2553840" cy="1068840"/>
            </a:xfrm>
            <a:prstGeom prst="rect">
              <a:avLst/>
            </a:prstGeom>
            <a:gradFill rotWithShape="0">
              <a:gsLst>
                <a:gs pos="0">
                  <a:srgbClr val="0066ff">
                    <a:alpha val="80000"/>
                  </a:srgbClr>
                </a:gs>
                <a:gs pos="100000">
                  <a:srgbClr val="002f76"/>
                </a:gs>
              </a:gsLst>
              <a:lin ang="27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隶书"/>
                </a:rPr>
                <a:t>教 学 目 标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Rectangle 5"/>
          <p:cNvSpPr/>
          <p:nvPr/>
        </p:nvSpPr>
        <p:spPr>
          <a:xfrm>
            <a:off x="-252360" y="1470600"/>
            <a:ext cx="939636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解凡尔赛宫的建筑艺术特色、艺术风格及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政治文化中心、旅游胜地的地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抓住事物特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突出重点进行介绍的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会本文准确具体而富有文学性的语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体现法国古代建筑特色的凡尔赛宫，感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国的建筑艺术，进而领略人类的勤劳智慧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美的追求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巴黎地图"/>
          <p:cNvPicPr/>
          <p:nvPr/>
        </p:nvPicPr>
        <p:blipFill>
          <a:blip r:embed="rId1"/>
          <a:stretch/>
        </p:blipFill>
        <p:spPr>
          <a:xfrm>
            <a:off x="324000" y="476280"/>
            <a:ext cx="8351640" cy="6191280"/>
          </a:xfrm>
          <a:prstGeom prst="rect">
            <a:avLst/>
          </a:prstGeom>
          <a:ln w="0">
            <a:noFill/>
          </a:ln>
        </p:spPr>
      </p:pic>
      <p:grpSp>
        <p:nvGrpSpPr>
          <p:cNvPr id="506" name="Group 3"/>
          <p:cNvGrpSpPr/>
          <p:nvPr/>
        </p:nvGrpSpPr>
        <p:grpSpPr>
          <a:xfrm>
            <a:off x="2514600" y="1600200"/>
            <a:ext cx="1828800" cy="1295280"/>
            <a:chOff x="2514600" y="1600200"/>
            <a:chExt cx="1828800" cy="1295280"/>
          </a:xfrm>
        </p:grpSpPr>
        <p:sp>
          <p:nvSpPr>
            <p:cNvPr id="507" name="AutoShape 4"/>
            <p:cNvSpPr/>
            <p:nvPr/>
          </p:nvSpPr>
          <p:spPr>
            <a:xfrm>
              <a:off x="4114800" y="2666880"/>
              <a:ext cx="228600" cy="228600"/>
            </a:xfrm>
            <a:custGeom>
              <a:avLst/>
              <a:gdLst>
                <a:gd name="textAreaLeft" fmla="*/ 69840 w 228600"/>
                <a:gd name="textAreaRight" fmla="*/ 158760 w 228600"/>
                <a:gd name="textAreaTop" fmla="*/ 87120 h 228600"/>
                <a:gd name="textAreaBottom" fmla="*/ 174600 h 228600"/>
              </a:gdLst>
              <a:ahLst/>
              <a:rect l="textAreaLeft" t="textAreaTop" r="textAreaRight" b="textAreaBottom"/>
              <a:pathLst>
                <a:path w="144" h="144">
                  <a:moveTo>
                    <a:pt x="0" y="55"/>
                  </a:moveTo>
                  <a:lnTo>
                    <a:pt x="55" y="55"/>
                  </a:lnTo>
                  <a:lnTo>
                    <a:pt x="72" y="0"/>
                  </a:lnTo>
                  <a:lnTo>
                    <a:pt x="89" y="55"/>
                  </a:lnTo>
                  <a:lnTo>
                    <a:pt x="144" y="55"/>
                  </a:lnTo>
                  <a:lnTo>
                    <a:pt x="100" y="89"/>
                  </a:lnTo>
                  <a:lnTo>
                    <a:pt x="116" y="144"/>
                  </a:lnTo>
                  <a:lnTo>
                    <a:pt x="72" y="110"/>
                  </a:lnTo>
                  <a:lnTo>
                    <a:pt x="28" y="144"/>
                  </a:lnTo>
                  <a:lnTo>
                    <a:pt x="44" y="89"/>
                  </a:lnTo>
                  <a:close/>
                </a:path>
              </a:pathLst>
            </a:cu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AutoShape 5"/>
            <p:cNvSpPr/>
            <p:nvPr/>
          </p:nvSpPr>
          <p:spPr>
            <a:xfrm>
              <a:off x="2514600" y="1600200"/>
              <a:ext cx="1447920" cy="457200"/>
            </a:xfrm>
            <a:prstGeom prst="wedgeRectCallout">
              <a:avLst>
                <a:gd name="adj1" fmla="val 65351"/>
                <a:gd name="adj2" fmla="val 190625"/>
              </a:avLst>
            </a:prstGeom>
            <a:solidFill>
              <a:srgbClr val="000000"/>
            </a:solidFill>
            <a:ln w="12600">
              <a:solidFill>
                <a:srgbClr val="808080"/>
              </a:solidFill>
              <a:miter/>
            </a:ln>
            <a:effectLst>
              <a:outerShdw dist="81185" dir="8478030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凡尔赛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versail7"/>
          <p:cNvPicPr/>
          <p:nvPr/>
        </p:nvPicPr>
        <p:blipFill>
          <a:blip r:embed="rId1"/>
          <a:stretch/>
        </p:blipFill>
        <p:spPr>
          <a:xfrm>
            <a:off x="162000" y="404640"/>
            <a:ext cx="3905280" cy="5904000"/>
          </a:xfrm>
          <a:prstGeom prst="rect">
            <a:avLst/>
          </a:prstGeom>
          <a:ln w="127080">
            <a:solidFill>
              <a:srgbClr val="ffff00"/>
            </a:solidFill>
            <a:miter/>
          </a:ln>
        </p:spPr>
      </p:pic>
      <p:sp>
        <p:nvSpPr>
          <p:cNvPr id="510" name="Text Box 3"/>
          <p:cNvSpPr/>
          <p:nvPr/>
        </p:nvSpPr>
        <p:spPr>
          <a:xfrm>
            <a:off x="-425520" y="476280"/>
            <a:ext cx="1521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凡尔赛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4211640" y="333360"/>
            <a:ext cx="49323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凡尔赛宫是法国王宫，西方古典主义建筑的代表，坐落在巴黎西南的凡尔赛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法王路易十四修建，动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民工，历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建成。建筑面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平方米，园林面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平方米。有数不清的雕塑和一望无际的园林胜景，雄伟壮观，富丽堂皇。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凡尔赛宫还与许多重大历史事件有关。德皇威廉一世曾在此举行加冕典礼。著名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凡尔赛和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此签订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2" descr="凡尔赛宫(3)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33360"/>
            <a:ext cx="9144000" cy="619128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3"/>
          <p:cNvSpPr/>
          <p:nvPr/>
        </p:nvSpPr>
        <p:spPr>
          <a:xfrm>
            <a:off x="324000" y="1773360"/>
            <a:ext cx="8208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8009b"/>
                </a:solidFill>
                <a:latin typeface="宋体"/>
              </a:rPr>
              <a:t>摒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弃             加</a:t>
            </a:r>
            <a:r>
              <a:rPr b="0" lang="zh-CN" sz="4000" spc="-1" strike="noStrike">
                <a:solidFill>
                  <a:srgbClr val="e8009b"/>
                </a:solidFill>
                <a:latin typeface="宋体"/>
              </a:rPr>
              <a:t>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镶</a:t>
            </a:r>
            <a:r>
              <a:rPr b="0" lang="zh-CN" sz="4000" spc="-1" strike="noStrike">
                <a:solidFill>
                  <a:srgbClr val="e8009b"/>
                </a:solidFill>
                <a:latin typeface="宋体"/>
              </a:rPr>
              <a:t>嵌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            葱</a:t>
            </a:r>
            <a:r>
              <a:rPr b="0" lang="zh-CN" sz="4000" spc="-1" strike="noStrike">
                <a:solidFill>
                  <a:srgbClr val="e8009b"/>
                </a:solidFill>
                <a:latin typeface="宋体"/>
              </a:rPr>
              <a:t>茏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静</a:t>
            </a:r>
            <a:r>
              <a:rPr b="0" lang="zh-CN" sz="4000" spc="-1" strike="noStrike">
                <a:solidFill>
                  <a:srgbClr val="e8009b"/>
                </a:solidFill>
                <a:latin typeface="宋体"/>
              </a:rPr>
              <a:t>谧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0" lang="zh-CN" sz="4000" spc="-1" strike="noStrike">
                <a:solidFill>
                  <a:srgbClr val="e8009b"/>
                </a:solidFill>
                <a:latin typeface="宋体"/>
              </a:rPr>
              <a:t>瞩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8009b"/>
                </a:solidFill>
                <a:latin typeface="宋体"/>
              </a:rPr>
              <a:t>恬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静             </a:t>
            </a:r>
            <a:r>
              <a:rPr b="0" lang="zh-CN" sz="4000" spc="-1" strike="noStrike">
                <a:solidFill>
                  <a:srgbClr val="e8009b"/>
                </a:solidFill>
                <a:latin typeface="宋体"/>
              </a:rPr>
              <a:t>参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精</a:t>
            </a:r>
            <a:r>
              <a:rPr b="0" lang="zh-CN" sz="4000" spc="-1" strike="noStrike">
                <a:solidFill>
                  <a:srgbClr val="e8009b"/>
                </a:solidFill>
                <a:latin typeface="宋体"/>
              </a:rPr>
              <a:t>湛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            磅</a:t>
            </a:r>
            <a:r>
              <a:rPr b="0" lang="zh-CN" sz="4000" spc="-1" strike="noStrike">
                <a:solidFill>
                  <a:srgbClr val="e8009b"/>
                </a:solidFill>
                <a:latin typeface="宋体"/>
              </a:rPr>
              <a:t>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粼</a:t>
            </a:r>
            <a:r>
              <a:rPr b="0" lang="zh-CN" sz="4000" spc="-1" strike="noStrike">
                <a:solidFill>
                  <a:srgbClr val="e8009b"/>
                </a:solidFill>
                <a:latin typeface="宋体"/>
              </a:rPr>
              <a:t>粼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            栩</a:t>
            </a:r>
            <a:r>
              <a:rPr b="0" lang="zh-CN" sz="4000" spc="-1" strike="noStrike">
                <a:solidFill>
                  <a:srgbClr val="e8009b"/>
                </a:solidFill>
                <a:latin typeface="宋体"/>
              </a:rPr>
              <a:t>栩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如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8009b"/>
                </a:solidFill>
                <a:latin typeface="宋体"/>
              </a:rPr>
              <a:t>轶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事             心</a:t>
            </a:r>
            <a:r>
              <a:rPr b="0" lang="zh-CN" sz="4000" spc="-1" strike="noStrike">
                <a:solidFill>
                  <a:srgbClr val="e8009b"/>
                </a:solidFill>
                <a:latin typeface="宋体"/>
              </a:rPr>
              <a:t>旷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神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4"/>
          <p:cNvSpPr/>
          <p:nvPr/>
        </p:nvSpPr>
        <p:spPr>
          <a:xfrm>
            <a:off x="108000" y="795240"/>
            <a:ext cx="35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方正舒体"/>
              </a:rPr>
              <a:t>检查预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5"/>
          <p:cNvSpPr/>
          <p:nvPr/>
        </p:nvSpPr>
        <p:spPr>
          <a:xfrm>
            <a:off x="1538280" y="1901880"/>
            <a:ext cx="18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ì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5859360" y="1865160"/>
            <a:ext cx="216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ǎ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1501920" y="2527200"/>
            <a:ext cx="17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ià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8"/>
          <p:cNvSpPr/>
          <p:nvPr/>
        </p:nvSpPr>
        <p:spPr>
          <a:xfrm>
            <a:off x="5875200" y="2513160"/>
            <a:ext cx="18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ó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9"/>
          <p:cNvSpPr/>
          <p:nvPr/>
        </p:nvSpPr>
        <p:spPr>
          <a:xfrm>
            <a:off x="1674720" y="3160800"/>
            <a:ext cx="174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0"/>
          <p:cNvSpPr/>
          <p:nvPr/>
        </p:nvSpPr>
        <p:spPr>
          <a:xfrm>
            <a:off x="5907240" y="3089160"/>
            <a:ext cx="18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1"/>
          <p:cNvSpPr/>
          <p:nvPr/>
        </p:nvSpPr>
        <p:spPr>
          <a:xfrm>
            <a:off x="1600200" y="375120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á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2"/>
          <p:cNvSpPr/>
          <p:nvPr/>
        </p:nvSpPr>
        <p:spPr>
          <a:xfrm>
            <a:off x="5886360" y="3665520"/>
            <a:ext cx="19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ā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3"/>
          <p:cNvSpPr/>
          <p:nvPr/>
        </p:nvSpPr>
        <p:spPr>
          <a:xfrm>
            <a:off x="1566720" y="4327560"/>
            <a:ext cx="22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à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4"/>
          <p:cNvSpPr/>
          <p:nvPr/>
        </p:nvSpPr>
        <p:spPr>
          <a:xfrm>
            <a:off x="5975280" y="434988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5"/>
          <p:cNvSpPr/>
          <p:nvPr/>
        </p:nvSpPr>
        <p:spPr>
          <a:xfrm>
            <a:off x="1603440" y="4889520"/>
            <a:ext cx="16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í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6"/>
          <p:cNvSpPr/>
          <p:nvPr/>
        </p:nvSpPr>
        <p:spPr>
          <a:xfrm>
            <a:off x="6680160" y="4889520"/>
            <a:ext cx="16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7"/>
          <p:cNvSpPr/>
          <p:nvPr/>
        </p:nvSpPr>
        <p:spPr>
          <a:xfrm>
            <a:off x="1576440" y="5573880"/>
            <a:ext cx="14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8"/>
          <p:cNvSpPr/>
          <p:nvPr/>
        </p:nvSpPr>
        <p:spPr>
          <a:xfrm>
            <a:off x="6656400" y="5573880"/>
            <a:ext cx="216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uà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24000" y="260280"/>
            <a:ext cx="82296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1.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按照一定顺序清晰地说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读文章的第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自然段，想想作者是按什么样的说明顺序进行说明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" descr="92jingdian585"/>
          <p:cNvPicPr/>
          <p:nvPr/>
        </p:nvPicPr>
        <p:blipFill>
          <a:blip r:embed="rId1"/>
          <a:srcRect l="0" t="0" r="663" b="13233"/>
          <a:stretch/>
        </p:blipFill>
        <p:spPr>
          <a:xfrm>
            <a:off x="4427640" y="2997360"/>
            <a:ext cx="448776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240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2.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抓住特征，突出重点进行说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作者为何要选择镜廊作为重点介绍的对象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2" descr="92jingdian585"/>
          <p:cNvPicPr/>
          <p:nvPr/>
        </p:nvPicPr>
        <p:blipFill>
          <a:blip r:embed="rId1"/>
          <a:srcRect l="0" t="0" r="-907" b="12653"/>
          <a:stretch/>
        </p:blipFill>
        <p:spPr>
          <a:xfrm>
            <a:off x="4140360" y="2637000"/>
            <a:ext cx="48513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4"/>
          <p:cNvSpPr/>
          <p:nvPr/>
        </p:nvSpPr>
        <p:spPr>
          <a:xfrm>
            <a:off x="3616200" y="242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826920" y="981000"/>
            <a:ext cx="716292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归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（</a:t>
            </a:r>
            <a:r>
              <a:rPr b="1" lang="en-US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1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）建造者赫赫有名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（</a:t>
            </a:r>
            <a:r>
              <a:rPr b="1" lang="en-US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）镜廊本身的构成有特色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（</a:t>
            </a:r>
            <a:r>
              <a:rPr b="1" lang="en-US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3</a:t>
            </a:r>
            <a:r>
              <a:rPr b="1" lang="zh-CN" sz="4000" spc="-1" strike="noStrike">
                <a:solidFill>
                  <a:srgbClr val="ffff00"/>
                </a:solidFill>
                <a:latin typeface="华文楷体"/>
                <a:ea typeface="华文楷体"/>
              </a:rPr>
              <a:t>）镜廊天花板上的巨幅油画气势磅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6"/>
          <p:cNvSpPr/>
          <p:nvPr/>
        </p:nvSpPr>
        <p:spPr>
          <a:xfrm>
            <a:off x="2535120" y="5307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7"/>
          <p:cNvSpPr/>
          <p:nvPr/>
        </p:nvSpPr>
        <p:spPr>
          <a:xfrm>
            <a:off x="826920" y="54450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最能体现凡尔赛宫的艺术价值和艺术魅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镜廊全景"/>
          <p:cNvPicPr/>
          <p:nvPr/>
        </p:nvPicPr>
        <p:blipFill>
          <a:blip r:embed="rId1"/>
          <a:stretch/>
        </p:blipFill>
        <p:spPr>
          <a:xfrm>
            <a:off x="684360" y="260280"/>
            <a:ext cx="7848360" cy="6234120"/>
          </a:xfrm>
          <a:prstGeom prst="rect">
            <a:avLst/>
          </a:prstGeom>
          <a:ln w="0">
            <a:noFill/>
          </a:ln>
        </p:spPr>
      </p:pic>
    </p:spTree>
  </p:cSld>
  <p:transition spd="med"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8T07:26:12Z</dcterms:created>
  <dc:creator/>
  <dc:description/>
  <cp:keywords/>
  <dc:language>en-US</dc:language>
  <cp:lastModifiedBy/>
  <dcterms:modified xsi:type="dcterms:W3CDTF">2016-12-08T07:26:15Z</dcterms:modified>
  <cp:revision>1</cp:revision>
  <dc:subject/>
  <dc:title/>
</cp:coreProperties>
</file>