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DF978-BAAC-40E8-8CF8-44CB7C9EA4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F7214-42DE-45A3-B661-8D0FBA42D6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84E3B-295D-471B-B9B3-C532827300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4422B-26C1-406F-9641-3F36B7EAAD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950D0-69DA-4618-994A-0B9E40BEE7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6F324-48BB-44AA-976F-8EADD1E89A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309-7737-4614-8609-05FA220A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1B3-72EF-440E-BBAA-326606AE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27A-E97D-438E-9098-9E73E2EF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7E3-1D76-4CAF-9E47-6512F8CC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422-D94E-446B-A20D-8C16E60F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8C5-15A7-47DF-9FD8-7B3CF742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CFC-7D65-4309-B171-CE070D9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126-20A2-4237-BDEA-506471E9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0C4-D20E-4B8A-819C-D1A41D10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986-A3F3-4A74-92A1-A0759A6F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AAB-7319-4637-A26E-7C6C8850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910-80D0-4E96-863A-15FAD7DC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92E8D-24C9-4B3C-A4B1-62E2121CAA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2798640" y="2286000"/>
            <a:ext cx="6083280" cy="41022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819600" y="196524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2951280" y="4145760"/>
            <a:ext cx="5951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世界光明两灯塔，延安遥接莫斯科”，在人们的心目中，位于陕西省北部的中国革命圣地延安有着至高无上的地位。诗人看到了延安日新月异的变化，想到了延安的过去，也憧憬着延安的未来。追寻延安，实际上是追寻延安在变化中凸显的一种革命精神和革命传统，目的是继承、发扬延安精神，把延安乃至祖国建设得更加富强美好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67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TextBox 1"/>
          <p:cNvSpPr/>
          <p:nvPr/>
        </p:nvSpPr>
        <p:spPr>
          <a:xfrm>
            <a:off x="2419200" y="3124080"/>
            <a:ext cx="57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琳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琅    窑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2807280" y="259236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á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4461480" y="259236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2"/>
          <p:cNvGrpSpPr/>
          <p:nvPr/>
        </p:nvGrpSpPr>
        <p:grpSpPr>
          <a:xfrm>
            <a:off x="630360" y="1352520"/>
            <a:ext cx="2904840" cy="666720"/>
            <a:chOff x="630360" y="1352520"/>
            <a:chExt cx="2904840" cy="666720"/>
          </a:xfrm>
        </p:grpSpPr>
        <p:sp>
          <p:nvSpPr>
            <p:cNvPr id="174" name="圆角矩形 17"/>
            <p:cNvSpPr/>
            <p:nvPr/>
          </p:nvSpPr>
          <p:spPr>
            <a:xfrm>
              <a:off x="1446120" y="149040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3036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16"/>
            <p:cNvSpPr/>
            <p:nvPr/>
          </p:nvSpPr>
          <p:spPr>
            <a:xfrm>
              <a:off x="1705680" y="15094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Box 1"/>
          <p:cNvSpPr/>
          <p:nvPr/>
        </p:nvSpPr>
        <p:spPr>
          <a:xfrm>
            <a:off x="1482840" y="29019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26"/>
          <p:cNvGrpSpPr/>
          <p:nvPr/>
        </p:nvGrpSpPr>
        <p:grpSpPr>
          <a:xfrm>
            <a:off x="1965240" y="2471760"/>
            <a:ext cx="3952800" cy="1373400"/>
            <a:chOff x="1965240" y="2471760"/>
            <a:chExt cx="3952800" cy="1373400"/>
          </a:xfrm>
        </p:grpSpPr>
        <p:sp>
          <p:nvSpPr>
            <p:cNvPr id="179" name="左大括号 27"/>
            <p:cNvSpPr/>
            <p:nvPr/>
          </p:nvSpPr>
          <p:spPr>
            <a:xfrm>
              <a:off x="1965240" y="2714400"/>
              <a:ext cx="311040" cy="9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8"/>
            <p:cNvSpPr/>
            <p:nvPr/>
          </p:nvSpPr>
          <p:spPr>
            <a:xfrm>
              <a:off x="2212560" y="2471760"/>
              <a:ext cx="37054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高楼大厦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厦门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1370160" y="1698480"/>
            <a:ext cx="745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茅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窑洞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脊梁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1"/>
          <p:cNvGrpSpPr/>
          <p:nvPr/>
        </p:nvGrpSpPr>
        <p:grpSpPr>
          <a:xfrm>
            <a:off x="417600" y="969840"/>
            <a:ext cx="2593800" cy="666720"/>
            <a:chOff x="417600" y="969840"/>
            <a:chExt cx="2593800" cy="666720"/>
          </a:xfrm>
        </p:grpSpPr>
        <p:sp>
          <p:nvSpPr>
            <p:cNvPr id="183" name="圆角矩形 5"/>
            <p:cNvSpPr/>
            <p:nvPr/>
          </p:nvSpPr>
          <p:spPr>
            <a:xfrm>
              <a:off x="1233360" y="11077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17600" y="9698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文本框 16"/>
            <p:cNvSpPr/>
            <p:nvPr/>
          </p:nvSpPr>
          <p:spPr>
            <a:xfrm>
              <a:off x="1492920" y="112680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矩形 1"/>
          <p:cNvSpPr/>
          <p:nvPr/>
        </p:nvSpPr>
        <p:spPr>
          <a:xfrm>
            <a:off x="2038320" y="1704960"/>
            <a:ext cx="6222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屋顶用茅草、稻草等盖的房子，大多简陋矮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傍晚，炊烟从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茅屋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顶上袅袅升起，空气中充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饭菜的香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我国西北黄土高原地区就土山的山崖挖成的洞，供人居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窑洞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建筑最大的特点是冬暖夏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原指脊背。后来比喻在国家、民族或团体中起中坚作用的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各个时期的革命烈士都是祖国的功臣、民族的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脊梁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"/>
          <p:cNvSpPr/>
          <p:nvPr/>
        </p:nvSpPr>
        <p:spPr>
          <a:xfrm>
            <a:off x="1274760" y="1698480"/>
            <a:ext cx="745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辉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明媚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满目琳琅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组合 1"/>
          <p:cNvGrpSpPr/>
          <p:nvPr/>
        </p:nvGrpSpPr>
        <p:grpSpPr>
          <a:xfrm>
            <a:off x="417600" y="969840"/>
            <a:ext cx="2593800" cy="666720"/>
            <a:chOff x="417600" y="969840"/>
            <a:chExt cx="2593800" cy="666720"/>
          </a:xfrm>
        </p:grpSpPr>
        <p:sp>
          <p:nvSpPr>
            <p:cNvPr id="189" name="圆角矩形 5"/>
            <p:cNvSpPr/>
            <p:nvPr/>
          </p:nvSpPr>
          <p:spPr>
            <a:xfrm>
              <a:off x="1233360" y="11077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17600" y="9698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文本框 16"/>
            <p:cNvSpPr/>
            <p:nvPr/>
          </p:nvSpPr>
          <p:spPr>
            <a:xfrm>
              <a:off x="1492920" y="112680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矩形 1"/>
          <p:cNvSpPr/>
          <p:nvPr/>
        </p:nvSpPr>
        <p:spPr>
          <a:xfrm>
            <a:off x="2054160" y="1704960"/>
            <a:ext cx="642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杰出的，灿烂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景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鲜明可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今天天气晴朗，阳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明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我和朋友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起去公园划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琳琅：精美的玉石。满眼都是珍贵的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西。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 美好完美的事物很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展览馆里陈列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满目琳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工艺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896760" y="2124000"/>
            <a:ext cx="74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毫不犹豫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顶天立地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组合 1"/>
          <p:cNvGrpSpPr/>
          <p:nvPr/>
        </p:nvGrpSpPr>
        <p:grpSpPr>
          <a:xfrm>
            <a:off x="417600" y="969840"/>
            <a:ext cx="2593800" cy="666720"/>
            <a:chOff x="417600" y="969840"/>
            <a:chExt cx="2593800" cy="666720"/>
          </a:xfrm>
        </p:grpSpPr>
        <p:sp>
          <p:nvSpPr>
            <p:cNvPr id="195" name="圆角矩形 5"/>
            <p:cNvSpPr/>
            <p:nvPr/>
          </p:nvSpPr>
          <p:spPr>
            <a:xfrm>
              <a:off x="1233360" y="11077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17600" y="9698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文本框 16"/>
            <p:cNvSpPr/>
            <p:nvPr/>
          </p:nvSpPr>
          <p:spPr>
            <a:xfrm>
              <a:off x="1492920" y="112680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矩形 1"/>
          <p:cNvSpPr/>
          <p:nvPr/>
        </p:nvSpPr>
        <p:spPr>
          <a:xfrm>
            <a:off x="2306520" y="2130480"/>
            <a:ext cx="622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说话、做事果断，很快拿定了主意，一点都不迟疑，形容态度坚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毫不犹豫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选择了走左边这条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形象高大，气概豪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弟弟的理想是长大后做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顶天立地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男子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3963240" y="1982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犹豫　踌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"/>
          <p:cNvSpPr/>
          <p:nvPr/>
        </p:nvSpPr>
        <p:spPr>
          <a:xfrm>
            <a:off x="2162160" y="2522520"/>
            <a:ext cx="62578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拿不定主意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犹豫”着重指下不了决心；“踌躇”着重指徘徊不前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他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犹豫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不决，不知道该听哪一方的意见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遇到苦难，不能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踌躇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不前，而要迎难而上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02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206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20"/>
          <p:cNvGrpSpPr/>
          <p:nvPr/>
        </p:nvGrpSpPr>
        <p:grpSpPr>
          <a:xfrm>
            <a:off x="681120" y="3218040"/>
            <a:ext cx="1670040" cy="459720"/>
            <a:chOff x="681120" y="3218040"/>
            <a:chExt cx="1670040" cy="459720"/>
          </a:xfrm>
        </p:grpSpPr>
        <p:pic>
          <p:nvPicPr>
            <p:cNvPr id="209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22"/>
            <p:cNvSpPr/>
            <p:nvPr/>
          </p:nvSpPr>
          <p:spPr>
            <a:xfrm>
              <a:off x="102420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23"/>
          <p:cNvGrpSpPr/>
          <p:nvPr/>
        </p:nvGrpSpPr>
        <p:grpSpPr>
          <a:xfrm>
            <a:off x="681120" y="4338720"/>
            <a:ext cx="1670040" cy="459720"/>
            <a:chOff x="681120" y="4338720"/>
            <a:chExt cx="1670040" cy="459720"/>
          </a:xfrm>
        </p:grpSpPr>
        <p:pic>
          <p:nvPicPr>
            <p:cNvPr id="212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3930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25"/>
            <p:cNvSpPr/>
            <p:nvPr/>
          </p:nvSpPr>
          <p:spPr>
            <a:xfrm>
              <a:off x="1024200" y="4338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"/>
          <p:cNvSpPr/>
          <p:nvPr/>
        </p:nvSpPr>
        <p:spPr>
          <a:xfrm>
            <a:off x="887400" y="222876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节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追寻延安精神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作者对延安精神的急切追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节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延安精神不能丢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了现代化建设需要延安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节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延安精神很重要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追寻延安精神的重要意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组合 11"/>
          <p:cNvGrpSpPr/>
          <p:nvPr/>
        </p:nvGrpSpPr>
        <p:grpSpPr>
          <a:xfrm>
            <a:off x="804960" y="1200240"/>
            <a:ext cx="3792600" cy="717480"/>
            <a:chOff x="804960" y="1200240"/>
            <a:chExt cx="3792600" cy="717480"/>
          </a:xfrm>
        </p:grpSpPr>
        <p:grpSp>
          <p:nvGrpSpPr>
            <p:cNvPr id="216" name="圆角矩形 4"/>
            <p:cNvGrpSpPr/>
            <p:nvPr/>
          </p:nvGrpSpPr>
          <p:grpSpPr>
            <a:xfrm>
              <a:off x="804960" y="1208880"/>
              <a:ext cx="1032120" cy="530640"/>
              <a:chOff x="804960" y="1208880"/>
              <a:chExt cx="1032120" cy="530640"/>
            </a:xfrm>
          </p:grpSpPr>
          <p:pic>
            <p:nvPicPr>
              <p:cNvPr id="217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960" y="1208880"/>
                <a:ext cx="1032120" cy="53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850680" y="1242000"/>
                <a:ext cx="94068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9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1612800" y="1200240"/>
              <a:ext cx="298476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7"/>
          <p:cNvSpPr/>
          <p:nvPr/>
        </p:nvSpPr>
        <p:spPr>
          <a:xfrm>
            <a:off x="828720" y="2876400"/>
            <a:ext cx="7732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老牛破车”代表过去落后的生产条件，效率很低，速度很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5"/>
          <p:cNvSpPr/>
          <p:nvPr/>
        </p:nvSpPr>
        <p:spPr>
          <a:xfrm>
            <a:off x="914400" y="211788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“老牛破车”代表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23" name="矩形 11"/>
          <p:cNvSpPr/>
          <p:nvPr/>
        </p:nvSpPr>
        <p:spPr>
          <a:xfrm>
            <a:off x="1017720" y="24526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者追寻延安，追寻的是延安精神。延安精神是全心全意为人民服务的精神，是为崇高理想献身的精神，是革命队伍中互相关心、互相爱护的精神，是自力更生、艰苦奋斗的精神。艰苦奋斗是我们的传家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3"/>
          <p:cNvSpPr/>
          <p:nvPr/>
        </p:nvSpPr>
        <p:spPr>
          <a:xfrm>
            <a:off x="849240" y="3537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排排高楼大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à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像雨后春笋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追寻你，杨家岭讲话的会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ǎ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á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6" name="矩形 17"/>
          <p:cNvSpPr/>
          <p:nvPr/>
        </p:nvSpPr>
        <p:spPr>
          <a:xfrm>
            <a:off x="758880" y="221148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出加点字的正确读音，在下面画线，并用另一个读音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"/>
          <p:cNvSpPr/>
          <p:nvPr/>
        </p:nvSpPr>
        <p:spPr>
          <a:xfrm>
            <a:off x="3619440" y="4135320"/>
            <a:ext cx="476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接连接符 15"/>
          <p:cNvSpPr/>
          <p:nvPr/>
        </p:nvSpPr>
        <p:spPr>
          <a:xfrm>
            <a:off x="5143680" y="4668840"/>
            <a:ext cx="819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0"/>
          <p:cNvSpPr/>
          <p:nvPr/>
        </p:nvSpPr>
        <p:spPr>
          <a:xfrm>
            <a:off x="7232400" y="363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厦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1"/>
          <p:cNvSpPr/>
          <p:nvPr/>
        </p:nvSpPr>
        <p:spPr>
          <a:xfrm>
            <a:off x="1765080" y="476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打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2851200" y="3686040"/>
            <a:ext cx="12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3"/>
          <p:cNvSpPr/>
          <p:nvPr/>
        </p:nvSpPr>
        <p:spPr>
          <a:xfrm>
            <a:off x="4391640" y="4237200"/>
            <a:ext cx="12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" descr="屏幕剪辑"/>
          <p:cNvPicPr/>
          <p:nvPr/>
        </p:nvPicPr>
        <p:blipFill>
          <a:blip r:embed="rId2"/>
          <a:stretch/>
        </p:blipFill>
        <p:spPr>
          <a:xfrm>
            <a:off x="2017800" y="2030400"/>
            <a:ext cx="5230800" cy="349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838080" y="905040"/>
            <a:ext cx="7769520" cy="1180800"/>
            <a:chOff x="838080" y="905040"/>
            <a:chExt cx="7769520" cy="1180800"/>
          </a:xfrm>
        </p:grpSpPr>
        <p:sp>
          <p:nvSpPr>
            <p:cNvPr id="66" name="Text Box 2"/>
            <p:cNvSpPr/>
            <p:nvPr/>
          </p:nvSpPr>
          <p:spPr>
            <a:xfrm>
              <a:off x="2097000" y="1011240"/>
              <a:ext cx="651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54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延安，我把你追寻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838080" y="905040"/>
              <a:ext cx="1180800" cy="1180800"/>
              <a:chOff x="838080" y="905040"/>
              <a:chExt cx="1180800" cy="11808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83808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10764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3693960" y="282420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726000" y="395136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797120" y="282420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827360" y="395136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矩形 21"/>
          <p:cNvSpPr/>
          <p:nvPr/>
        </p:nvSpPr>
        <p:spPr>
          <a:xfrm>
            <a:off x="803160" y="23385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iān   piān        má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ū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óu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         mí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è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2"/>
          <p:cNvSpPr/>
          <p:nvPr/>
        </p:nvSpPr>
        <p:spPr>
          <a:xfrm>
            <a:off x="2026800" y="2879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翩 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28"/>
          <p:cNvSpPr/>
          <p:nvPr/>
        </p:nvSpPr>
        <p:spPr>
          <a:xfrm>
            <a:off x="2045160" y="3994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犹 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29"/>
          <p:cNvSpPr/>
          <p:nvPr/>
        </p:nvSpPr>
        <p:spPr>
          <a:xfrm>
            <a:off x="3922560" y="2873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茅 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30"/>
          <p:cNvSpPr/>
          <p:nvPr/>
        </p:nvSpPr>
        <p:spPr>
          <a:xfrm>
            <a:off x="3951720" y="3978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明 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7"/>
          <p:cNvSpPr/>
          <p:nvPr/>
        </p:nvSpPr>
        <p:spPr>
          <a:xfrm>
            <a:off x="758880" y="162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7"/>
          <p:cNvSpPr/>
          <p:nvPr/>
        </p:nvSpPr>
        <p:spPr>
          <a:xfrm>
            <a:off x="736560" y="1411200"/>
            <a:ext cx="75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1224000" y="2170080"/>
            <a:ext cx="701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翩（　　　　）  豫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骗（　　　　）  橡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茅（　　　　）  媚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柔（　　　　）  楣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左大括号 2"/>
          <p:cNvSpPr/>
          <p:nvPr/>
        </p:nvSpPr>
        <p:spPr>
          <a:xfrm>
            <a:off x="1119240" y="252252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左大括号 17"/>
          <p:cNvSpPr/>
          <p:nvPr/>
        </p:nvSpPr>
        <p:spPr>
          <a:xfrm>
            <a:off x="3541680" y="25336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2242800" y="242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翩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4"/>
          <p:cNvSpPr/>
          <p:nvPr/>
        </p:nvSpPr>
        <p:spPr>
          <a:xfrm>
            <a:off x="2242800" y="31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骗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5"/>
          <p:cNvSpPr/>
          <p:nvPr/>
        </p:nvSpPr>
        <p:spPr>
          <a:xfrm>
            <a:off x="4714560" y="243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犹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6"/>
          <p:cNvSpPr/>
          <p:nvPr/>
        </p:nvSpPr>
        <p:spPr>
          <a:xfrm>
            <a:off x="4714560" y="3192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橡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左大括号 13"/>
          <p:cNvSpPr/>
          <p:nvPr/>
        </p:nvSpPr>
        <p:spPr>
          <a:xfrm>
            <a:off x="1114560" y="39988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左大括号 14"/>
          <p:cNvSpPr/>
          <p:nvPr/>
        </p:nvSpPr>
        <p:spPr>
          <a:xfrm>
            <a:off x="3537000" y="401004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2238120" y="3903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茅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2238120" y="4662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温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9"/>
          <p:cNvSpPr/>
          <p:nvPr/>
        </p:nvSpPr>
        <p:spPr>
          <a:xfrm>
            <a:off x="4709880" y="3909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20"/>
          <p:cNvSpPr/>
          <p:nvPr/>
        </p:nvSpPr>
        <p:spPr>
          <a:xfrm>
            <a:off x="4709880" y="45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门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888840" y="1603440"/>
            <a:ext cx="73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填上恰当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1293840" y="2560680"/>
            <a:ext cx="643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脊梁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土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电器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春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精神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理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53560" y="2668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顶天立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546084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温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8"/>
          <p:cNvSpPr/>
          <p:nvPr/>
        </p:nvSpPr>
        <p:spPr>
          <a:xfrm>
            <a:off x="1753560" y="3238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满目琳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5460840" y="318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10"/>
          <p:cNvSpPr/>
          <p:nvPr/>
        </p:nvSpPr>
        <p:spPr>
          <a:xfrm>
            <a:off x="1753560" y="377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灿烂辉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5460840" y="37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金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"/>
          <p:cNvSpPr/>
          <p:nvPr/>
        </p:nvSpPr>
        <p:spPr>
          <a:xfrm>
            <a:off x="820800" y="985680"/>
            <a:ext cx="739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按要求改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怎能向美好的未来展翅飞翔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毫不犹豫丢掉了老牛破车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“把”字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追寻延安，像燕子在追寻昔日的春光。我们追寻延安，像小树在追寻雨露和太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关联词连成一句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 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9"/>
          <p:cNvSpPr/>
          <p:nvPr/>
        </p:nvSpPr>
        <p:spPr>
          <a:xfrm>
            <a:off x="1312920" y="5319720"/>
            <a:ext cx="70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们追寻延安，既像燕子在追寻昔日的春光，又像小树在追寻雨露和太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4"/>
          <p:cNvSpPr/>
          <p:nvPr/>
        </p:nvSpPr>
        <p:spPr>
          <a:xfrm>
            <a:off x="1328760" y="21654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能向美好的未来展翅飞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5"/>
          <p:cNvSpPr/>
          <p:nvPr/>
        </p:nvSpPr>
        <p:spPr>
          <a:xfrm>
            <a:off x="1328760" y="326376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们毫不犹豫把地老牛破车丢掉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“翩翩、茅屋、窑洞、明媚”等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"/>
          <p:cNvSpPr/>
          <p:nvPr/>
        </p:nvSpPr>
        <p:spPr>
          <a:xfrm>
            <a:off x="1038240" y="1779480"/>
            <a:ext cx="76662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宝塔山　宝塔山建于唐代，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高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4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米，是融自然景观与人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景观于一体、历史文物与革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旧址合二为一的著名风景名胜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区，又称“嘉岭山”，位于延安城东南。宝塔共九层，登上塔顶，全宝塔山城风貌可尽收眼底。它是延安最重要的游览区之一。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1" descr="屏幕剪辑"/>
          <p:cNvPicPr/>
          <p:nvPr/>
        </p:nvPicPr>
        <p:blipFill>
          <a:blip r:embed="rId1"/>
          <a:stretch/>
        </p:blipFill>
        <p:spPr>
          <a:xfrm>
            <a:off x="5029200" y="1901880"/>
            <a:ext cx="3492360" cy="212076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5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Picture 2" descr="C:\Users\Administrator\Desktop\3333\助读资料.png"/>
          <p:cNvPicPr/>
          <p:nvPr/>
        </p:nvPicPr>
        <p:blipFill>
          <a:blip r:embed="rId3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翩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7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户”的竖撇不宜长，“羽”瘦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1967040" y="1868400"/>
            <a:ext cx="146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i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91"/>
          <p:cNvSpPr/>
          <p:nvPr/>
        </p:nvSpPr>
        <p:spPr>
          <a:xfrm>
            <a:off x="5568840" y="3387600"/>
            <a:ext cx="549360" cy="1392480"/>
          </a:xfrm>
          <a:custGeom>
            <a:avLst/>
            <a:gdLst/>
            <a:ahLst/>
            <a:rect l="l" t="t" r="r" b="b"/>
            <a:pathLst>
              <a:path w="693" h="1754">
                <a:moveTo>
                  <a:pt x="4" y="1752"/>
                </a:moveTo>
                <a:lnTo>
                  <a:pt x="2" y="1750"/>
                </a:lnTo>
                <a:lnTo>
                  <a:pt x="0" y="1745"/>
                </a:lnTo>
                <a:lnTo>
                  <a:pt x="0" y="1741"/>
                </a:lnTo>
                <a:lnTo>
                  <a:pt x="2" y="1735"/>
                </a:lnTo>
                <a:lnTo>
                  <a:pt x="4" y="1727"/>
                </a:lnTo>
                <a:lnTo>
                  <a:pt x="6" y="1718"/>
                </a:lnTo>
                <a:lnTo>
                  <a:pt x="10" y="1708"/>
                </a:lnTo>
                <a:lnTo>
                  <a:pt x="14" y="1699"/>
                </a:lnTo>
                <a:lnTo>
                  <a:pt x="20" y="1685"/>
                </a:lnTo>
                <a:lnTo>
                  <a:pt x="27" y="1674"/>
                </a:lnTo>
                <a:lnTo>
                  <a:pt x="35" y="1658"/>
                </a:lnTo>
                <a:lnTo>
                  <a:pt x="43" y="1643"/>
                </a:lnTo>
                <a:lnTo>
                  <a:pt x="52" y="1626"/>
                </a:lnTo>
                <a:lnTo>
                  <a:pt x="62" y="1608"/>
                </a:lnTo>
                <a:lnTo>
                  <a:pt x="73" y="1589"/>
                </a:lnTo>
                <a:lnTo>
                  <a:pt x="87" y="1570"/>
                </a:lnTo>
                <a:lnTo>
                  <a:pt x="98" y="1549"/>
                </a:lnTo>
                <a:lnTo>
                  <a:pt x="110" y="1528"/>
                </a:lnTo>
                <a:lnTo>
                  <a:pt x="123" y="1505"/>
                </a:lnTo>
                <a:lnTo>
                  <a:pt x="135" y="1480"/>
                </a:lnTo>
                <a:lnTo>
                  <a:pt x="148" y="1455"/>
                </a:lnTo>
                <a:lnTo>
                  <a:pt x="162" y="1430"/>
                </a:lnTo>
                <a:lnTo>
                  <a:pt x="177" y="1403"/>
                </a:lnTo>
                <a:lnTo>
                  <a:pt x="190" y="1374"/>
                </a:lnTo>
                <a:lnTo>
                  <a:pt x="206" y="1345"/>
                </a:lnTo>
                <a:lnTo>
                  <a:pt x="221" y="1317"/>
                </a:lnTo>
                <a:lnTo>
                  <a:pt x="237" y="1284"/>
                </a:lnTo>
                <a:lnTo>
                  <a:pt x="252" y="1251"/>
                </a:lnTo>
                <a:lnTo>
                  <a:pt x="267" y="1217"/>
                </a:lnTo>
                <a:lnTo>
                  <a:pt x="283" y="1182"/>
                </a:lnTo>
                <a:lnTo>
                  <a:pt x="298" y="1146"/>
                </a:lnTo>
                <a:lnTo>
                  <a:pt x="313" y="1108"/>
                </a:lnTo>
                <a:lnTo>
                  <a:pt x="327" y="1069"/>
                </a:lnTo>
                <a:lnTo>
                  <a:pt x="342" y="1031"/>
                </a:lnTo>
                <a:lnTo>
                  <a:pt x="356" y="992"/>
                </a:lnTo>
                <a:lnTo>
                  <a:pt x="369" y="954"/>
                </a:lnTo>
                <a:lnTo>
                  <a:pt x="381" y="916"/>
                </a:lnTo>
                <a:lnTo>
                  <a:pt x="392" y="879"/>
                </a:lnTo>
                <a:lnTo>
                  <a:pt x="404" y="841"/>
                </a:lnTo>
                <a:lnTo>
                  <a:pt x="413" y="804"/>
                </a:lnTo>
                <a:lnTo>
                  <a:pt x="423" y="768"/>
                </a:lnTo>
                <a:lnTo>
                  <a:pt x="432" y="730"/>
                </a:lnTo>
                <a:lnTo>
                  <a:pt x="442" y="693"/>
                </a:lnTo>
                <a:lnTo>
                  <a:pt x="450" y="657"/>
                </a:lnTo>
                <a:lnTo>
                  <a:pt x="465" y="584"/>
                </a:lnTo>
                <a:lnTo>
                  <a:pt x="478" y="511"/>
                </a:lnTo>
                <a:lnTo>
                  <a:pt x="486" y="476"/>
                </a:lnTo>
                <a:lnTo>
                  <a:pt x="492" y="444"/>
                </a:lnTo>
                <a:lnTo>
                  <a:pt x="496" y="413"/>
                </a:lnTo>
                <a:lnTo>
                  <a:pt x="501" y="382"/>
                </a:lnTo>
                <a:lnTo>
                  <a:pt x="505" y="353"/>
                </a:lnTo>
                <a:lnTo>
                  <a:pt x="509" y="327"/>
                </a:lnTo>
                <a:lnTo>
                  <a:pt x="511" y="300"/>
                </a:lnTo>
                <a:lnTo>
                  <a:pt x="515" y="273"/>
                </a:lnTo>
                <a:lnTo>
                  <a:pt x="517" y="248"/>
                </a:lnTo>
                <a:lnTo>
                  <a:pt x="519" y="225"/>
                </a:lnTo>
                <a:lnTo>
                  <a:pt x="519" y="204"/>
                </a:lnTo>
                <a:lnTo>
                  <a:pt x="519" y="183"/>
                </a:lnTo>
                <a:lnTo>
                  <a:pt x="519" y="162"/>
                </a:lnTo>
                <a:lnTo>
                  <a:pt x="519" y="142"/>
                </a:lnTo>
                <a:lnTo>
                  <a:pt x="517" y="125"/>
                </a:lnTo>
                <a:lnTo>
                  <a:pt x="515" y="110"/>
                </a:lnTo>
                <a:lnTo>
                  <a:pt x="513" y="96"/>
                </a:lnTo>
                <a:lnTo>
                  <a:pt x="511" y="83"/>
                </a:lnTo>
                <a:lnTo>
                  <a:pt x="511" y="71"/>
                </a:lnTo>
                <a:lnTo>
                  <a:pt x="511" y="62"/>
                </a:lnTo>
                <a:lnTo>
                  <a:pt x="511" y="52"/>
                </a:lnTo>
                <a:lnTo>
                  <a:pt x="511" y="43"/>
                </a:lnTo>
                <a:lnTo>
                  <a:pt x="513" y="35"/>
                </a:lnTo>
                <a:lnTo>
                  <a:pt x="513" y="27"/>
                </a:lnTo>
                <a:lnTo>
                  <a:pt x="515" y="20"/>
                </a:lnTo>
                <a:lnTo>
                  <a:pt x="517" y="16"/>
                </a:lnTo>
                <a:lnTo>
                  <a:pt x="521" y="10"/>
                </a:lnTo>
                <a:lnTo>
                  <a:pt x="523" y="6"/>
                </a:lnTo>
                <a:lnTo>
                  <a:pt x="526" y="4"/>
                </a:lnTo>
                <a:lnTo>
                  <a:pt x="530" y="0"/>
                </a:lnTo>
                <a:lnTo>
                  <a:pt x="534" y="0"/>
                </a:lnTo>
                <a:lnTo>
                  <a:pt x="538" y="0"/>
                </a:lnTo>
                <a:lnTo>
                  <a:pt x="542" y="0"/>
                </a:lnTo>
                <a:lnTo>
                  <a:pt x="546" y="0"/>
                </a:lnTo>
                <a:lnTo>
                  <a:pt x="549" y="2"/>
                </a:lnTo>
                <a:lnTo>
                  <a:pt x="555" y="4"/>
                </a:lnTo>
                <a:lnTo>
                  <a:pt x="563" y="6"/>
                </a:lnTo>
                <a:lnTo>
                  <a:pt x="571" y="8"/>
                </a:lnTo>
                <a:lnTo>
                  <a:pt x="580" y="12"/>
                </a:lnTo>
                <a:lnTo>
                  <a:pt x="590" y="16"/>
                </a:lnTo>
                <a:lnTo>
                  <a:pt x="599" y="20"/>
                </a:lnTo>
                <a:lnTo>
                  <a:pt x="611" y="25"/>
                </a:lnTo>
                <a:lnTo>
                  <a:pt x="622" y="29"/>
                </a:lnTo>
                <a:lnTo>
                  <a:pt x="636" y="35"/>
                </a:lnTo>
                <a:lnTo>
                  <a:pt x="649" y="41"/>
                </a:lnTo>
                <a:lnTo>
                  <a:pt x="663" y="46"/>
                </a:lnTo>
                <a:lnTo>
                  <a:pt x="678" y="54"/>
                </a:lnTo>
                <a:lnTo>
                  <a:pt x="693" y="60"/>
                </a:lnTo>
                <a:lnTo>
                  <a:pt x="688" y="129"/>
                </a:lnTo>
                <a:lnTo>
                  <a:pt x="682" y="194"/>
                </a:lnTo>
                <a:lnTo>
                  <a:pt x="674" y="259"/>
                </a:lnTo>
                <a:lnTo>
                  <a:pt x="667" y="325"/>
                </a:lnTo>
                <a:lnTo>
                  <a:pt x="657" y="388"/>
                </a:lnTo>
                <a:lnTo>
                  <a:pt x="645" y="451"/>
                </a:lnTo>
                <a:lnTo>
                  <a:pt x="634" y="511"/>
                </a:lnTo>
                <a:lnTo>
                  <a:pt x="622" y="572"/>
                </a:lnTo>
                <a:lnTo>
                  <a:pt x="615" y="601"/>
                </a:lnTo>
                <a:lnTo>
                  <a:pt x="607" y="632"/>
                </a:lnTo>
                <a:lnTo>
                  <a:pt x="599" y="662"/>
                </a:lnTo>
                <a:lnTo>
                  <a:pt x="592" y="693"/>
                </a:lnTo>
                <a:lnTo>
                  <a:pt x="582" y="724"/>
                </a:lnTo>
                <a:lnTo>
                  <a:pt x="573" y="754"/>
                </a:lnTo>
                <a:lnTo>
                  <a:pt x="551" y="820"/>
                </a:lnTo>
                <a:lnTo>
                  <a:pt x="530" y="885"/>
                </a:lnTo>
                <a:lnTo>
                  <a:pt x="519" y="919"/>
                </a:lnTo>
                <a:lnTo>
                  <a:pt x="505" y="954"/>
                </a:lnTo>
                <a:lnTo>
                  <a:pt x="494" y="989"/>
                </a:lnTo>
                <a:lnTo>
                  <a:pt x="480" y="1023"/>
                </a:lnTo>
                <a:lnTo>
                  <a:pt x="469" y="1060"/>
                </a:lnTo>
                <a:lnTo>
                  <a:pt x="455" y="1096"/>
                </a:lnTo>
                <a:lnTo>
                  <a:pt x="440" y="1131"/>
                </a:lnTo>
                <a:lnTo>
                  <a:pt x="425" y="1167"/>
                </a:lnTo>
                <a:lnTo>
                  <a:pt x="409" y="1202"/>
                </a:lnTo>
                <a:lnTo>
                  <a:pt x="394" y="1234"/>
                </a:lnTo>
                <a:lnTo>
                  <a:pt x="377" y="1267"/>
                </a:lnTo>
                <a:lnTo>
                  <a:pt x="361" y="1299"/>
                </a:lnTo>
                <a:lnTo>
                  <a:pt x="346" y="1330"/>
                </a:lnTo>
                <a:lnTo>
                  <a:pt x="329" y="1359"/>
                </a:lnTo>
                <a:lnTo>
                  <a:pt x="313" y="1390"/>
                </a:lnTo>
                <a:lnTo>
                  <a:pt x="296" y="1416"/>
                </a:lnTo>
                <a:lnTo>
                  <a:pt x="279" y="1445"/>
                </a:lnTo>
                <a:lnTo>
                  <a:pt x="263" y="1472"/>
                </a:lnTo>
                <a:lnTo>
                  <a:pt x="246" y="1497"/>
                </a:lnTo>
                <a:lnTo>
                  <a:pt x="229" y="1522"/>
                </a:lnTo>
                <a:lnTo>
                  <a:pt x="212" y="1547"/>
                </a:lnTo>
                <a:lnTo>
                  <a:pt x="194" y="1570"/>
                </a:lnTo>
                <a:lnTo>
                  <a:pt x="175" y="1595"/>
                </a:lnTo>
                <a:lnTo>
                  <a:pt x="156" y="1616"/>
                </a:lnTo>
                <a:lnTo>
                  <a:pt x="139" y="1637"/>
                </a:lnTo>
                <a:lnTo>
                  <a:pt x="123" y="1656"/>
                </a:lnTo>
                <a:lnTo>
                  <a:pt x="108" y="1674"/>
                </a:lnTo>
                <a:lnTo>
                  <a:pt x="95" y="1691"/>
                </a:lnTo>
                <a:lnTo>
                  <a:pt x="81" y="1704"/>
                </a:lnTo>
                <a:lnTo>
                  <a:pt x="68" y="1716"/>
                </a:lnTo>
                <a:lnTo>
                  <a:pt x="56" y="1727"/>
                </a:lnTo>
                <a:lnTo>
                  <a:pt x="47" y="1735"/>
                </a:lnTo>
                <a:lnTo>
                  <a:pt x="37" y="1743"/>
                </a:lnTo>
                <a:lnTo>
                  <a:pt x="29" y="1748"/>
                </a:lnTo>
                <a:lnTo>
                  <a:pt x="22" y="1752"/>
                </a:lnTo>
                <a:lnTo>
                  <a:pt x="14" y="1754"/>
                </a:lnTo>
                <a:lnTo>
                  <a:pt x="8" y="1754"/>
                </a:lnTo>
                <a:lnTo>
                  <a:pt x="4" y="17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92"/>
          <p:cNvSpPr/>
          <p:nvPr/>
        </p:nvSpPr>
        <p:spPr>
          <a:xfrm>
            <a:off x="6041880" y="3309840"/>
            <a:ext cx="633600" cy="384120"/>
          </a:xfrm>
          <a:custGeom>
            <a:avLst/>
            <a:gdLst/>
            <a:ahLst/>
            <a:rect l="l" t="t" r="r" b="b"/>
            <a:pathLst>
              <a:path w="797" h="485">
                <a:moveTo>
                  <a:pt x="513" y="485"/>
                </a:moveTo>
                <a:lnTo>
                  <a:pt x="513" y="441"/>
                </a:lnTo>
                <a:lnTo>
                  <a:pt x="513" y="418"/>
                </a:lnTo>
                <a:lnTo>
                  <a:pt x="513" y="395"/>
                </a:lnTo>
                <a:lnTo>
                  <a:pt x="515" y="372"/>
                </a:lnTo>
                <a:lnTo>
                  <a:pt x="517" y="349"/>
                </a:lnTo>
                <a:lnTo>
                  <a:pt x="521" y="326"/>
                </a:lnTo>
                <a:lnTo>
                  <a:pt x="525" y="303"/>
                </a:lnTo>
                <a:lnTo>
                  <a:pt x="528" y="285"/>
                </a:lnTo>
                <a:lnTo>
                  <a:pt x="530" y="268"/>
                </a:lnTo>
                <a:lnTo>
                  <a:pt x="532" y="253"/>
                </a:lnTo>
                <a:lnTo>
                  <a:pt x="532" y="239"/>
                </a:lnTo>
                <a:lnTo>
                  <a:pt x="532" y="226"/>
                </a:lnTo>
                <a:lnTo>
                  <a:pt x="530" y="214"/>
                </a:lnTo>
                <a:lnTo>
                  <a:pt x="528" y="203"/>
                </a:lnTo>
                <a:lnTo>
                  <a:pt x="525" y="193"/>
                </a:lnTo>
                <a:lnTo>
                  <a:pt x="521" y="190"/>
                </a:lnTo>
                <a:lnTo>
                  <a:pt x="517" y="186"/>
                </a:lnTo>
                <a:lnTo>
                  <a:pt x="511" y="182"/>
                </a:lnTo>
                <a:lnTo>
                  <a:pt x="503" y="180"/>
                </a:lnTo>
                <a:lnTo>
                  <a:pt x="496" y="178"/>
                </a:lnTo>
                <a:lnTo>
                  <a:pt x="486" y="178"/>
                </a:lnTo>
                <a:lnTo>
                  <a:pt x="475" y="176"/>
                </a:lnTo>
                <a:lnTo>
                  <a:pt x="461" y="176"/>
                </a:lnTo>
                <a:lnTo>
                  <a:pt x="448" y="178"/>
                </a:lnTo>
                <a:lnTo>
                  <a:pt x="432" y="180"/>
                </a:lnTo>
                <a:lnTo>
                  <a:pt x="415" y="182"/>
                </a:lnTo>
                <a:lnTo>
                  <a:pt x="398" y="186"/>
                </a:lnTo>
                <a:lnTo>
                  <a:pt x="377" y="190"/>
                </a:lnTo>
                <a:lnTo>
                  <a:pt x="356" y="193"/>
                </a:lnTo>
                <a:lnTo>
                  <a:pt x="334" y="199"/>
                </a:lnTo>
                <a:lnTo>
                  <a:pt x="310" y="207"/>
                </a:lnTo>
                <a:lnTo>
                  <a:pt x="285" y="213"/>
                </a:lnTo>
                <a:lnTo>
                  <a:pt x="258" y="218"/>
                </a:lnTo>
                <a:lnTo>
                  <a:pt x="233" y="224"/>
                </a:lnTo>
                <a:lnTo>
                  <a:pt x="210" y="230"/>
                </a:lnTo>
                <a:lnTo>
                  <a:pt x="187" y="234"/>
                </a:lnTo>
                <a:lnTo>
                  <a:pt x="166" y="237"/>
                </a:lnTo>
                <a:lnTo>
                  <a:pt x="144" y="241"/>
                </a:lnTo>
                <a:lnTo>
                  <a:pt x="125" y="245"/>
                </a:lnTo>
                <a:lnTo>
                  <a:pt x="106" y="247"/>
                </a:lnTo>
                <a:lnTo>
                  <a:pt x="87" y="249"/>
                </a:lnTo>
                <a:lnTo>
                  <a:pt x="70" y="251"/>
                </a:lnTo>
                <a:lnTo>
                  <a:pt x="54" y="253"/>
                </a:lnTo>
                <a:lnTo>
                  <a:pt x="39" y="253"/>
                </a:lnTo>
                <a:lnTo>
                  <a:pt x="25" y="255"/>
                </a:lnTo>
                <a:lnTo>
                  <a:pt x="12" y="255"/>
                </a:lnTo>
                <a:lnTo>
                  <a:pt x="0" y="255"/>
                </a:lnTo>
                <a:lnTo>
                  <a:pt x="0" y="157"/>
                </a:lnTo>
                <a:lnTo>
                  <a:pt x="41" y="157"/>
                </a:lnTo>
                <a:lnTo>
                  <a:pt x="81" y="155"/>
                </a:lnTo>
                <a:lnTo>
                  <a:pt x="121" y="151"/>
                </a:lnTo>
                <a:lnTo>
                  <a:pt x="162" y="147"/>
                </a:lnTo>
                <a:lnTo>
                  <a:pt x="202" y="140"/>
                </a:lnTo>
                <a:lnTo>
                  <a:pt x="221" y="136"/>
                </a:lnTo>
                <a:lnTo>
                  <a:pt x="242" y="132"/>
                </a:lnTo>
                <a:lnTo>
                  <a:pt x="262" y="126"/>
                </a:lnTo>
                <a:lnTo>
                  <a:pt x="283" y="120"/>
                </a:lnTo>
                <a:lnTo>
                  <a:pt x="302" y="115"/>
                </a:lnTo>
                <a:lnTo>
                  <a:pt x="323" y="109"/>
                </a:lnTo>
                <a:lnTo>
                  <a:pt x="342" y="103"/>
                </a:lnTo>
                <a:lnTo>
                  <a:pt x="361" y="99"/>
                </a:lnTo>
                <a:lnTo>
                  <a:pt x="379" y="95"/>
                </a:lnTo>
                <a:lnTo>
                  <a:pt x="396" y="90"/>
                </a:lnTo>
                <a:lnTo>
                  <a:pt x="411" y="86"/>
                </a:lnTo>
                <a:lnTo>
                  <a:pt x="427" y="80"/>
                </a:lnTo>
                <a:lnTo>
                  <a:pt x="442" y="76"/>
                </a:lnTo>
                <a:lnTo>
                  <a:pt x="455" y="72"/>
                </a:lnTo>
                <a:lnTo>
                  <a:pt x="469" y="67"/>
                </a:lnTo>
                <a:lnTo>
                  <a:pt x="480" y="63"/>
                </a:lnTo>
                <a:lnTo>
                  <a:pt x="492" y="59"/>
                </a:lnTo>
                <a:lnTo>
                  <a:pt x="503" y="53"/>
                </a:lnTo>
                <a:lnTo>
                  <a:pt x="513" y="49"/>
                </a:lnTo>
                <a:lnTo>
                  <a:pt x="521" y="46"/>
                </a:lnTo>
                <a:lnTo>
                  <a:pt x="528" y="40"/>
                </a:lnTo>
                <a:lnTo>
                  <a:pt x="536" y="36"/>
                </a:lnTo>
                <a:lnTo>
                  <a:pt x="546" y="26"/>
                </a:lnTo>
                <a:lnTo>
                  <a:pt x="553" y="19"/>
                </a:lnTo>
                <a:lnTo>
                  <a:pt x="563" y="13"/>
                </a:lnTo>
                <a:lnTo>
                  <a:pt x="571" y="7"/>
                </a:lnTo>
                <a:lnTo>
                  <a:pt x="580" y="3"/>
                </a:lnTo>
                <a:lnTo>
                  <a:pt x="590" y="1"/>
                </a:lnTo>
                <a:lnTo>
                  <a:pt x="597" y="0"/>
                </a:lnTo>
                <a:lnTo>
                  <a:pt x="607" y="0"/>
                </a:lnTo>
                <a:lnTo>
                  <a:pt x="609" y="0"/>
                </a:lnTo>
                <a:lnTo>
                  <a:pt x="613" y="0"/>
                </a:lnTo>
                <a:lnTo>
                  <a:pt x="617" y="1"/>
                </a:lnTo>
                <a:lnTo>
                  <a:pt x="621" y="3"/>
                </a:lnTo>
                <a:lnTo>
                  <a:pt x="626" y="5"/>
                </a:lnTo>
                <a:lnTo>
                  <a:pt x="630" y="9"/>
                </a:lnTo>
                <a:lnTo>
                  <a:pt x="636" y="11"/>
                </a:lnTo>
                <a:lnTo>
                  <a:pt x="644" y="15"/>
                </a:lnTo>
                <a:lnTo>
                  <a:pt x="649" y="21"/>
                </a:lnTo>
                <a:lnTo>
                  <a:pt x="657" y="24"/>
                </a:lnTo>
                <a:lnTo>
                  <a:pt x="665" y="30"/>
                </a:lnTo>
                <a:lnTo>
                  <a:pt x="674" y="34"/>
                </a:lnTo>
                <a:lnTo>
                  <a:pt x="684" y="40"/>
                </a:lnTo>
                <a:lnTo>
                  <a:pt x="693" y="48"/>
                </a:lnTo>
                <a:lnTo>
                  <a:pt x="703" y="53"/>
                </a:lnTo>
                <a:lnTo>
                  <a:pt x="715" y="61"/>
                </a:lnTo>
                <a:lnTo>
                  <a:pt x="724" y="69"/>
                </a:lnTo>
                <a:lnTo>
                  <a:pt x="734" y="76"/>
                </a:lnTo>
                <a:lnTo>
                  <a:pt x="743" y="86"/>
                </a:lnTo>
                <a:lnTo>
                  <a:pt x="753" y="92"/>
                </a:lnTo>
                <a:lnTo>
                  <a:pt x="759" y="99"/>
                </a:lnTo>
                <a:lnTo>
                  <a:pt x="766" y="105"/>
                </a:lnTo>
                <a:lnTo>
                  <a:pt x="772" y="111"/>
                </a:lnTo>
                <a:lnTo>
                  <a:pt x="778" y="117"/>
                </a:lnTo>
                <a:lnTo>
                  <a:pt x="782" y="120"/>
                </a:lnTo>
                <a:lnTo>
                  <a:pt x="788" y="126"/>
                </a:lnTo>
                <a:lnTo>
                  <a:pt x="789" y="130"/>
                </a:lnTo>
                <a:lnTo>
                  <a:pt x="793" y="134"/>
                </a:lnTo>
                <a:lnTo>
                  <a:pt x="795" y="138"/>
                </a:lnTo>
                <a:lnTo>
                  <a:pt x="797" y="140"/>
                </a:lnTo>
                <a:lnTo>
                  <a:pt x="797" y="143"/>
                </a:lnTo>
                <a:lnTo>
                  <a:pt x="797" y="145"/>
                </a:lnTo>
                <a:lnTo>
                  <a:pt x="793" y="151"/>
                </a:lnTo>
                <a:lnTo>
                  <a:pt x="788" y="157"/>
                </a:lnTo>
                <a:lnTo>
                  <a:pt x="784" y="163"/>
                </a:lnTo>
                <a:lnTo>
                  <a:pt x="778" y="170"/>
                </a:lnTo>
                <a:lnTo>
                  <a:pt x="772" y="180"/>
                </a:lnTo>
                <a:lnTo>
                  <a:pt x="766" y="188"/>
                </a:lnTo>
                <a:lnTo>
                  <a:pt x="759" y="197"/>
                </a:lnTo>
                <a:lnTo>
                  <a:pt x="749" y="207"/>
                </a:lnTo>
                <a:lnTo>
                  <a:pt x="745" y="211"/>
                </a:lnTo>
                <a:lnTo>
                  <a:pt x="740" y="218"/>
                </a:lnTo>
                <a:lnTo>
                  <a:pt x="736" y="228"/>
                </a:lnTo>
                <a:lnTo>
                  <a:pt x="730" y="237"/>
                </a:lnTo>
                <a:lnTo>
                  <a:pt x="724" y="249"/>
                </a:lnTo>
                <a:lnTo>
                  <a:pt x="717" y="264"/>
                </a:lnTo>
                <a:lnTo>
                  <a:pt x="711" y="280"/>
                </a:lnTo>
                <a:lnTo>
                  <a:pt x="703" y="295"/>
                </a:lnTo>
                <a:lnTo>
                  <a:pt x="695" y="314"/>
                </a:lnTo>
                <a:lnTo>
                  <a:pt x="688" y="333"/>
                </a:lnTo>
                <a:lnTo>
                  <a:pt x="680" y="356"/>
                </a:lnTo>
                <a:lnTo>
                  <a:pt x="670" y="379"/>
                </a:lnTo>
                <a:lnTo>
                  <a:pt x="661" y="402"/>
                </a:lnTo>
                <a:lnTo>
                  <a:pt x="651" y="429"/>
                </a:lnTo>
                <a:lnTo>
                  <a:pt x="642" y="456"/>
                </a:lnTo>
                <a:lnTo>
                  <a:pt x="632" y="485"/>
                </a:lnTo>
                <a:lnTo>
                  <a:pt x="513" y="4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93"/>
          <p:cNvSpPr/>
          <p:nvPr/>
        </p:nvSpPr>
        <p:spPr>
          <a:xfrm>
            <a:off x="6024600" y="3648240"/>
            <a:ext cx="576360" cy="182520"/>
          </a:xfrm>
          <a:custGeom>
            <a:avLst/>
            <a:gdLst/>
            <a:ahLst/>
            <a:rect l="l" t="t" r="r" b="b"/>
            <a:pathLst>
              <a:path w="726" h="230">
                <a:moveTo>
                  <a:pt x="286" y="72"/>
                </a:moveTo>
                <a:lnTo>
                  <a:pt x="313" y="63"/>
                </a:lnTo>
                <a:lnTo>
                  <a:pt x="340" y="55"/>
                </a:lnTo>
                <a:lnTo>
                  <a:pt x="365" y="47"/>
                </a:lnTo>
                <a:lnTo>
                  <a:pt x="390" y="40"/>
                </a:lnTo>
                <a:lnTo>
                  <a:pt x="413" y="34"/>
                </a:lnTo>
                <a:lnTo>
                  <a:pt x="434" y="26"/>
                </a:lnTo>
                <a:lnTo>
                  <a:pt x="453" y="23"/>
                </a:lnTo>
                <a:lnTo>
                  <a:pt x="473" y="17"/>
                </a:lnTo>
                <a:lnTo>
                  <a:pt x="490" y="13"/>
                </a:lnTo>
                <a:lnTo>
                  <a:pt x="505" y="9"/>
                </a:lnTo>
                <a:lnTo>
                  <a:pt x="521" y="5"/>
                </a:lnTo>
                <a:lnTo>
                  <a:pt x="532" y="3"/>
                </a:lnTo>
                <a:lnTo>
                  <a:pt x="544" y="1"/>
                </a:lnTo>
                <a:lnTo>
                  <a:pt x="555" y="0"/>
                </a:lnTo>
                <a:lnTo>
                  <a:pt x="563" y="0"/>
                </a:lnTo>
                <a:lnTo>
                  <a:pt x="571" y="0"/>
                </a:lnTo>
                <a:lnTo>
                  <a:pt x="597" y="0"/>
                </a:lnTo>
                <a:lnTo>
                  <a:pt x="611" y="0"/>
                </a:lnTo>
                <a:lnTo>
                  <a:pt x="624" y="1"/>
                </a:lnTo>
                <a:lnTo>
                  <a:pt x="638" y="1"/>
                </a:lnTo>
                <a:lnTo>
                  <a:pt x="651" y="3"/>
                </a:lnTo>
                <a:lnTo>
                  <a:pt x="665" y="7"/>
                </a:lnTo>
                <a:lnTo>
                  <a:pt x="678" y="11"/>
                </a:lnTo>
                <a:lnTo>
                  <a:pt x="684" y="13"/>
                </a:lnTo>
                <a:lnTo>
                  <a:pt x="690" y="17"/>
                </a:lnTo>
                <a:lnTo>
                  <a:pt x="695" y="19"/>
                </a:lnTo>
                <a:lnTo>
                  <a:pt x="699" y="23"/>
                </a:lnTo>
                <a:lnTo>
                  <a:pt x="705" y="26"/>
                </a:lnTo>
                <a:lnTo>
                  <a:pt x="709" y="28"/>
                </a:lnTo>
                <a:lnTo>
                  <a:pt x="715" y="36"/>
                </a:lnTo>
                <a:lnTo>
                  <a:pt x="720" y="42"/>
                </a:lnTo>
                <a:lnTo>
                  <a:pt x="722" y="49"/>
                </a:lnTo>
                <a:lnTo>
                  <a:pt x="724" y="55"/>
                </a:lnTo>
                <a:lnTo>
                  <a:pt x="726" y="59"/>
                </a:lnTo>
                <a:lnTo>
                  <a:pt x="724" y="63"/>
                </a:lnTo>
                <a:lnTo>
                  <a:pt x="724" y="65"/>
                </a:lnTo>
                <a:lnTo>
                  <a:pt x="722" y="67"/>
                </a:lnTo>
                <a:lnTo>
                  <a:pt x="720" y="69"/>
                </a:lnTo>
                <a:lnTo>
                  <a:pt x="716" y="72"/>
                </a:lnTo>
                <a:lnTo>
                  <a:pt x="715" y="74"/>
                </a:lnTo>
                <a:lnTo>
                  <a:pt x="711" y="78"/>
                </a:lnTo>
                <a:lnTo>
                  <a:pt x="705" y="80"/>
                </a:lnTo>
                <a:lnTo>
                  <a:pt x="699" y="82"/>
                </a:lnTo>
                <a:lnTo>
                  <a:pt x="693" y="86"/>
                </a:lnTo>
                <a:lnTo>
                  <a:pt x="688" y="88"/>
                </a:lnTo>
                <a:lnTo>
                  <a:pt x="680" y="92"/>
                </a:lnTo>
                <a:lnTo>
                  <a:pt x="672" y="95"/>
                </a:lnTo>
                <a:lnTo>
                  <a:pt x="665" y="97"/>
                </a:lnTo>
                <a:lnTo>
                  <a:pt x="655" y="101"/>
                </a:lnTo>
                <a:lnTo>
                  <a:pt x="647" y="103"/>
                </a:lnTo>
                <a:lnTo>
                  <a:pt x="636" y="107"/>
                </a:lnTo>
                <a:lnTo>
                  <a:pt x="626" y="111"/>
                </a:lnTo>
                <a:lnTo>
                  <a:pt x="615" y="113"/>
                </a:lnTo>
                <a:lnTo>
                  <a:pt x="603" y="117"/>
                </a:lnTo>
                <a:lnTo>
                  <a:pt x="590" y="120"/>
                </a:lnTo>
                <a:lnTo>
                  <a:pt x="578" y="122"/>
                </a:lnTo>
                <a:lnTo>
                  <a:pt x="563" y="126"/>
                </a:lnTo>
                <a:lnTo>
                  <a:pt x="549" y="130"/>
                </a:lnTo>
                <a:lnTo>
                  <a:pt x="534" y="134"/>
                </a:lnTo>
                <a:lnTo>
                  <a:pt x="521" y="136"/>
                </a:lnTo>
                <a:lnTo>
                  <a:pt x="503" y="140"/>
                </a:lnTo>
                <a:lnTo>
                  <a:pt x="488" y="143"/>
                </a:lnTo>
                <a:lnTo>
                  <a:pt x="471" y="147"/>
                </a:lnTo>
                <a:lnTo>
                  <a:pt x="453" y="151"/>
                </a:lnTo>
                <a:lnTo>
                  <a:pt x="434" y="153"/>
                </a:lnTo>
                <a:lnTo>
                  <a:pt x="417" y="157"/>
                </a:lnTo>
                <a:lnTo>
                  <a:pt x="377" y="166"/>
                </a:lnTo>
                <a:lnTo>
                  <a:pt x="340" y="174"/>
                </a:lnTo>
                <a:lnTo>
                  <a:pt x="304" y="182"/>
                </a:lnTo>
                <a:lnTo>
                  <a:pt x="269" y="189"/>
                </a:lnTo>
                <a:lnTo>
                  <a:pt x="237" y="197"/>
                </a:lnTo>
                <a:lnTo>
                  <a:pt x="206" y="203"/>
                </a:lnTo>
                <a:lnTo>
                  <a:pt x="177" y="207"/>
                </a:lnTo>
                <a:lnTo>
                  <a:pt x="150" y="212"/>
                </a:lnTo>
                <a:lnTo>
                  <a:pt x="125" y="216"/>
                </a:lnTo>
                <a:lnTo>
                  <a:pt x="102" y="220"/>
                </a:lnTo>
                <a:lnTo>
                  <a:pt x="79" y="224"/>
                </a:lnTo>
                <a:lnTo>
                  <a:pt x="60" y="226"/>
                </a:lnTo>
                <a:lnTo>
                  <a:pt x="43" y="228"/>
                </a:lnTo>
                <a:lnTo>
                  <a:pt x="27" y="230"/>
                </a:lnTo>
                <a:lnTo>
                  <a:pt x="20" y="230"/>
                </a:lnTo>
                <a:lnTo>
                  <a:pt x="12" y="230"/>
                </a:lnTo>
                <a:lnTo>
                  <a:pt x="6" y="230"/>
                </a:lnTo>
                <a:lnTo>
                  <a:pt x="0" y="230"/>
                </a:lnTo>
                <a:lnTo>
                  <a:pt x="0" y="134"/>
                </a:lnTo>
                <a:lnTo>
                  <a:pt x="8" y="132"/>
                </a:lnTo>
                <a:lnTo>
                  <a:pt x="16" y="132"/>
                </a:lnTo>
                <a:lnTo>
                  <a:pt x="27" y="130"/>
                </a:lnTo>
                <a:lnTo>
                  <a:pt x="39" y="128"/>
                </a:lnTo>
                <a:lnTo>
                  <a:pt x="50" y="126"/>
                </a:lnTo>
                <a:lnTo>
                  <a:pt x="66" y="124"/>
                </a:lnTo>
                <a:lnTo>
                  <a:pt x="81" y="120"/>
                </a:lnTo>
                <a:lnTo>
                  <a:pt x="98" y="117"/>
                </a:lnTo>
                <a:lnTo>
                  <a:pt x="118" y="113"/>
                </a:lnTo>
                <a:lnTo>
                  <a:pt x="137" y="107"/>
                </a:lnTo>
                <a:lnTo>
                  <a:pt x="158" y="103"/>
                </a:lnTo>
                <a:lnTo>
                  <a:pt x="181" y="97"/>
                </a:lnTo>
                <a:lnTo>
                  <a:pt x="206" y="92"/>
                </a:lnTo>
                <a:lnTo>
                  <a:pt x="231" y="86"/>
                </a:lnTo>
                <a:lnTo>
                  <a:pt x="258" y="78"/>
                </a:lnTo>
                <a:lnTo>
                  <a:pt x="286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94"/>
          <p:cNvSpPr/>
          <p:nvPr/>
        </p:nvSpPr>
        <p:spPr>
          <a:xfrm>
            <a:off x="6229440" y="2951280"/>
            <a:ext cx="314280" cy="260280"/>
          </a:xfrm>
          <a:custGeom>
            <a:avLst/>
            <a:gdLst/>
            <a:ahLst/>
            <a:rect l="l" t="t" r="r" b="b"/>
            <a:pathLst>
              <a:path w="395" h="328">
                <a:moveTo>
                  <a:pt x="311" y="328"/>
                </a:moveTo>
                <a:lnTo>
                  <a:pt x="309" y="328"/>
                </a:lnTo>
                <a:lnTo>
                  <a:pt x="305" y="326"/>
                </a:lnTo>
                <a:lnTo>
                  <a:pt x="299" y="324"/>
                </a:lnTo>
                <a:lnTo>
                  <a:pt x="293" y="320"/>
                </a:lnTo>
                <a:lnTo>
                  <a:pt x="286" y="314"/>
                </a:lnTo>
                <a:lnTo>
                  <a:pt x="278" y="309"/>
                </a:lnTo>
                <a:lnTo>
                  <a:pt x="268" y="301"/>
                </a:lnTo>
                <a:lnTo>
                  <a:pt x="259" y="293"/>
                </a:lnTo>
                <a:lnTo>
                  <a:pt x="247" y="286"/>
                </a:lnTo>
                <a:lnTo>
                  <a:pt x="236" y="274"/>
                </a:lnTo>
                <a:lnTo>
                  <a:pt x="222" y="264"/>
                </a:lnTo>
                <a:lnTo>
                  <a:pt x="209" y="251"/>
                </a:lnTo>
                <a:lnTo>
                  <a:pt x="193" y="239"/>
                </a:lnTo>
                <a:lnTo>
                  <a:pt x="178" y="224"/>
                </a:lnTo>
                <a:lnTo>
                  <a:pt x="161" y="211"/>
                </a:lnTo>
                <a:lnTo>
                  <a:pt x="144" y="195"/>
                </a:lnTo>
                <a:lnTo>
                  <a:pt x="126" y="178"/>
                </a:lnTo>
                <a:lnTo>
                  <a:pt x="111" y="165"/>
                </a:lnTo>
                <a:lnTo>
                  <a:pt x="96" y="149"/>
                </a:lnTo>
                <a:lnTo>
                  <a:pt x="82" y="136"/>
                </a:lnTo>
                <a:lnTo>
                  <a:pt x="69" y="124"/>
                </a:lnTo>
                <a:lnTo>
                  <a:pt x="57" y="113"/>
                </a:lnTo>
                <a:lnTo>
                  <a:pt x="48" y="101"/>
                </a:lnTo>
                <a:lnTo>
                  <a:pt x="38" y="92"/>
                </a:lnTo>
                <a:lnTo>
                  <a:pt x="28" y="82"/>
                </a:lnTo>
                <a:lnTo>
                  <a:pt x="23" y="74"/>
                </a:lnTo>
                <a:lnTo>
                  <a:pt x="15" y="67"/>
                </a:lnTo>
                <a:lnTo>
                  <a:pt x="11" y="59"/>
                </a:lnTo>
                <a:lnTo>
                  <a:pt x="7" y="53"/>
                </a:lnTo>
                <a:lnTo>
                  <a:pt x="3" y="46"/>
                </a:lnTo>
                <a:lnTo>
                  <a:pt x="2" y="42"/>
                </a:lnTo>
                <a:lnTo>
                  <a:pt x="2" y="36"/>
                </a:lnTo>
                <a:lnTo>
                  <a:pt x="0" y="32"/>
                </a:lnTo>
                <a:lnTo>
                  <a:pt x="0" y="28"/>
                </a:lnTo>
                <a:lnTo>
                  <a:pt x="0" y="25"/>
                </a:lnTo>
                <a:lnTo>
                  <a:pt x="2" y="21"/>
                </a:lnTo>
                <a:lnTo>
                  <a:pt x="3" y="17"/>
                </a:lnTo>
                <a:lnTo>
                  <a:pt x="7" y="13"/>
                </a:lnTo>
                <a:lnTo>
                  <a:pt x="13" y="11"/>
                </a:lnTo>
                <a:lnTo>
                  <a:pt x="19" y="9"/>
                </a:lnTo>
                <a:lnTo>
                  <a:pt x="25" y="7"/>
                </a:lnTo>
                <a:lnTo>
                  <a:pt x="32" y="5"/>
                </a:lnTo>
                <a:lnTo>
                  <a:pt x="40" y="3"/>
                </a:lnTo>
                <a:lnTo>
                  <a:pt x="50" y="2"/>
                </a:lnTo>
                <a:lnTo>
                  <a:pt x="61" y="2"/>
                </a:lnTo>
                <a:lnTo>
                  <a:pt x="73" y="0"/>
                </a:lnTo>
                <a:lnTo>
                  <a:pt x="84" y="0"/>
                </a:lnTo>
                <a:lnTo>
                  <a:pt x="97" y="0"/>
                </a:lnTo>
                <a:lnTo>
                  <a:pt x="111" y="0"/>
                </a:lnTo>
                <a:lnTo>
                  <a:pt x="124" y="2"/>
                </a:lnTo>
                <a:lnTo>
                  <a:pt x="138" y="2"/>
                </a:lnTo>
                <a:lnTo>
                  <a:pt x="149" y="3"/>
                </a:lnTo>
                <a:lnTo>
                  <a:pt x="163" y="5"/>
                </a:lnTo>
                <a:lnTo>
                  <a:pt x="176" y="9"/>
                </a:lnTo>
                <a:lnTo>
                  <a:pt x="203" y="17"/>
                </a:lnTo>
                <a:lnTo>
                  <a:pt x="228" y="25"/>
                </a:lnTo>
                <a:lnTo>
                  <a:pt x="253" y="36"/>
                </a:lnTo>
                <a:lnTo>
                  <a:pt x="276" y="48"/>
                </a:lnTo>
                <a:lnTo>
                  <a:pt x="299" y="61"/>
                </a:lnTo>
                <a:lnTo>
                  <a:pt x="311" y="67"/>
                </a:lnTo>
                <a:lnTo>
                  <a:pt x="320" y="74"/>
                </a:lnTo>
                <a:lnTo>
                  <a:pt x="330" y="82"/>
                </a:lnTo>
                <a:lnTo>
                  <a:pt x="339" y="90"/>
                </a:lnTo>
                <a:lnTo>
                  <a:pt x="347" y="97"/>
                </a:lnTo>
                <a:lnTo>
                  <a:pt x="355" y="105"/>
                </a:lnTo>
                <a:lnTo>
                  <a:pt x="362" y="113"/>
                </a:lnTo>
                <a:lnTo>
                  <a:pt x="368" y="122"/>
                </a:lnTo>
                <a:lnTo>
                  <a:pt x="374" y="130"/>
                </a:lnTo>
                <a:lnTo>
                  <a:pt x="380" y="138"/>
                </a:lnTo>
                <a:lnTo>
                  <a:pt x="384" y="145"/>
                </a:lnTo>
                <a:lnTo>
                  <a:pt x="387" y="153"/>
                </a:lnTo>
                <a:lnTo>
                  <a:pt x="391" y="161"/>
                </a:lnTo>
                <a:lnTo>
                  <a:pt x="393" y="168"/>
                </a:lnTo>
                <a:lnTo>
                  <a:pt x="393" y="176"/>
                </a:lnTo>
                <a:lnTo>
                  <a:pt x="395" y="182"/>
                </a:lnTo>
                <a:lnTo>
                  <a:pt x="393" y="195"/>
                </a:lnTo>
                <a:lnTo>
                  <a:pt x="391" y="209"/>
                </a:lnTo>
                <a:lnTo>
                  <a:pt x="389" y="222"/>
                </a:lnTo>
                <a:lnTo>
                  <a:pt x="387" y="236"/>
                </a:lnTo>
                <a:lnTo>
                  <a:pt x="384" y="247"/>
                </a:lnTo>
                <a:lnTo>
                  <a:pt x="380" y="259"/>
                </a:lnTo>
                <a:lnTo>
                  <a:pt x="374" y="270"/>
                </a:lnTo>
                <a:lnTo>
                  <a:pt x="370" y="280"/>
                </a:lnTo>
                <a:lnTo>
                  <a:pt x="366" y="286"/>
                </a:lnTo>
                <a:lnTo>
                  <a:pt x="360" y="291"/>
                </a:lnTo>
                <a:lnTo>
                  <a:pt x="357" y="297"/>
                </a:lnTo>
                <a:lnTo>
                  <a:pt x="353" y="303"/>
                </a:lnTo>
                <a:lnTo>
                  <a:pt x="349" y="307"/>
                </a:lnTo>
                <a:lnTo>
                  <a:pt x="343" y="310"/>
                </a:lnTo>
                <a:lnTo>
                  <a:pt x="336" y="318"/>
                </a:lnTo>
                <a:lnTo>
                  <a:pt x="328" y="322"/>
                </a:lnTo>
                <a:lnTo>
                  <a:pt x="322" y="326"/>
                </a:lnTo>
                <a:lnTo>
                  <a:pt x="316" y="328"/>
                </a:lnTo>
                <a:lnTo>
                  <a:pt x="311" y="3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5"/>
          <p:cNvSpPr/>
          <p:nvPr/>
        </p:nvSpPr>
        <p:spPr>
          <a:xfrm>
            <a:off x="6751800" y="3743280"/>
            <a:ext cx="220680" cy="193680"/>
          </a:xfrm>
          <a:custGeom>
            <a:avLst/>
            <a:gdLst/>
            <a:ahLst/>
            <a:rect l="l" t="t" r="r" b="b"/>
            <a:pathLst>
              <a:path w="278" h="244">
                <a:moveTo>
                  <a:pt x="0" y="37"/>
                </a:moveTo>
                <a:lnTo>
                  <a:pt x="0" y="33"/>
                </a:lnTo>
                <a:lnTo>
                  <a:pt x="0" y="29"/>
                </a:lnTo>
                <a:lnTo>
                  <a:pt x="2" y="25"/>
                </a:lnTo>
                <a:lnTo>
                  <a:pt x="4" y="22"/>
                </a:lnTo>
                <a:lnTo>
                  <a:pt x="6" y="18"/>
                </a:lnTo>
                <a:lnTo>
                  <a:pt x="10" y="16"/>
                </a:lnTo>
                <a:lnTo>
                  <a:pt x="14" y="12"/>
                </a:lnTo>
                <a:lnTo>
                  <a:pt x="17" y="10"/>
                </a:lnTo>
                <a:lnTo>
                  <a:pt x="21" y="8"/>
                </a:lnTo>
                <a:lnTo>
                  <a:pt x="27" y="6"/>
                </a:lnTo>
                <a:lnTo>
                  <a:pt x="33" y="4"/>
                </a:lnTo>
                <a:lnTo>
                  <a:pt x="40" y="2"/>
                </a:lnTo>
                <a:lnTo>
                  <a:pt x="46" y="2"/>
                </a:lnTo>
                <a:lnTo>
                  <a:pt x="54" y="0"/>
                </a:lnTo>
                <a:lnTo>
                  <a:pt x="62" y="0"/>
                </a:lnTo>
                <a:lnTo>
                  <a:pt x="71" y="0"/>
                </a:lnTo>
                <a:lnTo>
                  <a:pt x="85" y="0"/>
                </a:lnTo>
                <a:lnTo>
                  <a:pt x="100" y="2"/>
                </a:lnTo>
                <a:lnTo>
                  <a:pt x="115" y="4"/>
                </a:lnTo>
                <a:lnTo>
                  <a:pt x="131" y="8"/>
                </a:lnTo>
                <a:lnTo>
                  <a:pt x="146" y="12"/>
                </a:lnTo>
                <a:lnTo>
                  <a:pt x="161" y="16"/>
                </a:lnTo>
                <a:lnTo>
                  <a:pt x="177" y="22"/>
                </a:lnTo>
                <a:lnTo>
                  <a:pt x="190" y="25"/>
                </a:lnTo>
                <a:lnTo>
                  <a:pt x="204" y="35"/>
                </a:lnTo>
                <a:lnTo>
                  <a:pt x="215" y="46"/>
                </a:lnTo>
                <a:lnTo>
                  <a:pt x="229" y="58"/>
                </a:lnTo>
                <a:lnTo>
                  <a:pt x="240" y="69"/>
                </a:lnTo>
                <a:lnTo>
                  <a:pt x="252" y="83"/>
                </a:lnTo>
                <a:lnTo>
                  <a:pt x="259" y="94"/>
                </a:lnTo>
                <a:lnTo>
                  <a:pt x="263" y="102"/>
                </a:lnTo>
                <a:lnTo>
                  <a:pt x="267" y="110"/>
                </a:lnTo>
                <a:lnTo>
                  <a:pt x="271" y="116"/>
                </a:lnTo>
                <a:lnTo>
                  <a:pt x="273" y="123"/>
                </a:lnTo>
                <a:lnTo>
                  <a:pt x="275" y="131"/>
                </a:lnTo>
                <a:lnTo>
                  <a:pt x="277" y="140"/>
                </a:lnTo>
                <a:lnTo>
                  <a:pt x="278" y="156"/>
                </a:lnTo>
                <a:lnTo>
                  <a:pt x="277" y="171"/>
                </a:lnTo>
                <a:lnTo>
                  <a:pt x="277" y="185"/>
                </a:lnTo>
                <a:lnTo>
                  <a:pt x="273" y="196"/>
                </a:lnTo>
                <a:lnTo>
                  <a:pt x="271" y="202"/>
                </a:lnTo>
                <a:lnTo>
                  <a:pt x="269" y="206"/>
                </a:lnTo>
                <a:lnTo>
                  <a:pt x="267" y="211"/>
                </a:lnTo>
                <a:lnTo>
                  <a:pt x="265" y="213"/>
                </a:lnTo>
                <a:lnTo>
                  <a:pt x="263" y="217"/>
                </a:lnTo>
                <a:lnTo>
                  <a:pt x="261" y="219"/>
                </a:lnTo>
                <a:lnTo>
                  <a:pt x="254" y="225"/>
                </a:lnTo>
                <a:lnTo>
                  <a:pt x="246" y="229"/>
                </a:lnTo>
                <a:lnTo>
                  <a:pt x="238" y="233"/>
                </a:lnTo>
                <a:lnTo>
                  <a:pt x="232" y="236"/>
                </a:lnTo>
                <a:lnTo>
                  <a:pt x="227" y="240"/>
                </a:lnTo>
                <a:lnTo>
                  <a:pt x="223" y="242"/>
                </a:lnTo>
                <a:lnTo>
                  <a:pt x="217" y="244"/>
                </a:lnTo>
                <a:lnTo>
                  <a:pt x="213" y="244"/>
                </a:lnTo>
                <a:lnTo>
                  <a:pt x="211" y="244"/>
                </a:lnTo>
                <a:lnTo>
                  <a:pt x="207" y="242"/>
                </a:lnTo>
                <a:lnTo>
                  <a:pt x="204" y="240"/>
                </a:lnTo>
                <a:lnTo>
                  <a:pt x="200" y="238"/>
                </a:lnTo>
                <a:lnTo>
                  <a:pt x="196" y="234"/>
                </a:lnTo>
                <a:lnTo>
                  <a:pt x="190" y="231"/>
                </a:lnTo>
                <a:lnTo>
                  <a:pt x="184" y="225"/>
                </a:lnTo>
                <a:lnTo>
                  <a:pt x="177" y="219"/>
                </a:lnTo>
                <a:lnTo>
                  <a:pt x="171" y="211"/>
                </a:lnTo>
                <a:lnTo>
                  <a:pt x="163" y="206"/>
                </a:lnTo>
                <a:lnTo>
                  <a:pt x="156" y="196"/>
                </a:lnTo>
                <a:lnTo>
                  <a:pt x="146" y="188"/>
                </a:lnTo>
                <a:lnTo>
                  <a:pt x="136" y="179"/>
                </a:lnTo>
                <a:lnTo>
                  <a:pt x="127" y="169"/>
                </a:lnTo>
                <a:lnTo>
                  <a:pt x="117" y="158"/>
                </a:lnTo>
                <a:lnTo>
                  <a:pt x="106" y="146"/>
                </a:lnTo>
                <a:lnTo>
                  <a:pt x="96" y="137"/>
                </a:lnTo>
                <a:lnTo>
                  <a:pt x="85" y="125"/>
                </a:lnTo>
                <a:lnTo>
                  <a:pt x="75" y="116"/>
                </a:lnTo>
                <a:lnTo>
                  <a:pt x="67" y="106"/>
                </a:lnTo>
                <a:lnTo>
                  <a:pt x="58" y="96"/>
                </a:lnTo>
                <a:lnTo>
                  <a:pt x="50" y="89"/>
                </a:lnTo>
                <a:lnTo>
                  <a:pt x="42" y="81"/>
                </a:lnTo>
                <a:lnTo>
                  <a:pt x="35" y="73"/>
                </a:lnTo>
                <a:lnTo>
                  <a:pt x="29" y="68"/>
                </a:lnTo>
                <a:lnTo>
                  <a:pt x="23" y="62"/>
                </a:lnTo>
                <a:lnTo>
                  <a:pt x="17" y="56"/>
                </a:lnTo>
                <a:lnTo>
                  <a:pt x="14" y="50"/>
                </a:lnTo>
                <a:lnTo>
                  <a:pt x="8" y="46"/>
                </a:lnTo>
                <a:lnTo>
                  <a:pt x="6" y="43"/>
                </a:lnTo>
                <a:lnTo>
                  <a:pt x="2" y="41"/>
                </a:lnTo>
                <a:lnTo>
                  <a:pt x="0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96"/>
          <p:cNvSpPr/>
          <p:nvPr/>
        </p:nvSpPr>
        <p:spPr>
          <a:xfrm>
            <a:off x="7315200" y="3270240"/>
            <a:ext cx="473040" cy="1662120"/>
          </a:xfrm>
          <a:custGeom>
            <a:avLst/>
            <a:gdLst/>
            <a:ahLst/>
            <a:rect l="l" t="t" r="r" b="b"/>
            <a:pathLst>
              <a:path w="597" h="2095">
                <a:moveTo>
                  <a:pt x="526" y="476"/>
                </a:moveTo>
                <a:lnTo>
                  <a:pt x="526" y="491"/>
                </a:lnTo>
                <a:lnTo>
                  <a:pt x="526" y="506"/>
                </a:lnTo>
                <a:lnTo>
                  <a:pt x="526" y="522"/>
                </a:lnTo>
                <a:lnTo>
                  <a:pt x="526" y="539"/>
                </a:lnTo>
                <a:lnTo>
                  <a:pt x="526" y="556"/>
                </a:lnTo>
                <a:lnTo>
                  <a:pt x="526" y="573"/>
                </a:lnTo>
                <a:lnTo>
                  <a:pt x="526" y="591"/>
                </a:lnTo>
                <a:lnTo>
                  <a:pt x="528" y="610"/>
                </a:lnTo>
                <a:lnTo>
                  <a:pt x="528" y="629"/>
                </a:lnTo>
                <a:lnTo>
                  <a:pt x="528" y="650"/>
                </a:lnTo>
                <a:lnTo>
                  <a:pt x="530" y="669"/>
                </a:lnTo>
                <a:lnTo>
                  <a:pt x="530" y="690"/>
                </a:lnTo>
                <a:lnTo>
                  <a:pt x="530" y="712"/>
                </a:lnTo>
                <a:lnTo>
                  <a:pt x="532" y="735"/>
                </a:lnTo>
                <a:lnTo>
                  <a:pt x="532" y="756"/>
                </a:lnTo>
                <a:lnTo>
                  <a:pt x="532" y="779"/>
                </a:lnTo>
                <a:lnTo>
                  <a:pt x="534" y="804"/>
                </a:lnTo>
                <a:lnTo>
                  <a:pt x="534" y="827"/>
                </a:lnTo>
                <a:lnTo>
                  <a:pt x="536" y="852"/>
                </a:lnTo>
                <a:lnTo>
                  <a:pt x="536" y="878"/>
                </a:lnTo>
                <a:lnTo>
                  <a:pt x="538" y="903"/>
                </a:lnTo>
                <a:lnTo>
                  <a:pt x="538" y="930"/>
                </a:lnTo>
                <a:lnTo>
                  <a:pt x="540" y="957"/>
                </a:lnTo>
                <a:lnTo>
                  <a:pt x="540" y="986"/>
                </a:lnTo>
                <a:lnTo>
                  <a:pt x="542" y="1013"/>
                </a:lnTo>
                <a:lnTo>
                  <a:pt x="544" y="1043"/>
                </a:lnTo>
                <a:lnTo>
                  <a:pt x="544" y="1072"/>
                </a:lnTo>
                <a:lnTo>
                  <a:pt x="546" y="1103"/>
                </a:lnTo>
                <a:lnTo>
                  <a:pt x="546" y="1134"/>
                </a:lnTo>
                <a:lnTo>
                  <a:pt x="548" y="1164"/>
                </a:lnTo>
                <a:lnTo>
                  <a:pt x="548" y="1197"/>
                </a:lnTo>
                <a:lnTo>
                  <a:pt x="549" y="1230"/>
                </a:lnTo>
                <a:lnTo>
                  <a:pt x="549" y="1262"/>
                </a:lnTo>
                <a:lnTo>
                  <a:pt x="551" y="1295"/>
                </a:lnTo>
                <a:lnTo>
                  <a:pt x="551" y="1326"/>
                </a:lnTo>
                <a:lnTo>
                  <a:pt x="553" y="1356"/>
                </a:lnTo>
                <a:lnTo>
                  <a:pt x="553" y="1385"/>
                </a:lnTo>
                <a:lnTo>
                  <a:pt x="553" y="1414"/>
                </a:lnTo>
                <a:lnTo>
                  <a:pt x="553" y="1441"/>
                </a:lnTo>
                <a:lnTo>
                  <a:pt x="553" y="1468"/>
                </a:lnTo>
                <a:lnTo>
                  <a:pt x="553" y="1492"/>
                </a:lnTo>
                <a:lnTo>
                  <a:pt x="553" y="1519"/>
                </a:lnTo>
                <a:lnTo>
                  <a:pt x="553" y="1542"/>
                </a:lnTo>
                <a:lnTo>
                  <a:pt x="553" y="1565"/>
                </a:lnTo>
                <a:lnTo>
                  <a:pt x="553" y="1588"/>
                </a:lnTo>
                <a:lnTo>
                  <a:pt x="553" y="1610"/>
                </a:lnTo>
                <a:lnTo>
                  <a:pt x="553" y="1631"/>
                </a:lnTo>
                <a:lnTo>
                  <a:pt x="551" y="1652"/>
                </a:lnTo>
                <a:lnTo>
                  <a:pt x="551" y="1671"/>
                </a:lnTo>
                <a:lnTo>
                  <a:pt x="551" y="1688"/>
                </a:lnTo>
                <a:lnTo>
                  <a:pt x="549" y="1707"/>
                </a:lnTo>
                <a:lnTo>
                  <a:pt x="549" y="1723"/>
                </a:lnTo>
                <a:lnTo>
                  <a:pt x="549" y="1740"/>
                </a:lnTo>
                <a:lnTo>
                  <a:pt x="548" y="1755"/>
                </a:lnTo>
                <a:lnTo>
                  <a:pt x="548" y="1769"/>
                </a:lnTo>
                <a:lnTo>
                  <a:pt x="546" y="1782"/>
                </a:lnTo>
                <a:lnTo>
                  <a:pt x="546" y="1796"/>
                </a:lnTo>
                <a:lnTo>
                  <a:pt x="544" y="1807"/>
                </a:lnTo>
                <a:lnTo>
                  <a:pt x="544" y="1819"/>
                </a:lnTo>
                <a:lnTo>
                  <a:pt x="542" y="1828"/>
                </a:lnTo>
                <a:lnTo>
                  <a:pt x="540" y="1838"/>
                </a:lnTo>
                <a:lnTo>
                  <a:pt x="540" y="1847"/>
                </a:lnTo>
                <a:lnTo>
                  <a:pt x="538" y="1855"/>
                </a:lnTo>
                <a:lnTo>
                  <a:pt x="538" y="1863"/>
                </a:lnTo>
                <a:lnTo>
                  <a:pt x="536" y="1878"/>
                </a:lnTo>
                <a:lnTo>
                  <a:pt x="532" y="1893"/>
                </a:lnTo>
                <a:lnTo>
                  <a:pt x="530" y="1907"/>
                </a:lnTo>
                <a:lnTo>
                  <a:pt x="526" y="1920"/>
                </a:lnTo>
                <a:lnTo>
                  <a:pt x="523" y="1934"/>
                </a:lnTo>
                <a:lnTo>
                  <a:pt x="521" y="1945"/>
                </a:lnTo>
                <a:lnTo>
                  <a:pt x="517" y="1957"/>
                </a:lnTo>
                <a:lnTo>
                  <a:pt x="513" y="1968"/>
                </a:lnTo>
                <a:lnTo>
                  <a:pt x="503" y="1989"/>
                </a:lnTo>
                <a:lnTo>
                  <a:pt x="496" y="2009"/>
                </a:lnTo>
                <a:lnTo>
                  <a:pt x="486" y="2028"/>
                </a:lnTo>
                <a:lnTo>
                  <a:pt x="478" y="2045"/>
                </a:lnTo>
                <a:lnTo>
                  <a:pt x="471" y="2053"/>
                </a:lnTo>
                <a:lnTo>
                  <a:pt x="465" y="2058"/>
                </a:lnTo>
                <a:lnTo>
                  <a:pt x="459" y="2064"/>
                </a:lnTo>
                <a:lnTo>
                  <a:pt x="453" y="2068"/>
                </a:lnTo>
                <a:lnTo>
                  <a:pt x="448" y="2074"/>
                </a:lnTo>
                <a:lnTo>
                  <a:pt x="442" y="2078"/>
                </a:lnTo>
                <a:lnTo>
                  <a:pt x="432" y="2083"/>
                </a:lnTo>
                <a:lnTo>
                  <a:pt x="423" y="2089"/>
                </a:lnTo>
                <a:lnTo>
                  <a:pt x="413" y="2091"/>
                </a:lnTo>
                <a:lnTo>
                  <a:pt x="404" y="2093"/>
                </a:lnTo>
                <a:lnTo>
                  <a:pt x="396" y="2095"/>
                </a:lnTo>
                <a:lnTo>
                  <a:pt x="390" y="2093"/>
                </a:lnTo>
                <a:lnTo>
                  <a:pt x="386" y="2093"/>
                </a:lnTo>
                <a:lnTo>
                  <a:pt x="382" y="2091"/>
                </a:lnTo>
                <a:lnTo>
                  <a:pt x="379" y="2087"/>
                </a:lnTo>
                <a:lnTo>
                  <a:pt x="375" y="2083"/>
                </a:lnTo>
                <a:lnTo>
                  <a:pt x="373" y="2080"/>
                </a:lnTo>
                <a:lnTo>
                  <a:pt x="369" y="2074"/>
                </a:lnTo>
                <a:lnTo>
                  <a:pt x="367" y="2068"/>
                </a:lnTo>
                <a:lnTo>
                  <a:pt x="363" y="2062"/>
                </a:lnTo>
                <a:lnTo>
                  <a:pt x="361" y="2055"/>
                </a:lnTo>
                <a:lnTo>
                  <a:pt x="359" y="2047"/>
                </a:lnTo>
                <a:lnTo>
                  <a:pt x="356" y="2037"/>
                </a:lnTo>
                <a:lnTo>
                  <a:pt x="354" y="2028"/>
                </a:lnTo>
                <a:lnTo>
                  <a:pt x="352" y="2018"/>
                </a:lnTo>
                <a:lnTo>
                  <a:pt x="350" y="2009"/>
                </a:lnTo>
                <a:lnTo>
                  <a:pt x="348" y="1997"/>
                </a:lnTo>
                <a:lnTo>
                  <a:pt x="344" y="1986"/>
                </a:lnTo>
                <a:lnTo>
                  <a:pt x="340" y="1974"/>
                </a:lnTo>
                <a:lnTo>
                  <a:pt x="336" y="1963"/>
                </a:lnTo>
                <a:lnTo>
                  <a:pt x="333" y="1951"/>
                </a:lnTo>
                <a:lnTo>
                  <a:pt x="325" y="1940"/>
                </a:lnTo>
                <a:lnTo>
                  <a:pt x="319" y="1928"/>
                </a:lnTo>
                <a:lnTo>
                  <a:pt x="311" y="1917"/>
                </a:lnTo>
                <a:lnTo>
                  <a:pt x="302" y="1905"/>
                </a:lnTo>
                <a:lnTo>
                  <a:pt x="294" y="1893"/>
                </a:lnTo>
                <a:lnTo>
                  <a:pt x="283" y="1882"/>
                </a:lnTo>
                <a:lnTo>
                  <a:pt x="271" y="1872"/>
                </a:lnTo>
                <a:lnTo>
                  <a:pt x="260" y="1861"/>
                </a:lnTo>
                <a:lnTo>
                  <a:pt x="248" y="1849"/>
                </a:lnTo>
                <a:lnTo>
                  <a:pt x="235" y="1838"/>
                </a:lnTo>
                <a:lnTo>
                  <a:pt x="219" y="1826"/>
                </a:lnTo>
                <a:lnTo>
                  <a:pt x="204" y="1815"/>
                </a:lnTo>
                <a:lnTo>
                  <a:pt x="190" y="1803"/>
                </a:lnTo>
                <a:lnTo>
                  <a:pt x="175" y="1792"/>
                </a:lnTo>
                <a:lnTo>
                  <a:pt x="162" y="1782"/>
                </a:lnTo>
                <a:lnTo>
                  <a:pt x="150" y="1773"/>
                </a:lnTo>
                <a:lnTo>
                  <a:pt x="139" y="1763"/>
                </a:lnTo>
                <a:lnTo>
                  <a:pt x="127" y="1755"/>
                </a:lnTo>
                <a:lnTo>
                  <a:pt x="118" y="1748"/>
                </a:lnTo>
                <a:lnTo>
                  <a:pt x="110" y="1740"/>
                </a:lnTo>
                <a:lnTo>
                  <a:pt x="102" y="1734"/>
                </a:lnTo>
                <a:lnTo>
                  <a:pt x="96" y="1728"/>
                </a:lnTo>
                <a:lnTo>
                  <a:pt x="91" y="1723"/>
                </a:lnTo>
                <a:lnTo>
                  <a:pt x="89" y="1719"/>
                </a:lnTo>
                <a:lnTo>
                  <a:pt x="85" y="1713"/>
                </a:lnTo>
                <a:lnTo>
                  <a:pt x="85" y="1709"/>
                </a:lnTo>
                <a:lnTo>
                  <a:pt x="85" y="1707"/>
                </a:lnTo>
                <a:lnTo>
                  <a:pt x="87" y="1705"/>
                </a:lnTo>
                <a:lnTo>
                  <a:pt x="87" y="1702"/>
                </a:lnTo>
                <a:lnTo>
                  <a:pt x="89" y="1700"/>
                </a:lnTo>
                <a:lnTo>
                  <a:pt x="91" y="1700"/>
                </a:lnTo>
                <a:lnTo>
                  <a:pt x="94" y="1698"/>
                </a:lnTo>
                <a:lnTo>
                  <a:pt x="100" y="1696"/>
                </a:lnTo>
                <a:lnTo>
                  <a:pt x="106" y="1696"/>
                </a:lnTo>
                <a:lnTo>
                  <a:pt x="112" y="1696"/>
                </a:lnTo>
                <a:lnTo>
                  <a:pt x="119" y="1696"/>
                </a:lnTo>
                <a:lnTo>
                  <a:pt x="129" y="1696"/>
                </a:lnTo>
                <a:lnTo>
                  <a:pt x="139" y="1696"/>
                </a:lnTo>
                <a:lnTo>
                  <a:pt x="150" y="1696"/>
                </a:lnTo>
                <a:lnTo>
                  <a:pt x="162" y="1698"/>
                </a:lnTo>
                <a:lnTo>
                  <a:pt x="173" y="1700"/>
                </a:lnTo>
                <a:lnTo>
                  <a:pt x="187" y="1700"/>
                </a:lnTo>
                <a:lnTo>
                  <a:pt x="202" y="1702"/>
                </a:lnTo>
                <a:lnTo>
                  <a:pt x="217" y="1705"/>
                </a:lnTo>
                <a:lnTo>
                  <a:pt x="233" y="1709"/>
                </a:lnTo>
                <a:lnTo>
                  <a:pt x="246" y="1713"/>
                </a:lnTo>
                <a:lnTo>
                  <a:pt x="260" y="1717"/>
                </a:lnTo>
                <a:lnTo>
                  <a:pt x="273" y="1721"/>
                </a:lnTo>
                <a:lnTo>
                  <a:pt x="285" y="1723"/>
                </a:lnTo>
                <a:lnTo>
                  <a:pt x="296" y="1727"/>
                </a:lnTo>
                <a:lnTo>
                  <a:pt x="306" y="1728"/>
                </a:lnTo>
                <a:lnTo>
                  <a:pt x="315" y="1730"/>
                </a:lnTo>
                <a:lnTo>
                  <a:pt x="325" y="1732"/>
                </a:lnTo>
                <a:lnTo>
                  <a:pt x="334" y="1732"/>
                </a:lnTo>
                <a:lnTo>
                  <a:pt x="342" y="1734"/>
                </a:lnTo>
                <a:lnTo>
                  <a:pt x="348" y="1734"/>
                </a:lnTo>
                <a:lnTo>
                  <a:pt x="356" y="1734"/>
                </a:lnTo>
                <a:lnTo>
                  <a:pt x="361" y="1732"/>
                </a:lnTo>
                <a:lnTo>
                  <a:pt x="367" y="1730"/>
                </a:lnTo>
                <a:lnTo>
                  <a:pt x="371" y="1728"/>
                </a:lnTo>
                <a:lnTo>
                  <a:pt x="373" y="1728"/>
                </a:lnTo>
                <a:lnTo>
                  <a:pt x="375" y="1727"/>
                </a:lnTo>
                <a:lnTo>
                  <a:pt x="377" y="1723"/>
                </a:lnTo>
                <a:lnTo>
                  <a:pt x="379" y="1717"/>
                </a:lnTo>
                <a:lnTo>
                  <a:pt x="381" y="1711"/>
                </a:lnTo>
                <a:lnTo>
                  <a:pt x="382" y="1702"/>
                </a:lnTo>
                <a:lnTo>
                  <a:pt x="384" y="1692"/>
                </a:lnTo>
                <a:lnTo>
                  <a:pt x="386" y="1680"/>
                </a:lnTo>
                <a:lnTo>
                  <a:pt x="388" y="1669"/>
                </a:lnTo>
                <a:lnTo>
                  <a:pt x="390" y="1654"/>
                </a:lnTo>
                <a:lnTo>
                  <a:pt x="392" y="1638"/>
                </a:lnTo>
                <a:lnTo>
                  <a:pt x="392" y="1621"/>
                </a:lnTo>
                <a:lnTo>
                  <a:pt x="394" y="1604"/>
                </a:lnTo>
                <a:lnTo>
                  <a:pt x="396" y="1583"/>
                </a:lnTo>
                <a:lnTo>
                  <a:pt x="396" y="1562"/>
                </a:lnTo>
                <a:lnTo>
                  <a:pt x="398" y="1539"/>
                </a:lnTo>
                <a:lnTo>
                  <a:pt x="400" y="1514"/>
                </a:lnTo>
                <a:lnTo>
                  <a:pt x="400" y="1489"/>
                </a:lnTo>
                <a:lnTo>
                  <a:pt x="402" y="1462"/>
                </a:lnTo>
                <a:lnTo>
                  <a:pt x="402" y="1433"/>
                </a:lnTo>
                <a:lnTo>
                  <a:pt x="402" y="1402"/>
                </a:lnTo>
                <a:lnTo>
                  <a:pt x="404" y="1370"/>
                </a:lnTo>
                <a:lnTo>
                  <a:pt x="404" y="1337"/>
                </a:lnTo>
                <a:lnTo>
                  <a:pt x="404" y="1302"/>
                </a:lnTo>
                <a:lnTo>
                  <a:pt x="405" y="1266"/>
                </a:lnTo>
                <a:lnTo>
                  <a:pt x="405" y="1230"/>
                </a:lnTo>
                <a:lnTo>
                  <a:pt x="405" y="1191"/>
                </a:lnTo>
                <a:lnTo>
                  <a:pt x="405" y="1149"/>
                </a:lnTo>
                <a:lnTo>
                  <a:pt x="405" y="1109"/>
                </a:lnTo>
                <a:lnTo>
                  <a:pt x="407" y="1065"/>
                </a:lnTo>
                <a:lnTo>
                  <a:pt x="407" y="1020"/>
                </a:lnTo>
                <a:lnTo>
                  <a:pt x="407" y="974"/>
                </a:lnTo>
                <a:lnTo>
                  <a:pt x="407" y="928"/>
                </a:lnTo>
                <a:lnTo>
                  <a:pt x="407" y="884"/>
                </a:lnTo>
                <a:lnTo>
                  <a:pt x="405" y="840"/>
                </a:lnTo>
                <a:lnTo>
                  <a:pt x="405" y="798"/>
                </a:lnTo>
                <a:lnTo>
                  <a:pt x="405" y="758"/>
                </a:lnTo>
                <a:lnTo>
                  <a:pt x="405" y="717"/>
                </a:lnTo>
                <a:lnTo>
                  <a:pt x="405" y="681"/>
                </a:lnTo>
                <a:lnTo>
                  <a:pt x="405" y="642"/>
                </a:lnTo>
                <a:lnTo>
                  <a:pt x="404" y="608"/>
                </a:lnTo>
                <a:lnTo>
                  <a:pt x="404" y="575"/>
                </a:lnTo>
                <a:lnTo>
                  <a:pt x="404" y="543"/>
                </a:lnTo>
                <a:lnTo>
                  <a:pt x="402" y="510"/>
                </a:lnTo>
                <a:lnTo>
                  <a:pt x="402" y="481"/>
                </a:lnTo>
                <a:lnTo>
                  <a:pt x="402" y="452"/>
                </a:lnTo>
                <a:lnTo>
                  <a:pt x="400" y="426"/>
                </a:lnTo>
                <a:lnTo>
                  <a:pt x="400" y="401"/>
                </a:lnTo>
                <a:lnTo>
                  <a:pt x="398" y="376"/>
                </a:lnTo>
                <a:lnTo>
                  <a:pt x="398" y="353"/>
                </a:lnTo>
                <a:lnTo>
                  <a:pt x="396" y="332"/>
                </a:lnTo>
                <a:lnTo>
                  <a:pt x="396" y="312"/>
                </a:lnTo>
                <a:lnTo>
                  <a:pt x="394" y="293"/>
                </a:lnTo>
                <a:lnTo>
                  <a:pt x="394" y="276"/>
                </a:lnTo>
                <a:lnTo>
                  <a:pt x="392" y="261"/>
                </a:lnTo>
                <a:lnTo>
                  <a:pt x="392" y="247"/>
                </a:lnTo>
                <a:lnTo>
                  <a:pt x="390" y="234"/>
                </a:lnTo>
                <a:lnTo>
                  <a:pt x="390" y="222"/>
                </a:lnTo>
                <a:lnTo>
                  <a:pt x="388" y="213"/>
                </a:lnTo>
                <a:lnTo>
                  <a:pt x="388" y="203"/>
                </a:lnTo>
                <a:lnTo>
                  <a:pt x="386" y="195"/>
                </a:lnTo>
                <a:lnTo>
                  <a:pt x="384" y="190"/>
                </a:lnTo>
                <a:lnTo>
                  <a:pt x="384" y="186"/>
                </a:lnTo>
                <a:lnTo>
                  <a:pt x="382" y="184"/>
                </a:lnTo>
                <a:lnTo>
                  <a:pt x="379" y="180"/>
                </a:lnTo>
                <a:lnTo>
                  <a:pt x="373" y="178"/>
                </a:lnTo>
                <a:lnTo>
                  <a:pt x="365" y="178"/>
                </a:lnTo>
                <a:lnTo>
                  <a:pt x="359" y="176"/>
                </a:lnTo>
                <a:lnTo>
                  <a:pt x="350" y="174"/>
                </a:lnTo>
                <a:lnTo>
                  <a:pt x="342" y="174"/>
                </a:lnTo>
                <a:lnTo>
                  <a:pt x="333" y="174"/>
                </a:lnTo>
                <a:lnTo>
                  <a:pt x="323" y="174"/>
                </a:lnTo>
                <a:lnTo>
                  <a:pt x="311" y="174"/>
                </a:lnTo>
                <a:lnTo>
                  <a:pt x="300" y="174"/>
                </a:lnTo>
                <a:lnTo>
                  <a:pt x="286" y="174"/>
                </a:lnTo>
                <a:lnTo>
                  <a:pt x="275" y="176"/>
                </a:lnTo>
                <a:lnTo>
                  <a:pt x="261" y="178"/>
                </a:lnTo>
                <a:lnTo>
                  <a:pt x="246" y="178"/>
                </a:lnTo>
                <a:lnTo>
                  <a:pt x="233" y="180"/>
                </a:lnTo>
                <a:lnTo>
                  <a:pt x="217" y="184"/>
                </a:lnTo>
                <a:lnTo>
                  <a:pt x="202" y="186"/>
                </a:lnTo>
                <a:lnTo>
                  <a:pt x="187" y="188"/>
                </a:lnTo>
                <a:lnTo>
                  <a:pt x="173" y="188"/>
                </a:lnTo>
                <a:lnTo>
                  <a:pt x="160" y="190"/>
                </a:lnTo>
                <a:lnTo>
                  <a:pt x="146" y="192"/>
                </a:lnTo>
                <a:lnTo>
                  <a:pt x="133" y="192"/>
                </a:lnTo>
                <a:lnTo>
                  <a:pt x="121" y="192"/>
                </a:lnTo>
                <a:lnTo>
                  <a:pt x="112" y="192"/>
                </a:lnTo>
                <a:lnTo>
                  <a:pt x="100" y="192"/>
                </a:lnTo>
                <a:lnTo>
                  <a:pt x="91" y="192"/>
                </a:lnTo>
                <a:lnTo>
                  <a:pt x="83" y="192"/>
                </a:lnTo>
                <a:lnTo>
                  <a:pt x="75" y="190"/>
                </a:lnTo>
                <a:lnTo>
                  <a:pt x="68" y="188"/>
                </a:lnTo>
                <a:lnTo>
                  <a:pt x="60" y="188"/>
                </a:lnTo>
                <a:lnTo>
                  <a:pt x="54" y="186"/>
                </a:lnTo>
                <a:lnTo>
                  <a:pt x="50" y="184"/>
                </a:lnTo>
                <a:lnTo>
                  <a:pt x="43" y="178"/>
                </a:lnTo>
                <a:lnTo>
                  <a:pt x="35" y="172"/>
                </a:lnTo>
                <a:lnTo>
                  <a:pt x="27" y="165"/>
                </a:lnTo>
                <a:lnTo>
                  <a:pt x="22" y="159"/>
                </a:lnTo>
                <a:lnTo>
                  <a:pt x="16" y="151"/>
                </a:lnTo>
                <a:lnTo>
                  <a:pt x="12" y="145"/>
                </a:lnTo>
                <a:lnTo>
                  <a:pt x="6" y="140"/>
                </a:lnTo>
                <a:lnTo>
                  <a:pt x="2" y="134"/>
                </a:lnTo>
                <a:lnTo>
                  <a:pt x="0" y="132"/>
                </a:lnTo>
                <a:lnTo>
                  <a:pt x="0" y="130"/>
                </a:lnTo>
                <a:lnTo>
                  <a:pt x="2" y="126"/>
                </a:lnTo>
                <a:lnTo>
                  <a:pt x="4" y="124"/>
                </a:lnTo>
                <a:lnTo>
                  <a:pt x="8" y="122"/>
                </a:lnTo>
                <a:lnTo>
                  <a:pt x="14" y="121"/>
                </a:lnTo>
                <a:lnTo>
                  <a:pt x="22" y="117"/>
                </a:lnTo>
                <a:lnTo>
                  <a:pt x="29" y="115"/>
                </a:lnTo>
                <a:lnTo>
                  <a:pt x="39" y="111"/>
                </a:lnTo>
                <a:lnTo>
                  <a:pt x="50" y="109"/>
                </a:lnTo>
                <a:lnTo>
                  <a:pt x="62" y="105"/>
                </a:lnTo>
                <a:lnTo>
                  <a:pt x="77" y="101"/>
                </a:lnTo>
                <a:lnTo>
                  <a:pt x="91" y="98"/>
                </a:lnTo>
                <a:lnTo>
                  <a:pt x="108" y="94"/>
                </a:lnTo>
                <a:lnTo>
                  <a:pt x="125" y="90"/>
                </a:lnTo>
                <a:lnTo>
                  <a:pt x="146" y="86"/>
                </a:lnTo>
                <a:lnTo>
                  <a:pt x="164" y="82"/>
                </a:lnTo>
                <a:lnTo>
                  <a:pt x="179" y="80"/>
                </a:lnTo>
                <a:lnTo>
                  <a:pt x="194" y="78"/>
                </a:lnTo>
                <a:lnTo>
                  <a:pt x="210" y="74"/>
                </a:lnTo>
                <a:lnTo>
                  <a:pt x="225" y="71"/>
                </a:lnTo>
                <a:lnTo>
                  <a:pt x="238" y="67"/>
                </a:lnTo>
                <a:lnTo>
                  <a:pt x="250" y="63"/>
                </a:lnTo>
                <a:lnTo>
                  <a:pt x="263" y="59"/>
                </a:lnTo>
                <a:lnTo>
                  <a:pt x="275" y="55"/>
                </a:lnTo>
                <a:lnTo>
                  <a:pt x="285" y="51"/>
                </a:lnTo>
                <a:lnTo>
                  <a:pt x="294" y="48"/>
                </a:lnTo>
                <a:lnTo>
                  <a:pt x="304" y="42"/>
                </a:lnTo>
                <a:lnTo>
                  <a:pt x="313" y="38"/>
                </a:lnTo>
                <a:lnTo>
                  <a:pt x="321" y="34"/>
                </a:lnTo>
                <a:lnTo>
                  <a:pt x="329" y="28"/>
                </a:lnTo>
                <a:lnTo>
                  <a:pt x="336" y="25"/>
                </a:lnTo>
                <a:lnTo>
                  <a:pt x="354" y="15"/>
                </a:lnTo>
                <a:lnTo>
                  <a:pt x="361" y="11"/>
                </a:lnTo>
                <a:lnTo>
                  <a:pt x="369" y="7"/>
                </a:lnTo>
                <a:lnTo>
                  <a:pt x="377" y="5"/>
                </a:lnTo>
                <a:lnTo>
                  <a:pt x="384" y="2"/>
                </a:lnTo>
                <a:lnTo>
                  <a:pt x="390" y="2"/>
                </a:lnTo>
                <a:lnTo>
                  <a:pt x="396" y="0"/>
                </a:lnTo>
                <a:lnTo>
                  <a:pt x="398" y="2"/>
                </a:lnTo>
                <a:lnTo>
                  <a:pt x="402" y="2"/>
                </a:lnTo>
                <a:lnTo>
                  <a:pt x="405" y="3"/>
                </a:lnTo>
                <a:lnTo>
                  <a:pt x="409" y="5"/>
                </a:lnTo>
                <a:lnTo>
                  <a:pt x="415" y="7"/>
                </a:lnTo>
                <a:lnTo>
                  <a:pt x="423" y="9"/>
                </a:lnTo>
                <a:lnTo>
                  <a:pt x="429" y="13"/>
                </a:lnTo>
                <a:lnTo>
                  <a:pt x="436" y="17"/>
                </a:lnTo>
                <a:lnTo>
                  <a:pt x="444" y="21"/>
                </a:lnTo>
                <a:lnTo>
                  <a:pt x="453" y="27"/>
                </a:lnTo>
                <a:lnTo>
                  <a:pt x="463" y="30"/>
                </a:lnTo>
                <a:lnTo>
                  <a:pt x="473" y="36"/>
                </a:lnTo>
                <a:lnTo>
                  <a:pt x="492" y="48"/>
                </a:lnTo>
                <a:lnTo>
                  <a:pt x="513" y="61"/>
                </a:lnTo>
                <a:lnTo>
                  <a:pt x="524" y="69"/>
                </a:lnTo>
                <a:lnTo>
                  <a:pt x="534" y="74"/>
                </a:lnTo>
                <a:lnTo>
                  <a:pt x="544" y="82"/>
                </a:lnTo>
                <a:lnTo>
                  <a:pt x="551" y="88"/>
                </a:lnTo>
                <a:lnTo>
                  <a:pt x="559" y="96"/>
                </a:lnTo>
                <a:lnTo>
                  <a:pt x="567" y="101"/>
                </a:lnTo>
                <a:lnTo>
                  <a:pt x="572" y="107"/>
                </a:lnTo>
                <a:lnTo>
                  <a:pt x="578" y="113"/>
                </a:lnTo>
                <a:lnTo>
                  <a:pt x="582" y="119"/>
                </a:lnTo>
                <a:lnTo>
                  <a:pt x="586" y="124"/>
                </a:lnTo>
                <a:lnTo>
                  <a:pt x="590" y="128"/>
                </a:lnTo>
                <a:lnTo>
                  <a:pt x="592" y="134"/>
                </a:lnTo>
                <a:lnTo>
                  <a:pt x="594" y="138"/>
                </a:lnTo>
                <a:lnTo>
                  <a:pt x="596" y="142"/>
                </a:lnTo>
                <a:lnTo>
                  <a:pt x="596" y="144"/>
                </a:lnTo>
                <a:lnTo>
                  <a:pt x="597" y="147"/>
                </a:lnTo>
                <a:lnTo>
                  <a:pt x="596" y="151"/>
                </a:lnTo>
                <a:lnTo>
                  <a:pt x="594" y="157"/>
                </a:lnTo>
                <a:lnTo>
                  <a:pt x="592" y="165"/>
                </a:lnTo>
                <a:lnTo>
                  <a:pt x="588" y="170"/>
                </a:lnTo>
                <a:lnTo>
                  <a:pt x="582" y="178"/>
                </a:lnTo>
                <a:lnTo>
                  <a:pt x="576" y="184"/>
                </a:lnTo>
                <a:lnTo>
                  <a:pt x="569" y="190"/>
                </a:lnTo>
                <a:lnTo>
                  <a:pt x="561" y="195"/>
                </a:lnTo>
                <a:lnTo>
                  <a:pt x="557" y="201"/>
                </a:lnTo>
                <a:lnTo>
                  <a:pt x="553" y="207"/>
                </a:lnTo>
                <a:lnTo>
                  <a:pt x="549" y="216"/>
                </a:lnTo>
                <a:lnTo>
                  <a:pt x="546" y="226"/>
                </a:lnTo>
                <a:lnTo>
                  <a:pt x="542" y="240"/>
                </a:lnTo>
                <a:lnTo>
                  <a:pt x="540" y="253"/>
                </a:lnTo>
                <a:lnTo>
                  <a:pt x="536" y="268"/>
                </a:lnTo>
                <a:lnTo>
                  <a:pt x="534" y="286"/>
                </a:lnTo>
                <a:lnTo>
                  <a:pt x="532" y="303"/>
                </a:lnTo>
                <a:lnTo>
                  <a:pt x="530" y="324"/>
                </a:lnTo>
                <a:lnTo>
                  <a:pt x="528" y="345"/>
                </a:lnTo>
                <a:lnTo>
                  <a:pt x="528" y="368"/>
                </a:lnTo>
                <a:lnTo>
                  <a:pt x="526" y="393"/>
                </a:lnTo>
                <a:lnTo>
                  <a:pt x="526" y="418"/>
                </a:lnTo>
                <a:lnTo>
                  <a:pt x="526" y="447"/>
                </a:lnTo>
                <a:lnTo>
                  <a:pt x="526" y="4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97"/>
          <p:cNvSpPr/>
          <p:nvPr/>
        </p:nvSpPr>
        <p:spPr>
          <a:xfrm>
            <a:off x="7278840" y="3714840"/>
            <a:ext cx="230040" cy="164880"/>
          </a:xfrm>
          <a:custGeom>
            <a:avLst/>
            <a:gdLst/>
            <a:ahLst/>
            <a:rect l="l" t="t" r="r" b="b"/>
            <a:pathLst>
              <a:path w="290" h="207">
                <a:moveTo>
                  <a:pt x="238" y="207"/>
                </a:moveTo>
                <a:lnTo>
                  <a:pt x="236" y="207"/>
                </a:lnTo>
                <a:lnTo>
                  <a:pt x="233" y="205"/>
                </a:lnTo>
                <a:lnTo>
                  <a:pt x="229" y="205"/>
                </a:lnTo>
                <a:lnTo>
                  <a:pt x="225" y="203"/>
                </a:lnTo>
                <a:lnTo>
                  <a:pt x="221" y="199"/>
                </a:lnTo>
                <a:lnTo>
                  <a:pt x="215" y="198"/>
                </a:lnTo>
                <a:lnTo>
                  <a:pt x="208" y="194"/>
                </a:lnTo>
                <a:lnTo>
                  <a:pt x="202" y="190"/>
                </a:lnTo>
                <a:lnTo>
                  <a:pt x="194" y="184"/>
                </a:lnTo>
                <a:lnTo>
                  <a:pt x="185" y="178"/>
                </a:lnTo>
                <a:lnTo>
                  <a:pt x="177" y="173"/>
                </a:lnTo>
                <a:lnTo>
                  <a:pt x="167" y="167"/>
                </a:lnTo>
                <a:lnTo>
                  <a:pt x="156" y="159"/>
                </a:lnTo>
                <a:lnTo>
                  <a:pt x="144" y="152"/>
                </a:lnTo>
                <a:lnTo>
                  <a:pt x="133" y="144"/>
                </a:lnTo>
                <a:lnTo>
                  <a:pt x="119" y="134"/>
                </a:lnTo>
                <a:lnTo>
                  <a:pt x="104" y="127"/>
                </a:lnTo>
                <a:lnTo>
                  <a:pt x="91" y="121"/>
                </a:lnTo>
                <a:lnTo>
                  <a:pt x="79" y="113"/>
                </a:lnTo>
                <a:lnTo>
                  <a:pt x="66" y="107"/>
                </a:lnTo>
                <a:lnTo>
                  <a:pt x="56" y="100"/>
                </a:lnTo>
                <a:lnTo>
                  <a:pt x="46" y="94"/>
                </a:lnTo>
                <a:lnTo>
                  <a:pt x="37" y="86"/>
                </a:lnTo>
                <a:lnTo>
                  <a:pt x="29" y="81"/>
                </a:lnTo>
                <a:lnTo>
                  <a:pt x="23" y="75"/>
                </a:lnTo>
                <a:lnTo>
                  <a:pt x="18" y="69"/>
                </a:lnTo>
                <a:lnTo>
                  <a:pt x="12" y="63"/>
                </a:lnTo>
                <a:lnTo>
                  <a:pt x="8" y="58"/>
                </a:lnTo>
                <a:lnTo>
                  <a:pt x="4" y="52"/>
                </a:lnTo>
                <a:lnTo>
                  <a:pt x="2" y="46"/>
                </a:lnTo>
                <a:lnTo>
                  <a:pt x="2" y="42"/>
                </a:lnTo>
                <a:lnTo>
                  <a:pt x="0" y="36"/>
                </a:lnTo>
                <a:lnTo>
                  <a:pt x="2" y="34"/>
                </a:lnTo>
                <a:lnTo>
                  <a:pt x="2" y="33"/>
                </a:lnTo>
                <a:lnTo>
                  <a:pt x="4" y="31"/>
                </a:lnTo>
                <a:lnTo>
                  <a:pt x="8" y="27"/>
                </a:lnTo>
                <a:lnTo>
                  <a:pt x="12" y="25"/>
                </a:lnTo>
                <a:lnTo>
                  <a:pt x="16" y="23"/>
                </a:lnTo>
                <a:lnTo>
                  <a:pt x="21" y="21"/>
                </a:lnTo>
                <a:lnTo>
                  <a:pt x="27" y="19"/>
                </a:lnTo>
                <a:lnTo>
                  <a:pt x="33" y="17"/>
                </a:lnTo>
                <a:lnTo>
                  <a:pt x="41" y="13"/>
                </a:lnTo>
                <a:lnTo>
                  <a:pt x="48" y="11"/>
                </a:lnTo>
                <a:lnTo>
                  <a:pt x="56" y="10"/>
                </a:lnTo>
                <a:lnTo>
                  <a:pt x="66" y="8"/>
                </a:lnTo>
                <a:lnTo>
                  <a:pt x="75" y="6"/>
                </a:lnTo>
                <a:lnTo>
                  <a:pt x="85" y="2"/>
                </a:lnTo>
                <a:lnTo>
                  <a:pt x="96" y="0"/>
                </a:lnTo>
                <a:lnTo>
                  <a:pt x="117" y="0"/>
                </a:lnTo>
                <a:lnTo>
                  <a:pt x="140" y="2"/>
                </a:lnTo>
                <a:lnTo>
                  <a:pt x="162" y="6"/>
                </a:lnTo>
                <a:lnTo>
                  <a:pt x="183" y="11"/>
                </a:lnTo>
                <a:lnTo>
                  <a:pt x="202" y="17"/>
                </a:lnTo>
                <a:lnTo>
                  <a:pt x="212" y="21"/>
                </a:lnTo>
                <a:lnTo>
                  <a:pt x="219" y="25"/>
                </a:lnTo>
                <a:lnTo>
                  <a:pt x="229" y="31"/>
                </a:lnTo>
                <a:lnTo>
                  <a:pt x="236" y="36"/>
                </a:lnTo>
                <a:lnTo>
                  <a:pt x="244" y="42"/>
                </a:lnTo>
                <a:lnTo>
                  <a:pt x="250" y="50"/>
                </a:lnTo>
                <a:lnTo>
                  <a:pt x="258" y="56"/>
                </a:lnTo>
                <a:lnTo>
                  <a:pt x="263" y="61"/>
                </a:lnTo>
                <a:lnTo>
                  <a:pt x="267" y="69"/>
                </a:lnTo>
                <a:lnTo>
                  <a:pt x="273" y="75"/>
                </a:lnTo>
                <a:lnTo>
                  <a:pt x="277" y="81"/>
                </a:lnTo>
                <a:lnTo>
                  <a:pt x="281" y="86"/>
                </a:lnTo>
                <a:lnTo>
                  <a:pt x="284" y="92"/>
                </a:lnTo>
                <a:lnTo>
                  <a:pt x="286" y="98"/>
                </a:lnTo>
                <a:lnTo>
                  <a:pt x="288" y="104"/>
                </a:lnTo>
                <a:lnTo>
                  <a:pt x="290" y="109"/>
                </a:lnTo>
                <a:lnTo>
                  <a:pt x="290" y="115"/>
                </a:lnTo>
                <a:lnTo>
                  <a:pt x="290" y="121"/>
                </a:lnTo>
                <a:lnTo>
                  <a:pt x="290" y="127"/>
                </a:lnTo>
                <a:lnTo>
                  <a:pt x="290" y="132"/>
                </a:lnTo>
                <a:lnTo>
                  <a:pt x="288" y="140"/>
                </a:lnTo>
                <a:lnTo>
                  <a:pt x="286" y="146"/>
                </a:lnTo>
                <a:lnTo>
                  <a:pt x="281" y="159"/>
                </a:lnTo>
                <a:lnTo>
                  <a:pt x="275" y="171"/>
                </a:lnTo>
                <a:lnTo>
                  <a:pt x="269" y="182"/>
                </a:lnTo>
                <a:lnTo>
                  <a:pt x="263" y="190"/>
                </a:lnTo>
                <a:lnTo>
                  <a:pt x="256" y="198"/>
                </a:lnTo>
                <a:lnTo>
                  <a:pt x="252" y="201"/>
                </a:lnTo>
                <a:lnTo>
                  <a:pt x="250" y="203"/>
                </a:lnTo>
                <a:lnTo>
                  <a:pt x="246" y="205"/>
                </a:lnTo>
                <a:lnTo>
                  <a:pt x="244" y="205"/>
                </a:lnTo>
                <a:lnTo>
                  <a:pt x="240" y="207"/>
                </a:lnTo>
                <a:lnTo>
                  <a:pt x="238" y="2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98"/>
          <p:cNvSpPr/>
          <p:nvPr/>
        </p:nvSpPr>
        <p:spPr>
          <a:xfrm>
            <a:off x="7250040" y="3898800"/>
            <a:ext cx="438120" cy="428760"/>
          </a:xfrm>
          <a:custGeom>
            <a:avLst/>
            <a:gdLst/>
            <a:ahLst/>
            <a:rect l="l" t="t" r="r" b="b"/>
            <a:pathLst>
              <a:path w="551" h="539">
                <a:moveTo>
                  <a:pt x="510" y="157"/>
                </a:moveTo>
                <a:lnTo>
                  <a:pt x="503" y="165"/>
                </a:lnTo>
                <a:lnTo>
                  <a:pt x="497" y="173"/>
                </a:lnTo>
                <a:lnTo>
                  <a:pt x="487" y="182"/>
                </a:lnTo>
                <a:lnTo>
                  <a:pt x="480" y="192"/>
                </a:lnTo>
                <a:lnTo>
                  <a:pt x="470" y="203"/>
                </a:lnTo>
                <a:lnTo>
                  <a:pt x="461" y="215"/>
                </a:lnTo>
                <a:lnTo>
                  <a:pt x="449" y="227"/>
                </a:lnTo>
                <a:lnTo>
                  <a:pt x="439" y="240"/>
                </a:lnTo>
                <a:lnTo>
                  <a:pt x="428" y="253"/>
                </a:lnTo>
                <a:lnTo>
                  <a:pt x="416" y="269"/>
                </a:lnTo>
                <a:lnTo>
                  <a:pt x="403" y="284"/>
                </a:lnTo>
                <a:lnTo>
                  <a:pt x="389" y="301"/>
                </a:lnTo>
                <a:lnTo>
                  <a:pt x="376" y="319"/>
                </a:lnTo>
                <a:lnTo>
                  <a:pt x="363" y="338"/>
                </a:lnTo>
                <a:lnTo>
                  <a:pt x="347" y="357"/>
                </a:lnTo>
                <a:lnTo>
                  <a:pt x="332" y="376"/>
                </a:lnTo>
                <a:lnTo>
                  <a:pt x="315" y="397"/>
                </a:lnTo>
                <a:lnTo>
                  <a:pt x="299" y="415"/>
                </a:lnTo>
                <a:lnTo>
                  <a:pt x="282" y="432"/>
                </a:lnTo>
                <a:lnTo>
                  <a:pt x="269" y="449"/>
                </a:lnTo>
                <a:lnTo>
                  <a:pt x="253" y="463"/>
                </a:lnTo>
                <a:lnTo>
                  <a:pt x="242" y="476"/>
                </a:lnTo>
                <a:lnTo>
                  <a:pt x="228" y="487"/>
                </a:lnTo>
                <a:lnTo>
                  <a:pt x="217" y="497"/>
                </a:lnTo>
                <a:lnTo>
                  <a:pt x="205" y="507"/>
                </a:lnTo>
                <a:lnTo>
                  <a:pt x="196" y="514"/>
                </a:lnTo>
                <a:lnTo>
                  <a:pt x="188" y="520"/>
                </a:lnTo>
                <a:lnTo>
                  <a:pt x="178" y="526"/>
                </a:lnTo>
                <a:lnTo>
                  <a:pt x="171" y="530"/>
                </a:lnTo>
                <a:lnTo>
                  <a:pt x="165" y="534"/>
                </a:lnTo>
                <a:lnTo>
                  <a:pt x="159" y="535"/>
                </a:lnTo>
                <a:lnTo>
                  <a:pt x="153" y="535"/>
                </a:lnTo>
                <a:lnTo>
                  <a:pt x="148" y="537"/>
                </a:lnTo>
                <a:lnTo>
                  <a:pt x="142" y="537"/>
                </a:lnTo>
                <a:lnTo>
                  <a:pt x="134" y="539"/>
                </a:lnTo>
                <a:lnTo>
                  <a:pt x="128" y="537"/>
                </a:lnTo>
                <a:lnTo>
                  <a:pt x="123" y="537"/>
                </a:lnTo>
                <a:lnTo>
                  <a:pt x="117" y="535"/>
                </a:lnTo>
                <a:lnTo>
                  <a:pt x="111" y="532"/>
                </a:lnTo>
                <a:lnTo>
                  <a:pt x="105" y="530"/>
                </a:lnTo>
                <a:lnTo>
                  <a:pt x="102" y="526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1" y="499"/>
                </a:lnTo>
                <a:lnTo>
                  <a:pt x="59" y="487"/>
                </a:lnTo>
                <a:lnTo>
                  <a:pt x="46" y="472"/>
                </a:lnTo>
                <a:lnTo>
                  <a:pt x="34" y="459"/>
                </a:lnTo>
                <a:lnTo>
                  <a:pt x="25" y="445"/>
                </a:lnTo>
                <a:lnTo>
                  <a:pt x="15" y="434"/>
                </a:lnTo>
                <a:lnTo>
                  <a:pt x="9" y="420"/>
                </a:lnTo>
                <a:lnTo>
                  <a:pt x="6" y="415"/>
                </a:lnTo>
                <a:lnTo>
                  <a:pt x="4" y="409"/>
                </a:lnTo>
                <a:lnTo>
                  <a:pt x="2" y="403"/>
                </a:lnTo>
                <a:lnTo>
                  <a:pt x="0" y="399"/>
                </a:lnTo>
                <a:lnTo>
                  <a:pt x="0" y="393"/>
                </a:lnTo>
                <a:lnTo>
                  <a:pt x="0" y="390"/>
                </a:lnTo>
                <a:lnTo>
                  <a:pt x="0" y="384"/>
                </a:lnTo>
                <a:lnTo>
                  <a:pt x="2" y="380"/>
                </a:lnTo>
                <a:lnTo>
                  <a:pt x="6" y="376"/>
                </a:lnTo>
                <a:lnTo>
                  <a:pt x="9" y="372"/>
                </a:lnTo>
                <a:lnTo>
                  <a:pt x="17" y="369"/>
                </a:lnTo>
                <a:lnTo>
                  <a:pt x="21" y="369"/>
                </a:lnTo>
                <a:lnTo>
                  <a:pt x="25" y="367"/>
                </a:lnTo>
                <a:lnTo>
                  <a:pt x="29" y="367"/>
                </a:lnTo>
                <a:lnTo>
                  <a:pt x="34" y="365"/>
                </a:lnTo>
                <a:lnTo>
                  <a:pt x="40" y="365"/>
                </a:lnTo>
                <a:lnTo>
                  <a:pt x="48" y="365"/>
                </a:lnTo>
                <a:lnTo>
                  <a:pt x="55" y="369"/>
                </a:lnTo>
                <a:lnTo>
                  <a:pt x="65" y="372"/>
                </a:lnTo>
                <a:lnTo>
                  <a:pt x="73" y="374"/>
                </a:lnTo>
                <a:lnTo>
                  <a:pt x="80" y="374"/>
                </a:lnTo>
                <a:lnTo>
                  <a:pt x="88" y="374"/>
                </a:lnTo>
                <a:lnTo>
                  <a:pt x="96" y="372"/>
                </a:lnTo>
                <a:lnTo>
                  <a:pt x="102" y="369"/>
                </a:lnTo>
                <a:lnTo>
                  <a:pt x="107" y="365"/>
                </a:lnTo>
                <a:lnTo>
                  <a:pt x="107" y="363"/>
                </a:lnTo>
                <a:lnTo>
                  <a:pt x="109" y="361"/>
                </a:lnTo>
                <a:lnTo>
                  <a:pt x="113" y="359"/>
                </a:lnTo>
                <a:lnTo>
                  <a:pt x="117" y="355"/>
                </a:lnTo>
                <a:lnTo>
                  <a:pt x="121" y="351"/>
                </a:lnTo>
                <a:lnTo>
                  <a:pt x="126" y="347"/>
                </a:lnTo>
                <a:lnTo>
                  <a:pt x="134" y="342"/>
                </a:lnTo>
                <a:lnTo>
                  <a:pt x="140" y="336"/>
                </a:lnTo>
                <a:lnTo>
                  <a:pt x="148" y="328"/>
                </a:lnTo>
                <a:lnTo>
                  <a:pt x="157" y="322"/>
                </a:lnTo>
                <a:lnTo>
                  <a:pt x="167" y="315"/>
                </a:lnTo>
                <a:lnTo>
                  <a:pt x="176" y="305"/>
                </a:lnTo>
                <a:lnTo>
                  <a:pt x="188" y="296"/>
                </a:lnTo>
                <a:lnTo>
                  <a:pt x="199" y="286"/>
                </a:lnTo>
                <a:lnTo>
                  <a:pt x="211" y="276"/>
                </a:lnTo>
                <a:lnTo>
                  <a:pt x="224" y="265"/>
                </a:lnTo>
                <a:lnTo>
                  <a:pt x="238" y="253"/>
                </a:lnTo>
                <a:lnTo>
                  <a:pt x="253" y="242"/>
                </a:lnTo>
                <a:lnTo>
                  <a:pt x="269" y="228"/>
                </a:lnTo>
                <a:lnTo>
                  <a:pt x="286" y="215"/>
                </a:lnTo>
                <a:lnTo>
                  <a:pt x="303" y="200"/>
                </a:lnTo>
                <a:lnTo>
                  <a:pt x="320" y="186"/>
                </a:lnTo>
                <a:lnTo>
                  <a:pt x="340" y="169"/>
                </a:lnTo>
                <a:lnTo>
                  <a:pt x="359" y="154"/>
                </a:lnTo>
                <a:lnTo>
                  <a:pt x="380" y="136"/>
                </a:lnTo>
                <a:lnTo>
                  <a:pt x="401" y="119"/>
                </a:lnTo>
                <a:lnTo>
                  <a:pt x="424" y="100"/>
                </a:lnTo>
                <a:lnTo>
                  <a:pt x="447" y="83"/>
                </a:lnTo>
                <a:lnTo>
                  <a:pt x="470" y="62"/>
                </a:lnTo>
                <a:lnTo>
                  <a:pt x="495" y="42"/>
                </a:lnTo>
                <a:lnTo>
                  <a:pt x="520" y="21"/>
                </a:lnTo>
                <a:lnTo>
                  <a:pt x="547" y="0"/>
                </a:lnTo>
                <a:lnTo>
                  <a:pt x="549" y="12"/>
                </a:lnTo>
                <a:lnTo>
                  <a:pt x="549" y="23"/>
                </a:lnTo>
                <a:lnTo>
                  <a:pt x="551" y="33"/>
                </a:lnTo>
                <a:lnTo>
                  <a:pt x="551" y="44"/>
                </a:lnTo>
                <a:lnTo>
                  <a:pt x="551" y="56"/>
                </a:lnTo>
                <a:lnTo>
                  <a:pt x="549" y="67"/>
                </a:lnTo>
                <a:lnTo>
                  <a:pt x="547" y="77"/>
                </a:lnTo>
                <a:lnTo>
                  <a:pt x="545" y="88"/>
                </a:lnTo>
                <a:lnTo>
                  <a:pt x="543" y="98"/>
                </a:lnTo>
                <a:lnTo>
                  <a:pt x="541" y="108"/>
                </a:lnTo>
                <a:lnTo>
                  <a:pt x="537" y="117"/>
                </a:lnTo>
                <a:lnTo>
                  <a:pt x="533" y="127"/>
                </a:lnTo>
                <a:lnTo>
                  <a:pt x="528" y="134"/>
                </a:lnTo>
                <a:lnTo>
                  <a:pt x="522" y="144"/>
                </a:lnTo>
                <a:lnTo>
                  <a:pt x="516" y="152"/>
                </a:lnTo>
                <a:lnTo>
                  <a:pt x="510" y="1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99"/>
          <p:cNvSpPr/>
          <p:nvPr/>
        </p:nvSpPr>
        <p:spPr>
          <a:xfrm>
            <a:off x="6729480" y="4005360"/>
            <a:ext cx="426960" cy="347400"/>
          </a:xfrm>
          <a:custGeom>
            <a:avLst/>
            <a:gdLst/>
            <a:ahLst/>
            <a:rect l="l" t="t" r="r" b="b"/>
            <a:pathLst>
              <a:path w="538" h="438">
                <a:moveTo>
                  <a:pt x="27" y="376"/>
                </a:moveTo>
                <a:lnTo>
                  <a:pt x="19" y="371"/>
                </a:lnTo>
                <a:lnTo>
                  <a:pt x="16" y="363"/>
                </a:lnTo>
                <a:lnTo>
                  <a:pt x="10" y="357"/>
                </a:lnTo>
                <a:lnTo>
                  <a:pt x="6" y="352"/>
                </a:lnTo>
                <a:lnTo>
                  <a:pt x="4" y="346"/>
                </a:lnTo>
                <a:lnTo>
                  <a:pt x="2" y="340"/>
                </a:lnTo>
                <a:lnTo>
                  <a:pt x="0" y="336"/>
                </a:lnTo>
                <a:lnTo>
                  <a:pt x="0" y="330"/>
                </a:lnTo>
                <a:lnTo>
                  <a:pt x="0" y="327"/>
                </a:lnTo>
                <a:lnTo>
                  <a:pt x="2" y="323"/>
                </a:lnTo>
                <a:lnTo>
                  <a:pt x="4" y="319"/>
                </a:lnTo>
                <a:lnTo>
                  <a:pt x="6" y="315"/>
                </a:lnTo>
                <a:lnTo>
                  <a:pt x="10" y="311"/>
                </a:lnTo>
                <a:lnTo>
                  <a:pt x="16" y="309"/>
                </a:lnTo>
                <a:lnTo>
                  <a:pt x="19" y="306"/>
                </a:lnTo>
                <a:lnTo>
                  <a:pt x="27" y="304"/>
                </a:lnTo>
                <a:lnTo>
                  <a:pt x="44" y="304"/>
                </a:lnTo>
                <a:lnTo>
                  <a:pt x="52" y="304"/>
                </a:lnTo>
                <a:lnTo>
                  <a:pt x="60" y="302"/>
                </a:lnTo>
                <a:lnTo>
                  <a:pt x="67" y="302"/>
                </a:lnTo>
                <a:lnTo>
                  <a:pt x="75" y="298"/>
                </a:lnTo>
                <a:lnTo>
                  <a:pt x="81" y="296"/>
                </a:lnTo>
                <a:lnTo>
                  <a:pt x="87" y="292"/>
                </a:lnTo>
                <a:lnTo>
                  <a:pt x="89" y="292"/>
                </a:lnTo>
                <a:lnTo>
                  <a:pt x="92" y="290"/>
                </a:lnTo>
                <a:lnTo>
                  <a:pt x="96" y="288"/>
                </a:lnTo>
                <a:lnTo>
                  <a:pt x="102" y="286"/>
                </a:lnTo>
                <a:lnTo>
                  <a:pt x="108" y="284"/>
                </a:lnTo>
                <a:lnTo>
                  <a:pt x="114" y="282"/>
                </a:lnTo>
                <a:lnTo>
                  <a:pt x="121" y="279"/>
                </a:lnTo>
                <a:lnTo>
                  <a:pt x="129" y="273"/>
                </a:lnTo>
                <a:lnTo>
                  <a:pt x="138" y="269"/>
                </a:lnTo>
                <a:lnTo>
                  <a:pt x="148" y="263"/>
                </a:lnTo>
                <a:lnTo>
                  <a:pt x="158" y="258"/>
                </a:lnTo>
                <a:lnTo>
                  <a:pt x="167" y="252"/>
                </a:lnTo>
                <a:lnTo>
                  <a:pt x="179" y="244"/>
                </a:lnTo>
                <a:lnTo>
                  <a:pt x="190" y="236"/>
                </a:lnTo>
                <a:lnTo>
                  <a:pt x="204" y="227"/>
                </a:lnTo>
                <a:lnTo>
                  <a:pt x="217" y="219"/>
                </a:lnTo>
                <a:lnTo>
                  <a:pt x="231" y="210"/>
                </a:lnTo>
                <a:lnTo>
                  <a:pt x="244" y="200"/>
                </a:lnTo>
                <a:lnTo>
                  <a:pt x="261" y="188"/>
                </a:lnTo>
                <a:lnTo>
                  <a:pt x="277" y="177"/>
                </a:lnTo>
                <a:lnTo>
                  <a:pt x="294" y="165"/>
                </a:lnTo>
                <a:lnTo>
                  <a:pt x="311" y="154"/>
                </a:lnTo>
                <a:lnTo>
                  <a:pt x="330" y="140"/>
                </a:lnTo>
                <a:lnTo>
                  <a:pt x="350" y="127"/>
                </a:lnTo>
                <a:lnTo>
                  <a:pt x="369" y="114"/>
                </a:lnTo>
                <a:lnTo>
                  <a:pt x="390" y="98"/>
                </a:lnTo>
                <a:lnTo>
                  <a:pt x="411" y="85"/>
                </a:lnTo>
                <a:lnTo>
                  <a:pt x="432" y="68"/>
                </a:lnTo>
                <a:lnTo>
                  <a:pt x="455" y="52"/>
                </a:lnTo>
                <a:lnTo>
                  <a:pt x="478" y="35"/>
                </a:lnTo>
                <a:lnTo>
                  <a:pt x="501" y="18"/>
                </a:lnTo>
                <a:lnTo>
                  <a:pt x="526" y="0"/>
                </a:lnTo>
                <a:lnTo>
                  <a:pt x="532" y="43"/>
                </a:lnTo>
                <a:lnTo>
                  <a:pt x="538" y="85"/>
                </a:lnTo>
                <a:lnTo>
                  <a:pt x="515" y="108"/>
                </a:lnTo>
                <a:lnTo>
                  <a:pt x="492" y="129"/>
                </a:lnTo>
                <a:lnTo>
                  <a:pt x="471" y="150"/>
                </a:lnTo>
                <a:lnTo>
                  <a:pt x="449" y="171"/>
                </a:lnTo>
                <a:lnTo>
                  <a:pt x="428" y="190"/>
                </a:lnTo>
                <a:lnTo>
                  <a:pt x="409" y="210"/>
                </a:lnTo>
                <a:lnTo>
                  <a:pt x="390" y="229"/>
                </a:lnTo>
                <a:lnTo>
                  <a:pt x="371" y="246"/>
                </a:lnTo>
                <a:lnTo>
                  <a:pt x="353" y="261"/>
                </a:lnTo>
                <a:lnTo>
                  <a:pt x="336" y="279"/>
                </a:lnTo>
                <a:lnTo>
                  <a:pt x="319" y="294"/>
                </a:lnTo>
                <a:lnTo>
                  <a:pt x="304" y="307"/>
                </a:lnTo>
                <a:lnTo>
                  <a:pt x="288" y="321"/>
                </a:lnTo>
                <a:lnTo>
                  <a:pt x="273" y="334"/>
                </a:lnTo>
                <a:lnTo>
                  <a:pt x="259" y="346"/>
                </a:lnTo>
                <a:lnTo>
                  <a:pt x="246" y="357"/>
                </a:lnTo>
                <a:lnTo>
                  <a:pt x="233" y="369"/>
                </a:lnTo>
                <a:lnTo>
                  <a:pt x="221" y="378"/>
                </a:lnTo>
                <a:lnTo>
                  <a:pt x="209" y="388"/>
                </a:lnTo>
                <a:lnTo>
                  <a:pt x="198" y="396"/>
                </a:lnTo>
                <a:lnTo>
                  <a:pt x="188" y="403"/>
                </a:lnTo>
                <a:lnTo>
                  <a:pt x="179" y="411"/>
                </a:lnTo>
                <a:lnTo>
                  <a:pt x="169" y="417"/>
                </a:lnTo>
                <a:lnTo>
                  <a:pt x="162" y="423"/>
                </a:lnTo>
                <a:lnTo>
                  <a:pt x="154" y="426"/>
                </a:lnTo>
                <a:lnTo>
                  <a:pt x="148" y="430"/>
                </a:lnTo>
                <a:lnTo>
                  <a:pt x="142" y="434"/>
                </a:lnTo>
                <a:lnTo>
                  <a:pt x="137" y="436"/>
                </a:lnTo>
                <a:lnTo>
                  <a:pt x="131" y="438"/>
                </a:lnTo>
                <a:lnTo>
                  <a:pt x="127" y="438"/>
                </a:lnTo>
                <a:lnTo>
                  <a:pt x="125" y="438"/>
                </a:lnTo>
                <a:lnTo>
                  <a:pt x="121" y="438"/>
                </a:lnTo>
                <a:lnTo>
                  <a:pt x="115" y="438"/>
                </a:lnTo>
                <a:lnTo>
                  <a:pt x="110" y="436"/>
                </a:lnTo>
                <a:lnTo>
                  <a:pt x="102" y="436"/>
                </a:lnTo>
                <a:lnTo>
                  <a:pt x="96" y="434"/>
                </a:lnTo>
                <a:lnTo>
                  <a:pt x="90" y="430"/>
                </a:lnTo>
                <a:lnTo>
                  <a:pt x="85" y="428"/>
                </a:lnTo>
                <a:lnTo>
                  <a:pt x="73" y="421"/>
                </a:lnTo>
                <a:lnTo>
                  <a:pt x="64" y="413"/>
                </a:lnTo>
                <a:lnTo>
                  <a:pt x="52" y="401"/>
                </a:lnTo>
                <a:lnTo>
                  <a:pt x="39" y="390"/>
                </a:lnTo>
                <a:lnTo>
                  <a:pt x="27" y="3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00"/>
          <p:cNvSpPr/>
          <p:nvPr/>
        </p:nvSpPr>
        <p:spPr>
          <a:xfrm>
            <a:off x="5954760" y="4052880"/>
            <a:ext cx="115920" cy="766800"/>
          </a:xfrm>
          <a:custGeom>
            <a:avLst/>
            <a:gdLst/>
            <a:ahLst/>
            <a:rect l="l" t="t" r="r" b="b"/>
            <a:pathLst>
              <a:path w="148" h="965">
                <a:moveTo>
                  <a:pt x="88" y="963"/>
                </a:moveTo>
                <a:lnTo>
                  <a:pt x="87" y="963"/>
                </a:lnTo>
                <a:lnTo>
                  <a:pt x="85" y="965"/>
                </a:lnTo>
                <a:lnTo>
                  <a:pt x="81" y="965"/>
                </a:lnTo>
                <a:lnTo>
                  <a:pt x="79" y="965"/>
                </a:lnTo>
                <a:lnTo>
                  <a:pt x="77" y="963"/>
                </a:lnTo>
                <a:lnTo>
                  <a:pt x="75" y="961"/>
                </a:lnTo>
                <a:lnTo>
                  <a:pt x="71" y="957"/>
                </a:lnTo>
                <a:lnTo>
                  <a:pt x="69" y="954"/>
                </a:lnTo>
                <a:lnTo>
                  <a:pt x="65" y="948"/>
                </a:lnTo>
                <a:lnTo>
                  <a:pt x="63" y="942"/>
                </a:lnTo>
                <a:lnTo>
                  <a:pt x="60" y="936"/>
                </a:lnTo>
                <a:lnTo>
                  <a:pt x="56" y="929"/>
                </a:lnTo>
                <a:lnTo>
                  <a:pt x="52" y="919"/>
                </a:lnTo>
                <a:lnTo>
                  <a:pt x="48" y="909"/>
                </a:lnTo>
                <a:lnTo>
                  <a:pt x="44" y="900"/>
                </a:lnTo>
                <a:lnTo>
                  <a:pt x="40" y="888"/>
                </a:lnTo>
                <a:lnTo>
                  <a:pt x="35" y="881"/>
                </a:lnTo>
                <a:lnTo>
                  <a:pt x="29" y="871"/>
                </a:lnTo>
                <a:lnTo>
                  <a:pt x="23" y="863"/>
                </a:lnTo>
                <a:lnTo>
                  <a:pt x="19" y="854"/>
                </a:lnTo>
                <a:lnTo>
                  <a:pt x="15" y="846"/>
                </a:lnTo>
                <a:lnTo>
                  <a:pt x="12" y="838"/>
                </a:lnTo>
                <a:lnTo>
                  <a:pt x="8" y="831"/>
                </a:lnTo>
                <a:lnTo>
                  <a:pt x="6" y="823"/>
                </a:lnTo>
                <a:lnTo>
                  <a:pt x="4" y="815"/>
                </a:lnTo>
                <a:lnTo>
                  <a:pt x="2" y="810"/>
                </a:lnTo>
                <a:lnTo>
                  <a:pt x="0" y="802"/>
                </a:lnTo>
                <a:lnTo>
                  <a:pt x="0" y="794"/>
                </a:lnTo>
                <a:lnTo>
                  <a:pt x="0" y="789"/>
                </a:lnTo>
                <a:lnTo>
                  <a:pt x="2" y="781"/>
                </a:lnTo>
                <a:lnTo>
                  <a:pt x="4" y="773"/>
                </a:lnTo>
                <a:lnTo>
                  <a:pt x="6" y="767"/>
                </a:lnTo>
                <a:lnTo>
                  <a:pt x="6" y="762"/>
                </a:lnTo>
                <a:lnTo>
                  <a:pt x="6" y="758"/>
                </a:lnTo>
                <a:lnTo>
                  <a:pt x="6" y="750"/>
                </a:lnTo>
                <a:lnTo>
                  <a:pt x="6" y="744"/>
                </a:lnTo>
                <a:lnTo>
                  <a:pt x="6" y="737"/>
                </a:lnTo>
                <a:lnTo>
                  <a:pt x="6" y="729"/>
                </a:lnTo>
                <a:lnTo>
                  <a:pt x="6" y="721"/>
                </a:lnTo>
                <a:lnTo>
                  <a:pt x="6" y="712"/>
                </a:lnTo>
                <a:lnTo>
                  <a:pt x="8" y="702"/>
                </a:lnTo>
                <a:lnTo>
                  <a:pt x="8" y="693"/>
                </a:lnTo>
                <a:lnTo>
                  <a:pt x="10" y="683"/>
                </a:lnTo>
                <a:lnTo>
                  <a:pt x="10" y="671"/>
                </a:lnTo>
                <a:lnTo>
                  <a:pt x="12" y="660"/>
                </a:lnTo>
                <a:lnTo>
                  <a:pt x="14" y="647"/>
                </a:lnTo>
                <a:lnTo>
                  <a:pt x="15" y="635"/>
                </a:lnTo>
                <a:lnTo>
                  <a:pt x="17" y="622"/>
                </a:lnTo>
                <a:lnTo>
                  <a:pt x="21" y="599"/>
                </a:lnTo>
                <a:lnTo>
                  <a:pt x="23" y="574"/>
                </a:lnTo>
                <a:lnTo>
                  <a:pt x="25" y="547"/>
                </a:lnTo>
                <a:lnTo>
                  <a:pt x="27" y="520"/>
                </a:lnTo>
                <a:lnTo>
                  <a:pt x="29" y="493"/>
                </a:lnTo>
                <a:lnTo>
                  <a:pt x="29" y="464"/>
                </a:lnTo>
                <a:lnTo>
                  <a:pt x="29" y="434"/>
                </a:lnTo>
                <a:lnTo>
                  <a:pt x="29" y="403"/>
                </a:lnTo>
                <a:lnTo>
                  <a:pt x="29" y="387"/>
                </a:lnTo>
                <a:lnTo>
                  <a:pt x="29" y="372"/>
                </a:lnTo>
                <a:lnTo>
                  <a:pt x="29" y="355"/>
                </a:lnTo>
                <a:lnTo>
                  <a:pt x="29" y="336"/>
                </a:lnTo>
                <a:lnTo>
                  <a:pt x="29" y="316"/>
                </a:lnTo>
                <a:lnTo>
                  <a:pt x="29" y="293"/>
                </a:lnTo>
                <a:lnTo>
                  <a:pt x="27" y="270"/>
                </a:lnTo>
                <a:lnTo>
                  <a:pt x="27" y="247"/>
                </a:lnTo>
                <a:lnTo>
                  <a:pt x="27" y="221"/>
                </a:lnTo>
                <a:lnTo>
                  <a:pt x="25" y="194"/>
                </a:lnTo>
                <a:lnTo>
                  <a:pt x="25" y="165"/>
                </a:lnTo>
                <a:lnTo>
                  <a:pt x="23" y="134"/>
                </a:lnTo>
                <a:lnTo>
                  <a:pt x="23" y="104"/>
                </a:lnTo>
                <a:lnTo>
                  <a:pt x="21" y="71"/>
                </a:lnTo>
                <a:lnTo>
                  <a:pt x="19" y="36"/>
                </a:lnTo>
                <a:lnTo>
                  <a:pt x="17" y="0"/>
                </a:lnTo>
                <a:lnTo>
                  <a:pt x="148" y="0"/>
                </a:lnTo>
                <a:lnTo>
                  <a:pt x="146" y="59"/>
                </a:lnTo>
                <a:lnTo>
                  <a:pt x="144" y="115"/>
                </a:lnTo>
                <a:lnTo>
                  <a:pt x="140" y="171"/>
                </a:lnTo>
                <a:lnTo>
                  <a:pt x="138" y="222"/>
                </a:lnTo>
                <a:lnTo>
                  <a:pt x="136" y="274"/>
                </a:lnTo>
                <a:lnTo>
                  <a:pt x="135" y="322"/>
                </a:lnTo>
                <a:lnTo>
                  <a:pt x="133" y="370"/>
                </a:lnTo>
                <a:lnTo>
                  <a:pt x="131" y="416"/>
                </a:lnTo>
                <a:lnTo>
                  <a:pt x="129" y="460"/>
                </a:lnTo>
                <a:lnTo>
                  <a:pt x="127" y="501"/>
                </a:lnTo>
                <a:lnTo>
                  <a:pt x="123" y="541"/>
                </a:lnTo>
                <a:lnTo>
                  <a:pt x="121" y="579"/>
                </a:lnTo>
                <a:lnTo>
                  <a:pt x="119" y="616"/>
                </a:lnTo>
                <a:lnTo>
                  <a:pt x="117" y="650"/>
                </a:lnTo>
                <a:lnTo>
                  <a:pt x="115" y="683"/>
                </a:lnTo>
                <a:lnTo>
                  <a:pt x="113" y="714"/>
                </a:lnTo>
                <a:lnTo>
                  <a:pt x="111" y="742"/>
                </a:lnTo>
                <a:lnTo>
                  <a:pt x="110" y="769"/>
                </a:lnTo>
                <a:lnTo>
                  <a:pt x="108" y="796"/>
                </a:lnTo>
                <a:lnTo>
                  <a:pt x="106" y="819"/>
                </a:lnTo>
                <a:lnTo>
                  <a:pt x="104" y="840"/>
                </a:lnTo>
                <a:lnTo>
                  <a:pt x="102" y="861"/>
                </a:lnTo>
                <a:lnTo>
                  <a:pt x="100" y="879"/>
                </a:lnTo>
                <a:lnTo>
                  <a:pt x="100" y="896"/>
                </a:lnTo>
                <a:lnTo>
                  <a:pt x="98" y="909"/>
                </a:lnTo>
                <a:lnTo>
                  <a:pt x="96" y="923"/>
                </a:lnTo>
                <a:lnTo>
                  <a:pt x="94" y="934"/>
                </a:lnTo>
                <a:lnTo>
                  <a:pt x="92" y="944"/>
                </a:lnTo>
                <a:lnTo>
                  <a:pt x="92" y="952"/>
                </a:lnTo>
                <a:lnTo>
                  <a:pt x="90" y="955"/>
                </a:lnTo>
                <a:lnTo>
                  <a:pt x="88" y="959"/>
                </a:lnTo>
                <a:lnTo>
                  <a:pt x="88" y="9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01"/>
          <p:cNvSpPr/>
          <p:nvPr/>
        </p:nvSpPr>
        <p:spPr>
          <a:xfrm>
            <a:off x="6024600" y="3908520"/>
            <a:ext cx="763560" cy="1023840"/>
          </a:xfrm>
          <a:custGeom>
            <a:avLst/>
            <a:gdLst/>
            <a:ahLst/>
            <a:rect l="l" t="t" r="r" b="b"/>
            <a:pathLst>
              <a:path w="962" h="1291">
                <a:moveTo>
                  <a:pt x="536" y="997"/>
                </a:moveTo>
                <a:lnTo>
                  <a:pt x="538" y="995"/>
                </a:lnTo>
                <a:lnTo>
                  <a:pt x="540" y="994"/>
                </a:lnTo>
                <a:lnTo>
                  <a:pt x="544" y="992"/>
                </a:lnTo>
                <a:lnTo>
                  <a:pt x="548" y="992"/>
                </a:lnTo>
                <a:lnTo>
                  <a:pt x="553" y="990"/>
                </a:lnTo>
                <a:lnTo>
                  <a:pt x="559" y="990"/>
                </a:lnTo>
                <a:lnTo>
                  <a:pt x="565" y="990"/>
                </a:lnTo>
                <a:lnTo>
                  <a:pt x="571" y="988"/>
                </a:lnTo>
                <a:lnTo>
                  <a:pt x="578" y="990"/>
                </a:lnTo>
                <a:lnTo>
                  <a:pt x="586" y="990"/>
                </a:lnTo>
                <a:lnTo>
                  <a:pt x="594" y="990"/>
                </a:lnTo>
                <a:lnTo>
                  <a:pt x="601" y="992"/>
                </a:lnTo>
                <a:lnTo>
                  <a:pt x="611" y="992"/>
                </a:lnTo>
                <a:lnTo>
                  <a:pt x="620" y="994"/>
                </a:lnTo>
                <a:lnTo>
                  <a:pt x="632" y="995"/>
                </a:lnTo>
                <a:lnTo>
                  <a:pt x="642" y="997"/>
                </a:lnTo>
                <a:lnTo>
                  <a:pt x="659" y="1001"/>
                </a:lnTo>
                <a:lnTo>
                  <a:pt x="676" y="1005"/>
                </a:lnTo>
                <a:lnTo>
                  <a:pt x="690" y="1007"/>
                </a:lnTo>
                <a:lnTo>
                  <a:pt x="703" y="1007"/>
                </a:lnTo>
                <a:lnTo>
                  <a:pt x="715" y="1007"/>
                </a:lnTo>
                <a:lnTo>
                  <a:pt x="720" y="1005"/>
                </a:lnTo>
                <a:lnTo>
                  <a:pt x="724" y="1005"/>
                </a:lnTo>
                <a:lnTo>
                  <a:pt x="728" y="1003"/>
                </a:lnTo>
                <a:lnTo>
                  <a:pt x="732" y="1001"/>
                </a:lnTo>
                <a:lnTo>
                  <a:pt x="734" y="999"/>
                </a:lnTo>
                <a:lnTo>
                  <a:pt x="738" y="997"/>
                </a:lnTo>
                <a:lnTo>
                  <a:pt x="738" y="995"/>
                </a:lnTo>
                <a:lnTo>
                  <a:pt x="740" y="994"/>
                </a:lnTo>
                <a:lnTo>
                  <a:pt x="740" y="992"/>
                </a:lnTo>
                <a:lnTo>
                  <a:pt x="741" y="988"/>
                </a:lnTo>
                <a:lnTo>
                  <a:pt x="743" y="984"/>
                </a:lnTo>
                <a:lnTo>
                  <a:pt x="743" y="978"/>
                </a:lnTo>
                <a:lnTo>
                  <a:pt x="745" y="972"/>
                </a:lnTo>
                <a:lnTo>
                  <a:pt x="745" y="967"/>
                </a:lnTo>
                <a:lnTo>
                  <a:pt x="747" y="959"/>
                </a:lnTo>
                <a:lnTo>
                  <a:pt x="747" y="951"/>
                </a:lnTo>
                <a:lnTo>
                  <a:pt x="749" y="942"/>
                </a:lnTo>
                <a:lnTo>
                  <a:pt x="749" y="932"/>
                </a:lnTo>
                <a:lnTo>
                  <a:pt x="751" y="923"/>
                </a:lnTo>
                <a:lnTo>
                  <a:pt x="751" y="911"/>
                </a:lnTo>
                <a:lnTo>
                  <a:pt x="753" y="900"/>
                </a:lnTo>
                <a:lnTo>
                  <a:pt x="753" y="886"/>
                </a:lnTo>
                <a:lnTo>
                  <a:pt x="755" y="873"/>
                </a:lnTo>
                <a:lnTo>
                  <a:pt x="755" y="859"/>
                </a:lnTo>
                <a:lnTo>
                  <a:pt x="755" y="846"/>
                </a:lnTo>
                <a:lnTo>
                  <a:pt x="757" y="829"/>
                </a:lnTo>
                <a:lnTo>
                  <a:pt x="757" y="813"/>
                </a:lnTo>
                <a:lnTo>
                  <a:pt x="759" y="796"/>
                </a:lnTo>
                <a:lnTo>
                  <a:pt x="759" y="779"/>
                </a:lnTo>
                <a:lnTo>
                  <a:pt x="759" y="759"/>
                </a:lnTo>
                <a:lnTo>
                  <a:pt x="759" y="740"/>
                </a:lnTo>
                <a:lnTo>
                  <a:pt x="761" y="721"/>
                </a:lnTo>
                <a:lnTo>
                  <a:pt x="761" y="700"/>
                </a:lnTo>
                <a:lnTo>
                  <a:pt x="761" y="679"/>
                </a:lnTo>
                <a:lnTo>
                  <a:pt x="761" y="656"/>
                </a:lnTo>
                <a:lnTo>
                  <a:pt x="761" y="633"/>
                </a:lnTo>
                <a:lnTo>
                  <a:pt x="761" y="610"/>
                </a:lnTo>
                <a:lnTo>
                  <a:pt x="761" y="585"/>
                </a:lnTo>
                <a:lnTo>
                  <a:pt x="761" y="560"/>
                </a:lnTo>
                <a:lnTo>
                  <a:pt x="761" y="537"/>
                </a:lnTo>
                <a:lnTo>
                  <a:pt x="761" y="516"/>
                </a:lnTo>
                <a:lnTo>
                  <a:pt x="761" y="493"/>
                </a:lnTo>
                <a:lnTo>
                  <a:pt x="761" y="472"/>
                </a:lnTo>
                <a:lnTo>
                  <a:pt x="761" y="452"/>
                </a:lnTo>
                <a:lnTo>
                  <a:pt x="761" y="433"/>
                </a:lnTo>
                <a:lnTo>
                  <a:pt x="761" y="414"/>
                </a:lnTo>
                <a:lnTo>
                  <a:pt x="761" y="395"/>
                </a:lnTo>
                <a:lnTo>
                  <a:pt x="761" y="378"/>
                </a:lnTo>
                <a:lnTo>
                  <a:pt x="761" y="360"/>
                </a:lnTo>
                <a:lnTo>
                  <a:pt x="761" y="345"/>
                </a:lnTo>
                <a:lnTo>
                  <a:pt x="761" y="328"/>
                </a:lnTo>
                <a:lnTo>
                  <a:pt x="761" y="314"/>
                </a:lnTo>
                <a:lnTo>
                  <a:pt x="761" y="299"/>
                </a:lnTo>
                <a:lnTo>
                  <a:pt x="759" y="286"/>
                </a:lnTo>
                <a:lnTo>
                  <a:pt x="759" y="274"/>
                </a:lnTo>
                <a:lnTo>
                  <a:pt x="759" y="261"/>
                </a:lnTo>
                <a:lnTo>
                  <a:pt x="759" y="249"/>
                </a:lnTo>
                <a:lnTo>
                  <a:pt x="759" y="239"/>
                </a:lnTo>
                <a:lnTo>
                  <a:pt x="757" y="230"/>
                </a:lnTo>
                <a:lnTo>
                  <a:pt x="757" y="220"/>
                </a:lnTo>
                <a:lnTo>
                  <a:pt x="757" y="213"/>
                </a:lnTo>
                <a:lnTo>
                  <a:pt x="757" y="205"/>
                </a:lnTo>
                <a:lnTo>
                  <a:pt x="755" y="197"/>
                </a:lnTo>
                <a:lnTo>
                  <a:pt x="755" y="191"/>
                </a:lnTo>
                <a:lnTo>
                  <a:pt x="753" y="186"/>
                </a:lnTo>
                <a:lnTo>
                  <a:pt x="753" y="182"/>
                </a:lnTo>
                <a:lnTo>
                  <a:pt x="753" y="178"/>
                </a:lnTo>
                <a:lnTo>
                  <a:pt x="751" y="174"/>
                </a:lnTo>
                <a:lnTo>
                  <a:pt x="751" y="172"/>
                </a:lnTo>
                <a:lnTo>
                  <a:pt x="749" y="170"/>
                </a:lnTo>
                <a:lnTo>
                  <a:pt x="747" y="168"/>
                </a:lnTo>
                <a:lnTo>
                  <a:pt x="743" y="167"/>
                </a:lnTo>
                <a:lnTo>
                  <a:pt x="740" y="165"/>
                </a:lnTo>
                <a:lnTo>
                  <a:pt x="736" y="163"/>
                </a:lnTo>
                <a:lnTo>
                  <a:pt x="728" y="161"/>
                </a:lnTo>
                <a:lnTo>
                  <a:pt x="716" y="159"/>
                </a:lnTo>
                <a:lnTo>
                  <a:pt x="705" y="159"/>
                </a:lnTo>
                <a:lnTo>
                  <a:pt x="692" y="159"/>
                </a:lnTo>
                <a:lnTo>
                  <a:pt x="680" y="159"/>
                </a:lnTo>
                <a:lnTo>
                  <a:pt x="667" y="159"/>
                </a:lnTo>
                <a:lnTo>
                  <a:pt x="659" y="159"/>
                </a:lnTo>
                <a:lnTo>
                  <a:pt x="649" y="159"/>
                </a:lnTo>
                <a:lnTo>
                  <a:pt x="638" y="159"/>
                </a:lnTo>
                <a:lnTo>
                  <a:pt x="626" y="161"/>
                </a:lnTo>
                <a:lnTo>
                  <a:pt x="611" y="163"/>
                </a:lnTo>
                <a:lnTo>
                  <a:pt x="596" y="163"/>
                </a:lnTo>
                <a:lnTo>
                  <a:pt x="578" y="167"/>
                </a:lnTo>
                <a:lnTo>
                  <a:pt x="561" y="168"/>
                </a:lnTo>
                <a:lnTo>
                  <a:pt x="540" y="172"/>
                </a:lnTo>
                <a:lnTo>
                  <a:pt x="519" y="174"/>
                </a:lnTo>
                <a:lnTo>
                  <a:pt x="496" y="178"/>
                </a:lnTo>
                <a:lnTo>
                  <a:pt x="471" y="184"/>
                </a:lnTo>
                <a:lnTo>
                  <a:pt x="444" y="188"/>
                </a:lnTo>
                <a:lnTo>
                  <a:pt x="417" y="193"/>
                </a:lnTo>
                <a:lnTo>
                  <a:pt x="388" y="199"/>
                </a:lnTo>
                <a:lnTo>
                  <a:pt x="357" y="207"/>
                </a:lnTo>
                <a:lnTo>
                  <a:pt x="325" y="213"/>
                </a:lnTo>
                <a:lnTo>
                  <a:pt x="292" y="220"/>
                </a:lnTo>
                <a:lnTo>
                  <a:pt x="263" y="224"/>
                </a:lnTo>
                <a:lnTo>
                  <a:pt x="235" y="230"/>
                </a:lnTo>
                <a:lnTo>
                  <a:pt x="208" y="234"/>
                </a:lnTo>
                <a:lnTo>
                  <a:pt x="181" y="238"/>
                </a:lnTo>
                <a:lnTo>
                  <a:pt x="158" y="241"/>
                </a:lnTo>
                <a:lnTo>
                  <a:pt x="135" y="245"/>
                </a:lnTo>
                <a:lnTo>
                  <a:pt x="112" y="247"/>
                </a:lnTo>
                <a:lnTo>
                  <a:pt x="93" y="249"/>
                </a:lnTo>
                <a:lnTo>
                  <a:pt x="73" y="251"/>
                </a:lnTo>
                <a:lnTo>
                  <a:pt x="56" y="253"/>
                </a:lnTo>
                <a:lnTo>
                  <a:pt x="41" y="255"/>
                </a:lnTo>
                <a:lnTo>
                  <a:pt x="25" y="255"/>
                </a:lnTo>
                <a:lnTo>
                  <a:pt x="12" y="255"/>
                </a:lnTo>
                <a:lnTo>
                  <a:pt x="0" y="255"/>
                </a:lnTo>
                <a:lnTo>
                  <a:pt x="0" y="182"/>
                </a:lnTo>
                <a:lnTo>
                  <a:pt x="41" y="174"/>
                </a:lnTo>
                <a:lnTo>
                  <a:pt x="81" y="167"/>
                </a:lnTo>
                <a:lnTo>
                  <a:pt x="118" y="159"/>
                </a:lnTo>
                <a:lnTo>
                  <a:pt x="156" y="151"/>
                </a:lnTo>
                <a:lnTo>
                  <a:pt x="190" y="145"/>
                </a:lnTo>
                <a:lnTo>
                  <a:pt x="227" y="138"/>
                </a:lnTo>
                <a:lnTo>
                  <a:pt x="260" y="130"/>
                </a:lnTo>
                <a:lnTo>
                  <a:pt x="292" y="124"/>
                </a:lnTo>
                <a:lnTo>
                  <a:pt x="323" y="119"/>
                </a:lnTo>
                <a:lnTo>
                  <a:pt x="352" y="113"/>
                </a:lnTo>
                <a:lnTo>
                  <a:pt x="381" y="107"/>
                </a:lnTo>
                <a:lnTo>
                  <a:pt x="407" y="101"/>
                </a:lnTo>
                <a:lnTo>
                  <a:pt x="434" y="96"/>
                </a:lnTo>
                <a:lnTo>
                  <a:pt x="459" y="90"/>
                </a:lnTo>
                <a:lnTo>
                  <a:pt x="482" y="84"/>
                </a:lnTo>
                <a:lnTo>
                  <a:pt x="505" y="80"/>
                </a:lnTo>
                <a:lnTo>
                  <a:pt x="526" y="74"/>
                </a:lnTo>
                <a:lnTo>
                  <a:pt x="546" y="71"/>
                </a:lnTo>
                <a:lnTo>
                  <a:pt x="565" y="67"/>
                </a:lnTo>
                <a:lnTo>
                  <a:pt x="582" y="63"/>
                </a:lnTo>
                <a:lnTo>
                  <a:pt x="597" y="57"/>
                </a:lnTo>
                <a:lnTo>
                  <a:pt x="613" y="53"/>
                </a:lnTo>
                <a:lnTo>
                  <a:pt x="626" y="51"/>
                </a:lnTo>
                <a:lnTo>
                  <a:pt x="640" y="48"/>
                </a:lnTo>
                <a:lnTo>
                  <a:pt x="649" y="44"/>
                </a:lnTo>
                <a:lnTo>
                  <a:pt x="659" y="40"/>
                </a:lnTo>
                <a:lnTo>
                  <a:pt x="668" y="38"/>
                </a:lnTo>
                <a:lnTo>
                  <a:pt x="674" y="34"/>
                </a:lnTo>
                <a:lnTo>
                  <a:pt x="680" y="32"/>
                </a:lnTo>
                <a:lnTo>
                  <a:pt x="684" y="28"/>
                </a:lnTo>
                <a:lnTo>
                  <a:pt x="688" y="26"/>
                </a:lnTo>
                <a:lnTo>
                  <a:pt x="690" y="25"/>
                </a:lnTo>
                <a:lnTo>
                  <a:pt x="695" y="19"/>
                </a:lnTo>
                <a:lnTo>
                  <a:pt x="701" y="15"/>
                </a:lnTo>
                <a:lnTo>
                  <a:pt x="707" y="11"/>
                </a:lnTo>
                <a:lnTo>
                  <a:pt x="715" y="7"/>
                </a:lnTo>
                <a:lnTo>
                  <a:pt x="722" y="3"/>
                </a:lnTo>
                <a:lnTo>
                  <a:pt x="732" y="2"/>
                </a:lnTo>
                <a:lnTo>
                  <a:pt x="740" y="0"/>
                </a:lnTo>
                <a:lnTo>
                  <a:pt x="749" y="0"/>
                </a:lnTo>
                <a:lnTo>
                  <a:pt x="751" y="0"/>
                </a:lnTo>
                <a:lnTo>
                  <a:pt x="755" y="0"/>
                </a:lnTo>
                <a:lnTo>
                  <a:pt x="759" y="2"/>
                </a:lnTo>
                <a:lnTo>
                  <a:pt x="764" y="2"/>
                </a:lnTo>
                <a:lnTo>
                  <a:pt x="770" y="3"/>
                </a:lnTo>
                <a:lnTo>
                  <a:pt x="776" y="5"/>
                </a:lnTo>
                <a:lnTo>
                  <a:pt x="784" y="7"/>
                </a:lnTo>
                <a:lnTo>
                  <a:pt x="791" y="11"/>
                </a:lnTo>
                <a:lnTo>
                  <a:pt x="799" y="13"/>
                </a:lnTo>
                <a:lnTo>
                  <a:pt x="807" y="17"/>
                </a:lnTo>
                <a:lnTo>
                  <a:pt x="816" y="21"/>
                </a:lnTo>
                <a:lnTo>
                  <a:pt x="826" y="25"/>
                </a:lnTo>
                <a:lnTo>
                  <a:pt x="835" y="30"/>
                </a:lnTo>
                <a:lnTo>
                  <a:pt x="847" y="36"/>
                </a:lnTo>
                <a:lnTo>
                  <a:pt x="857" y="42"/>
                </a:lnTo>
                <a:lnTo>
                  <a:pt x="868" y="48"/>
                </a:lnTo>
                <a:lnTo>
                  <a:pt x="878" y="55"/>
                </a:lnTo>
                <a:lnTo>
                  <a:pt x="889" y="61"/>
                </a:lnTo>
                <a:lnTo>
                  <a:pt x="897" y="69"/>
                </a:lnTo>
                <a:lnTo>
                  <a:pt x="907" y="74"/>
                </a:lnTo>
                <a:lnTo>
                  <a:pt x="914" y="80"/>
                </a:lnTo>
                <a:lnTo>
                  <a:pt x="920" y="84"/>
                </a:lnTo>
                <a:lnTo>
                  <a:pt x="928" y="90"/>
                </a:lnTo>
                <a:lnTo>
                  <a:pt x="933" y="94"/>
                </a:lnTo>
                <a:lnTo>
                  <a:pt x="939" y="99"/>
                </a:lnTo>
                <a:lnTo>
                  <a:pt x="943" y="103"/>
                </a:lnTo>
                <a:lnTo>
                  <a:pt x="947" y="107"/>
                </a:lnTo>
                <a:lnTo>
                  <a:pt x="951" y="111"/>
                </a:lnTo>
                <a:lnTo>
                  <a:pt x="958" y="117"/>
                </a:lnTo>
                <a:lnTo>
                  <a:pt x="962" y="122"/>
                </a:lnTo>
                <a:lnTo>
                  <a:pt x="962" y="126"/>
                </a:lnTo>
                <a:lnTo>
                  <a:pt x="960" y="132"/>
                </a:lnTo>
                <a:lnTo>
                  <a:pt x="958" y="140"/>
                </a:lnTo>
                <a:lnTo>
                  <a:pt x="956" y="147"/>
                </a:lnTo>
                <a:lnTo>
                  <a:pt x="953" y="155"/>
                </a:lnTo>
                <a:lnTo>
                  <a:pt x="949" y="165"/>
                </a:lnTo>
                <a:lnTo>
                  <a:pt x="939" y="182"/>
                </a:lnTo>
                <a:lnTo>
                  <a:pt x="937" y="186"/>
                </a:lnTo>
                <a:lnTo>
                  <a:pt x="935" y="188"/>
                </a:lnTo>
                <a:lnTo>
                  <a:pt x="933" y="191"/>
                </a:lnTo>
                <a:lnTo>
                  <a:pt x="931" y="195"/>
                </a:lnTo>
                <a:lnTo>
                  <a:pt x="930" y="199"/>
                </a:lnTo>
                <a:lnTo>
                  <a:pt x="928" y="205"/>
                </a:lnTo>
                <a:lnTo>
                  <a:pt x="926" y="211"/>
                </a:lnTo>
                <a:lnTo>
                  <a:pt x="924" y="216"/>
                </a:lnTo>
                <a:lnTo>
                  <a:pt x="922" y="224"/>
                </a:lnTo>
                <a:lnTo>
                  <a:pt x="920" y="230"/>
                </a:lnTo>
                <a:lnTo>
                  <a:pt x="918" y="238"/>
                </a:lnTo>
                <a:lnTo>
                  <a:pt x="918" y="245"/>
                </a:lnTo>
                <a:lnTo>
                  <a:pt x="916" y="255"/>
                </a:lnTo>
                <a:lnTo>
                  <a:pt x="914" y="262"/>
                </a:lnTo>
                <a:lnTo>
                  <a:pt x="914" y="272"/>
                </a:lnTo>
                <a:lnTo>
                  <a:pt x="912" y="284"/>
                </a:lnTo>
                <a:lnTo>
                  <a:pt x="912" y="293"/>
                </a:lnTo>
                <a:lnTo>
                  <a:pt x="910" y="305"/>
                </a:lnTo>
                <a:lnTo>
                  <a:pt x="910" y="316"/>
                </a:lnTo>
                <a:lnTo>
                  <a:pt x="908" y="328"/>
                </a:lnTo>
                <a:lnTo>
                  <a:pt x="908" y="341"/>
                </a:lnTo>
                <a:lnTo>
                  <a:pt x="907" y="353"/>
                </a:lnTo>
                <a:lnTo>
                  <a:pt x="907" y="366"/>
                </a:lnTo>
                <a:lnTo>
                  <a:pt x="907" y="381"/>
                </a:lnTo>
                <a:lnTo>
                  <a:pt x="905" y="395"/>
                </a:lnTo>
                <a:lnTo>
                  <a:pt x="905" y="410"/>
                </a:lnTo>
                <a:lnTo>
                  <a:pt x="905" y="426"/>
                </a:lnTo>
                <a:lnTo>
                  <a:pt x="905" y="443"/>
                </a:lnTo>
                <a:lnTo>
                  <a:pt x="905" y="458"/>
                </a:lnTo>
                <a:lnTo>
                  <a:pt x="903" y="475"/>
                </a:lnTo>
                <a:lnTo>
                  <a:pt x="903" y="493"/>
                </a:lnTo>
                <a:lnTo>
                  <a:pt x="903" y="512"/>
                </a:lnTo>
                <a:lnTo>
                  <a:pt x="901" y="546"/>
                </a:lnTo>
                <a:lnTo>
                  <a:pt x="899" y="583"/>
                </a:lnTo>
                <a:lnTo>
                  <a:pt x="899" y="617"/>
                </a:lnTo>
                <a:lnTo>
                  <a:pt x="897" y="650"/>
                </a:lnTo>
                <a:lnTo>
                  <a:pt x="895" y="683"/>
                </a:lnTo>
                <a:lnTo>
                  <a:pt x="893" y="715"/>
                </a:lnTo>
                <a:lnTo>
                  <a:pt x="893" y="746"/>
                </a:lnTo>
                <a:lnTo>
                  <a:pt x="891" y="777"/>
                </a:lnTo>
                <a:lnTo>
                  <a:pt x="891" y="806"/>
                </a:lnTo>
                <a:lnTo>
                  <a:pt x="889" y="834"/>
                </a:lnTo>
                <a:lnTo>
                  <a:pt x="887" y="861"/>
                </a:lnTo>
                <a:lnTo>
                  <a:pt x="887" y="888"/>
                </a:lnTo>
                <a:lnTo>
                  <a:pt x="885" y="913"/>
                </a:lnTo>
                <a:lnTo>
                  <a:pt x="883" y="938"/>
                </a:lnTo>
                <a:lnTo>
                  <a:pt x="882" y="963"/>
                </a:lnTo>
                <a:lnTo>
                  <a:pt x="880" y="986"/>
                </a:lnTo>
                <a:lnTo>
                  <a:pt x="878" y="1009"/>
                </a:lnTo>
                <a:lnTo>
                  <a:pt x="876" y="1030"/>
                </a:lnTo>
                <a:lnTo>
                  <a:pt x="874" y="1051"/>
                </a:lnTo>
                <a:lnTo>
                  <a:pt x="870" y="1070"/>
                </a:lnTo>
                <a:lnTo>
                  <a:pt x="868" y="1089"/>
                </a:lnTo>
                <a:lnTo>
                  <a:pt x="866" y="1107"/>
                </a:lnTo>
                <a:lnTo>
                  <a:pt x="862" y="1124"/>
                </a:lnTo>
                <a:lnTo>
                  <a:pt x="860" y="1139"/>
                </a:lnTo>
                <a:lnTo>
                  <a:pt x="859" y="1155"/>
                </a:lnTo>
                <a:lnTo>
                  <a:pt x="855" y="1168"/>
                </a:lnTo>
                <a:lnTo>
                  <a:pt x="851" y="1182"/>
                </a:lnTo>
                <a:lnTo>
                  <a:pt x="849" y="1193"/>
                </a:lnTo>
                <a:lnTo>
                  <a:pt x="845" y="1203"/>
                </a:lnTo>
                <a:lnTo>
                  <a:pt x="841" y="1214"/>
                </a:lnTo>
                <a:lnTo>
                  <a:pt x="837" y="1222"/>
                </a:lnTo>
                <a:lnTo>
                  <a:pt x="832" y="1230"/>
                </a:lnTo>
                <a:lnTo>
                  <a:pt x="820" y="1243"/>
                </a:lnTo>
                <a:lnTo>
                  <a:pt x="809" y="1254"/>
                </a:lnTo>
                <a:lnTo>
                  <a:pt x="797" y="1264"/>
                </a:lnTo>
                <a:lnTo>
                  <a:pt x="786" y="1274"/>
                </a:lnTo>
                <a:lnTo>
                  <a:pt x="776" y="1281"/>
                </a:lnTo>
                <a:lnTo>
                  <a:pt x="772" y="1283"/>
                </a:lnTo>
                <a:lnTo>
                  <a:pt x="766" y="1285"/>
                </a:lnTo>
                <a:lnTo>
                  <a:pt x="763" y="1287"/>
                </a:lnTo>
                <a:lnTo>
                  <a:pt x="759" y="1289"/>
                </a:lnTo>
                <a:lnTo>
                  <a:pt x="753" y="1289"/>
                </a:lnTo>
                <a:lnTo>
                  <a:pt x="749" y="1291"/>
                </a:lnTo>
                <a:lnTo>
                  <a:pt x="743" y="1287"/>
                </a:lnTo>
                <a:lnTo>
                  <a:pt x="738" y="1285"/>
                </a:lnTo>
                <a:lnTo>
                  <a:pt x="732" y="1281"/>
                </a:lnTo>
                <a:lnTo>
                  <a:pt x="726" y="1279"/>
                </a:lnTo>
                <a:lnTo>
                  <a:pt x="722" y="1276"/>
                </a:lnTo>
                <a:lnTo>
                  <a:pt x="718" y="1272"/>
                </a:lnTo>
                <a:lnTo>
                  <a:pt x="713" y="1262"/>
                </a:lnTo>
                <a:lnTo>
                  <a:pt x="707" y="1253"/>
                </a:lnTo>
                <a:lnTo>
                  <a:pt x="705" y="1243"/>
                </a:lnTo>
                <a:lnTo>
                  <a:pt x="703" y="1230"/>
                </a:lnTo>
                <a:lnTo>
                  <a:pt x="701" y="1218"/>
                </a:lnTo>
                <a:lnTo>
                  <a:pt x="697" y="1203"/>
                </a:lnTo>
                <a:lnTo>
                  <a:pt x="690" y="1187"/>
                </a:lnTo>
                <a:lnTo>
                  <a:pt x="686" y="1180"/>
                </a:lnTo>
                <a:lnTo>
                  <a:pt x="682" y="1172"/>
                </a:lnTo>
                <a:lnTo>
                  <a:pt x="676" y="1162"/>
                </a:lnTo>
                <a:lnTo>
                  <a:pt x="672" y="1155"/>
                </a:lnTo>
                <a:lnTo>
                  <a:pt x="667" y="1147"/>
                </a:lnTo>
                <a:lnTo>
                  <a:pt x="659" y="1137"/>
                </a:lnTo>
                <a:lnTo>
                  <a:pt x="653" y="1128"/>
                </a:lnTo>
                <a:lnTo>
                  <a:pt x="645" y="1120"/>
                </a:lnTo>
                <a:lnTo>
                  <a:pt x="636" y="1111"/>
                </a:lnTo>
                <a:lnTo>
                  <a:pt x="626" y="1101"/>
                </a:lnTo>
                <a:lnTo>
                  <a:pt x="617" y="1091"/>
                </a:lnTo>
                <a:lnTo>
                  <a:pt x="607" y="1084"/>
                </a:lnTo>
                <a:lnTo>
                  <a:pt x="596" y="1074"/>
                </a:lnTo>
                <a:lnTo>
                  <a:pt x="586" y="1066"/>
                </a:lnTo>
                <a:lnTo>
                  <a:pt x="576" y="1059"/>
                </a:lnTo>
                <a:lnTo>
                  <a:pt x="569" y="1051"/>
                </a:lnTo>
                <a:lnTo>
                  <a:pt x="561" y="1043"/>
                </a:lnTo>
                <a:lnTo>
                  <a:pt x="555" y="1038"/>
                </a:lnTo>
                <a:lnTo>
                  <a:pt x="549" y="1032"/>
                </a:lnTo>
                <a:lnTo>
                  <a:pt x="544" y="1026"/>
                </a:lnTo>
                <a:lnTo>
                  <a:pt x="540" y="1022"/>
                </a:lnTo>
                <a:lnTo>
                  <a:pt x="538" y="1017"/>
                </a:lnTo>
                <a:lnTo>
                  <a:pt x="534" y="1013"/>
                </a:lnTo>
                <a:lnTo>
                  <a:pt x="532" y="1009"/>
                </a:lnTo>
                <a:lnTo>
                  <a:pt x="532" y="1007"/>
                </a:lnTo>
                <a:lnTo>
                  <a:pt x="532" y="1003"/>
                </a:lnTo>
                <a:lnTo>
                  <a:pt x="534" y="1001"/>
                </a:lnTo>
                <a:lnTo>
                  <a:pt x="536" y="9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2"/>
          <p:cNvSpPr/>
          <p:nvPr/>
        </p:nvSpPr>
        <p:spPr>
          <a:xfrm>
            <a:off x="6192720" y="4033800"/>
            <a:ext cx="85680" cy="590760"/>
          </a:xfrm>
          <a:custGeom>
            <a:avLst/>
            <a:gdLst/>
            <a:ahLst/>
            <a:rect l="l" t="t" r="r" b="b"/>
            <a:pathLst>
              <a:path w="107" h="742">
                <a:moveTo>
                  <a:pt x="107" y="0"/>
                </a:moveTo>
                <a:lnTo>
                  <a:pt x="105" y="46"/>
                </a:lnTo>
                <a:lnTo>
                  <a:pt x="105" y="90"/>
                </a:lnTo>
                <a:lnTo>
                  <a:pt x="103" y="132"/>
                </a:lnTo>
                <a:lnTo>
                  <a:pt x="103" y="174"/>
                </a:lnTo>
                <a:lnTo>
                  <a:pt x="101" y="215"/>
                </a:lnTo>
                <a:lnTo>
                  <a:pt x="101" y="253"/>
                </a:lnTo>
                <a:lnTo>
                  <a:pt x="99" y="290"/>
                </a:lnTo>
                <a:lnTo>
                  <a:pt x="97" y="326"/>
                </a:lnTo>
                <a:lnTo>
                  <a:pt x="97" y="361"/>
                </a:lnTo>
                <a:lnTo>
                  <a:pt x="96" y="393"/>
                </a:lnTo>
                <a:lnTo>
                  <a:pt x="94" y="424"/>
                </a:lnTo>
                <a:lnTo>
                  <a:pt x="94" y="453"/>
                </a:lnTo>
                <a:lnTo>
                  <a:pt x="92" y="481"/>
                </a:lnTo>
                <a:lnTo>
                  <a:pt x="90" y="508"/>
                </a:lnTo>
                <a:lnTo>
                  <a:pt x="88" y="533"/>
                </a:lnTo>
                <a:lnTo>
                  <a:pt x="86" y="558"/>
                </a:lnTo>
                <a:lnTo>
                  <a:pt x="84" y="579"/>
                </a:lnTo>
                <a:lnTo>
                  <a:pt x="82" y="600"/>
                </a:lnTo>
                <a:lnTo>
                  <a:pt x="82" y="620"/>
                </a:lnTo>
                <a:lnTo>
                  <a:pt x="80" y="639"/>
                </a:lnTo>
                <a:lnTo>
                  <a:pt x="76" y="654"/>
                </a:lnTo>
                <a:lnTo>
                  <a:pt x="74" y="670"/>
                </a:lnTo>
                <a:lnTo>
                  <a:pt x="72" y="683"/>
                </a:lnTo>
                <a:lnTo>
                  <a:pt x="71" y="696"/>
                </a:lnTo>
                <a:lnTo>
                  <a:pt x="69" y="706"/>
                </a:lnTo>
                <a:lnTo>
                  <a:pt x="65" y="716"/>
                </a:lnTo>
                <a:lnTo>
                  <a:pt x="63" y="723"/>
                </a:lnTo>
                <a:lnTo>
                  <a:pt x="61" y="731"/>
                </a:lnTo>
                <a:lnTo>
                  <a:pt x="57" y="735"/>
                </a:lnTo>
                <a:lnTo>
                  <a:pt x="53" y="739"/>
                </a:lnTo>
                <a:lnTo>
                  <a:pt x="51" y="741"/>
                </a:lnTo>
                <a:lnTo>
                  <a:pt x="48" y="742"/>
                </a:lnTo>
                <a:lnTo>
                  <a:pt x="44" y="741"/>
                </a:lnTo>
                <a:lnTo>
                  <a:pt x="42" y="739"/>
                </a:lnTo>
                <a:lnTo>
                  <a:pt x="38" y="735"/>
                </a:lnTo>
                <a:lnTo>
                  <a:pt x="36" y="731"/>
                </a:lnTo>
                <a:lnTo>
                  <a:pt x="32" y="723"/>
                </a:lnTo>
                <a:lnTo>
                  <a:pt x="30" y="716"/>
                </a:lnTo>
                <a:lnTo>
                  <a:pt x="28" y="706"/>
                </a:lnTo>
                <a:lnTo>
                  <a:pt x="24" y="696"/>
                </a:lnTo>
                <a:lnTo>
                  <a:pt x="23" y="683"/>
                </a:lnTo>
                <a:lnTo>
                  <a:pt x="21" y="670"/>
                </a:lnTo>
                <a:lnTo>
                  <a:pt x="19" y="656"/>
                </a:lnTo>
                <a:lnTo>
                  <a:pt x="17" y="639"/>
                </a:lnTo>
                <a:lnTo>
                  <a:pt x="15" y="622"/>
                </a:lnTo>
                <a:lnTo>
                  <a:pt x="13" y="602"/>
                </a:lnTo>
                <a:lnTo>
                  <a:pt x="13" y="581"/>
                </a:lnTo>
                <a:lnTo>
                  <a:pt x="11" y="558"/>
                </a:lnTo>
                <a:lnTo>
                  <a:pt x="9" y="535"/>
                </a:lnTo>
                <a:lnTo>
                  <a:pt x="7" y="510"/>
                </a:lnTo>
                <a:lnTo>
                  <a:pt x="7" y="483"/>
                </a:lnTo>
                <a:lnTo>
                  <a:pt x="5" y="457"/>
                </a:lnTo>
                <a:lnTo>
                  <a:pt x="5" y="428"/>
                </a:lnTo>
                <a:lnTo>
                  <a:pt x="3" y="397"/>
                </a:lnTo>
                <a:lnTo>
                  <a:pt x="3" y="364"/>
                </a:lnTo>
                <a:lnTo>
                  <a:pt x="3" y="330"/>
                </a:lnTo>
                <a:lnTo>
                  <a:pt x="1" y="295"/>
                </a:lnTo>
                <a:lnTo>
                  <a:pt x="1" y="259"/>
                </a:lnTo>
                <a:lnTo>
                  <a:pt x="1" y="222"/>
                </a:lnTo>
                <a:lnTo>
                  <a:pt x="1" y="182"/>
                </a:lnTo>
                <a:lnTo>
                  <a:pt x="1" y="142"/>
                </a:lnTo>
                <a:lnTo>
                  <a:pt x="0" y="100"/>
                </a:lnTo>
                <a:lnTo>
                  <a:pt x="0" y="56"/>
                </a:lnTo>
                <a:lnTo>
                  <a:pt x="0" y="11"/>
                </a:lnTo>
                <a:lnTo>
                  <a:pt x="10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03"/>
          <p:cNvSpPr/>
          <p:nvPr/>
        </p:nvSpPr>
        <p:spPr>
          <a:xfrm>
            <a:off x="6386400" y="4005360"/>
            <a:ext cx="90720" cy="687240"/>
          </a:xfrm>
          <a:custGeom>
            <a:avLst/>
            <a:gdLst/>
            <a:ahLst/>
            <a:rect l="l" t="t" r="r" b="b"/>
            <a:pathLst>
              <a:path w="114" h="866">
                <a:moveTo>
                  <a:pt x="31" y="852"/>
                </a:moveTo>
                <a:lnTo>
                  <a:pt x="25" y="858"/>
                </a:lnTo>
                <a:lnTo>
                  <a:pt x="20" y="862"/>
                </a:lnTo>
                <a:lnTo>
                  <a:pt x="14" y="864"/>
                </a:lnTo>
                <a:lnTo>
                  <a:pt x="10" y="866"/>
                </a:lnTo>
                <a:lnTo>
                  <a:pt x="8" y="864"/>
                </a:lnTo>
                <a:lnTo>
                  <a:pt x="4" y="862"/>
                </a:lnTo>
                <a:lnTo>
                  <a:pt x="2" y="856"/>
                </a:lnTo>
                <a:lnTo>
                  <a:pt x="0" y="850"/>
                </a:lnTo>
                <a:lnTo>
                  <a:pt x="0" y="843"/>
                </a:lnTo>
                <a:lnTo>
                  <a:pt x="0" y="831"/>
                </a:lnTo>
                <a:lnTo>
                  <a:pt x="0" y="820"/>
                </a:lnTo>
                <a:lnTo>
                  <a:pt x="0" y="812"/>
                </a:lnTo>
                <a:lnTo>
                  <a:pt x="0" y="806"/>
                </a:lnTo>
                <a:lnTo>
                  <a:pt x="0" y="799"/>
                </a:lnTo>
                <a:lnTo>
                  <a:pt x="2" y="789"/>
                </a:lnTo>
                <a:lnTo>
                  <a:pt x="2" y="781"/>
                </a:lnTo>
                <a:lnTo>
                  <a:pt x="2" y="772"/>
                </a:lnTo>
                <a:lnTo>
                  <a:pt x="4" y="762"/>
                </a:lnTo>
                <a:lnTo>
                  <a:pt x="4" y="753"/>
                </a:lnTo>
                <a:lnTo>
                  <a:pt x="6" y="741"/>
                </a:lnTo>
                <a:lnTo>
                  <a:pt x="6" y="730"/>
                </a:lnTo>
                <a:lnTo>
                  <a:pt x="8" y="718"/>
                </a:lnTo>
                <a:lnTo>
                  <a:pt x="8" y="705"/>
                </a:lnTo>
                <a:lnTo>
                  <a:pt x="10" y="693"/>
                </a:lnTo>
                <a:lnTo>
                  <a:pt x="10" y="678"/>
                </a:lnTo>
                <a:lnTo>
                  <a:pt x="12" y="664"/>
                </a:lnTo>
                <a:lnTo>
                  <a:pt x="12" y="649"/>
                </a:lnTo>
                <a:lnTo>
                  <a:pt x="14" y="632"/>
                </a:lnTo>
                <a:lnTo>
                  <a:pt x="14" y="616"/>
                </a:lnTo>
                <a:lnTo>
                  <a:pt x="14" y="599"/>
                </a:lnTo>
                <a:lnTo>
                  <a:pt x="16" y="580"/>
                </a:lnTo>
                <a:lnTo>
                  <a:pt x="16" y="561"/>
                </a:lnTo>
                <a:lnTo>
                  <a:pt x="16" y="542"/>
                </a:lnTo>
                <a:lnTo>
                  <a:pt x="16" y="520"/>
                </a:lnTo>
                <a:lnTo>
                  <a:pt x="16" y="499"/>
                </a:lnTo>
                <a:lnTo>
                  <a:pt x="18" y="478"/>
                </a:lnTo>
                <a:lnTo>
                  <a:pt x="18" y="455"/>
                </a:lnTo>
                <a:lnTo>
                  <a:pt x="18" y="432"/>
                </a:lnTo>
                <a:lnTo>
                  <a:pt x="18" y="409"/>
                </a:lnTo>
                <a:lnTo>
                  <a:pt x="18" y="384"/>
                </a:lnTo>
                <a:lnTo>
                  <a:pt x="18" y="359"/>
                </a:lnTo>
                <a:lnTo>
                  <a:pt x="18" y="332"/>
                </a:lnTo>
                <a:lnTo>
                  <a:pt x="18" y="306"/>
                </a:lnTo>
                <a:lnTo>
                  <a:pt x="18" y="279"/>
                </a:lnTo>
                <a:lnTo>
                  <a:pt x="20" y="250"/>
                </a:lnTo>
                <a:lnTo>
                  <a:pt x="20" y="221"/>
                </a:lnTo>
                <a:lnTo>
                  <a:pt x="20" y="192"/>
                </a:lnTo>
                <a:lnTo>
                  <a:pt x="20" y="162"/>
                </a:lnTo>
                <a:lnTo>
                  <a:pt x="20" y="131"/>
                </a:lnTo>
                <a:lnTo>
                  <a:pt x="20" y="98"/>
                </a:lnTo>
                <a:lnTo>
                  <a:pt x="20" y="66"/>
                </a:lnTo>
                <a:lnTo>
                  <a:pt x="20" y="33"/>
                </a:lnTo>
                <a:lnTo>
                  <a:pt x="20" y="0"/>
                </a:lnTo>
                <a:lnTo>
                  <a:pt x="66" y="0"/>
                </a:lnTo>
                <a:lnTo>
                  <a:pt x="114" y="0"/>
                </a:lnTo>
                <a:lnTo>
                  <a:pt x="114" y="43"/>
                </a:lnTo>
                <a:lnTo>
                  <a:pt x="114" y="85"/>
                </a:lnTo>
                <a:lnTo>
                  <a:pt x="114" y="125"/>
                </a:lnTo>
                <a:lnTo>
                  <a:pt x="114" y="165"/>
                </a:lnTo>
                <a:lnTo>
                  <a:pt x="114" y="206"/>
                </a:lnTo>
                <a:lnTo>
                  <a:pt x="114" y="242"/>
                </a:lnTo>
                <a:lnTo>
                  <a:pt x="114" y="281"/>
                </a:lnTo>
                <a:lnTo>
                  <a:pt x="112" y="315"/>
                </a:lnTo>
                <a:lnTo>
                  <a:pt x="112" y="352"/>
                </a:lnTo>
                <a:lnTo>
                  <a:pt x="112" y="384"/>
                </a:lnTo>
                <a:lnTo>
                  <a:pt x="110" y="417"/>
                </a:lnTo>
                <a:lnTo>
                  <a:pt x="108" y="447"/>
                </a:lnTo>
                <a:lnTo>
                  <a:pt x="108" y="478"/>
                </a:lnTo>
                <a:lnTo>
                  <a:pt x="106" y="507"/>
                </a:lnTo>
                <a:lnTo>
                  <a:pt x="104" y="534"/>
                </a:lnTo>
                <a:lnTo>
                  <a:pt x="102" y="559"/>
                </a:lnTo>
                <a:lnTo>
                  <a:pt x="100" y="586"/>
                </a:lnTo>
                <a:lnTo>
                  <a:pt x="96" y="613"/>
                </a:lnTo>
                <a:lnTo>
                  <a:pt x="94" y="636"/>
                </a:lnTo>
                <a:lnTo>
                  <a:pt x="91" y="660"/>
                </a:lnTo>
                <a:lnTo>
                  <a:pt x="87" y="682"/>
                </a:lnTo>
                <a:lnTo>
                  <a:pt x="83" y="703"/>
                </a:lnTo>
                <a:lnTo>
                  <a:pt x="79" y="724"/>
                </a:lnTo>
                <a:lnTo>
                  <a:pt x="75" y="741"/>
                </a:lnTo>
                <a:lnTo>
                  <a:pt x="71" y="760"/>
                </a:lnTo>
                <a:lnTo>
                  <a:pt x="66" y="776"/>
                </a:lnTo>
                <a:lnTo>
                  <a:pt x="60" y="791"/>
                </a:lnTo>
                <a:lnTo>
                  <a:pt x="54" y="806"/>
                </a:lnTo>
                <a:lnTo>
                  <a:pt x="48" y="820"/>
                </a:lnTo>
                <a:lnTo>
                  <a:pt x="43" y="831"/>
                </a:lnTo>
                <a:lnTo>
                  <a:pt x="37" y="843"/>
                </a:lnTo>
                <a:lnTo>
                  <a:pt x="31" y="8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04"/>
          <p:cNvSpPr/>
          <p:nvPr/>
        </p:nvSpPr>
        <p:spPr>
          <a:xfrm>
            <a:off x="6740640" y="3338640"/>
            <a:ext cx="490320" cy="1546200"/>
          </a:xfrm>
          <a:custGeom>
            <a:avLst/>
            <a:gdLst/>
            <a:ahLst/>
            <a:rect l="l" t="t" r="r" b="b"/>
            <a:pathLst>
              <a:path w="618" h="1948">
                <a:moveTo>
                  <a:pt x="583" y="230"/>
                </a:moveTo>
                <a:lnTo>
                  <a:pt x="581" y="232"/>
                </a:lnTo>
                <a:lnTo>
                  <a:pt x="581" y="236"/>
                </a:lnTo>
                <a:lnTo>
                  <a:pt x="579" y="240"/>
                </a:lnTo>
                <a:lnTo>
                  <a:pt x="579" y="248"/>
                </a:lnTo>
                <a:lnTo>
                  <a:pt x="578" y="255"/>
                </a:lnTo>
                <a:lnTo>
                  <a:pt x="576" y="263"/>
                </a:lnTo>
                <a:lnTo>
                  <a:pt x="576" y="274"/>
                </a:lnTo>
                <a:lnTo>
                  <a:pt x="574" y="286"/>
                </a:lnTo>
                <a:lnTo>
                  <a:pt x="574" y="299"/>
                </a:lnTo>
                <a:lnTo>
                  <a:pt x="572" y="313"/>
                </a:lnTo>
                <a:lnTo>
                  <a:pt x="572" y="328"/>
                </a:lnTo>
                <a:lnTo>
                  <a:pt x="572" y="345"/>
                </a:lnTo>
                <a:lnTo>
                  <a:pt x="570" y="365"/>
                </a:lnTo>
                <a:lnTo>
                  <a:pt x="570" y="384"/>
                </a:lnTo>
                <a:lnTo>
                  <a:pt x="568" y="407"/>
                </a:lnTo>
                <a:lnTo>
                  <a:pt x="568" y="428"/>
                </a:lnTo>
                <a:lnTo>
                  <a:pt x="568" y="453"/>
                </a:lnTo>
                <a:lnTo>
                  <a:pt x="568" y="478"/>
                </a:lnTo>
                <a:lnTo>
                  <a:pt x="566" y="505"/>
                </a:lnTo>
                <a:lnTo>
                  <a:pt x="566" y="533"/>
                </a:lnTo>
                <a:lnTo>
                  <a:pt x="566" y="562"/>
                </a:lnTo>
                <a:lnTo>
                  <a:pt x="566" y="593"/>
                </a:lnTo>
                <a:lnTo>
                  <a:pt x="566" y="626"/>
                </a:lnTo>
                <a:lnTo>
                  <a:pt x="566" y="658"/>
                </a:lnTo>
                <a:lnTo>
                  <a:pt x="566" y="693"/>
                </a:lnTo>
                <a:lnTo>
                  <a:pt x="566" y="729"/>
                </a:lnTo>
                <a:lnTo>
                  <a:pt x="568" y="768"/>
                </a:lnTo>
                <a:lnTo>
                  <a:pt x="568" y="806"/>
                </a:lnTo>
                <a:lnTo>
                  <a:pt x="568" y="846"/>
                </a:lnTo>
                <a:lnTo>
                  <a:pt x="570" y="886"/>
                </a:lnTo>
                <a:lnTo>
                  <a:pt x="570" y="929"/>
                </a:lnTo>
                <a:lnTo>
                  <a:pt x="572" y="973"/>
                </a:lnTo>
                <a:lnTo>
                  <a:pt x="572" y="1017"/>
                </a:lnTo>
                <a:lnTo>
                  <a:pt x="574" y="1059"/>
                </a:lnTo>
                <a:lnTo>
                  <a:pt x="574" y="1101"/>
                </a:lnTo>
                <a:lnTo>
                  <a:pt x="574" y="1142"/>
                </a:lnTo>
                <a:lnTo>
                  <a:pt x="576" y="1182"/>
                </a:lnTo>
                <a:lnTo>
                  <a:pt x="576" y="1220"/>
                </a:lnTo>
                <a:lnTo>
                  <a:pt x="576" y="1257"/>
                </a:lnTo>
                <a:lnTo>
                  <a:pt x="576" y="1293"/>
                </a:lnTo>
                <a:lnTo>
                  <a:pt x="576" y="1328"/>
                </a:lnTo>
                <a:lnTo>
                  <a:pt x="576" y="1360"/>
                </a:lnTo>
                <a:lnTo>
                  <a:pt x="574" y="1393"/>
                </a:lnTo>
                <a:lnTo>
                  <a:pt x="574" y="1426"/>
                </a:lnTo>
                <a:lnTo>
                  <a:pt x="574" y="1456"/>
                </a:lnTo>
                <a:lnTo>
                  <a:pt x="572" y="1485"/>
                </a:lnTo>
                <a:lnTo>
                  <a:pt x="572" y="1512"/>
                </a:lnTo>
                <a:lnTo>
                  <a:pt x="570" y="1539"/>
                </a:lnTo>
                <a:lnTo>
                  <a:pt x="570" y="1566"/>
                </a:lnTo>
                <a:lnTo>
                  <a:pt x="568" y="1589"/>
                </a:lnTo>
                <a:lnTo>
                  <a:pt x="566" y="1614"/>
                </a:lnTo>
                <a:lnTo>
                  <a:pt x="566" y="1635"/>
                </a:lnTo>
                <a:lnTo>
                  <a:pt x="564" y="1656"/>
                </a:lnTo>
                <a:lnTo>
                  <a:pt x="562" y="1677"/>
                </a:lnTo>
                <a:lnTo>
                  <a:pt x="560" y="1694"/>
                </a:lnTo>
                <a:lnTo>
                  <a:pt x="556" y="1713"/>
                </a:lnTo>
                <a:lnTo>
                  <a:pt x="554" y="1729"/>
                </a:lnTo>
                <a:lnTo>
                  <a:pt x="553" y="1744"/>
                </a:lnTo>
                <a:lnTo>
                  <a:pt x="551" y="1760"/>
                </a:lnTo>
                <a:lnTo>
                  <a:pt x="547" y="1773"/>
                </a:lnTo>
                <a:lnTo>
                  <a:pt x="545" y="1784"/>
                </a:lnTo>
                <a:lnTo>
                  <a:pt x="541" y="1794"/>
                </a:lnTo>
                <a:lnTo>
                  <a:pt x="539" y="1806"/>
                </a:lnTo>
                <a:lnTo>
                  <a:pt x="535" y="1813"/>
                </a:lnTo>
                <a:lnTo>
                  <a:pt x="530" y="1829"/>
                </a:lnTo>
                <a:lnTo>
                  <a:pt x="522" y="1844"/>
                </a:lnTo>
                <a:lnTo>
                  <a:pt x="516" y="1857"/>
                </a:lnTo>
                <a:lnTo>
                  <a:pt x="510" y="1871"/>
                </a:lnTo>
                <a:lnTo>
                  <a:pt x="505" y="1882"/>
                </a:lnTo>
                <a:lnTo>
                  <a:pt x="501" y="1894"/>
                </a:lnTo>
                <a:lnTo>
                  <a:pt x="495" y="1903"/>
                </a:lnTo>
                <a:lnTo>
                  <a:pt x="489" y="1913"/>
                </a:lnTo>
                <a:lnTo>
                  <a:pt x="485" y="1921"/>
                </a:lnTo>
                <a:lnTo>
                  <a:pt x="480" y="1928"/>
                </a:lnTo>
                <a:lnTo>
                  <a:pt x="476" y="1934"/>
                </a:lnTo>
                <a:lnTo>
                  <a:pt x="470" y="1938"/>
                </a:lnTo>
                <a:lnTo>
                  <a:pt x="466" y="1942"/>
                </a:lnTo>
                <a:lnTo>
                  <a:pt x="460" y="1946"/>
                </a:lnTo>
                <a:lnTo>
                  <a:pt x="457" y="1948"/>
                </a:lnTo>
                <a:lnTo>
                  <a:pt x="453" y="1948"/>
                </a:lnTo>
                <a:lnTo>
                  <a:pt x="445" y="1948"/>
                </a:lnTo>
                <a:lnTo>
                  <a:pt x="439" y="1946"/>
                </a:lnTo>
                <a:lnTo>
                  <a:pt x="435" y="1944"/>
                </a:lnTo>
                <a:lnTo>
                  <a:pt x="430" y="1940"/>
                </a:lnTo>
                <a:lnTo>
                  <a:pt x="426" y="1936"/>
                </a:lnTo>
                <a:lnTo>
                  <a:pt x="420" y="1932"/>
                </a:lnTo>
                <a:lnTo>
                  <a:pt x="416" y="1926"/>
                </a:lnTo>
                <a:lnTo>
                  <a:pt x="414" y="1921"/>
                </a:lnTo>
                <a:lnTo>
                  <a:pt x="411" y="1915"/>
                </a:lnTo>
                <a:lnTo>
                  <a:pt x="407" y="1907"/>
                </a:lnTo>
                <a:lnTo>
                  <a:pt x="405" y="1900"/>
                </a:lnTo>
                <a:lnTo>
                  <a:pt x="403" y="1890"/>
                </a:lnTo>
                <a:lnTo>
                  <a:pt x="399" y="1882"/>
                </a:lnTo>
                <a:lnTo>
                  <a:pt x="397" y="1871"/>
                </a:lnTo>
                <a:lnTo>
                  <a:pt x="395" y="1861"/>
                </a:lnTo>
                <a:lnTo>
                  <a:pt x="393" y="1850"/>
                </a:lnTo>
                <a:lnTo>
                  <a:pt x="389" y="1838"/>
                </a:lnTo>
                <a:lnTo>
                  <a:pt x="387" y="1827"/>
                </a:lnTo>
                <a:lnTo>
                  <a:pt x="382" y="1817"/>
                </a:lnTo>
                <a:lnTo>
                  <a:pt x="378" y="1807"/>
                </a:lnTo>
                <a:lnTo>
                  <a:pt x="372" y="1796"/>
                </a:lnTo>
                <a:lnTo>
                  <a:pt x="364" y="1786"/>
                </a:lnTo>
                <a:lnTo>
                  <a:pt x="357" y="1777"/>
                </a:lnTo>
                <a:lnTo>
                  <a:pt x="349" y="1767"/>
                </a:lnTo>
                <a:lnTo>
                  <a:pt x="341" y="1760"/>
                </a:lnTo>
                <a:lnTo>
                  <a:pt x="332" y="1750"/>
                </a:lnTo>
                <a:lnTo>
                  <a:pt x="322" y="1742"/>
                </a:lnTo>
                <a:lnTo>
                  <a:pt x="311" y="1735"/>
                </a:lnTo>
                <a:lnTo>
                  <a:pt x="299" y="1725"/>
                </a:lnTo>
                <a:lnTo>
                  <a:pt x="288" y="1717"/>
                </a:lnTo>
                <a:lnTo>
                  <a:pt x="274" y="1712"/>
                </a:lnTo>
                <a:lnTo>
                  <a:pt x="263" y="1704"/>
                </a:lnTo>
                <a:lnTo>
                  <a:pt x="249" y="1696"/>
                </a:lnTo>
                <a:lnTo>
                  <a:pt x="238" y="1690"/>
                </a:lnTo>
                <a:lnTo>
                  <a:pt x="226" y="1685"/>
                </a:lnTo>
                <a:lnTo>
                  <a:pt x="215" y="1679"/>
                </a:lnTo>
                <a:lnTo>
                  <a:pt x="207" y="1673"/>
                </a:lnTo>
                <a:lnTo>
                  <a:pt x="197" y="1667"/>
                </a:lnTo>
                <a:lnTo>
                  <a:pt x="190" y="1662"/>
                </a:lnTo>
                <a:lnTo>
                  <a:pt x="184" y="1656"/>
                </a:lnTo>
                <a:lnTo>
                  <a:pt x="178" y="1652"/>
                </a:lnTo>
                <a:lnTo>
                  <a:pt x="172" y="1646"/>
                </a:lnTo>
                <a:lnTo>
                  <a:pt x="169" y="1642"/>
                </a:lnTo>
                <a:lnTo>
                  <a:pt x="167" y="1637"/>
                </a:lnTo>
                <a:lnTo>
                  <a:pt x="165" y="1633"/>
                </a:lnTo>
                <a:lnTo>
                  <a:pt x="165" y="1627"/>
                </a:lnTo>
                <a:lnTo>
                  <a:pt x="165" y="1623"/>
                </a:lnTo>
                <a:lnTo>
                  <a:pt x="167" y="1619"/>
                </a:lnTo>
                <a:lnTo>
                  <a:pt x="167" y="1616"/>
                </a:lnTo>
                <a:lnTo>
                  <a:pt x="169" y="1614"/>
                </a:lnTo>
                <a:lnTo>
                  <a:pt x="169" y="1612"/>
                </a:lnTo>
                <a:lnTo>
                  <a:pt x="172" y="1610"/>
                </a:lnTo>
                <a:lnTo>
                  <a:pt x="174" y="1608"/>
                </a:lnTo>
                <a:lnTo>
                  <a:pt x="178" y="1606"/>
                </a:lnTo>
                <a:lnTo>
                  <a:pt x="182" y="1604"/>
                </a:lnTo>
                <a:lnTo>
                  <a:pt x="186" y="1604"/>
                </a:lnTo>
                <a:lnTo>
                  <a:pt x="192" y="1602"/>
                </a:lnTo>
                <a:lnTo>
                  <a:pt x="197" y="1602"/>
                </a:lnTo>
                <a:lnTo>
                  <a:pt x="205" y="1602"/>
                </a:lnTo>
                <a:lnTo>
                  <a:pt x="213" y="1602"/>
                </a:lnTo>
                <a:lnTo>
                  <a:pt x="220" y="1602"/>
                </a:lnTo>
                <a:lnTo>
                  <a:pt x="230" y="1602"/>
                </a:lnTo>
                <a:lnTo>
                  <a:pt x="240" y="1604"/>
                </a:lnTo>
                <a:lnTo>
                  <a:pt x="251" y="1606"/>
                </a:lnTo>
                <a:lnTo>
                  <a:pt x="261" y="1608"/>
                </a:lnTo>
                <a:lnTo>
                  <a:pt x="272" y="1610"/>
                </a:lnTo>
                <a:lnTo>
                  <a:pt x="282" y="1612"/>
                </a:lnTo>
                <a:lnTo>
                  <a:pt x="291" y="1614"/>
                </a:lnTo>
                <a:lnTo>
                  <a:pt x="309" y="1616"/>
                </a:lnTo>
                <a:lnTo>
                  <a:pt x="324" y="1616"/>
                </a:lnTo>
                <a:lnTo>
                  <a:pt x="339" y="1616"/>
                </a:lnTo>
                <a:lnTo>
                  <a:pt x="353" y="1614"/>
                </a:lnTo>
                <a:lnTo>
                  <a:pt x="368" y="1610"/>
                </a:lnTo>
                <a:lnTo>
                  <a:pt x="382" y="1606"/>
                </a:lnTo>
                <a:lnTo>
                  <a:pt x="387" y="1606"/>
                </a:lnTo>
                <a:lnTo>
                  <a:pt x="393" y="1604"/>
                </a:lnTo>
                <a:lnTo>
                  <a:pt x="399" y="1600"/>
                </a:lnTo>
                <a:lnTo>
                  <a:pt x="403" y="1594"/>
                </a:lnTo>
                <a:lnTo>
                  <a:pt x="409" y="1589"/>
                </a:lnTo>
                <a:lnTo>
                  <a:pt x="412" y="1581"/>
                </a:lnTo>
                <a:lnTo>
                  <a:pt x="416" y="1573"/>
                </a:lnTo>
                <a:lnTo>
                  <a:pt x="420" y="1562"/>
                </a:lnTo>
                <a:lnTo>
                  <a:pt x="422" y="1550"/>
                </a:lnTo>
                <a:lnTo>
                  <a:pt x="426" y="1539"/>
                </a:lnTo>
                <a:lnTo>
                  <a:pt x="428" y="1524"/>
                </a:lnTo>
                <a:lnTo>
                  <a:pt x="432" y="1508"/>
                </a:lnTo>
                <a:lnTo>
                  <a:pt x="434" y="1493"/>
                </a:lnTo>
                <a:lnTo>
                  <a:pt x="435" y="1476"/>
                </a:lnTo>
                <a:lnTo>
                  <a:pt x="437" y="1456"/>
                </a:lnTo>
                <a:lnTo>
                  <a:pt x="441" y="1435"/>
                </a:lnTo>
                <a:lnTo>
                  <a:pt x="441" y="1426"/>
                </a:lnTo>
                <a:lnTo>
                  <a:pt x="443" y="1414"/>
                </a:lnTo>
                <a:lnTo>
                  <a:pt x="443" y="1403"/>
                </a:lnTo>
                <a:lnTo>
                  <a:pt x="445" y="1391"/>
                </a:lnTo>
                <a:lnTo>
                  <a:pt x="445" y="1378"/>
                </a:lnTo>
                <a:lnTo>
                  <a:pt x="445" y="1366"/>
                </a:lnTo>
                <a:lnTo>
                  <a:pt x="447" y="1353"/>
                </a:lnTo>
                <a:lnTo>
                  <a:pt x="447" y="1337"/>
                </a:lnTo>
                <a:lnTo>
                  <a:pt x="447" y="1324"/>
                </a:lnTo>
                <a:lnTo>
                  <a:pt x="449" y="1309"/>
                </a:lnTo>
                <a:lnTo>
                  <a:pt x="449" y="1293"/>
                </a:lnTo>
                <a:lnTo>
                  <a:pt x="449" y="1276"/>
                </a:lnTo>
                <a:lnTo>
                  <a:pt x="449" y="1261"/>
                </a:lnTo>
                <a:lnTo>
                  <a:pt x="451" y="1243"/>
                </a:lnTo>
                <a:lnTo>
                  <a:pt x="451" y="1226"/>
                </a:lnTo>
                <a:lnTo>
                  <a:pt x="451" y="1207"/>
                </a:lnTo>
                <a:lnTo>
                  <a:pt x="451" y="1190"/>
                </a:lnTo>
                <a:lnTo>
                  <a:pt x="451" y="1170"/>
                </a:lnTo>
                <a:lnTo>
                  <a:pt x="451" y="1151"/>
                </a:lnTo>
                <a:lnTo>
                  <a:pt x="451" y="1130"/>
                </a:lnTo>
                <a:lnTo>
                  <a:pt x="451" y="1111"/>
                </a:lnTo>
                <a:lnTo>
                  <a:pt x="453" y="1090"/>
                </a:lnTo>
                <a:lnTo>
                  <a:pt x="453" y="1067"/>
                </a:lnTo>
                <a:lnTo>
                  <a:pt x="453" y="1046"/>
                </a:lnTo>
                <a:lnTo>
                  <a:pt x="453" y="1023"/>
                </a:lnTo>
                <a:lnTo>
                  <a:pt x="453" y="1000"/>
                </a:lnTo>
                <a:lnTo>
                  <a:pt x="453" y="977"/>
                </a:lnTo>
                <a:lnTo>
                  <a:pt x="453" y="952"/>
                </a:lnTo>
                <a:lnTo>
                  <a:pt x="453" y="929"/>
                </a:lnTo>
                <a:lnTo>
                  <a:pt x="453" y="904"/>
                </a:lnTo>
                <a:lnTo>
                  <a:pt x="453" y="877"/>
                </a:lnTo>
                <a:lnTo>
                  <a:pt x="453" y="852"/>
                </a:lnTo>
                <a:lnTo>
                  <a:pt x="453" y="827"/>
                </a:lnTo>
                <a:lnTo>
                  <a:pt x="453" y="802"/>
                </a:lnTo>
                <a:lnTo>
                  <a:pt x="453" y="779"/>
                </a:lnTo>
                <a:lnTo>
                  <a:pt x="453" y="756"/>
                </a:lnTo>
                <a:lnTo>
                  <a:pt x="453" y="733"/>
                </a:lnTo>
                <a:lnTo>
                  <a:pt x="453" y="712"/>
                </a:lnTo>
                <a:lnTo>
                  <a:pt x="453" y="689"/>
                </a:lnTo>
                <a:lnTo>
                  <a:pt x="453" y="670"/>
                </a:lnTo>
                <a:lnTo>
                  <a:pt x="453" y="649"/>
                </a:lnTo>
                <a:lnTo>
                  <a:pt x="453" y="629"/>
                </a:lnTo>
                <a:lnTo>
                  <a:pt x="451" y="610"/>
                </a:lnTo>
                <a:lnTo>
                  <a:pt x="451" y="591"/>
                </a:lnTo>
                <a:lnTo>
                  <a:pt x="451" y="572"/>
                </a:lnTo>
                <a:lnTo>
                  <a:pt x="451" y="555"/>
                </a:lnTo>
                <a:lnTo>
                  <a:pt x="451" y="537"/>
                </a:lnTo>
                <a:lnTo>
                  <a:pt x="451" y="522"/>
                </a:lnTo>
                <a:lnTo>
                  <a:pt x="451" y="505"/>
                </a:lnTo>
                <a:lnTo>
                  <a:pt x="451" y="489"/>
                </a:lnTo>
                <a:lnTo>
                  <a:pt x="449" y="476"/>
                </a:lnTo>
                <a:lnTo>
                  <a:pt x="449" y="461"/>
                </a:lnTo>
                <a:lnTo>
                  <a:pt x="449" y="447"/>
                </a:lnTo>
                <a:lnTo>
                  <a:pt x="449" y="434"/>
                </a:lnTo>
                <a:lnTo>
                  <a:pt x="447" y="420"/>
                </a:lnTo>
                <a:lnTo>
                  <a:pt x="447" y="409"/>
                </a:lnTo>
                <a:lnTo>
                  <a:pt x="447" y="397"/>
                </a:lnTo>
                <a:lnTo>
                  <a:pt x="445" y="386"/>
                </a:lnTo>
                <a:lnTo>
                  <a:pt x="445" y="374"/>
                </a:lnTo>
                <a:lnTo>
                  <a:pt x="445" y="365"/>
                </a:lnTo>
                <a:lnTo>
                  <a:pt x="443" y="355"/>
                </a:lnTo>
                <a:lnTo>
                  <a:pt x="443" y="345"/>
                </a:lnTo>
                <a:lnTo>
                  <a:pt x="441" y="336"/>
                </a:lnTo>
                <a:lnTo>
                  <a:pt x="441" y="328"/>
                </a:lnTo>
                <a:lnTo>
                  <a:pt x="437" y="315"/>
                </a:lnTo>
                <a:lnTo>
                  <a:pt x="435" y="301"/>
                </a:lnTo>
                <a:lnTo>
                  <a:pt x="434" y="290"/>
                </a:lnTo>
                <a:lnTo>
                  <a:pt x="432" y="278"/>
                </a:lnTo>
                <a:lnTo>
                  <a:pt x="430" y="267"/>
                </a:lnTo>
                <a:lnTo>
                  <a:pt x="426" y="257"/>
                </a:lnTo>
                <a:lnTo>
                  <a:pt x="424" y="248"/>
                </a:lnTo>
                <a:lnTo>
                  <a:pt x="420" y="238"/>
                </a:lnTo>
                <a:lnTo>
                  <a:pt x="418" y="230"/>
                </a:lnTo>
                <a:lnTo>
                  <a:pt x="414" y="223"/>
                </a:lnTo>
                <a:lnTo>
                  <a:pt x="412" y="217"/>
                </a:lnTo>
                <a:lnTo>
                  <a:pt x="409" y="209"/>
                </a:lnTo>
                <a:lnTo>
                  <a:pt x="405" y="205"/>
                </a:lnTo>
                <a:lnTo>
                  <a:pt x="401" y="201"/>
                </a:lnTo>
                <a:lnTo>
                  <a:pt x="397" y="198"/>
                </a:lnTo>
                <a:lnTo>
                  <a:pt x="393" y="194"/>
                </a:lnTo>
                <a:lnTo>
                  <a:pt x="384" y="190"/>
                </a:lnTo>
                <a:lnTo>
                  <a:pt x="372" y="186"/>
                </a:lnTo>
                <a:lnTo>
                  <a:pt x="363" y="182"/>
                </a:lnTo>
                <a:lnTo>
                  <a:pt x="349" y="178"/>
                </a:lnTo>
                <a:lnTo>
                  <a:pt x="338" y="177"/>
                </a:lnTo>
                <a:lnTo>
                  <a:pt x="324" y="177"/>
                </a:lnTo>
                <a:lnTo>
                  <a:pt x="318" y="178"/>
                </a:lnTo>
                <a:lnTo>
                  <a:pt x="311" y="178"/>
                </a:lnTo>
                <a:lnTo>
                  <a:pt x="305" y="180"/>
                </a:lnTo>
                <a:lnTo>
                  <a:pt x="297" y="182"/>
                </a:lnTo>
                <a:lnTo>
                  <a:pt x="284" y="186"/>
                </a:lnTo>
                <a:lnTo>
                  <a:pt x="268" y="192"/>
                </a:lnTo>
                <a:lnTo>
                  <a:pt x="253" y="196"/>
                </a:lnTo>
                <a:lnTo>
                  <a:pt x="238" y="200"/>
                </a:lnTo>
                <a:lnTo>
                  <a:pt x="220" y="205"/>
                </a:lnTo>
                <a:lnTo>
                  <a:pt x="203" y="209"/>
                </a:lnTo>
                <a:lnTo>
                  <a:pt x="167" y="219"/>
                </a:lnTo>
                <a:lnTo>
                  <a:pt x="159" y="221"/>
                </a:lnTo>
                <a:lnTo>
                  <a:pt x="149" y="223"/>
                </a:lnTo>
                <a:lnTo>
                  <a:pt x="142" y="223"/>
                </a:lnTo>
                <a:lnTo>
                  <a:pt x="134" y="224"/>
                </a:lnTo>
                <a:lnTo>
                  <a:pt x="119" y="223"/>
                </a:lnTo>
                <a:lnTo>
                  <a:pt x="103" y="223"/>
                </a:lnTo>
                <a:lnTo>
                  <a:pt x="88" y="219"/>
                </a:lnTo>
                <a:lnTo>
                  <a:pt x="75" y="215"/>
                </a:lnTo>
                <a:lnTo>
                  <a:pt x="61" y="211"/>
                </a:lnTo>
                <a:lnTo>
                  <a:pt x="48" y="207"/>
                </a:lnTo>
                <a:lnTo>
                  <a:pt x="42" y="203"/>
                </a:lnTo>
                <a:lnTo>
                  <a:pt x="36" y="201"/>
                </a:lnTo>
                <a:lnTo>
                  <a:pt x="30" y="200"/>
                </a:lnTo>
                <a:lnTo>
                  <a:pt x="27" y="198"/>
                </a:lnTo>
                <a:lnTo>
                  <a:pt x="21" y="194"/>
                </a:lnTo>
                <a:lnTo>
                  <a:pt x="17" y="192"/>
                </a:lnTo>
                <a:lnTo>
                  <a:pt x="11" y="186"/>
                </a:lnTo>
                <a:lnTo>
                  <a:pt x="5" y="180"/>
                </a:lnTo>
                <a:lnTo>
                  <a:pt x="4" y="175"/>
                </a:lnTo>
                <a:lnTo>
                  <a:pt x="2" y="167"/>
                </a:lnTo>
                <a:lnTo>
                  <a:pt x="0" y="157"/>
                </a:lnTo>
                <a:lnTo>
                  <a:pt x="0" y="155"/>
                </a:lnTo>
                <a:lnTo>
                  <a:pt x="0" y="152"/>
                </a:lnTo>
                <a:lnTo>
                  <a:pt x="2" y="150"/>
                </a:lnTo>
                <a:lnTo>
                  <a:pt x="5" y="146"/>
                </a:lnTo>
                <a:lnTo>
                  <a:pt x="9" y="144"/>
                </a:lnTo>
                <a:lnTo>
                  <a:pt x="17" y="140"/>
                </a:lnTo>
                <a:lnTo>
                  <a:pt x="25" y="136"/>
                </a:lnTo>
                <a:lnTo>
                  <a:pt x="34" y="132"/>
                </a:lnTo>
                <a:lnTo>
                  <a:pt x="44" y="129"/>
                </a:lnTo>
                <a:lnTo>
                  <a:pt x="55" y="125"/>
                </a:lnTo>
                <a:lnTo>
                  <a:pt x="69" y="119"/>
                </a:lnTo>
                <a:lnTo>
                  <a:pt x="84" y="115"/>
                </a:lnTo>
                <a:lnTo>
                  <a:pt x="100" y="111"/>
                </a:lnTo>
                <a:lnTo>
                  <a:pt x="117" y="106"/>
                </a:lnTo>
                <a:lnTo>
                  <a:pt x="136" y="102"/>
                </a:lnTo>
                <a:lnTo>
                  <a:pt x="155" y="98"/>
                </a:lnTo>
                <a:lnTo>
                  <a:pt x="174" y="94"/>
                </a:lnTo>
                <a:lnTo>
                  <a:pt x="194" y="92"/>
                </a:lnTo>
                <a:lnTo>
                  <a:pt x="211" y="88"/>
                </a:lnTo>
                <a:lnTo>
                  <a:pt x="228" y="86"/>
                </a:lnTo>
                <a:lnTo>
                  <a:pt x="245" y="83"/>
                </a:lnTo>
                <a:lnTo>
                  <a:pt x="259" y="79"/>
                </a:lnTo>
                <a:lnTo>
                  <a:pt x="274" y="75"/>
                </a:lnTo>
                <a:lnTo>
                  <a:pt x="288" y="71"/>
                </a:lnTo>
                <a:lnTo>
                  <a:pt x="299" y="67"/>
                </a:lnTo>
                <a:lnTo>
                  <a:pt x="311" y="63"/>
                </a:lnTo>
                <a:lnTo>
                  <a:pt x="322" y="58"/>
                </a:lnTo>
                <a:lnTo>
                  <a:pt x="330" y="54"/>
                </a:lnTo>
                <a:lnTo>
                  <a:pt x="339" y="50"/>
                </a:lnTo>
                <a:lnTo>
                  <a:pt x="345" y="46"/>
                </a:lnTo>
                <a:lnTo>
                  <a:pt x="353" y="40"/>
                </a:lnTo>
                <a:lnTo>
                  <a:pt x="357" y="36"/>
                </a:lnTo>
                <a:lnTo>
                  <a:pt x="366" y="27"/>
                </a:lnTo>
                <a:lnTo>
                  <a:pt x="374" y="19"/>
                </a:lnTo>
                <a:lnTo>
                  <a:pt x="384" y="13"/>
                </a:lnTo>
                <a:lnTo>
                  <a:pt x="393" y="8"/>
                </a:lnTo>
                <a:lnTo>
                  <a:pt x="401" y="4"/>
                </a:lnTo>
                <a:lnTo>
                  <a:pt x="411" y="2"/>
                </a:lnTo>
                <a:lnTo>
                  <a:pt x="420" y="0"/>
                </a:lnTo>
                <a:lnTo>
                  <a:pt x="428" y="0"/>
                </a:lnTo>
                <a:lnTo>
                  <a:pt x="432" y="0"/>
                </a:lnTo>
                <a:lnTo>
                  <a:pt x="434" y="0"/>
                </a:lnTo>
                <a:lnTo>
                  <a:pt x="437" y="2"/>
                </a:lnTo>
                <a:lnTo>
                  <a:pt x="441" y="4"/>
                </a:lnTo>
                <a:lnTo>
                  <a:pt x="447" y="6"/>
                </a:lnTo>
                <a:lnTo>
                  <a:pt x="453" y="10"/>
                </a:lnTo>
                <a:lnTo>
                  <a:pt x="458" y="12"/>
                </a:lnTo>
                <a:lnTo>
                  <a:pt x="464" y="15"/>
                </a:lnTo>
                <a:lnTo>
                  <a:pt x="472" y="21"/>
                </a:lnTo>
                <a:lnTo>
                  <a:pt x="480" y="25"/>
                </a:lnTo>
                <a:lnTo>
                  <a:pt x="487" y="31"/>
                </a:lnTo>
                <a:lnTo>
                  <a:pt x="495" y="35"/>
                </a:lnTo>
                <a:lnTo>
                  <a:pt x="505" y="40"/>
                </a:lnTo>
                <a:lnTo>
                  <a:pt x="514" y="48"/>
                </a:lnTo>
                <a:lnTo>
                  <a:pt x="524" y="54"/>
                </a:lnTo>
                <a:lnTo>
                  <a:pt x="535" y="61"/>
                </a:lnTo>
                <a:lnTo>
                  <a:pt x="547" y="69"/>
                </a:lnTo>
                <a:lnTo>
                  <a:pt x="556" y="79"/>
                </a:lnTo>
                <a:lnTo>
                  <a:pt x="564" y="86"/>
                </a:lnTo>
                <a:lnTo>
                  <a:pt x="574" y="94"/>
                </a:lnTo>
                <a:lnTo>
                  <a:pt x="581" y="102"/>
                </a:lnTo>
                <a:lnTo>
                  <a:pt x="587" y="109"/>
                </a:lnTo>
                <a:lnTo>
                  <a:pt x="593" y="117"/>
                </a:lnTo>
                <a:lnTo>
                  <a:pt x="599" y="123"/>
                </a:lnTo>
                <a:lnTo>
                  <a:pt x="604" y="129"/>
                </a:lnTo>
                <a:lnTo>
                  <a:pt x="608" y="134"/>
                </a:lnTo>
                <a:lnTo>
                  <a:pt x="612" y="140"/>
                </a:lnTo>
                <a:lnTo>
                  <a:pt x="614" y="144"/>
                </a:lnTo>
                <a:lnTo>
                  <a:pt x="616" y="148"/>
                </a:lnTo>
                <a:lnTo>
                  <a:pt x="618" y="152"/>
                </a:lnTo>
                <a:lnTo>
                  <a:pt x="618" y="155"/>
                </a:lnTo>
                <a:lnTo>
                  <a:pt x="618" y="157"/>
                </a:lnTo>
                <a:lnTo>
                  <a:pt x="618" y="167"/>
                </a:lnTo>
                <a:lnTo>
                  <a:pt x="616" y="177"/>
                </a:lnTo>
                <a:lnTo>
                  <a:pt x="614" y="184"/>
                </a:lnTo>
                <a:lnTo>
                  <a:pt x="610" y="194"/>
                </a:lnTo>
                <a:lnTo>
                  <a:pt x="604" y="203"/>
                </a:lnTo>
                <a:lnTo>
                  <a:pt x="599" y="213"/>
                </a:lnTo>
                <a:lnTo>
                  <a:pt x="591" y="221"/>
                </a:lnTo>
                <a:lnTo>
                  <a:pt x="583" y="2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05"/>
          <p:cNvSpPr/>
          <p:nvPr/>
        </p:nvSpPr>
        <p:spPr>
          <a:xfrm>
            <a:off x="6024600" y="4237200"/>
            <a:ext cx="650880" cy="182520"/>
          </a:xfrm>
          <a:custGeom>
            <a:avLst/>
            <a:gdLst/>
            <a:ahLst/>
            <a:rect l="l" t="t" r="r" b="b"/>
            <a:pathLst>
              <a:path w="820" h="230">
                <a:moveTo>
                  <a:pt x="0" y="134"/>
                </a:moveTo>
                <a:lnTo>
                  <a:pt x="35" y="125"/>
                </a:lnTo>
                <a:lnTo>
                  <a:pt x="70" y="117"/>
                </a:lnTo>
                <a:lnTo>
                  <a:pt x="104" y="109"/>
                </a:lnTo>
                <a:lnTo>
                  <a:pt x="139" y="104"/>
                </a:lnTo>
                <a:lnTo>
                  <a:pt x="171" y="96"/>
                </a:lnTo>
                <a:lnTo>
                  <a:pt x="202" y="88"/>
                </a:lnTo>
                <a:lnTo>
                  <a:pt x="235" y="83"/>
                </a:lnTo>
                <a:lnTo>
                  <a:pt x="265" y="77"/>
                </a:lnTo>
                <a:lnTo>
                  <a:pt x="296" y="69"/>
                </a:lnTo>
                <a:lnTo>
                  <a:pt x="325" y="63"/>
                </a:lnTo>
                <a:lnTo>
                  <a:pt x="354" y="58"/>
                </a:lnTo>
                <a:lnTo>
                  <a:pt x="382" y="54"/>
                </a:lnTo>
                <a:lnTo>
                  <a:pt x="411" y="48"/>
                </a:lnTo>
                <a:lnTo>
                  <a:pt x="438" y="42"/>
                </a:lnTo>
                <a:lnTo>
                  <a:pt x="465" y="38"/>
                </a:lnTo>
                <a:lnTo>
                  <a:pt x="490" y="35"/>
                </a:lnTo>
                <a:lnTo>
                  <a:pt x="515" y="31"/>
                </a:lnTo>
                <a:lnTo>
                  <a:pt x="540" y="27"/>
                </a:lnTo>
                <a:lnTo>
                  <a:pt x="565" y="23"/>
                </a:lnTo>
                <a:lnTo>
                  <a:pt x="588" y="19"/>
                </a:lnTo>
                <a:lnTo>
                  <a:pt x="611" y="15"/>
                </a:lnTo>
                <a:lnTo>
                  <a:pt x="634" y="14"/>
                </a:lnTo>
                <a:lnTo>
                  <a:pt x="655" y="12"/>
                </a:lnTo>
                <a:lnTo>
                  <a:pt x="676" y="8"/>
                </a:lnTo>
                <a:lnTo>
                  <a:pt x="695" y="6"/>
                </a:lnTo>
                <a:lnTo>
                  <a:pt x="716" y="4"/>
                </a:lnTo>
                <a:lnTo>
                  <a:pt x="734" y="4"/>
                </a:lnTo>
                <a:lnTo>
                  <a:pt x="753" y="2"/>
                </a:lnTo>
                <a:lnTo>
                  <a:pt x="770" y="0"/>
                </a:lnTo>
                <a:lnTo>
                  <a:pt x="788" y="0"/>
                </a:lnTo>
                <a:lnTo>
                  <a:pt x="805" y="0"/>
                </a:lnTo>
                <a:lnTo>
                  <a:pt x="820" y="0"/>
                </a:lnTo>
                <a:lnTo>
                  <a:pt x="820" y="98"/>
                </a:lnTo>
                <a:lnTo>
                  <a:pt x="807" y="98"/>
                </a:lnTo>
                <a:lnTo>
                  <a:pt x="791" y="98"/>
                </a:lnTo>
                <a:lnTo>
                  <a:pt x="776" y="98"/>
                </a:lnTo>
                <a:lnTo>
                  <a:pt x="761" y="100"/>
                </a:lnTo>
                <a:lnTo>
                  <a:pt x="743" y="100"/>
                </a:lnTo>
                <a:lnTo>
                  <a:pt x="726" y="102"/>
                </a:lnTo>
                <a:lnTo>
                  <a:pt x="709" y="104"/>
                </a:lnTo>
                <a:lnTo>
                  <a:pt x="690" y="106"/>
                </a:lnTo>
                <a:lnTo>
                  <a:pt x="668" y="108"/>
                </a:lnTo>
                <a:lnTo>
                  <a:pt x="647" y="111"/>
                </a:lnTo>
                <a:lnTo>
                  <a:pt x="626" y="113"/>
                </a:lnTo>
                <a:lnTo>
                  <a:pt x="605" y="117"/>
                </a:lnTo>
                <a:lnTo>
                  <a:pt x="582" y="119"/>
                </a:lnTo>
                <a:lnTo>
                  <a:pt x="557" y="123"/>
                </a:lnTo>
                <a:lnTo>
                  <a:pt x="534" y="127"/>
                </a:lnTo>
                <a:lnTo>
                  <a:pt x="509" y="131"/>
                </a:lnTo>
                <a:lnTo>
                  <a:pt x="482" y="136"/>
                </a:lnTo>
                <a:lnTo>
                  <a:pt x="455" y="140"/>
                </a:lnTo>
                <a:lnTo>
                  <a:pt x="429" y="146"/>
                </a:lnTo>
                <a:lnTo>
                  <a:pt x="400" y="150"/>
                </a:lnTo>
                <a:lnTo>
                  <a:pt x="371" y="155"/>
                </a:lnTo>
                <a:lnTo>
                  <a:pt x="340" y="161"/>
                </a:lnTo>
                <a:lnTo>
                  <a:pt x="310" y="167"/>
                </a:lnTo>
                <a:lnTo>
                  <a:pt x="279" y="173"/>
                </a:lnTo>
                <a:lnTo>
                  <a:pt x="246" y="180"/>
                </a:lnTo>
                <a:lnTo>
                  <a:pt x="214" y="186"/>
                </a:lnTo>
                <a:lnTo>
                  <a:pt x="181" y="194"/>
                </a:lnTo>
                <a:lnTo>
                  <a:pt x="146" y="200"/>
                </a:lnTo>
                <a:lnTo>
                  <a:pt x="110" y="207"/>
                </a:lnTo>
                <a:lnTo>
                  <a:pt x="75" y="215"/>
                </a:lnTo>
                <a:lnTo>
                  <a:pt x="37" y="223"/>
                </a:lnTo>
                <a:lnTo>
                  <a:pt x="0" y="230"/>
                </a:lnTo>
                <a:lnTo>
                  <a:pt x="0" y="1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" name="组合 8"/>
          <p:cNvGrpSpPr/>
          <p:nvPr/>
        </p:nvGrpSpPr>
        <p:grpSpPr>
          <a:xfrm>
            <a:off x="1131840" y="3975120"/>
            <a:ext cx="2840040" cy="1571760"/>
            <a:chOff x="1131840" y="3975120"/>
            <a:chExt cx="2840040" cy="1571760"/>
          </a:xfrm>
        </p:grpSpPr>
        <p:pic>
          <p:nvPicPr>
            <p:cNvPr id="108" name="图示 4" descr=""/>
            <p:cNvPicPr/>
            <p:nvPr/>
          </p:nvPicPr>
          <p:blipFill>
            <a:blip r:embed="rId1"/>
            <a:stretch/>
          </p:blipFill>
          <p:spPr>
            <a:xfrm>
              <a:off x="11318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矩形 2"/>
            <p:cNvSpPr/>
            <p:nvPr/>
          </p:nvSpPr>
          <p:spPr>
            <a:xfrm>
              <a:off x="11764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小下大。撇在书写时要尽量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3"/>
          <p:cNvSpPr/>
          <p:nvPr/>
        </p:nvSpPr>
        <p:spPr>
          <a:xfrm>
            <a:off x="2025720" y="1868400"/>
            <a:ext cx="145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45"/>
          <p:cNvSpPr/>
          <p:nvPr/>
        </p:nvSpPr>
        <p:spPr>
          <a:xfrm>
            <a:off x="6178680" y="2795760"/>
            <a:ext cx="223560" cy="558720"/>
          </a:xfrm>
          <a:custGeom>
            <a:avLst/>
            <a:gdLst/>
            <a:ahLst/>
            <a:rect l="l" t="t" r="r" b="b"/>
            <a:pathLst>
              <a:path w="282" h="704">
                <a:moveTo>
                  <a:pt x="142" y="510"/>
                </a:moveTo>
                <a:lnTo>
                  <a:pt x="140" y="485"/>
                </a:lnTo>
                <a:lnTo>
                  <a:pt x="138" y="460"/>
                </a:lnTo>
                <a:lnTo>
                  <a:pt x="136" y="437"/>
                </a:lnTo>
                <a:lnTo>
                  <a:pt x="134" y="414"/>
                </a:lnTo>
                <a:lnTo>
                  <a:pt x="130" y="391"/>
                </a:lnTo>
                <a:lnTo>
                  <a:pt x="128" y="370"/>
                </a:lnTo>
                <a:lnTo>
                  <a:pt x="126" y="349"/>
                </a:lnTo>
                <a:lnTo>
                  <a:pt x="125" y="328"/>
                </a:lnTo>
                <a:lnTo>
                  <a:pt x="123" y="308"/>
                </a:lnTo>
                <a:lnTo>
                  <a:pt x="121" y="289"/>
                </a:lnTo>
                <a:lnTo>
                  <a:pt x="117" y="272"/>
                </a:lnTo>
                <a:lnTo>
                  <a:pt x="115" y="255"/>
                </a:lnTo>
                <a:lnTo>
                  <a:pt x="113" y="237"/>
                </a:lnTo>
                <a:lnTo>
                  <a:pt x="111" y="222"/>
                </a:lnTo>
                <a:lnTo>
                  <a:pt x="109" y="207"/>
                </a:lnTo>
                <a:lnTo>
                  <a:pt x="107" y="193"/>
                </a:lnTo>
                <a:lnTo>
                  <a:pt x="103" y="180"/>
                </a:lnTo>
                <a:lnTo>
                  <a:pt x="101" y="166"/>
                </a:lnTo>
                <a:lnTo>
                  <a:pt x="98" y="155"/>
                </a:lnTo>
                <a:lnTo>
                  <a:pt x="96" y="143"/>
                </a:lnTo>
                <a:lnTo>
                  <a:pt x="92" y="132"/>
                </a:lnTo>
                <a:lnTo>
                  <a:pt x="88" y="120"/>
                </a:lnTo>
                <a:lnTo>
                  <a:pt x="84" y="111"/>
                </a:lnTo>
                <a:lnTo>
                  <a:pt x="80" y="103"/>
                </a:lnTo>
                <a:lnTo>
                  <a:pt x="75" y="95"/>
                </a:lnTo>
                <a:lnTo>
                  <a:pt x="71" y="88"/>
                </a:lnTo>
                <a:lnTo>
                  <a:pt x="65" y="80"/>
                </a:lnTo>
                <a:lnTo>
                  <a:pt x="59" y="74"/>
                </a:lnTo>
                <a:lnTo>
                  <a:pt x="53" y="69"/>
                </a:lnTo>
                <a:lnTo>
                  <a:pt x="48" y="65"/>
                </a:lnTo>
                <a:lnTo>
                  <a:pt x="42" y="61"/>
                </a:lnTo>
                <a:lnTo>
                  <a:pt x="36" y="59"/>
                </a:lnTo>
                <a:lnTo>
                  <a:pt x="29" y="57"/>
                </a:lnTo>
                <a:lnTo>
                  <a:pt x="23" y="53"/>
                </a:lnTo>
                <a:lnTo>
                  <a:pt x="17" y="51"/>
                </a:lnTo>
                <a:lnTo>
                  <a:pt x="13" y="49"/>
                </a:lnTo>
                <a:lnTo>
                  <a:pt x="9" y="48"/>
                </a:lnTo>
                <a:lnTo>
                  <a:pt x="5" y="44"/>
                </a:lnTo>
                <a:lnTo>
                  <a:pt x="4" y="42"/>
                </a:lnTo>
                <a:lnTo>
                  <a:pt x="2" y="38"/>
                </a:lnTo>
                <a:lnTo>
                  <a:pt x="0" y="36"/>
                </a:lnTo>
                <a:lnTo>
                  <a:pt x="0" y="32"/>
                </a:lnTo>
                <a:lnTo>
                  <a:pt x="0" y="30"/>
                </a:lnTo>
                <a:lnTo>
                  <a:pt x="0" y="26"/>
                </a:lnTo>
                <a:lnTo>
                  <a:pt x="2" y="23"/>
                </a:lnTo>
                <a:lnTo>
                  <a:pt x="4" y="19"/>
                </a:lnTo>
                <a:lnTo>
                  <a:pt x="7" y="15"/>
                </a:lnTo>
                <a:lnTo>
                  <a:pt x="11" y="9"/>
                </a:lnTo>
                <a:lnTo>
                  <a:pt x="13" y="7"/>
                </a:lnTo>
                <a:lnTo>
                  <a:pt x="17" y="5"/>
                </a:lnTo>
                <a:lnTo>
                  <a:pt x="21" y="3"/>
                </a:lnTo>
                <a:lnTo>
                  <a:pt x="27" y="3"/>
                </a:lnTo>
                <a:lnTo>
                  <a:pt x="32" y="1"/>
                </a:lnTo>
                <a:lnTo>
                  <a:pt x="40" y="1"/>
                </a:lnTo>
                <a:lnTo>
                  <a:pt x="46" y="1"/>
                </a:lnTo>
                <a:lnTo>
                  <a:pt x="55" y="0"/>
                </a:lnTo>
                <a:lnTo>
                  <a:pt x="63" y="1"/>
                </a:lnTo>
                <a:lnTo>
                  <a:pt x="73" y="1"/>
                </a:lnTo>
                <a:lnTo>
                  <a:pt x="82" y="1"/>
                </a:lnTo>
                <a:lnTo>
                  <a:pt x="94" y="3"/>
                </a:lnTo>
                <a:lnTo>
                  <a:pt x="105" y="3"/>
                </a:lnTo>
                <a:lnTo>
                  <a:pt x="117" y="5"/>
                </a:lnTo>
                <a:lnTo>
                  <a:pt x="128" y="7"/>
                </a:lnTo>
                <a:lnTo>
                  <a:pt x="142" y="9"/>
                </a:lnTo>
                <a:lnTo>
                  <a:pt x="155" y="13"/>
                </a:lnTo>
                <a:lnTo>
                  <a:pt x="169" y="15"/>
                </a:lnTo>
                <a:lnTo>
                  <a:pt x="180" y="17"/>
                </a:lnTo>
                <a:lnTo>
                  <a:pt x="192" y="21"/>
                </a:lnTo>
                <a:lnTo>
                  <a:pt x="201" y="25"/>
                </a:lnTo>
                <a:lnTo>
                  <a:pt x="211" y="26"/>
                </a:lnTo>
                <a:lnTo>
                  <a:pt x="221" y="30"/>
                </a:lnTo>
                <a:lnTo>
                  <a:pt x="230" y="34"/>
                </a:lnTo>
                <a:lnTo>
                  <a:pt x="238" y="38"/>
                </a:lnTo>
                <a:lnTo>
                  <a:pt x="245" y="42"/>
                </a:lnTo>
                <a:lnTo>
                  <a:pt x="251" y="44"/>
                </a:lnTo>
                <a:lnTo>
                  <a:pt x="257" y="48"/>
                </a:lnTo>
                <a:lnTo>
                  <a:pt x="263" y="51"/>
                </a:lnTo>
                <a:lnTo>
                  <a:pt x="267" y="53"/>
                </a:lnTo>
                <a:lnTo>
                  <a:pt x="270" y="55"/>
                </a:lnTo>
                <a:lnTo>
                  <a:pt x="272" y="59"/>
                </a:lnTo>
                <a:lnTo>
                  <a:pt x="274" y="61"/>
                </a:lnTo>
                <a:lnTo>
                  <a:pt x="274" y="63"/>
                </a:lnTo>
                <a:lnTo>
                  <a:pt x="276" y="65"/>
                </a:lnTo>
                <a:lnTo>
                  <a:pt x="276" y="69"/>
                </a:lnTo>
                <a:lnTo>
                  <a:pt x="278" y="72"/>
                </a:lnTo>
                <a:lnTo>
                  <a:pt x="278" y="76"/>
                </a:lnTo>
                <a:lnTo>
                  <a:pt x="278" y="80"/>
                </a:lnTo>
                <a:lnTo>
                  <a:pt x="280" y="86"/>
                </a:lnTo>
                <a:lnTo>
                  <a:pt x="280" y="92"/>
                </a:lnTo>
                <a:lnTo>
                  <a:pt x="280" y="99"/>
                </a:lnTo>
                <a:lnTo>
                  <a:pt x="280" y="105"/>
                </a:lnTo>
                <a:lnTo>
                  <a:pt x="282" y="113"/>
                </a:lnTo>
                <a:lnTo>
                  <a:pt x="282" y="122"/>
                </a:lnTo>
                <a:lnTo>
                  <a:pt x="282" y="130"/>
                </a:lnTo>
                <a:lnTo>
                  <a:pt x="282" y="140"/>
                </a:lnTo>
                <a:lnTo>
                  <a:pt x="282" y="149"/>
                </a:lnTo>
                <a:lnTo>
                  <a:pt x="282" y="161"/>
                </a:lnTo>
                <a:lnTo>
                  <a:pt x="282" y="172"/>
                </a:lnTo>
                <a:lnTo>
                  <a:pt x="282" y="184"/>
                </a:lnTo>
                <a:lnTo>
                  <a:pt x="282" y="195"/>
                </a:lnTo>
                <a:lnTo>
                  <a:pt x="280" y="209"/>
                </a:lnTo>
                <a:lnTo>
                  <a:pt x="280" y="222"/>
                </a:lnTo>
                <a:lnTo>
                  <a:pt x="280" y="236"/>
                </a:lnTo>
                <a:lnTo>
                  <a:pt x="280" y="251"/>
                </a:lnTo>
                <a:lnTo>
                  <a:pt x="278" y="266"/>
                </a:lnTo>
                <a:lnTo>
                  <a:pt x="278" y="282"/>
                </a:lnTo>
                <a:lnTo>
                  <a:pt x="278" y="297"/>
                </a:lnTo>
                <a:lnTo>
                  <a:pt x="276" y="314"/>
                </a:lnTo>
                <a:lnTo>
                  <a:pt x="276" y="332"/>
                </a:lnTo>
                <a:lnTo>
                  <a:pt x="274" y="349"/>
                </a:lnTo>
                <a:lnTo>
                  <a:pt x="274" y="368"/>
                </a:lnTo>
                <a:lnTo>
                  <a:pt x="272" y="387"/>
                </a:lnTo>
                <a:lnTo>
                  <a:pt x="272" y="406"/>
                </a:lnTo>
                <a:lnTo>
                  <a:pt x="270" y="426"/>
                </a:lnTo>
                <a:lnTo>
                  <a:pt x="268" y="443"/>
                </a:lnTo>
                <a:lnTo>
                  <a:pt x="268" y="460"/>
                </a:lnTo>
                <a:lnTo>
                  <a:pt x="267" y="477"/>
                </a:lnTo>
                <a:lnTo>
                  <a:pt x="265" y="493"/>
                </a:lnTo>
                <a:lnTo>
                  <a:pt x="263" y="510"/>
                </a:lnTo>
                <a:lnTo>
                  <a:pt x="263" y="523"/>
                </a:lnTo>
                <a:lnTo>
                  <a:pt x="261" y="539"/>
                </a:lnTo>
                <a:lnTo>
                  <a:pt x="259" y="552"/>
                </a:lnTo>
                <a:lnTo>
                  <a:pt x="257" y="566"/>
                </a:lnTo>
                <a:lnTo>
                  <a:pt x="255" y="579"/>
                </a:lnTo>
                <a:lnTo>
                  <a:pt x="253" y="591"/>
                </a:lnTo>
                <a:lnTo>
                  <a:pt x="251" y="602"/>
                </a:lnTo>
                <a:lnTo>
                  <a:pt x="249" y="614"/>
                </a:lnTo>
                <a:lnTo>
                  <a:pt x="247" y="623"/>
                </a:lnTo>
                <a:lnTo>
                  <a:pt x="245" y="633"/>
                </a:lnTo>
                <a:lnTo>
                  <a:pt x="244" y="642"/>
                </a:lnTo>
                <a:lnTo>
                  <a:pt x="242" y="650"/>
                </a:lnTo>
                <a:lnTo>
                  <a:pt x="240" y="658"/>
                </a:lnTo>
                <a:lnTo>
                  <a:pt x="238" y="665"/>
                </a:lnTo>
                <a:lnTo>
                  <a:pt x="236" y="673"/>
                </a:lnTo>
                <a:lnTo>
                  <a:pt x="234" y="679"/>
                </a:lnTo>
                <a:lnTo>
                  <a:pt x="232" y="683"/>
                </a:lnTo>
                <a:lnTo>
                  <a:pt x="228" y="688"/>
                </a:lnTo>
                <a:lnTo>
                  <a:pt x="226" y="692"/>
                </a:lnTo>
                <a:lnTo>
                  <a:pt x="224" y="696"/>
                </a:lnTo>
                <a:lnTo>
                  <a:pt x="222" y="698"/>
                </a:lnTo>
                <a:lnTo>
                  <a:pt x="221" y="702"/>
                </a:lnTo>
                <a:lnTo>
                  <a:pt x="219" y="702"/>
                </a:lnTo>
                <a:lnTo>
                  <a:pt x="215" y="704"/>
                </a:lnTo>
                <a:lnTo>
                  <a:pt x="213" y="704"/>
                </a:lnTo>
                <a:lnTo>
                  <a:pt x="209" y="704"/>
                </a:lnTo>
                <a:lnTo>
                  <a:pt x="205" y="702"/>
                </a:lnTo>
                <a:lnTo>
                  <a:pt x="199" y="698"/>
                </a:lnTo>
                <a:lnTo>
                  <a:pt x="196" y="692"/>
                </a:lnTo>
                <a:lnTo>
                  <a:pt x="192" y="686"/>
                </a:lnTo>
                <a:lnTo>
                  <a:pt x="186" y="677"/>
                </a:lnTo>
                <a:lnTo>
                  <a:pt x="182" y="667"/>
                </a:lnTo>
                <a:lnTo>
                  <a:pt x="178" y="656"/>
                </a:lnTo>
                <a:lnTo>
                  <a:pt x="173" y="644"/>
                </a:lnTo>
                <a:lnTo>
                  <a:pt x="169" y="629"/>
                </a:lnTo>
                <a:lnTo>
                  <a:pt x="165" y="614"/>
                </a:lnTo>
                <a:lnTo>
                  <a:pt x="159" y="596"/>
                </a:lnTo>
                <a:lnTo>
                  <a:pt x="155" y="577"/>
                </a:lnTo>
                <a:lnTo>
                  <a:pt x="151" y="556"/>
                </a:lnTo>
                <a:lnTo>
                  <a:pt x="148" y="533"/>
                </a:lnTo>
                <a:lnTo>
                  <a:pt x="142" y="5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46"/>
          <p:cNvSpPr/>
          <p:nvPr/>
        </p:nvSpPr>
        <p:spPr>
          <a:xfrm>
            <a:off x="6726240" y="2698920"/>
            <a:ext cx="320760" cy="626760"/>
          </a:xfrm>
          <a:custGeom>
            <a:avLst/>
            <a:gdLst/>
            <a:ahLst/>
            <a:rect l="l" t="t" r="r" b="b"/>
            <a:pathLst>
              <a:path w="405" h="790">
                <a:moveTo>
                  <a:pt x="142" y="620"/>
                </a:moveTo>
                <a:lnTo>
                  <a:pt x="132" y="639"/>
                </a:lnTo>
                <a:lnTo>
                  <a:pt x="121" y="658"/>
                </a:lnTo>
                <a:lnTo>
                  <a:pt x="111" y="677"/>
                </a:lnTo>
                <a:lnTo>
                  <a:pt x="102" y="692"/>
                </a:lnTo>
                <a:lnTo>
                  <a:pt x="90" y="708"/>
                </a:lnTo>
                <a:lnTo>
                  <a:pt x="82" y="721"/>
                </a:lnTo>
                <a:lnTo>
                  <a:pt x="73" y="735"/>
                </a:lnTo>
                <a:lnTo>
                  <a:pt x="63" y="746"/>
                </a:lnTo>
                <a:lnTo>
                  <a:pt x="56" y="756"/>
                </a:lnTo>
                <a:lnTo>
                  <a:pt x="48" y="765"/>
                </a:lnTo>
                <a:lnTo>
                  <a:pt x="40" y="773"/>
                </a:lnTo>
                <a:lnTo>
                  <a:pt x="34" y="779"/>
                </a:lnTo>
                <a:lnTo>
                  <a:pt x="27" y="785"/>
                </a:lnTo>
                <a:lnTo>
                  <a:pt x="21" y="788"/>
                </a:lnTo>
                <a:lnTo>
                  <a:pt x="17" y="790"/>
                </a:lnTo>
                <a:lnTo>
                  <a:pt x="11" y="790"/>
                </a:lnTo>
                <a:lnTo>
                  <a:pt x="8" y="790"/>
                </a:lnTo>
                <a:lnTo>
                  <a:pt x="4" y="788"/>
                </a:lnTo>
                <a:lnTo>
                  <a:pt x="2" y="785"/>
                </a:lnTo>
                <a:lnTo>
                  <a:pt x="2" y="779"/>
                </a:lnTo>
                <a:lnTo>
                  <a:pt x="0" y="773"/>
                </a:lnTo>
                <a:lnTo>
                  <a:pt x="2" y="763"/>
                </a:lnTo>
                <a:lnTo>
                  <a:pt x="2" y="754"/>
                </a:lnTo>
                <a:lnTo>
                  <a:pt x="6" y="744"/>
                </a:lnTo>
                <a:lnTo>
                  <a:pt x="8" y="731"/>
                </a:lnTo>
                <a:lnTo>
                  <a:pt x="11" y="715"/>
                </a:lnTo>
                <a:lnTo>
                  <a:pt x="17" y="700"/>
                </a:lnTo>
                <a:lnTo>
                  <a:pt x="25" y="683"/>
                </a:lnTo>
                <a:lnTo>
                  <a:pt x="31" y="664"/>
                </a:lnTo>
                <a:lnTo>
                  <a:pt x="40" y="643"/>
                </a:lnTo>
                <a:lnTo>
                  <a:pt x="50" y="620"/>
                </a:lnTo>
                <a:lnTo>
                  <a:pt x="59" y="596"/>
                </a:lnTo>
                <a:lnTo>
                  <a:pt x="69" y="572"/>
                </a:lnTo>
                <a:lnTo>
                  <a:pt x="77" y="547"/>
                </a:lnTo>
                <a:lnTo>
                  <a:pt x="84" y="522"/>
                </a:lnTo>
                <a:lnTo>
                  <a:pt x="92" y="499"/>
                </a:lnTo>
                <a:lnTo>
                  <a:pt x="107" y="455"/>
                </a:lnTo>
                <a:lnTo>
                  <a:pt x="121" y="410"/>
                </a:lnTo>
                <a:lnTo>
                  <a:pt x="134" y="366"/>
                </a:lnTo>
                <a:lnTo>
                  <a:pt x="146" y="324"/>
                </a:lnTo>
                <a:lnTo>
                  <a:pt x="157" y="284"/>
                </a:lnTo>
                <a:lnTo>
                  <a:pt x="167" y="243"/>
                </a:lnTo>
                <a:lnTo>
                  <a:pt x="169" y="224"/>
                </a:lnTo>
                <a:lnTo>
                  <a:pt x="171" y="207"/>
                </a:lnTo>
                <a:lnTo>
                  <a:pt x="171" y="192"/>
                </a:lnTo>
                <a:lnTo>
                  <a:pt x="173" y="176"/>
                </a:lnTo>
                <a:lnTo>
                  <a:pt x="173" y="161"/>
                </a:lnTo>
                <a:lnTo>
                  <a:pt x="173" y="148"/>
                </a:lnTo>
                <a:lnTo>
                  <a:pt x="173" y="134"/>
                </a:lnTo>
                <a:lnTo>
                  <a:pt x="173" y="123"/>
                </a:lnTo>
                <a:lnTo>
                  <a:pt x="171" y="111"/>
                </a:lnTo>
                <a:lnTo>
                  <a:pt x="169" y="100"/>
                </a:lnTo>
                <a:lnTo>
                  <a:pt x="167" y="90"/>
                </a:lnTo>
                <a:lnTo>
                  <a:pt x="163" y="80"/>
                </a:lnTo>
                <a:lnTo>
                  <a:pt x="159" y="71"/>
                </a:lnTo>
                <a:lnTo>
                  <a:pt x="153" y="63"/>
                </a:lnTo>
                <a:lnTo>
                  <a:pt x="150" y="55"/>
                </a:lnTo>
                <a:lnTo>
                  <a:pt x="142" y="48"/>
                </a:lnTo>
                <a:lnTo>
                  <a:pt x="136" y="44"/>
                </a:lnTo>
                <a:lnTo>
                  <a:pt x="130" y="38"/>
                </a:lnTo>
                <a:lnTo>
                  <a:pt x="127" y="34"/>
                </a:lnTo>
                <a:lnTo>
                  <a:pt x="123" y="30"/>
                </a:lnTo>
                <a:lnTo>
                  <a:pt x="119" y="29"/>
                </a:lnTo>
                <a:lnTo>
                  <a:pt x="117" y="25"/>
                </a:lnTo>
                <a:lnTo>
                  <a:pt x="117" y="21"/>
                </a:lnTo>
                <a:lnTo>
                  <a:pt x="115" y="19"/>
                </a:lnTo>
                <a:lnTo>
                  <a:pt x="117" y="15"/>
                </a:lnTo>
                <a:lnTo>
                  <a:pt x="117" y="13"/>
                </a:lnTo>
                <a:lnTo>
                  <a:pt x="119" y="11"/>
                </a:lnTo>
                <a:lnTo>
                  <a:pt x="123" y="7"/>
                </a:lnTo>
                <a:lnTo>
                  <a:pt x="127" y="6"/>
                </a:lnTo>
                <a:lnTo>
                  <a:pt x="130" y="4"/>
                </a:lnTo>
                <a:lnTo>
                  <a:pt x="136" y="2"/>
                </a:lnTo>
                <a:lnTo>
                  <a:pt x="142" y="0"/>
                </a:lnTo>
                <a:lnTo>
                  <a:pt x="157" y="0"/>
                </a:lnTo>
                <a:lnTo>
                  <a:pt x="171" y="2"/>
                </a:lnTo>
                <a:lnTo>
                  <a:pt x="188" y="6"/>
                </a:lnTo>
                <a:lnTo>
                  <a:pt x="207" y="9"/>
                </a:lnTo>
                <a:lnTo>
                  <a:pt x="226" y="15"/>
                </a:lnTo>
                <a:lnTo>
                  <a:pt x="236" y="21"/>
                </a:lnTo>
                <a:lnTo>
                  <a:pt x="248" y="25"/>
                </a:lnTo>
                <a:lnTo>
                  <a:pt x="259" y="30"/>
                </a:lnTo>
                <a:lnTo>
                  <a:pt x="271" y="34"/>
                </a:lnTo>
                <a:lnTo>
                  <a:pt x="284" y="42"/>
                </a:lnTo>
                <a:lnTo>
                  <a:pt x="297" y="48"/>
                </a:lnTo>
                <a:lnTo>
                  <a:pt x="307" y="55"/>
                </a:lnTo>
                <a:lnTo>
                  <a:pt x="319" y="61"/>
                </a:lnTo>
                <a:lnTo>
                  <a:pt x="328" y="69"/>
                </a:lnTo>
                <a:lnTo>
                  <a:pt x="338" y="75"/>
                </a:lnTo>
                <a:lnTo>
                  <a:pt x="345" y="82"/>
                </a:lnTo>
                <a:lnTo>
                  <a:pt x="353" y="88"/>
                </a:lnTo>
                <a:lnTo>
                  <a:pt x="361" y="96"/>
                </a:lnTo>
                <a:lnTo>
                  <a:pt x="368" y="101"/>
                </a:lnTo>
                <a:lnTo>
                  <a:pt x="374" y="107"/>
                </a:lnTo>
                <a:lnTo>
                  <a:pt x="380" y="113"/>
                </a:lnTo>
                <a:lnTo>
                  <a:pt x="386" y="119"/>
                </a:lnTo>
                <a:lnTo>
                  <a:pt x="392" y="124"/>
                </a:lnTo>
                <a:lnTo>
                  <a:pt x="395" y="130"/>
                </a:lnTo>
                <a:lnTo>
                  <a:pt x="399" y="136"/>
                </a:lnTo>
                <a:lnTo>
                  <a:pt x="401" y="140"/>
                </a:lnTo>
                <a:lnTo>
                  <a:pt x="405" y="146"/>
                </a:lnTo>
                <a:lnTo>
                  <a:pt x="403" y="153"/>
                </a:lnTo>
                <a:lnTo>
                  <a:pt x="401" y="163"/>
                </a:lnTo>
                <a:lnTo>
                  <a:pt x="399" y="172"/>
                </a:lnTo>
                <a:lnTo>
                  <a:pt x="395" y="182"/>
                </a:lnTo>
                <a:lnTo>
                  <a:pt x="390" y="190"/>
                </a:lnTo>
                <a:lnTo>
                  <a:pt x="384" y="199"/>
                </a:lnTo>
                <a:lnTo>
                  <a:pt x="376" y="209"/>
                </a:lnTo>
                <a:lnTo>
                  <a:pt x="368" y="218"/>
                </a:lnTo>
                <a:lnTo>
                  <a:pt x="359" y="228"/>
                </a:lnTo>
                <a:lnTo>
                  <a:pt x="351" y="240"/>
                </a:lnTo>
                <a:lnTo>
                  <a:pt x="342" y="251"/>
                </a:lnTo>
                <a:lnTo>
                  <a:pt x="332" y="265"/>
                </a:lnTo>
                <a:lnTo>
                  <a:pt x="324" y="280"/>
                </a:lnTo>
                <a:lnTo>
                  <a:pt x="319" y="289"/>
                </a:lnTo>
                <a:lnTo>
                  <a:pt x="315" y="299"/>
                </a:lnTo>
                <a:lnTo>
                  <a:pt x="311" y="309"/>
                </a:lnTo>
                <a:lnTo>
                  <a:pt x="305" y="318"/>
                </a:lnTo>
                <a:lnTo>
                  <a:pt x="301" y="328"/>
                </a:lnTo>
                <a:lnTo>
                  <a:pt x="297" y="339"/>
                </a:lnTo>
                <a:lnTo>
                  <a:pt x="290" y="351"/>
                </a:lnTo>
                <a:lnTo>
                  <a:pt x="284" y="364"/>
                </a:lnTo>
                <a:lnTo>
                  <a:pt x="276" y="378"/>
                </a:lnTo>
                <a:lnTo>
                  <a:pt x="269" y="391"/>
                </a:lnTo>
                <a:lnTo>
                  <a:pt x="259" y="407"/>
                </a:lnTo>
                <a:lnTo>
                  <a:pt x="251" y="424"/>
                </a:lnTo>
                <a:lnTo>
                  <a:pt x="242" y="439"/>
                </a:lnTo>
                <a:lnTo>
                  <a:pt x="232" y="456"/>
                </a:lnTo>
                <a:lnTo>
                  <a:pt x="223" y="476"/>
                </a:lnTo>
                <a:lnTo>
                  <a:pt x="213" y="493"/>
                </a:lnTo>
                <a:lnTo>
                  <a:pt x="203" y="512"/>
                </a:lnTo>
                <a:lnTo>
                  <a:pt x="192" y="533"/>
                </a:lnTo>
                <a:lnTo>
                  <a:pt x="180" y="554"/>
                </a:lnTo>
                <a:lnTo>
                  <a:pt x="169" y="575"/>
                </a:lnTo>
                <a:lnTo>
                  <a:pt x="155" y="596"/>
                </a:lnTo>
                <a:lnTo>
                  <a:pt x="142" y="6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47"/>
          <p:cNvSpPr/>
          <p:nvPr/>
        </p:nvSpPr>
        <p:spPr>
          <a:xfrm>
            <a:off x="6357960" y="3654360"/>
            <a:ext cx="439560" cy="1382760"/>
          </a:xfrm>
          <a:custGeom>
            <a:avLst/>
            <a:gdLst/>
            <a:ahLst/>
            <a:rect l="l" t="t" r="r" b="b"/>
            <a:pathLst>
              <a:path w="555" h="1740">
                <a:moveTo>
                  <a:pt x="536" y="1339"/>
                </a:moveTo>
                <a:lnTo>
                  <a:pt x="534" y="1366"/>
                </a:lnTo>
                <a:lnTo>
                  <a:pt x="530" y="1391"/>
                </a:lnTo>
                <a:lnTo>
                  <a:pt x="526" y="1416"/>
                </a:lnTo>
                <a:lnTo>
                  <a:pt x="523" y="1441"/>
                </a:lnTo>
                <a:lnTo>
                  <a:pt x="519" y="1464"/>
                </a:lnTo>
                <a:lnTo>
                  <a:pt x="513" y="1487"/>
                </a:lnTo>
                <a:lnTo>
                  <a:pt x="507" y="1508"/>
                </a:lnTo>
                <a:lnTo>
                  <a:pt x="501" y="1529"/>
                </a:lnTo>
                <a:lnTo>
                  <a:pt x="496" y="1548"/>
                </a:lnTo>
                <a:lnTo>
                  <a:pt x="488" y="1565"/>
                </a:lnTo>
                <a:lnTo>
                  <a:pt x="482" y="1583"/>
                </a:lnTo>
                <a:lnTo>
                  <a:pt x="475" y="1600"/>
                </a:lnTo>
                <a:lnTo>
                  <a:pt x="467" y="1615"/>
                </a:lnTo>
                <a:lnTo>
                  <a:pt x="459" y="1629"/>
                </a:lnTo>
                <a:lnTo>
                  <a:pt x="450" y="1642"/>
                </a:lnTo>
                <a:lnTo>
                  <a:pt x="442" y="1656"/>
                </a:lnTo>
                <a:lnTo>
                  <a:pt x="430" y="1665"/>
                </a:lnTo>
                <a:lnTo>
                  <a:pt x="421" y="1677"/>
                </a:lnTo>
                <a:lnTo>
                  <a:pt x="411" y="1686"/>
                </a:lnTo>
                <a:lnTo>
                  <a:pt x="402" y="1694"/>
                </a:lnTo>
                <a:lnTo>
                  <a:pt x="392" y="1702"/>
                </a:lnTo>
                <a:lnTo>
                  <a:pt x="384" y="1709"/>
                </a:lnTo>
                <a:lnTo>
                  <a:pt x="377" y="1715"/>
                </a:lnTo>
                <a:lnTo>
                  <a:pt x="369" y="1721"/>
                </a:lnTo>
                <a:lnTo>
                  <a:pt x="361" y="1725"/>
                </a:lnTo>
                <a:lnTo>
                  <a:pt x="355" y="1729"/>
                </a:lnTo>
                <a:lnTo>
                  <a:pt x="348" y="1732"/>
                </a:lnTo>
                <a:lnTo>
                  <a:pt x="342" y="1736"/>
                </a:lnTo>
                <a:lnTo>
                  <a:pt x="336" y="1738"/>
                </a:lnTo>
                <a:lnTo>
                  <a:pt x="332" y="1738"/>
                </a:lnTo>
                <a:lnTo>
                  <a:pt x="327" y="1740"/>
                </a:lnTo>
                <a:lnTo>
                  <a:pt x="323" y="1740"/>
                </a:lnTo>
                <a:lnTo>
                  <a:pt x="315" y="1740"/>
                </a:lnTo>
                <a:lnTo>
                  <a:pt x="309" y="1738"/>
                </a:lnTo>
                <a:lnTo>
                  <a:pt x="304" y="1738"/>
                </a:lnTo>
                <a:lnTo>
                  <a:pt x="300" y="1736"/>
                </a:lnTo>
                <a:lnTo>
                  <a:pt x="294" y="1732"/>
                </a:lnTo>
                <a:lnTo>
                  <a:pt x="290" y="1730"/>
                </a:lnTo>
                <a:lnTo>
                  <a:pt x="286" y="1727"/>
                </a:lnTo>
                <a:lnTo>
                  <a:pt x="283" y="1721"/>
                </a:lnTo>
                <a:lnTo>
                  <a:pt x="281" y="1717"/>
                </a:lnTo>
                <a:lnTo>
                  <a:pt x="277" y="1711"/>
                </a:lnTo>
                <a:lnTo>
                  <a:pt x="275" y="1706"/>
                </a:lnTo>
                <a:lnTo>
                  <a:pt x="273" y="1700"/>
                </a:lnTo>
                <a:lnTo>
                  <a:pt x="269" y="1692"/>
                </a:lnTo>
                <a:lnTo>
                  <a:pt x="267" y="1684"/>
                </a:lnTo>
                <a:lnTo>
                  <a:pt x="265" y="1675"/>
                </a:lnTo>
                <a:lnTo>
                  <a:pt x="263" y="1667"/>
                </a:lnTo>
                <a:lnTo>
                  <a:pt x="260" y="1658"/>
                </a:lnTo>
                <a:lnTo>
                  <a:pt x="258" y="1648"/>
                </a:lnTo>
                <a:lnTo>
                  <a:pt x="252" y="1638"/>
                </a:lnTo>
                <a:lnTo>
                  <a:pt x="248" y="1629"/>
                </a:lnTo>
                <a:lnTo>
                  <a:pt x="242" y="1617"/>
                </a:lnTo>
                <a:lnTo>
                  <a:pt x="235" y="1608"/>
                </a:lnTo>
                <a:lnTo>
                  <a:pt x="227" y="1598"/>
                </a:lnTo>
                <a:lnTo>
                  <a:pt x="219" y="1587"/>
                </a:lnTo>
                <a:lnTo>
                  <a:pt x="210" y="1575"/>
                </a:lnTo>
                <a:lnTo>
                  <a:pt x="198" y="1565"/>
                </a:lnTo>
                <a:lnTo>
                  <a:pt x="188" y="1554"/>
                </a:lnTo>
                <a:lnTo>
                  <a:pt x="175" y="1542"/>
                </a:lnTo>
                <a:lnTo>
                  <a:pt x="164" y="1531"/>
                </a:lnTo>
                <a:lnTo>
                  <a:pt x="150" y="1519"/>
                </a:lnTo>
                <a:lnTo>
                  <a:pt x="135" y="1508"/>
                </a:lnTo>
                <a:lnTo>
                  <a:pt x="121" y="1496"/>
                </a:lnTo>
                <a:lnTo>
                  <a:pt x="106" y="1485"/>
                </a:lnTo>
                <a:lnTo>
                  <a:pt x="91" y="1475"/>
                </a:lnTo>
                <a:lnTo>
                  <a:pt x="77" y="1464"/>
                </a:lnTo>
                <a:lnTo>
                  <a:pt x="66" y="1454"/>
                </a:lnTo>
                <a:lnTo>
                  <a:pt x="54" y="1446"/>
                </a:lnTo>
                <a:lnTo>
                  <a:pt x="43" y="1437"/>
                </a:lnTo>
                <a:lnTo>
                  <a:pt x="35" y="1429"/>
                </a:lnTo>
                <a:lnTo>
                  <a:pt x="25" y="1423"/>
                </a:lnTo>
                <a:lnTo>
                  <a:pt x="18" y="1416"/>
                </a:lnTo>
                <a:lnTo>
                  <a:pt x="12" y="1410"/>
                </a:lnTo>
                <a:lnTo>
                  <a:pt x="8" y="1406"/>
                </a:lnTo>
                <a:lnTo>
                  <a:pt x="4" y="1400"/>
                </a:lnTo>
                <a:lnTo>
                  <a:pt x="0" y="1397"/>
                </a:lnTo>
                <a:lnTo>
                  <a:pt x="0" y="1393"/>
                </a:lnTo>
                <a:lnTo>
                  <a:pt x="0" y="1389"/>
                </a:lnTo>
                <a:lnTo>
                  <a:pt x="2" y="1387"/>
                </a:lnTo>
                <a:lnTo>
                  <a:pt x="4" y="1385"/>
                </a:lnTo>
                <a:lnTo>
                  <a:pt x="8" y="1383"/>
                </a:lnTo>
                <a:lnTo>
                  <a:pt x="12" y="1381"/>
                </a:lnTo>
                <a:lnTo>
                  <a:pt x="18" y="1379"/>
                </a:lnTo>
                <a:lnTo>
                  <a:pt x="23" y="1379"/>
                </a:lnTo>
                <a:lnTo>
                  <a:pt x="29" y="1379"/>
                </a:lnTo>
                <a:lnTo>
                  <a:pt x="37" y="1379"/>
                </a:lnTo>
                <a:lnTo>
                  <a:pt x="46" y="1379"/>
                </a:lnTo>
                <a:lnTo>
                  <a:pt x="56" y="1379"/>
                </a:lnTo>
                <a:lnTo>
                  <a:pt x="66" y="1381"/>
                </a:lnTo>
                <a:lnTo>
                  <a:pt x="77" y="1383"/>
                </a:lnTo>
                <a:lnTo>
                  <a:pt x="89" y="1385"/>
                </a:lnTo>
                <a:lnTo>
                  <a:pt x="100" y="1387"/>
                </a:lnTo>
                <a:lnTo>
                  <a:pt x="114" y="1391"/>
                </a:lnTo>
                <a:lnTo>
                  <a:pt x="129" y="1395"/>
                </a:lnTo>
                <a:lnTo>
                  <a:pt x="144" y="1399"/>
                </a:lnTo>
                <a:lnTo>
                  <a:pt x="160" y="1400"/>
                </a:lnTo>
                <a:lnTo>
                  <a:pt x="173" y="1404"/>
                </a:lnTo>
                <a:lnTo>
                  <a:pt x="188" y="1406"/>
                </a:lnTo>
                <a:lnTo>
                  <a:pt x="202" y="1408"/>
                </a:lnTo>
                <a:lnTo>
                  <a:pt x="215" y="1410"/>
                </a:lnTo>
                <a:lnTo>
                  <a:pt x="227" y="1412"/>
                </a:lnTo>
                <a:lnTo>
                  <a:pt x="238" y="1414"/>
                </a:lnTo>
                <a:lnTo>
                  <a:pt x="250" y="1414"/>
                </a:lnTo>
                <a:lnTo>
                  <a:pt x="260" y="1416"/>
                </a:lnTo>
                <a:lnTo>
                  <a:pt x="269" y="1416"/>
                </a:lnTo>
                <a:lnTo>
                  <a:pt x="279" y="1416"/>
                </a:lnTo>
                <a:lnTo>
                  <a:pt x="286" y="1416"/>
                </a:lnTo>
                <a:lnTo>
                  <a:pt x="294" y="1416"/>
                </a:lnTo>
                <a:lnTo>
                  <a:pt x="300" y="1416"/>
                </a:lnTo>
                <a:lnTo>
                  <a:pt x="306" y="1414"/>
                </a:lnTo>
                <a:lnTo>
                  <a:pt x="311" y="1412"/>
                </a:lnTo>
                <a:lnTo>
                  <a:pt x="315" y="1408"/>
                </a:lnTo>
                <a:lnTo>
                  <a:pt x="319" y="1404"/>
                </a:lnTo>
                <a:lnTo>
                  <a:pt x="323" y="1399"/>
                </a:lnTo>
                <a:lnTo>
                  <a:pt x="329" y="1391"/>
                </a:lnTo>
                <a:lnTo>
                  <a:pt x="332" y="1383"/>
                </a:lnTo>
                <a:lnTo>
                  <a:pt x="336" y="1372"/>
                </a:lnTo>
                <a:lnTo>
                  <a:pt x="342" y="1362"/>
                </a:lnTo>
                <a:lnTo>
                  <a:pt x="346" y="1349"/>
                </a:lnTo>
                <a:lnTo>
                  <a:pt x="350" y="1335"/>
                </a:lnTo>
                <a:lnTo>
                  <a:pt x="355" y="1320"/>
                </a:lnTo>
                <a:lnTo>
                  <a:pt x="359" y="1304"/>
                </a:lnTo>
                <a:lnTo>
                  <a:pt x="365" y="1287"/>
                </a:lnTo>
                <a:lnTo>
                  <a:pt x="369" y="1268"/>
                </a:lnTo>
                <a:lnTo>
                  <a:pt x="373" y="1247"/>
                </a:lnTo>
                <a:lnTo>
                  <a:pt x="377" y="1226"/>
                </a:lnTo>
                <a:lnTo>
                  <a:pt x="382" y="1205"/>
                </a:lnTo>
                <a:lnTo>
                  <a:pt x="384" y="1184"/>
                </a:lnTo>
                <a:lnTo>
                  <a:pt x="386" y="1161"/>
                </a:lnTo>
                <a:lnTo>
                  <a:pt x="386" y="1139"/>
                </a:lnTo>
                <a:lnTo>
                  <a:pt x="388" y="1115"/>
                </a:lnTo>
                <a:lnTo>
                  <a:pt x="388" y="1092"/>
                </a:lnTo>
                <a:lnTo>
                  <a:pt x="390" y="1067"/>
                </a:lnTo>
                <a:lnTo>
                  <a:pt x="390" y="1040"/>
                </a:lnTo>
                <a:lnTo>
                  <a:pt x="388" y="1015"/>
                </a:lnTo>
                <a:lnTo>
                  <a:pt x="388" y="986"/>
                </a:lnTo>
                <a:lnTo>
                  <a:pt x="386" y="959"/>
                </a:lnTo>
                <a:lnTo>
                  <a:pt x="384" y="930"/>
                </a:lnTo>
                <a:lnTo>
                  <a:pt x="382" y="902"/>
                </a:lnTo>
                <a:lnTo>
                  <a:pt x="380" y="871"/>
                </a:lnTo>
                <a:lnTo>
                  <a:pt x="377" y="840"/>
                </a:lnTo>
                <a:lnTo>
                  <a:pt x="375" y="809"/>
                </a:lnTo>
                <a:lnTo>
                  <a:pt x="371" y="779"/>
                </a:lnTo>
                <a:lnTo>
                  <a:pt x="361" y="719"/>
                </a:lnTo>
                <a:lnTo>
                  <a:pt x="350" y="662"/>
                </a:lnTo>
                <a:lnTo>
                  <a:pt x="338" y="606"/>
                </a:lnTo>
                <a:lnTo>
                  <a:pt x="325" y="552"/>
                </a:lnTo>
                <a:lnTo>
                  <a:pt x="311" y="499"/>
                </a:lnTo>
                <a:lnTo>
                  <a:pt x="304" y="474"/>
                </a:lnTo>
                <a:lnTo>
                  <a:pt x="296" y="449"/>
                </a:lnTo>
                <a:lnTo>
                  <a:pt x="288" y="424"/>
                </a:lnTo>
                <a:lnTo>
                  <a:pt x="281" y="399"/>
                </a:lnTo>
                <a:lnTo>
                  <a:pt x="271" y="376"/>
                </a:lnTo>
                <a:lnTo>
                  <a:pt x="263" y="353"/>
                </a:lnTo>
                <a:lnTo>
                  <a:pt x="254" y="332"/>
                </a:lnTo>
                <a:lnTo>
                  <a:pt x="246" y="312"/>
                </a:lnTo>
                <a:lnTo>
                  <a:pt x="236" y="293"/>
                </a:lnTo>
                <a:lnTo>
                  <a:pt x="227" y="274"/>
                </a:lnTo>
                <a:lnTo>
                  <a:pt x="219" y="257"/>
                </a:lnTo>
                <a:lnTo>
                  <a:pt x="210" y="240"/>
                </a:lnTo>
                <a:lnTo>
                  <a:pt x="200" y="224"/>
                </a:lnTo>
                <a:lnTo>
                  <a:pt x="192" y="207"/>
                </a:lnTo>
                <a:lnTo>
                  <a:pt x="183" y="194"/>
                </a:lnTo>
                <a:lnTo>
                  <a:pt x="173" y="178"/>
                </a:lnTo>
                <a:lnTo>
                  <a:pt x="165" y="165"/>
                </a:lnTo>
                <a:lnTo>
                  <a:pt x="156" y="151"/>
                </a:lnTo>
                <a:lnTo>
                  <a:pt x="146" y="140"/>
                </a:lnTo>
                <a:lnTo>
                  <a:pt x="139" y="128"/>
                </a:lnTo>
                <a:lnTo>
                  <a:pt x="129" y="119"/>
                </a:lnTo>
                <a:lnTo>
                  <a:pt x="121" y="109"/>
                </a:lnTo>
                <a:lnTo>
                  <a:pt x="112" y="101"/>
                </a:lnTo>
                <a:lnTo>
                  <a:pt x="104" y="96"/>
                </a:lnTo>
                <a:lnTo>
                  <a:pt x="96" y="88"/>
                </a:lnTo>
                <a:lnTo>
                  <a:pt x="89" y="82"/>
                </a:lnTo>
                <a:lnTo>
                  <a:pt x="83" y="75"/>
                </a:lnTo>
                <a:lnTo>
                  <a:pt x="77" y="69"/>
                </a:lnTo>
                <a:lnTo>
                  <a:pt x="71" y="63"/>
                </a:lnTo>
                <a:lnTo>
                  <a:pt x="68" y="57"/>
                </a:lnTo>
                <a:lnTo>
                  <a:pt x="62" y="52"/>
                </a:lnTo>
                <a:lnTo>
                  <a:pt x="60" y="46"/>
                </a:lnTo>
                <a:lnTo>
                  <a:pt x="56" y="42"/>
                </a:lnTo>
                <a:lnTo>
                  <a:pt x="54" y="36"/>
                </a:lnTo>
                <a:lnTo>
                  <a:pt x="52" y="32"/>
                </a:lnTo>
                <a:lnTo>
                  <a:pt x="50" y="29"/>
                </a:lnTo>
                <a:lnTo>
                  <a:pt x="48" y="27"/>
                </a:lnTo>
                <a:lnTo>
                  <a:pt x="48" y="23"/>
                </a:lnTo>
                <a:lnTo>
                  <a:pt x="48" y="21"/>
                </a:lnTo>
                <a:lnTo>
                  <a:pt x="50" y="19"/>
                </a:lnTo>
                <a:lnTo>
                  <a:pt x="52" y="17"/>
                </a:lnTo>
                <a:lnTo>
                  <a:pt x="54" y="15"/>
                </a:lnTo>
                <a:lnTo>
                  <a:pt x="56" y="13"/>
                </a:lnTo>
                <a:lnTo>
                  <a:pt x="60" y="9"/>
                </a:lnTo>
                <a:lnTo>
                  <a:pt x="62" y="7"/>
                </a:lnTo>
                <a:lnTo>
                  <a:pt x="68" y="7"/>
                </a:lnTo>
                <a:lnTo>
                  <a:pt x="71" y="5"/>
                </a:lnTo>
                <a:lnTo>
                  <a:pt x="77" y="4"/>
                </a:lnTo>
                <a:lnTo>
                  <a:pt x="83" y="2"/>
                </a:lnTo>
                <a:lnTo>
                  <a:pt x="89" y="2"/>
                </a:lnTo>
                <a:lnTo>
                  <a:pt x="96" y="0"/>
                </a:lnTo>
                <a:lnTo>
                  <a:pt x="104" y="0"/>
                </a:lnTo>
                <a:lnTo>
                  <a:pt x="112" y="0"/>
                </a:lnTo>
                <a:lnTo>
                  <a:pt x="121" y="0"/>
                </a:lnTo>
                <a:lnTo>
                  <a:pt x="135" y="0"/>
                </a:lnTo>
                <a:lnTo>
                  <a:pt x="148" y="2"/>
                </a:lnTo>
                <a:lnTo>
                  <a:pt x="165" y="4"/>
                </a:lnTo>
                <a:lnTo>
                  <a:pt x="181" y="7"/>
                </a:lnTo>
                <a:lnTo>
                  <a:pt x="198" y="9"/>
                </a:lnTo>
                <a:lnTo>
                  <a:pt x="215" y="15"/>
                </a:lnTo>
                <a:lnTo>
                  <a:pt x="252" y="23"/>
                </a:lnTo>
                <a:lnTo>
                  <a:pt x="263" y="32"/>
                </a:lnTo>
                <a:lnTo>
                  <a:pt x="277" y="42"/>
                </a:lnTo>
                <a:lnTo>
                  <a:pt x="290" y="52"/>
                </a:lnTo>
                <a:lnTo>
                  <a:pt x="302" y="61"/>
                </a:lnTo>
                <a:lnTo>
                  <a:pt x="311" y="73"/>
                </a:lnTo>
                <a:lnTo>
                  <a:pt x="321" y="84"/>
                </a:lnTo>
                <a:lnTo>
                  <a:pt x="325" y="90"/>
                </a:lnTo>
                <a:lnTo>
                  <a:pt x="329" y="96"/>
                </a:lnTo>
                <a:lnTo>
                  <a:pt x="332" y="101"/>
                </a:lnTo>
                <a:lnTo>
                  <a:pt x="334" y="109"/>
                </a:lnTo>
                <a:lnTo>
                  <a:pt x="352" y="163"/>
                </a:lnTo>
                <a:lnTo>
                  <a:pt x="371" y="218"/>
                </a:lnTo>
                <a:lnTo>
                  <a:pt x="371" y="226"/>
                </a:lnTo>
                <a:lnTo>
                  <a:pt x="371" y="236"/>
                </a:lnTo>
                <a:lnTo>
                  <a:pt x="371" y="243"/>
                </a:lnTo>
                <a:lnTo>
                  <a:pt x="373" y="251"/>
                </a:lnTo>
                <a:lnTo>
                  <a:pt x="373" y="257"/>
                </a:lnTo>
                <a:lnTo>
                  <a:pt x="375" y="263"/>
                </a:lnTo>
                <a:lnTo>
                  <a:pt x="377" y="274"/>
                </a:lnTo>
                <a:lnTo>
                  <a:pt x="380" y="284"/>
                </a:lnTo>
                <a:lnTo>
                  <a:pt x="384" y="291"/>
                </a:lnTo>
                <a:lnTo>
                  <a:pt x="390" y="299"/>
                </a:lnTo>
                <a:lnTo>
                  <a:pt x="394" y="303"/>
                </a:lnTo>
                <a:lnTo>
                  <a:pt x="396" y="307"/>
                </a:lnTo>
                <a:lnTo>
                  <a:pt x="400" y="311"/>
                </a:lnTo>
                <a:lnTo>
                  <a:pt x="402" y="316"/>
                </a:lnTo>
                <a:lnTo>
                  <a:pt x="405" y="322"/>
                </a:lnTo>
                <a:lnTo>
                  <a:pt x="409" y="330"/>
                </a:lnTo>
                <a:lnTo>
                  <a:pt x="413" y="337"/>
                </a:lnTo>
                <a:lnTo>
                  <a:pt x="417" y="347"/>
                </a:lnTo>
                <a:lnTo>
                  <a:pt x="421" y="359"/>
                </a:lnTo>
                <a:lnTo>
                  <a:pt x="425" y="370"/>
                </a:lnTo>
                <a:lnTo>
                  <a:pt x="430" y="383"/>
                </a:lnTo>
                <a:lnTo>
                  <a:pt x="436" y="397"/>
                </a:lnTo>
                <a:lnTo>
                  <a:pt x="440" y="412"/>
                </a:lnTo>
                <a:lnTo>
                  <a:pt x="446" y="430"/>
                </a:lnTo>
                <a:lnTo>
                  <a:pt x="451" y="447"/>
                </a:lnTo>
                <a:lnTo>
                  <a:pt x="459" y="466"/>
                </a:lnTo>
                <a:lnTo>
                  <a:pt x="465" y="487"/>
                </a:lnTo>
                <a:lnTo>
                  <a:pt x="478" y="527"/>
                </a:lnTo>
                <a:lnTo>
                  <a:pt x="490" y="572"/>
                </a:lnTo>
                <a:lnTo>
                  <a:pt x="496" y="593"/>
                </a:lnTo>
                <a:lnTo>
                  <a:pt x="501" y="616"/>
                </a:lnTo>
                <a:lnTo>
                  <a:pt x="505" y="639"/>
                </a:lnTo>
                <a:lnTo>
                  <a:pt x="511" y="662"/>
                </a:lnTo>
                <a:lnTo>
                  <a:pt x="517" y="687"/>
                </a:lnTo>
                <a:lnTo>
                  <a:pt x="521" y="712"/>
                </a:lnTo>
                <a:lnTo>
                  <a:pt x="526" y="737"/>
                </a:lnTo>
                <a:lnTo>
                  <a:pt x="530" y="763"/>
                </a:lnTo>
                <a:lnTo>
                  <a:pt x="534" y="790"/>
                </a:lnTo>
                <a:lnTo>
                  <a:pt x="540" y="817"/>
                </a:lnTo>
                <a:lnTo>
                  <a:pt x="544" y="846"/>
                </a:lnTo>
                <a:lnTo>
                  <a:pt x="547" y="877"/>
                </a:lnTo>
                <a:lnTo>
                  <a:pt x="551" y="934"/>
                </a:lnTo>
                <a:lnTo>
                  <a:pt x="555" y="992"/>
                </a:lnTo>
                <a:lnTo>
                  <a:pt x="555" y="1049"/>
                </a:lnTo>
                <a:lnTo>
                  <a:pt x="555" y="1107"/>
                </a:lnTo>
                <a:lnTo>
                  <a:pt x="553" y="1164"/>
                </a:lnTo>
                <a:lnTo>
                  <a:pt x="549" y="1222"/>
                </a:lnTo>
                <a:lnTo>
                  <a:pt x="547" y="1251"/>
                </a:lnTo>
                <a:lnTo>
                  <a:pt x="544" y="1280"/>
                </a:lnTo>
                <a:lnTo>
                  <a:pt x="540" y="1308"/>
                </a:lnTo>
                <a:lnTo>
                  <a:pt x="536" y="13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8"/>
          <p:cNvSpPr/>
          <p:nvPr/>
        </p:nvSpPr>
        <p:spPr>
          <a:xfrm>
            <a:off x="5630760" y="3713040"/>
            <a:ext cx="1897200" cy="406440"/>
          </a:xfrm>
          <a:custGeom>
            <a:avLst/>
            <a:gdLst/>
            <a:ahLst/>
            <a:rect l="l" t="t" r="r" b="b"/>
            <a:pathLst>
              <a:path w="2390" h="512">
                <a:moveTo>
                  <a:pt x="2023" y="36"/>
                </a:moveTo>
                <a:lnTo>
                  <a:pt x="2035" y="27"/>
                </a:lnTo>
                <a:lnTo>
                  <a:pt x="2046" y="19"/>
                </a:lnTo>
                <a:lnTo>
                  <a:pt x="2058" y="13"/>
                </a:lnTo>
                <a:lnTo>
                  <a:pt x="2067" y="7"/>
                </a:lnTo>
                <a:lnTo>
                  <a:pt x="2077" y="3"/>
                </a:lnTo>
                <a:lnTo>
                  <a:pt x="2086" y="2"/>
                </a:lnTo>
                <a:lnTo>
                  <a:pt x="2096" y="0"/>
                </a:lnTo>
                <a:lnTo>
                  <a:pt x="2106" y="0"/>
                </a:lnTo>
                <a:lnTo>
                  <a:pt x="2109" y="2"/>
                </a:lnTo>
                <a:lnTo>
                  <a:pt x="2115" y="5"/>
                </a:lnTo>
                <a:lnTo>
                  <a:pt x="2123" y="9"/>
                </a:lnTo>
                <a:lnTo>
                  <a:pt x="2129" y="13"/>
                </a:lnTo>
                <a:lnTo>
                  <a:pt x="2138" y="19"/>
                </a:lnTo>
                <a:lnTo>
                  <a:pt x="2146" y="25"/>
                </a:lnTo>
                <a:lnTo>
                  <a:pt x="2155" y="30"/>
                </a:lnTo>
                <a:lnTo>
                  <a:pt x="2167" y="38"/>
                </a:lnTo>
                <a:lnTo>
                  <a:pt x="2177" y="48"/>
                </a:lnTo>
                <a:lnTo>
                  <a:pt x="2188" y="55"/>
                </a:lnTo>
                <a:lnTo>
                  <a:pt x="2202" y="67"/>
                </a:lnTo>
                <a:lnTo>
                  <a:pt x="2213" y="78"/>
                </a:lnTo>
                <a:lnTo>
                  <a:pt x="2227" y="90"/>
                </a:lnTo>
                <a:lnTo>
                  <a:pt x="2242" y="103"/>
                </a:lnTo>
                <a:lnTo>
                  <a:pt x="2255" y="117"/>
                </a:lnTo>
                <a:lnTo>
                  <a:pt x="2271" y="134"/>
                </a:lnTo>
                <a:lnTo>
                  <a:pt x="2286" y="149"/>
                </a:lnTo>
                <a:lnTo>
                  <a:pt x="2299" y="163"/>
                </a:lnTo>
                <a:lnTo>
                  <a:pt x="2313" y="178"/>
                </a:lnTo>
                <a:lnTo>
                  <a:pt x="2324" y="190"/>
                </a:lnTo>
                <a:lnTo>
                  <a:pt x="2336" y="203"/>
                </a:lnTo>
                <a:lnTo>
                  <a:pt x="2346" y="215"/>
                </a:lnTo>
                <a:lnTo>
                  <a:pt x="2353" y="226"/>
                </a:lnTo>
                <a:lnTo>
                  <a:pt x="2361" y="236"/>
                </a:lnTo>
                <a:lnTo>
                  <a:pt x="2369" y="245"/>
                </a:lnTo>
                <a:lnTo>
                  <a:pt x="2374" y="253"/>
                </a:lnTo>
                <a:lnTo>
                  <a:pt x="2380" y="261"/>
                </a:lnTo>
                <a:lnTo>
                  <a:pt x="2384" y="268"/>
                </a:lnTo>
                <a:lnTo>
                  <a:pt x="2386" y="276"/>
                </a:lnTo>
                <a:lnTo>
                  <a:pt x="2388" y="282"/>
                </a:lnTo>
                <a:lnTo>
                  <a:pt x="2390" y="286"/>
                </a:lnTo>
                <a:lnTo>
                  <a:pt x="2390" y="291"/>
                </a:lnTo>
                <a:lnTo>
                  <a:pt x="2390" y="295"/>
                </a:lnTo>
                <a:lnTo>
                  <a:pt x="2390" y="299"/>
                </a:lnTo>
                <a:lnTo>
                  <a:pt x="2388" y="305"/>
                </a:lnTo>
                <a:lnTo>
                  <a:pt x="2386" y="307"/>
                </a:lnTo>
                <a:lnTo>
                  <a:pt x="2382" y="310"/>
                </a:lnTo>
                <a:lnTo>
                  <a:pt x="2380" y="314"/>
                </a:lnTo>
                <a:lnTo>
                  <a:pt x="2376" y="316"/>
                </a:lnTo>
                <a:lnTo>
                  <a:pt x="2370" y="318"/>
                </a:lnTo>
                <a:lnTo>
                  <a:pt x="2365" y="320"/>
                </a:lnTo>
                <a:lnTo>
                  <a:pt x="2359" y="322"/>
                </a:lnTo>
                <a:lnTo>
                  <a:pt x="2353" y="324"/>
                </a:lnTo>
                <a:lnTo>
                  <a:pt x="2346" y="326"/>
                </a:lnTo>
                <a:lnTo>
                  <a:pt x="2338" y="326"/>
                </a:lnTo>
                <a:lnTo>
                  <a:pt x="2328" y="328"/>
                </a:lnTo>
                <a:lnTo>
                  <a:pt x="2319" y="328"/>
                </a:lnTo>
                <a:lnTo>
                  <a:pt x="2307" y="328"/>
                </a:lnTo>
                <a:lnTo>
                  <a:pt x="2296" y="328"/>
                </a:lnTo>
                <a:lnTo>
                  <a:pt x="2284" y="330"/>
                </a:lnTo>
                <a:lnTo>
                  <a:pt x="2271" y="332"/>
                </a:lnTo>
                <a:lnTo>
                  <a:pt x="2257" y="334"/>
                </a:lnTo>
                <a:lnTo>
                  <a:pt x="2244" y="337"/>
                </a:lnTo>
                <a:lnTo>
                  <a:pt x="2230" y="343"/>
                </a:lnTo>
                <a:lnTo>
                  <a:pt x="2215" y="347"/>
                </a:lnTo>
                <a:lnTo>
                  <a:pt x="2200" y="353"/>
                </a:lnTo>
                <a:lnTo>
                  <a:pt x="2184" y="360"/>
                </a:lnTo>
                <a:lnTo>
                  <a:pt x="2167" y="368"/>
                </a:lnTo>
                <a:lnTo>
                  <a:pt x="2150" y="376"/>
                </a:lnTo>
                <a:lnTo>
                  <a:pt x="2132" y="383"/>
                </a:lnTo>
                <a:lnTo>
                  <a:pt x="2115" y="393"/>
                </a:lnTo>
                <a:lnTo>
                  <a:pt x="2096" y="403"/>
                </a:lnTo>
                <a:lnTo>
                  <a:pt x="2077" y="414"/>
                </a:lnTo>
                <a:lnTo>
                  <a:pt x="2058" y="426"/>
                </a:lnTo>
                <a:lnTo>
                  <a:pt x="2038" y="437"/>
                </a:lnTo>
                <a:lnTo>
                  <a:pt x="2019" y="447"/>
                </a:lnTo>
                <a:lnTo>
                  <a:pt x="2002" y="456"/>
                </a:lnTo>
                <a:lnTo>
                  <a:pt x="1987" y="466"/>
                </a:lnTo>
                <a:lnTo>
                  <a:pt x="1971" y="476"/>
                </a:lnTo>
                <a:lnTo>
                  <a:pt x="1958" y="483"/>
                </a:lnTo>
                <a:lnTo>
                  <a:pt x="1944" y="489"/>
                </a:lnTo>
                <a:lnTo>
                  <a:pt x="1933" y="495"/>
                </a:lnTo>
                <a:lnTo>
                  <a:pt x="1923" y="500"/>
                </a:lnTo>
                <a:lnTo>
                  <a:pt x="1914" y="504"/>
                </a:lnTo>
                <a:lnTo>
                  <a:pt x="1904" y="508"/>
                </a:lnTo>
                <a:lnTo>
                  <a:pt x="1896" y="510"/>
                </a:lnTo>
                <a:lnTo>
                  <a:pt x="1891" y="512"/>
                </a:lnTo>
                <a:lnTo>
                  <a:pt x="1887" y="512"/>
                </a:lnTo>
                <a:lnTo>
                  <a:pt x="1881" y="512"/>
                </a:lnTo>
                <a:lnTo>
                  <a:pt x="1879" y="510"/>
                </a:lnTo>
                <a:lnTo>
                  <a:pt x="1877" y="508"/>
                </a:lnTo>
                <a:lnTo>
                  <a:pt x="1877" y="504"/>
                </a:lnTo>
                <a:lnTo>
                  <a:pt x="1877" y="500"/>
                </a:lnTo>
                <a:lnTo>
                  <a:pt x="1879" y="495"/>
                </a:lnTo>
                <a:lnTo>
                  <a:pt x="1881" y="489"/>
                </a:lnTo>
                <a:lnTo>
                  <a:pt x="1885" y="481"/>
                </a:lnTo>
                <a:lnTo>
                  <a:pt x="1889" y="474"/>
                </a:lnTo>
                <a:lnTo>
                  <a:pt x="1894" y="464"/>
                </a:lnTo>
                <a:lnTo>
                  <a:pt x="1900" y="456"/>
                </a:lnTo>
                <a:lnTo>
                  <a:pt x="1908" y="445"/>
                </a:lnTo>
                <a:lnTo>
                  <a:pt x="1916" y="433"/>
                </a:lnTo>
                <a:lnTo>
                  <a:pt x="1923" y="422"/>
                </a:lnTo>
                <a:lnTo>
                  <a:pt x="1933" y="408"/>
                </a:lnTo>
                <a:lnTo>
                  <a:pt x="1942" y="395"/>
                </a:lnTo>
                <a:lnTo>
                  <a:pt x="1952" y="380"/>
                </a:lnTo>
                <a:lnTo>
                  <a:pt x="1964" y="364"/>
                </a:lnTo>
                <a:lnTo>
                  <a:pt x="1973" y="349"/>
                </a:lnTo>
                <a:lnTo>
                  <a:pt x="1983" y="334"/>
                </a:lnTo>
                <a:lnTo>
                  <a:pt x="1990" y="320"/>
                </a:lnTo>
                <a:lnTo>
                  <a:pt x="1998" y="307"/>
                </a:lnTo>
                <a:lnTo>
                  <a:pt x="2004" y="295"/>
                </a:lnTo>
                <a:lnTo>
                  <a:pt x="2010" y="284"/>
                </a:lnTo>
                <a:lnTo>
                  <a:pt x="2015" y="272"/>
                </a:lnTo>
                <a:lnTo>
                  <a:pt x="2019" y="263"/>
                </a:lnTo>
                <a:lnTo>
                  <a:pt x="2021" y="253"/>
                </a:lnTo>
                <a:lnTo>
                  <a:pt x="2023" y="243"/>
                </a:lnTo>
                <a:lnTo>
                  <a:pt x="2025" y="236"/>
                </a:lnTo>
                <a:lnTo>
                  <a:pt x="2025" y="230"/>
                </a:lnTo>
                <a:lnTo>
                  <a:pt x="2027" y="222"/>
                </a:lnTo>
                <a:lnTo>
                  <a:pt x="2025" y="216"/>
                </a:lnTo>
                <a:lnTo>
                  <a:pt x="2023" y="211"/>
                </a:lnTo>
                <a:lnTo>
                  <a:pt x="2023" y="207"/>
                </a:lnTo>
                <a:lnTo>
                  <a:pt x="2019" y="203"/>
                </a:lnTo>
                <a:lnTo>
                  <a:pt x="2015" y="201"/>
                </a:lnTo>
                <a:lnTo>
                  <a:pt x="2011" y="199"/>
                </a:lnTo>
                <a:lnTo>
                  <a:pt x="2008" y="197"/>
                </a:lnTo>
                <a:lnTo>
                  <a:pt x="2002" y="195"/>
                </a:lnTo>
                <a:lnTo>
                  <a:pt x="1994" y="193"/>
                </a:lnTo>
                <a:lnTo>
                  <a:pt x="1988" y="192"/>
                </a:lnTo>
                <a:lnTo>
                  <a:pt x="1981" y="190"/>
                </a:lnTo>
                <a:lnTo>
                  <a:pt x="1973" y="188"/>
                </a:lnTo>
                <a:lnTo>
                  <a:pt x="1964" y="186"/>
                </a:lnTo>
                <a:lnTo>
                  <a:pt x="1954" y="184"/>
                </a:lnTo>
                <a:lnTo>
                  <a:pt x="1944" y="184"/>
                </a:lnTo>
                <a:lnTo>
                  <a:pt x="1925" y="182"/>
                </a:lnTo>
                <a:lnTo>
                  <a:pt x="1904" y="182"/>
                </a:lnTo>
                <a:lnTo>
                  <a:pt x="1896" y="182"/>
                </a:lnTo>
                <a:lnTo>
                  <a:pt x="1889" y="182"/>
                </a:lnTo>
                <a:lnTo>
                  <a:pt x="1881" y="182"/>
                </a:lnTo>
                <a:lnTo>
                  <a:pt x="1873" y="182"/>
                </a:lnTo>
                <a:lnTo>
                  <a:pt x="1864" y="184"/>
                </a:lnTo>
                <a:lnTo>
                  <a:pt x="1854" y="184"/>
                </a:lnTo>
                <a:lnTo>
                  <a:pt x="1844" y="186"/>
                </a:lnTo>
                <a:lnTo>
                  <a:pt x="1833" y="186"/>
                </a:lnTo>
                <a:lnTo>
                  <a:pt x="1823" y="188"/>
                </a:lnTo>
                <a:lnTo>
                  <a:pt x="1812" y="188"/>
                </a:lnTo>
                <a:lnTo>
                  <a:pt x="1800" y="190"/>
                </a:lnTo>
                <a:lnTo>
                  <a:pt x="1787" y="192"/>
                </a:lnTo>
                <a:lnTo>
                  <a:pt x="1773" y="193"/>
                </a:lnTo>
                <a:lnTo>
                  <a:pt x="1760" y="193"/>
                </a:lnTo>
                <a:lnTo>
                  <a:pt x="1747" y="195"/>
                </a:lnTo>
                <a:lnTo>
                  <a:pt x="1731" y="197"/>
                </a:lnTo>
                <a:lnTo>
                  <a:pt x="1718" y="199"/>
                </a:lnTo>
                <a:lnTo>
                  <a:pt x="1701" y="203"/>
                </a:lnTo>
                <a:lnTo>
                  <a:pt x="1685" y="205"/>
                </a:lnTo>
                <a:lnTo>
                  <a:pt x="1668" y="207"/>
                </a:lnTo>
                <a:lnTo>
                  <a:pt x="1653" y="209"/>
                </a:lnTo>
                <a:lnTo>
                  <a:pt x="1633" y="213"/>
                </a:lnTo>
                <a:lnTo>
                  <a:pt x="1616" y="215"/>
                </a:lnTo>
                <a:lnTo>
                  <a:pt x="1597" y="216"/>
                </a:lnTo>
                <a:lnTo>
                  <a:pt x="1578" y="220"/>
                </a:lnTo>
                <a:lnTo>
                  <a:pt x="1558" y="222"/>
                </a:lnTo>
                <a:lnTo>
                  <a:pt x="1537" y="226"/>
                </a:lnTo>
                <a:lnTo>
                  <a:pt x="1516" y="230"/>
                </a:lnTo>
                <a:lnTo>
                  <a:pt x="1495" y="232"/>
                </a:lnTo>
                <a:lnTo>
                  <a:pt x="1474" y="236"/>
                </a:lnTo>
                <a:lnTo>
                  <a:pt x="1451" y="239"/>
                </a:lnTo>
                <a:lnTo>
                  <a:pt x="1428" y="243"/>
                </a:lnTo>
                <a:lnTo>
                  <a:pt x="1334" y="261"/>
                </a:lnTo>
                <a:lnTo>
                  <a:pt x="1240" y="280"/>
                </a:lnTo>
                <a:lnTo>
                  <a:pt x="1146" y="297"/>
                </a:lnTo>
                <a:lnTo>
                  <a:pt x="1050" y="316"/>
                </a:lnTo>
                <a:lnTo>
                  <a:pt x="954" y="334"/>
                </a:lnTo>
                <a:lnTo>
                  <a:pt x="856" y="353"/>
                </a:lnTo>
                <a:lnTo>
                  <a:pt x="756" y="370"/>
                </a:lnTo>
                <a:lnTo>
                  <a:pt x="706" y="380"/>
                </a:lnTo>
                <a:lnTo>
                  <a:pt x="654" y="389"/>
                </a:lnTo>
                <a:lnTo>
                  <a:pt x="629" y="395"/>
                </a:lnTo>
                <a:lnTo>
                  <a:pt x="604" y="401"/>
                </a:lnTo>
                <a:lnTo>
                  <a:pt x="581" y="405"/>
                </a:lnTo>
                <a:lnTo>
                  <a:pt x="558" y="410"/>
                </a:lnTo>
                <a:lnTo>
                  <a:pt x="535" y="414"/>
                </a:lnTo>
                <a:lnTo>
                  <a:pt x="514" y="420"/>
                </a:lnTo>
                <a:lnTo>
                  <a:pt x="493" y="424"/>
                </a:lnTo>
                <a:lnTo>
                  <a:pt x="472" y="428"/>
                </a:lnTo>
                <a:lnTo>
                  <a:pt x="453" y="431"/>
                </a:lnTo>
                <a:lnTo>
                  <a:pt x="433" y="435"/>
                </a:lnTo>
                <a:lnTo>
                  <a:pt x="416" y="439"/>
                </a:lnTo>
                <a:lnTo>
                  <a:pt x="399" y="443"/>
                </a:lnTo>
                <a:lnTo>
                  <a:pt x="382" y="447"/>
                </a:lnTo>
                <a:lnTo>
                  <a:pt x="366" y="449"/>
                </a:lnTo>
                <a:lnTo>
                  <a:pt x="351" y="452"/>
                </a:lnTo>
                <a:lnTo>
                  <a:pt x="338" y="454"/>
                </a:lnTo>
                <a:lnTo>
                  <a:pt x="324" y="456"/>
                </a:lnTo>
                <a:lnTo>
                  <a:pt x="311" y="460"/>
                </a:lnTo>
                <a:lnTo>
                  <a:pt x="299" y="462"/>
                </a:lnTo>
                <a:lnTo>
                  <a:pt x="288" y="464"/>
                </a:lnTo>
                <a:lnTo>
                  <a:pt x="278" y="466"/>
                </a:lnTo>
                <a:lnTo>
                  <a:pt x="268" y="466"/>
                </a:lnTo>
                <a:lnTo>
                  <a:pt x="259" y="468"/>
                </a:lnTo>
                <a:lnTo>
                  <a:pt x="251" y="470"/>
                </a:lnTo>
                <a:lnTo>
                  <a:pt x="243" y="470"/>
                </a:lnTo>
                <a:lnTo>
                  <a:pt x="238" y="472"/>
                </a:lnTo>
                <a:lnTo>
                  <a:pt x="232" y="472"/>
                </a:lnTo>
                <a:lnTo>
                  <a:pt x="226" y="474"/>
                </a:lnTo>
                <a:lnTo>
                  <a:pt x="222" y="474"/>
                </a:lnTo>
                <a:lnTo>
                  <a:pt x="218" y="474"/>
                </a:lnTo>
                <a:lnTo>
                  <a:pt x="217" y="474"/>
                </a:lnTo>
                <a:lnTo>
                  <a:pt x="215" y="474"/>
                </a:lnTo>
                <a:lnTo>
                  <a:pt x="205" y="474"/>
                </a:lnTo>
                <a:lnTo>
                  <a:pt x="195" y="472"/>
                </a:lnTo>
                <a:lnTo>
                  <a:pt x="182" y="470"/>
                </a:lnTo>
                <a:lnTo>
                  <a:pt x="169" y="466"/>
                </a:lnTo>
                <a:lnTo>
                  <a:pt x="153" y="460"/>
                </a:lnTo>
                <a:lnTo>
                  <a:pt x="146" y="456"/>
                </a:lnTo>
                <a:lnTo>
                  <a:pt x="136" y="454"/>
                </a:lnTo>
                <a:lnTo>
                  <a:pt x="126" y="451"/>
                </a:lnTo>
                <a:lnTo>
                  <a:pt x="117" y="447"/>
                </a:lnTo>
                <a:lnTo>
                  <a:pt x="107" y="441"/>
                </a:lnTo>
                <a:lnTo>
                  <a:pt x="96" y="437"/>
                </a:lnTo>
                <a:lnTo>
                  <a:pt x="86" y="435"/>
                </a:lnTo>
                <a:lnTo>
                  <a:pt x="75" y="431"/>
                </a:lnTo>
                <a:lnTo>
                  <a:pt x="65" y="429"/>
                </a:lnTo>
                <a:lnTo>
                  <a:pt x="55" y="426"/>
                </a:lnTo>
                <a:lnTo>
                  <a:pt x="48" y="424"/>
                </a:lnTo>
                <a:lnTo>
                  <a:pt x="40" y="420"/>
                </a:lnTo>
                <a:lnTo>
                  <a:pt x="32" y="416"/>
                </a:lnTo>
                <a:lnTo>
                  <a:pt x="27" y="412"/>
                </a:lnTo>
                <a:lnTo>
                  <a:pt x="21" y="410"/>
                </a:lnTo>
                <a:lnTo>
                  <a:pt x="15" y="406"/>
                </a:lnTo>
                <a:lnTo>
                  <a:pt x="11" y="403"/>
                </a:lnTo>
                <a:lnTo>
                  <a:pt x="7" y="399"/>
                </a:lnTo>
                <a:lnTo>
                  <a:pt x="5" y="397"/>
                </a:lnTo>
                <a:lnTo>
                  <a:pt x="3" y="393"/>
                </a:lnTo>
                <a:lnTo>
                  <a:pt x="2" y="391"/>
                </a:lnTo>
                <a:lnTo>
                  <a:pt x="2" y="389"/>
                </a:lnTo>
                <a:lnTo>
                  <a:pt x="0" y="387"/>
                </a:lnTo>
                <a:lnTo>
                  <a:pt x="0" y="385"/>
                </a:lnTo>
                <a:lnTo>
                  <a:pt x="2" y="385"/>
                </a:lnTo>
                <a:lnTo>
                  <a:pt x="2" y="383"/>
                </a:lnTo>
                <a:lnTo>
                  <a:pt x="3" y="381"/>
                </a:lnTo>
                <a:lnTo>
                  <a:pt x="5" y="381"/>
                </a:lnTo>
                <a:lnTo>
                  <a:pt x="9" y="380"/>
                </a:lnTo>
                <a:lnTo>
                  <a:pt x="11" y="378"/>
                </a:lnTo>
                <a:lnTo>
                  <a:pt x="17" y="376"/>
                </a:lnTo>
                <a:lnTo>
                  <a:pt x="21" y="374"/>
                </a:lnTo>
                <a:lnTo>
                  <a:pt x="27" y="372"/>
                </a:lnTo>
                <a:lnTo>
                  <a:pt x="32" y="370"/>
                </a:lnTo>
                <a:lnTo>
                  <a:pt x="38" y="368"/>
                </a:lnTo>
                <a:lnTo>
                  <a:pt x="46" y="366"/>
                </a:lnTo>
                <a:lnTo>
                  <a:pt x="53" y="364"/>
                </a:lnTo>
                <a:lnTo>
                  <a:pt x="61" y="362"/>
                </a:lnTo>
                <a:lnTo>
                  <a:pt x="69" y="360"/>
                </a:lnTo>
                <a:lnTo>
                  <a:pt x="78" y="358"/>
                </a:lnTo>
                <a:lnTo>
                  <a:pt x="88" y="357"/>
                </a:lnTo>
                <a:lnTo>
                  <a:pt x="99" y="355"/>
                </a:lnTo>
                <a:lnTo>
                  <a:pt x="109" y="353"/>
                </a:lnTo>
                <a:lnTo>
                  <a:pt x="121" y="351"/>
                </a:lnTo>
                <a:lnTo>
                  <a:pt x="132" y="349"/>
                </a:lnTo>
                <a:lnTo>
                  <a:pt x="146" y="347"/>
                </a:lnTo>
                <a:lnTo>
                  <a:pt x="157" y="343"/>
                </a:lnTo>
                <a:lnTo>
                  <a:pt x="171" y="341"/>
                </a:lnTo>
                <a:lnTo>
                  <a:pt x="186" y="339"/>
                </a:lnTo>
                <a:lnTo>
                  <a:pt x="199" y="337"/>
                </a:lnTo>
                <a:lnTo>
                  <a:pt x="215" y="335"/>
                </a:lnTo>
                <a:lnTo>
                  <a:pt x="230" y="332"/>
                </a:lnTo>
                <a:lnTo>
                  <a:pt x="245" y="330"/>
                </a:lnTo>
                <a:lnTo>
                  <a:pt x="263" y="328"/>
                </a:lnTo>
                <a:lnTo>
                  <a:pt x="295" y="324"/>
                </a:lnTo>
                <a:lnTo>
                  <a:pt x="328" y="318"/>
                </a:lnTo>
                <a:lnTo>
                  <a:pt x="393" y="309"/>
                </a:lnTo>
                <a:lnTo>
                  <a:pt x="455" y="301"/>
                </a:lnTo>
                <a:lnTo>
                  <a:pt x="516" y="291"/>
                </a:lnTo>
                <a:lnTo>
                  <a:pt x="576" y="282"/>
                </a:lnTo>
                <a:lnTo>
                  <a:pt x="633" y="274"/>
                </a:lnTo>
                <a:lnTo>
                  <a:pt x="693" y="264"/>
                </a:lnTo>
                <a:lnTo>
                  <a:pt x="750" y="255"/>
                </a:lnTo>
                <a:lnTo>
                  <a:pt x="764" y="253"/>
                </a:lnTo>
                <a:lnTo>
                  <a:pt x="779" y="251"/>
                </a:lnTo>
                <a:lnTo>
                  <a:pt x="796" y="247"/>
                </a:lnTo>
                <a:lnTo>
                  <a:pt x="812" y="245"/>
                </a:lnTo>
                <a:lnTo>
                  <a:pt x="829" y="243"/>
                </a:lnTo>
                <a:lnTo>
                  <a:pt x="846" y="239"/>
                </a:lnTo>
                <a:lnTo>
                  <a:pt x="864" y="238"/>
                </a:lnTo>
                <a:lnTo>
                  <a:pt x="881" y="234"/>
                </a:lnTo>
                <a:lnTo>
                  <a:pt x="900" y="232"/>
                </a:lnTo>
                <a:lnTo>
                  <a:pt x="919" y="228"/>
                </a:lnTo>
                <a:lnTo>
                  <a:pt x="938" y="224"/>
                </a:lnTo>
                <a:lnTo>
                  <a:pt x="959" y="222"/>
                </a:lnTo>
                <a:lnTo>
                  <a:pt x="981" y="218"/>
                </a:lnTo>
                <a:lnTo>
                  <a:pt x="1002" y="215"/>
                </a:lnTo>
                <a:lnTo>
                  <a:pt x="1023" y="211"/>
                </a:lnTo>
                <a:lnTo>
                  <a:pt x="1046" y="207"/>
                </a:lnTo>
                <a:lnTo>
                  <a:pt x="1069" y="205"/>
                </a:lnTo>
                <a:lnTo>
                  <a:pt x="1092" y="201"/>
                </a:lnTo>
                <a:lnTo>
                  <a:pt x="1115" y="195"/>
                </a:lnTo>
                <a:lnTo>
                  <a:pt x="1140" y="192"/>
                </a:lnTo>
                <a:lnTo>
                  <a:pt x="1165" y="188"/>
                </a:lnTo>
                <a:lnTo>
                  <a:pt x="1190" y="184"/>
                </a:lnTo>
                <a:lnTo>
                  <a:pt x="1217" y="180"/>
                </a:lnTo>
                <a:lnTo>
                  <a:pt x="1244" y="174"/>
                </a:lnTo>
                <a:lnTo>
                  <a:pt x="1270" y="170"/>
                </a:lnTo>
                <a:lnTo>
                  <a:pt x="1297" y="165"/>
                </a:lnTo>
                <a:lnTo>
                  <a:pt x="1326" y="161"/>
                </a:lnTo>
                <a:lnTo>
                  <a:pt x="1355" y="155"/>
                </a:lnTo>
                <a:lnTo>
                  <a:pt x="1384" y="149"/>
                </a:lnTo>
                <a:lnTo>
                  <a:pt x="1414" y="144"/>
                </a:lnTo>
                <a:lnTo>
                  <a:pt x="1443" y="140"/>
                </a:lnTo>
                <a:lnTo>
                  <a:pt x="1476" y="134"/>
                </a:lnTo>
                <a:lnTo>
                  <a:pt x="1507" y="128"/>
                </a:lnTo>
                <a:lnTo>
                  <a:pt x="1535" y="124"/>
                </a:lnTo>
                <a:lnTo>
                  <a:pt x="1564" y="119"/>
                </a:lnTo>
                <a:lnTo>
                  <a:pt x="1593" y="115"/>
                </a:lnTo>
                <a:lnTo>
                  <a:pt x="1620" y="111"/>
                </a:lnTo>
                <a:lnTo>
                  <a:pt x="1647" y="107"/>
                </a:lnTo>
                <a:lnTo>
                  <a:pt x="1672" y="103"/>
                </a:lnTo>
                <a:lnTo>
                  <a:pt x="1697" y="99"/>
                </a:lnTo>
                <a:lnTo>
                  <a:pt x="1720" y="96"/>
                </a:lnTo>
                <a:lnTo>
                  <a:pt x="1743" y="92"/>
                </a:lnTo>
                <a:lnTo>
                  <a:pt x="1764" y="88"/>
                </a:lnTo>
                <a:lnTo>
                  <a:pt x="1785" y="84"/>
                </a:lnTo>
                <a:lnTo>
                  <a:pt x="1804" y="80"/>
                </a:lnTo>
                <a:lnTo>
                  <a:pt x="1823" y="76"/>
                </a:lnTo>
                <a:lnTo>
                  <a:pt x="1843" y="74"/>
                </a:lnTo>
                <a:lnTo>
                  <a:pt x="1860" y="71"/>
                </a:lnTo>
                <a:lnTo>
                  <a:pt x="1877" y="67"/>
                </a:lnTo>
                <a:lnTo>
                  <a:pt x="1892" y="65"/>
                </a:lnTo>
                <a:lnTo>
                  <a:pt x="1908" y="61"/>
                </a:lnTo>
                <a:lnTo>
                  <a:pt x="1921" y="59"/>
                </a:lnTo>
                <a:lnTo>
                  <a:pt x="1935" y="57"/>
                </a:lnTo>
                <a:lnTo>
                  <a:pt x="1946" y="53"/>
                </a:lnTo>
                <a:lnTo>
                  <a:pt x="1958" y="51"/>
                </a:lnTo>
                <a:lnTo>
                  <a:pt x="1967" y="50"/>
                </a:lnTo>
                <a:lnTo>
                  <a:pt x="1977" y="48"/>
                </a:lnTo>
                <a:lnTo>
                  <a:pt x="1987" y="46"/>
                </a:lnTo>
                <a:lnTo>
                  <a:pt x="1994" y="44"/>
                </a:lnTo>
                <a:lnTo>
                  <a:pt x="2002" y="42"/>
                </a:lnTo>
                <a:lnTo>
                  <a:pt x="2008" y="40"/>
                </a:lnTo>
                <a:lnTo>
                  <a:pt x="2013" y="38"/>
                </a:lnTo>
                <a:lnTo>
                  <a:pt x="2019" y="36"/>
                </a:lnTo>
                <a:lnTo>
                  <a:pt x="2023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49"/>
          <p:cNvSpPr/>
          <p:nvPr/>
        </p:nvSpPr>
        <p:spPr>
          <a:xfrm>
            <a:off x="5668920" y="3886200"/>
            <a:ext cx="961920" cy="900000"/>
          </a:xfrm>
          <a:custGeom>
            <a:avLst/>
            <a:gdLst/>
            <a:ahLst/>
            <a:rect l="l" t="t" r="r" b="b"/>
            <a:pathLst>
              <a:path w="1213" h="1134">
                <a:moveTo>
                  <a:pt x="1213" y="73"/>
                </a:moveTo>
                <a:lnTo>
                  <a:pt x="1192" y="102"/>
                </a:lnTo>
                <a:lnTo>
                  <a:pt x="1173" y="131"/>
                </a:lnTo>
                <a:lnTo>
                  <a:pt x="1151" y="160"/>
                </a:lnTo>
                <a:lnTo>
                  <a:pt x="1132" y="187"/>
                </a:lnTo>
                <a:lnTo>
                  <a:pt x="1113" y="213"/>
                </a:lnTo>
                <a:lnTo>
                  <a:pt x="1094" y="240"/>
                </a:lnTo>
                <a:lnTo>
                  <a:pt x="1075" y="265"/>
                </a:lnTo>
                <a:lnTo>
                  <a:pt x="1055" y="290"/>
                </a:lnTo>
                <a:lnTo>
                  <a:pt x="1038" y="315"/>
                </a:lnTo>
                <a:lnTo>
                  <a:pt x="1019" y="338"/>
                </a:lnTo>
                <a:lnTo>
                  <a:pt x="1002" y="361"/>
                </a:lnTo>
                <a:lnTo>
                  <a:pt x="984" y="384"/>
                </a:lnTo>
                <a:lnTo>
                  <a:pt x="969" y="405"/>
                </a:lnTo>
                <a:lnTo>
                  <a:pt x="952" y="426"/>
                </a:lnTo>
                <a:lnTo>
                  <a:pt x="936" y="447"/>
                </a:lnTo>
                <a:lnTo>
                  <a:pt x="919" y="467"/>
                </a:lnTo>
                <a:lnTo>
                  <a:pt x="904" y="486"/>
                </a:lnTo>
                <a:lnTo>
                  <a:pt x="888" y="503"/>
                </a:lnTo>
                <a:lnTo>
                  <a:pt x="875" y="522"/>
                </a:lnTo>
                <a:lnTo>
                  <a:pt x="860" y="538"/>
                </a:lnTo>
                <a:lnTo>
                  <a:pt x="846" y="555"/>
                </a:lnTo>
                <a:lnTo>
                  <a:pt x="831" y="570"/>
                </a:lnTo>
                <a:lnTo>
                  <a:pt x="817" y="586"/>
                </a:lnTo>
                <a:lnTo>
                  <a:pt x="806" y="601"/>
                </a:lnTo>
                <a:lnTo>
                  <a:pt x="792" y="614"/>
                </a:lnTo>
                <a:lnTo>
                  <a:pt x="781" y="628"/>
                </a:lnTo>
                <a:lnTo>
                  <a:pt x="768" y="639"/>
                </a:lnTo>
                <a:lnTo>
                  <a:pt x="756" y="653"/>
                </a:lnTo>
                <a:lnTo>
                  <a:pt x="744" y="664"/>
                </a:lnTo>
                <a:lnTo>
                  <a:pt x="735" y="674"/>
                </a:lnTo>
                <a:lnTo>
                  <a:pt x="723" y="685"/>
                </a:lnTo>
                <a:lnTo>
                  <a:pt x="714" y="695"/>
                </a:lnTo>
                <a:lnTo>
                  <a:pt x="691" y="714"/>
                </a:lnTo>
                <a:lnTo>
                  <a:pt x="668" y="735"/>
                </a:lnTo>
                <a:lnTo>
                  <a:pt x="645" y="754"/>
                </a:lnTo>
                <a:lnTo>
                  <a:pt x="620" y="774"/>
                </a:lnTo>
                <a:lnTo>
                  <a:pt x="595" y="795"/>
                </a:lnTo>
                <a:lnTo>
                  <a:pt x="570" y="814"/>
                </a:lnTo>
                <a:lnTo>
                  <a:pt x="543" y="831"/>
                </a:lnTo>
                <a:lnTo>
                  <a:pt x="516" y="850"/>
                </a:lnTo>
                <a:lnTo>
                  <a:pt x="489" y="870"/>
                </a:lnTo>
                <a:lnTo>
                  <a:pt x="460" y="889"/>
                </a:lnTo>
                <a:lnTo>
                  <a:pt x="432" y="906"/>
                </a:lnTo>
                <a:lnTo>
                  <a:pt x="401" y="925"/>
                </a:lnTo>
                <a:lnTo>
                  <a:pt x="370" y="943"/>
                </a:lnTo>
                <a:lnTo>
                  <a:pt x="339" y="962"/>
                </a:lnTo>
                <a:lnTo>
                  <a:pt x="307" y="979"/>
                </a:lnTo>
                <a:lnTo>
                  <a:pt x="274" y="998"/>
                </a:lnTo>
                <a:lnTo>
                  <a:pt x="257" y="1008"/>
                </a:lnTo>
                <a:lnTo>
                  <a:pt x="242" y="1015"/>
                </a:lnTo>
                <a:lnTo>
                  <a:pt x="226" y="1025"/>
                </a:lnTo>
                <a:lnTo>
                  <a:pt x="213" y="1033"/>
                </a:lnTo>
                <a:lnTo>
                  <a:pt x="197" y="1040"/>
                </a:lnTo>
                <a:lnTo>
                  <a:pt x="184" y="1048"/>
                </a:lnTo>
                <a:lnTo>
                  <a:pt x="170" y="1056"/>
                </a:lnTo>
                <a:lnTo>
                  <a:pt x="159" y="1063"/>
                </a:lnTo>
                <a:lnTo>
                  <a:pt x="146" y="1069"/>
                </a:lnTo>
                <a:lnTo>
                  <a:pt x="134" y="1075"/>
                </a:lnTo>
                <a:lnTo>
                  <a:pt x="123" y="1083"/>
                </a:lnTo>
                <a:lnTo>
                  <a:pt x="113" y="1088"/>
                </a:lnTo>
                <a:lnTo>
                  <a:pt x="103" y="1092"/>
                </a:lnTo>
                <a:lnTo>
                  <a:pt x="94" y="1098"/>
                </a:lnTo>
                <a:lnTo>
                  <a:pt x="84" y="1102"/>
                </a:lnTo>
                <a:lnTo>
                  <a:pt x="75" y="1108"/>
                </a:lnTo>
                <a:lnTo>
                  <a:pt x="67" y="1111"/>
                </a:lnTo>
                <a:lnTo>
                  <a:pt x="59" y="1115"/>
                </a:lnTo>
                <a:lnTo>
                  <a:pt x="46" y="1121"/>
                </a:lnTo>
                <a:lnTo>
                  <a:pt x="34" y="1127"/>
                </a:lnTo>
                <a:lnTo>
                  <a:pt x="23" y="1131"/>
                </a:lnTo>
                <a:lnTo>
                  <a:pt x="15" y="1132"/>
                </a:lnTo>
                <a:lnTo>
                  <a:pt x="9" y="1134"/>
                </a:lnTo>
                <a:lnTo>
                  <a:pt x="3" y="1134"/>
                </a:lnTo>
                <a:lnTo>
                  <a:pt x="2" y="1132"/>
                </a:lnTo>
                <a:lnTo>
                  <a:pt x="0" y="1131"/>
                </a:lnTo>
                <a:lnTo>
                  <a:pt x="0" y="1125"/>
                </a:lnTo>
                <a:lnTo>
                  <a:pt x="2" y="1121"/>
                </a:lnTo>
                <a:lnTo>
                  <a:pt x="5" y="1115"/>
                </a:lnTo>
                <a:lnTo>
                  <a:pt x="11" y="1108"/>
                </a:lnTo>
                <a:lnTo>
                  <a:pt x="19" y="1100"/>
                </a:lnTo>
                <a:lnTo>
                  <a:pt x="27" y="1090"/>
                </a:lnTo>
                <a:lnTo>
                  <a:pt x="38" y="1079"/>
                </a:lnTo>
                <a:lnTo>
                  <a:pt x="51" y="1069"/>
                </a:lnTo>
                <a:lnTo>
                  <a:pt x="65" y="1056"/>
                </a:lnTo>
                <a:lnTo>
                  <a:pt x="82" y="1042"/>
                </a:lnTo>
                <a:lnTo>
                  <a:pt x="99" y="1029"/>
                </a:lnTo>
                <a:lnTo>
                  <a:pt x="121" y="1013"/>
                </a:lnTo>
                <a:lnTo>
                  <a:pt x="142" y="996"/>
                </a:lnTo>
                <a:lnTo>
                  <a:pt x="165" y="979"/>
                </a:lnTo>
                <a:lnTo>
                  <a:pt x="178" y="971"/>
                </a:lnTo>
                <a:lnTo>
                  <a:pt x="192" y="962"/>
                </a:lnTo>
                <a:lnTo>
                  <a:pt x="243" y="925"/>
                </a:lnTo>
                <a:lnTo>
                  <a:pt x="295" y="887"/>
                </a:lnTo>
                <a:lnTo>
                  <a:pt x="345" y="848"/>
                </a:lnTo>
                <a:lnTo>
                  <a:pt x="395" y="808"/>
                </a:lnTo>
                <a:lnTo>
                  <a:pt x="441" y="768"/>
                </a:lnTo>
                <a:lnTo>
                  <a:pt x="464" y="749"/>
                </a:lnTo>
                <a:lnTo>
                  <a:pt x="487" y="728"/>
                </a:lnTo>
                <a:lnTo>
                  <a:pt x="508" y="706"/>
                </a:lnTo>
                <a:lnTo>
                  <a:pt x="529" y="687"/>
                </a:lnTo>
                <a:lnTo>
                  <a:pt x="551" y="666"/>
                </a:lnTo>
                <a:lnTo>
                  <a:pt x="572" y="645"/>
                </a:lnTo>
                <a:lnTo>
                  <a:pt x="581" y="636"/>
                </a:lnTo>
                <a:lnTo>
                  <a:pt x="591" y="624"/>
                </a:lnTo>
                <a:lnTo>
                  <a:pt x="602" y="612"/>
                </a:lnTo>
                <a:lnTo>
                  <a:pt x="614" y="599"/>
                </a:lnTo>
                <a:lnTo>
                  <a:pt x="625" y="588"/>
                </a:lnTo>
                <a:lnTo>
                  <a:pt x="637" y="574"/>
                </a:lnTo>
                <a:lnTo>
                  <a:pt x="650" y="559"/>
                </a:lnTo>
                <a:lnTo>
                  <a:pt x="662" y="545"/>
                </a:lnTo>
                <a:lnTo>
                  <a:pt x="675" y="530"/>
                </a:lnTo>
                <a:lnTo>
                  <a:pt x="689" y="513"/>
                </a:lnTo>
                <a:lnTo>
                  <a:pt x="702" y="497"/>
                </a:lnTo>
                <a:lnTo>
                  <a:pt x="716" y="480"/>
                </a:lnTo>
                <a:lnTo>
                  <a:pt x="731" y="463"/>
                </a:lnTo>
                <a:lnTo>
                  <a:pt x="744" y="444"/>
                </a:lnTo>
                <a:lnTo>
                  <a:pt x="760" y="424"/>
                </a:lnTo>
                <a:lnTo>
                  <a:pt x="775" y="405"/>
                </a:lnTo>
                <a:lnTo>
                  <a:pt x="791" y="386"/>
                </a:lnTo>
                <a:lnTo>
                  <a:pt x="806" y="365"/>
                </a:lnTo>
                <a:lnTo>
                  <a:pt x="823" y="342"/>
                </a:lnTo>
                <a:lnTo>
                  <a:pt x="840" y="321"/>
                </a:lnTo>
                <a:lnTo>
                  <a:pt x="856" y="298"/>
                </a:lnTo>
                <a:lnTo>
                  <a:pt x="873" y="275"/>
                </a:lnTo>
                <a:lnTo>
                  <a:pt x="890" y="250"/>
                </a:lnTo>
                <a:lnTo>
                  <a:pt x="908" y="225"/>
                </a:lnTo>
                <a:lnTo>
                  <a:pt x="927" y="200"/>
                </a:lnTo>
                <a:lnTo>
                  <a:pt x="944" y="173"/>
                </a:lnTo>
                <a:lnTo>
                  <a:pt x="963" y="146"/>
                </a:lnTo>
                <a:lnTo>
                  <a:pt x="981" y="119"/>
                </a:lnTo>
                <a:lnTo>
                  <a:pt x="1000" y="91"/>
                </a:lnTo>
                <a:lnTo>
                  <a:pt x="1019" y="62"/>
                </a:lnTo>
                <a:lnTo>
                  <a:pt x="1038" y="31"/>
                </a:lnTo>
                <a:lnTo>
                  <a:pt x="1059" y="0"/>
                </a:lnTo>
                <a:lnTo>
                  <a:pt x="1136" y="37"/>
                </a:lnTo>
                <a:lnTo>
                  <a:pt x="1174" y="54"/>
                </a:lnTo>
                <a:lnTo>
                  <a:pt x="1213" y="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5726160" y="2938320"/>
            <a:ext cx="1765080" cy="320760"/>
          </a:xfrm>
          <a:custGeom>
            <a:avLst/>
            <a:gdLst/>
            <a:ahLst/>
            <a:rect l="l" t="t" r="r" b="b"/>
            <a:pathLst>
              <a:path w="2223" h="403">
                <a:moveTo>
                  <a:pt x="1151" y="98"/>
                </a:moveTo>
                <a:lnTo>
                  <a:pt x="1192" y="92"/>
                </a:lnTo>
                <a:lnTo>
                  <a:pt x="1232" y="86"/>
                </a:lnTo>
                <a:lnTo>
                  <a:pt x="1270" y="81"/>
                </a:lnTo>
                <a:lnTo>
                  <a:pt x="1309" y="77"/>
                </a:lnTo>
                <a:lnTo>
                  <a:pt x="1345" y="71"/>
                </a:lnTo>
                <a:lnTo>
                  <a:pt x="1382" y="65"/>
                </a:lnTo>
                <a:lnTo>
                  <a:pt x="1416" y="61"/>
                </a:lnTo>
                <a:lnTo>
                  <a:pt x="1451" y="56"/>
                </a:lnTo>
                <a:lnTo>
                  <a:pt x="1484" y="52"/>
                </a:lnTo>
                <a:lnTo>
                  <a:pt x="1516" y="48"/>
                </a:lnTo>
                <a:lnTo>
                  <a:pt x="1547" y="44"/>
                </a:lnTo>
                <a:lnTo>
                  <a:pt x="1576" y="40"/>
                </a:lnTo>
                <a:lnTo>
                  <a:pt x="1606" y="36"/>
                </a:lnTo>
                <a:lnTo>
                  <a:pt x="1633" y="33"/>
                </a:lnTo>
                <a:lnTo>
                  <a:pt x="1660" y="29"/>
                </a:lnTo>
                <a:lnTo>
                  <a:pt x="1687" y="25"/>
                </a:lnTo>
                <a:lnTo>
                  <a:pt x="1712" y="23"/>
                </a:lnTo>
                <a:lnTo>
                  <a:pt x="1737" y="19"/>
                </a:lnTo>
                <a:lnTo>
                  <a:pt x="1760" y="17"/>
                </a:lnTo>
                <a:lnTo>
                  <a:pt x="1781" y="15"/>
                </a:lnTo>
                <a:lnTo>
                  <a:pt x="1802" y="13"/>
                </a:lnTo>
                <a:lnTo>
                  <a:pt x="1823" y="10"/>
                </a:lnTo>
                <a:lnTo>
                  <a:pt x="1843" y="10"/>
                </a:lnTo>
                <a:lnTo>
                  <a:pt x="1860" y="8"/>
                </a:lnTo>
                <a:lnTo>
                  <a:pt x="1877" y="6"/>
                </a:lnTo>
                <a:lnTo>
                  <a:pt x="1894" y="4"/>
                </a:lnTo>
                <a:lnTo>
                  <a:pt x="1910" y="4"/>
                </a:lnTo>
                <a:lnTo>
                  <a:pt x="1925" y="2"/>
                </a:lnTo>
                <a:lnTo>
                  <a:pt x="1938" y="2"/>
                </a:lnTo>
                <a:lnTo>
                  <a:pt x="1950" y="0"/>
                </a:lnTo>
                <a:lnTo>
                  <a:pt x="1962" y="0"/>
                </a:lnTo>
                <a:lnTo>
                  <a:pt x="1973" y="0"/>
                </a:lnTo>
                <a:lnTo>
                  <a:pt x="1992" y="0"/>
                </a:lnTo>
                <a:lnTo>
                  <a:pt x="2010" y="2"/>
                </a:lnTo>
                <a:lnTo>
                  <a:pt x="2027" y="2"/>
                </a:lnTo>
                <a:lnTo>
                  <a:pt x="2044" y="4"/>
                </a:lnTo>
                <a:lnTo>
                  <a:pt x="2059" y="4"/>
                </a:lnTo>
                <a:lnTo>
                  <a:pt x="2075" y="6"/>
                </a:lnTo>
                <a:lnTo>
                  <a:pt x="2088" y="8"/>
                </a:lnTo>
                <a:lnTo>
                  <a:pt x="2100" y="11"/>
                </a:lnTo>
                <a:lnTo>
                  <a:pt x="2111" y="13"/>
                </a:lnTo>
                <a:lnTo>
                  <a:pt x="2123" y="17"/>
                </a:lnTo>
                <a:lnTo>
                  <a:pt x="2134" y="21"/>
                </a:lnTo>
                <a:lnTo>
                  <a:pt x="2142" y="27"/>
                </a:lnTo>
                <a:lnTo>
                  <a:pt x="2152" y="31"/>
                </a:lnTo>
                <a:lnTo>
                  <a:pt x="2159" y="36"/>
                </a:lnTo>
                <a:lnTo>
                  <a:pt x="2167" y="42"/>
                </a:lnTo>
                <a:lnTo>
                  <a:pt x="2175" y="50"/>
                </a:lnTo>
                <a:lnTo>
                  <a:pt x="2180" y="56"/>
                </a:lnTo>
                <a:lnTo>
                  <a:pt x="2186" y="61"/>
                </a:lnTo>
                <a:lnTo>
                  <a:pt x="2192" y="69"/>
                </a:lnTo>
                <a:lnTo>
                  <a:pt x="2196" y="75"/>
                </a:lnTo>
                <a:lnTo>
                  <a:pt x="2205" y="84"/>
                </a:lnTo>
                <a:lnTo>
                  <a:pt x="2211" y="94"/>
                </a:lnTo>
                <a:lnTo>
                  <a:pt x="2217" y="104"/>
                </a:lnTo>
                <a:lnTo>
                  <a:pt x="2219" y="111"/>
                </a:lnTo>
                <a:lnTo>
                  <a:pt x="2221" y="117"/>
                </a:lnTo>
                <a:lnTo>
                  <a:pt x="2223" y="123"/>
                </a:lnTo>
                <a:lnTo>
                  <a:pt x="2221" y="130"/>
                </a:lnTo>
                <a:lnTo>
                  <a:pt x="2219" y="138"/>
                </a:lnTo>
                <a:lnTo>
                  <a:pt x="2217" y="144"/>
                </a:lnTo>
                <a:lnTo>
                  <a:pt x="2211" y="152"/>
                </a:lnTo>
                <a:lnTo>
                  <a:pt x="2205" y="155"/>
                </a:lnTo>
                <a:lnTo>
                  <a:pt x="2201" y="159"/>
                </a:lnTo>
                <a:lnTo>
                  <a:pt x="2196" y="161"/>
                </a:lnTo>
                <a:lnTo>
                  <a:pt x="2192" y="163"/>
                </a:lnTo>
                <a:lnTo>
                  <a:pt x="2186" y="167"/>
                </a:lnTo>
                <a:lnTo>
                  <a:pt x="2180" y="169"/>
                </a:lnTo>
                <a:lnTo>
                  <a:pt x="2175" y="171"/>
                </a:lnTo>
                <a:lnTo>
                  <a:pt x="2161" y="175"/>
                </a:lnTo>
                <a:lnTo>
                  <a:pt x="2148" y="178"/>
                </a:lnTo>
                <a:lnTo>
                  <a:pt x="2134" y="180"/>
                </a:lnTo>
                <a:lnTo>
                  <a:pt x="2121" y="180"/>
                </a:lnTo>
                <a:lnTo>
                  <a:pt x="2107" y="180"/>
                </a:lnTo>
                <a:lnTo>
                  <a:pt x="2094" y="178"/>
                </a:lnTo>
                <a:lnTo>
                  <a:pt x="2081" y="175"/>
                </a:lnTo>
                <a:lnTo>
                  <a:pt x="2067" y="171"/>
                </a:lnTo>
                <a:lnTo>
                  <a:pt x="2058" y="169"/>
                </a:lnTo>
                <a:lnTo>
                  <a:pt x="2048" y="167"/>
                </a:lnTo>
                <a:lnTo>
                  <a:pt x="2034" y="165"/>
                </a:lnTo>
                <a:lnTo>
                  <a:pt x="2023" y="163"/>
                </a:lnTo>
                <a:lnTo>
                  <a:pt x="2010" y="163"/>
                </a:lnTo>
                <a:lnTo>
                  <a:pt x="1994" y="161"/>
                </a:lnTo>
                <a:lnTo>
                  <a:pt x="1977" y="161"/>
                </a:lnTo>
                <a:lnTo>
                  <a:pt x="1960" y="159"/>
                </a:lnTo>
                <a:lnTo>
                  <a:pt x="1942" y="159"/>
                </a:lnTo>
                <a:lnTo>
                  <a:pt x="1923" y="159"/>
                </a:lnTo>
                <a:lnTo>
                  <a:pt x="1902" y="159"/>
                </a:lnTo>
                <a:lnTo>
                  <a:pt x="1881" y="159"/>
                </a:lnTo>
                <a:lnTo>
                  <a:pt x="1858" y="159"/>
                </a:lnTo>
                <a:lnTo>
                  <a:pt x="1833" y="159"/>
                </a:lnTo>
                <a:lnTo>
                  <a:pt x="1808" y="159"/>
                </a:lnTo>
                <a:lnTo>
                  <a:pt x="1783" y="159"/>
                </a:lnTo>
                <a:lnTo>
                  <a:pt x="1752" y="159"/>
                </a:lnTo>
                <a:lnTo>
                  <a:pt x="1723" y="159"/>
                </a:lnTo>
                <a:lnTo>
                  <a:pt x="1693" y="159"/>
                </a:lnTo>
                <a:lnTo>
                  <a:pt x="1662" y="161"/>
                </a:lnTo>
                <a:lnTo>
                  <a:pt x="1629" y="163"/>
                </a:lnTo>
                <a:lnTo>
                  <a:pt x="1597" y="163"/>
                </a:lnTo>
                <a:lnTo>
                  <a:pt x="1564" y="165"/>
                </a:lnTo>
                <a:lnTo>
                  <a:pt x="1532" y="167"/>
                </a:lnTo>
                <a:lnTo>
                  <a:pt x="1497" y="171"/>
                </a:lnTo>
                <a:lnTo>
                  <a:pt x="1462" y="173"/>
                </a:lnTo>
                <a:lnTo>
                  <a:pt x="1426" y="176"/>
                </a:lnTo>
                <a:lnTo>
                  <a:pt x="1389" y="178"/>
                </a:lnTo>
                <a:lnTo>
                  <a:pt x="1351" y="182"/>
                </a:lnTo>
                <a:lnTo>
                  <a:pt x="1315" y="186"/>
                </a:lnTo>
                <a:lnTo>
                  <a:pt x="1274" y="190"/>
                </a:lnTo>
                <a:lnTo>
                  <a:pt x="1236" y="196"/>
                </a:lnTo>
                <a:lnTo>
                  <a:pt x="1155" y="209"/>
                </a:lnTo>
                <a:lnTo>
                  <a:pt x="1073" y="222"/>
                </a:lnTo>
                <a:lnTo>
                  <a:pt x="988" y="236"/>
                </a:lnTo>
                <a:lnTo>
                  <a:pt x="904" y="251"/>
                </a:lnTo>
                <a:lnTo>
                  <a:pt x="817" y="267"/>
                </a:lnTo>
                <a:lnTo>
                  <a:pt x="773" y="274"/>
                </a:lnTo>
                <a:lnTo>
                  <a:pt x="729" y="282"/>
                </a:lnTo>
                <a:lnTo>
                  <a:pt x="683" y="290"/>
                </a:lnTo>
                <a:lnTo>
                  <a:pt x="639" y="299"/>
                </a:lnTo>
                <a:lnTo>
                  <a:pt x="593" y="307"/>
                </a:lnTo>
                <a:lnTo>
                  <a:pt x="547" y="317"/>
                </a:lnTo>
                <a:lnTo>
                  <a:pt x="524" y="322"/>
                </a:lnTo>
                <a:lnTo>
                  <a:pt x="501" y="328"/>
                </a:lnTo>
                <a:lnTo>
                  <a:pt x="480" y="334"/>
                </a:lnTo>
                <a:lnTo>
                  <a:pt x="458" y="338"/>
                </a:lnTo>
                <a:lnTo>
                  <a:pt x="437" y="343"/>
                </a:lnTo>
                <a:lnTo>
                  <a:pt x="418" y="347"/>
                </a:lnTo>
                <a:lnTo>
                  <a:pt x="399" y="351"/>
                </a:lnTo>
                <a:lnTo>
                  <a:pt x="382" y="357"/>
                </a:lnTo>
                <a:lnTo>
                  <a:pt x="364" y="361"/>
                </a:lnTo>
                <a:lnTo>
                  <a:pt x="347" y="364"/>
                </a:lnTo>
                <a:lnTo>
                  <a:pt x="330" y="368"/>
                </a:lnTo>
                <a:lnTo>
                  <a:pt x="314" y="370"/>
                </a:lnTo>
                <a:lnTo>
                  <a:pt x="301" y="374"/>
                </a:lnTo>
                <a:lnTo>
                  <a:pt x="286" y="378"/>
                </a:lnTo>
                <a:lnTo>
                  <a:pt x="274" y="380"/>
                </a:lnTo>
                <a:lnTo>
                  <a:pt x="261" y="382"/>
                </a:lnTo>
                <a:lnTo>
                  <a:pt x="249" y="386"/>
                </a:lnTo>
                <a:lnTo>
                  <a:pt x="238" y="388"/>
                </a:lnTo>
                <a:lnTo>
                  <a:pt x="226" y="389"/>
                </a:lnTo>
                <a:lnTo>
                  <a:pt x="217" y="391"/>
                </a:lnTo>
                <a:lnTo>
                  <a:pt x="209" y="393"/>
                </a:lnTo>
                <a:lnTo>
                  <a:pt x="199" y="395"/>
                </a:lnTo>
                <a:lnTo>
                  <a:pt x="192" y="395"/>
                </a:lnTo>
                <a:lnTo>
                  <a:pt x="186" y="397"/>
                </a:lnTo>
                <a:lnTo>
                  <a:pt x="178" y="399"/>
                </a:lnTo>
                <a:lnTo>
                  <a:pt x="172" y="399"/>
                </a:lnTo>
                <a:lnTo>
                  <a:pt x="169" y="401"/>
                </a:lnTo>
                <a:lnTo>
                  <a:pt x="165" y="401"/>
                </a:lnTo>
                <a:lnTo>
                  <a:pt x="161" y="401"/>
                </a:lnTo>
                <a:lnTo>
                  <a:pt x="157" y="401"/>
                </a:lnTo>
                <a:lnTo>
                  <a:pt x="155" y="401"/>
                </a:lnTo>
                <a:lnTo>
                  <a:pt x="153" y="403"/>
                </a:lnTo>
                <a:lnTo>
                  <a:pt x="149" y="401"/>
                </a:lnTo>
                <a:lnTo>
                  <a:pt x="144" y="401"/>
                </a:lnTo>
                <a:lnTo>
                  <a:pt x="140" y="399"/>
                </a:lnTo>
                <a:lnTo>
                  <a:pt x="134" y="397"/>
                </a:lnTo>
                <a:lnTo>
                  <a:pt x="128" y="395"/>
                </a:lnTo>
                <a:lnTo>
                  <a:pt x="122" y="393"/>
                </a:lnTo>
                <a:lnTo>
                  <a:pt x="111" y="386"/>
                </a:lnTo>
                <a:lnTo>
                  <a:pt x="97" y="376"/>
                </a:lnTo>
                <a:lnTo>
                  <a:pt x="84" y="366"/>
                </a:lnTo>
                <a:lnTo>
                  <a:pt x="73" y="355"/>
                </a:lnTo>
                <a:lnTo>
                  <a:pt x="59" y="341"/>
                </a:lnTo>
                <a:lnTo>
                  <a:pt x="46" y="328"/>
                </a:lnTo>
                <a:lnTo>
                  <a:pt x="34" y="317"/>
                </a:lnTo>
                <a:lnTo>
                  <a:pt x="25" y="305"/>
                </a:lnTo>
                <a:lnTo>
                  <a:pt x="15" y="295"/>
                </a:lnTo>
                <a:lnTo>
                  <a:pt x="9" y="288"/>
                </a:lnTo>
                <a:lnTo>
                  <a:pt x="5" y="284"/>
                </a:lnTo>
                <a:lnTo>
                  <a:pt x="3" y="280"/>
                </a:lnTo>
                <a:lnTo>
                  <a:pt x="2" y="276"/>
                </a:lnTo>
                <a:lnTo>
                  <a:pt x="0" y="272"/>
                </a:lnTo>
                <a:lnTo>
                  <a:pt x="0" y="270"/>
                </a:lnTo>
                <a:lnTo>
                  <a:pt x="0" y="269"/>
                </a:lnTo>
                <a:lnTo>
                  <a:pt x="0" y="267"/>
                </a:lnTo>
                <a:lnTo>
                  <a:pt x="2" y="265"/>
                </a:lnTo>
                <a:lnTo>
                  <a:pt x="3" y="263"/>
                </a:lnTo>
                <a:lnTo>
                  <a:pt x="5" y="263"/>
                </a:lnTo>
                <a:lnTo>
                  <a:pt x="7" y="261"/>
                </a:lnTo>
                <a:lnTo>
                  <a:pt x="11" y="261"/>
                </a:lnTo>
                <a:lnTo>
                  <a:pt x="15" y="259"/>
                </a:lnTo>
                <a:lnTo>
                  <a:pt x="19" y="257"/>
                </a:lnTo>
                <a:lnTo>
                  <a:pt x="23" y="257"/>
                </a:lnTo>
                <a:lnTo>
                  <a:pt x="28" y="255"/>
                </a:lnTo>
                <a:lnTo>
                  <a:pt x="34" y="253"/>
                </a:lnTo>
                <a:lnTo>
                  <a:pt x="40" y="253"/>
                </a:lnTo>
                <a:lnTo>
                  <a:pt x="48" y="251"/>
                </a:lnTo>
                <a:lnTo>
                  <a:pt x="53" y="249"/>
                </a:lnTo>
                <a:lnTo>
                  <a:pt x="61" y="249"/>
                </a:lnTo>
                <a:lnTo>
                  <a:pt x="69" y="247"/>
                </a:lnTo>
                <a:lnTo>
                  <a:pt x="78" y="246"/>
                </a:lnTo>
                <a:lnTo>
                  <a:pt x="88" y="244"/>
                </a:lnTo>
                <a:lnTo>
                  <a:pt x="97" y="242"/>
                </a:lnTo>
                <a:lnTo>
                  <a:pt x="107" y="242"/>
                </a:lnTo>
                <a:lnTo>
                  <a:pt x="117" y="240"/>
                </a:lnTo>
                <a:lnTo>
                  <a:pt x="128" y="238"/>
                </a:lnTo>
                <a:lnTo>
                  <a:pt x="140" y="236"/>
                </a:lnTo>
                <a:lnTo>
                  <a:pt x="151" y="234"/>
                </a:lnTo>
                <a:lnTo>
                  <a:pt x="165" y="232"/>
                </a:lnTo>
                <a:lnTo>
                  <a:pt x="176" y="230"/>
                </a:lnTo>
                <a:lnTo>
                  <a:pt x="190" y="228"/>
                </a:lnTo>
                <a:lnTo>
                  <a:pt x="205" y="226"/>
                </a:lnTo>
                <a:lnTo>
                  <a:pt x="218" y="224"/>
                </a:lnTo>
                <a:lnTo>
                  <a:pt x="234" y="222"/>
                </a:lnTo>
                <a:lnTo>
                  <a:pt x="249" y="221"/>
                </a:lnTo>
                <a:lnTo>
                  <a:pt x="265" y="219"/>
                </a:lnTo>
                <a:lnTo>
                  <a:pt x="282" y="217"/>
                </a:lnTo>
                <a:lnTo>
                  <a:pt x="299" y="215"/>
                </a:lnTo>
                <a:lnTo>
                  <a:pt x="318" y="213"/>
                </a:lnTo>
                <a:lnTo>
                  <a:pt x="336" y="211"/>
                </a:lnTo>
                <a:lnTo>
                  <a:pt x="357" y="209"/>
                </a:lnTo>
                <a:lnTo>
                  <a:pt x="378" y="207"/>
                </a:lnTo>
                <a:lnTo>
                  <a:pt x="399" y="203"/>
                </a:lnTo>
                <a:lnTo>
                  <a:pt x="420" y="201"/>
                </a:lnTo>
                <a:lnTo>
                  <a:pt x="443" y="198"/>
                </a:lnTo>
                <a:lnTo>
                  <a:pt x="468" y="196"/>
                </a:lnTo>
                <a:lnTo>
                  <a:pt x="491" y="192"/>
                </a:lnTo>
                <a:lnTo>
                  <a:pt x="518" y="188"/>
                </a:lnTo>
                <a:lnTo>
                  <a:pt x="543" y="184"/>
                </a:lnTo>
                <a:lnTo>
                  <a:pt x="570" y="180"/>
                </a:lnTo>
                <a:lnTo>
                  <a:pt x="599" y="176"/>
                </a:lnTo>
                <a:lnTo>
                  <a:pt x="627" y="173"/>
                </a:lnTo>
                <a:lnTo>
                  <a:pt x="656" y="169"/>
                </a:lnTo>
                <a:lnTo>
                  <a:pt x="687" y="165"/>
                </a:lnTo>
                <a:lnTo>
                  <a:pt x="718" y="161"/>
                </a:lnTo>
                <a:lnTo>
                  <a:pt x="748" y="155"/>
                </a:lnTo>
                <a:lnTo>
                  <a:pt x="781" y="152"/>
                </a:lnTo>
                <a:lnTo>
                  <a:pt x="815" y="146"/>
                </a:lnTo>
                <a:lnTo>
                  <a:pt x="848" y="142"/>
                </a:lnTo>
                <a:lnTo>
                  <a:pt x="885" y="136"/>
                </a:lnTo>
                <a:lnTo>
                  <a:pt x="919" y="130"/>
                </a:lnTo>
                <a:lnTo>
                  <a:pt x="956" y="127"/>
                </a:lnTo>
                <a:lnTo>
                  <a:pt x="994" y="121"/>
                </a:lnTo>
                <a:lnTo>
                  <a:pt x="1032" y="115"/>
                </a:lnTo>
                <a:lnTo>
                  <a:pt x="1071" y="109"/>
                </a:lnTo>
                <a:lnTo>
                  <a:pt x="1111" y="104"/>
                </a:lnTo>
                <a:lnTo>
                  <a:pt x="1151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51"/>
          <p:cNvSpPr/>
          <p:nvPr/>
        </p:nvSpPr>
        <p:spPr>
          <a:xfrm>
            <a:off x="6046920" y="3325680"/>
            <a:ext cx="981000" cy="474840"/>
          </a:xfrm>
          <a:custGeom>
            <a:avLst/>
            <a:gdLst/>
            <a:ahLst/>
            <a:rect l="l" t="t" r="r" b="b"/>
            <a:pathLst>
              <a:path w="1236" h="597">
                <a:moveTo>
                  <a:pt x="666" y="597"/>
                </a:moveTo>
                <a:lnTo>
                  <a:pt x="649" y="572"/>
                </a:lnTo>
                <a:lnTo>
                  <a:pt x="629" y="549"/>
                </a:lnTo>
                <a:lnTo>
                  <a:pt x="639" y="541"/>
                </a:lnTo>
                <a:lnTo>
                  <a:pt x="649" y="532"/>
                </a:lnTo>
                <a:lnTo>
                  <a:pt x="660" y="522"/>
                </a:lnTo>
                <a:lnTo>
                  <a:pt x="670" y="513"/>
                </a:lnTo>
                <a:lnTo>
                  <a:pt x="681" y="501"/>
                </a:lnTo>
                <a:lnTo>
                  <a:pt x="693" y="488"/>
                </a:lnTo>
                <a:lnTo>
                  <a:pt x="706" y="474"/>
                </a:lnTo>
                <a:lnTo>
                  <a:pt x="718" y="461"/>
                </a:lnTo>
                <a:lnTo>
                  <a:pt x="731" y="445"/>
                </a:lnTo>
                <a:lnTo>
                  <a:pt x="745" y="428"/>
                </a:lnTo>
                <a:lnTo>
                  <a:pt x="758" y="413"/>
                </a:lnTo>
                <a:lnTo>
                  <a:pt x="773" y="394"/>
                </a:lnTo>
                <a:lnTo>
                  <a:pt x="787" y="376"/>
                </a:lnTo>
                <a:lnTo>
                  <a:pt x="802" y="357"/>
                </a:lnTo>
                <a:lnTo>
                  <a:pt x="818" y="338"/>
                </a:lnTo>
                <a:lnTo>
                  <a:pt x="833" y="317"/>
                </a:lnTo>
                <a:lnTo>
                  <a:pt x="846" y="298"/>
                </a:lnTo>
                <a:lnTo>
                  <a:pt x="862" y="279"/>
                </a:lnTo>
                <a:lnTo>
                  <a:pt x="873" y="261"/>
                </a:lnTo>
                <a:lnTo>
                  <a:pt x="885" y="246"/>
                </a:lnTo>
                <a:lnTo>
                  <a:pt x="896" y="231"/>
                </a:lnTo>
                <a:lnTo>
                  <a:pt x="906" y="217"/>
                </a:lnTo>
                <a:lnTo>
                  <a:pt x="914" y="206"/>
                </a:lnTo>
                <a:lnTo>
                  <a:pt x="921" y="194"/>
                </a:lnTo>
                <a:lnTo>
                  <a:pt x="927" y="184"/>
                </a:lnTo>
                <a:lnTo>
                  <a:pt x="933" y="177"/>
                </a:lnTo>
                <a:lnTo>
                  <a:pt x="937" y="169"/>
                </a:lnTo>
                <a:lnTo>
                  <a:pt x="938" y="163"/>
                </a:lnTo>
                <a:lnTo>
                  <a:pt x="940" y="158"/>
                </a:lnTo>
                <a:lnTo>
                  <a:pt x="940" y="152"/>
                </a:lnTo>
                <a:lnTo>
                  <a:pt x="940" y="148"/>
                </a:lnTo>
                <a:lnTo>
                  <a:pt x="938" y="146"/>
                </a:lnTo>
                <a:lnTo>
                  <a:pt x="937" y="144"/>
                </a:lnTo>
                <a:lnTo>
                  <a:pt x="933" y="142"/>
                </a:lnTo>
                <a:lnTo>
                  <a:pt x="929" y="142"/>
                </a:lnTo>
                <a:lnTo>
                  <a:pt x="923" y="140"/>
                </a:lnTo>
                <a:lnTo>
                  <a:pt x="917" y="140"/>
                </a:lnTo>
                <a:lnTo>
                  <a:pt x="912" y="142"/>
                </a:lnTo>
                <a:lnTo>
                  <a:pt x="904" y="142"/>
                </a:lnTo>
                <a:lnTo>
                  <a:pt x="896" y="142"/>
                </a:lnTo>
                <a:lnTo>
                  <a:pt x="887" y="144"/>
                </a:lnTo>
                <a:lnTo>
                  <a:pt x="879" y="146"/>
                </a:lnTo>
                <a:lnTo>
                  <a:pt x="867" y="148"/>
                </a:lnTo>
                <a:lnTo>
                  <a:pt x="858" y="150"/>
                </a:lnTo>
                <a:lnTo>
                  <a:pt x="846" y="152"/>
                </a:lnTo>
                <a:lnTo>
                  <a:pt x="835" y="154"/>
                </a:lnTo>
                <a:lnTo>
                  <a:pt x="821" y="156"/>
                </a:lnTo>
                <a:lnTo>
                  <a:pt x="808" y="160"/>
                </a:lnTo>
                <a:lnTo>
                  <a:pt x="794" y="163"/>
                </a:lnTo>
                <a:lnTo>
                  <a:pt x="779" y="169"/>
                </a:lnTo>
                <a:lnTo>
                  <a:pt x="764" y="173"/>
                </a:lnTo>
                <a:lnTo>
                  <a:pt x="746" y="179"/>
                </a:lnTo>
                <a:lnTo>
                  <a:pt x="727" y="184"/>
                </a:lnTo>
                <a:lnTo>
                  <a:pt x="708" y="190"/>
                </a:lnTo>
                <a:lnTo>
                  <a:pt x="689" y="196"/>
                </a:lnTo>
                <a:lnTo>
                  <a:pt x="668" y="202"/>
                </a:lnTo>
                <a:lnTo>
                  <a:pt x="645" y="209"/>
                </a:lnTo>
                <a:lnTo>
                  <a:pt x="622" y="215"/>
                </a:lnTo>
                <a:lnTo>
                  <a:pt x="599" y="221"/>
                </a:lnTo>
                <a:lnTo>
                  <a:pt x="572" y="229"/>
                </a:lnTo>
                <a:lnTo>
                  <a:pt x="547" y="234"/>
                </a:lnTo>
                <a:lnTo>
                  <a:pt x="520" y="242"/>
                </a:lnTo>
                <a:lnTo>
                  <a:pt x="493" y="250"/>
                </a:lnTo>
                <a:lnTo>
                  <a:pt x="464" y="255"/>
                </a:lnTo>
                <a:lnTo>
                  <a:pt x="435" y="265"/>
                </a:lnTo>
                <a:lnTo>
                  <a:pt x="409" y="273"/>
                </a:lnTo>
                <a:lnTo>
                  <a:pt x="382" y="280"/>
                </a:lnTo>
                <a:lnTo>
                  <a:pt x="357" y="286"/>
                </a:lnTo>
                <a:lnTo>
                  <a:pt x="334" y="292"/>
                </a:lnTo>
                <a:lnTo>
                  <a:pt x="311" y="296"/>
                </a:lnTo>
                <a:lnTo>
                  <a:pt x="290" y="300"/>
                </a:lnTo>
                <a:lnTo>
                  <a:pt x="270" y="303"/>
                </a:lnTo>
                <a:lnTo>
                  <a:pt x="253" y="305"/>
                </a:lnTo>
                <a:lnTo>
                  <a:pt x="236" y="307"/>
                </a:lnTo>
                <a:lnTo>
                  <a:pt x="220" y="309"/>
                </a:lnTo>
                <a:lnTo>
                  <a:pt x="207" y="309"/>
                </a:lnTo>
                <a:lnTo>
                  <a:pt x="194" y="309"/>
                </a:lnTo>
                <a:lnTo>
                  <a:pt x="184" y="307"/>
                </a:lnTo>
                <a:lnTo>
                  <a:pt x="174" y="307"/>
                </a:lnTo>
                <a:lnTo>
                  <a:pt x="167" y="305"/>
                </a:lnTo>
                <a:lnTo>
                  <a:pt x="157" y="302"/>
                </a:lnTo>
                <a:lnTo>
                  <a:pt x="148" y="300"/>
                </a:lnTo>
                <a:lnTo>
                  <a:pt x="138" y="296"/>
                </a:lnTo>
                <a:lnTo>
                  <a:pt x="128" y="290"/>
                </a:lnTo>
                <a:lnTo>
                  <a:pt x="119" y="286"/>
                </a:lnTo>
                <a:lnTo>
                  <a:pt x="109" y="280"/>
                </a:lnTo>
                <a:lnTo>
                  <a:pt x="98" y="275"/>
                </a:lnTo>
                <a:lnTo>
                  <a:pt x="88" y="269"/>
                </a:lnTo>
                <a:lnTo>
                  <a:pt x="77" y="261"/>
                </a:lnTo>
                <a:lnTo>
                  <a:pt x="67" y="254"/>
                </a:lnTo>
                <a:lnTo>
                  <a:pt x="55" y="246"/>
                </a:lnTo>
                <a:lnTo>
                  <a:pt x="44" y="236"/>
                </a:lnTo>
                <a:lnTo>
                  <a:pt x="32" y="227"/>
                </a:lnTo>
                <a:lnTo>
                  <a:pt x="23" y="217"/>
                </a:lnTo>
                <a:lnTo>
                  <a:pt x="11" y="206"/>
                </a:lnTo>
                <a:lnTo>
                  <a:pt x="0" y="196"/>
                </a:lnTo>
                <a:lnTo>
                  <a:pt x="48" y="190"/>
                </a:lnTo>
                <a:lnTo>
                  <a:pt x="96" y="186"/>
                </a:lnTo>
                <a:lnTo>
                  <a:pt x="119" y="183"/>
                </a:lnTo>
                <a:lnTo>
                  <a:pt x="142" y="181"/>
                </a:lnTo>
                <a:lnTo>
                  <a:pt x="163" y="179"/>
                </a:lnTo>
                <a:lnTo>
                  <a:pt x="184" y="177"/>
                </a:lnTo>
                <a:lnTo>
                  <a:pt x="205" y="175"/>
                </a:lnTo>
                <a:lnTo>
                  <a:pt x="226" y="173"/>
                </a:lnTo>
                <a:lnTo>
                  <a:pt x="245" y="169"/>
                </a:lnTo>
                <a:lnTo>
                  <a:pt x="265" y="167"/>
                </a:lnTo>
                <a:lnTo>
                  <a:pt x="282" y="165"/>
                </a:lnTo>
                <a:lnTo>
                  <a:pt x="299" y="163"/>
                </a:lnTo>
                <a:lnTo>
                  <a:pt x="316" y="161"/>
                </a:lnTo>
                <a:lnTo>
                  <a:pt x="334" y="160"/>
                </a:lnTo>
                <a:lnTo>
                  <a:pt x="349" y="156"/>
                </a:lnTo>
                <a:lnTo>
                  <a:pt x="366" y="154"/>
                </a:lnTo>
                <a:lnTo>
                  <a:pt x="384" y="150"/>
                </a:lnTo>
                <a:lnTo>
                  <a:pt x="403" y="148"/>
                </a:lnTo>
                <a:lnTo>
                  <a:pt x="422" y="144"/>
                </a:lnTo>
                <a:lnTo>
                  <a:pt x="441" y="140"/>
                </a:lnTo>
                <a:lnTo>
                  <a:pt x="462" y="137"/>
                </a:lnTo>
                <a:lnTo>
                  <a:pt x="485" y="131"/>
                </a:lnTo>
                <a:lnTo>
                  <a:pt x="507" y="127"/>
                </a:lnTo>
                <a:lnTo>
                  <a:pt x="531" y="121"/>
                </a:lnTo>
                <a:lnTo>
                  <a:pt x="555" y="115"/>
                </a:lnTo>
                <a:lnTo>
                  <a:pt x="581" y="112"/>
                </a:lnTo>
                <a:lnTo>
                  <a:pt x="606" y="104"/>
                </a:lnTo>
                <a:lnTo>
                  <a:pt x="633" y="98"/>
                </a:lnTo>
                <a:lnTo>
                  <a:pt x="660" y="92"/>
                </a:lnTo>
                <a:lnTo>
                  <a:pt x="689" y="85"/>
                </a:lnTo>
                <a:lnTo>
                  <a:pt x="718" y="79"/>
                </a:lnTo>
                <a:lnTo>
                  <a:pt x="745" y="71"/>
                </a:lnTo>
                <a:lnTo>
                  <a:pt x="770" y="66"/>
                </a:lnTo>
                <a:lnTo>
                  <a:pt x="793" y="60"/>
                </a:lnTo>
                <a:lnTo>
                  <a:pt x="814" y="54"/>
                </a:lnTo>
                <a:lnTo>
                  <a:pt x="835" y="50"/>
                </a:lnTo>
                <a:lnTo>
                  <a:pt x="852" y="44"/>
                </a:lnTo>
                <a:lnTo>
                  <a:pt x="869" y="39"/>
                </a:lnTo>
                <a:lnTo>
                  <a:pt x="885" y="35"/>
                </a:lnTo>
                <a:lnTo>
                  <a:pt x="898" y="31"/>
                </a:lnTo>
                <a:lnTo>
                  <a:pt x="912" y="27"/>
                </a:lnTo>
                <a:lnTo>
                  <a:pt x="921" y="23"/>
                </a:lnTo>
                <a:lnTo>
                  <a:pt x="931" y="21"/>
                </a:lnTo>
                <a:lnTo>
                  <a:pt x="938" y="18"/>
                </a:lnTo>
                <a:lnTo>
                  <a:pt x="946" y="16"/>
                </a:lnTo>
                <a:lnTo>
                  <a:pt x="952" y="12"/>
                </a:lnTo>
                <a:lnTo>
                  <a:pt x="960" y="8"/>
                </a:lnTo>
                <a:lnTo>
                  <a:pt x="969" y="6"/>
                </a:lnTo>
                <a:lnTo>
                  <a:pt x="977" y="2"/>
                </a:lnTo>
                <a:lnTo>
                  <a:pt x="986" y="2"/>
                </a:lnTo>
                <a:lnTo>
                  <a:pt x="996" y="0"/>
                </a:lnTo>
                <a:lnTo>
                  <a:pt x="1004" y="0"/>
                </a:lnTo>
                <a:lnTo>
                  <a:pt x="1023" y="0"/>
                </a:lnTo>
                <a:lnTo>
                  <a:pt x="1025" y="0"/>
                </a:lnTo>
                <a:lnTo>
                  <a:pt x="1029" y="2"/>
                </a:lnTo>
                <a:lnTo>
                  <a:pt x="1033" y="2"/>
                </a:lnTo>
                <a:lnTo>
                  <a:pt x="1038" y="4"/>
                </a:lnTo>
                <a:lnTo>
                  <a:pt x="1044" y="8"/>
                </a:lnTo>
                <a:lnTo>
                  <a:pt x="1050" y="10"/>
                </a:lnTo>
                <a:lnTo>
                  <a:pt x="1056" y="14"/>
                </a:lnTo>
                <a:lnTo>
                  <a:pt x="1063" y="18"/>
                </a:lnTo>
                <a:lnTo>
                  <a:pt x="1073" y="23"/>
                </a:lnTo>
                <a:lnTo>
                  <a:pt x="1081" y="29"/>
                </a:lnTo>
                <a:lnTo>
                  <a:pt x="1090" y="35"/>
                </a:lnTo>
                <a:lnTo>
                  <a:pt x="1100" y="41"/>
                </a:lnTo>
                <a:lnTo>
                  <a:pt x="1109" y="48"/>
                </a:lnTo>
                <a:lnTo>
                  <a:pt x="1119" y="56"/>
                </a:lnTo>
                <a:lnTo>
                  <a:pt x="1130" y="64"/>
                </a:lnTo>
                <a:lnTo>
                  <a:pt x="1142" y="73"/>
                </a:lnTo>
                <a:lnTo>
                  <a:pt x="1152" y="85"/>
                </a:lnTo>
                <a:lnTo>
                  <a:pt x="1163" y="94"/>
                </a:lnTo>
                <a:lnTo>
                  <a:pt x="1173" y="106"/>
                </a:lnTo>
                <a:lnTo>
                  <a:pt x="1180" y="115"/>
                </a:lnTo>
                <a:lnTo>
                  <a:pt x="1190" y="123"/>
                </a:lnTo>
                <a:lnTo>
                  <a:pt x="1198" y="131"/>
                </a:lnTo>
                <a:lnTo>
                  <a:pt x="1203" y="138"/>
                </a:lnTo>
                <a:lnTo>
                  <a:pt x="1211" y="146"/>
                </a:lnTo>
                <a:lnTo>
                  <a:pt x="1217" y="154"/>
                </a:lnTo>
                <a:lnTo>
                  <a:pt x="1221" y="160"/>
                </a:lnTo>
                <a:lnTo>
                  <a:pt x="1226" y="163"/>
                </a:lnTo>
                <a:lnTo>
                  <a:pt x="1230" y="169"/>
                </a:lnTo>
                <a:lnTo>
                  <a:pt x="1232" y="173"/>
                </a:lnTo>
                <a:lnTo>
                  <a:pt x="1234" y="177"/>
                </a:lnTo>
                <a:lnTo>
                  <a:pt x="1236" y="181"/>
                </a:lnTo>
                <a:lnTo>
                  <a:pt x="1236" y="183"/>
                </a:lnTo>
                <a:lnTo>
                  <a:pt x="1236" y="186"/>
                </a:lnTo>
                <a:lnTo>
                  <a:pt x="1234" y="192"/>
                </a:lnTo>
                <a:lnTo>
                  <a:pt x="1234" y="196"/>
                </a:lnTo>
                <a:lnTo>
                  <a:pt x="1232" y="198"/>
                </a:lnTo>
                <a:lnTo>
                  <a:pt x="1228" y="202"/>
                </a:lnTo>
                <a:lnTo>
                  <a:pt x="1226" y="206"/>
                </a:lnTo>
                <a:lnTo>
                  <a:pt x="1223" y="209"/>
                </a:lnTo>
                <a:lnTo>
                  <a:pt x="1219" y="211"/>
                </a:lnTo>
                <a:lnTo>
                  <a:pt x="1213" y="215"/>
                </a:lnTo>
                <a:lnTo>
                  <a:pt x="1209" y="217"/>
                </a:lnTo>
                <a:lnTo>
                  <a:pt x="1203" y="219"/>
                </a:lnTo>
                <a:lnTo>
                  <a:pt x="1196" y="223"/>
                </a:lnTo>
                <a:lnTo>
                  <a:pt x="1190" y="225"/>
                </a:lnTo>
                <a:lnTo>
                  <a:pt x="1182" y="227"/>
                </a:lnTo>
                <a:lnTo>
                  <a:pt x="1175" y="229"/>
                </a:lnTo>
                <a:lnTo>
                  <a:pt x="1165" y="232"/>
                </a:lnTo>
                <a:lnTo>
                  <a:pt x="1161" y="232"/>
                </a:lnTo>
                <a:lnTo>
                  <a:pt x="1155" y="234"/>
                </a:lnTo>
                <a:lnTo>
                  <a:pt x="1148" y="238"/>
                </a:lnTo>
                <a:lnTo>
                  <a:pt x="1142" y="242"/>
                </a:lnTo>
                <a:lnTo>
                  <a:pt x="1134" y="246"/>
                </a:lnTo>
                <a:lnTo>
                  <a:pt x="1125" y="250"/>
                </a:lnTo>
                <a:lnTo>
                  <a:pt x="1117" y="255"/>
                </a:lnTo>
                <a:lnTo>
                  <a:pt x="1107" y="261"/>
                </a:lnTo>
                <a:lnTo>
                  <a:pt x="1096" y="267"/>
                </a:lnTo>
                <a:lnTo>
                  <a:pt x="1084" y="275"/>
                </a:lnTo>
                <a:lnTo>
                  <a:pt x="1073" y="282"/>
                </a:lnTo>
                <a:lnTo>
                  <a:pt x="1061" y="290"/>
                </a:lnTo>
                <a:lnTo>
                  <a:pt x="1048" y="300"/>
                </a:lnTo>
                <a:lnTo>
                  <a:pt x="1034" y="309"/>
                </a:lnTo>
                <a:lnTo>
                  <a:pt x="1019" y="321"/>
                </a:lnTo>
                <a:lnTo>
                  <a:pt x="1004" y="330"/>
                </a:lnTo>
                <a:lnTo>
                  <a:pt x="988" y="342"/>
                </a:lnTo>
                <a:lnTo>
                  <a:pt x="971" y="355"/>
                </a:lnTo>
                <a:lnTo>
                  <a:pt x="954" y="369"/>
                </a:lnTo>
                <a:lnTo>
                  <a:pt x="935" y="382"/>
                </a:lnTo>
                <a:lnTo>
                  <a:pt x="917" y="396"/>
                </a:lnTo>
                <a:lnTo>
                  <a:pt x="898" y="411"/>
                </a:lnTo>
                <a:lnTo>
                  <a:pt x="877" y="426"/>
                </a:lnTo>
                <a:lnTo>
                  <a:pt x="856" y="442"/>
                </a:lnTo>
                <a:lnTo>
                  <a:pt x="835" y="459"/>
                </a:lnTo>
                <a:lnTo>
                  <a:pt x="814" y="476"/>
                </a:lnTo>
                <a:lnTo>
                  <a:pt x="791" y="495"/>
                </a:lnTo>
                <a:lnTo>
                  <a:pt x="766" y="515"/>
                </a:lnTo>
                <a:lnTo>
                  <a:pt x="743" y="534"/>
                </a:lnTo>
                <a:lnTo>
                  <a:pt x="718" y="555"/>
                </a:lnTo>
                <a:lnTo>
                  <a:pt x="693" y="576"/>
                </a:lnTo>
                <a:lnTo>
                  <a:pt x="666" y="5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左边三撇平行，右边捺画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9"/>
          <p:cNvSpPr/>
          <p:nvPr/>
        </p:nvSpPr>
        <p:spPr>
          <a:xfrm>
            <a:off x="5584680" y="3049560"/>
            <a:ext cx="747720" cy="509760"/>
          </a:xfrm>
          <a:custGeom>
            <a:avLst/>
            <a:gdLst/>
            <a:ahLst/>
            <a:rect l="l" t="t" r="r" b="b"/>
            <a:pathLst>
              <a:path w="943" h="641">
                <a:moveTo>
                  <a:pt x="463" y="641"/>
                </a:moveTo>
                <a:lnTo>
                  <a:pt x="423" y="622"/>
                </a:lnTo>
                <a:lnTo>
                  <a:pt x="380" y="605"/>
                </a:lnTo>
                <a:lnTo>
                  <a:pt x="400" y="580"/>
                </a:lnTo>
                <a:lnTo>
                  <a:pt x="419" y="555"/>
                </a:lnTo>
                <a:lnTo>
                  <a:pt x="436" y="532"/>
                </a:lnTo>
                <a:lnTo>
                  <a:pt x="455" y="509"/>
                </a:lnTo>
                <a:lnTo>
                  <a:pt x="471" y="488"/>
                </a:lnTo>
                <a:lnTo>
                  <a:pt x="488" y="466"/>
                </a:lnTo>
                <a:lnTo>
                  <a:pt x="503" y="445"/>
                </a:lnTo>
                <a:lnTo>
                  <a:pt x="519" y="426"/>
                </a:lnTo>
                <a:lnTo>
                  <a:pt x="534" y="407"/>
                </a:lnTo>
                <a:lnTo>
                  <a:pt x="547" y="388"/>
                </a:lnTo>
                <a:lnTo>
                  <a:pt x="561" y="371"/>
                </a:lnTo>
                <a:lnTo>
                  <a:pt x="574" y="353"/>
                </a:lnTo>
                <a:lnTo>
                  <a:pt x="586" y="338"/>
                </a:lnTo>
                <a:lnTo>
                  <a:pt x="597" y="323"/>
                </a:lnTo>
                <a:lnTo>
                  <a:pt x="609" y="307"/>
                </a:lnTo>
                <a:lnTo>
                  <a:pt x="618" y="294"/>
                </a:lnTo>
                <a:lnTo>
                  <a:pt x="628" y="282"/>
                </a:lnTo>
                <a:lnTo>
                  <a:pt x="636" y="269"/>
                </a:lnTo>
                <a:lnTo>
                  <a:pt x="645" y="257"/>
                </a:lnTo>
                <a:lnTo>
                  <a:pt x="653" y="248"/>
                </a:lnTo>
                <a:lnTo>
                  <a:pt x="659" y="236"/>
                </a:lnTo>
                <a:lnTo>
                  <a:pt x="664" y="229"/>
                </a:lnTo>
                <a:lnTo>
                  <a:pt x="670" y="219"/>
                </a:lnTo>
                <a:lnTo>
                  <a:pt x="676" y="211"/>
                </a:lnTo>
                <a:lnTo>
                  <a:pt x="680" y="205"/>
                </a:lnTo>
                <a:lnTo>
                  <a:pt x="684" y="200"/>
                </a:lnTo>
                <a:lnTo>
                  <a:pt x="686" y="194"/>
                </a:lnTo>
                <a:lnTo>
                  <a:pt x="688" y="188"/>
                </a:lnTo>
                <a:lnTo>
                  <a:pt x="689" y="184"/>
                </a:lnTo>
                <a:lnTo>
                  <a:pt x="689" y="182"/>
                </a:lnTo>
                <a:lnTo>
                  <a:pt x="689" y="181"/>
                </a:lnTo>
                <a:lnTo>
                  <a:pt x="689" y="179"/>
                </a:lnTo>
                <a:lnTo>
                  <a:pt x="684" y="173"/>
                </a:lnTo>
                <a:lnTo>
                  <a:pt x="678" y="169"/>
                </a:lnTo>
                <a:lnTo>
                  <a:pt x="670" y="165"/>
                </a:lnTo>
                <a:lnTo>
                  <a:pt x="663" y="159"/>
                </a:lnTo>
                <a:lnTo>
                  <a:pt x="653" y="156"/>
                </a:lnTo>
                <a:lnTo>
                  <a:pt x="641" y="150"/>
                </a:lnTo>
                <a:lnTo>
                  <a:pt x="630" y="146"/>
                </a:lnTo>
                <a:lnTo>
                  <a:pt x="618" y="142"/>
                </a:lnTo>
                <a:lnTo>
                  <a:pt x="611" y="142"/>
                </a:lnTo>
                <a:lnTo>
                  <a:pt x="601" y="142"/>
                </a:lnTo>
                <a:lnTo>
                  <a:pt x="592" y="144"/>
                </a:lnTo>
                <a:lnTo>
                  <a:pt x="582" y="146"/>
                </a:lnTo>
                <a:lnTo>
                  <a:pt x="570" y="150"/>
                </a:lnTo>
                <a:lnTo>
                  <a:pt x="557" y="152"/>
                </a:lnTo>
                <a:lnTo>
                  <a:pt x="544" y="156"/>
                </a:lnTo>
                <a:lnTo>
                  <a:pt x="528" y="161"/>
                </a:lnTo>
                <a:lnTo>
                  <a:pt x="513" y="167"/>
                </a:lnTo>
                <a:lnTo>
                  <a:pt x="496" y="173"/>
                </a:lnTo>
                <a:lnTo>
                  <a:pt x="476" y="179"/>
                </a:lnTo>
                <a:lnTo>
                  <a:pt x="457" y="188"/>
                </a:lnTo>
                <a:lnTo>
                  <a:pt x="436" y="196"/>
                </a:lnTo>
                <a:lnTo>
                  <a:pt x="415" y="205"/>
                </a:lnTo>
                <a:lnTo>
                  <a:pt x="392" y="215"/>
                </a:lnTo>
                <a:lnTo>
                  <a:pt x="369" y="227"/>
                </a:lnTo>
                <a:lnTo>
                  <a:pt x="355" y="232"/>
                </a:lnTo>
                <a:lnTo>
                  <a:pt x="342" y="238"/>
                </a:lnTo>
                <a:lnTo>
                  <a:pt x="329" y="242"/>
                </a:lnTo>
                <a:lnTo>
                  <a:pt x="315" y="246"/>
                </a:lnTo>
                <a:lnTo>
                  <a:pt x="304" y="250"/>
                </a:lnTo>
                <a:lnTo>
                  <a:pt x="290" y="253"/>
                </a:lnTo>
                <a:lnTo>
                  <a:pt x="265" y="257"/>
                </a:lnTo>
                <a:lnTo>
                  <a:pt x="240" y="261"/>
                </a:lnTo>
                <a:lnTo>
                  <a:pt x="217" y="261"/>
                </a:lnTo>
                <a:lnTo>
                  <a:pt x="194" y="261"/>
                </a:lnTo>
                <a:lnTo>
                  <a:pt x="171" y="257"/>
                </a:lnTo>
                <a:lnTo>
                  <a:pt x="148" y="253"/>
                </a:lnTo>
                <a:lnTo>
                  <a:pt x="125" y="248"/>
                </a:lnTo>
                <a:lnTo>
                  <a:pt x="104" y="240"/>
                </a:lnTo>
                <a:lnTo>
                  <a:pt x="83" y="230"/>
                </a:lnTo>
                <a:lnTo>
                  <a:pt x="62" y="221"/>
                </a:lnTo>
                <a:lnTo>
                  <a:pt x="41" y="207"/>
                </a:lnTo>
                <a:lnTo>
                  <a:pt x="19" y="194"/>
                </a:lnTo>
                <a:lnTo>
                  <a:pt x="0" y="179"/>
                </a:lnTo>
                <a:lnTo>
                  <a:pt x="14" y="169"/>
                </a:lnTo>
                <a:lnTo>
                  <a:pt x="29" y="161"/>
                </a:lnTo>
                <a:lnTo>
                  <a:pt x="44" y="156"/>
                </a:lnTo>
                <a:lnTo>
                  <a:pt x="62" y="150"/>
                </a:lnTo>
                <a:lnTo>
                  <a:pt x="81" y="146"/>
                </a:lnTo>
                <a:lnTo>
                  <a:pt x="100" y="144"/>
                </a:lnTo>
                <a:lnTo>
                  <a:pt x="121" y="142"/>
                </a:lnTo>
                <a:lnTo>
                  <a:pt x="142" y="142"/>
                </a:lnTo>
                <a:lnTo>
                  <a:pt x="165" y="140"/>
                </a:lnTo>
                <a:lnTo>
                  <a:pt x="186" y="140"/>
                </a:lnTo>
                <a:lnTo>
                  <a:pt x="210" y="136"/>
                </a:lnTo>
                <a:lnTo>
                  <a:pt x="233" y="135"/>
                </a:lnTo>
                <a:lnTo>
                  <a:pt x="258" y="131"/>
                </a:lnTo>
                <a:lnTo>
                  <a:pt x="281" y="127"/>
                </a:lnTo>
                <a:lnTo>
                  <a:pt x="305" y="121"/>
                </a:lnTo>
                <a:lnTo>
                  <a:pt x="332" y="117"/>
                </a:lnTo>
                <a:lnTo>
                  <a:pt x="355" y="113"/>
                </a:lnTo>
                <a:lnTo>
                  <a:pt x="378" y="108"/>
                </a:lnTo>
                <a:lnTo>
                  <a:pt x="403" y="104"/>
                </a:lnTo>
                <a:lnTo>
                  <a:pt x="428" y="98"/>
                </a:lnTo>
                <a:lnTo>
                  <a:pt x="455" y="92"/>
                </a:lnTo>
                <a:lnTo>
                  <a:pt x="482" y="85"/>
                </a:lnTo>
                <a:lnTo>
                  <a:pt x="507" y="77"/>
                </a:lnTo>
                <a:lnTo>
                  <a:pt x="534" y="69"/>
                </a:lnTo>
                <a:lnTo>
                  <a:pt x="557" y="64"/>
                </a:lnTo>
                <a:lnTo>
                  <a:pt x="576" y="58"/>
                </a:lnTo>
                <a:lnTo>
                  <a:pt x="595" y="50"/>
                </a:lnTo>
                <a:lnTo>
                  <a:pt x="613" y="42"/>
                </a:lnTo>
                <a:lnTo>
                  <a:pt x="630" y="35"/>
                </a:lnTo>
                <a:lnTo>
                  <a:pt x="636" y="31"/>
                </a:lnTo>
                <a:lnTo>
                  <a:pt x="643" y="25"/>
                </a:lnTo>
                <a:lnTo>
                  <a:pt x="649" y="21"/>
                </a:lnTo>
                <a:lnTo>
                  <a:pt x="655" y="17"/>
                </a:lnTo>
                <a:lnTo>
                  <a:pt x="661" y="12"/>
                </a:lnTo>
                <a:lnTo>
                  <a:pt x="664" y="8"/>
                </a:lnTo>
                <a:lnTo>
                  <a:pt x="674" y="4"/>
                </a:lnTo>
                <a:lnTo>
                  <a:pt x="686" y="0"/>
                </a:lnTo>
                <a:lnTo>
                  <a:pt x="697" y="0"/>
                </a:lnTo>
                <a:lnTo>
                  <a:pt x="711" y="0"/>
                </a:lnTo>
                <a:lnTo>
                  <a:pt x="726" y="2"/>
                </a:lnTo>
                <a:lnTo>
                  <a:pt x="736" y="4"/>
                </a:lnTo>
                <a:lnTo>
                  <a:pt x="743" y="6"/>
                </a:lnTo>
                <a:lnTo>
                  <a:pt x="753" y="8"/>
                </a:lnTo>
                <a:lnTo>
                  <a:pt x="762" y="12"/>
                </a:lnTo>
                <a:lnTo>
                  <a:pt x="774" y="16"/>
                </a:lnTo>
                <a:lnTo>
                  <a:pt x="784" y="19"/>
                </a:lnTo>
                <a:lnTo>
                  <a:pt x="801" y="33"/>
                </a:lnTo>
                <a:lnTo>
                  <a:pt x="818" y="46"/>
                </a:lnTo>
                <a:lnTo>
                  <a:pt x="833" y="58"/>
                </a:lnTo>
                <a:lnTo>
                  <a:pt x="849" y="69"/>
                </a:lnTo>
                <a:lnTo>
                  <a:pt x="862" y="81"/>
                </a:lnTo>
                <a:lnTo>
                  <a:pt x="876" y="92"/>
                </a:lnTo>
                <a:lnTo>
                  <a:pt x="889" y="104"/>
                </a:lnTo>
                <a:lnTo>
                  <a:pt x="903" y="117"/>
                </a:lnTo>
                <a:lnTo>
                  <a:pt x="910" y="125"/>
                </a:lnTo>
                <a:lnTo>
                  <a:pt x="916" y="131"/>
                </a:lnTo>
                <a:lnTo>
                  <a:pt x="920" y="138"/>
                </a:lnTo>
                <a:lnTo>
                  <a:pt x="926" y="144"/>
                </a:lnTo>
                <a:lnTo>
                  <a:pt x="929" y="152"/>
                </a:lnTo>
                <a:lnTo>
                  <a:pt x="933" y="158"/>
                </a:lnTo>
                <a:lnTo>
                  <a:pt x="935" y="163"/>
                </a:lnTo>
                <a:lnTo>
                  <a:pt x="939" y="169"/>
                </a:lnTo>
                <a:lnTo>
                  <a:pt x="941" y="175"/>
                </a:lnTo>
                <a:lnTo>
                  <a:pt x="941" y="181"/>
                </a:lnTo>
                <a:lnTo>
                  <a:pt x="943" y="184"/>
                </a:lnTo>
                <a:lnTo>
                  <a:pt x="943" y="190"/>
                </a:lnTo>
                <a:lnTo>
                  <a:pt x="943" y="194"/>
                </a:lnTo>
                <a:lnTo>
                  <a:pt x="943" y="198"/>
                </a:lnTo>
                <a:lnTo>
                  <a:pt x="941" y="200"/>
                </a:lnTo>
                <a:lnTo>
                  <a:pt x="939" y="204"/>
                </a:lnTo>
                <a:lnTo>
                  <a:pt x="933" y="207"/>
                </a:lnTo>
                <a:lnTo>
                  <a:pt x="929" y="211"/>
                </a:lnTo>
                <a:lnTo>
                  <a:pt x="924" y="217"/>
                </a:lnTo>
                <a:lnTo>
                  <a:pt x="918" y="221"/>
                </a:lnTo>
                <a:lnTo>
                  <a:pt x="910" y="225"/>
                </a:lnTo>
                <a:lnTo>
                  <a:pt x="903" y="230"/>
                </a:lnTo>
                <a:lnTo>
                  <a:pt x="897" y="232"/>
                </a:lnTo>
                <a:lnTo>
                  <a:pt x="891" y="234"/>
                </a:lnTo>
                <a:lnTo>
                  <a:pt x="885" y="236"/>
                </a:lnTo>
                <a:lnTo>
                  <a:pt x="879" y="240"/>
                </a:lnTo>
                <a:lnTo>
                  <a:pt x="876" y="240"/>
                </a:lnTo>
                <a:lnTo>
                  <a:pt x="872" y="242"/>
                </a:lnTo>
                <a:lnTo>
                  <a:pt x="866" y="246"/>
                </a:lnTo>
                <a:lnTo>
                  <a:pt x="860" y="250"/>
                </a:lnTo>
                <a:lnTo>
                  <a:pt x="855" y="253"/>
                </a:lnTo>
                <a:lnTo>
                  <a:pt x="847" y="259"/>
                </a:lnTo>
                <a:lnTo>
                  <a:pt x="841" y="265"/>
                </a:lnTo>
                <a:lnTo>
                  <a:pt x="831" y="271"/>
                </a:lnTo>
                <a:lnTo>
                  <a:pt x="824" y="278"/>
                </a:lnTo>
                <a:lnTo>
                  <a:pt x="814" y="286"/>
                </a:lnTo>
                <a:lnTo>
                  <a:pt x="805" y="294"/>
                </a:lnTo>
                <a:lnTo>
                  <a:pt x="793" y="303"/>
                </a:lnTo>
                <a:lnTo>
                  <a:pt x="784" y="313"/>
                </a:lnTo>
                <a:lnTo>
                  <a:pt x="772" y="324"/>
                </a:lnTo>
                <a:lnTo>
                  <a:pt x="759" y="336"/>
                </a:lnTo>
                <a:lnTo>
                  <a:pt x="745" y="347"/>
                </a:lnTo>
                <a:lnTo>
                  <a:pt x="732" y="361"/>
                </a:lnTo>
                <a:lnTo>
                  <a:pt x="718" y="374"/>
                </a:lnTo>
                <a:lnTo>
                  <a:pt x="705" y="388"/>
                </a:lnTo>
                <a:lnTo>
                  <a:pt x="689" y="403"/>
                </a:lnTo>
                <a:lnTo>
                  <a:pt x="672" y="418"/>
                </a:lnTo>
                <a:lnTo>
                  <a:pt x="657" y="436"/>
                </a:lnTo>
                <a:lnTo>
                  <a:pt x="640" y="453"/>
                </a:lnTo>
                <a:lnTo>
                  <a:pt x="622" y="470"/>
                </a:lnTo>
                <a:lnTo>
                  <a:pt x="605" y="489"/>
                </a:lnTo>
                <a:lnTo>
                  <a:pt x="586" y="509"/>
                </a:lnTo>
                <a:lnTo>
                  <a:pt x="567" y="530"/>
                </a:lnTo>
                <a:lnTo>
                  <a:pt x="547" y="549"/>
                </a:lnTo>
                <a:lnTo>
                  <a:pt x="526" y="572"/>
                </a:lnTo>
                <a:lnTo>
                  <a:pt x="507" y="593"/>
                </a:lnTo>
                <a:lnTo>
                  <a:pt x="486" y="616"/>
                </a:lnTo>
                <a:lnTo>
                  <a:pt x="463" y="6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0"/>
          <p:cNvSpPr/>
          <p:nvPr/>
        </p:nvSpPr>
        <p:spPr>
          <a:xfrm>
            <a:off x="5788080" y="3451320"/>
            <a:ext cx="233280" cy="244440"/>
          </a:xfrm>
          <a:custGeom>
            <a:avLst/>
            <a:gdLst/>
            <a:ahLst/>
            <a:rect l="l" t="t" r="r" b="b"/>
            <a:pathLst>
              <a:path w="293" h="307">
                <a:moveTo>
                  <a:pt x="97" y="11"/>
                </a:moveTo>
                <a:lnTo>
                  <a:pt x="107" y="11"/>
                </a:lnTo>
                <a:lnTo>
                  <a:pt x="117" y="13"/>
                </a:lnTo>
                <a:lnTo>
                  <a:pt x="124" y="15"/>
                </a:lnTo>
                <a:lnTo>
                  <a:pt x="134" y="17"/>
                </a:lnTo>
                <a:lnTo>
                  <a:pt x="143" y="19"/>
                </a:lnTo>
                <a:lnTo>
                  <a:pt x="151" y="23"/>
                </a:lnTo>
                <a:lnTo>
                  <a:pt x="161" y="25"/>
                </a:lnTo>
                <a:lnTo>
                  <a:pt x="170" y="30"/>
                </a:lnTo>
                <a:lnTo>
                  <a:pt x="178" y="34"/>
                </a:lnTo>
                <a:lnTo>
                  <a:pt x="188" y="40"/>
                </a:lnTo>
                <a:lnTo>
                  <a:pt x="197" y="46"/>
                </a:lnTo>
                <a:lnTo>
                  <a:pt x="205" y="53"/>
                </a:lnTo>
                <a:lnTo>
                  <a:pt x="215" y="59"/>
                </a:lnTo>
                <a:lnTo>
                  <a:pt x="224" y="67"/>
                </a:lnTo>
                <a:lnTo>
                  <a:pt x="232" y="76"/>
                </a:lnTo>
                <a:lnTo>
                  <a:pt x="241" y="84"/>
                </a:lnTo>
                <a:lnTo>
                  <a:pt x="249" y="94"/>
                </a:lnTo>
                <a:lnTo>
                  <a:pt x="257" y="103"/>
                </a:lnTo>
                <a:lnTo>
                  <a:pt x="264" y="113"/>
                </a:lnTo>
                <a:lnTo>
                  <a:pt x="270" y="121"/>
                </a:lnTo>
                <a:lnTo>
                  <a:pt x="276" y="130"/>
                </a:lnTo>
                <a:lnTo>
                  <a:pt x="280" y="140"/>
                </a:lnTo>
                <a:lnTo>
                  <a:pt x="284" y="149"/>
                </a:lnTo>
                <a:lnTo>
                  <a:pt x="287" y="157"/>
                </a:lnTo>
                <a:lnTo>
                  <a:pt x="289" y="167"/>
                </a:lnTo>
                <a:lnTo>
                  <a:pt x="291" y="176"/>
                </a:lnTo>
                <a:lnTo>
                  <a:pt x="291" y="186"/>
                </a:lnTo>
                <a:lnTo>
                  <a:pt x="293" y="194"/>
                </a:lnTo>
                <a:lnTo>
                  <a:pt x="293" y="203"/>
                </a:lnTo>
                <a:lnTo>
                  <a:pt x="291" y="213"/>
                </a:lnTo>
                <a:lnTo>
                  <a:pt x="291" y="222"/>
                </a:lnTo>
                <a:lnTo>
                  <a:pt x="289" y="232"/>
                </a:lnTo>
                <a:lnTo>
                  <a:pt x="284" y="242"/>
                </a:lnTo>
                <a:lnTo>
                  <a:pt x="280" y="253"/>
                </a:lnTo>
                <a:lnTo>
                  <a:pt x="276" y="261"/>
                </a:lnTo>
                <a:lnTo>
                  <a:pt x="270" y="270"/>
                </a:lnTo>
                <a:lnTo>
                  <a:pt x="266" y="278"/>
                </a:lnTo>
                <a:lnTo>
                  <a:pt x="263" y="284"/>
                </a:lnTo>
                <a:lnTo>
                  <a:pt x="259" y="289"/>
                </a:lnTo>
                <a:lnTo>
                  <a:pt x="255" y="295"/>
                </a:lnTo>
                <a:lnTo>
                  <a:pt x="251" y="299"/>
                </a:lnTo>
                <a:lnTo>
                  <a:pt x="247" y="303"/>
                </a:lnTo>
                <a:lnTo>
                  <a:pt x="243" y="305"/>
                </a:lnTo>
                <a:lnTo>
                  <a:pt x="239" y="307"/>
                </a:lnTo>
                <a:lnTo>
                  <a:pt x="238" y="307"/>
                </a:lnTo>
                <a:lnTo>
                  <a:pt x="234" y="307"/>
                </a:lnTo>
                <a:lnTo>
                  <a:pt x="232" y="307"/>
                </a:lnTo>
                <a:lnTo>
                  <a:pt x="230" y="305"/>
                </a:lnTo>
                <a:lnTo>
                  <a:pt x="224" y="303"/>
                </a:lnTo>
                <a:lnTo>
                  <a:pt x="218" y="301"/>
                </a:lnTo>
                <a:lnTo>
                  <a:pt x="211" y="299"/>
                </a:lnTo>
                <a:lnTo>
                  <a:pt x="201" y="293"/>
                </a:lnTo>
                <a:lnTo>
                  <a:pt x="193" y="288"/>
                </a:lnTo>
                <a:lnTo>
                  <a:pt x="188" y="284"/>
                </a:lnTo>
                <a:lnTo>
                  <a:pt x="182" y="278"/>
                </a:lnTo>
                <a:lnTo>
                  <a:pt x="176" y="274"/>
                </a:lnTo>
                <a:lnTo>
                  <a:pt x="170" y="268"/>
                </a:lnTo>
                <a:lnTo>
                  <a:pt x="165" y="263"/>
                </a:lnTo>
                <a:lnTo>
                  <a:pt x="157" y="255"/>
                </a:lnTo>
                <a:lnTo>
                  <a:pt x="151" y="251"/>
                </a:lnTo>
                <a:lnTo>
                  <a:pt x="143" y="245"/>
                </a:lnTo>
                <a:lnTo>
                  <a:pt x="138" y="240"/>
                </a:lnTo>
                <a:lnTo>
                  <a:pt x="130" y="232"/>
                </a:lnTo>
                <a:lnTo>
                  <a:pt x="124" y="226"/>
                </a:lnTo>
                <a:lnTo>
                  <a:pt x="117" y="218"/>
                </a:lnTo>
                <a:lnTo>
                  <a:pt x="111" y="209"/>
                </a:lnTo>
                <a:lnTo>
                  <a:pt x="103" y="201"/>
                </a:lnTo>
                <a:lnTo>
                  <a:pt x="97" y="192"/>
                </a:lnTo>
                <a:lnTo>
                  <a:pt x="90" y="182"/>
                </a:lnTo>
                <a:lnTo>
                  <a:pt x="84" y="171"/>
                </a:lnTo>
                <a:lnTo>
                  <a:pt x="76" y="159"/>
                </a:lnTo>
                <a:lnTo>
                  <a:pt x="71" y="147"/>
                </a:lnTo>
                <a:lnTo>
                  <a:pt x="63" y="136"/>
                </a:lnTo>
                <a:lnTo>
                  <a:pt x="57" y="123"/>
                </a:lnTo>
                <a:lnTo>
                  <a:pt x="51" y="109"/>
                </a:lnTo>
                <a:lnTo>
                  <a:pt x="42" y="98"/>
                </a:lnTo>
                <a:lnTo>
                  <a:pt x="34" y="88"/>
                </a:lnTo>
                <a:lnTo>
                  <a:pt x="28" y="76"/>
                </a:lnTo>
                <a:lnTo>
                  <a:pt x="23" y="67"/>
                </a:lnTo>
                <a:lnTo>
                  <a:pt x="17" y="59"/>
                </a:lnTo>
                <a:lnTo>
                  <a:pt x="11" y="52"/>
                </a:lnTo>
                <a:lnTo>
                  <a:pt x="7" y="44"/>
                </a:lnTo>
                <a:lnTo>
                  <a:pt x="5" y="36"/>
                </a:lnTo>
                <a:lnTo>
                  <a:pt x="3" y="29"/>
                </a:lnTo>
                <a:lnTo>
                  <a:pt x="1" y="23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1" y="2"/>
                </a:lnTo>
                <a:lnTo>
                  <a:pt x="3" y="0"/>
                </a:lnTo>
                <a:lnTo>
                  <a:pt x="5" y="0"/>
                </a:lnTo>
                <a:lnTo>
                  <a:pt x="9" y="0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6" y="0"/>
                </a:lnTo>
                <a:lnTo>
                  <a:pt x="38" y="2"/>
                </a:lnTo>
                <a:lnTo>
                  <a:pt x="49" y="2"/>
                </a:lnTo>
                <a:lnTo>
                  <a:pt x="65" y="5"/>
                </a:lnTo>
                <a:lnTo>
                  <a:pt x="80" y="7"/>
                </a:lnTo>
                <a:lnTo>
                  <a:pt x="97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31"/>
          <p:cNvSpPr/>
          <p:nvPr/>
        </p:nvSpPr>
        <p:spPr>
          <a:xfrm>
            <a:off x="5433840" y="3639960"/>
            <a:ext cx="952560" cy="279720"/>
          </a:xfrm>
          <a:custGeom>
            <a:avLst/>
            <a:gdLst/>
            <a:ahLst/>
            <a:rect l="l" t="t" r="r" b="b"/>
            <a:pathLst>
              <a:path w="1200" h="351">
                <a:moveTo>
                  <a:pt x="1200" y="163"/>
                </a:moveTo>
                <a:lnTo>
                  <a:pt x="1200" y="169"/>
                </a:lnTo>
                <a:lnTo>
                  <a:pt x="1198" y="172"/>
                </a:lnTo>
                <a:lnTo>
                  <a:pt x="1198" y="176"/>
                </a:lnTo>
                <a:lnTo>
                  <a:pt x="1196" y="180"/>
                </a:lnTo>
                <a:lnTo>
                  <a:pt x="1194" y="184"/>
                </a:lnTo>
                <a:lnTo>
                  <a:pt x="1190" y="186"/>
                </a:lnTo>
                <a:lnTo>
                  <a:pt x="1183" y="192"/>
                </a:lnTo>
                <a:lnTo>
                  <a:pt x="1175" y="197"/>
                </a:lnTo>
                <a:lnTo>
                  <a:pt x="1165" y="203"/>
                </a:lnTo>
                <a:lnTo>
                  <a:pt x="1154" y="207"/>
                </a:lnTo>
                <a:lnTo>
                  <a:pt x="1141" y="213"/>
                </a:lnTo>
                <a:lnTo>
                  <a:pt x="1123" y="216"/>
                </a:lnTo>
                <a:lnTo>
                  <a:pt x="1104" y="224"/>
                </a:lnTo>
                <a:lnTo>
                  <a:pt x="1087" y="232"/>
                </a:lnTo>
                <a:lnTo>
                  <a:pt x="1068" y="241"/>
                </a:lnTo>
                <a:lnTo>
                  <a:pt x="1048" y="253"/>
                </a:lnTo>
                <a:lnTo>
                  <a:pt x="1039" y="259"/>
                </a:lnTo>
                <a:lnTo>
                  <a:pt x="1029" y="264"/>
                </a:lnTo>
                <a:lnTo>
                  <a:pt x="1018" y="272"/>
                </a:lnTo>
                <a:lnTo>
                  <a:pt x="1008" y="280"/>
                </a:lnTo>
                <a:lnTo>
                  <a:pt x="997" y="289"/>
                </a:lnTo>
                <a:lnTo>
                  <a:pt x="987" y="297"/>
                </a:lnTo>
                <a:lnTo>
                  <a:pt x="975" y="307"/>
                </a:lnTo>
                <a:lnTo>
                  <a:pt x="966" y="314"/>
                </a:lnTo>
                <a:lnTo>
                  <a:pt x="954" y="322"/>
                </a:lnTo>
                <a:lnTo>
                  <a:pt x="947" y="328"/>
                </a:lnTo>
                <a:lnTo>
                  <a:pt x="937" y="334"/>
                </a:lnTo>
                <a:lnTo>
                  <a:pt x="929" y="337"/>
                </a:lnTo>
                <a:lnTo>
                  <a:pt x="922" y="341"/>
                </a:lnTo>
                <a:lnTo>
                  <a:pt x="914" y="345"/>
                </a:lnTo>
                <a:lnTo>
                  <a:pt x="908" y="347"/>
                </a:lnTo>
                <a:lnTo>
                  <a:pt x="902" y="349"/>
                </a:lnTo>
                <a:lnTo>
                  <a:pt x="897" y="351"/>
                </a:lnTo>
                <a:lnTo>
                  <a:pt x="893" y="351"/>
                </a:lnTo>
                <a:lnTo>
                  <a:pt x="889" y="351"/>
                </a:lnTo>
                <a:lnTo>
                  <a:pt x="885" y="349"/>
                </a:lnTo>
                <a:lnTo>
                  <a:pt x="881" y="349"/>
                </a:lnTo>
                <a:lnTo>
                  <a:pt x="879" y="347"/>
                </a:lnTo>
                <a:lnTo>
                  <a:pt x="878" y="343"/>
                </a:lnTo>
                <a:lnTo>
                  <a:pt x="876" y="341"/>
                </a:lnTo>
                <a:lnTo>
                  <a:pt x="876" y="337"/>
                </a:lnTo>
                <a:lnTo>
                  <a:pt x="876" y="334"/>
                </a:lnTo>
                <a:lnTo>
                  <a:pt x="876" y="330"/>
                </a:lnTo>
                <a:lnTo>
                  <a:pt x="876" y="326"/>
                </a:lnTo>
                <a:lnTo>
                  <a:pt x="878" y="322"/>
                </a:lnTo>
                <a:lnTo>
                  <a:pt x="879" y="316"/>
                </a:lnTo>
                <a:lnTo>
                  <a:pt x="881" y="311"/>
                </a:lnTo>
                <a:lnTo>
                  <a:pt x="885" y="303"/>
                </a:lnTo>
                <a:lnTo>
                  <a:pt x="889" y="295"/>
                </a:lnTo>
                <a:lnTo>
                  <a:pt x="893" y="287"/>
                </a:lnTo>
                <a:lnTo>
                  <a:pt x="897" y="280"/>
                </a:lnTo>
                <a:lnTo>
                  <a:pt x="902" y="270"/>
                </a:lnTo>
                <a:lnTo>
                  <a:pt x="908" y="261"/>
                </a:lnTo>
                <a:lnTo>
                  <a:pt x="914" y="249"/>
                </a:lnTo>
                <a:lnTo>
                  <a:pt x="918" y="240"/>
                </a:lnTo>
                <a:lnTo>
                  <a:pt x="924" y="232"/>
                </a:lnTo>
                <a:lnTo>
                  <a:pt x="926" y="224"/>
                </a:lnTo>
                <a:lnTo>
                  <a:pt x="929" y="216"/>
                </a:lnTo>
                <a:lnTo>
                  <a:pt x="933" y="209"/>
                </a:lnTo>
                <a:lnTo>
                  <a:pt x="935" y="203"/>
                </a:lnTo>
                <a:lnTo>
                  <a:pt x="939" y="192"/>
                </a:lnTo>
                <a:lnTo>
                  <a:pt x="943" y="182"/>
                </a:lnTo>
                <a:lnTo>
                  <a:pt x="943" y="178"/>
                </a:lnTo>
                <a:lnTo>
                  <a:pt x="943" y="174"/>
                </a:lnTo>
                <a:lnTo>
                  <a:pt x="943" y="172"/>
                </a:lnTo>
                <a:lnTo>
                  <a:pt x="941" y="169"/>
                </a:lnTo>
                <a:lnTo>
                  <a:pt x="941" y="167"/>
                </a:lnTo>
                <a:lnTo>
                  <a:pt x="939" y="163"/>
                </a:lnTo>
                <a:lnTo>
                  <a:pt x="935" y="161"/>
                </a:lnTo>
                <a:lnTo>
                  <a:pt x="931" y="161"/>
                </a:lnTo>
                <a:lnTo>
                  <a:pt x="926" y="159"/>
                </a:lnTo>
                <a:lnTo>
                  <a:pt x="918" y="159"/>
                </a:lnTo>
                <a:lnTo>
                  <a:pt x="910" y="159"/>
                </a:lnTo>
                <a:lnTo>
                  <a:pt x="901" y="159"/>
                </a:lnTo>
                <a:lnTo>
                  <a:pt x="891" y="161"/>
                </a:lnTo>
                <a:lnTo>
                  <a:pt x="879" y="163"/>
                </a:lnTo>
                <a:lnTo>
                  <a:pt x="866" y="165"/>
                </a:lnTo>
                <a:lnTo>
                  <a:pt x="853" y="167"/>
                </a:lnTo>
                <a:lnTo>
                  <a:pt x="837" y="169"/>
                </a:lnTo>
                <a:lnTo>
                  <a:pt x="822" y="172"/>
                </a:lnTo>
                <a:lnTo>
                  <a:pt x="805" y="176"/>
                </a:lnTo>
                <a:lnTo>
                  <a:pt x="787" y="180"/>
                </a:lnTo>
                <a:lnTo>
                  <a:pt x="768" y="184"/>
                </a:lnTo>
                <a:lnTo>
                  <a:pt x="749" y="188"/>
                </a:lnTo>
                <a:lnTo>
                  <a:pt x="709" y="201"/>
                </a:lnTo>
                <a:lnTo>
                  <a:pt x="666" y="213"/>
                </a:lnTo>
                <a:lnTo>
                  <a:pt x="622" y="226"/>
                </a:lnTo>
                <a:lnTo>
                  <a:pt x="578" y="236"/>
                </a:lnTo>
                <a:lnTo>
                  <a:pt x="534" y="247"/>
                </a:lnTo>
                <a:lnTo>
                  <a:pt x="488" y="259"/>
                </a:lnTo>
                <a:lnTo>
                  <a:pt x="440" y="272"/>
                </a:lnTo>
                <a:lnTo>
                  <a:pt x="392" y="286"/>
                </a:lnTo>
                <a:lnTo>
                  <a:pt x="369" y="291"/>
                </a:lnTo>
                <a:lnTo>
                  <a:pt x="346" y="299"/>
                </a:lnTo>
                <a:lnTo>
                  <a:pt x="323" y="305"/>
                </a:lnTo>
                <a:lnTo>
                  <a:pt x="304" y="311"/>
                </a:lnTo>
                <a:lnTo>
                  <a:pt x="282" y="316"/>
                </a:lnTo>
                <a:lnTo>
                  <a:pt x="265" y="320"/>
                </a:lnTo>
                <a:lnTo>
                  <a:pt x="248" y="326"/>
                </a:lnTo>
                <a:lnTo>
                  <a:pt x="231" y="330"/>
                </a:lnTo>
                <a:lnTo>
                  <a:pt x="215" y="334"/>
                </a:lnTo>
                <a:lnTo>
                  <a:pt x="202" y="337"/>
                </a:lnTo>
                <a:lnTo>
                  <a:pt x="190" y="339"/>
                </a:lnTo>
                <a:lnTo>
                  <a:pt x="177" y="341"/>
                </a:lnTo>
                <a:lnTo>
                  <a:pt x="167" y="343"/>
                </a:lnTo>
                <a:lnTo>
                  <a:pt x="158" y="345"/>
                </a:lnTo>
                <a:lnTo>
                  <a:pt x="150" y="345"/>
                </a:lnTo>
                <a:lnTo>
                  <a:pt x="142" y="347"/>
                </a:lnTo>
                <a:lnTo>
                  <a:pt x="129" y="345"/>
                </a:lnTo>
                <a:lnTo>
                  <a:pt x="117" y="343"/>
                </a:lnTo>
                <a:lnTo>
                  <a:pt x="106" y="341"/>
                </a:lnTo>
                <a:lnTo>
                  <a:pt x="94" y="335"/>
                </a:lnTo>
                <a:lnTo>
                  <a:pt x="83" y="330"/>
                </a:lnTo>
                <a:lnTo>
                  <a:pt x="77" y="326"/>
                </a:lnTo>
                <a:lnTo>
                  <a:pt x="71" y="320"/>
                </a:lnTo>
                <a:lnTo>
                  <a:pt x="65" y="316"/>
                </a:lnTo>
                <a:lnTo>
                  <a:pt x="60" y="311"/>
                </a:lnTo>
                <a:lnTo>
                  <a:pt x="54" y="305"/>
                </a:lnTo>
                <a:lnTo>
                  <a:pt x="46" y="297"/>
                </a:lnTo>
                <a:lnTo>
                  <a:pt x="41" y="291"/>
                </a:lnTo>
                <a:lnTo>
                  <a:pt x="35" y="284"/>
                </a:lnTo>
                <a:lnTo>
                  <a:pt x="29" y="278"/>
                </a:lnTo>
                <a:lnTo>
                  <a:pt x="25" y="272"/>
                </a:lnTo>
                <a:lnTo>
                  <a:pt x="16" y="261"/>
                </a:lnTo>
                <a:lnTo>
                  <a:pt x="10" y="251"/>
                </a:lnTo>
                <a:lnTo>
                  <a:pt x="6" y="240"/>
                </a:lnTo>
                <a:lnTo>
                  <a:pt x="2" y="230"/>
                </a:lnTo>
                <a:lnTo>
                  <a:pt x="0" y="222"/>
                </a:lnTo>
                <a:lnTo>
                  <a:pt x="0" y="213"/>
                </a:lnTo>
                <a:lnTo>
                  <a:pt x="48" y="211"/>
                </a:lnTo>
                <a:lnTo>
                  <a:pt x="96" y="211"/>
                </a:lnTo>
                <a:lnTo>
                  <a:pt x="142" y="207"/>
                </a:lnTo>
                <a:lnTo>
                  <a:pt x="190" y="201"/>
                </a:lnTo>
                <a:lnTo>
                  <a:pt x="213" y="199"/>
                </a:lnTo>
                <a:lnTo>
                  <a:pt x="236" y="195"/>
                </a:lnTo>
                <a:lnTo>
                  <a:pt x="259" y="192"/>
                </a:lnTo>
                <a:lnTo>
                  <a:pt x="284" y="186"/>
                </a:lnTo>
                <a:lnTo>
                  <a:pt x="307" y="182"/>
                </a:lnTo>
                <a:lnTo>
                  <a:pt x="332" y="176"/>
                </a:lnTo>
                <a:lnTo>
                  <a:pt x="355" y="170"/>
                </a:lnTo>
                <a:lnTo>
                  <a:pt x="380" y="163"/>
                </a:lnTo>
                <a:lnTo>
                  <a:pt x="403" y="159"/>
                </a:lnTo>
                <a:lnTo>
                  <a:pt x="428" y="155"/>
                </a:lnTo>
                <a:lnTo>
                  <a:pt x="451" y="149"/>
                </a:lnTo>
                <a:lnTo>
                  <a:pt x="474" y="145"/>
                </a:lnTo>
                <a:lnTo>
                  <a:pt x="519" y="136"/>
                </a:lnTo>
                <a:lnTo>
                  <a:pt x="561" y="126"/>
                </a:lnTo>
                <a:lnTo>
                  <a:pt x="603" y="119"/>
                </a:lnTo>
                <a:lnTo>
                  <a:pt x="643" y="109"/>
                </a:lnTo>
                <a:lnTo>
                  <a:pt x="684" y="99"/>
                </a:lnTo>
                <a:lnTo>
                  <a:pt x="724" y="90"/>
                </a:lnTo>
                <a:lnTo>
                  <a:pt x="743" y="88"/>
                </a:lnTo>
                <a:lnTo>
                  <a:pt x="762" y="86"/>
                </a:lnTo>
                <a:lnTo>
                  <a:pt x="780" y="82"/>
                </a:lnTo>
                <a:lnTo>
                  <a:pt x="797" y="78"/>
                </a:lnTo>
                <a:lnTo>
                  <a:pt x="810" y="76"/>
                </a:lnTo>
                <a:lnTo>
                  <a:pt x="826" y="73"/>
                </a:lnTo>
                <a:lnTo>
                  <a:pt x="839" y="69"/>
                </a:lnTo>
                <a:lnTo>
                  <a:pt x="851" y="65"/>
                </a:lnTo>
                <a:lnTo>
                  <a:pt x="862" y="61"/>
                </a:lnTo>
                <a:lnTo>
                  <a:pt x="872" y="57"/>
                </a:lnTo>
                <a:lnTo>
                  <a:pt x="881" y="51"/>
                </a:lnTo>
                <a:lnTo>
                  <a:pt x="889" y="48"/>
                </a:lnTo>
                <a:lnTo>
                  <a:pt x="897" y="44"/>
                </a:lnTo>
                <a:lnTo>
                  <a:pt x="904" y="38"/>
                </a:lnTo>
                <a:lnTo>
                  <a:pt x="910" y="34"/>
                </a:lnTo>
                <a:lnTo>
                  <a:pt x="914" y="30"/>
                </a:lnTo>
                <a:lnTo>
                  <a:pt x="924" y="21"/>
                </a:lnTo>
                <a:lnTo>
                  <a:pt x="933" y="13"/>
                </a:lnTo>
                <a:lnTo>
                  <a:pt x="943" y="7"/>
                </a:lnTo>
                <a:lnTo>
                  <a:pt x="952" y="4"/>
                </a:lnTo>
                <a:lnTo>
                  <a:pt x="962" y="2"/>
                </a:lnTo>
                <a:lnTo>
                  <a:pt x="968" y="0"/>
                </a:lnTo>
                <a:lnTo>
                  <a:pt x="974" y="0"/>
                </a:lnTo>
                <a:lnTo>
                  <a:pt x="979" y="2"/>
                </a:lnTo>
                <a:lnTo>
                  <a:pt x="985" y="2"/>
                </a:lnTo>
                <a:lnTo>
                  <a:pt x="991" y="4"/>
                </a:lnTo>
                <a:lnTo>
                  <a:pt x="998" y="5"/>
                </a:lnTo>
                <a:lnTo>
                  <a:pt x="1012" y="11"/>
                </a:lnTo>
                <a:lnTo>
                  <a:pt x="1025" y="17"/>
                </a:lnTo>
                <a:lnTo>
                  <a:pt x="1039" y="25"/>
                </a:lnTo>
                <a:lnTo>
                  <a:pt x="1054" y="32"/>
                </a:lnTo>
                <a:lnTo>
                  <a:pt x="1071" y="42"/>
                </a:lnTo>
                <a:lnTo>
                  <a:pt x="1089" y="53"/>
                </a:lnTo>
                <a:lnTo>
                  <a:pt x="1108" y="65"/>
                </a:lnTo>
                <a:lnTo>
                  <a:pt x="1117" y="71"/>
                </a:lnTo>
                <a:lnTo>
                  <a:pt x="1129" y="78"/>
                </a:lnTo>
                <a:lnTo>
                  <a:pt x="1137" y="86"/>
                </a:lnTo>
                <a:lnTo>
                  <a:pt x="1144" y="92"/>
                </a:lnTo>
                <a:lnTo>
                  <a:pt x="1152" y="98"/>
                </a:lnTo>
                <a:lnTo>
                  <a:pt x="1160" y="103"/>
                </a:lnTo>
                <a:lnTo>
                  <a:pt x="1165" y="109"/>
                </a:lnTo>
                <a:lnTo>
                  <a:pt x="1171" y="115"/>
                </a:lnTo>
                <a:lnTo>
                  <a:pt x="1177" y="121"/>
                </a:lnTo>
                <a:lnTo>
                  <a:pt x="1183" y="126"/>
                </a:lnTo>
                <a:lnTo>
                  <a:pt x="1187" y="130"/>
                </a:lnTo>
                <a:lnTo>
                  <a:pt x="1190" y="136"/>
                </a:lnTo>
                <a:lnTo>
                  <a:pt x="1192" y="140"/>
                </a:lnTo>
                <a:lnTo>
                  <a:pt x="1196" y="145"/>
                </a:lnTo>
                <a:lnTo>
                  <a:pt x="1198" y="149"/>
                </a:lnTo>
                <a:lnTo>
                  <a:pt x="1198" y="153"/>
                </a:lnTo>
                <a:lnTo>
                  <a:pt x="1200" y="159"/>
                </a:lnTo>
                <a:lnTo>
                  <a:pt x="1200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2"/>
          <p:cNvSpPr/>
          <p:nvPr/>
        </p:nvSpPr>
        <p:spPr>
          <a:xfrm>
            <a:off x="5675400" y="3781440"/>
            <a:ext cx="361800" cy="1103400"/>
          </a:xfrm>
          <a:custGeom>
            <a:avLst/>
            <a:gdLst/>
            <a:ahLst/>
            <a:rect l="l" t="t" r="r" b="b"/>
            <a:pathLst>
              <a:path w="455" h="1391">
                <a:moveTo>
                  <a:pt x="98" y="1157"/>
                </a:moveTo>
                <a:lnTo>
                  <a:pt x="83" y="1146"/>
                </a:lnTo>
                <a:lnTo>
                  <a:pt x="70" y="1134"/>
                </a:lnTo>
                <a:lnTo>
                  <a:pt x="58" y="1125"/>
                </a:lnTo>
                <a:lnTo>
                  <a:pt x="47" y="1115"/>
                </a:lnTo>
                <a:lnTo>
                  <a:pt x="37" y="1105"/>
                </a:lnTo>
                <a:lnTo>
                  <a:pt x="29" y="1098"/>
                </a:lnTo>
                <a:lnTo>
                  <a:pt x="22" y="1090"/>
                </a:lnTo>
                <a:lnTo>
                  <a:pt x="16" y="1082"/>
                </a:lnTo>
                <a:lnTo>
                  <a:pt x="10" y="1077"/>
                </a:lnTo>
                <a:lnTo>
                  <a:pt x="6" y="1071"/>
                </a:lnTo>
                <a:lnTo>
                  <a:pt x="4" y="1065"/>
                </a:lnTo>
                <a:lnTo>
                  <a:pt x="2" y="1059"/>
                </a:lnTo>
                <a:lnTo>
                  <a:pt x="0" y="1056"/>
                </a:lnTo>
                <a:lnTo>
                  <a:pt x="0" y="1052"/>
                </a:lnTo>
                <a:lnTo>
                  <a:pt x="2" y="1050"/>
                </a:lnTo>
                <a:lnTo>
                  <a:pt x="4" y="1046"/>
                </a:lnTo>
                <a:lnTo>
                  <a:pt x="6" y="1044"/>
                </a:lnTo>
                <a:lnTo>
                  <a:pt x="10" y="1042"/>
                </a:lnTo>
                <a:lnTo>
                  <a:pt x="14" y="1042"/>
                </a:lnTo>
                <a:lnTo>
                  <a:pt x="20" y="1042"/>
                </a:lnTo>
                <a:lnTo>
                  <a:pt x="25" y="1042"/>
                </a:lnTo>
                <a:lnTo>
                  <a:pt x="31" y="1042"/>
                </a:lnTo>
                <a:lnTo>
                  <a:pt x="39" y="1042"/>
                </a:lnTo>
                <a:lnTo>
                  <a:pt x="47" y="1044"/>
                </a:lnTo>
                <a:lnTo>
                  <a:pt x="56" y="1044"/>
                </a:lnTo>
                <a:lnTo>
                  <a:pt x="64" y="1046"/>
                </a:lnTo>
                <a:lnTo>
                  <a:pt x="75" y="1048"/>
                </a:lnTo>
                <a:lnTo>
                  <a:pt x="85" y="1050"/>
                </a:lnTo>
                <a:lnTo>
                  <a:pt x="96" y="1052"/>
                </a:lnTo>
                <a:lnTo>
                  <a:pt x="108" y="1054"/>
                </a:lnTo>
                <a:lnTo>
                  <a:pt x="121" y="1057"/>
                </a:lnTo>
                <a:lnTo>
                  <a:pt x="135" y="1059"/>
                </a:lnTo>
                <a:lnTo>
                  <a:pt x="144" y="1063"/>
                </a:lnTo>
                <a:lnTo>
                  <a:pt x="156" y="1067"/>
                </a:lnTo>
                <a:lnTo>
                  <a:pt x="166" y="1071"/>
                </a:lnTo>
                <a:lnTo>
                  <a:pt x="177" y="1073"/>
                </a:lnTo>
                <a:lnTo>
                  <a:pt x="187" y="1075"/>
                </a:lnTo>
                <a:lnTo>
                  <a:pt x="196" y="1077"/>
                </a:lnTo>
                <a:lnTo>
                  <a:pt x="204" y="1077"/>
                </a:lnTo>
                <a:lnTo>
                  <a:pt x="214" y="1077"/>
                </a:lnTo>
                <a:lnTo>
                  <a:pt x="221" y="1077"/>
                </a:lnTo>
                <a:lnTo>
                  <a:pt x="229" y="1077"/>
                </a:lnTo>
                <a:lnTo>
                  <a:pt x="237" y="1075"/>
                </a:lnTo>
                <a:lnTo>
                  <a:pt x="242" y="1073"/>
                </a:lnTo>
                <a:lnTo>
                  <a:pt x="250" y="1071"/>
                </a:lnTo>
                <a:lnTo>
                  <a:pt x="256" y="1067"/>
                </a:lnTo>
                <a:lnTo>
                  <a:pt x="260" y="1063"/>
                </a:lnTo>
                <a:lnTo>
                  <a:pt x="265" y="1059"/>
                </a:lnTo>
                <a:lnTo>
                  <a:pt x="269" y="1056"/>
                </a:lnTo>
                <a:lnTo>
                  <a:pt x="273" y="1052"/>
                </a:lnTo>
                <a:lnTo>
                  <a:pt x="277" y="1046"/>
                </a:lnTo>
                <a:lnTo>
                  <a:pt x="281" y="1038"/>
                </a:lnTo>
                <a:lnTo>
                  <a:pt x="285" y="1031"/>
                </a:lnTo>
                <a:lnTo>
                  <a:pt x="286" y="1021"/>
                </a:lnTo>
                <a:lnTo>
                  <a:pt x="290" y="1009"/>
                </a:lnTo>
                <a:lnTo>
                  <a:pt x="292" y="998"/>
                </a:lnTo>
                <a:lnTo>
                  <a:pt x="296" y="985"/>
                </a:lnTo>
                <a:lnTo>
                  <a:pt x="298" y="971"/>
                </a:lnTo>
                <a:lnTo>
                  <a:pt x="302" y="956"/>
                </a:lnTo>
                <a:lnTo>
                  <a:pt x="304" y="938"/>
                </a:lnTo>
                <a:lnTo>
                  <a:pt x="306" y="921"/>
                </a:lnTo>
                <a:lnTo>
                  <a:pt x="308" y="904"/>
                </a:lnTo>
                <a:lnTo>
                  <a:pt x="310" y="885"/>
                </a:lnTo>
                <a:lnTo>
                  <a:pt x="313" y="864"/>
                </a:lnTo>
                <a:lnTo>
                  <a:pt x="317" y="823"/>
                </a:lnTo>
                <a:lnTo>
                  <a:pt x="319" y="781"/>
                </a:lnTo>
                <a:lnTo>
                  <a:pt x="321" y="741"/>
                </a:lnTo>
                <a:lnTo>
                  <a:pt x="323" y="701"/>
                </a:lnTo>
                <a:lnTo>
                  <a:pt x="323" y="662"/>
                </a:lnTo>
                <a:lnTo>
                  <a:pt x="325" y="622"/>
                </a:lnTo>
                <a:lnTo>
                  <a:pt x="325" y="585"/>
                </a:lnTo>
                <a:lnTo>
                  <a:pt x="325" y="547"/>
                </a:lnTo>
                <a:lnTo>
                  <a:pt x="325" y="539"/>
                </a:lnTo>
                <a:lnTo>
                  <a:pt x="325" y="530"/>
                </a:lnTo>
                <a:lnTo>
                  <a:pt x="323" y="520"/>
                </a:lnTo>
                <a:lnTo>
                  <a:pt x="323" y="511"/>
                </a:lnTo>
                <a:lnTo>
                  <a:pt x="323" y="501"/>
                </a:lnTo>
                <a:lnTo>
                  <a:pt x="321" y="489"/>
                </a:lnTo>
                <a:lnTo>
                  <a:pt x="321" y="478"/>
                </a:lnTo>
                <a:lnTo>
                  <a:pt x="319" y="465"/>
                </a:lnTo>
                <a:lnTo>
                  <a:pt x="319" y="453"/>
                </a:lnTo>
                <a:lnTo>
                  <a:pt x="317" y="440"/>
                </a:lnTo>
                <a:lnTo>
                  <a:pt x="317" y="424"/>
                </a:lnTo>
                <a:lnTo>
                  <a:pt x="315" y="411"/>
                </a:lnTo>
                <a:lnTo>
                  <a:pt x="313" y="395"/>
                </a:lnTo>
                <a:lnTo>
                  <a:pt x="311" y="380"/>
                </a:lnTo>
                <a:lnTo>
                  <a:pt x="310" y="363"/>
                </a:lnTo>
                <a:lnTo>
                  <a:pt x="308" y="347"/>
                </a:lnTo>
                <a:lnTo>
                  <a:pt x="306" y="330"/>
                </a:lnTo>
                <a:lnTo>
                  <a:pt x="304" y="311"/>
                </a:lnTo>
                <a:lnTo>
                  <a:pt x="302" y="292"/>
                </a:lnTo>
                <a:lnTo>
                  <a:pt x="300" y="275"/>
                </a:lnTo>
                <a:lnTo>
                  <a:pt x="296" y="253"/>
                </a:lnTo>
                <a:lnTo>
                  <a:pt x="294" y="234"/>
                </a:lnTo>
                <a:lnTo>
                  <a:pt x="292" y="213"/>
                </a:lnTo>
                <a:lnTo>
                  <a:pt x="288" y="192"/>
                </a:lnTo>
                <a:lnTo>
                  <a:pt x="286" y="169"/>
                </a:lnTo>
                <a:lnTo>
                  <a:pt x="283" y="148"/>
                </a:lnTo>
                <a:lnTo>
                  <a:pt x="281" y="123"/>
                </a:lnTo>
                <a:lnTo>
                  <a:pt x="277" y="100"/>
                </a:lnTo>
                <a:lnTo>
                  <a:pt x="275" y="75"/>
                </a:lnTo>
                <a:lnTo>
                  <a:pt x="271" y="52"/>
                </a:lnTo>
                <a:lnTo>
                  <a:pt x="267" y="25"/>
                </a:lnTo>
                <a:lnTo>
                  <a:pt x="265" y="0"/>
                </a:lnTo>
                <a:lnTo>
                  <a:pt x="285" y="16"/>
                </a:lnTo>
                <a:lnTo>
                  <a:pt x="302" y="31"/>
                </a:lnTo>
                <a:lnTo>
                  <a:pt x="319" y="44"/>
                </a:lnTo>
                <a:lnTo>
                  <a:pt x="336" y="58"/>
                </a:lnTo>
                <a:lnTo>
                  <a:pt x="352" y="69"/>
                </a:lnTo>
                <a:lnTo>
                  <a:pt x="365" y="81"/>
                </a:lnTo>
                <a:lnTo>
                  <a:pt x="379" y="92"/>
                </a:lnTo>
                <a:lnTo>
                  <a:pt x="390" y="102"/>
                </a:lnTo>
                <a:lnTo>
                  <a:pt x="400" y="111"/>
                </a:lnTo>
                <a:lnTo>
                  <a:pt x="409" y="119"/>
                </a:lnTo>
                <a:lnTo>
                  <a:pt x="419" y="129"/>
                </a:lnTo>
                <a:lnTo>
                  <a:pt x="425" y="135"/>
                </a:lnTo>
                <a:lnTo>
                  <a:pt x="432" y="142"/>
                </a:lnTo>
                <a:lnTo>
                  <a:pt x="436" y="148"/>
                </a:lnTo>
                <a:lnTo>
                  <a:pt x="440" y="154"/>
                </a:lnTo>
                <a:lnTo>
                  <a:pt x="444" y="158"/>
                </a:lnTo>
                <a:lnTo>
                  <a:pt x="444" y="161"/>
                </a:lnTo>
                <a:lnTo>
                  <a:pt x="446" y="167"/>
                </a:lnTo>
                <a:lnTo>
                  <a:pt x="446" y="171"/>
                </a:lnTo>
                <a:lnTo>
                  <a:pt x="448" y="177"/>
                </a:lnTo>
                <a:lnTo>
                  <a:pt x="448" y="182"/>
                </a:lnTo>
                <a:lnTo>
                  <a:pt x="450" y="190"/>
                </a:lnTo>
                <a:lnTo>
                  <a:pt x="450" y="198"/>
                </a:lnTo>
                <a:lnTo>
                  <a:pt x="450" y="206"/>
                </a:lnTo>
                <a:lnTo>
                  <a:pt x="452" y="215"/>
                </a:lnTo>
                <a:lnTo>
                  <a:pt x="452" y="225"/>
                </a:lnTo>
                <a:lnTo>
                  <a:pt x="452" y="234"/>
                </a:lnTo>
                <a:lnTo>
                  <a:pt x="452" y="246"/>
                </a:lnTo>
                <a:lnTo>
                  <a:pt x="453" y="257"/>
                </a:lnTo>
                <a:lnTo>
                  <a:pt x="453" y="271"/>
                </a:lnTo>
                <a:lnTo>
                  <a:pt x="453" y="282"/>
                </a:lnTo>
                <a:lnTo>
                  <a:pt x="453" y="296"/>
                </a:lnTo>
                <a:lnTo>
                  <a:pt x="453" y="311"/>
                </a:lnTo>
                <a:lnTo>
                  <a:pt x="453" y="326"/>
                </a:lnTo>
                <a:lnTo>
                  <a:pt x="453" y="342"/>
                </a:lnTo>
                <a:lnTo>
                  <a:pt x="453" y="357"/>
                </a:lnTo>
                <a:lnTo>
                  <a:pt x="455" y="374"/>
                </a:lnTo>
                <a:lnTo>
                  <a:pt x="455" y="392"/>
                </a:lnTo>
                <a:lnTo>
                  <a:pt x="455" y="411"/>
                </a:lnTo>
                <a:lnTo>
                  <a:pt x="455" y="430"/>
                </a:lnTo>
                <a:lnTo>
                  <a:pt x="455" y="449"/>
                </a:lnTo>
                <a:lnTo>
                  <a:pt x="455" y="470"/>
                </a:lnTo>
                <a:lnTo>
                  <a:pt x="455" y="491"/>
                </a:lnTo>
                <a:lnTo>
                  <a:pt x="455" y="514"/>
                </a:lnTo>
                <a:lnTo>
                  <a:pt x="455" y="536"/>
                </a:lnTo>
                <a:lnTo>
                  <a:pt x="455" y="560"/>
                </a:lnTo>
                <a:lnTo>
                  <a:pt x="455" y="583"/>
                </a:lnTo>
                <a:lnTo>
                  <a:pt x="455" y="608"/>
                </a:lnTo>
                <a:lnTo>
                  <a:pt x="455" y="633"/>
                </a:lnTo>
                <a:lnTo>
                  <a:pt x="455" y="658"/>
                </a:lnTo>
                <a:lnTo>
                  <a:pt x="455" y="681"/>
                </a:lnTo>
                <a:lnTo>
                  <a:pt x="453" y="704"/>
                </a:lnTo>
                <a:lnTo>
                  <a:pt x="453" y="727"/>
                </a:lnTo>
                <a:lnTo>
                  <a:pt x="453" y="749"/>
                </a:lnTo>
                <a:lnTo>
                  <a:pt x="453" y="770"/>
                </a:lnTo>
                <a:lnTo>
                  <a:pt x="453" y="791"/>
                </a:lnTo>
                <a:lnTo>
                  <a:pt x="452" y="812"/>
                </a:lnTo>
                <a:lnTo>
                  <a:pt x="452" y="831"/>
                </a:lnTo>
                <a:lnTo>
                  <a:pt x="452" y="850"/>
                </a:lnTo>
                <a:lnTo>
                  <a:pt x="450" y="869"/>
                </a:lnTo>
                <a:lnTo>
                  <a:pt x="450" y="887"/>
                </a:lnTo>
                <a:lnTo>
                  <a:pt x="450" y="906"/>
                </a:lnTo>
                <a:lnTo>
                  <a:pt x="448" y="921"/>
                </a:lnTo>
                <a:lnTo>
                  <a:pt x="448" y="938"/>
                </a:lnTo>
                <a:lnTo>
                  <a:pt x="446" y="954"/>
                </a:lnTo>
                <a:lnTo>
                  <a:pt x="446" y="969"/>
                </a:lnTo>
                <a:lnTo>
                  <a:pt x="446" y="985"/>
                </a:lnTo>
                <a:lnTo>
                  <a:pt x="444" y="1000"/>
                </a:lnTo>
                <a:lnTo>
                  <a:pt x="444" y="1013"/>
                </a:lnTo>
                <a:lnTo>
                  <a:pt x="442" y="1027"/>
                </a:lnTo>
                <a:lnTo>
                  <a:pt x="440" y="1040"/>
                </a:lnTo>
                <a:lnTo>
                  <a:pt x="440" y="1052"/>
                </a:lnTo>
                <a:lnTo>
                  <a:pt x="438" y="1063"/>
                </a:lnTo>
                <a:lnTo>
                  <a:pt x="438" y="1075"/>
                </a:lnTo>
                <a:lnTo>
                  <a:pt x="436" y="1086"/>
                </a:lnTo>
                <a:lnTo>
                  <a:pt x="436" y="1096"/>
                </a:lnTo>
                <a:lnTo>
                  <a:pt x="434" y="1105"/>
                </a:lnTo>
                <a:lnTo>
                  <a:pt x="434" y="1115"/>
                </a:lnTo>
                <a:lnTo>
                  <a:pt x="432" y="1123"/>
                </a:lnTo>
                <a:lnTo>
                  <a:pt x="432" y="1132"/>
                </a:lnTo>
                <a:lnTo>
                  <a:pt x="423" y="1163"/>
                </a:lnTo>
                <a:lnTo>
                  <a:pt x="411" y="1194"/>
                </a:lnTo>
                <a:lnTo>
                  <a:pt x="400" y="1222"/>
                </a:lnTo>
                <a:lnTo>
                  <a:pt x="388" y="1249"/>
                </a:lnTo>
                <a:lnTo>
                  <a:pt x="375" y="1274"/>
                </a:lnTo>
                <a:lnTo>
                  <a:pt x="369" y="1286"/>
                </a:lnTo>
                <a:lnTo>
                  <a:pt x="363" y="1297"/>
                </a:lnTo>
                <a:lnTo>
                  <a:pt x="356" y="1309"/>
                </a:lnTo>
                <a:lnTo>
                  <a:pt x="350" y="1318"/>
                </a:lnTo>
                <a:lnTo>
                  <a:pt x="342" y="1330"/>
                </a:lnTo>
                <a:lnTo>
                  <a:pt x="336" y="1339"/>
                </a:lnTo>
                <a:lnTo>
                  <a:pt x="319" y="1351"/>
                </a:lnTo>
                <a:lnTo>
                  <a:pt x="304" y="1364"/>
                </a:lnTo>
                <a:lnTo>
                  <a:pt x="296" y="1368"/>
                </a:lnTo>
                <a:lnTo>
                  <a:pt x="288" y="1374"/>
                </a:lnTo>
                <a:lnTo>
                  <a:pt x="283" y="1378"/>
                </a:lnTo>
                <a:lnTo>
                  <a:pt x="275" y="1382"/>
                </a:lnTo>
                <a:lnTo>
                  <a:pt x="269" y="1384"/>
                </a:lnTo>
                <a:lnTo>
                  <a:pt x="263" y="1387"/>
                </a:lnTo>
                <a:lnTo>
                  <a:pt x="260" y="1389"/>
                </a:lnTo>
                <a:lnTo>
                  <a:pt x="254" y="1389"/>
                </a:lnTo>
                <a:lnTo>
                  <a:pt x="250" y="1391"/>
                </a:lnTo>
                <a:lnTo>
                  <a:pt x="246" y="1391"/>
                </a:lnTo>
                <a:lnTo>
                  <a:pt x="244" y="1389"/>
                </a:lnTo>
                <a:lnTo>
                  <a:pt x="240" y="1387"/>
                </a:lnTo>
                <a:lnTo>
                  <a:pt x="233" y="1382"/>
                </a:lnTo>
                <a:lnTo>
                  <a:pt x="225" y="1376"/>
                </a:lnTo>
                <a:lnTo>
                  <a:pt x="219" y="1368"/>
                </a:lnTo>
                <a:lnTo>
                  <a:pt x="215" y="1359"/>
                </a:lnTo>
                <a:lnTo>
                  <a:pt x="214" y="1347"/>
                </a:lnTo>
                <a:lnTo>
                  <a:pt x="214" y="1341"/>
                </a:lnTo>
                <a:lnTo>
                  <a:pt x="214" y="1334"/>
                </a:lnTo>
                <a:lnTo>
                  <a:pt x="214" y="1328"/>
                </a:lnTo>
                <a:lnTo>
                  <a:pt x="214" y="1318"/>
                </a:lnTo>
                <a:lnTo>
                  <a:pt x="215" y="1311"/>
                </a:lnTo>
                <a:lnTo>
                  <a:pt x="217" y="1303"/>
                </a:lnTo>
                <a:lnTo>
                  <a:pt x="217" y="1295"/>
                </a:lnTo>
                <a:lnTo>
                  <a:pt x="215" y="1288"/>
                </a:lnTo>
                <a:lnTo>
                  <a:pt x="214" y="1280"/>
                </a:lnTo>
                <a:lnTo>
                  <a:pt x="210" y="1272"/>
                </a:lnTo>
                <a:lnTo>
                  <a:pt x="206" y="1265"/>
                </a:lnTo>
                <a:lnTo>
                  <a:pt x="202" y="1257"/>
                </a:lnTo>
                <a:lnTo>
                  <a:pt x="196" y="1247"/>
                </a:lnTo>
                <a:lnTo>
                  <a:pt x="189" y="1238"/>
                </a:lnTo>
                <a:lnTo>
                  <a:pt x="181" y="1230"/>
                </a:lnTo>
                <a:lnTo>
                  <a:pt x="173" y="1221"/>
                </a:lnTo>
                <a:lnTo>
                  <a:pt x="162" y="1211"/>
                </a:lnTo>
                <a:lnTo>
                  <a:pt x="152" y="1199"/>
                </a:lnTo>
                <a:lnTo>
                  <a:pt x="141" y="1190"/>
                </a:lnTo>
                <a:lnTo>
                  <a:pt x="127" y="1178"/>
                </a:lnTo>
                <a:lnTo>
                  <a:pt x="114" y="1167"/>
                </a:lnTo>
                <a:lnTo>
                  <a:pt x="98" y="11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33"/>
          <p:cNvSpPr/>
          <p:nvPr/>
        </p:nvSpPr>
        <p:spPr>
          <a:xfrm>
            <a:off x="6448320" y="2824200"/>
            <a:ext cx="390600" cy="503280"/>
          </a:xfrm>
          <a:custGeom>
            <a:avLst/>
            <a:gdLst/>
            <a:ahLst/>
            <a:rect l="l" t="t" r="r" b="b"/>
            <a:pathLst>
              <a:path w="491" h="633">
                <a:moveTo>
                  <a:pt x="4" y="633"/>
                </a:moveTo>
                <a:lnTo>
                  <a:pt x="2" y="630"/>
                </a:lnTo>
                <a:lnTo>
                  <a:pt x="2" y="628"/>
                </a:lnTo>
                <a:lnTo>
                  <a:pt x="0" y="624"/>
                </a:lnTo>
                <a:lnTo>
                  <a:pt x="0" y="618"/>
                </a:lnTo>
                <a:lnTo>
                  <a:pt x="2" y="614"/>
                </a:lnTo>
                <a:lnTo>
                  <a:pt x="2" y="608"/>
                </a:lnTo>
                <a:lnTo>
                  <a:pt x="4" y="603"/>
                </a:lnTo>
                <a:lnTo>
                  <a:pt x="7" y="597"/>
                </a:lnTo>
                <a:lnTo>
                  <a:pt x="11" y="589"/>
                </a:lnTo>
                <a:lnTo>
                  <a:pt x="15" y="582"/>
                </a:lnTo>
                <a:lnTo>
                  <a:pt x="21" y="574"/>
                </a:lnTo>
                <a:lnTo>
                  <a:pt x="29" y="564"/>
                </a:lnTo>
                <a:lnTo>
                  <a:pt x="34" y="555"/>
                </a:lnTo>
                <a:lnTo>
                  <a:pt x="44" y="545"/>
                </a:lnTo>
                <a:lnTo>
                  <a:pt x="53" y="534"/>
                </a:lnTo>
                <a:lnTo>
                  <a:pt x="63" y="524"/>
                </a:lnTo>
                <a:lnTo>
                  <a:pt x="80" y="499"/>
                </a:lnTo>
                <a:lnTo>
                  <a:pt x="100" y="476"/>
                </a:lnTo>
                <a:lnTo>
                  <a:pt x="117" y="451"/>
                </a:lnTo>
                <a:lnTo>
                  <a:pt x="134" y="426"/>
                </a:lnTo>
                <a:lnTo>
                  <a:pt x="149" y="401"/>
                </a:lnTo>
                <a:lnTo>
                  <a:pt x="165" y="376"/>
                </a:lnTo>
                <a:lnTo>
                  <a:pt x="180" y="351"/>
                </a:lnTo>
                <a:lnTo>
                  <a:pt x="194" y="328"/>
                </a:lnTo>
                <a:lnTo>
                  <a:pt x="207" y="305"/>
                </a:lnTo>
                <a:lnTo>
                  <a:pt x="221" y="284"/>
                </a:lnTo>
                <a:lnTo>
                  <a:pt x="234" y="263"/>
                </a:lnTo>
                <a:lnTo>
                  <a:pt x="245" y="242"/>
                </a:lnTo>
                <a:lnTo>
                  <a:pt x="259" y="223"/>
                </a:lnTo>
                <a:lnTo>
                  <a:pt x="270" y="202"/>
                </a:lnTo>
                <a:lnTo>
                  <a:pt x="280" y="181"/>
                </a:lnTo>
                <a:lnTo>
                  <a:pt x="290" y="158"/>
                </a:lnTo>
                <a:lnTo>
                  <a:pt x="293" y="148"/>
                </a:lnTo>
                <a:lnTo>
                  <a:pt x="297" y="140"/>
                </a:lnTo>
                <a:lnTo>
                  <a:pt x="299" y="131"/>
                </a:lnTo>
                <a:lnTo>
                  <a:pt x="303" y="123"/>
                </a:lnTo>
                <a:lnTo>
                  <a:pt x="307" y="108"/>
                </a:lnTo>
                <a:lnTo>
                  <a:pt x="309" y="94"/>
                </a:lnTo>
                <a:lnTo>
                  <a:pt x="309" y="81"/>
                </a:lnTo>
                <a:lnTo>
                  <a:pt x="307" y="69"/>
                </a:lnTo>
                <a:lnTo>
                  <a:pt x="305" y="58"/>
                </a:lnTo>
                <a:lnTo>
                  <a:pt x="301" y="48"/>
                </a:lnTo>
                <a:lnTo>
                  <a:pt x="297" y="41"/>
                </a:lnTo>
                <a:lnTo>
                  <a:pt x="295" y="33"/>
                </a:lnTo>
                <a:lnTo>
                  <a:pt x="295" y="29"/>
                </a:lnTo>
                <a:lnTo>
                  <a:pt x="293" y="25"/>
                </a:lnTo>
                <a:lnTo>
                  <a:pt x="295" y="21"/>
                </a:lnTo>
                <a:lnTo>
                  <a:pt x="295" y="19"/>
                </a:lnTo>
                <a:lnTo>
                  <a:pt x="297" y="16"/>
                </a:lnTo>
                <a:lnTo>
                  <a:pt x="299" y="14"/>
                </a:lnTo>
                <a:lnTo>
                  <a:pt x="301" y="12"/>
                </a:lnTo>
                <a:lnTo>
                  <a:pt x="305" y="8"/>
                </a:lnTo>
                <a:lnTo>
                  <a:pt x="309" y="6"/>
                </a:lnTo>
                <a:lnTo>
                  <a:pt x="313" y="4"/>
                </a:lnTo>
                <a:lnTo>
                  <a:pt x="318" y="2"/>
                </a:lnTo>
                <a:lnTo>
                  <a:pt x="326" y="0"/>
                </a:lnTo>
                <a:lnTo>
                  <a:pt x="334" y="0"/>
                </a:lnTo>
                <a:lnTo>
                  <a:pt x="345" y="2"/>
                </a:lnTo>
                <a:lnTo>
                  <a:pt x="357" y="6"/>
                </a:lnTo>
                <a:lnTo>
                  <a:pt x="370" y="10"/>
                </a:lnTo>
                <a:lnTo>
                  <a:pt x="384" y="16"/>
                </a:lnTo>
                <a:lnTo>
                  <a:pt x="391" y="21"/>
                </a:lnTo>
                <a:lnTo>
                  <a:pt x="399" y="25"/>
                </a:lnTo>
                <a:lnTo>
                  <a:pt x="407" y="31"/>
                </a:lnTo>
                <a:lnTo>
                  <a:pt x="414" y="35"/>
                </a:lnTo>
                <a:lnTo>
                  <a:pt x="424" y="42"/>
                </a:lnTo>
                <a:lnTo>
                  <a:pt x="432" y="48"/>
                </a:lnTo>
                <a:lnTo>
                  <a:pt x="445" y="62"/>
                </a:lnTo>
                <a:lnTo>
                  <a:pt x="457" y="73"/>
                </a:lnTo>
                <a:lnTo>
                  <a:pt x="466" y="85"/>
                </a:lnTo>
                <a:lnTo>
                  <a:pt x="476" y="94"/>
                </a:lnTo>
                <a:lnTo>
                  <a:pt x="482" y="102"/>
                </a:lnTo>
                <a:lnTo>
                  <a:pt x="485" y="106"/>
                </a:lnTo>
                <a:lnTo>
                  <a:pt x="487" y="110"/>
                </a:lnTo>
                <a:lnTo>
                  <a:pt x="489" y="113"/>
                </a:lnTo>
                <a:lnTo>
                  <a:pt x="491" y="115"/>
                </a:lnTo>
                <a:lnTo>
                  <a:pt x="491" y="119"/>
                </a:lnTo>
                <a:lnTo>
                  <a:pt x="491" y="121"/>
                </a:lnTo>
                <a:lnTo>
                  <a:pt x="491" y="127"/>
                </a:lnTo>
                <a:lnTo>
                  <a:pt x="491" y="131"/>
                </a:lnTo>
                <a:lnTo>
                  <a:pt x="489" y="136"/>
                </a:lnTo>
                <a:lnTo>
                  <a:pt x="487" y="144"/>
                </a:lnTo>
                <a:lnTo>
                  <a:pt x="484" y="150"/>
                </a:lnTo>
                <a:lnTo>
                  <a:pt x="482" y="158"/>
                </a:lnTo>
                <a:lnTo>
                  <a:pt x="478" y="165"/>
                </a:lnTo>
                <a:lnTo>
                  <a:pt x="472" y="175"/>
                </a:lnTo>
                <a:lnTo>
                  <a:pt x="466" y="182"/>
                </a:lnTo>
                <a:lnTo>
                  <a:pt x="460" y="192"/>
                </a:lnTo>
                <a:lnTo>
                  <a:pt x="453" y="202"/>
                </a:lnTo>
                <a:lnTo>
                  <a:pt x="447" y="211"/>
                </a:lnTo>
                <a:lnTo>
                  <a:pt x="437" y="223"/>
                </a:lnTo>
                <a:lnTo>
                  <a:pt x="428" y="232"/>
                </a:lnTo>
                <a:lnTo>
                  <a:pt x="418" y="244"/>
                </a:lnTo>
                <a:lnTo>
                  <a:pt x="409" y="255"/>
                </a:lnTo>
                <a:lnTo>
                  <a:pt x="397" y="267"/>
                </a:lnTo>
                <a:lnTo>
                  <a:pt x="386" y="278"/>
                </a:lnTo>
                <a:lnTo>
                  <a:pt x="361" y="305"/>
                </a:lnTo>
                <a:lnTo>
                  <a:pt x="336" y="332"/>
                </a:lnTo>
                <a:lnTo>
                  <a:pt x="309" y="361"/>
                </a:lnTo>
                <a:lnTo>
                  <a:pt x="280" y="392"/>
                </a:lnTo>
                <a:lnTo>
                  <a:pt x="249" y="422"/>
                </a:lnTo>
                <a:lnTo>
                  <a:pt x="217" y="455"/>
                </a:lnTo>
                <a:lnTo>
                  <a:pt x="199" y="470"/>
                </a:lnTo>
                <a:lnTo>
                  <a:pt x="182" y="488"/>
                </a:lnTo>
                <a:lnTo>
                  <a:pt x="165" y="505"/>
                </a:lnTo>
                <a:lnTo>
                  <a:pt x="149" y="520"/>
                </a:lnTo>
                <a:lnTo>
                  <a:pt x="132" y="536"/>
                </a:lnTo>
                <a:lnTo>
                  <a:pt x="119" y="551"/>
                </a:lnTo>
                <a:lnTo>
                  <a:pt x="103" y="564"/>
                </a:lnTo>
                <a:lnTo>
                  <a:pt x="90" y="576"/>
                </a:lnTo>
                <a:lnTo>
                  <a:pt x="78" y="587"/>
                </a:lnTo>
                <a:lnTo>
                  <a:pt x="67" y="597"/>
                </a:lnTo>
                <a:lnTo>
                  <a:pt x="55" y="605"/>
                </a:lnTo>
                <a:lnTo>
                  <a:pt x="46" y="612"/>
                </a:lnTo>
                <a:lnTo>
                  <a:pt x="36" y="618"/>
                </a:lnTo>
                <a:lnTo>
                  <a:pt x="29" y="624"/>
                </a:lnTo>
                <a:lnTo>
                  <a:pt x="21" y="628"/>
                </a:lnTo>
                <a:lnTo>
                  <a:pt x="15" y="630"/>
                </a:lnTo>
                <a:lnTo>
                  <a:pt x="9" y="631"/>
                </a:lnTo>
                <a:lnTo>
                  <a:pt x="4" y="6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34"/>
          <p:cNvSpPr/>
          <p:nvPr/>
        </p:nvSpPr>
        <p:spPr>
          <a:xfrm>
            <a:off x="6659640" y="2949480"/>
            <a:ext cx="500040" cy="444600"/>
          </a:xfrm>
          <a:custGeom>
            <a:avLst/>
            <a:gdLst/>
            <a:ahLst/>
            <a:rect l="l" t="t" r="r" b="b"/>
            <a:pathLst>
              <a:path w="629" h="560">
                <a:moveTo>
                  <a:pt x="261" y="548"/>
                </a:moveTo>
                <a:lnTo>
                  <a:pt x="207" y="554"/>
                </a:lnTo>
                <a:lnTo>
                  <a:pt x="153" y="560"/>
                </a:lnTo>
                <a:lnTo>
                  <a:pt x="165" y="539"/>
                </a:lnTo>
                <a:lnTo>
                  <a:pt x="176" y="518"/>
                </a:lnTo>
                <a:lnTo>
                  <a:pt x="188" y="497"/>
                </a:lnTo>
                <a:lnTo>
                  <a:pt x="197" y="477"/>
                </a:lnTo>
                <a:lnTo>
                  <a:pt x="209" y="458"/>
                </a:lnTo>
                <a:lnTo>
                  <a:pt x="218" y="439"/>
                </a:lnTo>
                <a:lnTo>
                  <a:pt x="228" y="422"/>
                </a:lnTo>
                <a:lnTo>
                  <a:pt x="238" y="404"/>
                </a:lnTo>
                <a:lnTo>
                  <a:pt x="245" y="387"/>
                </a:lnTo>
                <a:lnTo>
                  <a:pt x="253" y="372"/>
                </a:lnTo>
                <a:lnTo>
                  <a:pt x="263" y="356"/>
                </a:lnTo>
                <a:lnTo>
                  <a:pt x="268" y="341"/>
                </a:lnTo>
                <a:lnTo>
                  <a:pt x="276" y="328"/>
                </a:lnTo>
                <a:lnTo>
                  <a:pt x="284" y="314"/>
                </a:lnTo>
                <a:lnTo>
                  <a:pt x="289" y="301"/>
                </a:lnTo>
                <a:lnTo>
                  <a:pt x="295" y="289"/>
                </a:lnTo>
                <a:lnTo>
                  <a:pt x="301" y="278"/>
                </a:lnTo>
                <a:lnTo>
                  <a:pt x="305" y="266"/>
                </a:lnTo>
                <a:lnTo>
                  <a:pt x="311" y="255"/>
                </a:lnTo>
                <a:lnTo>
                  <a:pt x="314" y="245"/>
                </a:lnTo>
                <a:lnTo>
                  <a:pt x="318" y="237"/>
                </a:lnTo>
                <a:lnTo>
                  <a:pt x="322" y="228"/>
                </a:lnTo>
                <a:lnTo>
                  <a:pt x="324" y="220"/>
                </a:lnTo>
                <a:lnTo>
                  <a:pt x="326" y="214"/>
                </a:lnTo>
                <a:lnTo>
                  <a:pt x="328" y="207"/>
                </a:lnTo>
                <a:lnTo>
                  <a:pt x="330" y="201"/>
                </a:lnTo>
                <a:lnTo>
                  <a:pt x="332" y="197"/>
                </a:lnTo>
                <a:lnTo>
                  <a:pt x="332" y="193"/>
                </a:lnTo>
                <a:lnTo>
                  <a:pt x="334" y="190"/>
                </a:lnTo>
                <a:lnTo>
                  <a:pt x="332" y="186"/>
                </a:lnTo>
                <a:lnTo>
                  <a:pt x="332" y="184"/>
                </a:lnTo>
                <a:lnTo>
                  <a:pt x="332" y="182"/>
                </a:lnTo>
                <a:lnTo>
                  <a:pt x="326" y="178"/>
                </a:lnTo>
                <a:lnTo>
                  <a:pt x="320" y="176"/>
                </a:lnTo>
                <a:lnTo>
                  <a:pt x="316" y="174"/>
                </a:lnTo>
                <a:lnTo>
                  <a:pt x="312" y="174"/>
                </a:lnTo>
                <a:lnTo>
                  <a:pt x="307" y="174"/>
                </a:lnTo>
                <a:lnTo>
                  <a:pt x="301" y="172"/>
                </a:lnTo>
                <a:lnTo>
                  <a:pt x="295" y="174"/>
                </a:lnTo>
                <a:lnTo>
                  <a:pt x="289" y="174"/>
                </a:lnTo>
                <a:lnTo>
                  <a:pt x="282" y="174"/>
                </a:lnTo>
                <a:lnTo>
                  <a:pt x="274" y="176"/>
                </a:lnTo>
                <a:lnTo>
                  <a:pt x="266" y="176"/>
                </a:lnTo>
                <a:lnTo>
                  <a:pt x="257" y="178"/>
                </a:lnTo>
                <a:lnTo>
                  <a:pt x="247" y="180"/>
                </a:lnTo>
                <a:lnTo>
                  <a:pt x="236" y="182"/>
                </a:lnTo>
                <a:lnTo>
                  <a:pt x="213" y="188"/>
                </a:lnTo>
                <a:lnTo>
                  <a:pt x="190" y="191"/>
                </a:lnTo>
                <a:lnTo>
                  <a:pt x="176" y="193"/>
                </a:lnTo>
                <a:lnTo>
                  <a:pt x="163" y="195"/>
                </a:lnTo>
                <a:lnTo>
                  <a:pt x="149" y="197"/>
                </a:lnTo>
                <a:lnTo>
                  <a:pt x="136" y="199"/>
                </a:lnTo>
                <a:lnTo>
                  <a:pt x="121" y="201"/>
                </a:lnTo>
                <a:lnTo>
                  <a:pt x="105" y="203"/>
                </a:lnTo>
                <a:lnTo>
                  <a:pt x="90" y="203"/>
                </a:lnTo>
                <a:lnTo>
                  <a:pt x="73" y="205"/>
                </a:lnTo>
                <a:lnTo>
                  <a:pt x="55" y="205"/>
                </a:lnTo>
                <a:lnTo>
                  <a:pt x="38" y="207"/>
                </a:lnTo>
                <a:lnTo>
                  <a:pt x="19" y="207"/>
                </a:lnTo>
                <a:lnTo>
                  <a:pt x="0" y="207"/>
                </a:lnTo>
                <a:lnTo>
                  <a:pt x="0" y="176"/>
                </a:lnTo>
                <a:lnTo>
                  <a:pt x="0" y="145"/>
                </a:lnTo>
                <a:lnTo>
                  <a:pt x="23" y="142"/>
                </a:lnTo>
                <a:lnTo>
                  <a:pt x="44" y="136"/>
                </a:lnTo>
                <a:lnTo>
                  <a:pt x="67" y="132"/>
                </a:lnTo>
                <a:lnTo>
                  <a:pt x="88" y="128"/>
                </a:lnTo>
                <a:lnTo>
                  <a:pt x="107" y="124"/>
                </a:lnTo>
                <a:lnTo>
                  <a:pt x="128" y="119"/>
                </a:lnTo>
                <a:lnTo>
                  <a:pt x="147" y="115"/>
                </a:lnTo>
                <a:lnTo>
                  <a:pt x="165" y="111"/>
                </a:lnTo>
                <a:lnTo>
                  <a:pt x="184" y="107"/>
                </a:lnTo>
                <a:lnTo>
                  <a:pt x="201" y="103"/>
                </a:lnTo>
                <a:lnTo>
                  <a:pt x="218" y="99"/>
                </a:lnTo>
                <a:lnTo>
                  <a:pt x="234" y="95"/>
                </a:lnTo>
                <a:lnTo>
                  <a:pt x="249" y="92"/>
                </a:lnTo>
                <a:lnTo>
                  <a:pt x="264" y="88"/>
                </a:lnTo>
                <a:lnTo>
                  <a:pt x="278" y="86"/>
                </a:lnTo>
                <a:lnTo>
                  <a:pt x="291" y="82"/>
                </a:lnTo>
                <a:lnTo>
                  <a:pt x="305" y="78"/>
                </a:lnTo>
                <a:lnTo>
                  <a:pt x="316" y="74"/>
                </a:lnTo>
                <a:lnTo>
                  <a:pt x="328" y="72"/>
                </a:lnTo>
                <a:lnTo>
                  <a:pt x="339" y="69"/>
                </a:lnTo>
                <a:lnTo>
                  <a:pt x="349" y="65"/>
                </a:lnTo>
                <a:lnTo>
                  <a:pt x="359" y="63"/>
                </a:lnTo>
                <a:lnTo>
                  <a:pt x="366" y="59"/>
                </a:lnTo>
                <a:lnTo>
                  <a:pt x="374" y="57"/>
                </a:lnTo>
                <a:lnTo>
                  <a:pt x="382" y="53"/>
                </a:lnTo>
                <a:lnTo>
                  <a:pt x="389" y="51"/>
                </a:lnTo>
                <a:lnTo>
                  <a:pt x="395" y="49"/>
                </a:lnTo>
                <a:lnTo>
                  <a:pt x="401" y="46"/>
                </a:lnTo>
                <a:lnTo>
                  <a:pt x="405" y="44"/>
                </a:lnTo>
                <a:lnTo>
                  <a:pt x="408" y="42"/>
                </a:lnTo>
                <a:lnTo>
                  <a:pt x="412" y="38"/>
                </a:lnTo>
                <a:lnTo>
                  <a:pt x="414" y="36"/>
                </a:lnTo>
                <a:lnTo>
                  <a:pt x="420" y="28"/>
                </a:lnTo>
                <a:lnTo>
                  <a:pt x="426" y="21"/>
                </a:lnTo>
                <a:lnTo>
                  <a:pt x="432" y="13"/>
                </a:lnTo>
                <a:lnTo>
                  <a:pt x="439" y="9"/>
                </a:lnTo>
                <a:lnTo>
                  <a:pt x="449" y="5"/>
                </a:lnTo>
                <a:lnTo>
                  <a:pt x="456" y="1"/>
                </a:lnTo>
                <a:lnTo>
                  <a:pt x="466" y="0"/>
                </a:lnTo>
                <a:lnTo>
                  <a:pt x="474" y="0"/>
                </a:lnTo>
                <a:lnTo>
                  <a:pt x="483" y="3"/>
                </a:lnTo>
                <a:lnTo>
                  <a:pt x="495" y="9"/>
                </a:lnTo>
                <a:lnTo>
                  <a:pt x="504" y="15"/>
                </a:lnTo>
                <a:lnTo>
                  <a:pt x="518" y="21"/>
                </a:lnTo>
                <a:lnTo>
                  <a:pt x="529" y="28"/>
                </a:lnTo>
                <a:lnTo>
                  <a:pt x="543" y="38"/>
                </a:lnTo>
                <a:lnTo>
                  <a:pt x="549" y="42"/>
                </a:lnTo>
                <a:lnTo>
                  <a:pt x="556" y="48"/>
                </a:lnTo>
                <a:lnTo>
                  <a:pt x="562" y="53"/>
                </a:lnTo>
                <a:lnTo>
                  <a:pt x="570" y="61"/>
                </a:lnTo>
                <a:lnTo>
                  <a:pt x="581" y="74"/>
                </a:lnTo>
                <a:lnTo>
                  <a:pt x="593" y="86"/>
                </a:lnTo>
                <a:lnTo>
                  <a:pt x="604" y="97"/>
                </a:lnTo>
                <a:lnTo>
                  <a:pt x="612" y="107"/>
                </a:lnTo>
                <a:lnTo>
                  <a:pt x="620" y="115"/>
                </a:lnTo>
                <a:lnTo>
                  <a:pt x="622" y="119"/>
                </a:lnTo>
                <a:lnTo>
                  <a:pt x="623" y="122"/>
                </a:lnTo>
                <a:lnTo>
                  <a:pt x="625" y="126"/>
                </a:lnTo>
                <a:lnTo>
                  <a:pt x="627" y="128"/>
                </a:lnTo>
                <a:lnTo>
                  <a:pt x="627" y="132"/>
                </a:lnTo>
                <a:lnTo>
                  <a:pt x="629" y="134"/>
                </a:lnTo>
                <a:lnTo>
                  <a:pt x="627" y="138"/>
                </a:lnTo>
                <a:lnTo>
                  <a:pt x="627" y="143"/>
                </a:lnTo>
                <a:lnTo>
                  <a:pt x="625" y="147"/>
                </a:lnTo>
                <a:lnTo>
                  <a:pt x="623" y="151"/>
                </a:lnTo>
                <a:lnTo>
                  <a:pt x="622" y="155"/>
                </a:lnTo>
                <a:lnTo>
                  <a:pt x="618" y="161"/>
                </a:lnTo>
                <a:lnTo>
                  <a:pt x="614" y="165"/>
                </a:lnTo>
                <a:lnTo>
                  <a:pt x="610" y="168"/>
                </a:lnTo>
                <a:lnTo>
                  <a:pt x="606" y="172"/>
                </a:lnTo>
                <a:lnTo>
                  <a:pt x="600" y="176"/>
                </a:lnTo>
                <a:lnTo>
                  <a:pt x="595" y="180"/>
                </a:lnTo>
                <a:lnTo>
                  <a:pt x="589" y="184"/>
                </a:lnTo>
                <a:lnTo>
                  <a:pt x="581" y="186"/>
                </a:lnTo>
                <a:lnTo>
                  <a:pt x="574" y="190"/>
                </a:lnTo>
                <a:lnTo>
                  <a:pt x="566" y="191"/>
                </a:lnTo>
                <a:lnTo>
                  <a:pt x="558" y="195"/>
                </a:lnTo>
                <a:lnTo>
                  <a:pt x="552" y="197"/>
                </a:lnTo>
                <a:lnTo>
                  <a:pt x="549" y="201"/>
                </a:lnTo>
                <a:lnTo>
                  <a:pt x="543" y="203"/>
                </a:lnTo>
                <a:lnTo>
                  <a:pt x="537" y="209"/>
                </a:lnTo>
                <a:lnTo>
                  <a:pt x="531" y="213"/>
                </a:lnTo>
                <a:lnTo>
                  <a:pt x="526" y="218"/>
                </a:lnTo>
                <a:lnTo>
                  <a:pt x="520" y="224"/>
                </a:lnTo>
                <a:lnTo>
                  <a:pt x="512" y="230"/>
                </a:lnTo>
                <a:lnTo>
                  <a:pt x="504" y="237"/>
                </a:lnTo>
                <a:lnTo>
                  <a:pt x="499" y="245"/>
                </a:lnTo>
                <a:lnTo>
                  <a:pt x="491" y="253"/>
                </a:lnTo>
                <a:lnTo>
                  <a:pt x="483" y="262"/>
                </a:lnTo>
                <a:lnTo>
                  <a:pt x="474" y="272"/>
                </a:lnTo>
                <a:lnTo>
                  <a:pt x="466" y="282"/>
                </a:lnTo>
                <a:lnTo>
                  <a:pt x="456" y="291"/>
                </a:lnTo>
                <a:lnTo>
                  <a:pt x="449" y="303"/>
                </a:lnTo>
                <a:lnTo>
                  <a:pt x="439" y="314"/>
                </a:lnTo>
                <a:lnTo>
                  <a:pt x="430" y="326"/>
                </a:lnTo>
                <a:lnTo>
                  <a:pt x="418" y="337"/>
                </a:lnTo>
                <a:lnTo>
                  <a:pt x="408" y="351"/>
                </a:lnTo>
                <a:lnTo>
                  <a:pt x="397" y="364"/>
                </a:lnTo>
                <a:lnTo>
                  <a:pt x="387" y="378"/>
                </a:lnTo>
                <a:lnTo>
                  <a:pt x="376" y="393"/>
                </a:lnTo>
                <a:lnTo>
                  <a:pt x="364" y="408"/>
                </a:lnTo>
                <a:lnTo>
                  <a:pt x="353" y="424"/>
                </a:lnTo>
                <a:lnTo>
                  <a:pt x="339" y="439"/>
                </a:lnTo>
                <a:lnTo>
                  <a:pt x="328" y="456"/>
                </a:lnTo>
                <a:lnTo>
                  <a:pt x="314" y="473"/>
                </a:lnTo>
                <a:lnTo>
                  <a:pt x="301" y="491"/>
                </a:lnTo>
                <a:lnTo>
                  <a:pt x="288" y="510"/>
                </a:lnTo>
                <a:lnTo>
                  <a:pt x="274" y="527"/>
                </a:lnTo>
                <a:lnTo>
                  <a:pt x="261" y="5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35"/>
          <p:cNvSpPr/>
          <p:nvPr/>
        </p:nvSpPr>
        <p:spPr>
          <a:xfrm>
            <a:off x="6462720" y="3287880"/>
            <a:ext cx="933480" cy="463320"/>
          </a:xfrm>
          <a:custGeom>
            <a:avLst/>
            <a:gdLst/>
            <a:ahLst/>
            <a:rect l="l" t="t" r="r" b="b"/>
            <a:pathLst>
              <a:path w="1177" h="585">
                <a:moveTo>
                  <a:pt x="1117" y="109"/>
                </a:moveTo>
                <a:lnTo>
                  <a:pt x="1129" y="122"/>
                </a:lnTo>
                <a:lnTo>
                  <a:pt x="1140" y="134"/>
                </a:lnTo>
                <a:lnTo>
                  <a:pt x="1150" y="145"/>
                </a:lnTo>
                <a:lnTo>
                  <a:pt x="1160" y="155"/>
                </a:lnTo>
                <a:lnTo>
                  <a:pt x="1167" y="165"/>
                </a:lnTo>
                <a:lnTo>
                  <a:pt x="1169" y="168"/>
                </a:lnTo>
                <a:lnTo>
                  <a:pt x="1171" y="170"/>
                </a:lnTo>
                <a:lnTo>
                  <a:pt x="1173" y="174"/>
                </a:lnTo>
                <a:lnTo>
                  <a:pt x="1175" y="178"/>
                </a:lnTo>
                <a:lnTo>
                  <a:pt x="1175" y="180"/>
                </a:lnTo>
                <a:lnTo>
                  <a:pt x="1177" y="182"/>
                </a:lnTo>
                <a:lnTo>
                  <a:pt x="1171" y="188"/>
                </a:lnTo>
                <a:lnTo>
                  <a:pt x="1167" y="191"/>
                </a:lnTo>
                <a:lnTo>
                  <a:pt x="1161" y="195"/>
                </a:lnTo>
                <a:lnTo>
                  <a:pt x="1156" y="201"/>
                </a:lnTo>
                <a:lnTo>
                  <a:pt x="1148" y="205"/>
                </a:lnTo>
                <a:lnTo>
                  <a:pt x="1138" y="209"/>
                </a:lnTo>
                <a:lnTo>
                  <a:pt x="1135" y="212"/>
                </a:lnTo>
                <a:lnTo>
                  <a:pt x="1129" y="214"/>
                </a:lnTo>
                <a:lnTo>
                  <a:pt x="1123" y="216"/>
                </a:lnTo>
                <a:lnTo>
                  <a:pt x="1117" y="218"/>
                </a:lnTo>
                <a:lnTo>
                  <a:pt x="1110" y="222"/>
                </a:lnTo>
                <a:lnTo>
                  <a:pt x="1102" y="226"/>
                </a:lnTo>
                <a:lnTo>
                  <a:pt x="1094" y="232"/>
                </a:lnTo>
                <a:lnTo>
                  <a:pt x="1085" y="239"/>
                </a:lnTo>
                <a:lnTo>
                  <a:pt x="1077" y="247"/>
                </a:lnTo>
                <a:lnTo>
                  <a:pt x="1067" y="257"/>
                </a:lnTo>
                <a:lnTo>
                  <a:pt x="1056" y="268"/>
                </a:lnTo>
                <a:lnTo>
                  <a:pt x="1046" y="280"/>
                </a:lnTo>
                <a:lnTo>
                  <a:pt x="1035" y="293"/>
                </a:lnTo>
                <a:lnTo>
                  <a:pt x="1023" y="307"/>
                </a:lnTo>
                <a:lnTo>
                  <a:pt x="1012" y="322"/>
                </a:lnTo>
                <a:lnTo>
                  <a:pt x="1000" y="339"/>
                </a:lnTo>
                <a:lnTo>
                  <a:pt x="989" y="356"/>
                </a:lnTo>
                <a:lnTo>
                  <a:pt x="975" y="374"/>
                </a:lnTo>
                <a:lnTo>
                  <a:pt x="964" y="393"/>
                </a:lnTo>
                <a:lnTo>
                  <a:pt x="950" y="414"/>
                </a:lnTo>
                <a:lnTo>
                  <a:pt x="937" y="437"/>
                </a:lnTo>
                <a:lnTo>
                  <a:pt x="925" y="456"/>
                </a:lnTo>
                <a:lnTo>
                  <a:pt x="912" y="475"/>
                </a:lnTo>
                <a:lnTo>
                  <a:pt x="900" y="495"/>
                </a:lnTo>
                <a:lnTo>
                  <a:pt x="891" y="510"/>
                </a:lnTo>
                <a:lnTo>
                  <a:pt x="879" y="525"/>
                </a:lnTo>
                <a:lnTo>
                  <a:pt x="870" y="537"/>
                </a:lnTo>
                <a:lnTo>
                  <a:pt x="862" y="550"/>
                </a:lnTo>
                <a:lnTo>
                  <a:pt x="852" y="560"/>
                </a:lnTo>
                <a:lnTo>
                  <a:pt x="845" y="567"/>
                </a:lnTo>
                <a:lnTo>
                  <a:pt x="837" y="575"/>
                </a:lnTo>
                <a:lnTo>
                  <a:pt x="829" y="579"/>
                </a:lnTo>
                <a:lnTo>
                  <a:pt x="824" y="583"/>
                </a:lnTo>
                <a:lnTo>
                  <a:pt x="818" y="585"/>
                </a:lnTo>
                <a:lnTo>
                  <a:pt x="812" y="585"/>
                </a:lnTo>
                <a:lnTo>
                  <a:pt x="808" y="585"/>
                </a:lnTo>
                <a:lnTo>
                  <a:pt x="801" y="583"/>
                </a:lnTo>
                <a:lnTo>
                  <a:pt x="797" y="581"/>
                </a:lnTo>
                <a:lnTo>
                  <a:pt x="793" y="577"/>
                </a:lnTo>
                <a:lnTo>
                  <a:pt x="789" y="573"/>
                </a:lnTo>
                <a:lnTo>
                  <a:pt x="787" y="566"/>
                </a:lnTo>
                <a:lnTo>
                  <a:pt x="787" y="558"/>
                </a:lnTo>
                <a:lnTo>
                  <a:pt x="787" y="548"/>
                </a:lnTo>
                <a:lnTo>
                  <a:pt x="789" y="539"/>
                </a:lnTo>
                <a:lnTo>
                  <a:pt x="791" y="527"/>
                </a:lnTo>
                <a:lnTo>
                  <a:pt x="793" y="512"/>
                </a:lnTo>
                <a:lnTo>
                  <a:pt x="797" y="498"/>
                </a:lnTo>
                <a:lnTo>
                  <a:pt x="802" y="481"/>
                </a:lnTo>
                <a:lnTo>
                  <a:pt x="808" y="464"/>
                </a:lnTo>
                <a:lnTo>
                  <a:pt x="816" y="445"/>
                </a:lnTo>
                <a:lnTo>
                  <a:pt x="822" y="424"/>
                </a:lnTo>
                <a:lnTo>
                  <a:pt x="831" y="402"/>
                </a:lnTo>
                <a:lnTo>
                  <a:pt x="837" y="381"/>
                </a:lnTo>
                <a:lnTo>
                  <a:pt x="843" y="362"/>
                </a:lnTo>
                <a:lnTo>
                  <a:pt x="849" y="343"/>
                </a:lnTo>
                <a:lnTo>
                  <a:pt x="854" y="326"/>
                </a:lnTo>
                <a:lnTo>
                  <a:pt x="860" y="310"/>
                </a:lnTo>
                <a:lnTo>
                  <a:pt x="864" y="295"/>
                </a:lnTo>
                <a:lnTo>
                  <a:pt x="870" y="280"/>
                </a:lnTo>
                <a:lnTo>
                  <a:pt x="872" y="266"/>
                </a:lnTo>
                <a:lnTo>
                  <a:pt x="875" y="253"/>
                </a:lnTo>
                <a:lnTo>
                  <a:pt x="877" y="241"/>
                </a:lnTo>
                <a:lnTo>
                  <a:pt x="879" y="232"/>
                </a:lnTo>
                <a:lnTo>
                  <a:pt x="881" y="222"/>
                </a:lnTo>
                <a:lnTo>
                  <a:pt x="881" y="212"/>
                </a:lnTo>
                <a:lnTo>
                  <a:pt x="881" y="207"/>
                </a:lnTo>
                <a:lnTo>
                  <a:pt x="879" y="199"/>
                </a:lnTo>
                <a:lnTo>
                  <a:pt x="879" y="195"/>
                </a:lnTo>
                <a:lnTo>
                  <a:pt x="875" y="189"/>
                </a:lnTo>
                <a:lnTo>
                  <a:pt x="873" y="186"/>
                </a:lnTo>
                <a:lnTo>
                  <a:pt x="870" y="182"/>
                </a:lnTo>
                <a:lnTo>
                  <a:pt x="866" y="178"/>
                </a:lnTo>
                <a:lnTo>
                  <a:pt x="856" y="172"/>
                </a:lnTo>
                <a:lnTo>
                  <a:pt x="847" y="166"/>
                </a:lnTo>
                <a:lnTo>
                  <a:pt x="835" y="163"/>
                </a:lnTo>
                <a:lnTo>
                  <a:pt x="822" y="161"/>
                </a:lnTo>
                <a:lnTo>
                  <a:pt x="808" y="159"/>
                </a:lnTo>
                <a:lnTo>
                  <a:pt x="795" y="159"/>
                </a:lnTo>
                <a:lnTo>
                  <a:pt x="791" y="159"/>
                </a:lnTo>
                <a:lnTo>
                  <a:pt x="783" y="159"/>
                </a:lnTo>
                <a:lnTo>
                  <a:pt x="776" y="159"/>
                </a:lnTo>
                <a:lnTo>
                  <a:pt x="768" y="161"/>
                </a:lnTo>
                <a:lnTo>
                  <a:pt x="756" y="161"/>
                </a:lnTo>
                <a:lnTo>
                  <a:pt x="747" y="163"/>
                </a:lnTo>
                <a:lnTo>
                  <a:pt x="733" y="163"/>
                </a:lnTo>
                <a:lnTo>
                  <a:pt x="720" y="165"/>
                </a:lnTo>
                <a:lnTo>
                  <a:pt x="705" y="166"/>
                </a:lnTo>
                <a:lnTo>
                  <a:pt x="687" y="168"/>
                </a:lnTo>
                <a:lnTo>
                  <a:pt x="670" y="170"/>
                </a:lnTo>
                <a:lnTo>
                  <a:pt x="651" y="172"/>
                </a:lnTo>
                <a:lnTo>
                  <a:pt x="630" y="176"/>
                </a:lnTo>
                <a:lnTo>
                  <a:pt x="609" y="178"/>
                </a:lnTo>
                <a:lnTo>
                  <a:pt x="586" y="180"/>
                </a:lnTo>
                <a:lnTo>
                  <a:pt x="562" y="184"/>
                </a:lnTo>
                <a:lnTo>
                  <a:pt x="538" y="188"/>
                </a:lnTo>
                <a:lnTo>
                  <a:pt x="511" y="189"/>
                </a:lnTo>
                <a:lnTo>
                  <a:pt x="482" y="193"/>
                </a:lnTo>
                <a:lnTo>
                  <a:pt x="453" y="197"/>
                </a:lnTo>
                <a:lnTo>
                  <a:pt x="422" y="201"/>
                </a:lnTo>
                <a:lnTo>
                  <a:pt x="390" y="205"/>
                </a:lnTo>
                <a:lnTo>
                  <a:pt x="357" y="209"/>
                </a:lnTo>
                <a:lnTo>
                  <a:pt x="323" y="214"/>
                </a:lnTo>
                <a:lnTo>
                  <a:pt x="286" y="218"/>
                </a:lnTo>
                <a:lnTo>
                  <a:pt x="250" y="224"/>
                </a:lnTo>
                <a:lnTo>
                  <a:pt x="211" y="228"/>
                </a:lnTo>
                <a:lnTo>
                  <a:pt x="171" y="234"/>
                </a:lnTo>
                <a:lnTo>
                  <a:pt x="131" y="239"/>
                </a:lnTo>
                <a:lnTo>
                  <a:pt x="88" y="243"/>
                </a:lnTo>
                <a:lnTo>
                  <a:pt x="44" y="249"/>
                </a:lnTo>
                <a:lnTo>
                  <a:pt x="0" y="255"/>
                </a:lnTo>
                <a:lnTo>
                  <a:pt x="0" y="207"/>
                </a:lnTo>
                <a:lnTo>
                  <a:pt x="0" y="159"/>
                </a:lnTo>
                <a:lnTo>
                  <a:pt x="15" y="159"/>
                </a:lnTo>
                <a:lnTo>
                  <a:pt x="33" y="157"/>
                </a:lnTo>
                <a:lnTo>
                  <a:pt x="50" y="157"/>
                </a:lnTo>
                <a:lnTo>
                  <a:pt x="71" y="157"/>
                </a:lnTo>
                <a:lnTo>
                  <a:pt x="90" y="155"/>
                </a:lnTo>
                <a:lnTo>
                  <a:pt x="111" y="153"/>
                </a:lnTo>
                <a:lnTo>
                  <a:pt x="134" y="151"/>
                </a:lnTo>
                <a:lnTo>
                  <a:pt x="157" y="149"/>
                </a:lnTo>
                <a:lnTo>
                  <a:pt x="182" y="147"/>
                </a:lnTo>
                <a:lnTo>
                  <a:pt x="207" y="143"/>
                </a:lnTo>
                <a:lnTo>
                  <a:pt x="234" y="142"/>
                </a:lnTo>
                <a:lnTo>
                  <a:pt x="261" y="138"/>
                </a:lnTo>
                <a:lnTo>
                  <a:pt x="290" y="134"/>
                </a:lnTo>
                <a:lnTo>
                  <a:pt x="319" y="130"/>
                </a:lnTo>
                <a:lnTo>
                  <a:pt x="349" y="126"/>
                </a:lnTo>
                <a:lnTo>
                  <a:pt x="380" y="122"/>
                </a:lnTo>
                <a:lnTo>
                  <a:pt x="407" y="117"/>
                </a:lnTo>
                <a:lnTo>
                  <a:pt x="436" y="113"/>
                </a:lnTo>
                <a:lnTo>
                  <a:pt x="463" y="107"/>
                </a:lnTo>
                <a:lnTo>
                  <a:pt x="488" y="103"/>
                </a:lnTo>
                <a:lnTo>
                  <a:pt x="513" y="99"/>
                </a:lnTo>
                <a:lnTo>
                  <a:pt x="538" y="95"/>
                </a:lnTo>
                <a:lnTo>
                  <a:pt x="561" y="90"/>
                </a:lnTo>
                <a:lnTo>
                  <a:pt x="584" y="86"/>
                </a:lnTo>
                <a:lnTo>
                  <a:pt x="605" y="82"/>
                </a:lnTo>
                <a:lnTo>
                  <a:pt x="624" y="78"/>
                </a:lnTo>
                <a:lnTo>
                  <a:pt x="643" y="74"/>
                </a:lnTo>
                <a:lnTo>
                  <a:pt x="662" y="72"/>
                </a:lnTo>
                <a:lnTo>
                  <a:pt x="680" y="69"/>
                </a:lnTo>
                <a:lnTo>
                  <a:pt x="695" y="65"/>
                </a:lnTo>
                <a:lnTo>
                  <a:pt x="710" y="63"/>
                </a:lnTo>
                <a:lnTo>
                  <a:pt x="724" y="61"/>
                </a:lnTo>
                <a:lnTo>
                  <a:pt x="737" y="59"/>
                </a:lnTo>
                <a:lnTo>
                  <a:pt x="751" y="55"/>
                </a:lnTo>
                <a:lnTo>
                  <a:pt x="762" y="53"/>
                </a:lnTo>
                <a:lnTo>
                  <a:pt x="774" y="51"/>
                </a:lnTo>
                <a:lnTo>
                  <a:pt x="783" y="49"/>
                </a:lnTo>
                <a:lnTo>
                  <a:pt x="795" y="47"/>
                </a:lnTo>
                <a:lnTo>
                  <a:pt x="804" y="44"/>
                </a:lnTo>
                <a:lnTo>
                  <a:pt x="814" y="42"/>
                </a:lnTo>
                <a:lnTo>
                  <a:pt x="822" y="40"/>
                </a:lnTo>
                <a:lnTo>
                  <a:pt x="829" y="38"/>
                </a:lnTo>
                <a:lnTo>
                  <a:pt x="837" y="36"/>
                </a:lnTo>
                <a:lnTo>
                  <a:pt x="845" y="34"/>
                </a:lnTo>
                <a:lnTo>
                  <a:pt x="850" y="30"/>
                </a:lnTo>
                <a:lnTo>
                  <a:pt x="856" y="28"/>
                </a:lnTo>
                <a:lnTo>
                  <a:pt x="862" y="26"/>
                </a:lnTo>
                <a:lnTo>
                  <a:pt x="868" y="24"/>
                </a:lnTo>
                <a:lnTo>
                  <a:pt x="872" y="19"/>
                </a:lnTo>
                <a:lnTo>
                  <a:pt x="877" y="15"/>
                </a:lnTo>
                <a:lnTo>
                  <a:pt x="883" y="11"/>
                </a:lnTo>
                <a:lnTo>
                  <a:pt x="891" y="7"/>
                </a:lnTo>
                <a:lnTo>
                  <a:pt x="897" y="3"/>
                </a:lnTo>
                <a:lnTo>
                  <a:pt x="904" y="1"/>
                </a:lnTo>
                <a:lnTo>
                  <a:pt x="910" y="0"/>
                </a:lnTo>
                <a:lnTo>
                  <a:pt x="914" y="0"/>
                </a:lnTo>
                <a:lnTo>
                  <a:pt x="918" y="0"/>
                </a:lnTo>
                <a:lnTo>
                  <a:pt x="920" y="0"/>
                </a:lnTo>
                <a:lnTo>
                  <a:pt x="923" y="1"/>
                </a:lnTo>
                <a:lnTo>
                  <a:pt x="927" y="1"/>
                </a:lnTo>
                <a:lnTo>
                  <a:pt x="937" y="3"/>
                </a:lnTo>
                <a:lnTo>
                  <a:pt x="946" y="7"/>
                </a:lnTo>
                <a:lnTo>
                  <a:pt x="958" y="11"/>
                </a:lnTo>
                <a:lnTo>
                  <a:pt x="971" y="15"/>
                </a:lnTo>
                <a:lnTo>
                  <a:pt x="985" y="19"/>
                </a:lnTo>
                <a:lnTo>
                  <a:pt x="998" y="24"/>
                </a:lnTo>
                <a:lnTo>
                  <a:pt x="1012" y="34"/>
                </a:lnTo>
                <a:lnTo>
                  <a:pt x="1025" y="44"/>
                </a:lnTo>
                <a:lnTo>
                  <a:pt x="1040" y="51"/>
                </a:lnTo>
                <a:lnTo>
                  <a:pt x="1058" y="63"/>
                </a:lnTo>
                <a:lnTo>
                  <a:pt x="1073" y="72"/>
                </a:lnTo>
                <a:lnTo>
                  <a:pt x="1088" y="84"/>
                </a:lnTo>
                <a:lnTo>
                  <a:pt x="1102" y="95"/>
                </a:lnTo>
                <a:lnTo>
                  <a:pt x="1117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36"/>
          <p:cNvSpPr/>
          <p:nvPr/>
        </p:nvSpPr>
        <p:spPr>
          <a:xfrm>
            <a:off x="6213600" y="3394080"/>
            <a:ext cx="693720" cy="746280"/>
          </a:xfrm>
          <a:custGeom>
            <a:avLst/>
            <a:gdLst/>
            <a:ahLst/>
            <a:rect l="l" t="t" r="r" b="b"/>
            <a:pathLst>
              <a:path w="874" h="940">
                <a:moveTo>
                  <a:pt x="538" y="645"/>
                </a:moveTo>
                <a:lnTo>
                  <a:pt x="501" y="677"/>
                </a:lnTo>
                <a:lnTo>
                  <a:pt x="465" y="706"/>
                </a:lnTo>
                <a:lnTo>
                  <a:pt x="426" y="737"/>
                </a:lnTo>
                <a:lnTo>
                  <a:pt x="384" y="763"/>
                </a:lnTo>
                <a:lnTo>
                  <a:pt x="342" y="790"/>
                </a:lnTo>
                <a:lnTo>
                  <a:pt x="300" y="815"/>
                </a:lnTo>
                <a:lnTo>
                  <a:pt x="277" y="829"/>
                </a:lnTo>
                <a:lnTo>
                  <a:pt x="254" y="840"/>
                </a:lnTo>
                <a:lnTo>
                  <a:pt x="229" y="852"/>
                </a:lnTo>
                <a:lnTo>
                  <a:pt x="206" y="863"/>
                </a:lnTo>
                <a:lnTo>
                  <a:pt x="181" y="875"/>
                </a:lnTo>
                <a:lnTo>
                  <a:pt x="159" y="886"/>
                </a:lnTo>
                <a:lnTo>
                  <a:pt x="138" y="894"/>
                </a:lnTo>
                <a:lnTo>
                  <a:pt x="119" y="904"/>
                </a:lnTo>
                <a:lnTo>
                  <a:pt x="102" y="911"/>
                </a:lnTo>
                <a:lnTo>
                  <a:pt x="86" y="917"/>
                </a:lnTo>
                <a:lnTo>
                  <a:pt x="73" y="923"/>
                </a:lnTo>
                <a:lnTo>
                  <a:pt x="60" y="929"/>
                </a:lnTo>
                <a:lnTo>
                  <a:pt x="48" y="932"/>
                </a:lnTo>
                <a:lnTo>
                  <a:pt x="38" y="936"/>
                </a:lnTo>
                <a:lnTo>
                  <a:pt x="29" y="938"/>
                </a:lnTo>
                <a:lnTo>
                  <a:pt x="21" y="940"/>
                </a:lnTo>
                <a:lnTo>
                  <a:pt x="15" y="940"/>
                </a:lnTo>
                <a:lnTo>
                  <a:pt x="10" y="940"/>
                </a:lnTo>
                <a:lnTo>
                  <a:pt x="6" y="940"/>
                </a:lnTo>
                <a:lnTo>
                  <a:pt x="4" y="938"/>
                </a:lnTo>
                <a:lnTo>
                  <a:pt x="2" y="934"/>
                </a:lnTo>
                <a:lnTo>
                  <a:pt x="0" y="932"/>
                </a:lnTo>
                <a:lnTo>
                  <a:pt x="2" y="929"/>
                </a:lnTo>
                <a:lnTo>
                  <a:pt x="2" y="923"/>
                </a:lnTo>
                <a:lnTo>
                  <a:pt x="6" y="919"/>
                </a:lnTo>
                <a:lnTo>
                  <a:pt x="10" y="913"/>
                </a:lnTo>
                <a:lnTo>
                  <a:pt x="14" y="907"/>
                </a:lnTo>
                <a:lnTo>
                  <a:pt x="19" y="902"/>
                </a:lnTo>
                <a:lnTo>
                  <a:pt x="27" y="896"/>
                </a:lnTo>
                <a:lnTo>
                  <a:pt x="33" y="888"/>
                </a:lnTo>
                <a:lnTo>
                  <a:pt x="42" y="882"/>
                </a:lnTo>
                <a:lnTo>
                  <a:pt x="52" y="875"/>
                </a:lnTo>
                <a:lnTo>
                  <a:pt x="62" y="865"/>
                </a:lnTo>
                <a:lnTo>
                  <a:pt x="73" y="858"/>
                </a:lnTo>
                <a:lnTo>
                  <a:pt x="85" y="848"/>
                </a:lnTo>
                <a:lnTo>
                  <a:pt x="98" y="840"/>
                </a:lnTo>
                <a:lnTo>
                  <a:pt x="111" y="833"/>
                </a:lnTo>
                <a:lnTo>
                  <a:pt x="125" y="825"/>
                </a:lnTo>
                <a:lnTo>
                  <a:pt x="140" y="817"/>
                </a:lnTo>
                <a:lnTo>
                  <a:pt x="154" y="808"/>
                </a:lnTo>
                <a:lnTo>
                  <a:pt x="169" y="798"/>
                </a:lnTo>
                <a:lnTo>
                  <a:pt x="182" y="788"/>
                </a:lnTo>
                <a:lnTo>
                  <a:pt x="198" y="779"/>
                </a:lnTo>
                <a:lnTo>
                  <a:pt x="215" y="767"/>
                </a:lnTo>
                <a:lnTo>
                  <a:pt x="230" y="756"/>
                </a:lnTo>
                <a:lnTo>
                  <a:pt x="246" y="742"/>
                </a:lnTo>
                <a:lnTo>
                  <a:pt x="263" y="731"/>
                </a:lnTo>
                <a:lnTo>
                  <a:pt x="278" y="717"/>
                </a:lnTo>
                <a:lnTo>
                  <a:pt x="296" y="702"/>
                </a:lnTo>
                <a:lnTo>
                  <a:pt x="313" y="689"/>
                </a:lnTo>
                <a:lnTo>
                  <a:pt x="330" y="673"/>
                </a:lnTo>
                <a:lnTo>
                  <a:pt x="348" y="658"/>
                </a:lnTo>
                <a:lnTo>
                  <a:pt x="382" y="625"/>
                </a:lnTo>
                <a:lnTo>
                  <a:pt x="417" y="593"/>
                </a:lnTo>
                <a:lnTo>
                  <a:pt x="449" y="560"/>
                </a:lnTo>
                <a:lnTo>
                  <a:pt x="480" y="527"/>
                </a:lnTo>
                <a:lnTo>
                  <a:pt x="509" y="495"/>
                </a:lnTo>
                <a:lnTo>
                  <a:pt x="522" y="478"/>
                </a:lnTo>
                <a:lnTo>
                  <a:pt x="536" y="460"/>
                </a:lnTo>
                <a:lnTo>
                  <a:pt x="549" y="443"/>
                </a:lnTo>
                <a:lnTo>
                  <a:pt x="563" y="426"/>
                </a:lnTo>
                <a:lnTo>
                  <a:pt x="574" y="407"/>
                </a:lnTo>
                <a:lnTo>
                  <a:pt x="586" y="389"/>
                </a:lnTo>
                <a:lnTo>
                  <a:pt x="595" y="370"/>
                </a:lnTo>
                <a:lnTo>
                  <a:pt x="607" y="351"/>
                </a:lnTo>
                <a:lnTo>
                  <a:pt x="616" y="330"/>
                </a:lnTo>
                <a:lnTo>
                  <a:pt x="626" y="309"/>
                </a:lnTo>
                <a:lnTo>
                  <a:pt x="634" y="288"/>
                </a:lnTo>
                <a:lnTo>
                  <a:pt x="643" y="265"/>
                </a:lnTo>
                <a:lnTo>
                  <a:pt x="651" y="242"/>
                </a:lnTo>
                <a:lnTo>
                  <a:pt x="659" y="217"/>
                </a:lnTo>
                <a:lnTo>
                  <a:pt x="668" y="192"/>
                </a:lnTo>
                <a:lnTo>
                  <a:pt x="674" y="167"/>
                </a:lnTo>
                <a:lnTo>
                  <a:pt x="682" y="140"/>
                </a:lnTo>
                <a:lnTo>
                  <a:pt x="689" y="113"/>
                </a:lnTo>
                <a:lnTo>
                  <a:pt x="697" y="86"/>
                </a:lnTo>
                <a:lnTo>
                  <a:pt x="703" y="57"/>
                </a:lnTo>
                <a:lnTo>
                  <a:pt x="710" y="29"/>
                </a:lnTo>
                <a:lnTo>
                  <a:pt x="716" y="0"/>
                </a:lnTo>
                <a:lnTo>
                  <a:pt x="732" y="8"/>
                </a:lnTo>
                <a:lnTo>
                  <a:pt x="747" y="13"/>
                </a:lnTo>
                <a:lnTo>
                  <a:pt x="760" y="21"/>
                </a:lnTo>
                <a:lnTo>
                  <a:pt x="774" y="27"/>
                </a:lnTo>
                <a:lnTo>
                  <a:pt x="787" y="34"/>
                </a:lnTo>
                <a:lnTo>
                  <a:pt x="799" y="40"/>
                </a:lnTo>
                <a:lnTo>
                  <a:pt x="810" y="48"/>
                </a:lnTo>
                <a:lnTo>
                  <a:pt x="820" y="54"/>
                </a:lnTo>
                <a:lnTo>
                  <a:pt x="829" y="59"/>
                </a:lnTo>
                <a:lnTo>
                  <a:pt x="839" y="65"/>
                </a:lnTo>
                <a:lnTo>
                  <a:pt x="847" y="71"/>
                </a:lnTo>
                <a:lnTo>
                  <a:pt x="852" y="77"/>
                </a:lnTo>
                <a:lnTo>
                  <a:pt x="860" y="82"/>
                </a:lnTo>
                <a:lnTo>
                  <a:pt x="864" y="88"/>
                </a:lnTo>
                <a:lnTo>
                  <a:pt x="868" y="92"/>
                </a:lnTo>
                <a:lnTo>
                  <a:pt x="872" y="98"/>
                </a:lnTo>
                <a:lnTo>
                  <a:pt x="872" y="102"/>
                </a:lnTo>
                <a:lnTo>
                  <a:pt x="874" y="109"/>
                </a:lnTo>
                <a:lnTo>
                  <a:pt x="872" y="117"/>
                </a:lnTo>
                <a:lnTo>
                  <a:pt x="872" y="125"/>
                </a:lnTo>
                <a:lnTo>
                  <a:pt x="868" y="134"/>
                </a:lnTo>
                <a:lnTo>
                  <a:pt x="864" y="146"/>
                </a:lnTo>
                <a:lnTo>
                  <a:pt x="860" y="157"/>
                </a:lnTo>
                <a:lnTo>
                  <a:pt x="854" y="171"/>
                </a:lnTo>
                <a:lnTo>
                  <a:pt x="849" y="184"/>
                </a:lnTo>
                <a:lnTo>
                  <a:pt x="843" y="199"/>
                </a:lnTo>
                <a:lnTo>
                  <a:pt x="835" y="217"/>
                </a:lnTo>
                <a:lnTo>
                  <a:pt x="827" y="234"/>
                </a:lnTo>
                <a:lnTo>
                  <a:pt x="818" y="253"/>
                </a:lnTo>
                <a:lnTo>
                  <a:pt x="808" y="272"/>
                </a:lnTo>
                <a:lnTo>
                  <a:pt x="799" y="293"/>
                </a:lnTo>
                <a:lnTo>
                  <a:pt x="787" y="316"/>
                </a:lnTo>
                <a:lnTo>
                  <a:pt x="776" y="339"/>
                </a:lnTo>
                <a:lnTo>
                  <a:pt x="764" y="361"/>
                </a:lnTo>
                <a:lnTo>
                  <a:pt x="753" y="384"/>
                </a:lnTo>
                <a:lnTo>
                  <a:pt x="739" y="405"/>
                </a:lnTo>
                <a:lnTo>
                  <a:pt x="726" y="428"/>
                </a:lnTo>
                <a:lnTo>
                  <a:pt x="710" y="449"/>
                </a:lnTo>
                <a:lnTo>
                  <a:pt x="695" y="468"/>
                </a:lnTo>
                <a:lnTo>
                  <a:pt x="680" y="489"/>
                </a:lnTo>
                <a:lnTo>
                  <a:pt x="664" y="510"/>
                </a:lnTo>
                <a:lnTo>
                  <a:pt x="647" y="529"/>
                </a:lnTo>
                <a:lnTo>
                  <a:pt x="632" y="551"/>
                </a:lnTo>
                <a:lnTo>
                  <a:pt x="612" y="570"/>
                </a:lnTo>
                <a:lnTo>
                  <a:pt x="595" y="589"/>
                </a:lnTo>
                <a:lnTo>
                  <a:pt x="576" y="608"/>
                </a:lnTo>
                <a:lnTo>
                  <a:pt x="557" y="627"/>
                </a:lnTo>
                <a:lnTo>
                  <a:pt x="538" y="6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37"/>
          <p:cNvSpPr/>
          <p:nvPr/>
        </p:nvSpPr>
        <p:spPr>
          <a:xfrm>
            <a:off x="6516720" y="3897360"/>
            <a:ext cx="409680" cy="1128600"/>
          </a:xfrm>
          <a:custGeom>
            <a:avLst/>
            <a:gdLst/>
            <a:ahLst/>
            <a:rect l="l" t="t" r="r" b="b"/>
            <a:pathLst>
              <a:path w="517" h="1424">
                <a:moveTo>
                  <a:pt x="323" y="1096"/>
                </a:moveTo>
                <a:lnTo>
                  <a:pt x="326" y="1088"/>
                </a:lnTo>
                <a:lnTo>
                  <a:pt x="330" y="1080"/>
                </a:lnTo>
                <a:lnTo>
                  <a:pt x="334" y="1073"/>
                </a:lnTo>
                <a:lnTo>
                  <a:pt x="338" y="1063"/>
                </a:lnTo>
                <a:lnTo>
                  <a:pt x="342" y="1053"/>
                </a:lnTo>
                <a:lnTo>
                  <a:pt x="344" y="1042"/>
                </a:lnTo>
                <a:lnTo>
                  <a:pt x="348" y="1030"/>
                </a:lnTo>
                <a:lnTo>
                  <a:pt x="350" y="1019"/>
                </a:lnTo>
                <a:lnTo>
                  <a:pt x="353" y="1005"/>
                </a:lnTo>
                <a:lnTo>
                  <a:pt x="355" y="992"/>
                </a:lnTo>
                <a:lnTo>
                  <a:pt x="359" y="977"/>
                </a:lnTo>
                <a:lnTo>
                  <a:pt x="361" y="961"/>
                </a:lnTo>
                <a:lnTo>
                  <a:pt x="363" y="944"/>
                </a:lnTo>
                <a:lnTo>
                  <a:pt x="365" y="927"/>
                </a:lnTo>
                <a:lnTo>
                  <a:pt x="367" y="908"/>
                </a:lnTo>
                <a:lnTo>
                  <a:pt x="371" y="888"/>
                </a:lnTo>
                <a:lnTo>
                  <a:pt x="369" y="846"/>
                </a:lnTo>
                <a:lnTo>
                  <a:pt x="367" y="804"/>
                </a:lnTo>
                <a:lnTo>
                  <a:pt x="365" y="760"/>
                </a:lnTo>
                <a:lnTo>
                  <a:pt x="359" y="716"/>
                </a:lnTo>
                <a:lnTo>
                  <a:pt x="353" y="668"/>
                </a:lnTo>
                <a:lnTo>
                  <a:pt x="344" y="622"/>
                </a:lnTo>
                <a:lnTo>
                  <a:pt x="340" y="597"/>
                </a:lnTo>
                <a:lnTo>
                  <a:pt x="334" y="572"/>
                </a:lnTo>
                <a:lnTo>
                  <a:pt x="328" y="549"/>
                </a:lnTo>
                <a:lnTo>
                  <a:pt x="323" y="524"/>
                </a:lnTo>
                <a:lnTo>
                  <a:pt x="315" y="497"/>
                </a:lnTo>
                <a:lnTo>
                  <a:pt x="305" y="472"/>
                </a:lnTo>
                <a:lnTo>
                  <a:pt x="296" y="443"/>
                </a:lnTo>
                <a:lnTo>
                  <a:pt x="282" y="416"/>
                </a:lnTo>
                <a:lnTo>
                  <a:pt x="269" y="388"/>
                </a:lnTo>
                <a:lnTo>
                  <a:pt x="254" y="359"/>
                </a:lnTo>
                <a:lnTo>
                  <a:pt x="236" y="328"/>
                </a:lnTo>
                <a:lnTo>
                  <a:pt x="217" y="297"/>
                </a:lnTo>
                <a:lnTo>
                  <a:pt x="198" y="265"/>
                </a:lnTo>
                <a:lnTo>
                  <a:pt x="177" y="232"/>
                </a:lnTo>
                <a:lnTo>
                  <a:pt x="154" y="200"/>
                </a:lnTo>
                <a:lnTo>
                  <a:pt x="131" y="165"/>
                </a:lnTo>
                <a:lnTo>
                  <a:pt x="106" y="132"/>
                </a:lnTo>
                <a:lnTo>
                  <a:pt x="81" y="96"/>
                </a:lnTo>
                <a:lnTo>
                  <a:pt x="54" y="61"/>
                </a:lnTo>
                <a:lnTo>
                  <a:pt x="25" y="25"/>
                </a:lnTo>
                <a:lnTo>
                  <a:pt x="67" y="12"/>
                </a:lnTo>
                <a:lnTo>
                  <a:pt x="108" y="0"/>
                </a:lnTo>
                <a:lnTo>
                  <a:pt x="138" y="31"/>
                </a:lnTo>
                <a:lnTo>
                  <a:pt x="167" y="63"/>
                </a:lnTo>
                <a:lnTo>
                  <a:pt x="194" y="94"/>
                </a:lnTo>
                <a:lnTo>
                  <a:pt x="221" y="123"/>
                </a:lnTo>
                <a:lnTo>
                  <a:pt x="246" y="154"/>
                </a:lnTo>
                <a:lnTo>
                  <a:pt x="269" y="180"/>
                </a:lnTo>
                <a:lnTo>
                  <a:pt x="292" y="209"/>
                </a:lnTo>
                <a:lnTo>
                  <a:pt x="313" y="236"/>
                </a:lnTo>
                <a:lnTo>
                  <a:pt x="332" y="263"/>
                </a:lnTo>
                <a:lnTo>
                  <a:pt x="351" y="288"/>
                </a:lnTo>
                <a:lnTo>
                  <a:pt x="367" y="313"/>
                </a:lnTo>
                <a:lnTo>
                  <a:pt x="382" y="338"/>
                </a:lnTo>
                <a:lnTo>
                  <a:pt x="396" y="361"/>
                </a:lnTo>
                <a:lnTo>
                  <a:pt x="409" y="384"/>
                </a:lnTo>
                <a:lnTo>
                  <a:pt x="421" y="405"/>
                </a:lnTo>
                <a:lnTo>
                  <a:pt x="430" y="426"/>
                </a:lnTo>
                <a:lnTo>
                  <a:pt x="438" y="447"/>
                </a:lnTo>
                <a:lnTo>
                  <a:pt x="445" y="468"/>
                </a:lnTo>
                <a:lnTo>
                  <a:pt x="453" y="489"/>
                </a:lnTo>
                <a:lnTo>
                  <a:pt x="461" y="512"/>
                </a:lnTo>
                <a:lnTo>
                  <a:pt x="467" y="535"/>
                </a:lnTo>
                <a:lnTo>
                  <a:pt x="472" y="558"/>
                </a:lnTo>
                <a:lnTo>
                  <a:pt x="484" y="606"/>
                </a:lnTo>
                <a:lnTo>
                  <a:pt x="493" y="656"/>
                </a:lnTo>
                <a:lnTo>
                  <a:pt x="501" y="708"/>
                </a:lnTo>
                <a:lnTo>
                  <a:pt x="507" y="762"/>
                </a:lnTo>
                <a:lnTo>
                  <a:pt x="513" y="815"/>
                </a:lnTo>
                <a:lnTo>
                  <a:pt x="515" y="842"/>
                </a:lnTo>
                <a:lnTo>
                  <a:pt x="515" y="869"/>
                </a:lnTo>
                <a:lnTo>
                  <a:pt x="517" y="894"/>
                </a:lnTo>
                <a:lnTo>
                  <a:pt x="517" y="921"/>
                </a:lnTo>
                <a:lnTo>
                  <a:pt x="517" y="946"/>
                </a:lnTo>
                <a:lnTo>
                  <a:pt x="517" y="969"/>
                </a:lnTo>
                <a:lnTo>
                  <a:pt x="515" y="994"/>
                </a:lnTo>
                <a:lnTo>
                  <a:pt x="513" y="1017"/>
                </a:lnTo>
                <a:lnTo>
                  <a:pt x="511" y="1038"/>
                </a:lnTo>
                <a:lnTo>
                  <a:pt x="509" y="1061"/>
                </a:lnTo>
                <a:lnTo>
                  <a:pt x="507" y="1082"/>
                </a:lnTo>
                <a:lnTo>
                  <a:pt x="503" y="1103"/>
                </a:lnTo>
                <a:lnTo>
                  <a:pt x="501" y="1122"/>
                </a:lnTo>
                <a:lnTo>
                  <a:pt x="497" y="1144"/>
                </a:lnTo>
                <a:lnTo>
                  <a:pt x="493" y="1163"/>
                </a:lnTo>
                <a:lnTo>
                  <a:pt x="490" y="1180"/>
                </a:lnTo>
                <a:lnTo>
                  <a:pt x="480" y="1213"/>
                </a:lnTo>
                <a:lnTo>
                  <a:pt x="469" y="1241"/>
                </a:lnTo>
                <a:lnTo>
                  <a:pt x="463" y="1257"/>
                </a:lnTo>
                <a:lnTo>
                  <a:pt x="457" y="1270"/>
                </a:lnTo>
                <a:lnTo>
                  <a:pt x="451" y="1284"/>
                </a:lnTo>
                <a:lnTo>
                  <a:pt x="445" y="1295"/>
                </a:lnTo>
                <a:lnTo>
                  <a:pt x="440" y="1309"/>
                </a:lnTo>
                <a:lnTo>
                  <a:pt x="432" y="1320"/>
                </a:lnTo>
                <a:lnTo>
                  <a:pt x="426" y="1332"/>
                </a:lnTo>
                <a:lnTo>
                  <a:pt x="421" y="1341"/>
                </a:lnTo>
                <a:lnTo>
                  <a:pt x="413" y="1351"/>
                </a:lnTo>
                <a:lnTo>
                  <a:pt x="407" y="1360"/>
                </a:lnTo>
                <a:lnTo>
                  <a:pt x="399" y="1368"/>
                </a:lnTo>
                <a:lnTo>
                  <a:pt x="394" y="1376"/>
                </a:lnTo>
                <a:lnTo>
                  <a:pt x="388" y="1382"/>
                </a:lnTo>
                <a:lnTo>
                  <a:pt x="380" y="1387"/>
                </a:lnTo>
                <a:lnTo>
                  <a:pt x="374" y="1393"/>
                </a:lnTo>
                <a:lnTo>
                  <a:pt x="367" y="1399"/>
                </a:lnTo>
                <a:lnTo>
                  <a:pt x="361" y="1403"/>
                </a:lnTo>
                <a:lnTo>
                  <a:pt x="353" y="1406"/>
                </a:lnTo>
                <a:lnTo>
                  <a:pt x="342" y="1414"/>
                </a:lnTo>
                <a:lnTo>
                  <a:pt x="330" y="1418"/>
                </a:lnTo>
                <a:lnTo>
                  <a:pt x="319" y="1422"/>
                </a:lnTo>
                <a:lnTo>
                  <a:pt x="307" y="1424"/>
                </a:lnTo>
                <a:lnTo>
                  <a:pt x="300" y="1424"/>
                </a:lnTo>
                <a:lnTo>
                  <a:pt x="292" y="1422"/>
                </a:lnTo>
                <a:lnTo>
                  <a:pt x="286" y="1418"/>
                </a:lnTo>
                <a:lnTo>
                  <a:pt x="280" y="1416"/>
                </a:lnTo>
                <a:lnTo>
                  <a:pt x="277" y="1412"/>
                </a:lnTo>
                <a:lnTo>
                  <a:pt x="267" y="1405"/>
                </a:lnTo>
                <a:lnTo>
                  <a:pt x="261" y="1397"/>
                </a:lnTo>
                <a:lnTo>
                  <a:pt x="257" y="1387"/>
                </a:lnTo>
                <a:lnTo>
                  <a:pt x="254" y="1376"/>
                </a:lnTo>
                <a:lnTo>
                  <a:pt x="252" y="1364"/>
                </a:lnTo>
                <a:lnTo>
                  <a:pt x="252" y="1351"/>
                </a:lnTo>
                <a:lnTo>
                  <a:pt x="250" y="1341"/>
                </a:lnTo>
                <a:lnTo>
                  <a:pt x="248" y="1334"/>
                </a:lnTo>
                <a:lnTo>
                  <a:pt x="246" y="1324"/>
                </a:lnTo>
                <a:lnTo>
                  <a:pt x="242" y="1314"/>
                </a:lnTo>
                <a:lnTo>
                  <a:pt x="236" y="1305"/>
                </a:lnTo>
                <a:lnTo>
                  <a:pt x="230" y="1295"/>
                </a:lnTo>
                <a:lnTo>
                  <a:pt x="225" y="1286"/>
                </a:lnTo>
                <a:lnTo>
                  <a:pt x="217" y="1276"/>
                </a:lnTo>
                <a:lnTo>
                  <a:pt x="207" y="1266"/>
                </a:lnTo>
                <a:lnTo>
                  <a:pt x="198" y="1257"/>
                </a:lnTo>
                <a:lnTo>
                  <a:pt x="186" y="1247"/>
                </a:lnTo>
                <a:lnTo>
                  <a:pt x="175" y="1236"/>
                </a:lnTo>
                <a:lnTo>
                  <a:pt x="163" y="1226"/>
                </a:lnTo>
                <a:lnTo>
                  <a:pt x="150" y="1215"/>
                </a:lnTo>
                <a:lnTo>
                  <a:pt x="135" y="1203"/>
                </a:lnTo>
                <a:lnTo>
                  <a:pt x="121" y="1193"/>
                </a:lnTo>
                <a:lnTo>
                  <a:pt x="106" y="1182"/>
                </a:lnTo>
                <a:lnTo>
                  <a:pt x="90" y="1170"/>
                </a:lnTo>
                <a:lnTo>
                  <a:pt x="77" y="1159"/>
                </a:lnTo>
                <a:lnTo>
                  <a:pt x="65" y="1149"/>
                </a:lnTo>
                <a:lnTo>
                  <a:pt x="54" y="1140"/>
                </a:lnTo>
                <a:lnTo>
                  <a:pt x="42" y="1130"/>
                </a:lnTo>
                <a:lnTo>
                  <a:pt x="35" y="1122"/>
                </a:lnTo>
                <a:lnTo>
                  <a:pt x="25" y="1113"/>
                </a:lnTo>
                <a:lnTo>
                  <a:pt x="17" y="1105"/>
                </a:lnTo>
                <a:lnTo>
                  <a:pt x="12" y="1099"/>
                </a:lnTo>
                <a:lnTo>
                  <a:pt x="8" y="1092"/>
                </a:lnTo>
                <a:lnTo>
                  <a:pt x="4" y="1086"/>
                </a:lnTo>
                <a:lnTo>
                  <a:pt x="0" y="1082"/>
                </a:lnTo>
                <a:lnTo>
                  <a:pt x="0" y="1076"/>
                </a:lnTo>
                <a:lnTo>
                  <a:pt x="0" y="1073"/>
                </a:lnTo>
                <a:lnTo>
                  <a:pt x="2" y="1071"/>
                </a:lnTo>
                <a:lnTo>
                  <a:pt x="2" y="1069"/>
                </a:lnTo>
                <a:lnTo>
                  <a:pt x="4" y="1067"/>
                </a:lnTo>
                <a:lnTo>
                  <a:pt x="6" y="1065"/>
                </a:lnTo>
                <a:lnTo>
                  <a:pt x="12" y="1065"/>
                </a:lnTo>
                <a:lnTo>
                  <a:pt x="15" y="1063"/>
                </a:lnTo>
                <a:lnTo>
                  <a:pt x="23" y="1063"/>
                </a:lnTo>
                <a:lnTo>
                  <a:pt x="29" y="1063"/>
                </a:lnTo>
                <a:lnTo>
                  <a:pt x="39" y="1063"/>
                </a:lnTo>
                <a:lnTo>
                  <a:pt x="48" y="1063"/>
                </a:lnTo>
                <a:lnTo>
                  <a:pt x="60" y="1065"/>
                </a:lnTo>
                <a:lnTo>
                  <a:pt x="73" y="1067"/>
                </a:lnTo>
                <a:lnTo>
                  <a:pt x="87" y="1069"/>
                </a:lnTo>
                <a:lnTo>
                  <a:pt x="102" y="1073"/>
                </a:lnTo>
                <a:lnTo>
                  <a:pt x="119" y="1075"/>
                </a:lnTo>
                <a:lnTo>
                  <a:pt x="136" y="1078"/>
                </a:lnTo>
                <a:lnTo>
                  <a:pt x="156" y="1084"/>
                </a:lnTo>
                <a:lnTo>
                  <a:pt x="173" y="1090"/>
                </a:lnTo>
                <a:lnTo>
                  <a:pt x="190" y="1096"/>
                </a:lnTo>
                <a:lnTo>
                  <a:pt x="206" y="1099"/>
                </a:lnTo>
                <a:lnTo>
                  <a:pt x="221" y="1103"/>
                </a:lnTo>
                <a:lnTo>
                  <a:pt x="234" y="1107"/>
                </a:lnTo>
                <a:lnTo>
                  <a:pt x="248" y="1109"/>
                </a:lnTo>
                <a:lnTo>
                  <a:pt x="259" y="1111"/>
                </a:lnTo>
                <a:lnTo>
                  <a:pt x="271" y="1113"/>
                </a:lnTo>
                <a:lnTo>
                  <a:pt x="280" y="1113"/>
                </a:lnTo>
                <a:lnTo>
                  <a:pt x="290" y="1111"/>
                </a:lnTo>
                <a:lnTo>
                  <a:pt x="298" y="1111"/>
                </a:lnTo>
                <a:lnTo>
                  <a:pt x="305" y="1109"/>
                </a:lnTo>
                <a:lnTo>
                  <a:pt x="311" y="1107"/>
                </a:lnTo>
                <a:lnTo>
                  <a:pt x="315" y="1103"/>
                </a:lnTo>
                <a:lnTo>
                  <a:pt x="319" y="1099"/>
                </a:lnTo>
                <a:lnTo>
                  <a:pt x="323" y="10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38"/>
          <p:cNvSpPr/>
          <p:nvPr/>
        </p:nvSpPr>
        <p:spPr>
          <a:xfrm>
            <a:off x="6203880" y="4011480"/>
            <a:ext cx="492120" cy="400320"/>
          </a:xfrm>
          <a:custGeom>
            <a:avLst/>
            <a:gdLst/>
            <a:ahLst/>
            <a:rect l="l" t="t" r="r" b="b"/>
            <a:pathLst>
              <a:path w="620" h="503">
                <a:moveTo>
                  <a:pt x="97" y="401"/>
                </a:moveTo>
                <a:lnTo>
                  <a:pt x="113" y="389"/>
                </a:lnTo>
                <a:lnTo>
                  <a:pt x="130" y="376"/>
                </a:lnTo>
                <a:lnTo>
                  <a:pt x="149" y="359"/>
                </a:lnTo>
                <a:lnTo>
                  <a:pt x="170" y="341"/>
                </a:lnTo>
                <a:lnTo>
                  <a:pt x="193" y="324"/>
                </a:lnTo>
                <a:lnTo>
                  <a:pt x="217" y="303"/>
                </a:lnTo>
                <a:lnTo>
                  <a:pt x="243" y="280"/>
                </a:lnTo>
                <a:lnTo>
                  <a:pt x="270" y="257"/>
                </a:lnTo>
                <a:lnTo>
                  <a:pt x="299" y="230"/>
                </a:lnTo>
                <a:lnTo>
                  <a:pt x="330" y="203"/>
                </a:lnTo>
                <a:lnTo>
                  <a:pt x="360" y="173"/>
                </a:lnTo>
                <a:lnTo>
                  <a:pt x="395" y="142"/>
                </a:lnTo>
                <a:lnTo>
                  <a:pt x="432" y="109"/>
                </a:lnTo>
                <a:lnTo>
                  <a:pt x="468" y="75"/>
                </a:lnTo>
                <a:lnTo>
                  <a:pt x="508" y="38"/>
                </a:lnTo>
                <a:lnTo>
                  <a:pt x="549" y="0"/>
                </a:lnTo>
                <a:lnTo>
                  <a:pt x="585" y="48"/>
                </a:lnTo>
                <a:lnTo>
                  <a:pt x="620" y="98"/>
                </a:lnTo>
                <a:lnTo>
                  <a:pt x="591" y="125"/>
                </a:lnTo>
                <a:lnTo>
                  <a:pt x="564" y="151"/>
                </a:lnTo>
                <a:lnTo>
                  <a:pt x="535" y="176"/>
                </a:lnTo>
                <a:lnTo>
                  <a:pt x="506" y="201"/>
                </a:lnTo>
                <a:lnTo>
                  <a:pt x="480" y="224"/>
                </a:lnTo>
                <a:lnTo>
                  <a:pt x="453" y="245"/>
                </a:lnTo>
                <a:lnTo>
                  <a:pt x="424" y="267"/>
                </a:lnTo>
                <a:lnTo>
                  <a:pt x="397" y="288"/>
                </a:lnTo>
                <a:lnTo>
                  <a:pt x="370" y="307"/>
                </a:lnTo>
                <a:lnTo>
                  <a:pt x="345" y="326"/>
                </a:lnTo>
                <a:lnTo>
                  <a:pt x="318" y="343"/>
                </a:lnTo>
                <a:lnTo>
                  <a:pt x="293" y="359"/>
                </a:lnTo>
                <a:lnTo>
                  <a:pt x="266" y="374"/>
                </a:lnTo>
                <a:lnTo>
                  <a:pt x="241" y="389"/>
                </a:lnTo>
                <a:lnTo>
                  <a:pt x="217" y="401"/>
                </a:lnTo>
                <a:lnTo>
                  <a:pt x="192" y="414"/>
                </a:lnTo>
                <a:lnTo>
                  <a:pt x="169" y="428"/>
                </a:lnTo>
                <a:lnTo>
                  <a:pt x="147" y="439"/>
                </a:lnTo>
                <a:lnTo>
                  <a:pt x="126" y="451"/>
                </a:lnTo>
                <a:lnTo>
                  <a:pt x="107" y="460"/>
                </a:lnTo>
                <a:lnTo>
                  <a:pt x="90" y="468"/>
                </a:lnTo>
                <a:lnTo>
                  <a:pt x="74" y="476"/>
                </a:lnTo>
                <a:lnTo>
                  <a:pt x="61" y="483"/>
                </a:lnTo>
                <a:lnTo>
                  <a:pt x="48" y="489"/>
                </a:lnTo>
                <a:lnTo>
                  <a:pt x="38" y="493"/>
                </a:lnTo>
                <a:lnTo>
                  <a:pt x="28" y="497"/>
                </a:lnTo>
                <a:lnTo>
                  <a:pt x="21" y="499"/>
                </a:lnTo>
                <a:lnTo>
                  <a:pt x="13" y="501"/>
                </a:lnTo>
                <a:lnTo>
                  <a:pt x="9" y="503"/>
                </a:lnTo>
                <a:lnTo>
                  <a:pt x="5" y="503"/>
                </a:lnTo>
                <a:lnTo>
                  <a:pt x="3" y="501"/>
                </a:lnTo>
                <a:lnTo>
                  <a:pt x="2" y="499"/>
                </a:lnTo>
                <a:lnTo>
                  <a:pt x="0" y="497"/>
                </a:lnTo>
                <a:lnTo>
                  <a:pt x="0" y="493"/>
                </a:lnTo>
                <a:lnTo>
                  <a:pt x="0" y="489"/>
                </a:lnTo>
                <a:lnTo>
                  <a:pt x="2" y="485"/>
                </a:lnTo>
                <a:lnTo>
                  <a:pt x="5" y="481"/>
                </a:lnTo>
                <a:lnTo>
                  <a:pt x="9" y="476"/>
                </a:lnTo>
                <a:lnTo>
                  <a:pt x="13" y="470"/>
                </a:lnTo>
                <a:lnTo>
                  <a:pt x="19" y="464"/>
                </a:lnTo>
                <a:lnTo>
                  <a:pt x="25" y="458"/>
                </a:lnTo>
                <a:lnTo>
                  <a:pt x="32" y="451"/>
                </a:lnTo>
                <a:lnTo>
                  <a:pt x="42" y="443"/>
                </a:lnTo>
                <a:lnTo>
                  <a:pt x="51" y="435"/>
                </a:lnTo>
                <a:lnTo>
                  <a:pt x="61" y="428"/>
                </a:lnTo>
                <a:lnTo>
                  <a:pt x="73" y="420"/>
                </a:lnTo>
                <a:lnTo>
                  <a:pt x="84" y="410"/>
                </a:lnTo>
                <a:lnTo>
                  <a:pt x="97" y="4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39"/>
          <p:cNvSpPr/>
          <p:nvPr/>
        </p:nvSpPr>
        <p:spPr>
          <a:xfrm>
            <a:off x="6195960" y="4167360"/>
            <a:ext cx="614520" cy="544320"/>
          </a:xfrm>
          <a:custGeom>
            <a:avLst/>
            <a:gdLst/>
            <a:ahLst/>
            <a:rect l="l" t="t" r="r" b="b"/>
            <a:pathLst>
              <a:path w="776" h="685">
                <a:moveTo>
                  <a:pt x="192" y="619"/>
                </a:moveTo>
                <a:lnTo>
                  <a:pt x="169" y="631"/>
                </a:lnTo>
                <a:lnTo>
                  <a:pt x="146" y="640"/>
                </a:lnTo>
                <a:lnTo>
                  <a:pt x="127" y="648"/>
                </a:lnTo>
                <a:lnTo>
                  <a:pt x="108" y="656"/>
                </a:lnTo>
                <a:lnTo>
                  <a:pt x="90" y="663"/>
                </a:lnTo>
                <a:lnTo>
                  <a:pt x="75" y="669"/>
                </a:lnTo>
                <a:lnTo>
                  <a:pt x="61" y="673"/>
                </a:lnTo>
                <a:lnTo>
                  <a:pt x="48" y="677"/>
                </a:lnTo>
                <a:lnTo>
                  <a:pt x="37" y="681"/>
                </a:lnTo>
                <a:lnTo>
                  <a:pt x="27" y="683"/>
                </a:lnTo>
                <a:lnTo>
                  <a:pt x="19" y="685"/>
                </a:lnTo>
                <a:lnTo>
                  <a:pt x="14" y="685"/>
                </a:lnTo>
                <a:lnTo>
                  <a:pt x="8" y="685"/>
                </a:lnTo>
                <a:lnTo>
                  <a:pt x="4" y="685"/>
                </a:lnTo>
                <a:lnTo>
                  <a:pt x="2" y="683"/>
                </a:lnTo>
                <a:lnTo>
                  <a:pt x="2" y="681"/>
                </a:lnTo>
                <a:lnTo>
                  <a:pt x="2" y="679"/>
                </a:lnTo>
                <a:lnTo>
                  <a:pt x="0" y="677"/>
                </a:lnTo>
                <a:lnTo>
                  <a:pt x="0" y="675"/>
                </a:lnTo>
                <a:lnTo>
                  <a:pt x="2" y="673"/>
                </a:lnTo>
                <a:lnTo>
                  <a:pt x="4" y="669"/>
                </a:lnTo>
                <a:lnTo>
                  <a:pt x="10" y="663"/>
                </a:lnTo>
                <a:lnTo>
                  <a:pt x="15" y="658"/>
                </a:lnTo>
                <a:lnTo>
                  <a:pt x="23" y="650"/>
                </a:lnTo>
                <a:lnTo>
                  <a:pt x="35" y="642"/>
                </a:lnTo>
                <a:lnTo>
                  <a:pt x="46" y="633"/>
                </a:lnTo>
                <a:lnTo>
                  <a:pt x="60" y="623"/>
                </a:lnTo>
                <a:lnTo>
                  <a:pt x="75" y="612"/>
                </a:lnTo>
                <a:lnTo>
                  <a:pt x="92" y="600"/>
                </a:lnTo>
                <a:lnTo>
                  <a:pt x="111" y="587"/>
                </a:lnTo>
                <a:lnTo>
                  <a:pt x="133" y="571"/>
                </a:lnTo>
                <a:lnTo>
                  <a:pt x="154" y="556"/>
                </a:lnTo>
                <a:lnTo>
                  <a:pt x="179" y="541"/>
                </a:lnTo>
                <a:lnTo>
                  <a:pt x="204" y="521"/>
                </a:lnTo>
                <a:lnTo>
                  <a:pt x="229" y="502"/>
                </a:lnTo>
                <a:lnTo>
                  <a:pt x="255" y="481"/>
                </a:lnTo>
                <a:lnTo>
                  <a:pt x="282" y="460"/>
                </a:lnTo>
                <a:lnTo>
                  <a:pt x="311" y="435"/>
                </a:lnTo>
                <a:lnTo>
                  <a:pt x="340" y="408"/>
                </a:lnTo>
                <a:lnTo>
                  <a:pt x="371" y="381"/>
                </a:lnTo>
                <a:lnTo>
                  <a:pt x="401" y="351"/>
                </a:lnTo>
                <a:lnTo>
                  <a:pt x="434" y="320"/>
                </a:lnTo>
                <a:lnTo>
                  <a:pt x="467" y="287"/>
                </a:lnTo>
                <a:lnTo>
                  <a:pt x="484" y="270"/>
                </a:lnTo>
                <a:lnTo>
                  <a:pt x="501" y="251"/>
                </a:lnTo>
                <a:lnTo>
                  <a:pt x="516" y="234"/>
                </a:lnTo>
                <a:lnTo>
                  <a:pt x="534" y="214"/>
                </a:lnTo>
                <a:lnTo>
                  <a:pt x="553" y="195"/>
                </a:lnTo>
                <a:lnTo>
                  <a:pt x="570" y="176"/>
                </a:lnTo>
                <a:lnTo>
                  <a:pt x="587" y="155"/>
                </a:lnTo>
                <a:lnTo>
                  <a:pt x="605" y="134"/>
                </a:lnTo>
                <a:lnTo>
                  <a:pt x="624" y="113"/>
                </a:lnTo>
                <a:lnTo>
                  <a:pt x="641" y="92"/>
                </a:lnTo>
                <a:lnTo>
                  <a:pt x="660" y="69"/>
                </a:lnTo>
                <a:lnTo>
                  <a:pt x="678" y="46"/>
                </a:lnTo>
                <a:lnTo>
                  <a:pt x="697" y="23"/>
                </a:lnTo>
                <a:lnTo>
                  <a:pt x="716" y="0"/>
                </a:lnTo>
                <a:lnTo>
                  <a:pt x="745" y="78"/>
                </a:lnTo>
                <a:lnTo>
                  <a:pt x="760" y="117"/>
                </a:lnTo>
                <a:lnTo>
                  <a:pt x="776" y="157"/>
                </a:lnTo>
                <a:lnTo>
                  <a:pt x="747" y="190"/>
                </a:lnTo>
                <a:lnTo>
                  <a:pt x="720" y="220"/>
                </a:lnTo>
                <a:lnTo>
                  <a:pt x="689" y="253"/>
                </a:lnTo>
                <a:lnTo>
                  <a:pt x="659" y="284"/>
                </a:lnTo>
                <a:lnTo>
                  <a:pt x="628" y="314"/>
                </a:lnTo>
                <a:lnTo>
                  <a:pt x="593" y="343"/>
                </a:lnTo>
                <a:lnTo>
                  <a:pt x="561" y="372"/>
                </a:lnTo>
                <a:lnTo>
                  <a:pt x="526" y="401"/>
                </a:lnTo>
                <a:lnTo>
                  <a:pt x="490" y="431"/>
                </a:lnTo>
                <a:lnTo>
                  <a:pt x="451" y="462"/>
                </a:lnTo>
                <a:lnTo>
                  <a:pt x="413" y="491"/>
                </a:lnTo>
                <a:lnTo>
                  <a:pt x="372" y="520"/>
                </a:lnTo>
                <a:lnTo>
                  <a:pt x="330" y="546"/>
                </a:lnTo>
                <a:lnTo>
                  <a:pt x="286" y="571"/>
                </a:lnTo>
                <a:lnTo>
                  <a:pt x="263" y="583"/>
                </a:lnTo>
                <a:lnTo>
                  <a:pt x="240" y="596"/>
                </a:lnTo>
                <a:lnTo>
                  <a:pt x="217" y="608"/>
                </a:lnTo>
                <a:lnTo>
                  <a:pt x="192" y="6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40"/>
          <p:cNvSpPr/>
          <p:nvPr/>
        </p:nvSpPr>
        <p:spPr>
          <a:xfrm>
            <a:off x="6885000" y="3784680"/>
            <a:ext cx="425520" cy="412560"/>
          </a:xfrm>
          <a:custGeom>
            <a:avLst/>
            <a:gdLst/>
            <a:ahLst/>
            <a:rect l="l" t="t" r="r" b="b"/>
            <a:pathLst>
              <a:path w="535" h="518">
                <a:moveTo>
                  <a:pt x="48" y="518"/>
                </a:moveTo>
                <a:lnTo>
                  <a:pt x="23" y="499"/>
                </a:lnTo>
                <a:lnTo>
                  <a:pt x="0" y="482"/>
                </a:lnTo>
                <a:lnTo>
                  <a:pt x="28" y="451"/>
                </a:lnTo>
                <a:lnTo>
                  <a:pt x="55" y="424"/>
                </a:lnTo>
                <a:lnTo>
                  <a:pt x="80" y="397"/>
                </a:lnTo>
                <a:lnTo>
                  <a:pt x="103" y="370"/>
                </a:lnTo>
                <a:lnTo>
                  <a:pt x="126" y="345"/>
                </a:lnTo>
                <a:lnTo>
                  <a:pt x="148" y="322"/>
                </a:lnTo>
                <a:lnTo>
                  <a:pt x="169" y="301"/>
                </a:lnTo>
                <a:lnTo>
                  <a:pt x="186" y="280"/>
                </a:lnTo>
                <a:lnTo>
                  <a:pt x="203" y="261"/>
                </a:lnTo>
                <a:lnTo>
                  <a:pt x="220" y="244"/>
                </a:lnTo>
                <a:lnTo>
                  <a:pt x="234" y="226"/>
                </a:lnTo>
                <a:lnTo>
                  <a:pt x="247" y="211"/>
                </a:lnTo>
                <a:lnTo>
                  <a:pt x="259" y="198"/>
                </a:lnTo>
                <a:lnTo>
                  <a:pt x="268" y="186"/>
                </a:lnTo>
                <a:lnTo>
                  <a:pt x="278" y="175"/>
                </a:lnTo>
                <a:lnTo>
                  <a:pt x="286" y="165"/>
                </a:lnTo>
                <a:lnTo>
                  <a:pt x="291" y="155"/>
                </a:lnTo>
                <a:lnTo>
                  <a:pt x="297" y="146"/>
                </a:lnTo>
                <a:lnTo>
                  <a:pt x="301" y="138"/>
                </a:lnTo>
                <a:lnTo>
                  <a:pt x="305" y="130"/>
                </a:lnTo>
                <a:lnTo>
                  <a:pt x="309" y="123"/>
                </a:lnTo>
                <a:lnTo>
                  <a:pt x="311" y="115"/>
                </a:lnTo>
                <a:lnTo>
                  <a:pt x="313" y="107"/>
                </a:lnTo>
                <a:lnTo>
                  <a:pt x="315" y="100"/>
                </a:lnTo>
                <a:lnTo>
                  <a:pt x="315" y="94"/>
                </a:lnTo>
                <a:lnTo>
                  <a:pt x="316" y="86"/>
                </a:lnTo>
                <a:lnTo>
                  <a:pt x="315" y="75"/>
                </a:lnTo>
                <a:lnTo>
                  <a:pt x="313" y="65"/>
                </a:lnTo>
                <a:lnTo>
                  <a:pt x="309" y="56"/>
                </a:lnTo>
                <a:lnTo>
                  <a:pt x="305" y="50"/>
                </a:lnTo>
                <a:lnTo>
                  <a:pt x="303" y="44"/>
                </a:lnTo>
                <a:lnTo>
                  <a:pt x="301" y="36"/>
                </a:lnTo>
                <a:lnTo>
                  <a:pt x="301" y="31"/>
                </a:lnTo>
                <a:lnTo>
                  <a:pt x="303" y="23"/>
                </a:lnTo>
                <a:lnTo>
                  <a:pt x="305" y="21"/>
                </a:lnTo>
                <a:lnTo>
                  <a:pt x="307" y="17"/>
                </a:lnTo>
                <a:lnTo>
                  <a:pt x="311" y="13"/>
                </a:lnTo>
                <a:lnTo>
                  <a:pt x="313" y="11"/>
                </a:lnTo>
                <a:lnTo>
                  <a:pt x="316" y="8"/>
                </a:lnTo>
                <a:lnTo>
                  <a:pt x="320" y="6"/>
                </a:lnTo>
                <a:lnTo>
                  <a:pt x="324" y="4"/>
                </a:lnTo>
                <a:lnTo>
                  <a:pt x="326" y="2"/>
                </a:lnTo>
                <a:lnTo>
                  <a:pt x="330" y="2"/>
                </a:lnTo>
                <a:lnTo>
                  <a:pt x="334" y="0"/>
                </a:lnTo>
                <a:lnTo>
                  <a:pt x="343" y="2"/>
                </a:lnTo>
                <a:lnTo>
                  <a:pt x="353" y="2"/>
                </a:lnTo>
                <a:lnTo>
                  <a:pt x="364" y="6"/>
                </a:lnTo>
                <a:lnTo>
                  <a:pt x="378" y="10"/>
                </a:lnTo>
                <a:lnTo>
                  <a:pt x="391" y="13"/>
                </a:lnTo>
                <a:lnTo>
                  <a:pt x="405" y="19"/>
                </a:lnTo>
                <a:lnTo>
                  <a:pt x="416" y="23"/>
                </a:lnTo>
                <a:lnTo>
                  <a:pt x="428" y="29"/>
                </a:lnTo>
                <a:lnTo>
                  <a:pt x="441" y="36"/>
                </a:lnTo>
                <a:lnTo>
                  <a:pt x="451" y="44"/>
                </a:lnTo>
                <a:lnTo>
                  <a:pt x="462" y="52"/>
                </a:lnTo>
                <a:lnTo>
                  <a:pt x="474" y="61"/>
                </a:lnTo>
                <a:lnTo>
                  <a:pt x="485" y="69"/>
                </a:lnTo>
                <a:lnTo>
                  <a:pt x="499" y="79"/>
                </a:lnTo>
                <a:lnTo>
                  <a:pt x="506" y="92"/>
                </a:lnTo>
                <a:lnTo>
                  <a:pt x="514" y="104"/>
                </a:lnTo>
                <a:lnTo>
                  <a:pt x="520" y="115"/>
                </a:lnTo>
                <a:lnTo>
                  <a:pt x="526" y="125"/>
                </a:lnTo>
                <a:lnTo>
                  <a:pt x="530" y="132"/>
                </a:lnTo>
                <a:lnTo>
                  <a:pt x="533" y="140"/>
                </a:lnTo>
                <a:lnTo>
                  <a:pt x="533" y="148"/>
                </a:lnTo>
                <a:lnTo>
                  <a:pt x="535" y="152"/>
                </a:lnTo>
                <a:lnTo>
                  <a:pt x="531" y="157"/>
                </a:lnTo>
                <a:lnTo>
                  <a:pt x="530" y="161"/>
                </a:lnTo>
                <a:lnTo>
                  <a:pt x="526" y="167"/>
                </a:lnTo>
                <a:lnTo>
                  <a:pt x="522" y="173"/>
                </a:lnTo>
                <a:lnTo>
                  <a:pt x="516" y="178"/>
                </a:lnTo>
                <a:lnTo>
                  <a:pt x="510" y="184"/>
                </a:lnTo>
                <a:lnTo>
                  <a:pt x="503" y="192"/>
                </a:lnTo>
                <a:lnTo>
                  <a:pt x="495" y="200"/>
                </a:lnTo>
                <a:lnTo>
                  <a:pt x="487" y="207"/>
                </a:lnTo>
                <a:lnTo>
                  <a:pt x="478" y="215"/>
                </a:lnTo>
                <a:lnTo>
                  <a:pt x="468" y="223"/>
                </a:lnTo>
                <a:lnTo>
                  <a:pt x="457" y="232"/>
                </a:lnTo>
                <a:lnTo>
                  <a:pt x="445" y="242"/>
                </a:lnTo>
                <a:lnTo>
                  <a:pt x="434" y="251"/>
                </a:lnTo>
                <a:lnTo>
                  <a:pt x="418" y="263"/>
                </a:lnTo>
                <a:lnTo>
                  <a:pt x="405" y="274"/>
                </a:lnTo>
                <a:lnTo>
                  <a:pt x="387" y="286"/>
                </a:lnTo>
                <a:lnTo>
                  <a:pt x="370" y="297"/>
                </a:lnTo>
                <a:lnTo>
                  <a:pt x="353" y="311"/>
                </a:lnTo>
                <a:lnTo>
                  <a:pt x="336" y="324"/>
                </a:lnTo>
                <a:lnTo>
                  <a:pt x="315" y="338"/>
                </a:lnTo>
                <a:lnTo>
                  <a:pt x="295" y="351"/>
                </a:lnTo>
                <a:lnTo>
                  <a:pt x="274" y="366"/>
                </a:lnTo>
                <a:lnTo>
                  <a:pt x="253" y="382"/>
                </a:lnTo>
                <a:lnTo>
                  <a:pt x="230" y="397"/>
                </a:lnTo>
                <a:lnTo>
                  <a:pt x="205" y="412"/>
                </a:lnTo>
                <a:lnTo>
                  <a:pt x="182" y="430"/>
                </a:lnTo>
                <a:lnTo>
                  <a:pt x="155" y="445"/>
                </a:lnTo>
                <a:lnTo>
                  <a:pt x="130" y="462"/>
                </a:lnTo>
                <a:lnTo>
                  <a:pt x="103" y="482"/>
                </a:lnTo>
                <a:lnTo>
                  <a:pt x="76" y="499"/>
                </a:lnTo>
                <a:lnTo>
                  <a:pt x="48" y="5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41"/>
          <p:cNvSpPr/>
          <p:nvPr/>
        </p:nvSpPr>
        <p:spPr>
          <a:xfrm>
            <a:off x="6791400" y="4138560"/>
            <a:ext cx="954000" cy="449280"/>
          </a:xfrm>
          <a:custGeom>
            <a:avLst/>
            <a:gdLst/>
            <a:ahLst/>
            <a:rect l="l" t="t" r="r" b="b"/>
            <a:pathLst>
              <a:path w="1201" h="566">
                <a:moveTo>
                  <a:pt x="0" y="0"/>
                </a:moveTo>
                <a:lnTo>
                  <a:pt x="11" y="0"/>
                </a:lnTo>
                <a:lnTo>
                  <a:pt x="25" y="0"/>
                </a:lnTo>
                <a:lnTo>
                  <a:pt x="38" y="4"/>
                </a:lnTo>
                <a:lnTo>
                  <a:pt x="53" y="6"/>
                </a:lnTo>
                <a:lnTo>
                  <a:pt x="71" y="10"/>
                </a:lnTo>
                <a:lnTo>
                  <a:pt x="88" y="15"/>
                </a:lnTo>
                <a:lnTo>
                  <a:pt x="105" y="21"/>
                </a:lnTo>
                <a:lnTo>
                  <a:pt x="124" y="27"/>
                </a:lnTo>
                <a:lnTo>
                  <a:pt x="146" y="35"/>
                </a:lnTo>
                <a:lnTo>
                  <a:pt x="167" y="44"/>
                </a:lnTo>
                <a:lnTo>
                  <a:pt x="190" y="54"/>
                </a:lnTo>
                <a:lnTo>
                  <a:pt x="215" y="65"/>
                </a:lnTo>
                <a:lnTo>
                  <a:pt x="240" y="77"/>
                </a:lnTo>
                <a:lnTo>
                  <a:pt x="265" y="90"/>
                </a:lnTo>
                <a:lnTo>
                  <a:pt x="293" y="106"/>
                </a:lnTo>
                <a:lnTo>
                  <a:pt x="320" y="121"/>
                </a:lnTo>
                <a:lnTo>
                  <a:pt x="347" y="136"/>
                </a:lnTo>
                <a:lnTo>
                  <a:pt x="376" y="154"/>
                </a:lnTo>
                <a:lnTo>
                  <a:pt x="405" y="169"/>
                </a:lnTo>
                <a:lnTo>
                  <a:pt x="434" y="184"/>
                </a:lnTo>
                <a:lnTo>
                  <a:pt x="464" y="200"/>
                </a:lnTo>
                <a:lnTo>
                  <a:pt x="497" y="215"/>
                </a:lnTo>
                <a:lnTo>
                  <a:pt x="530" y="230"/>
                </a:lnTo>
                <a:lnTo>
                  <a:pt x="562" y="246"/>
                </a:lnTo>
                <a:lnTo>
                  <a:pt x="597" y="261"/>
                </a:lnTo>
                <a:lnTo>
                  <a:pt x="633" y="274"/>
                </a:lnTo>
                <a:lnTo>
                  <a:pt x="670" y="288"/>
                </a:lnTo>
                <a:lnTo>
                  <a:pt x="706" y="301"/>
                </a:lnTo>
                <a:lnTo>
                  <a:pt x="746" y="315"/>
                </a:lnTo>
                <a:lnTo>
                  <a:pt x="785" y="328"/>
                </a:lnTo>
                <a:lnTo>
                  <a:pt x="825" y="340"/>
                </a:lnTo>
                <a:lnTo>
                  <a:pt x="867" y="353"/>
                </a:lnTo>
                <a:lnTo>
                  <a:pt x="888" y="359"/>
                </a:lnTo>
                <a:lnTo>
                  <a:pt x="908" y="363"/>
                </a:lnTo>
                <a:lnTo>
                  <a:pt x="929" y="369"/>
                </a:lnTo>
                <a:lnTo>
                  <a:pt x="946" y="374"/>
                </a:lnTo>
                <a:lnTo>
                  <a:pt x="965" y="380"/>
                </a:lnTo>
                <a:lnTo>
                  <a:pt x="983" y="384"/>
                </a:lnTo>
                <a:lnTo>
                  <a:pt x="998" y="390"/>
                </a:lnTo>
                <a:lnTo>
                  <a:pt x="1015" y="393"/>
                </a:lnTo>
                <a:lnTo>
                  <a:pt x="1031" y="399"/>
                </a:lnTo>
                <a:lnTo>
                  <a:pt x="1044" y="403"/>
                </a:lnTo>
                <a:lnTo>
                  <a:pt x="1059" y="407"/>
                </a:lnTo>
                <a:lnTo>
                  <a:pt x="1073" y="411"/>
                </a:lnTo>
                <a:lnTo>
                  <a:pt x="1084" y="415"/>
                </a:lnTo>
                <a:lnTo>
                  <a:pt x="1096" y="418"/>
                </a:lnTo>
                <a:lnTo>
                  <a:pt x="1107" y="422"/>
                </a:lnTo>
                <a:lnTo>
                  <a:pt x="1119" y="426"/>
                </a:lnTo>
                <a:lnTo>
                  <a:pt x="1128" y="430"/>
                </a:lnTo>
                <a:lnTo>
                  <a:pt x="1138" y="432"/>
                </a:lnTo>
                <a:lnTo>
                  <a:pt x="1146" y="436"/>
                </a:lnTo>
                <a:lnTo>
                  <a:pt x="1155" y="438"/>
                </a:lnTo>
                <a:lnTo>
                  <a:pt x="1163" y="441"/>
                </a:lnTo>
                <a:lnTo>
                  <a:pt x="1169" y="443"/>
                </a:lnTo>
                <a:lnTo>
                  <a:pt x="1175" y="445"/>
                </a:lnTo>
                <a:lnTo>
                  <a:pt x="1180" y="449"/>
                </a:lnTo>
                <a:lnTo>
                  <a:pt x="1184" y="451"/>
                </a:lnTo>
                <a:lnTo>
                  <a:pt x="1190" y="453"/>
                </a:lnTo>
                <a:lnTo>
                  <a:pt x="1192" y="455"/>
                </a:lnTo>
                <a:lnTo>
                  <a:pt x="1196" y="457"/>
                </a:lnTo>
                <a:lnTo>
                  <a:pt x="1198" y="457"/>
                </a:lnTo>
                <a:lnTo>
                  <a:pt x="1199" y="459"/>
                </a:lnTo>
                <a:lnTo>
                  <a:pt x="1199" y="461"/>
                </a:lnTo>
                <a:lnTo>
                  <a:pt x="1201" y="463"/>
                </a:lnTo>
                <a:lnTo>
                  <a:pt x="1199" y="464"/>
                </a:lnTo>
                <a:lnTo>
                  <a:pt x="1198" y="466"/>
                </a:lnTo>
                <a:lnTo>
                  <a:pt x="1194" y="470"/>
                </a:lnTo>
                <a:lnTo>
                  <a:pt x="1188" y="472"/>
                </a:lnTo>
                <a:lnTo>
                  <a:pt x="1180" y="476"/>
                </a:lnTo>
                <a:lnTo>
                  <a:pt x="1171" y="480"/>
                </a:lnTo>
                <a:lnTo>
                  <a:pt x="1159" y="484"/>
                </a:lnTo>
                <a:lnTo>
                  <a:pt x="1148" y="489"/>
                </a:lnTo>
                <a:lnTo>
                  <a:pt x="1132" y="493"/>
                </a:lnTo>
                <a:lnTo>
                  <a:pt x="1117" y="499"/>
                </a:lnTo>
                <a:lnTo>
                  <a:pt x="1100" y="503"/>
                </a:lnTo>
                <a:lnTo>
                  <a:pt x="1080" y="509"/>
                </a:lnTo>
                <a:lnTo>
                  <a:pt x="1059" y="514"/>
                </a:lnTo>
                <a:lnTo>
                  <a:pt x="1036" y="522"/>
                </a:lnTo>
                <a:lnTo>
                  <a:pt x="1013" y="528"/>
                </a:lnTo>
                <a:lnTo>
                  <a:pt x="986" y="535"/>
                </a:lnTo>
                <a:lnTo>
                  <a:pt x="958" y="541"/>
                </a:lnTo>
                <a:lnTo>
                  <a:pt x="931" y="547"/>
                </a:lnTo>
                <a:lnTo>
                  <a:pt x="906" y="551"/>
                </a:lnTo>
                <a:lnTo>
                  <a:pt x="883" y="557"/>
                </a:lnTo>
                <a:lnTo>
                  <a:pt x="860" y="558"/>
                </a:lnTo>
                <a:lnTo>
                  <a:pt x="839" y="562"/>
                </a:lnTo>
                <a:lnTo>
                  <a:pt x="817" y="564"/>
                </a:lnTo>
                <a:lnTo>
                  <a:pt x="800" y="566"/>
                </a:lnTo>
                <a:lnTo>
                  <a:pt x="783" y="566"/>
                </a:lnTo>
                <a:lnTo>
                  <a:pt x="766" y="566"/>
                </a:lnTo>
                <a:lnTo>
                  <a:pt x="752" y="566"/>
                </a:lnTo>
                <a:lnTo>
                  <a:pt x="739" y="566"/>
                </a:lnTo>
                <a:lnTo>
                  <a:pt x="727" y="564"/>
                </a:lnTo>
                <a:lnTo>
                  <a:pt x="718" y="562"/>
                </a:lnTo>
                <a:lnTo>
                  <a:pt x="708" y="560"/>
                </a:lnTo>
                <a:lnTo>
                  <a:pt x="702" y="558"/>
                </a:lnTo>
                <a:lnTo>
                  <a:pt x="697" y="557"/>
                </a:lnTo>
                <a:lnTo>
                  <a:pt x="691" y="555"/>
                </a:lnTo>
                <a:lnTo>
                  <a:pt x="683" y="551"/>
                </a:lnTo>
                <a:lnTo>
                  <a:pt x="675" y="547"/>
                </a:lnTo>
                <a:lnTo>
                  <a:pt x="666" y="541"/>
                </a:lnTo>
                <a:lnTo>
                  <a:pt x="654" y="534"/>
                </a:lnTo>
                <a:lnTo>
                  <a:pt x="643" y="526"/>
                </a:lnTo>
                <a:lnTo>
                  <a:pt x="629" y="518"/>
                </a:lnTo>
                <a:lnTo>
                  <a:pt x="616" y="509"/>
                </a:lnTo>
                <a:lnTo>
                  <a:pt x="601" y="497"/>
                </a:lnTo>
                <a:lnTo>
                  <a:pt x="585" y="486"/>
                </a:lnTo>
                <a:lnTo>
                  <a:pt x="568" y="474"/>
                </a:lnTo>
                <a:lnTo>
                  <a:pt x="549" y="461"/>
                </a:lnTo>
                <a:lnTo>
                  <a:pt x="530" y="445"/>
                </a:lnTo>
                <a:lnTo>
                  <a:pt x="508" y="430"/>
                </a:lnTo>
                <a:lnTo>
                  <a:pt x="487" y="413"/>
                </a:lnTo>
                <a:lnTo>
                  <a:pt x="464" y="395"/>
                </a:lnTo>
                <a:lnTo>
                  <a:pt x="441" y="376"/>
                </a:lnTo>
                <a:lnTo>
                  <a:pt x="416" y="357"/>
                </a:lnTo>
                <a:lnTo>
                  <a:pt x="391" y="336"/>
                </a:lnTo>
                <a:lnTo>
                  <a:pt x="364" y="313"/>
                </a:lnTo>
                <a:lnTo>
                  <a:pt x="336" y="290"/>
                </a:lnTo>
                <a:lnTo>
                  <a:pt x="307" y="267"/>
                </a:lnTo>
                <a:lnTo>
                  <a:pt x="276" y="240"/>
                </a:lnTo>
                <a:lnTo>
                  <a:pt x="245" y="215"/>
                </a:lnTo>
                <a:lnTo>
                  <a:pt x="215" y="186"/>
                </a:lnTo>
                <a:lnTo>
                  <a:pt x="180" y="159"/>
                </a:lnTo>
                <a:lnTo>
                  <a:pt x="147" y="129"/>
                </a:lnTo>
                <a:lnTo>
                  <a:pt x="111" y="98"/>
                </a:lnTo>
                <a:lnTo>
                  <a:pt x="75" y="65"/>
                </a:lnTo>
                <a:lnTo>
                  <a:pt x="38" y="33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42"/>
          <p:cNvSpPr/>
          <p:nvPr/>
        </p:nvSpPr>
        <p:spPr>
          <a:xfrm>
            <a:off x="6372360" y="3381480"/>
            <a:ext cx="150840" cy="428400"/>
          </a:xfrm>
          <a:custGeom>
            <a:avLst/>
            <a:gdLst/>
            <a:ahLst/>
            <a:rect l="l" t="t" r="r" b="b"/>
            <a:pathLst>
              <a:path w="190" h="540">
                <a:moveTo>
                  <a:pt x="17" y="77"/>
                </a:moveTo>
                <a:lnTo>
                  <a:pt x="13" y="70"/>
                </a:lnTo>
                <a:lnTo>
                  <a:pt x="9" y="64"/>
                </a:lnTo>
                <a:lnTo>
                  <a:pt x="6" y="58"/>
                </a:lnTo>
                <a:lnTo>
                  <a:pt x="4" y="52"/>
                </a:lnTo>
                <a:lnTo>
                  <a:pt x="2" y="47"/>
                </a:lnTo>
                <a:lnTo>
                  <a:pt x="0" y="41"/>
                </a:lnTo>
                <a:lnTo>
                  <a:pt x="0" y="35"/>
                </a:lnTo>
                <a:lnTo>
                  <a:pt x="0" y="31"/>
                </a:lnTo>
                <a:lnTo>
                  <a:pt x="0" y="27"/>
                </a:lnTo>
                <a:lnTo>
                  <a:pt x="0" y="22"/>
                </a:lnTo>
                <a:lnTo>
                  <a:pt x="2" y="18"/>
                </a:lnTo>
                <a:lnTo>
                  <a:pt x="4" y="16"/>
                </a:lnTo>
                <a:lnTo>
                  <a:pt x="6" y="12"/>
                </a:lnTo>
                <a:lnTo>
                  <a:pt x="9" y="8"/>
                </a:lnTo>
                <a:lnTo>
                  <a:pt x="13" y="6"/>
                </a:lnTo>
                <a:lnTo>
                  <a:pt x="17" y="4"/>
                </a:lnTo>
                <a:lnTo>
                  <a:pt x="21" y="2"/>
                </a:lnTo>
                <a:lnTo>
                  <a:pt x="27" y="0"/>
                </a:lnTo>
                <a:lnTo>
                  <a:pt x="32" y="0"/>
                </a:lnTo>
                <a:lnTo>
                  <a:pt x="40" y="0"/>
                </a:lnTo>
                <a:lnTo>
                  <a:pt x="46" y="2"/>
                </a:lnTo>
                <a:lnTo>
                  <a:pt x="54" y="4"/>
                </a:lnTo>
                <a:lnTo>
                  <a:pt x="63" y="6"/>
                </a:lnTo>
                <a:lnTo>
                  <a:pt x="73" y="10"/>
                </a:lnTo>
                <a:lnTo>
                  <a:pt x="82" y="14"/>
                </a:lnTo>
                <a:lnTo>
                  <a:pt x="92" y="18"/>
                </a:lnTo>
                <a:lnTo>
                  <a:pt x="103" y="22"/>
                </a:lnTo>
                <a:lnTo>
                  <a:pt x="115" y="27"/>
                </a:lnTo>
                <a:lnTo>
                  <a:pt x="128" y="33"/>
                </a:lnTo>
                <a:lnTo>
                  <a:pt x="142" y="39"/>
                </a:lnTo>
                <a:lnTo>
                  <a:pt x="157" y="45"/>
                </a:lnTo>
                <a:lnTo>
                  <a:pt x="173" y="52"/>
                </a:lnTo>
                <a:lnTo>
                  <a:pt x="174" y="83"/>
                </a:lnTo>
                <a:lnTo>
                  <a:pt x="176" y="112"/>
                </a:lnTo>
                <a:lnTo>
                  <a:pt x="178" y="141"/>
                </a:lnTo>
                <a:lnTo>
                  <a:pt x="178" y="167"/>
                </a:lnTo>
                <a:lnTo>
                  <a:pt x="180" y="194"/>
                </a:lnTo>
                <a:lnTo>
                  <a:pt x="182" y="219"/>
                </a:lnTo>
                <a:lnTo>
                  <a:pt x="184" y="244"/>
                </a:lnTo>
                <a:lnTo>
                  <a:pt x="184" y="267"/>
                </a:lnTo>
                <a:lnTo>
                  <a:pt x="186" y="290"/>
                </a:lnTo>
                <a:lnTo>
                  <a:pt x="186" y="311"/>
                </a:lnTo>
                <a:lnTo>
                  <a:pt x="188" y="331"/>
                </a:lnTo>
                <a:lnTo>
                  <a:pt x="188" y="352"/>
                </a:lnTo>
                <a:lnTo>
                  <a:pt x="188" y="369"/>
                </a:lnTo>
                <a:lnTo>
                  <a:pt x="188" y="386"/>
                </a:lnTo>
                <a:lnTo>
                  <a:pt x="190" y="403"/>
                </a:lnTo>
                <a:lnTo>
                  <a:pt x="190" y="419"/>
                </a:lnTo>
                <a:lnTo>
                  <a:pt x="190" y="434"/>
                </a:lnTo>
                <a:lnTo>
                  <a:pt x="188" y="448"/>
                </a:lnTo>
                <a:lnTo>
                  <a:pt x="188" y="461"/>
                </a:lnTo>
                <a:lnTo>
                  <a:pt x="188" y="472"/>
                </a:lnTo>
                <a:lnTo>
                  <a:pt x="188" y="482"/>
                </a:lnTo>
                <a:lnTo>
                  <a:pt x="186" y="492"/>
                </a:lnTo>
                <a:lnTo>
                  <a:pt x="186" y="501"/>
                </a:lnTo>
                <a:lnTo>
                  <a:pt x="184" y="509"/>
                </a:lnTo>
                <a:lnTo>
                  <a:pt x="184" y="517"/>
                </a:lnTo>
                <a:lnTo>
                  <a:pt x="182" y="522"/>
                </a:lnTo>
                <a:lnTo>
                  <a:pt x="180" y="528"/>
                </a:lnTo>
                <a:lnTo>
                  <a:pt x="180" y="532"/>
                </a:lnTo>
                <a:lnTo>
                  <a:pt x="178" y="536"/>
                </a:lnTo>
                <a:lnTo>
                  <a:pt x="176" y="538"/>
                </a:lnTo>
                <a:lnTo>
                  <a:pt x="174" y="540"/>
                </a:lnTo>
                <a:lnTo>
                  <a:pt x="173" y="540"/>
                </a:lnTo>
                <a:lnTo>
                  <a:pt x="165" y="540"/>
                </a:lnTo>
                <a:lnTo>
                  <a:pt x="159" y="538"/>
                </a:lnTo>
                <a:lnTo>
                  <a:pt x="153" y="536"/>
                </a:lnTo>
                <a:lnTo>
                  <a:pt x="148" y="532"/>
                </a:lnTo>
                <a:lnTo>
                  <a:pt x="142" y="528"/>
                </a:lnTo>
                <a:lnTo>
                  <a:pt x="136" y="524"/>
                </a:lnTo>
                <a:lnTo>
                  <a:pt x="132" y="519"/>
                </a:lnTo>
                <a:lnTo>
                  <a:pt x="126" y="513"/>
                </a:lnTo>
                <a:lnTo>
                  <a:pt x="123" y="507"/>
                </a:lnTo>
                <a:lnTo>
                  <a:pt x="119" y="499"/>
                </a:lnTo>
                <a:lnTo>
                  <a:pt x="115" y="492"/>
                </a:lnTo>
                <a:lnTo>
                  <a:pt x="111" y="482"/>
                </a:lnTo>
                <a:lnTo>
                  <a:pt x="107" y="472"/>
                </a:lnTo>
                <a:lnTo>
                  <a:pt x="105" y="463"/>
                </a:lnTo>
                <a:lnTo>
                  <a:pt x="101" y="453"/>
                </a:lnTo>
                <a:lnTo>
                  <a:pt x="100" y="442"/>
                </a:lnTo>
                <a:lnTo>
                  <a:pt x="96" y="419"/>
                </a:lnTo>
                <a:lnTo>
                  <a:pt x="92" y="394"/>
                </a:lnTo>
                <a:lnTo>
                  <a:pt x="86" y="369"/>
                </a:lnTo>
                <a:lnTo>
                  <a:pt x="82" y="342"/>
                </a:lnTo>
                <a:lnTo>
                  <a:pt x="78" y="317"/>
                </a:lnTo>
                <a:lnTo>
                  <a:pt x="73" y="290"/>
                </a:lnTo>
                <a:lnTo>
                  <a:pt x="65" y="235"/>
                </a:lnTo>
                <a:lnTo>
                  <a:pt x="63" y="221"/>
                </a:lnTo>
                <a:lnTo>
                  <a:pt x="59" y="208"/>
                </a:lnTo>
                <a:lnTo>
                  <a:pt x="57" y="196"/>
                </a:lnTo>
                <a:lnTo>
                  <a:pt x="55" y="185"/>
                </a:lnTo>
                <a:lnTo>
                  <a:pt x="54" y="173"/>
                </a:lnTo>
                <a:lnTo>
                  <a:pt x="50" y="162"/>
                </a:lnTo>
                <a:lnTo>
                  <a:pt x="46" y="142"/>
                </a:lnTo>
                <a:lnTo>
                  <a:pt x="38" y="123"/>
                </a:lnTo>
                <a:lnTo>
                  <a:pt x="32" y="106"/>
                </a:lnTo>
                <a:lnTo>
                  <a:pt x="25" y="91"/>
                </a:lnTo>
                <a:lnTo>
                  <a:pt x="17" y="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3"/>
          <p:cNvSpPr/>
          <p:nvPr/>
        </p:nvSpPr>
        <p:spPr>
          <a:xfrm>
            <a:off x="6480000" y="3625920"/>
            <a:ext cx="641520" cy="135000"/>
          </a:xfrm>
          <a:custGeom>
            <a:avLst/>
            <a:gdLst/>
            <a:ahLst/>
            <a:rect l="l" t="t" r="r" b="b"/>
            <a:pathLst>
              <a:path w="808" h="171">
                <a:moveTo>
                  <a:pt x="808" y="0"/>
                </a:moveTo>
                <a:lnTo>
                  <a:pt x="808" y="110"/>
                </a:lnTo>
                <a:lnTo>
                  <a:pt x="753" y="112"/>
                </a:lnTo>
                <a:lnTo>
                  <a:pt x="697" y="116"/>
                </a:lnTo>
                <a:lnTo>
                  <a:pt x="643" y="118"/>
                </a:lnTo>
                <a:lnTo>
                  <a:pt x="589" y="119"/>
                </a:lnTo>
                <a:lnTo>
                  <a:pt x="538" y="123"/>
                </a:lnTo>
                <a:lnTo>
                  <a:pt x="486" y="125"/>
                </a:lnTo>
                <a:lnTo>
                  <a:pt x="434" y="129"/>
                </a:lnTo>
                <a:lnTo>
                  <a:pt x="384" y="131"/>
                </a:lnTo>
                <a:lnTo>
                  <a:pt x="334" y="135"/>
                </a:lnTo>
                <a:lnTo>
                  <a:pt x="284" y="139"/>
                </a:lnTo>
                <a:lnTo>
                  <a:pt x="236" y="142"/>
                </a:lnTo>
                <a:lnTo>
                  <a:pt x="190" y="148"/>
                </a:lnTo>
                <a:lnTo>
                  <a:pt x="144" y="152"/>
                </a:lnTo>
                <a:lnTo>
                  <a:pt x="98" y="158"/>
                </a:lnTo>
                <a:lnTo>
                  <a:pt x="54" y="165"/>
                </a:lnTo>
                <a:lnTo>
                  <a:pt x="12" y="171"/>
                </a:lnTo>
                <a:lnTo>
                  <a:pt x="6" y="123"/>
                </a:lnTo>
                <a:lnTo>
                  <a:pt x="0" y="73"/>
                </a:lnTo>
                <a:lnTo>
                  <a:pt x="106" y="60"/>
                </a:lnTo>
                <a:lnTo>
                  <a:pt x="211" y="48"/>
                </a:lnTo>
                <a:lnTo>
                  <a:pt x="315" y="37"/>
                </a:lnTo>
                <a:lnTo>
                  <a:pt x="417" y="27"/>
                </a:lnTo>
                <a:lnTo>
                  <a:pt x="518" y="20"/>
                </a:lnTo>
                <a:lnTo>
                  <a:pt x="566" y="16"/>
                </a:lnTo>
                <a:lnTo>
                  <a:pt x="616" y="12"/>
                </a:lnTo>
                <a:lnTo>
                  <a:pt x="664" y="10"/>
                </a:lnTo>
                <a:lnTo>
                  <a:pt x="712" y="6"/>
                </a:lnTo>
                <a:lnTo>
                  <a:pt x="760" y="4"/>
                </a:lnTo>
                <a:lnTo>
                  <a:pt x="808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组合 8"/>
          <p:cNvGrpSpPr/>
          <p:nvPr/>
        </p:nvGrpSpPr>
        <p:grpSpPr>
          <a:xfrm>
            <a:off x="1525680" y="3975120"/>
            <a:ext cx="2305080" cy="1571760"/>
            <a:chOff x="1525680" y="3975120"/>
            <a:chExt cx="2305080" cy="1571760"/>
          </a:xfrm>
        </p:grpSpPr>
        <p:pic>
          <p:nvPicPr>
            <p:cNvPr id="142" name="图示 4" descr=""/>
            <p:cNvPicPr/>
            <p:nvPr/>
          </p:nvPicPr>
          <p:blipFill>
            <a:blip r:embed="rId1"/>
            <a:stretch/>
          </p:blipFill>
          <p:spPr>
            <a:xfrm>
              <a:off x="1525680" y="3975120"/>
              <a:ext cx="2305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矩形 2"/>
            <p:cNvSpPr/>
            <p:nvPr/>
          </p:nvSpPr>
          <p:spPr>
            <a:xfrm>
              <a:off x="1567440" y="4587840"/>
              <a:ext cx="22424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中的“目”窄且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矩形 3"/>
          <p:cNvSpPr/>
          <p:nvPr/>
        </p:nvSpPr>
        <p:spPr>
          <a:xfrm>
            <a:off x="2108160" y="1868400"/>
            <a:ext cx="13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è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9"/>
          <p:cNvSpPr/>
          <p:nvPr/>
        </p:nvSpPr>
        <p:spPr>
          <a:xfrm>
            <a:off x="6084720" y="2968560"/>
            <a:ext cx="432000" cy="1596960"/>
          </a:xfrm>
          <a:custGeom>
            <a:avLst/>
            <a:gdLst/>
            <a:ahLst/>
            <a:rect l="l" t="t" r="r" b="b"/>
            <a:pathLst>
              <a:path w="544" h="2013">
                <a:moveTo>
                  <a:pt x="206" y="273"/>
                </a:moveTo>
                <a:lnTo>
                  <a:pt x="208" y="252"/>
                </a:lnTo>
                <a:lnTo>
                  <a:pt x="210" y="232"/>
                </a:lnTo>
                <a:lnTo>
                  <a:pt x="210" y="215"/>
                </a:lnTo>
                <a:lnTo>
                  <a:pt x="210" y="198"/>
                </a:lnTo>
                <a:lnTo>
                  <a:pt x="210" y="183"/>
                </a:lnTo>
                <a:lnTo>
                  <a:pt x="210" y="169"/>
                </a:lnTo>
                <a:lnTo>
                  <a:pt x="210" y="156"/>
                </a:lnTo>
                <a:lnTo>
                  <a:pt x="208" y="142"/>
                </a:lnTo>
                <a:lnTo>
                  <a:pt x="206" y="131"/>
                </a:lnTo>
                <a:lnTo>
                  <a:pt x="204" y="121"/>
                </a:lnTo>
                <a:lnTo>
                  <a:pt x="200" y="112"/>
                </a:lnTo>
                <a:lnTo>
                  <a:pt x="198" y="102"/>
                </a:lnTo>
                <a:lnTo>
                  <a:pt x="194" y="94"/>
                </a:lnTo>
                <a:lnTo>
                  <a:pt x="190" y="89"/>
                </a:lnTo>
                <a:lnTo>
                  <a:pt x="186" y="83"/>
                </a:lnTo>
                <a:lnTo>
                  <a:pt x="183" y="77"/>
                </a:lnTo>
                <a:lnTo>
                  <a:pt x="177" y="73"/>
                </a:lnTo>
                <a:lnTo>
                  <a:pt x="171" y="67"/>
                </a:lnTo>
                <a:lnTo>
                  <a:pt x="167" y="64"/>
                </a:lnTo>
                <a:lnTo>
                  <a:pt x="163" y="58"/>
                </a:lnTo>
                <a:lnTo>
                  <a:pt x="160" y="54"/>
                </a:lnTo>
                <a:lnTo>
                  <a:pt x="158" y="50"/>
                </a:lnTo>
                <a:lnTo>
                  <a:pt x="156" y="44"/>
                </a:lnTo>
                <a:lnTo>
                  <a:pt x="156" y="41"/>
                </a:lnTo>
                <a:lnTo>
                  <a:pt x="156" y="35"/>
                </a:lnTo>
                <a:lnTo>
                  <a:pt x="158" y="31"/>
                </a:lnTo>
                <a:lnTo>
                  <a:pt x="160" y="27"/>
                </a:lnTo>
                <a:lnTo>
                  <a:pt x="163" y="21"/>
                </a:lnTo>
                <a:lnTo>
                  <a:pt x="167" y="18"/>
                </a:lnTo>
                <a:lnTo>
                  <a:pt x="171" y="14"/>
                </a:lnTo>
                <a:lnTo>
                  <a:pt x="177" y="8"/>
                </a:lnTo>
                <a:lnTo>
                  <a:pt x="183" y="4"/>
                </a:lnTo>
                <a:lnTo>
                  <a:pt x="186" y="2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1" y="0"/>
                </a:lnTo>
                <a:lnTo>
                  <a:pt x="219" y="0"/>
                </a:lnTo>
                <a:lnTo>
                  <a:pt x="227" y="2"/>
                </a:lnTo>
                <a:lnTo>
                  <a:pt x="236" y="4"/>
                </a:lnTo>
                <a:lnTo>
                  <a:pt x="244" y="6"/>
                </a:lnTo>
                <a:lnTo>
                  <a:pt x="256" y="10"/>
                </a:lnTo>
                <a:lnTo>
                  <a:pt x="265" y="14"/>
                </a:lnTo>
                <a:lnTo>
                  <a:pt x="277" y="18"/>
                </a:lnTo>
                <a:lnTo>
                  <a:pt x="286" y="21"/>
                </a:lnTo>
                <a:lnTo>
                  <a:pt x="300" y="27"/>
                </a:lnTo>
                <a:lnTo>
                  <a:pt x="311" y="35"/>
                </a:lnTo>
                <a:lnTo>
                  <a:pt x="325" y="41"/>
                </a:lnTo>
                <a:lnTo>
                  <a:pt x="338" y="48"/>
                </a:lnTo>
                <a:lnTo>
                  <a:pt x="350" y="54"/>
                </a:lnTo>
                <a:lnTo>
                  <a:pt x="361" y="62"/>
                </a:lnTo>
                <a:lnTo>
                  <a:pt x="371" y="67"/>
                </a:lnTo>
                <a:lnTo>
                  <a:pt x="380" y="73"/>
                </a:lnTo>
                <a:lnTo>
                  <a:pt x="390" y="81"/>
                </a:lnTo>
                <a:lnTo>
                  <a:pt x="398" y="87"/>
                </a:lnTo>
                <a:lnTo>
                  <a:pt x="405" y="92"/>
                </a:lnTo>
                <a:lnTo>
                  <a:pt x="411" y="98"/>
                </a:lnTo>
                <a:lnTo>
                  <a:pt x="417" y="104"/>
                </a:lnTo>
                <a:lnTo>
                  <a:pt x="421" y="108"/>
                </a:lnTo>
                <a:lnTo>
                  <a:pt x="425" y="112"/>
                </a:lnTo>
                <a:lnTo>
                  <a:pt x="428" y="117"/>
                </a:lnTo>
                <a:lnTo>
                  <a:pt x="430" y="121"/>
                </a:lnTo>
                <a:lnTo>
                  <a:pt x="430" y="123"/>
                </a:lnTo>
                <a:lnTo>
                  <a:pt x="432" y="127"/>
                </a:lnTo>
                <a:lnTo>
                  <a:pt x="430" y="129"/>
                </a:lnTo>
                <a:lnTo>
                  <a:pt x="430" y="135"/>
                </a:lnTo>
                <a:lnTo>
                  <a:pt x="428" y="144"/>
                </a:lnTo>
                <a:lnTo>
                  <a:pt x="426" y="156"/>
                </a:lnTo>
                <a:lnTo>
                  <a:pt x="423" y="169"/>
                </a:lnTo>
                <a:lnTo>
                  <a:pt x="419" y="184"/>
                </a:lnTo>
                <a:lnTo>
                  <a:pt x="415" y="202"/>
                </a:lnTo>
                <a:lnTo>
                  <a:pt x="411" y="223"/>
                </a:lnTo>
                <a:lnTo>
                  <a:pt x="405" y="248"/>
                </a:lnTo>
                <a:lnTo>
                  <a:pt x="400" y="273"/>
                </a:lnTo>
                <a:lnTo>
                  <a:pt x="392" y="302"/>
                </a:lnTo>
                <a:lnTo>
                  <a:pt x="386" y="332"/>
                </a:lnTo>
                <a:lnTo>
                  <a:pt x="377" y="365"/>
                </a:lnTo>
                <a:lnTo>
                  <a:pt x="369" y="401"/>
                </a:lnTo>
                <a:lnTo>
                  <a:pt x="359" y="440"/>
                </a:lnTo>
                <a:lnTo>
                  <a:pt x="350" y="480"/>
                </a:lnTo>
                <a:lnTo>
                  <a:pt x="340" y="522"/>
                </a:lnTo>
                <a:lnTo>
                  <a:pt x="329" y="568"/>
                </a:lnTo>
                <a:lnTo>
                  <a:pt x="317" y="616"/>
                </a:lnTo>
                <a:lnTo>
                  <a:pt x="304" y="666"/>
                </a:lnTo>
                <a:lnTo>
                  <a:pt x="292" y="720"/>
                </a:lnTo>
                <a:lnTo>
                  <a:pt x="279" y="775"/>
                </a:lnTo>
                <a:lnTo>
                  <a:pt x="263" y="833"/>
                </a:lnTo>
                <a:lnTo>
                  <a:pt x="250" y="894"/>
                </a:lnTo>
                <a:lnTo>
                  <a:pt x="234" y="956"/>
                </a:lnTo>
                <a:lnTo>
                  <a:pt x="219" y="1021"/>
                </a:lnTo>
                <a:lnTo>
                  <a:pt x="202" y="1090"/>
                </a:lnTo>
                <a:lnTo>
                  <a:pt x="185" y="1159"/>
                </a:lnTo>
                <a:lnTo>
                  <a:pt x="167" y="1232"/>
                </a:lnTo>
                <a:lnTo>
                  <a:pt x="148" y="1307"/>
                </a:lnTo>
                <a:lnTo>
                  <a:pt x="131" y="1384"/>
                </a:lnTo>
                <a:lnTo>
                  <a:pt x="112" y="1464"/>
                </a:lnTo>
                <a:lnTo>
                  <a:pt x="137" y="1482"/>
                </a:lnTo>
                <a:lnTo>
                  <a:pt x="160" y="1499"/>
                </a:lnTo>
                <a:lnTo>
                  <a:pt x="185" y="1514"/>
                </a:lnTo>
                <a:lnTo>
                  <a:pt x="206" y="1531"/>
                </a:lnTo>
                <a:lnTo>
                  <a:pt x="229" y="1547"/>
                </a:lnTo>
                <a:lnTo>
                  <a:pt x="250" y="1562"/>
                </a:lnTo>
                <a:lnTo>
                  <a:pt x="271" y="1576"/>
                </a:lnTo>
                <a:lnTo>
                  <a:pt x="290" y="1591"/>
                </a:lnTo>
                <a:lnTo>
                  <a:pt x="309" y="1604"/>
                </a:lnTo>
                <a:lnTo>
                  <a:pt x="329" y="1620"/>
                </a:lnTo>
                <a:lnTo>
                  <a:pt x="346" y="1631"/>
                </a:lnTo>
                <a:lnTo>
                  <a:pt x="363" y="1645"/>
                </a:lnTo>
                <a:lnTo>
                  <a:pt x="378" y="1658"/>
                </a:lnTo>
                <a:lnTo>
                  <a:pt x="394" y="1670"/>
                </a:lnTo>
                <a:lnTo>
                  <a:pt x="409" y="1681"/>
                </a:lnTo>
                <a:lnTo>
                  <a:pt x="423" y="1693"/>
                </a:lnTo>
                <a:lnTo>
                  <a:pt x="436" y="1704"/>
                </a:lnTo>
                <a:lnTo>
                  <a:pt x="448" y="1716"/>
                </a:lnTo>
                <a:lnTo>
                  <a:pt x="459" y="1725"/>
                </a:lnTo>
                <a:lnTo>
                  <a:pt x="471" y="1737"/>
                </a:lnTo>
                <a:lnTo>
                  <a:pt x="480" y="1746"/>
                </a:lnTo>
                <a:lnTo>
                  <a:pt x="490" y="1756"/>
                </a:lnTo>
                <a:lnTo>
                  <a:pt x="497" y="1764"/>
                </a:lnTo>
                <a:lnTo>
                  <a:pt x="505" y="1773"/>
                </a:lnTo>
                <a:lnTo>
                  <a:pt x="513" y="1781"/>
                </a:lnTo>
                <a:lnTo>
                  <a:pt x="519" y="1789"/>
                </a:lnTo>
                <a:lnTo>
                  <a:pt x="524" y="1796"/>
                </a:lnTo>
                <a:lnTo>
                  <a:pt x="528" y="1804"/>
                </a:lnTo>
                <a:lnTo>
                  <a:pt x="532" y="1812"/>
                </a:lnTo>
                <a:lnTo>
                  <a:pt x="536" y="1817"/>
                </a:lnTo>
                <a:lnTo>
                  <a:pt x="538" y="1823"/>
                </a:lnTo>
                <a:lnTo>
                  <a:pt x="540" y="1831"/>
                </a:lnTo>
                <a:lnTo>
                  <a:pt x="542" y="1840"/>
                </a:lnTo>
                <a:lnTo>
                  <a:pt x="542" y="1852"/>
                </a:lnTo>
                <a:lnTo>
                  <a:pt x="544" y="1873"/>
                </a:lnTo>
                <a:lnTo>
                  <a:pt x="544" y="1892"/>
                </a:lnTo>
                <a:lnTo>
                  <a:pt x="542" y="1909"/>
                </a:lnTo>
                <a:lnTo>
                  <a:pt x="540" y="1927"/>
                </a:lnTo>
                <a:lnTo>
                  <a:pt x="538" y="1934"/>
                </a:lnTo>
                <a:lnTo>
                  <a:pt x="536" y="1942"/>
                </a:lnTo>
                <a:lnTo>
                  <a:pt x="534" y="1948"/>
                </a:lnTo>
                <a:lnTo>
                  <a:pt x="532" y="1954"/>
                </a:lnTo>
                <a:lnTo>
                  <a:pt x="530" y="1959"/>
                </a:lnTo>
                <a:lnTo>
                  <a:pt x="528" y="1965"/>
                </a:lnTo>
                <a:lnTo>
                  <a:pt x="522" y="1971"/>
                </a:lnTo>
                <a:lnTo>
                  <a:pt x="519" y="1977"/>
                </a:lnTo>
                <a:lnTo>
                  <a:pt x="515" y="1982"/>
                </a:lnTo>
                <a:lnTo>
                  <a:pt x="511" y="1986"/>
                </a:lnTo>
                <a:lnTo>
                  <a:pt x="507" y="1992"/>
                </a:lnTo>
                <a:lnTo>
                  <a:pt x="505" y="1996"/>
                </a:lnTo>
                <a:lnTo>
                  <a:pt x="499" y="2002"/>
                </a:lnTo>
                <a:lnTo>
                  <a:pt x="494" y="2007"/>
                </a:lnTo>
                <a:lnTo>
                  <a:pt x="488" y="2009"/>
                </a:lnTo>
                <a:lnTo>
                  <a:pt x="484" y="2011"/>
                </a:lnTo>
                <a:lnTo>
                  <a:pt x="480" y="2013"/>
                </a:lnTo>
                <a:lnTo>
                  <a:pt x="476" y="2011"/>
                </a:lnTo>
                <a:lnTo>
                  <a:pt x="474" y="2009"/>
                </a:lnTo>
                <a:lnTo>
                  <a:pt x="471" y="2007"/>
                </a:lnTo>
                <a:lnTo>
                  <a:pt x="467" y="2003"/>
                </a:lnTo>
                <a:lnTo>
                  <a:pt x="461" y="1998"/>
                </a:lnTo>
                <a:lnTo>
                  <a:pt x="455" y="1992"/>
                </a:lnTo>
                <a:lnTo>
                  <a:pt x="449" y="1986"/>
                </a:lnTo>
                <a:lnTo>
                  <a:pt x="444" y="1977"/>
                </a:lnTo>
                <a:lnTo>
                  <a:pt x="436" y="1969"/>
                </a:lnTo>
                <a:lnTo>
                  <a:pt x="428" y="1959"/>
                </a:lnTo>
                <a:lnTo>
                  <a:pt x="421" y="1948"/>
                </a:lnTo>
                <a:lnTo>
                  <a:pt x="413" y="1936"/>
                </a:lnTo>
                <a:lnTo>
                  <a:pt x="403" y="1923"/>
                </a:lnTo>
                <a:lnTo>
                  <a:pt x="394" y="1909"/>
                </a:lnTo>
                <a:lnTo>
                  <a:pt x="384" y="1894"/>
                </a:lnTo>
                <a:lnTo>
                  <a:pt x="373" y="1879"/>
                </a:lnTo>
                <a:lnTo>
                  <a:pt x="350" y="1846"/>
                </a:lnTo>
                <a:lnTo>
                  <a:pt x="327" y="1817"/>
                </a:lnTo>
                <a:lnTo>
                  <a:pt x="300" y="1787"/>
                </a:lnTo>
                <a:lnTo>
                  <a:pt x="273" y="1758"/>
                </a:lnTo>
                <a:lnTo>
                  <a:pt x="244" y="1727"/>
                </a:lnTo>
                <a:lnTo>
                  <a:pt x="213" y="1698"/>
                </a:lnTo>
                <a:lnTo>
                  <a:pt x="198" y="1683"/>
                </a:lnTo>
                <a:lnTo>
                  <a:pt x="181" y="1668"/>
                </a:lnTo>
                <a:lnTo>
                  <a:pt x="163" y="1650"/>
                </a:lnTo>
                <a:lnTo>
                  <a:pt x="146" y="1635"/>
                </a:lnTo>
                <a:lnTo>
                  <a:pt x="129" y="1620"/>
                </a:lnTo>
                <a:lnTo>
                  <a:pt x="114" y="1604"/>
                </a:lnTo>
                <a:lnTo>
                  <a:pt x="98" y="1591"/>
                </a:lnTo>
                <a:lnTo>
                  <a:pt x="85" y="1578"/>
                </a:lnTo>
                <a:lnTo>
                  <a:pt x="71" y="1564"/>
                </a:lnTo>
                <a:lnTo>
                  <a:pt x="60" y="1553"/>
                </a:lnTo>
                <a:lnTo>
                  <a:pt x="50" y="1543"/>
                </a:lnTo>
                <a:lnTo>
                  <a:pt x="41" y="1533"/>
                </a:lnTo>
                <a:lnTo>
                  <a:pt x="31" y="1524"/>
                </a:lnTo>
                <a:lnTo>
                  <a:pt x="25" y="1514"/>
                </a:lnTo>
                <a:lnTo>
                  <a:pt x="18" y="1507"/>
                </a:lnTo>
                <a:lnTo>
                  <a:pt x="14" y="1499"/>
                </a:lnTo>
                <a:lnTo>
                  <a:pt x="10" y="1493"/>
                </a:lnTo>
                <a:lnTo>
                  <a:pt x="6" y="1487"/>
                </a:lnTo>
                <a:lnTo>
                  <a:pt x="4" y="1482"/>
                </a:lnTo>
                <a:lnTo>
                  <a:pt x="4" y="1478"/>
                </a:lnTo>
                <a:lnTo>
                  <a:pt x="2" y="1474"/>
                </a:lnTo>
                <a:lnTo>
                  <a:pt x="0" y="1470"/>
                </a:lnTo>
                <a:lnTo>
                  <a:pt x="0" y="1464"/>
                </a:lnTo>
                <a:lnTo>
                  <a:pt x="0" y="1459"/>
                </a:lnTo>
                <a:lnTo>
                  <a:pt x="0" y="1451"/>
                </a:lnTo>
                <a:lnTo>
                  <a:pt x="0" y="1443"/>
                </a:lnTo>
                <a:lnTo>
                  <a:pt x="2" y="1434"/>
                </a:lnTo>
                <a:lnTo>
                  <a:pt x="2" y="1422"/>
                </a:lnTo>
                <a:lnTo>
                  <a:pt x="4" y="1411"/>
                </a:lnTo>
                <a:lnTo>
                  <a:pt x="6" y="1397"/>
                </a:lnTo>
                <a:lnTo>
                  <a:pt x="10" y="1384"/>
                </a:lnTo>
                <a:lnTo>
                  <a:pt x="12" y="1366"/>
                </a:lnTo>
                <a:lnTo>
                  <a:pt x="16" y="1351"/>
                </a:lnTo>
                <a:lnTo>
                  <a:pt x="19" y="1334"/>
                </a:lnTo>
                <a:lnTo>
                  <a:pt x="23" y="1315"/>
                </a:lnTo>
                <a:lnTo>
                  <a:pt x="29" y="1295"/>
                </a:lnTo>
                <a:lnTo>
                  <a:pt x="33" y="1276"/>
                </a:lnTo>
                <a:lnTo>
                  <a:pt x="37" y="1255"/>
                </a:lnTo>
                <a:lnTo>
                  <a:pt x="42" y="1232"/>
                </a:lnTo>
                <a:lnTo>
                  <a:pt x="48" y="1207"/>
                </a:lnTo>
                <a:lnTo>
                  <a:pt x="54" y="1182"/>
                </a:lnTo>
                <a:lnTo>
                  <a:pt x="60" y="1153"/>
                </a:lnTo>
                <a:lnTo>
                  <a:pt x="66" y="1125"/>
                </a:lnTo>
                <a:lnTo>
                  <a:pt x="73" y="1094"/>
                </a:lnTo>
                <a:lnTo>
                  <a:pt x="79" y="1061"/>
                </a:lnTo>
                <a:lnTo>
                  <a:pt x="87" y="1027"/>
                </a:lnTo>
                <a:lnTo>
                  <a:pt x="94" y="990"/>
                </a:lnTo>
                <a:lnTo>
                  <a:pt x="102" y="952"/>
                </a:lnTo>
                <a:lnTo>
                  <a:pt x="110" y="912"/>
                </a:lnTo>
                <a:lnTo>
                  <a:pt x="117" y="871"/>
                </a:lnTo>
                <a:lnTo>
                  <a:pt x="125" y="827"/>
                </a:lnTo>
                <a:lnTo>
                  <a:pt x="135" y="783"/>
                </a:lnTo>
                <a:lnTo>
                  <a:pt x="140" y="741"/>
                </a:lnTo>
                <a:lnTo>
                  <a:pt x="148" y="699"/>
                </a:lnTo>
                <a:lnTo>
                  <a:pt x="154" y="658"/>
                </a:lnTo>
                <a:lnTo>
                  <a:pt x="160" y="620"/>
                </a:lnTo>
                <a:lnTo>
                  <a:pt x="163" y="584"/>
                </a:lnTo>
                <a:lnTo>
                  <a:pt x="169" y="549"/>
                </a:lnTo>
                <a:lnTo>
                  <a:pt x="175" y="515"/>
                </a:lnTo>
                <a:lnTo>
                  <a:pt x="179" y="482"/>
                </a:lnTo>
                <a:lnTo>
                  <a:pt x="183" y="451"/>
                </a:lnTo>
                <a:lnTo>
                  <a:pt x="186" y="420"/>
                </a:lnTo>
                <a:lnTo>
                  <a:pt x="190" y="392"/>
                </a:lnTo>
                <a:lnTo>
                  <a:pt x="194" y="365"/>
                </a:lnTo>
                <a:lnTo>
                  <a:pt x="198" y="340"/>
                </a:lnTo>
                <a:lnTo>
                  <a:pt x="200" y="315"/>
                </a:lnTo>
                <a:lnTo>
                  <a:pt x="204" y="294"/>
                </a:lnTo>
                <a:lnTo>
                  <a:pt x="206" y="27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30"/>
          <p:cNvSpPr/>
          <p:nvPr/>
        </p:nvSpPr>
        <p:spPr>
          <a:xfrm>
            <a:off x="5616720" y="3716280"/>
            <a:ext cx="906480" cy="300240"/>
          </a:xfrm>
          <a:custGeom>
            <a:avLst/>
            <a:gdLst/>
            <a:ahLst/>
            <a:rect l="l" t="t" r="r" b="b"/>
            <a:pathLst>
              <a:path w="1140" h="378">
                <a:moveTo>
                  <a:pt x="0" y="194"/>
                </a:moveTo>
                <a:lnTo>
                  <a:pt x="29" y="194"/>
                </a:lnTo>
                <a:lnTo>
                  <a:pt x="59" y="192"/>
                </a:lnTo>
                <a:lnTo>
                  <a:pt x="90" y="190"/>
                </a:lnTo>
                <a:lnTo>
                  <a:pt x="123" y="188"/>
                </a:lnTo>
                <a:lnTo>
                  <a:pt x="157" y="185"/>
                </a:lnTo>
                <a:lnTo>
                  <a:pt x="192" y="179"/>
                </a:lnTo>
                <a:lnTo>
                  <a:pt x="228" y="175"/>
                </a:lnTo>
                <a:lnTo>
                  <a:pt x="267" y="169"/>
                </a:lnTo>
                <a:lnTo>
                  <a:pt x="305" y="162"/>
                </a:lnTo>
                <a:lnTo>
                  <a:pt x="344" y="154"/>
                </a:lnTo>
                <a:lnTo>
                  <a:pt x="384" y="146"/>
                </a:lnTo>
                <a:lnTo>
                  <a:pt x="426" y="139"/>
                </a:lnTo>
                <a:lnTo>
                  <a:pt x="470" y="129"/>
                </a:lnTo>
                <a:lnTo>
                  <a:pt x="512" y="119"/>
                </a:lnTo>
                <a:lnTo>
                  <a:pt x="559" y="108"/>
                </a:lnTo>
                <a:lnTo>
                  <a:pt x="605" y="96"/>
                </a:lnTo>
                <a:lnTo>
                  <a:pt x="651" y="85"/>
                </a:lnTo>
                <a:lnTo>
                  <a:pt x="695" y="75"/>
                </a:lnTo>
                <a:lnTo>
                  <a:pt x="737" y="64"/>
                </a:lnTo>
                <a:lnTo>
                  <a:pt x="779" y="54"/>
                </a:lnTo>
                <a:lnTo>
                  <a:pt x="818" y="46"/>
                </a:lnTo>
                <a:lnTo>
                  <a:pt x="856" y="39"/>
                </a:lnTo>
                <a:lnTo>
                  <a:pt x="891" y="31"/>
                </a:lnTo>
                <a:lnTo>
                  <a:pt x="925" y="25"/>
                </a:lnTo>
                <a:lnTo>
                  <a:pt x="958" y="20"/>
                </a:lnTo>
                <a:lnTo>
                  <a:pt x="989" y="14"/>
                </a:lnTo>
                <a:lnTo>
                  <a:pt x="1019" y="10"/>
                </a:lnTo>
                <a:lnTo>
                  <a:pt x="1046" y="6"/>
                </a:lnTo>
                <a:lnTo>
                  <a:pt x="1071" y="2"/>
                </a:lnTo>
                <a:lnTo>
                  <a:pt x="1096" y="0"/>
                </a:lnTo>
                <a:lnTo>
                  <a:pt x="1119" y="0"/>
                </a:lnTo>
                <a:lnTo>
                  <a:pt x="1140" y="0"/>
                </a:lnTo>
                <a:lnTo>
                  <a:pt x="1140" y="48"/>
                </a:lnTo>
                <a:lnTo>
                  <a:pt x="1140" y="96"/>
                </a:lnTo>
                <a:lnTo>
                  <a:pt x="1131" y="96"/>
                </a:lnTo>
                <a:lnTo>
                  <a:pt x="1123" y="96"/>
                </a:lnTo>
                <a:lnTo>
                  <a:pt x="1113" y="98"/>
                </a:lnTo>
                <a:lnTo>
                  <a:pt x="1104" y="98"/>
                </a:lnTo>
                <a:lnTo>
                  <a:pt x="1092" y="100"/>
                </a:lnTo>
                <a:lnTo>
                  <a:pt x="1081" y="102"/>
                </a:lnTo>
                <a:lnTo>
                  <a:pt x="1069" y="104"/>
                </a:lnTo>
                <a:lnTo>
                  <a:pt x="1058" y="106"/>
                </a:lnTo>
                <a:lnTo>
                  <a:pt x="1044" y="108"/>
                </a:lnTo>
                <a:lnTo>
                  <a:pt x="1031" y="110"/>
                </a:lnTo>
                <a:lnTo>
                  <a:pt x="1017" y="114"/>
                </a:lnTo>
                <a:lnTo>
                  <a:pt x="1002" y="116"/>
                </a:lnTo>
                <a:lnTo>
                  <a:pt x="987" y="119"/>
                </a:lnTo>
                <a:lnTo>
                  <a:pt x="971" y="123"/>
                </a:lnTo>
                <a:lnTo>
                  <a:pt x="954" y="127"/>
                </a:lnTo>
                <a:lnTo>
                  <a:pt x="937" y="133"/>
                </a:lnTo>
                <a:lnTo>
                  <a:pt x="919" y="137"/>
                </a:lnTo>
                <a:lnTo>
                  <a:pt x="902" y="142"/>
                </a:lnTo>
                <a:lnTo>
                  <a:pt x="883" y="146"/>
                </a:lnTo>
                <a:lnTo>
                  <a:pt x="864" y="152"/>
                </a:lnTo>
                <a:lnTo>
                  <a:pt x="845" y="158"/>
                </a:lnTo>
                <a:lnTo>
                  <a:pt x="823" y="165"/>
                </a:lnTo>
                <a:lnTo>
                  <a:pt x="802" y="171"/>
                </a:lnTo>
                <a:lnTo>
                  <a:pt x="781" y="177"/>
                </a:lnTo>
                <a:lnTo>
                  <a:pt x="760" y="185"/>
                </a:lnTo>
                <a:lnTo>
                  <a:pt x="737" y="192"/>
                </a:lnTo>
                <a:lnTo>
                  <a:pt x="714" y="200"/>
                </a:lnTo>
                <a:lnTo>
                  <a:pt x="691" y="208"/>
                </a:lnTo>
                <a:lnTo>
                  <a:pt x="668" y="215"/>
                </a:lnTo>
                <a:lnTo>
                  <a:pt x="643" y="225"/>
                </a:lnTo>
                <a:lnTo>
                  <a:pt x="618" y="233"/>
                </a:lnTo>
                <a:lnTo>
                  <a:pt x="593" y="242"/>
                </a:lnTo>
                <a:lnTo>
                  <a:pt x="566" y="252"/>
                </a:lnTo>
                <a:lnTo>
                  <a:pt x="541" y="259"/>
                </a:lnTo>
                <a:lnTo>
                  <a:pt x="516" y="269"/>
                </a:lnTo>
                <a:lnTo>
                  <a:pt x="493" y="277"/>
                </a:lnTo>
                <a:lnTo>
                  <a:pt x="468" y="284"/>
                </a:lnTo>
                <a:lnTo>
                  <a:pt x="447" y="292"/>
                </a:lnTo>
                <a:lnTo>
                  <a:pt x="424" y="300"/>
                </a:lnTo>
                <a:lnTo>
                  <a:pt x="403" y="307"/>
                </a:lnTo>
                <a:lnTo>
                  <a:pt x="384" y="313"/>
                </a:lnTo>
                <a:lnTo>
                  <a:pt x="365" y="321"/>
                </a:lnTo>
                <a:lnTo>
                  <a:pt x="345" y="327"/>
                </a:lnTo>
                <a:lnTo>
                  <a:pt x="326" y="332"/>
                </a:lnTo>
                <a:lnTo>
                  <a:pt x="309" y="338"/>
                </a:lnTo>
                <a:lnTo>
                  <a:pt x="294" y="342"/>
                </a:lnTo>
                <a:lnTo>
                  <a:pt x="276" y="348"/>
                </a:lnTo>
                <a:lnTo>
                  <a:pt x="263" y="352"/>
                </a:lnTo>
                <a:lnTo>
                  <a:pt x="248" y="355"/>
                </a:lnTo>
                <a:lnTo>
                  <a:pt x="234" y="359"/>
                </a:lnTo>
                <a:lnTo>
                  <a:pt x="221" y="363"/>
                </a:lnTo>
                <a:lnTo>
                  <a:pt x="209" y="365"/>
                </a:lnTo>
                <a:lnTo>
                  <a:pt x="198" y="369"/>
                </a:lnTo>
                <a:lnTo>
                  <a:pt x="186" y="371"/>
                </a:lnTo>
                <a:lnTo>
                  <a:pt x="177" y="373"/>
                </a:lnTo>
                <a:lnTo>
                  <a:pt x="167" y="375"/>
                </a:lnTo>
                <a:lnTo>
                  <a:pt x="159" y="376"/>
                </a:lnTo>
                <a:lnTo>
                  <a:pt x="152" y="376"/>
                </a:lnTo>
                <a:lnTo>
                  <a:pt x="144" y="378"/>
                </a:lnTo>
                <a:lnTo>
                  <a:pt x="136" y="378"/>
                </a:lnTo>
                <a:lnTo>
                  <a:pt x="130" y="378"/>
                </a:lnTo>
                <a:lnTo>
                  <a:pt x="127" y="378"/>
                </a:lnTo>
                <a:lnTo>
                  <a:pt x="121" y="378"/>
                </a:lnTo>
                <a:lnTo>
                  <a:pt x="119" y="376"/>
                </a:lnTo>
                <a:lnTo>
                  <a:pt x="111" y="375"/>
                </a:lnTo>
                <a:lnTo>
                  <a:pt x="104" y="369"/>
                </a:lnTo>
                <a:lnTo>
                  <a:pt x="96" y="365"/>
                </a:lnTo>
                <a:lnTo>
                  <a:pt x="88" y="357"/>
                </a:lnTo>
                <a:lnTo>
                  <a:pt x="81" y="352"/>
                </a:lnTo>
                <a:lnTo>
                  <a:pt x="73" y="342"/>
                </a:lnTo>
                <a:lnTo>
                  <a:pt x="65" y="332"/>
                </a:lnTo>
                <a:lnTo>
                  <a:pt x="57" y="321"/>
                </a:lnTo>
                <a:lnTo>
                  <a:pt x="50" y="309"/>
                </a:lnTo>
                <a:lnTo>
                  <a:pt x="42" y="296"/>
                </a:lnTo>
                <a:lnTo>
                  <a:pt x="34" y="282"/>
                </a:lnTo>
                <a:lnTo>
                  <a:pt x="27" y="267"/>
                </a:lnTo>
                <a:lnTo>
                  <a:pt x="19" y="250"/>
                </a:lnTo>
                <a:lnTo>
                  <a:pt x="13" y="233"/>
                </a:lnTo>
                <a:lnTo>
                  <a:pt x="6" y="213"/>
                </a:lnTo>
                <a:lnTo>
                  <a:pt x="0" y="19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31"/>
          <p:cNvSpPr/>
          <p:nvPr/>
        </p:nvSpPr>
        <p:spPr>
          <a:xfrm>
            <a:off x="5888160" y="3527280"/>
            <a:ext cx="722160" cy="1271880"/>
          </a:xfrm>
          <a:custGeom>
            <a:avLst/>
            <a:gdLst/>
            <a:ahLst/>
            <a:rect l="l" t="t" r="r" b="b"/>
            <a:pathLst>
              <a:path w="910" h="1603">
                <a:moveTo>
                  <a:pt x="537" y="1138"/>
                </a:moveTo>
                <a:lnTo>
                  <a:pt x="520" y="1157"/>
                </a:lnTo>
                <a:lnTo>
                  <a:pt x="504" y="1179"/>
                </a:lnTo>
                <a:lnTo>
                  <a:pt x="487" y="1200"/>
                </a:lnTo>
                <a:lnTo>
                  <a:pt x="470" y="1221"/>
                </a:lnTo>
                <a:lnTo>
                  <a:pt x="451" y="1240"/>
                </a:lnTo>
                <a:lnTo>
                  <a:pt x="433" y="1261"/>
                </a:lnTo>
                <a:lnTo>
                  <a:pt x="414" y="1282"/>
                </a:lnTo>
                <a:lnTo>
                  <a:pt x="393" y="1301"/>
                </a:lnTo>
                <a:lnTo>
                  <a:pt x="374" y="1323"/>
                </a:lnTo>
                <a:lnTo>
                  <a:pt x="353" y="1344"/>
                </a:lnTo>
                <a:lnTo>
                  <a:pt x="332" y="1363"/>
                </a:lnTo>
                <a:lnTo>
                  <a:pt x="309" y="1384"/>
                </a:lnTo>
                <a:lnTo>
                  <a:pt x="286" y="1405"/>
                </a:lnTo>
                <a:lnTo>
                  <a:pt x="263" y="1426"/>
                </a:lnTo>
                <a:lnTo>
                  <a:pt x="240" y="1445"/>
                </a:lnTo>
                <a:lnTo>
                  <a:pt x="217" y="1466"/>
                </a:lnTo>
                <a:lnTo>
                  <a:pt x="192" y="1486"/>
                </a:lnTo>
                <a:lnTo>
                  <a:pt x="170" y="1505"/>
                </a:lnTo>
                <a:lnTo>
                  <a:pt x="149" y="1522"/>
                </a:lnTo>
                <a:lnTo>
                  <a:pt x="128" y="1535"/>
                </a:lnTo>
                <a:lnTo>
                  <a:pt x="111" y="1549"/>
                </a:lnTo>
                <a:lnTo>
                  <a:pt x="94" y="1560"/>
                </a:lnTo>
                <a:lnTo>
                  <a:pt x="78" y="1572"/>
                </a:lnTo>
                <a:lnTo>
                  <a:pt x="65" y="1580"/>
                </a:lnTo>
                <a:lnTo>
                  <a:pt x="51" y="1587"/>
                </a:lnTo>
                <a:lnTo>
                  <a:pt x="40" y="1593"/>
                </a:lnTo>
                <a:lnTo>
                  <a:pt x="30" y="1597"/>
                </a:lnTo>
                <a:lnTo>
                  <a:pt x="21" y="1601"/>
                </a:lnTo>
                <a:lnTo>
                  <a:pt x="15" y="1603"/>
                </a:lnTo>
                <a:lnTo>
                  <a:pt x="9" y="1603"/>
                </a:lnTo>
                <a:lnTo>
                  <a:pt x="5" y="1603"/>
                </a:lnTo>
                <a:lnTo>
                  <a:pt x="2" y="1601"/>
                </a:lnTo>
                <a:lnTo>
                  <a:pt x="0" y="1597"/>
                </a:lnTo>
                <a:lnTo>
                  <a:pt x="2" y="1593"/>
                </a:lnTo>
                <a:lnTo>
                  <a:pt x="3" y="1587"/>
                </a:lnTo>
                <a:lnTo>
                  <a:pt x="7" y="1580"/>
                </a:lnTo>
                <a:lnTo>
                  <a:pt x="11" y="1572"/>
                </a:lnTo>
                <a:lnTo>
                  <a:pt x="19" y="1562"/>
                </a:lnTo>
                <a:lnTo>
                  <a:pt x="28" y="1551"/>
                </a:lnTo>
                <a:lnTo>
                  <a:pt x="38" y="1537"/>
                </a:lnTo>
                <a:lnTo>
                  <a:pt x="50" y="1522"/>
                </a:lnTo>
                <a:lnTo>
                  <a:pt x="63" y="1507"/>
                </a:lnTo>
                <a:lnTo>
                  <a:pt x="78" y="1489"/>
                </a:lnTo>
                <a:lnTo>
                  <a:pt x="96" y="1470"/>
                </a:lnTo>
                <a:lnTo>
                  <a:pt x="115" y="1451"/>
                </a:lnTo>
                <a:lnTo>
                  <a:pt x="134" y="1428"/>
                </a:lnTo>
                <a:lnTo>
                  <a:pt x="157" y="1405"/>
                </a:lnTo>
                <a:lnTo>
                  <a:pt x="180" y="1382"/>
                </a:lnTo>
                <a:lnTo>
                  <a:pt x="203" y="1355"/>
                </a:lnTo>
                <a:lnTo>
                  <a:pt x="226" y="1330"/>
                </a:lnTo>
                <a:lnTo>
                  <a:pt x="249" y="1305"/>
                </a:lnTo>
                <a:lnTo>
                  <a:pt x="270" y="1280"/>
                </a:lnTo>
                <a:lnTo>
                  <a:pt x="291" y="1255"/>
                </a:lnTo>
                <a:lnTo>
                  <a:pt x="313" y="1228"/>
                </a:lnTo>
                <a:lnTo>
                  <a:pt x="332" y="1204"/>
                </a:lnTo>
                <a:lnTo>
                  <a:pt x="353" y="1177"/>
                </a:lnTo>
                <a:lnTo>
                  <a:pt x="370" y="1152"/>
                </a:lnTo>
                <a:lnTo>
                  <a:pt x="389" y="1125"/>
                </a:lnTo>
                <a:lnTo>
                  <a:pt x="407" y="1098"/>
                </a:lnTo>
                <a:lnTo>
                  <a:pt x="424" y="1069"/>
                </a:lnTo>
                <a:lnTo>
                  <a:pt x="441" y="1042"/>
                </a:lnTo>
                <a:lnTo>
                  <a:pt x="458" y="1014"/>
                </a:lnTo>
                <a:lnTo>
                  <a:pt x="474" y="985"/>
                </a:lnTo>
                <a:lnTo>
                  <a:pt x="489" y="956"/>
                </a:lnTo>
                <a:lnTo>
                  <a:pt x="518" y="895"/>
                </a:lnTo>
                <a:lnTo>
                  <a:pt x="547" y="833"/>
                </a:lnTo>
                <a:lnTo>
                  <a:pt x="574" y="772"/>
                </a:lnTo>
                <a:lnTo>
                  <a:pt x="597" y="707"/>
                </a:lnTo>
                <a:lnTo>
                  <a:pt x="620" y="641"/>
                </a:lnTo>
                <a:lnTo>
                  <a:pt x="631" y="609"/>
                </a:lnTo>
                <a:lnTo>
                  <a:pt x="641" y="574"/>
                </a:lnTo>
                <a:lnTo>
                  <a:pt x="650" y="540"/>
                </a:lnTo>
                <a:lnTo>
                  <a:pt x="660" y="503"/>
                </a:lnTo>
                <a:lnTo>
                  <a:pt x="670" y="469"/>
                </a:lnTo>
                <a:lnTo>
                  <a:pt x="679" y="432"/>
                </a:lnTo>
                <a:lnTo>
                  <a:pt x="681" y="415"/>
                </a:lnTo>
                <a:lnTo>
                  <a:pt x="685" y="396"/>
                </a:lnTo>
                <a:lnTo>
                  <a:pt x="687" y="380"/>
                </a:lnTo>
                <a:lnTo>
                  <a:pt x="691" y="363"/>
                </a:lnTo>
                <a:lnTo>
                  <a:pt x="693" y="348"/>
                </a:lnTo>
                <a:lnTo>
                  <a:pt x="696" y="331"/>
                </a:lnTo>
                <a:lnTo>
                  <a:pt x="698" y="317"/>
                </a:lnTo>
                <a:lnTo>
                  <a:pt x="700" y="302"/>
                </a:lnTo>
                <a:lnTo>
                  <a:pt x="702" y="288"/>
                </a:lnTo>
                <a:lnTo>
                  <a:pt x="704" y="273"/>
                </a:lnTo>
                <a:lnTo>
                  <a:pt x="706" y="261"/>
                </a:lnTo>
                <a:lnTo>
                  <a:pt x="708" y="248"/>
                </a:lnTo>
                <a:lnTo>
                  <a:pt x="712" y="225"/>
                </a:lnTo>
                <a:lnTo>
                  <a:pt x="714" y="202"/>
                </a:lnTo>
                <a:lnTo>
                  <a:pt x="716" y="183"/>
                </a:lnTo>
                <a:lnTo>
                  <a:pt x="718" y="164"/>
                </a:lnTo>
                <a:lnTo>
                  <a:pt x="718" y="146"/>
                </a:lnTo>
                <a:lnTo>
                  <a:pt x="720" y="133"/>
                </a:lnTo>
                <a:lnTo>
                  <a:pt x="720" y="119"/>
                </a:lnTo>
                <a:lnTo>
                  <a:pt x="718" y="108"/>
                </a:lnTo>
                <a:lnTo>
                  <a:pt x="716" y="98"/>
                </a:lnTo>
                <a:lnTo>
                  <a:pt x="716" y="91"/>
                </a:lnTo>
                <a:lnTo>
                  <a:pt x="706" y="81"/>
                </a:lnTo>
                <a:lnTo>
                  <a:pt x="698" y="73"/>
                </a:lnTo>
                <a:lnTo>
                  <a:pt x="693" y="64"/>
                </a:lnTo>
                <a:lnTo>
                  <a:pt x="689" y="54"/>
                </a:lnTo>
                <a:lnTo>
                  <a:pt x="687" y="45"/>
                </a:lnTo>
                <a:lnTo>
                  <a:pt x="687" y="37"/>
                </a:lnTo>
                <a:lnTo>
                  <a:pt x="687" y="31"/>
                </a:lnTo>
                <a:lnTo>
                  <a:pt x="687" y="27"/>
                </a:lnTo>
                <a:lnTo>
                  <a:pt x="689" y="22"/>
                </a:lnTo>
                <a:lnTo>
                  <a:pt x="691" y="18"/>
                </a:lnTo>
                <a:lnTo>
                  <a:pt x="695" y="14"/>
                </a:lnTo>
                <a:lnTo>
                  <a:pt x="700" y="8"/>
                </a:lnTo>
                <a:lnTo>
                  <a:pt x="706" y="6"/>
                </a:lnTo>
                <a:lnTo>
                  <a:pt x="712" y="2"/>
                </a:lnTo>
                <a:lnTo>
                  <a:pt x="720" y="0"/>
                </a:lnTo>
                <a:lnTo>
                  <a:pt x="727" y="0"/>
                </a:lnTo>
                <a:lnTo>
                  <a:pt x="733" y="2"/>
                </a:lnTo>
                <a:lnTo>
                  <a:pt x="739" y="2"/>
                </a:lnTo>
                <a:lnTo>
                  <a:pt x="744" y="4"/>
                </a:lnTo>
                <a:lnTo>
                  <a:pt x="750" y="6"/>
                </a:lnTo>
                <a:lnTo>
                  <a:pt x="764" y="12"/>
                </a:lnTo>
                <a:lnTo>
                  <a:pt x="777" y="18"/>
                </a:lnTo>
                <a:lnTo>
                  <a:pt x="791" y="25"/>
                </a:lnTo>
                <a:lnTo>
                  <a:pt x="806" y="33"/>
                </a:lnTo>
                <a:lnTo>
                  <a:pt x="821" y="43"/>
                </a:lnTo>
                <a:lnTo>
                  <a:pt x="837" y="54"/>
                </a:lnTo>
                <a:lnTo>
                  <a:pt x="852" y="66"/>
                </a:lnTo>
                <a:lnTo>
                  <a:pt x="869" y="79"/>
                </a:lnTo>
                <a:lnTo>
                  <a:pt x="875" y="87"/>
                </a:lnTo>
                <a:lnTo>
                  <a:pt x="881" y="94"/>
                </a:lnTo>
                <a:lnTo>
                  <a:pt x="887" y="102"/>
                </a:lnTo>
                <a:lnTo>
                  <a:pt x="892" y="110"/>
                </a:lnTo>
                <a:lnTo>
                  <a:pt x="896" y="119"/>
                </a:lnTo>
                <a:lnTo>
                  <a:pt x="900" y="129"/>
                </a:lnTo>
                <a:lnTo>
                  <a:pt x="902" y="139"/>
                </a:lnTo>
                <a:lnTo>
                  <a:pt x="904" y="148"/>
                </a:lnTo>
                <a:lnTo>
                  <a:pt x="906" y="160"/>
                </a:lnTo>
                <a:lnTo>
                  <a:pt x="908" y="169"/>
                </a:lnTo>
                <a:lnTo>
                  <a:pt x="910" y="181"/>
                </a:lnTo>
                <a:lnTo>
                  <a:pt x="910" y="192"/>
                </a:lnTo>
                <a:lnTo>
                  <a:pt x="910" y="204"/>
                </a:lnTo>
                <a:lnTo>
                  <a:pt x="908" y="215"/>
                </a:lnTo>
                <a:lnTo>
                  <a:pt x="908" y="227"/>
                </a:lnTo>
                <a:lnTo>
                  <a:pt x="906" y="238"/>
                </a:lnTo>
                <a:lnTo>
                  <a:pt x="900" y="250"/>
                </a:lnTo>
                <a:lnTo>
                  <a:pt x="894" y="263"/>
                </a:lnTo>
                <a:lnTo>
                  <a:pt x="888" y="279"/>
                </a:lnTo>
                <a:lnTo>
                  <a:pt x="883" y="296"/>
                </a:lnTo>
                <a:lnTo>
                  <a:pt x="875" y="315"/>
                </a:lnTo>
                <a:lnTo>
                  <a:pt x="867" y="336"/>
                </a:lnTo>
                <a:lnTo>
                  <a:pt x="860" y="359"/>
                </a:lnTo>
                <a:lnTo>
                  <a:pt x="852" y="382"/>
                </a:lnTo>
                <a:lnTo>
                  <a:pt x="844" y="409"/>
                </a:lnTo>
                <a:lnTo>
                  <a:pt x="835" y="436"/>
                </a:lnTo>
                <a:lnTo>
                  <a:pt x="825" y="467"/>
                </a:lnTo>
                <a:lnTo>
                  <a:pt x="815" y="497"/>
                </a:lnTo>
                <a:lnTo>
                  <a:pt x="806" y="530"/>
                </a:lnTo>
                <a:lnTo>
                  <a:pt x="796" y="565"/>
                </a:lnTo>
                <a:lnTo>
                  <a:pt x="785" y="601"/>
                </a:lnTo>
                <a:lnTo>
                  <a:pt x="775" y="639"/>
                </a:lnTo>
                <a:lnTo>
                  <a:pt x="764" y="678"/>
                </a:lnTo>
                <a:lnTo>
                  <a:pt x="750" y="714"/>
                </a:lnTo>
                <a:lnTo>
                  <a:pt x="739" y="751"/>
                </a:lnTo>
                <a:lnTo>
                  <a:pt x="725" y="787"/>
                </a:lnTo>
                <a:lnTo>
                  <a:pt x="712" y="822"/>
                </a:lnTo>
                <a:lnTo>
                  <a:pt x="698" y="856"/>
                </a:lnTo>
                <a:lnTo>
                  <a:pt x="683" y="889"/>
                </a:lnTo>
                <a:lnTo>
                  <a:pt x="668" y="920"/>
                </a:lnTo>
                <a:lnTo>
                  <a:pt x="652" y="950"/>
                </a:lnTo>
                <a:lnTo>
                  <a:pt x="637" y="981"/>
                </a:lnTo>
                <a:lnTo>
                  <a:pt x="622" y="1010"/>
                </a:lnTo>
                <a:lnTo>
                  <a:pt x="604" y="1037"/>
                </a:lnTo>
                <a:lnTo>
                  <a:pt x="589" y="1063"/>
                </a:lnTo>
                <a:lnTo>
                  <a:pt x="572" y="1090"/>
                </a:lnTo>
                <a:lnTo>
                  <a:pt x="554" y="1113"/>
                </a:lnTo>
                <a:lnTo>
                  <a:pt x="537" y="1138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32"/>
          <p:cNvSpPr/>
          <p:nvPr/>
        </p:nvSpPr>
        <p:spPr>
          <a:xfrm>
            <a:off x="6237360" y="3160800"/>
            <a:ext cx="731880" cy="1860480"/>
          </a:xfrm>
          <a:custGeom>
            <a:avLst/>
            <a:gdLst/>
            <a:ahLst/>
            <a:rect l="l" t="t" r="r" b="b"/>
            <a:pathLst>
              <a:path w="922" h="2345">
                <a:moveTo>
                  <a:pt x="918" y="42"/>
                </a:moveTo>
                <a:lnTo>
                  <a:pt x="920" y="71"/>
                </a:lnTo>
                <a:lnTo>
                  <a:pt x="920" y="102"/>
                </a:lnTo>
                <a:lnTo>
                  <a:pt x="922" y="132"/>
                </a:lnTo>
                <a:lnTo>
                  <a:pt x="922" y="165"/>
                </a:lnTo>
                <a:lnTo>
                  <a:pt x="922" y="198"/>
                </a:lnTo>
                <a:lnTo>
                  <a:pt x="922" y="230"/>
                </a:lnTo>
                <a:lnTo>
                  <a:pt x="922" y="263"/>
                </a:lnTo>
                <a:lnTo>
                  <a:pt x="920" y="297"/>
                </a:lnTo>
                <a:lnTo>
                  <a:pt x="918" y="332"/>
                </a:lnTo>
                <a:lnTo>
                  <a:pt x="918" y="367"/>
                </a:lnTo>
                <a:lnTo>
                  <a:pt x="916" y="403"/>
                </a:lnTo>
                <a:lnTo>
                  <a:pt x="914" y="439"/>
                </a:lnTo>
                <a:lnTo>
                  <a:pt x="912" y="476"/>
                </a:lnTo>
                <a:lnTo>
                  <a:pt x="910" y="512"/>
                </a:lnTo>
                <a:lnTo>
                  <a:pt x="908" y="551"/>
                </a:lnTo>
                <a:lnTo>
                  <a:pt x="906" y="589"/>
                </a:lnTo>
                <a:lnTo>
                  <a:pt x="901" y="627"/>
                </a:lnTo>
                <a:lnTo>
                  <a:pt x="895" y="668"/>
                </a:lnTo>
                <a:lnTo>
                  <a:pt x="889" y="706"/>
                </a:lnTo>
                <a:lnTo>
                  <a:pt x="883" y="746"/>
                </a:lnTo>
                <a:lnTo>
                  <a:pt x="878" y="787"/>
                </a:lnTo>
                <a:lnTo>
                  <a:pt x="870" y="827"/>
                </a:lnTo>
                <a:lnTo>
                  <a:pt x="853" y="908"/>
                </a:lnTo>
                <a:lnTo>
                  <a:pt x="835" y="988"/>
                </a:lnTo>
                <a:lnTo>
                  <a:pt x="816" y="1071"/>
                </a:lnTo>
                <a:lnTo>
                  <a:pt x="797" y="1153"/>
                </a:lnTo>
                <a:lnTo>
                  <a:pt x="776" y="1236"/>
                </a:lnTo>
                <a:lnTo>
                  <a:pt x="764" y="1278"/>
                </a:lnTo>
                <a:lnTo>
                  <a:pt x="751" y="1320"/>
                </a:lnTo>
                <a:lnTo>
                  <a:pt x="737" y="1360"/>
                </a:lnTo>
                <a:lnTo>
                  <a:pt x="724" y="1401"/>
                </a:lnTo>
                <a:lnTo>
                  <a:pt x="709" y="1441"/>
                </a:lnTo>
                <a:lnTo>
                  <a:pt x="693" y="1481"/>
                </a:lnTo>
                <a:lnTo>
                  <a:pt x="678" y="1520"/>
                </a:lnTo>
                <a:lnTo>
                  <a:pt x="661" y="1556"/>
                </a:lnTo>
                <a:lnTo>
                  <a:pt x="641" y="1595"/>
                </a:lnTo>
                <a:lnTo>
                  <a:pt x="624" y="1631"/>
                </a:lnTo>
                <a:lnTo>
                  <a:pt x="605" y="1667"/>
                </a:lnTo>
                <a:lnTo>
                  <a:pt x="586" y="1704"/>
                </a:lnTo>
                <a:lnTo>
                  <a:pt x="565" y="1738"/>
                </a:lnTo>
                <a:lnTo>
                  <a:pt x="544" y="1773"/>
                </a:lnTo>
                <a:lnTo>
                  <a:pt x="522" y="1809"/>
                </a:lnTo>
                <a:lnTo>
                  <a:pt x="501" y="1844"/>
                </a:lnTo>
                <a:lnTo>
                  <a:pt x="480" y="1877"/>
                </a:lnTo>
                <a:lnTo>
                  <a:pt x="457" y="1909"/>
                </a:lnTo>
                <a:lnTo>
                  <a:pt x="436" y="1940"/>
                </a:lnTo>
                <a:lnTo>
                  <a:pt x="415" y="1971"/>
                </a:lnTo>
                <a:lnTo>
                  <a:pt x="394" y="1997"/>
                </a:lnTo>
                <a:lnTo>
                  <a:pt x="373" y="2024"/>
                </a:lnTo>
                <a:lnTo>
                  <a:pt x="352" y="2051"/>
                </a:lnTo>
                <a:lnTo>
                  <a:pt x="330" y="2076"/>
                </a:lnTo>
                <a:lnTo>
                  <a:pt x="309" y="2099"/>
                </a:lnTo>
                <a:lnTo>
                  <a:pt x="290" y="2122"/>
                </a:lnTo>
                <a:lnTo>
                  <a:pt x="269" y="2145"/>
                </a:lnTo>
                <a:lnTo>
                  <a:pt x="248" y="2166"/>
                </a:lnTo>
                <a:lnTo>
                  <a:pt x="229" y="2187"/>
                </a:lnTo>
                <a:lnTo>
                  <a:pt x="208" y="2207"/>
                </a:lnTo>
                <a:lnTo>
                  <a:pt x="188" y="2226"/>
                </a:lnTo>
                <a:lnTo>
                  <a:pt x="169" y="2245"/>
                </a:lnTo>
                <a:lnTo>
                  <a:pt x="150" y="2260"/>
                </a:lnTo>
                <a:lnTo>
                  <a:pt x="131" y="2274"/>
                </a:lnTo>
                <a:lnTo>
                  <a:pt x="115" y="2287"/>
                </a:lnTo>
                <a:lnTo>
                  <a:pt x="100" y="2299"/>
                </a:lnTo>
                <a:lnTo>
                  <a:pt x="85" y="2308"/>
                </a:lnTo>
                <a:lnTo>
                  <a:pt x="73" y="2318"/>
                </a:lnTo>
                <a:lnTo>
                  <a:pt x="60" y="2324"/>
                </a:lnTo>
                <a:lnTo>
                  <a:pt x="50" y="2331"/>
                </a:lnTo>
                <a:lnTo>
                  <a:pt x="41" y="2335"/>
                </a:lnTo>
                <a:lnTo>
                  <a:pt x="33" y="2339"/>
                </a:lnTo>
                <a:lnTo>
                  <a:pt x="25" y="2343"/>
                </a:lnTo>
                <a:lnTo>
                  <a:pt x="18" y="2345"/>
                </a:lnTo>
                <a:lnTo>
                  <a:pt x="14" y="2345"/>
                </a:lnTo>
                <a:lnTo>
                  <a:pt x="8" y="2345"/>
                </a:lnTo>
                <a:lnTo>
                  <a:pt x="4" y="2345"/>
                </a:lnTo>
                <a:lnTo>
                  <a:pt x="2" y="2343"/>
                </a:lnTo>
                <a:lnTo>
                  <a:pt x="0" y="2339"/>
                </a:lnTo>
                <a:lnTo>
                  <a:pt x="2" y="2335"/>
                </a:lnTo>
                <a:lnTo>
                  <a:pt x="4" y="2328"/>
                </a:lnTo>
                <a:lnTo>
                  <a:pt x="6" y="2320"/>
                </a:lnTo>
                <a:lnTo>
                  <a:pt x="12" y="2310"/>
                </a:lnTo>
                <a:lnTo>
                  <a:pt x="19" y="2299"/>
                </a:lnTo>
                <a:lnTo>
                  <a:pt x="27" y="2287"/>
                </a:lnTo>
                <a:lnTo>
                  <a:pt x="37" y="2274"/>
                </a:lnTo>
                <a:lnTo>
                  <a:pt x="48" y="2257"/>
                </a:lnTo>
                <a:lnTo>
                  <a:pt x="62" y="2241"/>
                </a:lnTo>
                <a:lnTo>
                  <a:pt x="75" y="2222"/>
                </a:lnTo>
                <a:lnTo>
                  <a:pt x="90" y="2203"/>
                </a:lnTo>
                <a:lnTo>
                  <a:pt x="108" y="2182"/>
                </a:lnTo>
                <a:lnTo>
                  <a:pt x="127" y="2159"/>
                </a:lnTo>
                <a:lnTo>
                  <a:pt x="146" y="2136"/>
                </a:lnTo>
                <a:lnTo>
                  <a:pt x="169" y="2111"/>
                </a:lnTo>
                <a:lnTo>
                  <a:pt x="188" y="2086"/>
                </a:lnTo>
                <a:lnTo>
                  <a:pt x="208" y="2059"/>
                </a:lnTo>
                <a:lnTo>
                  <a:pt x="229" y="2032"/>
                </a:lnTo>
                <a:lnTo>
                  <a:pt x="248" y="2005"/>
                </a:lnTo>
                <a:lnTo>
                  <a:pt x="286" y="1951"/>
                </a:lnTo>
                <a:lnTo>
                  <a:pt x="327" y="1894"/>
                </a:lnTo>
                <a:lnTo>
                  <a:pt x="363" y="1834"/>
                </a:lnTo>
                <a:lnTo>
                  <a:pt x="400" y="1775"/>
                </a:lnTo>
                <a:lnTo>
                  <a:pt x="417" y="1742"/>
                </a:lnTo>
                <a:lnTo>
                  <a:pt x="434" y="1712"/>
                </a:lnTo>
                <a:lnTo>
                  <a:pt x="449" y="1681"/>
                </a:lnTo>
                <a:lnTo>
                  <a:pt x="467" y="1648"/>
                </a:lnTo>
                <a:lnTo>
                  <a:pt x="480" y="1618"/>
                </a:lnTo>
                <a:lnTo>
                  <a:pt x="496" y="1587"/>
                </a:lnTo>
                <a:lnTo>
                  <a:pt x="511" y="1556"/>
                </a:lnTo>
                <a:lnTo>
                  <a:pt x="526" y="1524"/>
                </a:lnTo>
                <a:lnTo>
                  <a:pt x="540" y="1489"/>
                </a:lnTo>
                <a:lnTo>
                  <a:pt x="553" y="1454"/>
                </a:lnTo>
                <a:lnTo>
                  <a:pt x="568" y="1420"/>
                </a:lnTo>
                <a:lnTo>
                  <a:pt x="582" y="1383"/>
                </a:lnTo>
                <a:lnTo>
                  <a:pt x="595" y="1347"/>
                </a:lnTo>
                <a:lnTo>
                  <a:pt x="609" y="1309"/>
                </a:lnTo>
                <a:lnTo>
                  <a:pt x="620" y="1270"/>
                </a:lnTo>
                <a:lnTo>
                  <a:pt x="634" y="1232"/>
                </a:lnTo>
                <a:lnTo>
                  <a:pt x="645" y="1190"/>
                </a:lnTo>
                <a:lnTo>
                  <a:pt x="657" y="1149"/>
                </a:lnTo>
                <a:lnTo>
                  <a:pt x="668" y="1107"/>
                </a:lnTo>
                <a:lnTo>
                  <a:pt x="680" y="1065"/>
                </a:lnTo>
                <a:lnTo>
                  <a:pt x="691" y="1023"/>
                </a:lnTo>
                <a:lnTo>
                  <a:pt x="701" y="982"/>
                </a:lnTo>
                <a:lnTo>
                  <a:pt x="709" y="944"/>
                </a:lnTo>
                <a:lnTo>
                  <a:pt x="718" y="904"/>
                </a:lnTo>
                <a:lnTo>
                  <a:pt x="726" y="865"/>
                </a:lnTo>
                <a:lnTo>
                  <a:pt x="734" y="827"/>
                </a:lnTo>
                <a:lnTo>
                  <a:pt x="739" y="791"/>
                </a:lnTo>
                <a:lnTo>
                  <a:pt x="745" y="754"/>
                </a:lnTo>
                <a:lnTo>
                  <a:pt x="751" y="718"/>
                </a:lnTo>
                <a:lnTo>
                  <a:pt x="755" y="681"/>
                </a:lnTo>
                <a:lnTo>
                  <a:pt x="760" y="647"/>
                </a:lnTo>
                <a:lnTo>
                  <a:pt x="764" y="612"/>
                </a:lnTo>
                <a:lnTo>
                  <a:pt x="766" y="578"/>
                </a:lnTo>
                <a:lnTo>
                  <a:pt x="770" y="545"/>
                </a:lnTo>
                <a:lnTo>
                  <a:pt x="772" y="512"/>
                </a:lnTo>
                <a:lnTo>
                  <a:pt x="776" y="480"/>
                </a:lnTo>
                <a:lnTo>
                  <a:pt x="774" y="449"/>
                </a:lnTo>
                <a:lnTo>
                  <a:pt x="774" y="418"/>
                </a:lnTo>
                <a:lnTo>
                  <a:pt x="774" y="390"/>
                </a:lnTo>
                <a:lnTo>
                  <a:pt x="772" y="361"/>
                </a:lnTo>
                <a:lnTo>
                  <a:pt x="772" y="334"/>
                </a:lnTo>
                <a:lnTo>
                  <a:pt x="770" y="309"/>
                </a:lnTo>
                <a:lnTo>
                  <a:pt x="768" y="286"/>
                </a:lnTo>
                <a:lnTo>
                  <a:pt x="766" y="263"/>
                </a:lnTo>
                <a:lnTo>
                  <a:pt x="764" y="240"/>
                </a:lnTo>
                <a:lnTo>
                  <a:pt x="760" y="221"/>
                </a:lnTo>
                <a:lnTo>
                  <a:pt x="759" y="202"/>
                </a:lnTo>
                <a:lnTo>
                  <a:pt x="755" y="184"/>
                </a:lnTo>
                <a:lnTo>
                  <a:pt x="751" y="167"/>
                </a:lnTo>
                <a:lnTo>
                  <a:pt x="747" y="152"/>
                </a:lnTo>
                <a:lnTo>
                  <a:pt x="743" y="138"/>
                </a:lnTo>
                <a:lnTo>
                  <a:pt x="739" y="127"/>
                </a:lnTo>
                <a:lnTo>
                  <a:pt x="735" y="115"/>
                </a:lnTo>
                <a:lnTo>
                  <a:pt x="732" y="106"/>
                </a:lnTo>
                <a:lnTo>
                  <a:pt x="728" y="96"/>
                </a:lnTo>
                <a:lnTo>
                  <a:pt x="726" y="86"/>
                </a:lnTo>
                <a:lnTo>
                  <a:pt x="724" y="77"/>
                </a:lnTo>
                <a:lnTo>
                  <a:pt x="722" y="69"/>
                </a:lnTo>
                <a:lnTo>
                  <a:pt x="720" y="52"/>
                </a:lnTo>
                <a:lnTo>
                  <a:pt x="720" y="38"/>
                </a:lnTo>
                <a:lnTo>
                  <a:pt x="720" y="25"/>
                </a:lnTo>
                <a:lnTo>
                  <a:pt x="724" y="15"/>
                </a:lnTo>
                <a:lnTo>
                  <a:pt x="728" y="6"/>
                </a:lnTo>
                <a:lnTo>
                  <a:pt x="730" y="4"/>
                </a:lnTo>
                <a:lnTo>
                  <a:pt x="734" y="2"/>
                </a:lnTo>
                <a:lnTo>
                  <a:pt x="739" y="0"/>
                </a:lnTo>
                <a:lnTo>
                  <a:pt x="745" y="0"/>
                </a:lnTo>
                <a:lnTo>
                  <a:pt x="753" y="0"/>
                </a:lnTo>
                <a:lnTo>
                  <a:pt x="760" y="2"/>
                </a:lnTo>
                <a:lnTo>
                  <a:pt x="770" y="4"/>
                </a:lnTo>
                <a:lnTo>
                  <a:pt x="782" y="6"/>
                </a:lnTo>
                <a:lnTo>
                  <a:pt x="795" y="8"/>
                </a:lnTo>
                <a:lnTo>
                  <a:pt x="808" y="12"/>
                </a:lnTo>
                <a:lnTo>
                  <a:pt x="824" y="13"/>
                </a:lnTo>
                <a:lnTo>
                  <a:pt x="839" y="19"/>
                </a:lnTo>
                <a:lnTo>
                  <a:pt x="856" y="23"/>
                </a:lnTo>
                <a:lnTo>
                  <a:pt x="876" y="29"/>
                </a:lnTo>
                <a:lnTo>
                  <a:pt x="895" y="35"/>
                </a:lnTo>
                <a:lnTo>
                  <a:pt x="918" y="4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33"/>
          <p:cNvSpPr/>
          <p:nvPr/>
        </p:nvSpPr>
        <p:spPr>
          <a:xfrm>
            <a:off x="6900840" y="3057480"/>
            <a:ext cx="876240" cy="503280"/>
          </a:xfrm>
          <a:custGeom>
            <a:avLst/>
            <a:gdLst/>
            <a:ahLst/>
            <a:rect l="l" t="t" r="r" b="b"/>
            <a:pathLst>
              <a:path w="1104" h="634">
                <a:moveTo>
                  <a:pt x="0" y="171"/>
                </a:moveTo>
                <a:lnTo>
                  <a:pt x="35" y="169"/>
                </a:lnTo>
                <a:lnTo>
                  <a:pt x="71" y="169"/>
                </a:lnTo>
                <a:lnTo>
                  <a:pt x="106" y="167"/>
                </a:lnTo>
                <a:lnTo>
                  <a:pt x="142" y="166"/>
                </a:lnTo>
                <a:lnTo>
                  <a:pt x="177" y="164"/>
                </a:lnTo>
                <a:lnTo>
                  <a:pt x="213" y="162"/>
                </a:lnTo>
                <a:lnTo>
                  <a:pt x="282" y="154"/>
                </a:lnTo>
                <a:lnTo>
                  <a:pt x="354" y="146"/>
                </a:lnTo>
                <a:lnTo>
                  <a:pt x="423" y="135"/>
                </a:lnTo>
                <a:lnTo>
                  <a:pt x="490" y="123"/>
                </a:lnTo>
                <a:lnTo>
                  <a:pt x="559" y="110"/>
                </a:lnTo>
                <a:lnTo>
                  <a:pt x="590" y="102"/>
                </a:lnTo>
                <a:lnTo>
                  <a:pt x="605" y="100"/>
                </a:lnTo>
                <a:lnTo>
                  <a:pt x="620" y="96"/>
                </a:lnTo>
                <a:lnTo>
                  <a:pt x="636" y="93"/>
                </a:lnTo>
                <a:lnTo>
                  <a:pt x="649" y="89"/>
                </a:lnTo>
                <a:lnTo>
                  <a:pt x="663" y="85"/>
                </a:lnTo>
                <a:lnTo>
                  <a:pt x="676" y="83"/>
                </a:lnTo>
                <a:lnTo>
                  <a:pt x="688" y="79"/>
                </a:lnTo>
                <a:lnTo>
                  <a:pt x="701" y="75"/>
                </a:lnTo>
                <a:lnTo>
                  <a:pt x="713" y="73"/>
                </a:lnTo>
                <a:lnTo>
                  <a:pt x="724" y="70"/>
                </a:lnTo>
                <a:lnTo>
                  <a:pt x="734" y="66"/>
                </a:lnTo>
                <a:lnTo>
                  <a:pt x="743" y="64"/>
                </a:lnTo>
                <a:lnTo>
                  <a:pt x="753" y="60"/>
                </a:lnTo>
                <a:lnTo>
                  <a:pt x="762" y="58"/>
                </a:lnTo>
                <a:lnTo>
                  <a:pt x="772" y="54"/>
                </a:lnTo>
                <a:lnTo>
                  <a:pt x="780" y="52"/>
                </a:lnTo>
                <a:lnTo>
                  <a:pt x="787" y="50"/>
                </a:lnTo>
                <a:lnTo>
                  <a:pt x="795" y="47"/>
                </a:lnTo>
                <a:lnTo>
                  <a:pt x="801" y="45"/>
                </a:lnTo>
                <a:lnTo>
                  <a:pt x="808" y="43"/>
                </a:lnTo>
                <a:lnTo>
                  <a:pt x="814" y="41"/>
                </a:lnTo>
                <a:lnTo>
                  <a:pt x="818" y="37"/>
                </a:lnTo>
                <a:lnTo>
                  <a:pt x="824" y="35"/>
                </a:lnTo>
                <a:lnTo>
                  <a:pt x="828" y="33"/>
                </a:lnTo>
                <a:lnTo>
                  <a:pt x="832" y="31"/>
                </a:lnTo>
                <a:lnTo>
                  <a:pt x="835" y="29"/>
                </a:lnTo>
                <a:lnTo>
                  <a:pt x="837" y="29"/>
                </a:lnTo>
                <a:lnTo>
                  <a:pt x="839" y="27"/>
                </a:lnTo>
                <a:lnTo>
                  <a:pt x="841" y="25"/>
                </a:lnTo>
                <a:lnTo>
                  <a:pt x="843" y="25"/>
                </a:lnTo>
                <a:lnTo>
                  <a:pt x="849" y="20"/>
                </a:lnTo>
                <a:lnTo>
                  <a:pt x="855" y="16"/>
                </a:lnTo>
                <a:lnTo>
                  <a:pt x="860" y="12"/>
                </a:lnTo>
                <a:lnTo>
                  <a:pt x="870" y="8"/>
                </a:lnTo>
                <a:lnTo>
                  <a:pt x="880" y="4"/>
                </a:lnTo>
                <a:lnTo>
                  <a:pt x="889" y="2"/>
                </a:lnTo>
                <a:lnTo>
                  <a:pt x="901" y="0"/>
                </a:lnTo>
                <a:lnTo>
                  <a:pt x="914" y="0"/>
                </a:lnTo>
                <a:lnTo>
                  <a:pt x="924" y="6"/>
                </a:lnTo>
                <a:lnTo>
                  <a:pt x="935" y="12"/>
                </a:lnTo>
                <a:lnTo>
                  <a:pt x="947" y="20"/>
                </a:lnTo>
                <a:lnTo>
                  <a:pt x="960" y="27"/>
                </a:lnTo>
                <a:lnTo>
                  <a:pt x="976" y="37"/>
                </a:lnTo>
                <a:lnTo>
                  <a:pt x="993" y="48"/>
                </a:lnTo>
                <a:lnTo>
                  <a:pt x="1002" y="54"/>
                </a:lnTo>
                <a:lnTo>
                  <a:pt x="1012" y="60"/>
                </a:lnTo>
                <a:lnTo>
                  <a:pt x="1022" y="66"/>
                </a:lnTo>
                <a:lnTo>
                  <a:pt x="1033" y="73"/>
                </a:lnTo>
                <a:lnTo>
                  <a:pt x="1041" y="83"/>
                </a:lnTo>
                <a:lnTo>
                  <a:pt x="1050" y="91"/>
                </a:lnTo>
                <a:lnTo>
                  <a:pt x="1058" y="100"/>
                </a:lnTo>
                <a:lnTo>
                  <a:pt x="1064" y="108"/>
                </a:lnTo>
                <a:lnTo>
                  <a:pt x="1070" y="116"/>
                </a:lnTo>
                <a:lnTo>
                  <a:pt x="1075" y="123"/>
                </a:lnTo>
                <a:lnTo>
                  <a:pt x="1081" y="129"/>
                </a:lnTo>
                <a:lnTo>
                  <a:pt x="1087" y="137"/>
                </a:lnTo>
                <a:lnTo>
                  <a:pt x="1091" y="142"/>
                </a:lnTo>
                <a:lnTo>
                  <a:pt x="1095" y="148"/>
                </a:lnTo>
                <a:lnTo>
                  <a:pt x="1096" y="152"/>
                </a:lnTo>
                <a:lnTo>
                  <a:pt x="1100" y="158"/>
                </a:lnTo>
                <a:lnTo>
                  <a:pt x="1102" y="162"/>
                </a:lnTo>
                <a:lnTo>
                  <a:pt x="1102" y="166"/>
                </a:lnTo>
                <a:lnTo>
                  <a:pt x="1104" y="167"/>
                </a:lnTo>
                <a:lnTo>
                  <a:pt x="1104" y="171"/>
                </a:lnTo>
                <a:lnTo>
                  <a:pt x="1104" y="179"/>
                </a:lnTo>
                <a:lnTo>
                  <a:pt x="1102" y="187"/>
                </a:lnTo>
                <a:lnTo>
                  <a:pt x="1098" y="192"/>
                </a:lnTo>
                <a:lnTo>
                  <a:pt x="1095" y="198"/>
                </a:lnTo>
                <a:lnTo>
                  <a:pt x="1087" y="202"/>
                </a:lnTo>
                <a:lnTo>
                  <a:pt x="1083" y="204"/>
                </a:lnTo>
                <a:lnTo>
                  <a:pt x="1079" y="204"/>
                </a:lnTo>
                <a:lnTo>
                  <a:pt x="1075" y="206"/>
                </a:lnTo>
                <a:lnTo>
                  <a:pt x="1070" y="206"/>
                </a:lnTo>
                <a:lnTo>
                  <a:pt x="1064" y="206"/>
                </a:lnTo>
                <a:lnTo>
                  <a:pt x="1058" y="208"/>
                </a:lnTo>
                <a:lnTo>
                  <a:pt x="1045" y="212"/>
                </a:lnTo>
                <a:lnTo>
                  <a:pt x="1031" y="219"/>
                </a:lnTo>
                <a:lnTo>
                  <a:pt x="1023" y="223"/>
                </a:lnTo>
                <a:lnTo>
                  <a:pt x="1018" y="227"/>
                </a:lnTo>
                <a:lnTo>
                  <a:pt x="1012" y="233"/>
                </a:lnTo>
                <a:lnTo>
                  <a:pt x="1004" y="237"/>
                </a:lnTo>
                <a:lnTo>
                  <a:pt x="999" y="244"/>
                </a:lnTo>
                <a:lnTo>
                  <a:pt x="993" y="250"/>
                </a:lnTo>
                <a:lnTo>
                  <a:pt x="987" y="258"/>
                </a:lnTo>
                <a:lnTo>
                  <a:pt x="981" y="265"/>
                </a:lnTo>
                <a:lnTo>
                  <a:pt x="976" y="273"/>
                </a:lnTo>
                <a:lnTo>
                  <a:pt x="972" y="283"/>
                </a:lnTo>
                <a:lnTo>
                  <a:pt x="966" y="294"/>
                </a:lnTo>
                <a:lnTo>
                  <a:pt x="962" y="306"/>
                </a:lnTo>
                <a:lnTo>
                  <a:pt x="958" y="317"/>
                </a:lnTo>
                <a:lnTo>
                  <a:pt x="952" y="331"/>
                </a:lnTo>
                <a:lnTo>
                  <a:pt x="949" y="344"/>
                </a:lnTo>
                <a:lnTo>
                  <a:pt x="945" y="359"/>
                </a:lnTo>
                <a:lnTo>
                  <a:pt x="939" y="377"/>
                </a:lnTo>
                <a:lnTo>
                  <a:pt x="935" y="394"/>
                </a:lnTo>
                <a:lnTo>
                  <a:pt x="931" y="413"/>
                </a:lnTo>
                <a:lnTo>
                  <a:pt x="926" y="432"/>
                </a:lnTo>
                <a:lnTo>
                  <a:pt x="922" y="453"/>
                </a:lnTo>
                <a:lnTo>
                  <a:pt x="918" y="476"/>
                </a:lnTo>
                <a:lnTo>
                  <a:pt x="912" y="499"/>
                </a:lnTo>
                <a:lnTo>
                  <a:pt x="908" y="524"/>
                </a:lnTo>
                <a:lnTo>
                  <a:pt x="904" y="549"/>
                </a:lnTo>
                <a:lnTo>
                  <a:pt x="899" y="576"/>
                </a:lnTo>
                <a:lnTo>
                  <a:pt x="895" y="605"/>
                </a:lnTo>
                <a:lnTo>
                  <a:pt x="891" y="634"/>
                </a:lnTo>
                <a:lnTo>
                  <a:pt x="826" y="634"/>
                </a:lnTo>
                <a:lnTo>
                  <a:pt x="760" y="634"/>
                </a:lnTo>
                <a:lnTo>
                  <a:pt x="760" y="624"/>
                </a:lnTo>
                <a:lnTo>
                  <a:pt x="760" y="614"/>
                </a:lnTo>
                <a:lnTo>
                  <a:pt x="760" y="603"/>
                </a:lnTo>
                <a:lnTo>
                  <a:pt x="762" y="590"/>
                </a:lnTo>
                <a:lnTo>
                  <a:pt x="762" y="578"/>
                </a:lnTo>
                <a:lnTo>
                  <a:pt x="764" y="563"/>
                </a:lnTo>
                <a:lnTo>
                  <a:pt x="766" y="549"/>
                </a:lnTo>
                <a:lnTo>
                  <a:pt x="768" y="534"/>
                </a:lnTo>
                <a:lnTo>
                  <a:pt x="772" y="517"/>
                </a:lnTo>
                <a:lnTo>
                  <a:pt x="774" y="499"/>
                </a:lnTo>
                <a:lnTo>
                  <a:pt x="776" y="480"/>
                </a:lnTo>
                <a:lnTo>
                  <a:pt x="780" y="463"/>
                </a:lnTo>
                <a:lnTo>
                  <a:pt x="784" y="442"/>
                </a:lnTo>
                <a:lnTo>
                  <a:pt x="787" y="421"/>
                </a:lnTo>
                <a:lnTo>
                  <a:pt x="791" y="400"/>
                </a:lnTo>
                <a:lnTo>
                  <a:pt x="795" y="378"/>
                </a:lnTo>
                <a:lnTo>
                  <a:pt x="797" y="357"/>
                </a:lnTo>
                <a:lnTo>
                  <a:pt x="799" y="338"/>
                </a:lnTo>
                <a:lnTo>
                  <a:pt x="801" y="321"/>
                </a:lnTo>
                <a:lnTo>
                  <a:pt x="801" y="304"/>
                </a:lnTo>
                <a:lnTo>
                  <a:pt x="803" y="286"/>
                </a:lnTo>
                <a:lnTo>
                  <a:pt x="803" y="271"/>
                </a:lnTo>
                <a:lnTo>
                  <a:pt x="805" y="258"/>
                </a:lnTo>
                <a:lnTo>
                  <a:pt x="805" y="244"/>
                </a:lnTo>
                <a:lnTo>
                  <a:pt x="805" y="233"/>
                </a:lnTo>
                <a:lnTo>
                  <a:pt x="803" y="221"/>
                </a:lnTo>
                <a:lnTo>
                  <a:pt x="803" y="212"/>
                </a:lnTo>
                <a:lnTo>
                  <a:pt x="803" y="204"/>
                </a:lnTo>
                <a:lnTo>
                  <a:pt x="801" y="196"/>
                </a:lnTo>
                <a:lnTo>
                  <a:pt x="799" y="190"/>
                </a:lnTo>
                <a:lnTo>
                  <a:pt x="797" y="187"/>
                </a:lnTo>
                <a:lnTo>
                  <a:pt x="795" y="183"/>
                </a:lnTo>
                <a:lnTo>
                  <a:pt x="793" y="181"/>
                </a:lnTo>
                <a:lnTo>
                  <a:pt x="791" y="181"/>
                </a:lnTo>
                <a:lnTo>
                  <a:pt x="789" y="181"/>
                </a:lnTo>
                <a:lnTo>
                  <a:pt x="785" y="179"/>
                </a:lnTo>
                <a:lnTo>
                  <a:pt x="784" y="179"/>
                </a:lnTo>
                <a:lnTo>
                  <a:pt x="778" y="179"/>
                </a:lnTo>
                <a:lnTo>
                  <a:pt x="774" y="179"/>
                </a:lnTo>
                <a:lnTo>
                  <a:pt x="768" y="179"/>
                </a:lnTo>
                <a:lnTo>
                  <a:pt x="762" y="179"/>
                </a:lnTo>
                <a:lnTo>
                  <a:pt x="757" y="179"/>
                </a:lnTo>
                <a:lnTo>
                  <a:pt x="749" y="179"/>
                </a:lnTo>
                <a:lnTo>
                  <a:pt x="743" y="179"/>
                </a:lnTo>
                <a:lnTo>
                  <a:pt x="734" y="179"/>
                </a:lnTo>
                <a:lnTo>
                  <a:pt x="726" y="181"/>
                </a:lnTo>
                <a:lnTo>
                  <a:pt x="716" y="181"/>
                </a:lnTo>
                <a:lnTo>
                  <a:pt x="707" y="183"/>
                </a:lnTo>
                <a:lnTo>
                  <a:pt x="697" y="183"/>
                </a:lnTo>
                <a:lnTo>
                  <a:pt x="688" y="185"/>
                </a:lnTo>
                <a:lnTo>
                  <a:pt x="676" y="187"/>
                </a:lnTo>
                <a:lnTo>
                  <a:pt x="665" y="189"/>
                </a:lnTo>
                <a:lnTo>
                  <a:pt x="653" y="190"/>
                </a:lnTo>
                <a:lnTo>
                  <a:pt x="640" y="192"/>
                </a:lnTo>
                <a:lnTo>
                  <a:pt x="626" y="194"/>
                </a:lnTo>
                <a:lnTo>
                  <a:pt x="613" y="196"/>
                </a:lnTo>
                <a:lnTo>
                  <a:pt x="599" y="198"/>
                </a:lnTo>
                <a:lnTo>
                  <a:pt x="584" y="200"/>
                </a:lnTo>
                <a:lnTo>
                  <a:pt x="569" y="204"/>
                </a:lnTo>
                <a:lnTo>
                  <a:pt x="553" y="206"/>
                </a:lnTo>
                <a:lnTo>
                  <a:pt x="538" y="210"/>
                </a:lnTo>
                <a:lnTo>
                  <a:pt x="521" y="213"/>
                </a:lnTo>
                <a:lnTo>
                  <a:pt x="503" y="215"/>
                </a:lnTo>
                <a:lnTo>
                  <a:pt x="486" y="219"/>
                </a:lnTo>
                <a:lnTo>
                  <a:pt x="450" y="227"/>
                </a:lnTo>
                <a:lnTo>
                  <a:pt x="413" y="233"/>
                </a:lnTo>
                <a:lnTo>
                  <a:pt x="377" y="238"/>
                </a:lnTo>
                <a:lnTo>
                  <a:pt x="344" y="242"/>
                </a:lnTo>
                <a:lnTo>
                  <a:pt x="309" y="248"/>
                </a:lnTo>
                <a:lnTo>
                  <a:pt x="279" y="252"/>
                </a:lnTo>
                <a:lnTo>
                  <a:pt x="246" y="254"/>
                </a:lnTo>
                <a:lnTo>
                  <a:pt x="215" y="258"/>
                </a:lnTo>
                <a:lnTo>
                  <a:pt x="187" y="260"/>
                </a:lnTo>
                <a:lnTo>
                  <a:pt x="158" y="263"/>
                </a:lnTo>
                <a:lnTo>
                  <a:pt x="129" y="265"/>
                </a:lnTo>
                <a:lnTo>
                  <a:pt x="102" y="265"/>
                </a:lnTo>
                <a:lnTo>
                  <a:pt x="75" y="267"/>
                </a:lnTo>
                <a:lnTo>
                  <a:pt x="50" y="267"/>
                </a:lnTo>
                <a:lnTo>
                  <a:pt x="23" y="267"/>
                </a:lnTo>
                <a:lnTo>
                  <a:pt x="0" y="269"/>
                </a:lnTo>
                <a:lnTo>
                  <a:pt x="0" y="17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34"/>
          <p:cNvSpPr/>
          <p:nvPr/>
        </p:nvSpPr>
        <p:spPr>
          <a:xfrm>
            <a:off x="7192800" y="3184560"/>
            <a:ext cx="113040" cy="433440"/>
          </a:xfrm>
          <a:custGeom>
            <a:avLst/>
            <a:gdLst/>
            <a:ahLst/>
            <a:rect l="l" t="t" r="r" b="b"/>
            <a:pathLst>
              <a:path w="142" h="547">
                <a:moveTo>
                  <a:pt x="142" y="36"/>
                </a:moveTo>
                <a:lnTo>
                  <a:pt x="138" y="61"/>
                </a:lnTo>
                <a:lnTo>
                  <a:pt x="134" y="86"/>
                </a:lnTo>
                <a:lnTo>
                  <a:pt x="132" y="111"/>
                </a:lnTo>
                <a:lnTo>
                  <a:pt x="128" y="136"/>
                </a:lnTo>
                <a:lnTo>
                  <a:pt x="127" y="159"/>
                </a:lnTo>
                <a:lnTo>
                  <a:pt x="125" y="182"/>
                </a:lnTo>
                <a:lnTo>
                  <a:pt x="121" y="203"/>
                </a:lnTo>
                <a:lnTo>
                  <a:pt x="119" y="224"/>
                </a:lnTo>
                <a:lnTo>
                  <a:pt x="117" y="245"/>
                </a:lnTo>
                <a:lnTo>
                  <a:pt x="115" y="266"/>
                </a:lnTo>
                <a:lnTo>
                  <a:pt x="113" y="286"/>
                </a:lnTo>
                <a:lnTo>
                  <a:pt x="111" y="305"/>
                </a:lnTo>
                <a:lnTo>
                  <a:pt x="109" y="322"/>
                </a:lnTo>
                <a:lnTo>
                  <a:pt x="107" y="339"/>
                </a:lnTo>
                <a:lnTo>
                  <a:pt x="105" y="357"/>
                </a:lnTo>
                <a:lnTo>
                  <a:pt x="105" y="374"/>
                </a:lnTo>
                <a:lnTo>
                  <a:pt x="104" y="389"/>
                </a:lnTo>
                <a:lnTo>
                  <a:pt x="102" y="403"/>
                </a:lnTo>
                <a:lnTo>
                  <a:pt x="102" y="418"/>
                </a:lnTo>
                <a:lnTo>
                  <a:pt x="100" y="431"/>
                </a:lnTo>
                <a:lnTo>
                  <a:pt x="100" y="445"/>
                </a:lnTo>
                <a:lnTo>
                  <a:pt x="98" y="456"/>
                </a:lnTo>
                <a:lnTo>
                  <a:pt x="98" y="470"/>
                </a:lnTo>
                <a:lnTo>
                  <a:pt x="96" y="479"/>
                </a:lnTo>
                <a:lnTo>
                  <a:pt x="96" y="491"/>
                </a:lnTo>
                <a:lnTo>
                  <a:pt x="96" y="501"/>
                </a:lnTo>
                <a:lnTo>
                  <a:pt x="96" y="510"/>
                </a:lnTo>
                <a:lnTo>
                  <a:pt x="94" y="518"/>
                </a:lnTo>
                <a:lnTo>
                  <a:pt x="94" y="527"/>
                </a:lnTo>
                <a:lnTo>
                  <a:pt x="94" y="533"/>
                </a:lnTo>
                <a:lnTo>
                  <a:pt x="94" y="541"/>
                </a:lnTo>
                <a:lnTo>
                  <a:pt x="94" y="547"/>
                </a:lnTo>
                <a:lnTo>
                  <a:pt x="0" y="547"/>
                </a:lnTo>
                <a:lnTo>
                  <a:pt x="0" y="525"/>
                </a:lnTo>
                <a:lnTo>
                  <a:pt x="0" y="502"/>
                </a:lnTo>
                <a:lnTo>
                  <a:pt x="0" y="478"/>
                </a:lnTo>
                <a:lnTo>
                  <a:pt x="0" y="451"/>
                </a:lnTo>
                <a:lnTo>
                  <a:pt x="0" y="422"/>
                </a:lnTo>
                <a:lnTo>
                  <a:pt x="0" y="393"/>
                </a:lnTo>
                <a:lnTo>
                  <a:pt x="0" y="360"/>
                </a:lnTo>
                <a:lnTo>
                  <a:pt x="0" y="328"/>
                </a:lnTo>
                <a:lnTo>
                  <a:pt x="0" y="291"/>
                </a:lnTo>
                <a:lnTo>
                  <a:pt x="0" y="255"/>
                </a:lnTo>
                <a:lnTo>
                  <a:pt x="0" y="217"/>
                </a:lnTo>
                <a:lnTo>
                  <a:pt x="0" y="176"/>
                </a:lnTo>
                <a:lnTo>
                  <a:pt x="0" y="134"/>
                </a:lnTo>
                <a:lnTo>
                  <a:pt x="0" y="92"/>
                </a:lnTo>
                <a:lnTo>
                  <a:pt x="0" y="46"/>
                </a:lnTo>
                <a:lnTo>
                  <a:pt x="0" y="0"/>
                </a:lnTo>
                <a:lnTo>
                  <a:pt x="71" y="17"/>
                </a:lnTo>
                <a:lnTo>
                  <a:pt x="142" y="3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5"/>
          <p:cNvSpPr/>
          <p:nvPr/>
        </p:nvSpPr>
        <p:spPr>
          <a:xfrm>
            <a:off x="6900840" y="3508200"/>
            <a:ext cx="754200" cy="196920"/>
          </a:xfrm>
          <a:custGeom>
            <a:avLst/>
            <a:gdLst/>
            <a:ahLst/>
            <a:rect l="l" t="t" r="r" b="b"/>
            <a:pathLst>
              <a:path w="951" h="248">
                <a:moveTo>
                  <a:pt x="0" y="127"/>
                </a:moveTo>
                <a:lnTo>
                  <a:pt x="8" y="125"/>
                </a:lnTo>
                <a:lnTo>
                  <a:pt x="16" y="125"/>
                </a:lnTo>
                <a:lnTo>
                  <a:pt x="25" y="125"/>
                </a:lnTo>
                <a:lnTo>
                  <a:pt x="35" y="125"/>
                </a:lnTo>
                <a:lnTo>
                  <a:pt x="44" y="125"/>
                </a:lnTo>
                <a:lnTo>
                  <a:pt x="56" y="123"/>
                </a:lnTo>
                <a:lnTo>
                  <a:pt x="67" y="123"/>
                </a:lnTo>
                <a:lnTo>
                  <a:pt x="79" y="121"/>
                </a:lnTo>
                <a:lnTo>
                  <a:pt x="91" y="121"/>
                </a:lnTo>
                <a:lnTo>
                  <a:pt x="104" y="119"/>
                </a:lnTo>
                <a:lnTo>
                  <a:pt x="117" y="117"/>
                </a:lnTo>
                <a:lnTo>
                  <a:pt x="131" y="116"/>
                </a:lnTo>
                <a:lnTo>
                  <a:pt x="146" y="114"/>
                </a:lnTo>
                <a:lnTo>
                  <a:pt x="162" y="112"/>
                </a:lnTo>
                <a:lnTo>
                  <a:pt x="177" y="110"/>
                </a:lnTo>
                <a:lnTo>
                  <a:pt x="192" y="108"/>
                </a:lnTo>
                <a:lnTo>
                  <a:pt x="208" y="106"/>
                </a:lnTo>
                <a:lnTo>
                  <a:pt x="225" y="104"/>
                </a:lnTo>
                <a:lnTo>
                  <a:pt x="242" y="100"/>
                </a:lnTo>
                <a:lnTo>
                  <a:pt x="261" y="98"/>
                </a:lnTo>
                <a:lnTo>
                  <a:pt x="298" y="93"/>
                </a:lnTo>
                <a:lnTo>
                  <a:pt x="336" y="85"/>
                </a:lnTo>
                <a:lnTo>
                  <a:pt x="377" y="79"/>
                </a:lnTo>
                <a:lnTo>
                  <a:pt x="421" y="71"/>
                </a:lnTo>
                <a:lnTo>
                  <a:pt x="465" y="62"/>
                </a:lnTo>
                <a:lnTo>
                  <a:pt x="511" y="54"/>
                </a:lnTo>
                <a:lnTo>
                  <a:pt x="534" y="50"/>
                </a:lnTo>
                <a:lnTo>
                  <a:pt x="555" y="46"/>
                </a:lnTo>
                <a:lnTo>
                  <a:pt x="578" y="43"/>
                </a:lnTo>
                <a:lnTo>
                  <a:pt x="599" y="41"/>
                </a:lnTo>
                <a:lnTo>
                  <a:pt x="618" y="37"/>
                </a:lnTo>
                <a:lnTo>
                  <a:pt x="640" y="33"/>
                </a:lnTo>
                <a:lnTo>
                  <a:pt x="659" y="31"/>
                </a:lnTo>
                <a:lnTo>
                  <a:pt x="678" y="27"/>
                </a:lnTo>
                <a:lnTo>
                  <a:pt x="695" y="25"/>
                </a:lnTo>
                <a:lnTo>
                  <a:pt x="713" y="23"/>
                </a:lnTo>
                <a:lnTo>
                  <a:pt x="730" y="20"/>
                </a:lnTo>
                <a:lnTo>
                  <a:pt x="745" y="18"/>
                </a:lnTo>
                <a:lnTo>
                  <a:pt x="760" y="16"/>
                </a:lnTo>
                <a:lnTo>
                  <a:pt x="776" y="14"/>
                </a:lnTo>
                <a:lnTo>
                  <a:pt x="789" y="12"/>
                </a:lnTo>
                <a:lnTo>
                  <a:pt x="803" y="10"/>
                </a:lnTo>
                <a:lnTo>
                  <a:pt x="816" y="8"/>
                </a:lnTo>
                <a:lnTo>
                  <a:pt x="828" y="6"/>
                </a:lnTo>
                <a:lnTo>
                  <a:pt x="839" y="6"/>
                </a:lnTo>
                <a:lnTo>
                  <a:pt x="851" y="4"/>
                </a:lnTo>
                <a:lnTo>
                  <a:pt x="860" y="4"/>
                </a:lnTo>
                <a:lnTo>
                  <a:pt x="870" y="2"/>
                </a:lnTo>
                <a:lnTo>
                  <a:pt x="878" y="2"/>
                </a:lnTo>
                <a:lnTo>
                  <a:pt x="887" y="2"/>
                </a:lnTo>
                <a:lnTo>
                  <a:pt x="893" y="0"/>
                </a:lnTo>
                <a:lnTo>
                  <a:pt x="901" y="0"/>
                </a:lnTo>
                <a:lnTo>
                  <a:pt x="906" y="0"/>
                </a:lnTo>
                <a:lnTo>
                  <a:pt x="912" y="0"/>
                </a:lnTo>
                <a:lnTo>
                  <a:pt x="916" y="2"/>
                </a:lnTo>
                <a:lnTo>
                  <a:pt x="920" y="2"/>
                </a:lnTo>
                <a:lnTo>
                  <a:pt x="924" y="2"/>
                </a:lnTo>
                <a:lnTo>
                  <a:pt x="928" y="4"/>
                </a:lnTo>
                <a:lnTo>
                  <a:pt x="935" y="14"/>
                </a:lnTo>
                <a:lnTo>
                  <a:pt x="939" y="18"/>
                </a:lnTo>
                <a:lnTo>
                  <a:pt x="943" y="23"/>
                </a:lnTo>
                <a:lnTo>
                  <a:pt x="945" y="27"/>
                </a:lnTo>
                <a:lnTo>
                  <a:pt x="947" y="31"/>
                </a:lnTo>
                <a:lnTo>
                  <a:pt x="949" y="37"/>
                </a:lnTo>
                <a:lnTo>
                  <a:pt x="951" y="41"/>
                </a:lnTo>
                <a:lnTo>
                  <a:pt x="949" y="45"/>
                </a:lnTo>
                <a:lnTo>
                  <a:pt x="947" y="50"/>
                </a:lnTo>
                <a:lnTo>
                  <a:pt x="945" y="54"/>
                </a:lnTo>
                <a:lnTo>
                  <a:pt x="943" y="60"/>
                </a:lnTo>
                <a:lnTo>
                  <a:pt x="939" y="64"/>
                </a:lnTo>
                <a:lnTo>
                  <a:pt x="935" y="68"/>
                </a:lnTo>
                <a:lnTo>
                  <a:pt x="928" y="77"/>
                </a:lnTo>
                <a:lnTo>
                  <a:pt x="908" y="87"/>
                </a:lnTo>
                <a:lnTo>
                  <a:pt x="899" y="91"/>
                </a:lnTo>
                <a:lnTo>
                  <a:pt x="891" y="94"/>
                </a:lnTo>
                <a:lnTo>
                  <a:pt x="881" y="98"/>
                </a:lnTo>
                <a:lnTo>
                  <a:pt x="872" y="100"/>
                </a:lnTo>
                <a:lnTo>
                  <a:pt x="864" y="102"/>
                </a:lnTo>
                <a:lnTo>
                  <a:pt x="855" y="102"/>
                </a:lnTo>
                <a:lnTo>
                  <a:pt x="853" y="102"/>
                </a:lnTo>
                <a:lnTo>
                  <a:pt x="849" y="102"/>
                </a:lnTo>
                <a:lnTo>
                  <a:pt x="845" y="102"/>
                </a:lnTo>
                <a:lnTo>
                  <a:pt x="841" y="102"/>
                </a:lnTo>
                <a:lnTo>
                  <a:pt x="837" y="102"/>
                </a:lnTo>
                <a:lnTo>
                  <a:pt x="832" y="104"/>
                </a:lnTo>
                <a:lnTo>
                  <a:pt x="828" y="104"/>
                </a:lnTo>
                <a:lnTo>
                  <a:pt x="822" y="104"/>
                </a:lnTo>
                <a:lnTo>
                  <a:pt x="814" y="106"/>
                </a:lnTo>
                <a:lnTo>
                  <a:pt x="808" y="106"/>
                </a:lnTo>
                <a:lnTo>
                  <a:pt x="801" y="106"/>
                </a:lnTo>
                <a:lnTo>
                  <a:pt x="793" y="108"/>
                </a:lnTo>
                <a:lnTo>
                  <a:pt x="784" y="108"/>
                </a:lnTo>
                <a:lnTo>
                  <a:pt x="776" y="110"/>
                </a:lnTo>
                <a:lnTo>
                  <a:pt x="766" y="112"/>
                </a:lnTo>
                <a:lnTo>
                  <a:pt x="757" y="112"/>
                </a:lnTo>
                <a:lnTo>
                  <a:pt x="747" y="114"/>
                </a:lnTo>
                <a:lnTo>
                  <a:pt x="736" y="116"/>
                </a:lnTo>
                <a:lnTo>
                  <a:pt x="724" y="117"/>
                </a:lnTo>
                <a:lnTo>
                  <a:pt x="713" y="119"/>
                </a:lnTo>
                <a:lnTo>
                  <a:pt x="701" y="121"/>
                </a:lnTo>
                <a:lnTo>
                  <a:pt x="688" y="123"/>
                </a:lnTo>
                <a:lnTo>
                  <a:pt x="674" y="125"/>
                </a:lnTo>
                <a:lnTo>
                  <a:pt x="661" y="127"/>
                </a:lnTo>
                <a:lnTo>
                  <a:pt x="647" y="129"/>
                </a:lnTo>
                <a:lnTo>
                  <a:pt x="632" y="133"/>
                </a:lnTo>
                <a:lnTo>
                  <a:pt x="617" y="135"/>
                </a:lnTo>
                <a:lnTo>
                  <a:pt x="601" y="137"/>
                </a:lnTo>
                <a:lnTo>
                  <a:pt x="586" y="141"/>
                </a:lnTo>
                <a:lnTo>
                  <a:pt x="569" y="144"/>
                </a:lnTo>
                <a:lnTo>
                  <a:pt x="551" y="146"/>
                </a:lnTo>
                <a:lnTo>
                  <a:pt x="534" y="150"/>
                </a:lnTo>
                <a:lnTo>
                  <a:pt x="463" y="164"/>
                </a:lnTo>
                <a:lnTo>
                  <a:pt x="394" y="177"/>
                </a:lnTo>
                <a:lnTo>
                  <a:pt x="325" y="190"/>
                </a:lnTo>
                <a:lnTo>
                  <a:pt x="258" y="204"/>
                </a:lnTo>
                <a:lnTo>
                  <a:pt x="192" y="215"/>
                </a:lnTo>
                <a:lnTo>
                  <a:pt x="127" y="227"/>
                </a:lnTo>
                <a:lnTo>
                  <a:pt x="62" y="238"/>
                </a:lnTo>
                <a:lnTo>
                  <a:pt x="0" y="248"/>
                </a:lnTo>
                <a:lnTo>
                  <a:pt x="0" y="187"/>
                </a:lnTo>
                <a:lnTo>
                  <a:pt x="0" y="127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6"/>
          <p:cNvSpPr/>
          <p:nvPr/>
        </p:nvSpPr>
        <p:spPr>
          <a:xfrm>
            <a:off x="6983280" y="3906720"/>
            <a:ext cx="114480" cy="1024200"/>
          </a:xfrm>
          <a:custGeom>
            <a:avLst/>
            <a:gdLst/>
            <a:ahLst/>
            <a:rect l="l" t="t" r="r" b="b"/>
            <a:pathLst>
              <a:path w="144" h="1292">
                <a:moveTo>
                  <a:pt x="11" y="879"/>
                </a:moveTo>
                <a:lnTo>
                  <a:pt x="15" y="843"/>
                </a:lnTo>
                <a:lnTo>
                  <a:pt x="19" y="804"/>
                </a:lnTo>
                <a:lnTo>
                  <a:pt x="21" y="764"/>
                </a:lnTo>
                <a:lnTo>
                  <a:pt x="23" y="724"/>
                </a:lnTo>
                <a:lnTo>
                  <a:pt x="27" y="681"/>
                </a:lnTo>
                <a:lnTo>
                  <a:pt x="29" y="639"/>
                </a:lnTo>
                <a:lnTo>
                  <a:pt x="33" y="595"/>
                </a:lnTo>
                <a:lnTo>
                  <a:pt x="36" y="551"/>
                </a:lnTo>
                <a:lnTo>
                  <a:pt x="40" y="509"/>
                </a:lnTo>
                <a:lnTo>
                  <a:pt x="42" y="470"/>
                </a:lnTo>
                <a:lnTo>
                  <a:pt x="44" y="451"/>
                </a:lnTo>
                <a:lnTo>
                  <a:pt x="44" y="434"/>
                </a:lnTo>
                <a:lnTo>
                  <a:pt x="46" y="415"/>
                </a:lnTo>
                <a:lnTo>
                  <a:pt x="46" y="397"/>
                </a:lnTo>
                <a:lnTo>
                  <a:pt x="46" y="382"/>
                </a:lnTo>
                <a:lnTo>
                  <a:pt x="48" y="365"/>
                </a:lnTo>
                <a:lnTo>
                  <a:pt x="48" y="349"/>
                </a:lnTo>
                <a:lnTo>
                  <a:pt x="48" y="334"/>
                </a:lnTo>
                <a:lnTo>
                  <a:pt x="48" y="321"/>
                </a:lnTo>
                <a:lnTo>
                  <a:pt x="48" y="307"/>
                </a:lnTo>
                <a:lnTo>
                  <a:pt x="48" y="294"/>
                </a:lnTo>
                <a:lnTo>
                  <a:pt x="48" y="282"/>
                </a:lnTo>
                <a:lnTo>
                  <a:pt x="44" y="259"/>
                </a:lnTo>
                <a:lnTo>
                  <a:pt x="38" y="234"/>
                </a:lnTo>
                <a:lnTo>
                  <a:pt x="34" y="211"/>
                </a:lnTo>
                <a:lnTo>
                  <a:pt x="31" y="184"/>
                </a:lnTo>
                <a:lnTo>
                  <a:pt x="25" y="160"/>
                </a:lnTo>
                <a:lnTo>
                  <a:pt x="21" y="135"/>
                </a:lnTo>
                <a:lnTo>
                  <a:pt x="15" y="112"/>
                </a:lnTo>
                <a:lnTo>
                  <a:pt x="11" y="89"/>
                </a:lnTo>
                <a:lnTo>
                  <a:pt x="9" y="77"/>
                </a:lnTo>
                <a:lnTo>
                  <a:pt x="8" y="65"/>
                </a:lnTo>
                <a:lnTo>
                  <a:pt x="6" y="56"/>
                </a:lnTo>
                <a:lnTo>
                  <a:pt x="6" y="46"/>
                </a:lnTo>
                <a:lnTo>
                  <a:pt x="6" y="39"/>
                </a:lnTo>
                <a:lnTo>
                  <a:pt x="4" y="31"/>
                </a:lnTo>
                <a:lnTo>
                  <a:pt x="6" y="23"/>
                </a:lnTo>
                <a:lnTo>
                  <a:pt x="6" y="18"/>
                </a:lnTo>
                <a:lnTo>
                  <a:pt x="8" y="12"/>
                </a:lnTo>
                <a:lnTo>
                  <a:pt x="9" y="8"/>
                </a:lnTo>
                <a:lnTo>
                  <a:pt x="11" y="4"/>
                </a:lnTo>
                <a:lnTo>
                  <a:pt x="15" y="2"/>
                </a:lnTo>
                <a:lnTo>
                  <a:pt x="19" y="0"/>
                </a:lnTo>
                <a:lnTo>
                  <a:pt x="23" y="0"/>
                </a:lnTo>
                <a:lnTo>
                  <a:pt x="29" y="0"/>
                </a:lnTo>
                <a:lnTo>
                  <a:pt x="36" y="2"/>
                </a:lnTo>
                <a:lnTo>
                  <a:pt x="61" y="12"/>
                </a:lnTo>
                <a:lnTo>
                  <a:pt x="75" y="16"/>
                </a:lnTo>
                <a:lnTo>
                  <a:pt x="90" y="19"/>
                </a:lnTo>
                <a:lnTo>
                  <a:pt x="104" y="23"/>
                </a:lnTo>
                <a:lnTo>
                  <a:pt x="117" y="25"/>
                </a:lnTo>
                <a:lnTo>
                  <a:pt x="130" y="27"/>
                </a:lnTo>
                <a:lnTo>
                  <a:pt x="144" y="27"/>
                </a:lnTo>
                <a:lnTo>
                  <a:pt x="142" y="65"/>
                </a:lnTo>
                <a:lnTo>
                  <a:pt x="142" y="104"/>
                </a:lnTo>
                <a:lnTo>
                  <a:pt x="142" y="142"/>
                </a:lnTo>
                <a:lnTo>
                  <a:pt x="140" y="179"/>
                </a:lnTo>
                <a:lnTo>
                  <a:pt x="140" y="217"/>
                </a:lnTo>
                <a:lnTo>
                  <a:pt x="140" y="252"/>
                </a:lnTo>
                <a:lnTo>
                  <a:pt x="140" y="288"/>
                </a:lnTo>
                <a:lnTo>
                  <a:pt x="138" y="323"/>
                </a:lnTo>
                <a:lnTo>
                  <a:pt x="138" y="355"/>
                </a:lnTo>
                <a:lnTo>
                  <a:pt x="138" y="390"/>
                </a:lnTo>
                <a:lnTo>
                  <a:pt x="136" y="422"/>
                </a:lnTo>
                <a:lnTo>
                  <a:pt x="136" y="455"/>
                </a:lnTo>
                <a:lnTo>
                  <a:pt x="136" y="486"/>
                </a:lnTo>
                <a:lnTo>
                  <a:pt x="134" y="516"/>
                </a:lnTo>
                <a:lnTo>
                  <a:pt x="134" y="547"/>
                </a:lnTo>
                <a:lnTo>
                  <a:pt x="134" y="578"/>
                </a:lnTo>
                <a:lnTo>
                  <a:pt x="134" y="607"/>
                </a:lnTo>
                <a:lnTo>
                  <a:pt x="132" y="635"/>
                </a:lnTo>
                <a:lnTo>
                  <a:pt x="132" y="662"/>
                </a:lnTo>
                <a:lnTo>
                  <a:pt x="132" y="691"/>
                </a:lnTo>
                <a:lnTo>
                  <a:pt x="130" y="716"/>
                </a:lnTo>
                <a:lnTo>
                  <a:pt x="130" y="743"/>
                </a:lnTo>
                <a:lnTo>
                  <a:pt x="130" y="768"/>
                </a:lnTo>
                <a:lnTo>
                  <a:pt x="128" y="793"/>
                </a:lnTo>
                <a:lnTo>
                  <a:pt x="128" y="818"/>
                </a:lnTo>
                <a:lnTo>
                  <a:pt x="128" y="841"/>
                </a:lnTo>
                <a:lnTo>
                  <a:pt x="127" y="864"/>
                </a:lnTo>
                <a:lnTo>
                  <a:pt x="127" y="887"/>
                </a:lnTo>
                <a:lnTo>
                  <a:pt x="127" y="908"/>
                </a:lnTo>
                <a:lnTo>
                  <a:pt x="125" y="929"/>
                </a:lnTo>
                <a:lnTo>
                  <a:pt x="125" y="950"/>
                </a:lnTo>
                <a:lnTo>
                  <a:pt x="123" y="969"/>
                </a:lnTo>
                <a:lnTo>
                  <a:pt x="123" y="988"/>
                </a:lnTo>
                <a:lnTo>
                  <a:pt x="123" y="1008"/>
                </a:lnTo>
                <a:lnTo>
                  <a:pt x="121" y="1027"/>
                </a:lnTo>
                <a:lnTo>
                  <a:pt x="121" y="1044"/>
                </a:lnTo>
                <a:lnTo>
                  <a:pt x="121" y="1061"/>
                </a:lnTo>
                <a:lnTo>
                  <a:pt x="119" y="1077"/>
                </a:lnTo>
                <a:lnTo>
                  <a:pt x="119" y="1092"/>
                </a:lnTo>
                <a:lnTo>
                  <a:pt x="117" y="1107"/>
                </a:lnTo>
                <a:lnTo>
                  <a:pt x="117" y="1123"/>
                </a:lnTo>
                <a:lnTo>
                  <a:pt x="115" y="1136"/>
                </a:lnTo>
                <a:lnTo>
                  <a:pt x="115" y="1150"/>
                </a:lnTo>
                <a:lnTo>
                  <a:pt x="115" y="1163"/>
                </a:lnTo>
                <a:lnTo>
                  <a:pt x="113" y="1175"/>
                </a:lnTo>
                <a:lnTo>
                  <a:pt x="113" y="1186"/>
                </a:lnTo>
                <a:lnTo>
                  <a:pt x="111" y="1198"/>
                </a:lnTo>
                <a:lnTo>
                  <a:pt x="111" y="1207"/>
                </a:lnTo>
                <a:lnTo>
                  <a:pt x="109" y="1217"/>
                </a:lnTo>
                <a:lnTo>
                  <a:pt x="109" y="1226"/>
                </a:lnTo>
                <a:lnTo>
                  <a:pt x="107" y="1236"/>
                </a:lnTo>
                <a:lnTo>
                  <a:pt x="107" y="1244"/>
                </a:lnTo>
                <a:lnTo>
                  <a:pt x="105" y="1251"/>
                </a:lnTo>
                <a:lnTo>
                  <a:pt x="105" y="1257"/>
                </a:lnTo>
                <a:lnTo>
                  <a:pt x="104" y="1263"/>
                </a:lnTo>
                <a:lnTo>
                  <a:pt x="104" y="1269"/>
                </a:lnTo>
                <a:lnTo>
                  <a:pt x="102" y="1274"/>
                </a:lnTo>
                <a:lnTo>
                  <a:pt x="102" y="1278"/>
                </a:lnTo>
                <a:lnTo>
                  <a:pt x="100" y="1282"/>
                </a:lnTo>
                <a:lnTo>
                  <a:pt x="100" y="1286"/>
                </a:lnTo>
                <a:lnTo>
                  <a:pt x="98" y="1288"/>
                </a:lnTo>
                <a:lnTo>
                  <a:pt x="98" y="1290"/>
                </a:lnTo>
                <a:lnTo>
                  <a:pt x="96" y="1292"/>
                </a:lnTo>
                <a:lnTo>
                  <a:pt x="94" y="1292"/>
                </a:lnTo>
                <a:lnTo>
                  <a:pt x="90" y="1292"/>
                </a:lnTo>
                <a:lnTo>
                  <a:pt x="86" y="1292"/>
                </a:lnTo>
                <a:lnTo>
                  <a:pt x="82" y="1288"/>
                </a:lnTo>
                <a:lnTo>
                  <a:pt x="77" y="1286"/>
                </a:lnTo>
                <a:lnTo>
                  <a:pt x="73" y="1282"/>
                </a:lnTo>
                <a:lnTo>
                  <a:pt x="69" y="1276"/>
                </a:lnTo>
                <a:lnTo>
                  <a:pt x="65" y="1270"/>
                </a:lnTo>
                <a:lnTo>
                  <a:pt x="61" y="1263"/>
                </a:lnTo>
                <a:lnTo>
                  <a:pt x="57" y="1255"/>
                </a:lnTo>
                <a:lnTo>
                  <a:pt x="54" y="1247"/>
                </a:lnTo>
                <a:lnTo>
                  <a:pt x="50" y="1236"/>
                </a:lnTo>
                <a:lnTo>
                  <a:pt x="46" y="1226"/>
                </a:lnTo>
                <a:lnTo>
                  <a:pt x="44" y="1213"/>
                </a:lnTo>
                <a:lnTo>
                  <a:pt x="40" y="1201"/>
                </a:lnTo>
                <a:lnTo>
                  <a:pt x="38" y="1186"/>
                </a:lnTo>
                <a:lnTo>
                  <a:pt x="36" y="1171"/>
                </a:lnTo>
                <a:lnTo>
                  <a:pt x="31" y="1157"/>
                </a:lnTo>
                <a:lnTo>
                  <a:pt x="27" y="1144"/>
                </a:lnTo>
                <a:lnTo>
                  <a:pt x="23" y="1132"/>
                </a:lnTo>
                <a:lnTo>
                  <a:pt x="21" y="1121"/>
                </a:lnTo>
                <a:lnTo>
                  <a:pt x="17" y="1109"/>
                </a:lnTo>
                <a:lnTo>
                  <a:pt x="13" y="1100"/>
                </a:lnTo>
                <a:lnTo>
                  <a:pt x="11" y="1090"/>
                </a:lnTo>
                <a:lnTo>
                  <a:pt x="9" y="1081"/>
                </a:lnTo>
                <a:lnTo>
                  <a:pt x="8" y="1073"/>
                </a:lnTo>
                <a:lnTo>
                  <a:pt x="6" y="1065"/>
                </a:lnTo>
                <a:lnTo>
                  <a:pt x="4" y="1059"/>
                </a:lnTo>
                <a:lnTo>
                  <a:pt x="2" y="1054"/>
                </a:lnTo>
                <a:lnTo>
                  <a:pt x="2" y="1048"/>
                </a:lnTo>
                <a:lnTo>
                  <a:pt x="0" y="1044"/>
                </a:lnTo>
                <a:lnTo>
                  <a:pt x="0" y="1040"/>
                </a:lnTo>
                <a:lnTo>
                  <a:pt x="0" y="1038"/>
                </a:lnTo>
                <a:lnTo>
                  <a:pt x="0" y="1034"/>
                </a:lnTo>
                <a:lnTo>
                  <a:pt x="0" y="1031"/>
                </a:lnTo>
                <a:lnTo>
                  <a:pt x="0" y="1027"/>
                </a:lnTo>
                <a:lnTo>
                  <a:pt x="0" y="1021"/>
                </a:lnTo>
                <a:lnTo>
                  <a:pt x="0" y="1015"/>
                </a:lnTo>
                <a:lnTo>
                  <a:pt x="0" y="1008"/>
                </a:lnTo>
                <a:lnTo>
                  <a:pt x="2" y="1000"/>
                </a:lnTo>
                <a:lnTo>
                  <a:pt x="2" y="990"/>
                </a:lnTo>
                <a:lnTo>
                  <a:pt x="2" y="979"/>
                </a:lnTo>
                <a:lnTo>
                  <a:pt x="2" y="969"/>
                </a:lnTo>
                <a:lnTo>
                  <a:pt x="4" y="956"/>
                </a:lnTo>
                <a:lnTo>
                  <a:pt x="6" y="942"/>
                </a:lnTo>
                <a:lnTo>
                  <a:pt x="6" y="929"/>
                </a:lnTo>
                <a:lnTo>
                  <a:pt x="8" y="914"/>
                </a:lnTo>
                <a:lnTo>
                  <a:pt x="9" y="896"/>
                </a:lnTo>
                <a:lnTo>
                  <a:pt x="11" y="87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7"/>
          <p:cNvSpPr/>
          <p:nvPr/>
        </p:nvSpPr>
        <p:spPr>
          <a:xfrm>
            <a:off x="7051680" y="3821040"/>
            <a:ext cx="696960" cy="1198800"/>
          </a:xfrm>
          <a:custGeom>
            <a:avLst/>
            <a:gdLst/>
            <a:ahLst/>
            <a:rect l="l" t="t" r="r" b="b"/>
            <a:pathLst>
              <a:path w="880" h="1510">
                <a:moveTo>
                  <a:pt x="772" y="61"/>
                </a:moveTo>
                <a:lnTo>
                  <a:pt x="784" y="69"/>
                </a:lnTo>
                <a:lnTo>
                  <a:pt x="793" y="75"/>
                </a:lnTo>
                <a:lnTo>
                  <a:pt x="803" y="80"/>
                </a:lnTo>
                <a:lnTo>
                  <a:pt x="812" y="86"/>
                </a:lnTo>
                <a:lnTo>
                  <a:pt x="820" y="92"/>
                </a:lnTo>
                <a:lnTo>
                  <a:pt x="828" y="98"/>
                </a:lnTo>
                <a:lnTo>
                  <a:pt x="835" y="101"/>
                </a:lnTo>
                <a:lnTo>
                  <a:pt x="843" y="107"/>
                </a:lnTo>
                <a:lnTo>
                  <a:pt x="849" y="111"/>
                </a:lnTo>
                <a:lnTo>
                  <a:pt x="855" y="115"/>
                </a:lnTo>
                <a:lnTo>
                  <a:pt x="860" y="119"/>
                </a:lnTo>
                <a:lnTo>
                  <a:pt x="866" y="123"/>
                </a:lnTo>
                <a:lnTo>
                  <a:pt x="870" y="126"/>
                </a:lnTo>
                <a:lnTo>
                  <a:pt x="874" y="128"/>
                </a:lnTo>
                <a:lnTo>
                  <a:pt x="876" y="132"/>
                </a:lnTo>
                <a:lnTo>
                  <a:pt x="880" y="134"/>
                </a:lnTo>
                <a:lnTo>
                  <a:pt x="878" y="140"/>
                </a:lnTo>
                <a:lnTo>
                  <a:pt x="876" y="146"/>
                </a:lnTo>
                <a:lnTo>
                  <a:pt x="874" y="151"/>
                </a:lnTo>
                <a:lnTo>
                  <a:pt x="870" y="159"/>
                </a:lnTo>
                <a:lnTo>
                  <a:pt x="864" y="165"/>
                </a:lnTo>
                <a:lnTo>
                  <a:pt x="858" y="172"/>
                </a:lnTo>
                <a:lnTo>
                  <a:pt x="851" y="178"/>
                </a:lnTo>
                <a:lnTo>
                  <a:pt x="843" y="184"/>
                </a:lnTo>
                <a:lnTo>
                  <a:pt x="839" y="188"/>
                </a:lnTo>
                <a:lnTo>
                  <a:pt x="835" y="196"/>
                </a:lnTo>
                <a:lnTo>
                  <a:pt x="832" y="203"/>
                </a:lnTo>
                <a:lnTo>
                  <a:pt x="830" y="213"/>
                </a:lnTo>
                <a:lnTo>
                  <a:pt x="828" y="224"/>
                </a:lnTo>
                <a:lnTo>
                  <a:pt x="826" y="236"/>
                </a:lnTo>
                <a:lnTo>
                  <a:pt x="826" y="251"/>
                </a:lnTo>
                <a:lnTo>
                  <a:pt x="824" y="267"/>
                </a:lnTo>
                <a:lnTo>
                  <a:pt x="824" y="284"/>
                </a:lnTo>
                <a:lnTo>
                  <a:pt x="824" y="303"/>
                </a:lnTo>
                <a:lnTo>
                  <a:pt x="824" y="324"/>
                </a:lnTo>
                <a:lnTo>
                  <a:pt x="826" y="345"/>
                </a:lnTo>
                <a:lnTo>
                  <a:pt x="826" y="370"/>
                </a:lnTo>
                <a:lnTo>
                  <a:pt x="828" y="395"/>
                </a:lnTo>
                <a:lnTo>
                  <a:pt x="830" y="422"/>
                </a:lnTo>
                <a:lnTo>
                  <a:pt x="832" y="451"/>
                </a:lnTo>
                <a:lnTo>
                  <a:pt x="835" y="510"/>
                </a:lnTo>
                <a:lnTo>
                  <a:pt x="839" y="570"/>
                </a:lnTo>
                <a:lnTo>
                  <a:pt x="841" y="629"/>
                </a:lnTo>
                <a:lnTo>
                  <a:pt x="843" y="689"/>
                </a:lnTo>
                <a:lnTo>
                  <a:pt x="845" y="746"/>
                </a:lnTo>
                <a:lnTo>
                  <a:pt x="847" y="806"/>
                </a:lnTo>
                <a:lnTo>
                  <a:pt x="851" y="865"/>
                </a:lnTo>
                <a:lnTo>
                  <a:pt x="855" y="927"/>
                </a:lnTo>
                <a:lnTo>
                  <a:pt x="855" y="955"/>
                </a:lnTo>
                <a:lnTo>
                  <a:pt x="855" y="982"/>
                </a:lnTo>
                <a:lnTo>
                  <a:pt x="853" y="1011"/>
                </a:lnTo>
                <a:lnTo>
                  <a:pt x="853" y="1038"/>
                </a:lnTo>
                <a:lnTo>
                  <a:pt x="851" y="1063"/>
                </a:lnTo>
                <a:lnTo>
                  <a:pt x="849" y="1088"/>
                </a:lnTo>
                <a:lnTo>
                  <a:pt x="847" y="1111"/>
                </a:lnTo>
                <a:lnTo>
                  <a:pt x="845" y="1136"/>
                </a:lnTo>
                <a:lnTo>
                  <a:pt x="843" y="1157"/>
                </a:lnTo>
                <a:lnTo>
                  <a:pt x="841" y="1178"/>
                </a:lnTo>
                <a:lnTo>
                  <a:pt x="837" y="1199"/>
                </a:lnTo>
                <a:lnTo>
                  <a:pt x="833" y="1220"/>
                </a:lnTo>
                <a:lnTo>
                  <a:pt x="832" y="1237"/>
                </a:lnTo>
                <a:lnTo>
                  <a:pt x="828" y="1257"/>
                </a:lnTo>
                <a:lnTo>
                  <a:pt x="824" y="1274"/>
                </a:lnTo>
                <a:lnTo>
                  <a:pt x="820" y="1291"/>
                </a:lnTo>
                <a:lnTo>
                  <a:pt x="814" y="1306"/>
                </a:lnTo>
                <a:lnTo>
                  <a:pt x="810" y="1320"/>
                </a:lnTo>
                <a:lnTo>
                  <a:pt x="807" y="1335"/>
                </a:lnTo>
                <a:lnTo>
                  <a:pt x="801" y="1349"/>
                </a:lnTo>
                <a:lnTo>
                  <a:pt x="797" y="1360"/>
                </a:lnTo>
                <a:lnTo>
                  <a:pt x="793" y="1372"/>
                </a:lnTo>
                <a:lnTo>
                  <a:pt x="787" y="1383"/>
                </a:lnTo>
                <a:lnTo>
                  <a:pt x="784" y="1395"/>
                </a:lnTo>
                <a:lnTo>
                  <a:pt x="780" y="1404"/>
                </a:lnTo>
                <a:lnTo>
                  <a:pt x="774" y="1414"/>
                </a:lnTo>
                <a:lnTo>
                  <a:pt x="770" y="1422"/>
                </a:lnTo>
                <a:lnTo>
                  <a:pt x="766" y="1431"/>
                </a:lnTo>
                <a:lnTo>
                  <a:pt x="757" y="1447"/>
                </a:lnTo>
                <a:lnTo>
                  <a:pt x="749" y="1462"/>
                </a:lnTo>
                <a:lnTo>
                  <a:pt x="743" y="1468"/>
                </a:lnTo>
                <a:lnTo>
                  <a:pt x="739" y="1473"/>
                </a:lnTo>
                <a:lnTo>
                  <a:pt x="736" y="1479"/>
                </a:lnTo>
                <a:lnTo>
                  <a:pt x="730" y="1485"/>
                </a:lnTo>
                <a:lnTo>
                  <a:pt x="726" y="1489"/>
                </a:lnTo>
                <a:lnTo>
                  <a:pt x="722" y="1493"/>
                </a:lnTo>
                <a:lnTo>
                  <a:pt x="713" y="1498"/>
                </a:lnTo>
                <a:lnTo>
                  <a:pt x="703" y="1504"/>
                </a:lnTo>
                <a:lnTo>
                  <a:pt x="695" y="1508"/>
                </a:lnTo>
                <a:lnTo>
                  <a:pt x="686" y="1510"/>
                </a:lnTo>
                <a:lnTo>
                  <a:pt x="678" y="1510"/>
                </a:lnTo>
                <a:lnTo>
                  <a:pt x="672" y="1510"/>
                </a:lnTo>
                <a:lnTo>
                  <a:pt x="668" y="1508"/>
                </a:lnTo>
                <a:lnTo>
                  <a:pt x="665" y="1506"/>
                </a:lnTo>
                <a:lnTo>
                  <a:pt x="661" y="1504"/>
                </a:lnTo>
                <a:lnTo>
                  <a:pt x="659" y="1500"/>
                </a:lnTo>
                <a:lnTo>
                  <a:pt x="655" y="1495"/>
                </a:lnTo>
                <a:lnTo>
                  <a:pt x="653" y="1491"/>
                </a:lnTo>
                <a:lnTo>
                  <a:pt x="649" y="1485"/>
                </a:lnTo>
                <a:lnTo>
                  <a:pt x="647" y="1477"/>
                </a:lnTo>
                <a:lnTo>
                  <a:pt x="645" y="1470"/>
                </a:lnTo>
                <a:lnTo>
                  <a:pt x="643" y="1462"/>
                </a:lnTo>
                <a:lnTo>
                  <a:pt x="643" y="1452"/>
                </a:lnTo>
                <a:lnTo>
                  <a:pt x="642" y="1445"/>
                </a:lnTo>
                <a:lnTo>
                  <a:pt x="642" y="1433"/>
                </a:lnTo>
                <a:lnTo>
                  <a:pt x="642" y="1424"/>
                </a:lnTo>
                <a:lnTo>
                  <a:pt x="642" y="1412"/>
                </a:lnTo>
                <a:lnTo>
                  <a:pt x="640" y="1400"/>
                </a:lnTo>
                <a:lnTo>
                  <a:pt x="640" y="1389"/>
                </a:lnTo>
                <a:lnTo>
                  <a:pt x="638" y="1376"/>
                </a:lnTo>
                <a:lnTo>
                  <a:pt x="634" y="1362"/>
                </a:lnTo>
                <a:lnTo>
                  <a:pt x="630" y="1349"/>
                </a:lnTo>
                <a:lnTo>
                  <a:pt x="626" y="1333"/>
                </a:lnTo>
                <a:lnTo>
                  <a:pt x="620" y="1320"/>
                </a:lnTo>
                <a:lnTo>
                  <a:pt x="613" y="1305"/>
                </a:lnTo>
                <a:lnTo>
                  <a:pt x="607" y="1289"/>
                </a:lnTo>
                <a:lnTo>
                  <a:pt x="599" y="1272"/>
                </a:lnTo>
                <a:lnTo>
                  <a:pt x="590" y="1257"/>
                </a:lnTo>
                <a:lnTo>
                  <a:pt x="580" y="1239"/>
                </a:lnTo>
                <a:lnTo>
                  <a:pt x="570" y="1222"/>
                </a:lnTo>
                <a:lnTo>
                  <a:pt x="559" y="1205"/>
                </a:lnTo>
                <a:lnTo>
                  <a:pt x="547" y="1188"/>
                </a:lnTo>
                <a:lnTo>
                  <a:pt x="534" y="1168"/>
                </a:lnTo>
                <a:lnTo>
                  <a:pt x="534" y="1151"/>
                </a:lnTo>
                <a:lnTo>
                  <a:pt x="534" y="1132"/>
                </a:lnTo>
                <a:lnTo>
                  <a:pt x="555" y="1132"/>
                </a:lnTo>
                <a:lnTo>
                  <a:pt x="576" y="1132"/>
                </a:lnTo>
                <a:lnTo>
                  <a:pt x="586" y="1132"/>
                </a:lnTo>
                <a:lnTo>
                  <a:pt x="595" y="1132"/>
                </a:lnTo>
                <a:lnTo>
                  <a:pt x="603" y="1134"/>
                </a:lnTo>
                <a:lnTo>
                  <a:pt x="611" y="1134"/>
                </a:lnTo>
                <a:lnTo>
                  <a:pt x="618" y="1134"/>
                </a:lnTo>
                <a:lnTo>
                  <a:pt x="626" y="1136"/>
                </a:lnTo>
                <a:lnTo>
                  <a:pt x="632" y="1136"/>
                </a:lnTo>
                <a:lnTo>
                  <a:pt x="638" y="1138"/>
                </a:lnTo>
                <a:lnTo>
                  <a:pt x="643" y="1140"/>
                </a:lnTo>
                <a:lnTo>
                  <a:pt x="647" y="1140"/>
                </a:lnTo>
                <a:lnTo>
                  <a:pt x="651" y="1141"/>
                </a:lnTo>
                <a:lnTo>
                  <a:pt x="653" y="1145"/>
                </a:lnTo>
                <a:lnTo>
                  <a:pt x="657" y="1149"/>
                </a:lnTo>
                <a:lnTo>
                  <a:pt x="663" y="1151"/>
                </a:lnTo>
                <a:lnTo>
                  <a:pt x="665" y="1151"/>
                </a:lnTo>
                <a:lnTo>
                  <a:pt x="666" y="1151"/>
                </a:lnTo>
                <a:lnTo>
                  <a:pt x="668" y="1151"/>
                </a:lnTo>
                <a:lnTo>
                  <a:pt x="670" y="1151"/>
                </a:lnTo>
                <a:lnTo>
                  <a:pt x="672" y="1149"/>
                </a:lnTo>
                <a:lnTo>
                  <a:pt x="676" y="1147"/>
                </a:lnTo>
                <a:lnTo>
                  <a:pt x="678" y="1145"/>
                </a:lnTo>
                <a:lnTo>
                  <a:pt x="680" y="1141"/>
                </a:lnTo>
                <a:lnTo>
                  <a:pt x="682" y="1138"/>
                </a:lnTo>
                <a:lnTo>
                  <a:pt x="684" y="1132"/>
                </a:lnTo>
                <a:lnTo>
                  <a:pt x="686" y="1126"/>
                </a:lnTo>
                <a:lnTo>
                  <a:pt x="690" y="1120"/>
                </a:lnTo>
                <a:lnTo>
                  <a:pt x="691" y="1113"/>
                </a:lnTo>
                <a:lnTo>
                  <a:pt x="693" y="1105"/>
                </a:lnTo>
                <a:lnTo>
                  <a:pt x="693" y="1093"/>
                </a:lnTo>
                <a:lnTo>
                  <a:pt x="695" y="1084"/>
                </a:lnTo>
                <a:lnTo>
                  <a:pt x="697" y="1070"/>
                </a:lnTo>
                <a:lnTo>
                  <a:pt x="697" y="1057"/>
                </a:lnTo>
                <a:lnTo>
                  <a:pt x="697" y="1042"/>
                </a:lnTo>
                <a:lnTo>
                  <a:pt x="699" y="1026"/>
                </a:lnTo>
                <a:lnTo>
                  <a:pt x="699" y="1007"/>
                </a:lnTo>
                <a:lnTo>
                  <a:pt x="699" y="988"/>
                </a:lnTo>
                <a:lnTo>
                  <a:pt x="699" y="969"/>
                </a:lnTo>
                <a:lnTo>
                  <a:pt x="699" y="946"/>
                </a:lnTo>
                <a:lnTo>
                  <a:pt x="699" y="921"/>
                </a:lnTo>
                <a:lnTo>
                  <a:pt x="701" y="896"/>
                </a:lnTo>
                <a:lnTo>
                  <a:pt x="701" y="869"/>
                </a:lnTo>
                <a:lnTo>
                  <a:pt x="701" y="840"/>
                </a:lnTo>
                <a:lnTo>
                  <a:pt x="699" y="731"/>
                </a:lnTo>
                <a:lnTo>
                  <a:pt x="699" y="675"/>
                </a:lnTo>
                <a:lnTo>
                  <a:pt x="699" y="621"/>
                </a:lnTo>
                <a:lnTo>
                  <a:pt x="697" y="566"/>
                </a:lnTo>
                <a:lnTo>
                  <a:pt x="695" y="512"/>
                </a:lnTo>
                <a:lnTo>
                  <a:pt x="693" y="456"/>
                </a:lnTo>
                <a:lnTo>
                  <a:pt x="690" y="403"/>
                </a:lnTo>
                <a:lnTo>
                  <a:pt x="686" y="378"/>
                </a:lnTo>
                <a:lnTo>
                  <a:pt x="684" y="353"/>
                </a:lnTo>
                <a:lnTo>
                  <a:pt x="682" y="332"/>
                </a:lnTo>
                <a:lnTo>
                  <a:pt x="678" y="311"/>
                </a:lnTo>
                <a:lnTo>
                  <a:pt x="674" y="291"/>
                </a:lnTo>
                <a:lnTo>
                  <a:pt x="672" y="272"/>
                </a:lnTo>
                <a:lnTo>
                  <a:pt x="668" y="255"/>
                </a:lnTo>
                <a:lnTo>
                  <a:pt x="665" y="240"/>
                </a:lnTo>
                <a:lnTo>
                  <a:pt x="661" y="224"/>
                </a:lnTo>
                <a:lnTo>
                  <a:pt x="659" y="211"/>
                </a:lnTo>
                <a:lnTo>
                  <a:pt x="655" y="199"/>
                </a:lnTo>
                <a:lnTo>
                  <a:pt x="651" y="188"/>
                </a:lnTo>
                <a:lnTo>
                  <a:pt x="649" y="178"/>
                </a:lnTo>
                <a:lnTo>
                  <a:pt x="645" y="171"/>
                </a:lnTo>
                <a:lnTo>
                  <a:pt x="643" y="163"/>
                </a:lnTo>
                <a:lnTo>
                  <a:pt x="642" y="159"/>
                </a:lnTo>
                <a:lnTo>
                  <a:pt x="638" y="157"/>
                </a:lnTo>
                <a:lnTo>
                  <a:pt x="634" y="155"/>
                </a:lnTo>
                <a:lnTo>
                  <a:pt x="630" y="155"/>
                </a:lnTo>
                <a:lnTo>
                  <a:pt x="622" y="155"/>
                </a:lnTo>
                <a:lnTo>
                  <a:pt x="617" y="153"/>
                </a:lnTo>
                <a:lnTo>
                  <a:pt x="607" y="153"/>
                </a:lnTo>
                <a:lnTo>
                  <a:pt x="597" y="153"/>
                </a:lnTo>
                <a:lnTo>
                  <a:pt x="588" y="153"/>
                </a:lnTo>
                <a:lnTo>
                  <a:pt x="576" y="153"/>
                </a:lnTo>
                <a:lnTo>
                  <a:pt x="563" y="155"/>
                </a:lnTo>
                <a:lnTo>
                  <a:pt x="549" y="155"/>
                </a:lnTo>
                <a:lnTo>
                  <a:pt x="534" y="155"/>
                </a:lnTo>
                <a:lnTo>
                  <a:pt x="519" y="157"/>
                </a:lnTo>
                <a:lnTo>
                  <a:pt x="501" y="157"/>
                </a:lnTo>
                <a:lnTo>
                  <a:pt x="482" y="159"/>
                </a:lnTo>
                <a:lnTo>
                  <a:pt x="463" y="161"/>
                </a:lnTo>
                <a:lnTo>
                  <a:pt x="442" y="163"/>
                </a:lnTo>
                <a:lnTo>
                  <a:pt x="421" y="165"/>
                </a:lnTo>
                <a:lnTo>
                  <a:pt x="398" y="167"/>
                </a:lnTo>
                <a:lnTo>
                  <a:pt x="375" y="169"/>
                </a:lnTo>
                <a:lnTo>
                  <a:pt x="348" y="172"/>
                </a:lnTo>
                <a:lnTo>
                  <a:pt x="323" y="174"/>
                </a:lnTo>
                <a:lnTo>
                  <a:pt x="296" y="178"/>
                </a:lnTo>
                <a:lnTo>
                  <a:pt x="267" y="182"/>
                </a:lnTo>
                <a:lnTo>
                  <a:pt x="236" y="186"/>
                </a:lnTo>
                <a:lnTo>
                  <a:pt x="206" y="190"/>
                </a:lnTo>
                <a:lnTo>
                  <a:pt x="175" y="194"/>
                </a:lnTo>
                <a:lnTo>
                  <a:pt x="142" y="199"/>
                </a:lnTo>
                <a:lnTo>
                  <a:pt x="108" y="203"/>
                </a:lnTo>
                <a:lnTo>
                  <a:pt x="73" y="209"/>
                </a:lnTo>
                <a:lnTo>
                  <a:pt x="37" y="215"/>
                </a:lnTo>
                <a:lnTo>
                  <a:pt x="0" y="220"/>
                </a:lnTo>
                <a:lnTo>
                  <a:pt x="0" y="176"/>
                </a:lnTo>
                <a:lnTo>
                  <a:pt x="0" y="134"/>
                </a:lnTo>
                <a:lnTo>
                  <a:pt x="21" y="134"/>
                </a:lnTo>
                <a:lnTo>
                  <a:pt x="46" y="132"/>
                </a:lnTo>
                <a:lnTo>
                  <a:pt x="71" y="130"/>
                </a:lnTo>
                <a:lnTo>
                  <a:pt x="98" y="126"/>
                </a:lnTo>
                <a:lnTo>
                  <a:pt x="125" y="123"/>
                </a:lnTo>
                <a:lnTo>
                  <a:pt x="154" y="119"/>
                </a:lnTo>
                <a:lnTo>
                  <a:pt x="183" y="113"/>
                </a:lnTo>
                <a:lnTo>
                  <a:pt x="213" y="109"/>
                </a:lnTo>
                <a:lnTo>
                  <a:pt x="267" y="100"/>
                </a:lnTo>
                <a:lnTo>
                  <a:pt x="294" y="96"/>
                </a:lnTo>
                <a:lnTo>
                  <a:pt x="321" y="92"/>
                </a:lnTo>
                <a:lnTo>
                  <a:pt x="350" y="86"/>
                </a:lnTo>
                <a:lnTo>
                  <a:pt x="379" y="82"/>
                </a:lnTo>
                <a:lnTo>
                  <a:pt x="409" y="77"/>
                </a:lnTo>
                <a:lnTo>
                  <a:pt x="440" y="73"/>
                </a:lnTo>
                <a:lnTo>
                  <a:pt x="453" y="71"/>
                </a:lnTo>
                <a:lnTo>
                  <a:pt x="469" y="67"/>
                </a:lnTo>
                <a:lnTo>
                  <a:pt x="482" y="65"/>
                </a:lnTo>
                <a:lnTo>
                  <a:pt x="496" y="61"/>
                </a:lnTo>
                <a:lnTo>
                  <a:pt x="507" y="59"/>
                </a:lnTo>
                <a:lnTo>
                  <a:pt x="517" y="55"/>
                </a:lnTo>
                <a:lnTo>
                  <a:pt x="528" y="52"/>
                </a:lnTo>
                <a:lnTo>
                  <a:pt x="538" y="48"/>
                </a:lnTo>
                <a:lnTo>
                  <a:pt x="546" y="44"/>
                </a:lnTo>
                <a:lnTo>
                  <a:pt x="553" y="42"/>
                </a:lnTo>
                <a:lnTo>
                  <a:pt x="561" y="38"/>
                </a:lnTo>
                <a:lnTo>
                  <a:pt x="567" y="34"/>
                </a:lnTo>
                <a:lnTo>
                  <a:pt x="570" y="32"/>
                </a:lnTo>
                <a:lnTo>
                  <a:pt x="576" y="29"/>
                </a:lnTo>
                <a:lnTo>
                  <a:pt x="580" y="27"/>
                </a:lnTo>
                <a:lnTo>
                  <a:pt x="582" y="25"/>
                </a:lnTo>
                <a:lnTo>
                  <a:pt x="588" y="19"/>
                </a:lnTo>
                <a:lnTo>
                  <a:pt x="594" y="15"/>
                </a:lnTo>
                <a:lnTo>
                  <a:pt x="599" y="11"/>
                </a:lnTo>
                <a:lnTo>
                  <a:pt x="607" y="7"/>
                </a:lnTo>
                <a:lnTo>
                  <a:pt x="615" y="4"/>
                </a:lnTo>
                <a:lnTo>
                  <a:pt x="624" y="2"/>
                </a:lnTo>
                <a:lnTo>
                  <a:pt x="632" y="0"/>
                </a:lnTo>
                <a:lnTo>
                  <a:pt x="642" y="0"/>
                </a:lnTo>
                <a:lnTo>
                  <a:pt x="645" y="0"/>
                </a:lnTo>
                <a:lnTo>
                  <a:pt x="651" y="2"/>
                </a:lnTo>
                <a:lnTo>
                  <a:pt x="657" y="2"/>
                </a:lnTo>
                <a:lnTo>
                  <a:pt x="663" y="4"/>
                </a:lnTo>
                <a:lnTo>
                  <a:pt x="670" y="7"/>
                </a:lnTo>
                <a:lnTo>
                  <a:pt x="678" y="9"/>
                </a:lnTo>
                <a:lnTo>
                  <a:pt x="693" y="17"/>
                </a:lnTo>
                <a:lnTo>
                  <a:pt x="711" y="25"/>
                </a:lnTo>
                <a:lnTo>
                  <a:pt x="730" y="36"/>
                </a:lnTo>
                <a:lnTo>
                  <a:pt x="751" y="48"/>
                </a:lnTo>
                <a:lnTo>
                  <a:pt x="772" y="6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7051680" y="4130640"/>
            <a:ext cx="423720" cy="115920"/>
          </a:xfrm>
          <a:custGeom>
            <a:avLst/>
            <a:gdLst/>
            <a:ahLst/>
            <a:rect l="l" t="t" r="r" b="b"/>
            <a:pathLst>
              <a:path w="534" h="146">
                <a:moveTo>
                  <a:pt x="309" y="123"/>
                </a:moveTo>
                <a:lnTo>
                  <a:pt x="281" y="125"/>
                </a:lnTo>
                <a:lnTo>
                  <a:pt x="254" y="127"/>
                </a:lnTo>
                <a:lnTo>
                  <a:pt x="227" y="129"/>
                </a:lnTo>
                <a:lnTo>
                  <a:pt x="204" y="131"/>
                </a:lnTo>
                <a:lnTo>
                  <a:pt x="181" y="133"/>
                </a:lnTo>
                <a:lnTo>
                  <a:pt x="158" y="135"/>
                </a:lnTo>
                <a:lnTo>
                  <a:pt x="139" y="137"/>
                </a:lnTo>
                <a:lnTo>
                  <a:pt x="117" y="138"/>
                </a:lnTo>
                <a:lnTo>
                  <a:pt x="100" y="140"/>
                </a:lnTo>
                <a:lnTo>
                  <a:pt x="83" y="142"/>
                </a:lnTo>
                <a:lnTo>
                  <a:pt x="66" y="142"/>
                </a:lnTo>
                <a:lnTo>
                  <a:pt x="50" y="144"/>
                </a:lnTo>
                <a:lnTo>
                  <a:pt x="37" y="144"/>
                </a:lnTo>
                <a:lnTo>
                  <a:pt x="23" y="146"/>
                </a:lnTo>
                <a:lnTo>
                  <a:pt x="12" y="146"/>
                </a:lnTo>
                <a:lnTo>
                  <a:pt x="0" y="146"/>
                </a:lnTo>
                <a:lnTo>
                  <a:pt x="0" y="104"/>
                </a:lnTo>
                <a:lnTo>
                  <a:pt x="0" y="62"/>
                </a:lnTo>
                <a:lnTo>
                  <a:pt x="23" y="58"/>
                </a:lnTo>
                <a:lnTo>
                  <a:pt x="44" y="54"/>
                </a:lnTo>
                <a:lnTo>
                  <a:pt x="68" y="52"/>
                </a:lnTo>
                <a:lnTo>
                  <a:pt x="89" y="48"/>
                </a:lnTo>
                <a:lnTo>
                  <a:pt x="108" y="44"/>
                </a:lnTo>
                <a:lnTo>
                  <a:pt x="129" y="43"/>
                </a:lnTo>
                <a:lnTo>
                  <a:pt x="148" y="39"/>
                </a:lnTo>
                <a:lnTo>
                  <a:pt x="167" y="37"/>
                </a:lnTo>
                <a:lnTo>
                  <a:pt x="185" y="33"/>
                </a:lnTo>
                <a:lnTo>
                  <a:pt x="202" y="31"/>
                </a:lnTo>
                <a:lnTo>
                  <a:pt x="219" y="29"/>
                </a:lnTo>
                <a:lnTo>
                  <a:pt x="235" y="25"/>
                </a:lnTo>
                <a:lnTo>
                  <a:pt x="250" y="23"/>
                </a:lnTo>
                <a:lnTo>
                  <a:pt x="265" y="21"/>
                </a:lnTo>
                <a:lnTo>
                  <a:pt x="279" y="19"/>
                </a:lnTo>
                <a:lnTo>
                  <a:pt x="292" y="18"/>
                </a:lnTo>
                <a:lnTo>
                  <a:pt x="306" y="16"/>
                </a:lnTo>
                <a:lnTo>
                  <a:pt x="317" y="14"/>
                </a:lnTo>
                <a:lnTo>
                  <a:pt x="329" y="12"/>
                </a:lnTo>
                <a:lnTo>
                  <a:pt x="340" y="10"/>
                </a:lnTo>
                <a:lnTo>
                  <a:pt x="350" y="8"/>
                </a:lnTo>
                <a:lnTo>
                  <a:pt x="359" y="8"/>
                </a:lnTo>
                <a:lnTo>
                  <a:pt x="367" y="6"/>
                </a:lnTo>
                <a:lnTo>
                  <a:pt x="375" y="4"/>
                </a:lnTo>
                <a:lnTo>
                  <a:pt x="382" y="4"/>
                </a:lnTo>
                <a:lnTo>
                  <a:pt x="390" y="2"/>
                </a:lnTo>
                <a:lnTo>
                  <a:pt x="396" y="2"/>
                </a:lnTo>
                <a:lnTo>
                  <a:pt x="402" y="2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5" y="0"/>
                </a:lnTo>
                <a:lnTo>
                  <a:pt x="421" y="0"/>
                </a:lnTo>
                <a:lnTo>
                  <a:pt x="427" y="0"/>
                </a:lnTo>
                <a:lnTo>
                  <a:pt x="434" y="0"/>
                </a:lnTo>
                <a:lnTo>
                  <a:pt x="442" y="2"/>
                </a:lnTo>
                <a:lnTo>
                  <a:pt x="451" y="4"/>
                </a:lnTo>
                <a:lnTo>
                  <a:pt x="463" y="6"/>
                </a:lnTo>
                <a:lnTo>
                  <a:pt x="475" y="8"/>
                </a:lnTo>
                <a:lnTo>
                  <a:pt x="488" y="14"/>
                </a:lnTo>
                <a:lnTo>
                  <a:pt x="494" y="16"/>
                </a:lnTo>
                <a:lnTo>
                  <a:pt x="499" y="18"/>
                </a:lnTo>
                <a:lnTo>
                  <a:pt x="505" y="21"/>
                </a:lnTo>
                <a:lnTo>
                  <a:pt x="509" y="23"/>
                </a:lnTo>
                <a:lnTo>
                  <a:pt x="513" y="27"/>
                </a:lnTo>
                <a:lnTo>
                  <a:pt x="517" y="31"/>
                </a:lnTo>
                <a:lnTo>
                  <a:pt x="524" y="37"/>
                </a:lnTo>
                <a:lnTo>
                  <a:pt x="528" y="44"/>
                </a:lnTo>
                <a:lnTo>
                  <a:pt x="532" y="50"/>
                </a:lnTo>
                <a:lnTo>
                  <a:pt x="534" y="56"/>
                </a:lnTo>
                <a:lnTo>
                  <a:pt x="534" y="62"/>
                </a:lnTo>
                <a:lnTo>
                  <a:pt x="534" y="64"/>
                </a:lnTo>
                <a:lnTo>
                  <a:pt x="530" y="67"/>
                </a:lnTo>
                <a:lnTo>
                  <a:pt x="526" y="69"/>
                </a:lnTo>
                <a:lnTo>
                  <a:pt x="521" y="73"/>
                </a:lnTo>
                <a:lnTo>
                  <a:pt x="513" y="75"/>
                </a:lnTo>
                <a:lnTo>
                  <a:pt x="503" y="79"/>
                </a:lnTo>
                <a:lnTo>
                  <a:pt x="492" y="83"/>
                </a:lnTo>
                <a:lnTo>
                  <a:pt x="478" y="87"/>
                </a:lnTo>
                <a:lnTo>
                  <a:pt x="465" y="90"/>
                </a:lnTo>
                <a:lnTo>
                  <a:pt x="448" y="94"/>
                </a:lnTo>
                <a:lnTo>
                  <a:pt x="428" y="100"/>
                </a:lnTo>
                <a:lnTo>
                  <a:pt x="409" y="104"/>
                </a:lnTo>
                <a:lnTo>
                  <a:pt x="386" y="108"/>
                </a:lnTo>
                <a:lnTo>
                  <a:pt x="375" y="110"/>
                </a:lnTo>
                <a:lnTo>
                  <a:pt x="363" y="114"/>
                </a:lnTo>
                <a:lnTo>
                  <a:pt x="350" y="115"/>
                </a:lnTo>
                <a:lnTo>
                  <a:pt x="336" y="117"/>
                </a:lnTo>
                <a:lnTo>
                  <a:pt x="323" y="119"/>
                </a:lnTo>
                <a:lnTo>
                  <a:pt x="309" y="12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7051680" y="4384800"/>
            <a:ext cx="452520" cy="123840"/>
          </a:xfrm>
          <a:custGeom>
            <a:avLst/>
            <a:gdLst/>
            <a:ahLst/>
            <a:rect l="l" t="t" r="r" b="b"/>
            <a:pathLst>
              <a:path w="570" h="155">
                <a:moveTo>
                  <a:pt x="236" y="32"/>
                </a:moveTo>
                <a:lnTo>
                  <a:pt x="261" y="27"/>
                </a:lnTo>
                <a:lnTo>
                  <a:pt x="284" y="21"/>
                </a:lnTo>
                <a:lnTo>
                  <a:pt x="307" y="15"/>
                </a:lnTo>
                <a:lnTo>
                  <a:pt x="329" y="11"/>
                </a:lnTo>
                <a:lnTo>
                  <a:pt x="348" y="7"/>
                </a:lnTo>
                <a:lnTo>
                  <a:pt x="369" y="5"/>
                </a:lnTo>
                <a:lnTo>
                  <a:pt x="388" y="4"/>
                </a:lnTo>
                <a:lnTo>
                  <a:pt x="405" y="2"/>
                </a:lnTo>
                <a:lnTo>
                  <a:pt x="423" y="2"/>
                </a:lnTo>
                <a:lnTo>
                  <a:pt x="438" y="0"/>
                </a:lnTo>
                <a:lnTo>
                  <a:pt x="451" y="2"/>
                </a:lnTo>
                <a:lnTo>
                  <a:pt x="467" y="2"/>
                </a:lnTo>
                <a:lnTo>
                  <a:pt x="478" y="4"/>
                </a:lnTo>
                <a:lnTo>
                  <a:pt x="490" y="4"/>
                </a:lnTo>
                <a:lnTo>
                  <a:pt x="501" y="5"/>
                </a:lnTo>
                <a:lnTo>
                  <a:pt x="511" y="9"/>
                </a:lnTo>
                <a:lnTo>
                  <a:pt x="523" y="17"/>
                </a:lnTo>
                <a:lnTo>
                  <a:pt x="534" y="27"/>
                </a:lnTo>
                <a:lnTo>
                  <a:pt x="544" y="34"/>
                </a:lnTo>
                <a:lnTo>
                  <a:pt x="553" y="44"/>
                </a:lnTo>
                <a:lnTo>
                  <a:pt x="561" y="50"/>
                </a:lnTo>
                <a:lnTo>
                  <a:pt x="563" y="53"/>
                </a:lnTo>
                <a:lnTo>
                  <a:pt x="565" y="57"/>
                </a:lnTo>
                <a:lnTo>
                  <a:pt x="567" y="61"/>
                </a:lnTo>
                <a:lnTo>
                  <a:pt x="569" y="63"/>
                </a:lnTo>
                <a:lnTo>
                  <a:pt x="569" y="67"/>
                </a:lnTo>
                <a:lnTo>
                  <a:pt x="570" y="69"/>
                </a:lnTo>
                <a:lnTo>
                  <a:pt x="569" y="71"/>
                </a:lnTo>
                <a:lnTo>
                  <a:pt x="567" y="71"/>
                </a:lnTo>
                <a:lnTo>
                  <a:pt x="565" y="73"/>
                </a:lnTo>
                <a:lnTo>
                  <a:pt x="561" y="75"/>
                </a:lnTo>
                <a:lnTo>
                  <a:pt x="555" y="76"/>
                </a:lnTo>
                <a:lnTo>
                  <a:pt x="549" y="78"/>
                </a:lnTo>
                <a:lnTo>
                  <a:pt x="542" y="80"/>
                </a:lnTo>
                <a:lnTo>
                  <a:pt x="534" y="82"/>
                </a:lnTo>
                <a:lnTo>
                  <a:pt x="524" y="84"/>
                </a:lnTo>
                <a:lnTo>
                  <a:pt x="515" y="86"/>
                </a:lnTo>
                <a:lnTo>
                  <a:pt x="501" y="90"/>
                </a:lnTo>
                <a:lnTo>
                  <a:pt x="490" y="92"/>
                </a:lnTo>
                <a:lnTo>
                  <a:pt x="476" y="94"/>
                </a:lnTo>
                <a:lnTo>
                  <a:pt x="461" y="98"/>
                </a:lnTo>
                <a:lnTo>
                  <a:pt x="444" y="100"/>
                </a:lnTo>
                <a:lnTo>
                  <a:pt x="427" y="101"/>
                </a:lnTo>
                <a:lnTo>
                  <a:pt x="409" y="105"/>
                </a:lnTo>
                <a:lnTo>
                  <a:pt x="390" y="107"/>
                </a:lnTo>
                <a:lnTo>
                  <a:pt x="369" y="111"/>
                </a:lnTo>
                <a:lnTo>
                  <a:pt x="348" y="115"/>
                </a:lnTo>
                <a:lnTo>
                  <a:pt x="325" y="117"/>
                </a:lnTo>
                <a:lnTo>
                  <a:pt x="300" y="121"/>
                </a:lnTo>
                <a:lnTo>
                  <a:pt x="275" y="124"/>
                </a:lnTo>
                <a:lnTo>
                  <a:pt x="248" y="126"/>
                </a:lnTo>
                <a:lnTo>
                  <a:pt x="221" y="130"/>
                </a:lnTo>
                <a:lnTo>
                  <a:pt x="192" y="134"/>
                </a:lnTo>
                <a:lnTo>
                  <a:pt x="164" y="136"/>
                </a:lnTo>
                <a:lnTo>
                  <a:pt x="133" y="140"/>
                </a:lnTo>
                <a:lnTo>
                  <a:pt x="102" y="144"/>
                </a:lnTo>
                <a:lnTo>
                  <a:pt x="68" y="147"/>
                </a:lnTo>
                <a:lnTo>
                  <a:pt x="35" y="151"/>
                </a:lnTo>
                <a:lnTo>
                  <a:pt x="0" y="155"/>
                </a:lnTo>
                <a:lnTo>
                  <a:pt x="0" y="111"/>
                </a:lnTo>
                <a:lnTo>
                  <a:pt x="0" y="69"/>
                </a:lnTo>
                <a:lnTo>
                  <a:pt x="6" y="69"/>
                </a:lnTo>
                <a:lnTo>
                  <a:pt x="14" y="69"/>
                </a:lnTo>
                <a:lnTo>
                  <a:pt x="23" y="67"/>
                </a:lnTo>
                <a:lnTo>
                  <a:pt x="33" y="67"/>
                </a:lnTo>
                <a:lnTo>
                  <a:pt x="44" y="65"/>
                </a:lnTo>
                <a:lnTo>
                  <a:pt x="56" y="63"/>
                </a:lnTo>
                <a:lnTo>
                  <a:pt x="68" y="61"/>
                </a:lnTo>
                <a:lnTo>
                  <a:pt x="83" y="59"/>
                </a:lnTo>
                <a:lnTo>
                  <a:pt x="98" y="57"/>
                </a:lnTo>
                <a:lnTo>
                  <a:pt x="114" y="55"/>
                </a:lnTo>
                <a:lnTo>
                  <a:pt x="131" y="52"/>
                </a:lnTo>
                <a:lnTo>
                  <a:pt x="150" y="48"/>
                </a:lnTo>
                <a:lnTo>
                  <a:pt x="169" y="46"/>
                </a:lnTo>
                <a:lnTo>
                  <a:pt x="190" y="42"/>
                </a:lnTo>
                <a:lnTo>
                  <a:pt x="213" y="36"/>
                </a:lnTo>
                <a:lnTo>
                  <a:pt x="236" y="3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7031160" y="4672080"/>
            <a:ext cx="511200" cy="115920"/>
          </a:xfrm>
          <a:custGeom>
            <a:avLst/>
            <a:gdLst/>
            <a:ahLst/>
            <a:rect l="l" t="t" r="r" b="b"/>
            <a:pathLst>
              <a:path w="643" h="146">
                <a:moveTo>
                  <a:pt x="643" y="110"/>
                </a:moveTo>
                <a:lnTo>
                  <a:pt x="559" y="110"/>
                </a:lnTo>
                <a:lnTo>
                  <a:pt x="476" y="112"/>
                </a:lnTo>
                <a:lnTo>
                  <a:pt x="394" y="114"/>
                </a:lnTo>
                <a:lnTo>
                  <a:pt x="313" y="117"/>
                </a:lnTo>
                <a:lnTo>
                  <a:pt x="233" y="123"/>
                </a:lnTo>
                <a:lnTo>
                  <a:pt x="154" y="129"/>
                </a:lnTo>
                <a:lnTo>
                  <a:pt x="77" y="137"/>
                </a:lnTo>
                <a:lnTo>
                  <a:pt x="0" y="146"/>
                </a:lnTo>
                <a:lnTo>
                  <a:pt x="0" y="102"/>
                </a:lnTo>
                <a:lnTo>
                  <a:pt x="0" y="60"/>
                </a:lnTo>
                <a:lnTo>
                  <a:pt x="12" y="60"/>
                </a:lnTo>
                <a:lnTo>
                  <a:pt x="25" y="60"/>
                </a:lnTo>
                <a:lnTo>
                  <a:pt x="37" y="58"/>
                </a:lnTo>
                <a:lnTo>
                  <a:pt x="52" y="58"/>
                </a:lnTo>
                <a:lnTo>
                  <a:pt x="66" y="56"/>
                </a:lnTo>
                <a:lnTo>
                  <a:pt x="81" y="54"/>
                </a:lnTo>
                <a:lnTo>
                  <a:pt x="98" y="52"/>
                </a:lnTo>
                <a:lnTo>
                  <a:pt x="116" y="50"/>
                </a:lnTo>
                <a:lnTo>
                  <a:pt x="133" y="48"/>
                </a:lnTo>
                <a:lnTo>
                  <a:pt x="150" y="46"/>
                </a:lnTo>
                <a:lnTo>
                  <a:pt x="169" y="43"/>
                </a:lnTo>
                <a:lnTo>
                  <a:pt x="189" y="39"/>
                </a:lnTo>
                <a:lnTo>
                  <a:pt x="210" y="37"/>
                </a:lnTo>
                <a:lnTo>
                  <a:pt x="231" y="33"/>
                </a:lnTo>
                <a:lnTo>
                  <a:pt x="252" y="27"/>
                </a:lnTo>
                <a:lnTo>
                  <a:pt x="275" y="23"/>
                </a:lnTo>
                <a:lnTo>
                  <a:pt x="296" y="21"/>
                </a:lnTo>
                <a:lnTo>
                  <a:pt x="317" y="20"/>
                </a:lnTo>
                <a:lnTo>
                  <a:pt x="338" y="16"/>
                </a:lnTo>
                <a:lnTo>
                  <a:pt x="359" y="14"/>
                </a:lnTo>
                <a:lnTo>
                  <a:pt x="379" y="12"/>
                </a:lnTo>
                <a:lnTo>
                  <a:pt x="398" y="10"/>
                </a:lnTo>
                <a:lnTo>
                  <a:pt x="415" y="8"/>
                </a:lnTo>
                <a:lnTo>
                  <a:pt x="432" y="6"/>
                </a:lnTo>
                <a:lnTo>
                  <a:pt x="450" y="6"/>
                </a:lnTo>
                <a:lnTo>
                  <a:pt x="467" y="4"/>
                </a:lnTo>
                <a:lnTo>
                  <a:pt x="482" y="2"/>
                </a:lnTo>
                <a:lnTo>
                  <a:pt x="496" y="2"/>
                </a:lnTo>
                <a:lnTo>
                  <a:pt x="511" y="0"/>
                </a:lnTo>
                <a:lnTo>
                  <a:pt x="524" y="0"/>
                </a:lnTo>
                <a:lnTo>
                  <a:pt x="536" y="0"/>
                </a:lnTo>
                <a:lnTo>
                  <a:pt x="548" y="0"/>
                </a:lnTo>
                <a:lnTo>
                  <a:pt x="559" y="0"/>
                </a:lnTo>
                <a:lnTo>
                  <a:pt x="569" y="0"/>
                </a:lnTo>
                <a:lnTo>
                  <a:pt x="578" y="4"/>
                </a:lnTo>
                <a:lnTo>
                  <a:pt x="588" y="6"/>
                </a:lnTo>
                <a:lnTo>
                  <a:pt x="595" y="10"/>
                </a:lnTo>
                <a:lnTo>
                  <a:pt x="603" y="16"/>
                </a:lnTo>
                <a:lnTo>
                  <a:pt x="611" y="20"/>
                </a:lnTo>
                <a:lnTo>
                  <a:pt x="617" y="27"/>
                </a:lnTo>
                <a:lnTo>
                  <a:pt x="622" y="35"/>
                </a:lnTo>
                <a:lnTo>
                  <a:pt x="628" y="43"/>
                </a:lnTo>
                <a:lnTo>
                  <a:pt x="632" y="50"/>
                </a:lnTo>
                <a:lnTo>
                  <a:pt x="636" y="62"/>
                </a:lnTo>
                <a:lnTo>
                  <a:pt x="640" y="71"/>
                </a:lnTo>
                <a:lnTo>
                  <a:pt x="642" y="83"/>
                </a:lnTo>
                <a:lnTo>
                  <a:pt x="642" y="96"/>
                </a:lnTo>
                <a:lnTo>
                  <a:pt x="643" y="11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任意多边形 8"/>
          <p:cNvSpPr/>
          <p:nvPr/>
        </p:nvSpPr>
        <p:spPr>
          <a:xfrm>
            <a:off x="214776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琳     琅     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2137320" y="2270160"/>
            <a:ext cx="7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9"/>
          <p:cNvSpPr/>
          <p:nvPr/>
        </p:nvSpPr>
        <p:spPr>
          <a:xfrm>
            <a:off x="4183560" y="23162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á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1"/>
          <p:cNvSpPr/>
          <p:nvPr/>
        </p:nvSpPr>
        <p:spPr>
          <a:xfrm>
            <a:off x="6426000" y="234144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62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4T02:12:42Z</dcterms:modified>
  <cp:revision>4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