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4.gif" ContentType="image/gif"/>
  <Override PartName="/ppt/media/image27.png" ContentType="image/png"/>
  <Override PartName="/ppt/media/image3.png" ContentType="image/png"/>
  <Override PartName="/ppt/media/image26.wmf" ContentType="image/x-wmf"/>
  <Override PartName="/ppt/media/image1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标题占位符 1"/>
          <p:cNvSpPr/>
          <p:nvPr/>
        </p:nvSpPr>
        <p:spPr>
          <a:xfrm>
            <a:off x="43488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文本占位符 2"/>
          <p:cNvSpPr/>
          <p:nvPr/>
        </p:nvSpPr>
        <p:spPr>
          <a:xfrm>
            <a:off x="434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日期占位符 3"/>
          <p:cNvSpPr/>
          <p:nvPr/>
        </p:nvSpPr>
        <p:spPr>
          <a:xfrm>
            <a:off x="4348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87CD02-3707-4D41-80E5-215961D22962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幻灯片编号占位符 5"/>
          <p:cNvSpPr/>
          <p:nvPr/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D31B5E-14A4-4AA6-9BB3-C5D7589F41C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图片 53" descr=""/>
          <p:cNvPicPr/>
          <p:nvPr/>
        </p:nvPicPr>
        <p:blipFill>
          <a:blip r:embed="rId2"/>
          <a:stretch/>
        </p:blipFill>
        <p:spPr>
          <a:xfrm>
            <a:off x="-4680" y="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" name="组 54"/>
          <p:cNvGrpSpPr/>
          <p:nvPr/>
        </p:nvGrpSpPr>
        <p:grpSpPr>
          <a:xfrm>
            <a:off x="-392040" y="4599000"/>
            <a:ext cx="1660320" cy="2216160"/>
            <a:chOff x="-392040" y="4599000"/>
            <a:chExt cx="1660320" cy="2216160"/>
          </a:xfrm>
        </p:grpSpPr>
        <p:pic>
          <p:nvPicPr>
            <p:cNvPr id="6" name="Picture 47" descr="연필"/>
            <p:cNvPicPr/>
            <p:nvPr/>
          </p:nvPicPr>
          <p:blipFill>
            <a:blip r:embed="rId3"/>
            <a:stretch/>
          </p:blipFill>
          <p:spPr>
            <a:xfrm>
              <a:off x="7524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43" descr="꽃"/>
            <p:cNvPicPr/>
            <p:nvPr/>
          </p:nvPicPr>
          <p:blipFill>
            <a:blip r:embed="rId4"/>
            <a:stretch/>
          </p:blipFill>
          <p:spPr>
            <a:xfrm>
              <a:off x="-39204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" name="图片 45" descr="枫叶副本.gif"/>
          <p:cNvPicPr/>
          <p:nvPr/>
        </p:nvPicPr>
        <p:blipFill>
          <a:blip r:embed="rId5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6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6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6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26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26.wmf"/><Relationship Id="rId2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图片 3" descr=""/>
          <p:cNvPicPr/>
          <p:nvPr/>
        </p:nvPicPr>
        <p:blipFill>
          <a:blip r:embed="rId1"/>
          <a:stretch/>
        </p:blipFill>
        <p:spPr>
          <a:xfrm>
            <a:off x="0" y="3922560"/>
            <a:ext cx="9144000" cy="2944800"/>
          </a:xfrm>
          <a:prstGeom prst="rect">
            <a:avLst/>
          </a:prstGeom>
          <a:ln w="0">
            <a:noFill/>
          </a:ln>
        </p:spPr>
      </p:pic>
      <p:grpSp>
        <p:nvGrpSpPr>
          <p:cNvPr id="47" name="AutoShape 508"/>
          <p:cNvGrpSpPr/>
          <p:nvPr/>
        </p:nvGrpSpPr>
        <p:grpSpPr>
          <a:xfrm>
            <a:off x="493560" y="1060560"/>
            <a:ext cx="8156880" cy="2163600"/>
            <a:chOff x="493560" y="1060560"/>
            <a:chExt cx="8156880" cy="2163600"/>
          </a:xfrm>
        </p:grpSpPr>
        <p:pic>
          <p:nvPicPr>
            <p:cNvPr id="48" name="AutoShape 508" descr=""/>
            <p:cNvPicPr/>
            <p:nvPr/>
          </p:nvPicPr>
          <p:blipFill>
            <a:blip r:embed="rId2"/>
            <a:stretch/>
          </p:blipFill>
          <p:spPr>
            <a:xfrm>
              <a:off x="493560" y="1060560"/>
              <a:ext cx="8156880" cy="21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528480" y="109368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7" y="0"/>
                </a:lnTo>
                <a:cubicBezTo>
                  <a:pt x="8096776" y="0"/>
                  <a:pt x="8153400" y="56624"/>
                  <a:pt x="8153400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9" descr="구름"/>
          <p:cNvPicPr/>
          <p:nvPr/>
        </p:nvPicPr>
        <p:blipFill>
          <a:blip r:embed="rId3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구름"/>
          <p:cNvPicPr/>
          <p:nvPr/>
        </p:nvPicPr>
        <p:blipFill>
          <a:blip r:embed="rId4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495360" y="1433520"/>
            <a:ext cx="8153280" cy="7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课时    亿以上数的读、写法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5889600" y="503280"/>
            <a:ext cx="27972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六    认识更大的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图片 67" descr="海报.png"/>
          <p:cNvPicPr/>
          <p:nvPr/>
        </p:nvPicPr>
        <p:blipFill>
          <a:blip r:embed="rId5"/>
          <a:stretch/>
        </p:blipFill>
        <p:spPr>
          <a:xfrm>
            <a:off x="674640" y="3227400"/>
            <a:ext cx="2428920" cy="3238560"/>
          </a:xfrm>
          <a:prstGeom prst="rect">
            <a:avLst/>
          </a:prstGeom>
          <a:ln w="0">
            <a:noFill/>
          </a:ln>
        </p:spPr>
      </p:pic>
      <p:pic>
        <p:nvPicPr>
          <p:cNvPr id="56" name="图片 70" descr="蝴蝶.png"/>
          <p:cNvPicPr/>
          <p:nvPr/>
        </p:nvPicPr>
        <p:blipFill>
          <a:blip r:embed="rId6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grpSp>
        <p:nvGrpSpPr>
          <p:cNvPr id="57" name="AutoShape 508"/>
          <p:cNvGrpSpPr/>
          <p:nvPr/>
        </p:nvGrpSpPr>
        <p:grpSpPr>
          <a:xfrm>
            <a:off x="457200" y="981000"/>
            <a:ext cx="8236080" cy="2243160"/>
            <a:chOff x="457200" y="981000"/>
            <a:chExt cx="8236080" cy="2243160"/>
          </a:xfrm>
        </p:grpSpPr>
        <p:pic>
          <p:nvPicPr>
            <p:cNvPr id="58" name="AutoShape 508" descr=""/>
            <p:cNvPicPr/>
            <p:nvPr/>
          </p:nvPicPr>
          <p:blipFill>
            <a:blip r:embed="rId7"/>
            <a:stretch/>
          </p:blipFill>
          <p:spPr>
            <a:xfrm>
              <a:off x="457200" y="981000"/>
              <a:ext cx="82360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528480" y="105084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0" name="Picture 50" descr="나뭇잎2"/>
          <p:cNvPicPr/>
          <p:nvPr/>
        </p:nvPicPr>
        <p:blipFill>
          <a:blip r:embed="rId8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grpSp>
        <p:nvGrpSpPr>
          <p:cNvPr id="61" name="椭圆 8"/>
          <p:cNvGrpSpPr/>
          <p:nvPr/>
        </p:nvGrpSpPr>
        <p:grpSpPr>
          <a:xfrm>
            <a:off x="274680" y="1305000"/>
            <a:ext cx="444600" cy="444600"/>
            <a:chOff x="274680" y="1305000"/>
            <a:chExt cx="444600" cy="444600"/>
          </a:xfrm>
        </p:grpSpPr>
        <p:pic>
          <p:nvPicPr>
            <p:cNvPr id="62" name="椭圆 8" descr=""/>
            <p:cNvPicPr/>
            <p:nvPr/>
          </p:nvPicPr>
          <p:blipFill>
            <a:blip r:embed="rId9"/>
            <a:stretch/>
          </p:blipFill>
          <p:spPr>
            <a:xfrm>
              <a:off x="274680" y="130500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37800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" name="椭圆 82"/>
          <p:cNvGrpSpPr/>
          <p:nvPr/>
        </p:nvGrpSpPr>
        <p:grpSpPr>
          <a:xfrm>
            <a:off x="274680" y="1944720"/>
            <a:ext cx="444600" cy="444600"/>
            <a:chOff x="274680" y="1944720"/>
            <a:chExt cx="444600" cy="444600"/>
          </a:xfrm>
        </p:grpSpPr>
        <p:pic>
          <p:nvPicPr>
            <p:cNvPr id="65" name="椭圆 82" descr=""/>
            <p:cNvPicPr/>
            <p:nvPr/>
          </p:nvPicPr>
          <p:blipFill>
            <a:blip r:embed="rId10"/>
            <a:stretch/>
          </p:blipFill>
          <p:spPr>
            <a:xfrm>
              <a:off x="274680" y="194472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37800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" name="椭圆 85"/>
          <p:cNvGrpSpPr/>
          <p:nvPr/>
        </p:nvGrpSpPr>
        <p:grpSpPr>
          <a:xfrm>
            <a:off x="274680" y="2584440"/>
            <a:ext cx="444600" cy="444600"/>
            <a:chOff x="274680" y="2584440"/>
            <a:chExt cx="444600" cy="444600"/>
          </a:xfrm>
        </p:grpSpPr>
        <p:pic>
          <p:nvPicPr>
            <p:cNvPr id="68" name="椭圆 85" descr=""/>
            <p:cNvPicPr/>
            <p:nvPr/>
          </p:nvPicPr>
          <p:blipFill>
            <a:blip r:embed="rId11"/>
            <a:stretch/>
          </p:blipFill>
          <p:spPr>
            <a:xfrm>
              <a:off x="274680" y="258444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37800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椭圆 88"/>
          <p:cNvGrpSpPr/>
          <p:nvPr/>
        </p:nvGrpSpPr>
        <p:grpSpPr>
          <a:xfrm>
            <a:off x="8424720" y="1305000"/>
            <a:ext cx="444600" cy="444600"/>
            <a:chOff x="8424720" y="1305000"/>
            <a:chExt cx="444600" cy="444600"/>
          </a:xfrm>
        </p:grpSpPr>
        <p:pic>
          <p:nvPicPr>
            <p:cNvPr id="71" name="椭圆 88" descr=""/>
            <p:cNvPicPr/>
            <p:nvPr/>
          </p:nvPicPr>
          <p:blipFill>
            <a:blip r:embed="rId12"/>
            <a:stretch/>
          </p:blipFill>
          <p:spPr>
            <a:xfrm>
              <a:off x="8424720" y="130500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852948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" name="椭圆 96"/>
          <p:cNvGrpSpPr/>
          <p:nvPr/>
        </p:nvGrpSpPr>
        <p:grpSpPr>
          <a:xfrm>
            <a:off x="8424720" y="1944720"/>
            <a:ext cx="444600" cy="444600"/>
            <a:chOff x="8424720" y="1944720"/>
            <a:chExt cx="444600" cy="444600"/>
          </a:xfrm>
        </p:grpSpPr>
        <p:pic>
          <p:nvPicPr>
            <p:cNvPr id="74" name="椭圆 96" descr=""/>
            <p:cNvPicPr/>
            <p:nvPr/>
          </p:nvPicPr>
          <p:blipFill>
            <a:blip r:embed="rId13"/>
            <a:stretch/>
          </p:blipFill>
          <p:spPr>
            <a:xfrm>
              <a:off x="8424720" y="194472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852948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椭圆 97"/>
          <p:cNvGrpSpPr/>
          <p:nvPr/>
        </p:nvGrpSpPr>
        <p:grpSpPr>
          <a:xfrm>
            <a:off x="8424720" y="2584440"/>
            <a:ext cx="444600" cy="444600"/>
            <a:chOff x="8424720" y="2584440"/>
            <a:chExt cx="444600" cy="444600"/>
          </a:xfrm>
        </p:grpSpPr>
        <p:pic>
          <p:nvPicPr>
            <p:cNvPr id="77" name="椭圆 97" descr=""/>
            <p:cNvPicPr/>
            <p:nvPr/>
          </p:nvPicPr>
          <p:blipFill>
            <a:blip r:embed="rId14"/>
            <a:stretch/>
          </p:blipFill>
          <p:spPr>
            <a:xfrm>
              <a:off x="8424720" y="258444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852948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16"/>
          <p:cNvSpPr/>
          <p:nvPr/>
        </p:nvSpPr>
        <p:spPr>
          <a:xfrm>
            <a:off x="995400" y="2189160"/>
            <a:ext cx="7175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连续几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都只读一个零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写亿以上的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一写：从最高级一级一级往下写，边写边分级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二注意：哪个数位上一个计数单位也没有，就在那个数位上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占位。含有三级的数，万级和个级上必须有四位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文本框 4"/>
          <p:cNvSpPr/>
          <p:nvPr/>
        </p:nvSpPr>
        <p:spPr>
          <a:xfrm>
            <a:off x="1584360" y="1662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归纳总结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直线连接符 38"/>
          <p:cNvSpPr/>
          <p:nvPr/>
        </p:nvSpPr>
        <p:spPr>
          <a:xfrm>
            <a:off x="995400" y="2230560"/>
            <a:ext cx="7164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36"/>
          <p:cNvSpPr/>
          <p:nvPr/>
        </p:nvSpPr>
        <p:spPr>
          <a:xfrm>
            <a:off x="3973680" y="1763640"/>
            <a:ext cx="125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读出表中的数据，用计算器算出变化情况，填在表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6" name="组合 7"/>
          <p:cNvGrpSpPr/>
          <p:nvPr/>
        </p:nvGrpSpPr>
        <p:grpSpPr>
          <a:xfrm>
            <a:off x="698400" y="1062720"/>
            <a:ext cx="5586480" cy="733680"/>
            <a:chOff x="698400" y="1062720"/>
            <a:chExt cx="5586480" cy="733680"/>
          </a:xfrm>
        </p:grpSpPr>
        <p:pic>
          <p:nvPicPr>
            <p:cNvPr id="167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698400" y="1320120"/>
              <a:ext cx="322200" cy="36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文本框 23"/>
            <p:cNvSpPr/>
            <p:nvPr/>
          </p:nvSpPr>
          <p:spPr>
            <a:xfrm>
              <a:off x="1020600" y="1062720"/>
              <a:ext cx="526428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Times New Roman"/>
                </a:rPr>
                <a:t>夯实基础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（选题源于教材</a:t>
              </a: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P72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练一练）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69" name="Picture 6" descr=""/>
          <p:cNvPicPr/>
          <p:nvPr/>
        </p:nvPicPr>
        <p:blipFill>
          <a:blip r:embed="rId2"/>
          <a:stretch/>
        </p:blipFill>
        <p:spPr>
          <a:xfrm>
            <a:off x="900000" y="2536920"/>
            <a:ext cx="7159680" cy="2104920"/>
          </a:xfrm>
          <a:prstGeom prst="rect">
            <a:avLst/>
          </a:prstGeom>
          <a:ln w="0">
            <a:noFill/>
          </a:ln>
        </p:spPr>
      </p:pic>
      <p:sp>
        <p:nvSpPr>
          <p:cNvPr id="170" name="矩形 1"/>
          <p:cNvSpPr/>
          <p:nvPr/>
        </p:nvSpPr>
        <p:spPr>
          <a:xfrm>
            <a:off x="6440400" y="3062160"/>
            <a:ext cx="2772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增加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540000000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人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矩形 2"/>
          <p:cNvSpPr/>
          <p:nvPr/>
        </p:nvSpPr>
        <p:spPr>
          <a:xfrm>
            <a:off x="6551640" y="4081320"/>
            <a:ext cx="17838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增加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56000000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矩形 3"/>
          <p:cNvSpPr/>
          <p:nvPr/>
        </p:nvSpPr>
        <p:spPr>
          <a:xfrm>
            <a:off x="6541200" y="3575160"/>
            <a:ext cx="19116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增加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27250000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36"/>
          <p:cNvSpPr/>
          <p:nvPr/>
        </p:nvSpPr>
        <p:spPr>
          <a:xfrm>
            <a:off x="1186200" y="1449360"/>
            <a:ext cx="696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三十二亿                               一百零五亿六百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写作：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写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36"/>
          <p:cNvSpPr/>
          <p:nvPr/>
        </p:nvSpPr>
        <p:spPr>
          <a:xfrm>
            <a:off x="2848680" y="2951280"/>
            <a:ext cx="345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上网搜集世界上人口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亿的国家及其人口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矩形 7"/>
          <p:cNvSpPr/>
          <p:nvPr/>
        </p:nvSpPr>
        <p:spPr>
          <a:xfrm>
            <a:off x="2629080" y="1968480"/>
            <a:ext cx="170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20000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矩形 1"/>
          <p:cNvSpPr/>
          <p:nvPr/>
        </p:nvSpPr>
        <p:spPr>
          <a:xfrm>
            <a:off x="6125400" y="196848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50600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矩形 9"/>
          <p:cNvSpPr/>
          <p:nvPr/>
        </p:nvSpPr>
        <p:spPr>
          <a:xfrm>
            <a:off x="4462560" y="3505320"/>
            <a:ext cx="33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36"/>
          <p:cNvSpPr/>
          <p:nvPr/>
        </p:nvSpPr>
        <p:spPr>
          <a:xfrm>
            <a:off x="826920" y="3882960"/>
            <a:ext cx="742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下面的写法对吗？若不对，请改正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五亿五千零五万零五　写作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5050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6"/>
          <p:cNvSpPr/>
          <p:nvPr/>
        </p:nvSpPr>
        <p:spPr>
          <a:xfrm>
            <a:off x="819000" y="1773360"/>
            <a:ext cx="742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下面的读法对吗？若不对，请改正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000500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读作：七亿五千零零四。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0" name="组合 11"/>
          <p:cNvGrpSpPr/>
          <p:nvPr/>
        </p:nvGrpSpPr>
        <p:grpSpPr>
          <a:xfrm>
            <a:off x="957240" y="1074600"/>
            <a:ext cx="6248520" cy="733680"/>
            <a:chOff x="957240" y="1074600"/>
            <a:chExt cx="6248520" cy="733680"/>
          </a:xfrm>
        </p:grpSpPr>
        <p:pic>
          <p:nvPicPr>
            <p:cNvPr id="181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957240" y="13208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文本框 23"/>
            <p:cNvSpPr/>
            <p:nvPr/>
          </p:nvSpPr>
          <p:spPr>
            <a:xfrm>
              <a:off x="1279440" y="1074600"/>
              <a:ext cx="592632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Times New Roman"/>
                </a:rPr>
                <a:t>易错辨析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3" name="矩形 11"/>
          <p:cNvSpPr/>
          <p:nvPr/>
        </p:nvSpPr>
        <p:spPr>
          <a:xfrm>
            <a:off x="7521120" y="2463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矩形 7"/>
          <p:cNvSpPr/>
          <p:nvPr/>
        </p:nvSpPr>
        <p:spPr>
          <a:xfrm>
            <a:off x="2837880" y="306864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读作：七亿零五千零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矩形 8"/>
          <p:cNvSpPr/>
          <p:nvPr/>
        </p:nvSpPr>
        <p:spPr>
          <a:xfrm>
            <a:off x="7490880" y="46101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矩形 10"/>
          <p:cNvSpPr/>
          <p:nvPr/>
        </p:nvSpPr>
        <p:spPr>
          <a:xfrm>
            <a:off x="2763360" y="5272200"/>
            <a:ext cx="21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写作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500500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图片 5" descr=""/>
          <p:cNvPicPr/>
          <p:nvPr/>
        </p:nvPicPr>
        <p:blipFill>
          <a:blip r:embed="rId1"/>
          <a:stretch/>
        </p:blipFill>
        <p:spPr>
          <a:xfrm>
            <a:off x="0" y="4846680"/>
            <a:ext cx="9144000" cy="20113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191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16" descr="꽃"/>
          <p:cNvPicPr/>
          <p:nvPr/>
        </p:nvPicPr>
        <p:blipFill>
          <a:blip r:embed="rId4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193" name="矩形 3"/>
          <p:cNvSpPr/>
          <p:nvPr/>
        </p:nvSpPr>
        <p:spPr>
          <a:xfrm>
            <a:off x="5583960" y="655308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100" spc="-1" strike="noStrike">
                <a:solidFill>
                  <a:srgbClr val="414141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矩形 12" descr=""/>
          <p:cNvPicPr/>
          <p:nvPr/>
        </p:nvPicPr>
        <p:blipFill>
          <a:blip r:embed="rId5"/>
          <a:stretch/>
        </p:blipFill>
        <p:spPr>
          <a:xfrm>
            <a:off x="938160" y="1328760"/>
            <a:ext cx="7267680" cy="18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45" descr="枫叶副本.gif"/>
          <p:cNvPicPr/>
          <p:nvPr/>
        </p:nvPicPr>
        <p:blipFill>
          <a:blip r:embed="rId1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  <p:sp>
        <p:nvSpPr>
          <p:cNvPr id="80" name="矩形 1"/>
          <p:cNvSpPr/>
          <p:nvPr/>
        </p:nvSpPr>
        <p:spPr>
          <a:xfrm>
            <a:off x="1152360" y="1368360"/>
            <a:ext cx="631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生活中还有更大的数，需要用数级更多的数位表读写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矩形 2"/>
          <p:cNvSpPr/>
          <p:nvPr/>
        </p:nvSpPr>
        <p:spPr>
          <a:xfrm>
            <a:off x="2200320" y="534024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国的国土面积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63405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平方公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9" descr="C:\Users\Administrator\Desktop\图片3.png"/>
          <p:cNvPicPr/>
          <p:nvPr/>
        </p:nvPicPr>
        <p:blipFill>
          <a:blip r:embed="rId2"/>
          <a:stretch/>
        </p:blipFill>
        <p:spPr>
          <a:xfrm>
            <a:off x="2521080" y="2368440"/>
            <a:ext cx="4429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60"/>
          <p:cNvSpPr/>
          <p:nvPr/>
        </p:nvSpPr>
        <p:spPr>
          <a:xfrm>
            <a:off x="892080" y="17398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62"/>
          <p:cNvSpPr/>
          <p:nvPr/>
        </p:nvSpPr>
        <p:spPr>
          <a:xfrm>
            <a:off x="1454040" y="225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" name="组合 11"/>
          <p:cNvGrpSpPr/>
          <p:nvPr/>
        </p:nvGrpSpPr>
        <p:grpSpPr>
          <a:xfrm>
            <a:off x="917640" y="1765440"/>
            <a:ext cx="5264280" cy="622080"/>
            <a:chOff x="917640" y="1765440"/>
            <a:chExt cx="5264280" cy="622080"/>
          </a:xfrm>
        </p:grpSpPr>
        <p:pic>
          <p:nvPicPr>
            <p:cNvPr id="86" name="Picture 11" descr=""/>
            <p:cNvPicPr/>
            <p:nvPr/>
          </p:nvPicPr>
          <p:blipFill>
            <a:blip r:embed="rId1"/>
            <a:stretch/>
          </p:blipFill>
          <p:spPr>
            <a:xfrm>
              <a:off x="917640" y="1765440"/>
              <a:ext cx="628560" cy="62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矩形 2"/>
            <p:cNvSpPr/>
            <p:nvPr/>
          </p:nvSpPr>
          <p:spPr>
            <a:xfrm>
              <a:off x="3609000" y="1848240"/>
              <a:ext cx="257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读出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01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年和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00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年我国两次人口普査的结果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" name="矩形 3"/>
          <p:cNvSpPr/>
          <p:nvPr/>
        </p:nvSpPr>
        <p:spPr>
          <a:xfrm>
            <a:off x="3528720" y="2300400"/>
            <a:ext cx="209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53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87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矩形 4"/>
          <p:cNvSpPr/>
          <p:nvPr/>
        </p:nvSpPr>
        <p:spPr>
          <a:xfrm>
            <a:off x="4501080" y="278604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十三亿七千零五十三万六千八百七十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矩形 5"/>
          <p:cNvSpPr/>
          <p:nvPr/>
        </p:nvSpPr>
        <p:spPr>
          <a:xfrm>
            <a:off x="3598560" y="3241800"/>
            <a:ext cx="209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533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0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矩形 6"/>
          <p:cNvSpPr/>
          <p:nvPr/>
        </p:nvSpPr>
        <p:spPr>
          <a:xfrm>
            <a:off x="1787760" y="3247920"/>
            <a:ext cx="17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0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人口 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矩形 7"/>
          <p:cNvSpPr/>
          <p:nvPr/>
        </p:nvSpPr>
        <p:spPr>
          <a:xfrm>
            <a:off x="2743560" y="36464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读作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矩形 9"/>
          <p:cNvSpPr/>
          <p:nvPr/>
        </p:nvSpPr>
        <p:spPr>
          <a:xfrm>
            <a:off x="2731680" y="27860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读作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矩形 10"/>
          <p:cNvSpPr/>
          <p:nvPr/>
        </p:nvSpPr>
        <p:spPr>
          <a:xfrm>
            <a:off x="1783800" y="2311560"/>
            <a:ext cx="17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10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人口 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13"/>
          <p:cNvSpPr/>
          <p:nvPr/>
        </p:nvSpPr>
        <p:spPr>
          <a:xfrm>
            <a:off x="4168080" y="367992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十二亿九千五百三十三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12" descr=""/>
          <p:cNvPicPr/>
          <p:nvPr/>
        </p:nvPicPr>
        <p:blipFill>
          <a:blip r:embed="rId2"/>
          <a:stretch/>
        </p:blipFill>
        <p:spPr>
          <a:xfrm>
            <a:off x="1424160" y="4114800"/>
            <a:ext cx="3066840" cy="1133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" descr=""/>
          <p:cNvPicPr/>
          <p:nvPr/>
        </p:nvPicPr>
        <p:blipFill>
          <a:blip r:embed="rId3"/>
          <a:stretch/>
        </p:blipFill>
        <p:spPr>
          <a:xfrm>
            <a:off x="4645080" y="4048200"/>
            <a:ext cx="3209760" cy="1200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"/>
          <p:cNvPicPr/>
          <p:nvPr/>
        </p:nvPicPr>
        <p:blipFill>
          <a:blip r:embed="rId4"/>
          <a:stretch/>
        </p:blipFill>
        <p:spPr>
          <a:xfrm>
            <a:off x="3265560" y="5037120"/>
            <a:ext cx="5343480" cy="1000080"/>
          </a:xfrm>
          <a:prstGeom prst="rect">
            <a:avLst/>
          </a:prstGeom>
          <a:ln w="0">
            <a:noFill/>
          </a:ln>
        </p:spPr>
      </p:pic>
      <p:grpSp>
        <p:nvGrpSpPr>
          <p:cNvPr id="99" name="组合 1"/>
          <p:cNvGrpSpPr/>
          <p:nvPr/>
        </p:nvGrpSpPr>
        <p:grpSpPr>
          <a:xfrm>
            <a:off x="479520" y="1000080"/>
            <a:ext cx="5735520" cy="666720"/>
            <a:chOff x="479520" y="1000080"/>
            <a:chExt cx="5735520" cy="666720"/>
          </a:xfrm>
        </p:grpSpPr>
        <p:sp>
          <p:nvSpPr>
            <p:cNvPr id="100" name="文本框 13"/>
            <p:cNvSpPr/>
            <p:nvPr/>
          </p:nvSpPr>
          <p:spPr>
            <a:xfrm>
              <a:off x="1638000" y="1071360"/>
              <a:ext cx="4577040" cy="59544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探究点   亿以上的数的读法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1" name="图片 9" descr="book.gif"/>
            <p:cNvPicPr/>
            <p:nvPr/>
          </p:nvPicPr>
          <p:blipFill>
            <a:blip r:embed="rId5"/>
            <a:stretch/>
          </p:blipFill>
          <p:spPr>
            <a:xfrm>
              <a:off x="479520" y="1000080"/>
              <a:ext cx="1087560" cy="666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组合 12"/>
          <p:cNvGrpSpPr/>
          <p:nvPr/>
        </p:nvGrpSpPr>
        <p:grpSpPr>
          <a:xfrm>
            <a:off x="1060560" y="1058760"/>
            <a:ext cx="4773600" cy="733680"/>
            <a:chOff x="1060560" y="1058760"/>
            <a:chExt cx="4773600" cy="733680"/>
          </a:xfrm>
        </p:grpSpPr>
        <p:pic>
          <p:nvPicPr>
            <p:cNvPr id="103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3172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文本框 23"/>
            <p:cNvSpPr/>
            <p:nvPr/>
          </p:nvSpPr>
          <p:spPr>
            <a:xfrm>
              <a:off x="1311120" y="105876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5" name="TextBox 36"/>
          <p:cNvSpPr/>
          <p:nvPr/>
        </p:nvSpPr>
        <p:spPr>
          <a:xfrm>
            <a:off x="819000" y="1944720"/>
            <a:ext cx="6820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882720"/>
                <a:tab algn="l" pos="1324080"/>
                <a:tab algn="l" pos="1765440"/>
                <a:tab algn="l" pos="2206800"/>
                <a:tab algn="l" pos="2647800"/>
                <a:tab algn="l" pos="3089160"/>
                <a:tab algn="l" pos="3530520"/>
                <a:tab algn="l" pos="3971880"/>
                <a:tab algn="l" pos="4413240"/>
                <a:tab algn="l" pos="4854600"/>
                <a:tab algn="l" pos="5295960"/>
                <a:tab algn="l" pos="5737320"/>
                <a:tab algn="l" pos="6178680"/>
                <a:tab algn="l" pos="6620040"/>
                <a:tab algn="l" pos="7061040"/>
                <a:tab algn="l" pos="7502400"/>
                <a:tab algn="l" pos="7943760"/>
                <a:tab algn="l" pos="8385120"/>
                <a:tab algn="l" pos="8826480"/>
                <a:tab algn="l" pos="9267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读亿以上的数，要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再从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级读起，读完亿级或万级的数，要加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字或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字。每级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都不读，其他数位上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或连续几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都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零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矩形 16"/>
          <p:cNvSpPr/>
          <p:nvPr/>
        </p:nvSpPr>
        <p:spPr>
          <a:xfrm>
            <a:off x="4614480" y="2103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分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矩形 23"/>
          <p:cNvSpPr/>
          <p:nvPr/>
        </p:nvSpPr>
        <p:spPr>
          <a:xfrm>
            <a:off x="1915920" y="2655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矩形 24"/>
          <p:cNvSpPr/>
          <p:nvPr/>
        </p:nvSpPr>
        <p:spPr>
          <a:xfrm>
            <a:off x="2204280" y="3198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矩形 26"/>
          <p:cNvSpPr/>
          <p:nvPr/>
        </p:nvSpPr>
        <p:spPr>
          <a:xfrm>
            <a:off x="4730760" y="3213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矩形 27"/>
          <p:cNvSpPr/>
          <p:nvPr/>
        </p:nvSpPr>
        <p:spPr>
          <a:xfrm>
            <a:off x="1820520" y="3759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末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矩形 28"/>
          <p:cNvSpPr/>
          <p:nvPr/>
        </p:nvSpPr>
        <p:spPr>
          <a:xfrm>
            <a:off x="3026880" y="4278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组合 12"/>
          <p:cNvGrpSpPr/>
          <p:nvPr/>
        </p:nvGrpSpPr>
        <p:grpSpPr>
          <a:xfrm>
            <a:off x="1060560" y="1058760"/>
            <a:ext cx="4773600" cy="733680"/>
            <a:chOff x="1060560" y="1058760"/>
            <a:chExt cx="4773600" cy="733680"/>
          </a:xfrm>
        </p:grpSpPr>
        <p:pic>
          <p:nvPicPr>
            <p:cNvPr id="113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3172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文本框 23"/>
            <p:cNvSpPr/>
            <p:nvPr/>
          </p:nvSpPr>
          <p:spPr>
            <a:xfrm>
              <a:off x="1311120" y="105876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5" name="TextBox 36"/>
          <p:cNvSpPr/>
          <p:nvPr/>
        </p:nvSpPr>
        <p:spPr>
          <a:xfrm>
            <a:off x="819000" y="1944720"/>
            <a:ext cx="7274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882720"/>
                <a:tab algn="l" pos="1324080"/>
                <a:tab algn="l" pos="1765440"/>
                <a:tab algn="l" pos="2206800"/>
                <a:tab algn="l" pos="2647800"/>
                <a:tab algn="l" pos="3089160"/>
                <a:tab algn="l" pos="3530520"/>
                <a:tab algn="l" pos="3971880"/>
                <a:tab algn="l" pos="4413240"/>
                <a:tab algn="l" pos="4854600"/>
                <a:tab algn="l" pos="5295960"/>
                <a:tab algn="l" pos="5737320"/>
                <a:tab algn="l" pos="6178680"/>
                <a:tab algn="l" pos="6620040"/>
                <a:tab algn="l" pos="7061040"/>
                <a:tab algn="l" pos="7502400"/>
                <a:tab algn="l" pos="7943760"/>
                <a:tab algn="l" pos="8385120"/>
                <a:tab algn="l" pos="8826480"/>
                <a:tab algn="l" pos="9267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先分级，再读出下面各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882720"/>
                <a:tab algn="l" pos="1324080"/>
                <a:tab algn="l" pos="1765440"/>
                <a:tab algn="l" pos="2206800"/>
                <a:tab algn="l" pos="2647800"/>
                <a:tab algn="l" pos="3089160"/>
                <a:tab algn="l" pos="3530520"/>
                <a:tab algn="l" pos="3971880"/>
                <a:tab algn="l" pos="4413240"/>
                <a:tab algn="l" pos="4854600"/>
                <a:tab algn="l" pos="5295960"/>
                <a:tab algn="l" pos="5737320"/>
                <a:tab algn="l" pos="6178680"/>
                <a:tab algn="l" pos="6620040"/>
                <a:tab algn="l" pos="7061040"/>
                <a:tab algn="l" pos="7502400"/>
                <a:tab algn="l" pos="7943760"/>
                <a:tab algn="l" pos="8385120"/>
                <a:tab algn="l" pos="8826480"/>
                <a:tab algn="l" pos="9267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500000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读作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882720"/>
                <a:tab algn="l" pos="1324080"/>
                <a:tab algn="l" pos="1765440"/>
                <a:tab algn="l" pos="2206800"/>
                <a:tab algn="l" pos="2647800"/>
                <a:tab algn="l" pos="3089160"/>
                <a:tab algn="l" pos="3530520"/>
                <a:tab algn="l" pos="3971880"/>
                <a:tab algn="l" pos="4413240"/>
                <a:tab algn="l" pos="4854600"/>
                <a:tab algn="l" pos="5295960"/>
                <a:tab algn="l" pos="5737320"/>
                <a:tab algn="l" pos="6178680"/>
                <a:tab algn="l" pos="6620040"/>
                <a:tab algn="l" pos="7061040"/>
                <a:tab algn="l" pos="7502400"/>
                <a:tab algn="l" pos="7943760"/>
                <a:tab algn="l" pos="8385120"/>
                <a:tab algn="l" pos="8826480"/>
                <a:tab algn="l" pos="9267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5209800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读作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882720"/>
                <a:tab algn="l" pos="1324080"/>
                <a:tab algn="l" pos="1765440"/>
                <a:tab algn="l" pos="2206800"/>
                <a:tab algn="l" pos="2647800"/>
                <a:tab algn="l" pos="3089160"/>
                <a:tab algn="l" pos="3530520"/>
                <a:tab algn="l" pos="3971880"/>
                <a:tab algn="l" pos="4413240"/>
                <a:tab algn="l" pos="4854600"/>
                <a:tab algn="l" pos="5295960"/>
                <a:tab algn="l" pos="5737320"/>
                <a:tab algn="l" pos="6178680"/>
                <a:tab algn="l" pos="6620040"/>
                <a:tab algn="l" pos="7061040"/>
                <a:tab algn="l" pos="7502400"/>
                <a:tab algn="l" pos="7943760"/>
                <a:tab algn="l" pos="8385120"/>
                <a:tab algn="l" pos="8826480"/>
                <a:tab algn="l" pos="9267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700400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读作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882720"/>
                <a:tab algn="l" pos="1324080"/>
                <a:tab algn="l" pos="1765440"/>
                <a:tab algn="l" pos="2206800"/>
                <a:tab algn="l" pos="2647800"/>
                <a:tab algn="l" pos="3089160"/>
                <a:tab algn="l" pos="3530520"/>
                <a:tab algn="l" pos="3971880"/>
                <a:tab algn="l" pos="4413240"/>
                <a:tab algn="l" pos="4854600"/>
                <a:tab algn="l" pos="5295960"/>
                <a:tab algn="l" pos="5737320"/>
                <a:tab algn="l" pos="6178680"/>
                <a:tab algn="l" pos="6620040"/>
                <a:tab algn="l" pos="7061040"/>
                <a:tab algn="l" pos="7502400"/>
                <a:tab algn="l" pos="7943760"/>
                <a:tab algn="l" pos="8385120"/>
                <a:tab algn="l" pos="8826480"/>
                <a:tab algn="l" pos="9267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0000807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读作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882720"/>
                <a:tab algn="l" pos="1324080"/>
                <a:tab algn="l" pos="1765440"/>
                <a:tab algn="l" pos="2206800"/>
                <a:tab algn="l" pos="2647800"/>
                <a:tab algn="l" pos="3089160"/>
                <a:tab algn="l" pos="3530520"/>
                <a:tab algn="l" pos="3971880"/>
                <a:tab algn="l" pos="4413240"/>
                <a:tab algn="l" pos="4854600"/>
                <a:tab algn="l" pos="5295960"/>
                <a:tab algn="l" pos="5737320"/>
                <a:tab algn="l" pos="6178680"/>
                <a:tab algn="l" pos="6620040"/>
                <a:tab algn="l" pos="7061040"/>
                <a:tab algn="l" pos="7502400"/>
                <a:tab algn="l" pos="7943760"/>
                <a:tab algn="l" pos="8385120"/>
                <a:tab algn="l" pos="8826480"/>
                <a:tab algn="l" pos="9267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80045009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读作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矩形 18"/>
          <p:cNvSpPr/>
          <p:nvPr/>
        </p:nvSpPr>
        <p:spPr>
          <a:xfrm>
            <a:off x="4223520" y="26161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三十亿五千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矩形 11"/>
          <p:cNvSpPr/>
          <p:nvPr/>
        </p:nvSpPr>
        <p:spPr>
          <a:xfrm>
            <a:off x="4552200" y="315900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六十五亿二千零九十八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12"/>
          <p:cNvSpPr/>
          <p:nvPr/>
        </p:nvSpPr>
        <p:spPr>
          <a:xfrm>
            <a:off x="4364280" y="37749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四十亿七千零四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9" name="对象 1"/>
          <p:cNvGraphicFramePr/>
          <p:nvPr/>
        </p:nvGraphicFramePr>
        <p:xfrm>
          <a:off x="1566720" y="2587680"/>
          <a:ext cx="238320" cy="517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对象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66720" y="2587680"/>
                    <a:ext cx="23832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对象 2"/>
          <p:cNvGraphicFramePr/>
          <p:nvPr/>
        </p:nvGraphicFramePr>
        <p:xfrm>
          <a:off x="2173320" y="2595600"/>
          <a:ext cx="237960" cy="517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2" name="对象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73320" y="2595600"/>
                    <a:ext cx="23796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对象 3"/>
          <p:cNvGraphicFramePr/>
          <p:nvPr/>
        </p:nvGraphicFramePr>
        <p:xfrm>
          <a:off x="1563840" y="3143160"/>
          <a:ext cx="237960" cy="517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4" name="对象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63840" y="3143160"/>
                    <a:ext cx="23796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对象 4"/>
          <p:cNvGraphicFramePr/>
          <p:nvPr/>
        </p:nvGraphicFramePr>
        <p:xfrm>
          <a:off x="2158920" y="3141720"/>
          <a:ext cx="238320" cy="517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6" name="对象 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58920" y="3141720"/>
                    <a:ext cx="23832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对象 5"/>
          <p:cNvGraphicFramePr/>
          <p:nvPr/>
        </p:nvGraphicFramePr>
        <p:xfrm>
          <a:off x="1563840" y="3703680"/>
          <a:ext cx="237960" cy="5173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8" name="对象 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563840" y="3703680"/>
                    <a:ext cx="23796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对象 6"/>
          <p:cNvGraphicFramePr/>
          <p:nvPr/>
        </p:nvGraphicFramePr>
        <p:xfrm>
          <a:off x="2165400" y="3703680"/>
          <a:ext cx="237960" cy="5173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0" name="对象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165400" y="3703680"/>
                    <a:ext cx="23796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对象 7"/>
          <p:cNvGraphicFramePr/>
          <p:nvPr/>
        </p:nvGraphicFramePr>
        <p:xfrm>
          <a:off x="1403280" y="4237200"/>
          <a:ext cx="238320" cy="5173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32" name="对象 7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403280" y="4237200"/>
                    <a:ext cx="23832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对象 8"/>
          <p:cNvGraphicFramePr/>
          <p:nvPr/>
        </p:nvGraphicFramePr>
        <p:xfrm>
          <a:off x="2009880" y="4237200"/>
          <a:ext cx="237960" cy="5173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34" name="对象 8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009880" y="4237200"/>
                    <a:ext cx="23796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对象 9"/>
          <p:cNvGraphicFramePr/>
          <p:nvPr/>
        </p:nvGraphicFramePr>
        <p:xfrm>
          <a:off x="2468520" y="4782960"/>
          <a:ext cx="238320" cy="5176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36" name="对象 9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468520" y="4782960"/>
                    <a:ext cx="23832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对象 10"/>
          <p:cNvGraphicFramePr/>
          <p:nvPr/>
        </p:nvGraphicFramePr>
        <p:xfrm>
          <a:off x="1855800" y="4781520"/>
          <a:ext cx="237960" cy="5176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38" name="对象 10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1855800" y="4781520"/>
                    <a:ext cx="23796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矩形 19"/>
          <p:cNvSpPr/>
          <p:nvPr/>
        </p:nvSpPr>
        <p:spPr>
          <a:xfrm>
            <a:off x="4363560" y="42926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六亿零八千零七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矩形 20"/>
          <p:cNvSpPr/>
          <p:nvPr/>
        </p:nvSpPr>
        <p:spPr>
          <a:xfrm>
            <a:off x="4974480" y="480852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七千零八十亿零四百五十万零九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组合 12"/>
          <p:cNvGrpSpPr/>
          <p:nvPr/>
        </p:nvGrpSpPr>
        <p:grpSpPr>
          <a:xfrm>
            <a:off x="1060560" y="1058760"/>
            <a:ext cx="4773600" cy="733680"/>
            <a:chOff x="1060560" y="1058760"/>
            <a:chExt cx="4773600" cy="733680"/>
          </a:xfrm>
        </p:grpSpPr>
        <p:pic>
          <p:nvPicPr>
            <p:cNvPr id="142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3172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文本框 23"/>
            <p:cNvSpPr/>
            <p:nvPr/>
          </p:nvSpPr>
          <p:spPr>
            <a:xfrm>
              <a:off x="1311120" y="105876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4" name="TextBox 36"/>
          <p:cNvSpPr/>
          <p:nvPr/>
        </p:nvSpPr>
        <p:spPr>
          <a:xfrm>
            <a:off x="819000" y="1944720"/>
            <a:ext cx="727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882720"/>
                <a:tab algn="l" pos="1324080"/>
                <a:tab algn="l" pos="1765440"/>
                <a:tab algn="l" pos="2206800"/>
                <a:tab algn="l" pos="2647800"/>
                <a:tab algn="l" pos="3089160"/>
                <a:tab algn="l" pos="3530520"/>
                <a:tab algn="l" pos="3971880"/>
                <a:tab algn="l" pos="4413240"/>
                <a:tab algn="l" pos="4854600"/>
                <a:tab algn="l" pos="5295960"/>
                <a:tab algn="l" pos="5737320"/>
                <a:tab algn="l" pos="6178680"/>
                <a:tab algn="l" pos="6620040"/>
                <a:tab algn="l" pos="7061040"/>
                <a:tab algn="l" pos="7502400"/>
                <a:tab algn="l" pos="7943760"/>
                <a:tab algn="l" pos="8385120"/>
                <a:tab algn="l" pos="8826480"/>
                <a:tab algn="l" pos="9267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写亿以上的数，先看这个数有几级，再从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级写起，哪个数位上一个单位也没有，就在那个数位上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矩形 11"/>
          <p:cNvSpPr/>
          <p:nvPr/>
        </p:nvSpPr>
        <p:spPr>
          <a:xfrm>
            <a:off x="1911960" y="2631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矩形 20"/>
          <p:cNvSpPr/>
          <p:nvPr/>
        </p:nvSpPr>
        <p:spPr>
          <a:xfrm>
            <a:off x="4399920" y="31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组合 12"/>
          <p:cNvGrpSpPr/>
          <p:nvPr/>
        </p:nvGrpSpPr>
        <p:grpSpPr>
          <a:xfrm>
            <a:off x="1060560" y="1058760"/>
            <a:ext cx="4773600" cy="733680"/>
            <a:chOff x="1060560" y="1058760"/>
            <a:chExt cx="4773600" cy="733680"/>
          </a:xfrm>
        </p:grpSpPr>
        <p:pic>
          <p:nvPicPr>
            <p:cNvPr id="148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3172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文本框 23"/>
            <p:cNvSpPr/>
            <p:nvPr/>
          </p:nvSpPr>
          <p:spPr>
            <a:xfrm>
              <a:off x="1311120" y="105876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" name="TextBox 36"/>
          <p:cNvSpPr/>
          <p:nvPr/>
        </p:nvSpPr>
        <p:spPr>
          <a:xfrm>
            <a:off x="819000" y="1944720"/>
            <a:ext cx="7274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882720"/>
                <a:tab algn="l" pos="1324080"/>
                <a:tab algn="l" pos="1765440"/>
                <a:tab algn="l" pos="2206800"/>
                <a:tab algn="l" pos="2647800"/>
                <a:tab algn="l" pos="3089160"/>
                <a:tab algn="l" pos="3530520"/>
                <a:tab algn="l" pos="3971880"/>
                <a:tab algn="l" pos="4413240"/>
                <a:tab algn="l" pos="4854600"/>
                <a:tab algn="l" pos="5295960"/>
                <a:tab algn="l" pos="5737320"/>
                <a:tab algn="l" pos="6178680"/>
                <a:tab algn="l" pos="6620040"/>
                <a:tab algn="l" pos="7061040"/>
                <a:tab algn="l" pos="7502400"/>
                <a:tab algn="l" pos="7943760"/>
                <a:tab algn="l" pos="8385120"/>
                <a:tab algn="l" pos="8826480"/>
                <a:tab algn="l" pos="9267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写出下面各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882720"/>
                <a:tab algn="l" pos="1324080"/>
                <a:tab algn="l" pos="1765440"/>
                <a:tab algn="l" pos="2206800"/>
                <a:tab algn="l" pos="2647800"/>
                <a:tab algn="l" pos="3089160"/>
                <a:tab algn="l" pos="3530520"/>
                <a:tab algn="l" pos="3971880"/>
                <a:tab algn="l" pos="4413240"/>
                <a:tab algn="l" pos="4854600"/>
                <a:tab algn="l" pos="5295960"/>
                <a:tab algn="l" pos="5737320"/>
                <a:tab algn="l" pos="6178680"/>
                <a:tab algn="l" pos="6620040"/>
                <a:tab algn="l" pos="7061040"/>
                <a:tab algn="l" pos="7502400"/>
                <a:tab algn="l" pos="7943760"/>
                <a:tab algn="l" pos="8385120"/>
                <a:tab algn="l" pos="8826480"/>
                <a:tab algn="l" pos="92678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六亿零二百四十八万七千三百八十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882720"/>
                <a:tab algn="l" pos="1324080"/>
                <a:tab algn="l" pos="1765440"/>
                <a:tab algn="l" pos="2206800"/>
                <a:tab algn="l" pos="2647800"/>
                <a:tab algn="l" pos="3089160"/>
                <a:tab algn="l" pos="3530520"/>
                <a:tab algn="l" pos="3971880"/>
                <a:tab algn="l" pos="4413240"/>
                <a:tab algn="l" pos="4854600"/>
                <a:tab algn="l" pos="5295960"/>
                <a:tab algn="l" pos="5737320"/>
                <a:tab algn="l" pos="6178680"/>
                <a:tab algn="l" pos="6620040"/>
                <a:tab algn="l" pos="7061040"/>
                <a:tab algn="l" pos="7502400"/>
                <a:tab algn="l" pos="7943760"/>
                <a:tab algn="l" pos="8385120"/>
                <a:tab algn="l" pos="8826480"/>
                <a:tab algn="l" pos="92678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写作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882720"/>
                <a:tab algn="l" pos="1324080"/>
                <a:tab algn="l" pos="1765440"/>
                <a:tab algn="l" pos="2206800"/>
                <a:tab algn="l" pos="2647800"/>
                <a:tab algn="l" pos="3089160"/>
                <a:tab algn="l" pos="3530520"/>
                <a:tab algn="l" pos="3971880"/>
                <a:tab algn="l" pos="4413240"/>
                <a:tab algn="l" pos="4854600"/>
                <a:tab algn="l" pos="5295960"/>
                <a:tab algn="l" pos="5737320"/>
                <a:tab algn="l" pos="6178680"/>
                <a:tab algn="l" pos="6620040"/>
                <a:tab algn="l" pos="7061040"/>
                <a:tab algn="l" pos="7502400"/>
                <a:tab algn="l" pos="7943760"/>
                <a:tab algn="l" pos="8385120"/>
                <a:tab algn="l" pos="8826480"/>
                <a:tab algn="l" pos="92678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三千零六亿零九十万零四十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882720"/>
                <a:tab algn="l" pos="1324080"/>
                <a:tab algn="l" pos="1765440"/>
                <a:tab algn="l" pos="2206800"/>
                <a:tab algn="l" pos="2647800"/>
                <a:tab algn="l" pos="3089160"/>
                <a:tab algn="l" pos="3530520"/>
                <a:tab algn="l" pos="3971880"/>
                <a:tab algn="l" pos="4413240"/>
                <a:tab algn="l" pos="4854600"/>
                <a:tab algn="l" pos="5295960"/>
                <a:tab algn="l" pos="5737320"/>
                <a:tab algn="l" pos="6178680"/>
                <a:tab algn="l" pos="6620040"/>
                <a:tab algn="l" pos="7061040"/>
                <a:tab algn="l" pos="7502400"/>
                <a:tab algn="l" pos="7943760"/>
                <a:tab algn="l" pos="8385120"/>
                <a:tab algn="l" pos="8826480"/>
                <a:tab algn="l" pos="92678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写作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矩形 11"/>
          <p:cNvSpPr/>
          <p:nvPr/>
        </p:nvSpPr>
        <p:spPr>
          <a:xfrm>
            <a:off x="2276280" y="317988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0248738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矩形 20"/>
          <p:cNvSpPr/>
          <p:nvPr/>
        </p:nvSpPr>
        <p:spPr>
          <a:xfrm>
            <a:off x="2289240" y="42670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060090004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组合 12"/>
          <p:cNvGrpSpPr/>
          <p:nvPr/>
        </p:nvGrpSpPr>
        <p:grpSpPr>
          <a:xfrm>
            <a:off x="1060560" y="1058760"/>
            <a:ext cx="4773600" cy="733680"/>
            <a:chOff x="1060560" y="1058760"/>
            <a:chExt cx="4773600" cy="733680"/>
          </a:xfrm>
        </p:grpSpPr>
        <p:pic>
          <p:nvPicPr>
            <p:cNvPr id="154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3172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文本框 23"/>
            <p:cNvSpPr/>
            <p:nvPr/>
          </p:nvSpPr>
          <p:spPr>
            <a:xfrm>
              <a:off x="1311120" y="105876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TextBox 36"/>
          <p:cNvSpPr/>
          <p:nvPr/>
        </p:nvSpPr>
        <p:spPr>
          <a:xfrm>
            <a:off x="819000" y="1944720"/>
            <a:ext cx="7274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>
              <a:lnSpc>
                <a:spcPct val="150000"/>
              </a:lnSpc>
              <a:tabLst>
                <a:tab algn="l" pos="0"/>
                <a:tab algn="l" pos="882720"/>
                <a:tab algn="l" pos="1324080"/>
                <a:tab algn="l" pos="1765440"/>
                <a:tab algn="l" pos="2206800"/>
                <a:tab algn="l" pos="2647800"/>
                <a:tab algn="l" pos="3089160"/>
                <a:tab algn="l" pos="3530520"/>
                <a:tab algn="l" pos="3971880"/>
                <a:tab algn="l" pos="4413240"/>
                <a:tab algn="l" pos="4854600"/>
                <a:tab algn="l" pos="5295960"/>
                <a:tab algn="l" pos="5737320"/>
                <a:tab algn="l" pos="6178680"/>
                <a:tab algn="l" pos="6620040"/>
                <a:tab algn="l" pos="7061040"/>
                <a:tab algn="l" pos="7502400"/>
                <a:tab algn="l" pos="7943760"/>
                <a:tab algn="l" pos="8385120"/>
                <a:tab algn="l" pos="8826480"/>
                <a:tab algn="l" pos="92678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二十亿三千零五万七千八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>
              <a:lnSpc>
                <a:spcPct val="150000"/>
              </a:lnSpc>
              <a:tabLst>
                <a:tab algn="l" pos="0"/>
                <a:tab algn="l" pos="882720"/>
                <a:tab algn="l" pos="1324080"/>
                <a:tab algn="l" pos="1765440"/>
                <a:tab algn="l" pos="2206800"/>
                <a:tab algn="l" pos="2647800"/>
                <a:tab algn="l" pos="3089160"/>
                <a:tab algn="l" pos="3530520"/>
                <a:tab algn="l" pos="3971880"/>
                <a:tab algn="l" pos="4413240"/>
                <a:tab algn="l" pos="4854600"/>
                <a:tab algn="l" pos="5295960"/>
                <a:tab algn="l" pos="5737320"/>
                <a:tab algn="l" pos="6178680"/>
                <a:tab algn="l" pos="6620040"/>
                <a:tab algn="l" pos="7061040"/>
                <a:tab algn="l" pos="7502400"/>
                <a:tab algn="l" pos="7943760"/>
                <a:tab algn="l" pos="8385120"/>
                <a:tab algn="l" pos="8826480"/>
                <a:tab algn="l" pos="92678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写作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>
              <a:lnSpc>
                <a:spcPct val="150000"/>
              </a:lnSpc>
              <a:tabLst>
                <a:tab algn="l" pos="0"/>
                <a:tab algn="l" pos="882720"/>
                <a:tab algn="l" pos="1324080"/>
                <a:tab algn="l" pos="1765440"/>
                <a:tab algn="l" pos="2206800"/>
                <a:tab algn="l" pos="2647800"/>
                <a:tab algn="l" pos="3089160"/>
                <a:tab algn="l" pos="3530520"/>
                <a:tab algn="l" pos="3971880"/>
                <a:tab algn="l" pos="4413240"/>
                <a:tab algn="l" pos="4854600"/>
                <a:tab algn="l" pos="5295960"/>
                <a:tab algn="l" pos="5737320"/>
                <a:tab algn="l" pos="6178680"/>
                <a:tab algn="l" pos="6620040"/>
                <a:tab algn="l" pos="7061040"/>
                <a:tab algn="l" pos="7502400"/>
                <a:tab algn="l" pos="7943760"/>
                <a:tab algn="l" pos="8385120"/>
                <a:tab algn="l" pos="8826480"/>
                <a:tab algn="l" pos="92678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七亿零三百万二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>
              <a:lnSpc>
                <a:spcPct val="150000"/>
              </a:lnSpc>
              <a:tabLst>
                <a:tab algn="l" pos="0"/>
                <a:tab algn="l" pos="882720"/>
                <a:tab algn="l" pos="1324080"/>
                <a:tab algn="l" pos="1765440"/>
                <a:tab algn="l" pos="2206800"/>
                <a:tab algn="l" pos="2647800"/>
                <a:tab algn="l" pos="3089160"/>
                <a:tab algn="l" pos="3530520"/>
                <a:tab algn="l" pos="3971880"/>
                <a:tab algn="l" pos="4413240"/>
                <a:tab algn="l" pos="4854600"/>
                <a:tab algn="l" pos="5295960"/>
                <a:tab algn="l" pos="5737320"/>
                <a:tab algn="l" pos="6178680"/>
                <a:tab algn="l" pos="6620040"/>
                <a:tab algn="l" pos="7061040"/>
                <a:tab algn="l" pos="7502400"/>
                <a:tab algn="l" pos="7943760"/>
                <a:tab algn="l" pos="8385120"/>
                <a:tab algn="l" pos="8826480"/>
                <a:tab algn="l" pos="92678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写作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矩形 11"/>
          <p:cNvSpPr/>
          <p:nvPr/>
        </p:nvSpPr>
        <p:spPr>
          <a:xfrm>
            <a:off x="2277360" y="259092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300578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矩形 20"/>
          <p:cNvSpPr/>
          <p:nvPr/>
        </p:nvSpPr>
        <p:spPr>
          <a:xfrm>
            <a:off x="2276280" y="371628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03002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16"/>
          <p:cNvSpPr/>
          <p:nvPr/>
        </p:nvSpPr>
        <p:spPr>
          <a:xfrm>
            <a:off x="995400" y="2189160"/>
            <a:ext cx="7370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读亿以上的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一分：分级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二读：从最高位读起，一级一级往下读。亿级的数和万级的数都要按个级数的读法来读，再在后面加一个“亿”字或“万”字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三注意：每级末尾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都不读，其他数位上有一个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文本框 4"/>
          <p:cNvSpPr/>
          <p:nvPr/>
        </p:nvSpPr>
        <p:spPr>
          <a:xfrm>
            <a:off x="1584360" y="1662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归纳总结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直线连接符 38"/>
          <p:cNvSpPr/>
          <p:nvPr/>
        </p:nvSpPr>
        <p:spPr>
          <a:xfrm>
            <a:off x="995400" y="2230560"/>
            <a:ext cx="7164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6T06:02:47Z</dcterms:created>
  <dc:creator>apple apple</dc:creator>
  <dc:description/>
  <dc:language>en-US</dc:language>
  <cp:lastModifiedBy>Administrator</cp:lastModifiedBy>
  <dcterms:modified xsi:type="dcterms:W3CDTF">2017-11-12T12:34:59Z</dcterms:modified>
  <cp:revision>47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