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24.png" ContentType="image/png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8140-1F65-4466-92CF-8F9A52F56C3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14ED-09B9-4D2A-82D9-7639AD6DDB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5508720" y="47628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七       垂线和平行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6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7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0" name="椭圆 40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1" name="椭圆 40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椭圆 41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4" name="椭圆 41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椭圆 42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7" name="椭圆 42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椭圆 43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0" name="椭圆 43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椭圆 44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3" name="椭圆 44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椭圆 45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6" name="椭圆 45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3"/>
          <p:cNvSpPr/>
          <p:nvPr/>
        </p:nvSpPr>
        <p:spPr>
          <a:xfrm>
            <a:off x="4809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平行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80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2"/>
          <p:cNvSpPr/>
          <p:nvPr/>
        </p:nvSpPr>
        <p:spPr>
          <a:xfrm>
            <a:off x="1449360" y="2637000"/>
            <a:ext cx="693900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正确区分平行与垂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区分图形中的平行线和垂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85" name="圆角矩形 6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TextBox 36"/>
          <p:cNvSpPr/>
          <p:nvPr/>
        </p:nvSpPr>
        <p:spPr>
          <a:xfrm>
            <a:off x="819000" y="1728720"/>
            <a:ext cx="749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想一想，选一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沿直线行驶的汽车车轮留下的两条印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互相平行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互相垂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都有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6833880" y="2421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6"/>
          <p:cNvSpPr/>
          <p:nvPr/>
        </p:nvSpPr>
        <p:spPr>
          <a:xfrm>
            <a:off x="819000" y="1728720"/>
            <a:ext cx="749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同一个平面内，两条直线都平行于另一条直线，这两条直线的位置关系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互相平行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互相垂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都有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5048640" y="2421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36"/>
          <p:cNvSpPr/>
          <p:nvPr/>
        </p:nvSpPr>
        <p:spPr>
          <a:xfrm>
            <a:off x="819000" y="1728720"/>
            <a:ext cx="749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同一个平面内，两条直线都垂直于另一条直线，这两条直线的位置关系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互相平行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互相垂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都有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5037840" y="2421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6"/>
          <p:cNvSpPr/>
          <p:nvPr/>
        </p:nvSpPr>
        <p:spPr>
          <a:xfrm>
            <a:off x="819000" y="1728720"/>
            <a:ext cx="749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方形的长和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长方形的两条长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两条短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互相平行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互相垂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都有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3753360" y="1874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7311600" y="184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2816640" y="2406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6"/>
          <p:cNvSpPr/>
          <p:nvPr/>
        </p:nvSpPr>
        <p:spPr>
          <a:xfrm>
            <a:off x="819000" y="1728720"/>
            <a:ext cx="74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把下面图形中互相平行的线段描上相同的颜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427040" y="2884320"/>
            <a:ext cx="6289920" cy="1089360"/>
          </a:xfrm>
          <a:prstGeom prst="rect">
            <a:avLst/>
          </a:prstGeom>
          <a:ln w="0">
            <a:noFill/>
          </a:ln>
        </p:spPr>
      </p:pic>
      <p:sp>
        <p:nvSpPr>
          <p:cNvPr id="100" name="矩形 7"/>
          <p:cNvSpPr/>
          <p:nvPr/>
        </p:nvSpPr>
        <p:spPr>
          <a:xfrm>
            <a:off x="2835000" y="4622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102" name="圆角矩形 12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矩形 7"/>
          <p:cNvSpPr/>
          <p:nvPr/>
        </p:nvSpPr>
        <p:spPr>
          <a:xfrm>
            <a:off x="5292720" y="5519880"/>
            <a:ext cx="11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6"/>
          <p:cNvSpPr/>
          <p:nvPr/>
        </p:nvSpPr>
        <p:spPr>
          <a:xfrm>
            <a:off x="819000" y="1728720"/>
            <a:ext cx="74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图中哪些线段互相平行？哪些线段互相垂直？照样子写一写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题至少各写出两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6"/>
          <p:cNvSpPr/>
          <p:nvPr/>
        </p:nvSpPr>
        <p:spPr>
          <a:xfrm>
            <a:off x="826920" y="2803680"/>
            <a:ext cx="7493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相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相垂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"/>
          <p:cNvPicPr/>
          <p:nvPr/>
        </p:nvPicPr>
        <p:blipFill>
          <a:blip r:embed="rId2"/>
          <a:stretch/>
        </p:blipFill>
        <p:spPr>
          <a:xfrm>
            <a:off x="1976400" y="3065400"/>
            <a:ext cx="1646280" cy="1854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"/>
          <p:cNvPicPr/>
          <p:nvPr/>
        </p:nvPicPr>
        <p:blipFill>
          <a:blip r:embed="rId3"/>
          <a:stretch/>
        </p:blipFill>
        <p:spPr>
          <a:xfrm>
            <a:off x="5477040" y="3189240"/>
            <a:ext cx="224136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14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16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矩形 12" descr=""/>
          <p:cNvPicPr/>
          <p:nvPr/>
        </p:nvPicPr>
        <p:blipFill>
          <a:blip r:embed="rId5"/>
          <a:stretch/>
        </p:blipFill>
        <p:spPr>
          <a:xfrm>
            <a:off x="1468440" y="1328760"/>
            <a:ext cx="6207120" cy="181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7-11-12T12:48:39Z</dcterms:modified>
  <cp:revision>36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