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C64D1-0492-4C4E-AC8A-72D66AFE883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D15A0-2D3E-4BCF-8DBE-8693A635637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4D656-64E1-4192-9244-ABBD855F0B0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56AD9-D331-431E-A346-20A90C1C4FF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53440-96A9-434A-AF8C-02944294C7F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8182D-1D46-41E0-99BD-2E0A4F0269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C888FE-149A-46A8-8355-3F893639DF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657B1-C001-477D-AB7C-CA622DB87C9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DFDB-42D7-4029-A013-FACAA183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D30-FD1F-444F-9C3E-622573EB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EC7-1A4B-4967-9672-48D74143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3A0E-3698-49D4-ACBB-D8E84A54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529-78CA-47C8-B457-8972EC17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92D-1CFC-45F4-9FC4-B3A306B2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669F-43FA-4BF5-B665-15C5EFED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D3F-9B90-40C0-9A86-ED40748C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97A-BC6F-487A-A409-92ADF83F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B2F-797D-4C26-AE01-39F0A8A7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FF7-1B83-44A8-B66A-00BBB4B4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A5A-CF0C-48C4-8DA2-789ED6BA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639DE-454B-4C09-920E-7DC8ACAA1A7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38468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019320" y="2316240"/>
            <a:ext cx="5904000" cy="405612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4017960" y="190008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2955960" y="3592440"/>
            <a:ext cx="59673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妙语”，是有意味或动听的言语。“试卷”指考试时提供给应试人写答案或应试人已经写上答案的卷子。我们常见的试卷批改，无非是标对错符号，或者标注正确答案以及几句简要的评语。那么，在这次考试中，康有为是怎样“妙语”批试卷的呢？让我们走进课文，去看看那张批有“妙语”的试卷，感受语言文字的妙处吧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8" name="组合 8"/>
          <p:cNvGrpSpPr/>
          <p:nvPr/>
        </p:nvGrpSpPr>
        <p:grpSpPr>
          <a:xfrm>
            <a:off x="1258920" y="3975120"/>
            <a:ext cx="2840040" cy="1571760"/>
            <a:chOff x="1258920" y="3975120"/>
            <a:chExt cx="2840040" cy="1571760"/>
          </a:xfrm>
        </p:grpSpPr>
        <p:pic>
          <p:nvPicPr>
            <p:cNvPr id="169" name="图示 4" descr=""/>
            <p:cNvPicPr/>
            <p:nvPr/>
          </p:nvPicPr>
          <p:blipFill>
            <a:blip r:embed="rId1"/>
            <a:stretch/>
          </p:blipFill>
          <p:spPr>
            <a:xfrm>
              <a:off x="125892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矩形 2"/>
            <p:cNvSpPr/>
            <p:nvPr/>
          </p:nvSpPr>
          <p:spPr>
            <a:xfrm>
              <a:off x="1302480" y="4587840"/>
              <a:ext cx="277236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撇稍短，横稍上挑，斜钩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29"/>
          <p:cNvSpPr/>
          <p:nvPr/>
        </p:nvSpPr>
        <p:spPr>
          <a:xfrm>
            <a:off x="5560920" y="3182760"/>
            <a:ext cx="754200" cy="1584360"/>
          </a:xfrm>
          <a:custGeom>
            <a:avLst/>
            <a:gdLst/>
            <a:ahLst/>
            <a:rect l="l" t="t" r="r" b="b"/>
            <a:pathLst>
              <a:path w="951" h="1997">
                <a:moveTo>
                  <a:pt x="623" y="1573"/>
                </a:moveTo>
                <a:lnTo>
                  <a:pt x="601" y="1590"/>
                </a:lnTo>
                <a:lnTo>
                  <a:pt x="582" y="1607"/>
                </a:lnTo>
                <a:lnTo>
                  <a:pt x="563" y="1625"/>
                </a:lnTo>
                <a:lnTo>
                  <a:pt x="544" y="1640"/>
                </a:lnTo>
                <a:lnTo>
                  <a:pt x="527" y="1655"/>
                </a:lnTo>
                <a:lnTo>
                  <a:pt x="509" y="1671"/>
                </a:lnTo>
                <a:lnTo>
                  <a:pt x="492" y="1684"/>
                </a:lnTo>
                <a:lnTo>
                  <a:pt x="477" y="1699"/>
                </a:lnTo>
                <a:lnTo>
                  <a:pt x="459" y="1713"/>
                </a:lnTo>
                <a:lnTo>
                  <a:pt x="446" y="1726"/>
                </a:lnTo>
                <a:lnTo>
                  <a:pt x="431" y="1740"/>
                </a:lnTo>
                <a:lnTo>
                  <a:pt x="417" y="1751"/>
                </a:lnTo>
                <a:lnTo>
                  <a:pt x="404" y="1763"/>
                </a:lnTo>
                <a:lnTo>
                  <a:pt x="390" y="1774"/>
                </a:lnTo>
                <a:lnTo>
                  <a:pt x="377" y="1786"/>
                </a:lnTo>
                <a:lnTo>
                  <a:pt x="365" y="1797"/>
                </a:lnTo>
                <a:lnTo>
                  <a:pt x="354" y="1807"/>
                </a:lnTo>
                <a:lnTo>
                  <a:pt x="344" y="1816"/>
                </a:lnTo>
                <a:lnTo>
                  <a:pt x="335" y="1826"/>
                </a:lnTo>
                <a:lnTo>
                  <a:pt x="325" y="1836"/>
                </a:lnTo>
                <a:lnTo>
                  <a:pt x="315" y="1843"/>
                </a:lnTo>
                <a:lnTo>
                  <a:pt x="308" y="1851"/>
                </a:lnTo>
                <a:lnTo>
                  <a:pt x="300" y="1859"/>
                </a:lnTo>
                <a:lnTo>
                  <a:pt x="292" y="1866"/>
                </a:lnTo>
                <a:lnTo>
                  <a:pt x="285" y="1872"/>
                </a:lnTo>
                <a:lnTo>
                  <a:pt x="279" y="1880"/>
                </a:lnTo>
                <a:lnTo>
                  <a:pt x="273" y="1885"/>
                </a:lnTo>
                <a:lnTo>
                  <a:pt x="269" y="1889"/>
                </a:lnTo>
                <a:lnTo>
                  <a:pt x="265" y="1895"/>
                </a:lnTo>
                <a:lnTo>
                  <a:pt x="262" y="1899"/>
                </a:lnTo>
                <a:lnTo>
                  <a:pt x="258" y="1905"/>
                </a:lnTo>
                <a:lnTo>
                  <a:pt x="256" y="1908"/>
                </a:lnTo>
                <a:lnTo>
                  <a:pt x="248" y="1916"/>
                </a:lnTo>
                <a:lnTo>
                  <a:pt x="242" y="1926"/>
                </a:lnTo>
                <a:lnTo>
                  <a:pt x="237" y="1933"/>
                </a:lnTo>
                <a:lnTo>
                  <a:pt x="231" y="1941"/>
                </a:lnTo>
                <a:lnTo>
                  <a:pt x="225" y="1947"/>
                </a:lnTo>
                <a:lnTo>
                  <a:pt x="219" y="1953"/>
                </a:lnTo>
                <a:lnTo>
                  <a:pt x="214" y="1960"/>
                </a:lnTo>
                <a:lnTo>
                  <a:pt x="208" y="1964"/>
                </a:lnTo>
                <a:lnTo>
                  <a:pt x="198" y="1974"/>
                </a:lnTo>
                <a:lnTo>
                  <a:pt x="189" y="1981"/>
                </a:lnTo>
                <a:lnTo>
                  <a:pt x="179" y="1989"/>
                </a:lnTo>
                <a:lnTo>
                  <a:pt x="169" y="1995"/>
                </a:lnTo>
                <a:lnTo>
                  <a:pt x="162" y="1997"/>
                </a:lnTo>
                <a:lnTo>
                  <a:pt x="156" y="1997"/>
                </a:lnTo>
                <a:lnTo>
                  <a:pt x="148" y="1997"/>
                </a:lnTo>
                <a:lnTo>
                  <a:pt x="143" y="1997"/>
                </a:lnTo>
                <a:lnTo>
                  <a:pt x="135" y="1995"/>
                </a:lnTo>
                <a:lnTo>
                  <a:pt x="129" y="1991"/>
                </a:lnTo>
                <a:lnTo>
                  <a:pt x="121" y="1987"/>
                </a:lnTo>
                <a:lnTo>
                  <a:pt x="116" y="1983"/>
                </a:lnTo>
                <a:lnTo>
                  <a:pt x="108" y="1978"/>
                </a:lnTo>
                <a:lnTo>
                  <a:pt x="100" y="1970"/>
                </a:lnTo>
                <a:lnTo>
                  <a:pt x="95" y="1962"/>
                </a:lnTo>
                <a:lnTo>
                  <a:pt x="87" y="1954"/>
                </a:lnTo>
                <a:lnTo>
                  <a:pt x="81" y="1945"/>
                </a:lnTo>
                <a:lnTo>
                  <a:pt x="73" y="1933"/>
                </a:lnTo>
                <a:lnTo>
                  <a:pt x="68" y="1920"/>
                </a:lnTo>
                <a:lnTo>
                  <a:pt x="60" y="1908"/>
                </a:lnTo>
                <a:lnTo>
                  <a:pt x="54" y="1897"/>
                </a:lnTo>
                <a:lnTo>
                  <a:pt x="47" y="1885"/>
                </a:lnTo>
                <a:lnTo>
                  <a:pt x="41" y="1876"/>
                </a:lnTo>
                <a:lnTo>
                  <a:pt x="35" y="1864"/>
                </a:lnTo>
                <a:lnTo>
                  <a:pt x="31" y="1857"/>
                </a:lnTo>
                <a:lnTo>
                  <a:pt x="25" y="1847"/>
                </a:lnTo>
                <a:lnTo>
                  <a:pt x="22" y="1839"/>
                </a:lnTo>
                <a:lnTo>
                  <a:pt x="16" y="1832"/>
                </a:lnTo>
                <a:lnTo>
                  <a:pt x="10" y="1816"/>
                </a:lnTo>
                <a:lnTo>
                  <a:pt x="6" y="1811"/>
                </a:lnTo>
                <a:lnTo>
                  <a:pt x="4" y="1805"/>
                </a:lnTo>
                <a:lnTo>
                  <a:pt x="2" y="1799"/>
                </a:lnTo>
                <a:lnTo>
                  <a:pt x="0" y="1793"/>
                </a:lnTo>
                <a:lnTo>
                  <a:pt x="0" y="1788"/>
                </a:lnTo>
                <a:lnTo>
                  <a:pt x="0" y="1784"/>
                </a:lnTo>
                <a:lnTo>
                  <a:pt x="0" y="1782"/>
                </a:lnTo>
                <a:lnTo>
                  <a:pt x="0" y="1778"/>
                </a:lnTo>
                <a:lnTo>
                  <a:pt x="2" y="1774"/>
                </a:lnTo>
                <a:lnTo>
                  <a:pt x="4" y="1770"/>
                </a:lnTo>
                <a:lnTo>
                  <a:pt x="6" y="1766"/>
                </a:lnTo>
                <a:lnTo>
                  <a:pt x="10" y="1761"/>
                </a:lnTo>
                <a:lnTo>
                  <a:pt x="14" y="1755"/>
                </a:lnTo>
                <a:lnTo>
                  <a:pt x="18" y="1749"/>
                </a:lnTo>
                <a:lnTo>
                  <a:pt x="22" y="1743"/>
                </a:lnTo>
                <a:lnTo>
                  <a:pt x="27" y="1738"/>
                </a:lnTo>
                <a:lnTo>
                  <a:pt x="33" y="1730"/>
                </a:lnTo>
                <a:lnTo>
                  <a:pt x="41" y="1724"/>
                </a:lnTo>
                <a:lnTo>
                  <a:pt x="48" y="1717"/>
                </a:lnTo>
                <a:lnTo>
                  <a:pt x="56" y="1711"/>
                </a:lnTo>
                <a:lnTo>
                  <a:pt x="64" y="1703"/>
                </a:lnTo>
                <a:lnTo>
                  <a:pt x="73" y="1697"/>
                </a:lnTo>
                <a:lnTo>
                  <a:pt x="77" y="1694"/>
                </a:lnTo>
                <a:lnTo>
                  <a:pt x="81" y="1688"/>
                </a:lnTo>
                <a:lnTo>
                  <a:pt x="85" y="1684"/>
                </a:lnTo>
                <a:lnTo>
                  <a:pt x="91" y="1678"/>
                </a:lnTo>
                <a:lnTo>
                  <a:pt x="95" y="1671"/>
                </a:lnTo>
                <a:lnTo>
                  <a:pt x="98" y="1665"/>
                </a:lnTo>
                <a:lnTo>
                  <a:pt x="102" y="1657"/>
                </a:lnTo>
                <a:lnTo>
                  <a:pt x="106" y="1648"/>
                </a:lnTo>
                <a:lnTo>
                  <a:pt x="110" y="1640"/>
                </a:lnTo>
                <a:lnTo>
                  <a:pt x="114" y="1630"/>
                </a:lnTo>
                <a:lnTo>
                  <a:pt x="118" y="1619"/>
                </a:lnTo>
                <a:lnTo>
                  <a:pt x="121" y="1609"/>
                </a:lnTo>
                <a:lnTo>
                  <a:pt x="125" y="1598"/>
                </a:lnTo>
                <a:lnTo>
                  <a:pt x="129" y="1586"/>
                </a:lnTo>
                <a:lnTo>
                  <a:pt x="133" y="1573"/>
                </a:lnTo>
                <a:lnTo>
                  <a:pt x="137" y="1559"/>
                </a:lnTo>
                <a:lnTo>
                  <a:pt x="139" y="1546"/>
                </a:lnTo>
                <a:lnTo>
                  <a:pt x="143" y="1532"/>
                </a:lnTo>
                <a:lnTo>
                  <a:pt x="146" y="1517"/>
                </a:lnTo>
                <a:lnTo>
                  <a:pt x="150" y="1502"/>
                </a:lnTo>
                <a:lnTo>
                  <a:pt x="152" y="1486"/>
                </a:lnTo>
                <a:lnTo>
                  <a:pt x="156" y="1469"/>
                </a:lnTo>
                <a:lnTo>
                  <a:pt x="158" y="1452"/>
                </a:lnTo>
                <a:lnTo>
                  <a:pt x="162" y="1435"/>
                </a:lnTo>
                <a:lnTo>
                  <a:pt x="164" y="1417"/>
                </a:lnTo>
                <a:lnTo>
                  <a:pt x="168" y="1398"/>
                </a:lnTo>
                <a:lnTo>
                  <a:pt x="169" y="1379"/>
                </a:lnTo>
                <a:lnTo>
                  <a:pt x="173" y="1360"/>
                </a:lnTo>
                <a:lnTo>
                  <a:pt x="175" y="1339"/>
                </a:lnTo>
                <a:lnTo>
                  <a:pt x="177" y="1318"/>
                </a:lnTo>
                <a:lnTo>
                  <a:pt x="179" y="1297"/>
                </a:lnTo>
                <a:lnTo>
                  <a:pt x="183" y="1275"/>
                </a:lnTo>
                <a:lnTo>
                  <a:pt x="187" y="1187"/>
                </a:lnTo>
                <a:lnTo>
                  <a:pt x="191" y="1097"/>
                </a:lnTo>
                <a:lnTo>
                  <a:pt x="194" y="1005"/>
                </a:lnTo>
                <a:lnTo>
                  <a:pt x="196" y="913"/>
                </a:lnTo>
                <a:lnTo>
                  <a:pt x="198" y="819"/>
                </a:lnTo>
                <a:lnTo>
                  <a:pt x="198" y="725"/>
                </a:lnTo>
                <a:lnTo>
                  <a:pt x="198" y="629"/>
                </a:lnTo>
                <a:lnTo>
                  <a:pt x="196" y="581"/>
                </a:lnTo>
                <a:lnTo>
                  <a:pt x="194" y="533"/>
                </a:lnTo>
                <a:lnTo>
                  <a:pt x="192" y="510"/>
                </a:lnTo>
                <a:lnTo>
                  <a:pt x="192" y="487"/>
                </a:lnTo>
                <a:lnTo>
                  <a:pt x="191" y="466"/>
                </a:lnTo>
                <a:lnTo>
                  <a:pt x="191" y="445"/>
                </a:lnTo>
                <a:lnTo>
                  <a:pt x="189" y="424"/>
                </a:lnTo>
                <a:lnTo>
                  <a:pt x="187" y="403"/>
                </a:lnTo>
                <a:lnTo>
                  <a:pt x="187" y="383"/>
                </a:lnTo>
                <a:lnTo>
                  <a:pt x="185" y="366"/>
                </a:lnTo>
                <a:lnTo>
                  <a:pt x="183" y="347"/>
                </a:lnTo>
                <a:lnTo>
                  <a:pt x="183" y="330"/>
                </a:lnTo>
                <a:lnTo>
                  <a:pt x="181" y="312"/>
                </a:lnTo>
                <a:lnTo>
                  <a:pt x="179" y="295"/>
                </a:lnTo>
                <a:lnTo>
                  <a:pt x="177" y="280"/>
                </a:lnTo>
                <a:lnTo>
                  <a:pt x="175" y="264"/>
                </a:lnTo>
                <a:lnTo>
                  <a:pt x="175" y="251"/>
                </a:lnTo>
                <a:lnTo>
                  <a:pt x="173" y="236"/>
                </a:lnTo>
                <a:lnTo>
                  <a:pt x="171" y="224"/>
                </a:lnTo>
                <a:lnTo>
                  <a:pt x="169" y="211"/>
                </a:lnTo>
                <a:lnTo>
                  <a:pt x="168" y="199"/>
                </a:lnTo>
                <a:lnTo>
                  <a:pt x="166" y="188"/>
                </a:lnTo>
                <a:lnTo>
                  <a:pt x="164" y="176"/>
                </a:lnTo>
                <a:lnTo>
                  <a:pt x="162" y="167"/>
                </a:lnTo>
                <a:lnTo>
                  <a:pt x="158" y="157"/>
                </a:lnTo>
                <a:lnTo>
                  <a:pt x="156" y="147"/>
                </a:lnTo>
                <a:lnTo>
                  <a:pt x="154" y="140"/>
                </a:lnTo>
                <a:lnTo>
                  <a:pt x="150" y="132"/>
                </a:lnTo>
                <a:lnTo>
                  <a:pt x="148" y="124"/>
                </a:lnTo>
                <a:lnTo>
                  <a:pt x="146" y="119"/>
                </a:lnTo>
                <a:lnTo>
                  <a:pt x="143" y="113"/>
                </a:lnTo>
                <a:lnTo>
                  <a:pt x="139" y="107"/>
                </a:lnTo>
                <a:lnTo>
                  <a:pt x="137" y="103"/>
                </a:lnTo>
                <a:lnTo>
                  <a:pt x="133" y="99"/>
                </a:lnTo>
                <a:lnTo>
                  <a:pt x="127" y="92"/>
                </a:lnTo>
                <a:lnTo>
                  <a:pt x="121" y="86"/>
                </a:lnTo>
                <a:lnTo>
                  <a:pt x="116" y="78"/>
                </a:lnTo>
                <a:lnTo>
                  <a:pt x="110" y="73"/>
                </a:lnTo>
                <a:lnTo>
                  <a:pt x="106" y="67"/>
                </a:lnTo>
                <a:lnTo>
                  <a:pt x="104" y="61"/>
                </a:lnTo>
                <a:lnTo>
                  <a:pt x="102" y="55"/>
                </a:lnTo>
                <a:lnTo>
                  <a:pt x="100" y="52"/>
                </a:lnTo>
                <a:lnTo>
                  <a:pt x="98" y="46"/>
                </a:lnTo>
                <a:lnTo>
                  <a:pt x="100" y="40"/>
                </a:lnTo>
                <a:lnTo>
                  <a:pt x="100" y="36"/>
                </a:lnTo>
                <a:lnTo>
                  <a:pt x="102" y="30"/>
                </a:lnTo>
                <a:lnTo>
                  <a:pt x="106" y="27"/>
                </a:lnTo>
                <a:lnTo>
                  <a:pt x="110" y="21"/>
                </a:lnTo>
                <a:lnTo>
                  <a:pt x="116" y="17"/>
                </a:lnTo>
                <a:lnTo>
                  <a:pt x="121" y="11"/>
                </a:lnTo>
                <a:lnTo>
                  <a:pt x="129" y="7"/>
                </a:lnTo>
                <a:lnTo>
                  <a:pt x="137" y="4"/>
                </a:lnTo>
                <a:lnTo>
                  <a:pt x="146" y="2"/>
                </a:lnTo>
                <a:lnTo>
                  <a:pt x="156" y="0"/>
                </a:lnTo>
                <a:lnTo>
                  <a:pt x="166" y="0"/>
                </a:lnTo>
                <a:lnTo>
                  <a:pt x="179" y="0"/>
                </a:lnTo>
                <a:lnTo>
                  <a:pt x="191" y="0"/>
                </a:lnTo>
                <a:lnTo>
                  <a:pt x="204" y="2"/>
                </a:lnTo>
                <a:lnTo>
                  <a:pt x="219" y="5"/>
                </a:lnTo>
                <a:lnTo>
                  <a:pt x="235" y="7"/>
                </a:lnTo>
                <a:lnTo>
                  <a:pt x="252" y="13"/>
                </a:lnTo>
                <a:lnTo>
                  <a:pt x="271" y="19"/>
                </a:lnTo>
                <a:lnTo>
                  <a:pt x="288" y="25"/>
                </a:lnTo>
                <a:lnTo>
                  <a:pt x="310" y="32"/>
                </a:lnTo>
                <a:lnTo>
                  <a:pt x="331" y="40"/>
                </a:lnTo>
                <a:lnTo>
                  <a:pt x="354" y="50"/>
                </a:lnTo>
                <a:lnTo>
                  <a:pt x="354" y="115"/>
                </a:lnTo>
                <a:lnTo>
                  <a:pt x="354" y="178"/>
                </a:lnTo>
                <a:lnTo>
                  <a:pt x="354" y="239"/>
                </a:lnTo>
                <a:lnTo>
                  <a:pt x="354" y="301"/>
                </a:lnTo>
                <a:lnTo>
                  <a:pt x="352" y="360"/>
                </a:lnTo>
                <a:lnTo>
                  <a:pt x="352" y="418"/>
                </a:lnTo>
                <a:lnTo>
                  <a:pt x="352" y="474"/>
                </a:lnTo>
                <a:lnTo>
                  <a:pt x="352" y="527"/>
                </a:lnTo>
                <a:lnTo>
                  <a:pt x="352" y="579"/>
                </a:lnTo>
                <a:lnTo>
                  <a:pt x="352" y="631"/>
                </a:lnTo>
                <a:lnTo>
                  <a:pt x="352" y="679"/>
                </a:lnTo>
                <a:lnTo>
                  <a:pt x="352" y="727"/>
                </a:lnTo>
                <a:lnTo>
                  <a:pt x="352" y="773"/>
                </a:lnTo>
                <a:lnTo>
                  <a:pt x="352" y="817"/>
                </a:lnTo>
                <a:lnTo>
                  <a:pt x="352" y="859"/>
                </a:lnTo>
                <a:lnTo>
                  <a:pt x="352" y="901"/>
                </a:lnTo>
                <a:lnTo>
                  <a:pt x="352" y="940"/>
                </a:lnTo>
                <a:lnTo>
                  <a:pt x="350" y="978"/>
                </a:lnTo>
                <a:lnTo>
                  <a:pt x="350" y="1013"/>
                </a:lnTo>
                <a:lnTo>
                  <a:pt x="350" y="1047"/>
                </a:lnTo>
                <a:lnTo>
                  <a:pt x="350" y="1080"/>
                </a:lnTo>
                <a:lnTo>
                  <a:pt x="348" y="1110"/>
                </a:lnTo>
                <a:lnTo>
                  <a:pt x="348" y="1141"/>
                </a:lnTo>
                <a:lnTo>
                  <a:pt x="348" y="1168"/>
                </a:lnTo>
                <a:lnTo>
                  <a:pt x="346" y="1193"/>
                </a:lnTo>
                <a:lnTo>
                  <a:pt x="346" y="1218"/>
                </a:lnTo>
                <a:lnTo>
                  <a:pt x="346" y="1239"/>
                </a:lnTo>
                <a:lnTo>
                  <a:pt x="344" y="1260"/>
                </a:lnTo>
                <a:lnTo>
                  <a:pt x="344" y="1279"/>
                </a:lnTo>
                <a:lnTo>
                  <a:pt x="342" y="1297"/>
                </a:lnTo>
                <a:lnTo>
                  <a:pt x="342" y="1312"/>
                </a:lnTo>
                <a:lnTo>
                  <a:pt x="340" y="1325"/>
                </a:lnTo>
                <a:lnTo>
                  <a:pt x="338" y="1350"/>
                </a:lnTo>
                <a:lnTo>
                  <a:pt x="336" y="1373"/>
                </a:lnTo>
                <a:lnTo>
                  <a:pt x="335" y="1396"/>
                </a:lnTo>
                <a:lnTo>
                  <a:pt x="335" y="1417"/>
                </a:lnTo>
                <a:lnTo>
                  <a:pt x="333" y="1438"/>
                </a:lnTo>
                <a:lnTo>
                  <a:pt x="333" y="1456"/>
                </a:lnTo>
                <a:lnTo>
                  <a:pt x="333" y="1473"/>
                </a:lnTo>
                <a:lnTo>
                  <a:pt x="333" y="1488"/>
                </a:lnTo>
                <a:lnTo>
                  <a:pt x="333" y="1504"/>
                </a:lnTo>
                <a:lnTo>
                  <a:pt x="333" y="1517"/>
                </a:lnTo>
                <a:lnTo>
                  <a:pt x="333" y="1529"/>
                </a:lnTo>
                <a:lnTo>
                  <a:pt x="335" y="1538"/>
                </a:lnTo>
                <a:lnTo>
                  <a:pt x="335" y="1546"/>
                </a:lnTo>
                <a:lnTo>
                  <a:pt x="336" y="1552"/>
                </a:lnTo>
                <a:lnTo>
                  <a:pt x="338" y="1557"/>
                </a:lnTo>
                <a:lnTo>
                  <a:pt x="340" y="1561"/>
                </a:lnTo>
                <a:lnTo>
                  <a:pt x="342" y="1561"/>
                </a:lnTo>
                <a:lnTo>
                  <a:pt x="344" y="1561"/>
                </a:lnTo>
                <a:lnTo>
                  <a:pt x="346" y="1563"/>
                </a:lnTo>
                <a:lnTo>
                  <a:pt x="350" y="1561"/>
                </a:lnTo>
                <a:lnTo>
                  <a:pt x="352" y="1561"/>
                </a:lnTo>
                <a:lnTo>
                  <a:pt x="356" y="1561"/>
                </a:lnTo>
                <a:lnTo>
                  <a:pt x="361" y="1559"/>
                </a:lnTo>
                <a:lnTo>
                  <a:pt x="365" y="1557"/>
                </a:lnTo>
                <a:lnTo>
                  <a:pt x="371" y="1555"/>
                </a:lnTo>
                <a:lnTo>
                  <a:pt x="377" y="1554"/>
                </a:lnTo>
                <a:lnTo>
                  <a:pt x="384" y="1552"/>
                </a:lnTo>
                <a:lnTo>
                  <a:pt x="392" y="1548"/>
                </a:lnTo>
                <a:lnTo>
                  <a:pt x="400" y="1546"/>
                </a:lnTo>
                <a:lnTo>
                  <a:pt x="407" y="1542"/>
                </a:lnTo>
                <a:lnTo>
                  <a:pt x="415" y="1538"/>
                </a:lnTo>
                <a:lnTo>
                  <a:pt x="425" y="1532"/>
                </a:lnTo>
                <a:lnTo>
                  <a:pt x="434" y="1529"/>
                </a:lnTo>
                <a:lnTo>
                  <a:pt x="446" y="1523"/>
                </a:lnTo>
                <a:lnTo>
                  <a:pt x="455" y="1517"/>
                </a:lnTo>
                <a:lnTo>
                  <a:pt x="467" y="1511"/>
                </a:lnTo>
                <a:lnTo>
                  <a:pt x="479" y="1506"/>
                </a:lnTo>
                <a:lnTo>
                  <a:pt x="492" y="1498"/>
                </a:lnTo>
                <a:lnTo>
                  <a:pt x="503" y="1492"/>
                </a:lnTo>
                <a:lnTo>
                  <a:pt x="517" y="1485"/>
                </a:lnTo>
                <a:lnTo>
                  <a:pt x="532" y="1477"/>
                </a:lnTo>
                <a:lnTo>
                  <a:pt x="546" y="1469"/>
                </a:lnTo>
                <a:lnTo>
                  <a:pt x="561" y="1460"/>
                </a:lnTo>
                <a:lnTo>
                  <a:pt x="576" y="1452"/>
                </a:lnTo>
                <a:lnTo>
                  <a:pt x="594" y="1442"/>
                </a:lnTo>
                <a:lnTo>
                  <a:pt x="611" y="1433"/>
                </a:lnTo>
                <a:lnTo>
                  <a:pt x="628" y="1421"/>
                </a:lnTo>
                <a:lnTo>
                  <a:pt x="646" y="1412"/>
                </a:lnTo>
                <a:lnTo>
                  <a:pt x="678" y="1391"/>
                </a:lnTo>
                <a:lnTo>
                  <a:pt x="711" y="1371"/>
                </a:lnTo>
                <a:lnTo>
                  <a:pt x="740" y="1354"/>
                </a:lnTo>
                <a:lnTo>
                  <a:pt x="768" y="1339"/>
                </a:lnTo>
                <a:lnTo>
                  <a:pt x="795" y="1325"/>
                </a:lnTo>
                <a:lnTo>
                  <a:pt x="818" y="1312"/>
                </a:lnTo>
                <a:lnTo>
                  <a:pt x="830" y="1306"/>
                </a:lnTo>
                <a:lnTo>
                  <a:pt x="841" y="1300"/>
                </a:lnTo>
                <a:lnTo>
                  <a:pt x="853" y="1295"/>
                </a:lnTo>
                <a:lnTo>
                  <a:pt x="862" y="1291"/>
                </a:lnTo>
                <a:lnTo>
                  <a:pt x="872" y="1285"/>
                </a:lnTo>
                <a:lnTo>
                  <a:pt x="880" y="1281"/>
                </a:lnTo>
                <a:lnTo>
                  <a:pt x="889" y="1277"/>
                </a:lnTo>
                <a:lnTo>
                  <a:pt x="897" y="1275"/>
                </a:lnTo>
                <a:lnTo>
                  <a:pt x="905" y="1272"/>
                </a:lnTo>
                <a:lnTo>
                  <a:pt x="910" y="1270"/>
                </a:lnTo>
                <a:lnTo>
                  <a:pt x="918" y="1268"/>
                </a:lnTo>
                <a:lnTo>
                  <a:pt x="924" y="1266"/>
                </a:lnTo>
                <a:lnTo>
                  <a:pt x="930" y="1264"/>
                </a:lnTo>
                <a:lnTo>
                  <a:pt x="934" y="1262"/>
                </a:lnTo>
                <a:lnTo>
                  <a:pt x="937" y="1262"/>
                </a:lnTo>
                <a:lnTo>
                  <a:pt x="941" y="1262"/>
                </a:lnTo>
                <a:lnTo>
                  <a:pt x="945" y="1262"/>
                </a:lnTo>
                <a:lnTo>
                  <a:pt x="947" y="1262"/>
                </a:lnTo>
                <a:lnTo>
                  <a:pt x="949" y="1262"/>
                </a:lnTo>
                <a:lnTo>
                  <a:pt x="951" y="1264"/>
                </a:lnTo>
                <a:lnTo>
                  <a:pt x="951" y="1266"/>
                </a:lnTo>
                <a:lnTo>
                  <a:pt x="951" y="1268"/>
                </a:lnTo>
                <a:lnTo>
                  <a:pt x="951" y="1272"/>
                </a:lnTo>
                <a:lnTo>
                  <a:pt x="949" y="1275"/>
                </a:lnTo>
                <a:lnTo>
                  <a:pt x="947" y="1279"/>
                </a:lnTo>
                <a:lnTo>
                  <a:pt x="945" y="1285"/>
                </a:lnTo>
                <a:lnTo>
                  <a:pt x="941" y="1291"/>
                </a:lnTo>
                <a:lnTo>
                  <a:pt x="937" y="1295"/>
                </a:lnTo>
                <a:lnTo>
                  <a:pt x="932" y="1302"/>
                </a:lnTo>
                <a:lnTo>
                  <a:pt x="926" y="1308"/>
                </a:lnTo>
                <a:lnTo>
                  <a:pt x="920" y="1316"/>
                </a:lnTo>
                <a:lnTo>
                  <a:pt x="912" y="1321"/>
                </a:lnTo>
                <a:lnTo>
                  <a:pt x="905" y="1331"/>
                </a:lnTo>
                <a:lnTo>
                  <a:pt x="895" y="1339"/>
                </a:lnTo>
                <a:lnTo>
                  <a:pt x="887" y="1348"/>
                </a:lnTo>
                <a:lnTo>
                  <a:pt x="876" y="1356"/>
                </a:lnTo>
                <a:lnTo>
                  <a:pt x="866" y="1366"/>
                </a:lnTo>
                <a:lnTo>
                  <a:pt x="855" y="1377"/>
                </a:lnTo>
                <a:lnTo>
                  <a:pt x="843" y="1387"/>
                </a:lnTo>
                <a:lnTo>
                  <a:pt x="830" y="1398"/>
                </a:lnTo>
                <a:lnTo>
                  <a:pt x="816" y="1410"/>
                </a:lnTo>
                <a:lnTo>
                  <a:pt x="801" y="1423"/>
                </a:lnTo>
                <a:lnTo>
                  <a:pt x="788" y="1435"/>
                </a:lnTo>
                <a:lnTo>
                  <a:pt x="772" y="1448"/>
                </a:lnTo>
                <a:lnTo>
                  <a:pt x="755" y="1461"/>
                </a:lnTo>
                <a:lnTo>
                  <a:pt x="738" y="1477"/>
                </a:lnTo>
                <a:lnTo>
                  <a:pt x="720" y="1492"/>
                </a:lnTo>
                <a:lnTo>
                  <a:pt x="701" y="1506"/>
                </a:lnTo>
                <a:lnTo>
                  <a:pt x="684" y="1523"/>
                </a:lnTo>
                <a:lnTo>
                  <a:pt x="663" y="1538"/>
                </a:lnTo>
                <a:lnTo>
                  <a:pt x="644" y="1555"/>
                </a:lnTo>
                <a:lnTo>
                  <a:pt x="623" y="1573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30"/>
          <p:cNvSpPr/>
          <p:nvPr/>
        </p:nvSpPr>
        <p:spPr>
          <a:xfrm>
            <a:off x="5735520" y="2786040"/>
            <a:ext cx="1035000" cy="507960"/>
          </a:xfrm>
          <a:custGeom>
            <a:avLst/>
            <a:gdLst/>
            <a:ahLst/>
            <a:rect l="l" t="t" r="r" b="b"/>
            <a:pathLst>
              <a:path w="1306" h="641">
                <a:moveTo>
                  <a:pt x="0" y="600"/>
                </a:moveTo>
                <a:lnTo>
                  <a:pt x="46" y="581"/>
                </a:lnTo>
                <a:lnTo>
                  <a:pt x="91" y="562"/>
                </a:lnTo>
                <a:lnTo>
                  <a:pt x="135" y="545"/>
                </a:lnTo>
                <a:lnTo>
                  <a:pt x="177" y="528"/>
                </a:lnTo>
                <a:lnTo>
                  <a:pt x="219" y="510"/>
                </a:lnTo>
                <a:lnTo>
                  <a:pt x="260" y="493"/>
                </a:lnTo>
                <a:lnTo>
                  <a:pt x="300" y="478"/>
                </a:lnTo>
                <a:lnTo>
                  <a:pt x="338" y="462"/>
                </a:lnTo>
                <a:lnTo>
                  <a:pt x="375" y="445"/>
                </a:lnTo>
                <a:lnTo>
                  <a:pt x="411" y="432"/>
                </a:lnTo>
                <a:lnTo>
                  <a:pt x="446" y="416"/>
                </a:lnTo>
                <a:lnTo>
                  <a:pt x="478" y="403"/>
                </a:lnTo>
                <a:lnTo>
                  <a:pt x="511" y="388"/>
                </a:lnTo>
                <a:lnTo>
                  <a:pt x="544" y="374"/>
                </a:lnTo>
                <a:lnTo>
                  <a:pt x="572" y="363"/>
                </a:lnTo>
                <a:lnTo>
                  <a:pt x="601" y="349"/>
                </a:lnTo>
                <a:lnTo>
                  <a:pt x="630" y="338"/>
                </a:lnTo>
                <a:lnTo>
                  <a:pt x="657" y="326"/>
                </a:lnTo>
                <a:lnTo>
                  <a:pt x="682" y="315"/>
                </a:lnTo>
                <a:lnTo>
                  <a:pt x="707" y="303"/>
                </a:lnTo>
                <a:lnTo>
                  <a:pt x="730" y="292"/>
                </a:lnTo>
                <a:lnTo>
                  <a:pt x="751" y="282"/>
                </a:lnTo>
                <a:lnTo>
                  <a:pt x="772" y="272"/>
                </a:lnTo>
                <a:lnTo>
                  <a:pt x="791" y="263"/>
                </a:lnTo>
                <a:lnTo>
                  <a:pt x="809" y="255"/>
                </a:lnTo>
                <a:lnTo>
                  <a:pt x="826" y="246"/>
                </a:lnTo>
                <a:lnTo>
                  <a:pt x="841" y="238"/>
                </a:lnTo>
                <a:lnTo>
                  <a:pt x="857" y="230"/>
                </a:lnTo>
                <a:lnTo>
                  <a:pt x="870" y="223"/>
                </a:lnTo>
                <a:lnTo>
                  <a:pt x="882" y="217"/>
                </a:lnTo>
                <a:lnTo>
                  <a:pt x="893" y="209"/>
                </a:lnTo>
                <a:lnTo>
                  <a:pt x="903" y="203"/>
                </a:lnTo>
                <a:lnTo>
                  <a:pt x="918" y="192"/>
                </a:lnTo>
                <a:lnTo>
                  <a:pt x="931" y="180"/>
                </a:lnTo>
                <a:lnTo>
                  <a:pt x="945" y="169"/>
                </a:lnTo>
                <a:lnTo>
                  <a:pt x="956" y="159"/>
                </a:lnTo>
                <a:lnTo>
                  <a:pt x="968" y="148"/>
                </a:lnTo>
                <a:lnTo>
                  <a:pt x="978" y="138"/>
                </a:lnTo>
                <a:lnTo>
                  <a:pt x="985" y="129"/>
                </a:lnTo>
                <a:lnTo>
                  <a:pt x="993" y="119"/>
                </a:lnTo>
                <a:lnTo>
                  <a:pt x="1001" y="109"/>
                </a:lnTo>
                <a:lnTo>
                  <a:pt x="1004" y="102"/>
                </a:lnTo>
                <a:lnTo>
                  <a:pt x="1008" y="92"/>
                </a:lnTo>
                <a:lnTo>
                  <a:pt x="1012" y="84"/>
                </a:lnTo>
                <a:lnTo>
                  <a:pt x="1014" y="77"/>
                </a:lnTo>
                <a:lnTo>
                  <a:pt x="1014" y="69"/>
                </a:lnTo>
                <a:lnTo>
                  <a:pt x="1014" y="61"/>
                </a:lnTo>
                <a:lnTo>
                  <a:pt x="1012" y="56"/>
                </a:lnTo>
                <a:lnTo>
                  <a:pt x="1008" y="50"/>
                </a:lnTo>
                <a:lnTo>
                  <a:pt x="1004" y="46"/>
                </a:lnTo>
                <a:lnTo>
                  <a:pt x="1001" y="42"/>
                </a:lnTo>
                <a:lnTo>
                  <a:pt x="999" y="38"/>
                </a:lnTo>
                <a:lnTo>
                  <a:pt x="997" y="35"/>
                </a:lnTo>
                <a:lnTo>
                  <a:pt x="997" y="31"/>
                </a:lnTo>
                <a:lnTo>
                  <a:pt x="995" y="29"/>
                </a:lnTo>
                <a:lnTo>
                  <a:pt x="995" y="25"/>
                </a:lnTo>
                <a:lnTo>
                  <a:pt x="997" y="23"/>
                </a:lnTo>
                <a:lnTo>
                  <a:pt x="999" y="19"/>
                </a:lnTo>
                <a:lnTo>
                  <a:pt x="1001" y="17"/>
                </a:lnTo>
                <a:lnTo>
                  <a:pt x="1004" y="13"/>
                </a:lnTo>
                <a:lnTo>
                  <a:pt x="1008" y="12"/>
                </a:lnTo>
                <a:lnTo>
                  <a:pt x="1012" y="10"/>
                </a:lnTo>
                <a:lnTo>
                  <a:pt x="1018" y="8"/>
                </a:lnTo>
                <a:lnTo>
                  <a:pt x="1026" y="6"/>
                </a:lnTo>
                <a:lnTo>
                  <a:pt x="1029" y="2"/>
                </a:lnTo>
                <a:lnTo>
                  <a:pt x="1035" y="2"/>
                </a:lnTo>
                <a:lnTo>
                  <a:pt x="1039" y="0"/>
                </a:lnTo>
                <a:lnTo>
                  <a:pt x="1045" y="0"/>
                </a:lnTo>
                <a:lnTo>
                  <a:pt x="1056" y="0"/>
                </a:lnTo>
                <a:lnTo>
                  <a:pt x="1070" y="2"/>
                </a:lnTo>
                <a:lnTo>
                  <a:pt x="1085" y="4"/>
                </a:lnTo>
                <a:lnTo>
                  <a:pt x="1100" y="8"/>
                </a:lnTo>
                <a:lnTo>
                  <a:pt x="1116" y="13"/>
                </a:lnTo>
                <a:lnTo>
                  <a:pt x="1135" y="17"/>
                </a:lnTo>
                <a:lnTo>
                  <a:pt x="1148" y="27"/>
                </a:lnTo>
                <a:lnTo>
                  <a:pt x="1164" y="36"/>
                </a:lnTo>
                <a:lnTo>
                  <a:pt x="1179" y="46"/>
                </a:lnTo>
                <a:lnTo>
                  <a:pt x="1194" y="56"/>
                </a:lnTo>
                <a:lnTo>
                  <a:pt x="1212" y="67"/>
                </a:lnTo>
                <a:lnTo>
                  <a:pt x="1227" y="79"/>
                </a:lnTo>
                <a:lnTo>
                  <a:pt x="1242" y="90"/>
                </a:lnTo>
                <a:lnTo>
                  <a:pt x="1256" y="104"/>
                </a:lnTo>
                <a:lnTo>
                  <a:pt x="1262" y="111"/>
                </a:lnTo>
                <a:lnTo>
                  <a:pt x="1269" y="117"/>
                </a:lnTo>
                <a:lnTo>
                  <a:pt x="1273" y="123"/>
                </a:lnTo>
                <a:lnTo>
                  <a:pt x="1279" y="130"/>
                </a:lnTo>
                <a:lnTo>
                  <a:pt x="1283" y="136"/>
                </a:lnTo>
                <a:lnTo>
                  <a:pt x="1287" y="142"/>
                </a:lnTo>
                <a:lnTo>
                  <a:pt x="1294" y="152"/>
                </a:lnTo>
                <a:lnTo>
                  <a:pt x="1298" y="163"/>
                </a:lnTo>
                <a:lnTo>
                  <a:pt x="1302" y="173"/>
                </a:lnTo>
                <a:lnTo>
                  <a:pt x="1304" y="182"/>
                </a:lnTo>
                <a:lnTo>
                  <a:pt x="1306" y="192"/>
                </a:lnTo>
                <a:lnTo>
                  <a:pt x="1304" y="198"/>
                </a:lnTo>
                <a:lnTo>
                  <a:pt x="1302" y="205"/>
                </a:lnTo>
                <a:lnTo>
                  <a:pt x="1296" y="211"/>
                </a:lnTo>
                <a:lnTo>
                  <a:pt x="1290" y="219"/>
                </a:lnTo>
                <a:lnTo>
                  <a:pt x="1283" y="226"/>
                </a:lnTo>
                <a:lnTo>
                  <a:pt x="1273" y="234"/>
                </a:lnTo>
                <a:lnTo>
                  <a:pt x="1262" y="242"/>
                </a:lnTo>
                <a:lnTo>
                  <a:pt x="1250" y="249"/>
                </a:lnTo>
                <a:lnTo>
                  <a:pt x="1235" y="257"/>
                </a:lnTo>
                <a:lnTo>
                  <a:pt x="1219" y="267"/>
                </a:lnTo>
                <a:lnTo>
                  <a:pt x="1200" y="274"/>
                </a:lnTo>
                <a:lnTo>
                  <a:pt x="1181" y="284"/>
                </a:lnTo>
                <a:lnTo>
                  <a:pt x="1160" y="294"/>
                </a:lnTo>
                <a:lnTo>
                  <a:pt x="1137" y="305"/>
                </a:lnTo>
                <a:lnTo>
                  <a:pt x="1112" y="315"/>
                </a:lnTo>
                <a:lnTo>
                  <a:pt x="1085" y="328"/>
                </a:lnTo>
                <a:lnTo>
                  <a:pt x="1058" y="340"/>
                </a:lnTo>
                <a:lnTo>
                  <a:pt x="1029" y="351"/>
                </a:lnTo>
                <a:lnTo>
                  <a:pt x="999" y="363"/>
                </a:lnTo>
                <a:lnTo>
                  <a:pt x="968" y="374"/>
                </a:lnTo>
                <a:lnTo>
                  <a:pt x="937" y="386"/>
                </a:lnTo>
                <a:lnTo>
                  <a:pt x="907" y="397"/>
                </a:lnTo>
                <a:lnTo>
                  <a:pt x="874" y="409"/>
                </a:lnTo>
                <a:lnTo>
                  <a:pt x="839" y="420"/>
                </a:lnTo>
                <a:lnTo>
                  <a:pt x="807" y="432"/>
                </a:lnTo>
                <a:lnTo>
                  <a:pt x="770" y="443"/>
                </a:lnTo>
                <a:lnTo>
                  <a:pt x="736" y="455"/>
                </a:lnTo>
                <a:lnTo>
                  <a:pt x="699" y="466"/>
                </a:lnTo>
                <a:lnTo>
                  <a:pt x="663" y="478"/>
                </a:lnTo>
                <a:lnTo>
                  <a:pt x="624" y="489"/>
                </a:lnTo>
                <a:lnTo>
                  <a:pt x="588" y="501"/>
                </a:lnTo>
                <a:lnTo>
                  <a:pt x="549" y="512"/>
                </a:lnTo>
                <a:lnTo>
                  <a:pt x="511" y="526"/>
                </a:lnTo>
                <a:lnTo>
                  <a:pt x="475" y="539"/>
                </a:lnTo>
                <a:lnTo>
                  <a:pt x="440" y="551"/>
                </a:lnTo>
                <a:lnTo>
                  <a:pt x="407" y="562"/>
                </a:lnTo>
                <a:lnTo>
                  <a:pt x="377" y="572"/>
                </a:lnTo>
                <a:lnTo>
                  <a:pt x="346" y="581"/>
                </a:lnTo>
                <a:lnTo>
                  <a:pt x="319" y="591"/>
                </a:lnTo>
                <a:lnTo>
                  <a:pt x="294" y="599"/>
                </a:lnTo>
                <a:lnTo>
                  <a:pt x="271" y="606"/>
                </a:lnTo>
                <a:lnTo>
                  <a:pt x="248" y="612"/>
                </a:lnTo>
                <a:lnTo>
                  <a:pt x="238" y="616"/>
                </a:lnTo>
                <a:lnTo>
                  <a:pt x="229" y="618"/>
                </a:lnTo>
                <a:lnTo>
                  <a:pt x="219" y="620"/>
                </a:lnTo>
                <a:lnTo>
                  <a:pt x="212" y="623"/>
                </a:lnTo>
                <a:lnTo>
                  <a:pt x="202" y="625"/>
                </a:lnTo>
                <a:lnTo>
                  <a:pt x="194" y="627"/>
                </a:lnTo>
                <a:lnTo>
                  <a:pt x="188" y="629"/>
                </a:lnTo>
                <a:lnTo>
                  <a:pt x="181" y="631"/>
                </a:lnTo>
                <a:lnTo>
                  <a:pt x="175" y="633"/>
                </a:lnTo>
                <a:lnTo>
                  <a:pt x="169" y="635"/>
                </a:lnTo>
                <a:lnTo>
                  <a:pt x="164" y="635"/>
                </a:lnTo>
                <a:lnTo>
                  <a:pt x="160" y="637"/>
                </a:lnTo>
                <a:lnTo>
                  <a:pt x="148" y="639"/>
                </a:lnTo>
                <a:lnTo>
                  <a:pt x="137" y="641"/>
                </a:lnTo>
                <a:lnTo>
                  <a:pt x="125" y="641"/>
                </a:lnTo>
                <a:lnTo>
                  <a:pt x="116" y="641"/>
                </a:lnTo>
                <a:lnTo>
                  <a:pt x="104" y="641"/>
                </a:lnTo>
                <a:lnTo>
                  <a:pt x="94" y="641"/>
                </a:lnTo>
                <a:lnTo>
                  <a:pt x="85" y="639"/>
                </a:lnTo>
                <a:lnTo>
                  <a:pt x="75" y="637"/>
                </a:lnTo>
                <a:lnTo>
                  <a:pt x="66" y="635"/>
                </a:lnTo>
                <a:lnTo>
                  <a:pt x="56" y="631"/>
                </a:lnTo>
                <a:lnTo>
                  <a:pt x="46" y="627"/>
                </a:lnTo>
                <a:lnTo>
                  <a:pt x="37" y="623"/>
                </a:lnTo>
                <a:lnTo>
                  <a:pt x="27" y="618"/>
                </a:lnTo>
                <a:lnTo>
                  <a:pt x="18" y="612"/>
                </a:lnTo>
                <a:lnTo>
                  <a:pt x="8" y="606"/>
                </a:lnTo>
                <a:lnTo>
                  <a:pt x="0" y="60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31"/>
          <p:cNvSpPr/>
          <p:nvPr/>
        </p:nvSpPr>
        <p:spPr>
          <a:xfrm>
            <a:off x="6170760" y="3168720"/>
            <a:ext cx="1427040" cy="1765080"/>
          </a:xfrm>
          <a:custGeom>
            <a:avLst/>
            <a:gdLst/>
            <a:ahLst/>
            <a:rect l="l" t="t" r="r" b="b"/>
            <a:pathLst>
              <a:path w="1797" h="2224">
                <a:moveTo>
                  <a:pt x="121" y="279"/>
                </a:moveTo>
                <a:lnTo>
                  <a:pt x="118" y="259"/>
                </a:lnTo>
                <a:lnTo>
                  <a:pt x="112" y="242"/>
                </a:lnTo>
                <a:lnTo>
                  <a:pt x="108" y="225"/>
                </a:lnTo>
                <a:lnTo>
                  <a:pt x="104" y="210"/>
                </a:lnTo>
                <a:lnTo>
                  <a:pt x="98" y="196"/>
                </a:lnTo>
                <a:lnTo>
                  <a:pt x="94" y="181"/>
                </a:lnTo>
                <a:lnTo>
                  <a:pt x="89" y="169"/>
                </a:lnTo>
                <a:lnTo>
                  <a:pt x="85" y="156"/>
                </a:lnTo>
                <a:lnTo>
                  <a:pt x="81" y="146"/>
                </a:lnTo>
                <a:lnTo>
                  <a:pt x="75" y="135"/>
                </a:lnTo>
                <a:lnTo>
                  <a:pt x="71" y="125"/>
                </a:lnTo>
                <a:lnTo>
                  <a:pt x="66" y="117"/>
                </a:lnTo>
                <a:lnTo>
                  <a:pt x="62" y="110"/>
                </a:lnTo>
                <a:lnTo>
                  <a:pt x="58" y="102"/>
                </a:lnTo>
                <a:lnTo>
                  <a:pt x="52" y="96"/>
                </a:lnTo>
                <a:lnTo>
                  <a:pt x="48" y="93"/>
                </a:lnTo>
                <a:lnTo>
                  <a:pt x="43" y="87"/>
                </a:lnTo>
                <a:lnTo>
                  <a:pt x="35" y="83"/>
                </a:lnTo>
                <a:lnTo>
                  <a:pt x="31" y="77"/>
                </a:lnTo>
                <a:lnTo>
                  <a:pt x="25" y="73"/>
                </a:lnTo>
                <a:lnTo>
                  <a:pt x="22" y="68"/>
                </a:lnTo>
                <a:lnTo>
                  <a:pt x="18" y="64"/>
                </a:lnTo>
                <a:lnTo>
                  <a:pt x="10" y="54"/>
                </a:lnTo>
                <a:lnTo>
                  <a:pt x="6" y="45"/>
                </a:lnTo>
                <a:lnTo>
                  <a:pt x="2" y="35"/>
                </a:lnTo>
                <a:lnTo>
                  <a:pt x="0" y="27"/>
                </a:lnTo>
                <a:lnTo>
                  <a:pt x="0" y="18"/>
                </a:lnTo>
                <a:lnTo>
                  <a:pt x="0" y="14"/>
                </a:lnTo>
                <a:lnTo>
                  <a:pt x="2" y="10"/>
                </a:lnTo>
                <a:lnTo>
                  <a:pt x="4" y="6"/>
                </a:lnTo>
                <a:lnTo>
                  <a:pt x="8" y="4"/>
                </a:lnTo>
                <a:lnTo>
                  <a:pt x="14" y="2"/>
                </a:lnTo>
                <a:lnTo>
                  <a:pt x="22" y="0"/>
                </a:lnTo>
                <a:lnTo>
                  <a:pt x="29" y="0"/>
                </a:lnTo>
                <a:lnTo>
                  <a:pt x="37" y="0"/>
                </a:lnTo>
                <a:lnTo>
                  <a:pt x="48" y="0"/>
                </a:lnTo>
                <a:lnTo>
                  <a:pt x="60" y="2"/>
                </a:lnTo>
                <a:lnTo>
                  <a:pt x="73" y="4"/>
                </a:lnTo>
                <a:lnTo>
                  <a:pt x="87" y="8"/>
                </a:lnTo>
                <a:lnTo>
                  <a:pt x="102" y="12"/>
                </a:lnTo>
                <a:lnTo>
                  <a:pt x="119" y="18"/>
                </a:lnTo>
                <a:lnTo>
                  <a:pt x="139" y="23"/>
                </a:lnTo>
                <a:lnTo>
                  <a:pt x="158" y="29"/>
                </a:lnTo>
                <a:lnTo>
                  <a:pt x="175" y="37"/>
                </a:lnTo>
                <a:lnTo>
                  <a:pt x="192" y="43"/>
                </a:lnTo>
                <a:lnTo>
                  <a:pt x="208" y="50"/>
                </a:lnTo>
                <a:lnTo>
                  <a:pt x="221" y="58"/>
                </a:lnTo>
                <a:lnTo>
                  <a:pt x="235" y="66"/>
                </a:lnTo>
                <a:lnTo>
                  <a:pt x="248" y="71"/>
                </a:lnTo>
                <a:lnTo>
                  <a:pt x="258" y="79"/>
                </a:lnTo>
                <a:lnTo>
                  <a:pt x="267" y="85"/>
                </a:lnTo>
                <a:lnTo>
                  <a:pt x="277" y="93"/>
                </a:lnTo>
                <a:lnTo>
                  <a:pt x="285" y="100"/>
                </a:lnTo>
                <a:lnTo>
                  <a:pt x="290" y="106"/>
                </a:lnTo>
                <a:lnTo>
                  <a:pt x="296" y="114"/>
                </a:lnTo>
                <a:lnTo>
                  <a:pt x="300" y="121"/>
                </a:lnTo>
                <a:lnTo>
                  <a:pt x="302" y="127"/>
                </a:lnTo>
                <a:lnTo>
                  <a:pt x="304" y="135"/>
                </a:lnTo>
                <a:lnTo>
                  <a:pt x="306" y="142"/>
                </a:lnTo>
                <a:lnTo>
                  <a:pt x="306" y="156"/>
                </a:lnTo>
                <a:lnTo>
                  <a:pt x="308" y="171"/>
                </a:lnTo>
                <a:lnTo>
                  <a:pt x="310" y="188"/>
                </a:lnTo>
                <a:lnTo>
                  <a:pt x="313" y="206"/>
                </a:lnTo>
                <a:lnTo>
                  <a:pt x="315" y="225"/>
                </a:lnTo>
                <a:lnTo>
                  <a:pt x="321" y="246"/>
                </a:lnTo>
                <a:lnTo>
                  <a:pt x="325" y="267"/>
                </a:lnTo>
                <a:lnTo>
                  <a:pt x="329" y="290"/>
                </a:lnTo>
                <a:lnTo>
                  <a:pt x="333" y="313"/>
                </a:lnTo>
                <a:lnTo>
                  <a:pt x="338" y="340"/>
                </a:lnTo>
                <a:lnTo>
                  <a:pt x="340" y="351"/>
                </a:lnTo>
                <a:lnTo>
                  <a:pt x="344" y="367"/>
                </a:lnTo>
                <a:lnTo>
                  <a:pt x="348" y="380"/>
                </a:lnTo>
                <a:lnTo>
                  <a:pt x="350" y="396"/>
                </a:lnTo>
                <a:lnTo>
                  <a:pt x="354" y="411"/>
                </a:lnTo>
                <a:lnTo>
                  <a:pt x="358" y="426"/>
                </a:lnTo>
                <a:lnTo>
                  <a:pt x="361" y="444"/>
                </a:lnTo>
                <a:lnTo>
                  <a:pt x="367" y="461"/>
                </a:lnTo>
                <a:lnTo>
                  <a:pt x="373" y="478"/>
                </a:lnTo>
                <a:lnTo>
                  <a:pt x="377" y="497"/>
                </a:lnTo>
                <a:lnTo>
                  <a:pt x="384" y="516"/>
                </a:lnTo>
                <a:lnTo>
                  <a:pt x="390" y="538"/>
                </a:lnTo>
                <a:lnTo>
                  <a:pt x="398" y="559"/>
                </a:lnTo>
                <a:lnTo>
                  <a:pt x="405" y="582"/>
                </a:lnTo>
                <a:lnTo>
                  <a:pt x="415" y="607"/>
                </a:lnTo>
                <a:lnTo>
                  <a:pt x="425" y="633"/>
                </a:lnTo>
                <a:lnTo>
                  <a:pt x="436" y="660"/>
                </a:lnTo>
                <a:lnTo>
                  <a:pt x="448" y="689"/>
                </a:lnTo>
                <a:lnTo>
                  <a:pt x="461" y="720"/>
                </a:lnTo>
                <a:lnTo>
                  <a:pt x="477" y="751"/>
                </a:lnTo>
                <a:lnTo>
                  <a:pt x="492" y="785"/>
                </a:lnTo>
                <a:lnTo>
                  <a:pt x="507" y="820"/>
                </a:lnTo>
                <a:lnTo>
                  <a:pt x="526" y="856"/>
                </a:lnTo>
                <a:lnTo>
                  <a:pt x="546" y="892"/>
                </a:lnTo>
                <a:lnTo>
                  <a:pt x="565" y="933"/>
                </a:lnTo>
                <a:lnTo>
                  <a:pt x="588" y="973"/>
                </a:lnTo>
                <a:lnTo>
                  <a:pt x="609" y="1015"/>
                </a:lnTo>
                <a:lnTo>
                  <a:pt x="634" y="1059"/>
                </a:lnTo>
                <a:lnTo>
                  <a:pt x="659" y="1103"/>
                </a:lnTo>
                <a:lnTo>
                  <a:pt x="686" y="1150"/>
                </a:lnTo>
                <a:lnTo>
                  <a:pt x="711" y="1194"/>
                </a:lnTo>
                <a:lnTo>
                  <a:pt x="740" y="1236"/>
                </a:lnTo>
                <a:lnTo>
                  <a:pt x="766" y="1276"/>
                </a:lnTo>
                <a:lnTo>
                  <a:pt x="795" y="1316"/>
                </a:lnTo>
                <a:lnTo>
                  <a:pt x="826" y="1357"/>
                </a:lnTo>
                <a:lnTo>
                  <a:pt x="855" y="1393"/>
                </a:lnTo>
                <a:lnTo>
                  <a:pt x="885" y="1432"/>
                </a:lnTo>
                <a:lnTo>
                  <a:pt x="918" y="1468"/>
                </a:lnTo>
                <a:lnTo>
                  <a:pt x="949" y="1503"/>
                </a:lnTo>
                <a:lnTo>
                  <a:pt x="983" y="1537"/>
                </a:lnTo>
                <a:lnTo>
                  <a:pt x="1016" y="1570"/>
                </a:lnTo>
                <a:lnTo>
                  <a:pt x="1051" y="1602"/>
                </a:lnTo>
                <a:lnTo>
                  <a:pt x="1085" y="1633"/>
                </a:lnTo>
                <a:lnTo>
                  <a:pt x="1122" y="1666"/>
                </a:lnTo>
                <a:lnTo>
                  <a:pt x="1139" y="1679"/>
                </a:lnTo>
                <a:lnTo>
                  <a:pt x="1158" y="1694"/>
                </a:lnTo>
                <a:lnTo>
                  <a:pt x="1173" y="1708"/>
                </a:lnTo>
                <a:lnTo>
                  <a:pt x="1191" y="1721"/>
                </a:lnTo>
                <a:lnTo>
                  <a:pt x="1208" y="1735"/>
                </a:lnTo>
                <a:lnTo>
                  <a:pt x="1223" y="1746"/>
                </a:lnTo>
                <a:lnTo>
                  <a:pt x="1239" y="1760"/>
                </a:lnTo>
                <a:lnTo>
                  <a:pt x="1254" y="1769"/>
                </a:lnTo>
                <a:lnTo>
                  <a:pt x="1267" y="1781"/>
                </a:lnTo>
                <a:lnTo>
                  <a:pt x="1283" y="1792"/>
                </a:lnTo>
                <a:lnTo>
                  <a:pt x="1296" y="1802"/>
                </a:lnTo>
                <a:lnTo>
                  <a:pt x="1310" y="1809"/>
                </a:lnTo>
                <a:lnTo>
                  <a:pt x="1321" y="1819"/>
                </a:lnTo>
                <a:lnTo>
                  <a:pt x="1335" y="1827"/>
                </a:lnTo>
                <a:lnTo>
                  <a:pt x="1346" y="1834"/>
                </a:lnTo>
                <a:lnTo>
                  <a:pt x="1358" y="1842"/>
                </a:lnTo>
                <a:lnTo>
                  <a:pt x="1369" y="1850"/>
                </a:lnTo>
                <a:lnTo>
                  <a:pt x="1379" y="1855"/>
                </a:lnTo>
                <a:lnTo>
                  <a:pt x="1388" y="1861"/>
                </a:lnTo>
                <a:lnTo>
                  <a:pt x="1398" y="1865"/>
                </a:lnTo>
                <a:lnTo>
                  <a:pt x="1408" y="1871"/>
                </a:lnTo>
                <a:lnTo>
                  <a:pt x="1417" y="1875"/>
                </a:lnTo>
                <a:lnTo>
                  <a:pt x="1425" y="1878"/>
                </a:lnTo>
                <a:lnTo>
                  <a:pt x="1433" y="1882"/>
                </a:lnTo>
                <a:lnTo>
                  <a:pt x="1440" y="1884"/>
                </a:lnTo>
                <a:lnTo>
                  <a:pt x="1446" y="1886"/>
                </a:lnTo>
                <a:lnTo>
                  <a:pt x="1452" y="1888"/>
                </a:lnTo>
                <a:lnTo>
                  <a:pt x="1458" y="1888"/>
                </a:lnTo>
                <a:lnTo>
                  <a:pt x="1463" y="1890"/>
                </a:lnTo>
                <a:lnTo>
                  <a:pt x="1467" y="1890"/>
                </a:lnTo>
                <a:lnTo>
                  <a:pt x="1473" y="1888"/>
                </a:lnTo>
                <a:lnTo>
                  <a:pt x="1477" y="1888"/>
                </a:lnTo>
                <a:lnTo>
                  <a:pt x="1479" y="1888"/>
                </a:lnTo>
                <a:lnTo>
                  <a:pt x="1483" y="1886"/>
                </a:lnTo>
                <a:lnTo>
                  <a:pt x="1486" y="1886"/>
                </a:lnTo>
                <a:lnTo>
                  <a:pt x="1490" y="1884"/>
                </a:lnTo>
                <a:lnTo>
                  <a:pt x="1494" y="1880"/>
                </a:lnTo>
                <a:lnTo>
                  <a:pt x="1498" y="1878"/>
                </a:lnTo>
                <a:lnTo>
                  <a:pt x="1502" y="1875"/>
                </a:lnTo>
                <a:lnTo>
                  <a:pt x="1506" y="1869"/>
                </a:lnTo>
                <a:lnTo>
                  <a:pt x="1509" y="1865"/>
                </a:lnTo>
                <a:lnTo>
                  <a:pt x="1513" y="1859"/>
                </a:lnTo>
                <a:lnTo>
                  <a:pt x="1517" y="1854"/>
                </a:lnTo>
                <a:lnTo>
                  <a:pt x="1521" y="1848"/>
                </a:lnTo>
                <a:lnTo>
                  <a:pt x="1525" y="1840"/>
                </a:lnTo>
                <a:lnTo>
                  <a:pt x="1529" y="1832"/>
                </a:lnTo>
                <a:lnTo>
                  <a:pt x="1532" y="1825"/>
                </a:lnTo>
                <a:lnTo>
                  <a:pt x="1536" y="1815"/>
                </a:lnTo>
                <a:lnTo>
                  <a:pt x="1542" y="1806"/>
                </a:lnTo>
                <a:lnTo>
                  <a:pt x="1546" y="1796"/>
                </a:lnTo>
                <a:lnTo>
                  <a:pt x="1550" y="1786"/>
                </a:lnTo>
                <a:lnTo>
                  <a:pt x="1554" y="1775"/>
                </a:lnTo>
                <a:lnTo>
                  <a:pt x="1557" y="1763"/>
                </a:lnTo>
                <a:lnTo>
                  <a:pt x="1561" y="1752"/>
                </a:lnTo>
                <a:lnTo>
                  <a:pt x="1565" y="1738"/>
                </a:lnTo>
                <a:lnTo>
                  <a:pt x="1569" y="1727"/>
                </a:lnTo>
                <a:lnTo>
                  <a:pt x="1573" y="1714"/>
                </a:lnTo>
                <a:lnTo>
                  <a:pt x="1577" y="1698"/>
                </a:lnTo>
                <a:lnTo>
                  <a:pt x="1580" y="1685"/>
                </a:lnTo>
                <a:lnTo>
                  <a:pt x="1584" y="1669"/>
                </a:lnTo>
                <a:lnTo>
                  <a:pt x="1588" y="1654"/>
                </a:lnTo>
                <a:lnTo>
                  <a:pt x="1590" y="1637"/>
                </a:lnTo>
                <a:lnTo>
                  <a:pt x="1594" y="1620"/>
                </a:lnTo>
                <a:lnTo>
                  <a:pt x="1598" y="1604"/>
                </a:lnTo>
                <a:lnTo>
                  <a:pt x="1602" y="1587"/>
                </a:lnTo>
                <a:lnTo>
                  <a:pt x="1603" y="1570"/>
                </a:lnTo>
                <a:lnTo>
                  <a:pt x="1607" y="1554"/>
                </a:lnTo>
                <a:lnTo>
                  <a:pt x="1611" y="1539"/>
                </a:lnTo>
                <a:lnTo>
                  <a:pt x="1615" y="1524"/>
                </a:lnTo>
                <a:lnTo>
                  <a:pt x="1617" y="1508"/>
                </a:lnTo>
                <a:lnTo>
                  <a:pt x="1621" y="1495"/>
                </a:lnTo>
                <a:lnTo>
                  <a:pt x="1625" y="1481"/>
                </a:lnTo>
                <a:lnTo>
                  <a:pt x="1628" y="1470"/>
                </a:lnTo>
                <a:lnTo>
                  <a:pt x="1630" y="1458"/>
                </a:lnTo>
                <a:lnTo>
                  <a:pt x="1634" y="1447"/>
                </a:lnTo>
                <a:lnTo>
                  <a:pt x="1638" y="1435"/>
                </a:lnTo>
                <a:lnTo>
                  <a:pt x="1642" y="1426"/>
                </a:lnTo>
                <a:lnTo>
                  <a:pt x="1644" y="1414"/>
                </a:lnTo>
                <a:lnTo>
                  <a:pt x="1648" y="1407"/>
                </a:lnTo>
                <a:lnTo>
                  <a:pt x="1651" y="1397"/>
                </a:lnTo>
                <a:lnTo>
                  <a:pt x="1653" y="1389"/>
                </a:lnTo>
                <a:lnTo>
                  <a:pt x="1657" y="1382"/>
                </a:lnTo>
                <a:lnTo>
                  <a:pt x="1659" y="1374"/>
                </a:lnTo>
                <a:lnTo>
                  <a:pt x="1663" y="1368"/>
                </a:lnTo>
                <a:lnTo>
                  <a:pt x="1667" y="1362"/>
                </a:lnTo>
                <a:lnTo>
                  <a:pt x="1669" y="1357"/>
                </a:lnTo>
                <a:lnTo>
                  <a:pt x="1673" y="1351"/>
                </a:lnTo>
                <a:lnTo>
                  <a:pt x="1674" y="1347"/>
                </a:lnTo>
                <a:lnTo>
                  <a:pt x="1678" y="1343"/>
                </a:lnTo>
                <a:lnTo>
                  <a:pt x="1680" y="1339"/>
                </a:lnTo>
                <a:lnTo>
                  <a:pt x="1682" y="1338"/>
                </a:lnTo>
                <a:lnTo>
                  <a:pt x="1686" y="1336"/>
                </a:lnTo>
                <a:lnTo>
                  <a:pt x="1688" y="1334"/>
                </a:lnTo>
                <a:lnTo>
                  <a:pt x="1692" y="1332"/>
                </a:lnTo>
                <a:lnTo>
                  <a:pt x="1694" y="1332"/>
                </a:lnTo>
                <a:lnTo>
                  <a:pt x="1696" y="1332"/>
                </a:lnTo>
                <a:lnTo>
                  <a:pt x="1698" y="1334"/>
                </a:lnTo>
                <a:lnTo>
                  <a:pt x="1699" y="1339"/>
                </a:lnTo>
                <a:lnTo>
                  <a:pt x="1701" y="1345"/>
                </a:lnTo>
                <a:lnTo>
                  <a:pt x="1705" y="1355"/>
                </a:lnTo>
                <a:lnTo>
                  <a:pt x="1705" y="1359"/>
                </a:lnTo>
                <a:lnTo>
                  <a:pt x="1707" y="1364"/>
                </a:lnTo>
                <a:lnTo>
                  <a:pt x="1707" y="1370"/>
                </a:lnTo>
                <a:lnTo>
                  <a:pt x="1709" y="1378"/>
                </a:lnTo>
                <a:lnTo>
                  <a:pt x="1709" y="1384"/>
                </a:lnTo>
                <a:lnTo>
                  <a:pt x="1711" y="1391"/>
                </a:lnTo>
                <a:lnTo>
                  <a:pt x="1711" y="1399"/>
                </a:lnTo>
                <a:lnTo>
                  <a:pt x="1713" y="1409"/>
                </a:lnTo>
                <a:lnTo>
                  <a:pt x="1713" y="1418"/>
                </a:lnTo>
                <a:lnTo>
                  <a:pt x="1713" y="1426"/>
                </a:lnTo>
                <a:lnTo>
                  <a:pt x="1715" y="1437"/>
                </a:lnTo>
                <a:lnTo>
                  <a:pt x="1715" y="1447"/>
                </a:lnTo>
                <a:lnTo>
                  <a:pt x="1717" y="1458"/>
                </a:lnTo>
                <a:lnTo>
                  <a:pt x="1717" y="1470"/>
                </a:lnTo>
                <a:lnTo>
                  <a:pt x="1717" y="1481"/>
                </a:lnTo>
                <a:lnTo>
                  <a:pt x="1717" y="1495"/>
                </a:lnTo>
                <a:lnTo>
                  <a:pt x="1719" y="1508"/>
                </a:lnTo>
                <a:lnTo>
                  <a:pt x="1719" y="1522"/>
                </a:lnTo>
                <a:lnTo>
                  <a:pt x="1719" y="1535"/>
                </a:lnTo>
                <a:lnTo>
                  <a:pt x="1719" y="1550"/>
                </a:lnTo>
                <a:lnTo>
                  <a:pt x="1719" y="1566"/>
                </a:lnTo>
                <a:lnTo>
                  <a:pt x="1719" y="1581"/>
                </a:lnTo>
                <a:lnTo>
                  <a:pt x="1721" y="1598"/>
                </a:lnTo>
                <a:lnTo>
                  <a:pt x="1721" y="1616"/>
                </a:lnTo>
                <a:lnTo>
                  <a:pt x="1721" y="1650"/>
                </a:lnTo>
                <a:lnTo>
                  <a:pt x="1721" y="1683"/>
                </a:lnTo>
                <a:lnTo>
                  <a:pt x="1721" y="1715"/>
                </a:lnTo>
                <a:lnTo>
                  <a:pt x="1722" y="1746"/>
                </a:lnTo>
                <a:lnTo>
                  <a:pt x="1724" y="1775"/>
                </a:lnTo>
                <a:lnTo>
                  <a:pt x="1726" y="1804"/>
                </a:lnTo>
                <a:lnTo>
                  <a:pt x="1728" y="1831"/>
                </a:lnTo>
                <a:lnTo>
                  <a:pt x="1730" y="1857"/>
                </a:lnTo>
                <a:lnTo>
                  <a:pt x="1734" y="1882"/>
                </a:lnTo>
                <a:lnTo>
                  <a:pt x="1738" y="1905"/>
                </a:lnTo>
                <a:lnTo>
                  <a:pt x="1742" y="1928"/>
                </a:lnTo>
                <a:lnTo>
                  <a:pt x="1746" y="1949"/>
                </a:lnTo>
                <a:lnTo>
                  <a:pt x="1751" y="1971"/>
                </a:lnTo>
                <a:lnTo>
                  <a:pt x="1757" y="1990"/>
                </a:lnTo>
                <a:lnTo>
                  <a:pt x="1763" y="2007"/>
                </a:lnTo>
                <a:lnTo>
                  <a:pt x="1769" y="2024"/>
                </a:lnTo>
                <a:lnTo>
                  <a:pt x="1772" y="2040"/>
                </a:lnTo>
                <a:lnTo>
                  <a:pt x="1776" y="2055"/>
                </a:lnTo>
                <a:lnTo>
                  <a:pt x="1780" y="2070"/>
                </a:lnTo>
                <a:lnTo>
                  <a:pt x="1784" y="2084"/>
                </a:lnTo>
                <a:lnTo>
                  <a:pt x="1788" y="2095"/>
                </a:lnTo>
                <a:lnTo>
                  <a:pt x="1790" y="2107"/>
                </a:lnTo>
                <a:lnTo>
                  <a:pt x="1792" y="2118"/>
                </a:lnTo>
                <a:lnTo>
                  <a:pt x="1794" y="2128"/>
                </a:lnTo>
                <a:lnTo>
                  <a:pt x="1795" y="2137"/>
                </a:lnTo>
                <a:lnTo>
                  <a:pt x="1797" y="2147"/>
                </a:lnTo>
                <a:lnTo>
                  <a:pt x="1797" y="2155"/>
                </a:lnTo>
                <a:lnTo>
                  <a:pt x="1797" y="2162"/>
                </a:lnTo>
                <a:lnTo>
                  <a:pt x="1797" y="2168"/>
                </a:lnTo>
                <a:lnTo>
                  <a:pt x="1795" y="2176"/>
                </a:lnTo>
                <a:lnTo>
                  <a:pt x="1795" y="2180"/>
                </a:lnTo>
                <a:lnTo>
                  <a:pt x="1794" y="2185"/>
                </a:lnTo>
                <a:lnTo>
                  <a:pt x="1790" y="2189"/>
                </a:lnTo>
                <a:lnTo>
                  <a:pt x="1786" y="2195"/>
                </a:lnTo>
                <a:lnTo>
                  <a:pt x="1782" y="2199"/>
                </a:lnTo>
                <a:lnTo>
                  <a:pt x="1778" y="2203"/>
                </a:lnTo>
                <a:lnTo>
                  <a:pt x="1772" y="2205"/>
                </a:lnTo>
                <a:lnTo>
                  <a:pt x="1765" y="2208"/>
                </a:lnTo>
                <a:lnTo>
                  <a:pt x="1759" y="2210"/>
                </a:lnTo>
                <a:lnTo>
                  <a:pt x="1751" y="2214"/>
                </a:lnTo>
                <a:lnTo>
                  <a:pt x="1742" y="2216"/>
                </a:lnTo>
                <a:lnTo>
                  <a:pt x="1734" y="2218"/>
                </a:lnTo>
                <a:lnTo>
                  <a:pt x="1724" y="2220"/>
                </a:lnTo>
                <a:lnTo>
                  <a:pt x="1715" y="2220"/>
                </a:lnTo>
                <a:lnTo>
                  <a:pt x="1694" y="2222"/>
                </a:lnTo>
                <a:lnTo>
                  <a:pt x="1671" y="2224"/>
                </a:lnTo>
                <a:lnTo>
                  <a:pt x="1657" y="2220"/>
                </a:lnTo>
                <a:lnTo>
                  <a:pt x="1642" y="2216"/>
                </a:lnTo>
                <a:lnTo>
                  <a:pt x="1626" y="2212"/>
                </a:lnTo>
                <a:lnTo>
                  <a:pt x="1611" y="2208"/>
                </a:lnTo>
                <a:lnTo>
                  <a:pt x="1594" y="2205"/>
                </a:lnTo>
                <a:lnTo>
                  <a:pt x="1577" y="2199"/>
                </a:lnTo>
                <a:lnTo>
                  <a:pt x="1559" y="2191"/>
                </a:lnTo>
                <a:lnTo>
                  <a:pt x="1542" y="2184"/>
                </a:lnTo>
                <a:lnTo>
                  <a:pt x="1521" y="2176"/>
                </a:lnTo>
                <a:lnTo>
                  <a:pt x="1502" y="2168"/>
                </a:lnTo>
                <a:lnTo>
                  <a:pt x="1481" y="2159"/>
                </a:lnTo>
                <a:lnTo>
                  <a:pt x="1459" y="2149"/>
                </a:lnTo>
                <a:lnTo>
                  <a:pt x="1436" y="2137"/>
                </a:lnTo>
                <a:lnTo>
                  <a:pt x="1413" y="2126"/>
                </a:lnTo>
                <a:lnTo>
                  <a:pt x="1390" y="2113"/>
                </a:lnTo>
                <a:lnTo>
                  <a:pt x="1365" y="2099"/>
                </a:lnTo>
                <a:lnTo>
                  <a:pt x="1340" y="2084"/>
                </a:lnTo>
                <a:lnTo>
                  <a:pt x="1315" y="2068"/>
                </a:lnTo>
                <a:lnTo>
                  <a:pt x="1291" y="2053"/>
                </a:lnTo>
                <a:lnTo>
                  <a:pt x="1266" y="2036"/>
                </a:lnTo>
                <a:lnTo>
                  <a:pt x="1241" y="2019"/>
                </a:lnTo>
                <a:lnTo>
                  <a:pt x="1214" y="1999"/>
                </a:lnTo>
                <a:lnTo>
                  <a:pt x="1189" y="1980"/>
                </a:lnTo>
                <a:lnTo>
                  <a:pt x="1164" y="1961"/>
                </a:lnTo>
                <a:lnTo>
                  <a:pt x="1139" y="1940"/>
                </a:lnTo>
                <a:lnTo>
                  <a:pt x="1114" y="1919"/>
                </a:lnTo>
                <a:lnTo>
                  <a:pt x="1089" y="1898"/>
                </a:lnTo>
                <a:lnTo>
                  <a:pt x="1064" y="1875"/>
                </a:lnTo>
                <a:lnTo>
                  <a:pt x="1039" y="1852"/>
                </a:lnTo>
                <a:lnTo>
                  <a:pt x="1012" y="1827"/>
                </a:lnTo>
                <a:lnTo>
                  <a:pt x="987" y="1802"/>
                </a:lnTo>
                <a:lnTo>
                  <a:pt x="964" y="1777"/>
                </a:lnTo>
                <a:lnTo>
                  <a:pt x="935" y="1750"/>
                </a:lnTo>
                <a:lnTo>
                  <a:pt x="908" y="1723"/>
                </a:lnTo>
                <a:lnTo>
                  <a:pt x="884" y="1696"/>
                </a:lnTo>
                <a:lnTo>
                  <a:pt x="857" y="1667"/>
                </a:lnTo>
                <a:lnTo>
                  <a:pt x="830" y="1639"/>
                </a:lnTo>
                <a:lnTo>
                  <a:pt x="805" y="1608"/>
                </a:lnTo>
                <a:lnTo>
                  <a:pt x="778" y="1577"/>
                </a:lnTo>
                <a:lnTo>
                  <a:pt x="753" y="1547"/>
                </a:lnTo>
                <a:lnTo>
                  <a:pt x="728" y="1516"/>
                </a:lnTo>
                <a:lnTo>
                  <a:pt x="703" y="1483"/>
                </a:lnTo>
                <a:lnTo>
                  <a:pt x="678" y="1451"/>
                </a:lnTo>
                <a:lnTo>
                  <a:pt x="655" y="1418"/>
                </a:lnTo>
                <a:lnTo>
                  <a:pt x="607" y="1351"/>
                </a:lnTo>
                <a:lnTo>
                  <a:pt x="561" y="1282"/>
                </a:lnTo>
                <a:lnTo>
                  <a:pt x="536" y="1245"/>
                </a:lnTo>
                <a:lnTo>
                  <a:pt x="513" y="1211"/>
                </a:lnTo>
                <a:lnTo>
                  <a:pt x="490" y="1174"/>
                </a:lnTo>
                <a:lnTo>
                  <a:pt x="467" y="1140"/>
                </a:lnTo>
                <a:lnTo>
                  <a:pt x="446" y="1103"/>
                </a:lnTo>
                <a:lnTo>
                  <a:pt x="427" y="1067"/>
                </a:lnTo>
                <a:lnTo>
                  <a:pt x="405" y="1033"/>
                </a:lnTo>
                <a:lnTo>
                  <a:pt x="388" y="996"/>
                </a:lnTo>
                <a:lnTo>
                  <a:pt x="369" y="960"/>
                </a:lnTo>
                <a:lnTo>
                  <a:pt x="352" y="923"/>
                </a:lnTo>
                <a:lnTo>
                  <a:pt x="336" y="889"/>
                </a:lnTo>
                <a:lnTo>
                  <a:pt x="321" y="852"/>
                </a:lnTo>
                <a:lnTo>
                  <a:pt x="306" y="818"/>
                </a:lnTo>
                <a:lnTo>
                  <a:pt x="292" y="781"/>
                </a:lnTo>
                <a:lnTo>
                  <a:pt x="281" y="747"/>
                </a:lnTo>
                <a:lnTo>
                  <a:pt x="269" y="712"/>
                </a:lnTo>
                <a:lnTo>
                  <a:pt x="256" y="678"/>
                </a:lnTo>
                <a:lnTo>
                  <a:pt x="242" y="643"/>
                </a:lnTo>
                <a:lnTo>
                  <a:pt x="231" y="610"/>
                </a:lnTo>
                <a:lnTo>
                  <a:pt x="219" y="580"/>
                </a:lnTo>
                <a:lnTo>
                  <a:pt x="208" y="547"/>
                </a:lnTo>
                <a:lnTo>
                  <a:pt x="196" y="518"/>
                </a:lnTo>
                <a:lnTo>
                  <a:pt x="187" y="490"/>
                </a:lnTo>
                <a:lnTo>
                  <a:pt x="177" y="461"/>
                </a:lnTo>
                <a:lnTo>
                  <a:pt x="167" y="434"/>
                </a:lnTo>
                <a:lnTo>
                  <a:pt x="160" y="409"/>
                </a:lnTo>
                <a:lnTo>
                  <a:pt x="152" y="384"/>
                </a:lnTo>
                <a:lnTo>
                  <a:pt x="144" y="361"/>
                </a:lnTo>
                <a:lnTo>
                  <a:pt x="139" y="338"/>
                </a:lnTo>
                <a:lnTo>
                  <a:pt x="131" y="317"/>
                </a:lnTo>
                <a:lnTo>
                  <a:pt x="127" y="296"/>
                </a:lnTo>
                <a:lnTo>
                  <a:pt x="121" y="279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32"/>
          <p:cNvSpPr/>
          <p:nvPr/>
        </p:nvSpPr>
        <p:spPr>
          <a:xfrm>
            <a:off x="5919840" y="3487680"/>
            <a:ext cx="1131840" cy="374760"/>
          </a:xfrm>
          <a:custGeom>
            <a:avLst/>
            <a:gdLst/>
            <a:ahLst/>
            <a:rect l="l" t="t" r="r" b="b"/>
            <a:pathLst>
              <a:path w="1426" h="472">
                <a:moveTo>
                  <a:pt x="11" y="459"/>
                </a:moveTo>
                <a:lnTo>
                  <a:pt x="7" y="453"/>
                </a:lnTo>
                <a:lnTo>
                  <a:pt x="3" y="447"/>
                </a:lnTo>
                <a:lnTo>
                  <a:pt x="2" y="442"/>
                </a:lnTo>
                <a:lnTo>
                  <a:pt x="0" y="434"/>
                </a:lnTo>
                <a:lnTo>
                  <a:pt x="0" y="426"/>
                </a:lnTo>
                <a:lnTo>
                  <a:pt x="0" y="420"/>
                </a:lnTo>
                <a:lnTo>
                  <a:pt x="0" y="415"/>
                </a:lnTo>
                <a:lnTo>
                  <a:pt x="0" y="409"/>
                </a:lnTo>
                <a:lnTo>
                  <a:pt x="0" y="407"/>
                </a:lnTo>
                <a:lnTo>
                  <a:pt x="0" y="405"/>
                </a:lnTo>
                <a:lnTo>
                  <a:pt x="2" y="401"/>
                </a:lnTo>
                <a:lnTo>
                  <a:pt x="3" y="399"/>
                </a:lnTo>
                <a:lnTo>
                  <a:pt x="5" y="397"/>
                </a:lnTo>
                <a:lnTo>
                  <a:pt x="9" y="396"/>
                </a:lnTo>
                <a:lnTo>
                  <a:pt x="13" y="394"/>
                </a:lnTo>
                <a:lnTo>
                  <a:pt x="17" y="390"/>
                </a:lnTo>
                <a:lnTo>
                  <a:pt x="21" y="388"/>
                </a:lnTo>
                <a:lnTo>
                  <a:pt x="27" y="386"/>
                </a:lnTo>
                <a:lnTo>
                  <a:pt x="32" y="384"/>
                </a:lnTo>
                <a:lnTo>
                  <a:pt x="40" y="382"/>
                </a:lnTo>
                <a:lnTo>
                  <a:pt x="48" y="378"/>
                </a:lnTo>
                <a:lnTo>
                  <a:pt x="55" y="376"/>
                </a:lnTo>
                <a:lnTo>
                  <a:pt x="63" y="374"/>
                </a:lnTo>
                <a:lnTo>
                  <a:pt x="73" y="373"/>
                </a:lnTo>
                <a:lnTo>
                  <a:pt x="76" y="371"/>
                </a:lnTo>
                <a:lnTo>
                  <a:pt x="80" y="369"/>
                </a:lnTo>
                <a:lnTo>
                  <a:pt x="86" y="367"/>
                </a:lnTo>
                <a:lnTo>
                  <a:pt x="94" y="365"/>
                </a:lnTo>
                <a:lnTo>
                  <a:pt x="101" y="363"/>
                </a:lnTo>
                <a:lnTo>
                  <a:pt x="111" y="359"/>
                </a:lnTo>
                <a:lnTo>
                  <a:pt x="121" y="357"/>
                </a:lnTo>
                <a:lnTo>
                  <a:pt x="130" y="353"/>
                </a:lnTo>
                <a:lnTo>
                  <a:pt x="144" y="350"/>
                </a:lnTo>
                <a:lnTo>
                  <a:pt x="155" y="346"/>
                </a:lnTo>
                <a:lnTo>
                  <a:pt x="171" y="342"/>
                </a:lnTo>
                <a:lnTo>
                  <a:pt x="184" y="336"/>
                </a:lnTo>
                <a:lnTo>
                  <a:pt x="199" y="332"/>
                </a:lnTo>
                <a:lnTo>
                  <a:pt x="217" y="326"/>
                </a:lnTo>
                <a:lnTo>
                  <a:pt x="234" y="321"/>
                </a:lnTo>
                <a:lnTo>
                  <a:pt x="253" y="315"/>
                </a:lnTo>
                <a:lnTo>
                  <a:pt x="272" y="309"/>
                </a:lnTo>
                <a:lnTo>
                  <a:pt x="293" y="303"/>
                </a:lnTo>
                <a:lnTo>
                  <a:pt x="314" y="296"/>
                </a:lnTo>
                <a:lnTo>
                  <a:pt x="338" y="288"/>
                </a:lnTo>
                <a:lnTo>
                  <a:pt x="361" y="280"/>
                </a:lnTo>
                <a:lnTo>
                  <a:pt x="386" y="273"/>
                </a:lnTo>
                <a:lnTo>
                  <a:pt x="410" y="265"/>
                </a:lnTo>
                <a:lnTo>
                  <a:pt x="437" y="256"/>
                </a:lnTo>
                <a:lnTo>
                  <a:pt x="464" y="248"/>
                </a:lnTo>
                <a:lnTo>
                  <a:pt x="493" y="238"/>
                </a:lnTo>
                <a:lnTo>
                  <a:pt x="522" y="229"/>
                </a:lnTo>
                <a:lnTo>
                  <a:pt x="553" y="217"/>
                </a:lnTo>
                <a:lnTo>
                  <a:pt x="583" y="208"/>
                </a:lnTo>
                <a:lnTo>
                  <a:pt x="614" y="196"/>
                </a:lnTo>
                <a:lnTo>
                  <a:pt x="647" y="186"/>
                </a:lnTo>
                <a:lnTo>
                  <a:pt x="681" y="175"/>
                </a:lnTo>
                <a:lnTo>
                  <a:pt x="716" y="163"/>
                </a:lnTo>
                <a:lnTo>
                  <a:pt x="748" y="154"/>
                </a:lnTo>
                <a:lnTo>
                  <a:pt x="779" y="144"/>
                </a:lnTo>
                <a:lnTo>
                  <a:pt x="810" y="135"/>
                </a:lnTo>
                <a:lnTo>
                  <a:pt x="841" y="125"/>
                </a:lnTo>
                <a:lnTo>
                  <a:pt x="869" y="115"/>
                </a:lnTo>
                <a:lnTo>
                  <a:pt x="896" y="108"/>
                </a:lnTo>
                <a:lnTo>
                  <a:pt x="923" y="98"/>
                </a:lnTo>
                <a:lnTo>
                  <a:pt x="950" y="91"/>
                </a:lnTo>
                <a:lnTo>
                  <a:pt x="975" y="83"/>
                </a:lnTo>
                <a:lnTo>
                  <a:pt x="998" y="75"/>
                </a:lnTo>
                <a:lnTo>
                  <a:pt x="1021" y="69"/>
                </a:lnTo>
                <a:lnTo>
                  <a:pt x="1044" y="62"/>
                </a:lnTo>
                <a:lnTo>
                  <a:pt x="1065" y="56"/>
                </a:lnTo>
                <a:lnTo>
                  <a:pt x="1084" y="50"/>
                </a:lnTo>
                <a:lnTo>
                  <a:pt x="1104" y="44"/>
                </a:lnTo>
                <a:lnTo>
                  <a:pt x="1123" y="39"/>
                </a:lnTo>
                <a:lnTo>
                  <a:pt x="1138" y="35"/>
                </a:lnTo>
                <a:lnTo>
                  <a:pt x="1155" y="29"/>
                </a:lnTo>
                <a:lnTo>
                  <a:pt x="1171" y="25"/>
                </a:lnTo>
                <a:lnTo>
                  <a:pt x="1184" y="21"/>
                </a:lnTo>
                <a:lnTo>
                  <a:pt x="1198" y="18"/>
                </a:lnTo>
                <a:lnTo>
                  <a:pt x="1211" y="14"/>
                </a:lnTo>
                <a:lnTo>
                  <a:pt x="1223" y="12"/>
                </a:lnTo>
                <a:lnTo>
                  <a:pt x="1232" y="8"/>
                </a:lnTo>
                <a:lnTo>
                  <a:pt x="1242" y="6"/>
                </a:lnTo>
                <a:lnTo>
                  <a:pt x="1251" y="4"/>
                </a:lnTo>
                <a:lnTo>
                  <a:pt x="1257" y="2"/>
                </a:lnTo>
                <a:lnTo>
                  <a:pt x="1265" y="2"/>
                </a:lnTo>
                <a:lnTo>
                  <a:pt x="1271" y="0"/>
                </a:lnTo>
                <a:lnTo>
                  <a:pt x="1274" y="0"/>
                </a:lnTo>
                <a:lnTo>
                  <a:pt x="1280" y="0"/>
                </a:lnTo>
                <a:lnTo>
                  <a:pt x="1292" y="0"/>
                </a:lnTo>
                <a:lnTo>
                  <a:pt x="1305" y="2"/>
                </a:lnTo>
                <a:lnTo>
                  <a:pt x="1317" y="4"/>
                </a:lnTo>
                <a:lnTo>
                  <a:pt x="1328" y="8"/>
                </a:lnTo>
                <a:lnTo>
                  <a:pt x="1340" y="12"/>
                </a:lnTo>
                <a:lnTo>
                  <a:pt x="1351" y="16"/>
                </a:lnTo>
                <a:lnTo>
                  <a:pt x="1365" y="21"/>
                </a:lnTo>
                <a:lnTo>
                  <a:pt x="1378" y="25"/>
                </a:lnTo>
                <a:lnTo>
                  <a:pt x="1384" y="27"/>
                </a:lnTo>
                <a:lnTo>
                  <a:pt x="1390" y="31"/>
                </a:lnTo>
                <a:lnTo>
                  <a:pt x="1395" y="33"/>
                </a:lnTo>
                <a:lnTo>
                  <a:pt x="1401" y="37"/>
                </a:lnTo>
                <a:lnTo>
                  <a:pt x="1405" y="41"/>
                </a:lnTo>
                <a:lnTo>
                  <a:pt x="1409" y="43"/>
                </a:lnTo>
                <a:lnTo>
                  <a:pt x="1415" y="50"/>
                </a:lnTo>
                <a:lnTo>
                  <a:pt x="1420" y="58"/>
                </a:lnTo>
                <a:lnTo>
                  <a:pt x="1424" y="64"/>
                </a:lnTo>
                <a:lnTo>
                  <a:pt x="1426" y="69"/>
                </a:lnTo>
                <a:lnTo>
                  <a:pt x="1426" y="75"/>
                </a:lnTo>
                <a:lnTo>
                  <a:pt x="1426" y="77"/>
                </a:lnTo>
                <a:lnTo>
                  <a:pt x="1424" y="79"/>
                </a:lnTo>
                <a:lnTo>
                  <a:pt x="1420" y="83"/>
                </a:lnTo>
                <a:lnTo>
                  <a:pt x="1416" y="87"/>
                </a:lnTo>
                <a:lnTo>
                  <a:pt x="1413" y="89"/>
                </a:lnTo>
                <a:lnTo>
                  <a:pt x="1405" y="92"/>
                </a:lnTo>
                <a:lnTo>
                  <a:pt x="1397" y="98"/>
                </a:lnTo>
                <a:lnTo>
                  <a:pt x="1390" y="102"/>
                </a:lnTo>
                <a:lnTo>
                  <a:pt x="1380" y="106"/>
                </a:lnTo>
                <a:lnTo>
                  <a:pt x="1368" y="112"/>
                </a:lnTo>
                <a:lnTo>
                  <a:pt x="1357" y="117"/>
                </a:lnTo>
                <a:lnTo>
                  <a:pt x="1344" y="121"/>
                </a:lnTo>
                <a:lnTo>
                  <a:pt x="1330" y="127"/>
                </a:lnTo>
                <a:lnTo>
                  <a:pt x="1315" y="133"/>
                </a:lnTo>
                <a:lnTo>
                  <a:pt x="1297" y="140"/>
                </a:lnTo>
                <a:lnTo>
                  <a:pt x="1280" y="146"/>
                </a:lnTo>
                <a:lnTo>
                  <a:pt x="1261" y="154"/>
                </a:lnTo>
                <a:lnTo>
                  <a:pt x="1240" y="160"/>
                </a:lnTo>
                <a:lnTo>
                  <a:pt x="1219" y="167"/>
                </a:lnTo>
                <a:lnTo>
                  <a:pt x="1198" y="175"/>
                </a:lnTo>
                <a:lnTo>
                  <a:pt x="1175" y="183"/>
                </a:lnTo>
                <a:lnTo>
                  <a:pt x="1150" y="190"/>
                </a:lnTo>
                <a:lnTo>
                  <a:pt x="1123" y="200"/>
                </a:lnTo>
                <a:lnTo>
                  <a:pt x="1096" y="208"/>
                </a:lnTo>
                <a:lnTo>
                  <a:pt x="1069" y="217"/>
                </a:lnTo>
                <a:lnTo>
                  <a:pt x="1040" y="225"/>
                </a:lnTo>
                <a:lnTo>
                  <a:pt x="1009" y="234"/>
                </a:lnTo>
                <a:lnTo>
                  <a:pt x="977" y="244"/>
                </a:lnTo>
                <a:lnTo>
                  <a:pt x="944" y="254"/>
                </a:lnTo>
                <a:lnTo>
                  <a:pt x="912" y="265"/>
                </a:lnTo>
                <a:lnTo>
                  <a:pt x="877" y="275"/>
                </a:lnTo>
                <a:lnTo>
                  <a:pt x="841" y="286"/>
                </a:lnTo>
                <a:lnTo>
                  <a:pt x="804" y="298"/>
                </a:lnTo>
                <a:lnTo>
                  <a:pt x="769" y="307"/>
                </a:lnTo>
                <a:lnTo>
                  <a:pt x="735" y="319"/>
                </a:lnTo>
                <a:lnTo>
                  <a:pt x="702" y="330"/>
                </a:lnTo>
                <a:lnTo>
                  <a:pt x="670" y="340"/>
                </a:lnTo>
                <a:lnTo>
                  <a:pt x="637" y="350"/>
                </a:lnTo>
                <a:lnTo>
                  <a:pt x="608" y="359"/>
                </a:lnTo>
                <a:lnTo>
                  <a:pt x="578" y="369"/>
                </a:lnTo>
                <a:lnTo>
                  <a:pt x="549" y="376"/>
                </a:lnTo>
                <a:lnTo>
                  <a:pt x="522" y="384"/>
                </a:lnTo>
                <a:lnTo>
                  <a:pt x="495" y="392"/>
                </a:lnTo>
                <a:lnTo>
                  <a:pt x="468" y="399"/>
                </a:lnTo>
                <a:lnTo>
                  <a:pt x="443" y="407"/>
                </a:lnTo>
                <a:lnTo>
                  <a:pt x="420" y="413"/>
                </a:lnTo>
                <a:lnTo>
                  <a:pt x="397" y="420"/>
                </a:lnTo>
                <a:lnTo>
                  <a:pt x="374" y="426"/>
                </a:lnTo>
                <a:lnTo>
                  <a:pt x="353" y="432"/>
                </a:lnTo>
                <a:lnTo>
                  <a:pt x="332" y="436"/>
                </a:lnTo>
                <a:lnTo>
                  <a:pt x="313" y="442"/>
                </a:lnTo>
                <a:lnTo>
                  <a:pt x="295" y="445"/>
                </a:lnTo>
                <a:lnTo>
                  <a:pt x="276" y="449"/>
                </a:lnTo>
                <a:lnTo>
                  <a:pt x="261" y="453"/>
                </a:lnTo>
                <a:lnTo>
                  <a:pt x="245" y="457"/>
                </a:lnTo>
                <a:lnTo>
                  <a:pt x="230" y="461"/>
                </a:lnTo>
                <a:lnTo>
                  <a:pt x="217" y="463"/>
                </a:lnTo>
                <a:lnTo>
                  <a:pt x="203" y="465"/>
                </a:lnTo>
                <a:lnTo>
                  <a:pt x="192" y="467"/>
                </a:lnTo>
                <a:lnTo>
                  <a:pt x="180" y="468"/>
                </a:lnTo>
                <a:lnTo>
                  <a:pt x="171" y="470"/>
                </a:lnTo>
                <a:lnTo>
                  <a:pt x="161" y="470"/>
                </a:lnTo>
                <a:lnTo>
                  <a:pt x="151" y="470"/>
                </a:lnTo>
                <a:lnTo>
                  <a:pt x="146" y="472"/>
                </a:lnTo>
                <a:lnTo>
                  <a:pt x="132" y="472"/>
                </a:lnTo>
                <a:lnTo>
                  <a:pt x="119" y="472"/>
                </a:lnTo>
                <a:lnTo>
                  <a:pt x="107" y="470"/>
                </a:lnTo>
                <a:lnTo>
                  <a:pt x="94" y="470"/>
                </a:lnTo>
                <a:lnTo>
                  <a:pt x="84" y="470"/>
                </a:lnTo>
                <a:lnTo>
                  <a:pt x="73" y="470"/>
                </a:lnTo>
                <a:lnTo>
                  <a:pt x="63" y="470"/>
                </a:lnTo>
                <a:lnTo>
                  <a:pt x="55" y="470"/>
                </a:lnTo>
                <a:lnTo>
                  <a:pt x="46" y="468"/>
                </a:lnTo>
                <a:lnTo>
                  <a:pt x="40" y="468"/>
                </a:lnTo>
                <a:lnTo>
                  <a:pt x="32" y="467"/>
                </a:lnTo>
                <a:lnTo>
                  <a:pt x="27" y="467"/>
                </a:lnTo>
                <a:lnTo>
                  <a:pt x="21" y="465"/>
                </a:lnTo>
                <a:lnTo>
                  <a:pt x="17" y="463"/>
                </a:lnTo>
                <a:lnTo>
                  <a:pt x="13" y="461"/>
                </a:lnTo>
                <a:lnTo>
                  <a:pt x="11" y="459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任意多边形 8"/>
          <p:cNvSpPr/>
          <p:nvPr/>
        </p:nvSpPr>
        <p:spPr>
          <a:xfrm>
            <a:off x="1706400" y="25686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阎      锡      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1634400" y="227016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9"/>
          <p:cNvSpPr/>
          <p:nvPr/>
        </p:nvSpPr>
        <p:spPr>
          <a:xfrm>
            <a:off x="4238640" y="2316240"/>
            <a:ext cx="5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1"/>
          <p:cNvSpPr/>
          <p:nvPr/>
        </p:nvSpPr>
        <p:spPr>
          <a:xfrm>
            <a:off x="6534360" y="2341440"/>
            <a:ext cx="97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81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4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86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TextBox 1"/>
          <p:cNvSpPr/>
          <p:nvPr/>
        </p:nvSpPr>
        <p:spPr>
          <a:xfrm>
            <a:off x="2166840" y="3124080"/>
            <a:ext cx="578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阎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锡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山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廉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谬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0"/>
          <p:cNvSpPr/>
          <p:nvPr/>
        </p:nvSpPr>
        <p:spPr>
          <a:xfrm>
            <a:off x="2814480" y="2592360"/>
            <a:ext cx="5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2"/>
          <p:cNvSpPr/>
          <p:nvPr/>
        </p:nvSpPr>
        <p:spPr>
          <a:xfrm>
            <a:off x="5538600" y="2592360"/>
            <a:ext cx="5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3"/>
          <p:cNvSpPr/>
          <p:nvPr/>
        </p:nvSpPr>
        <p:spPr>
          <a:xfrm>
            <a:off x="1894680" y="4006800"/>
            <a:ext cx="11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mi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"/>
          <p:cNvSpPr/>
          <p:nvPr/>
        </p:nvSpPr>
        <p:spPr>
          <a:xfrm>
            <a:off x="1274760" y="1839960"/>
            <a:ext cx="74563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维新变法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胸无点墨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舞文弄墨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不学无术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95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矩形 1"/>
          <p:cNvSpPr/>
          <p:nvPr/>
        </p:nvSpPr>
        <p:spPr>
          <a:xfrm>
            <a:off x="2590920" y="1846440"/>
            <a:ext cx="62960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指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1898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年资产阶级改良派进行的政治改革运动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墨：墨水，比喻学问。胸中没有一点文墨。形容读书太少，文化水平极低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舞、弄：玩弄。玩弄文字技巧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梁山好汉擅长舞刀弄枪的很多，会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舞文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墨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极少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学：学识，学问。术：技能，方法。没有学问，没有能力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1"/>
          <p:cNvSpPr/>
          <p:nvPr/>
        </p:nvSpPr>
        <p:spPr>
          <a:xfrm>
            <a:off x="1274760" y="1919160"/>
            <a:ext cx="74563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妙趣横生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啼笑皆非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无言以对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组合 1"/>
          <p:cNvGrpSpPr/>
          <p:nvPr/>
        </p:nvGrpSpPr>
        <p:grpSpPr>
          <a:xfrm>
            <a:off x="558720" y="1143000"/>
            <a:ext cx="2594160" cy="666720"/>
            <a:chOff x="558720" y="1143000"/>
            <a:chExt cx="2594160" cy="666720"/>
          </a:xfrm>
        </p:grpSpPr>
        <p:sp>
          <p:nvSpPr>
            <p:cNvPr id="201" name="圆角矩形 5"/>
            <p:cNvSpPr/>
            <p:nvPr/>
          </p:nvSpPr>
          <p:spPr>
            <a:xfrm>
              <a:off x="1374840" y="128088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4300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文本框 16"/>
            <p:cNvSpPr/>
            <p:nvPr/>
          </p:nvSpPr>
          <p:spPr>
            <a:xfrm>
              <a:off x="1634040" y="129996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矩形 1"/>
          <p:cNvSpPr/>
          <p:nvPr/>
        </p:nvSpPr>
        <p:spPr>
          <a:xfrm>
            <a:off x="2606760" y="1925640"/>
            <a:ext cx="57020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妙趣：美妙的情趣、意味。横生：层出不穷地表露。洋溢着美妙的意趣。多指语言、文章或美术品。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的话总是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妙趣横生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，让人听得津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有味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啼：哭。皆非：都不是。哭也不是，笑也不是，形容既令人难受又令人发笑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对：答对，答复。没有话来应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1"/>
          <p:cNvSpPr/>
          <p:nvPr/>
        </p:nvSpPr>
        <p:spPr>
          <a:xfrm>
            <a:off x="3854520" y="198288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不学无术　胸无点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2"/>
          <p:cNvSpPr/>
          <p:nvPr/>
        </p:nvSpPr>
        <p:spPr>
          <a:xfrm>
            <a:off x="2130480" y="2538360"/>
            <a:ext cx="625788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都形容学识浅薄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不学无术”兼指没有本事或能力；“胸无点墨”则只强调没有学问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只有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不学无术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的人才喜欢装腔作势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他虽然西装革履，但却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胸无点墨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08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4"/>
          <p:cNvGrpSpPr/>
          <p:nvPr/>
        </p:nvGrpSpPr>
        <p:grpSpPr>
          <a:xfrm>
            <a:off x="681120" y="2587680"/>
            <a:ext cx="1670040" cy="459720"/>
            <a:chOff x="681120" y="2587680"/>
            <a:chExt cx="1670040" cy="459720"/>
          </a:xfrm>
        </p:grpSpPr>
        <p:pic>
          <p:nvPicPr>
            <p:cNvPr id="212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6420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3"/>
            <p:cNvSpPr/>
            <p:nvPr/>
          </p:nvSpPr>
          <p:spPr>
            <a:xfrm>
              <a:off x="1024200" y="25876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20"/>
          <p:cNvGrpSpPr/>
          <p:nvPr/>
        </p:nvGrpSpPr>
        <p:grpSpPr>
          <a:xfrm>
            <a:off x="681120" y="3218040"/>
            <a:ext cx="1670040" cy="459720"/>
            <a:chOff x="681120" y="3218040"/>
            <a:chExt cx="1670040" cy="459720"/>
          </a:xfrm>
        </p:grpSpPr>
        <p:pic>
          <p:nvPicPr>
            <p:cNvPr id="215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2724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Box 22"/>
            <p:cNvSpPr/>
            <p:nvPr/>
          </p:nvSpPr>
          <p:spPr>
            <a:xfrm>
              <a:off x="1024200" y="32180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23"/>
          <p:cNvGrpSpPr/>
          <p:nvPr/>
        </p:nvGrpSpPr>
        <p:grpSpPr>
          <a:xfrm>
            <a:off x="681120" y="4338720"/>
            <a:ext cx="1670040" cy="459720"/>
            <a:chOff x="681120" y="4338720"/>
            <a:chExt cx="1670040" cy="459720"/>
          </a:xfrm>
        </p:grpSpPr>
        <p:pic>
          <p:nvPicPr>
            <p:cNvPr id="218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81120" y="439308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Box 25"/>
            <p:cNvSpPr/>
            <p:nvPr/>
          </p:nvSpPr>
          <p:spPr>
            <a:xfrm>
              <a:off x="1024200" y="4338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"/>
          <p:cNvSpPr/>
          <p:nvPr/>
        </p:nvSpPr>
        <p:spPr>
          <a:xfrm>
            <a:off x="887400" y="2228760"/>
            <a:ext cx="74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县长考试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这次考试的原因及目的，同时引出康有为这个主要人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妙批试卷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点明考卷的题目和一份答卷的内容以及康有为对这份答卷的批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妙批所在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指出康有为的批注“妙”的原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组合 11"/>
          <p:cNvGrpSpPr/>
          <p:nvPr/>
        </p:nvGrpSpPr>
        <p:grpSpPr>
          <a:xfrm>
            <a:off x="804960" y="1200240"/>
            <a:ext cx="3792600" cy="717480"/>
            <a:chOff x="804960" y="1200240"/>
            <a:chExt cx="3792600" cy="717480"/>
          </a:xfrm>
        </p:grpSpPr>
        <p:grpSp>
          <p:nvGrpSpPr>
            <p:cNvPr id="222" name="圆角矩形 4"/>
            <p:cNvGrpSpPr/>
            <p:nvPr/>
          </p:nvGrpSpPr>
          <p:grpSpPr>
            <a:xfrm>
              <a:off x="804960" y="1208880"/>
              <a:ext cx="1032120" cy="530640"/>
              <a:chOff x="804960" y="1208880"/>
              <a:chExt cx="1032120" cy="530640"/>
            </a:xfrm>
          </p:grpSpPr>
          <p:pic>
            <p:nvPicPr>
              <p:cNvPr id="223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804960" y="1208880"/>
                <a:ext cx="1032120" cy="53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850680" y="1242000"/>
                <a:ext cx="940680" cy="46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25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1612800" y="1200240"/>
              <a:ext cx="2984760" cy="71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7"/>
          <p:cNvSpPr/>
          <p:nvPr/>
        </p:nvSpPr>
        <p:spPr>
          <a:xfrm>
            <a:off x="1660680" y="3193920"/>
            <a:ext cx="6395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廉吏民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5"/>
          <p:cNvSpPr/>
          <p:nvPr/>
        </p:nvSpPr>
        <p:spPr>
          <a:xfrm>
            <a:off x="851040" y="1612800"/>
            <a:ext cx="7311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有为出的考题是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29" name="矩形 11"/>
          <p:cNvSpPr/>
          <p:nvPr/>
        </p:nvSpPr>
        <p:spPr>
          <a:xfrm>
            <a:off x="1017720" y="2452680"/>
            <a:ext cx="7380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起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妙语批试卷　 经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结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3"/>
          <p:cNvSpPr/>
          <p:nvPr/>
        </p:nvSpPr>
        <p:spPr>
          <a:xfrm>
            <a:off x="784080" y="317016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__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__á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__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i____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____è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阀　　　阎　　　锡　　　廉　　　　摄　　　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32" name="矩形 17"/>
          <p:cNvSpPr/>
          <p:nvPr/>
        </p:nvSpPr>
        <p:spPr>
          <a:xfrm>
            <a:off x="758880" y="221148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把下列字的音节补充完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2"/>
          <p:cNvSpPr/>
          <p:nvPr/>
        </p:nvSpPr>
        <p:spPr>
          <a:xfrm>
            <a:off x="1330560" y="32655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2279520" y="3249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6"/>
          <p:cNvSpPr/>
          <p:nvPr/>
        </p:nvSpPr>
        <p:spPr>
          <a:xfrm>
            <a:off x="3632040" y="3279600"/>
            <a:ext cx="2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7"/>
          <p:cNvSpPr/>
          <p:nvPr/>
        </p:nvSpPr>
        <p:spPr>
          <a:xfrm>
            <a:off x="4717440" y="326556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8"/>
          <p:cNvSpPr/>
          <p:nvPr/>
        </p:nvSpPr>
        <p:spPr>
          <a:xfrm>
            <a:off x="6026400" y="326556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9"/>
          <p:cNvSpPr/>
          <p:nvPr/>
        </p:nvSpPr>
        <p:spPr>
          <a:xfrm>
            <a:off x="7554600" y="3279600"/>
            <a:ext cx="2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" descr="屏幕剪辑"/>
          <p:cNvPicPr/>
          <p:nvPr/>
        </p:nvPicPr>
        <p:blipFill>
          <a:blip r:embed="rId1"/>
          <a:stretch/>
        </p:blipFill>
        <p:spPr>
          <a:xfrm>
            <a:off x="2243160" y="2243160"/>
            <a:ext cx="4834080" cy="302400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2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" name="图片 46" descr="枫叶副本"/>
            <p:cNvPicPr/>
            <p:nvPr/>
          </p:nvPicPr>
          <p:blipFill>
            <a:blip r:embed="rId4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矩形 47" descr=""/>
            <p:cNvPicPr/>
            <p:nvPr/>
          </p:nvPicPr>
          <p:blipFill>
            <a:blip r:embed="rId5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组合 13338"/>
          <p:cNvGrpSpPr/>
          <p:nvPr/>
        </p:nvGrpSpPr>
        <p:grpSpPr>
          <a:xfrm>
            <a:off x="1846440" y="905040"/>
            <a:ext cx="5595840" cy="1180800"/>
            <a:chOff x="1846440" y="905040"/>
            <a:chExt cx="5595840" cy="1180800"/>
          </a:xfrm>
        </p:grpSpPr>
        <p:sp>
          <p:nvSpPr>
            <p:cNvPr id="66" name="Text Box 2"/>
            <p:cNvSpPr/>
            <p:nvPr/>
          </p:nvSpPr>
          <p:spPr>
            <a:xfrm>
              <a:off x="3105360" y="1011240"/>
              <a:ext cx="4336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妙语批试卷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" name="组合 13337"/>
            <p:cNvGrpSpPr/>
            <p:nvPr/>
          </p:nvGrpSpPr>
          <p:grpSpPr>
            <a:xfrm>
              <a:off x="1846440" y="905040"/>
              <a:ext cx="1181160" cy="1180800"/>
              <a:chOff x="1846440" y="905040"/>
              <a:chExt cx="1181160" cy="1180800"/>
            </a:xfrm>
          </p:grpSpPr>
          <p:sp>
            <p:nvSpPr>
              <p:cNvPr id="68" name="AutoShape 11"/>
              <p:cNvSpPr/>
              <p:nvPr/>
            </p:nvSpPr>
            <p:spPr>
              <a:xfrm>
                <a:off x="1846440" y="905040"/>
                <a:ext cx="118116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文本框 13"/>
              <p:cNvSpPr/>
              <p:nvPr/>
            </p:nvSpPr>
            <p:spPr>
              <a:xfrm>
                <a:off x="206388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4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21"/>
          <p:cNvSpPr/>
          <p:nvPr/>
        </p:nvSpPr>
        <p:spPr>
          <a:xfrm>
            <a:off x="1309680" y="2419200"/>
            <a:ext cx="640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ū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fá           xī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ài           dū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éi    xīn          liá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lì            shè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635800" y="2970360"/>
          <a:ext cx="143964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687840" y="2970360"/>
          <a:ext cx="143964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矩形 28"/>
          <p:cNvSpPr/>
          <p:nvPr/>
        </p:nvSpPr>
        <p:spPr>
          <a:xfrm>
            <a:off x="3905640" y="3013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辛 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30"/>
          <p:cNvSpPr/>
          <p:nvPr/>
        </p:nvSpPr>
        <p:spPr>
          <a:xfrm>
            <a:off x="5861520" y="2997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都 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17"/>
          <p:cNvSpPr/>
          <p:nvPr/>
        </p:nvSpPr>
        <p:spPr>
          <a:xfrm>
            <a:off x="758880" y="162864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根据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749600" y="295920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矩形 11"/>
          <p:cNvSpPr/>
          <p:nvPr/>
        </p:nvSpPr>
        <p:spPr>
          <a:xfrm>
            <a:off x="1967400" y="3002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军 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640480" y="4070520"/>
          <a:ext cx="143964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3692520" y="4070520"/>
          <a:ext cx="144000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矩形 14"/>
          <p:cNvSpPr/>
          <p:nvPr/>
        </p:nvSpPr>
        <p:spPr>
          <a:xfrm>
            <a:off x="3910320" y="4113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廉 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5866200" y="40971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摄 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755720" y="40593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矩形 19"/>
          <p:cNvSpPr/>
          <p:nvPr/>
        </p:nvSpPr>
        <p:spPr>
          <a:xfrm>
            <a:off x="1973520" y="4102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维 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7"/>
          <p:cNvSpPr/>
          <p:nvPr/>
        </p:nvSpPr>
        <p:spPr>
          <a:xfrm>
            <a:off x="884160" y="1411200"/>
            <a:ext cx="75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辨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1"/>
          <p:cNvSpPr/>
          <p:nvPr/>
        </p:nvSpPr>
        <p:spPr>
          <a:xfrm>
            <a:off x="1725480" y="2170080"/>
            <a:ext cx="522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阀（　　　　）  亥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阔（　　　　）  骇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（　　　　）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唯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左大括号 2"/>
          <p:cNvSpPr/>
          <p:nvPr/>
        </p:nvSpPr>
        <p:spPr>
          <a:xfrm>
            <a:off x="1620720" y="2522520"/>
            <a:ext cx="198720" cy="977760"/>
          </a:xfrm>
          <a:custGeom>
            <a:avLst/>
            <a:gdLst>
              <a:gd name="textAreaLeft" fmla="*/ 127080 w 198720"/>
              <a:gd name="textAreaRight" fmla="*/ 199080 w 19872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左大括号 17"/>
          <p:cNvSpPr/>
          <p:nvPr/>
        </p:nvSpPr>
        <p:spPr>
          <a:xfrm>
            <a:off x="4043520" y="2533680"/>
            <a:ext cx="198360" cy="977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3"/>
          <p:cNvSpPr/>
          <p:nvPr/>
        </p:nvSpPr>
        <p:spPr>
          <a:xfrm>
            <a:off x="2744640" y="2427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门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2744640" y="31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广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5216040" y="243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亥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5047560" y="3147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骇人听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左大括号 13"/>
          <p:cNvSpPr/>
          <p:nvPr/>
        </p:nvSpPr>
        <p:spPr>
          <a:xfrm>
            <a:off x="1616040" y="3998880"/>
            <a:ext cx="198360" cy="977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15"/>
          <p:cNvSpPr/>
          <p:nvPr/>
        </p:nvSpPr>
        <p:spPr>
          <a:xfrm>
            <a:off x="2739600" y="3859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维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16"/>
          <p:cNvSpPr/>
          <p:nvPr/>
        </p:nvSpPr>
        <p:spPr>
          <a:xfrm>
            <a:off x="2739600" y="4589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唯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888840" y="1488960"/>
            <a:ext cx="739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把词语补充完整，并选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人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胸无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舞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墨　　　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没有话来应付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玩弄文字技巧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2"/>
          <p:cNvSpPr/>
          <p:nvPr/>
        </p:nvSpPr>
        <p:spPr>
          <a:xfrm>
            <a:off x="2643120" y="2130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4"/>
          <p:cNvSpPr/>
          <p:nvPr/>
        </p:nvSpPr>
        <p:spPr>
          <a:xfrm>
            <a:off x="5401440" y="2130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2367000" y="269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7"/>
          <p:cNvSpPr/>
          <p:nvPr/>
        </p:nvSpPr>
        <p:spPr>
          <a:xfrm>
            <a:off x="4767120" y="268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8"/>
          <p:cNvSpPr/>
          <p:nvPr/>
        </p:nvSpPr>
        <p:spPr>
          <a:xfrm>
            <a:off x="4072680" y="3263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无言以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9"/>
          <p:cNvSpPr/>
          <p:nvPr/>
        </p:nvSpPr>
        <p:spPr>
          <a:xfrm>
            <a:off x="4087080" y="3774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舞文弄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1"/>
          <p:cNvSpPr/>
          <p:nvPr/>
        </p:nvSpPr>
        <p:spPr>
          <a:xfrm>
            <a:off x="731880" y="1308240"/>
            <a:ext cx="77086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按要求完成句子练习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以尔之文观之，学不优，无以仕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用现代文说出这句话的意思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以其人之误反讥其人之谬，谬误比照，妙趣横生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用加点的词语造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礼请康有为任主考官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修改病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3"/>
          <p:cNvSpPr/>
          <p:nvPr/>
        </p:nvSpPr>
        <p:spPr>
          <a:xfrm>
            <a:off x="1289160" y="540720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阎锡山礼请康有为任主考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2"/>
          <p:cNvSpPr/>
          <p:nvPr/>
        </p:nvSpPr>
        <p:spPr>
          <a:xfrm>
            <a:off x="1246320" y="2870280"/>
            <a:ext cx="726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从你写的文章来看，你的学习不优秀，不能凭借它来当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4"/>
          <p:cNvSpPr/>
          <p:nvPr/>
        </p:nvSpPr>
        <p:spPr>
          <a:xfrm>
            <a:off x="1274760" y="4376880"/>
            <a:ext cx="705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老师讲课总是妙趣横生， 让学生们在快乐中学习知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6"/>
          <p:cNvSpPr/>
          <p:nvPr/>
        </p:nvSpPr>
        <p:spPr>
          <a:xfrm>
            <a:off x="866880" y="23814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；理解“都督、清廉、妙趣横生”等词语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4"/>
          <p:cNvSpPr/>
          <p:nvPr/>
        </p:nvSpPr>
        <p:spPr>
          <a:xfrm>
            <a:off x="3622680" y="1413000"/>
            <a:ext cx="54421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康有为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85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927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原名祖诒，字广厦，号长素，广东省南海县丹灶苏村人，人称康南海，中国晚清时期重要的政治家、思想家、教育家，资产阶级改良主义的代表人物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89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开始进行戊戌变法，变法失败后逃往日本。康有为作为晚清社会的活跃分子，在倡导维新运动时，体现了历史前进的方向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新学伪经考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孔子改制考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大同书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康子篇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4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75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近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" name="图片 2" descr="屏幕剪辑"/>
          <p:cNvPicPr/>
          <p:nvPr/>
        </p:nvPicPr>
        <p:blipFill>
          <a:blip r:embed="rId3"/>
          <a:stretch/>
        </p:blipFill>
        <p:spPr>
          <a:xfrm>
            <a:off x="1042920" y="2378160"/>
            <a:ext cx="198612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图片 10" descr=""/>
          <p:cNvPicPr/>
          <p:nvPr/>
        </p:nvPicPr>
        <p:blipFill>
          <a:blip r:embed="rId1"/>
          <a:stretch/>
        </p:blipFill>
        <p:spPr>
          <a:xfrm>
            <a:off x="3282840" y="320760"/>
            <a:ext cx="2587680" cy="60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2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83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组合 8"/>
          <p:cNvGrpSpPr/>
          <p:nvPr/>
        </p:nvGrpSpPr>
        <p:grpSpPr>
          <a:xfrm>
            <a:off x="1258920" y="3975120"/>
            <a:ext cx="2840040" cy="1571760"/>
            <a:chOff x="1258920" y="3975120"/>
            <a:chExt cx="2840040" cy="1571760"/>
          </a:xfrm>
        </p:grpSpPr>
        <p:pic>
          <p:nvPicPr>
            <p:cNvPr id="87" name="图示 4" descr=""/>
            <p:cNvPicPr/>
            <p:nvPr/>
          </p:nvPicPr>
          <p:blipFill>
            <a:blip r:embed="rId3"/>
            <a:stretch/>
          </p:blipFill>
          <p:spPr>
            <a:xfrm>
              <a:off x="125892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矩形 2"/>
            <p:cNvSpPr/>
            <p:nvPr/>
          </p:nvSpPr>
          <p:spPr>
            <a:xfrm>
              <a:off x="1302480" y="4587840"/>
              <a:ext cx="277236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外宽内窄。“伐”的斜钩弯度不要过大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3"/>
          <p:cNvSpPr/>
          <p:nvPr/>
        </p:nvSpPr>
        <p:spPr>
          <a:xfrm>
            <a:off x="228276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138"/>
          <p:cNvSpPr/>
          <p:nvPr/>
        </p:nvSpPr>
        <p:spPr>
          <a:xfrm>
            <a:off x="5923080" y="3351240"/>
            <a:ext cx="474480" cy="704880"/>
          </a:xfrm>
          <a:custGeom>
            <a:avLst/>
            <a:gdLst/>
            <a:ahLst/>
            <a:rect l="l" t="t" r="r" b="b"/>
            <a:pathLst>
              <a:path w="599" h="888">
                <a:moveTo>
                  <a:pt x="367" y="240"/>
                </a:moveTo>
                <a:lnTo>
                  <a:pt x="373" y="222"/>
                </a:lnTo>
                <a:lnTo>
                  <a:pt x="378" y="205"/>
                </a:lnTo>
                <a:lnTo>
                  <a:pt x="384" y="188"/>
                </a:lnTo>
                <a:lnTo>
                  <a:pt x="388" y="172"/>
                </a:lnTo>
                <a:lnTo>
                  <a:pt x="390" y="157"/>
                </a:lnTo>
                <a:lnTo>
                  <a:pt x="394" y="144"/>
                </a:lnTo>
                <a:lnTo>
                  <a:pt x="396" y="130"/>
                </a:lnTo>
                <a:lnTo>
                  <a:pt x="397" y="119"/>
                </a:lnTo>
                <a:lnTo>
                  <a:pt x="397" y="107"/>
                </a:lnTo>
                <a:lnTo>
                  <a:pt x="397" y="98"/>
                </a:lnTo>
                <a:lnTo>
                  <a:pt x="397" y="88"/>
                </a:lnTo>
                <a:lnTo>
                  <a:pt x="397" y="80"/>
                </a:lnTo>
                <a:lnTo>
                  <a:pt x="397" y="73"/>
                </a:lnTo>
                <a:lnTo>
                  <a:pt x="396" y="65"/>
                </a:lnTo>
                <a:lnTo>
                  <a:pt x="394" y="59"/>
                </a:lnTo>
                <a:lnTo>
                  <a:pt x="392" y="54"/>
                </a:lnTo>
                <a:lnTo>
                  <a:pt x="388" y="50"/>
                </a:lnTo>
                <a:lnTo>
                  <a:pt x="384" y="42"/>
                </a:lnTo>
                <a:lnTo>
                  <a:pt x="382" y="36"/>
                </a:lnTo>
                <a:lnTo>
                  <a:pt x="382" y="29"/>
                </a:lnTo>
                <a:lnTo>
                  <a:pt x="382" y="23"/>
                </a:lnTo>
                <a:lnTo>
                  <a:pt x="384" y="15"/>
                </a:lnTo>
                <a:lnTo>
                  <a:pt x="388" y="9"/>
                </a:lnTo>
                <a:lnTo>
                  <a:pt x="392" y="4"/>
                </a:lnTo>
                <a:lnTo>
                  <a:pt x="394" y="2"/>
                </a:lnTo>
                <a:lnTo>
                  <a:pt x="397" y="2"/>
                </a:lnTo>
                <a:lnTo>
                  <a:pt x="401" y="0"/>
                </a:lnTo>
                <a:lnTo>
                  <a:pt x="405" y="0"/>
                </a:lnTo>
                <a:lnTo>
                  <a:pt x="409" y="0"/>
                </a:lnTo>
                <a:lnTo>
                  <a:pt x="415" y="0"/>
                </a:lnTo>
                <a:lnTo>
                  <a:pt x="421" y="0"/>
                </a:lnTo>
                <a:lnTo>
                  <a:pt x="428" y="2"/>
                </a:lnTo>
                <a:lnTo>
                  <a:pt x="436" y="2"/>
                </a:lnTo>
                <a:lnTo>
                  <a:pt x="444" y="4"/>
                </a:lnTo>
                <a:lnTo>
                  <a:pt x="451" y="6"/>
                </a:lnTo>
                <a:lnTo>
                  <a:pt x="461" y="8"/>
                </a:lnTo>
                <a:lnTo>
                  <a:pt x="469" y="9"/>
                </a:lnTo>
                <a:lnTo>
                  <a:pt x="480" y="13"/>
                </a:lnTo>
                <a:lnTo>
                  <a:pt x="490" y="15"/>
                </a:lnTo>
                <a:lnTo>
                  <a:pt x="501" y="17"/>
                </a:lnTo>
                <a:lnTo>
                  <a:pt x="513" y="21"/>
                </a:lnTo>
                <a:lnTo>
                  <a:pt x="522" y="27"/>
                </a:lnTo>
                <a:lnTo>
                  <a:pt x="532" y="31"/>
                </a:lnTo>
                <a:lnTo>
                  <a:pt x="540" y="36"/>
                </a:lnTo>
                <a:lnTo>
                  <a:pt x="547" y="40"/>
                </a:lnTo>
                <a:lnTo>
                  <a:pt x="555" y="46"/>
                </a:lnTo>
                <a:lnTo>
                  <a:pt x="563" y="52"/>
                </a:lnTo>
                <a:lnTo>
                  <a:pt x="568" y="55"/>
                </a:lnTo>
                <a:lnTo>
                  <a:pt x="574" y="61"/>
                </a:lnTo>
                <a:lnTo>
                  <a:pt x="578" y="67"/>
                </a:lnTo>
                <a:lnTo>
                  <a:pt x="584" y="73"/>
                </a:lnTo>
                <a:lnTo>
                  <a:pt x="588" y="78"/>
                </a:lnTo>
                <a:lnTo>
                  <a:pt x="593" y="90"/>
                </a:lnTo>
                <a:lnTo>
                  <a:pt x="599" y="103"/>
                </a:lnTo>
                <a:lnTo>
                  <a:pt x="599" y="111"/>
                </a:lnTo>
                <a:lnTo>
                  <a:pt x="599" y="121"/>
                </a:lnTo>
                <a:lnTo>
                  <a:pt x="597" y="132"/>
                </a:lnTo>
                <a:lnTo>
                  <a:pt x="593" y="146"/>
                </a:lnTo>
                <a:lnTo>
                  <a:pt x="591" y="153"/>
                </a:lnTo>
                <a:lnTo>
                  <a:pt x="588" y="161"/>
                </a:lnTo>
                <a:lnTo>
                  <a:pt x="586" y="169"/>
                </a:lnTo>
                <a:lnTo>
                  <a:pt x="582" y="178"/>
                </a:lnTo>
                <a:lnTo>
                  <a:pt x="576" y="188"/>
                </a:lnTo>
                <a:lnTo>
                  <a:pt x="572" y="197"/>
                </a:lnTo>
                <a:lnTo>
                  <a:pt x="566" y="207"/>
                </a:lnTo>
                <a:lnTo>
                  <a:pt x="561" y="219"/>
                </a:lnTo>
                <a:lnTo>
                  <a:pt x="555" y="228"/>
                </a:lnTo>
                <a:lnTo>
                  <a:pt x="549" y="242"/>
                </a:lnTo>
                <a:lnTo>
                  <a:pt x="541" y="253"/>
                </a:lnTo>
                <a:lnTo>
                  <a:pt x="536" y="266"/>
                </a:lnTo>
                <a:lnTo>
                  <a:pt x="528" y="280"/>
                </a:lnTo>
                <a:lnTo>
                  <a:pt x="518" y="293"/>
                </a:lnTo>
                <a:lnTo>
                  <a:pt x="511" y="307"/>
                </a:lnTo>
                <a:lnTo>
                  <a:pt x="501" y="322"/>
                </a:lnTo>
                <a:lnTo>
                  <a:pt x="492" y="337"/>
                </a:lnTo>
                <a:lnTo>
                  <a:pt x="482" y="355"/>
                </a:lnTo>
                <a:lnTo>
                  <a:pt x="472" y="372"/>
                </a:lnTo>
                <a:lnTo>
                  <a:pt x="463" y="389"/>
                </a:lnTo>
                <a:lnTo>
                  <a:pt x="451" y="407"/>
                </a:lnTo>
                <a:lnTo>
                  <a:pt x="440" y="424"/>
                </a:lnTo>
                <a:lnTo>
                  <a:pt x="428" y="443"/>
                </a:lnTo>
                <a:lnTo>
                  <a:pt x="417" y="464"/>
                </a:lnTo>
                <a:lnTo>
                  <a:pt x="403" y="483"/>
                </a:lnTo>
                <a:lnTo>
                  <a:pt x="392" y="502"/>
                </a:lnTo>
                <a:lnTo>
                  <a:pt x="378" y="520"/>
                </a:lnTo>
                <a:lnTo>
                  <a:pt x="367" y="539"/>
                </a:lnTo>
                <a:lnTo>
                  <a:pt x="355" y="556"/>
                </a:lnTo>
                <a:lnTo>
                  <a:pt x="344" y="573"/>
                </a:lnTo>
                <a:lnTo>
                  <a:pt x="332" y="589"/>
                </a:lnTo>
                <a:lnTo>
                  <a:pt x="321" y="606"/>
                </a:lnTo>
                <a:lnTo>
                  <a:pt x="309" y="621"/>
                </a:lnTo>
                <a:lnTo>
                  <a:pt x="298" y="635"/>
                </a:lnTo>
                <a:lnTo>
                  <a:pt x="288" y="650"/>
                </a:lnTo>
                <a:lnTo>
                  <a:pt x="277" y="664"/>
                </a:lnTo>
                <a:lnTo>
                  <a:pt x="267" y="677"/>
                </a:lnTo>
                <a:lnTo>
                  <a:pt x="255" y="690"/>
                </a:lnTo>
                <a:lnTo>
                  <a:pt x="246" y="702"/>
                </a:lnTo>
                <a:lnTo>
                  <a:pt x="236" y="713"/>
                </a:lnTo>
                <a:lnTo>
                  <a:pt x="227" y="725"/>
                </a:lnTo>
                <a:lnTo>
                  <a:pt x="217" y="736"/>
                </a:lnTo>
                <a:lnTo>
                  <a:pt x="207" y="746"/>
                </a:lnTo>
                <a:lnTo>
                  <a:pt x="200" y="756"/>
                </a:lnTo>
                <a:lnTo>
                  <a:pt x="190" y="765"/>
                </a:lnTo>
                <a:lnTo>
                  <a:pt x="182" y="775"/>
                </a:lnTo>
                <a:lnTo>
                  <a:pt x="173" y="783"/>
                </a:lnTo>
                <a:lnTo>
                  <a:pt x="165" y="790"/>
                </a:lnTo>
                <a:lnTo>
                  <a:pt x="158" y="798"/>
                </a:lnTo>
                <a:lnTo>
                  <a:pt x="150" y="804"/>
                </a:lnTo>
                <a:lnTo>
                  <a:pt x="142" y="811"/>
                </a:lnTo>
                <a:lnTo>
                  <a:pt x="136" y="817"/>
                </a:lnTo>
                <a:lnTo>
                  <a:pt x="129" y="821"/>
                </a:lnTo>
                <a:lnTo>
                  <a:pt x="123" y="827"/>
                </a:lnTo>
                <a:lnTo>
                  <a:pt x="117" y="830"/>
                </a:lnTo>
                <a:lnTo>
                  <a:pt x="111" y="834"/>
                </a:lnTo>
                <a:lnTo>
                  <a:pt x="100" y="842"/>
                </a:lnTo>
                <a:lnTo>
                  <a:pt x="88" y="848"/>
                </a:lnTo>
                <a:lnTo>
                  <a:pt x="79" y="853"/>
                </a:lnTo>
                <a:lnTo>
                  <a:pt x="69" y="859"/>
                </a:lnTo>
                <a:lnTo>
                  <a:pt x="62" y="865"/>
                </a:lnTo>
                <a:lnTo>
                  <a:pt x="52" y="871"/>
                </a:lnTo>
                <a:lnTo>
                  <a:pt x="44" y="875"/>
                </a:lnTo>
                <a:lnTo>
                  <a:pt x="38" y="878"/>
                </a:lnTo>
                <a:lnTo>
                  <a:pt x="31" y="882"/>
                </a:lnTo>
                <a:lnTo>
                  <a:pt x="25" y="884"/>
                </a:lnTo>
                <a:lnTo>
                  <a:pt x="19" y="886"/>
                </a:lnTo>
                <a:lnTo>
                  <a:pt x="15" y="886"/>
                </a:lnTo>
                <a:lnTo>
                  <a:pt x="10" y="888"/>
                </a:lnTo>
                <a:lnTo>
                  <a:pt x="6" y="886"/>
                </a:lnTo>
                <a:lnTo>
                  <a:pt x="4" y="886"/>
                </a:lnTo>
                <a:lnTo>
                  <a:pt x="0" y="884"/>
                </a:lnTo>
                <a:lnTo>
                  <a:pt x="0" y="880"/>
                </a:lnTo>
                <a:lnTo>
                  <a:pt x="0" y="877"/>
                </a:lnTo>
                <a:lnTo>
                  <a:pt x="2" y="869"/>
                </a:lnTo>
                <a:lnTo>
                  <a:pt x="6" y="861"/>
                </a:lnTo>
                <a:lnTo>
                  <a:pt x="10" y="852"/>
                </a:lnTo>
                <a:lnTo>
                  <a:pt x="17" y="838"/>
                </a:lnTo>
                <a:lnTo>
                  <a:pt x="25" y="825"/>
                </a:lnTo>
                <a:lnTo>
                  <a:pt x="35" y="809"/>
                </a:lnTo>
                <a:lnTo>
                  <a:pt x="46" y="792"/>
                </a:lnTo>
                <a:lnTo>
                  <a:pt x="58" y="775"/>
                </a:lnTo>
                <a:lnTo>
                  <a:pt x="73" y="754"/>
                </a:lnTo>
                <a:lnTo>
                  <a:pt x="86" y="731"/>
                </a:lnTo>
                <a:lnTo>
                  <a:pt x="104" y="708"/>
                </a:lnTo>
                <a:lnTo>
                  <a:pt x="121" y="681"/>
                </a:lnTo>
                <a:lnTo>
                  <a:pt x="140" y="654"/>
                </a:lnTo>
                <a:lnTo>
                  <a:pt x="159" y="623"/>
                </a:lnTo>
                <a:lnTo>
                  <a:pt x="179" y="595"/>
                </a:lnTo>
                <a:lnTo>
                  <a:pt x="198" y="564"/>
                </a:lnTo>
                <a:lnTo>
                  <a:pt x="217" y="535"/>
                </a:lnTo>
                <a:lnTo>
                  <a:pt x="234" y="508"/>
                </a:lnTo>
                <a:lnTo>
                  <a:pt x="250" y="481"/>
                </a:lnTo>
                <a:lnTo>
                  <a:pt x="267" y="454"/>
                </a:lnTo>
                <a:lnTo>
                  <a:pt x="280" y="430"/>
                </a:lnTo>
                <a:lnTo>
                  <a:pt x="294" y="405"/>
                </a:lnTo>
                <a:lnTo>
                  <a:pt x="307" y="380"/>
                </a:lnTo>
                <a:lnTo>
                  <a:pt x="319" y="357"/>
                </a:lnTo>
                <a:lnTo>
                  <a:pt x="330" y="336"/>
                </a:lnTo>
                <a:lnTo>
                  <a:pt x="340" y="314"/>
                </a:lnTo>
                <a:lnTo>
                  <a:pt x="348" y="293"/>
                </a:lnTo>
                <a:lnTo>
                  <a:pt x="355" y="274"/>
                </a:lnTo>
                <a:lnTo>
                  <a:pt x="361" y="257"/>
                </a:lnTo>
                <a:lnTo>
                  <a:pt x="367" y="2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39"/>
          <p:cNvSpPr/>
          <p:nvPr/>
        </p:nvSpPr>
        <p:spPr>
          <a:xfrm>
            <a:off x="6157800" y="3728880"/>
            <a:ext cx="123840" cy="835200"/>
          </a:xfrm>
          <a:custGeom>
            <a:avLst/>
            <a:gdLst/>
            <a:ahLst/>
            <a:rect l="l" t="t" r="r" b="b"/>
            <a:pathLst>
              <a:path w="155" h="1053">
                <a:moveTo>
                  <a:pt x="21" y="941"/>
                </a:moveTo>
                <a:lnTo>
                  <a:pt x="15" y="926"/>
                </a:lnTo>
                <a:lnTo>
                  <a:pt x="13" y="913"/>
                </a:lnTo>
                <a:lnTo>
                  <a:pt x="9" y="899"/>
                </a:lnTo>
                <a:lnTo>
                  <a:pt x="5" y="888"/>
                </a:lnTo>
                <a:lnTo>
                  <a:pt x="4" y="874"/>
                </a:lnTo>
                <a:lnTo>
                  <a:pt x="2" y="863"/>
                </a:lnTo>
                <a:lnTo>
                  <a:pt x="0" y="838"/>
                </a:lnTo>
                <a:lnTo>
                  <a:pt x="0" y="817"/>
                </a:lnTo>
                <a:lnTo>
                  <a:pt x="2" y="794"/>
                </a:lnTo>
                <a:lnTo>
                  <a:pt x="4" y="775"/>
                </a:lnTo>
                <a:lnTo>
                  <a:pt x="7" y="755"/>
                </a:lnTo>
                <a:lnTo>
                  <a:pt x="9" y="746"/>
                </a:lnTo>
                <a:lnTo>
                  <a:pt x="13" y="734"/>
                </a:lnTo>
                <a:lnTo>
                  <a:pt x="15" y="723"/>
                </a:lnTo>
                <a:lnTo>
                  <a:pt x="17" y="709"/>
                </a:lnTo>
                <a:lnTo>
                  <a:pt x="19" y="694"/>
                </a:lnTo>
                <a:lnTo>
                  <a:pt x="21" y="679"/>
                </a:lnTo>
                <a:lnTo>
                  <a:pt x="25" y="663"/>
                </a:lnTo>
                <a:lnTo>
                  <a:pt x="27" y="646"/>
                </a:lnTo>
                <a:lnTo>
                  <a:pt x="28" y="627"/>
                </a:lnTo>
                <a:lnTo>
                  <a:pt x="30" y="608"/>
                </a:lnTo>
                <a:lnTo>
                  <a:pt x="32" y="587"/>
                </a:lnTo>
                <a:lnTo>
                  <a:pt x="36" y="565"/>
                </a:lnTo>
                <a:lnTo>
                  <a:pt x="38" y="542"/>
                </a:lnTo>
                <a:lnTo>
                  <a:pt x="40" y="519"/>
                </a:lnTo>
                <a:lnTo>
                  <a:pt x="42" y="495"/>
                </a:lnTo>
                <a:lnTo>
                  <a:pt x="44" y="470"/>
                </a:lnTo>
                <a:lnTo>
                  <a:pt x="44" y="445"/>
                </a:lnTo>
                <a:lnTo>
                  <a:pt x="44" y="420"/>
                </a:lnTo>
                <a:lnTo>
                  <a:pt x="44" y="397"/>
                </a:lnTo>
                <a:lnTo>
                  <a:pt x="44" y="374"/>
                </a:lnTo>
                <a:lnTo>
                  <a:pt x="44" y="351"/>
                </a:lnTo>
                <a:lnTo>
                  <a:pt x="44" y="328"/>
                </a:lnTo>
                <a:lnTo>
                  <a:pt x="44" y="307"/>
                </a:lnTo>
                <a:lnTo>
                  <a:pt x="42" y="285"/>
                </a:lnTo>
                <a:lnTo>
                  <a:pt x="42" y="266"/>
                </a:lnTo>
                <a:lnTo>
                  <a:pt x="42" y="247"/>
                </a:lnTo>
                <a:lnTo>
                  <a:pt x="40" y="228"/>
                </a:lnTo>
                <a:lnTo>
                  <a:pt x="40" y="211"/>
                </a:lnTo>
                <a:lnTo>
                  <a:pt x="38" y="193"/>
                </a:lnTo>
                <a:lnTo>
                  <a:pt x="36" y="178"/>
                </a:lnTo>
                <a:lnTo>
                  <a:pt x="34" y="163"/>
                </a:lnTo>
                <a:lnTo>
                  <a:pt x="32" y="147"/>
                </a:lnTo>
                <a:lnTo>
                  <a:pt x="30" y="134"/>
                </a:lnTo>
                <a:lnTo>
                  <a:pt x="28" y="120"/>
                </a:lnTo>
                <a:lnTo>
                  <a:pt x="28" y="109"/>
                </a:lnTo>
                <a:lnTo>
                  <a:pt x="27" y="97"/>
                </a:lnTo>
                <a:lnTo>
                  <a:pt x="27" y="86"/>
                </a:lnTo>
                <a:lnTo>
                  <a:pt x="28" y="74"/>
                </a:lnTo>
                <a:lnTo>
                  <a:pt x="28" y="65"/>
                </a:lnTo>
                <a:lnTo>
                  <a:pt x="28" y="55"/>
                </a:lnTo>
                <a:lnTo>
                  <a:pt x="30" y="46"/>
                </a:lnTo>
                <a:lnTo>
                  <a:pt x="32" y="38"/>
                </a:lnTo>
                <a:lnTo>
                  <a:pt x="34" y="30"/>
                </a:lnTo>
                <a:lnTo>
                  <a:pt x="36" y="23"/>
                </a:lnTo>
                <a:lnTo>
                  <a:pt x="38" y="17"/>
                </a:lnTo>
                <a:lnTo>
                  <a:pt x="40" y="9"/>
                </a:lnTo>
                <a:lnTo>
                  <a:pt x="42" y="3"/>
                </a:lnTo>
                <a:lnTo>
                  <a:pt x="44" y="0"/>
                </a:lnTo>
                <a:lnTo>
                  <a:pt x="55" y="7"/>
                </a:lnTo>
                <a:lnTo>
                  <a:pt x="65" y="15"/>
                </a:lnTo>
                <a:lnTo>
                  <a:pt x="75" y="26"/>
                </a:lnTo>
                <a:lnTo>
                  <a:pt x="84" y="36"/>
                </a:lnTo>
                <a:lnTo>
                  <a:pt x="92" y="49"/>
                </a:lnTo>
                <a:lnTo>
                  <a:pt x="99" y="63"/>
                </a:lnTo>
                <a:lnTo>
                  <a:pt x="105" y="76"/>
                </a:lnTo>
                <a:lnTo>
                  <a:pt x="111" y="92"/>
                </a:lnTo>
                <a:lnTo>
                  <a:pt x="117" y="109"/>
                </a:lnTo>
                <a:lnTo>
                  <a:pt x="123" y="126"/>
                </a:lnTo>
                <a:lnTo>
                  <a:pt x="126" y="145"/>
                </a:lnTo>
                <a:lnTo>
                  <a:pt x="130" y="166"/>
                </a:lnTo>
                <a:lnTo>
                  <a:pt x="134" y="188"/>
                </a:lnTo>
                <a:lnTo>
                  <a:pt x="136" y="211"/>
                </a:lnTo>
                <a:lnTo>
                  <a:pt x="140" y="234"/>
                </a:lnTo>
                <a:lnTo>
                  <a:pt x="142" y="259"/>
                </a:lnTo>
                <a:lnTo>
                  <a:pt x="144" y="285"/>
                </a:lnTo>
                <a:lnTo>
                  <a:pt x="146" y="308"/>
                </a:lnTo>
                <a:lnTo>
                  <a:pt x="147" y="333"/>
                </a:lnTo>
                <a:lnTo>
                  <a:pt x="149" y="356"/>
                </a:lnTo>
                <a:lnTo>
                  <a:pt x="149" y="379"/>
                </a:lnTo>
                <a:lnTo>
                  <a:pt x="151" y="402"/>
                </a:lnTo>
                <a:lnTo>
                  <a:pt x="151" y="424"/>
                </a:lnTo>
                <a:lnTo>
                  <a:pt x="153" y="445"/>
                </a:lnTo>
                <a:lnTo>
                  <a:pt x="153" y="466"/>
                </a:lnTo>
                <a:lnTo>
                  <a:pt x="153" y="487"/>
                </a:lnTo>
                <a:lnTo>
                  <a:pt x="153" y="506"/>
                </a:lnTo>
                <a:lnTo>
                  <a:pt x="153" y="525"/>
                </a:lnTo>
                <a:lnTo>
                  <a:pt x="153" y="542"/>
                </a:lnTo>
                <a:lnTo>
                  <a:pt x="153" y="560"/>
                </a:lnTo>
                <a:lnTo>
                  <a:pt x="155" y="577"/>
                </a:lnTo>
                <a:lnTo>
                  <a:pt x="155" y="594"/>
                </a:lnTo>
                <a:lnTo>
                  <a:pt x="153" y="627"/>
                </a:lnTo>
                <a:lnTo>
                  <a:pt x="151" y="661"/>
                </a:lnTo>
                <a:lnTo>
                  <a:pt x="149" y="696"/>
                </a:lnTo>
                <a:lnTo>
                  <a:pt x="146" y="734"/>
                </a:lnTo>
                <a:lnTo>
                  <a:pt x="142" y="771"/>
                </a:lnTo>
                <a:lnTo>
                  <a:pt x="138" y="811"/>
                </a:lnTo>
                <a:lnTo>
                  <a:pt x="134" y="849"/>
                </a:lnTo>
                <a:lnTo>
                  <a:pt x="130" y="892"/>
                </a:lnTo>
                <a:lnTo>
                  <a:pt x="128" y="911"/>
                </a:lnTo>
                <a:lnTo>
                  <a:pt x="124" y="930"/>
                </a:lnTo>
                <a:lnTo>
                  <a:pt x="123" y="947"/>
                </a:lnTo>
                <a:lnTo>
                  <a:pt x="119" y="963"/>
                </a:lnTo>
                <a:lnTo>
                  <a:pt x="115" y="978"/>
                </a:lnTo>
                <a:lnTo>
                  <a:pt x="113" y="991"/>
                </a:lnTo>
                <a:lnTo>
                  <a:pt x="109" y="1003"/>
                </a:lnTo>
                <a:lnTo>
                  <a:pt x="105" y="1014"/>
                </a:lnTo>
                <a:lnTo>
                  <a:pt x="101" y="1022"/>
                </a:lnTo>
                <a:lnTo>
                  <a:pt x="99" y="1032"/>
                </a:lnTo>
                <a:lnTo>
                  <a:pt x="96" y="1037"/>
                </a:lnTo>
                <a:lnTo>
                  <a:pt x="92" y="1043"/>
                </a:lnTo>
                <a:lnTo>
                  <a:pt x="90" y="1047"/>
                </a:lnTo>
                <a:lnTo>
                  <a:pt x="86" y="1051"/>
                </a:lnTo>
                <a:lnTo>
                  <a:pt x="84" y="1053"/>
                </a:lnTo>
                <a:lnTo>
                  <a:pt x="80" y="1053"/>
                </a:lnTo>
                <a:lnTo>
                  <a:pt x="78" y="1053"/>
                </a:lnTo>
                <a:lnTo>
                  <a:pt x="76" y="1051"/>
                </a:lnTo>
                <a:lnTo>
                  <a:pt x="73" y="1049"/>
                </a:lnTo>
                <a:lnTo>
                  <a:pt x="71" y="1045"/>
                </a:lnTo>
                <a:lnTo>
                  <a:pt x="67" y="1041"/>
                </a:lnTo>
                <a:lnTo>
                  <a:pt x="63" y="1037"/>
                </a:lnTo>
                <a:lnTo>
                  <a:pt x="59" y="1032"/>
                </a:lnTo>
                <a:lnTo>
                  <a:pt x="55" y="1024"/>
                </a:lnTo>
                <a:lnTo>
                  <a:pt x="51" y="1016"/>
                </a:lnTo>
                <a:lnTo>
                  <a:pt x="48" y="1009"/>
                </a:lnTo>
                <a:lnTo>
                  <a:pt x="42" y="999"/>
                </a:lnTo>
                <a:lnTo>
                  <a:pt x="38" y="989"/>
                </a:lnTo>
                <a:lnTo>
                  <a:pt x="34" y="978"/>
                </a:lnTo>
                <a:lnTo>
                  <a:pt x="28" y="966"/>
                </a:lnTo>
                <a:lnTo>
                  <a:pt x="25" y="955"/>
                </a:lnTo>
                <a:lnTo>
                  <a:pt x="21" y="9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40"/>
          <p:cNvSpPr/>
          <p:nvPr/>
        </p:nvSpPr>
        <p:spPr>
          <a:xfrm>
            <a:off x="5681520" y="3147840"/>
            <a:ext cx="228600" cy="1678320"/>
          </a:xfrm>
          <a:custGeom>
            <a:avLst/>
            <a:gdLst/>
            <a:ahLst/>
            <a:rect l="l" t="t" r="r" b="b"/>
            <a:pathLst>
              <a:path w="288" h="2114">
                <a:moveTo>
                  <a:pt x="84" y="136"/>
                </a:moveTo>
                <a:lnTo>
                  <a:pt x="78" y="126"/>
                </a:lnTo>
                <a:lnTo>
                  <a:pt x="73" y="117"/>
                </a:lnTo>
                <a:lnTo>
                  <a:pt x="67" y="109"/>
                </a:lnTo>
                <a:lnTo>
                  <a:pt x="61" y="101"/>
                </a:lnTo>
                <a:lnTo>
                  <a:pt x="57" y="92"/>
                </a:lnTo>
                <a:lnTo>
                  <a:pt x="54" y="84"/>
                </a:lnTo>
                <a:lnTo>
                  <a:pt x="46" y="71"/>
                </a:lnTo>
                <a:lnTo>
                  <a:pt x="42" y="57"/>
                </a:lnTo>
                <a:lnTo>
                  <a:pt x="38" y="46"/>
                </a:lnTo>
                <a:lnTo>
                  <a:pt x="36" y="34"/>
                </a:lnTo>
                <a:lnTo>
                  <a:pt x="36" y="25"/>
                </a:lnTo>
                <a:lnTo>
                  <a:pt x="36" y="19"/>
                </a:lnTo>
                <a:lnTo>
                  <a:pt x="38" y="15"/>
                </a:lnTo>
                <a:lnTo>
                  <a:pt x="42" y="11"/>
                </a:lnTo>
                <a:lnTo>
                  <a:pt x="46" y="7"/>
                </a:lnTo>
                <a:lnTo>
                  <a:pt x="54" y="4"/>
                </a:lnTo>
                <a:lnTo>
                  <a:pt x="57" y="4"/>
                </a:lnTo>
                <a:lnTo>
                  <a:pt x="61" y="2"/>
                </a:lnTo>
                <a:lnTo>
                  <a:pt x="67" y="2"/>
                </a:lnTo>
                <a:lnTo>
                  <a:pt x="71" y="0"/>
                </a:lnTo>
                <a:lnTo>
                  <a:pt x="78" y="0"/>
                </a:lnTo>
                <a:lnTo>
                  <a:pt x="84" y="0"/>
                </a:lnTo>
                <a:lnTo>
                  <a:pt x="98" y="0"/>
                </a:lnTo>
                <a:lnTo>
                  <a:pt x="111" y="2"/>
                </a:lnTo>
                <a:lnTo>
                  <a:pt x="125" y="5"/>
                </a:lnTo>
                <a:lnTo>
                  <a:pt x="140" y="9"/>
                </a:lnTo>
                <a:lnTo>
                  <a:pt x="153" y="17"/>
                </a:lnTo>
                <a:lnTo>
                  <a:pt x="159" y="21"/>
                </a:lnTo>
                <a:lnTo>
                  <a:pt x="167" y="25"/>
                </a:lnTo>
                <a:lnTo>
                  <a:pt x="173" y="30"/>
                </a:lnTo>
                <a:lnTo>
                  <a:pt x="180" y="36"/>
                </a:lnTo>
                <a:lnTo>
                  <a:pt x="188" y="42"/>
                </a:lnTo>
                <a:lnTo>
                  <a:pt x="194" y="50"/>
                </a:lnTo>
                <a:lnTo>
                  <a:pt x="207" y="63"/>
                </a:lnTo>
                <a:lnTo>
                  <a:pt x="221" y="76"/>
                </a:lnTo>
                <a:lnTo>
                  <a:pt x="234" y="90"/>
                </a:lnTo>
                <a:lnTo>
                  <a:pt x="245" y="105"/>
                </a:lnTo>
                <a:lnTo>
                  <a:pt x="257" y="119"/>
                </a:lnTo>
                <a:lnTo>
                  <a:pt x="267" y="132"/>
                </a:lnTo>
                <a:lnTo>
                  <a:pt x="270" y="140"/>
                </a:lnTo>
                <a:lnTo>
                  <a:pt x="274" y="145"/>
                </a:lnTo>
                <a:lnTo>
                  <a:pt x="276" y="153"/>
                </a:lnTo>
                <a:lnTo>
                  <a:pt x="280" y="161"/>
                </a:lnTo>
                <a:lnTo>
                  <a:pt x="282" y="170"/>
                </a:lnTo>
                <a:lnTo>
                  <a:pt x="284" y="182"/>
                </a:lnTo>
                <a:lnTo>
                  <a:pt x="284" y="193"/>
                </a:lnTo>
                <a:lnTo>
                  <a:pt x="286" y="207"/>
                </a:lnTo>
                <a:lnTo>
                  <a:pt x="288" y="220"/>
                </a:lnTo>
                <a:lnTo>
                  <a:pt x="288" y="236"/>
                </a:lnTo>
                <a:lnTo>
                  <a:pt x="288" y="253"/>
                </a:lnTo>
                <a:lnTo>
                  <a:pt x="288" y="270"/>
                </a:lnTo>
                <a:lnTo>
                  <a:pt x="288" y="289"/>
                </a:lnTo>
                <a:lnTo>
                  <a:pt x="288" y="309"/>
                </a:lnTo>
                <a:lnTo>
                  <a:pt x="288" y="330"/>
                </a:lnTo>
                <a:lnTo>
                  <a:pt x="286" y="351"/>
                </a:lnTo>
                <a:lnTo>
                  <a:pt x="284" y="372"/>
                </a:lnTo>
                <a:lnTo>
                  <a:pt x="284" y="397"/>
                </a:lnTo>
                <a:lnTo>
                  <a:pt x="282" y="420"/>
                </a:lnTo>
                <a:lnTo>
                  <a:pt x="280" y="445"/>
                </a:lnTo>
                <a:lnTo>
                  <a:pt x="276" y="472"/>
                </a:lnTo>
                <a:lnTo>
                  <a:pt x="274" y="500"/>
                </a:lnTo>
                <a:lnTo>
                  <a:pt x="272" y="529"/>
                </a:lnTo>
                <a:lnTo>
                  <a:pt x="270" y="560"/>
                </a:lnTo>
                <a:lnTo>
                  <a:pt x="269" y="591"/>
                </a:lnTo>
                <a:lnTo>
                  <a:pt x="267" y="625"/>
                </a:lnTo>
                <a:lnTo>
                  <a:pt x="263" y="660"/>
                </a:lnTo>
                <a:lnTo>
                  <a:pt x="261" y="696"/>
                </a:lnTo>
                <a:lnTo>
                  <a:pt x="259" y="734"/>
                </a:lnTo>
                <a:lnTo>
                  <a:pt x="257" y="773"/>
                </a:lnTo>
                <a:lnTo>
                  <a:pt x="255" y="815"/>
                </a:lnTo>
                <a:lnTo>
                  <a:pt x="251" y="857"/>
                </a:lnTo>
                <a:lnTo>
                  <a:pt x="249" y="899"/>
                </a:lnTo>
                <a:lnTo>
                  <a:pt x="247" y="945"/>
                </a:lnTo>
                <a:lnTo>
                  <a:pt x="245" y="991"/>
                </a:lnTo>
                <a:lnTo>
                  <a:pt x="244" y="1039"/>
                </a:lnTo>
                <a:lnTo>
                  <a:pt x="242" y="1087"/>
                </a:lnTo>
                <a:lnTo>
                  <a:pt x="240" y="1135"/>
                </a:lnTo>
                <a:lnTo>
                  <a:pt x="238" y="1179"/>
                </a:lnTo>
                <a:lnTo>
                  <a:pt x="236" y="1224"/>
                </a:lnTo>
                <a:lnTo>
                  <a:pt x="234" y="1266"/>
                </a:lnTo>
                <a:lnTo>
                  <a:pt x="234" y="1306"/>
                </a:lnTo>
                <a:lnTo>
                  <a:pt x="232" y="1346"/>
                </a:lnTo>
                <a:lnTo>
                  <a:pt x="230" y="1385"/>
                </a:lnTo>
                <a:lnTo>
                  <a:pt x="230" y="1421"/>
                </a:lnTo>
                <a:lnTo>
                  <a:pt x="228" y="1456"/>
                </a:lnTo>
                <a:lnTo>
                  <a:pt x="226" y="1488"/>
                </a:lnTo>
                <a:lnTo>
                  <a:pt x="226" y="1521"/>
                </a:lnTo>
                <a:lnTo>
                  <a:pt x="224" y="1552"/>
                </a:lnTo>
                <a:lnTo>
                  <a:pt x="222" y="1580"/>
                </a:lnTo>
                <a:lnTo>
                  <a:pt x="221" y="1609"/>
                </a:lnTo>
                <a:lnTo>
                  <a:pt x="219" y="1634"/>
                </a:lnTo>
                <a:lnTo>
                  <a:pt x="213" y="1686"/>
                </a:lnTo>
                <a:lnTo>
                  <a:pt x="207" y="1734"/>
                </a:lnTo>
                <a:lnTo>
                  <a:pt x="201" y="1782"/>
                </a:lnTo>
                <a:lnTo>
                  <a:pt x="194" y="1828"/>
                </a:lnTo>
                <a:lnTo>
                  <a:pt x="188" y="1872"/>
                </a:lnTo>
                <a:lnTo>
                  <a:pt x="184" y="1895"/>
                </a:lnTo>
                <a:lnTo>
                  <a:pt x="180" y="1916"/>
                </a:lnTo>
                <a:lnTo>
                  <a:pt x="178" y="1935"/>
                </a:lnTo>
                <a:lnTo>
                  <a:pt x="174" y="1956"/>
                </a:lnTo>
                <a:lnTo>
                  <a:pt x="173" y="1976"/>
                </a:lnTo>
                <a:lnTo>
                  <a:pt x="171" y="1995"/>
                </a:lnTo>
                <a:lnTo>
                  <a:pt x="165" y="2012"/>
                </a:lnTo>
                <a:lnTo>
                  <a:pt x="161" y="2029"/>
                </a:lnTo>
                <a:lnTo>
                  <a:pt x="155" y="2043"/>
                </a:lnTo>
                <a:lnTo>
                  <a:pt x="151" y="2056"/>
                </a:lnTo>
                <a:lnTo>
                  <a:pt x="148" y="2070"/>
                </a:lnTo>
                <a:lnTo>
                  <a:pt x="142" y="2079"/>
                </a:lnTo>
                <a:lnTo>
                  <a:pt x="138" y="2089"/>
                </a:lnTo>
                <a:lnTo>
                  <a:pt x="132" y="2096"/>
                </a:lnTo>
                <a:lnTo>
                  <a:pt x="128" y="2102"/>
                </a:lnTo>
                <a:lnTo>
                  <a:pt x="125" y="2108"/>
                </a:lnTo>
                <a:lnTo>
                  <a:pt x="119" y="2110"/>
                </a:lnTo>
                <a:lnTo>
                  <a:pt x="115" y="2112"/>
                </a:lnTo>
                <a:lnTo>
                  <a:pt x="109" y="2114"/>
                </a:lnTo>
                <a:lnTo>
                  <a:pt x="105" y="2112"/>
                </a:lnTo>
                <a:lnTo>
                  <a:pt x="102" y="2110"/>
                </a:lnTo>
                <a:lnTo>
                  <a:pt x="96" y="2106"/>
                </a:lnTo>
                <a:lnTo>
                  <a:pt x="90" y="2102"/>
                </a:lnTo>
                <a:lnTo>
                  <a:pt x="82" y="2098"/>
                </a:lnTo>
                <a:lnTo>
                  <a:pt x="77" y="2095"/>
                </a:lnTo>
                <a:lnTo>
                  <a:pt x="71" y="2089"/>
                </a:lnTo>
                <a:lnTo>
                  <a:pt x="65" y="2083"/>
                </a:lnTo>
                <a:lnTo>
                  <a:pt x="61" y="2075"/>
                </a:lnTo>
                <a:lnTo>
                  <a:pt x="55" y="2068"/>
                </a:lnTo>
                <a:lnTo>
                  <a:pt x="50" y="2058"/>
                </a:lnTo>
                <a:lnTo>
                  <a:pt x="46" y="2048"/>
                </a:lnTo>
                <a:lnTo>
                  <a:pt x="42" y="2039"/>
                </a:lnTo>
                <a:lnTo>
                  <a:pt x="38" y="2027"/>
                </a:lnTo>
                <a:lnTo>
                  <a:pt x="34" y="2014"/>
                </a:lnTo>
                <a:lnTo>
                  <a:pt x="30" y="2002"/>
                </a:lnTo>
                <a:lnTo>
                  <a:pt x="29" y="1987"/>
                </a:lnTo>
                <a:lnTo>
                  <a:pt x="25" y="1974"/>
                </a:lnTo>
                <a:lnTo>
                  <a:pt x="23" y="1956"/>
                </a:lnTo>
                <a:lnTo>
                  <a:pt x="21" y="1943"/>
                </a:lnTo>
                <a:lnTo>
                  <a:pt x="19" y="1930"/>
                </a:lnTo>
                <a:lnTo>
                  <a:pt x="17" y="1918"/>
                </a:lnTo>
                <a:lnTo>
                  <a:pt x="15" y="1907"/>
                </a:lnTo>
                <a:lnTo>
                  <a:pt x="11" y="1895"/>
                </a:lnTo>
                <a:lnTo>
                  <a:pt x="9" y="1883"/>
                </a:lnTo>
                <a:lnTo>
                  <a:pt x="7" y="1874"/>
                </a:lnTo>
                <a:lnTo>
                  <a:pt x="6" y="1866"/>
                </a:lnTo>
                <a:lnTo>
                  <a:pt x="6" y="1857"/>
                </a:lnTo>
                <a:lnTo>
                  <a:pt x="4" y="1849"/>
                </a:lnTo>
                <a:lnTo>
                  <a:pt x="2" y="1843"/>
                </a:lnTo>
                <a:lnTo>
                  <a:pt x="2" y="1837"/>
                </a:lnTo>
                <a:lnTo>
                  <a:pt x="0" y="1832"/>
                </a:lnTo>
                <a:lnTo>
                  <a:pt x="0" y="1826"/>
                </a:lnTo>
                <a:lnTo>
                  <a:pt x="0" y="1824"/>
                </a:lnTo>
                <a:lnTo>
                  <a:pt x="0" y="1820"/>
                </a:lnTo>
                <a:lnTo>
                  <a:pt x="0" y="1818"/>
                </a:lnTo>
                <a:lnTo>
                  <a:pt x="0" y="1814"/>
                </a:lnTo>
                <a:lnTo>
                  <a:pt x="0" y="1809"/>
                </a:lnTo>
                <a:lnTo>
                  <a:pt x="2" y="1803"/>
                </a:lnTo>
                <a:lnTo>
                  <a:pt x="2" y="1795"/>
                </a:lnTo>
                <a:lnTo>
                  <a:pt x="4" y="1786"/>
                </a:lnTo>
                <a:lnTo>
                  <a:pt x="6" y="1776"/>
                </a:lnTo>
                <a:lnTo>
                  <a:pt x="7" y="1766"/>
                </a:lnTo>
                <a:lnTo>
                  <a:pt x="11" y="1755"/>
                </a:lnTo>
                <a:lnTo>
                  <a:pt x="13" y="1742"/>
                </a:lnTo>
                <a:lnTo>
                  <a:pt x="17" y="1728"/>
                </a:lnTo>
                <a:lnTo>
                  <a:pt x="19" y="1715"/>
                </a:lnTo>
                <a:lnTo>
                  <a:pt x="23" y="1699"/>
                </a:lnTo>
                <a:lnTo>
                  <a:pt x="27" y="1682"/>
                </a:lnTo>
                <a:lnTo>
                  <a:pt x="30" y="1665"/>
                </a:lnTo>
                <a:lnTo>
                  <a:pt x="36" y="1648"/>
                </a:lnTo>
                <a:lnTo>
                  <a:pt x="38" y="1628"/>
                </a:lnTo>
                <a:lnTo>
                  <a:pt x="40" y="1607"/>
                </a:lnTo>
                <a:lnTo>
                  <a:pt x="44" y="1586"/>
                </a:lnTo>
                <a:lnTo>
                  <a:pt x="46" y="1563"/>
                </a:lnTo>
                <a:lnTo>
                  <a:pt x="50" y="1540"/>
                </a:lnTo>
                <a:lnTo>
                  <a:pt x="54" y="1515"/>
                </a:lnTo>
                <a:lnTo>
                  <a:pt x="57" y="1488"/>
                </a:lnTo>
                <a:lnTo>
                  <a:pt x="61" y="1461"/>
                </a:lnTo>
                <a:lnTo>
                  <a:pt x="65" y="1433"/>
                </a:lnTo>
                <a:lnTo>
                  <a:pt x="69" y="1404"/>
                </a:lnTo>
                <a:lnTo>
                  <a:pt x="75" y="1373"/>
                </a:lnTo>
                <a:lnTo>
                  <a:pt x="78" y="1341"/>
                </a:lnTo>
                <a:lnTo>
                  <a:pt x="82" y="1308"/>
                </a:lnTo>
                <a:lnTo>
                  <a:pt x="88" y="1273"/>
                </a:lnTo>
                <a:lnTo>
                  <a:pt x="92" y="1237"/>
                </a:lnTo>
                <a:lnTo>
                  <a:pt x="96" y="1201"/>
                </a:lnTo>
                <a:lnTo>
                  <a:pt x="98" y="1166"/>
                </a:lnTo>
                <a:lnTo>
                  <a:pt x="102" y="1130"/>
                </a:lnTo>
                <a:lnTo>
                  <a:pt x="103" y="1093"/>
                </a:lnTo>
                <a:lnTo>
                  <a:pt x="105" y="1055"/>
                </a:lnTo>
                <a:lnTo>
                  <a:pt x="107" y="1016"/>
                </a:lnTo>
                <a:lnTo>
                  <a:pt x="109" y="978"/>
                </a:lnTo>
                <a:lnTo>
                  <a:pt x="113" y="938"/>
                </a:lnTo>
                <a:lnTo>
                  <a:pt x="115" y="897"/>
                </a:lnTo>
                <a:lnTo>
                  <a:pt x="117" y="857"/>
                </a:lnTo>
                <a:lnTo>
                  <a:pt x="119" y="815"/>
                </a:lnTo>
                <a:lnTo>
                  <a:pt x="121" y="773"/>
                </a:lnTo>
                <a:lnTo>
                  <a:pt x="125" y="731"/>
                </a:lnTo>
                <a:lnTo>
                  <a:pt x="128" y="644"/>
                </a:lnTo>
                <a:lnTo>
                  <a:pt x="132" y="556"/>
                </a:lnTo>
                <a:lnTo>
                  <a:pt x="132" y="535"/>
                </a:lnTo>
                <a:lnTo>
                  <a:pt x="132" y="514"/>
                </a:lnTo>
                <a:lnTo>
                  <a:pt x="132" y="493"/>
                </a:lnTo>
                <a:lnTo>
                  <a:pt x="132" y="474"/>
                </a:lnTo>
                <a:lnTo>
                  <a:pt x="132" y="454"/>
                </a:lnTo>
                <a:lnTo>
                  <a:pt x="132" y="435"/>
                </a:lnTo>
                <a:lnTo>
                  <a:pt x="130" y="416"/>
                </a:lnTo>
                <a:lnTo>
                  <a:pt x="130" y="399"/>
                </a:lnTo>
                <a:lnTo>
                  <a:pt x="130" y="381"/>
                </a:lnTo>
                <a:lnTo>
                  <a:pt x="128" y="364"/>
                </a:lnTo>
                <a:lnTo>
                  <a:pt x="128" y="349"/>
                </a:lnTo>
                <a:lnTo>
                  <a:pt x="126" y="333"/>
                </a:lnTo>
                <a:lnTo>
                  <a:pt x="126" y="318"/>
                </a:lnTo>
                <a:lnTo>
                  <a:pt x="125" y="305"/>
                </a:lnTo>
                <a:lnTo>
                  <a:pt x="123" y="289"/>
                </a:lnTo>
                <a:lnTo>
                  <a:pt x="123" y="276"/>
                </a:lnTo>
                <a:lnTo>
                  <a:pt x="121" y="264"/>
                </a:lnTo>
                <a:lnTo>
                  <a:pt x="119" y="251"/>
                </a:lnTo>
                <a:lnTo>
                  <a:pt x="117" y="239"/>
                </a:lnTo>
                <a:lnTo>
                  <a:pt x="115" y="228"/>
                </a:lnTo>
                <a:lnTo>
                  <a:pt x="113" y="218"/>
                </a:lnTo>
                <a:lnTo>
                  <a:pt x="111" y="209"/>
                </a:lnTo>
                <a:lnTo>
                  <a:pt x="109" y="199"/>
                </a:lnTo>
                <a:lnTo>
                  <a:pt x="107" y="190"/>
                </a:lnTo>
                <a:lnTo>
                  <a:pt x="105" y="180"/>
                </a:lnTo>
                <a:lnTo>
                  <a:pt x="102" y="172"/>
                </a:lnTo>
                <a:lnTo>
                  <a:pt x="100" y="165"/>
                </a:lnTo>
                <a:lnTo>
                  <a:pt x="96" y="159"/>
                </a:lnTo>
                <a:lnTo>
                  <a:pt x="94" y="151"/>
                </a:lnTo>
                <a:lnTo>
                  <a:pt x="90" y="145"/>
                </a:lnTo>
                <a:lnTo>
                  <a:pt x="88" y="140"/>
                </a:lnTo>
                <a:lnTo>
                  <a:pt x="84" y="1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41"/>
          <p:cNvSpPr/>
          <p:nvPr/>
        </p:nvSpPr>
        <p:spPr>
          <a:xfrm>
            <a:off x="5940360" y="2913120"/>
            <a:ext cx="298440" cy="244440"/>
          </a:xfrm>
          <a:custGeom>
            <a:avLst/>
            <a:gdLst/>
            <a:ahLst/>
            <a:rect l="l" t="t" r="r" b="b"/>
            <a:pathLst>
              <a:path w="376" h="309">
                <a:moveTo>
                  <a:pt x="234" y="37"/>
                </a:moveTo>
                <a:lnTo>
                  <a:pt x="246" y="41"/>
                </a:lnTo>
                <a:lnTo>
                  <a:pt x="255" y="43"/>
                </a:lnTo>
                <a:lnTo>
                  <a:pt x="267" y="46"/>
                </a:lnTo>
                <a:lnTo>
                  <a:pt x="277" y="50"/>
                </a:lnTo>
                <a:lnTo>
                  <a:pt x="298" y="60"/>
                </a:lnTo>
                <a:lnTo>
                  <a:pt x="315" y="71"/>
                </a:lnTo>
                <a:lnTo>
                  <a:pt x="330" y="83"/>
                </a:lnTo>
                <a:lnTo>
                  <a:pt x="338" y="91"/>
                </a:lnTo>
                <a:lnTo>
                  <a:pt x="346" y="96"/>
                </a:lnTo>
                <a:lnTo>
                  <a:pt x="351" y="104"/>
                </a:lnTo>
                <a:lnTo>
                  <a:pt x="357" y="110"/>
                </a:lnTo>
                <a:lnTo>
                  <a:pt x="363" y="117"/>
                </a:lnTo>
                <a:lnTo>
                  <a:pt x="369" y="125"/>
                </a:lnTo>
                <a:lnTo>
                  <a:pt x="373" y="142"/>
                </a:lnTo>
                <a:lnTo>
                  <a:pt x="374" y="161"/>
                </a:lnTo>
                <a:lnTo>
                  <a:pt x="376" y="179"/>
                </a:lnTo>
                <a:lnTo>
                  <a:pt x="376" y="196"/>
                </a:lnTo>
                <a:lnTo>
                  <a:pt x="376" y="213"/>
                </a:lnTo>
                <a:lnTo>
                  <a:pt x="374" y="231"/>
                </a:lnTo>
                <a:lnTo>
                  <a:pt x="373" y="246"/>
                </a:lnTo>
                <a:lnTo>
                  <a:pt x="369" y="259"/>
                </a:lnTo>
                <a:lnTo>
                  <a:pt x="363" y="269"/>
                </a:lnTo>
                <a:lnTo>
                  <a:pt x="359" y="277"/>
                </a:lnTo>
                <a:lnTo>
                  <a:pt x="353" y="284"/>
                </a:lnTo>
                <a:lnTo>
                  <a:pt x="348" y="290"/>
                </a:lnTo>
                <a:lnTo>
                  <a:pt x="342" y="296"/>
                </a:lnTo>
                <a:lnTo>
                  <a:pt x="336" y="300"/>
                </a:lnTo>
                <a:lnTo>
                  <a:pt x="330" y="303"/>
                </a:lnTo>
                <a:lnTo>
                  <a:pt x="325" y="307"/>
                </a:lnTo>
                <a:lnTo>
                  <a:pt x="317" y="309"/>
                </a:lnTo>
                <a:lnTo>
                  <a:pt x="311" y="309"/>
                </a:lnTo>
                <a:lnTo>
                  <a:pt x="305" y="309"/>
                </a:lnTo>
                <a:lnTo>
                  <a:pt x="298" y="309"/>
                </a:lnTo>
                <a:lnTo>
                  <a:pt x="292" y="307"/>
                </a:lnTo>
                <a:lnTo>
                  <a:pt x="284" y="305"/>
                </a:lnTo>
                <a:lnTo>
                  <a:pt x="277" y="302"/>
                </a:lnTo>
                <a:lnTo>
                  <a:pt x="271" y="298"/>
                </a:lnTo>
                <a:lnTo>
                  <a:pt x="261" y="292"/>
                </a:lnTo>
                <a:lnTo>
                  <a:pt x="252" y="286"/>
                </a:lnTo>
                <a:lnTo>
                  <a:pt x="242" y="280"/>
                </a:lnTo>
                <a:lnTo>
                  <a:pt x="232" y="275"/>
                </a:lnTo>
                <a:lnTo>
                  <a:pt x="221" y="267"/>
                </a:lnTo>
                <a:lnTo>
                  <a:pt x="211" y="259"/>
                </a:lnTo>
                <a:lnTo>
                  <a:pt x="200" y="250"/>
                </a:lnTo>
                <a:lnTo>
                  <a:pt x="190" y="242"/>
                </a:lnTo>
                <a:lnTo>
                  <a:pt x="179" y="232"/>
                </a:lnTo>
                <a:lnTo>
                  <a:pt x="167" y="223"/>
                </a:lnTo>
                <a:lnTo>
                  <a:pt x="156" y="211"/>
                </a:lnTo>
                <a:lnTo>
                  <a:pt x="144" y="200"/>
                </a:lnTo>
                <a:lnTo>
                  <a:pt x="135" y="188"/>
                </a:lnTo>
                <a:lnTo>
                  <a:pt x="123" y="175"/>
                </a:lnTo>
                <a:lnTo>
                  <a:pt x="111" y="163"/>
                </a:lnTo>
                <a:lnTo>
                  <a:pt x="100" y="148"/>
                </a:lnTo>
                <a:lnTo>
                  <a:pt x="87" y="137"/>
                </a:lnTo>
                <a:lnTo>
                  <a:pt x="75" y="125"/>
                </a:lnTo>
                <a:lnTo>
                  <a:pt x="63" y="115"/>
                </a:lnTo>
                <a:lnTo>
                  <a:pt x="52" y="104"/>
                </a:lnTo>
                <a:lnTo>
                  <a:pt x="42" y="94"/>
                </a:lnTo>
                <a:lnTo>
                  <a:pt x="35" y="85"/>
                </a:lnTo>
                <a:lnTo>
                  <a:pt x="27" y="75"/>
                </a:lnTo>
                <a:lnTo>
                  <a:pt x="19" y="66"/>
                </a:lnTo>
                <a:lnTo>
                  <a:pt x="14" y="56"/>
                </a:lnTo>
                <a:lnTo>
                  <a:pt x="10" y="46"/>
                </a:lnTo>
                <a:lnTo>
                  <a:pt x="6" y="39"/>
                </a:lnTo>
                <a:lnTo>
                  <a:pt x="2" y="31"/>
                </a:lnTo>
                <a:lnTo>
                  <a:pt x="0" y="21"/>
                </a:lnTo>
                <a:lnTo>
                  <a:pt x="0" y="14"/>
                </a:lnTo>
                <a:lnTo>
                  <a:pt x="0" y="8"/>
                </a:lnTo>
                <a:lnTo>
                  <a:pt x="2" y="0"/>
                </a:lnTo>
                <a:lnTo>
                  <a:pt x="21" y="0"/>
                </a:lnTo>
                <a:lnTo>
                  <a:pt x="39" y="0"/>
                </a:lnTo>
                <a:lnTo>
                  <a:pt x="54" y="2"/>
                </a:lnTo>
                <a:lnTo>
                  <a:pt x="71" y="2"/>
                </a:lnTo>
                <a:lnTo>
                  <a:pt x="87" y="4"/>
                </a:lnTo>
                <a:lnTo>
                  <a:pt x="102" y="6"/>
                </a:lnTo>
                <a:lnTo>
                  <a:pt x="133" y="10"/>
                </a:lnTo>
                <a:lnTo>
                  <a:pt x="159" y="14"/>
                </a:lnTo>
                <a:lnTo>
                  <a:pt x="186" y="21"/>
                </a:lnTo>
                <a:lnTo>
                  <a:pt x="211" y="29"/>
                </a:lnTo>
                <a:lnTo>
                  <a:pt x="234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42"/>
          <p:cNvSpPr/>
          <p:nvPr/>
        </p:nvSpPr>
        <p:spPr>
          <a:xfrm>
            <a:off x="6423120" y="2913120"/>
            <a:ext cx="1058760" cy="2124000"/>
          </a:xfrm>
          <a:custGeom>
            <a:avLst/>
            <a:gdLst/>
            <a:ahLst/>
            <a:rect l="l" t="t" r="r" b="b"/>
            <a:pathLst>
              <a:path w="1334" h="2676">
                <a:moveTo>
                  <a:pt x="1248" y="620"/>
                </a:moveTo>
                <a:lnTo>
                  <a:pt x="1250" y="660"/>
                </a:lnTo>
                <a:lnTo>
                  <a:pt x="1251" y="701"/>
                </a:lnTo>
                <a:lnTo>
                  <a:pt x="1253" y="745"/>
                </a:lnTo>
                <a:lnTo>
                  <a:pt x="1255" y="789"/>
                </a:lnTo>
                <a:lnTo>
                  <a:pt x="1255" y="835"/>
                </a:lnTo>
                <a:lnTo>
                  <a:pt x="1257" y="883"/>
                </a:lnTo>
                <a:lnTo>
                  <a:pt x="1259" y="931"/>
                </a:lnTo>
                <a:lnTo>
                  <a:pt x="1259" y="983"/>
                </a:lnTo>
                <a:lnTo>
                  <a:pt x="1261" y="1034"/>
                </a:lnTo>
                <a:lnTo>
                  <a:pt x="1263" y="1086"/>
                </a:lnTo>
                <a:lnTo>
                  <a:pt x="1263" y="1142"/>
                </a:lnTo>
                <a:lnTo>
                  <a:pt x="1265" y="1197"/>
                </a:lnTo>
                <a:lnTo>
                  <a:pt x="1267" y="1255"/>
                </a:lnTo>
                <a:lnTo>
                  <a:pt x="1269" y="1314"/>
                </a:lnTo>
                <a:lnTo>
                  <a:pt x="1271" y="1376"/>
                </a:lnTo>
                <a:lnTo>
                  <a:pt x="1273" y="1437"/>
                </a:lnTo>
                <a:lnTo>
                  <a:pt x="1273" y="1468"/>
                </a:lnTo>
                <a:lnTo>
                  <a:pt x="1274" y="1499"/>
                </a:lnTo>
                <a:lnTo>
                  <a:pt x="1274" y="1529"/>
                </a:lnTo>
                <a:lnTo>
                  <a:pt x="1276" y="1558"/>
                </a:lnTo>
                <a:lnTo>
                  <a:pt x="1276" y="1587"/>
                </a:lnTo>
                <a:lnTo>
                  <a:pt x="1278" y="1614"/>
                </a:lnTo>
                <a:lnTo>
                  <a:pt x="1278" y="1642"/>
                </a:lnTo>
                <a:lnTo>
                  <a:pt x="1278" y="1669"/>
                </a:lnTo>
                <a:lnTo>
                  <a:pt x="1280" y="1696"/>
                </a:lnTo>
                <a:lnTo>
                  <a:pt x="1280" y="1721"/>
                </a:lnTo>
                <a:lnTo>
                  <a:pt x="1280" y="1746"/>
                </a:lnTo>
                <a:lnTo>
                  <a:pt x="1280" y="1771"/>
                </a:lnTo>
                <a:lnTo>
                  <a:pt x="1282" y="1794"/>
                </a:lnTo>
                <a:lnTo>
                  <a:pt x="1282" y="1817"/>
                </a:lnTo>
                <a:lnTo>
                  <a:pt x="1282" y="1840"/>
                </a:lnTo>
                <a:lnTo>
                  <a:pt x="1282" y="1861"/>
                </a:lnTo>
                <a:lnTo>
                  <a:pt x="1282" y="1882"/>
                </a:lnTo>
                <a:lnTo>
                  <a:pt x="1282" y="1903"/>
                </a:lnTo>
                <a:lnTo>
                  <a:pt x="1284" y="1923"/>
                </a:lnTo>
                <a:lnTo>
                  <a:pt x="1284" y="1942"/>
                </a:lnTo>
                <a:lnTo>
                  <a:pt x="1284" y="1961"/>
                </a:lnTo>
                <a:lnTo>
                  <a:pt x="1284" y="1978"/>
                </a:lnTo>
                <a:lnTo>
                  <a:pt x="1284" y="1995"/>
                </a:lnTo>
                <a:lnTo>
                  <a:pt x="1284" y="2013"/>
                </a:lnTo>
                <a:lnTo>
                  <a:pt x="1284" y="2028"/>
                </a:lnTo>
                <a:lnTo>
                  <a:pt x="1284" y="2043"/>
                </a:lnTo>
                <a:lnTo>
                  <a:pt x="1284" y="2057"/>
                </a:lnTo>
                <a:lnTo>
                  <a:pt x="1284" y="2070"/>
                </a:lnTo>
                <a:lnTo>
                  <a:pt x="1284" y="2084"/>
                </a:lnTo>
                <a:lnTo>
                  <a:pt x="1284" y="2095"/>
                </a:lnTo>
                <a:lnTo>
                  <a:pt x="1284" y="2107"/>
                </a:lnTo>
                <a:lnTo>
                  <a:pt x="1284" y="2118"/>
                </a:lnTo>
                <a:lnTo>
                  <a:pt x="1280" y="2160"/>
                </a:lnTo>
                <a:lnTo>
                  <a:pt x="1276" y="2199"/>
                </a:lnTo>
                <a:lnTo>
                  <a:pt x="1274" y="2239"/>
                </a:lnTo>
                <a:lnTo>
                  <a:pt x="1273" y="2275"/>
                </a:lnTo>
                <a:lnTo>
                  <a:pt x="1269" y="2310"/>
                </a:lnTo>
                <a:lnTo>
                  <a:pt x="1269" y="2327"/>
                </a:lnTo>
                <a:lnTo>
                  <a:pt x="1267" y="2343"/>
                </a:lnTo>
                <a:lnTo>
                  <a:pt x="1265" y="2360"/>
                </a:lnTo>
                <a:lnTo>
                  <a:pt x="1263" y="2375"/>
                </a:lnTo>
                <a:lnTo>
                  <a:pt x="1261" y="2389"/>
                </a:lnTo>
                <a:lnTo>
                  <a:pt x="1259" y="2404"/>
                </a:lnTo>
                <a:lnTo>
                  <a:pt x="1257" y="2419"/>
                </a:lnTo>
                <a:lnTo>
                  <a:pt x="1255" y="2435"/>
                </a:lnTo>
                <a:lnTo>
                  <a:pt x="1251" y="2450"/>
                </a:lnTo>
                <a:lnTo>
                  <a:pt x="1248" y="2463"/>
                </a:lnTo>
                <a:lnTo>
                  <a:pt x="1244" y="2479"/>
                </a:lnTo>
                <a:lnTo>
                  <a:pt x="1240" y="2490"/>
                </a:lnTo>
                <a:lnTo>
                  <a:pt x="1232" y="2517"/>
                </a:lnTo>
                <a:lnTo>
                  <a:pt x="1223" y="2540"/>
                </a:lnTo>
                <a:lnTo>
                  <a:pt x="1211" y="2561"/>
                </a:lnTo>
                <a:lnTo>
                  <a:pt x="1200" y="2582"/>
                </a:lnTo>
                <a:lnTo>
                  <a:pt x="1186" y="2602"/>
                </a:lnTo>
                <a:lnTo>
                  <a:pt x="1180" y="2611"/>
                </a:lnTo>
                <a:lnTo>
                  <a:pt x="1173" y="2619"/>
                </a:lnTo>
                <a:lnTo>
                  <a:pt x="1167" y="2627"/>
                </a:lnTo>
                <a:lnTo>
                  <a:pt x="1159" y="2634"/>
                </a:lnTo>
                <a:lnTo>
                  <a:pt x="1154" y="2642"/>
                </a:lnTo>
                <a:lnTo>
                  <a:pt x="1148" y="2648"/>
                </a:lnTo>
                <a:lnTo>
                  <a:pt x="1140" y="2653"/>
                </a:lnTo>
                <a:lnTo>
                  <a:pt x="1134" y="2657"/>
                </a:lnTo>
                <a:lnTo>
                  <a:pt x="1129" y="2663"/>
                </a:lnTo>
                <a:lnTo>
                  <a:pt x="1125" y="2665"/>
                </a:lnTo>
                <a:lnTo>
                  <a:pt x="1119" y="2669"/>
                </a:lnTo>
                <a:lnTo>
                  <a:pt x="1115" y="2671"/>
                </a:lnTo>
                <a:lnTo>
                  <a:pt x="1111" y="2675"/>
                </a:lnTo>
                <a:lnTo>
                  <a:pt x="1107" y="2675"/>
                </a:lnTo>
                <a:lnTo>
                  <a:pt x="1104" y="2676"/>
                </a:lnTo>
                <a:lnTo>
                  <a:pt x="1102" y="2676"/>
                </a:lnTo>
                <a:lnTo>
                  <a:pt x="1096" y="2676"/>
                </a:lnTo>
                <a:lnTo>
                  <a:pt x="1092" y="2675"/>
                </a:lnTo>
                <a:lnTo>
                  <a:pt x="1086" y="2673"/>
                </a:lnTo>
                <a:lnTo>
                  <a:pt x="1082" y="2669"/>
                </a:lnTo>
                <a:lnTo>
                  <a:pt x="1079" y="2665"/>
                </a:lnTo>
                <a:lnTo>
                  <a:pt x="1073" y="2661"/>
                </a:lnTo>
                <a:lnTo>
                  <a:pt x="1069" y="2655"/>
                </a:lnTo>
                <a:lnTo>
                  <a:pt x="1065" y="2648"/>
                </a:lnTo>
                <a:lnTo>
                  <a:pt x="1059" y="2640"/>
                </a:lnTo>
                <a:lnTo>
                  <a:pt x="1056" y="2632"/>
                </a:lnTo>
                <a:lnTo>
                  <a:pt x="1050" y="2623"/>
                </a:lnTo>
                <a:lnTo>
                  <a:pt x="1046" y="2613"/>
                </a:lnTo>
                <a:lnTo>
                  <a:pt x="1042" y="2602"/>
                </a:lnTo>
                <a:lnTo>
                  <a:pt x="1036" y="2590"/>
                </a:lnTo>
                <a:lnTo>
                  <a:pt x="1033" y="2579"/>
                </a:lnTo>
                <a:lnTo>
                  <a:pt x="1029" y="2565"/>
                </a:lnTo>
                <a:lnTo>
                  <a:pt x="1023" y="2550"/>
                </a:lnTo>
                <a:lnTo>
                  <a:pt x="1017" y="2536"/>
                </a:lnTo>
                <a:lnTo>
                  <a:pt x="1011" y="2523"/>
                </a:lnTo>
                <a:lnTo>
                  <a:pt x="1004" y="2511"/>
                </a:lnTo>
                <a:lnTo>
                  <a:pt x="994" y="2498"/>
                </a:lnTo>
                <a:lnTo>
                  <a:pt x="986" y="2485"/>
                </a:lnTo>
                <a:lnTo>
                  <a:pt x="977" y="2473"/>
                </a:lnTo>
                <a:lnTo>
                  <a:pt x="965" y="2462"/>
                </a:lnTo>
                <a:lnTo>
                  <a:pt x="954" y="2448"/>
                </a:lnTo>
                <a:lnTo>
                  <a:pt x="942" y="2437"/>
                </a:lnTo>
                <a:lnTo>
                  <a:pt x="929" y="2425"/>
                </a:lnTo>
                <a:lnTo>
                  <a:pt x="915" y="2414"/>
                </a:lnTo>
                <a:lnTo>
                  <a:pt x="902" y="2402"/>
                </a:lnTo>
                <a:lnTo>
                  <a:pt x="889" y="2391"/>
                </a:lnTo>
                <a:lnTo>
                  <a:pt x="873" y="2379"/>
                </a:lnTo>
                <a:lnTo>
                  <a:pt x="858" y="2366"/>
                </a:lnTo>
                <a:lnTo>
                  <a:pt x="843" y="2354"/>
                </a:lnTo>
                <a:lnTo>
                  <a:pt x="827" y="2345"/>
                </a:lnTo>
                <a:lnTo>
                  <a:pt x="814" y="2333"/>
                </a:lnTo>
                <a:lnTo>
                  <a:pt x="800" y="2323"/>
                </a:lnTo>
                <a:lnTo>
                  <a:pt x="789" y="2316"/>
                </a:lnTo>
                <a:lnTo>
                  <a:pt x="777" y="2306"/>
                </a:lnTo>
                <a:lnTo>
                  <a:pt x="768" y="2299"/>
                </a:lnTo>
                <a:lnTo>
                  <a:pt x="758" y="2291"/>
                </a:lnTo>
                <a:lnTo>
                  <a:pt x="750" y="2285"/>
                </a:lnTo>
                <a:lnTo>
                  <a:pt x="743" y="2279"/>
                </a:lnTo>
                <a:lnTo>
                  <a:pt x="737" y="2274"/>
                </a:lnTo>
                <a:lnTo>
                  <a:pt x="731" y="2268"/>
                </a:lnTo>
                <a:lnTo>
                  <a:pt x="727" y="2264"/>
                </a:lnTo>
                <a:lnTo>
                  <a:pt x="725" y="2260"/>
                </a:lnTo>
                <a:lnTo>
                  <a:pt x="723" y="2258"/>
                </a:lnTo>
                <a:lnTo>
                  <a:pt x="723" y="2254"/>
                </a:lnTo>
                <a:lnTo>
                  <a:pt x="723" y="2252"/>
                </a:lnTo>
                <a:lnTo>
                  <a:pt x="725" y="2251"/>
                </a:lnTo>
                <a:lnTo>
                  <a:pt x="727" y="2251"/>
                </a:lnTo>
                <a:lnTo>
                  <a:pt x="733" y="2251"/>
                </a:lnTo>
                <a:lnTo>
                  <a:pt x="737" y="2251"/>
                </a:lnTo>
                <a:lnTo>
                  <a:pt x="745" y="2251"/>
                </a:lnTo>
                <a:lnTo>
                  <a:pt x="752" y="2251"/>
                </a:lnTo>
                <a:lnTo>
                  <a:pt x="762" y="2252"/>
                </a:lnTo>
                <a:lnTo>
                  <a:pt x="771" y="2252"/>
                </a:lnTo>
                <a:lnTo>
                  <a:pt x="783" y="2254"/>
                </a:lnTo>
                <a:lnTo>
                  <a:pt x="796" y="2256"/>
                </a:lnTo>
                <a:lnTo>
                  <a:pt x="810" y="2258"/>
                </a:lnTo>
                <a:lnTo>
                  <a:pt x="825" y="2260"/>
                </a:lnTo>
                <a:lnTo>
                  <a:pt x="843" y="2262"/>
                </a:lnTo>
                <a:lnTo>
                  <a:pt x="862" y="2264"/>
                </a:lnTo>
                <a:lnTo>
                  <a:pt x="881" y="2268"/>
                </a:lnTo>
                <a:lnTo>
                  <a:pt x="900" y="2270"/>
                </a:lnTo>
                <a:lnTo>
                  <a:pt x="917" y="2272"/>
                </a:lnTo>
                <a:lnTo>
                  <a:pt x="933" y="2274"/>
                </a:lnTo>
                <a:lnTo>
                  <a:pt x="948" y="2274"/>
                </a:lnTo>
                <a:lnTo>
                  <a:pt x="962" y="2275"/>
                </a:lnTo>
                <a:lnTo>
                  <a:pt x="977" y="2275"/>
                </a:lnTo>
                <a:lnTo>
                  <a:pt x="988" y="2277"/>
                </a:lnTo>
                <a:lnTo>
                  <a:pt x="1000" y="2277"/>
                </a:lnTo>
                <a:lnTo>
                  <a:pt x="1011" y="2277"/>
                </a:lnTo>
                <a:lnTo>
                  <a:pt x="1021" y="2275"/>
                </a:lnTo>
                <a:lnTo>
                  <a:pt x="1031" y="2275"/>
                </a:lnTo>
                <a:lnTo>
                  <a:pt x="1040" y="2274"/>
                </a:lnTo>
                <a:lnTo>
                  <a:pt x="1048" y="2274"/>
                </a:lnTo>
                <a:lnTo>
                  <a:pt x="1054" y="2272"/>
                </a:lnTo>
                <a:lnTo>
                  <a:pt x="1059" y="2270"/>
                </a:lnTo>
                <a:lnTo>
                  <a:pt x="1065" y="2268"/>
                </a:lnTo>
                <a:lnTo>
                  <a:pt x="1067" y="2266"/>
                </a:lnTo>
                <a:lnTo>
                  <a:pt x="1069" y="2262"/>
                </a:lnTo>
                <a:lnTo>
                  <a:pt x="1071" y="2258"/>
                </a:lnTo>
                <a:lnTo>
                  <a:pt x="1073" y="2252"/>
                </a:lnTo>
                <a:lnTo>
                  <a:pt x="1075" y="2247"/>
                </a:lnTo>
                <a:lnTo>
                  <a:pt x="1077" y="2239"/>
                </a:lnTo>
                <a:lnTo>
                  <a:pt x="1079" y="2231"/>
                </a:lnTo>
                <a:lnTo>
                  <a:pt x="1081" y="2222"/>
                </a:lnTo>
                <a:lnTo>
                  <a:pt x="1082" y="2210"/>
                </a:lnTo>
                <a:lnTo>
                  <a:pt x="1084" y="2197"/>
                </a:lnTo>
                <a:lnTo>
                  <a:pt x="1086" y="2185"/>
                </a:lnTo>
                <a:lnTo>
                  <a:pt x="1088" y="2170"/>
                </a:lnTo>
                <a:lnTo>
                  <a:pt x="1088" y="2155"/>
                </a:lnTo>
                <a:lnTo>
                  <a:pt x="1090" y="2137"/>
                </a:lnTo>
                <a:lnTo>
                  <a:pt x="1092" y="2120"/>
                </a:lnTo>
                <a:lnTo>
                  <a:pt x="1094" y="2101"/>
                </a:lnTo>
                <a:lnTo>
                  <a:pt x="1096" y="2082"/>
                </a:lnTo>
                <a:lnTo>
                  <a:pt x="1096" y="2061"/>
                </a:lnTo>
                <a:lnTo>
                  <a:pt x="1098" y="2038"/>
                </a:lnTo>
                <a:lnTo>
                  <a:pt x="1100" y="2015"/>
                </a:lnTo>
                <a:lnTo>
                  <a:pt x="1100" y="1990"/>
                </a:lnTo>
                <a:lnTo>
                  <a:pt x="1102" y="1965"/>
                </a:lnTo>
                <a:lnTo>
                  <a:pt x="1104" y="1938"/>
                </a:lnTo>
                <a:lnTo>
                  <a:pt x="1104" y="1909"/>
                </a:lnTo>
                <a:lnTo>
                  <a:pt x="1106" y="1880"/>
                </a:lnTo>
                <a:lnTo>
                  <a:pt x="1106" y="1852"/>
                </a:lnTo>
                <a:lnTo>
                  <a:pt x="1107" y="1819"/>
                </a:lnTo>
                <a:lnTo>
                  <a:pt x="1109" y="1788"/>
                </a:lnTo>
                <a:lnTo>
                  <a:pt x="1109" y="1754"/>
                </a:lnTo>
                <a:lnTo>
                  <a:pt x="1111" y="1719"/>
                </a:lnTo>
                <a:lnTo>
                  <a:pt x="1111" y="1685"/>
                </a:lnTo>
                <a:lnTo>
                  <a:pt x="1113" y="1648"/>
                </a:lnTo>
                <a:lnTo>
                  <a:pt x="1113" y="1573"/>
                </a:lnTo>
                <a:lnTo>
                  <a:pt x="1113" y="1502"/>
                </a:lnTo>
                <a:lnTo>
                  <a:pt x="1113" y="1431"/>
                </a:lnTo>
                <a:lnTo>
                  <a:pt x="1113" y="1362"/>
                </a:lnTo>
                <a:lnTo>
                  <a:pt x="1113" y="1295"/>
                </a:lnTo>
                <a:lnTo>
                  <a:pt x="1113" y="1228"/>
                </a:lnTo>
                <a:lnTo>
                  <a:pt x="1111" y="1163"/>
                </a:lnTo>
                <a:lnTo>
                  <a:pt x="1111" y="1100"/>
                </a:lnTo>
                <a:lnTo>
                  <a:pt x="1111" y="1038"/>
                </a:lnTo>
                <a:lnTo>
                  <a:pt x="1109" y="977"/>
                </a:lnTo>
                <a:lnTo>
                  <a:pt x="1109" y="917"/>
                </a:lnTo>
                <a:lnTo>
                  <a:pt x="1107" y="860"/>
                </a:lnTo>
                <a:lnTo>
                  <a:pt x="1107" y="804"/>
                </a:lnTo>
                <a:lnTo>
                  <a:pt x="1106" y="748"/>
                </a:lnTo>
                <a:lnTo>
                  <a:pt x="1104" y="697"/>
                </a:lnTo>
                <a:lnTo>
                  <a:pt x="1102" y="645"/>
                </a:lnTo>
                <a:lnTo>
                  <a:pt x="1100" y="620"/>
                </a:lnTo>
                <a:lnTo>
                  <a:pt x="1098" y="595"/>
                </a:lnTo>
                <a:lnTo>
                  <a:pt x="1098" y="570"/>
                </a:lnTo>
                <a:lnTo>
                  <a:pt x="1096" y="547"/>
                </a:lnTo>
                <a:lnTo>
                  <a:pt x="1094" y="526"/>
                </a:lnTo>
                <a:lnTo>
                  <a:pt x="1092" y="505"/>
                </a:lnTo>
                <a:lnTo>
                  <a:pt x="1092" y="484"/>
                </a:lnTo>
                <a:lnTo>
                  <a:pt x="1090" y="463"/>
                </a:lnTo>
                <a:lnTo>
                  <a:pt x="1088" y="443"/>
                </a:lnTo>
                <a:lnTo>
                  <a:pt x="1086" y="426"/>
                </a:lnTo>
                <a:lnTo>
                  <a:pt x="1084" y="407"/>
                </a:lnTo>
                <a:lnTo>
                  <a:pt x="1082" y="390"/>
                </a:lnTo>
                <a:lnTo>
                  <a:pt x="1081" y="374"/>
                </a:lnTo>
                <a:lnTo>
                  <a:pt x="1079" y="359"/>
                </a:lnTo>
                <a:lnTo>
                  <a:pt x="1077" y="344"/>
                </a:lnTo>
                <a:lnTo>
                  <a:pt x="1073" y="330"/>
                </a:lnTo>
                <a:lnTo>
                  <a:pt x="1071" y="317"/>
                </a:lnTo>
                <a:lnTo>
                  <a:pt x="1069" y="303"/>
                </a:lnTo>
                <a:lnTo>
                  <a:pt x="1067" y="292"/>
                </a:lnTo>
                <a:lnTo>
                  <a:pt x="1063" y="282"/>
                </a:lnTo>
                <a:lnTo>
                  <a:pt x="1061" y="271"/>
                </a:lnTo>
                <a:lnTo>
                  <a:pt x="1059" y="261"/>
                </a:lnTo>
                <a:lnTo>
                  <a:pt x="1056" y="254"/>
                </a:lnTo>
                <a:lnTo>
                  <a:pt x="1054" y="246"/>
                </a:lnTo>
                <a:lnTo>
                  <a:pt x="1050" y="238"/>
                </a:lnTo>
                <a:lnTo>
                  <a:pt x="1048" y="232"/>
                </a:lnTo>
                <a:lnTo>
                  <a:pt x="1044" y="227"/>
                </a:lnTo>
                <a:lnTo>
                  <a:pt x="1040" y="221"/>
                </a:lnTo>
                <a:lnTo>
                  <a:pt x="1038" y="217"/>
                </a:lnTo>
                <a:lnTo>
                  <a:pt x="1034" y="215"/>
                </a:lnTo>
                <a:lnTo>
                  <a:pt x="1031" y="211"/>
                </a:lnTo>
                <a:lnTo>
                  <a:pt x="1029" y="211"/>
                </a:lnTo>
                <a:lnTo>
                  <a:pt x="1021" y="208"/>
                </a:lnTo>
                <a:lnTo>
                  <a:pt x="1013" y="206"/>
                </a:lnTo>
                <a:lnTo>
                  <a:pt x="1004" y="206"/>
                </a:lnTo>
                <a:lnTo>
                  <a:pt x="994" y="204"/>
                </a:lnTo>
                <a:lnTo>
                  <a:pt x="983" y="202"/>
                </a:lnTo>
                <a:lnTo>
                  <a:pt x="971" y="202"/>
                </a:lnTo>
                <a:lnTo>
                  <a:pt x="960" y="202"/>
                </a:lnTo>
                <a:lnTo>
                  <a:pt x="946" y="202"/>
                </a:lnTo>
                <a:lnTo>
                  <a:pt x="931" y="202"/>
                </a:lnTo>
                <a:lnTo>
                  <a:pt x="917" y="202"/>
                </a:lnTo>
                <a:lnTo>
                  <a:pt x="900" y="202"/>
                </a:lnTo>
                <a:lnTo>
                  <a:pt x="885" y="204"/>
                </a:lnTo>
                <a:lnTo>
                  <a:pt x="866" y="206"/>
                </a:lnTo>
                <a:lnTo>
                  <a:pt x="848" y="206"/>
                </a:lnTo>
                <a:lnTo>
                  <a:pt x="829" y="208"/>
                </a:lnTo>
                <a:lnTo>
                  <a:pt x="808" y="211"/>
                </a:lnTo>
                <a:lnTo>
                  <a:pt x="762" y="215"/>
                </a:lnTo>
                <a:lnTo>
                  <a:pt x="716" y="221"/>
                </a:lnTo>
                <a:lnTo>
                  <a:pt x="670" y="229"/>
                </a:lnTo>
                <a:lnTo>
                  <a:pt x="624" y="236"/>
                </a:lnTo>
                <a:lnTo>
                  <a:pt x="578" y="242"/>
                </a:lnTo>
                <a:lnTo>
                  <a:pt x="530" y="250"/>
                </a:lnTo>
                <a:lnTo>
                  <a:pt x="480" y="255"/>
                </a:lnTo>
                <a:lnTo>
                  <a:pt x="430" y="259"/>
                </a:lnTo>
                <a:lnTo>
                  <a:pt x="405" y="265"/>
                </a:lnTo>
                <a:lnTo>
                  <a:pt x="382" y="269"/>
                </a:lnTo>
                <a:lnTo>
                  <a:pt x="361" y="273"/>
                </a:lnTo>
                <a:lnTo>
                  <a:pt x="340" y="277"/>
                </a:lnTo>
                <a:lnTo>
                  <a:pt x="318" y="280"/>
                </a:lnTo>
                <a:lnTo>
                  <a:pt x="301" y="282"/>
                </a:lnTo>
                <a:lnTo>
                  <a:pt x="284" y="286"/>
                </a:lnTo>
                <a:lnTo>
                  <a:pt x="267" y="288"/>
                </a:lnTo>
                <a:lnTo>
                  <a:pt x="253" y="290"/>
                </a:lnTo>
                <a:lnTo>
                  <a:pt x="240" y="292"/>
                </a:lnTo>
                <a:lnTo>
                  <a:pt x="226" y="294"/>
                </a:lnTo>
                <a:lnTo>
                  <a:pt x="217" y="296"/>
                </a:lnTo>
                <a:lnTo>
                  <a:pt x="207" y="296"/>
                </a:lnTo>
                <a:lnTo>
                  <a:pt x="197" y="298"/>
                </a:lnTo>
                <a:lnTo>
                  <a:pt x="192" y="298"/>
                </a:lnTo>
                <a:lnTo>
                  <a:pt x="186" y="298"/>
                </a:lnTo>
                <a:lnTo>
                  <a:pt x="172" y="298"/>
                </a:lnTo>
                <a:lnTo>
                  <a:pt x="159" y="296"/>
                </a:lnTo>
                <a:lnTo>
                  <a:pt x="144" y="292"/>
                </a:lnTo>
                <a:lnTo>
                  <a:pt x="130" y="286"/>
                </a:lnTo>
                <a:lnTo>
                  <a:pt x="123" y="284"/>
                </a:lnTo>
                <a:lnTo>
                  <a:pt x="115" y="280"/>
                </a:lnTo>
                <a:lnTo>
                  <a:pt x="107" y="277"/>
                </a:lnTo>
                <a:lnTo>
                  <a:pt x="100" y="271"/>
                </a:lnTo>
                <a:lnTo>
                  <a:pt x="90" y="267"/>
                </a:lnTo>
                <a:lnTo>
                  <a:pt x="82" y="261"/>
                </a:lnTo>
                <a:lnTo>
                  <a:pt x="73" y="254"/>
                </a:lnTo>
                <a:lnTo>
                  <a:pt x="65" y="248"/>
                </a:lnTo>
                <a:lnTo>
                  <a:pt x="55" y="242"/>
                </a:lnTo>
                <a:lnTo>
                  <a:pt x="48" y="238"/>
                </a:lnTo>
                <a:lnTo>
                  <a:pt x="40" y="234"/>
                </a:lnTo>
                <a:lnTo>
                  <a:pt x="32" y="229"/>
                </a:lnTo>
                <a:lnTo>
                  <a:pt x="27" y="225"/>
                </a:lnTo>
                <a:lnTo>
                  <a:pt x="21" y="221"/>
                </a:lnTo>
                <a:lnTo>
                  <a:pt x="15" y="217"/>
                </a:lnTo>
                <a:lnTo>
                  <a:pt x="11" y="211"/>
                </a:lnTo>
                <a:lnTo>
                  <a:pt x="7" y="208"/>
                </a:lnTo>
                <a:lnTo>
                  <a:pt x="4" y="204"/>
                </a:lnTo>
                <a:lnTo>
                  <a:pt x="2" y="200"/>
                </a:lnTo>
                <a:lnTo>
                  <a:pt x="2" y="198"/>
                </a:lnTo>
                <a:lnTo>
                  <a:pt x="0" y="194"/>
                </a:lnTo>
                <a:lnTo>
                  <a:pt x="0" y="190"/>
                </a:lnTo>
                <a:lnTo>
                  <a:pt x="2" y="188"/>
                </a:lnTo>
                <a:lnTo>
                  <a:pt x="4" y="186"/>
                </a:lnTo>
                <a:lnTo>
                  <a:pt x="4" y="185"/>
                </a:lnTo>
                <a:lnTo>
                  <a:pt x="5" y="181"/>
                </a:lnTo>
                <a:lnTo>
                  <a:pt x="7" y="179"/>
                </a:lnTo>
                <a:lnTo>
                  <a:pt x="9" y="177"/>
                </a:lnTo>
                <a:lnTo>
                  <a:pt x="13" y="175"/>
                </a:lnTo>
                <a:lnTo>
                  <a:pt x="17" y="173"/>
                </a:lnTo>
                <a:lnTo>
                  <a:pt x="23" y="171"/>
                </a:lnTo>
                <a:lnTo>
                  <a:pt x="29" y="169"/>
                </a:lnTo>
                <a:lnTo>
                  <a:pt x="36" y="167"/>
                </a:lnTo>
                <a:lnTo>
                  <a:pt x="44" y="165"/>
                </a:lnTo>
                <a:lnTo>
                  <a:pt x="52" y="163"/>
                </a:lnTo>
                <a:lnTo>
                  <a:pt x="59" y="163"/>
                </a:lnTo>
                <a:lnTo>
                  <a:pt x="69" y="161"/>
                </a:lnTo>
                <a:lnTo>
                  <a:pt x="78" y="161"/>
                </a:lnTo>
                <a:lnTo>
                  <a:pt x="90" y="161"/>
                </a:lnTo>
                <a:lnTo>
                  <a:pt x="101" y="161"/>
                </a:lnTo>
                <a:lnTo>
                  <a:pt x="113" y="161"/>
                </a:lnTo>
                <a:lnTo>
                  <a:pt x="124" y="161"/>
                </a:lnTo>
                <a:lnTo>
                  <a:pt x="138" y="161"/>
                </a:lnTo>
                <a:lnTo>
                  <a:pt x="153" y="161"/>
                </a:lnTo>
                <a:lnTo>
                  <a:pt x="169" y="161"/>
                </a:lnTo>
                <a:lnTo>
                  <a:pt x="184" y="160"/>
                </a:lnTo>
                <a:lnTo>
                  <a:pt x="201" y="160"/>
                </a:lnTo>
                <a:lnTo>
                  <a:pt x="219" y="160"/>
                </a:lnTo>
                <a:lnTo>
                  <a:pt x="236" y="160"/>
                </a:lnTo>
                <a:lnTo>
                  <a:pt x="255" y="158"/>
                </a:lnTo>
                <a:lnTo>
                  <a:pt x="274" y="158"/>
                </a:lnTo>
                <a:lnTo>
                  <a:pt x="295" y="156"/>
                </a:lnTo>
                <a:lnTo>
                  <a:pt x="315" y="154"/>
                </a:lnTo>
                <a:lnTo>
                  <a:pt x="338" y="154"/>
                </a:lnTo>
                <a:lnTo>
                  <a:pt x="359" y="152"/>
                </a:lnTo>
                <a:lnTo>
                  <a:pt x="382" y="148"/>
                </a:lnTo>
                <a:lnTo>
                  <a:pt x="403" y="146"/>
                </a:lnTo>
                <a:lnTo>
                  <a:pt x="424" y="144"/>
                </a:lnTo>
                <a:lnTo>
                  <a:pt x="445" y="142"/>
                </a:lnTo>
                <a:lnTo>
                  <a:pt x="468" y="138"/>
                </a:lnTo>
                <a:lnTo>
                  <a:pt x="514" y="135"/>
                </a:lnTo>
                <a:lnTo>
                  <a:pt x="562" y="129"/>
                </a:lnTo>
                <a:lnTo>
                  <a:pt x="610" y="123"/>
                </a:lnTo>
                <a:lnTo>
                  <a:pt x="660" y="115"/>
                </a:lnTo>
                <a:lnTo>
                  <a:pt x="710" y="108"/>
                </a:lnTo>
                <a:lnTo>
                  <a:pt x="760" y="98"/>
                </a:lnTo>
                <a:lnTo>
                  <a:pt x="785" y="96"/>
                </a:lnTo>
                <a:lnTo>
                  <a:pt x="808" y="94"/>
                </a:lnTo>
                <a:lnTo>
                  <a:pt x="829" y="91"/>
                </a:lnTo>
                <a:lnTo>
                  <a:pt x="850" y="87"/>
                </a:lnTo>
                <a:lnTo>
                  <a:pt x="871" y="85"/>
                </a:lnTo>
                <a:lnTo>
                  <a:pt x="889" y="81"/>
                </a:lnTo>
                <a:lnTo>
                  <a:pt x="906" y="77"/>
                </a:lnTo>
                <a:lnTo>
                  <a:pt x="923" y="73"/>
                </a:lnTo>
                <a:lnTo>
                  <a:pt x="938" y="69"/>
                </a:lnTo>
                <a:lnTo>
                  <a:pt x="952" y="64"/>
                </a:lnTo>
                <a:lnTo>
                  <a:pt x="963" y="60"/>
                </a:lnTo>
                <a:lnTo>
                  <a:pt x="975" y="56"/>
                </a:lnTo>
                <a:lnTo>
                  <a:pt x="983" y="52"/>
                </a:lnTo>
                <a:lnTo>
                  <a:pt x="992" y="46"/>
                </a:lnTo>
                <a:lnTo>
                  <a:pt x="998" y="43"/>
                </a:lnTo>
                <a:lnTo>
                  <a:pt x="1004" y="37"/>
                </a:lnTo>
                <a:lnTo>
                  <a:pt x="1010" y="29"/>
                </a:lnTo>
                <a:lnTo>
                  <a:pt x="1015" y="21"/>
                </a:lnTo>
                <a:lnTo>
                  <a:pt x="1021" y="14"/>
                </a:lnTo>
                <a:lnTo>
                  <a:pt x="1029" y="10"/>
                </a:lnTo>
                <a:lnTo>
                  <a:pt x="1038" y="6"/>
                </a:lnTo>
                <a:lnTo>
                  <a:pt x="1046" y="2"/>
                </a:lnTo>
                <a:lnTo>
                  <a:pt x="1056" y="0"/>
                </a:lnTo>
                <a:lnTo>
                  <a:pt x="1065" y="0"/>
                </a:lnTo>
                <a:lnTo>
                  <a:pt x="1067" y="0"/>
                </a:lnTo>
                <a:lnTo>
                  <a:pt x="1071" y="0"/>
                </a:lnTo>
                <a:lnTo>
                  <a:pt x="1075" y="2"/>
                </a:lnTo>
                <a:lnTo>
                  <a:pt x="1081" y="4"/>
                </a:lnTo>
                <a:lnTo>
                  <a:pt x="1086" y="8"/>
                </a:lnTo>
                <a:lnTo>
                  <a:pt x="1094" y="10"/>
                </a:lnTo>
                <a:lnTo>
                  <a:pt x="1102" y="14"/>
                </a:lnTo>
                <a:lnTo>
                  <a:pt x="1111" y="18"/>
                </a:lnTo>
                <a:lnTo>
                  <a:pt x="1121" y="23"/>
                </a:lnTo>
                <a:lnTo>
                  <a:pt x="1130" y="29"/>
                </a:lnTo>
                <a:lnTo>
                  <a:pt x="1142" y="35"/>
                </a:lnTo>
                <a:lnTo>
                  <a:pt x="1154" y="41"/>
                </a:lnTo>
                <a:lnTo>
                  <a:pt x="1167" y="48"/>
                </a:lnTo>
                <a:lnTo>
                  <a:pt x="1180" y="56"/>
                </a:lnTo>
                <a:lnTo>
                  <a:pt x="1196" y="66"/>
                </a:lnTo>
                <a:lnTo>
                  <a:pt x="1211" y="75"/>
                </a:lnTo>
                <a:lnTo>
                  <a:pt x="1226" y="87"/>
                </a:lnTo>
                <a:lnTo>
                  <a:pt x="1240" y="96"/>
                </a:lnTo>
                <a:lnTo>
                  <a:pt x="1253" y="108"/>
                </a:lnTo>
                <a:lnTo>
                  <a:pt x="1267" y="117"/>
                </a:lnTo>
                <a:lnTo>
                  <a:pt x="1276" y="125"/>
                </a:lnTo>
                <a:lnTo>
                  <a:pt x="1286" y="135"/>
                </a:lnTo>
                <a:lnTo>
                  <a:pt x="1296" y="142"/>
                </a:lnTo>
                <a:lnTo>
                  <a:pt x="1303" y="150"/>
                </a:lnTo>
                <a:lnTo>
                  <a:pt x="1311" y="158"/>
                </a:lnTo>
                <a:lnTo>
                  <a:pt x="1317" y="165"/>
                </a:lnTo>
                <a:lnTo>
                  <a:pt x="1322" y="171"/>
                </a:lnTo>
                <a:lnTo>
                  <a:pt x="1326" y="177"/>
                </a:lnTo>
                <a:lnTo>
                  <a:pt x="1328" y="183"/>
                </a:lnTo>
                <a:lnTo>
                  <a:pt x="1332" y="188"/>
                </a:lnTo>
                <a:lnTo>
                  <a:pt x="1332" y="194"/>
                </a:lnTo>
                <a:lnTo>
                  <a:pt x="1334" y="198"/>
                </a:lnTo>
                <a:lnTo>
                  <a:pt x="1332" y="208"/>
                </a:lnTo>
                <a:lnTo>
                  <a:pt x="1330" y="217"/>
                </a:lnTo>
                <a:lnTo>
                  <a:pt x="1328" y="225"/>
                </a:lnTo>
                <a:lnTo>
                  <a:pt x="1324" y="234"/>
                </a:lnTo>
                <a:lnTo>
                  <a:pt x="1319" y="242"/>
                </a:lnTo>
                <a:lnTo>
                  <a:pt x="1313" y="248"/>
                </a:lnTo>
                <a:lnTo>
                  <a:pt x="1305" y="255"/>
                </a:lnTo>
                <a:lnTo>
                  <a:pt x="1296" y="259"/>
                </a:lnTo>
                <a:lnTo>
                  <a:pt x="1294" y="263"/>
                </a:lnTo>
                <a:lnTo>
                  <a:pt x="1290" y="265"/>
                </a:lnTo>
                <a:lnTo>
                  <a:pt x="1286" y="269"/>
                </a:lnTo>
                <a:lnTo>
                  <a:pt x="1284" y="275"/>
                </a:lnTo>
                <a:lnTo>
                  <a:pt x="1280" y="279"/>
                </a:lnTo>
                <a:lnTo>
                  <a:pt x="1278" y="284"/>
                </a:lnTo>
                <a:lnTo>
                  <a:pt x="1276" y="290"/>
                </a:lnTo>
                <a:lnTo>
                  <a:pt x="1273" y="298"/>
                </a:lnTo>
                <a:lnTo>
                  <a:pt x="1271" y="305"/>
                </a:lnTo>
                <a:lnTo>
                  <a:pt x="1269" y="313"/>
                </a:lnTo>
                <a:lnTo>
                  <a:pt x="1267" y="321"/>
                </a:lnTo>
                <a:lnTo>
                  <a:pt x="1265" y="328"/>
                </a:lnTo>
                <a:lnTo>
                  <a:pt x="1263" y="338"/>
                </a:lnTo>
                <a:lnTo>
                  <a:pt x="1261" y="349"/>
                </a:lnTo>
                <a:lnTo>
                  <a:pt x="1259" y="359"/>
                </a:lnTo>
                <a:lnTo>
                  <a:pt x="1259" y="371"/>
                </a:lnTo>
                <a:lnTo>
                  <a:pt x="1257" y="382"/>
                </a:lnTo>
                <a:lnTo>
                  <a:pt x="1255" y="394"/>
                </a:lnTo>
                <a:lnTo>
                  <a:pt x="1255" y="407"/>
                </a:lnTo>
                <a:lnTo>
                  <a:pt x="1253" y="420"/>
                </a:lnTo>
                <a:lnTo>
                  <a:pt x="1253" y="434"/>
                </a:lnTo>
                <a:lnTo>
                  <a:pt x="1251" y="447"/>
                </a:lnTo>
                <a:lnTo>
                  <a:pt x="1251" y="463"/>
                </a:lnTo>
                <a:lnTo>
                  <a:pt x="1250" y="478"/>
                </a:lnTo>
                <a:lnTo>
                  <a:pt x="1250" y="493"/>
                </a:lnTo>
                <a:lnTo>
                  <a:pt x="1250" y="511"/>
                </a:lnTo>
                <a:lnTo>
                  <a:pt x="1250" y="528"/>
                </a:lnTo>
                <a:lnTo>
                  <a:pt x="1248" y="545"/>
                </a:lnTo>
                <a:lnTo>
                  <a:pt x="1248" y="562"/>
                </a:lnTo>
                <a:lnTo>
                  <a:pt x="1248" y="582"/>
                </a:lnTo>
                <a:lnTo>
                  <a:pt x="1248" y="601"/>
                </a:lnTo>
                <a:lnTo>
                  <a:pt x="1248" y="6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43"/>
          <p:cNvSpPr/>
          <p:nvPr/>
        </p:nvSpPr>
        <p:spPr>
          <a:xfrm>
            <a:off x="6491160" y="3305160"/>
            <a:ext cx="684360" cy="1220760"/>
          </a:xfrm>
          <a:custGeom>
            <a:avLst/>
            <a:gdLst/>
            <a:ahLst/>
            <a:rect l="l" t="t" r="r" b="b"/>
            <a:pathLst>
              <a:path w="862" h="1539">
                <a:moveTo>
                  <a:pt x="211" y="136"/>
                </a:moveTo>
                <a:lnTo>
                  <a:pt x="211" y="152"/>
                </a:lnTo>
                <a:lnTo>
                  <a:pt x="211" y="165"/>
                </a:lnTo>
                <a:lnTo>
                  <a:pt x="211" y="181"/>
                </a:lnTo>
                <a:lnTo>
                  <a:pt x="211" y="196"/>
                </a:lnTo>
                <a:lnTo>
                  <a:pt x="211" y="213"/>
                </a:lnTo>
                <a:lnTo>
                  <a:pt x="211" y="230"/>
                </a:lnTo>
                <a:lnTo>
                  <a:pt x="211" y="240"/>
                </a:lnTo>
                <a:lnTo>
                  <a:pt x="211" y="252"/>
                </a:lnTo>
                <a:lnTo>
                  <a:pt x="211" y="261"/>
                </a:lnTo>
                <a:lnTo>
                  <a:pt x="211" y="273"/>
                </a:lnTo>
                <a:lnTo>
                  <a:pt x="211" y="284"/>
                </a:lnTo>
                <a:lnTo>
                  <a:pt x="213" y="298"/>
                </a:lnTo>
                <a:lnTo>
                  <a:pt x="213" y="311"/>
                </a:lnTo>
                <a:lnTo>
                  <a:pt x="215" y="324"/>
                </a:lnTo>
                <a:lnTo>
                  <a:pt x="215" y="340"/>
                </a:lnTo>
                <a:lnTo>
                  <a:pt x="217" y="355"/>
                </a:lnTo>
                <a:lnTo>
                  <a:pt x="219" y="371"/>
                </a:lnTo>
                <a:lnTo>
                  <a:pt x="221" y="388"/>
                </a:lnTo>
                <a:lnTo>
                  <a:pt x="223" y="405"/>
                </a:lnTo>
                <a:lnTo>
                  <a:pt x="227" y="424"/>
                </a:lnTo>
                <a:lnTo>
                  <a:pt x="229" y="443"/>
                </a:lnTo>
                <a:lnTo>
                  <a:pt x="232" y="465"/>
                </a:lnTo>
                <a:lnTo>
                  <a:pt x="236" y="486"/>
                </a:lnTo>
                <a:lnTo>
                  <a:pt x="240" y="509"/>
                </a:lnTo>
                <a:lnTo>
                  <a:pt x="244" y="534"/>
                </a:lnTo>
                <a:lnTo>
                  <a:pt x="248" y="559"/>
                </a:lnTo>
                <a:lnTo>
                  <a:pt x="252" y="583"/>
                </a:lnTo>
                <a:lnTo>
                  <a:pt x="256" y="608"/>
                </a:lnTo>
                <a:lnTo>
                  <a:pt x="259" y="635"/>
                </a:lnTo>
                <a:lnTo>
                  <a:pt x="265" y="660"/>
                </a:lnTo>
                <a:lnTo>
                  <a:pt x="271" y="687"/>
                </a:lnTo>
                <a:lnTo>
                  <a:pt x="279" y="712"/>
                </a:lnTo>
                <a:lnTo>
                  <a:pt x="286" y="739"/>
                </a:lnTo>
                <a:lnTo>
                  <a:pt x="294" y="766"/>
                </a:lnTo>
                <a:lnTo>
                  <a:pt x="304" y="793"/>
                </a:lnTo>
                <a:lnTo>
                  <a:pt x="315" y="819"/>
                </a:lnTo>
                <a:lnTo>
                  <a:pt x="327" y="846"/>
                </a:lnTo>
                <a:lnTo>
                  <a:pt x="338" y="875"/>
                </a:lnTo>
                <a:lnTo>
                  <a:pt x="352" y="904"/>
                </a:lnTo>
                <a:lnTo>
                  <a:pt x="365" y="933"/>
                </a:lnTo>
                <a:lnTo>
                  <a:pt x="380" y="961"/>
                </a:lnTo>
                <a:lnTo>
                  <a:pt x="396" y="992"/>
                </a:lnTo>
                <a:lnTo>
                  <a:pt x="409" y="1021"/>
                </a:lnTo>
                <a:lnTo>
                  <a:pt x="421" y="1050"/>
                </a:lnTo>
                <a:lnTo>
                  <a:pt x="434" y="1075"/>
                </a:lnTo>
                <a:lnTo>
                  <a:pt x="447" y="1099"/>
                </a:lnTo>
                <a:lnTo>
                  <a:pt x="459" y="1123"/>
                </a:lnTo>
                <a:lnTo>
                  <a:pt x="472" y="1144"/>
                </a:lnTo>
                <a:lnTo>
                  <a:pt x="484" y="1163"/>
                </a:lnTo>
                <a:lnTo>
                  <a:pt x="495" y="1180"/>
                </a:lnTo>
                <a:lnTo>
                  <a:pt x="507" y="1197"/>
                </a:lnTo>
                <a:lnTo>
                  <a:pt x="519" y="1213"/>
                </a:lnTo>
                <a:lnTo>
                  <a:pt x="528" y="1226"/>
                </a:lnTo>
                <a:lnTo>
                  <a:pt x="540" y="1240"/>
                </a:lnTo>
                <a:lnTo>
                  <a:pt x="549" y="1251"/>
                </a:lnTo>
                <a:lnTo>
                  <a:pt x="559" y="1261"/>
                </a:lnTo>
                <a:lnTo>
                  <a:pt x="568" y="1268"/>
                </a:lnTo>
                <a:lnTo>
                  <a:pt x="578" y="1276"/>
                </a:lnTo>
                <a:lnTo>
                  <a:pt x="595" y="1289"/>
                </a:lnTo>
                <a:lnTo>
                  <a:pt x="613" y="1303"/>
                </a:lnTo>
                <a:lnTo>
                  <a:pt x="620" y="1307"/>
                </a:lnTo>
                <a:lnTo>
                  <a:pt x="626" y="1312"/>
                </a:lnTo>
                <a:lnTo>
                  <a:pt x="634" y="1316"/>
                </a:lnTo>
                <a:lnTo>
                  <a:pt x="639" y="1320"/>
                </a:lnTo>
                <a:lnTo>
                  <a:pt x="647" y="1324"/>
                </a:lnTo>
                <a:lnTo>
                  <a:pt x="653" y="1326"/>
                </a:lnTo>
                <a:lnTo>
                  <a:pt x="657" y="1328"/>
                </a:lnTo>
                <a:lnTo>
                  <a:pt x="663" y="1330"/>
                </a:lnTo>
                <a:lnTo>
                  <a:pt x="666" y="1330"/>
                </a:lnTo>
                <a:lnTo>
                  <a:pt x="670" y="1330"/>
                </a:lnTo>
                <a:lnTo>
                  <a:pt x="672" y="1328"/>
                </a:lnTo>
                <a:lnTo>
                  <a:pt x="676" y="1326"/>
                </a:lnTo>
                <a:lnTo>
                  <a:pt x="678" y="1326"/>
                </a:lnTo>
                <a:lnTo>
                  <a:pt x="680" y="1324"/>
                </a:lnTo>
                <a:lnTo>
                  <a:pt x="684" y="1320"/>
                </a:lnTo>
                <a:lnTo>
                  <a:pt x="687" y="1316"/>
                </a:lnTo>
                <a:lnTo>
                  <a:pt x="689" y="1312"/>
                </a:lnTo>
                <a:lnTo>
                  <a:pt x="693" y="1307"/>
                </a:lnTo>
                <a:lnTo>
                  <a:pt x="697" y="1299"/>
                </a:lnTo>
                <a:lnTo>
                  <a:pt x="701" y="1291"/>
                </a:lnTo>
                <a:lnTo>
                  <a:pt x="705" y="1282"/>
                </a:lnTo>
                <a:lnTo>
                  <a:pt x="711" y="1272"/>
                </a:lnTo>
                <a:lnTo>
                  <a:pt x="714" y="1261"/>
                </a:lnTo>
                <a:lnTo>
                  <a:pt x="718" y="1247"/>
                </a:lnTo>
                <a:lnTo>
                  <a:pt x="722" y="1236"/>
                </a:lnTo>
                <a:lnTo>
                  <a:pt x="728" y="1220"/>
                </a:lnTo>
                <a:lnTo>
                  <a:pt x="732" y="1205"/>
                </a:lnTo>
                <a:lnTo>
                  <a:pt x="737" y="1190"/>
                </a:lnTo>
                <a:lnTo>
                  <a:pt x="739" y="1174"/>
                </a:lnTo>
                <a:lnTo>
                  <a:pt x="741" y="1159"/>
                </a:lnTo>
                <a:lnTo>
                  <a:pt x="745" y="1146"/>
                </a:lnTo>
                <a:lnTo>
                  <a:pt x="747" y="1134"/>
                </a:lnTo>
                <a:lnTo>
                  <a:pt x="751" y="1123"/>
                </a:lnTo>
                <a:lnTo>
                  <a:pt x="755" y="1113"/>
                </a:lnTo>
                <a:lnTo>
                  <a:pt x="759" y="1103"/>
                </a:lnTo>
                <a:lnTo>
                  <a:pt x="762" y="1096"/>
                </a:lnTo>
                <a:lnTo>
                  <a:pt x="766" y="1088"/>
                </a:lnTo>
                <a:lnTo>
                  <a:pt x="770" y="1082"/>
                </a:lnTo>
                <a:lnTo>
                  <a:pt x="776" y="1076"/>
                </a:lnTo>
                <a:lnTo>
                  <a:pt x="780" y="1073"/>
                </a:lnTo>
                <a:lnTo>
                  <a:pt x="783" y="1071"/>
                </a:lnTo>
                <a:lnTo>
                  <a:pt x="789" y="1067"/>
                </a:lnTo>
                <a:lnTo>
                  <a:pt x="793" y="1067"/>
                </a:lnTo>
                <a:lnTo>
                  <a:pt x="797" y="1067"/>
                </a:lnTo>
                <a:lnTo>
                  <a:pt x="801" y="1069"/>
                </a:lnTo>
                <a:lnTo>
                  <a:pt x="803" y="1073"/>
                </a:lnTo>
                <a:lnTo>
                  <a:pt x="805" y="1076"/>
                </a:lnTo>
                <a:lnTo>
                  <a:pt x="807" y="1082"/>
                </a:lnTo>
                <a:lnTo>
                  <a:pt x="808" y="1088"/>
                </a:lnTo>
                <a:lnTo>
                  <a:pt x="812" y="1096"/>
                </a:lnTo>
                <a:lnTo>
                  <a:pt x="814" y="1103"/>
                </a:lnTo>
                <a:lnTo>
                  <a:pt x="816" y="1113"/>
                </a:lnTo>
                <a:lnTo>
                  <a:pt x="818" y="1123"/>
                </a:lnTo>
                <a:lnTo>
                  <a:pt x="820" y="1132"/>
                </a:lnTo>
                <a:lnTo>
                  <a:pt x="822" y="1144"/>
                </a:lnTo>
                <a:lnTo>
                  <a:pt x="826" y="1157"/>
                </a:lnTo>
                <a:lnTo>
                  <a:pt x="828" y="1170"/>
                </a:lnTo>
                <a:lnTo>
                  <a:pt x="830" y="1184"/>
                </a:lnTo>
                <a:lnTo>
                  <a:pt x="831" y="1199"/>
                </a:lnTo>
                <a:lnTo>
                  <a:pt x="833" y="1215"/>
                </a:lnTo>
                <a:lnTo>
                  <a:pt x="835" y="1247"/>
                </a:lnTo>
                <a:lnTo>
                  <a:pt x="837" y="1280"/>
                </a:lnTo>
                <a:lnTo>
                  <a:pt x="839" y="1311"/>
                </a:lnTo>
                <a:lnTo>
                  <a:pt x="841" y="1341"/>
                </a:lnTo>
                <a:lnTo>
                  <a:pt x="845" y="1372"/>
                </a:lnTo>
                <a:lnTo>
                  <a:pt x="851" y="1399"/>
                </a:lnTo>
                <a:lnTo>
                  <a:pt x="853" y="1412"/>
                </a:lnTo>
                <a:lnTo>
                  <a:pt x="854" y="1426"/>
                </a:lnTo>
                <a:lnTo>
                  <a:pt x="856" y="1439"/>
                </a:lnTo>
                <a:lnTo>
                  <a:pt x="858" y="1451"/>
                </a:lnTo>
                <a:lnTo>
                  <a:pt x="860" y="1462"/>
                </a:lnTo>
                <a:lnTo>
                  <a:pt x="862" y="1472"/>
                </a:lnTo>
                <a:lnTo>
                  <a:pt x="862" y="1481"/>
                </a:lnTo>
                <a:lnTo>
                  <a:pt x="860" y="1491"/>
                </a:lnTo>
                <a:lnTo>
                  <a:pt x="858" y="1500"/>
                </a:lnTo>
                <a:lnTo>
                  <a:pt x="856" y="1508"/>
                </a:lnTo>
                <a:lnTo>
                  <a:pt x="853" y="1516"/>
                </a:lnTo>
                <a:lnTo>
                  <a:pt x="849" y="1522"/>
                </a:lnTo>
                <a:lnTo>
                  <a:pt x="845" y="1527"/>
                </a:lnTo>
                <a:lnTo>
                  <a:pt x="839" y="1531"/>
                </a:lnTo>
                <a:lnTo>
                  <a:pt x="831" y="1535"/>
                </a:lnTo>
                <a:lnTo>
                  <a:pt x="824" y="1537"/>
                </a:lnTo>
                <a:lnTo>
                  <a:pt x="816" y="1539"/>
                </a:lnTo>
                <a:lnTo>
                  <a:pt x="807" y="1539"/>
                </a:lnTo>
                <a:lnTo>
                  <a:pt x="797" y="1539"/>
                </a:lnTo>
                <a:lnTo>
                  <a:pt x="785" y="1537"/>
                </a:lnTo>
                <a:lnTo>
                  <a:pt x="774" y="1537"/>
                </a:lnTo>
                <a:lnTo>
                  <a:pt x="760" y="1535"/>
                </a:lnTo>
                <a:lnTo>
                  <a:pt x="749" y="1533"/>
                </a:lnTo>
                <a:lnTo>
                  <a:pt x="735" y="1529"/>
                </a:lnTo>
                <a:lnTo>
                  <a:pt x="722" y="1525"/>
                </a:lnTo>
                <a:lnTo>
                  <a:pt x="707" y="1522"/>
                </a:lnTo>
                <a:lnTo>
                  <a:pt x="693" y="1516"/>
                </a:lnTo>
                <a:lnTo>
                  <a:pt x="678" y="1510"/>
                </a:lnTo>
                <a:lnTo>
                  <a:pt x="663" y="1502"/>
                </a:lnTo>
                <a:lnTo>
                  <a:pt x="647" y="1493"/>
                </a:lnTo>
                <a:lnTo>
                  <a:pt x="632" y="1485"/>
                </a:lnTo>
                <a:lnTo>
                  <a:pt x="616" y="1475"/>
                </a:lnTo>
                <a:lnTo>
                  <a:pt x="601" y="1464"/>
                </a:lnTo>
                <a:lnTo>
                  <a:pt x="586" y="1452"/>
                </a:lnTo>
                <a:lnTo>
                  <a:pt x="570" y="1439"/>
                </a:lnTo>
                <a:lnTo>
                  <a:pt x="553" y="1426"/>
                </a:lnTo>
                <a:lnTo>
                  <a:pt x="536" y="1412"/>
                </a:lnTo>
                <a:lnTo>
                  <a:pt x="519" y="1399"/>
                </a:lnTo>
                <a:lnTo>
                  <a:pt x="499" y="1385"/>
                </a:lnTo>
                <a:lnTo>
                  <a:pt x="482" y="1370"/>
                </a:lnTo>
                <a:lnTo>
                  <a:pt x="465" y="1353"/>
                </a:lnTo>
                <a:lnTo>
                  <a:pt x="449" y="1335"/>
                </a:lnTo>
                <a:lnTo>
                  <a:pt x="432" y="1316"/>
                </a:lnTo>
                <a:lnTo>
                  <a:pt x="417" y="1295"/>
                </a:lnTo>
                <a:lnTo>
                  <a:pt x="400" y="1274"/>
                </a:lnTo>
                <a:lnTo>
                  <a:pt x="384" y="1251"/>
                </a:lnTo>
                <a:lnTo>
                  <a:pt x="369" y="1228"/>
                </a:lnTo>
                <a:lnTo>
                  <a:pt x="353" y="1203"/>
                </a:lnTo>
                <a:lnTo>
                  <a:pt x="340" y="1176"/>
                </a:lnTo>
                <a:lnTo>
                  <a:pt x="325" y="1149"/>
                </a:lnTo>
                <a:lnTo>
                  <a:pt x="311" y="1121"/>
                </a:lnTo>
                <a:lnTo>
                  <a:pt x="298" y="1090"/>
                </a:lnTo>
                <a:lnTo>
                  <a:pt x="282" y="1061"/>
                </a:lnTo>
                <a:lnTo>
                  <a:pt x="267" y="1030"/>
                </a:lnTo>
                <a:lnTo>
                  <a:pt x="254" y="1002"/>
                </a:lnTo>
                <a:lnTo>
                  <a:pt x="240" y="971"/>
                </a:lnTo>
                <a:lnTo>
                  <a:pt x="229" y="942"/>
                </a:lnTo>
                <a:lnTo>
                  <a:pt x="217" y="913"/>
                </a:lnTo>
                <a:lnTo>
                  <a:pt x="206" y="885"/>
                </a:lnTo>
                <a:lnTo>
                  <a:pt x="196" y="856"/>
                </a:lnTo>
                <a:lnTo>
                  <a:pt x="186" y="825"/>
                </a:lnTo>
                <a:lnTo>
                  <a:pt x="177" y="796"/>
                </a:lnTo>
                <a:lnTo>
                  <a:pt x="169" y="768"/>
                </a:lnTo>
                <a:lnTo>
                  <a:pt x="161" y="739"/>
                </a:lnTo>
                <a:lnTo>
                  <a:pt x="156" y="710"/>
                </a:lnTo>
                <a:lnTo>
                  <a:pt x="150" y="679"/>
                </a:lnTo>
                <a:lnTo>
                  <a:pt x="144" y="651"/>
                </a:lnTo>
                <a:lnTo>
                  <a:pt x="138" y="620"/>
                </a:lnTo>
                <a:lnTo>
                  <a:pt x="133" y="593"/>
                </a:lnTo>
                <a:lnTo>
                  <a:pt x="127" y="566"/>
                </a:lnTo>
                <a:lnTo>
                  <a:pt x="121" y="539"/>
                </a:lnTo>
                <a:lnTo>
                  <a:pt x="115" y="512"/>
                </a:lnTo>
                <a:lnTo>
                  <a:pt x="112" y="488"/>
                </a:lnTo>
                <a:lnTo>
                  <a:pt x="108" y="465"/>
                </a:lnTo>
                <a:lnTo>
                  <a:pt x="104" y="440"/>
                </a:lnTo>
                <a:lnTo>
                  <a:pt x="100" y="417"/>
                </a:lnTo>
                <a:lnTo>
                  <a:pt x="96" y="395"/>
                </a:lnTo>
                <a:lnTo>
                  <a:pt x="92" y="372"/>
                </a:lnTo>
                <a:lnTo>
                  <a:pt x="90" y="353"/>
                </a:lnTo>
                <a:lnTo>
                  <a:pt x="87" y="332"/>
                </a:lnTo>
                <a:lnTo>
                  <a:pt x="85" y="313"/>
                </a:lnTo>
                <a:lnTo>
                  <a:pt x="83" y="296"/>
                </a:lnTo>
                <a:lnTo>
                  <a:pt x="81" y="277"/>
                </a:lnTo>
                <a:lnTo>
                  <a:pt x="77" y="261"/>
                </a:lnTo>
                <a:lnTo>
                  <a:pt x="75" y="246"/>
                </a:lnTo>
                <a:lnTo>
                  <a:pt x="73" y="230"/>
                </a:lnTo>
                <a:lnTo>
                  <a:pt x="69" y="215"/>
                </a:lnTo>
                <a:lnTo>
                  <a:pt x="67" y="202"/>
                </a:lnTo>
                <a:lnTo>
                  <a:pt x="64" y="190"/>
                </a:lnTo>
                <a:lnTo>
                  <a:pt x="60" y="179"/>
                </a:lnTo>
                <a:lnTo>
                  <a:pt x="56" y="167"/>
                </a:lnTo>
                <a:lnTo>
                  <a:pt x="54" y="158"/>
                </a:lnTo>
                <a:lnTo>
                  <a:pt x="50" y="148"/>
                </a:lnTo>
                <a:lnTo>
                  <a:pt x="46" y="138"/>
                </a:lnTo>
                <a:lnTo>
                  <a:pt x="42" y="131"/>
                </a:lnTo>
                <a:lnTo>
                  <a:pt x="40" y="123"/>
                </a:lnTo>
                <a:lnTo>
                  <a:pt x="37" y="117"/>
                </a:lnTo>
                <a:lnTo>
                  <a:pt x="35" y="110"/>
                </a:lnTo>
                <a:lnTo>
                  <a:pt x="31" y="104"/>
                </a:lnTo>
                <a:lnTo>
                  <a:pt x="29" y="100"/>
                </a:lnTo>
                <a:lnTo>
                  <a:pt x="21" y="90"/>
                </a:lnTo>
                <a:lnTo>
                  <a:pt x="14" y="81"/>
                </a:lnTo>
                <a:lnTo>
                  <a:pt x="8" y="71"/>
                </a:lnTo>
                <a:lnTo>
                  <a:pt x="4" y="62"/>
                </a:lnTo>
                <a:lnTo>
                  <a:pt x="0" y="54"/>
                </a:lnTo>
                <a:lnTo>
                  <a:pt x="0" y="48"/>
                </a:lnTo>
                <a:lnTo>
                  <a:pt x="0" y="44"/>
                </a:lnTo>
                <a:lnTo>
                  <a:pt x="0" y="39"/>
                </a:lnTo>
                <a:lnTo>
                  <a:pt x="2" y="35"/>
                </a:lnTo>
                <a:lnTo>
                  <a:pt x="2" y="29"/>
                </a:lnTo>
                <a:lnTo>
                  <a:pt x="4" y="25"/>
                </a:lnTo>
                <a:lnTo>
                  <a:pt x="10" y="21"/>
                </a:lnTo>
                <a:lnTo>
                  <a:pt x="16" y="16"/>
                </a:lnTo>
                <a:lnTo>
                  <a:pt x="23" y="12"/>
                </a:lnTo>
                <a:lnTo>
                  <a:pt x="33" y="8"/>
                </a:lnTo>
                <a:lnTo>
                  <a:pt x="44" y="6"/>
                </a:lnTo>
                <a:lnTo>
                  <a:pt x="50" y="4"/>
                </a:lnTo>
                <a:lnTo>
                  <a:pt x="58" y="2"/>
                </a:lnTo>
                <a:lnTo>
                  <a:pt x="65" y="2"/>
                </a:lnTo>
                <a:lnTo>
                  <a:pt x="73" y="0"/>
                </a:lnTo>
                <a:lnTo>
                  <a:pt x="81" y="0"/>
                </a:lnTo>
                <a:lnTo>
                  <a:pt x="90" y="0"/>
                </a:lnTo>
                <a:lnTo>
                  <a:pt x="108" y="6"/>
                </a:lnTo>
                <a:lnTo>
                  <a:pt x="125" y="10"/>
                </a:lnTo>
                <a:lnTo>
                  <a:pt x="140" y="14"/>
                </a:lnTo>
                <a:lnTo>
                  <a:pt x="154" y="19"/>
                </a:lnTo>
                <a:lnTo>
                  <a:pt x="167" y="23"/>
                </a:lnTo>
                <a:lnTo>
                  <a:pt x="179" y="29"/>
                </a:lnTo>
                <a:lnTo>
                  <a:pt x="190" y="33"/>
                </a:lnTo>
                <a:lnTo>
                  <a:pt x="200" y="39"/>
                </a:lnTo>
                <a:lnTo>
                  <a:pt x="204" y="48"/>
                </a:lnTo>
                <a:lnTo>
                  <a:pt x="208" y="58"/>
                </a:lnTo>
                <a:lnTo>
                  <a:pt x="211" y="69"/>
                </a:lnTo>
                <a:lnTo>
                  <a:pt x="215" y="83"/>
                </a:lnTo>
                <a:lnTo>
                  <a:pt x="217" y="96"/>
                </a:lnTo>
                <a:lnTo>
                  <a:pt x="217" y="110"/>
                </a:lnTo>
                <a:lnTo>
                  <a:pt x="217" y="115"/>
                </a:lnTo>
                <a:lnTo>
                  <a:pt x="215" y="123"/>
                </a:lnTo>
                <a:lnTo>
                  <a:pt x="213" y="131"/>
                </a:lnTo>
                <a:lnTo>
                  <a:pt x="211" y="1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44"/>
          <p:cNvSpPr/>
          <p:nvPr/>
        </p:nvSpPr>
        <p:spPr>
          <a:xfrm>
            <a:off x="6365880" y="3621240"/>
            <a:ext cx="650880" cy="255600"/>
          </a:xfrm>
          <a:custGeom>
            <a:avLst/>
            <a:gdLst/>
            <a:ahLst/>
            <a:rect l="l" t="t" r="r" b="b"/>
            <a:pathLst>
              <a:path w="820" h="323">
                <a:moveTo>
                  <a:pt x="637" y="162"/>
                </a:moveTo>
                <a:lnTo>
                  <a:pt x="595" y="175"/>
                </a:lnTo>
                <a:lnTo>
                  <a:pt x="553" y="188"/>
                </a:lnTo>
                <a:lnTo>
                  <a:pt x="510" y="204"/>
                </a:lnTo>
                <a:lnTo>
                  <a:pt x="466" y="217"/>
                </a:lnTo>
                <a:lnTo>
                  <a:pt x="424" y="231"/>
                </a:lnTo>
                <a:lnTo>
                  <a:pt x="380" y="244"/>
                </a:lnTo>
                <a:lnTo>
                  <a:pt x="338" y="259"/>
                </a:lnTo>
                <a:lnTo>
                  <a:pt x="295" y="273"/>
                </a:lnTo>
                <a:lnTo>
                  <a:pt x="274" y="280"/>
                </a:lnTo>
                <a:lnTo>
                  <a:pt x="253" y="286"/>
                </a:lnTo>
                <a:lnTo>
                  <a:pt x="234" y="292"/>
                </a:lnTo>
                <a:lnTo>
                  <a:pt x="215" y="296"/>
                </a:lnTo>
                <a:lnTo>
                  <a:pt x="199" y="302"/>
                </a:lnTo>
                <a:lnTo>
                  <a:pt x="184" y="305"/>
                </a:lnTo>
                <a:lnTo>
                  <a:pt x="171" y="309"/>
                </a:lnTo>
                <a:lnTo>
                  <a:pt x="157" y="311"/>
                </a:lnTo>
                <a:lnTo>
                  <a:pt x="146" y="315"/>
                </a:lnTo>
                <a:lnTo>
                  <a:pt x="136" y="317"/>
                </a:lnTo>
                <a:lnTo>
                  <a:pt x="126" y="319"/>
                </a:lnTo>
                <a:lnTo>
                  <a:pt x="119" y="321"/>
                </a:lnTo>
                <a:lnTo>
                  <a:pt x="113" y="321"/>
                </a:lnTo>
                <a:lnTo>
                  <a:pt x="107" y="321"/>
                </a:lnTo>
                <a:lnTo>
                  <a:pt x="103" y="323"/>
                </a:lnTo>
                <a:lnTo>
                  <a:pt x="102" y="323"/>
                </a:lnTo>
                <a:lnTo>
                  <a:pt x="96" y="321"/>
                </a:lnTo>
                <a:lnTo>
                  <a:pt x="90" y="321"/>
                </a:lnTo>
                <a:lnTo>
                  <a:pt x="82" y="317"/>
                </a:lnTo>
                <a:lnTo>
                  <a:pt x="73" y="313"/>
                </a:lnTo>
                <a:lnTo>
                  <a:pt x="63" y="307"/>
                </a:lnTo>
                <a:lnTo>
                  <a:pt x="52" y="302"/>
                </a:lnTo>
                <a:lnTo>
                  <a:pt x="40" y="294"/>
                </a:lnTo>
                <a:lnTo>
                  <a:pt x="27" y="284"/>
                </a:lnTo>
                <a:lnTo>
                  <a:pt x="21" y="282"/>
                </a:lnTo>
                <a:lnTo>
                  <a:pt x="15" y="280"/>
                </a:lnTo>
                <a:lnTo>
                  <a:pt x="11" y="279"/>
                </a:lnTo>
                <a:lnTo>
                  <a:pt x="7" y="277"/>
                </a:lnTo>
                <a:lnTo>
                  <a:pt x="4" y="273"/>
                </a:lnTo>
                <a:lnTo>
                  <a:pt x="2" y="271"/>
                </a:lnTo>
                <a:lnTo>
                  <a:pt x="0" y="269"/>
                </a:lnTo>
                <a:lnTo>
                  <a:pt x="0" y="267"/>
                </a:lnTo>
                <a:lnTo>
                  <a:pt x="0" y="263"/>
                </a:lnTo>
                <a:lnTo>
                  <a:pt x="2" y="261"/>
                </a:lnTo>
                <a:lnTo>
                  <a:pt x="4" y="259"/>
                </a:lnTo>
                <a:lnTo>
                  <a:pt x="7" y="257"/>
                </a:lnTo>
                <a:lnTo>
                  <a:pt x="11" y="256"/>
                </a:lnTo>
                <a:lnTo>
                  <a:pt x="15" y="252"/>
                </a:lnTo>
                <a:lnTo>
                  <a:pt x="21" y="250"/>
                </a:lnTo>
                <a:lnTo>
                  <a:pt x="27" y="248"/>
                </a:lnTo>
                <a:lnTo>
                  <a:pt x="30" y="246"/>
                </a:lnTo>
                <a:lnTo>
                  <a:pt x="34" y="246"/>
                </a:lnTo>
                <a:lnTo>
                  <a:pt x="40" y="244"/>
                </a:lnTo>
                <a:lnTo>
                  <a:pt x="46" y="242"/>
                </a:lnTo>
                <a:lnTo>
                  <a:pt x="52" y="240"/>
                </a:lnTo>
                <a:lnTo>
                  <a:pt x="57" y="238"/>
                </a:lnTo>
                <a:lnTo>
                  <a:pt x="63" y="236"/>
                </a:lnTo>
                <a:lnTo>
                  <a:pt x="71" y="234"/>
                </a:lnTo>
                <a:lnTo>
                  <a:pt x="78" y="231"/>
                </a:lnTo>
                <a:lnTo>
                  <a:pt x="86" y="229"/>
                </a:lnTo>
                <a:lnTo>
                  <a:pt x="96" y="225"/>
                </a:lnTo>
                <a:lnTo>
                  <a:pt x="105" y="223"/>
                </a:lnTo>
                <a:lnTo>
                  <a:pt x="115" y="219"/>
                </a:lnTo>
                <a:lnTo>
                  <a:pt x="125" y="215"/>
                </a:lnTo>
                <a:lnTo>
                  <a:pt x="136" y="211"/>
                </a:lnTo>
                <a:lnTo>
                  <a:pt x="146" y="208"/>
                </a:lnTo>
                <a:lnTo>
                  <a:pt x="159" y="204"/>
                </a:lnTo>
                <a:lnTo>
                  <a:pt x="171" y="200"/>
                </a:lnTo>
                <a:lnTo>
                  <a:pt x="182" y="194"/>
                </a:lnTo>
                <a:lnTo>
                  <a:pt x="196" y="190"/>
                </a:lnTo>
                <a:lnTo>
                  <a:pt x="209" y="185"/>
                </a:lnTo>
                <a:lnTo>
                  <a:pt x="224" y="179"/>
                </a:lnTo>
                <a:lnTo>
                  <a:pt x="240" y="175"/>
                </a:lnTo>
                <a:lnTo>
                  <a:pt x="253" y="167"/>
                </a:lnTo>
                <a:lnTo>
                  <a:pt x="270" y="162"/>
                </a:lnTo>
                <a:lnTo>
                  <a:pt x="286" y="156"/>
                </a:lnTo>
                <a:lnTo>
                  <a:pt x="303" y="150"/>
                </a:lnTo>
                <a:lnTo>
                  <a:pt x="320" y="142"/>
                </a:lnTo>
                <a:lnTo>
                  <a:pt x="338" y="135"/>
                </a:lnTo>
                <a:lnTo>
                  <a:pt x="355" y="127"/>
                </a:lnTo>
                <a:lnTo>
                  <a:pt x="374" y="119"/>
                </a:lnTo>
                <a:lnTo>
                  <a:pt x="393" y="112"/>
                </a:lnTo>
                <a:lnTo>
                  <a:pt x="413" y="104"/>
                </a:lnTo>
                <a:lnTo>
                  <a:pt x="432" y="98"/>
                </a:lnTo>
                <a:lnTo>
                  <a:pt x="449" y="91"/>
                </a:lnTo>
                <a:lnTo>
                  <a:pt x="466" y="85"/>
                </a:lnTo>
                <a:lnTo>
                  <a:pt x="482" y="79"/>
                </a:lnTo>
                <a:lnTo>
                  <a:pt x="499" y="73"/>
                </a:lnTo>
                <a:lnTo>
                  <a:pt x="514" y="68"/>
                </a:lnTo>
                <a:lnTo>
                  <a:pt x="528" y="62"/>
                </a:lnTo>
                <a:lnTo>
                  <a:pt x="543" y="58"/>
                </a:lnTo>
                <a:lnTo>
                  <a:pt x="557" y="52"/>
                </a:lnTo>
                <a:lnTo>
                  <a:pt x="570" y="48"/>
                </a:lnTo>
                <a:lnTo>
                  <a:pt x="581" y="43"/>
                </a:lnTo>
                <a:lnTo>
                  <a:pt x="593" y="39"/>
                </a:lnTo>
                <a:lnTo>
                  <a:pt x="604" y="35"/>
                </a:lnTo>
                <a:lnTo>
                  <a:pt x="614" y="31"/>
                </a:lnTo>
                <a:lnTo>
                  <a:pt x="626" y="27"/>
                </a:lnTo>
                <a:lnTo>
                  <a:pt x="635" y="23"/>
                </a:lnTo>
                <a:lnTo>
                  <a:pt x="643" y="21"/>
                </a:lnTo>
                <a:lnTo>
                  <a:pt x="652" y="18"/>
                </a:lnTo>
                <a:lnTo>
                  <a:pt x="660" y="16"/>
                </a:lnTo>
                <a:lnTo>
                  <a:pt x="666" y="14"/>
                </a:lnTo>
                <a:lnTo>
                  <a:pt x="674" y="10"/>
                </a:lnTo>
                <a:lnTo>
                  <a:pt x="679" y="8"/>
                </a:lnTo>
                <a:lnTo>
                  <a:pt x="685" y="6"/>
                </a:lnTo>
                <a:lnTo>
                  <a:pt x="691" y="6"/>
                </a:lnTo>
                <a:lnTo>
                  <a:pt x="695" y="4"/>
                </a:lnTo>
                <a:lnTo>
                  <a:pt x="699" y="2"/>
                </a:lnTo>
                <a:lnTo>
                  <a:pt x="702" y="2"/>
                </a:lnTo>
                <a:lnTo>
                  <a:pt x="704" y="0"/>
                </a:lnTo>
                <a:lnTo>
                  <a:pt x="708" y="0"/>
                </a:lnTo>
                <a:lnTo>
                  <a:pt x="710" y="0"/>
                </a:lnTo>
                <a:lnTo>
                  <a:pt x="716" y="4"/>
                </a:lnTo>
                <a:lnTo>
                  <a:pt x="720" y="8"/>
                </a:lnTo>
                <a:lnTo>
                  <a:pt x="725" y="10"/>
                </a:lnTo>
                <a:lnTo>
                  <a:pt x="731" y="12"/>
                </a:lnTo>
                <a:lnTo>
                  <a:pt x="739" y="16"/>
                </a:lnTo>
                <a:lnTo>
                  <a:pt x="748" y="18"/>
                </a:lnTo>
                <a:lnTo>
                  <a:pt x="754" y="20"/>
                </a:lnTo>
                <a:lnTo>
                  <a:pt x="760" y="21"/>
                </a:lnTo>
                <a:lnTo>
                  <a:pt x="766" y="23"/>
                </a:lnTo>
                <a:lnTo>
                  <a:pt x="772" y="25"/>
                </a:lnTo>
                <a:lnTo>
                  <a:pt x="779" y="27"/>
                </a:lnTo>
                <a:lnTo>
                  <a:pt x="785" y="29"/>
                </a:lnTo>
                <a:lnTo>
                  <a:pt x="789" y="31"/>
                </a:lnTo>
                <a:lnTo>
                  <a:pt x="795" y="35"/>
                </a:lnTo>
                <a:lnTo>
                  <a:pt x="798" y="37"/>
                </a:lnTo>
                <a:lnTo>
                  <a:pt x="802" y="39"/>
                </a:lnTo>
                <a:lnTo>
                  <a:pt x="810" y="43"/>
                </a:lnTo>
                <a:lnTo>
                  <a:pt x="814" y="48"/>
                </a:lnTo>
                <a:lnTo>
                  <a:pt x="818" y="52"/>
                </a:lnTo>
                <a:lnTo>
                  <a:pt x="820" y="58"/>
                </a:lnTo>
                <a:lnTo>
                  <a:pt x="820" y="62"/>
                </a:lnTo>
                <a:lnTo>
                  <a:pt x="820" y="64"/>
                </a:lnTo>
                <a:lnTo>
                  <a:pt x="818" y="68"/>
                </a:lnTo>
                <a:lnTo>
                  <a:pt x="814" y="71"/>
                </a:lnTo>
                <a:lnTo>
                  <a:pt x="808" y="75"/>
                </a:lnTo>
                <a:lnTo>
                  <a:pt x="802" y="81"/>
                </a:lnTo>
                <a:lnTo>
                  <a:pt x="795" y="85"/>
                </a:lnTo>
                <a:lnTo>
                  <a:pt x="785" y="91"/>
                </a:lnTo>
                <a:lnTo>
                  <a:pt x="773" y="98"/>
                </a:lnTo>
                <a:lnTo>
                  <a:pt x="762" y="104"/>
                </a:lnTo>
                <a:lnTo>
                  <a:pt x="748" y="112"/>
                </a:lnTo>
                <a:lnTo>
                  <a:pt x="733" y="117"/>
                </a:lnTo>
                <a:lnTo>
                  <a:pt x="718" y="127"/>
                </a:lnTo>
                <a:lnTo>
                  <a:pt x="699" y="135"/>
                </a:lnTo>
                <a:lnTo>
                  <a:pt x="679" y="142"/>
                </a:lnTo>
                <a:lnTo>
                  <a:pt x="660" y="152"/>
                </a:lnTo>
                <a:lnTo>
                  <a:pt x="637" y="16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5"/>
          <p:cNvSpPr/>
          <p:nvPr/>
        </p:nvSpPr>
        <p:spPr>
          <a:xfrm>
            <a:off x="6396120" y="3816360"/>
            <a:ext cx="630000" cy="544680"/>
          </a:xfrm>
          <a:custGeom>
            <a:avLst/>
            <a:gdLst/>
            <a:ahLst/>
            <a:rect l="l" t="t" r="r" b="b"/>
            <a:pathLst>
              <a:path w="795" h="685">
                <a:moveTo>
                  <a:pt x="257" y="583"/>
                </a:moveTo>
                <a:lnTo>
                  <a:pt x="229" y="598"/>
                </a:lnTo>
                <a:lnTo>
                  <a:pt x="202" y="612"/>
                </a:lnTo>
                <a:lnTo>
                  <a:pt x="177" y="625"/>
                </a:lnTo>
                <a:lnTo>
                  <a:pt x="154" y="637"/>
                </a:lnTo>
                <a:lnTo>
                  <a:pt x="131" y="646"/>
                </a:lnTo>
                <a:lnTo>
                  <a:pt x="110" y="656"/>
                </a:lnTo>
                <a:lnTo>
                  <a:pt x="92" y="664"/>
                </a:lnTo>
                <a:lnTo>
                  <a:pt x="75" y="669"/>
                </a:lnTo>
                <a:lnTo>
                  <a:pt x="60" y="675"/>
                </a:lnTo>
                <a:lnTo>
                  <a:pt x="46" y="679"/>
                </a:lnTo>
                <a:lnTo>
                  <a:pt x="35" y="681"/>
                </a:lnTo>
                <a:lnTo>
                  <a:pt x="25" y="683"/>
                </a:lnTo>
                <a:lnTo>
                  <a:pt x="16" y="685"/>
                </a:lnTo>
                <a:lnTo>
                  <a:pt x="10" y="685"/>
                </a:lnTo>
                <a:lnTo>
                  <a:pt x="4" y="683"/>
                </a:lnTo>
                <a:lnTo>
                  <a:pt x="2" y="681"/>
                </a:lnTo>
                <a:lnTo>
                  <a:pt x="0" y="679"/>
                </a:lnTo>
                <a:lnTo>
                  <a:pt x="0" y="675"/>
                </a:lnTo>
                <a:lnTo>
                  <a:pt x="2" y="671"/>
                </a:lnTo>
                <a:lnTo>
                  <a:pt x="4" y="667"/>
                </a:lnTo>
                <a:lnTo>
                  <a:pt x="8" y="662"/>
                </a:lnTo>
                <a:lnTo>
                  <a:pt x="14" y="656"/>
                </a:lnTo>
                <a:lnTo>
                  <a:pt x="21" y="648"/>
                </a:lnTo>
                <a:lnTo>
                  <a:pt x="29" y="641"/>
                </a:lnTo>
                <a:lnTo>
                  <a:pt x="39" y="633"/>
                </a:lnTo>
                <a:lnTo>
                  <a:pt x="50" y="623"/>
                </a:lnTo>
                <a:lnTo>
                  <a:pt x="64" y="614"/>
                </a:lnTo>
                <a:lnTo>
                  <a:pt x="77" y="602"/>
                </a:lnTo>
                <a:lnTo>
                  <a:pt x="92" y="589"/>
                </a:lnTo>
                <a:lnTo>
                  <a:pt x="110" y="575"/>
                </a:lnTo>
                <a:lnTo>
                  <a:pt x="129" y="560"/>
                </a:lnTo>
                <a:lnTo>
                  <a:pt x="148" y="545"/>
                </a:lnTo>
                <a:lnTo>
                  <a:pt x="188" y="516"/>
                </a:lnTo>
                <a:lnTo>
                  <a:pt x="231" y="487"/>
                </a:lnTo>
                <a:lnTo>
                  <a:pt x="271" y="454"/>
                </a:lnTo>
                <a:lnTo>
                  <a:pt x="313" y="422"/>
                </a:lnTo>
                <a:lnTo>
                  <a:pt x="334" y="405"/>
                </a:lnTo>
                <a:lnTo>
                  <a:pt x="353" y="387"/>
                </a:lnTo>
                <a:lnTo>
                  <a:pt x="375" y="370"/>
                </a:lnTo>
                <a:lnTo>
                  <a:pt x="396" y="351"/>
                </a:lnTo>
                <a:lnTo>
                  <a:pt x="417" y="334"/>
                </a:lnTo>
                <a:lnTo>
                  <a:pt x="436" y="313"/>
                </a:lnTo>
                <a:lnTo>
                  <a:pt x="457" y="293"/>
                </a:lnTo>
                <a:lnTo>
                  <a:pt x="478" y="272"/>
                </a:lnTo>
                <a:lnTo>
                  <a:pt x="495" y="251"/>
                </a:lnTo>
                <a:lnTo>
                  <a:pt x="511" y="232"/>
                </a:lnTo>
                <a:lnTo>
                  <a:pt x="526" y="215"/>
                </a:lnTo>
                <a:lnTo>
                  <a:pt x="542" y="197"/>
                </a:lnTo>
                <a:lnTo>
                  <a:pt x="555" y="180"/>
                </a:lnTo>
                <a:lnTo>
                  <a:pt x="566" y="167"/>
                </a:lnTo>
                <a:lnTo>
                  <a:pt x="576" y="151"/>
                </a:lnTo>
                <a:lnTo>
                  <a:pt x="588" y="138"/>
                </a:lnTo>
                <a:lnTo>
                  <a:pt x="595" y="126"/>
                </a:lnTo>
                <a:lnTo>
                  <a:pt x="603" y="115"/>
                </a:lnTo>
                <a:lnTo>
                  <a:pt x="609" y="105"/>
                </a:lnTo>
                <a:lnTo>
                  <a:pt x="614" y="94"/>
                </a:lnTo>
                <a:lnTo>
                  <a:pt x="618" y="86"/>
                </a:lnTo>
                <a:lnTo>
                  <a:pt x="622" y="77"/>
                </a:lnTo>
                <a:lnTo>
                  <a:pt x="624" y="69"/>
                </a:lnTo>
                <a:lnTo>
                  <a:pt x="624" y="61"/>
                </a:lnTo>
                <a:lnTo>
                  <a:pt x="624" y="55"/>
                </a:lnTo>
                <a:lnTo>
                  <a:pt x="624" y="50"/>
                </a:lnTo>
                <a:lnTo>
                  <a:pt x="626" y="44"/>
                </a:lnTo>
                <a:lnTo>
                  <a:pt x="626" y="38"/>
                </a:lnTo>
                <a:lnTo>
                  <a:pt x="628" y="29"/>
                </a:lnTo>
                <a:lnTo>
                  <a:pt x="632" y="21"/>
                </a:lnTo>
                <a:lnTo>
                  <a:pt x="636" y="15"/>
                </a:lnTo>
                <a:lnTo>
                  <a:pt x="639" y="9"/>
                </a:lnTo>
                <a:lnTo>
                  <a:pt x="643" y="4"/>
                </a:lnTo>
                <a:lnTo>
                  <a:pt x="649" y="0"/>
                </a:lnTo>
                <a:lnTo>
                  <a:pt x="653" y="0"/>
                </a:lnTo>
                <a:lnTo>
                  <a:pt x="661" y="2"/>
                </a:lnTo>
                <a:lnTo>
                  <a:pt x="668" y="6"/>
                </a:lnTo>
                <a:lnTo>
                  <a:pt x="678" y="9"/>
                </a:lnTo>
                <a:lnTo>
                  <a:pt x="684" y="13"/>
                </a:lnTo>
                <a:lnTo>
                  <a:pt x="689" y="17"/>
                </a:lnTo>
                <a:lnTo>
                  <a:pt x="695" y="21"/>
                </a:lnTo>
                <a:lnTo>
                  <a:pt x="701" y="27"/>
                </a:lnTo>
                <a:lnTo>
                  <a:pt x="709" y="31"/>
                </a:lnTo>
                <a:lnTo>
                  <a:pt x="716" y="36"/>
                </a:lnTo>
                <a:lnTo>
                  <a:pt x="726" y="42"/>
                </a:lnTo>
                <a:lnTo>
                  <a:pt x="734" y="50"/>
                </a:lnTo>
                <a:lnTo>
                  <a:pt x="747" y="63"/>
                </a:lnTo>
                <a:lnTo>
                  <a:pt x="758" y="75"/>
                </a:lnTo>
                <a:lnTo>
                  <a:pt x="768" y="86"/>
                </a:lnTo>
                <a:lnTo>
                  <a:pt x="778" y="96"/>
                </a:lnTo>
                <a:lnTo>
                  <a:pt x="785" y="105"/>
                </a:lnTo>
                <a:lnTo>
                  <a:pt x="787" y="109"/>
                </a:lnTo>
                <a:lnTo>
                  <a:pt x="789" y="113"/>
                </a:lnTo>
                <a:lnTo>
                  <a:pt x="791" y="115"/>
                </a:lnTo>
                <a:lnTo>
                  <a:pt x="793" y="119"/>
                </a:lnTo>
                <a:lnTo>
                  <a:pt x="795" y="121"/>
                </a:lnTo>
                <a:lnTo>
                  <a:pt x="795" y="125"/>
                </a:lnTo>
                <a:lnTo>
                  <a:pt x="793" y="126"/>
                </a:lnTo>
                <a:lnTo>
                  <a:pt x="793" y="130"/>
                </a:lnTo>
                <a:lnTo>
                  <a:pt x="789" y="136"/>
                </a:lnTo>
                <a:lnTo>
                  <a:pt x="785" y="142"/>
                </a:lnTo>
                <a:lnTo>
                  <a:pt x="780" y="149"/>
                </a:lnTo>
                <a:lnTo>
                  <a:pt x="774" y="157"/>
                </a:lnTo>
                <a:lnTo>
                  <a:pt x="768" y="167"/>
                </a:lnTo>
                <a:lnTo>
                  <a:pt x="758" y="178"/>
                </a:lnTo>
                <a:lnTo>
                  <a:pt x="751" y="190"/>
                </a:lnTo>
                <a:lnTo>
                  <a:pt x="739" y="201"/>
                </a:lnTo>
                <a:lnTo>
                  <a:pt x="730" y="215"/>
                </a:lnTo>
                <a:lnTo>
                  <a:pt x="716" y="230"/>
                </a:lnTo>
                <a:lnTo>
                  <a:pt x="705" y="245"/>
                </a:lnTo>
                <a:lnTo>
                  <a:pt x="691" y="261"/>
                </a:lnTo>
                <a:lnTo>
                  <a:pt x="676" y="278"/>
                </a:lnTo>
                <a:lnTo>
                  <a:pt x="661" y="297"/>
                </a:lnTo>
                <a:lnTo>
                  <a:pt x="641" y="318"/>
                </a:lnTo>
                <a:lnTo>
                  <a:pt x="622" y="337"/>
                </a:lnTo>
                <a:lnTo>
                  <a:pt x="601" y="357"/>
                </a:lnTo>
                <a:lnTo>
                  <a:pt x="580" y="376"/>
                </a:lnTo>
                <a:lnTo>
                  <a:pt x="559" y="395"/>
                </a:lnTo>
                <a:lnTo>
                  <a:pt x="536" y="414"/>
                </a:lnTo>
                <a:lnTo>
                  <a:pt x="511" y="431"/>
                </a:lnTo>
                <a:lnTo>
                  <a:pt x="486" y="449"/>
                </a:lnTo>
                <a:lnTo>
                  <a:pt x="461" y="466"/>
                </a:lnTo>
                <a:lnTo>
                  <a:pt x="434" y="483"/>
                </a:lnTo>
                <a:lnTo>
                  <a:pt x="407" y="501"/>
                </a:lnTo>
                <a:lnTo>
                  <a:pt x="378" y="516"/>
                </a:lnTo>
                <a:lnTo>
                  <a:pt x="350" y="533"/>
                </a:lnTo>
                <a:lnTo>
                  <a:pt x="321" y="548"/>
                </a:lnTo>
                <a:lnTo>
                  <a:pt x="290" y="566"/>
                </a:lnTo>
                <a:lnTo>
                  <a:pt x="257" y="5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46"/>
          <p:cNvSpPr/>
          <p:nvPr/>
        </p:nvSpPr>
        <p:spPr>
          <a:xfrm>
            <a:off x="6764400" y="3335400"/>
            <a:ext cx="214200" cy="182520"/>
          </a:xfrm>
          <a:custGeom>
            <a:avLst/>
            <a:gdLst/>
            <a:ahLst/>
            <a:rect l="l" t="t" r="r" b="b"/>
            <a:pathLst>
              <a:path w="269" h="230">
                <a:moveTo>
                  <a:pt x="98" y="11"/>
                </a:moveTo>
                <a:lnTo>
                  <a:pt x="111" y="11"/>
                </a:lnTo>
                <a:lnTo>
                  <a:pt x="125" y="13"/>
                </a:lnTo>
                <a:lnTo>
                  <a:pt x="140" y="15"/>
                </a:lnTo>
                <a:lnTo>
                  <a:pt x="153" y="19"/>
                </a:lnTo>
                <a:lnTo>
                  <a:pt x="167" y="23"/>
                </a:lnTo>
                <a:lnTo>
                  <a:pt x="180" y="27"/>
                </a:lnTo>
                <a:lnTo>
                  <a:pt x="207" y="36"/>
                </a:lnTo>
                <a:lnTo>
                  <a:pt x="215" y="38"/>
                </a:lnTo>
                <a:lnTo>
                  <a:pt x="221" y="42"/>
                </a:lnTo>
                <a:lnTo>
                  <a:pt x="226" y="44"/>
                </a:lnTo>
                <a:lnTo>
                  <a:pt x="230" y="48"/>
                </a:lnTo>
                <a:lnTo>
                  <a:pt x="240" y="55"/>
                </a:lnTo>
                <a:lnTo>
                  <a:pt x="247" y="65"/>
                </a:lnTo>
                <a:lnTo>
                  <a:pt x="253" y="74"/>
                </a:lnTo>
                <a:lnTo>
                  <a:pt x="259" y="84"/>
                </a:lnTo>
                <a:lnTo>
                  <a:pt x="265" y="97"/>
                </a:lnTo>
                <a:lnTo>
                  <a:pt x="269" y="111"/>
                </a:lnTo>
                <a:lnTo>
                  <a:pt x="269" y="138"/>
                </a:lnTo>
                <a:lnTo>
                  <a:pt x="269" y="151"/>
                </a:lnTo>
                <a:lnTo>
                  <a:pt x="267" y="165"/>
                </a:lnTo>
                <a:lnTo>
                  <a:pt x="265" y="176"/>
                </a:lnTo>
                <a:lnTo>
                  <a:pt x="263" y="188"/>
                </a:lnTo>
                <a:lnTo>
                  <a:pt x="261" y="199"/>
                </a:lnTo>
                <a:lnTo>
                  <a:pt x="257" y="209"/>
                </a:lnTo>
                <a:lnTo>
                  <a:pt x="253" y="216"/>
                </a:lnTo>
                <a:lnTo>
                  <a:pt x="251" y="220"/>
                </a:lnTo>
                <a:lnTo>
                  <a:pt x="245" y="226"/>
                </a:lnTo>
                <a:lnTo>
                  <a:pt x="242" y="228"/>
                </a:lnTo>
                <a:lnTo>
                  <a:pt x="234" y="230"/>
                </a:lnTo>
                <a:lnTo>
                  <a:pt x="228" y="230"/>
                </a:lnTo>
                <a:lnTo>
                  <a:pt x="221" y="230"/>
                </a:lnTo>
                <a:lnTo>
                  <a:pt x="213" y="228"/>
                </a:lnTo>
                <a:lnTo>
                  <a:pt x="203" y="226"/>
                </a:lnTo>
                <a:lnTo>
                  <a:pt x="194" y="222"/>
                </a:lnTo>
                <a:lnTo>
                  <a:pt x="182" y="216"/>
                </a:lnTo>
                <a:lnTo>
                  <a:pt x="173" y="209"/>
                </a:lnTo>
                <a:lnTo>
                  <a:pt x="161" y="203"/>
                </a:lnTo>
                <a:lnTo>
                  <a:pt x="148" y="193"/>
                </a:lnTo>
                <a:lnTo>
                  <a:pt x="136" y="184"/>
                </a:lnTo>
                <a:lnTo>
                  <a:pt x="123" y="172"/>
                </a:lnTo>
                <a:lnTo>
                  <a:pt x="107" y="161"/>
                </a:lnTo>
                <a:lnTo>
                  <a:pt x="92" y="149"/>
                </a:lnTo>
                <a:lnTo>
                  <a:pt x="78" y="140"/>
                </a:lnTo>
                <a:lnTo>
                  <a:pt x="67" y="130"/>
                </a:lnTo>
                <a:lnTo>
                  <a:pt x="55" y="120"/>
                </a:lnTo>
                <a:lnTo>
                  <a:pt x="46" y="111"/>
                </a:lnTo>
                <a:lnTo>
                  <a:pt x="38" y="103"/>
                </a:lnTo>
                <a:lnTo>
                  <a:pt x="29" y="94"/>
                </a:lnTo>
                <a:lnTo>
                  <a:pt x="23" y="86"/>
                </a:lnTo>
                <a:lnTo>
                  <a:pt x="17" y="78"/>
                </a:lnTo>
                <a:lnTo>
                  <a:pt x="11" y="71"/>
                </a:lnTo>
                <a:lnTo>
                  <a:pt x="7" y="65"/>
                </a:lnTo>
                <a:lnTo>
                  <a:pt x="4" y="57"/>
                </a:lnTo>
                <a:lnTo>
                  <a:pt x="2" y="50"/>
                </a:lnTo>
                <a:lnTo>
                  <a:pt x="0" y="44"/>
                </a:lnTo>
                <a:lnTo>
                  <a:pt x="0" y="36"/>
                </a:lnTo>
                <a:lnTo>
                  <a:pt x="2" y="27"/>
                </a:lnTo>
                <a:lnTo>
                  <a:pt x="2" y="19"/>
                </a:lnTo>
                <a:lnTo>
                  <a:pt x="6" y="13"/>
                </a:lnTo>
                <a:lnTo>
                  <a:pt x="7" y="7"/>
                </a:lnTo>
                <a:lnTo>
                  <a:pt x="11" y="3"/>
                </a:lnTo>
                <a:lnTo>
                  <a:pt x="15" y="2"/>
                </a:lnTo>
                <a:lnTo>
                  <a:pt x="21" y="0"/>
                </a:lnTo>
                <a:lnTo>
                  <a:pt x="25" y="0"/>
                </a:lnTo>
                <a:lnTo>
                  <a:pt x="30" y="0"/>
                </a:lnTo>
                <a:lnTo>
                  <a:pt x="36" y="0"/>
                </a:lnTo>
                <a:lnTo>
                  <a:pt x="44" y="0"/>
                </a:lnTo>
                <a:lnTo>
                  <a:pt x="52" y="0"/>
                </a:lnTo>
                <a:lnTo>
                  <a:pt x="61" y="2"/>
                </a:lnTo>
                <a:lnTo>
                  <a:pt x="73" y="3"/>
                </a:lnTo>
                <a:lnTo>
                  <a:pt x="84" y="7"/>
                </a:lnTo>
                <a:lnTo>
                  <a:pt x="98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亥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1" name="组合 8"/>
          <p:cNvGrpSpPr/>
          <p:nvPr/>
        </p:nvGrpSpPr>
        <p:grpSpPr>
          <a:xfrm>
            <a:off x="1243080" y="3975120"/>
            <a:ext cx="2840040" cy="1572480"/>
            <a:chOff x="1243080" y="3975120"/>
            <a:chExt cx="2840040" cy="1572480"/>
          </a:xfrm>
        </p:grpSpPr>
        <p:pic>
          <p:nvPicPr>
            <p:cNvPr id="102" name="图示 4" descr=""/>
            <p:cNvPicPr/>
            <p:nvPr/>
          </p:nvPicPr>
          <p:blipFill>
            <a:blip r:embed="rId1"/>
            <a:stretch/>
          </p:blipFill>
          <p:spPr>
            <a:xfrm>
              <a:off x="124308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矩形 2"/>
            <p:cNvSpPr/>
            <p:nvPr/>
          </p:nvSpPr>
          <p:spPr>
            <a:xfrm>
              <a:off x="128916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横要长且平，第一个撇要比第二个撇长，末点有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矩形 3"/>
          <p:cNvSpPr/>
          <p:nvPr/>
        </p:nvSpPr>
        <p:spPr>
          <a:xfrm>
            <a:off x="2203560" y="1868400"/>
            <a:ext cx="120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à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57"/>
          <p:cNvSpPr/>
          <p:nvPr/>
        </p:nvSpPr>
        <p:spPr>
          <a:xfrm>
            <a:off x="6392880" y="2871720"/>
            <a:ext cx="358920" cy="284400"/>
          </a:xfrm>
          <a:custGeom>
            <a:avLst/>
            <a:gdLst/>
            <a:ahLst/>
            <a:rect l="l" t="t" r="r" b="b"/>
            <a:pathLst>
              <a:path w="451" h="359">
                <a:moveTo>
                  <a:pt x="389" y="111"/>
                </a:moveTo>
                <a:lnTo>
                  <a:pt x="403" y="125"/>
                </a:lnTo>
                <a:lnTo>
                  <a:pt x="414" y="140"/>
                </a:lnTo>
                <a:lnTo>
                  <a:pt x="426" y="153"/>
                </a:lnTo>
                <a:lnTo>
                  <a:pt x="434" y="169"/>
                </a:lnTo>
                <a:lnTo>
                  <a:pt x="441" y="186"/>
                </a:lnTo>
                <a:lnTo>
                  <a:pt x="443" y="196"/>
                </a:lnTo>
                <a:lnTo>
                  <a:pt x="447" y="205"/>
                </a:lnTo>
                <a:lnTo>
                  <a:pt x="449" y="215"/>
                </a:lnTo>
                <a:lnTo>
                  <a:pt x="449" y="224"/>
                </a:lnTo>
                <a:lnTo>
                  <a:pt x="451" y="236"/>
                </a:lnTo>
                <a:lnTo>
                  <a:pt x="451" y="247"/>
                </a:lnTo>
                <a:lnTo>
                  <a:pt x="451" y="259"/>
                </a:lnTo>
                <a:lnTo>
                  <a:pt x="451" y="269"/>
                </a:lnTo>
                <a:lnTo>
                  <a:pt x="451" y="278"/>
                </a:lnTo>
                <a:lnTo>
                  <a:pt x="451" y="288"/>
                </a:lnTo>
                <a:lnTo>
                  <a:pt x="451" y="295"/>
                </a:lnTo>
                <a:lnTo>
                  <a:pt x="451" y="303"/>
                </a:lnTo>
                <a:lnTo>
                  <a:pt x="449" y="309"/>
                </a:lnTo>
                <a:lnTo>
                  <a:pt x="449" y="315"/>
                </a:lnTo>
                <a:lnTo>
                  <a:pt x="449" y="320"/>
                </a:lnTo>
                <a:lnTo>
                  <a:pt x="447" y="326"/>
                </a:lnTo>
                <a:lnTo>
                  <a:pt x="447" y="330"/>
                </a:lnTo>
                <a:lnTo>
                  <a:pt x="445" y="334"/>
                </a:lnTo>
                <a:lnTo>
                  <a:pt x="443" y="341"/>
                </a:lnTo>
                <a:lnTo>
                  <a:pt x="439" y="347"/>
                </a:lnTo>
                <a:lnTo>
                  <a:pt x="434" y="351"/>
                </a:lnTo>
                <a:lnTo>
                  <a:pt x="430" y="353"/>
                </a:lnTo>
                <a:lnTo>
                  <a:pt x="424" y="355"/>
                </a:lnTo>
                <a:lnTo>
                  <a:pt x="418" y="357"/>
                </a:lnTo>
                <a:lnTo>
                  <a:pt x="410" y="359"/>
                </a:lnTo>
                <a:lnTo>
                  <a:pt x="401" y="359"/>
                </a:lnTo>
                <a:lnTo>
                  <a:pt x="395" y="359"/>
                </a:lnTo>
                <a:lnTo>
                  <a:pt x="389" y="359"/>
                </a:lnTo>
                <a:lnTo>
                  <a:pt x="384" y="359"/>
                </a:lnTo>
                <a:lnTo>
                  <a:pt x="378" y="359"/>
                </a:lnTo>
                <a:lnTo>
                  <a:pt x="370" y="359"/>
                </a:lnTo>
                <a:lnTo>
                  <a:pt x="362" y="357"/>
                </a:lnTo>
                <a:lnTo>
                  <a:pt x="355" y="353"/>
                </a:lnTo>
                <a:lnTo>
                  <a:pt x="345" y="349"/>
                </a:lnTo>
                <a:lnTo>
                  <a:pt x="336" y="345"/>
                </a:lnTo>
                <a:lnTo>
                  <a:pt x="324" y="338"/>
                </a:lnTo>
                <a:lnTo>
                  <a:pt x="313" y="330"/>
                </a:lnTo>
                <a:lnTo>
                  <a:pt x="301" y="322"/>
                </a:lnTo>
                <a:lnTo>
                  <a:pt x="288" y="313"/>
                </a:lnTo>
                <a:lnTo>
                  <a:pt x="274" y="301"/>
                </a:lnTo>
                <a:lnTo>
                  <a:pt x="259" y="290"/>
                </a:lnTo>
                <a:lnTo>
                  <a:pt x="243" y="276"/>
                </a:lnTo>
                <a:lnTo>
                  <a:pt x="226" y="261"/>
                </a:lnTo>
                <a:lnTo>
                  <a:pt x="209" y="246"/>
                </a:lnTo>
                <a:lnTo>
                  <a:pt x="190" y="228"/>
                </a:lnTo>
                <a:lnTo>
                  <a:pt x="171" y="211"/>
                </a:lnTo>
                <a:lnTo>
                  <a:pt x="149" y="192"/>
                </a:lnTo>
                <a:lnTo>
                  <a:pt x="132" y="175"/>
                </a:lnTo>
                <a:lnTo>
                  <a:pt x="115" y="157"/>
                </a:lnTo>
                <a:lnTo>
                  <a:pt x="98" y="142"/>
                </a:lnTo>
                <a:lnTo>
                  <a:pt x="82" y="127"/>
                </a:lnTo>
                <a:lnTo>
                  <a:pt x="69" y="113"/>
                </a:lnTo>
                <a:lnTo>
                  <a:pt x="55" y="100"/>
                </a:lnTo>
                <a:lnTo>
                  <a:pt x="44" y="88"/>
                </a:lnTo>
                <a:lnTo>
                  <a:pt x="34" y="77"/>
                </a:lnTo>
                <a:lnTo>
                  <a:pt x="25" y="67"/>
                </a:lnTo>
                <a:lnTo>
                  <a:pt x="17" y="58"/>
                </a:lnTo>
                <a:lnTo>
                  <a:pt x="11" y="50"/>
                </a:lnTo>
                <a:lnTo>
                  <a:pt x="5" y="42"/>
                </a:lnTo>
                <a:lnTo>
                  <a:pt x="3" y="34"/>
                </a:lnTo>
                <a:lnTo>
                  <a:pt x="0" y="29"/>
                </a:lnTo>
                <a:lnTo>
                  <a:pt x="0" y="25"/>
                </a:lnTo>
                <a:lnTo>
                  <a:pt x="0" y="21"/>
                </a:lnTo>
                <a:lnTo>
                  <a:pt x="2" y="19"/>
                </a:lnTo>
                <a:lnTo>
                  <a:pt x="2" y="17"/>
                </a:lnTo>
                <a:lnTo>
                  <a:pt x="3" y="15"/>
                </a:lnTo>
                <a:lnTo>
                  <a:pt x="7" y="13"/>
                </a:lnTo>
                <a:lnTo>
                  <a:pt x="11" y="11"/>
                </a:lnTo>
                <a:lnTo>
                  <a:pt x="15" y="10"/>
                </a:lnTo>
                <a:lnTo>
                  <a:pt x="19" y="8"/>
                </a:lnTo>
                <a:lnTo>
                  <a:pt x="25" y="6"/>
                </a:lnTo>
                <a:lnTo>
                  <a:pt x="30" y="4"/>
                </a:lnTo>
                <a:lnTo>
                  <a:pt x="38" y="2"/>
                </a:lnTo>
                <a:lnTo>
                  <a:pt x="46" y="2"/>
                </a:lnTo>
                <a:lnTo>
                  <a:pt x="55" y="0"/>
                </a:lnTo>
                <a:lnTo>
                  <a:pt x="63" y="0"/>
                </a:lnTo>
                <a:lnTo>
                  <a:pt x="75" y="0"/>
                </a:lnTo>
                <a:lnTo>
                  <a:pt x="86" y="0"/>
                </a:lnTo>
                <a:lnTo>
                  <a:pt x="103" y="0"/>
                </a:lnTo>
                <a:lnTo>
                  <a:pt x="124" y="2"/>
                </a:lnTo>
                <a:lnTo>
                  <a:pt x="144" y="4"/>
                </a:lnTo>
                <a:lnTo>
                  <a:pt x="165" y="8"/>
                </a:lnTo>
                <a:lnTo>
                  <a:pt x="188" y="11"/>
                </a:lnTo>
                <a:lnTo>
                  <a:pt x="211" y="15"/>
                </a:lnTo>
                <a:lnTo>
                  <a:pt x="255" y="25"/>
                </a:lnTo>
                <a:lnTo>
                  <a:pt x="267" y="27"/>
                </a:lnTo>
                <a:lnTo>
                  <a:pt x="278" y="31"/>
                </a:lnTo>
                <a:lnTo>
                  <a:pt x="288" y="34"/>
                </a:lnTo>
                <a:lnTo>
                  <a:pt x="297" y="38"/>
                </a:lnTo>
                <a:lnTo>
                  <a:pt x="315" y="48"/>
                </a:lnTo>
                <a:lnTo>
                  <a:pt x="332" y="58"/>
                </a:lnTo>
                <a:lnTo>
                  <a:pt x="347" y="71"/>
                </a:lnTo>
                <a:lnTo>
                  <a:pt x="362" y="82"/>
                </a:lnTo>
                <a:lnTo>
                  <a:pt x="376" y="98"/>
                </a:lnTo>
                <a:lnTo>
                  <a:pt x="389" y="1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58"/>
          <p:cNvSpPr/>
          <p:nvPr/>
        </p:nvSpPr>
        <p:spPr>
          <a:xfrm>
            <a:off x="6021360" y="3392640"/>
            <a:ext cx="633600" cy="757080"/>
          </a:xfrm>
          <a:custGeom>
            <a:avLst/>
            <a:gdLst/>
            <a:ahLst/>
            <a:rect l="l" t="t" r="r" b="b"/>
            <a:pathLst>
              <a:path w="799" h="953">
                <a:moveTo>
                  <a:pt x="273" y="545"/>
                </a:moveTo>
                <a:lnTo>
                  <a:pt x="281" y="535"/>
                </a:lnTo>
                <a:lnTo>
                  <a:pt x="290" y="526"/>
                </a:lnTo>
                <a:lnTo>
                  <a:pt x="298" y="514"/>
                </a:lnTo>
                <a:lnTo>
                  <a:pt x="307" y="503"/>
                </a:lnTo>
                <a:lnTo>
                  <a:pt x="315" y="491"/>
                </a:lnTo>
                <a:lnTo>
                  <a:pt x="325" y="480"/>
                </a:lnTo>
                <a:lnTo>
                  <a:pt x="334" y="468"/>
                </a:lnTo>
                <a:lnTo>
                  <a:pt x="344" y="455"/>
                </a:lnTo>
                <a:lnTo>
                  <a:pt x="353" y="441"/>
                </a:lnTo>
                <a:lnTo>
                  <a:pt x="363" y="428"/>
                </a:lnTo>
                <a:lnTo>
                  <a:pt x="375" y="412"/>
                </a:lnTo>
                <a:lnTo>
                  <a:pt x="384" y="397"/>
                </a:lnTo>
                <a:lnTo>
                  <a:pt x="407" y="366"/>
                </a:lnTo>
                <a:lnTo>
                  <a:pt x="428" y="334"/>
                </a:lnTo>
                <a:lnTo>
                  <a:pt x="453" y="297"/>
                </a:lnTo>
                <a:lnTo>
                  <a:pt x="476" y="261"/>
                </a:lnTo>
                <a:lnTo>
                  <a:pt x="501" y="223"/>
                </a:lnTo>
                <a:lnTo>
                  <a:pt x="528" y="182"/>
                </a:lnTo>
                <a:lnTo>
                  <a:pt x="555" y="138"/>
                </a:lnTo>
                <a:lnTo>
                  <a:pt x="582" y="94"/>
                </a:lnTo>
                <a:lnTo>
                  <a:pt x="611" y="48"/>
                </a:lnTo>
                <a:lnTo>
                  <a:pt x="640" y="0"/>
                </a:lnTo>
                <a:lnTo>
                  <a:pt x="653" y="10"/>
                </a:lnTo>
                <a:lnTo>
                  <a:pt x="666" y="21"/>
                </a:lnTo>
                <a:lnTo>
                  <a:pt x="680" y="33"/>
                </a:lnTo>
                <a:lnTo>
                  <a:pt x="693" y="44"/>
                </a:lnTo>
                <a:lnTo>
                  <a:pt x="705" y="58"/>
                </a:lnTo>
                <a:lnTo>
                  <a:pt x="716" y="71"/>
                </a:lnTo>
                <a:lnTo>
                  <a:pt x="728" y="84"/>
                </a:lnTo>
                <a:lnTo>
                  <a:pt x="737" y="100"/>
                </a:lnTo>
                <a:lnTo>
                  <a:pt x="745" y="117"/>
                </a:lnTo>
                <a:lnTo>
                  <a:pt x="753" y="134"/>
                </a:lnTo>
                <a:lnTo>
                  <a:pt x="759" y="150"/>
                </a:lnTo>
                <a:lnTo>
                  <a:pt x="764" y="165"/>
                </a:lnTo>
                <a:lnTo>
                  <a:pt x="768" y="177"/>
                </a:lnTo>
                <a:lnTo>
                  <a:pt x="772" y="190"/>
                </a:lnTo>
                <a:lnTo>
                  <a:pt x="772" y="201"/>
                </a:lnTo>
                <a:lnTo>
                  <a:pt x="774" y="211"/>
                </a:lnTo>
                <a:lnTo>
                  <a:pt x="770" y="217"/>
                </a:lnTo>
                <a:lnTo>
                  <a:pt x="766" y="223"/>
                </a:lnTo>
                <a:lnTo>
                  <a:pt x="759" y="230"/>
                </a:lnTo>
                <a:lnTo>
                  <a:pt x="751" y="240"/>
                </a:lnTo>
                <a:lnTo>
                  <a:pt x="739" y="251"/>
                </a:lnTo>
                <a:lnTo>
                  <a:pt x="728" y="265"/>
                </a:lnTo>
                <a:lnTo>
                  <a:pt x="714" y="278"/>
                </a:lnTo>
                <a:lnTo>
                  <a:pt x="699" y="295"/>
                </a:lnTo>
                <a:lnTo>
                  <a:pt x="680" y="313"/>
                </a:lnTo>
                <a:lnTo>
                  <a:pt x="661" y="332"/>
                </a:lnTo>
                <a:lnTo>
                  <a:pt x="640" y="353"/>
                </a:lnTo>
                <a:lnTo>
                  <a:pt x="616" y="376"/>
                </a:lnTo>
                <a:lnTo>
                  <a:pt x="592" y="399"/>
                </a:lnTo>
                <a:lnTo>
                  <a:pt x="565" y="426"/>
                </a:lnTo>
                <a:lnTo>
                  <a:pt x="536" y="453"/>
                </a:lnTo>
                <a:lnTo>
                  <a:pt x="505" y="483"/>
                </a:lnTo>
                <a:lnTo>
                  <a:pt x="490" y="499"/>
                </a:lnTo>
                <a:lnTo>
                  <a:pt x="474" y="512"/>
                </a:lnTo>
                <a:lnTo>
                  <a:pt x="459" y="528"/>
                </a:lnTo>
                <a:lnTo>
                  <a:pt x="446" y="541"/>
                </a:lnTo>
                <a:lnTo>
                  <a:pt x="432" y="554"/>
                </a:lnTo>
                <a:lnTo>
                  <a:pt x="419" y="566"/>
                </a:lnTo>
                <a:lnTo>
                  <a:pt x="405" y="579"/>
                </a:lnTo>
                <a:lnTo>
                  <a:pt x="394" y="591"/>
                </a:lnTo>
                <a:lnTo>
                  <a:pt x="382" y="602"/>
                </a:lnTo>
                <a:lnTo>
                  <a:pt x="371" y="614"/>
                </a:lnTo>
                <a:lnTo>
                  <a:pt x="361" y="623"/>
                </a:lnTo>
                <a:lnTo>
                  <a:pt x="350" y="633"/>
                </a:lnTo>
                <a:lnTo>
                  <a:pt x="340" y="643"/>
                </a:lnTo>
                <a:lnTo>
                  <a:pt x="332" y="652"/>
                </a:lnTo>
                <a:lnTo>
                  <a:pt x="323" y="662"/>
                </a:lnTo>
                <a:lnTo>
                  <a:pt x="315" y="670"/>
                </a:lnTo>
                <a:lnTo>
                  <a:pt x="307" y="677"/>
                </a:lnTo>
                <a:lnTo>
                  <a:pt x="300" y="685"/>
                </a:lnTo>
                <a:lnTo>
                  <a:pt x="294" y="693"/>
                </a:lnTo>
                <a:lnTo>
                  <a:pt x="288" y="698"/>
                </a:lnTo>
                <a:lnTo>
                  <a:pt x="282" y="704"/>
                </a:lnTo>
                <a:lnTo>
                  <a:pt x="279" y="710"/>
                </a:lnTo>
                <a:lnTo>
                  <a:pt x="275" y="716"/>
                </a:lnTo>
                <a:lnTo>
                  <a:pt x="271" y="719"/>
                </a:lnTo>
                <a:lnTo>
                  <a:pt x="267" y="725"/>
                </a:lnTo>
                <a:lnTo>
                  <a:pt x="265" y="729"/>
                </a:lnTo>
                <a:lnTo>
                  <a:pt x="263" y="733"/>
                </a:lnTo>
                <a:lnTo>
                  <a:pt x="261" y="735"/>
                </a:lnTo>
                <a:lnTo>
                  <a:pt x="259" y="739"/>
                </a:lnTo>
                <a:lnTo>
                  <a:pt x="259" y="741"/>
                </a:lnTo>
                <a:lnTo>
                  <a:pt x="259" y="742"/>
                </a:lnTo>
                <a:lnTo>
                  <a:pt x="261" y="744"/>
                </a:lnTo>
                <a:lnTo>
                  <a:pt x="263" y="744"/>
                </a:lnTo>
                <a:lnTo>
                  <a:pt x="265" y="746"/>
                </a:lnTo>
                <a:lnTo>
                  <a:pt x="269" y="746"/>
                </a:lnTo>
                <a:lnTo>
                  <a:pt x="273" y="746"/>
                </a:lnTo>
                <a:lnTo>
                  <a:pt x="279" y="748"/>
                </a:lnTo>
                <a:lnTo>
                  <a:pt x="284" y="748"/>
                </a:lnTo>
                <a:lnTo>
                  <a:pt x="292" y="748"/>
                </a:lnTo>
                <a:lnTo>
                  <a:pt x="300" y="748"/>
                </a:lnTo>
                <a:lnTo>
                  <a:pt x="309" y="748"/>
                </a:lnTo>
                <a:lnTo>
                  <a:pt x="319" y="748"/>
                </a:lnTo>
                <a:lnTo>
                  <a:pt x="330" y="748"/>
                </a:lnTo>
                <a:lnTo>
                  <a:pt x="342" y="748"/>
                </a:lnTo>
                <a:lnTo>
                  <a:pt x="355" y="748"/>
                </a:lnTo>
                <a:lnTo>
                  <a:pt x="371" y="746"/>
                </a:lnTo>
                <a:lnTo>
                  <a:pt x="386" y="746"/>
                </a:lnTo>
                <a:lnTo>
                  <a:pt x="401" y="744"/>
                </a:lnTo>
                <a:lnTo>
                  <a:pt x="419" y="744"/>
                </a:lnTo>
                <a:lnTo>
                  <a:pt x="436" y="742"/>
                </a:lnTo>
                <a:lnTo>
                  <a:pt x="455" y="742"/>
                </a:lnTo>
                <a:lnTo>
                  <a:pt x="476" y="741"/>
                </a:lnTo>
                <a:lnTo>
                  <a:pt x="497" y="739"/>
                </a:lnTo>
                <a:lnTo>
                  <a:pt x="519" y="739"/>
                </a:lnTo>
                <a:lnTo>
                  <a:pt x="542" y="737"/>
                </a:lnTo>
                <a:lnTo>
                  <a:pt x="567" y="735"/>
                </a:lnTo>
                <a:lnTo>
                  <a:pt x="592" y="733"/>
                </a:lnTo>
                <a:lnTo>
                  <a:pt x="618" y="731"/>
                </a:lnTo>
                <a:lnTo>
                  <a:pt x="645" y="729"/>
                </a:lnTo>
                <a:lnTo>
                  <a:pt x="674" y="727"/>
                </a:lnTo>
                <a:lnTo>
                  <a:pt x="703" y="725"/>
                </a:lnTo>
                <a:lnTo>
                  <a:pt x="734" y="723"/>
                </a:lnTo>
                <a:lnTo>
                  <a:pt x="766" y="721"/>
                </a:lnTo>
                <a:lnTo>
                  <a:pt x="799" y="719"/>
                </a:lnTo>
                <a:lnTo>
                  <a:pt x="799" y="756"/>
                </a:lnTo>
                <a:lnTo>
                  <a:pt x="799" y="792"/>
                </a:lnTo>
                <a:lnTo>
                  <a:pt x="772" y="798"/>
                </a:lnTo>
                <a:lnTo>
                  <a:pt x="747" y="802"/>
                </a:lnTo>
                <a:lnTo>
                  <a:pt x="722" y="806"/>
                </a:lnTo>
                <a:lnTo>
                  <a:pt x="697" y="811"/>
                </a:lnTo>
                <a:lnTo>
                  <a:pt x="674" y="815"/>
                </a:lnTo>
                <a:lnTo>
                  <a:pt x="651" y="819"/>
                </a:lnTo>
                <a:lnTo>
                  <a:pt x="630" y="823"/>
                </a:lnTo>
                <a:lnTo>
                  <a:pt x="607" y="829"/>
                </a:lnTo>
                <a:lnTo>
                  <a:pt x="588" y="833"/>
                </a:lnTo>
                <a:lnTo>
                  <a:pt x="567" y="836"/>
                </a:lnTo>
                <a:lnTo>
                  <a:pt x="547" y="840"/>
                </a:lnTo>
                <a:lnTo>
                  <a:pt x="528" y="844"/>
                </a:lnTo>
                <a:lnTo>
                  <a:pt x="509" y="848"/>
                </a:lnTo>
                <a:lnTo>
                  <a:pt x="490" y="850"/>
                </a:lnTo>
                <a:lnTo>
                  <a:pt x="472" y="854"/>
                </a:lnTo>
                <a:lnTo>
                  <a:pt x="457" y="858"/>
                </a:lnTo>
                <a:lnTo>
                  <a:pt x="440" y="861"/>
                </a:lnTo>
                <a:lnTo>
                  <a:pt x="424" y="865"/>
                </a:lnTo>
                <a:lnTo>
                  <a:pt x="409" y="867"/>
                </a:lnTo>
                <a:lnTo>
                  <a:pt x="394" y="871"/>
                </a:lnTo>
                <a:lnTo>
                  <a:pt x="380" y="875"/>
                </a:lnTo>
                <a:lnTo>
                  <a:pt x="367" y="877"/>
                </a:lnTo>
                <a:lnTo>
                  <a:pt x="353" y="881"/>
                </a:lnTo>
                <a:lnTo>
                  <a:pt x="342" y="882"/>
                </a:lnTo>
                <a:lnTo>
                  <a:pt x="330" y="886"/>
                </a:lnTo>
                <a:lnTo>
                  <a:pt x="319" y="888"/>
                </a:lnTo>
                <a:lnTo>
                  <a:pt x="307" y="892"/>
                </a:lnTo>
                <a:lnTo>
                  <a:pt x="298" y="894"/>
                </a:lnTo>
                <a:lnTo>
                  <a:pt x="286" y="896"/>
                </a:lnTo>
                <a:lnTo>
                  <a:pt x="279" y="900"/>
                </a:lnTo>
                <a:lnTo>
                  <a:pt x="269" y="902"/>
                </a:lnTo>
                <a:lnTo>
                  <a:pt x="261" y="904"/>
                </a:lnTo>
                <a:lnTo>
                  <a:pt x="246" y="911"/>
                </a:lnTo>
                <a:lnTo>
                  <a:pt x="231" y="917"/>
                </a:lnTo>
                <a:lnTo>
                  <a:pt x="215" y="923"/>
                </a:lnTo>
                <a:lnTo>
                  <a:pt x="202" y="929"/>
                </a:lnTo>
                <a:lnTo>
                  <a:pt x="188" y="932"/>
                </a:lnTo>
                <a:lnTo>
                  <a:pt x="177" y="936"/>
                </a:lnTo>
                <a:lnTo>
                  <a:pt x="163" y="940"/>
                </a:lnTo>
                <a:lnTo>
                  <a:pt x="152" y="944"/>
                </a:lnTo>
                <a:lnTo>
                  <a:pt x="142" y="946"/>
                </a:lnTo>
                <a:lnTo>
                  <a:pt x="133" y="948"/>
                </a:lnTo>
                <a:lnTo>
                  <a:pt x="123" y="950"/>
                </a:lnTo>
                <a:lnTo>
                  <a:pt x="115" y="952"/>
                </a:lnTo>
                <a:lnTo>
                  <a:pt x="108" y="953"/>
                </a:lnTo>
                <a:lnTo>
                  <a:pt x="102" y="953"/>
                </a:lnTo>
                <a:lnTo>
                  <a:pt x="96" y="953"/>
                </a:lnTo>
                <a:lnTo>
                  <a:pt x="90" y="953"/>
                </a:lnTo>
                <a:lnTo>
                  <a:pt x="87" y="953"/>
                </a:lnTo>
                <a:lnTo>
                  <a:pt x="81" y="953"/>
                </a:lnTo>
                <a:lnTo>
                  <a:pt x="77" y="952"/>
                </a:lnTo>
                <a:lnTo>
                  <a:pt x="73" y="950"/>
                </a:lnTo>
                <a:lnTo>
                  <a:pt x="67" y="946"/>
                </a:lnTo>
                <a:lnTo>
                  <a:pt x="64" y="944"/>
                </a:lnTo>
                <a:lnTo>
                  <a:pt x="60" y="940"/>
                </a:lnTo>
                <a:lnTo>
                  <a:pt x="56" y="936"/>
                </a:lnTo>
                <a:lnTo>
                  <a:pt x="52" y="930"/>
                </a:lnTo>
                <a:lnTo>
                  <a:pt x="48" y="925"/>
                </a:lnTo>
                <a:lnTo>
                  <a:pt x="44" y="919"/>
                </a:lnTo>
                <a:lnTo>
                  <a:pt x="41" y="911"/>
                </a:lnTo>
                <a:lnTo>
                  <a:pt x="37" y="905"/>
                </a:lnTo>
                <a:lnTo>
                  <a:pt x="35" y="898"/>
                </a:lnTo>
                <a:lnTo>
                  <a:pt x="31" y="888"/>
                </a:lnTo>
                <a:lnTo>
                  <a:pt x="29" y="881"/>
                </a:lnTo>
                <a:lnTo>
                  <a:pt x="21" y="861"/>
                </a:lnTo>
                <a:lnTo>
                  <a:pt x="14" y="844"/>
                </a:lnTo>
                <a:lnTo>
                  <a:pt x="8" y="829"/>
                </a:lnTo>
                <a:lnTo>
                  <a:pt x="4" y="815"/>
                </a:lnTo>
                <a:lnTo>
                  <a:pt x="0" y="802"/>
                </a:lnTo>
                <a:lnTo>
                  <a:pt x="0" y="794"/>
                </a:lnTo>
                <a:lnTo>
                  <a:pt x="0" y="788"/>
                </a:lnTo>
                <a:lnTo>
                  <a:pt x="0" y="783"/>
                </a:lnTo>
                <a:lnTo>
                  <a:pt x="2" y="777"/>
                </a:lnTo>
                <a:lnTo>
                  <a:pt x="2" y="773"/>
                </a:lnTo>
                <a:lnTo>
                  <a:pt x="6" y="767"/>
                </a:lnTo>
                <a:lnTo>
                  <a:pt x="6" y="764"/>
                </a:lnTo>
                <a:lnTo>
                  <a:pt x="6" y="758"/>
                </a:lnTo>
                <a:lnTo>
                  <a:pt x="8" y="754"/>
                </a:lnTo>
                <a:lnTo>
                  <a:pt x="10" y="750"/>
                </a:lnTo>
                <a:lnTo>
                  <a:pt x="12" y="744"/>
                </a:lnTo>
                <a:lnTo>
                  <a:pt x="16" y="741"/>
                </a:lnTo>
                <a:lnTo>
                  <a:pt x="19" y="737"/>
                </a:lnTo>
                <a:lnTo>
                  <a:pt x="23" y="733"/>
                </a:lnTo>
                <a:lnTo>
                  <a:pt x="29" y="729"/>
                </a:lnTo>
                <a:lnTo>
                  <a:pt x="33" y="725"/>
                </a:lnTo>
                <a:lnTo>
                  <a:pt x="41" y="721"/>
                </a:lnTo>
                <a:lnTo>
                  <a:pt x="46" y="717"/>
                </a:lnTo>
                <a:lnTo>
                  <a:pt x="54" y="714"/>
                </a:lnTo>
                <a:lnTo>
                  <a:pt x="62" y="712"/>
                </a:lnTo>
                <a:lnTo>
                  <a:pt x="69" y="708"/>
                </a:lnTo>
                <a:lnTo>
                  <a:pt x="79" y="706"/>
                </a:lnTo>
                <a:lnTo>
                  <a:pt x="87" y="704"/>
                </a:lnTo>
                <a:lnTo>
                  <a:pt x="96" y="700"/>
                </a:lnTo>
                <a:lnTo>
                  <a:pt x="108" y="694"/>
                </a:lnTo>
                <a:lnTo>
                  <a:pt x="117" y="689"/>
                </a:lnTo>
                <a:lnTo>
                  <a:pt x="127" y="683"/>
                </a:lnTo>
                <a:lnTo>
                  <a:pt x="138" y="675"/>
                </a:lnTo>
                <a:lnTo>
                  <a:pt x="150" y="668"/>
                </a:lnTo>
                <a:lnTo>
                  <a:pt x="161" y="658"/>
                </a:lnTo>
                <a:lnTo>
                  <a:pt x="175" y="648"/>
                </a:lnTo>
                <a:lnTo>
                  <a:pt x="186" y="637"/>
                </a:lnTo>
                <a:lnTo>
                  <a:pt x="200" y="623"/>
                </a:lnTo>
                <a:lnTo>
                  <a:pt x="213" y="610"/>
                </a:lnTo>
                <a:lnTo>
                  <a:pt x="229" y="597"/>
                </a:lnTo>
                <a:lnTo>
                  <a:pt x="242" y="579"/>
                </a:lnTo>
                <a:lnTo>
                  <a:pt x="257" y="562"/>
                </a:lnTo>
                <a:lnTo>
                  <a:pt x="273" y="5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59"/>
          <p:cNvSpPr/>
          <p:nvPr/>
        </p:nvSpPr>
        <p:spPr>
          <a:xfrm>
            <a:off x="6151680" y="3963960"/>
            <a:ext cx="958680" cy="917640"/>
          </a:xfrm>
          <a:custGeom>
            <a:avLst/>
            <a:gdLst/>
            <a:ahLst/>
            <a:rect l="l" t="t" r="r" b="b"/>
            <a:pathLst>
              <a:path w="1210" h="1157">
                <a:moveTo>
                  <a:pt x="928" y="557"/>
                </a:moveTo>
                <a:lnTo>
                  <a:pt x="893" y="591"/>
                </a:lnTo>
                <a:lnTo>
                  <a:pt x="860" y="624"/>
                </a:lnTo>
                <a:lnTo>
                  <a:pt x="826" y="656"/>
                </a:lnTo>
                <a:lnTo>
                  <a:pt x="793" y="687"/>
                </a:lnTo>
                <a:lnTo>
                  <a:pt x="761" y="718"/>
                </a:lnTo>
                <a:lnTo>
                  <a:pt x="728" y="745"/>
                </a:lnTo>
                <a:lnTo>
                  <a:pt x="695" y="772"/>
                </a:lnTo>
                <a:lnTo>
                  <a:pt x="665" y="798"/>
                </a:lnTo>
                <a:lnTo>
                  <a:pt x="632" y="823"/>
                </a:lnTo>
                <a:lnTo>
                  <a:pt x="601" y="846"/>
                </a:lnTo>
                <a:lnTo>
                  <a:pt x="571" y="869"/>
                </a:lnTo>
                <a:lnTo>
                  <a:pt x="542" y="891"/>
                </a:lnTo>
                <a:lnTo>
                  <a:pt x="511" y="912"/>
                </a:lnTo>
                <a:lnTo>
                  <a:pt x="482" y="931"/>
                </a:lnTo>
                <a:lnTo>
                  <a:pt x="455" y="948"/>
                </a:lnTo>
                <a:lnTo>
                  <a:pt x="427" y="965"/>
                </a:lnTo>
                <a:lnTo>
                  <a:pt x="400" y="983"/>
                </a:lnTo>
                <a:lnTo>
                  <a:pt x="375" y="998"/>
                </a:lnTo>
                <a:lnTo>
                  <a:pt x="350" y="1011"/>
                </a:lnTo>
                <a:lnTo>
                  <a:pt x="325" y="1027"/>
                </a:lnTo>
                <a:lnTo>
                  <a:pt x="302" y="1040"/>
                </a:lnTo>
                <a:lnTo>
                  <a:pt x="279" y="1054"/>
                </a:lnTo>
                <a:lnTo>
                  <a:pt x="258" y="1065"/>
                </a:lnTo>
                <a:lnTo>
                  <a:pt x="237" y="1077"/>
                </a:lnTo>
                <a:lnTo>
                  <a:pt x="217" y="1086"/>
                </a:lnTo>
                <a:lnTo>
                  <a:pt x="198" y="1096"/>
                </a:lnTo>
                <a:lnTo>
                  <a:pt x="181" y="1105"/>
                </a:lnTo>
                <a:lnTo>
                  <a:pt x="166" y="1113"/>
                </a:lnTo>
                <a:lnTo>
                  <a:pt x="150" y="1121"/>
                </a:lnTo>
                <a:lnTo>
                  <a:pt x="135" y="1128"/>
                </a:lnTo>
                <a:lnTo>
                  <a:pt x="121" y="1134"/>
                </a:lnTo>
                <a:lnTo>
                  <a:pt x="110" y="1140"/>
                </a:lnTo>
                <a:lnTo>
                  <a:pt x="96" y="1142"/>
                </a:lnTo>
                <a:lnTo>
                  <a:pt x="85" y="1144"/>
                </a:lnTo>
                <a:lnTo>
                  <a:pt x="73" y="1146"/>
                </a:lnTo>
                <a:lnTo>
                  <a:pt x="62" y="1148"/>
                </a:lnTo>
                <a:lnTo>
                  <a:pt x="52" y="1149"/>
                </a:lnTo>
                <a:lnTo>
                  <a:pt x="43" y="1151"/>
                </a:lnTo>
                <a:lnTo>
                  <a:pt x="35" y="1153"/>
                </a:lnTo>
                <a:lnTo>
                  <a:pt x="27" y="1155"/>
                </a:lnTo>
                <a:lnTo>
                  <a:pt x="22" y="1155"/>
                </a:lnTo>
                <a:lnTo>
                  <a:pt x="16" y="1157"/>
                </a:lnTo>
                <a:lnTo>
                  <a:pt x="12" y="1157"/>
                </a:lnTo>
                <a:lnTo>
                  <a:pt x="8" y="1157"/>
                </a:lnTo>
                <a:lnTo>
                  <a:pt x="4" y="1155"/>
                </a:lnTo>
                <a:lnTo>
                  <a:pt x="2" y="1155"/>
                </a:lnTo>
                <a:lnTo>
                  <a:pt x="0" y="1153"/>
                </a:lnTo>
                <a:lnTo>
                  <a:pt x="0" y="1151"/>
                </a:lnTo>
                <a:lnTo>
                  <a:pt x="0" y="1149"/>
                </a:lnTo>
                <a:lnTo>
                  <a:pt x="2" y="1146"/>
                </a:lnTo>
                <a:lnTo>
                  <a:pt x="4" y="1142"/>
                </a:lnTo>
                <a:lnTo>
                  <a:pt x="8" y="1138"/>
                </a:lnTo>
                <a:lnTo>
                  <a:pt x="12" y="1134"/>
                </a:lnTo>
                <a:lnTo>
                  <a:pt x="16" y="1128"/>
                </a:lnTo>
                <a:lnTo>
                  <a:pt x="22" y="1123"/>
                </a:lnTo>
                <a:lnTo>
                  <a:pt x="27" y="1117"/>
                </a:lnTo>
                <a:lnTo>
                  <a:pt x="35" y="1111"/>
                </a:lnTo>
                <a:lnTo>
                  <a:pt x="43" y="1105"/>
                </a:lnTo>
                <a:lnTo>
                  <a:pt x="52" y="1100"/>
                </a:lnTo>
                <a:lnTo>
                  <a:pt x="62" y="1092"/>
                </a:lnTo>
                <a:lnTo>
                  <a:pt x="73" y="1086"/>
                </a:lnTo>
                <a:lnTo>
                  <a:pt x="85" y="1079"/>
                </a:lnTo>
                <a:lnTo>
                  <a:pt x="96" y="1073"/>
                </a:lnTo>
                <a:lnTo>
                  <a:pt x="110" y="1065"/>
                </a:lnTo>
                <a:lnTo>
                  <a:pt x="121" y="1057"/>
                </a:lnTo>
                <a:lnTo>
                  <a:pt x="135" y="1050"/>
                </a:lnTo>
                <a:lnTo>
                  <a:pt x="148" y="1040"/>
                </a:lnTo>
                <a:lnTo>
                  <a:pt x="164" y="1031"/>
                </a:lnTo>
                <a:lnTo>
                  <a:pt x="177" y="1019"/>
                </a:lnTo>
                <a:lnTo>
                  <a:pt x="194" y="1008"/>
                </a:lnTo>
                <a:lnTo>
                  <a:pt x="210" y="996"/>
                </a:lnTo>
                <a:lnTo>
                  <a:pt x="227" y="983"/>
                </a:lnTo>
                <a:lnTo>
                  <a:pt x="246" y="969"/>
                </a:lnTo>
                <a:lnTo>
                  <a:pt x="265" y="956"/>
                </a:lnTo>
                <a:lnTo>
                  <a:pt x="285" y="940"/>
                </a:lnTo>
                <a:lnTo>
                  <a:pt x="304" y="925"/>
                </a:lnTo>
                <a:lnTo>
                  <a:pt x="325" y="908"/>
                </a:lnTo>
                <a:lnTo>
                  <a:pt x="346" y="891"/>
                </a:lnTo>
                <a:lnTo>
                  <a:pt x="369" y="873"/>
                </a:lnTo>
                <a:lnTo>
                  <a:pt x="392" y="854"/>
                </a:lnTo>
                <a:lnTo>
                  <a:pt x="432" y="816"/>
                </a:lnTo>
                <a:lnTo>
                  <a:pt x="475" y="777"/>
                </a:lnTo>
                <a:lnTo>
                  <a:pt x="519" y="737"/>
                </a:lnTo>
                <a:lnTo>
                  <a:pt x="561" y="695"/>
                </a:lnTo>
                <a:lnTo>
                  <a:pt x="584" y="674"/>
                </a:lnTo>
                <a:lnTo>
                  <a:pt x="605" y="651"/>
                </a:lnTo>
                <a:lnTo>
                  <a:pt x="626" y="628"/>
                </a:lnTo>
                <a:lnTo>
                  <a:pt x="649" y="605"/>
                </a:lnTo>
                <a:lnTo>
                  <a:pt x="670" y="582"/>
                </a:lnTo>
                <a:lnTo>
                  <a:pt x="692" y="557"/>
                </a:lnTo>
                <a:lnTo>
                  <a:pt x="713" y="534"/>
                </a:lnTo>
                <a:lnTo>
                  <a:pt x="732" y="507"/>
                </a:lnTo>
                <a:lnTo>
                  <a:pt x="753" y="482"/>
                </a:lnTo>
                <a:lnTo>
                  <a:pt x="772" y="457"/>
                </a:lnTo>
                <a:lnTo>
                  <a:pt x="791" y="434"/>
                </a:lnTo>
                <a:lnTo>
                  <a:pt x="809" y="411"/>
                </a:lnTo>
                <a:lnTo>
                  <a:pt x="828" y="390"/>
                </a:lnTo>
                <a:lnTo>
                  <a:pt x="843" y="369"/>
                </a:lnTo>
                <a:lnTo>
                  <a:pt x="860" y="350"/>
                </a:lnTo>
                <a:lnTo>
                  <a:pt x="876" y="330"/>
                </a:lnTo>
                <a:lnTo>
                  <a:pt x="889" y="313"/>
                </a:lnTo>
                <a:lnTo>
                  <a:pt x="903" y="296"/>
                </a:lnTo>
                <a:lnTo>
                  <a:pt x="916" y="279"/>
                </a:lnTo>
                <a:lnTo>
                  <a:pt x="928" y="263"/>
                </a:lnTo>
                <a:lnTo>
                  <a:pt x="939" y="248"/>
                </a:lnTo>
                <a:lnTo>
                  <a:pt x="949" y="234"/>
                </a:lnTo>
                <a:lnTo>
                  <a:pt x="956" y="223"/>
                </a:lnTo>
                <a:lnTo>
                  <a:pt x="964" y="210"/>
                </a:lnTo>
                <a:lnTo>
                  <a:pt x="970" y="198"/>
                </a:lnTo>
                <a:lnTo>
                  <a:pt x="976" y="186"/>
                </a:lnTo>
                <a:lnTo>
                  <a:pt x="981" y="177"/>
                </a:lnTo>
                <a:lnTo>
                  <a:pt x="987" y="165"/>
                </a:lnTo>
                <a:lnTo>
                  <a:pt x="991" y="156"/>
                </a:lnTo>
                <a:lnTo>
                  <a:pt x="995" y="146"/>
                </a:lnTo>
                <a:lnTo>
                  <a:pt x="999" y="135"/>
                </a:lnTo>
                <a:lnTo>
                  <a:pt x="1001" y="127"/>
                </a:lnTo>
                <a:lnTo>
                  <a:pt x="1003" y="117"/>
                </a:lnTo>
                <a:lnTo>
                  <a:pt x="1004" y="108"/>
                </a:lnTo>
                <a:lnTo>
                  <a:pt x="1004" y="100"/>
                </a:lnTo>
                <a:lnTo>
                  <a:pt x="1004" y="91"/>
                </a:lnTo>
                <a:lnTo>
                  <a:pt x="1004" y="83"/>
                </a:lnTo>
                <a:lnTo>
                  <a:pt x="1004" y="75"/>
                </a:lnTo>
                <a:lnTo>
                  <a:pt x="1003" y="68"/>
                </a:lnTo>
                <a:lnTo>
                  <a:pt x="1001" y="62"/>
                </a:lnTo>
                <a:lnTo>
                  <a:pt x="999" y="54"/>
                </a:lnTo>
                <a:lnTo>
                  <a:pt x="997" y="48"/>
                </a:lnTo>
                <a:lnTo>
                  <a:pt x="995" y="43"/>
                </a:lnTo>
                <a:lnTo>
                  <a:pt x="995" y="37"/>
                </a:lnTo>
                <a:lnTo>
                  <a:pt x="993" y="33"/>
                </a:lnTo>
                <a:lnTo>
                  <a:pt x="993" y="29"/>
                </a:lnTo>
                <a:lnTo>
                  <a:pt x="993" y="25"/>
                </a:lnTo>
                <a:lnTo>
                  <a:pt x="995" y="22"/>
                </a:lnTo>
                <a:lnTo>
                  <a:pt x="997" y="18"/>
                </a:lnTo>
                <a:lnTo>
                  <a:pt x="999" y="14"/>
                </a:lnTo>
                <a:lnTo>
                  <a:pt x="1001" y="12"/>
                </a:lnTo>
                <a:lnTo>
                  <a:pt x="1004" y="10"/>
                </a:lnTo>
                <a:lnTo>
                  <a:pt x="1008" y="6"/>
                </a:lnTo>
                <a:lnTo>
                  <a:pt x="1014" y="4"/>
                </a:lnTo>
                <a:lnTo>
                  <a:pt x="1018" y="2"/>
                </a:lnTo>
                <a:lnTo>
                  <a:pt x="1026" y="0"/>
                </a:lnTo>
                <a:lnTo>
                  <a:pt x="1029" y="0"/>
                </a:lnTo>
                <a:lnTo>
                  <a:pt x="1035" y="0"/>
                </a:lnTo>
                <a:lnTo>
                  <a:pt x="1041" y="2"/>
                </a:lnTo>
                <a:lnTo>
                  <a:pt x="1045" y="4"/>
                </a:lnTo>
                <a:lnTo>
                  <a:pt x="1051" y="6"/>
                </a:lnTo>
                <a:lnTo>
                  <a:pt x="1058" y="10"/>
                </a:lnTo>
                <a:lnTo>
                  <a:pt x="1070" y="16"/>
                </a:lnTo>
                <a:lnTo>
                  <a:pt x="1083" y="25"/>
                </a:lnTo>
                <a:lnTo>
                  <a:pt x="1097" y="35"/>
                </a:lnTo>
                <a:lnTo>
                  <a:pt x="1110" y="48"/>
                </a:lnTo>
                <a:lnTo>
                  <a:pt x="1123" y="62"/>
                </a:lnTo>
                <a:lnTo>
                  <a:pt x="1137" y="75"/>
                </a:lnTo>
                <a:lnTo>
                  <a:pt x="1150" y="91"/>
                </a:lnTo>
                <a:lnTo>
                  <a:pt x="1162" y="108"/>
                </a:lnTo>
                <a:lnTo>
                  <a:pt x="1175" y="123"/>
                </a:lnTo>
                <a:lnTo>
                  <a:pt x="1185" y="139"/>
                </a:lnTo>
                <a:lnTo>
                  <a:pt x="1195" y="156"/>
                </a:lnTo>
                <a:lnTo>
                  <a:pt x="1198" y="163"/>
                </a:lnTo>
                <a:lnTo>
                  <a:pt x="1202" y="171"/>
                </a:lnTo>
                <a:lnTo>
                  <a:pt x="1206" y="179"/>
                </a:lnTo>
                <a:lnTo>
                  <a:pt x="1208" y="185"/>
                </a:lnTo>
                <a:lnTo>
                  <a:pt x="1210" y="190"/>
                </a:lnTo>
                <a:lnTo>
                  <a:pt x="1210" y="196"/>
                </a:lnTo>
                <a:lnTo>
                  <a:pt x="1208" y="202"/>
                </a:lnTo>
                <a:lnTo>
                  <a:pt x="1208" y="208"/>
                </a:lnTo>
                <a:lnTo>
                  <a:pt x="1206" y="213"/>
                </a:lnTo>
                <a:lnTo>
                  <a:pt x="1204" y="221"/>
                </a:lnTo>
                <a:lnTo>
                  <a:pt x="1200" y="229"/>
                </a:lnTo>
                <a:lnTo>
                  <a:pt x="1196" y="236"/>
                </a:lnTo>
                <a:lnTo>
                  <a:pt x="1193" y="244"/>
                </a:lnTo>
                <a:lnTo>
                  <a:pt x="1187" y="254"/>
                </a:lnTo>
                <a:lnTo>
                  <a:pt x="1181" y="263"/>
                </a:lnTo>
                <a:lnTo>
                  <a:pt x="1175" y="273"/>
                </a:lnTo>
                <a:lnTo>
                  <a:pt x="1170" y="282"/>
                </a:lnTo>
                <a:lnTo>
                  <a:pt x="1162" y="292"/>
                </a:lnTo>
                <a:lnTo>
                  <a:pt x="1154" y="304"/>
                </a:lnTo>
                <a:lnTo>
                  <a:pt x="1145" y="315"/>
                </a:lnTo>
                <a:lnTo>
                  <a:pt x="1135" y="327"/>
                </a:lnTo>
                <a:lnTo>
                  <a:pt x="1125" y="338"/>
                </a:lnTo>
                <a:lnTo>
                  <a:pt x="1116" y="351"/>
                </a:lnTo>
                <a:lnTo>
                  <a:pt x="1104" y="365"/>
                </a:lnTo>
                <a:lnTo>
                  <a:pt x="1093" y="378"/>
                </a:lnTo>
                <a:lnTo>
                  <a:pt x="1081" y="392"/>
                </a:lnTo>
                <a:lnTo>
                  <a:pt x="1068" y="407"/>
                </a:lnTo>
                <a:lnTo>
                  <a:pt x="1054" y="421"/>
                </a:lnTo>
                <a:lnTo>
                  <a:pt x="1041" y="436"/>
                </a:lnTo>
                <a:lnTo>
                  <a:pt x="1026" y="453"/>
                </a:lnTo>
                <a:lnTo>
                  <a:pt x="1012" y="468"/>
                </a:lnTo>
                <a:lnTo>
                  <a:pt x="995" y="486"/>
                </a:lnTo>
                <a:lnTo>
                  <a:pt x="980" y="503"/>
                </a:lnTo>
                <a:lnTo>
                  <a:pt x="962" y="520"/>
                </a:lnTo>
                <a:lnTo>
                  <a:pt x="945" y="538"/>
                </a:lnTo>
                <a:lnTo>
                  <a:pt x="928" y="5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60"/>
          <p:cNvSpPr/>
          <p:nvPr/>
        </p:nvSpPr>
        <p:spPr>
          <a:xfrm>
            <a:off x="5702400" y="3537000"/>
            <a:ext cx="1292040" cy="1224000"/>
          </a:xfrm>
          <a:custGeom>
            <a:avLst/>
            <a:gdLst/>
            <a:ahLst/>
            <a:rect l="l" t="t" r="r" b="b"/>
            <a:pathLst>
              <a:path w="1626" h="1543">
                <a:moveTo>
                  <a:pt x="4" y="1541"/>
                </a:moveTo>
                <a:lnTo>
                  <a:pt x="2" y="1535"/>
                </a:lnTo>
                <a:lnTo>
                  <a:pt x="0" y="1531"/>
                </a:lnTo>
                <a:lnTo>
                  <a:pt x="0" y="1525"/>
                </a:lnTo>
                <a:lnTo>
                  <a:pt x="2" y="1522"/>
                </a:lnTo>
                <a:lnTo>
                  <a:pt x="2" y="1516"/>
                </a:lnTo>
                <a:lnTo>
                  <a:pt x="6" y="1512"/>
                </a:lnTo>
                <a:lnTo>
                  <a:pt x="8" y="1506"/>
                </a:lnTo>
                <a:lnTo>
                  <a:pt x="13" y="1500"/>
                </a:lnTo>
                <a:lnTo>
                  <a:pt x="17" y="1497"/>
                </a:lnTo>
                <a:lnTo>
                  <a:pt x="23" y="1491"/>
                </a:lnTo>
                <a:lnTo>
                  <a:pt x="31" y="1485"/>
                </a:lnTo>
                <a:lnTo>
                  <a:pt x="38" y="1479"/>
                </a:lnTo>
                <a:lnTo>
                  <a:pt x="46" y="1474"/>
                </a:lnTo>
                <a:lnTo>
                  <a:pt x="56" y="1468"/>
                </a:lnTo>
                <a:lnTo>
                  <a:pt x="65" y="1460"/>
                </a:lnTo>
                <a:lnTo>
                  <a:pt x="77" y="1454"/>
                </a:lnTo>
                <a:lnTo>
                  <a:pt x="88" y="1447"/>
                </a:lnTo>
                <a:lnTo>
                  <a:pt x="102" y="1439"/>
                </a:lnTo>
                <a:lnTo>
                  <a:pt x="115" y="1429"/>
                </a:lnTo>
                <a:lnTo>
                  <a:pt x="131" y="1420"/>
                </a:lnTo>
                <a:lnTo>
                  <a:pt x="148" y="1410"/>
                </a:lnTo>
                <a:lnTo>
                  <a:pt x="167" y="1401"/>
                </a:lnTo>
                <a:lnTo>
                  <a:pt x="186" y="1389"/>
                </a:lnTo>
                <a:lnTo>
                  <a:pt x="205" y="1376"/>
                </a:lnTo>
                <a:lnTo>
                  <a:pt x="228" y="1362"/>
                </a:lnTo>
                <a:lnTo>
                  <a:pt x="251" y="1349"/>
                </a:lnTo>
                <a:lnTo>
                  <a:pt x="276" y="1334"/>
                </a:lnTo>
                <a:lnTo>
                  <a:pt x="301" y="1318"/>
                </a:lnTo>
                <a:lnTo>
                  <a:pt x="328" y="1301"/>
                </a:lnTo>
                <a:lnTo>
                  <a:pt x="357" y="1282"/>
                </a:lnTo>
                <a:lnTo>
                  <a:pt x="388" y="1263"/>
                </a:lnTo>
                <a:lnTo>
                  <a:pt x="418" y="1243"/>
                </a:lnTo>
                <a:lnTo>
                  <a:pt x="447" y="1220"/>
                </a:lnTo>
                <a:lnTo>
                  <a:pt x="478" y="1197"/>
                </a:lnTo>
                <a:lnTo>
                  <a:pt x="511" y="1172"/>
                </a:lnTo>
                <a:lnTo>
                  <a:pt x="543" y="1147"/>
                </a:lnTo>
                <a:lnTo>
                  <a:pt x="576" y="1121"/>
                </a:lnTo>
                <a:lnTo>
                  <a:pt x="610" y="1092"/>
                </a:lnTo>
                <a:lnTo>
                  <a:pt x="645" y="1061"/>
                </a:lnTo>
                <a:lnTo>
                  <a:pt x="682" y="1029"/>
                </a:lnTo>
                <a:lnTo>
                  <a:pt x="716" y="996"/>
                </a:lnTo>
                <a:lnTo>
                  <a:pt x="753" y="961"/>
                </a:lnTo>
                <a:lnTo>
                  <a:pt x="789" y="925"/>
                </a:lnTo>
                <a:lnTo>
                  <a:pt x="827" y="888"/>
                </a:lnTo>
                <a:lnTo>
                  <a:pt x="864" y="848"/>
                </a:lnTo>
                <a:lnTo>
                  <a:pt x="902" y="808"/>
                </a:lnTo>
                <a:lnTo>
                  <a:pt x="941" y="766"/>
                </a:lnTo>
                <a:lnTo>
                  <a:pt x="979" y="722"/>
                </a:lnTo>
                <a:lnTo>
                  <a:pt x="998" y="700"/>
                </a:lnTo>
                <a:lnTo>
                  <a:pt x="1017" y="679"/>
                </a:lnTo>
                <a:lnTo>
                  <a:pt x="1035" y="658"/>
                </a:lnTo>
                <a:lnTo>
                  <a:pt x="1052" y="637"/>
                </a:lnTo>
                <a:lnTo>
                  <a:pt x="1069" y="618"/>
                </a:lnTo>
                <a:lnTo>
                  <a:pt x="1087" y="599"/>
                </a:lnTo>
                <a:lnTo>
                  <a:pt x="1104" y="580"/>
                </a:lnTo>
                <a:lnTo>
                  <a:pt x="1119" y="560"/>
                </a:lnTo>
                <a:lnTo>
                  <a:pt x="1135" y="543"/>
                </a:lnTo>
                <a:lnTo>
                  <a:pt x="1150" y="526"/>
                </a:lnTo>
                <a:lnTo>
                  <a:pt x="1179" y="491"/>
                </a:lnTo>
                <a:lnTo>
                  <a:pt x="1194" y="476"/>
                </a:lnTo>
                <a:lnTo>
                  <a:pt x="1208" y="461"/>
                </a:lnTo>
                <a:lnTo>
                  <a:pt x="1219" y="445"/>
                </a:lnTo>
                <a:lnTo>
                  <a:pt x="1232" y="430"/>
                </a:lnTo>
                <a:lnTo>
                  <a:pt x="1244" y="417"/>
                </a:lnTo>
                <a:lnTo>
                  <a:pt x="1256" y="403"/>
                </a:lnTo>
                <a:lnTo>
                  <a:pt x="1265" y="390"/>
                </a:lnTo>
                <a:lnTo>
                  <a:pt x="1277" y="376"/>
                </a:lnTo>
                <a:lnTo>
                  <a:pt x="1286" y="363"/>
                </a:lnTo>
                <a:lnTo>
                  <a:pt x="1296" y="351"/>
                </a:lnTo>
                <a:lnTo>
                  <a:pt x="1304" y="340"/>
                </a:lnTo>
                <a:lnTo>
                  <a:pt x="1311" y="328"/>
                </a:lnTo>
                <a:lnTo>
                  <a:pt x="1319" y="317"/>
                </a:lnTo>
                <a:lnTo>
                  <a:pt x="1327" y="307"/>
                </a:lnTo>
                <a:lnTo>
                  <a:pt x="1332" y="298"/>
                </a:lnTo>
                <a:lnTo>
                  <a:pt x="1340" y="286"/>
                </a:lnTo>
                <a:lnTo>
                  <a:pt x="1344" y="278"/>
                </a:lnTo>
                <a:lnTo>
                  <a:pt x="1350" y="269"/>
                </a:lnTo>
                <a:lnTo>
                  <a:pt x="1353" y="259"/>
                </a:lnTo>
                <a:lnTo>
                  <a:pt x="1357" y="252"/>
                </a:lnTo>
                <a:lnTo>
                  <a:pt x="1363" y="236"/>
                </a:lnTo>
                <a:lnTo>
                  <a:pt x="1371" y="221"/>
                </a:lnTo>
                <a:lnTo>
                  <a:pt x="1376" y="206"/>
                </a:lnTo>
                <a:lnTo>
                  <a:pt x="1382" y="190"/>
                </a:lnTo>
                <a:lnTo>
                  <a:pt x="1388" y="177"/>
                </a:lnTo>
                <a:lnTo>
                  <a:pt x="1392" y="163"/>
                </a:lnTo>
                <a:lnTo>
                  <a:pt x="1396" y="152"/>
                </a:lnTo>
                <a:lnTo>
                  <a:pt x="1400" y="140"/>
                </a:lnTo>
                <a:lnTo>
                  <a:pt x="1403" y="129"/>
                </a:lnTo>
                <a:lnTo>
                  <a:pt x="1405" y="117"/>
                </a:lnTo>
                <a:lnTo>
                  <a:pt x="1407" y="108"/>
                </a:lnTo>
                <a:lnTo>
                  <a:pt x="1409" y="98"/>
                </a:lnTo>
                <a:lnTo>
                  <a:pt x="1409" y="89"/>
                </a:lnTo>
                <a:lnTo>
                  <a:pt x="1409" y="81"/>
                </a:lnTo>
                <a:lnTo>
                  <a:pt x="1407" y="73"/>
                </a:lnTo>
                <a:lnTo>
                  <a:pt x="1407" y="65"/>
                </a:lnTo>
                <a:lnTo>
                  <a:pt x="1403" y="60"/>
                </a:lnTo>
                <a:lnTo>
                  <a:pt x="1403" y="52"/>
                </a:lnTo>
                <a:lnTo>
                  <a:pt x="1401" y="46"/>
                </a:lnTo>
                <a:lnTo>
                  <a:pt x="1401" y="42"/>
                </a:lnTo>
                <a:lnTo>
                  <a:pt x="1401" y="37"/>
                </a:lnTo>
                <a:lnTo>
                  <a:pt x="1401" y="33"/>
                </a:lnTo>
                <a:lnTo>
                  <a:pt x="1405" y="25"/>
                </a:lnTo>
                <a:lnTo>
                  <a:pt x="1409" y="19"/>
                </a:lnTo>
                <a:lnTo>
                  <a:pt x="1415" y="14"/>
                </a:lnTo>
                <a:lnTo>
                  <a:pt x="1423" y="8"/>
                </a:lnTo>
                <a:lnTo>
                  <a:pt x="1430" y="4"/>
                </a:lnTo>
                <a:lnTo>
                  <a:pt x="1434" y="2"/>
                </a:lnTo>
                <a:lnTo>
                  <a:pt x="1440" y="0"/>
                </a:lnTo>
                <a:lnTo>
                  <a:pt x="1446" y="0"/>
                </a:lnTo>
                <a:lnTo>
                  <a:pt x="1451" y="0"/>
                </a:lnTo>
                <a:lnTo>
                  <a:pt x="1457" y="2"/>
                </a:lnTo>
                <a:lnTo>
                  <a:pt x="1463" y="4"/>
                </a:lnTo>
                <a:lnTo>
                  <a:pt x="1469" y="6"/>
                </a:lnTo>
                <a:lnTo>
                  <a:pt x="1476" y="10"/>
                </a:lnTo>
                <a:lnTo>
                  <a:pt x="1484" y="14"/>
                </a:lnTo>
                <a:lnTo>
                  <a:pt x="1490" y="18"/>
                </a:lnTo>
                <a:lnTo>
                  <a:pt x="1497" y="23"/>
                </a:lnTo>
                <a:lnTo>
                  <a:pt x="1505" y="27"/>
                </a:lnTo>
                <a:lnTo>
                  <a:pt x="1522" y="41"/>
                </a:lnTo>
                <a:lnTo>
                  <a:pt x="1540" y="54"/>
                </a:lnTo>
                <a:lnTo>
                  <a:pt x="1549" y="62"/>
                </a:lnTo>
                <a:lnTo>
                  <a:pt x="1557" y="71"/>
                </a:lnTo>
                <a:lnTo>
                  <a:pt x="1565" y="81"/>
                </a:lnTo>
                <a:lnTo>
                  <a:pt x="1572" y="89"/>
                </a:lnTo>
                <a:lnTo>
                  <a:pt x="1580" y="96"/>
                </a:lnTo>
                <a:lnTo>
                  <a:pt x="1586" y="104"/>
                </a:lnTo>
                <a:lnTo>
                  <a:pt x="1597" y="119"/>
                </a:lnTo>
                <a:lnTo>
                  <a:pt x="1607" y="133"/>
                </a:lnTo>
                <a:lnTo>
                  <a:pt x="1615" y="144"/>
                </a:lnTo>
                <a:lnTo>
                  <a:pt x="1620" y="156"/>
                </a:lnTo>
                <a:lnTo>
                  <a:pt x="1626" y="165"/>
                </a:lnTo>
                <a:lnTo>
                  <a:pt x="1626" y="169"/>
                </a:lnTo>
                <a:lnTo>
                  <a:pt x="1626" y="173"/>
                </a:lnTo>
                <a:lnTo>
                  <a:pt x="1626" y="177"/>
                </a:lnTo>
                <a:lnTo>
                  <a:pt x="1624" y="183"/>
                </a:lnTo>
                <a:lnTo>
                  <a:pt x="1622" y="188"/>
                </a:lnTo>
                <a:lnTo>
                  <a:pt x="1620" y="194"/>
                </a:lnTo>
                <a:lnTo>
                  <a:pt x="1618" y="202"/>
                </a:lnTo>
                <a:lnTo>
                  <a:pt x="1615" y="209"/>
                </a:lnTo>
                <a:lnTo>
                  <a:pt x="1609" y="217"/>
                </a:lnTo>
                <a:lnTo>
                  <a:pt x="1605" y="225"/>
                </a:lnTo>
                <a:lnTo>
                  <a:pt x="1599" y="234"/>
                </a:lnTo>
                <a:lnTo>
                  <a:pt x="1593" y="244"/>
                </a:lnTo>
                <a:lnTo>
                  <a:pt x="1586" y="253"/>
                </a:lnTo>
                <a:lnTo>
                  <a:pt x="1578" y="265"/>
                </a:lnTo>
                <a:lnTo>
                  <a:pt x="1570" y="277"/>
                </a:lnTo>
                <a:lnTo>
                  <a:pt x="1563" y="288"/>
                </a:lnTo>
                <a:lnTo>
                  <a:pt x="1553" y="300"/>
                </a:lnTo>
                <a:lnTo>
                  <a:pt x="1544" y="313"/>
                </a:lnTo>
                <a:lnTo>
                  <a:pt x="1532" y="326"/>
                </a:lnTo>
                <a:lnTo>
                  <a:pt x="1522" y="342"/>
                </a:lnTo>
                <a:lnTo>
                  <a:pt x="1511" y="357"/>
                </a:lnTo>
                <a:lnTo>
                  <a:pt x="1497" y="372"/>
                </a:lnTo>
                <a:lnTo>
                  <a:pt x="1486" y="388"/>
                </a:lnTo>
                <a:lnTo>
                  <a:pt x="1472" y="405"/>
                </a:lnTo>
                <a:lnTo>
                  <a:pt x="1459" y="422"/>
                </a:lnTo>
                <a:lnTo>
                  <a:pt x="1444" y="440"/>
                </a:lnTo>
                <a:lnTo>
                  <a:pt x="1428" y="459"/>
                </a:lnTo>
                <a:lnTo>
                  <a:pt x="1413" y="478"/>
                </a:lnTo>
                <a:lnTo>
                  <a:pt x="1398" y="497"/>
                </a:lnTo>
                <a:lnTo>
                  <a:pt x="1380" y="518"/>
                </a:lnTo>
                <a:lnTo>
                  <a:pt x="1363" y="539"/>
                </a:lnTo>
                <a:lnTo>
                  <a:pt x="1346" y="562"/>
                </a:lnTo>
                <a:lnTo>
                  <a:pt x="1307" y="605"/>
                </a:lnTo>
                <a:lnTo>
                  <a:pt x="1269" y="647"/>
                </a:lnTo>
                <a:lnTo>
                  <a:pt x="1232" y="687"/>
                </a:lnTo>
                <a:lnTo>
                  <a:pt x="1196" y="727"/>
                </a:lnTo>
                <a:lnTo>
                  <a:pt x="1161" y="766"/>
                </a:lnTo>
                <a:lnTo>
                  <a:pt x="1127" y="802"/>
                </a:lnTo>
                <a:lnTo>
                  <a:pt x="1092" y="837"/>
                </a:lnTo>
                <a:lnTo>
                  <a:pt x="1058" y="871"/>
                </a:lnTo>
                <a:lnTo>
                  <a:pt x="1025" y="904"/>
                </a:lnTo>
                <a:lnTo>
                  <a:pt x="993" y="936"/>
                </a:lnTo>
                <a:lnTo>
                  <a:pt x="962" y="967"/>
                </a:lnTo>
                <a:lnTo>
                  <a:pt x="929" y="996"/>
                </a:lnTo>
                <a:lnTo>
                  <a:pt x="898" y="1025"/>
                </a:lnTo>
                <a:lnTo>
                  <a:pt x="868" y="1053"/>
                </a:lnTo>
                <a:lnTo>
                  <a:pt x="837" y="1080"/>
                </a:lnTo>
                <a:lnTo>
                  <a:pt x="808" y="1107"/>
                </a:lnTo>
                <a:lnTo>
                  <a:pt x="779" y="1132"/>
                </a:lnTo>
                <a:lnTo>
                  <a:pt x="749" y="1155"/>
                </a:lnTo>
                <a:lnTo>
                  <a:pt x="718" y="1180"/>
                </a:lnTo>
                <a:lnTo>
                  <a:pt x="687" y="1203"/>
                </a:lnTo>
                <a:lnTo>
                  <a:pt x="657" y="1224"/>
                </a:lnTo>
                <a:lnTo>
                  <a:pt x="626" y="1245"/>
                </a:lnTo>
                <a:lnTo>
                  <a:pt x="593" y="1266"/>
                </a:lnTo>
                <a:lnTo>
                  <a:pt x="562" y="1286"/>
                </a:lnTo>
                <a:lnTo>
                  <a:pt x="530" y="1305"/>
                </a:lnTo>
                <a:lnTo>
                  <a:pt x="497" y="1324"/>
                </a:lnTo>
                <a:lnTo>
                  <a:pt x="465" y="1343"/>
                </a:lnTo>
                <a:lnTo>
                  <a:pt x="430" y="1360"/>
                </a:lnTo>
                <a:lnTo>
                  <a:pt x="365" y="1395"/>
                </a:lnTo>
                <a:lnTo>
                  <a:pt x="296" y="1428"/>
                </a:lnTo>
                <a:lnTo>
                  <a:pt x="278" y="1437"/>
                </a:lnTo>
                <a:lnTo>
                  <a:pt x="263" y="1445"/>
                </a:lnTo>
                <a:lnTo>
                  <a:pt x="248" y="1452"/>
                </a:lnTo>
                <a:lnTo>
                  <a:pt x="232" y="1458"/>
                </a:lnTo>
                <a:lnTo>
                  <a:pt x="217" y="1466"/>
                </a:lnTo>
                <a:lnTo>
                  <a:pt x="202" y="1472"/>
                </a:lnTo>
                <a:lnTo>
                  <a:pt x="188" y="1479"/>
                </a:lnTo>
                <a:lnTo>
                  <a:pt x="175" y="1485"/>
                </a:lnTo>
                <a:lnTo>
                  <a:pt x="163" y="1491"/>
                </a:lnTo>
                <a:lnTo>
                  <a:pt x="150" y="1497"/>
                </a:lnTo>
                <a:lnTo>
                  <a:pt x="138" y="1500"/>
                </a:lnTo>
                <a:lnTo>
                  <a:pt x="127" y="1506"/>
                </a:lnTo>
                <a:lnTo>
                  <a:pt x="115" y="1510"/>
                </a:lnTo>
                <a:lnTo>
                  <a:pt x="106" y="1514"/>
                </a:lnTo>
                <a:lnTo>
                  <a:pt x="96" y="1518"/>
                </a:lnTo>
                <a:lnTo>
                  <a:pt x="86" y="1522"/>
                </a:lnTo>
                <a:lnTo>
                  <a:pt x="77" y="1525"/>
                </a:lnTo>
                <a:lnTo>
                  <a:pt x="69" y="1527"/>
                </a:lnTo>
                <a:lnTo>
                  <a:pt x="61" y="1531"/>
                </a:lnTo>
                <a:lnTo>
                  <a:pt x="54" y="1533"/>
                </a:lnTo>
                <a:lnTo>
                  <a:pt x="46" y="1535"/>
                </a:lnTo>
                <a:lnTo>
                  <a:pt x="40" y="1537"/>
                </a:lnTo>
                <a:lnTo>
                  <a:pt x="35" y="1539"/>
                </a:lnTo>
                <a:lnTo>
                  <a:pt x="29" y="1541"/>
                </a:lnTo>
                <a:lnTo>
                  <a:pt x="23" y="1541"/>
                </a:lnTo>
                <a:lnTo>
                  <a:pt x="19" y="1543"/>
                </a:lnTo>
                <a:lnTo>
                  <a:pt x="15" y="1543"/>
                </a:lnTo>
                <a:lnTo>
                  <a:pt x="11" y="1543"/>
                </a:lnTo>
                <a:lnTo>
                  <a:pt x="10" y="1543"/>
                </a:lnTo>
                <a:lnTo>
                  <a:pt x="6" y="1541"/>
                </a:lnTo>
                <a:lnTo>
                  <a:pt x="4" y="15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61"/>
          <p:cNvSpPr/>
          <p:nvPr/>
        </p:nvSpPr>
        <p:spPr>
          <a:xfrm>
            <a:off x="5619600" y="3205080"/>
            <a:ext cx="2013120" cy="344520"/>
          </a:xfrm>
          <a:custGeom>
            <a:avLst/>
            <a:gdLst/>
            <a:ahLst/>
            <a:rect l="l" t="t" r="r" b="b"/>
            <a:pathLst>
              <a:path w="2536" h="434">
                <a:moveTo>
                  <a:pt x="1609" y="88"/>
                </a:moveTo>
                <a:lnTo>
                  <a:pt x="1636" y="81"/>
                </a:lnTo>
                <a:lnTo>
                  <a:pt x="1663" y="77"/>
                </a:lnTo>
                <a:lnTo>
                  <a:pt x="1690" y="71"/>
                </a:lnTo>
                <a:lnTo>
                  <a:pt x="1715" y="65"/>
                </a:lnTo>
                <a:lnTo>
                  <a:pt x="1740" y="61"/>
                </a:lnTo>
                <a:lnTo>
                  <a:pt x="1765" y="56"/>
                </a:lnTo>
                <a:lnTo>
                  <a:pt x="1790" y="52"/>
                </a:lnTo>
                <a:lnTo>
                  <a:pt x="1813" y="48"/>
                </a:lnTo>
                <a:lnTo>
                  <a:pt x="1836" y="42"/>
                </a:lnTo>
                <a:lnTo>
                  <a:pt x="1859" y="38"/>
                </a:lnTo>
                <a:lnTo>
                  <a:pt x="1880" y="37"/>
                </a:lnTo>
                <a:lnTo>
                  <a:pt x="1903" y="33"/>
                </a:lnTo>
                <a:lnTo>
                  <a:pt x="1924" y="29"/>
                </a:lnTo>
                <a:lnTo>
                  <a:pt x="1943" y="25"/>
                </a:lnTo>
                <a:lnTo>
                  <a:pt x="1964" y="23"/>
                </a:lnTo>
                <a:lnTo>
                  <a:pt x="1984" y="21"/>
                </a:lnTo>
                <a:lnTo>
                  <a:pt x="2003" y="17"/>
                </a:lnTo>
                <a:lnTo>
                  <a:pt x="2020" y="15"/>
                </a:lnTo>
                <a:lnTo>
                  <a:pt x="2037" y="14"/>
                </a:lnTo>
                <a:lnTo>
                  <a:pt x="2055" y="12"/>
                </a:lnTo>
                <a:lnTo>
                  <a:pt x="2072" y="10"/>
                </a:lnTo>
                <a:lnTo>
                  <a:pt x="2089" y="8"/>
                </a:lnTo>
                <a:lnTo>
                  <a:pt x="2105" y="6"/>
                </a:lnTo>
                <a:lnTo>
                  <a:pt x="2120" y="6"/>
                </a:lnTo>
                <a:lnTo>
                  <a:pt x="2133" y="4"/>
                </a:lnTo>
                <a:lnTo>
                  <a:pt x="2147" y="4"/>
                </a:lnTo>
                <a:lnTo>
                  <a:pt x="2160" y="2"/>
                </a:lnTo>
                <a:lnTo>
                  <a:pt x="2174" y="2"/>
                </a:lnTo>
                <a:lnTo>
                  <a:pt x="2187" y="2"/>
                </a:lnTo>
                <a:lnTo>
                  <a:pt x="2199" y="0"/>
                </a:lnTo>
                <a:lnTo>
                  <a:pt x="2210" y="0"/>
                </a:lnTo>
                <a:lnTo>
                  <a:pt x="2220" y="0"/>
                </a:lnTo>
                <a:lnTo>
                  <a:pt x="2241" y="0"/>
                </a:lnTo>
                <a:lnTo>
                  <a:pt x="2260" y="2"/>
                </a:lnTo>
                <a:lnTo>
                  <a:pt x="2277" y="4"/>
                </a:lnTo>
                <a:lnTo>
                  <a:pt x="2296" y="6"/>
                </a:lnTo>
                <a:lnTo>
                  <a:pt x="2314" y="8"/>
                </a:lnTo>
                <a:lnTo>
                  <a:pt x="2329" y="10"/>
                </a:lnTo>
                <a:lnTo>
                  <a:pt x="2344" y="14"/>
                </a:lnTo>
                <a:lnTo>
                  <a:pt x="2360" y="17"/>
                </a:lnTo>
                <a:lnTo>
                  <a:pt x="2375" y="21"/>
                </a:lnTo>
                <a:lnTo>
                  <a:pt x="2389" y="27"/>
                </a:lnTo>
                <a:lnTo>
                  <a:pt x="2402" y="31"/>
                </a:lnTo>
                <a:lnTo>
                  <a:pt x="2416" y="37"/>
                </a:lnTo>
                <a:lnTo>
                  <a:pt x="2440" y="48"/>
                </a:lnTo>
                <a:lnTo>
                  <a:pt x="2464" y="63"/>
                </a:lnTo>
                <a:lnTo>
                  <a:pt x="2473" y="71"/>
                </a:lnTo>
                <a:lnTo>
                  <a:pt x="2481" y="81"/>
                </a:lnTo>
                <a:lnTo>
                  <a:pt x="2488" y="88"/>
                </a:lnTo>
                <a:lnTo>
                  <a:pt x="2496" y="98"/>
                </a:lnTo>
                <a:lnTo>
                  <a:pt x="2502" y="106"/>
                </a:lnTo>
                <a:lnTo>
                  <a:pt x="2508" y="113"/>
                </a:lnTo>
                <a:lnTo>
                  <a:pt x="2513" y="119"/>
                </a:lnTo>
                <a:lnTo>
                  <a:pt x="2519" y="127"/>
                </a:lnTo>
                <a:lnTo>
                  <a:pt x="2523" y="132"/>
                </a:lnTo>
                <a:lnTo>
                  <a:pt x="2527" y="138"/>
                </a:lnTo>
                <a:lnTo>
                  <a:pt x="2529" y="144"/>
                </a:lnTo>
                <a:lnTo>
                  <a:pt x="2533" y="148"/>
                </a:lnTo>
                <a:lnTo>
                  <a:pt x="2535" y="152"/>
                </a:lnTo>
                <a:lnTo>
                  <a:pt x="2536" y="155"/>
                </a:lnTo>
                <a:lnTo>
                  <a:pt x="2536" y="159"/>
                </a:lnTo>
                <a:lnTo>
                  <a:pt x="2536" y="161"/>
                </a:lnTo>
                <a:lnTo>
                  <a:pt x="2536" y="163"/>
                </a:lnTo>
                <a:lnTo>
                  <a:pt x="2535" y="165"/>
                </a:lnTo>
                <a:lnTo>
                  <a:pt x="2533" y="169"/>
                </a:lnTo>
                <a:lnTo>
                  <a:pt x="2531" y="171"/>
                </a:lnTo>
                <a:lnTo>
                  <a:pt x="2527" y="173"/>
                </a:lnTo>
                <a:lnTo>
                  <a:pt x="2523" y="175"/>
                </a:lnTo>
                <a:lnTo>
                  <a:pt x="2517" y="177"/>
                </a:lnTo>
                <a:lnTo>
                  <a:pt x="2512" y="178"/>
                </a:lnTo>
                <a:lnTo>
                  <a:pt x="2506" y="178"/>
                </a:lnTo>
                <a:lnTo>
                  <a:pt x="2498" y="180"/>
                </a:lnTo>
                <a:lnTo>
                  <a:pt x="2488" y="182"/>
                </a:lnTo>
                <a:lnTo>
                  <a:pt x="2479" y="184"/>
                </a:lnTo>
                <a:lnTo>
                  <a:pt x="2469" y="186"/>
                </a:lnTo>
                <a:lnTo>
                  <a:pt x="2460" y="186"/>
                </a:lnTo>
                <a:lnTo>
                  <a:pt x="2448" y="188"/>
                </a:lnTo>
                <a:lnTo>
                  <a:pt x="2435" y="190"/>
                </a:lnTo>
                <a:lnTo>
                  <a:pt x="2421" y="190"/>
                </a:lnTo>
                <a:lnTo>
                  <a:pt x="2408" y="192"/>
                </a:lnTo>
                <a:lnTo>
                  <a:pt x="2392" y="192"/>
                </a:lnTo>
                <a:lnTo>
                  <a:pt x="2377" y="194"/>
                </a:lnTo>
                <a:lnTo>
                  <a:pt x="2360" y="194"/>
                </a:lnTo>
                <a:lnTo>
                  <a:pt x="2343" y="196"/>
                </a:lnTo>
                <a:lnTo>
                  <a:pt x="2325" y="196"/>
                </a:lnTo>
                <a:lnTo>
                  <a:pt x="2306" y="196"/>
                </a:lnTo>
                <a:lnTo>
                  <a:pt x="2285" y="198"/>
                </a:lnTo>
                <a:lnTo>
                  <a:pt x="2264" y="198"/>
                </a:lnTo>
                <a:lnTo>
                  <a:pt x="2243" y="198"/>
                </a:lnTo>
                <a:lnTo>
                  <a:pt x="2220" y="198"/>
                </a:lnTo>
                <a:lnTo>
                  <a:pt x="2197" y="198"/>
                </a:lnTo>
                <a:lnTo>
                  <a:pt x="2174" y="198"/>
                </a:lnTo>
                <a:lnTo>
                  <a:pt x="2149" y="200"/>
                </a:lnTo>
                <a:lnTo>
                  <a:pt x="2122" y="200"/>
                </a:lnTo>
                <a:lnTo>
                  <a:pt x="2070" y="200"/>
                </a:lnTo>
                <a:lnTo>
                  <a:pt x="2016" y="200"/>
                </a:lnTo>
                <a:lnTo>
                  <a:pt x="1961" y="202"/>
                </a:lnTo>
                <a:lnTo>
                  <a:pt x="1905" y="203"/>
                </a:lnTo>
                <a:lnTo>
                  <a:pt x="1849" y="205"/>
                </a:lnTo>
                <a:lnTo>
                  <a:pt x="1792" y="209"/>
                </a:lnTo>
                <a:lnTo>
                  <a:pt x="1732" y="213"/>
                </a:lnTo>
                <a:lnTo>
                  <a:pt x="1674" y="217"/>
                </a:lnTo>
                <a:lnTo>
                  <a:pt x="1613" y="223"/>
                </a:lnTo>
                <a:lnTo>
                  <a:pt x="1554" y="226"/>
                </a:lnTo>
                <a:lnTo>
                  <a:pt x="1492" y="234"/>
                </a:lnTo>
                <a:lnTo>
                  <a:pt x="1429" y="240"/>
                </a:lnTo>
                <a:lnTo>
                  <a:pt x="1365" y="248"/>
                </a:lnTo>
                <a:lnTo>
                  <a:pt x="1302" y="255"/>
                </a:lnTo>
                <a:lnTo>
                  <a:pt x="1237" y="265"/>
                </a:lnTo>
                <a:lnTo>
                  <a:pt x="1171" y="272"/>
                </a:lnTo>
                <a:lnTo>
                  <a:pt x="1137" y="278"/>
                </a:lnTo>
                <a:lnTo>
                  <a:pt x="1106" y="284"/>
                </a:lnTo>
                <a:lnTo>
                  <a:pt x="1074" y="290"/>
                </a:lnTo>
                <a:lnTo>
                  <a:pt x="1043" y="295"/>
                </a:lnTo>
                <a:lnTo>
                  <a:pt x="1012" y="301"/>
                </a:lnTo>
                <a:lnTo>
                  <a:pt x="983" y="305"/>
                </a:lnTo>
                <a:lnTo>
                  <a:pt x="955" y="311"/>
                </a:lnTo>
                <a:lnTo>
                  <a:pt x="926" y="315"/>
                </a:lnTo>
                <a:lnTo>
                  <a:pt x="899" y="320"/>
                </a:lnTo>
                <a:lnTo>
                  <a:pt x="872" y="324"/>
                </a:lnTo>
                <a:lnTo>
                  <a:pt x="845" y="328"/>
                </a:lnTo>
                <a:lnTo>
                  <a:pt x="818" y="334"/>
                </a:lnTo>
                <a:lnTo>
                  <a:pt x="793" y="338"/>
                </a:lnTo>
                <a:lnTo>
                  <a:pt x="770" y="342"/>
                </a:lnTo>
                <a:lnTo>
                  <a:pt x="745" y="345"/>
                </a:lnTo>
                <a:lnTo>
                  <a:pt x="722" y="349"/>
                </a:lnTo>
                <a:lnTo>
                  <a:pt x="699" y="353"/>
                </a:lnTo>
                <a:lnTo>
                  <a:pt x="678" y="357"/>
                </a:lnTo>
                <a:lnTo>
                  <a:pt x="657" y="359"/>
                </a:lnTo>
                <a:lnTo>
                  <a:pt x="636" y="363"/>
                </a:lnTo>
                <a:lnTo>
                  <a:pt x="617" y="366"/>
                </a:lnTo>
                <a:lnTo>
                  <a:pt x="597" y="370"/>
                </a:lnTo>
                <a:lnTo>
                  <a:pt x="578" y="372"/>
                </a:lnTo>
                <a:lnTo>
                  <a:pt x="559" y="376"/>
                </a:lnTo>
                <a:lnTo>
                  <a:pt x="542" y="378"/>
                </a:lnTo>
                <a:lnTo>
                  <a:pt x="526" y="382"/>
                </a:lnTo>
                <a:lnTo>
                  <a:pt x="509" y="384"/>
                </a:lnTo>
                <a:lnTo>
                  <a:pt x="494" y="388"/>
                </a:lnTo>
                <a:lnTo>
                  <a:pt x="478" y="389"/>
                </a:lnTo>
                <a:lnTo>
                  <a:pt x="465" y="391"/>
                </a:lnTo>
                <a:lnTo>
                  <a:pt x="452" y="395"/>
                </a:lnTo>
                <a:lnTo>
                  <a:pt x="438" y="397"/>
                </a:lnTo>
                <a:lnTo>
                  <a:pt x="413" y="401"/>
                </a:lnTo>
                <a:lnTo>
                  <a:pt x="390" y="405"/>
                </a:lnTo>
                <a:lnTo>
                  <a:pt x="369" y="409"/>
                </a:lnTo>
                <a:lnTo>
                  <a:pt x="348" y="413"/>
                </a:lnTo>
                <a:lnTo>
                  <a:pt x="327" y="416"/>
                </a:lnTo>
                <a:lnTo>
                  <a:pt x="309" y="420"/>
                </a:lnTo>
                <a:lnTo>
                  <a:pt x="292" y="422"/>
                </a:lnTo>
                <a:lnTo>
                  <a:pt x="275" y="424"/>
                </a:lnTo>
                <a:lnTo>
                  <a:pt x="261" y="428"/>
                </a:lnTo>
                <a:lnTo>
                  <a:pt x="248" y="430"/>
                </a:lnTo>
                <a:lnTo>
                  <a:pt x="235" y="430"/>
                </a:lnTo>
                <a:lnTo>
                  <a:pt x="225" y="432"/>
                </a:lnTo>
                <a:lnTo>
                  <a:pt x="215" y="434"/>
                </a:lnTo>
                <a:lnTo>
                  <a:pt x="208" y="434"/>
                </a:lnTo>
                <a:lnTo>
                  <a:pt x="200" y="434"/>
                </a:lnTo>
                <a:lnTo>
                  <a:pt x="194" y="434"/>
                </a:lnTo>
                <a:lnTo>
                  <a:pt x="190" y="434"/>
                </a:lnTo>
                <a:lnTo>
                  <a:pt x="185" y="434"/>
                </a:lnTo>
                <a:lnTo>
                  <a:pt x="179" y="432"/>
                </a:lnTo>
                <a:lnTo>
                  <a:pt x="173" y="430"/>
                </a:lnTo>
                <a:lnTo>
                  <a:pt x="167" y="428"/>
                </a:lnTo>
                <a:lnTo>
                  <a:pt x="162" y="424"/>
                </a:lnTo>
                <a:lnTo>
                  <a:pt x="156" y="420"/>
                </a:lnTo>
                <a:lnTo>
                  <a:pt x="148" y="416"/>
                </a:lnTo>
                <a:lnTo>
                  <a:pt x="142" y="411"/>
                </a:lnTo>
                <a:lnTo>
                  <a:pt x="135" y="405"/>
                </a:lnTo>
                <a:lnTo>
                  <a:pt x="127" y="399"/>
                </a:lnTo>
                <a:lnTo>
                  <a:pt x="119" y="393"/>
                </a:lnTo>
                <a:lnTo>
                  <a:pt x="110" y="386"/>
                </a:lnTo>
                <a:lnTo>
                  <a:pt x="102" y="378"/>
                </a:lnTo>
                <a:lnTo>
                  <a:pt x="94" y="368"/>
                </a:lnTo>
                <a:lnTo>
                  <a:pt x="85" y="361"/>
                </a:lnTo>
                <a:lnTo>
                  <a:pt x="73" y="353"/>
                </a:lnTo>
                <a:lnTo>
                  <a:pt x="64" y="345"/>
                </a:lnTo>
                <a:lnTo>
                  <a:pt x="54" y="340"/>
                </a:lnTo>
                <a:lnTo>
                  <a:pt x="46" y="332"/>
                </a:lnTo>
                <a:lnTo>
                  <a:pt x="39" y="326"/>
                </a:lnTo>
                <a:lnTo>
                  <a:pt x="31" y="319"/>
                </a:lnTo>
                <a:lnTo>
                  <a:pt x="25" y="313"/>
                </a:lnTo>
                <a:lnTo>
                  <a:pt x="20" y="307"/>
                </a:lnTo>
                <a:lnTo>
                  <a:pt x="14" y="301"/>
                </a:lnTo>
                <a:lnTo>
                  <a:pt x="10" y="295"/>
                </a:lnTo>
                <a:lnTo>
                  <a:pt x="6" y="292"/>
                </a:lnTo>
                <a:lnTo>
                  <a:pt x="4" y="286"/>
                </a:lnTo>
                <a:lnTo>
                  <a:pt x="2" y="282"/>
                </a:lnTo>
                <a:lnTo>
                  <a:pt x="0" y="278"/>
                </a:lnTo>
                <a:lnTo>
                  <a:pt x="0" y="276"/>
                </a:lnTo>
                <a:lnTo>
                  <a:pt x="0" y="272"/>
                </a:lnTo>
                <a:lnTo>
                  <a:pt x="0" y="271"/>
                </a:lnTo>
                <a:lnTo>
                  <a:pt x="0" y="269"/>
                </a:lnTo>
                <a:lnTo>
                  <a:pt x="4" y="267"/>
                </a:lnTo>
                <a:lnTo>
                  <a:pt x="6" y="267"/>
                </a:lnTo>
                <a:lnTo>
                  <a:pt x="10" y="265"/>
                </a:lnTo>
                <a:lnTo>
                  <a:pt x="16" y="263"/>
                </a:lnTo>
                <a:lnTo>
                  <a:pt x="22" y="263"/>
                </a:lnTo>
                <a:lnTo>
                  <a:pt x="29" y="263"/>
                </a:lnTo>
                <a:lnTo>
                  <a:pt x="37" y="261"/>
                </a:lnTo>
                <a:lnTo>
                  <a:pt x="45" y="261"/>
                </a:lnTo>
                <a:lnTo>
                  <a:pt x="56" y="261"/>
                </a:lnTo>
                <a:lnTo>
                  <a:pt x="66" y="261"/>
                </a:lnTo>
                <a:lnTo>
                  <a:pt x="79" y="261"/>
                </a:lnTo>
                <a:lnTo>
                  <a:pt x="93" y="261"/>
                </a:lnTo>
                <a:lnTo>
                  <a:pt x="106" y="261"/>
                </a:lnTo>
                <a:lnTo>
                  <a:pt x="121" y="261"/>
                </a:lnTo>
                <a:lnTo>
                  <a:pt x="129" y="261"/>
                </a:lnTo>
                <a:lnTo>
                  <a:pt x="137" y="261"/>
                </a:lnTo>
                <a:lnTo>
                  <a:pt x="144" y="261"/>
                </a:lnTo>
                <a:lnTo>
                  <a:pt x="154" y="259"/>
                </a:lnTo>
                <a:lnTo>
                  <a:pt x="165" y="259"/>
                </a:lnTo>
                <a:lnTo>
                  <a:pt x="175" y="259"/>
                </a:lnTo>
                <a:lnTo>
                  <a:pt x="187" y="259"/>
                </a:lnTo>
                <a:lnTo>
                  <a:pt x="200" y="259"/>
                </a:lnTo>
                <a:lnTo>
                  <a:pt x="212" y="257"/>
                </a:lnTo>
                <a:lnTo>
                  <a:pt x="225" y="257"/>
                </a:lnTo>
                <a:lnTo>
                  <a:pt x="240" y="255"/>
                </a:lnTo>
                <a:lnTo>
                  <a:pt x="256" y="255"/>
                </a:lnTo>
                <a:lnTo>
                  <a:pt x="271" y="253"/>
                </a:lnTo>
                <a:lnTo>
                  <a:pt x="288" y="253"/>
                </a:lnTo>
                <a:lnTo>
                  <a:pt x="306" y="251"/>
                </a:lnTo>
                <a:lnTo>
                  <a:pt x="323" y="249"/>
                </a:lnTo>
                <a:lnTo>
                  <a:pt x="342" y="249"/>
                </a:lnTo>
                <a:lnTo>
                  <a:pt x="361" y="248"/>
                </a:lnTo>
                <a:lnTo>
                  <a:pt x="381" y="246"/>
                </a:lnTo>
                <a:lnTo>
                  <a:pt x="402" y="244"/>
                </a:lnTo>
                <a:lnTo>
                  <a:pt x="423" y="242"/>
                </a:lnTo>
                <a:lnTo>
                  <a:pt x="446" y="240"/>
                </a:lnTo>
                <a:lnTo>
                  <a:pt x="469" y="238"/>
                </a:lnTo>
                <a:lnTo>
                  <a:pt x="492" y="234"/>
                </a:lnTo>
                <a:lnTo>
                  <a:pt x="517" y="232"/>
                </a:lnTo>
                <a:lnTo>
                  <a:pt x="542" y="230"/>
                </a:lnTo>
                <a:lnTo>
                  <a:pt x="567" y="226"/>
                </a:lnTo>
                <a:lnTo>
                  <a:pt x="594" y="225"/>
                </a:lnTo>
                <a:lnTo>
                  <a:pt x="620" y="221"/>
                </a:lnTo>
                <a:lnTo>
                  <a:pt x="649" y="219"/>
                </a:lnTo>
                <a:lnTo>
                  <a:pt x="678" y="215"/>
                </a:lnTo>
                <a:lnTo>
                  <a:pt x="707" y="211"/>
                </a:lnTo>
                <a:lnTo>
                  <a:pt x="935" y="182"/>
                </a:lnTo>
                <a:lnTo>
                  <a:pt x="1049" y="169"/>
                </a:lnTo>
                <a:lnTo>
                  <a:pt x="1164" y="154"/>
                </a:lnTo>
                <a:lnTo>
                  <a:pt x="1275" y="138"/>
                </a:lnTo>
                <a:lnTo>
                  <a:pt x="1388" y="123"/>
                </a:lnTo>
                <a:lnTo>
                  <a:pt x="1500" y="106"/>
                </a:lnTo>
                <a:lnTo>
                  <a:pt x="1609" y="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62"/>
          <p:cNvSpPr/>
          <p:nvPr/>
        </p:nvSpPr>
        <p:spPr>
          <a:xfrm>
            <a:off x="6780240" y="4492800"/>
            <a:ext cx="507960" cy="460080"/>
          </a:xfrm>
          <a:custGeom>
            <a:avLst/>
            <a:gdLst/>
            <a:ahLst/>
            <a:rect l="l" t="t" r="r" b="b"/>
            <a:pathLst>
              <a:path w="640" h="579">
                <a:moveTo>
                  <a:pt x="0" y="25"/>
                </a:moveTo>
                <a:lnTo>
                  <a:pt x="0" y="23"/>
                </a:lnTo>
                <a:lnTo>
                  <a:pt x="2" y="21"/>
                </a:lnTo>
                <a:lnTo>
                  <a:pt x="2" y="19"/>
                </a:lnTo>
                <a:lnTo>
                  <a:pt x="4" y="15"/>
                </a:lnTo>
                <a:lnTo>
                  <a:pt x="8" y="13"/>
                </a:lnTo>
                <a:lnTo>
                  <a:pt x="10" y="12"/>
                </a:lnTo>
                <a:lnTo>
                  <a:pt x="18" y="8"/>
                </a:lnTo>
                <a:lnTo>
                  <a:pt x="25" y="6"/>
                </a:lnTo>
                <a:lnTo>
                  <a:pt x="37" y="2"/>
                </a:lnTo>
                <a:lnTo>
                  <a:pt x="48" y="2"/>
                </a:lnTo>
                <a:lnTo>
                  <a:pt x="62" y="0"/>
                </a:lnTo>
                <a:lnTo>
                  <a:pt x="67" y="0"/>
                </a:lnTo>
                <a:lnTo>
                  <a:pt x="77" y="2"/>
                </a:lnTo>
                <a:lnTo>
                  <a:pt x="85" y="2"/>
                </a:lnTo>
                <a:lnTo>
                  <a:pt x="92" y="2"/>
                </a:lnTo>
                <a:lnTo>
                  <a:pt x="102" y="4"/>
                </a:lnTo>
                <a:lnTo>
                  <a:pt x="114" y="6"/>
                </a:lnTo>
                <a:lnTo>
                  <a:pt x="123" y="8"/>
                </a:lnTo>
                <a:lnTo>
                  <a:pt x="135" y="10"/>
                </a:lnTo>
                <a:lnTo>
                  <a:pt x="146" y="12"/>
                </a:lnTo>
                <a:lnTo>
                  <a:pt x="160" y="15"/>
                </a:lnTo>
                <a:lnTo>
                  <a:pt x="171" y="17"/>
                </a:lnTo>
                <a:lnTo>
                  <a:pt x="185" y="21"/>
                </a:lnTo>
                <a:lnTo>
                  <a:pt x="200" y="25"/>
                </a:lnTo>
                <a:lnTo>
                  <a:pt x="213" y="29"/>
                </a:lnTo>
                <a:lnTo>
                  <a:pt x="229" y="33"/>
                </a:lnTo>
                <a:lnTo>
                  <a:pt x="244" y="38"/>
                </a:lnTo>
                <a:lnTo>
                  <a:pt x="277" y="52"/>
                </a:lnTo>
                <a:lnTo>
                  <a:pt x="307" y="67"/>
                </a:lnTo>
                <a:lnTo>
                  <a:pt x="336" y="84"/>
                </a:lnTo>
                <a:lnTo>
                  <a:pt x="367" y="102"/>
                </a:lnTo>
                <a:lnTo>
                  <a:pt x="396" y="121"/>
                </a:lnTo>
                <a:lnTo>
                  <a:pt x="426" y="142"/>
                </a:lnTo>
                <a:lnTo>
                  <a:pt x="457" y="163"/>
                </a:lnTo>
                <a:lnTo>
                  <a:pt x="488" y="186"/>
                </a:lnTo>
                <a:lnTo>
                  <a:pt x="503" y="198"/>
                </a:lnTo>
                <a:lnTo>
                  <a:pt x="519" y="211"/>
                </a:lnTo>
                <a:lnTo>
                  <a:pt x="532" y="223"/>
                </a:lnTo>
                <a:lnTo>
                  <a:pt x="546" y="236"/>
                </a:lnTo>
                <a:lnTo>
                  <a:pt x="557" y="247"/>
                </a:lnTo>
                <a:lnTo>
                  <a:pt x="569" y="261"/>
                </a:lnTo>
                <a:lnTo>
                  <a:pt x="580" y="274"/>
                </a:lnTo>
                <a:lnTo>
                  <a:pt x="590" y="288"/>
                </a:lnTo>
                <a:lnTo>
                  <a:pt x="597" y="303"/>
                </a:lnTo>
                <a:lnTo>
                  <a:pt x="605" y="317"/>
                </a:lnTo>
                <a:lnTo>
                  <a:pt x="613" y="332"/>
                </a:lnTo>
                <a:lnTo>
                  <a:pt x="618" y="347"/>
                </a:lnTo>
                <a:lnTo>
                  <a:pt x="624" y="363"/>
                </a:lnTo>
                <a:lnTo>
                  <a:pt x="628" y="378"/>
                </a:lnTo>
                <a:lnTo>
                  <a:pt x="632" y="393"/>
                </a:lnTo>
                <a:lnTo>
                  <a:pt x="636" y="409"/>
                </a:lnTo>
                <a:lnTo>
                  <a:pt x="638" y="426"/>
                </a:lnTo>
                <a:lnTo>
                  <a:pt x="638" y="439"/>
                </a:lnTo>
                <a:lnTo>
                  <a:pt x="640" y="455"/>
                </a:lnTo>
                <a:lnTo>
                  <a:pt x="640" y="468"/>
                </a:lnTo>
                <a:lnTo>
                  <a:pt x="640" y="480"/>
                </a:lnTo>
                <a:lnTo>
                  <a:pt x="640" y="491"/>
                </a:lnTo>
                <a:lnTo>
                  <a:pt x="640" y="503"/>
                </a:lnTo>
                <a:lnTo>
                  <a:pt x="638" y="512"/>
                </a:lnTo>
                <a:lnTo>
                  <a:pt x="636" y="522"/>
                </a:lnTo>
                <a:lnTo>
                  <a:pt x="636" y="531"/>
                </a:lnTo>
                <a:lnTo>
                  <a:pt x="634" y="539"/>
                </a:lnTo>
                <a:lnTo>
                  <a:pt x="632" y="547"/>
                </a:lnTo>
                <a:lnTo>
                  <a:pt x="630" y="554"/>
                </a:lnTo>
                <a:lnTo>
                  <a:pt x="626" y="560"/>
                </a:lnTo>
                <a:lnTo>
                  <a:pt x="624" y="566"/>
                </a:lnTo>
                <a:lnTo>
                  <a:pt x="622" y="570"/>
                </a:lnTo>
                <a:lnTo>
                  <a:pt x="613" y="574"/>
                </a:lnTo>
                <a:lnTo>
                  <a:pt x="601" y="577"/>
                </a:lnTo>
                <a:lnTo>
                  <a:pt x="590" y="579"/>
                </a:lnTo>
                <a:lnTo>
                  <a:pt x="578" y="579"/>
                </a:lnTo>
                <a:lnTo>
                  <a:pt x="565" y="579"/>
                </a:lnTo>
                <a:lnTo>
                  <a:pt x="551" y="577"/>
                </a:lnTo>
                <a:lnTo>
                  <a:pt x="538" y="574"/>
                </a:lnTo>
                <a:lnTo>
                  <a:pt x="524" y="570"/>
                </a:lnTo>
                <a:lnTo>
                  <a:pt x="515" y="564"/>
                </a:lnTo>
                <a:lnTo>
                  <a:pt x="505" y="558"/>
                </a:lnTo>
                <a:lnTo>
                  <a:pt x="492" y="549"/>
                </a:lnTo>
                <a:lnTo>
                  <a:pt x="478" y="537"/>
                </a:lnTo>
                <a:lnTo>
                  <a:pt x="465" y="526"/>
                </a:lnTo>
                <a:lnTo>
                  <a:pt x="450" y="512"/>
                </a:lnTo>
                <a:lnTo>
                  <a:pt x="432" y="497"/>
                </a:lnTo>
                <a:lnTo>
                  <a:pt x="415" y="480"/>
                </a:lnTo>
                <a:lnTo>
                  <a:pt x="396" y="460"/>
                </a:lnTo>
                <a:lnTo>
                  <a:pt x="377" y="441"/>
                </a:lnTo>
                <a:lnTo>
                  <a:pt x="355" y="418"/>
                </a:lnTo>
                <a:lnTo>
                  <a:pt x="332" y="395"/>
                </a:lnTo>
                <a:lnTo>
                  <a:pt x="309" y="370"/>
                </a:lnTo>
                <a:lnTo>
                  <a:pt x="284" y="343"/>
                </a:lnTo>
                <a:lnTo>
                  <a:pt x="259" y="315"/>
                </a:lnTo>
                <a:lnTo>
                  <a:pt x="233" y="286"/>
                </a:lnTo>
                <a:lnTo>
                  <a:pt x="217" y="270"/>
                </a:lnTo>
                <a:lnTo>
                  <a:pt x="204" y="255"/>
                </a:lnTo>
                <a:lnTo>
                  <a:pt x="177" y="228"/>
                </a:lnTo>
                <a:lnTo>
                  <a:pt x="152" y="201"/>
                </a:lnTo>
                <a:lnTo>
                  <a:pt x="129" y="178"/>
                </a:lnTo>
                <a:lnTo>
                  <a:pt x="110" y="155"/>
                </a:lnTo>
                <a:lnTo>
                  <a:pt x="91" y="134"/>
                </a:lnTo>
                <a:lnTo>
                  <a:pt x="73" y="115"/>
                </a:lnTo>
                <a:lnTo>
                  <a:pt x="58" y="100"/>
                </a:lnTo>
                <a:lnTo>
                  <a:pt x="44" y="84"/>
                </a:lnTo>
                <a:lnTo>
                  <a:pt x="33" y="69"/>
                </a:lnTo>
                <a:lnTo>
                  <a:pt x="23" y="58"/>
                </a:lnTo>
                <a:lnTo>
                  <a:pt x="14" y="48"/>
                </a:lnTo>
                <a:lnTo>
                  <a:pt x="8" y="40"/>
                </a:lnTo>
                <a:lnTo>
                  <a:pt x="4" y="33"/>
                </a:lnTo>
                <a:lnTo>
                  <a:pt x="0" y="29"/>
                </a:lnTo>
                <a:lnTo>
                  <a:pt x="0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督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3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1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宽下窄，下面的“目”不宜过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29"/>
          <p:cNvSpPr/>
          <p:nvPr/>
        </p:nvSpPr>
        <p:spPr>
          <a:xfrm>
            <a:off x="6100920" y="3957480"/>
            <a:ext cx="149040" cy="1013040"/>
          </a:xfrm>
          <a:custGeom>
            <a:avLst/>
            <a:gdLst/>
            <a:ahLst/>
            <a:rect l="l" t="t" r="r" b="b"/>
            <a:pathLst>
              <a:path w="188" h="1278">
                <a:moveTo>
                  <a:pt x="54" y="495"/>
                </a:moveTo>
                <a:lnTo>
                  <a:pt x="54" y="470"/>
                </a:lnTo>
                <a:lnTo>
                  <a:pt x="54" y="447"/>
                </a:lnTo>
                <a:lnTo>
                  <a:pt x="54" y="424"/>
                </a:lnTo>
                <a:lnTo>
                  <a:pt x="54" y="403"/>
                </a:lnTo>
                <a:lnTo>
                  <a:pt x="54" y="382"/>
                </a:lnTo>
                <a:lnTo>
                  <a:pt x="54" y="363"/>
                </a:lnTo>
                <a:lnTo>
                  <a:pt x="52" y="344"/>
                </a:lnTo>
                <a:lnTo>
                  <a:pt x="52" y="326"/>
                </a:lnTo>
                <a:lnTo>
                  <a:pt x="52" y="309"/>
                </a:lnTo>
                <a:lnTo>
                  <a:pt x="50" y="292"/>
                </a:lnTo>
                <a:lnTo>
                  <a:pt x="50" y="276"/>
                </a:lnTo>
                <a:lnTo>
                  <a:pt x="48" y="263"/>
                </a:lnTo>
                <a:lnTo>
                  <a:pt x="48" y="250"/>
                </a:lnTo>
                <a:lnTo>
                  <a:pt x="46" y="236"/>
                </a:lnTo>
                <a:lnTo>
                  <a:pt x="44" y="223"/>
                </a:lnTo>
                <a:lnTo>
                  <a:pt x="42" y="211"/>
                </a:lnTo>
                <a:lnTo>
                  <a:pt x="39" y="194"/>
                </a:lnTo>
                <a:lnTo>
                  <a:pt x="35" y="177"/>
                </a:lnTo>
                <a:lnTo>
                  <a:pt x="33" y="159"/>
                </a:lnTo>
                <a:lnTo>
                  <a:pt x="31" y="144"/>
                </a:lnTo>
                <a:lnTo>
                  <a:pt x="31" y="129"/>
                </a:lnTo>
                <a:lnTo>
                  <a:pt x="29" y="115"/>
                </a:lnTo>
                <a:lnTo>
                  <a:pt x="29" y="87"/>
                </a:lnTo>
                <a:lnTo>
                  <a:pt x="31" y="73"/>
                </a:lnTo>
                <a:lnTo>
                  <a:pt x="33" y="62"/>
                </a:lnTo>
                <a:lnTo>
                  <a:pt x="35" y="50"/>
                </a:lnTo>
                <a:lnTo>
                  <a:pt x="41" y="39"/>
                </a:lnTo>
                <a:lnTo>
                  <a:pt x="46" y="29"/>
                </a:lnTo>
                <a:lnTo>
                  <a:pt x="50" y="25"/>
                </a:lnTo>
                <a:lnTo>
                  <a:pt x="56" y="19"/>
                </a:lnTo>
                <a:lnTo>
                  <a:pt x="60" y="14"/>
                </a:lnTo>
                <a:lnTo>
                  <a:pt x="66" y="10"/>
                </a:lnTo>
                <a:lnTo>
                  <a:pt x="71" y="6"/>
                </a:lnTo>
                <a:lnTo>
                  <a:pt x="79" y="0"/>
                </a:lnTo>
                <a:lnTo>
                  <a:pt x="133" y="19"/>
                </a:lnTo>
                <a:lnTo>
                  <a:pt x="188" y="39"/>
                </a:lnTo>
                <a:lnTo>
                  <a:pt x="188" y="75"/>
                </a:lnTo>
                <a:lnTo>
                  <a:pt x="188" y="112"/>
                </a:lnTo>
                <a:lnTo>
                  <a:pt x="188" y="146"/>
                </a:lnTo>
                <a:lnTo>
                  <a:pt x="188" y="182"/>
                </a:lnTo>
                <a:lnTo>
                  <a:pt x="188" y="217"/>
                </a:lnTo>
                <a:lnTo>
                  <a:pt x="186" y="252"/>
                </a:lnTo>
                <a:lnTo>
                  <a:pt x="186" y="286"/>
                </a:lnTo>
                <a:lnTo>
                  <a:pt x="186" y="319"/>
                </a:lnTo>
                <a:lnTo>
                  <a:pt x="186" y="351"/>
                </a:lnTo>
                <a:lnTo>
                  <a:pt x="185" y="384"/>
                </a:lnTo>
                <a:lnTo>
                  <a:pt x="185" y="415"/>
                </a:lnTo>
                <a:lnTo>
                  <a:pt x="185" y="447"/>
                </a:lnTo>
                <a:lnTo>
                  <a:pt x="183" y="478"/>
                </a:lnTo>
                <a:lnTo>
                  <a:pt x="183" y="507"/>
                </a:lnTo>
                <a:lnTo>
                  <a:pt x="181" y="537"/>
                </a:lnTo>
                <a:lnTo>
                  <a:pt x="181" y="566"/>
                </a:lnTo>
                <a:lnTo>
                  <a:pt x="181" y="595"/>
                </a:lnTo>
                <a:lnTo>
                  <a:pt x="179" y="622"/>
                </a:lnTo>
                <a:lnTo>
                  <a:pt x="179" y="649"/>
                </a:lnTo>
                <a:lnTo>
                  <a:pt x="177" y="676"/>
                </a:lnTo>
                <a:lnTo>
                  <a:pt x="177" y="702"/>
                </a:lnTo>
                <a:lnTo>
                  <a:pt x="175" y="727"/>
                </a:lnTo>
                <a:lnTo>
                  <a:pt x="173" y="754"/>
                </a:lnTo>
                <a:lnTo>
                  <a:pt x="173" y="777"/>
                </a:lnTo>
                <a:lnTo>
                  <a:pt x="171" y="802"/>
                </a:lnTo>
                <a:lnTo>
                  <a:pt x="171" y="825"/>
                </a:lnTo>
                <a:lnTo>
                  <a:pt x="169" y="848"/>
                </a:lnTo>
                <a:lnTo>
                  <a:pt x="169" y="871"/>
                </a:lnTo>
                <a:lnTo>
                  <a:pt x="167" y="892"/>
                </a:lnTo>
                <a:lnTo>
                  <a:pt x="165" y="913"/>
                </a:lnTo>
                <a:lnTo>
                  <a:pt x="165" y="934"/>
                </a:lnTo>
                <a:lnTo>
                  <a:pt x="163" y="954"/>
                </a:lnTo>
                <a:lnTo>
                  <a:pt x="161" y="975"/>
                </a:lnTo>
                <a:lnTo>
                  <a:pt x="160" y="994"/>
                </a:lnTo>
                <a:lnTo>
                  <a:pt x="158" y="1013"/>
                </a:lnTo>
                <a:lnTo>
                  <a:pt x="156" y="1032"/>
                </a:lnTo>
                <a:lnTo>
                  <a:pt x="152" y="1051"/>
                </a:lnTo>
                <a:lnTo>
                  <a:pt x="150" y="1069"/>
                </a:lnTo>
                <a:lnTo>
                  <a:pt x="148" y="1084"/>
                </a:lnTo>
                <a:lnTo>
                  <a:pt x="146" y="1101"/>
                </a:lnTo>
                <a:lnTo>
                  <a:pt x="144" y="1117"/>
                </a:lnTo>
                <a:lnTo>
                  <a:pt x="140" y="1130"/>
                </a:lnTo>
                <a:lnTo>
                  <a:pt x="138" y="1144"/>
                </a:lnTo>
                <a:lnTo>
                  <a:pt x="137" y="1157"/>
                </a:lnTo>
                <a:lnTo>
                  <a:pt x="135" y="1170"/>
                </a:lnTo>
                <a:lnTo>
                  <a:pt x="133" y="1182"/>
                </a:lnTo>
                <a:lnTo>
                  <a:pt x="129" y="1193"/>
                </a:lnTo>
                <a:lnTo>
                  <a:pt x="127" y="1203"/>
                </a:lnTo>
                <a:lnTo>
                  <a:pt x="125" y="1215"/>
                </a:lnTo>
                <a:lnTo>
                  <a:pt x="123" y="1222"/>
                </a:lnTo>
                <a:lnTo>
                  <a:pt x="121" y="1232"/>
                </a:lnTo>
                <a:lnTo>
                  <a:pt x="117" y="1239"/>
                </a:lnTo>
                <a:lnTo>
                  <a:pt x="115" y="1245"/>
                </a:lnTo>
                <a:lnTo>
                  <a:pt x="113" y="1253"/>
                </a:lnTo>
                <a:lnTo>
                  <a:pt x="112" y="1259"/>
                </a:lnTo>
                <a:lnTo>
                  <a:pt x="110" y="1263"/>
                </a:lnTo>
                <a:lnTo>
                  <a:pt x="108" y="1266"/>
                </a:lnTo>
                <a:lnTo>
                  <a:pt x="104" y="1270"/>
                </a:lnTo>
                <a:lnTo>
                  <a:pt x="102" y="1274"/>
                </a:lnTo>
                <a:lnTo>
                  <a:pt x="100" y="1276"/>
                </a:lnTo>
                <a:lnTo>
                  <a:pt x="98" y="1276"/>
                </a:lnTo>
                <a:lnTo>
                  <a:pt x="96" y="1278"/>
                </a:lnTo>
                <a:lnTo>
                  <a:pt x="92" y="1278"/>
                </a:lnTo>
                <a:lnTo>
                  <a:pt x="90" y="1276"/>
                </a:lnTo>
                <a:lnTo>
                  <a:pt x="87" y="1274"/>
                </a:lnTo>
                <a:lnTo>
                  <a:pt x="81" y="1270"/>
                </a:lnTo>
                <a:lnTo>
                  <a:pt x="77" y="1266"/>
                </a:lnTo>
                <a:lnTo>
                  <a:pt x="73" y="1263"/>
                </a:lnTo>
                <a:lnTo>
                  <a:pt x="67" y="1257"/>
                </a:lnTo>
                <a:lnTo>
                  <a:pt x="64" y="1253"/>
                </a:lnTo>
                <a:lnTo>
                  <a:pt x="60" y="1245"/>
                </a:lnTo>
                <a:lnTo>
                  <a:pt x="56" y="1239"/>
                </a:lnTo>
                <a:lnTo>
                  <a:pt x="52" y="1232"/>
                </a:lnTo>
                <a:lnTo>
                  <a:pt x="48" y="1224"/>
                </a:lnTo>
                <a:lnTo>
                  <a:pt x="44" y="1216"/>
                </a:lnTo>
                <a:lnTo>
                  <a:pt x="41" y="1207"/>
                </a:lnTo>
                <a:lnTo>
                  <a:pt x="37" y="1197"/>
                </a:lnTo>
                <a:lnTo>
                  <a:pt x="35" y="1188"/>
                </a:lnTo>
                <a:lnTo>
                  <a:pt x="33" y="1176"/>
                </a:lnTo>
                <a:lnTo>
                  <a:pt x="29" y="1165"/>
                </a:lnTo>
                <a:lnTo>
                  <a:pt x="21" y="1142"/>
                </a:lnTo>
                <a:lnTo>
                  <a:pt x="14" y="1121"/>
                </a:lnTo>
                <a:lnTo>
                  <a:pt x="8" y="1101"/>
                </a:lnTo>
                <a:lnTo>
                  <a:pt x="4" y="1082"/>
                </a:lnTo>
                <a:lnTo>
                  <a:pt x="2" y="1067"/>
                </a:lnTo>
                <a:lnTo>
                  <a:pt x="0" y="1059"/>
                </a:lnTo>
                <a:lnTo>
                  <a:pt x="0" y="1051"/>
                </a:lnTo>
                <a:lnTo>
                  <a:pt x="0" y="1046"/>
                </a:lnTo>
                <a:lnTo>
                  <a:pt x="2" y="1040"/>
                </a:lnTo>
                <a:lnTo>
                  <a:pt x="2" y="1034"/>
                </a:lnTo>
                <a:lnTo>
                  <a:pt x="6" y="1028"/>
                </a:lnTo>
                <a:lnTo>
                  <a:pt x="6" y="1025"/>
                </a:lnTo>
                <a:lnTo>
                  <a:pt x="6" y="1017"/>
                </a:lnTo>
                <a:lnTo>
                  <a:pt x="6" y="1011"/>
                </a:lnTo>
                <a:lnTo>
                  <a:pt x="8" y="1004"/>
                </a:lnTo>
                <a:lnTo>
                  <a:pt x="8" y="994"/>
                </a:lnTo>
                <a:lnTo>
                  <a:pt x="10" y="986"/>
                </a:lnTo>
                <a:lnTo>
                  <a:pt x="12" y="975"/>
                </a:lnTo>
                <a:lnTo>
                  <a:pt x="14" y="963"/>
                </a:lnTo>
                <a:lnTo>
                  <a:pt x="14" y="952"/>
                </a:lnTo>
                <a:lnTo>
                  <a:pt x="16" y="938"/>
                </a:lnTo>
                <a:lnTo>
                  <a:pt x="19" y="925"/>
                </a:lnTo>
                <a:lnTo>
                  <a:pt x="21" y="910"/>
                </a:lnTo>
                <a:lnTo>
                  <a:pt x="23" y="894"/>
                </a:lnTo>
                <a:lnTo>
                  <a:pt x="25" y="879"/>
                </a:lnTo>
                <a:lnTo>
                  <a:pt x="27" y="862"/>
                </a:lnTo>
                <a:lnTo>
                  <a:pt x="29" y="842"/>
                </a:lnTo>
                <a:lnTo>
                  <a:pt x="35" y="806"/>
                </a:lnTo>
                <a:lnTo>
                  <a:pt x="39" y="766"/>
                </a:lnTo>
                <a:lnTo>
                  <a:pt x="42" y="725"/>
                </a:lnTo>
                <a:lnTo>
                  <a:pt x="46" y="683"/>
                </a:lnTo>
                <a:lnTo>
                  <a:pt x="50" y="639"/>
                </a:lnTo>
                <a:lnTo>
                  <a:pt x="50" y="616"/>
                </a:lnTo>
                <a:lnTo>
                  <a:pt x="52" y="593"/>
                </a:lnTo>
                <a:lnTo>
                  <a:pt x="52" y="570"/>
                </a:lnTo>
                <a:lnTo>
                  <a:pt x="54" y="545"/>
                </a:lnTo>
                <a:lnTo>
                  <a:pt x="54" y="520"/>
                </a:lnTo>
                <a:lnTo>
                  <a:pt x="54" y="4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30"/>
          <p:cNvSpPr/>
          <p:nvPr/>
        </p:nvSpPr>
        <p:spPr>
          <a:xfrm>
            <a:off x="6200640" y="3859200"/>
            <a:ext cx="873360" cy="1220760"/>
          </a:xfrm>
          <a:custGeom>
            <a:avLst/>
            <a:gdLst/>
            <a:ahLst/>
            <a:rect l="l" t="t" r="r" b="b"/>
            <a:pathLst>
              <a:path w="1098" h="1537">
                <a:moveTo>
                  <a:pt x="0" y="259"/>
                </a:moveTo>
                <a:lnTo>
                  <a:pt x="0" y="162"/>
                </a:lnTo>
                <a:lnTo>
                  <a:pt x="21" y="160"/>
                </a:lnTo>
                <a:lnTo>
                  <a:pt x="44" y="160"/>
                </a:lnTo>
                <a:lnTo>
                  <a:pt x="65" y="160"/>
                </a:lnTo>
                <a:lnTo>
                  <a:pt x="90" y="158"/>
                </a:lnTo>
                <a:lnTo>
                  <a:pt x="115" y="158"/>
                </a:lnTo>
                <a:lnTo>
                  <a:pt x="140" y="156"/>
                </a:lnTo>
                <a:lnTo>
                  <a:pt x="165" y="152"/>
                </a:lnTo>
                <a:lnTo>
                  <a:pt x="192" y="150"/>
                </a:lnTo>
                <a:lnTo>
                  <a:pt x="221" y="146"/>
                </a:lnTo>
                <a:lnTo>
                  <a:pt x="250" y="144"/>
                </a:lnTo>
                <a:lnTo>
                  <a:pt x="278" y="139"/>
                </a:lnTo>
                <a:lnTo>
                  <a:pt x="309" y="135"/>
                </a:lnTo>
                <a:lnTo>
                  <a:pt x="340" y="129"/>
                </a:lnTo>
                <a:lnTo>
                  <a:pt x="372" y="125"/>
                </a:lnTo>
                <a:lnTo>
                  <a:pt x="405" y="117"/>
                </a:lnTo>
                <a:lnTo>
                  <a:pt x="440" y="112"/>
                </a:lnTo>
                <a:lnTo>
                  <a:pt x="472" y="104"/>
                </a:lnTo>
                <a:lnTo>
                  <a:pt x="505" y="98"/>
                </a:lnTo>
                <a:lnTo>
                  <a:pt x="536" y="91"/>
                </a:lnTo>
                <a:lnTo>
                  <a:pt x="562" y="85"/>
                </a:lnTo>
                <a:lnTo>
                  <a:pt x="589" y="79"/>
                </a:lnTo>
                <a:lnTo>
                  <a:pt x="614" y="73"/>
                </a:lnTo>
                <a:lnTo>
                  <a:pt x="637" y="68"/>
                </a:lnTo>
                <a:lnTo>
                  <a:pt x="658" y="64"/>
                </a:lnTo>
                <a:lnTo>
                  <a:pt x="678" y="58"/>
                </a:lnTo>
                <a:lnTo>
                  <a:pt x="693" y="52"/>
                </a:lnTo>
                <a:lnTo>
                  <a:pt x="708" y="48"/>
                </a:lnTo>
                <a:lnTo>
                  <a:pt x="716" y="47"/>
                </a:lnTo>
                <a:lnTo>
                  <a:pt x="722" y="43"/>
                </a:lnTo>
                <a:lnTo>
                  <a:pt x="729" y="41"/>
                </a:lnTo>
                <a:lnTo>
                  <a:pt x="733" y="39"/>
                </a:lnTo>
                <a:lnTo>
                  <a:pt x="739" y="37"/>
                </a:lnTo>
                <a:lnTo>
                  <a:pt x="743" y="33"/>
                </a:lnTo>
                <a:lnTo>
                  <a:pt x="749" y="31"/>
                </a:lnTo>
                <a:lnTo>
                  <a:pt x="751" y="29"/>
                </a:lnTo>
                <a:lnTo>
                  <a:pt x="754" y="27"/>
                </a:lnTo>
                <a:lnTo>
                  <a:pt x="756" y="25"/>
                </a:lnTo>
                <a:lnTo>
                  <a:pt x="762" y="20"/>
                </a:lnTo>
                <a:lnTo>
                  <a:pt x="768" y="16"/>
                </a:lnTo>
                <a:lnTo>
                  <a:pt x="776" y="12"/>
                </a:lnTo>
                <a:lnTo>
                  <a:pt x="783" y="8"/>
                </a:lnTo>
                <a:lnTo>
                  <a:pt x="791" y="4"/>
                </a:lnTo>
                <a:lnTo>
                  <a:pt x="800" y="2"/>
                </a:lnTo>
                <a:lnTo>
                  <a:pt x="808" y="0"/>
                </a:lnTo>
                <a:lnTo>
                  <a:pt x="818" y="0"/>
                </a:lnTo>
                <a:lnTo>
                  <a:pt x="820" y="0"/>
                </a:lnTo>
                <a:lnTo>
                  <a:pt x="825" y="0"/>
                </a:lnTo>
                <a:lnTo>
                  <a:pt x="829" y="2"/>
                </a:lnTo>
                <a:lnTo>
                  <a:pt x="835" y="4"/>
                </a:lnTo>
                <a:lnTo>
                  <a:pt x="843" y="6"/>
                </a:lnTo>
                <a:lnTo>
                  <a:pt x="850" y="10"/>
                </a:lnTo>
                <a:lnTo>
                  <a:pt x="860" y="12"/>
                </a:lnTo>
                <a:lnTo>
                  <a:pt x="870" y="16"/>
                </a:lnTo>
                <a:lnTo>
                  <a:pt x="881" y="20"/>
                </a:lnTo>
                <a:lnTo>
                  <a:pt x="893" y="25"/>
                </a:lnTo>
                <a:lnTo>
                  <a:pt x="904" y="31"/>
                </a:lnTo>
                <a:lnTo>
                  <a:pt x="918" y="35"/>
                </a:lnTo>
                <a:lnTo>
                  <a:pt x="931" y="41"/>
                </a:lnTo>
                <a:lnTo>
                  <a:pt x="946" y="48"/>
                </a:lnTo>
                <a:lnTo>
                  <a:pt x="960" y="54"/>
                </a:lnTo>
                <a:lnTo>
                  <a:pt x="977" y="62"/>
                </a:lnTo>
                <a:lnTo>
                  <a:pt x="992" y="71"/>
                </a:lnTo>
                <a:lnTo>
                  <a:pt x="1006" y="79"/>
                </a:lnTo>
                <a:lnTo>
                  <a:pt x="1019" y="89"/>
                </a:lnTo>
                <a:lnTo>
                  <a:pt x="1031" y="96"/>
                </a:lnTo>
                <a:lnTo>
                  <a:pt x="1042" y="104"/>
                </a:lnTo>
                <a:lnTo>
                  <a:pt x="1052" y="112"/>
                </a:lnTo>
                <a:lnTo>
                  <a:pt x="1062" y="119"/>
                </a:lnTo>
                <a:lnTo>
                  <a:pt x="1069" y="125"/>
                </a:lnTo>
                <a:lnTo>
                  <a:pt x="1075" y="131"/>
                </a:lnTo>
                <a:lnTo>
                  <a:pt x="1083" y="137"/>
                </a:lnTo>
                <a:lnTo>
                  <a:pt x="1087" y="142"/>
                </a:lnTo>
                <a:lnTo>
                  <a:pt x="1090" y="146"/>
                </a:lnTo>
                <a:lnTo>
                  <a:pt x="1094" y="152"/>
                </a:lnTo>
                <a:lnTo>
                  <a:pt x="1096" y="156"/>
                </a:lnTo>
                <a:lnTo>
                  <a:pt x="1098" y="158"/>
                </a:lnTo>
                <a:lnTo>
                  <a:pt x="1098" y="162"/>
                </a:lnTo>
                <a:lnTo>
                  <a:pt x="1098" y="169"/>
                </a:lnTo>
                <a:lnTo>
                  <a:pt x="1096" y="179"/>
                </a:lnTo>
                <a:lnTo>
                  <a:pt x="1094" y="188"/>
                </a:lnTo>
                <a:lnTo>
                  <a:pt x="1090" y="198"/>
                </a:lnTo>
                <a:lnTo>
                  <a:pt x="1087" y="208"/>
                </a:lnTo>
                <a:lnTo>
                  <a:pt x="1083" y="217"/>
                </a:lnTo>
                <a:lnTo>
                  <a:pt x="1073" y="235"/>
                </a:lnTo>
                <a:lnTo>
                  <a:pt x="1071" y="242"/>
                </a:lnTo>
                <a:lnTo>
                  <a:pt x="1069" y="252"/>
                </a:lnTo>
                <a:lnTo>
                  <a:pt x="1067" y="261"/>
                </a:lnTo>
                <a:lnTo>
                  <a:pt x="1065" y="273"/>
                </a:lnTo>
                <a:lnTo>
                  <a:pt x="1064" y="284"/>
                </a:lnTo>
                <a:lnTo>
                  <a:pt x="1062" y="298"/>
                </a:lnTo>
                <a:lnTo>
                  <a:pt x="1060" y="313"/>
                </a:lnTo>
                <a:lnTo>
                  <a:pt x="1058" y="329"/>
                </a:lnTo>
                <a:lnTo>
                  <a:pt x="1058" y="348"/>
                </a:lnTo>
                <a:lnTo>
                  <a:pt x="1058" y="365"/>
                </a:lnTo>
                <a:lnTo>
                  <a:pt x="1056" y="386"/>
                </a:lnTo>
                <a:lnTo>
                  <a:pt x="1056" y="407"/>
                </a:lnTo>
                <a:lnTo>
                  <a:pt x="1058" y="430"/>
                </a:lnTo>
                <a:lnTo>
                  <a:pt x="1058" y="455"/>
                </a:lnTo>
                <a:lnTo>
                  <a:pt x="1060" y="480"/>
                </a:lnTo>
                <a:lnTo>
                  <a:pt x="1062" y="507"/>
                </a:lnTo>
                <a:lnTo>
                  <a:pt x="1065" y="564"/>
                </a:lnTo>
                <a:lnTo>
                  <a:pt x="1069" y="622"/>
                </a:lnTo>
                <a:lnTo>
                  <a:pt x="1071" y="681"/>
                </a:lnTo>
                <a:lnTo>
                  <a:pt x="1071" y="741"/>
                </a:lnTo>
                <a:lnTo>
                  <a:pt x="1073" y="804"/>
                </a:lnTo>
                <a:lnTo>
                  <a:pt x="1073" y="835"/>
                </a:lnTo>
                <a:lnTo>
                  <a:pt x="1073" y="868"/>
                </a:lnTo>
                <a:lnTo>
                  <a:pt x="1073" y="902"/>
                </a:lnTo>
                <a:lnTo>
                  <a:pt x="1073" y="935"/>
                </a:lnTo>
                <a:lnTo>
                  <a:pt x="1073" y="969"/>
                </a:lnTo>
                <a:lnTo>
                  <a:pt x="1073" y="1004"/>
                </a:lnTo>
                <a:lnTo>
                  <a:pt x="1073" y="1040"/>
                </a:lnTo>
                <a:lnTo>
                  <a:pt x="1073" y="1075"/>
                </a:lnTo>
                <a:lnTo>
                  <a:pt x="1071" y="1107"/>
                </a:lnTo>
                <a:lnTo>
                  <a:pt x="1069" y="1138"/>
                </a:lnTo>
                <a:lnTo>
                  <a:pt x="1065" y="1169"/>
                </a:lnTo>
                <a:lnTo>
                  <a:pt x="1064" y="1198"/>
                </a:lnTo>
                <a:lnTo>
                  <a:pt x="1060" y="1224"/>
                </a:lnTo>
                <a:lnTo>
                  <a:pt x="1056" y="1249"/>
                </a:lnTo>
                <a:lnTo>
                  <a:pt x="1050" y="1274"/>
                </a:lnTo>
                <a:lnTo>
                  <a:pt x="1044" y="1297"/>
                </a:lnTo>
                <a:lnTo>
                  <a:pt x="1039" y="1318"/>
                </a:lnTo>
                <a:lnTo>
                  <a:pt x="1033" y="1339"/>
                </a:lnTo>
                <a:lnTo>
                  <a:pt x="1025" y="1359"/>
                </a:lnTo>
                <a:lnTo>
                  <a:pt x="1017" y="1378"/>
                </a:lnTo>
                <a:lnTo>
                  <a:pt x="1010" y="1395"/>
                </a:lnTo>
                <a:lnTo>
                  <a:pt x="1000" y="1412"/>
                </a:lnTo>
                <a:lnTo>
                  <a:pt x="992" y="1428"/>
                </a:lnTo>
                <a:lnTo>
                  <a:pt x="983" y="1443"/>
                </a:lnTo>
                <a:lnTo>
                  <a:pt x="975" y="1456"/>
                </a:lnTo>
                <a:lnTo>
                  <a:pt x="968" y="1468"/>
                </a:lnTo>
                <a:lnTo>
                  <a:pt x="958" y="1480"/>
                </a:lnTo>
                <a:lnTo>
                  <a:pt x="952" y="1489"/>
                </a:lnTo>
                <a:lnTo>
                  <a:pt x="944" y="1499"/>
                </a:lnTo>
                <a:lnTo>
                  <a:pt x="937" y="1506"/>
                </a:lnTo>
                <a:lnTo>
                  <a:pt x="931" y="1514"/>
                </a:lnTo>
                <a:lnTo>
                  <a:pt x="923" y="1520"/>
                </a:lnTo>
                <a:lnTo>
                  <a:pt x="918" y="1526"/>
                </a:lnTo>
                <a:lnTo>
                  <a:pt x="912" y="1529"/>
                </a:lnTo>
                <a:lnTo>
                  <a:pt x="906" y="1531"/>
                </a:lnTo>
                <a:lnTo>
                  <a:pt x="900" y="1535"/>
                </a:lnTo>
                <a:lnTo>
                  <a:pt x="895" y="1535"/>
                </a:lnTo>
                <a:lnTo>
                  <a:pt x="891" y="1537"/>
                </a:lnTo>
                <a:lnTo>
                  <a:pt x="887" y="1535"/>
                </a:lnTo>
                <a:lnTo>
                  <a:pt x="883" y="1535"/>
                </a:lnTo>
                <a:lnTo>
                  <a:pt x="879" y="1533"/>
                </a:lnTo>
                <a:lnTo>
                  <a:pt x="875" y="1529"/>
                </a:lnTo>
                <a:lnTo>
                  <a:pt x="872" y="1526"/>
                </a:lnTo>
                <a:lnTo>
                  <a:pt x="868" y="1522"/>
                </a:lnTo>
                <a:lnTo>
                  <a:pt x="866" y="1516"/>
                </a:lnTo>
                <a:lnTo>
                  <a:pt x="862" y="1510"/>
                </a:lnTo>
                <a:lnTo>
                  <a:pt x="860" y="1503"/>
                </a:lnTo>
                <a:lnTo>
                  <a:pt x="856" y="1495"/>
                </a:lnTo>
                <a:lnTo>
                  <a:pt x="854" y="1487"/>
                </a:lnTo>
                <a:lnTo>
                  <a:pt x="852" y="1478"/>
                </a:lnTo>
                <a:lnTo>
                  <a:pt x="848" y="1470"/>
                </a:lnTo>
                <a:lnTo>
                  <a:pt x="847" y="1458"/>
                </a:lnTo>
                <a:lnTo>
                  <a:pt x="845" y="1449"/>
                </a:lnTo>
                <a:lnTo>
                  <a:pt x="843" y="1437"/>
                </a:lnTo>
                <a:lnTo>
                  <a:pt x="839" y="1424"/>
                </a:lnTo>
                <a:lnTo>
                  <a:pt x="835" y="1410"/>
                </a:lnTo>
                <a:lnTo>
                  <a:pt x="831" y="1397"/>
                </a:lnTo>
                <a:lnTo>
                  <a:pt x="825" y="1382"/>
                </a:lnTo>
                <a:lnTo>
                  <a:pt x="820" y="1364"/>
                </a:lnTo>
                <a:lnTo>
                  <a:pt x="812" y="1347"/>
                </a:lnTo>
                <a:lnTo>
                  <a:pt x="804" y="1330"/>
                </a:lnTo>
                <a:lnTo>
                  <a:pt x="795" y="1311"/>
                </a:lnTo>
                <a:lnTo>
                  <a:pt x="785" y="1290"/>
                </a:lnTo>
                <a:lnTo>
                  <a:pt x="774" y="1268"/>
                </a:lnTo>
                <a:lnTo>
                  <a:pt x="760" y="1247"/>
                </a:lnTo>
                <a:lnTo>
                  <a:pt x="747" y="1224"/>
                </a:lnTo>
                <a:lnTo>
                  <a:pt x="733" y="1201"/>
                </a:lnTo>
                <a:lnTo>
                  <a:pt x="718" y="1176"/>
                </a:lnTo>
                <a:lnTo>
                  <a:pt x="701" y="1153"/>
                </a:lnTo>
                <a:lnTo>
                  <a:pt x="683" y="1127"/>
                </a:lnTo>
                <a:lnTo>
                  <a:pt x="710" y="1127"/>
                </a:lnTo>
                <a:lnTo>
                  <a:pt x="724" y="1128"/>
                </a:lnTo>
                <a:lnTo>
                  <a:pt x="739" y="1128"/>
                </a:lnTo>
                <a:lnTo>
                  <a:pt x="753" y="1130"/>
                </a:lnTo>
                <a:lnTo>
                  <a:pt x="766" y="1132"/>
                </a:lnTo>
                <a:lnTo>
                  <a:pt x="779" y="1136"/>
                </a:lnTo>
                <a:lnTo>
                  <a:pt x="793" y="1140"/>
                </a:lnTo>
                <a:lnTo>
                  <a:pt x="800" y="1142"/>
                </a:lnTo>
                <a:lnTo>
                  <a:pt x="806" y="1144"/>
                </a:lnTo>
                <a:lnTo>
                  <a:pt x="812" y="1144"/>
                </a:lnTo>
                <a:lnTo>
                  <a:pt x="818" y="1144"/>
                </a:lnTo>
                <a:lnTo>
                  <a:pt x="829" y="1144"/>
                </a:lnTo>
                <a:lnTo>
                  <a:pt x="841" y="1142"/>
                </a:lnTo>
                <a:lnTo>
                  <a:pt x="850" y="1140"/>
                </a:lnTo>
                <a:lnTo>
                  <a:pt x="860" y="1136"/>
                </a:lnTo>
                <a:lnTo>
                  <a:pt x="870" y="1132"/>
                </a:lnTo>
                <a:lnTo>
                  <a:pt x="879" y="1127"/>
                </a:lnTo>
                <a:lnTo>
                  <a:pt x="881" y="1125"/>
                </a:lnTo>
                <a:lnTo>
                  <a:pt x="883" y="1119"/>
                </a:lnTo>
                <a:lnTo>
                  <a:pt x="885" y="1113"/>
                </a:lnTo>
                <a:lnTo>
                  <a:pt x="887" y="1107"/>
                </a:lnTo>
                <a:lnTo>
                  <a:pt x="891" y="1098"/>
                </a:lnTo>
                <a:lnTo>
                  <a:pt x="893" y="1088"/>
                </a:lnTo>
                <a:lnTo>
                  <a:pt x="895" y="1077"/>
                </a:lnTo>
                <a:lnTo>
                  <a:pt x="896" y="1065"/>
                </a:lnTo>
                <a:lnTo>
                  <a:pt x="898" y="1052"/>
                </a:lnTo>
                <a:lnTo>
                  <a:pt x="902" y="1036"/>
                </a:lnTo>
                <a:lnTo>
                  <a:pt x="904" y="1021"/>
                </a:lnTo>
                <a:lnTo>
                  <a:pt x="906" y="1006"/>
                </a:lnTo>
                <a:lnTo>
                  <a:pt x="908" y="986"/>
                </a:lnTo>
                <a:lnTo>
                  <a:pt x="910" y="969"/>
                </a:lnTo>
                <a:lnTo>
                  <a:pt x="914" y="948"/>
                </a:lnTo>
                <a:lnTo>
                  <a:pt x="916" y="929"/>
                </a:lnTo>
                <a:lnTo>
                  <a:pt x="916" y="908"/>
                </a:lnTo>
                <a:lnTo>
                  <a:pt x="914" y="885"/>
                </a:lnTo>
                <a:lnTo>
                  <a:pt x="914" y="864"/>
                </a:lnTo>
                <a:lnTo>
                  <a:pt x="914" y="841"/>
                </a:lnTo>
                <a:lnTo>
                  <a:pt x="912" y="818"/>
                </a:lnTo>
                <a:lnTo>
                  <a:pt x="910" y="793"/>
                </a:lnTo>
                <a:lnTo>
                  <a:pt x="910" y="768"/>
                </a:lnTo>
                <a:lnTo>
                  <a:pt x="908" y="743"/>
                </a:lnTo>
                <a:lnTo>
                  <a:pt x="906" y="718"/>
                </a:lnTo>
                <a:lnTo>
                  <a:pt x="904" y="691"/>
                </a:lnTo>
                <a:lnTo>
                  <a:pt x="902" y="664"/>
                </a:lnTo>
                <a:lnTo>
                  <a:pt x="900" y="635"/>
                </a:lnTo>
                <a:lnTo>
                  <a:pt x="898" y="609"/>
                </a:lnTo>
                <a:lnTo>
                  <a:pt x="895" y="580"/>
                </a:lnTo>
                <a:lnTo>
                  <a:pt x="893" y="549"/>
                </a:lnTo>
                <a:lnTo>
                  <a:pt x="891" y="520"/>
                </a:lnTo>
                <a:lnTo>
                  <a:pt x="889" y="493"/>
                </a:lnTo>
                <a:lnTo>
                  <a:pt x="885" y="467"/>
                </a:lnTo>
                <a:lnTo>
                  <a:pt x="883" y="442"/>
                </a:lnTo>
                <a:lnTo>
                  <a:pt x="879" y="419"/>
                </a:lnTo>
                <a:lnTo>
                  <a:pt x="877" y="396"/>
                </a:lnTo>
                <a:lnTo>
                  <a:pt x="873" y="375"/>
                </a:lnTo>
                <a:lnTo>
                  <a:pt x="870" y="353"/>
                </a:lnTo>
                <a:lnTo>
                  <a:pt x="866" y="336"/>
                </a:lnTo>
                <a:lnTo>
                  <a:pt x="864" y="319"/>
                </a:lnTo>
                <a:lnTo>
                  <a:pt x="860" y="302"/>
                </a:lnTo>
                <a:lnTo>
                  <a:pt x="856" y="288"/>
                </a:lnTo>
                <a:lnTo>
                  <a:pt x="852" y="275"/>
                </a:lnTo>
                <a:lnTo>
                  <a:pt x="850" y="261"/>
                </a:lnTo>
                <a:lnTo>
                  <a:pt x="847" y="252"/>
                </a:lnTo>
                <a:lnTo>
                  <a:pt x="845" y="242"/>
                </a:lnTo>
                <a:lnTo>
                  <a:pt x="843" y="235"/>
                </a:lnTo>
                <a:lnTo>
                  <a:pt x="839" y="229"/>
                </a:lnTo>
                <a:lnTo>
                  <a:pt x="837" y="223"/>
                </a:lnTo>
                <a:lnTo>
                  <a:pt x="833" y="217"/>
                </a:lnTo>
                <a:lnTo>
                  <a:pt x="829" y="211"/>
                </a:lnTo>
                <a:lnTo>
                  <a:pt x="825" y="208"/>
                </a:lnTo>
                <a:lnTo>
                  <a:pt x="820" y="204"/>
                </a:lnTo>
                <a:lnTo>
                  <a:pt x="808" y="196"/>
                </a:lnTo>
                <a:lnTo>
                  <a:pt x="797" y="192"/>
                </a:lnTo>
                <a:lnTo>
                  <a:pt x="783" y="188"/>
                </a:lnTo>
                <a:lnTo>
                  <a:pt x="770" y="187"/>
                </a:lnTo>
                <a:lnTo>
                  <a:pt x="756" y="187"/>
                </a:lnTo>
                <a:lnTo>
                  <a:pt x="753" y="187"/>
                </a:lnTo>
                <a:lnTo>
                  <a:pt x="745" y="187"/>
                </a:lnTo>
                <a:lnTo>
                  <a:pt x="737" y="187"/>
                </a:lnTo>
                <a:lnTo>
                  <a:pt x="729" y="187"/>
                </a:lnTo>
                <a:lnTo>
                  <a:pt x="718" y="187"/>
                </a:lnTo>
                <a:lnTo>
                  <a:pt x="708" y="188"/>
                </a:lnTo>
                <a:lnTo>
                  <a:pt x="695" y="188"/>
                </a:lnTo>
                <a:lnTo>
                  <a:pt x="681" y="190"/>
                </a:lnTo>
                <a:lnTo>
                  <a:pt x="666" y="190"/>
                </a:lnTo>
                <a:lnTo>
                  <a:pt x="651" y="192"/>
                </a:lnTo>
                <a:lnTo>
                  <a:pt x="633" y="194"/>
                </a:lnTo>
                <a:lnTo>
                  <a:pt x="614" y="196"/>
                </a:lnTo>
                <a:lnTo>
                  <a:pt x="595" y="198"/>
                </a:lnTo>
                <a:lnTo>
                  <a:pt x="574" y="200"/>
                </a:lnTo>
                <a:lnTo>
                  <a:pt x="553" y="202"/>
                </a:lnTo>
                <a:lnTo>
                  <a:pt x="530" y="204"/>
                </a:lnTo>
                <a:lnTo>
                  <a:pt x="505" y="206"/>
                </a:lnTo>
                <a:lnTo>
                  <a:pt x="480" y="210"/>
                </a:lnTo>
                <a:lnTo>
                  <a:pt x="453" y="211"/>
                </a:lnTo>
                <a:lnTo>
                  <a:pt x="424" y="213"/>
                </a:lnTo>
                <a:lnTo>
                  <a:pt x="395" y="217"/>
                </a:lnTo>
                <a:lnTo>
                  <a:pt x="367" y="221"/>
                </a:lnTo>
                <a:lnTo>
                  <a:pt x="334" y="223"/>
                </a:lnTo>
                <a:lnTo>
                  <a:pt x="301" y="227"/>
                </a:lnTo>
                <a:lnTo>
                  <a:pt x="269" y="231"/>
                </a:lnTo>
                <a:lnTo>
                  <a:pt x="234" y="235"/>
                </a:lnTo>
                <a:lnTo>
                  <a:pt x="198" y="238"/>
                </a:lnTo>
                <a:lnTo>
                  <a:pt x="161" y="242"/>
                </a:lnTo>
                <a:lnTo>
                  <a:pt x="123" y="246"/>
                </a:lnTo>
                <a:lnTo>
                  <a:pt x="82" y="250"/>
                </a:lnTo>
                <a:lnTo>
                  <a:pt x="42" y="256"/>
                </a:lnTo>
                <a:lnTo>
                  <a:pt x="0" y="2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31"/>
          <p:cNvSpPr/>
          <p:nvPr/>
        </p:nvSpPr>
        <p:spPr>
          <a:xfrm>
            <a:off x="6200640" y="4173480"/>
            <a:ext cx="543240" cy="127080"/>
          </a:xfrm>
          <a:custGeom>
            <a:avLst/>
            <a:gdLst/>
            <a:ahLst/>
            <a:rect l="l" t="t" r="r" b="b"/>
            <a:pathLst>
              <a:path w="683" h="161">
                <a:moveTo>
                  <a:pt x="0" y="74"/>
                </a:moveTo>
                <a:lnTo>
                  <a:pt x="17" y="74"/>
                </a:lnTo>
                <a:lnTo>
                  <a:pt x="34" y="74"/>
                </a:lnTo>
                <a:lnTo>
                  <a:pt x="52" y="73"/>
                </a:lnTo>
                <a:lnTo>
                  <a:pt x="69" y="73"/>
                </a:lnTo>
                <a:lnTo>
                  <a:pt x="88" y="71"/>
                </a:lnTo>
                <a:lnTo>
                  <a:pt x="107" y="69"/>
                </a:lnTo>
                <a:lnTo>
                  <a:pt x="127" y="67"/>
                </a:lnTo>
                <a:lnTo>
                  <a:pt x="146" y="65"/>
                </a:lnTo>
                <a:lnTo>
                  <a:pt x="167" y="63"/>
                </a:lnTo>
                <a:lnTo>
                  <a:pt x="188" y="61"/>
                </a:lnTo>
                <a:lnTo>
                  <a:pt x="211" y="57"/>
                </a:lnTo>
                <a:lnTo>
                  <a:pt x="234" y="53"/>
                </a:lnTo>
                <a:lnTo>
                  <a:pt x="257" y="50"/>
                </a:lnTo>
                <a:lnTo>
                  <a:pt x="280" y="46"/>
                </a:lnTo>
                <a:lnTo>
                  <a:pt x="305" y="42"/>
                </a:lnTo>
                <a:lnTo>
                  <a:pt x="330" y="38"/>
                </a:lnTo>
                <a:lnTo>
                  <a:pt x="355" y="32"/>
                </a:lnTo>
                <a:lnTo>
                  <a:pt x="378" y="28"/>
                </a:lnTo>
                <a:lnTo>
                  <a:pt x="399" y="25"/>
                </a:lnTo>
                <a:lnTo>
                  <a:pt x="418" y="21"/>
                </a:lnTo>
                <a:lnTo>
                  <a:pt x="438" y="17"/>
                </a:lnTo>
                <a:lnTo>
                  <a:pt x="455" y="15"/>
                </a:lnTo>
                <a:lnTo>
                  <a:pt x="472" y="11"/>
                </a:lnTo>
                <a:lnTo>
                  <a:pt x="488" y="9"/>
                </a:lnTo>
                <a:lnTo>
                  <a:pt x="501" y="7"/>
                </a:lnTo>
                <a:lnTo>
                  <a:pt x="513" y="5"/>
                </a:lnTo>
                <a:lnTo>
                  <a:pt x="524" y="3"/>
                </a:lnTo>
                <a:lnTo>
                  <a:pt x="534" y="2"/>
                </a:lnTo>
                <a:lnTo>
                  <a:pt x="543" y="2"/>
                </a:lnTo>
                <a:lnTo>
                  <a:pt x="551" y="2"/>
                </a:lnTo>
                <a:lnTo>
                  <a:pt x="557" y="0"/>
                </a:lnTo>
                <a:lnTo>
                  <a:pt x="562" y="0"/>
                </a:lnTo>
                <a:lnTo>
                  <a:pt x="566" y="0"/>
                </a:lnTo>
                <a:lnTo>
                  <a:pt x="572" y="0"/>
                </a:lnTo>
                <a:lnTo>
                  <a:pt x="580" y="2"/>
                </a:lnTo>
                <a:lnTo>
                  <a:pt x="589" y="2"/>
                </a:lnTo>
                <a:lnTo>
                  <a:pt x="599" y="3"/>
                </a:lnTo>
                <a:lnTo>
                  <a:pt x="609" y="5"/>
                </a:lnTo>
                <a:lnTo>
                  <a:pt x="622" y="9"/>
                </a:lnTo>
                <a:lnTo>
                  <a:pt x="635" y="13"/>
                </a:lnTo>
                <a:lnTo>
                  <a:pt x="641" y="15"/>
                </a:lnTo>
                <a:lnTo>
                  <a:pt x="647" y="17"/>
                </a:lnTo>
                <a:lnTo>
                  <a:pt x="653" y="21"/>
                </a:lnTo>
                <a:lnTo>
                  <a:pt x="658" y="25"/>
                </a:lnTo>
                <a:lnTo>
                  <a:pt x="662" y="27"/>
                </a:lnTo>
                <a:lnTo>
                  <a:pt x="666" y="30"/>
                </a:lnTo>
                <a:lnTo>
                  <a:pt x="672" y="38"/>
                </a:lnTo>
                <a:lnTo>
                  <a:pt x="678" y="44"/>
                </a:lnTo>
                <a:lnTo>
                  <a:pt x="681" y="51"/>
                </a:lnTo>
                <a:lnTo>
                  <a:pt x="683" y="57"/>
                </a:lnTo>
                <a:lnTo>
                  <a:pt x="683" y="63"/>
                </a:lnTo>
                <a:lnTo>
                  <a:pt x="683" y="67"/>
                </a:lnTo>
                <a:lnTo>
                  <a:pt x="681" y="71"/>
                </a:lnTo>
                <a:lnTo>
                  <a:pt x="678" y="76"/>
                </a:lnTo>
                <a:lnTo>
                  <a:pt x="672" y="80"/>
                </a:lnTo>
                <a:lnTo>
                  <a:pt x="666" y="84"/>
                </a:lnTo>
                <a:lnTo>
                  <a:pt x="658" y="90"/>
                </a:lnTo>
                <a:lnTo>
                  <a:pt x="649" y="94"/>
                </a:lnTo>
                <a:lnTo>
                  <a:pt x="639" y="97"/>
                </a:lnTo>
                <a:lnTo>
                  <a:pt x="628" y="101"/>
                </a:lnTo>
                <a:lnTo>
                  <a:pt x="614" y="105"/>
                </a:lnTo>
                <a:lnTo>
                  <a:pt x="601" y="109"/>
                </a:lnTo>
                <a:lnTo>
                  <a:pt x="585" y="113"/>
                </a:lnTo>
                <a:lnTo>
                  <a:pt x="570" y="115"/>
                </a:lnTo>
                <a:lnTo>
                  <a:pt x="551" y="119"/>
                </a:lnTo>
                <a:lnTo>
                  <a:pt x="534" y="121"/>
                </a:lnTo>
                <a:lnTo>
                  <a:pt x="513" y="124"/>
                </a:lnTo>
                <a:lnTo>
                  <a:pt x="489" y="128"/>
                </a:lnTo>
                <a:lnTo>
                  <a:pt x="465" y="132"/>
                </a:lnTo>
                <a:lnTo>
                  <a:pt x="440" y="136"/>
                </a:lnTo>
                <a:lnTo>
                  <a:pt x="413" y="140"/>
                </a:lnTo>
                <a:lnTo>
                  <a:pt x="384" y="144"/>
                </a:lnTo>
                <a:lnTo>
                  <a:pt x="355" y="147"/>
                </a:lnTo>
                <a:lnTo>
                  <a:pt x="324" y="149"/>
                </a:lnTo>
                <a:lnTo>
                  <a:pt x="294" y="151"/>
                </a:lnTo>
                <a:lnTo>
                  <a:pt x="261" y="155"/>
                </a:lnTo>
                <a:lnTo>
                  <a:pt x="226" y="157"/>
                </a:lnTo>
                <a:lnTo>
                  <a:pt x="192" y="157"/>
                </a:lnTo>
                <a:lnTo>
                  <a:pt x="155" y="159"/>
                </a:lnTo>
                <a:lnTo>
                  <a:pt x="119" y="161"/>
                </a:lnTo>
                <a:lnTo>
                  <a:pt x="81" y="161"/>
                </a:lnTo>
                <a:lnTo>
                  <a:pt x="40" y="161"/>
                </a:lnTo>
                <a:lnTo>
                  <a:pt x="0" y="161"/>
                </a:lnTo>
                <a:lnTo>
                  <a:pt x="0" y="119"/>
                </a:lnTo>
                <a:lnTo>
                  <a:pt x="0" y="7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32"/>
          <p:cNvSpPr/>
          <p:nvPr/>
        </p:nvSpPr>
        <p:spPr>
          <a:xfrm>
            <a:off x="6200640" y="4440240"/>
            <a:ext cx="571680" cy="127080"/>
          </a:xfrm>
          <a:custGeom>
            <a:avLst/>
            <a:gdLst/>
            <a:ahLst/>
            <a:rect l="l" t="t" r="r" b="b"/>
            <a:pathLst>
              <a:path w="720" h="161">
                <a:moveTo>
                  <a:pt x="513" y="123"/>
                </a:moveTo>
                <a:lnTo>
                  <a:pt x="489" y="129"/>
                </a:lnTo>
                <a:lnTo>
                  <a:pt x="465" y="133"/>
                </a:lnTo>
                <a:lnTo>
                  <a:pt x="440" y="137"/>
                </a:lnTo>
                <a:lnTo>
                  <a:pt x="413" y="140"/>
                </a:lnTo>
                <a:lnTo>
                  <a:pt x="384" y="142"/>
                </a:lnTo>
                <a:lnTo>
                  <a:pt x="355" y="146"/>
                </a:lnTo>
                <a:lnTo>
                  <a:pt x="324" y="148"/>
                </a:lnTo>
                <a:lnTo>
                  <a:pt x="294" y="152"/>
                </a:lnTo>
                <a:lnTo>
                  <a:pt x="261" y="154"/>
                </a:lnTo>
                <a:lnTo>
                  <a:pt x="226" y="156"/>
                </a:lnTo>
                <a:lnTo>
                  <a:pt x="192" y="158"/>
                </a:lnTo>
                <a:lnTo>
                  <a:pt x="155" y="158"/>
                </a:lnTo>
                <a:lnTo>
                  <a:pt x="119" y="160"/>
                </a:lnTo>
                <a:lnTo>
                  <a:pt x="81" y="160"/>
                </a:lnTo>
                <a:lnTo>
                  <a:pt x="40" y="160"/>
                </a:lnTo>
                <a:lnTo>
                  <a:pt x="0" y="161"/>
                </a:lnTo>
                <a:lnTo>
                  <a:pt x="0" y="117"/>
                </a:lnTo>
                <a:lnTo>
                  <a:pt x="0" y="73"/>
                </a:lnTo>
                <a:lnTo>
                  <a:pt x="17" y="73"/>
                </a:lnTo>
                <a:lnTo>
                  <a:pt x="34" y="73"/>
                </a:lnTo>
                <a:lnTo>
                  <a:pt x="52" y="73"/>
                </a:lnTo>
                <a:lnTo>
                  <a:pt x="69" y="71"/>
                </a:lnTo>
                <a:lnTo>
                  <a:pt x="88" y="69"/>
                </a:lnTo>
                <a:lnTo>
                  <a:pt x="107" y="69"/>
                </a:lnTo>
                <a:lnTo>
                  <a:pt x="127" y="68"/>
                </a:lnTo>
                <a:lnTo>
                  <a:pt x="146" y="64"/>
                </a:lnTo>
                <a:lnTo>
                  <a:pt x="167" y="62"/>
                </a:lnTo>
                <a:lnTo>
                  <a:pt x="188" y="60"/>
                </a:lnTo>
                <a:lnTo>
                  <a:pt x="211" y="56"/>
                </a:lnTo>
                <a:lnTo>
                  <a:pt x="234" y="52"/>
                </a:lnTo>
                <a:lnTo>
                  <a:pt x="257" y="48"/>
                </a:lnTo>
                <a:lnTo>
                  <a:pt x="280" y="44"/>
                </a:lnTo>
                <a:lnTo>
                  <a:pt x="305" y="41"/>
                </a:lnTo>
                <a:lnTo>
                  <a:pt x="330" y="37"/>
                </a:lnTo>
                <a:lnTo>
                  <a:pt x="355" y="31"/>
                </a:lnTo>
                <a:lnTo>
                  <a:pt x="378" y="27"/>
                </a:lnTo>
                <a:lnTo>
                  <a:pt x="399" y="23"/>
                </a:lnTo>
                <a:lnTo>
                  <a:pt x="418" y="20"/>
                </a:lnTo>
                <a:lnTo>
                  <a:pt x="438" y="18"/>
                </a:lnTo>
                <a:lnTo>
                  <a:pt x="457" y="14"/>
                </a:lnTo>
                <a:lnTo>
                  <a:pt x="472" y="12"/>
                </a:lnTo>
                <a:lnTo>
                  <a:pt x="488" y="8"/>
                </a:lnTo>
                <a:lnTo>
                  <a:pt x="503" y="6"/>
                </a:lnTo>
                <a:lnTo>
                  <a:pt x="516" y="4"/>
                </a:lnTo>
                <a:lnTo>
                  <a:pt x="528" y="2"/>
                </a:lnTo>
                <a:lnTo>
                  <a:pt x="539" y="2"/>
                </a:lnTo>
                <a:lnTo>
                  <a:pt x="549" y="0"/>
                </a:lnTo>
                <a:lnTo>
                  <a:pt x="559" y="0"/>
                </a:lnTo>
                <a:lnTo>
                  <a:pt x="566" y="0"/>
                </a:lnTo>
                <a:lnTo>
                  <a:pt x="574" y="0"/>
                </a:lnTo>
                <a:lnTo>
                  <a:pt x="587" y="0"/>
                </a:lnTo>
                <a:lnTo>
                  <a:pt x="599" y="0"/>
                </a:lnTo>
                <a:lnTo>
                  <a:pt x="610" y="0"/>
                </a:lnTo>
                <a:lnTo>
                  <a:pt x="622" y="0"/>
                </a:lnTo>
                <a:lnTo>
                  <a:pt x="633" y="2"/>
                </a:lnTo>
                <a:lnTo>
                  <a:pt x="645" y="4"/>
                </a:lnTo>
                <a:lnTo>
                  <a:pt x="658" y="8"/>
                </a:lnTo>
                <a:lnTo>
                  <a:pt x="672" y="12"/>
                </a:lnTo>
                <a:lnTo>
                  <a:pt x="678" y="14"/>
                </a:lnTo>
                <a:lnTo>
                  <a:pt x="683" y="18"/>
                </a:lnTo>
                <a:lnTo>
                  <a:pt x="689" y="20"/>
                </a:lnTo>
                <a:lnTo>
                  <a:pt x="695" y="23"/>
                </a:lnTo>
                <a:lnTo>
                  <a:pt x="699" y="27"/>
                </a:lnTo>
                <a:lnTo>
                  <a:pt x="703" y="29"/>
                </a:lnTo>
                <a:lnTo>
                  <a:pt x="710" y="37"/>
                </a:lnTo>
                <a:lnTo>
                  <a:pt x="714" y="44"/>
                </a:lnTo>
                <a:lnTo>
                  <a:pt x="718" y="50"/>
                </a:lnTo>
                <a:lnTo>
                  <a:pt x="720" y="56"/>
                </a:lnTo>
                <a:lnTo>
                  <a:pt x="720" y="62"/>
                </a:lnTo>
                <a:lnTo>
                  <a:pt x="718" y="64"/>
                </a:lnTo>
                <a:lnTo>
                  <a:pt x="712" y="68"/>
                </a:lnTo>
                <a:lnTo>
                  <a:pt x="708" y="69"/>
                </a:lnTo>
                <a:lnTo>
                  <a:pt x="701" y="73"/>
                </a:lnTo>
                <a:lnTo>
                  <a:pt x="693" y="77"/>
                </a:lnTo>
                <a:lnTo>
                  <a:pt x="685" y="81"/>
                </a:lnTo>
                <a:lnTo>
                  <a:pt x="674" y="85"/>
                </a:lnTo>
                <a:lnTo>
                  <a:pt x="662" y="89"/>
                </a:lnTo>
                <a:lnTo>
                  <a:pt x="649" y="92"/>
                </a:lnTo>
                <a:lnTo>
                  <a:pt x="633" y="96"/>
                </a:lnTo>
                <a:lnTo>
                  <a:pt x="618" y="100"/>
                </a:lnTo>
                <a:lnTo>
                  <a:pt x="601" y="106"/>
                </a:lnTo>
                <a:lnTo>
                  <a:pt x="582" y="110"/>
                </a:lnTo>
                <a:lnTo>
                  <a:pt x="561" y="114"/>
                </a:lnTo>
                <a:lnTo>
                  <a:pt x="537" y="119"/>
                </a:lnTo>
                <a:lnTo>
                  <a:pt x="513" y="1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33"/>
          <p:cNvSpPr/>
          <p:nvPr/>
        </p:nvSpPr>
        <p:spPr>
          <a:xfrm>
            <a:off x="6172200" y="4724280"/>
            <a:ext cx="649440" cy="119160"/>
          </a:xfrm>
          <a:custGeom>
            <a:avLst/>
            <a:gdLst/>
            <a:ahLst/>
            <a:rect l="l" t="t" r="r" b="b"/>
            <a:pathLst>
              <a:path w="818" h="150">
                <a:moveTo>
                  <a:pt x="818" y="86"/>
                </a:moveTo>
                <a:lnTo>
                  <a:pt x="786" y="90"/>
                </a:lnTo>
                <a:lnTo>
                  <a:pt x="753" y="94"/>
                </a:lnTo>
                <a:lnTo>
                  <a:pt x="720" y="96"/>
                </a:lnTo>
                <a:lnTo>
                  <a:pt x="690" y="100"/>
                </a:lnTo>
                <a:lnTo>
                  <a:pt x="659" y="104"/>
                </a:lnTo>
                <a:lnTo>
                  <a:pt x="628" y="106"/>
                </a:lnTo>
                <a:lnTo>
                  <a:pt x="598" y="109"/>
                </a:lnTo>
                <a:lnTo>
                  <a:pt x="569" y="111"/>
                </a:lnTo>
                <a:lnTo>
                  <a:pt x="540" y="115"/>
                </a:lnTo>
                <a:lnTo>
                  <a:pt x="511" y="117"/>
                </a:lnTo>
                <a:lnTo>
                  <a:pt x="455" y="123"/>
                </a:lnTo>
                <a:lnTo>
                  <a:pt x="402" y="127"/>
                </a:lnTo>
                <a:lnTo>
                  <a:pt x="350" y="132"/>
                </a:lnTo>
                <a:lnTo>
                  <a:pt x="300" y="136"/>
                </a:lnTo>
                <a:lnTo>
                  <a:pt x="252" y="138"/>
                </a:lnTo>
                <a:lnTo>
                  <a:pt x="206" y="142"/>
                </a:lnTo>
                <a:lnTo>
                  <a:pt x="162" y="144"/>
                </a:lnTo>
                <a:lnTo>
                  <a:pt x="118" y="146"/>
                </a:lnTo>
                <a:lnTo>
                  <a:pt x="77" y="148"/>
                </a:lnTo>
                <a:lnTo>
                  <a:pt x="39" y="148"/>
                </a:lnTo>
                <a:lnTo>
                  <a:pt x="0" y="150"/>
                </a:lnTo>
                <a:lnTo>
                  <a:pt x="0" y="106"/>
                </a:lnTo>
                <a:lnTo>
                  <a:pt x="0" y="61"/>
                </a:lnTo>
                <a:lnTo>
                  <a:pt x="12" y="61"/>
                </a:lnTo>
                <a:lnTo>
                  <a:pt x="25" y="61"/>
                </a:lnTo>
                <a:lnTo>
                  <a:pt x="39" y="61"/>
                </a:lnTo>
                <a:lnTo>
                  <a:pt x="54" y="60"/>
                </a:lnTo>
                <a:lnTo>
                  <a:pt x="70" y="58"/>
                </a:lnTo>
                <a:lnTo>
                  <a:pt x="85" y="58"/>
                </a:lnTo>
                <a:lnTo>
                  <a:pt x="102" y="56"/>
                </a:lnTo>
                <a:lnTo>
                  <a:pt x="119" y="52"/>
                </a:lnTo>
                <a:lnTo>
                  <a:pt x="139" y="50"/>
                </a:lnTo>
                <a:lnTo>
                  <a:pt x="158" y="48"/>
                </a:lnTo>
                <a:lnTo>
                  <a:pt x="179" y="44"/>
                </a:lnTo>
                <a:lnTo>
                  <a:pt x="200" y="40"/>
                </a:lnTo>
                <a:lnTo>
                  <a:pt x="221" y="37"/>
                </a:lnTo>
                <a:lnTo>
                  <a:pt x="244" y="33"/>
                </a:lnTo>
                <a:lnTo>
                  <a:pt x="269" y="29"/>
                </a:lnTo>
                <a:lnTo>
                  <a:pt x="294" y="25"/>
                </a:lnTo>
                <a:lnTo>
                  <a:pt x="317" y="23"/>
                </a:lnTo>
                <a:lnTo>
                  <a:pt x="342" y="19"/>
                </a:lnTo>
                <a:lnTo>
                  <a:pt x="365" y="17"/>
                </a:lnTo>
                <a:lnTo>
                  <a:pt x="388" y="15"/>
                </a:lnTo>
                <a:lnTo>
                  <a:pt x="409" y="14"/>
                </a:lnTo>
                <a:lnTo>
                  <a:pt x="430" y="12"/>
                </a:lnTo>
                <a:lnTo>
                  <a:pt x="452" y="10"/>
                </a:lnTo>
                <a:lnTo>
                  <a:pt x="471" y="8"/>
                </a:lnTo>
                <a:lnTo>
                  <a:pt x="490" y="6"/>
                </a:lnTo>
                <a:lnTo>
                  <a:pt x="507" y="4"/>
                </a:lnTo>
                <a:lnTo>
                  <a:pt x="526" y="4"/>
                </a:lnTo>
                <a:lnTo>
                  <a:pt x="544" y="2"/>
                </a:lnTo>
                <a:lnTo>
                  <a:pt x="578" y="0"/>
                </a:lnTo>
                <a:lnTo>
                  <a:pt x="611" y="0"/>
                </a:lnTo>
                <a:lnTo>
                  <a:pt x="638" y="0"/>
                </a:lnTo>
                <a:lnTo>
                  <a:pt x="665" y="2"/>
                </a:lnTo>
                <a:lnTo>
                  <a:pt x="692" y="6"/>
                </a:lnTo>
                <a:lnTo>
                  <a:pt x="718" y="10"/>
                </a:lnTo>
                <a:lnTo>
                  <a:pt x="745" y="14"/>
                </a:lnTo>
                <a:lnTo>
                  <a:pt x="770" y="21"/>
                </a:lnTo>
                <a:lnTo>
                  <a:pt x="795" y="29"/>
                </a:lnTo>
                <a:lnTo>
                  <a:pt x="818" y="37"/>
                </a:lnTo>
                <a:lnTo>
                  <a:pt x="818" y="61"/>
                </a:lnTo>
                <a:lnTo>
                  <a:pt x="818" y="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34"/>
          <p:cNvSpPr/>
          <p:nvPr/>
        </p:nvSpPr>
        <p:spPr>
          <a:xfrm>
            <a:off x="5684760" y="3598920"/>
            <a:ext cx="208080" cy="369720"/>
          </a:xfrm>
          <a:custGeom>
            <a:avLst/>
            <a:gdLst/>
            <a:ahLst/>
            <a:rect l="l" t="t" r="r" b="b"/>
            <a:pathLst>
              <a:path w="261" h="467">
                <a:moveTo>
                  <a:pt x="188" y="390"/>
                </a:moveTo>
                <a:lnTo>
                  <a:pt x="181" y="401"/>
                </a:lnTo>
                <a:lnTo>
                  <a:pt x="175" y="411"/>
                </a:lnTo>
                <a:lnTo>
                  <a:pt x="167" y="421"/>
                </a:lnTo>
                <a:lnTo>
                  <a:pt x="161" y="428"/>
                </a:lnTo>
                <a:lnTo>
                  <a:pt x="154" y="436"/>
                </a:lnTo>
                <a:lnTo>
                  <a:pt x="146" y="444"/>
                </a:lnTo>
                <a:lnTo>
                  <a:pt x="140" y="449"/>
                </a:lnTo>
                <a:lnTo>
                  <a:pt x="133" y="455"/>
                </a:lnTo>
                <a:lnTo>
                  <a:pt x="127" y="459"/>
                </a:lnTo>
                <a:lnTo>
                  <a:pt x="119" y="463"/>
                </a:lnTo>
                <a:lnTo>
                  <a:pt x="111" y="465"/>
                </a:lnTo>
                <a:lnTo>
                  <a:pt x="106" y="467"/>
                </a:lnTo>
                <a:lnTo>
                  <a:pt x="98" y="467"/>
                </a:lnTo>
                <a:lnTo>
                  <a:pt x="92" y="467"/>
                </a:lnTo>
                <a:lnTo>
                  <a:pt x="85" y="467"/>
                </a:lnTo>
                <a:lnTo>
                  <a:pt x="79" y="465"/>
                </a:lnTo>
                <a:lnTo>
                  <a:pt x="65" y="459"/>
                </a:lnTo>
                <a:lnTo>
                  <a:pt x="52" y="451"/>
                </a:lnTo>
                <a:lnTo>
                  <a:pt x="42" y="445"/>
                </a:lnTo>
                <a:lnTo>
                  <a:pt x="33" y="436"/>
                </a:lnTo>
                <a:lnTo>
                  <a:pt x="23" y="426"/>
                </a:lnTo>
                <a:lnTo>
                  <a:pt x="15" y="415"/>
                </a:lnTo>
                <a:lnTo>
                  <a:pt x="10" y="403"/>
                </a:lnTo>
                <a:lnTo>
                  <a:pt x="4" y="390"/>
                </a:lnTo>
                <a:lnTo>
                  <a:pt x="2" y="382"/>
                </a:lnTo>
                <a:lnTo>
                  <a:pt x="2" y="375"/>
                </a:lnTo>
                <a:lnTo>
                  <a:pt x="0" y="369"/>
                </a:lnTo>
                <a:lnTo>
                  <a:pt x="0" y="361"/>
                </a:lnTo>
                <a:lnTo>
                  <a:pt x="0" y="355"/>
                </a:lnTo>
                <a:lnTo>
                  <a:pt x="2" y="348"/>
                </a:lnTo>
                <a:lnTo>
                  <a:pt x="2" y="340"/>
                </a:lnTo>
                <a:lnTo>
                  <a:pt x="6" y="334"/>
                </a:lnTo>
                <a:lnTo>
                  <a:pt x="8" y="327"/>
                </a:lnTo>
                <a:lnTo>
                  <a:pt x="12" y="321"/>
                </a:lnTo>
                <a:lnTo>
                  <a:pt x="14" y="313"/>
                </a:lnTo>
                <a:lnTo>
                  <a:pt x="19" y="305"/>
                </a:lnTo>
                <a:lnTo>
                  <a:pt x="23" y="300"/>
                </a:lnTo>
                <a:lnTo>
                  <a:pt x="29" y="292"/>
                </a:lnTo>
                <a:lnTo>
                  <a:pt x="35" y="284"/>
                </a:lnTo>
                <a:lnTo>
                  <a:pt x="42" y="279"/>
                </a:lnTo>
                <a:lnTo>
                  <a:pt x="56" y="263"/>
                </a:lnTo>
                <a:lnTo>
                  <a:pt x="69" y="248"/>
                </a:lnTo>
                <a:lnTo>
                  <a:pt x="83" y="231"/>
                </a:lnTo>
                <a:lnTo>
                  <a:pt x="94" y="211"/>
                </a:lnTo>
                <a:lnTo>
                  <a:pt x="108" y="190"/>
                </a:lnTo>
                <a:lnTo>
                  <a:pt x="113" y="179"/>
                </a:lnTo>
                <a:lnTo>
                  <a:pt x="119" y="169"/>
                </a:lnTo>
                <a:lnTo>
                  <a:pt x="125" y="156"/>
                </a:lnTo>
                <a:lnTo>
                  <a:pt x="129" y="144"/>
                </a:lnTo>
                <a:lnTo>
                  <a:pt x="135" y="131"/>
                </a:lnTo>
                <a:lnTo>
                  <a:pt x="138" y="117"/>
                </a:lnTo>
                <a:lnTo>
                  <a:pt x="140" y="106"/>
                </a:lnTo>
                <a:lnTo>
                  <a:pt x="144" y="94"/>
                </a:lnTo>
                <a:lnTo>
                  <a:pt x="146" y="85"/>
                </a:lnTo>
                <a:lnTo>
                  <a:pt x="148" y="75"/>
                </a:lnTo>
                <a:lnTo>
                  <a:pt x="150" y="66"/>
                </a:lnTo>
                <a:lnTo>
                  <a:pt x="152" y="58"/>
                </a:lnTo>
                <a:lnTo>
                  <a:pt x="156" y="50"/>
                </a:lnTo>
                <a:lnTo>
                  <a:pt x="158" y="43"/>
                </a:lnTo>
                <a:lnTo>
                  <a:pt x="159" y="35"/>
                </a:lnTo>
                <a:lnTo>
                  <a:pt x="161" y="29"/>
                </a:lnTo>
                <a:lnTo>
                  <a:pt x="163" y="23"/>
                </a:lnTo>
                <a:lnTo>
                  <a:pt x="167" y="20"/>
                </a:lnTo>
                <a:lnTo>
                  <a:pt x="169" y="16"/>
                </a:lnTo>
                <a:lnTo>
                  <a:pt x="171" y="12"/>
                </a:lnTo>
                <a:lnTo>
                  <a:pt x="173" y="8"/>
                </a:lnTo>
                <a:lnTo>
                  <a:pt x="175" y="6"/>
                </a:lnTo>
                <a:lnTo>
                  <a:pt x="177" y="2"/>
                </a:lnTo>
                <a:lnTo>
                  <a:pt x="181" y="2"/>
                </a:lnTo>
                <a:lnTo>
                  <a:pt x="183" y="0"/>
                </a:lnTo>
                <a:lnTo>
                  <a:pt x="184" y="0"/>
                </a:lnTo>
                <a:lnTo>
                  <a:pt x="190" y="0"/>
                </a:lnTo>
                <a:lnTo>
                  <a:pt x="196" y="2"/>
                </a:lnTo>
                <a:lnTo>
                  <a:pt x="202" y="4"/>
                </a:lnTo>
                <a:lnTo>
                  <a:pt x="207" y="8"/>
                </a:lnTo>
                <a:lnTo>
                  <a:pt x="215" y="14"/>
                </a:lnTo>
                <a:lnTo>
                  <a:pt x="225" y="18"/>
                </a:lnTo>
                <a:lnTo>
                  <a:pt x="229" y="23"/>
                </a:lnTo>
                <a:lnTo>
                  <a:pt x="232" y="29"/>
                </a:lnTo>
                <a:lnTo>
                  <a:pt x="236" y="35"/>
                </a:lnTo>
                <a:lnTo>
                  <a:pt x="240" y="41"/>
                </a:lnTo>
                <a:lnTo>
                  <a:pt x="244" y="48"/>
                </a:lnTo>
                <a:lnTo>
                  <a:pt x="246" y="56"/>
                </a:lnTo>
                <a:lnTo>
                  <a:pt x="250" y="66"/>
                </a:lnTo>
                <a:lnTo>
                  <a:pt x="252" y="73"/>
                </a:lnTo>
                <a:lnTo>
                  <a:pt x="254" y="83"/>
                </a:lnTo>
                <a:lnTo>
                  <a:pt x="255" y="93"/>
                </a:lnTo>
                <a:lnTo>
                  <a:pt x="257" y="104"/>
                </a:lnTo>
                <a:lnTo>
                  <a:pt x="259" y="116"/>
                </a:lnTo>
                <a:lnTo>
                  <a:pt x="259" y="127"/>
                </a:lnTo>
                <a:lnTo>
                  <a:pt x="259" y="140"/>
                </a:lnTo>
                <a:lnTo>
                  <a:pt x="261" y="152"/>
                </a:lnTo>
                <a:lnTo>
                  <a:pt x="261" y="167"/>
                </a:lnTo>
                <a:lnTo>
                  <a:pt x="261" y="183"/>
                </a:lnTo>
                <a:lnTo>
                  <a:pt x="259" y="198"/>
                </a:lnTo>
                <a:lnTo>
                  <a:pt x="257" y="213"/>
                </a:lnTo>
                <a:lnTo>
                  <a:pt x="255" y="229"/>
                </a:lnTo>
                <a:lnTo>
                  <a:pt x="254" y="244"/>
                </a:lnTo>
                <a:lnTo>
                  <a:pt x="250" y="259"/>
                </a:lnTo>
                <a:lnTo>
                  <a:pt x="246" y="273"/>
                </a:lnTo>
                <a:lnTo>
                  <a:pt x="242" y="286"/>
                </a:lnTo>
                <a:lnTo>
                  <a:pt x="238" y="302"/>
                </a:lnTo>
                <a:lnTo>
                  <a:pt x="232" y="315"/>
                </a:lnTo>
                <a:lnTo>
                  <a:pt x="227" y="328"/>
                </a:lnTo>
                <a:lnTo>
                  <a:pt x="219" y="340"/>
                </a:lnTo>
                <a:lnTo>
                  <a:pt x="213" y="353"/>
                </a:lnTo>
                <a:lnTo>
                  <a:pt x="206" y="365"/>
                </a:lnTo>
                <a:lnTo>
                  <a:pt x="196" y="378"/>
                </a:lnTo>
                <a:lnTo>
                  <a:pt x="188" y="3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35"/>
          <p:cNvSpPr/>
          <p:nvPr/>
        </p:nvSpPr>
        <p:spPr>
          <a:xfrm>
            <a:off x="6329520" y="3556080"/>
            <a:ext cx="260280" cy="187200"/>
          </a:xfrm>
          <a:custGeom>
            <a:avLst/>
            <a:gdLst/>
            <a:ahLst/>
            <a:rect l="l" t="t" r="r" b="b"/>
            <a:pathLst>
              <a:path w="328" h="236">
                <a:moveTo>
                  <a:pt x="10" y="59"/>
                </a:moveTo>
                <a:lnTo>
                  <a:pt x="6" y="50"/>
                </a:lnTo>
                <a:lnTo>
                  <a:pt x="4" y="42"/>
                </a:lnTo>
                <a:lnTo>
                  <a:pt x="2" y="34"/>
                </a:lnTo>
                <a:lnTo>
                  <a:pt x="0" y="28"/>
                </a:lnTo>
                <a:lnTo>
                  <a:pt x="2" y="23"/>
                </a:lnTo>
                <a:lnTo>
                  <a:pt x="4" y="19"/>
                </a:lnTo>
                <a:lnTo>
                  <a:pt x="6" y="13"/>
                </a:lnTo>
                <a:lnTo>
                  <a:pt x="10" y="9"/>
                </a:lnTo>
                <a:lnTo>
                  <a:pt x="12" y="7"/>
                </a:lnTo>
                <a:lnTo>
                  <a:pt x="16" y="5"/>
                </a:lnTo>
                <a:lnTo>
                  <a:pt x="19" y="4"/>
                </a:lnTo>
                <a:lnTo>
                  <a:pt x="23" y="2"/>
                </a:lnTo>
                <a:lnTo>
                  <a:pt x="29" y="2"/>
                </a:lnTo>
                <a:lnTo>
                  <a:pt x="35" y="0"/>
                </a:lnTo>
                <a:lnTo>
                  <a:pt x="41" y="0"/>
                </a:lnTo>
                <a:lnTo>
                  <a:pt x="48" y="0"/>
                </a:lnTo>
                <a:lnTo>
                  <a:pt x="56" y="0"/>
                </a:lnTo>
                <a:lnTo>
                  <a:pt x="65" y="0"/>
                </a:lnTo>
                <a:lnTo>
                  <a:pt x="73" y="2"/>
                </a:lnTo>
                <a:lnTo>
                  <a:pt x="85" y="2"/>
                </a:lnTo>
                <a:lnTo>
                  <a:pt x="94" y="4"/>
                </a:lnTo>
                <a:lnTo>
                  <a:pt x="106" y="5"/>
                </a:lnTo>
                <a:lnTo>
                  <a:pt x="119" y="7"/>
                </a:lnTo>
                <a:lnTo>
                  <a:pt x="133" y="9"/>
                </a:lnTo>
                <a:lnTo>
                  <a:pt x="154" y="13"/>
                </a:lnTo>
                <a:lnTo>
                  <a:pt x="175" y="19"/>
                </a:lnTo>
                <a:lnTo>
                  <a:pt x="196" y="25"/>
                </a:lnTo>
                <a:lnTo>
                  <a:pt x="215" y="30"/>
                </a:lnTo>
                <a:lnTo>
                  <a:pt x="232" y="38"/>
                </a:lnTo>
                <a:lnTo>
                  <a:pt x="250" y="48"/>
                </a:lnTo>
                <a:lnTo>
                  <a:pt x="257" y="52"/>
                </a:lnTo>
                <a:lnTo>
                  <a:pt x="265" y="57"/>
                </a:lnTo>
                <a:lnTo>
                  <a:pt x="271" y="65"/>
                </a:lnTo>
                <a:lnTo>
                  <a:pt x="279" y="71"/>
                </a:lnTo>
                <a:lnTo>
                  <a:pt x="284" y="78"/>
                </a:lnTo>
                <a:lnTo>
                  <a:pt x="290" y="84"/>
                </a:lnTo>
                <a:lnTo>
                  <a:pt x="296" y="90"/>
                </a:lnTo>
                <a:lnTo>
                  <a:pt x="302" y="98"/>
                </a:lnTo>
                <a:lnTo>
                  <a:pt x="305" y="103"/>
                </a:lnTo>
                <a:lnTo>
                  <a:pt x="309" y="109"/>
                </a:lnTo>
                <a:lnTo>
                  <a:pt x="317" y="121"/>
                </a:lnTo>
                <a:lnTo>
                  <a:pt x="321" y="132"/>
                </a:lnTo>
                <a:lnTo>
                  <a:pt x="325" y="144"/>
                </a:lnTo>
                <a:lnTo>
                  <a:pt x="327" y="157"/>
                </a:lnTo>
                <a:lnTo>
                  <a:pt x="328" y="170"/>
                </a:lnTo>
                <a:lnTo>
                  <a:pt x="328" y="176"/>
                </a:lnTo>
                <a:lnTo>
                  <a:pt x="327" y="182"/>
                </a:lnTo>
                <a:lnTo>
                  <a:pt x="327" y="188"/>
                </a:lnTo>
                <a:lnTo>
                  <a:pt x="327" y="193"/>
                </a:lnTo>
                <a:lnTo>
                  <a:pt x="327" y="203"/>
                </a:lnTo>
                <a:lnTo>
                  <a:pt x="327" y="211"/>
                </a:lnTo>
                <a:lnTo>
                  <a:pt x="325" y="216"/>
                </a:lnTo>
                <a:lnTo>
                  <a:pt x="323" y="222"/>
                </a:lnTo>
                <a:lnTo>
                  <a:pt x="319" y="228"/>
                </a:lnTo>
                <a:lnTo>
                  <a:pt x="315" y="232"/>
                </a:lnTo>
                <a:lnTo>
                  <a:pt x="313" y="234"/>
                </a:lnTo>
                <a:lnTo>
                  <a:pt x="307" y="236"/>
                </a:lnTo>
                <a:lnTo>
                  <a:pt x="304" y="236"/>
                </a:lnTo>
                <a:lnTo>
                  <a:pt x="298" y="236"/>
                </a:lnTo>
                <a:lnTo>
                  <a:pt x="290" y="236"/>
                </a:lnTo>
                <a:lnTo>
                  <a:pt x="282" y="234"/>
                </a:lnTo>
                <a:lnTo>
                  <a:pt x="273" y="232"/>
                </a:lnTo>
                <a:lnTo>
                  <a:pt x="263" y="230"/>
                </a:lnTo>
                <a:lnTo>
                  <a:pt x="252" y="226"/>
                </a:lnTo>
                <a:lnTo>
                  <a:pt x="240" y="220"/>
                </a:lnTo>
                <a:lnTo>
                  <a:pt x="229" y="215"/>
                </a:lnTo>
                <a:lnTo>
                  <a:pt x="215" y="209"/>
                </a:lnTo>
                <a:lnTo>
                  <a:pt x="202" y="199"/>
                </a:lnTo>
                <a:lnTo>
                  <a:pt x="188" y="192"/>
                </a:lnTo>
                <a:lnTo>
                  <a:pt x="173" y="182"/>
                </a:lnTo>
                <a:lnTo>
                  <a:pt x="158" y="170"/>
                </a:lnTo>
                <a:lnTo>
                  <a:pt x="140" y="161"/>
                </a:lnTo>
                <a:lnTo>
                  <a:pt x="127" y="151"/>
                </a:lnTo>
                <a:lnTo>
                  <a:pt x="112" y="144"/>
                </a:lnTo>
                <a:lnTo>
                  <a:pt x="100" y="134"/>
                </a:lnTo>
                <a:lnTo>
                  <a:pt x="87" y="126"/>
                </a:lnTo>
                <a:lnTo>
                  <a:pt x="75" y="119"/>
                </a:lnTo>
                <a:lnTo>
                  <a:pt x="65" y="111"/>
                </a:lnTo>
                <a:lnTo>
                  <a:pt x="56" y="105"/>
                </a:lnTo>
                <a:lnTo>
                  <a:pt x="46" y="98"/>
                </a:lnTo>
                <a:lnTo>
                  <a:pt x="39" y="92"/>
                </a:lnTo>
                <a:lnTo>
                  <a:pt x="33" y="86"/>
                </a:lnTo>
                <a:lnTo>
                  <a:pt x="25" y="78"/>
                </a:lnTo>
                <a:lnTo>
                  <a:pt x="21" y="73"/>
                </a:lnTo>
                <a:lnTo>
                  <a:pt x="16" y="69"/>
                </a:lnTo>
                <a:lnTo>
                  <a:pt x="12" y="63"/>
                </a:lnTo>
                <a:lnTo>
                  <a:pt x="10" y="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36"/>
          <p:cNvSpPr/>
          <p:nvPr/>
        </p:nvSpPr>
        <p:spPr>
          <a:xfrm>
            <a:off x="6607080" y="2884320"/>
            <a:ext cx="757440" cy="957600"/>
          </a:xfrm>
          <a:custGeom>
            <a:avLst/>
            <a:gdLst/>
            <a:ahLst/>
            <a:rect l="l" t="t" r="r" b="b"/>
            <a:pathLst>
              <a:path w="954" h="1204">
                <a:moveTo>
                  <a:pt x="771" y="472"/>
                </a:moveTo>
                <a:lnTo>
                  <a:pt x="758" y="497"/>
                </a:lnTo>
                <a:lnTo>
                  <a:pt x="746" y="522"/>
                </a:lnTo>
                <a:lnTo>
                  <a:pt x="733" y="546"/>
                </a:lnTo>
                <a:lnTo>
                  <a:pt x="720" y="571"/>
                </a:lnTo>
                <a:lnTo>
                  <a:pt x="706" y="594"/>
                </a:lnTo>
                <a:lnTo>
                  <a:pt x="691" y="619"/>
                </a:lnTo>
                <a:lnTo>
                  <a:pt x="675" y="642"/>
                </a:lnTo>
                <a:lnTo>
                  <a:pt x="660" y="667"/>
                </a:lnTo>
                <a:lnTo>
                  <a:pt x="645" y="690"/>
                </a:lnTo>
                <a:lnTo>
                  <a:pt x="627" y="715"/>
                </a:lnTo>
                <a:lnTo>
                  <a:pt x="610" y="738"/>
                </a:lnTo>
                <a:lnTo>
                  <a:pt x="591" y="761"/>
                </a:lnTo>
                <a:lnTo>
                  <a:pt x="574" y="784"/>
                </a:lnTo>
                <a:lnTo>
                  <a:pt x="554" y="807"/>
                </a:lnTo>
                <a:lnTo>
                  <a:pt x="533" y="832"/>
                </a:lnTo>
                <a:lnTo>
                  <a:pt x="514" y="855"/>
                </a:lnTo>
                <a:lnTo>
                  <a:pt x="493" y="878"/>
                </a:lnTo>
                <a:lnTo>
                  <a:pt x="474" y="899"/>
                </a:lnTo>
                <a:lnTo>
                  <a:pt x="453" y="921"/>
                </a:lnTo>
                <a:lnTo>
                  <a:pt x="432" y="942"/>
                </a:lnTo>
                <a:lnTo>
                  <a:pt x="412" y="961"/>
                </a:lnTo>
                <a:lnTo>
                  <a:pt x="391" y="980"/>
                </a:lnTo>
                <a:lnTo>
                  <a:pt x="370" y="997"/>
                </a:lnTo>
                <a:lnTo>
                  <a:pt x="349" y="1015"/>
                </a:lnTo>
                <a:lnTo>
                  <a:pt x="330" y="1032"/>
                </a:lnTo>
                <a:lnTo>
                  <a:pt x="309" y="1047"/>
                </a:lnTo>
                <a:lnTo>
                  <a:pt x="288" y="1062"/>
                </a:lnTo>
                <a:lnTo>
                  <a:pt x="266" y="1076"/>
                </a:lnTo>
                <a:lnTo>
                  <a:pt x="247" y="1089"/>
                </a:lnTo>
                <a:lnTo>
                  <a:pt x="226" y="1103"/>
                </a:lnTo>
                <a:lnTo>
                  <a:pt x="205" y="1116"/>
                </a:lnTo>
                <a:lnTo>
                  <a:pt x="186" y="1128"/>
                </a:lnTo>
                <a:lnTo>
                  <a:pt x="165" y="1139"/>
                </a:lnTo>
                <a:lnTo>
                  <a:pt x="146" y="1149"/>
                </a:lnTo>
                <a:lnTo>
                  <a:pt x="128" y="1158"/>
                </a:lnTo>
                <a:lnTo>
                  <a:pt x="111" y="1168"/>
                </a:lnTo>
                <a:lnTo>
                  <a:pt x="96" y="1176"/>
                </a:lnTo>
                <a:lnTo>
                  <a:pt x="82" y="1181"/>
                </a:lnTo>
                <a:lnTo>
                  <a:pt x="69" y="1187"/>
                </a:lnTo>
                <a:lnTo>
                  <a:pt x="57" y="1193"/>
                </a:lnTo>
                <a:lnTo>
                  <a:pt x="46" y="1197"/>
                </a:lnTo>
                <a:lnTo>
                  <a:pt x="36" y="1201"/>
                </a:lnTo>
                <a:lnTo>
                  <a:pt x="28" y="1203"/>
                </a:lnTo>
                <a:lnTo>
                  <a:pt x="21" y="1204"/>
                </a:lnTo>
                <a:lnTo>
                  <a:pt x="13" y="1204"/>
                </a:lnTo>
                <a:lnTo>
                  <a:pt x="9" y="1204"/>
                </a:lnTo>
                <a:lnTo>
                  <a:pt x="5" y="1204"/>
                </a:lnTo>
                <a:lnTo>
                  <a:pt x="2" y="1203"/>
                </a:lnTo>
                <a:lnTo>
                  <a:pt x="0" y="1199"/>
                </a:lnTo>
                <a:lnTo>
                  <a:pt x="0" y="1195"/>
                </a:lnTo>
                <a:lnTo>
                  <a:pt x="0" y="1193"/>
                </a:lnTo>
                <a:lnTo>
                  <a:pt x="2" y="1187"/>
                </a:lnTo>
                <a:lnTo>
                  <a:pt x="5" y="1183"/>
                </a:lnTo>
                <a:lnTo>
                  <a:pt x="9" y="1178"/>
                </a:lnTo>
                <a:lnTo>
                  <a:pt x="15" y="1170"/>
                </a:lnTo>
                <a:lnTo>
                  <a:pt x="23" y="1164"/>
                </a:lnTo>
                <a:lnTo>
                  <a:pt x="30" y="1155"/>
                </a:lnTo>
                <a:lnTo>
                  <a:pt x="40" y="1147"/>
                </a:lnTo>
                <a:lnTo>
                  <a:pt x="50" y="1137"/>
                </a:lnTo>
                <a:lnTo>
                  <a:pt x="63" y="1128"/>
                </a:lnTo>
                <a:lnTo>
                  <a:pt x="74" y="1116"/>
                </a:lnTo>
                <a:lnTo>
                  <a:pt x="90" y="1105"/>
                </a:lnTo>
                <a:lnTo>
                  <a:pt x="105" y="1091"/>
                </a:lnTo>
                <a:lnTo>
                  <a:pt x="124" y="1078"/>
                </a:lnTo>
                <a:lnTo>
                  <a:pt x="142" y="1064"/>
                </a:lnTo>
                <a:lnTo>
                  <a:pt x="159" y="1049"/>
                </a:lnTo>
                <a:lnTo>
                  <a:pt x="178" y="1034"/>
                </a:lnTo>
                <a:lnTo>
                  <a:pt x="195" y="1016"/>
                </a:lnTo>
                <a:lnTo>
                  <a:pt x="215" y="1001"/>
                </a:lnTo>
                <a:lnTo>
                  <a:pt x="232" y="984"/>
                </a:lnTo>
                <a:lnTo>
                  <a:pt x="251" y="967"/>
                </a:lnTo>
                <a:lnTo>
                  <a:pt x="268" y="947"/>
                </a:lnTo>
                <a:lnTo>
                  <a:pt x="286" y="928"/>
                </a:lnTo>
                <a:lnTo>
                  <a:pt x="303" y="909"/>
                </a:lnTo>
                <a:lnTo>
                  <a:pt x="322" y="890"/>
                </a:lnTo>
                <a:lnTo>
                  <a:pt x="337" y="869"/>
                </a:lnTo>
                <a:lnTo>
                  <a:pt x="355" y="848"/>
                </a:lnTo>
                <a:lnTo>
                  <a:pt x="372" y="827"/>
                </a:lnTo>
                <a:lnTo>
                  <a:pt x="387" y="804"/>
                </a:lnTo>
                <a:lnTo>
                  <a:pt x="405" y="780"/>
                </a:lnTo>
                <a:lnTo>
                  <a:pt x="435" y="734"/>
                </a:lnTo>
                <a:lnTo>
                  <a:pt x="466" y="686"/>
                </a:lnTo>
                <a:lnTo>
                  <a:pt x="495" y="640"/>
                </a:lnTo>
                <a:lnTo>
                  <a:pt x="522" y="594"/>
                </a:lnTo>
                <a:lnTo>
                  <a:pt x="547" y="548"/>
                </a:lnTo>
                <a:lnTo>
                  <a:pt x="560" y="525"/>
                </a:lnTo>
                <a:lnTo>
                  <a:pt x="572" y="502"/>
                </a:lnTo>
                <a:lnTo>
                  <a:pt x="581" y="479"/>
                </a:lnTo>
                <a:lnTo>
                  <a:pt x="593" y="456"/>
                </a:lnTo>
                <a:lnTo>
                  <a:pt x="602" y="431"/>
                </a:lnTo>
                <a:lnTo>
                  <a:pt x="612" y="408"/>
                </a:lnTo>
                <a:lnTo>
                  <a:pt x="620" y="389"/>
                </a:lnTo>
                <a:lnTo>
                  <a:pt x="627" y="368"/>
                </a:lnTo>
                <a:lnTo>
                  <a:pt x="635" y="351"/>
                </a:lnTo>
                <a:lnTo>
                  <a:pt x="641" y="332"/>
                </a:lnTo>
                <a:lnTo>
                  <a:pt x="647" y="316"/>
                </a:lnTo>
                <a:lnTo>
                  <a:pt x="650" y="301"/>
                </a:lnTo>
                <a:lnTo>
                  <a:pt x="656" y="286"/>
                </a:lnTo>
                <a:lnTo>
                  <a:pt x="658" y="272"/>
                </a:lnTo>
                <a:lnTo>
                  <a:pt x="662" y="261"/>
                </a:lnTo>
                <a:lnTo>
                  <a:pt x="664" y="249"/>
                </a:lnTo>
                <a:lnTo>
                  <a:pt x="664" y="240"/>
                </a:lnTo>
                <a:lnTo>
                  <a:pt x="664" y="232"/>
                </a:lnTo>
                <a:lnTo>
                  <a:pt x="664" y="224"/>
                </a:lnTo>
                <a:lnTo>
                  <a:pt x="664" y="218"/>
                </a:lnTo>
                <a:lnTo>
                  <a:pt x="662" y="215"/>
                </a:lnTo>
                <a:lnTo>
                  <a:pt x="660" y="211"/>
                </a:lnTo>
                <a:lnTo>
                  <a:pt x="656" y="209"/>
                </a:lnTo>
                <a:lnTo>
                  <a:pt x="650" y="207"/>
                </a:lnTo>
                <a:lnTo>
                  <a:pt x="643" y="207"/>
                </a:lnTo>
                <a:lnTo>
                  <a:pt x="635" y="205"/>
                </a:lnTo>
                <a:lnTo>
                  <a:pt x="627" y="207"/>
                </a:lnTo>
                <a:lnTo>
                  <a:pt x="618" y="207"/>
                </a:lnTo>
                <a:lnTo>
                  <a:pt x="606" y="209"/>
                </a:lnTo>
                <a:lnTo>
                  <a:pt x="595" y="211"/>
                </a:lnTo>
                <a:lnTo>
                  <a:pt x="581" y="213"/>
                </a:lnTo>
                <a:lnTo>
                  <a:pt x="568" y="217"/>
                </a:lnTo>
                <a:lnTo>
                  <a:pt x="554" y="220"/>
                </a:lnTo>
                <a:lnTo>
                  <a:pt x="539" y="224"/>
                </a:lnTo>
                <a:lnTo>
                  <a:pt x="522" y="230"/>
                </a:lnTo>
                <a:lnTo>
                  <a:pt x="505" y="234"/>
                </a:lnTo>
                <a:lnTo>
                  <a:pt x="485" y="241"/>
                </a:lnTo>
                <a:lnTo>
                  <a:pt x="466" y="247"/>
                </a:lnTo>
                <a:lnTo>
                  <a:pt x="445" y="255"/>
                </a:lnTo>
                <a:lnTo>
                  <a:pt x="426" y="261"/>
                </a:lnTo>
                <a:lnTo>
                  <a:pt x="407" y="266"/>
                </a:lnTo>
                <a:lnTo>
                  <a:pt x="389" y="272"/>
                </a:lnTo>
                <a:lnTo>
                  <a:pt x="372" y="276"/>
                </a:lnTo>
                <a:lnTo>
                  <a:pt x="357" y="280"/>
                </a:lnTo>
                <a:lnTo>
                  <a:pt x="339" y="284"/>
                </a:lnTo>
                <a:lnTo>
                  <a:pt x="326" y="286"/>
                </a:lnTo>
                <a:lnTo>
                  <a:pt x="311" y="287"/>
                </a:lnTo>
                <a:lnTo>
                  <a:pt x="297" y="289"/>
                </a:lnTo>
                <a:lnTo>
                  <a:pt x="284" y="289"/>
                </a:lnTo>
                <a:lnTo>
                  <a:pt x="270" y="289"/>
                </a:lnTo>
                <a:lnTo>
                  <a:pt x="257" y="289"/>
                </a:lnTo>
                <a:lnTo>
                  <a:pt x="245" y="289"/>
                </a:lnTo>
                <a:lnTo>
                  <a:pt x="234" y="287"/>
                </a:lnTo>
                <a:lnTo>
                  <a:pt x="222" y="286"/>
                </a:lnTo>
                <a:lnTo>
                  <a:pt x="211" y="284"/>
                </a:lnTo>
                <a:lnTo>
                  <a:pt x="199" y="280"/>
                </a:lnTo>
                <a:lnTo>
                  <a:pt x="190" y="278"/>
                </a:lnTo>
                <a:lnTo>
                  <a:pt x="180" y="276"/>
                </a:lnTo>
                <a:lnTo>
                  <a:pt x="170" y="272"/>
                </a:lnTo>
                <a:lnTo>
                  <a:pt x="163" y="270"/>
                </a:lnTo>
                <a:lnTo>
                  <a:pt x="155" y="268"/>
                </a:lnTo>
                <a:lnTo>
                  <a:pt x="147" y="264"/>
                </a:lnTo>
                <a:lnTo>
                  <a:pt x="142" y="263"/>
                </a:lnTo>
                <a:lnTo>
                  <a:pt x="136" y="259"/>
                </a:lnTo>
                <a:lnTo>
                  <a:pt x="130" y="255"/>
                </a:lnTo>
                <a:lnTo>
                  <a:pt x="124" y="253"/>
                </a:lnTo>
                <a:lnTo>
                  <a:pt x="121" y="249"/>
                </a:lnTo>
                <a:lnTo>
                  <a:pt x="117" y="245"/>
                </a:lnTo>
                <a:lnTo>
                  <a:pt x="115" y="240"/>
                </a:lnTo>
                <a:lnTo>
                  <a:pt x="111" y="236"/>
                </a:lnTo>
                <a:lnTo>
                  <a:pt x="144" y="226"/>
                </a:lnTo>
                <a:lnTo>
                  <a:pt x="174" y="217"/>
                </a:lnTo>
                <a:lnTo>
                  <a:pt x="203" y="209"/>
                </a:lnTo>
                <a:lnTo>
                  <a:pt x="232" y="199"/>
                </a:lnTo>
                <a:lnTo>
                  <a:pt x="261" y="192"/>
                </a:lnTo>
                <a:lnTo>
                  <a:pt x="288" y="184"/>
                </a:lnTo>
                <a:lnTo>
                  <a:pt x="313" y="174"/>
                </a:lnTo>
                <a:lnTo>
                  <a:pt x="337" y="167"/>
                </a:lnTo>
                <a:lnTo>
                  <a:pt x="362" y="159"/>
                </a:lnTo>
                <a:lnTo>
                  <a:pt x="385" y="153"/>
                </a:lnTo>
                <a:lnTo>
                  <a:pt x="407" y="146"/>
                </a:lnTo>
                <a:lnTo>
                  <a:pt x="430" y="138"/>
                </a:lnTo>
                <a:lnTo>
                  <a:pt x="449" y="132"/>
                </a:lnTo>
                <a:lnTo>
                  <a:pt x="468" y="124"/>
                </a:lnTo>
                <a:lnTo>
                  <a:pt x="487" y="119"/>
                </a:lnTo>
                <a:lnTo>
                  <a:pt x="505" y="113"/>
                </a:lnTo>
                <a:lnTo>
                  <a:pt x="522" y="107"/>
                </a:lnTo>
                <a:lnTo>
                  <a:pt x="537" y="101"/>
                </a:lnTo>
                <a:lnTo>
                  <a:pt x="553" y="96"/>
                </a:lnTo>
                <a:lnTo>
                  <a:pt x="566" y="90"/>
                </a:lnTo>
                <a:lnTo>
                  <a:pt x="579" y="84"/>
                </a:lnTo>
                <a:lnTo>
                  <a:pt x="591" y="80"/>
                </a:lnTo>
                <a:lnTo>
                  <a:pt x="602" y="75"/>
                </a:lnTo>
                <a:lnTo>
                  <a:pt x="612" y="71"/>
                </a:lnTo>
                <a:lnTo>
                  <a:pt x="622" y="65"/>
                </a:lnTo>
                <a:lnTo>
                  <a:pt x="629" y="61"/>
                </a:lnTo>
                <a:lnTo>
                  <a:pt x="637" y="57"/>
                </a:lnTo>
                <a:lnTo>
                  <a:pt x="645" y="52"/>
                </a:lnTo>
                <a:lnTo>
                  <a:pt x="650" y="48"/>
                </a:lnTo>
                <a:lnTo>
                  <a:pt x="654" y="44"/>
                </a:lnTo>
                <a:lnTo>
                  <a:pt x="658" y="40"/>
                </a:lnTo>
                <a:lnTo>
                  <a:pt x="660" y="38"/>
                </a:lnTo>
                <a:lnTo>
                  <a:pt x="666" y="29"/>
                </a:lnTo>
                <a:lnTo>
                  <a:pt x="672" y="21"/>
                </a:lnTo>
                <a:lnTo>
                  <a:pt x="679" y="15"/>
                </a:lnTo>
                <a:lnTo>
                  <a:pt x="687" y="9"/>
                </a:lnTo>
                <a:lnTo>
                  <a:pt x="698" y="5"/>
                </a:lnTo>
                <a:lnTo>
                  <a:pt x="708" y="2"/>
                </a:lnTo>
                <a:lnTo>
                  <a:pt x="720" y="2"/>
                </a:lnTo>
                <a:lnTo>
                  <a:pt x="733" y="0"/>
                </a:lnTo>
                <a:lnTo>
                  <a:pt x="739" y="4"/>
                </a:lnTo>
                <a:lnTo>
                  <a:pt x="744" y="5"/>
                </a:lnTo>
                <a:lnTo>
                  <a:pt x="750" y="9"/>
                </a:lnTo>
                <a:lnTo>
                  <a:pt x="756" y="11"/>
                </a:lnTo>
                <a:lnTo>
                  <a:pt x="764" y="15"/>
                </a:lnTo>
                <a:lnTo>
                  <a:pt x="771" y="19"/>
                </a:lnTo>
                <a:lnTo>
                  <a:pt x="787" y="29"/>
                </a:lnTo>
                <a:lnTo>
                  <a:pt x="806" y="38"/>
                </a:lnTo>
                <a:lnTo>
                  <a:pt x="825" y="50"/>
                </a:lnTo>
                <a:lnTo>
                  <a:pt x="846" y="61"/>
                </a:lnTo>
                <a:lnTo>
                  <a:pt x="867" y="75"/>
                </a:lnTo>
                <a:lnTo>
                  <a:pt x="879" y="82"/>
                </a:lnTo>
                <a:lnTo>
                  <a:pt x="888" y="88"/>
                </a:lnTo>
                <a:lnTo>
                  <a:pt x="898" y="96"/>
                </a:lnTo>
                <a:lnTo>
                  <a:pt x="908" y="101"/>
                </a:lnTo>
                <a:lnTo>
                  <a:pt x="915" y="109"/>
                </a:lnTo>
                <a:lnTo>
                  <a:pt x="921" y="115"/>
                </a:lnTo>
                <a:lnTo>
                  <a:pt x="927" y="121"/>
                </a:lnTo>
                <a:lnTo>
                  <a:pt x="933" y="126"/>
                </a:lnTo>
                <a:lnTo>
                  <a:pt x="938" y="132"/>
                </a:lnTo>
                <a:lnTo>
                  <a:pt x="942" y="138"/>
                </a:lnTo>
                <a:lnTo>
                  <a:pt x="946" y="144"/>
                </a:lnTo>
                <a:lnTo>
                  <a:pt x="948" y="147"/>
                </a:lnTo>
                <a:lnTo>
                  <a:pt x="950" y="151"/>
                </a:lnTo>
                <a:lnTo>
                  <a:pt x="952" y="155"/>
                </a:lnTo>
                <a:lnTo>
                  <a:pt x="954" y="159"/>
                </a:lnTo>
                <a:lnTo>
                  <a:pt x="954" y="161"/>
                </a:lnTo>
                <a:lnTo>
                  <a:pt x="952" y="170"/>
                </a:lnTo>
                <a:lnTo>
                  <a:pt x="952" y="180"/>
                </a:lnTo>
                <a:lnTo>
                  <a:pt x="948" y="188"/>
                </a:lnTo>
                <a:lnTo>
                  <a:pt x="944" y="197"/>
                </a:lnTo>
                <a:lnTo>
                  <a:pt x="938" y="205"/>
                </a:lnTo>
                <a:lnTo>
                  <a:pt x="933" y="211"/>
                </a:lnTo>
                <a:lnTo>
                  <a:pt x="925" y="218"/>
                </a:lnTo>
                <a:lnTo>
                  <a:pt x="917" y="224"/>
                </a:lnTo>
                <a:lnTo>
                  <a:pt x="910" y="228"/>
                </a:lnTo>
                <a:lnTo>
                  <a:pt x="902" y="236"/>
                </a:lnTo>
                <a:lnTo>
                  <a:pt x="894" y="243"/>
                </a:lnTo>
                <a:lnTo>
                  <a:pt x="887" y="253"/>
                </a:lnTo>
                <a:lnTo>
                  <a:pt x="879" y="264"/>
                </a:lnTo>
                <a:lnTo>
                  <a:pt x="869" y="276"/>
                </a:lnTo>
                <a:lnTo>
                  <a:pt x="862" y="289"/>
                </a:lnTo>
                <a:lnTo>
                  <a:pt x="852" y="305"/>
                </a:lnTo>
                <a:lnTo>
                  <a:pt x="842" y="322"/>
                </a:lnTo>
                <a:lnTo>
                  <a:pt x="833" y="339"/>
                </a:lnTo>
                <a:lnTo>
                  <a:pt x="823" y="358"/>
                </a:lnTo>
                <a:lnTo>
                  <a:pt x="814" y="378"/>
                </a:lnTo>
                <a:lnTo>
                  <a:pt x="804" y="399"/>
                </a:lnTo>
                <a:lnTo>
                  <a:pt x="792" y="422"/>
                </a:lnTo>
                <a:lnTo>
                  <a:pt x="781" y="445"/>
                </a:lnTo>
                <a:lnTo>
                  <a:pt x="771" y="4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37"/>
          <p:cNvSpPr/>
          <p:nvPr/>
        </p:nvSpPr>
        <p:spPr>
          <a:xfrm>
            <a:off x="6665760" y="3200400"/>
            <a:ext cx="1192320" cy="628560"/>
          </a:xfrm>
          <a:custGeom>
            <a:avLst/>
            <a:gdLst/>
            <a:ahLst/>
            <a:rect l="l" t="t" r="r" b="b"/>
            <a:pathLst>
              <a:path w="1502" h="792">
                <a:moveTo>
                  <a:pt x="1026" y="792"/>
                </a:moveTo>
                <a:lnTo>
                  <a:pt x="1012" y="792"/>
                </a:lnTo>
                <a:lnTo>
                  <a:pt x="999" y="792"/>
                </a:lnTo>
                <a:lnTo>
                  <a:pt x="987" y="792"/>
                </a:lnTo>
                <a:lnTo>
                  <a:pt x="976" y="790"/>
                </a:lnTo>
                <a:lnTo>
                  <a:pt x="964" y="788"/>
                </a:lnTo>
                <a:lnTo>
                  <a:pt x="953" y="788"/>
                </a:lnTo>
                <a:lnTo>
                  <a:pt x="932" y="783"/>
                </a:lnTo>
                <a:lnTo>
                  <a:pt x="914" y="779"/>
                </a:lnTo>
                <a:lnTo>
                  <a:pt x="897" y="771"/>
                </a:lnTo>
                <a:lnTo>
                  <a:pt x="882" y="763"/>
                </a:lnTo>
                <a:lnTo>
                  <a:pt x="866" y="756"/>
                </a:lnTo>
                <a:lnTo>
                  <a:pt x="862" y="754"/>
                </a:lnTo>
                <a:lnTo>
                  <a:pt x="859" y="752"/>
                </a:lnTo>
                <a:lnTo>
                  <a:pt x="853" y="748"/>
                </a:lnTo>
                <a:lnTo>
                  <a:pt x="847" y="746"/>
                </a:lnTo>
                <a:lnTo>
                  <a:pt x="841" y="742"/>
                </a:lnTo>
                <a:lnTo>
                  <a:pt x="834" y="736"/>
                </a:lnTo>
                <a:lnTo>
                  <a:pt x="826" y="731"/>
                </a:lnTo>
                <a:lnTo>
                  <a:pt x="818" y="725"/>
                </a:lnTo>
                <a:lnTo>
                  <a:pt x="809" y="719"/>
                </a:lnTo>
                <a:lnTo>
                  <a:pt x="799" y="712"/>
                </a:lnTo>
                <a:lnTo>
                  <a:pt x="790" y="704"/>
                </a:lnTo>
                <a:lnTo>
                  <a:pt x="778" y="694"/>
                </a:lnTo>
                <a:lnTo>
                  <a:pt x="766" y="685"/>
                </a:lnTo>
                <a:lnTo>
                  <a:pt x="755" y="675"/>
                </a:lnTo>
                <a:lnTo>
                  <a:pt x="742" y="665"/>
                </a:lnTo>
                <a:lnTo>
                  <a:pt x="728" y="654"/>
                </a:lnTo>
                <a:lnTo>
                  <a:pt x="713" y="642"/>
                </a:lnTo>
                <a:lnTo>
                  <a:pt x="697" y="629"/>
                </a:lnTo>
                <a:lnTo>
                  <a:pt x="682" y="616"/>
                </a:lnTo>
                <a:lnTo>
                  <a:pt x="665" y="602"/>
                </a:lnTo>
                <a:lnTo>
                  <a:pt x="649" y="589"/>
                </a:lnTo>
                <a:lnTo>
                  <a:pt x="630" y="573"/>
                </a:lnTo>
                <a:lnTo>
                  <a:pt x="613" y="556"/>
                </a:lnTo>
                <a:lnTo>
                  <a:pt x="594" y="541"/>
                </a:lnTo>
                <a:lnTo>
                  <a:pt x="573" y="524"/>
                </a:lnTo>
                <a:lnTo>
                  <a:pt x="553" y="504"/>
                </a:lnTo>
                <a:lnTo>
                  <a:pt x="532" y="487"/>
                </a:lnTo>
                <a:lnTo>
                  <a:pt x="509" y="468"/>
                </a:lnTo>
                <a:lnTo>
                  <a:pt x="488" y="447"/>
                </a:lnTo>
                <a:lnTo>
                  <a:pt x="465" y="428"/>
                </a:lnTo>
                <a:lnTo>
                  <a:pt x="440" y="405"/>
                </a:lnTo>
                <a:lnTo>
                  <a:pt x="415" y="383"/>
                </a:lnTo>
                <a:lnTo>
                  <a:pt x="390" y="362"/>
                </a:lnTo>
                <a:lnTo>
                  <a:pt x="365" y="339"/>
                </a:lnTo>
                <a:lnTo>
                  <a:pt x="340" y="320"/>
                </a:lnTo>
                <a:lnTo>
                  <a:pt x="317" y="299"/>
                </a:lnTo>
                <a:lnTo>
                  <a:pt x="296" y="280"/>
                </a:lnTo>
                <a:lnTo>
                  <a:pt x="273" y="263"/>
                </a:lnTo>
                <a:lnTo>
                  <a:pt x="254" y="243"/>
                </a:lnTo>
                <a:lnTo>
                  <a:pt x="233" y="226"/>
                </a:lnTo>
                <a:lnTo>
                  <a:pt x="214" y="211"/>
                </a:lnTo>
                <a:lnTo>
                  <a:pt x="196" y="194"/>
                </a:lnTo>
                <a:lnTo>
                  <a:pt x="179" y="178"/>
                </a:lnTo>
                <a:lnTo>
                  <a:pt x="162" y="165"/>
                </a:lnTo>
                <a:lnTo>
                  <a:pt x="146" y="151"/>
                </a:lnTo>
                <a:lnTo>
                  <a:pt x="131" y="138"/>
                </a:lnTo>
                <a:lnTo>
                  <a:pt x="118" y="125"/>
                </a:lnTo>
                <a:lnTo>
                  <a:pt x="104" y="113"/>
                </a:lnTo>
                <a:lnTo>
                  <a:pt x="91" y="102"/>
                </a:lnTo>
                <a:lnTo>
                  <a:pt x="79" y="92"/>
                </a:lnTo>
                <a:lnTo>
                  <a:pt x="70" y="80"/>
                </a:lnTo>
                <a:lnTo>
                  <a:pt x="58" y="73"/>
                </a:lnTo>
                <a:lnTo>
                  <a:pt x="50" y="63"/>
                </a:lnTo>
                <a:lnTo>
                  <a:pt x="41" y="55"/>
                </a:lnTo>
                <a:lnTo>
                  <a:pt x="33" y="48"/>
                </a:lnTo>
                <a:lnTo>
                  <a:pt x="27" y="42"/>
                </a:lnTo>
                <a:lnTo>
                  <a:pt x="20" y="36"/>
                </a:lnTo>
                <a:lnTo>
                  <a:pt x="16" y="31"/>
                </a:lnTo>
                <a:lnTo>
                  <a:pt x="10" y="25"/>
                </a:lnTo>
                <a:lnTo>
                  <a:pt x="8" y="21"/>
                </a:lnTo>
                <a:lnTo>
                  <a:pt x="4" y="19"/>
                </a:lnTo>
                <a:lnTo>
                  <a:pt x="2" y="15"/>
                </a:lnTo>
                <a:lnTo>
                  <a:pt x="0" y="13"/>
                </a:lnTo>
                <a:lnTo>
                  <a:pt x="0" y="11"/>
                </a:lnTo>
                <a:lnTo>
                  <a:pt x="2" y="8"/>
                </a:lnTo>
                <a:lnTo>
                  <a:pt x="4" y="6"/>
                </a:lnTo>
                <a:lnTo>
                  <a:pt x="6" y="2"/>
                </a:lnTo>
                <a:lnTo>
                  <a:pt x="12" y="2"/>
                </a:lnTo>
                <a:lnTo>
                  <a:pt x="18" y="0"/>
                </a:lnTo>
                <a:lnTo>
                  <a:pt x="22" y="0"/>
                </a:lnTo>
                <a:lnTo>
                  <a:pt x="27" y="0"/>
                </a:lnTo>
                <a:lnTo>
                  <a:pt x="31" y="0"/>
                </a:lnTo>
                <a:lnTo>
                  <a:pt x="37" y="0"/>
                </a:lnTo>
                <a:lnTo>
                  <a:pt x="43" y="0"/>
                </a:lnTo>
                <a:lnTo>
                  <a:pt x="50" y="0"/>
                </a:lnTo>
                <a:lnTo>
                  <a:pt x="62" y="0"/>
                </a:lnTo>
                <a:lnTo>
                  <a:pt x="75" y="0"/>
                </a:lnTo>
                <a:lnTo>
                  <a:pt x="87" y="0"/>
                </a:lnTo>
                <a:lnTo>
                  <a:pt x="96" y="2"/>
                </a:lnTo>
                <a:lnTo>
                  <a:pt x="108" y="2"/>
                </a:lnTo>
                <a:lnTo>
                  <a:pt x="118" y="6"/>
                </a:lnTo>
                <a:lnTo>
                  <a:pt x="125" y="8"/>
                </a:lnTo>
                <a:lnTo>
                  <a:pt x="135" y="11"/>
                </a:lnTo>
                <a:lnTo>
                  <a:pt x="137" y="13"/>
                </a:lnTo>
                <a:lnTo>
                  <a:pt x="139" y="15"/>
                </a:lnTo>
                <a:lnTo>
                  <a:pt x="143" y="17"/>
                </a:lnTo>
                <a:lnTo>
                  <a:pt x="144" y="21"/>
                </a:lnTo>
                <a:lnTo>
                  <a:pt x="150" y="25"/>
                </a:lnTo>
                <a:lnTo>
                  <a:pt x="154" y="29"/>
                </a:lnTo>
                <a:lnTo>
                  <a:pt x="160" y="32"/>
                </a:lnTo>
                <a:lnTo>
                  <a:pt x="168" y="36"/>
                </a:lnTo>
                <a:lnTo>
                  <a:pt x="175" y="42"/>
                </a:lnTo>
                <a:lnTo>
                  <a:pt x="183" y="48"/>
                </a:lnTo>
                <a:lnTo>
                  <a:pt x="191" y="54"/>
                </a:lnTo>
                <a:lnTo>
                  <a:pt x="200" y="61"/>
                </a:lnTo>
                <a:lnTo>
                  <a:pt x="210" y="67"/>
                </a:lnTo>
                <a:lnTo>
                  <a:pt x="221" y="75"/>
                </a:lnTo>
                <a:lnTo>
                  <a:pt x="233" y="82"/>
                </a:lnTo>
                <a:lnTo>
                  <a:pt x="244" y="92"/>
                </a:lnTo>
                <a:lnTo>
                  <a:pt x="256" y="100"/>
                </a:lnTo>
                <a:lnTo>
                  <a:pt x="269" y="109"/>
                </a:lnTo>
                <a:lnTo>
                  <a:pt x="285" y="119"/>
                </a:lnTo>
                <a:lnTo>
                  <a:pt x="298" y="130"/>
                </a:lnTo>
                <a:lnTo>
                  <a:pt x="313" y="140"/>
                </a:lnTo>
                <a:lnTo>
                  <a:pt x="331" y="151"/>
                </a:lnTo>
                <a:lnTo>
                  <a:pt x="346" y="163"/>
                </a:lnTo>
                <a:lnTo>
                  <a:pt x="363" y="174"/>
                </a:lnTo>
                <a:lnTo>
                  <a:pt x="383" y="188"/>
                </a:lnTo>
                <a:lnTo>
                  <a:pt x="400" y="199"/>
                </a:lnTo>
                <a:lnTo>
                  <a:pt x="419" y="213"/>
                </a:lnTo>
                <a:lnTo>
                  <a:pt x="440" y="226"/>
                </a:lnTo>
                <a:lnTo>
                  <a:pt x="459" y="240"/>
                </a:lnTo>
                <a:lnTo>
                  <a:pt x="482" y="255"/>
                </a:lnTo>
                <a:lnTo>
                  <a:pt x="503" y="270"/>
                </a:lnTo>
                <a:lnTo>
                  <a:pt x="527" y="286"/>
                </a:lnTo>
                <a:lnTo>
                  <a:pt x="569" y="314"/>
                </a:lnTo>
                <a:lnTo>
                  <a:pt x="613" y="343"/>
                </a:lnTo>
                <a:lnTo>
                  <a:pt x="655" y="370"/>
                </a:lnTo>
                <a:lnTo>
                  <a:pt x="699" y="397"/>
                </a:lnTo>
                <a:lnTo>
                  <a:pt x="742" y="422"/>
                </a:lnTo>
                <a:lnTo>
                  <a:pt x="784" y="445"/>
                </a:lnTo>
                <a:lnTo>
                  <a:pt x="828" y="468"/>
                </a:lnTo>
                <a:lnTo>
                  <a:pt x="870" y="487"/>
                </a:lnTo>
                <a:lnTo>
                  <a:pt x="912" y="508"/>
                </a:lnTo>
                <a:lnTo>
                  <a:pt x="955" y="525"/>
                </a:lnTo>
                <a:lnTo>
                  <a:pt x="995" y="543"/>
                </a:lnTo>
                <a:lnTo>
                  <a:pt x="1037" y="558"/>
                </a:lnTo>
                <a:lnTo>
                  <a:pt x="1077" y="571"/>
                </a:lnTo>
                <a:lnTo>
                  <a:pt x="1118" y="585"/>
                </a:lnTo>
                <a:lnTo>
                  <a:pt x="1158" y="596"/>
                </a:lnTo>
                <a:lnTo>
                  <a:pt x="1197" y="606"/>
                </a:lnTo>
                <a:lnTo>
                  <a:pt x="1216" y="612"/>
                </a:lnTo>
                <a:lnTo>
                  <a:pt x="1235" y="618"/>
                </a:lnTo>
                <a:lnTo>
                  <a:pt x="1252" y="623"/>
                </a:lnTo>
                <a:lnTo>
                  <a:pt x="1269" y="629"/>
                </a:lnTo>
                <a:lnTo>
                  <a:pt x="1285" y="633"/>
                </a:lnTo>
                <a:lnTo>
                  <a:pt x="1302" y="639"/>
                </a:lnTo>
                <a:lnTo>
                  <a:pt x="1317" y="642"/>
                </a:lnTo>
                <a:lnTo>
                  <a:pt x="1331" y="646"/>
                </a:lnTo>
                <a:lnTo>
                  <a:pt x="1346" y="652"/>
                </a:lnTo>
                <a:lnTo>
                  <a:pt x="1360" y="656"/>
                </a:lnTo>
                <a:lnTo>
                  <a:pt x="1371" y="660"/>
                </a:lnTo>
                <a:lnTo>
                  <a:pt x="1385" y="662"/>
                </a:lnTo>
                <a:lnTo>
                  <a:pt x="1396" y="665"/>
                </a:lnTo>
                <a:lnTo>
                  <a:pt x="1406" y="669"/>
                </a:lnTo>
                <a:lnTo>
                  <a:pt x="1417" y="673"/>
                </a:lnTo>
                <a:lnTo>
                  <a:pt x="1427" y="675"/>
                </a:lnTo>
                <a:lnTo>
                  <a:pt x="1437" y="679"/>
                </a:lnTo>
                <a:lnTo>
                  <a:pt x="1444" y="681"/>
                </a:lnTo>
                <a:lnTo>
                  <a:pt x="1452" y="683"/>
                </a:lnTo>
                <a:lnTo>
                  <a:pt x="1460" y="685"/>
                </a:lnTo>
                <a:lnTo>
                  <a:pt x="1465" y="689"/>
                </a:lnTo>
                <a:lnTo>
                  <a:pt x="1473" y="690"/>
                </a:lnTo>
                <a:lnTo>
                  <a:pt x="1479" y="692"/>
                </a:lnTo>
                <a:lnTo>
                  <a:pt x="1483" y="694"/>
                </a:lnTo>
                <a:lnTo>
                  <a:pt x="1486" y="696"/>
                </a:lnTo>
                <a:lnTo>
                  <a:pt x="1490" y="698"/>
                </a:lnTo>
                <a:lnTo>
                  <a:pt x="1494" y="698"/>
                </a:lnTo>
                <a:lnTo>
                  <a:pt x="1496" y="700"/>
                </a:lnTo>
                <a:lnTo>
                  <a:pt x="1498" y="702"/>
                </a:lnTo>
                <a:lnTo>
                  <a:pt x="1500" y="704"/>
                </a:lnTo>
                <a:lnTo>
                  <a:pt x="1502" y="704"/>
                </a:lnTo>
                <a:lnTo>
                  <a:pt x="1502" y="706"/>
                </a:lnTo>
                <a:lnTo>
                  <a:pt x="1500" y="708"/>
                </a:lnTo>
                <a:lnTo>
                  <a:pt x="1498" y="712"/>
                </a:lnTo>
                <a:lnTo>
                  <a:pt x="1494" y="713"/>
                </a:lnTo>
                <a:lnTo>
                  <a:pt x="1490" y="717"/>
                </a:lnTo>
                <a:lnTo>
                  <a:pt x="1484" y="721"/>
                </a:lnTo>
                <a:lnTo>
                  <a:pt x="1477" y="723"/>
                </a:lnTo>
                <a:lnTo>
                  <a:pt x="1467" y="727"/>
                </a:lnTo>
                <a:lnTo>
                  <a:pt x="1458" y="731"/>
                </a:lnTo>
                <a:lnTo>
                  <a:pt x="1446" y="735"/>
                </a:lnTo>
                <a:lnTo>
                  <a:pt x="1433" y="736"/>
                </a:lnTo>
                <a:lnTo>
                  <a:pt x="1419" y="740"/>
                </a:lnTo>
                <a:lnTo>
                  <a:pt x="1404" y="744"/>
                </a:lnTo>
                <a:lnTo>
                  <a:pt x="1387" y="748"/>
                </a:lnTo>
                <a:lnTo>
                  <a:pt x="1369" y="750"/>
                </a:lnTo>
                <a:lnTo>
                  <a:pt x="1350" y="752"/>
                </a:lnTo>
                <a:lnTo>
                  <a:pt x="1331" y="756"/>
                </a:lnTo>
                <a:lnTo>
                  <a:pt x="1308" y="758"/>
                </a:lnTo>
                <a:lnTo>
                  <a:pt x="1287" y="759"/>
                </a:lnTo>
                <a:lnTo>
                  <a:pt x="1264" y="761"/>
                </a:lnTo>
                <a:lnTo>
                  <a:pt x="1245" y="765"/>
                </a:lnTo>
                <a:lnTo>
                  <a:pt x="1223" y="767"/>
                </a:lnTo>
                <a:lnTo>
                  <a:pt x="1202" y="769"/>
                </a:lnTo>
                <a:lnTo>
                  <a:pt x="1164" y="773"/>
                </a:lnTo>
                <a:lnTo>
                  <a:pt x="1127" y="779"/>
                </a:lnTo>
                <a:lnTo>
                  <a:pt x="1093" y="783"/>
                </a:lnTo>
                <a:lnTo>
                  <a:pt x="1058" y="788"/>
                </a:lnTo>
                <a:lnTo>
                  <a:pt x="1026" y="7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38"/>
          <p:cNvSpPr/>
          <p:nvPr/>
        </p:nvSpPr>
        <p:spPr>
          <a:xfrm>
            <a:off x="6022800" y="2763720"/>
            <a:ext cx="219240" cy="652680"/>
          </a:xfrm>
          <a:custGeom>
            <a:avLst/>
            <a:gdLst/>
            <a:ahLst/>
            <a:rect l="l" t="t" r="r" b="b"/>
            <a:pathLst>
              <a:path w="277" h="823">
                <a:moveTo>
                  <a:pt x="31" y="104"/>
                </a:moveTo>
                <a:lnTo>
                  <a:pt x="21" y="90"/>
                </a:lnTo>
                <a:lnTo>
                  <a:pt x="14" y="79"/>
                </a:lnTo>
                <a:lnTo>
                  <a:pt x="8" y="67"/>
                </a:lnTo>
                <a:lnTo>
                  <a:pt x="4" y="56"/>
                </a:lnTo>
                <a:lnTo>
                  <a:pt x="2" y="46"/>
                </a:lnTo>
                <a:lnTo>
                  <a:pt x="0" y="41"/>
                </a:lnTo>
                <a:lnTo>
                  <a:pt x="0" y="37"/>
                </a:lnTo>
                <a:lnTo>
                  <a:pt x="2" y="31"/>
                </a:lnTo>
                <a:lnTo>
                  <a:pt x="2" y="27"/>
                </a:lnTo>
                <a:lnTo>
                  <a:pt x="4" y="21"/>
                </a:lnTo>
                <a:lnTo>
                  <a:pt x="6" y="18"/>
                </a:lnTo>
                <a:lnTo>
                  <a:pt x="6" y="16"/>
                </a:lnTo>
                <a:lnTo>
                  <a:pt x="6" y="14"/>
                </a:lnTo>
                <a:lnTo>
                  <a:pt x="8" y="12"/>
                </a:lnTo>
                <a:lnTo>
                  <a:pt x="10" y="8"/>
                </a:lnTo>
                <a:lnTo>
                  <a:pt x="14" y="6"/>
                </a:lnTo>
                <a:lnTo>
                  <a:pt x="16" y="6"/>
                </a:lnTo>
                <a:lnTo>
                  <a:pt x="20" y="4"/>
                </a:lnTo>
                <a:lnTo>
                  <a:pt x="23" y="2"/>
                </a:lnTo>
                <a:lnTo>
                  <a:pt x="29" y="0"/>
                </a:lnTo>
                <a:lnTo>
                  <a:pt x="35" y="0"/>
                </a:lnTo>
                <a:lnTo>
                  <a:pt x="41" y="0"/>
                </a:lnTo>
                <a:lnTo>
                  <a:pt x="46" y="0"/>
                </a:lnTo>
                <a:lnTo>
                  <a:pt x="54" y="0"/>
                </a:lnTo>
                <a:lnTo>
                  <a:pt x="62" y="2"/>
                </a:lnTo>
                <a:lnTo>
                  <a:pt x="69" y="4"/>
                </a:lnTo>
                <a:lnTo>
                  <a:pt x="79" y="6"/>
                </a:lnTo>
                <a:lnTo>
                  <a:pt x="116" y="16"/>
                </a:lnTo>
                <a:lnTo>
                  <a:pt x="135" y="19"/>
                </a:lnTo>
                <a:lnTo>
                  <a:pt x="152" y="25"/>
                </a:lnTo>
                <a:lnTo>
                  <a:pt x="171" y="31"/>
                </a:lnTo>
                <a:lnTo>
                  <a:pt x="188" y="39"/>
                </a:lnTo>
                <a:lnTo>
                  <a:pt x="208" y="46"/>
                </a:lnTo>
                <a:lnTo>
                  <a:pt x="225" y="56"/>
                </a:lnTo>
                <a:lnTo>
                  <a:pt x="233" y="60"/>
                </a:lnTo>
                <a:lnTo>
                  <a:pt x="238" y="65"/>
                </a:lnTo>
                <a:lnTo>
                  <a:pt x="244" y="71"/>
                </a:lnTo>
                <a:lnTo>
                  <a:pt x="250" y="79"/>
                </a:lnTo>
                <a:lnTo>
                  <a:pt x="256" y="85"/>
                </a:lnTo>
                <a:lnTo>
                  <a:pt x="259" y="94"/>
                </a:lnTo>
                <a:lnTo>
                  <a:pt x="265" y="102"/>
                </a:lnTo>
                <a:lnTo>
                  <a:pt x="267" y="112"/>
                </a:lnTo>
                <a:lnTo>
                  <a:pt x="271" y="121"/>
                </a:lnTo>
                <a:lnTo>
                  <a:pt x="273" y="131"/>
                </a:lnTo>
                <a:lnTo>
                  <a:pt x="275" y="140"/>
                </a:lnTo>
                <a:lnTo>
                  <a:pt x="277" y="152"/>
                </a:lnTo>
                <a:lnTo>
                  <a:pt x="277" y="165"/>
                </a:lnTo>
                <a:lnTo>
                  <a:pt x="277" y="177"/>
                </a:lnTo>
                <a:lnTo>
                  <a:pt x="277" y="190"/>
                </a:lnTo>
                <a:lnTo>
                  <a:pt x="275" y="204"/>
                </a:lnTo>
                <a:lnTo>
                  <a:pt x="273" y="211"/>
                </a:lnTo>
                <a:lnTo>
                  <a:pt x="273" y="221"/>
                </a:lnTo>
                <a:lnTo>
                  <a:pt x="271" y="230"/>
                </a:lnTo>
                <a:lnTo>
                  <a:pt x="269" y="242"/>
                </a:lnTo>
                <a:lnTo>
                  <a:pt x="269" y="253"/>
                </a:lnTo>
                <a:lnTo>
                  <a:pt x="267" y="265"/>
                </a:lnTo>
                <a:lnTo>
                  <a:pt x="267" y="277"/>
                </a:lnTo>
                <a:lnTo>
                  <a:pt x="265" y="290"/>
                </a:lnTo>
                <a:lnTo>
                  <a:pt x="265" y="303"/>
                </a:lnTo>
                <a:lnTo>
                  <a:pt x="263" y="319"/>
                </a:lnTo>
                <a:lnTo>
                  <a:pt x="263" y="334"/>
                </a:lnTo>
                <a:lnTo>
                  <a:pt x="261" y="349"/>
                </a:lnTo>
                <a:lnTo>
                  <a:pt x="259" y="367"/>
                </a:lnTo>
                <a:lnTo>
                  <a:pt x="259" y="384"/>
                </a:lnTo>
                <a:lnTo>
                  <a:pt x="259" y="401"/>
                </a:lnTo>
                <a:lnTo>
                  <a:pt x="258" y="420"/>
                </a:lnTo>
                <a:lnTo>
                  <a:pt x="258" y="440"/>
                </a:lnTo>
                <a:lnTo>
                  <a:pt x="256" y="461"/>
                </a:lnTo>
                <a:lnTo>
                  <a:pt x="256" y="482"/>
                </a:lnTo>
                <a:lnTo>
                  <a:pt x="254" y="503"/>
                </a:lnTo>
                <a:lnTo>
                  <a:pt x="254" y="526"/>
                </a:lnTo>
                <a:lnTo>
                  <a:pt x="254" y="549"/>
                </a:lnTo>
                <a:lnTo>
                  <a:pt x="252" y="572"/>
                </a:lnTo>
                <a:lnTo>
                  <a:pt x="252" y="597"/>
                </a:lnTo>
                <a:lnTo>
                  <a:pt x="252" y="624"/>
                </a:lnTo>
                <a:lnTo>
                  <a:pt x="252" y="649"/>
                </a:lnTo>
                <a:lnTo>
                  <a:pt x="250" y="676"/>
                </a:lnTo>
                <a:lnTo>
                  <a:pt x="250" y="704"/>
                </a:lnTo>
                <a:lnTo>
                  <a:pt x="250" y="733"/>
                </a:lnTo>
                <a:lnTo>
                  <a:pt x="250" y="762"/>
                </a:lnTo>
                <a:lnTo>
                  <a:pt x="250" y="793"/>
                </a:lnTo>
                <a:lnTo>
                  <a:pt x="250" y="823"/>
                </a:lnTo>
                <a:lnTo>
                  <a:pt x="127" y="823"/>
                </a:lnTo>
                <a:lnTo>
                  <a:pt x="127" y="796"/>
                </a:lnTo>
                <a:lnTo>
                  <a:pt x="125" y="771"/>
                </a:lnTo>
                <a:lnTo>
                  <a:pt x="125" y="746"/>
                </a:lnTo>
                <a:lnTo>
                  <a:pt x="123" y="722"/>
                </a:lnTo>
                <a:lnTo>
                  <a:pt x="121" y="697"/>
                </a:lnTo>
                <a:lnTo>
                  <a:pt x="121" y="674"/>
                </a:lnTo>
                <a:lnTo>
                  <a:pt x="119" y="651"/>
                </a:lnTo>
                <a:lnTo>
                  <a:pt x="119" y="628"/>
                </a:lnTo>
                <a:lnTo>
                  <a:pt x="117" y="606"/>
                </a:lnTo>
                <a:lnTo>
                  <a:pt x="116" y="585"/>
                </a:lnTo>
                <a:lnTo>
                  <a:pt x="116" y="564"/>
                </a:lnTo>
                <a:lnTo>
                  <a:pt x="114" y="545"/>
                </a:lnTo>
                <a:lnTo>
                  <a:pt x="114" y="526"/>
                </a:lnTo>
                <a:lnTo>
                  <a:pt x="112" y="507"/>
                </a:lnTo>
                <a:lnTo>
                  <a:pt x="110" y="488"/>
                </a:lnTo>
                <a:lnTo>
                  <a:pt x="110" y="470"/>
                </a:lnTo>
                <a:lnTo>
                  <a:pt x="108" y="453"/>
                </a:lnTo>
                <a:lnTo>
                  <a:pt x="108" y="436"/>
                </a:lnTo>
                <a:lnTo>
                  <a:pt x="106" y="420"/>
                </a:lnTo>
                <a:lnTo>
                  <a:pt x="104" y="405"/>
                </a:lnTo>
                <a:lnTo>
                  <a:pt x="104" y="390"/>
                </a:lnTo>
                <a:lnTo>
                  <a:pt x="102" y="376"/>
                </a:lnTo>
                <a:lnTo>
                  <a:pt x="102" y="363"/>
                </a:lnTo>
                <a:lnTo>
                  <a:pt x="100" y="349"/>
                </a:lnTo>
                <a:lnTo>
                  <a:pt x="98" y="336"/>
                </a:lnTo>
                <a:lnTo>
                  <a:pt x="98" y="324"/>
                </a:lnTo>
                <a:lnTo>
                  <a:pt x="96" y="313"/>
                </a:lnTo>
                <a:lnTo>
                  <a:pt x="96" y="303"/>
                </a:lnTo>
                <a:lnTo>
                  <a:pt x="94" y="292"/>
                </a:lnTo>
                <a:lnTo>
                  <a:pt x="92" y="282"/>
                </a:lnTo>
                <a:lnTo>
                  <a:pt x="92" y="275"/>
                </a:lnTo>
                <a:lnTo>
                  <a:pt x="91" y="265"/>
                </a:lnTo>
                <a:lnTo>
                  <a:pt x="89" y="250"/>
                </a:lnTo>
                <a:lnTo>
                  <a:pt x="87" y="234"/>
                </a:lnTo>
                <a:lnTo>
                  <a:pt x="83" y="221"/>
                </a:lnTo>
                <a:lnTo>
                  <a:pt x="79" y="207"/>
                </a:lnTo>
                <a:lnTo>
                  <a:pt x="77" y="194"/>
                </a:lnTo>
                <a:lnTo>
                  <a:pt x="73" y="183"/>
                </a:lnTo>
                <a:lnTo>
                  <a:pt x="69" y="173"/>
                </a:lnTo>
                <a:lnTo>
                  <a:pt x="66" y="161"/>
                </a:lnTo>
                <a:lnTo>
                  <a:pt x="62" y="152"/>
                </a:lnTo>
                <a:lnTo>
                  <a:pt x="56" y="144"/>
                </a:lnTo>
                <a:lnTo>
                  <a:pt x="52" y="135"/>
                </a:lnTo>
                <a:lnTo>
                  <a:pt x="48" y="129"/>
                </a:lnTo>
                <a:lnTo>
                  <a:pt x="44" y="121"/>
                </a:lnTo>
                <a:lnTo>
                  <a:pt x="39" y="115"/>
                </a:lnTo>
                <a:lnTo>
                  <a:pt x="35" y="110"/>
                </a:lnTo>
                <a:lnTo>
                  <a:pt x="31" y="1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39"/>
          <p:cNvSpPr/>
          <p:nvPr/>
        </p:nvSpPr>
        <p:spPr>
          <a:xfrm>
            <a:off x="6172200" y="2963880"/>
            <a:ext cx="417600" cy="128520"/>
          </a:xfrm>
          <a:custGeom>
            <a:avLst/>
            <a:gdLst/>
            <a:ahLst/>
            <a:rect l="l" t="t" r="r" b="b"/>
            <a:pathLst>
              <a:path w="526" h="162">
                <a:moveTo>
                  <a:pt x="356" y="125"/>
                </a:moveTo>
                <a:lnTo>
                  <a:pt x="313" y="133"/>
                </a:lnTo>
                <a:lnTo>
                  <a:pt x="271" y="141"/>
                </a:lnTo>
                <a:lnTo>
                  <a:pt x="229" y="146"/>
                </a:lnTo>
                <a:lnTo>
                  <a:pt x="187" y="152"/>
                </a:lnTo>
                <a:lnTo>
                  <a:pt x="143" y="156"/>
                </a:lnTo>
                <a:lnTo>
                  <a:pt x="96" y="160"/>
                </a:lnTo>
                <a:lnTo>
                  <a:pt x="73" y="160"/>
                </a:lnTo>
                <a:lnTo>
                  <a:pt x="50" y="160"/>
                </a:lnTo>
                <a:lnTo>
                  <a:pt x="25" y="162"/>
                </a:lnTo>
                <a:lnTo>
                  <a:pt x="0" y="162"/>
                </a:lnTo>
                <a:lnTo>
                  <a:pt x="0" y="62"/>
                </a:lnTo>
                <a:lnTo>
                  <a:pt x="41" y="54"/>
                </a:lnTo>
                <a:lnTo>
                  <a:pt x="79" y="48"/>
                </a:lnTo>
                <a:lnTo>
                  <a:pt x="116" y="43"/>
                </a:lnTo>
                <a:lnTo>
                  <a:pt x="152" y="37"/>
                </a:lnTo>
                <a:lnTo>
                  <a:pt x="185" y="31"/>
                </a:lnTo>
                <a:lnTo>
                  <a:pt x="215" y="25"/>
                </a:lnTo>
                <a:lnTo>
                  <a:pt x="246" y="22"/>
                </a:lnTo>
                <a:lnTo>
                  <a:pt x="273" y="18"/>
                </a:lnTo>
                <a:lnTo>
                  <a:pt x="300" y="14"/>
                </a:lnTo>
                <a:lnTo>
                  <a:pt x="323" y="10"/>
                </a:lnTo>
                <a:lnTo>
                  <a:pt x="346" y="6"/>
                </a:lnTo>
                <a:lnTo>
                  <a:pt x="356" y="6"/>
                </a:lnTo>
                <a:lnTo>
                  <a:pt x="365" y="4"/>
                </a:lnTo>
                <a:lnTo>
                  <a:pt x="375" y="4"/>
                </a:lnTo>
                <a:lnTo>
                  <a:pt x="384" y="2"/>
                </a:lnTo>
                <a:lnTo>
                  <a:pt x="392" y="2"/>
                </a:lnTo>
                <a:lnTo>
                  <a:pt x="402" y="0"/>
                </a:lnTo>
                <a:lnTo>
                  <a:pt x="407" y="0"/>
                </a:lnTo>
                <a:lnTo>
                  <a:pt x="415" y="0"/>
                </a:lnTo>
                <a:lnTo>
                  <a:pt x="421" y="0"/>
                </a:lnTo>
                <a:lnTo>
                  <a:pt x="429" y="0"/>
                </a:lnTo>
                <a:lnTo>
                  <a:pt x="438" y="0"/>
                </a:lnTo>
                <a:lnTo>
                  <a:pt x="450" y="0"/>
                </a:lnTo>
                <a:lnTo>
                  <a:pt x="459" y="0"/>
                </a:lnTo>
                <a:lnTo>
                  <a:pt x="469" y="2"/>
                </a:lnTo>
                <a:lnTo>
                  <a:pt x="477" y="4"/>
                </a:lnTo>
                <a:lnTo>
                  <a:pt x="486" y="6"/>
                </a:lnTo>
                <a:lnTo>
                  <a:pt x="492" y="8"/>
                </a:lnTo>
                <a:lnTo>
                  <a:pt x="500" y="10"/>
                </a:lnTo>
                <a:lnTo>
                  <a:pt x="505" y="12"/>
                </a:lnTo>
                <a:lnTo>
                  <a:pt x="511" y="14"/>
                </a:lnTo>
                <a:lnTo>
                  <a:pt x="515" y="18"/>
                </a:lnTo>
                <a:lnTo>
                  <a:pt x="519" y="22"/>
                </a:lnTo>
                <a:lnTo>
                  <a:pt x="523" y="25"/>
                </a:lnTo>
                <a:lnTo>
                  <a:pt x="525" y="29"/>
                </a:lnTo>
                <a:lnTo>
                  <a:pt x="525" y="33"/>
                </a:lnTo>
                <a:lnTo>
                  <a:pt x="526" y="37"/>
                </a:lnTo>
                <a:lnTo>
                  <a:pt x="525" y="43"/>
                </a:lnTo>
                <a:lnTo>
                  <a:pt x="523" y="47"/>
                </a:lnTo>
                <a:lnTo>
                  <a:pt x="519" y="50"/>
                </a:lnTo>
                <a:lnTo>
                  <a:pt x="515" y="56"/>
                </a:lnTo>
                <a:lnTo>
                  <a:pt x="507" y="60"/>
                </a:lnTo>
                <a:lnTo>
                  <a:pt x="500" y="66"/>
                </a:lnTo>
                <a:lnTo>
                  <a:pt x="492" y="71"/>
                </a:lnTo>
                <a:lnTo>
                  <a:pt x="480" y="75"/>
                </a:lnTo>
                <a:lnTo>
                  <a:pt x="469" y="81"/>
                </a:lnTo>
                <a:lnTo>
                  <a:pt x="457" y="87"/>
                </a:lnTo>
                <a:lnTo>
                  <a:pt x="442" y="93"/>
                </a:lnTo>
                <a:lnTo>
                  <a:pt x="427" y="98"/>
                </a:lnTo>
                <a:lnTo>
                  <a:pt x="411" y="104"/>
                </a:lnTo>
                <a:lnTo>
                  <a:pt x="394" y="110"/>
                </a:lnTo>
                <a:lnTo>
                  <a:pt x="375" y="118"/>
                </a:lnTo>
                <a:lnTo>
                  <a:pt x="356" y="1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40"/>
          <p:cNvSpPr/>
          <p:nvPr/>
        </p:nvSpPr>
        <p:spPr>
          <a:xfrm>
            <a:off x="5398920" y="3279600"/>
            <a:ext cx="1209960" cy="312840"/>
          </a:xfrm>
          <a:custGeom>
            <a:avLst/>
            <a:gdLst/>
            <a:ahLst/>
            <a:rect l="l" t="t" r="r" b="b"/>
            <a:pathLst>
              <a:path w="1525" h="395">
                <a:moveTo>
                  <a:pt x="782" y="136"/>
                </a:moveTo>
                <a:lnTo>
                  <a:pt x="816" y="126"/>
                </a:lnTo>
                <a:lnTo>
                  <a:pt x="853" y="119"/>
                </a:lnTo>
                <a:lnTo>
                  <a:pt x="885" y="111"/>
                </a:lnTo>
                <a:lnTo>
                  <a:pt x="920" y="103"/>
                </a:lnTo>
                <a:lnTo>
                  <a:pt x="951" y="97"/>
                </a:lnTo>
                <a:lnTo>
                  <a:pt x="981" y="90"/>
                </a:lnTo>
                <a:lnTo>
                  <a:pt x="1012" y="82"/>
                </a:lnTo>
                <a:lnTo>
                  <a:pt x="1041" y="76"/>
                </a:lnTo>
                <a:lnTo>
                  <a:pt x="1070" y="71"/>
                </a:lnTo>
                <a:lnTo>
                  <a:pt x="1096" y="65"/>
                </a:lnTo>
                <a:lnTo>
                  <a:pt x="1123" y="59"/>
                </a:lnTo>
                <a:lnTo>
                  <a:pt x="1148" y="53"/>
                </a:lnTo>
                <a:lnTo>
                  <a:pt x="1173" y="48"/>
                </a:lnTo>
                <a:lnTo>
                  <a:pt x="1196" y="44"/>
                </a:lnTo>
                <a:lnTo>
                  <a:pt x="1217" y="38"/>
                </a:lnTo>
                <a:lnTo>
                  <a:pt x="1238" y="34"/>
                </a:lnTo>
                <a:lnTo>
                  <a:pt x="1260" y="30"/>
                </a:lnTo>
                <a:lnTo>
                  <a:pt x="1279" y="26"/>
                </a:lnTo>
                <a:lnTo>
                  <a:pt x="1298" y="23"/>
                </a:lnTo>
                <a:lnTo>
                  <a:pt x="1315" y="19"/>
                </a:lnTo>
                <a:lnTo>
                  <a:pt x="1333" y="15"/>
                </a:lnTo>
                <a:lnTo>
                  <a:pt x="1348" y="13"/>
                </a:lnTo>
                <a:lnTo>
                  <a:pt x="1361" y="9"/>
                </a:lnTo>
                <a:lnTo>
                  <a:pt x="1377" y="7"/>
                </a:lnTo>
                <a:lnTo>
                  <a:pt x="1388" y="5"/>
                </a:lnTo>
                <a:lnTo>
                  <a:pt x="1400" y="3"/>
                </a:lnTo>
                <a:lnTo>
                  <a:pt x="1411" y="2"/>
                </a:lnTo>
                <a:lnTo>
                  <a:pt x="1421" y="2"/>
                </a:lnTo>
                <a:lnTo>
                  <a:pt x="1430" y="0"/>
                </a:lnTo>
                <a:lnTo>
                  <a:pt x="1438" y="0"/>
                </a:lnTo>
                <a:lnTo>
                  <a:pt x="1446" y="0"/>
                </a:lnTo>
                <a:lnTo>
                  <a:pt x="1452" y="0"/>
                </a:lnTo>
                <a:lnTo>
                  <a:pt x="1461" y="0"/>
                </a:lnTo>
                <a:lnTo>
                  <a:pt x="1469" y="0"/>
                </a:lnTo>
                <a:lnTo>
                  <a:pt x="1477" y="0"/>
                </a:lnTo>
                <a:lnTo>
                  <a:pt x="1484" y="2"/>
                </a:lnTo>
                <a:lnTo>
                  <a:pt x="1490" y="3"/>
                </a:lnTo>
                <a:lnTo>
                  <a:pt x="1496" y="5"/>
                </a:lnTo>
                <a:lnTo>
                  <a:pt x="1501" y="7"/>
                </a:lnTo>
                <a:lnTo>
                  <a:pt x="1507" y="9"/>
                </a:lnTo>
                <a:lnTo>
                  <a:pt x="1511" y="13"/>
                </a:lnTo>
                <a:lnTo>
                  <a:pt x="1515" y="17"/>
                </a:lnTo>
                <a:lnTo>
                  <a:pt x="1519" y="21"/>
                </a:lnTo>
                <a:lnTo>
                  <a:pt x="1521" y="25"/>
                </a:lnTo>
                <a:lnTo>
                  <a:pt x="1523" y="30"/>
                </a:lnTo>
                <a:lnTo>
                  <a:pt x="1525" y="36"/>
                </a:lnTo>
                <a:lnTo>
                  <a:pt x="1525" y="42"/>
                </a:lnTo>
                <a:lnTo>
                  <a:pt x="1525" y="48"/>
                </a:lnTo>
                <a:lnTo>
                  <a:pt x="1525" y="55"/>
                </a:lnTo>
                <a:lnTo>
                  <a:pt x="1525" y="61"/>
                </a:lnTo>
                <a:lnTo>
                  <a:pt x="1525" y="67"/>
                </a:lnTo>
                <a:lnTo>
                  <a:pt x="1523" y="72"/>
                </a:lnTo>
                <a:lnTo>
                  <a:pt x="1523" y="76"/>
                </a:lnTo>
                <a:lnTo>
                  <a:pt x="1521" y="80"/>
                </a:lnTo>
                <a:lnTo>
                  <a:pt x="1517" y="88"/>
                </a:lnTo>
                <a:lnTo>
                  <a:pt x="1513" y="92"/>
                </a:lnTo>
                <a:lnTo>
                  <a:pt x="1509" y="95"/>
                </a:lnTo>
                <a:lnTo>
                  <a:pt x="1505" y="97"/>
                </a:lnTo>
                <a:lnTo>
                  <a:pt x="1501" y="97"/>
                </a:lnTo>
                <a:lnTo>
                  <a:pt x="1498" y="97"/>
                </a:lnTo>
                <a:lnTo>
                  <a:pt x="1496" y="97"/>
                </a:lnTo>
                <a:lnTo>
                  <a:pt x="1492" y="99"/>
                </a:lnTo>
                <a:lnTo>
                  <a:pt x="1486" y="99"/>
                </a:lnTo>
                <a:lnTo>
                  <a:pt x="1482" y="99"/>
                </a:lnTo>
                <a:lnTo>
                  <a:pt x="1477" y="101"/>
                </a:lnTo>
                <a:lnTo>
                  <a:pt x="1471" y="101"/>
                </a:lnTo>
                <a:lnTo>
                  <a:pt x="1465" y="103"/>
                </a:lnTo>
                <a:lnTo>
                  <a:pt x="1457" y="103"/>
                </a:lnTo>
                <a:lnTo>
                  <a:pt x="1450" y="105"/>
                </a:lnTo>
                <a:lnTo>
                  <a:pt x="1442" y="105"/>
                </a:lnTo>
                <a:lnTo>
                  <a:pt x="1432" y="107"/>
                </a:lnTo>
                <a:lnTo>
                  <a:pt x="1423" y="109"/>
                </a:lnTo>
                <a:lnTo>
                  <a:pt x="1413" y="111"/>
                </a:lnTo>
                <a:lnTo>
                  <a:pt x="1404" y="113"/>
                </a:lnTo>
                <a:lnTo>
                  <a:pt x="1392" y="115"/>
                </a:lnTo>
                <a:lnTo>
                  <a:pt x="1381" y="117"/>
                </a:lnTo>
                <a:lnTo>
                  <a:pt x="1369" y="119"/>
                </a:lnTo>
                <a:lnTo>
                  <a:pt x="1356" y="120"/>
                </a:lnTo>
                <a:lnTo>
                  <a:pt x="1344" y="124"/>
                </a:lnTo>
                <a:lnTo>
                  <a:pt x="1331" y="126"/>
                </a:lnTo>
                <a:lnTo>
                  <a:pt x="1315" y="128"/>
                </a:lnTo>
                <a:lnTo>
                  <a:pt x="1302" y="132"/>
                </a:lnTo>
                <a:lnTo>
                  <a:pt x="1286" y="134"/>
                </a:lnTo>
                <a:lnTo>
                  <a:pt x="1271" y="138"/>
                </a:lnTo>
                <a:lnTo>
                  <a:pt x="1254" y="140"/>
                </a:lnTo>
                <a:lnTo>
                  <a:pt x="1238" y="143"/>
                </a:lnTo>
                <a:lnTo>
                  <a:pt x="1221" y="145"/>
                </a:lnTo>
                <a:lnTo>
                  <a:pt x="1202" y="149"/>
                </a:lnTo>
                <a:lnTo>
                  <a:pt x="1185" y="153"/>
                </a:lnTo>
                <a:lnTo>
                  <a:pt x="1166" y="157"/>
                </a:lnTo>
                <a:lnTo>
                  <a:pt x="1146" y="161"/>
                </a:lnTo>
                <a:lnTo>
                  <a:pt x="1106" y="168"/>
                </a:lnTo>
                <a:lnTo>
                  <a:pt x="1068" y="178"/>
                </a:lnTo>
                <a:lnTo>
                  <a:pt x="1031" y="186"/>
                </a:lnTo>
                <a:lnTo>
                  <a:pt x="997" y="195"/>
                </a:lnTo>
                <a:lnTo>
                  <a:pt x="962" y="203"/>
                </a:lnTo>
                <a:lnTo>
                  <a:pt x="931" y="211"/>
                </a:lnTo>
                <a:lnTo>
                  <a:pt x="901" y="216"/>
                </a:lnTo>
                <a:lnTo>
                  <a:pt x="872" y="224"/>
                </a:lnTo>
                <a:lnTo>
                  <a:pt x="845" y="230"/>
                </a:lnTo>
                <a:lnTo>
                  <a:pt x="820" y="236"/>
                </a:lnTo>
                <a:lnTo>
                  <a:pt x="797" y="239"/>
                </a:lnTo>
                <a:lnTo>
                  <a:pt x="776" y="245"/>
                </a:lnTo>
                <a:lnTo>
                  <a:pt x="757" y="249"/>
                </a:lnTo>
                <a:lnTo>
                  <a:pt x="737" y="253"/>
                </a:lnTo>
                <a:lnTo>
                  <a:pt x="722" y="257"/>
                </a:lnTo>
                <a:lnTo>
                  <a:pt x="707" y="259"/>
                </a:lnTo>
                <a:lnTo>
                  <a:pt x="674" y="268"/>
                </a:lnTo>
                <a:lnTo>
                  <a:pt x="641" y="278"/>
                </a:lnTo>
                <a:lnTo>
                  <a:pt x="607" y="287"/>
                </a:lnTo>
                <a:lnTo>
                  <a:pt x="570" y="297"/>
                </a:lnTo>
                <a:lnTo>
                  <a:pt x="534" y="308"/>
                </a:lnTo>
                <a:lnTo>
                  <a:pt x="496" y="320"/>
                </a:lnTo>
                <a:lnTo>
                  <a:pt x="455" y="331"/>
                </a:lnTo>
                <a:lnTo>
                  <a:pt x="415" y="345"/>
                </a:lnTo>
                <a:lnTo>
                  <a:pt x="392" y="353"/>
                </a:lnTo>
                <a:lnTo>
                  <a:pt x="371" y="358"/>
                </a:lnTo>
                <a:lnTo>
                  <a:pt x="352" y="364"/>
                </a:lnTo>
                <a:lnTo>
                  <a:pt x="332" y="370"/>
                </a:lnTo>
                <a:lnTo>
                  <a:pt x="315" y="374"/>
                </a:lnTo>
                <a:lnTo>
                  <a:pt x="298" y="377"/>
                </a:lnTo>
                <a:lnTo>
                  <a:pt x="282" y="381"/>
                </a:lnTo>
                <a:lnTo>
                  <a:pt x="267" y="385"/>
                </a:lnTo>
                <a:lnTo>
                  <a:pt x="254" y="387"/>
                </a:lnTo>
                <a:lnTo>
                  <a:pt x="240" y="389"/>
                </a:lnTo>
                <a:lnTo>
                  <a:pt x="229" y="391"/>
                </a:lnTo>
                <a:lnTo>
                  <a:pt x="217" y="393"/>
                </a:lnTo>
                <a:lnTo>
                  <a:pt x="208" y="395"/>
                </a:lnTo>
                <a:lnTo>
                  <a:pt x="198" y="395"/>
                </a:lnTo>
                <a:lnTo>
                  <a:pt x="190" y="395"/>
                </a:lnTo>
                <a:lnTo>
                  <a:pt x="183" y="395"/>
                </a:lnTo>
                <a:lnTo>
                  <a:pt x="169" y="395"/>
                </a:lnTo>
                <a:lnTo>
                  <a:pt x="156" y="393"/>
                </a:lnTo>
                <a:lnTo>
                  <a:pt x="142" y="391"/>
                </a:lnTo>
                <a:lnTo>
                  <a:pt x="127" y="385"/>
                </a:lnTo>
                <a:lnTo>
                  <a:pt x="113" y="381"/>
                </a:lnTo>
                <a:lnTo>
                  <a:pt x="100" y="374"/>
                </a:lnTo>
                <a:lnTo>
                  <a:pt x="87" y="366"/>
                </a:lnTo>
                <a:lnTo>
                  <a:pt x="73" y="358"/>
                </a:lnTo>
                <a:lnTo>
                  <a:pt x="64" y="354"/>
                </a:lnTo>
                <a:lnTo>
                  <a:pt x="56" y="353"/>
                </a:lnTo>
                <a:lnTo>
                  <a:pt x="48" y="349"/>
                </a:lnTo>
                <a:lnTo>
                  <a:pt x="41" y="347"/>
                </a:lnTo>
                <a:lnTo>
                  <a:pt x="35" y="343"/>
                </a:lnTo>
                <a:lnTo>
                  <a:pt x="29" y="339"/>
                </a:lnTo>
                <a:lnTo>
                  <a:pt x="23" y="335"/>
                </a:lnTo>
                <a:lnTo>
                  <a:pt x="17" y="331"/>
                </a:lnTo>
                <a:lnTo>
                  <a:pt x="14" y="328"/>
                </a:lnTo>
                <a:lnTo>
                  <a:pt x="10" y="324"/>
                </a:lnTo>
                <a:lnTo>
                  <a:pt x="6" y="318"/>
                </a:lnTo>
                <a:lnTo>
                  <a:pt x="4" y="314"/>
                </a:lnTo>
                <a:lnTo>
                  <a:pt x="2" y="310"/>
                </a:lnTo>
                <a:lnTo>
                  <a:pt x="0" y="305"/>
                </a:lnTo>
                <a:lnTo>
                  <a:pt x="0" y="301"/>
                </a:lnTo>
                <a:lnTo>
                  <a:pt x="0" y="297"/>
                </a:lnTo>
                <a:lnTo>
                  <a:pt x="0" y="291"/>
                </a:lnTo>
                <a:lnTo>
                  <a:pt x="2" y="287"/>
                </a:lnTo>
                <a:lnTo>
                  <a:pt x="4" y="283"/>
                </a:lnTo>
                <a:lnTo>
                  <a:pt x="6" y="280"/>
                </a:lnTo>
                <a:lnTo>
                  <a:pt x="10" y="276"/>
                </a:lnTo>
                <a:lnTo>
                  <a:pt x="14" y="274"/>
                </a:lnTo>
                <a:lnTo>
                  <a:pt x="19" y="270"/>
                </a:lnTo>
                <a:lnTo>
                  <a:pt x="25" y="268"/>
                </a:lnTo>
                <a:lnTo>
                  <a:pt x="33" y="266"/>
                </a:lnTo>
                <a:lnTo>
                  <a:pt x="41" y="264"/>
                </a:lnTo>
                <a:lnTo>
                  <a:pt x="48" y="262"/>
                </a:lnTo>
                <a:lnTo>
                  <a:pt x="56" y="260"/>
                </a:lnTo>
                <a:lnTo>
                  <a:pt x="65" y="260"/>
                </a:lnTo>
                <a:lnTo>
                  <a:pt x="75" y="259"/>
                </a:lnTo>
                <a:lnTo>
                  <a:pt x="87" y="259"/>
                </a:lnTo>
                <a:lnTo>
                  <a:pt x="98" y="259"/>
                </a:lnTo>
                <a:lnTo>
                  <a:pt x="104" y="259"/>
                </a:lnTo>
                <a:lnTo>
                  <a:pt x="112" y="259"/>
                </a:lnTo>
                <a:lnTo>
                  <a:pt x="119" y="259"/>
                </a:lnTo>
                <a:lnTo>
                  <a:pt x="129" y="257"/>
                </a:lnTo>
                <a:lnTo>
                  <a:pt x="138" y="257"/>
                </a:lnTo>
                <a:lnTo>
                  <a:pt x="150" y="255"/>
                </a:lnTo>
                <a:lnTo>
                  <a:pt x="161" y="253"/>
                </a:lnTo>
                <a:lnTo>
                  <a:pt x="175" y="251"/>
                </a:lnTo>
                <a:lnTo>
                  <a:pt x="188" y="249"/>
                </a:lnTo>
                <a:lnTo>
                  <a:pt x="204" y="247"/>
                </a:lnTo>
                <a:lnTo>
                  <a:pt x="221" y="245"/>
                </a:lnTo>
                <a:lnTo>
                  <a:pt x="238" y="243"/>
                </a:lnTo>
                <a:lnTo>
                  <a:pt x="256" y="239"/>
                </a:lnTo>
                <a:lnTo>
                  <a:pt x="275" y="237"/>
                </a:lnTo>
                <a:lnTo>
                  <a:pt x="294" y="234"/>
                </a:lnTo>
                <a:lnTo>
                  <a:pt x="315" y="230"/>
                </a:lnTo>
                <a:lnTo>
                  <a:pt x="338" y="226"/>
                </a:lnTo>
                <a:lnTo>
                  <a:pt x="361" y="222"/>
                </a:lnTo>
                <a:lnTo>
                  <a:pt x="384" y="218"/>
                </a:lnTo>
                <a:lnTo>
                  <a:pt x="409" y="213"/>
                </a:lnTo>
                <a:lnTo>
                  <a:pt x="434" y="209"/>
                </a:lnTo>
                <a:lnTo>
                  <a:pt x="461" y="203"/>
                </a:lnTo>
                <a:lnTo>
                  <a:pt x="490" y="197"/>
                </a:lnTo>
                <a:lnTo>
                  <a:pt x="519" y="191"/>
                </a:lnTo>
                <a:lnTo>
                  <a:pt x="547" y="186"/>
                </a:lnTo>
                <a:lnTo>
                  <a:pt x="578" y="180"/>
                </a:lnTo>
                <a:lnTo>
                  <a:pt x="609" y="172"/>
                </a:lnTo>
                <a:lnTo>
                  <a:pt x="641" y="166"/>
                </a:lnTo>
                <a:lnTo>
                  <a:pt x="676" y="159"/>
                </a:lnTo>
                <a:lnTo>
                  <a:pt x="709" y="151"/>
                </a:lnTo>
                <a:lnTo>
                  <a:pt x="745" y="143"/>
                </a:lnTo>
                <a:lnTo>
                  <a:pt x="782" y="1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41"/>
          <p:cNvSpPr/>
          <p:nvPr/>
        </p:nvSpPr>
        <p:spPr>
          <a:xfrm>
            <a:off x="6087960" y="3416400"/>
            <a:ext cx="152640" cy="525240"/>
          </a:xfrm>
          <a:custGeom>
            <a:avLst/>
            <a:gdLst/>
            <a:ahLst/>
            <a:rect l="l" t="t" r="r" b="b"/>
            <a:pathLst>
              <a:path w="192" h="662">
                <a:moveTo>
                  <a:pt x="178" y="520"/>
                </a:moveTo>
                <a:lnTo>
                  <a:pt x="171" y="549"/>
                </a:lnTo>
                <a:lnTo>
                  <a:pt x="165" y="562"/>
                </a:lnTo>
                <a:lnTo>
                  <a:pt x="161" y="574"/>
                </a:lnTo>
                <a:lnTo>
                  <a:pt x="155" y="587"/>
                </a:lnTo>
                <a:lnTo>
                  <a:pt x="152" y="599"/>
                </a:lnTo>
                <a:lnTo>
                  <a:pt x="148" y="610"/>
                </a:lnTo>
                <a:lnTo>
                  <a:pt x="142" y="620"/>
                </a:lnTo>
                <a:lnTo>
                  <a:pt x="138" y="626"/>
                </a:lnTo>
                <a:lnTo>
                  <a:pt x="134" y="631"/>
                </a:lnTo>
                <a:lnTo>
                  <a:pt x="128" y="637"/>
                </a:lnTo>
                <a:lnTo>
                  <a:pt x="125" y="643"/>
                </a:lnTo>
                <a:lnTo>
                  <a:pt x="121" y="647"/>
                </a:lnTo>
                <a:lnTo>
                  <a:pt x="115" y="651"/>
                </a:lnTo>
                <a:lnTo>
                  <a:pt x="111" y="654"/>
                </a:lnTo>
                <a:lnTo>
                  <a:pt x="107" y="656"/>
                </a:lnTo>
                <a:lnTo>
                  <a:pt x="104" y="658"/>
                </a:lnTo>
                <a:lnTo>
                  <a:pt x="100" y="660"/>
                </a:lnTo>
                <a:lnTo>
                  <a:pt x="96" y="662"/>
                </a:lnTo>
                <a:lnTo>
                  <a:pt x="92" y="662"/>
                </a:lnTo>
                <a:lnTo>
                  <a:pt x="90" y="662"/>
                </a:lnTo>
                <a:lnTo>
                  <a:pt x="86" y="660"/>
                </a:lnTo>
                <a:lnTo>
                  <a:pt x="84" y="658"/>
                </a:lnTo>
                <a:lnTo>
                  <a:pt x="82" y="656"/>
                </a:lnTo>
                <a:lnTo>
                  <a:pt x="77" y="656"/>
                </a:lnTo>
                <a:lnTo>
                  <a:pt x="71" y="654"/>
                </a:lnTo>
                <a:lnTo>
                  <a:pt x="63" y="651"/>
                </a:lnTo>
                <a:lnTo>
                  <a:pt x="56" y="647"/>
                </a:lnTo>
                <a:lnTo>
                  <a:pt x="48" y="639"/>
                </a:lnTo>
                <a:lnTo>
                  <a:pt x="42" y="635"/>
                </a:lnTo>
                <a:lnTo>
                  <a:pt x="38" y="631"/>
                </a:lnTo>
                <a:lnTo>
                  <a:pt x="34" y="626"/>
                </a:lnTo>
                <a:lnTo>
                  <a:pt x="29" y="620"/>
                </a:lnTo>
                <a:lnTo>
                  <a:pt x="25" y="614"/>
                </a:lnTo>
                <a:lnTo>
                  <a:pt x="21" y="608"/>
                </a:lnTo>
                <a:lnTo>
                  <a:pt x="15" y="601"/>
                </a:lnTo>
                <a:lnTo>
                  <a:pt x="11" y="593"/>
                </a:lnTo>
                <a:lnTo>
                  <a:pt x="9" y="585"/>
                </a:lnTo>
                <a:lnTo>
                  <a:pt x="6" y="580"/>
                </a:lnTo>
                <a:lnTo>
                  <a:pt x="4" y="572"/>
                </a:lnTo>
                <a:lnTo>
                  <a:pt x="2" y="564"/>
                </a:lnTo>
                <a:lnTo>
                  <a:pt x="0" y="551"/>
                </a:lnTo>
                <a:lnTo>
                  <a:pt x="0" y="537"/>
                </a:lnTo>
                <a:lnTo>
                  <a:pt x="2" y="524"/>
                </a:lnTo>
                <a:lnTo>
                  <a:pt x="4" y="509"/>
                </a:lnTo>
                <a:lnTo>
                  <a:pt x="8" y="495"/>
                </a:lnTo>
                <a:lnTo>
                  <a:pt x="13" y="482"/>
                </a:lnTo>
                <a:lnTo>
                  <a:pt x="17" y="464"/>
                </a:lnTo>
                <a:lnTo>
                  <a:pt x="21" y="447"/>
                </a:lnTo>
                <a:lnTo>
                  <a:pt x="27" y="428"/>
                </a:lnTo>
                <a:lnTo>
                  <a:pt x="31" y="409"/>
                </a:lnTo>
                <a:lnTo>
                  <a:pt x="33" y="397"/>
                </a:lnTo>
                <a:lnTo>
                  <a:pt x="36" y="386"/>
                </a:lnTo>
                <a:lnTo>
                  <a:pt x="38" y="374"/>
                </a:lnTo>
                <a:lnTo>
                  <a:pt x="40" y="361"/>
                </a:lnTo>
                <a:lnTo>
                  <a:pt x="42" y="347"/>
                </a:lnTo>
                <a:lnTo>
                  <a:pt x="44" y="334"/>
                </a:lnTo>
                <a:lnTo>
                  <a:pt x="44" y="321"/>
                </a:lnTo>
                <a:lnTo>
                  <a:pt x="44" y="305"/>
                </a:lnTo>
                <a:lnTo>
                  <a:pt x="44" y="288"/>
                </a:lnTo>
                <a:lnTo>
                  <a:pt x="42" y="273"/>
                </a:lnTo>
                <a:lnTo>
                  <a:pt x="40" y="253"/>
                </a:lnTo>
                <a:lnTo>
                  <a:pt x="40" y="236"/>
                </a:lnTo>
                <a:lnTo>
                  <a:pt x="38" y="215"/>
                </a:lnTo>
                <a:lnTo>
                  <a:pt x="34" y="196"/>
                </a:lnTo>
                <a:lnTo>
                  <a:pt x="33" y="175"/>
                </a:lnTo>
                <a:lnTo>
                  <a:pt x="31" y="152"/>
                </a:lnTo>
                <a:lnTo>
                  <a:pt x="27" y="129"/>
                </a:lnTo>
                <a:lnTo>
                  <a:pt x="25" y="104"/>
                </a:lnTo>
                <a:lnTo>
                  <a:pt x="21" y="81"/>
                </a:lnTo>
                <a:lnTo>
                  <a:pt x="17" y="54"/>
                </a:lnTo>
                <a:lnTo>
                  <a:pt x="13" y="27"/>
                </a:lnTo>
                <a:lnTo>
                  <a:pt x="8" y="0"/>
                </a:lnTo>
                <a:lnTo>
                  <a:pt x="75" y="0"/>
                </a:lnTo>
                <a:lnTo>
                  <a:pt x="142" y="0"/>
                </a:lnTo>
                <a:lnTo>
                  <a:pt x="144" y="10"/>
                </a:lnTo>
                <a:lnTo>
                  <a:pt x="144" y="21"/>
                </a:lnTo>
                <a:lnTo>
                  <a:pt x="148" y="33"/>
                </a:lnTo>
                <a:lnTo>
                  <a:pt x="150" y="44"/>
                </a:lnTo>
                <a:lnTo>
                  <a:pt x="153" y="58"/>
                </a:lnTo>
                <a:lnTo>
                  <a:pt x="157" y="71"/>
                </a:lnTo>
                <a:lnTo>
                  <a:pt x="167" y="100"/>
                </a:lnTo>
                <a:lnTo>
                  <a:pt x="169" y="106"/>
                </a:lnTo>
                <a:lnTo>
                  <a:pt x="171" y="115"/>
                </a:lnTo>
                <a:lnTo>
                  <a:pt x="173" y="123"/>
                </a:lnTo>
                <a:lnTo>
                  <a:pt x="175" y="135"/>
                </a:lnTo>
                <a:lnTo>
                  <a:pt x="175" y="144"/>
                </a:lnTo>
                <a:lnTo>
                  <a:pt x="176" y="156"/>
                </a:lnTo>
                <a:lnTo>
                  <a:pt x="178" y="169"/>
                </a:lnTo>
                <a:lnTo>
                  <a:pt x="178" y="181"/>
                </a:lnTo>
                <a:lnTo>
                  <a:pt x="180" y="196"/>
                </a:lnTo>
                <a:lnTo>
                  <a:pt x="182" y="209"/>
                </a:lnTo>
                <a:lnTo>
                  <a:pt x="182" y="225"/>
                </a:lnTo>
                <a:lnTo>
                  <a:pt x="184" y="240"/>
                </a:lnTo>
                <a:lnTo>
                  <a:pt x="186" y="257"/>
                </a:lnTo>
                <a:lnTo>
                  <a:pt x="188" y="275"/>
                </a:lnTo>
                <a:lnTo>
                  <a:pt x="190" y="292"/>
                </a:lnTo>
                <a:lnTo>
                  <a:pt x="192" y="311"/>
                </a:lnTo>
                <a:lnTo>
                  <a:pt x="192" y="328"/>
                </a:lnTo>
                <a:lnTo>
                  <a:pt x="192" y="346"/>
                </a:lnTo>
                <a:lnTo>
                  <a:pt x="192" y="363"/>
                </a:lnTo>
                <a:lnTo>
                  <a:pt x="192" y="380"/>
                </a:lnTo>
                <a:lnTo>
                  <a:pt x="192" y="395"/>
                </a:lnTo>
                <a:lnTo>
                  <a:pt x="190" y="411"/>
                </a:lnTo>
                <a:lnTo>
                  <a:pt x="190" y="424"/>
                </a:lnTo>
                <a:lnTo>
                  <a:pt x="190" y="438"/>
                </a:lnTo>
                <a:lnTo>
                  <a:pt x="190" y="451"/>
                </a:lnTo>
                <a:lnTo>
                  <a:pt x="188" y="464"/>
                </a:lnTo>
                <a:lnTo>
                  <a:pt x="188" y="476"/>
                </a:lnTo>
                <a:lnTo>
                  <a:pt x="186" y="486"/>
                </a:lnTo>
                <a:lnTo>
                  <a:pt x="184" y="495"/>
                </a:lnTo>
                <a:lnTo>
                  <a:pt x="182" y="505"/>
                </a:lnTo>
                <a:lnTo>
                  <a:pt x="180" y="512"/>
                </a:lnTo>
                <a:lnTo>
                  <a:pt x="178" y="5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维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2" name="组合 8"/>
          <p:cNvGrpSpPr/>
          <p:nvPr/>
        </p:nvGrpSpPr>
        <p:grpSpPr>
          <a:xfrm>
            <a:off x="1227240" y="3975120"/>
            <a:ext cx="2840040" cy="1571760"/>
            <a:chOff x="1227240" y="3975120"/>
            <a:chExt cx="2840040" cy="1571760"/>
          </a:xfrm>
        </p:grpSpPr>
        <p:pic>
          <p:nvPicPr>
            <p:cNvPr id="133" name="图示 4" descr=""/>
            <p:cNvPicPr/>
            <p:nvPr/>
          </p:nvPicPr>
          <p:blipFill>
            <a:blip r:embed="rId1"/>
            <a:stretch/>
          </p:blipFill>
          <p:spPr>
            <a:xfrm>
              <a:off x="12272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矩形 2"/>
            <p:cNvSpPr/>
            <p:nvPr/>
          </p:nvSpPr>
          <p:spPr>
            <a:xfrm>
              <a:off x="12754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“隹”四横间距均匀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矩形 3"/>
          <p:cNvSpPr/>
          <p:nvPr/>
        </p:nvSpPr>
        <p:spPr>
          <a:xfrm>
            <a:off x="2124000" y="1868400"/>
            <a:ext cx="10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é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29"/>
          <p:cNvSpPr/>
          <p:nvPr/>
        </p:nvSpPr>
        <p:spPr>
          <a:xfrm>
            <a:off x="6659640" y="4370400"/>
            <a:ext cx="1055520" cy="165240"/>
          </a:xfrm>
          <a:custGeom>
            <a:avLst/>
            <a:gdLst/>
            <a:ahLst/>
            <a:rect l="l" t="t" r="r" b="b"/>
            <a:pathLst>
              <a:path w="1330" h="210">
                <a:moveTo>
                  <a:pt x="599" y="50"/>
                </a:moveTo>
                <a:lnTo>
                  <a:pt x="626" y="47"/>
                </a:lnTo>
                <a:lnTo>
                  <a:pt x="653" y="43"/>
                </a:lnTo>
                <a:lnTo>
                  <a:pt x="680" y="39"/>
                </a:lnTo>
                <a:lnTo>
                  <a:pt x="707" y="37"/>
                </a:lnTo>
                <a:lnTo>
                  <a:pt x="731" y="33"/>
                </a:lnTo>
                <a:lnTo>
                  <a:pt x="755" y="31"/>
                </a:lnTo>
                <a:lnTo>
                  <a:pt x="779" y="29"/>
                </a:lnTo>
                <a:lnTo>
                  <a:pt x="803" y="25"/>
                </a:lnTo>
                <a:lnTo>
                  <a:pt x="824" y="24"/>
                </a:lnTo>
                <a:lnTo>
                  <a:pt x="845" y="22"/>
                </a:lnTo>
                <a:lnTo>
                  <a:pt x="866" y="20"/>
                </a:lnTo>
                <a:lnTo>
                  <a:pt x="885" y="18"/>
                </a:lnTo>
                <a:lnTo>
                  <a:pt x="904" y="16"/>
                </a:lnTo>
                <a:lnTo>
                  <a:pt x="923" y="14"/>
                </a:lnTo>
                <a:lnTo>
                  <a:pt x="941" y="12"/>
                </a:lnTo>
                <a:lnTo>
                  <a:pt x="958" y="10"/>
                </a:lnTo>
                <a:lnTo>
                  <a:pt x="973" y="10"/>
                </a:lnTo>
                <a:lnTo>
                  <a:pt x="989" y="8"/>
                </a:lnTo>
                <a:lnTo>
                  <a:pt x="1004" y="6"/>
                </a:lnTo>
                <a:lnTo>
                  <a:pt x="1019" y="6"/>
                </a:lnTo>
                <a:lnTo>
                  <a:pt x="1033" y="4"/>
                </a:lnTo>
                <a:lnTo>
                  <a:pt x="1044" y="4"/>
                </a:lnTo>
                <a:lnTo>
                  <a:pt x="1056" y="4"/>
                </a:lnTo>
                <a:lnTo>
                  <a:pt x="1067" y="2"/>
                </a:lnTo>
                <a:lnTo>
                  <a:pt x="1079" y="2"/>
                </a:lnTo>
                <a:lnTo>
                  <a:pt x="1089" y="2"/>
                </a:lnTo>
                <a:lnTo>
                  <a:pt x="1098" y="0"/>
                </a:lnTo>
                <a:lnTo>
                  <a:pt x="1106" y="0"/>
                </a:lnTo>
                <a:lnTo>
                  <a:pt x="1115" y="0"/>
                </a:lnTo>
                <a:lnTo>
                  <a:pt x="1121" y="0"/>
                </a:lnTo>
                <a:lnTo>
                  <a:pt x="1129" y="0"/>
                </a:lnTo>
                <a:lnTo>
                  <a:pt x="1135" y="0"/>
                </a:lnTo>
                <a:lnTo>
                  <a:pt x="1154" y="4"/>
                </a:lnTo>
                <a:lnTo>
                  <a:pt x="1171" y="10"/>
                </a:lnTo>
                <a:lnTo>
                  <a:pt x="1188" y="16"/>
                </a:lnTo>
                <a:lnTo>
                  <a:pt x="1206" y="22"/>
                </a:lnTo>
                <a:lnTo>
                  <a:pt x="1223" y="29"/>
                </a:lnTo>
                <a:lnTo>
                  <a:pt x="1240" y="39"/>
                </a:lnTo>
                <a:lnTo>
                  <a:pt x="1248" y="43"/>
                </a:lnTo>
                <a:lnTo>
                  <a:pt x="1256" y="48"/>
                </a:lnTo>
                <a:lnTo>
                  <a:pt x="1261" y="56"/>
                </a:lnTo>
                <a:lnTo>
                  <a:pt x="1269" y="62"/>
                </a:lnTo>
                <a:lnTo>
                  <a:pt x="1277" y="70"/>
                </a:lnTo>
                <a:lnTo>
                  <a:pt x="1282" y="75"/>
                </a:lnTo>
                <a:lnTo>
                  <a:pt x="1288" y="81"/>
                </a:lnTo>
                <a:lnTo>
                  <a:pt x="1294" y="85"/>
                </a:lnTo>
                <a:lnTo>
                  <a:pt x="1304" y="94"/>
                </a:lnTo>
                <a:lnTo>
                  <a:pt x="1313" y="102"/>
                </a:lnTo>
                <a:lnTo>
                  <a:pt x="1321" y="110"/>
                </a:lnTo>
                <a:lnTo>
                  <a:pt x="1323" y="112"/>
                </a:lnTo>
                <a:lnTo>
                  <a:pt x="1327" y="114"/>
                </a:lnTo>
                <a:lnTo>
                  <a:pt x="1329" y="118"/>
                </a:lnTo>
                <a:lnTo>
                  <a:pt x="1329" y="119"/>
                </a:lnTo>
                <a:lnTo>
                  <a:pt x="1330" y="121"/>
                </a:lnTo>
                <a:lnTo>
                  <a:pt x="1330" y="125"/>
                </a:lnTo>
                <a:lnTo>
                  <a:pt x="1330" y="129"/>
                </a:lnTo>
                <a:lnTo>
                  <a:pt x="1330" y="131"/>
                </a:lnTo>
                <a:lnTo>
                  <a:pt x="1330" y="135"/>
                </a:lnTo>
                <a:lnTo>
                  <a:pt x="1329" y="137"/>
                </a:lnTo>
                <a:lnTo>
                  <a:pt x="1327" y="139"/>
                </a:lnTo>
                <a:lnTo>
                  <a:pt x="1325" y="142"/>
                </a:lnTo>
                <a:lnTo>
                  <a:pt x="1323" y="144"/>
                </a:lnTo>
                <a:lnTo>
                  <a:pt x="1319" y="150"/>
                </a:lnTo>
                <a:lnTo>
                  <a:pt x="1315" y="152"/>
                </a:lnTo>
                <a:lnTo>
                  <a:pt x="1311" y="154"/>
                </a:lnTo>
                <a:lnTo>
                  <a:pt x="1309" y="156"/>
                </a:lnTo>
                <a:lnTo>
                  <a:pt x="1304" y="158"/>
                </a:lnTo>
                <a:lnTo>
                  <a:pt x="1300" y="160"/>
                </a:lnTo>
                <a:lnTo>
                  <a:pt x="1294" y="162"/>
                </a:lnTo>
                <a:lnTo>
                  <a:pt x="1288" y="165"/>
                </a:lnTo>
                <a:lnTo>
                  <a:pt x="1281" y="165"/>
                </a:lnTo>
                <a:lnTo>
                  <a:pt x="1275" y="167"/>
                </a:lnTo>
                <a:lnTo>
                  <a:pt x="1267" y="169"/>
                </a:lnTo>
                <a:lnTo>
                  <a:pt x="1257" y="171"/>
                </a:lnTo>
                <a:lnTo>
                  <a:pt x="1250" y="171"/>
                </a:lnTo>
                <a:lnTo>
                  <a:pt x="1240" y="173"/>
                </a:lnTo>
                <a:lnTo>
                  <a:pt x="1229" y="173"/>
                </a:lnTo>
                <a:lnTo>
                  <a:pt x="1219" y="173"/>
                </a:lnTo>
                <a:lnTo>
                  <a:pt x="1208" y="175"/>
                </a:lnTo>
                <a:lnTo>
                  <a:pt x="1204" y="175"/>
                </a:lnTo>
                <a:lnTo>
                  <a:pt x="1202" y="175"/>
                </a:lnTo>
                <a:lnTo>
                  <a:pt x="1196" y="175"/>
                </a:lnTo>
                <a:lnTo>
                  <a:pt x="1192" y="175"/>
                </a:lnTo>
                <a:lnTo>
                  <a:pt x="1186" y="175"/>
                </a:lnTo>
                <a:lnTo>
                  <a:pt x="1181" y="175"/>
                </a:lnTo>
                <a:lnTo>
                  <a:pt x="1175" y="175"/>
                </a:lnTo>
                <a:lnTo>
                  <a:pt x="1169" y="175"/>
                </a:lnTo>
                <a:lnTo>
                  <a:pt x="1162" y="175"/>
                </a:lnTo>
                <a:lnTo>
                  <a:pt x="1154" y="175"/>
                </a:lnTo>
                <a:lnTo>
                  <a:pt x="1146" y="175"/>
                </a:lnTo>
                <a:lnTo>
                  <a:pt x="1137" y="175"/>
                </a:lnTo>
                <a:lnTo>
                  <a:pt x="1129" y="175"/>
                </a:lnTo>
                <a:lnTo>
                  <a:pt x="1119" y="175"/>
                </a:lnTo>
                <a:lnTo>
                  <a:pt x="1108" y="177"/>
                </a:lnTo>
                <a:lnTo>
                  <a:pt x="1098" y="177"/>
                </a:lnTo>
                <a:lnTo>
                  <a:pt x="1087" y="177"/>
                </a:lnTo>
                <a:lnTo>
                  <a:pt x="1075" y="177"/>
                </a:lnTo>
                <a:lnTo>
                  <a:pt x="1064" y="177"/>
                </a:lnTo>
                <a:lnTo>
                  <a:pt x="1050" y="177"/>
                </a:lnTo>
                <a:lnTo>
                  <a:pt x="1037" y="177"/>
                </a:lnTo>
                <a:lnTo>
                  <a:pt x="1023" y="179"/>
                </a:lnTo>
                <a:lnTo>
                  <a:pt x="1010" y="179"/>
                </a:lnTo>
                <a:lnTo>
                  <a:pt x="994" y="179"/>
                </a:lnTo>
                <a:lnTo>
                  <a:pt x="979" y="179"/>
                </a:lnTo>
                <a:lnTo>
                  <a:pt x="964" y="181"/>
                </a:lnTo>
                <a:lnTo>
                  <a:pt x="948" y="181"/>
                </a:lnTo>
                <a:lnTo>
                  <a:pt x="931" y="181"/>
                </a:lnTo>
                <a:lnTo>
                  <a:pt x="914" y="181"/>
                </a:lnTo>
                <a:lnTo>
                  <a:pt x="897" y="183"/>
                </a:lnTo>
                <a:lnTo>
                  <a:pt x="879" y="183"/>
                </a:lnTo>
                <a:lnTo>
                  <a:pt x="860" y="183"/>
                </a:lnTo>
                <a:lnTo>
                  <a:pt x="841" y="183"/>
                </a:lnTo>
                <a:lnTo>
                  <a:pt x="822" y="185"/>
                </a:lnTo>
                <a:lnTo>
                  <a:pt x="801" y="185"/>
                </a:lnTo>
                <a:lnTo>
                  <a:pt x="781" y="185"/>
                </a:lnTo>
                <a:lnTo>
                  <a:pt x="760" y="187"/>
                </a:lnTo>
                <a:lnTo>
                  <a:pt x="737" y="187"/>
                </a:lnTo>
                <a:lnTo>
                  <a:pt x="716" y="187"/>
                </a:lnTo>
                <a:lnTo>
                  <a:pt x="693" y="188"/>
                </a:lnTo>
                <a:lnTo>
                  <a:pt x="670" y="188"/>
                </a:lnTo>
                <a:lnTo>
                  <a:pt x="647" y="190"/>
                </a:lnTo>
                <a:lnTo>
                  <a:pt x="622" y="190"/>
                </a:lnTo>
                <a:lnTo>
                  <a:pt x="597" y="190"/>
                </a:lnTo>
                <a:lnTo>
                  <a:pt x="572" y="192"/>
                </a:lnTo>
                <a:lnTo>
                  <a:pt x="547" y="192"/>
                </a:lnTo>
                <a:lnTo>
                  <a:pt x="520" y="194"/>
                </a:lnTo>
                <a:lnTo>
                  <a:pt x="493" y="194"/>
                </a:lnTo>
                <a:lnTo>
                  <a:pt x="467" y="194"/>
                </a:lnTo>
                <a:lnTo>
                  <a:pt x="440" y="196"/>
                </a:lnTo>
                <a:lnTo>
                  <a:pt x="411" y="196"/>
                </a:lnTo>
                <a:lnTo>
                  <a:pt x="382" y="198"/>
                </a:lnTo>
                <a:lnTo>
                  <a:pt x="353" y="198"/>
                </a:lnTo>
                <a:lnTo>
                  <a:pt x="324" y="200"/>
                </a:lnTo>
                <a:lnTo>
                  <a:pt x="294" y="200"/>
                </a:lnTo>
                <a:lnTo>
                  <a:pt x="263" y="202"/>
                </a:lnTo>
                <a:lnTo>
                  <a:pt x="232" y="202"/>
                </a:lnTo>
                <a:lnTo>
                  <a:pt x="200" y="204"/>
                </a:lnTo>
                <a:lnTo>
                  <a:pt x="169" y="206"/>
                </a:lnTo>
                <a:lnTo>
                  <a:pt x="136" y="206"/>
                </a:lnTo>
                <a:lnTo>
                  <a:pt x="102" y="208"/>
                </a:lnTo>
                <a:lnTo>
                  <a:pt x="69" y="208"/>
                </a:lnTo>
                <a:lnTo>
                  <a:pt x="35" y="210"/>
                </a:lnTo>
                <a:lnTo>
                  <a:pt x="0" y="210"/>
                </a:lnTo>
                <a:lnTo>
                  <a:pt x="0" y="156"/>
                </a:lnTo>
                <a:lnTo>
                  <a:pt x="0" y="100"/>
                </a:lnTo>
                <a:lnTo>
                  <a:pt x="10" y="100"/>
                </a:lnTo>
                <a:lnTo>
                  <a:pt x="21" y="98"/>
                </a:lnTo>
                <a:lnTo>
                  <a:pt x="33" y="98"/>
                </a:lnTo>
                <a:lnTo>
                  <a:pt x="46" y="98"/>
                </a:lnTo>
                <a:lnTo>
                  <a:pt x="58" y="98"/>
                </a:lnTo>
                <a:lnTo>
                  <a:pt x="71" y="98"/>
                </a:lnTo>
                <a:lnTo>
                  <a:pt x="84" y="98"/>
                </a:lnTo>
                <a:lnTo>
                  <a:pt x="98" y="96"/>
                </a:lnTo>
                <a:lnTo>
                  <a:pt x="113" y="96"/>
                </a:lnTo>
                <a:lnTo>
                  <a:pt x="129" y="96"/>
                </a:lnTo>
                <a:lnTo>
                  <a:pt x="144" y="94"/>
                </a:lnTo>
                <a:lnTo>
                  <a:pt x="159" y="94"/>
                </a:lnTo>
                <a:lnTo>
                  <a:pt x="177" y="93"/>
                </a:lnTo>
                <a:lnTo>
                  <a:pt x="194" y="91"/>
                </a:lnTo>
                <a:lnTo>
                  <a:pt x="211" y="91"/>
                </a:lnTo>
                <a:lnTo>
                  <a:pt x="230" y="89"/>
                </a:lnTo>
                <a:lnTo>
                  <a:pt x="250" y="87"/>
                </a:lnTo>
                <a:lnTo>
                  <a:pt x="269" y="85"/>
                </a:lnTo>
                <a:lnTo>
                  <a:pt x="288" y="85"/>
                </a:lnTo>
                <a:lnTo>
                  <a:pt x="309" y="83"/>
                </a:lnTo>
                <a:lnTo>
                  <a:pt x="330" y="81"/>
                </a:lnTo>
                <a:lnTo>
                  <a:pt x="351" y="77"/>
                </a:lnTo>
                <a:lnTo>
                  <a:pt x="374" y="75"/>
                </a:lnTo>
                <a:lnTo>
                  <a:pt x="397" y="73"/>
                </a:lnTo>
                <a:lnTo>
                  <a:pt x="420" y="71"/>
                </a:lnTo>
                <a:lnTo>
                  <a:pt x="443" y="68"/>
                </a:lnTo>
                <a:lnTo>
                  <a:pt x="468" y="66"/>
                </a:lnTo>
                <a:lnTo>
                  <a:pt x="493" y="62"/>
                </a:lnTo>
                <a:lnTo>
                  <a:pt x="518" y="60"/>
                </a:lnTo>
                <a:lnTo>
                  <a:pt x="545" y="56"/>
                </a:lnTo>
                <a:lnTo>
                  <a:pt x="570" y="52"/>
                </a:lnTo>
                <a:lnTo>
                  <a:pt x="599" y="5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30"/>
          <p:cNvSpPr/>
          <p:nvPr/>
        </p:nvSpPr>
        <p:spPr>
          <a:xfrm>
            <a:off x="6310440" y="2698920"/>
            <a:ext cx="677880" cy="1012680"/>
          </a:xfrm>
          <a:custGeom>
            <a:avLst/>
            <a:gdLst/>
            <a:ahLst/>
            <a:rect l="l" t="t" r="r" b="b"/>
            <a:pathLst>
              <a:path w="855" h="1278">
                <a:moveTo>
                  <a:pt x="526" y="769"/>
                </a:moveTo>
                <a:lnTo>
                  <a:pt x="484" y="819"/>
                </a:lnTo>
                <a:lnTo>
                  <a:pt x="444" y="869"/>
                </a:lnTo>
                <a:lnTo>
                  <a:pt x="402" y="917"/>
                </a:lnTo>
                <a:lnTo>
                  <a:pt x="361" y="963"/>
                </a:lnTo>
                <a:lnTo>
                  <a:pt x="319" y="1009"/>
                </a:lnTo>
                <a:lnTo>
                  <a:pt x="279" y="1053"/>
                </a:lnTo>
                <a:lnTo>
                  <a:pt x="237" y="1097"/>
                </a:lnTo>
                <a:lnTo>
                  <a:pt x="196" y="1140"/>
                </a:lnTo>
                <a:lnTo>
                  <a:pt x="177" y="1161"/>
                </a:lnTo>
                <a:lnTo>
                  <a:pt x="158" y="1178"/>
                </a:lnTo>
                <a:lnTo>
                  <a:pt x="139" y="1195"/>
                </a:lnTo>
                <a:lnTo>
                  <a:pt x="121" y="1211"/>
                </a:lnTo>
                <a:lnTo>
                  <a:pt x="106" y="1224"/>
                </a:lnTo>
                <a:lnTo>
                  <a:pt x="91" y="1236"/>
                </a:lnTo>
                <a:lnTo>
                  <a:pt x="75" y="1247"/>
                </a:lnTo>
                <a:lnTo>
                  <a:pt x="62" y="1255"/>
                </a:lnTo>
                <a:lnTo>
                  <a:pt x="50" y="1262"/>
                </a:lnTo>
                <a:lnTo>
                  <a:pt x="39" y="1268"/>
                </a:lnTo>
                <a:lnTo>
                  <a:pt x="29" y="1272"/>
                </a:lnTo>
                <a:lnTo>
                  <a:pt x="21" y="1276"/>
                </a:lnTo>
                <a:lnTo>
                  <a:pt x="14" y="1278"/>
                </a:lnTo>
                <a:lnTo>
                  <a:pt x="8" y="1278"/>
                </a:lnTo>
                <a:lnTo>
                  <a:pt x="4" y="1278"/>
                </a:lnTo>
                <a:lnTo>
                  <a:pt x="2" y="1276"/>
                </a:lnTo>
                <a:lnTo>
                  <a:pt x="0" y="1272"/>
                </a:lnTo>
                <a:lnTo>
                  <a:pt x="0" y="1268"/>
                </a:lnTo>
                <a:lnTo>
                  <a:pt x="0" y="1260"/>
                </a:lnTo>
                <a:lnTo>
                  <a:pt x="4" y="1253"/>
                </a:lnTo>
                <a:lnTo>
                  <a:pt x="8" y="1243"/>
                </a:lnTo>
                <a:lnTo>
                  <a:pt x="14" y="1232"/>
                </a:lnTo>
                <a:lnTo>
                  <a:pt x="21" y="1218"/>
                </a:lnTo>
                <a:lnTo>
                  <a:pt x="31" y="1203"/>
                </a:lnTo>
                <a:lnTo>
                  <a:pt x="41" y="1186"/>
                </a:lnTo>
                <a:lnTo>
                  <a:pt x="54" y="1166"/>
                </a:lnTo>
                <a:lnTo>
                  <a:pt x="68" y="1145"/>
                </a:lnTo>
                <a:lnTo>
                  <a:pt x="83" y="1122"/>
                </a:lnTo>
                <a:lnTo>
                  <a:pt x="98" y="1099"/>
                </a:lnTo>
                <a:lnTo>
                  <a:pt x="117" y="1072"/>
                </a:lnTo>
                <a:lnTo>
                  <a:pt x="139" y="1046"/>
                </a:lnTo>
                <a:lnTo>
                  <a:pt x="160" y="1017"/>
                </a:lnTo>
                <a:lnTo>
                  <a:pt x="204" y="955"/>
                </a:lnTo>
                <a:lnTo>
                  <a:pt x="246" y="898"/>
                </a:lnTo>
                <a:lnTo>
                  <a:pt x="286" y="840"/>
                </a:lnTo>
                <a:lnTo>
                  <a:pt x="325" y="783"/>
                </a:lnTo>
                <a:lnTo>
                  <a:pt x="363" y="729"/>
                </a:lnTo>
                <a:lnTo>
                  <a:pt x="398" y="675"/>
                </a:lnTo>
                <a:lnTo>
                  <a:pt x="432" y="622"/>
                </a:lnTo>
                <a:lnTo>
                  <a:pt x="465" y="570"/>
                </a:lnTo>
                <a:lnTo>
                  <a:pt x="478" y="545"/>
                </a:lnTo>
                <a:lnTo>
                  <a:pt x="492" y="520"/>
                </a:lnTo>
                <a:lnTo>
                  <a:pt x="503" y="495"/>
                </a:lnTo>
                <a:lnTo>
                  <a:pt x="515" y="472"/>
                </a:lnTo>
                <a:lnTo>
                  <a:pt x="526" y="449"/>
                </a:lnTo>
                <a:lnTo>
                  <a:pt x="538" y="426"/>
                </a:lnTo>
                <a:lnTo>
                  <a:pt x="548" y="405"/>
                </a:lnTo>
                <a:lnTo>
                  <a:pt x="557" y="384"/>
                </a:lnTo>
                <a:lnTo>
                  <a:pt x="567" y="363"/>
                </a:lnTo>
                <a:lnTo>
                  <a:pt x="576" y="344"/>
                </a:lnTo>
                <a:lnTo>
                  <a:pt x="586" y="324"/>
                </a:lnTo>
                <a:lnTo>
                  <a:pt x="594" y="305"/>
                </a:lnTo>
                <a:lnTo>
                  <a:pt x="601" y="286"/>
                </a:lnTo>
                <a:lnTo>
                  <a:pt x="609" y="269"/>
                </a:lnTo>
                <a:lnTo>
                  <a:pt x="617" y="251"/>
                </a:lnTo>
                <a:lnTo>
                  <a:pt x="624" y="236"/>
                </a:lnTo>
                <a:lnTo>
                  <a:pt x="630" y="219"/>
                </a:lnTo>
                <a:lnTo>
                  <a:pt x="636" y="203"/>
                </a:lnTo>
                <a:lnTo>
                  <a:pt x="640" y="188"/>
                </a:lnTo>
                <a:lnTo>
                  <a:pt x="644" y="175"/>
                </a:lnTo>
                <a:lnTo>
                  <a:pt x="647" y="161"/>
                </a:lnTo>
                <a:lnTo>
                  <a:pt x="649" y="148"/>
                </a:lnTo>
                <a:lnTo>
                  <a:pt x="651" y="136"/>
                </a:lnTo>
                <a:lnTo>
                  <a:pt x="653" y="123"/>
                </a:lnTo>
                <a:lnTo>
                  <a:pt x="655" y="111"/>
                </a:lnTo>
                <a:lnTo>
                  <a:pt x="655" y="102"/>
                </a:lnTo>
                <a:lnTo>
                  <a:pt x="655" y="92"/>
                </a:lnTo>
                <a:lnTo>
                  <a:pt x="653" y="83"/>
                </a:lnTo>
                <a:lnTo>
                  <a:pt x="653" y="73"/>
                </a:lnTo>
                <a:lnTo>
                  <a:pt x="651" y="65"/>
                </a:lnTo>
                <a:lnTo>
                  <a:pt x="649" y="58"/>
                </a:lnTo>
                <a:lnTo>
                  <a:pt x="647" y="50"/>
                </a:lnTo>
                <a:lnTo>
                  <a:pt x="644" y="40"/>
                </a:lnTo>
                <a:lnTo>
                  <a:pt x="642" y="33"/>
                </a:lnTo>
                <a:lnTo>
                  <a:pt x="640" y="27"/>
                </a:lnTo>
                <a:lnTo>
                  <a:pt x="640" y="21"/>
                </a:lnTo>
                <a:lnTo>
                  <a:pt x="642" y="15"/>
                </a:lnTo>
                <a:lnTo>
                  <a:pt x="644" y="12"/>
                </a:lnTo>
                <a:lnTo>
                  <a:pt x="645" y="10"/>
                </a:lnTo>
                <a:lnTo>
                  <a:pt x="649" y="8"/>
                </a:lnTo>
                <a:lnTo>
                  <a:pt x="651" y="4"/>
                </a:lnTo>
                <a:lnTo>
                  <a:pt x="655" y="2"/>
                </a:lnTo>
                <a:lnTo>
                  <a:pt x="661" y="0"/>
                </a:lnTo>
                <a:lnTo>
                  <a:pt x="665" y="0"/>
                </a:lnTo>
                <a:lnTo>
                  <a:pt x="670" y="2"/>
                </a:lnTo>
                <a:lnTo>
                  <a:pt x="674" y="2"/>
                </a:lnTo>
                <a:lnTo>
                  <a:pt x="680" y="4"/>
                </a:lnTo>
                <a:lnTo>
                  <a:pt x="686" y="8"/>
                </a:lnTo>
                <a:lnTo>
                  <a:pt x="693" y="10"/>
                </a:lnTo>
                <a:lnTo>
                  <a:pt x="707" y="17"/>
                </a:lnTo>
                <a:lnTo>
                  <a:pt x="722" y="25"/>
                </a:lnTo>
                <a:lnTo>
                  <a:pt x="732" y="31"/>
                </a:lnTo>
                <a:lnTo>
                  <a:pt x="741" y="37"/>
                </a:lnTo>
                <a:lnTo>
                  <a:pt x="751" y="42"/>
                </a:lnTo>
                <a:lnTo>
                  <a:pt x="761" y="48"/>
                </a:lnTo>
                <a:lnTo>
                  <a:pt x="770" y="54"/>
                </a:lnTo>
                <a:lnTo>
                  <a:pt x="782" y="62"/>
                </a:lnTo>
                <a:lnTo>
                  <a:pt x="791" y="71"/>
                </a:lnTo>
                <a:lnTo>
                  <a:pt x="799" y="81"/>
                </a:lnTo>
                <a:lnTo>
                  <a:pt x="807" y="88"/>
                </a:lnTo>
                <a:lnTo>
                  <a:pt x="814" y="98"/>
                </a:lnTo>
                <a:lnTo>
                  <a:pt x="820" y="106"/>
                </a:lnTo>
                <a:lnTo>
                  <a:pt x="826" y="113"/>
                </a:lnTo>
                <a:lnTo>
                  <a:pt x="832" y="121"/>
                </a:lnTo>
                <a:lnTo>
                  <a:pt x="836" y="129"/>
                </a:lnTo>
                <a:lnTo>
                  <a:pt x="841" y="136"/>
                </a:lnTo>
                <a:lnTo>
                  <a:pt x="845" y="144"/>
                </a:lnTo>
                <a:lnTo>
                  <a:pt x="847" y="152"/>
                </a:lnTo>
                <a:lnTo>
                  <a:pt x="851" y="157"/>
                </a:lnTo>
                <a:lnTo>
                  <a:pt x="853" y="165"/>
                </a:lnTo>
                <a:lnTo>
                  <a:pt x="853" y="173"/>
                </a:lnTo>
                <a:lnTo>
                  <a:pt x="855" y="179"/>
                </a:lnTo>
                <a:lnTo>
                  <a:pt x="855" y="186"/>
                </a:lnTo>
                <a:lnTo>
                  <a:pt x="855" y="194"/>
                </a:lnTo>
                <a:lnTo>
                  <a:pt x="853" y="202"/>
                </a:lnTo>
                <a:lnTo>
                  <a:pt x="853" y="209"/>
                </a:lnTo>
                <a:lnTo>
                  <a:pt x="849" y="219"/>
                </a:lnTo>
                <a:lnTo>
                  <a:pt x="847" y="228"/>
                </a:lnTo>
                <a:lnTo>
                  <a:pt x="843" y="238"/>
                </a:lnTo>
                <a:lnTo>
                  <a:pt x="839" y="250"/>
                </a:lnTo>
                <a:lnTo>
                  <a:pt x="836" y="261"/>
                </a:lnTo>
                <a:lnTo>
                  <a:pt x="830" y="274"/>
                </a:lnTo>
                <a:lnTo>
                  <a:pt x="822" y="288"/>
                </a:lnTo>
                <a:lnTo>
                  <a:pt x="816" y="301"/>
                </a:lnTo>
                <a:lnTo>
                  <a:pt x="809" y="317"/>
                </a:lnTo>
                <a:lnTo>
                  <a:pt x="799" y="332"/>
                </a:lnTo>
                <a:lnTo>
                  <a:pt x="789" y="347"/>
                </a:lnTo>
                <a:lnTo>
                  <a:pt x="780" y="367"/>
                </a:lnTo>
                <a:lnTo>
                  <a:pt x="770" y="384"/>
                </a:lnTo>
                <a:lnTo>
                  <a:pt x="745" y="426"/>
                </a:lnTo>
                <a:lnTo>
                  <a:pt x="722" y="470"/>
                </a:lnTo>
                <a:lnTo>
                  <a:pt x="709" y="493"/>
                </a:lnTo>
                <a:lnTo>
                  <a:pt x="695" y="516"/>
                </a:lnTo>
                <a:lnTo>
                  <a:pt x="680" y="539"/>
                </a:lnTo>
                <a:lnTo>
                  <a:pt x="667" y="562"/>
                </a:lnTo>
                <a:lnTo>
                  <a:pt x="651" y="585"/>
                </a:lnTo>
                <a:lnTo>
                  <a:pt x="634" y="610"/>
                </a:lnTo>
                <a:lnTo>
                  <a:pt x="619" y="635"/>
                </a:lnTo>
                <a:lnTo>
                  <a:pt x="601" y="662"/>
                </a:lnTo>
                <a:lnTo>
                  <a:pt x="584" y="687"/>
                </a:lnTo>
                <a:lnTo>
                  <a:pt x="565" y="714"/>
                </a:lnTo>
                <a:lnTo>
                  <a:pt x="546" y="741"/>
                </a:lnTo>
                <a:lnTo>
                  <a:pt x="526" y="769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31"/>
          <p:cNvSpPr/>
          <p:nvPr/>
        </p:nvSpPr>
        <p:spPr>
          <a:xfrm>
            <a:off x="7035840" y="2982960"/>
            <a:ext cx="250920" cy="245880"/>
          </a:xfrm>
          <a:custGeom>
            <a:avLst/>
            <a:gdLst/>
            <a:ahLst/>
            <a:rect l="l" t="t" r="r" b="b"/>
            <a:pathLst>
              <a:path w="315" h="311">
                <a:moveTo>
                  <a:pt x="2" y="25"/>
                </a:moveTo>
                <a:lnTo>
                  <a:pt x="4" y="23"/>
                </a:lnTo>
                <a:lnTo>
                  <a:pt x="8" y="21"/>
                </a:lnTo>
                <a:lnTo>
                  <a:pt x="12" y="17"/>
                </a:lnTo>
                <a:lnTo>
                  <a:pt x="16" y="15"/>
                </a:lnTo>
                <a:lnTo>
                  <a:pt x="21" y="13"/>
                </a:lnTo>
                <a:lnTo>
                  <a:pt x="27" y="11"/>
                </a:lnTo>
                <a:lnTo>
                  <a:pt x="33" y="9"/>
                </a:lnTo>
                <a:lnTo>
                  <a:pt x="41" y="8"/>
                </a:lnTo>
                <a:lnTo>
                  <a:pt x="48" y="6"/>
                </a:lnTo>
                <a:lnTo>
                  <a:pt x="56" y="4"/>
                </a:lnTo>
                <a:lnTo>
                  <a:pt x="65" y="4"/>
                </a:lnTo>
                <a:lnTo>
                  <a:pt x="75" y="2"/>
                </a:lnTo>
                <a:lnTo>
                  <a:pt x="87" y="2"/>
                </a:lnTo>
                <a:lnTo>
                  <a:pt x="98" y="0"/>
                </a:lnTo>
                <a:lnTo>
                  <a:pt x="112" y="0"/>
                </a:lnTo>
                <a:lnTo>
                  <a:pt x="125" y="0"/>
                </a:lnTo>
                <a:lnTo>
                  <a:pt x="135" y="0"/>
                </a:lnTo>
                <a:lnTo>
                  <a:pt x="146" y="2"/>
                </a:lnTo>
                <a:lnTo>
                  <a:pt x="158" y="2"/>
                </a:lnTo>
                <a:lnTo>
                  <a:pt x="169" y="4"/>
                </a:lnTo>
                <a:lnTo>
                  <a:pt x="181" y="8"/>
                </a:lnTo>
                <a:lnTo>
                  <a:pt x="190" y="11"/>
                </a:lnTo>
                <a:lnTo>
                  <a:pt x="202" y="13"/>
                </a:lnTo>
                <a:lnTo>
                  <a:pt x="211" y="19"/>
                </a:lnTo>
                <a:lnTo>
                  <a:pt x="223" y="23"/>
                </a:lnTo>
                <a:lnTo>
                  <a:pt x="233" y="29"/>
                </a:lnTo>
                <a:lnTo>
                  <a:pt x="242" y="34"/>
                </a:lnTo>
                <a:lnTo>
                  <a:pt x="252" y="42"/>
                </a:lnTo>
                <a:lnTo>
                  <a:pt x="259" y="50"/>
                </a:lnTo>
                <a:lnTo>
                  <a:pt x="267" y="57"/>
                </a:lnTo>
                <a:lnTo>
                  <a:pt x="275" y="65"/>
                </a:lnTo>
                <a:lnTo>
                  <a:pt x="282" y="75"/>
                </a:lnTo>
                <a:lnTo>
                  <a:pt x="288" y="86"/>
                </a:lnTo>
                <a:lnTo>
                  <a:pt x="294" y="98"/>
                </a:lnTo>
                <a:lnTo>
                  <a:pt x="300" y="109"/>
                </a:lnTo>
                <a:lnTo>
                  <a:pt x="304" y="119"/>
                </a:lnTo>
                <a:lnTo>
                  <a:pt x="307" y="130"/>
                </a:lnTo>
                <a:lnTo>
                  <a:pt x="309" y="140"/>
                </a:lnTo>
                <a:lnTo>
                  <a:pt x="311" y="150"/>
                </a:lnTo>
                <a:lnTo>
                  <a:pt x="313" y="159"/>
                </a:lnTo>
                <a:lnTo>
                  <a:pt x="313" y="171"/>
                </a:lnTo>
                <a:lnTo>
                  <a:pt x="315" y="180"/>
                </a:lnTo>
                <a:lnTo>
                  <a:pt x="313" y="190"/>
                </a:lnTo>
                <a:lnTo>
                  <a:pt x="313" y="197"/>
                </a:lnTo>
                <a:lnTo>
                  <a:pt x="311" y="217"/>
                </a:lnTo>
                <a:lnTo>
                  <a:pt x="307" y="236"/>
                </a:lnTo>
                <a:lnTo>
                  <a:pt x="304" y="245"/>
                </a:lnTo>
                <a:lnTo>
                  <a:pt x="298" y="253"/>
                </a:lnTo>
                <a:lnTo>
                  <a:pt x="294" y="261"/>
                </a:lnTo>
                <a:lnTo>
                  <a:pt x="290" y="268"/>
                </a:lnTo>
                <a:lnTo>
                  <a:pt x="284" y="274"/>
                </a:lnTo>
                <a:lnTo>
                  <a:pt x="281" y="282"/>
                </a:lnTo>
                <a:lnTo>
                  <a:pt x="277" y="286"/>
                </a:lnTo>
                <a:lnTo>
                  <a:pt x="273" y="291"/>
                </a:lnTo>
                <a:lnTo>
                  <a:pt x="269" y="295"/>
                </a:lnTo>
                <a:lnTo>
                  <a:pt x="265" y="299"/>
                </a:lnTo>
                <a:lnTo>
                  <a:pt x="261" y="303"/>
                </a:lnTo>
                <a:lnTo>
                  <a:pt x="257" y="305"/>
                </a:lnTo>
                <a:lnTo>
                  <a:pt x="254" y="307"/>
                </a:lnTo>
                <a:lnTo>
                  <a:pt x="252" y="309"/>
                </a:lnTo>
                <a:lnTo>
                  <a:pt x="248" y="309"/>
                </a:lnTo>
                <a:lnTo>
                  <a:pt x="246" y="311"/>
                </a:lnTo>
                <a:lnTo>
                  <a:pt x="242" y="309"/>
                </a:lnTo>
                <a:lnTo>
                  <a:pt x="236" y="307"/>
                </a:lnTo>
                <a:lnTo>
                  <a:pt x="231" y="305"/>
                </a:lnTo>
                <a:lnTo>
                  <a:pt x="223" y="301"/>
                </a:lnTo>
                <a:lnTo>
                  <a:pt x="215" y="295"/>
                </a:lnTo>
                <a:lnTo>
                  <a:pt x="208" y="290"/>
                </a:lnTo>
                <a:lnTo>
                  <a:pt x="200" y="282"/>
                </a:lnTo>
                <a:lnTo>
                  <a:pt x="190" y="274"/>
                </a:lnTo>
                <a:lnTo>
                  <a:pt x="181" y="265"/>
                </a:lnTo>
                <a:lnTo>
                  <a:pt x="171" y="255"/>
                </a:lnTo>
                <a:lnTo>
                  <a:pt x="161" y="244"/>
                </a:lnTo>
                <a:lnTo>
                  <a:pt x="150" y="232"/>
                </a:lnTo>
                <a:lnTo>
                  <a:pt x="138" y="219"/>
                </a:lnTo>
                <a:lnTo>
                  <a:pt x="125" y="205"/>
                </a:lnTo>
                <a:lnTo>
                  <a:pt x="113" y="190"/>
                </a:lnTo>
                <a:lnTo>
                  <a:pt x="100" y="174"/>
                </a:lnTo>
                <a:lnTo>
                  <a:pt x="87" y="157"/>
                </a:lnTo>
                <a:lnTo>
                  <a:pt x="73" y="142"/>
                </a:lnTo>
                <a:lnTo>
                  <a:pt x="62" y="128"/>
                </a:lnTo>
                <a:lnTo>
                  <a:pt x="52" y="115"/>
                </a:lnTo>
                <a:lnTo>
                  <a:pt x="42" y="103"/>
                </a:lnTo>
                <a:lnTo>
                  <a:pt x="33" y="92"/>
                </a:lnTo>
                <a:lnTo>
                  <a:pt x="25" y="80"/>
                </a:lnTo>
                <a:lnTo>
                  <a:pt x="19" y="71"/>
                </a:lnTo>
                <a:lnTo>
                  <a:pt x="14" y="63"/>
                </a:lnTo>
                <a:lnTo>
                  <a:pt x="8" y="54"/>
                </a:lnTo>
                <a:lnTo>
                  <a:pt x="4" y="48"/>
                </a:lnTo>
                <a:lnTo>
                  <a:pt x="2" y="40"/>
                </a:lnTo>
                <a:lnTo>
                  <a:pt x="0" y="36"/>
                </a:lnTo>
                <a:lnTo>
                  <a:pt x="0" y="31"/>
                </a:lnTo>
                <a:lnTo>
                  <a:pt x="0" y="27"/>
                </a:lnTo>
                <a:lnTo>
                  <a:pt x="2" y="25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32"/>
          <p:cNvSpPr/>
          <p:nvPr/>
        </p:nvSpPr>
        <p:spPr>
          <a:xfrm>
            <a:off x="6543720" y="3406680"/>
            <a:ext cx="152280" cy="1603440"/>
          </a:xfrm>
          <a:custGeom>
            <a:avLst/>
            <a:gdLst/>
            <a:ahLst/>
            <a:rect l="l" t="t" r="r" b="b"/>
            <a:pathLst>
              <a:path w="192" h="2020">
                <a:moveTo>
                  <a:pt x="37" y="1920"/>
                </a:moveTo>
                <a:lnTo>
                  <a:pt x="29" y="1897"/>
                </a:lnTo>
                <a:lnTo>
                  <a:pt x="21" y="1876"/>
                </a:lnTo>
                <a:lnTo>
                  <a:pt x="17" y="1867"/>
                </a:lnTo>
                <a:lnTo>
                  <a:pt x="15" y="1857"/>
                </a:lnTo>
                <a:lnTo>
                  <a:pt x="12" y="1848"/>
                </a:lnTo>
                <a:lnTo>
                  <a:pt x="10" y="1840"/>
                </a:lnTo>
                <a:lnTo>
                  <a:pt x="8" y="1832"/>
                </a:lnTo>
                <a:lnTo>
                  <a:pt x="6" y="1825"/>
                </a:lnTo>
                <a:lnTo>
                  <a:pt x="4" y="1819"/>
                </a:lnTo>
                <a:lnTo>
                  <a:pt x="2" y="1813"/>
                </a:lnTo>
                <a:lnTo>
                  <a:pt x="2" y="1807"/>
                </a:lnTo>
                <a:lnTo>
                  <a:pt x="0" y="1803"/>
                </a:lnTo>
                <a:lnTo>
                  <a:pt x="0" y="1800"/>
                </a:lnTo>
                <a:lnTo>
                  <a:pt x="0" y="1798"/>
                </a:lnTo>
                <a:lnTo>
                  <a:pt x="0" y="1792"/>
                </a:lnTo>
                <a:lnTo>
                  <a:pt x="0" y="1784"/>
                </a:lnTo>
                <a:lnTo>
                  <a:pt x="2" y="1777"/>
                </a:lnTo>
                <a:lnTo>
                  <a:pt x="2" y="1767"/>
                </a:lnTo>
                <a:lnTo>
                  <a:pt x="4" y="1755"/>
                </a:lnTo>
                <a:lnTo>
                  <a:pt x="6" y="1742"/>
                </a:lnTo>
                <a:lnTo>
                  <a:pt x="8" y="1729"/>
                </a:lnTo>
                <a:lnTo>
                  <a:pt x="10" y="1713"/>
                </a:lnTo>
                <a:lnTo>
                  <a:pt x="12" y="1696"/>
                </a:lnTo>
                <a:lnTo>
                  <a:pt x="15" y="1679"/>
                </a:lnTo>
                <a:lnTo>
                  <a:pt x="17" y="1658"/>
                </a:lnTo>
                <a:lnTo>
                  <a:pt x="21" y="1637"/>
                </a:lnTo>
                <a:lnTo>
                  <a:pt x="25" y="1613"/>
                </a:lnTo>
                <a:lnTo>
                  <a:pt x="29" y="1590"/>
                </a:lnTo>
                <a:lnTo>
                  <a:pt x="33" y="1564"/>
                </a:lnTo>
                <a:lnTo>
                  <a:pt x="37" y="1537"/>
                </a:lnTo>
                <a:lnTo>
                  <a:pt x="39" y="1523"/>
                </a:lnTo>
                <a:lnTo>
                  <a:pt x="39" y="1506"/>
                </a:lnTo>
                <a:lnTo>
                  <a:pt x="40" y="1489"/>
                </a:lnTo>
                <a:lnTo>
                  <a:pt x="40" y="1468"/>
                </a:lnTo>
                <a:lnTo>
                  <a:pt x="42" y="1445"/>
                </a:lnTo>
                <a:lnTo>
                  <a:pt x="42" y="1420"/>
                </a:lnTo>
                <a:lnTo>
                  <a:pt x="44" y="1393"/>
                </a:lnTo>
                <a:lnTo>
                  <a:pt x="46" y="1362"/>
                </a:lnTo>
                <a:lnTo>
                  <a:pt x="46" y="1332"/>
                </a:lnTo>
                <a:lnTo>
                  <a:pt x="48" y="1297"/>
                </a:lnTo>
                <a:lnTo>
                  <a:pt x="48" y="1261"/>
                </a:lnTo>
                <a:lnTo>
                  <a:pt x="50" y="1222"/>
                </a:lnTo>
                <a:lnTo>
                  <a:pt x="50" y="1182"/>
                </a:lnTo>
                <a:lnTo>
                  <a:pt x="52" y="1140"/>
                </a:lnTo>
                <a:lnTo>
                  <a:pt x="52" y="1094"/>
                </a:lnTo>
                <a:lnTo>
                  <a:pt x="54" y="1048"/>
                </a:lnTo>
                <a:lnTo>
                  <a:pt x="54" y="998"/>
                </a:lnTo>
                <a:lnTo>
                  <a:pt x="54" y="946"/>
                </a:lnTo>
                <a:lnTo>
                  <a:pt x="56" y="892"/>
                </a:lnTo>
                <a:lnTo>
                  <a:pt x="56" y="837"/>
                </a:lnTo>
                <a:lnTo>
                  <a:pt x="58" y="779"/>
                </a:lnTo>
                <a:lnTo>
                  <a:pt x="58" y="720"/>
                </a:lnTo>
                <a:lnTo>
                  <a:pt x="58" y="656"/>
                </a:lnTo>
                <a:lnTo>
                  <a:pt x="58" y="593"/>
                </a:lnTo>
                <a:lnTo>
                  <a:pt x="60" y="526"/>
                </a:lnTo>
                <a:lnTo>
                  <a:pt x="60" y="457"/>
                </a:lnTo>
                <a:lnTo>
                  <a:pt x="60" y="386"/>
                </a:lnTo>
                <a:lnTo>
                  <a:pt x="60" y="313"/>
                </a:lnTo>
                <a:lnTo>
                  <a:pt x="60" y="238"/>
                </a:lnTo>
                <a:lnTo>
                  <a:pt x="60" y="161"/>
                </a:lnTo>
                <a:lnTo>
                  <a:pt x="62" y="81"/>
                </a:lnTo>
                <a:lnTo>
                  <a:pt x="62" y="0"/>
                </a:lnTo>
                <a:lnTo>
                  <a:pt x="71" y="16"/>
                </a:lnTo>
                <a:lnTo>
                  <a:pt x="83" y="31"/>
                </a:lnTo>
                <a:lnTo>
                  <a:pt x="94" y="46"/>
                </a:lnTo>
                <a:lnTo>
                  <a:pt x="104" y="60"/>
                </a:lnTo>
                <a:lnTo>
                  <a:pt x="113" y="71"/>
                </a:lnTo>
                <a:lnTo>
                  <a:pt x="123" y="85"/>
                </a:lnTo>
                <a:lnTo>
                  <a:pt x="131" y="94"/>
                </a:lnTo>
                <a:lnTo>
                  <a:pt x="140" y="106"/>
                </a:lnTo>
                <a:lnTo>
                  <a:pt x="148" y="115"/>
                </a:lnTo>
                <a:lnTo>
                  <a:pt x="156" y="125"/>
                </a:lnTo>
                <a:lnTo>
                  <a:pt x="161" y="134"/>
                </a:lnTo>
                <a:lnTo>
                  <a:pt x="167" y="144"/>
                </a:lnTo>
                <a:lnTo>
                  <a:pt x="173" y="152"/>
                </a:lnTo>
                <a:lnTo>
                  <a:pt x="177" y="159"/>
                </a:lnTo>
                <a:lnTo>
                  <a:pt x="181" y="167"/>
                </a:lnTo>
                <a:lnTo>
                  <a:pt x="182" y="175"/>
                </a:lnTo>
                <a:lnTo>
                  <a:pt x="184" y="179"/>
                </a:lnTo>
                <a:lnTo>
                  <a:pt x="184" y="182"/>
                </a:lnTo>
                <a:lnTo>
                  <a:pt x="186" y="190"/>
                </a:lnTo>
                <a:lnTo>
                  <a:pt x="186" y="198"/>
                </a:lnTo>
                <a:lnTo>
                  <a:pt x="188" y="207"/>
                </a:lnTo>
                <a:lnTo>
                  <a:pt x="188" y="219"/>
                </a:lnTo>
                <a:lnTo>
                  <a:pt x="188" y="230"/>
                </a:lnTo>
                <a:lnTo>
                  <a:pt x="190" y="244"/>
                </a:lnTo>
                <a:lnTo>
                  <a:pt x="190" y="259"/>
                </a:lnTo>
                <a:lnTo>
                  <a:pt x="190" y="274"/>
                </a:lnTo>
                <a:lnTo>
                  <a:pt x="190" y="292"/>
                </a:lnTo>
                <a:lnTo>
                  <a:pt x="192" y="311"/>
                </a:lnTo>
                <a:lnTo>
                  <a:pt x="192" y="330"/>
                </a:lnTo>
                <a:lnTo>
                  <a:pt x="192" y="353"/>
                </a:lnTo>
                <a:lnTo>
                  <a:pt x="192" y="376"/>
                </a:lnTo>
                <a:lnTo>
                  <a:pt x="192" y="399"/>
                </a:lnTo>
                <a:lnTo>
                  <a:pt x="192" y="426"/>
                </a:lnTo>
                <a:lnTo>
                  <a:pt x="192" y="453"/>
                </a:lnTo>
                <a:lnTo>
                  <a:pt x="192" y="482"/>
                </a:lnTo>
                <a:lnTo>
                  <a:pt x="192" y="510"/>
                </a:lnTo>
                <a:lnTo>
                  <a:pt x="190" y="541"/>
                </a:lnTo>
                <a:lnTo>
                  <a:pt x="190" y="574"/>
                </a:lnTo>
                <a:lnTo>
                  <a:pt x="190" y="608"/>
                </a:lnTo>
                <a:lnTo>
                  <a:pt x="190" y="645"/>
                </a:lnTo>
                <a:lnTo>
                  <a:pt x="188" y="681"/>
                </a:lnTo>
                <a:lnTo>
                  <a:pt x="188" y="720"/>
                </a:lnTo>
                <a:lnTo>
                  <a:pt x="188" y="758"/>
                </a:lnTo>
                <a:lnTo>
                  <a:pt x="186" y="800"/>
                </a:lnTo>
                <a:lnTo>
                  <a:pt x="186" y="842"/>
                </a:lnTo>
                <a:lnTo>
                  <a:pt x="184" y="886"/>
                </a:lnTo>
                <a:lnTo>
                  <a:pt x="184" y="932"/>
                </a:lnTo>
                <a:lnTo>
                  <a:pt x="182" y="979"/>
                </a:lnTo>
                <a:lnTo>
                  <a:pt x="181" y="1026"/>
                </a:lnTo>
                <a:lnTo>
                  <a:pt x="181" y="1071"/>
                </a:lnTo>
                <a:lnTo>
                  <a:pt x="179" y="1117"/>
                </a:lnTo>
                <a:lnTo>
                  <a:pt x="179" y="1161"/>
                </a:lnTo>
                <a:lnTo>
                  <a:pt x="179" y="1203"/>
                </a:lnTo>
                <a:lnTo>
                  <a:pt x="177" y="1243"/>
                </a:lnTo>
                <a:lnTo>
                  <a:pt x="177" y="1284"/>
                </a:lnTo>
                <a:lnTo>
                  <a:pt x="175" y="1322"/>
                </a:lnTo>
                <a:lnTo>
                  <a:pt x="175" y="1360"/>
                </a:lnTo>
                <a:lnTo>
                  <a:pt x="175" y="1397"/>
                </a:lnTo>
                <a:lnTo>
                  <a:pt x="173" y="1431"/>
                </a:lnTo>
                <a:lnTo>
                  <a:pt x="173" y="1466"/>
                </a:lnTo>
                <a:lnTo>
                  <a:pt x="173" y="1498"/>
                </a:lnTo>
                <a:lnTo>
                  <a:pt x="171" y="1529"/>
                </a:lnTo>
                <a:lnTo>
                  <a:pt x="171" y="1560"/>
                </a:lnTo>
                <a:lnTo>
                  <a:pt x="171" y="1589"/>
                </a:lnTo>
                <a:lnTo>
                  <a:pt x="169" y="1617"/>
                </a:lnTo>
                <a:lnTo>
                  <a:pt x="169" y="1644"/>
                </a:lnTo>
                <a:lnTo>
                  <a:pt x="169" y="1669"/>
                </a:lnTo>
                <a:lnTo>
                  <a:pt x="169" y="1692"/>
                </a:lnTo>
                <a:lnTo>
                  <a:pt x="167" y="1715"/>
                </a:lnTo>
                <a:lnTo>
                  <a:pt x="167" y="1738"/>
                </a:lnTo>
                <a:lnTo>
                  <a:pt x="167" y="1757"/>
                </a:lnTo>
                <a:lnTo>
                  <a:pt x="165" y="1777"/>
                </a:lnTo>
                <a:lnTo>
                  <a:pt x="165" y="1794"/>
                </a:lnTo>
                <a:lnTo>
                  <a:pt x="163" y="1811"/>
                </a:lnTo>
                <a:lnTo>
                  <a:pt x="163" y="1826"/>
                </a:lnTo>
                <a:lnTo>
                  <a:pt x="163" y="1840"/>
                </a:lnTo>
                <a:lnTo>
                  <a:pt x="161" y="1853"/>
                </a:lnTo>
                <a:lnTo>
                  <a:pt x="161" y="1865"/>
                </a:lnTo>
                <a:lnTo>
                  <a:pt x="159" y="1874"/>
                </a:lnTo>
                <a:lnTo>
                  <a:pt x="159" y="1884"/>
                </a:lnTo>
                <a:lnTo>
                  <a:pt x="156" y="1899"/>
                </a:lnTo>
                <a:lnTo>
                  <a:pt x="154" y="1915"/>
                </a:lnTo>
                <a:lnTo>
                  <a:pt x="150" y="1928"/>
                </a:lnTo>
                <a:lnTo>
                  <a:pt x="148" y="1942"/>
                </a:lnTo>
                <a:lnTo>
                  <a:pt x="144" y="1953"/>
                </a:lnTo>
                <a:lnTo>
                  <a:pt x="140" y="1965"/>
                </a:lnTo>
                <a:lnTo>
                  <a:pt x="138" y="1974"/>
                </a:lnTo>
                <a:lnTo>
                  <a:pt x="135" y="1984"/>
                </a:lnTo>
                <a:lnTo>
                  <a:pt x="131" y="1991"/>
                </a:lnTo>
                <a:lnTo>
                  <a:pt x="127" y="1999"/>
                </a:lnTo>
                <a:lnTo>
                  <a:pt x="125" y="2005"/>
                </a:lnTo>
                <a:lnTo>
                  <a:pt x="121" y="2011"/>
                </a:lnTo>
                <a:lnTo>
                  <a:pt x="117" y="2014"/>
                </a:lnTo>
                <a:lnTo>
                  <a:pt x="115" y="2016"/>
                </a:lnTo>
                <a:lnTo>
                  <a:pt x="111" y="2018"/>
                </a:lnTo>
                <a:lnTo>
                  <a:pt x="110" y="2020"/>
                </a:lnTo>
                <a:lnTo>
                  <a:pt x="108" y="2018"/>
                </a:lnTo>
                <a:lnTo>
                  <a:pt x="104" y="2018"/>
                </a:lnTo>
                <a:lnTo>
                  <a:pt x="102" y="2016"/>
                </a:lnTo>
                <a:lnTo>
                  <a:pt x="98" y="2013"/>
                </a:lnTo>
                <a:lnTo>
                  <a:pt x="94" y="2009"/>
                </a:lnTo>
                <a:lnTo>
                  <a:pt x="90" y="2005"/>
                </a:lnTo>
                <a:lnTo>
                  <a:pt x="87" y="1999"/>
                </a:lnTo>
                <a:lnTo>
                  <a:pt x="83" y="1993"/>
                </a:lnTo>
                <a:lnTo>
                  <a:pt x="77" y="1986"/>
                </a:lnTo>
                <a:lnTo>
                  <a:pt x="71" y="1980"/>
                </a:lnTo>
                <a:lnTo>
                  <a:pt x="67" y="1970"/>
                </a:lnTo>
                <a:lnTo>
                  <a:pt x="62" y="1963"/>
                </a:lnTo>
                <a:lnTo>
                  <a:pt x="56" y="1953"/>
                </a:lnTo>
                <a:lnTo>
                  <a:pt x="50" y="1943"/>
                </a:lnTo>
                <a:lnTo>
                  <a:pt x="42" y="1932"/>
                </a:lnTo>
                <a:lnTo>
                  <a:pt x="37" y="192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33"/>
          <p:cNvSpPr/>
          <p:nvPr/>
        </p:nvSpPr>
        <p:spPr>
          <a:xfrm>
            <a:off x="6786720" y="3622680"/>
            <a:ext cx="695160" cy="160200"/>
          </a:xfrm>
          <a:custGeom>
            <a:avLst/>
            <a:gdLst/>
            <a:ahLst/>
            <a:rect l="l" t="t" r="r" b="b"/>
            <a:pathLst>
              <a:path w="878" h="203">
                <a:moveTo>
                  <a:pt x="0" y="124"/>
                </a:moveTo>
                <a:lnTo>
                  <a:pt x="37" y="115"/>
                </a:lnTo>
                <a:lnTo>
                  <a:pt x="75" y="107"/>
                </a:lnTo>
                <a:lnTo>
                  <a:pt x="112" y="99"/>
                </a:lnTo>
                <a:lnTo>
                  <a:pt x="146" y="94"/>
                </a:lnTo>
                <a:lnTo>
                  <a:pt x="179" y="86"/>
                </a:lnTo>
                <a:lnTo>
                  <a:pt x="212" y="78"/>
                </a:lnTo>
                <a:lnTo>
                  <a:pt x="244" y="72"/>
                </a:lnTo>
                <a:lnTo>
                  <a:pt x="275" y="67"/>
                </a:lnTo>
                <a:lnTo>
                  <a:pt x="304" y="61"/>
                </a:lnTo>
                <a:lnTo>
                  <a:pt x="331" y="55"/>
                </a:lnTo>
                <a:lnTo>
                  <a:pt x="359" y="49"/>
                </a:lnTo>
                <a:lnTo>
                  <a:pt x="384" y="46"/>
                </a:lnTo>
                <a:lnTo>
                  <a:pt x="409" y="40"/>
                </a:lnTo>
                <a:lnTo>
                  <a:pt x="432" y="36"/>
                </a:lnTo>
                <a:lnTo>
                  <a:pt x="455" y="32"/>
                </a:lnTo>
                <a:lnTo>
                  <a:pt x="476" y="28"/>
                </a:lnTo>
                <a:lnTo>
                  <a:pt x="498" y="25"/>
                </a:lnTo>
                <a:lnTo>
                  <a:pt x="517" y="21"/>
                </a:lnTo>
                <a:lnTo>
                  <a:pt x="534" y="19"/>
                </a:lnTo>
                <a:lnTo>
                  <a:pt x="551" y="15"/>
                </a:lnTo>
                <a:lnTo>
                  <a:pt x="567" y="13"/>
                </a:lnTo>
                <a:lnTo>
                  <a:pt x="582" y="11"/>
                </a:lnTo>
                <a:lnTo>
                  <a:pt x="596" y="9"/>
                </a:lnTo>
                <a:lnTo>
                  <a:pt x="609" y="7"/>
                </a:lnTo>
                <a:lnTo>
                  <a:pt x="620" y="5"/>
                </a:lnTo>
                <a:lnTo>
                  <a:pt x="630" y="3"/>
                </a:lnTo>
                <a:lnTo>
                  <a:pt x="640" y="1"/>
                </a:lnTo>
                <a:lnTo>
                  <a:pt x="647" y="1"/>
                </a:lnTo>
                <a:lnTo>
                  <a:pt x="655" y="1"/>
                </a:lnTo>
                <a:lnTo>
                  <a:pt x="661" y="0"/>
                </a:lnTo>
                <a:lnTo>
                  <a:pt x="667" y="0"/>
                </a:lnTo>
                <a:lnTo>
                  <a:pt x="670" y="0"/>
                </a:lnTo>
                <a:lnTo>
                  <a:pt x="684" y="0"/>
                </a:lnTo>
                <a:lnTo>
                  <a:pt x="699" y="0"/>
                </a:lnTo>
                <a:lnTo>
                  <a:pt x="713" y="0"/>
                </a:lnTo>
                <a:lnTo>
                  <a:pt x="730" y="1"/>
                </a:lnTo>
                <a:lnTo>
                  <a:pt x="745" y="3"/>
                </a:lnTo>
                <a:lnTo>
                  <a:pt x="764" y="5"/>
                </a:lnTo>
                <a:lnTo>
                  <a:pt x="774" y="7"/>
                </a:lnTo>
                <a:lnTo>
                  <a:pt x="784" y="7"/>
                </a:lnTo>
                <a:lnTo>
                  <a:pt x="793" y="9"/>
                </a:lnTo>
                <a:lnTo>
                  <a:pt x="805" y="13"/>
                </a:lnTo>
                <a:lnTo>
                  <a:pt x="814" y="15"/>
                </a:lnTo>
                <a:lnTo>
                  <a:pt x="822" y="17"/>
                </a:lnTo>
                <a:lnTo>
                  <a:pt x="830" y="21"/>
                </a:lnTo>
                <a:lnTo>
                  <a:pt x="837" y="23"/>
                </a:lnTo>
                <a:lnTo>
                  <a:pt x="843" y="26"/>
                </a:lnTo>
                <a:lnTo>
                  <a:pt x="849" y="30"/>
                </a:lnTo>
                <a:lnTo>
                  <a:pt x="855" y="34"/>
                </a:lnTo>
                <a:lnTo>
                  <a:pt x="860" y="38"/>
                </a:lnTo>
                <a:lnTo>
                  <a:pt x="864" y="40"/>
                </a:lnTo>
                <a:lnTo>
                  <a:pt x="868" y="44"/>
                </a:lnTo>
                <a:lnTo>
                  <a:pt x="870" y="48"/>
                </a:lnTo>
                <a:lnTo>
                  <a:pt x="874" y="51"/>
                </a:lnTo>
                <a:lnTo>
                  <a:pt x="876" y="53"/>
                </a:lnTo>
                <a:lnTo>
                  <a:pt x="876" y="57"/>
                </a:lnTo>
                <a:lnTo>
                  <a:pt x="878" y="59"/>
                </a:lnTo>
                <a:lnTo>
                  <a:pt x="878" y="63"/>
                </a:lnTo>
                <a:lnTo>
                  <a:pt x="878" y="65"/>
                </a:lnTo>
                <a:lnTo>
                  <a:pt x="876" y="67"/>
                </a:lnTo>
                <a:lnTo>
                  <a:pt x="874" y="71"/>
                </a:lnTo>
                <a:lnTo>
                  <a:pt x="872" y="72"/>
                </a:lnTo>
                <a:lnTo>
                  <a:pt x="868" y="76"/>
                </a:lnTo>
                <a:lnTo>
                  <a:pt x="862" y="80"/>
                </a:lnTo>
                <a:lnTo>
                  <a:pt x="859" y="82"/>
                </a:lnTo>
                <a:lnTo>
                  <a:pt x="853" y="86"/>
                </a:lnTo>
                <a:lnTo>
                  <a:pt x="845" y="90"/>
                </a:lnTo>
                <a:lnTo>
                  <a:pt x="837" y="94"/>
                </a:lnTo>
                <a:lnTo>
                  <a:pt x="830" y="97"/>
                </a:lnTo>
                <a:lnTo>
                  <a:pt x="822" y="99"/>
                </a:lnTo>
                <a:lnTo>
                  <a:pt x="812" y="103"/>
                </a:lnTo>
                <a:lnTo>
                  <a:pt x="803" y="105"/>
                </a:lnTo>
                <a:lnTo>
                  <a:pt x="791" y="109"/>
                </a:lnTo>
                <a:lnTo>
                  <a:pt x="782" y="111"/>
                </a:lnTo>
                <a:lnTo>
                  <a:pt x="768" y="113"/>
                </a:lnTo>
                <a:lnTo>
                  <a:pt x="755" y="117"/>
                </a:lnTo>
                <a:lnTo>
                  <a:pt x="739" y="119"/>
                </a:lnTo>
                <a:lnTo>
                  <a:pt x="724" y="122"/>
                </a:lnTo>
                <a:lnTo>
                  <a:pt x="705" y="126"/>
                </a:lnTo>
                <a:lnTo>
                  <a:pt x="688" y="130"/>
                </a:lnTo>
                <a:lnTo>
                  <a:pt x="667" y="134"/>
                </a:lnTo>
                <a:lnTo>
                  <a:pt x="645" y="138"/>
                </a:lnTo>
                <a:lnTo>
                  <a:pt x="622" y="142"/>
                </a:lnTo>
                <a:lnTo>
                  <a:pt x="597" y="145"/>
                </a:lnTo>
                <a:lnTo>
                  <a:pt x="572" y="149"/>
                </a:lnTo>
                <a:lnTo>
                  <a:pt x="546" y="155"/>
                </a:lnTo>
                <a:lnTo>
                  <a:pt x="517" y="159"/>
                </a:lnTo>
                <a:lnTo>
                  <a:pt x="488" y="165"/>
                </a:lnTo>
                <a:lnTo>
                  <a:pt x="457" y="168"/>
                </a:lnTo>
                <a:lnTo>
                  <a:pt x="427" y="174"/>
                </a:lnTo>
                <a:lnTo>
                  <a:pt x="409" y="176"/>
                </a:lnTo>
                <a:lnTo>
                  <a:pt x="394" y="178"/>
                </a:lnTo>
                <a:lnTo>
                  <a:pt x="377" y="180"/>
                </a:lnTo>
                <a:lnTo>
                  <a:pt x="361" y="182"/>
                </a:lnTo>
                <a:lnTo>
                  <a:pt x="332" y="186"/>
                </a:lnTo>
                <a:lnTo>
                  <a:pt x="306" y="189"/>
                </a:lnTo>
                <a:lnTo>
                  <a:pt x="279" y="193"/>
                </a:lnTo>
                <a:lnTo>
                  <a:pt x="256" y="195"/>
                </a:lnTo>
                <a:lnTo>
                  <a:pt x="235" y="197"/>
                </a:lnTo>
                <a:lnTo>
                  <a:pt x="213" y="199"/>
                </a:lnTo>
                <a:lnTo>
                  <a:pt x="194" y="201"/>
                </a:lnTo>
                <a:lnTo>
                  <a:pt x="179" y="203"/>
                </a:lnTo>
                <a:lnTo>
                  <a:pt x="164" y="203"/>
                </a:lnTo>
                <a:lnTo>
                  <a:pt x="148" y="203"/>
                </a:lnTo>
                <a:lnTo>
                  <a:pt x="137" y="203"/>
                </a:lnTo>
                <a:lnTo>
                  <a:pt x="127" y="201"/>
                </a:lnTo>
                <a:lnTo>
                  <a:pt x="117" y="201"/>
                </a:lnTo>
                <a:lnTo>
                  <a:pt x="110" y="199"/>
                </a:lnTo>
                <a:lnTo>
                  <a:pt x="96" y="193"/>
                </a:lnTo>
                <a:lnTo>
                  <a:pt x="83" y="186"/>
                </a:lnTo>
                <a:lnTo>
                  <a:pt x="68" y="178"/>
                </a:lnTo>
                <a:lnTo>
                  <a:pt x="54" y="170"/>
                </a:lnTo>
                <a:lnTo>
                  <a:pt x="41" y="161"/>
                </a:lnTo>
                <a:lnTo>
                  <a:pt x="27" y="149"/>
                </a:lnTo>
                <a:lnTo>
                  <a:pt x="14" y="138"/>
                </a:lnTo>
                <a:lnTo>
                  <a:pt x="0" y="124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34"/>
          <p:cNvSpPr/>
          <p:nvPr/>
        </p:nvSpPr>
        <p:spPr>
          <a:xfrm>
            <a:off x="6786720" y="3957480"/>
            <a:ext cx="695160" cy="160560"/>
          </a:xfrm>
          <a:custGeom>
            <a:avLst/>
            <a:gdLst/>
            <a:ahLst/>
            <a:rect l="l" t="t" r="r" b="b"/>
            <a:pathLst>
              <a:path w="878" h="203">
                <a:moveTo>
                  <a:pt x="48" y="172"/>
                </a:moveTo>
                <a:lnTo>
                  <a:pt x="43" y="168"/>
                </a:lnTo>
                <a:lnTo>
                  <a:pt x="35" y="163"/>
                </a:lnTo>
                <a:lnTo>
                  <a:pt x="31" y="159"/>
                </a:lnTo>
                <a:lnTo>
                  <a:pt x="25" y="153"/>
                </a:lnTo>
                <a:lnTo>
                  <a:pt x="21" y="149"/>
                </a:lnTo>
                <a:lnTo>
                  <a:pt x="18" y="143"/>
                </a:lnTo>
                <a:lnTo>
                  <a:pt x="10" y="136"/>
                </a:lnTo>
                <a:lnTo>
                  <a:pt x="6" y="126"/>
                </a:lnTo>
                <a:lnTo>
                  <a:pt x="2" y="117"/>
                </a:lnTo>
                <a:lnTo>
                  <a:pt x="0" y="107"/>
                </a:lnTo>
                <a:lnTo>
                  <a:pt x="0" y="99"/>
                </a:lnTo>
                <a:lnTo>
                  <a:pt x="2" y="99"/>
                </a:lnTo>
                <a:lnTo>
                  <a:pt x="8" y="97"/>
                </a:lnTo>
                <a:lnTo>
                  <a:pt x="12" y="97"/>
                </a:lnTo>
                <a:lnTo>
                  <a:pt x="18" y="97"/>
                </a:lnTo>
                <a:lnTo>
                  <a:pt x="23" y="97"/>
                </a:lnTo>
                <a:lnTo>
                  <a:pt x="29" y="97"/>
                </a:lnTo>
                <a:lnTo>
                  <a:pt x="35" y="97"/>
                </a:lnTo>
                <a:lnTo>
                  <a:pt x="43" y="96"/>
                </a:lnTo>
                <a:lnTo>
                  <a:pt x="50" y="96"/>
                </a:lnTo>
                <a:lnTo>
                  <a:pt x="58" y="94"/>
                </a:lnTo>
                <a:lnTo>
                  <a:pt x="75" y="92"/>
                </a:lnTo>
                <a:lnTo>
                  <a:pt x="96" y="90"/>
                </a:lnTo>
                <a:lnTo>
                  <a:pt x="117" y="88"/>
                </a:lnTo>
                <a:lnTo>
                  <a:pt x="141" y="84"/>
                </a:lnTo>
                <a:lnTo>
                  <a:pt x="165" y="80"/>
                </a:lnTo>
                <a:lnTo>
                  <a:pt x="192" y="76"/>
                </a:lnTo>
                <a:lnTo>
                  <a:pt x="221" y="73"/>
                </a:lnTo>
                <a:lnTo>
                  <a:pt x="252" y="67"/>
                </a:lnTo>
                <a:lnTo>
                  <a:pt x="284" y="61"/>
                </a:lnTo>
                <a:lnTo>
                  <a:pt x="317" y="55"/>
                </a:lnTo>
                <a:lnTo>
                  <a:pt x="354" y="49"/>
                </a:lnTo>
                <a:lnTo>
                  <a:pt x="390" y="42"/>
                </a:lnTo>
                <a:lnTo>
                  <a:pt x="423" y="36"/>
                </a:lnTo>
                <a:lnTo>
                  <a:pt x="455" y="30"/>
                </a:lnTo>
                <a:lnTo>
                  <a:pt x="486" y="25"/>
                </a:lnTo>
                <a:lnTo>
                  <a:pt x="515" y="21"/>
                </a:lnTo>
                <a:lnTo>
                  <a:pt x="542" y="17"/>
                </a:lnTo>
                <a:lnTo>
                  <a:pt x="567" y="13"/>
                </a:lnTo>
                <a:lnTo>
                  <a:pt x="592" y="9"/>
                </a:lnTo>
                <a:lnTo>
                  <a:pt x="613" y="7"/>
                </a:lnTo>
                <a:lnTo>
                  <a:pt x="634" y="3"/>
                </a:lnTo>
                <a:lnTo>
                  <a:pt x="651" y="3"/>
                </a:lnTo>
                <a:lnTo>
                  <a:pt x="668" y="2"/>
                </a:lnTo>
                <a:lnTo>
                  <a:pt x="684" y="0"/>
                </a:lnTo>
                <a:lnTo>
                  <a:pt x="697" y="0"/>
                </a:lnTo>
                <a:lnTo>
                  <a:pt x="709" y="0"/>
                </a:lnTo>
                <a:lnTo>
                  <a:pt x="720" y="0"/>
                </a:lnTo>
                <a:lnTo>
                  <a:pt x="747" y="0"/>
                </a:lnTo>
                <a:lnTo>
                  <a:pt x="761" y="0"/>
                </a:lnTo>
                <a:lnTo>
                  <a:pt x="774" y="0"/>
                </a:lnTo>
                <a:lnTo>
                  <a:pt x="787" y="2"/>
                </a:lnTo>
                <a:lnTo>
                  <a:pt x="801" y="3"/>
                </a:lnTo>
                <a:lnTo>
                  <a:pt x="816" y="7"/>
                </a:lnTo>
                <a:lnTo>
                  <a:pt x="830" y="11"/>
                </a:lnTo>
                <a:lnTo>
                  <a:pt x="835" y="13"/>
                </a:lnTo>
                <a:lnTo>
                  <a:pt x="843" y="17"/>
                </a:lnTo>
                <a:lnTo>
                  <a:pt x="847" y="19"/>
                </a:lnTo>
                <a:lnTo>
                  <a:pt x="853" y="23"/>
                </a:lnTo>
                <a:lnTo>
                  <a:pt x="857" y="26"/>
                </a:lnTo>
                <a:lnTo>
                  <a:pt x="860" y="28"/>
                </a:lnTo>
                <a:lnTo>
                  <a:pt x="868" y="36"/>
                </a:lnTo>
                <a:lnTo>
                  <a:pt x="872" y="44"/>
                </a:lnTo>
                <a:lnTo>
                  <a:pt x="876" y="49"/>
                </a:lnTo>
                <a:lnTo>
                  <a:pt x="878" y="55"/>
                </a:lnTo>
                <a:lnTo>
                  <a:pt x="878" y="61"/>
                </a:lnTo>
                <a:lnTo>
                  <a:pt x="878" y="63"/>
                </a:lnTo>
                <a:lnTo>
                  <a:pt x="876" y="67"/>
                </a:lnTo>
                <a:lnTo>
                  <a:pt x="874" y="69"/>
                </a:lnTo>
                <a:lnTo>
                  <a:pt x="872" y="73"/>
                </a:lnTo>
                <a:lnTo>
                  <a:pt x="868" y="76"/>
                </a:lnTo>
                <a:lnTo>
                  <a:pt x="862" y="78"/>
                </a:lnTo>
                <a:lnTo>
                  <a:pt x="859" y="82"/>
                </a:lnTo>
                <a:lnTo>
                  <a:pt x="853" y="86"/>
                </a:lnTo>
                <a:lnTo>
                  <a:pt x="845" y="90"/>
                </a:lnTo>
                <a:lnTo>
                  <a:pt x="837" y="92"/>
                </a:lnTo>
                <a:lnTo>
                  <a:pt x="830" y="96"/>
                </a:lnTo>
                <a:lnTo>
                  <a:pt x="822" y="99"/>
                </a:lnTo>
                <a:lnTo>
                  <a:pt x="812" y="101"/>
                </a:lnTo>
                <a:lnTo>
                  <a:pt x="803" y="105"/>
                </a:lnTo>
                <a:lnTo>
                  <a:pt x="791" y="107"/>
                </a:lnTo>
                <a:lnTo>
                  <a:pt x="782" y="111"/>
                </a:lnTo>
                <a:lnTo>
                  <a:pt x="768" y="115"/>
                </a:lnTo>
                <a:lnTo>
                  <a:pt x="755" y="120"/>
                </a:lnTo>
                <a:lnTo>
                  <a:pt x="739" y="124"/>
                </a:lnTo>
                <a:lnTo>
                  <a:pt x="724" y="128"/>
                </a:lnTo>
                <a:lnTo>
                  <a:pt x="707" y="134"/>
                </a:lnTo>
                <a:lnTo>
                  <a:pt x="688" y="138"/>
                </a:lnTo>
                <a:lnTo>
                  <a:pt x="667" y="142"/>
                </a:lnTo>
                <a:lnTo>
                  <a:pt x="645" y="145"/>
                </a:lnTo>
                <a:lnTo>
                  <a:pt x="624" y="149"/>
                </a:lnTo>
                <a:lnTo>
                  <a:pt x="601" y="153"/>
                </a:lnTo>
                <a:lnTo>
                  <a:pt x="576" y="157"/>
                </a:lnTo>
                <a:lnTo>
                  <a:pt x="551" y="161"/>
                </a:lnTo>
                <a:lnTo>
                  <a:pt x="524" y="165"/>
                </a:lnTo>
                <a:lnTo>
                  <a:pt x="498" y="167"/>
                </a:lnTo>
                <a:lnTo>
                  <a:pt x="469" y="170"/>
                </a:lnTo>
                <a:lnTo>
                  <a:pt x="440" y="172"/>
                </a:lnTo>
                <a:lnTo>
                  <a:pt x="409" y="176"/>
                </a:lnTo>
                <a:lnTo>
                  <a:pt x="382" y="182"/>
                </a:lnTo>
                <a:lnTo>
                  <a:pt x="356" y="186"/>
                </a:lnTo>
                <a:lnTo>
                  <a:pt x="332" y="188"/>
                </a:lnTo>
                <a:lnTo>
                  <a:pt x="309" y="191"/>
                </a:lnTo>
                <a:lnTo>
                  <a:pt x="286" y="195"/>
                </a:lnTo>
                <a:lnTo>
                  <a:pt x="267" y="197"/>
                </a:lnTo>
                <a:lnTo>
                  <a:pt x="248" y="199"/>
                </a:lnTo>
                <a:lnTo>
                  <a:pt x="231" y="201"/>
                </a:lnTo>
                <a:lnTo>
                  <a:pt x="215" y="201"/>
                </a:lnTo>
                <a:lnTo>
                  <a:pt x="202" y="203"/>
                </a:lnTo>
                <a:lnTo>
                  <a:pt x="190" y="203"/>
                </a:lnTo>
                <a:lnTo>
                  <a:pt x="181" y="201"/>
                </a:lnTo>
                <a:lnTo>
                  <a:pt x="171" y="201"/>
                </a:lnTo>
                <a:lnTo>
                  <a:pt x="164" y="199"/>
                </a:lnTo>
                <a:lnTo>
                  <a:pt x="160" y="197"/>
                </a:lnTo>
                <a:lnTo>
                  <a:pt x="144" y="197"/>
                </a:lnTo>
                <a:lnTo>
                  <a:pt x="131" y="195"/>
                </a:lnTo>
                <a:lnTo>
                  <a:pt x="117" y="193"/>
                </a:lnTo>
                <a:lnTo>
                  <a:pt x="104" y="190"/>
                </a:lnTo>
                <a:lnTo>
                  <a:pt x="89" y="186"/>
                </a:lnTo>
                <a:lnTo>
                  <a:pt x="75" y="182"/>
                </a:lnTo>
                <a:lnTo>
                  <a:pt x="48" y="172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35"/>
          <p:cNvSpPr/>
          <p:nvPr/>
        </p:nvSpPr>
        <p:spPr>
          <a:xfrm>
            <a:off x="7058160" y="3386160"/>
            <a:ext cx="153720" cy="1103400"/>
          </a:xfrm>
          <a:custGeom>
            <a:avLst/>
            <a:gdLst/>
            <a:ahLst/>
            <a:rect l="l" t="t" r="r" b="b"/>
            <a:pathLst>
              <a:path w="196" h="1389">
                <a:moveTo>
                  <a:pt x="146" y="1389"/>
                </a:moveTo>
                <a:lnTo>
                  <a:pt x="0" y="1389"/>
                </a:lnTo>
                <a:lnTo>
                  <a:pt x="0" y="695"/>
                </a:lnTo>
                <a:lnTo>
                  <a:pt x="0" y="0"/>
                </a:lnTo>
                <a:lnTo>
                  <a:pt x="23" y="8"/>
                </a:lnTo>
                <a:lnTo>
                  <a:pt x="46" y="14"/>
                </a:lnTo>
                <a:lnTo>
                  <a:pt x="67" y="21"/>
                </a:lnTo>
                <a:lnTo>
                  <a:pt x="86" y="27"/>
                </a:lnTo>
                <a:lnTo>
                  <a:pt x="104" y="35"/>
                </a:lnTo>
                <a:lnTo>
                  <a:pt x="121" y="41"/>
                </a:lnTo>
                <a:lnTo>
                  <a:pt x="134" y="46"/>
                </a:lnTo>
                <a:lnTo>
                  <a:pt x="148" y="54"/>
                </a:lnTo>
                <a:lnTo>
                  <a:pt x="159" y="60"/>
                </a:lnTo>
                <a:lnTo>
                  <a:pt x="169" y="64"/>
                </a:lnTo>
                <a:lnTo>
                  <a:pt x="177" y="69"/>
                </a:lnTo>
                <a:lnTo>
                  <a:pt x="182" y="73"/>
                </a:lnTo>
                <a:lnTo>
                  <a:pt x="188" y="77"/>
                </a:lnTo>
                <a:lnTo>
                  <a:pt x="192" y="81"/>
                </a:lnTo>
                <a:lnTo>
                  <a:pt x="194" y="85"/>
                </a:lnTo>
                <a:lnTo>
                  <a:pt x="196" y="87"/>
                </a:lnTo>
                <a:lnTo>
                  <a:pt x="192" y="92"/>
                </a:lnTo>
                <a:lnTo>
                  <a:pt x="190" y="96"/>
                </a:lnTo>
                <a:lnTo>
                  <a:pt x="188" y="104"/>
                </a:lnTo>
                <a:lnTo>
                  <a:pt x="188" y="110"/>
                </a:lnTo>
                <a:lnTo>
                  <a:pt x="186" y="117"/>
                </a:lnTo>
                <a:lnTo>
                  <a:pt x="184" y="125"/>
                </a:lnTo>
                <a:lnTo>
                  <a:pt x="182" y="140"/>
                </a:lnTo>
                <a:lnTo>
                  <a:pt x="181" y="159"/>
                </a:lnTo>
                <a:lnTo>
                  <a:pt x="177" y="179"/>
                </a:lnTo>
                <a:lnTo>
                  <a:pt x="175" y="202"/>
                </a:lnTo>
                <a:lnTo>
                  <a:pt x="171" y="225"/>
                </a:lnTo>
                <a:lnTo>
                  <a:pt x="169" y="232"/>
                </a:lnTo>
                <a:lnTo>
                  <a:pt x="167" y="242"/>
                </a:lnTo>
                <a:lnTo>
                  <a:pt x="167" y="253"/>
                </a:lnTo>
                <a:lnTo>
                  <a:pt x="165" y="267"/>
                </a:lnTo>
                <a:lnTo>
                  <a:pt x="165" y="280"/>
                </a:lnTo>
                <a:lnTo>
                  <a:pt x="163" y="298"/>
                </a:lnTo>
                <a:lnTo>
                  <a:pt x="163" y="317"/>
                </a:lnTo>
                <a:lnTo>
                  <a:pt x="161" y="338"/>
                </a:lnTo>
                <a:lnTo>
                  <a:pt x="159" y="359"/>
                </a:lnTo>
                <a:lnTo>
                  <a:pt x="159" y="384"/>
                </a:lnTo>
                <a:lnTo>
                  <a:pt x="158" y="411"/>
                </a:lnTo>
                <a:lnTo>
                  <a:pt x="158" y="438"/>
                </a:lnTo>
                <a:lnTo>
                  <a:pt x="156" y="468"/>
                </a:lnTo>
                <a:lnTo>
                  <a:pt x="156" y="499"/>
                </a:lnTo>
                <a:lnTo>
                  <a:pt x="154" y="534"/>
                </a:lnTo>
                <a:lnTo>
                  <a:pt x="154" y="568"/>
                </a:lnTo>
                <a:lnTo>
                  <a:pt x="154" y="606"/>
                </a:lnTo>
                <a:lnTo>
                  <a:pt x="152" y="645"/>
                </a:lnTo>
                <a:lnTo>
                  <a:pt x="152" y="685"/>
                </a:lnTo>
                <a:lnTo>
                  <a:pt x="150" y="729"/>
                </a:lnTo>
                <a:lnTo>
                  <a:pt x="150" y="773"/>
                </a:lnTo>
                <a:lnTo>
                  <a:pt x="150" y="819"/>
                </a:lnTo>
                <a:lnTo>
                  <a:pt x="148" y="867"/>
                </a:lnTo>
                <a:lnTo>
                  <a:pt x="148" y="919"/>
                </a:lnTo>
                <a:lnTo>
                  <a:pt x="148" y="971"/>
                </a:lnTo>
                <a:lnTo>
                  <a:pt x="148" y="1025"/>
                </a:lnTo>
                <a:lnTo>
                  <a:pt x="146" y="1080"/>
                </a:lnTo>
                <a:lnTo>
                  <a:pt x="146" y="1138"/>
                </a:lnTo>
                <a:lnTo>
                  <a:pt x="146" y="1197"/>
                </a:lnTo>
                <a:lnTo>
                  <a:pt x="146" y="1259"/>
                </a:lnTo>
                <a:lnTo>
                  <a:pt x="146" y="1322"/>
                </a:lnTo>
                <a:lnTo>
                  <a:pt x="146" y="1389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36"/>
          <p:cNvSpPr/>
          <p:nvPr/>
        </p:nvSpPr>
        <p:spPr>
          <a:xfrm>
            <a:off x="6737400" y="3249720"/>
            <a:ext cx="806400" cy="204840"/>
          </a:xfrm>
          <a:custGeom>
            <a:avLst/>
            <a:gdLst/>
            <a:ahLst/>
            <a:rect l="l" t="t" r="r" b="b"/>
            <a:pathLst>
              <a:path w="1016" h="259">
                <a:moveTo>
                  <a:pt x="0" y="197"/>
                </a:moveTo>
                <a:lnTo>
                  <a:pt x="25" y="191"/>
                </a:lnTo>
                <a:lnTo>
                  <a:pt x="52" y="188"/>
                </a:lnTo>
                <a:lnTo>
                  <a:pt x="79" y="182"/>
                </a:lnTo>
                <a:lnTo>
                  <a:pt x="107" y="176"/>
                </a:lnTo>
                <a:lnTo>
                  <a:pt x="136" y="170"/>
                </a:lnTo>
                <a:lnTo>
                  <a:pt x="167" y="163"/>
                </a:lnTo>
                <a:lnTo>
                  <a:pt x="198" y="157"/>
                </a:lnTo>
                <a:lnTo>
                  <a:pt x="228" y="149"/>
                </a:lnTo>
                <a:lnTo>
                  <a:pt x="261" y="142"/>
                </a:lnTo>
                <a:lnTo>
                  <a:pt x="296" y="134"/>
                </a:lnTo>
                <a:lnTo>
                  <a:pt x="328" y="124"/>
                </a:lnTo>
                <a:lnTo>
                  <a:pt x="365" y="117"/>
                </a:lnTo>
                <a:lnTo>
                  <a:pt x="399" y="107"/>
                </a:lnTo>
                <a:lnTo>
                  <a:pt x="436" y="95"/>
                </a:lnTo>
                <a:lnTo>
                  <a:pt x="474" y="86"/>
                </a:lnTo>
                <a:lnTo>
                  <a:pt x="513" y="74"/>
                </a:lnTo>
                <a:lnTo>
                  <a:pt x="532" y="69"/>
                </a:lnTo>
                <a:lnTo>
                  <a:pt x="551" y="65"/>
                </a:lnTo>
                <a:lnTo>
                  <a:pt x="568" y="59"/>
                </a:lnTo>
                <a:lnTo>
                  <a:pt x="585" y="55"/>
                </a:lnTo>
                <a:lnTo>
                  <a:pt x="603" y="51"/>
                </a:lnTo>
                <a:lnTo>
                  <a:pt x="620" y="48"/>
                </a:lnTo>
                <a:lnTo>
                  <a:pt x="653" y="40"/>
                </a:lnTo>
                <a:lnTo>
                  <a:pt x="683" y="34"/>
                </a:lnTo>
                <a:lnTo>
                  <a:pt x="710" y="28"/>
                </a:lnTo>
                <a:lnTo>
                  <a:pt x="737" y="23"/>
                </a:lnTo>
                <a:lnTo>
                  <a:pt x="762" y="17"/>
                </a:lnTo>
                <a:lnTo>
                  <a:pt x="785" y="13"/>
                </a:lnTo>
                <a:lnTo>
                  <a:pt x="806" y="9"/>
                </a:lnTo>
                <a:lnTo>
                  <a:pt x="827" y="5"/>
                </a:lnTo>
                <a:lnTo>
                  <a:pt x="845" y="3"/>
                </a:lnTo>
                <a:lnTo>
                  <a:pt x="862" y="2"/>
                </a:lnTo>
                <a:lnTo>
                  <a:pt x="877" y="0"/>
                </a:lnTo>
                <a:lnTo>
                  <a:pt x="891" y="0"/>
                </a:lnTo>
                <a:lnTo>
                  <a:pt x="902" y="0"/>
                </a:lnTo>
                <a:lnTo>
                  <a:pt x="920" y="0"/>
                </a:lnTo>
                <a:lnTo>
                  <a:pt x="937" y="2"/>
                </a:lnTo>
                <a:lnTo>
                  <a:pt x="952" y="5"/>
                </a:lnTo>
                <a:lnTo>
                  <a:pt x="968" y="9"/>
                </a:lnTo>
                <a:lnTo>
                  <a:pt x="981" y="17"/>
                </a:lnTo>
                <a:lnTo>
                  <a:pt x="987" y="21"/>
                </a:lnTo>
                <a:lnTo>
                  <a:pt x="992" y="25"/>
                </a:lnTo>
                <a:lnTo>
                  <a:pt x="998" y="30"/>
                </a:lnTo>
                <a:lnTo>
                  <a:pt x="1004" y="36"/>
                </a:lnTo>
                <a:lnTo>
                  <a:pt x="1008" y="42"/>
                </a:lnTo>
                <a:lnTo>
                  <a:pt x="1014" y="49"/>
                </a:lnTo>
                <a:lnTo>
                  <a:pt x="1014" y="55"/>
                </a:lnTo>
                <a:lnTo>
                  <a:pt x="1016" y="63"/>
                </a:lnTo>
                <a:lnTo>
                  <a:pt x="1016" y="69"/>
                </a:lnTo>
                <a:lnTo>
                  <a:pt x="1014" y="74"/>
                </a:lnTo>
                <a:lnTo>
                  <a:pt x="1012" y="80"/>
                </a:lnTo>
                <a:lnTo>
                  <a:pt x="1010" y="86"/>
                </a:lnTo>
                <a:lnTo>
                  <a:pt x="1006" y="90"/>
                </a:lnTo>
                <a:lnTo>
                  <a:pt x="1000" y="95"/>
                </a:lnTo>
                <a:lnTo>
                  <a:pt x="994" y="99"/>
                </a:lnTo>
                <a:lnTo>
                  <a:pt x="987" y="103"/>
                </a:lnTo>
                <a:lnTo>
                  <a:pt x="977" y="107"/>
                </a:lnTo>
                <a:lnTo>
                  <a:pt x="968" y="111"/>
                </a:lnTo>
                <a:lnTo>
                  <a:pt x="956" y="115"/>
                </a:lnTo>
                <a:lnTo>
                  <a:pt x="944" y="117"/>
                </a:lnTo>
                <a:lnTo>
                  <a:pt x="929" y="120"/>
                </a:lnTo>
                <a:lnTo>
                  <a:pt x="916" y="122"/>
                </a:lnTo>
                <a:lnTo>
                  <a:pt x="898" y="128"/>
                </a:lnTo>
                <a:lnTo>
                  <a:pt x="881" y="132"/>
                </a:lnTo>
                <a:lnTo>
                  <a:pt x="862" y="138"/>
                </a:lnTo>
                <a:lnTo>
                  <a:pt x="843" y="142"/>
                </a:lnTo>
                <a:lnTo>
                  <a:pt x="822" y="147"/>
                </a:lnTo>
                <a:lnTo>
                  <a:pt x="799" y="151"/>
                </a:lnTo>
                <a:lnTo>
                  <a:pt x="777" y="157"/>
                </a:lnTo>
                <a:lnTo>
                  <a:pt x="752" y="161"/>
                </a:lnTo>
                <a:lnTo>
                  <a:pt x="729" y="166"/>
                </a:lnTo>
                <a:lnTo>
                  <a:pt x="703" y="172"/>
                </a:lnTo>
                <a:lnTo>
                  <a:pt x="678" y="178"/>
                </a:lnTo>
                <a:lnTo>
                  <a:pt x="651" y="184"/>
                </a:lnTo>
                <a:lnTo>
                  <a:pt x="624" y="189"/>
                </a:lnTo>
                <a:lnTo>
                  <a:pt x="595" y="195"/>
                </a:lnTo>
                <a:lnTo>
                  <a:pt x="566" y="203"/>
                </a:lnTo>
                <a:lnTo>
                  <a:pt x="537" y="211"/>
                </a:lnTo>
                <a:lnTo>
                  <a:pt x="507" y="216"/>
                </a:lnTo>
                <a:lnTo>
                  <a:pt x="480" y="222"/>
                </a:lnTo>
                <a:lnTo>
                  <a:pt x="453" y="228"/>
                </a:lnTo>
                <a:lnTo>
                  <a:pt x="426" y="234"/>
                </a:lnTo>
                <a:lnTo>
                  <a:pt x="403" y="237"/>
                </a:lnTo>
                <a:lnTo>
                  <a:pt x="380" y="241"/>
                </a:lnTo>
                <a:lnTo>
                  <a:pt x="357" y="245"/>
                </a:lnTo>
                <a:lnTo>
                  <a:pt x="336" y="249"/>
                </a:lnTo>
                <a:lnTo>
                  <a:pt x="317" y="251"/>
                </a:lnTo>
                <a:lnTo>
                  <a:pt x="299" y="253"/>
                </a:lnTo>
                <a:lnTo>
                  <a:pt x="282" y="255"/>
                </a:lnTo>
                <a:lnTo>
                  <a:pt x="267" y="257"/>
                </a:lnTo>
                <a:lnTo>
                  <a:pt x="253" y="257"/>
                </a:lnTo>
                <a:lnTo>
                  <a:pt x="240" y="259"/>
                </a:lnTo>
                <a:lnTo>
                  <a:pt x="230" y="259"/>
                </a:lnTo>
                <a:lnTo>
                  <a:pt x="221" y="259"/>
                </a:lnTo>
                <a:lnTo>
                  <a:pt x="207" y="259"/>
                </a:lnTo>
                <a:lnTo>
                  <a:pt x="196" y="257"/>
                </a:lnTo>
                <a:lnTo>
                  <a:pt x="184" y="257"/>
                </a:lnTo>
                <a:lnTo>
                  <a:pt x="171" y="255"/>
                </a:lnTo>
                <a:lnTo>
                  <a:pt x="159" y="253"/>
                </a:lnTo>
                <a:lnTo>
                  <a:pt x="146" y="249"/>
                </a:lnTo>
                <a:lnTo>
                  <a:pt x="119" y="241"/>
                </a:lnTo>
                <a:lnTo>
                  <a:pt x="90" y="234"/>
                </a:lnTo>
                <a:lnTo>
                  <a:pt x="61" y="222"/>
                </a:lnTo>
                <a:lnTo>
                  <a:pt x="31" y="211"/>
                </a:lnTo>
                <a:lnTo>
                  <a:pt x="0" y="197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37"/>
          <p:cNvSpPr/>
          <p:nvPr/>
        </p:nvSpPr>
        <p:spPr>
          <a:xfrm>
            <a:off x="5622840" y="2763720"/>
            <a:ext cx="600120" cy="871560"/>
          </a:xfrm>
          <a:custGeom>
            <a:avLst/>
            <a:gdLst/>
            <a:ahLst/>
            <a:rect l="l" t="t" r="r" b="b"/>
            <a:pathLst>
              <a:path w="756" h="1099">
                <a:moveTo>
                  <a:pt x="512" y="550"/>
                </a:moveTo>
                <a:lnTo>
                  <a:pt x="497" y="569"/>
                </a:lnTo>
                <a:lnTo>
                  <a:pt x="483" y="590"/>
                </a:lnTo>
                <a:lnTo>
                  <a:pt x="470" y="610"/>
                </a:lnTo>
                <a:lnTo>
                  <a:pt x="456" y="629"/>
                </a:lnTo>
                <a:lnTo>
                  <a:pt x="445" y="646"/>
                </a:lnTo>
                <a:lnTo>
                  <a:pt x="432" y="663"/>
                </a:lnTo>
                <a:lnTo>
                  <a:pt x="420" y="681"/>
                </a:lnTo>
                <a:lnTo>
                  <a:pt x="408" y="696"/>
                </a:lnTo>
                <a:lnTo>
                  <a:pt x="397" y="711"/>
                </a:lnTo>
                <a:lnTo>
                  <a:pt x="387" y="727"/>
                </a:lnTo>
                <a:lnTo>
                  <a:pt x="376" y="740"/>
                </a:lnTo>
                <a:lnTo>
                  <a:pt x="366" y="754"/>
                </a:lnTo>
                <a:lnTo>
                  <a:pt x="359" y="767"/>
                </a:lnTo>
                <a:lnTo>
                  <a:pt x="349" y="778"/>
                </a:lnTo>
                <a:lnTo>
                  <a:pt x="341" y="790"/>
                </a:lnTo>
                <a:lnTo>
                  <a:pt x="334" y="801"/>
                </a:lnTo>
                <a:lnTo>
                  <a:pt x="326" y="813"/>
                </a:lnTo>
                <a:lnTo>
                  <a:pt x="320" y="823"/>
                </a:lnTo>
                <a:lnTo>
                  <a:pt x="312" y="830"/>
                </a:lnTo>
                <a:lnTo>
                  <a:pt x="307" y="840"/>
                </a:lnTo>
                <a:lnTo>
                  <a:pt x="303" y="848"/>
                </a:lnTo>
                <a:lnTo>
                  <a:pt x="297" y="855"/>
                </a:lnTo>
                <a:lnTo>
                  <a:pt x="293" y="861"/>
                </a:lnTo>
                <a:lnTo>
                  <a:pt x="289" y="869"/>
                </a:lnTo>
                <a:lnTo>
                  <a:pt x="288" y="872"/>
                </a:lnTo>
                <a:lnTo>
                  <a:pt x="284" y="878"/>
                </a:lnTo>
                <a:lnTo>
                  <a:pt x="282" y="882"/>
                </a:lnTo>
                <a:lnTo>
                  <a:pt x="280" y="886"/>
                </a:lnTo>
                <a:lnTo>
                  <a:pt x="280" y="890"/>
                </a:lnTo>
                <a:lnTo>
                  <a:pt x="280" y="892"/>
                </a:lnTo>
                <a:lnTo>
                  <a:pt x="280" y="894"/>
                </a:lnTo>
                <a:lnTo>
                  <a:pt x="282" y="895"/>
                </a:lnTo>
                <a:lnTo>
                  <a:pt x="286" y="899"/>
                </a:lnTo>
                <a:lnTo>
                  <a:pt x="289" y="903"/>
                </a:lnTo>
                <a:lnTo>
                  <a:pt x="295" y="905"/>
                </a:lnTo>
                <a:lnTo>
                  <a:pt x="301" y="907"/>
                </a:lnTo>
                <a:lnTo>
                  <a:pt x="309" y="907"/>
                </a:lnTo>
                <a:lnTo>
                  <a:pt x="318" y="907"/>
                </a:lnTo>
                <a:lnTo>
                  <a:pt x="324" y="907"/>
                </a:lnTo>
                <a:lnTo>
                  <a:pt x="328" y="909"/>
                </a:lnTo>
                <a:lnTo>
                  <a:pt x="336" y="909"/>
                </a:lnTo>
                <a:lnTo>
                  <a:pt x="341" y="909"/>
                </a:lnTo>
                <a:lnTo>
                  <a:pt x="345" y="909"/>
                </a:lnTo>
                <a:lnTo>
                  <a:pt x="349" y="907"/>
                </a:lnTo>
                <a:lnTo>
                  <a:pt x="355" y="907"/>
                </a:lnTo>
                <a:lnTo>
                  <a:pt x="360" y="907"/>
                </a:lnTo>
                <a:lnTo>
                  <a:pt x="366" y="907"/>
                </a:lnTo>
                <a:lnTo>
                  <a:pt x="372" y="907"/>
                </a:lnTo>
                <a:lnTo>
                  <a:pt x="380" y="907"/>
                </a:lnTo>
                <a:lnTo>
                  <a:pt x="387" y="905"/>
                </a:lnTo>
                <a:lnTo>
                  <a:pt x="395" y="905"/>
                </a:lnTo>
                <a:lnTo>
                  <a:pt x="405" y="905"/>
                </a:lnTo>
                <a:lnTo>
                  <a:pt x="414" y="903"/>
                </a:lnTo>
                <a:lnTo>
                  <a:pt x="424" y="903"/>
                </a:lnTo>
                <a:lnTo>
                  <a:pt x="435" y="903"/>
                </a:lnTo>
                <a:lnTo>
                  <a:pt x="447" y="901"/>
                </a:lnTo>
                <a:lnTo>
                  <a:pt x="458" y="901"/>
                </a:lnTo>
                <a:lnTo>
                  <a:pt x="472" y="899"/>
                </a:lnTo>
                <a:lnTo>
                  <a:pt x="483" y="899"/>
                </a:lnTo>
                <a:lnTo>
                  <a:pt x="499" y="899"/>
                </a:lnTo>
                <a:lnTo>
                  <a:pt x="512" y="897"/>
                </a:lnTo>
                <a:lnTo>
                  <a:pt x="527" y="895"/>
                </a:lnTo>
                <a:lnTo>
                  <a:pt x="543" y="895"/>
                </a:lnTo>
                <a:lnTo>
                  <a:pt x="558" y="894"/>
                </a:lnTo>
                <a:lnTo>
                  <a:pt x="575" y="894"/>
                </a:lnTo>
                <a:lnTo>
                  <a:pt x="593" y="892"/>
                </a:lnTo>
                <a:lnTo>
                  <a:pt x="612" y="892"/>
                </a:lnTo>
                <a:lnTo>
                  <a:pt x="631" y="890"/>
                </a:lnTo>
                <a:lnTo>
                  <a:pt x="650" y="890"/>
                </a:lnTo>
                <a:lnTo>
                  <a:pt x="670" y="888"/>
                </a:lnTo>
                <a:lnTo>
                  <a:pt x="691" y="886"/>
                </a:lnTo>
                <a:lnTo>
                  <a:pt x="712" y="886"/>
                </a:lnTo>
                <a:lnTo>
                  <a:pt x="733" y="884"/>
                </a:lnTo>
                <a:lnTo>
                  <a:pt x="756" y="884"/>
                </a:lnTo>
                <a:lnTo>
                  <a:pt x="719" y="934"/>
                </a:lnTo>
                <a:lnTo>
                  <a:pt x="683" y="984"/>
                </a:lnTo>
                <a:lnTo>
                  <a:pt x="660" y="986"/>
                </a:lnTo>
                <a:lnTo>
                  <a:pt x="637" y="989"/>
                </a:lnTo>
                <a:lnTo>
                  <a:pt x="614" y="993"/>
                </a:lnTo>
                <a:lnTo>
                  <a:pt x="593" y="997"/>
                </a:lnTo>
                <a:lnTo>
                  <a:pt x="572" y="999"/>
                </a:lnTo>
                <a:lnTo>
                  <a:pt x="551" y="1003"/>
                </a:lnTo>
                <a:lnTo>
                  <a:pt x="529" y="1005"/>
                </a:lnTo>
                <a:lnTo>
                  <a:pt x="510" y="1009"/>
                </a:lnTo>
                <a:lnTo>
                  <a:pt x="493" y="1011"/>
                </a:lnTo>
                <a:lnTo>
                  <a:pt x="474" y="1014"/>
                </a:lnTo>
                <a:lnTo>
                  <a:pt x="456" y="1016"/>
                </a:lnTo>
                <a:lnTo>
                  <a:pt x="439" y="1020"/>
                </a:lnTo>
                <a:lnTo>
                  <a:pt x="424" y="1022"/>
                </a:lnTo>
                <a:lnTo>
                  <a:pt x="408" y="1026"/>
                </a:lnTo>
                <a:lnTo>
                  <a:pt x="393" y="1028"/>
                </a:lnTo>
                <a:lnTo>
                  <a:pt x="378" y="1030"/>
                </a:lnTo>
                <a:lnTo>
                  <a:pt x="364" y="1034"/>
                </a:lnTo>
                <a:lnTo>
                  <a:pt x="351" y="1036"/>
                </a:lnTo>
                <a:lnTo>
                  <a:pt x="337" y="1037"/>
                </a:lnTo>
                <a:lnTo>
                  <a:pt x="326" y="1041"/>
                </a:lnTo>
                <a:lnTo>
                  <a:pt x="312" y="1043"/>
                </a:lnTo>
                <a:lnTo>
                  <a:pt x="303" y="1045"/>
                </a:lnTo>
                <a:lnTo>
                  <a:pt x="291" y="1049"/>
                </a:lnTo>
                <a:lnTo>
                  <a:pt x="282" y="1051"/>
                </a:lnTo>
                <a:lnTo>
                  <a:pt x="272" y="1053"/>
                </a:lnTo>
                <a:lnTo>
                  <a:pt x="263" y="1055"/>
                </a:lnTo>
                <a:lnTo>
                  <a:pt x="255" y="1057"/>
                </a:lnTo>
                <a:lnTo>
                  <a:pt x="245" y="1060"/>
                </a:lnTo>
                <a:lnTo>
                  <a:pt x="240" y="1062"/>
                </a:lnTo>
                <a:lnTo>
                  <a:pt x="232" y="1064"/>
                </a:lnTo>
                <a:lnTo>
                  <a:pt x="226" y="1066"/>
                </a:lnTo>
                <a:lnTo>
                  <a:pt x="220" y="1070"/>
                </a:lnTo>
                <a:lnTo>
                  <a:pt x="197" y="1078"/>
                </a:lnTo>
                <a:lnTo>
                  <a:pt x="176" y="1085"/>
                </a:lnTo>
                <a:lnTo>
                  <a:pt x="157" y="1091"/>
                </a:lnTo>
                <a:lnTo>
                  <a:pt x="140" y="1095"/>
                </a:lnTo>
                <a:lnTo>
                  <a:pt x="122" y="1099"/>
                </a:lnTo>
                <a:lnTo>
                  <a:pt x="115" y="1099"/>
                </a:lnTo>
                <a:lnTo>
                  <a:pt x="109" y="1099"/>
                </a:lnTo>
                <a:lnTo>
                  <a:pt x="101" y="1099"/>
                </a:lnTo>
                <a:lnTo>
                  <a:pt x="96" y="1097"/>
                </a:lnTo>
                <a:lnTo>
                  <a:pt x="90" y="1097"/>
                </a:lnTo>
                <a:lnTo>
                  <a:pt x="86" y="1095"/>
                </a:lnTo>
                <a:lnTo>
                  <a:pt x="80" y="1093"/>
                </a:lnTo>
                <a:lnTo>
                  <a:pt x="76" y="1093"/>
                </a:lnTo>
                <a:lnTo>
                  <a:pt x="71" y="1091"/>
                </a:lnTo>
                <a:lnTo>
                  <a:pt x="67" y="1089"/>
                </a:lnTo>
                <a:lnTo>
                  <a:pt x="63" y="1087"/>
                </a:lnTo>
                <a:lnTo>
                  <a:pt x="59" y="1083"/>
                </a:lnTo>
                <a:lnTo>
                  <a:pt x="49" y="1078"/>
                </a:lnTo>
                <a:lnTo>
                  <a:pt x="42" y="1068"/>
                </a:lnTo>
                <a:lnTo>
                  <a:pt x="36" y="1057"/>
                </a:lnTo>
                <a:lnTo>
                  <a:pt x="30" y="1045"/>
                </a:lnTo>
                <a:lnTo>
                  <a:pt x="25" y="1032"/>
                </a:lnTo>
                <a:lnTo>
                  <a:pt x="21" y="1018"/>
                </a:lnTo>
                <a:lnTo>
                  <a:pt x="15" y="1007"/>
                </a:lnTo>
                <a:lnTo>
                  <a:pt x="11" y="995"/>
                </a:lnTo>
                <a:lnTo>
                  <a:pt x="7" y="984"/>
                </a:lnTo>
                <a:lnTo>
                  <a:pt x="3" y="974"/>
                </a:lnTo>
                <a:lnTo>
                  <a:pt x="1" y="965"/>
                </a:lnTo>
                <a:lnTo>
                  <a:pt x="0" y="955"/>
                </a:lnTo>
                <a:lnTo>
                  <a:pt x="0" y="945"/>
                </a:lnTo>
                <a:lnTo>
                  <a:pt x="0" y="943"/>
                </a:lnTo>
                <a:lnTo>
                  <a:pt x="1" y="940"/>
                </a:lnTo>
                <a:lnTo>
                  <a:pt x="1" y="938"/>
                </a:lnTo>
                <a:lnTo>
                  <a:pt x="3" y="934"/>
                </a:lnTo>
                <a:lnTo>
                  <a:pt x="7" y="930"/>
                </a:lnTo>
                <a:lnTo>
                  <a:pt x="9" y="926"/>
                </a:lnTo>
                <a:lnTo>
                  <a:pt x="13" y="922"/>
                </a:lnTo>
                <a:lnTo>
                  <a:pt x="19" y="919"/>
                </a:lnTo>
                <a:lnTo>
                  <a:pt x="23" y="915"/>
                </a:lnTo>
                <a:lnTo>
                  <a:pt x="28" y="911"/>
                </a:lnTo>
                <a:lnTo>
                  <a:pt x="34" y="907"/>
                </a:lnTo>
                <a:lnTo>
                  <a:pt x="42" y="901"/>
                </a:lnTo>
                <a:lnTo>
                  <a:pt x="48" y="897"/>
                </a:lnTo>
                <a:lnTo>
                  <a:pt x="57" y="892"/>
                </a:lnTo>
                <a:lnTo>
                  <a:pt x="65" y="888"/>
                </a:lnTo>
                <a:lnTo>
                  <a:pt x="74" y="884"/>
                </a:lnTo>
                <a:lnTo>
                  <a:pt x="80" y="880"/>
                </a:lnTo>
                <a:lnTo>
                  <a:pt x="88" y="876"/>
                </a:lnTo>
                <a:lnTo>
                  <a:pt x="96" y="871"/>
                </a:lnTo>
                <a:lnTo>
                  <a:pt x="103" y="865"/>
                </a:lnTo>
                <a:lnTo>
                  <a:pt x="111" y="857"/>
                </a:lnTo>
                <a:lnTo>
                  <a:pt x="120" y="849"/>
                </a:lnTo>
                <a:lnTo>
                  <a:pt x="128" y="840"/>
                </a:lnTo>
                <a:lnTo>
                  <a:pt x="138" y="830"/>
                </a:lnTo>
                <a:lnTo>
                  <a:pt x="147" y="819"/>
                </a:lnTo>
                <a:lnTo>
                  <a:pt x="157" y="807"/>
                </a:lnTo>
                <a:lnTo>
                  <a:pt x="167" y="796"/>
                </a:lnTo>
                <a:lnTo>
                  <a:pt x="176" y="782"/>
                </a:lnTo>
                <a:lnTo>
                  <a:pt x="186" y="769"/>
                </a:lnTo>
                <a:lnTo>
                  <a:pt x="197" y="754"/>
                </a:lnTo>
                <a:lnTo>
                  <a:pt x="209" y="738"/>
                </a:lnTo>
                <a:lnTo>
                  <a:pt x="220" y="723"/>
                </a:lnTo>
                <a:lnTo>
                  <a:pt x="230" y="706"/>
                </a:lnTo>
                <a:lnTo>
                  <a:pt x="241" y="688"/>
                </a:lnTo>
                <a:lnTo>
                  <a:pt x="253" y="669"/>
                </a:lnTo>
                <a:lnTo>
                  <a:pt x="266" y="650"/>
                </a:lnTo>
                <a:lnTo>
                  <a:pt x="278" y="629"/>
                </a:lnTo>
                <a:lnTo>
                  <a:pt x="289" y="610"/>
                </a:lnTo>
                <a:lnTo>
                  <a:pt x="301" y="587"/>
                </a:lnTo>
                <a:lnTo>
                  <a:pt x="314" y="564"/>
                </a:lnTo>
                <a:lnTo>
                  <a:pt x="328" y="541"/>
                </a:lnTo>
                <a:lnTo>
                  <a:pt x="341" y="516"/>
                </a:lnTo>
                <a:lnTo>
                  <a:pt x="355" y="491"/>
                </a:lnTo>
                <a:lnTo>
                  <a:pt x="368" y="466"/>
                </a:lnTo>
                <a:lnTo>
                  <a:pt x="382" y="437"/>
                </a:lnTo>
                <a:lnTo>
                  <a:pt x="397" y="410"/>
                </a:lnTo>
                <a:lnTo>
                  <a:pt x="410" y="381"/>
                </a:lnTo>
                <a:lnTo>
                  <a:pt x="428" y="351"/>
                </a:lnTo>
                <a:lnTo>
                  <a:pt x="441" y="322"/>
                </a:lnTo>
                <a:lnTo>
                  <a:pt x="456" y="293"/>
                </a:lnTo>
                <a:lnTo>
                  <a:pt x="468" y="268"/>
                </a:lnTo>
                <a:lnTo>
                  <a:pt x="479" y="243"/>
                </a:lnTo>
                <a:lnTo>
                  <a:pt x="489" y="220"/>
                </a:lnTo>
                <a:lnTo>
                  <a:pt x="499" y="199"/>
                </a:lnTo>
                <a:lnTo>
                  <a:pt x="504" y="180"/>
                </a:lnTo>
                <a:lnTo>
                  <a:pt x="512" y="161"/>
                </a:lnTo>
                <a:lnTo>
                  <a:pt x="516" y="145"/>
                </a:lnTo>
                <a:lnTo>
                  <a:pt x="522" y="130"/>
                </a:lnTo>
                <a:lnTo>
                  <a:pt x="524" y="117"/>
                </a:lnTo>
                <a:lnTo>
                  <a:pt x="526" y="103"/>
                </a:lnTo>
                <a:lnTo>
                  <a:pt x="527" y="92"/>
                </a:lnTo>
                <a:lnTo>
                  <a:pt x="527" y="82"/>
                </a:lnTo>
                <a:lnTo>
                  <a:pt x="526" y="73"/>
                </a:lnTo>
                <a:lnTo>
                  <a:pt x="526" y="67"/>
                </a:lnTo>
                <a:lnTo>
                  <a:pt x="520" y="57"/>
                </a:lnTo>
                <a:lnTo>
                  <a:pt x="518" y="48"/>
                </a:lnTo>
                <a:lnTo>
                  <a:pt x="516" y="38"/>
                </a:lnTo>
                <a:lnTo>
                  <a:pt x="516" y="30"/>
                </a:lnTo>
                <a:lnTo>
                  <a:pt x="520" y="23"/>
                </a:lnTo>
                <a:lnTo>
                  <a:pt x="520" y="19"/>
                </a:lnTo>
                <a:lnTo>
                  <a:pt x="524" y="15"/>
                </a:lnTo>
                <a:lnTo>
                  <a:pt x="526" y="13"/>
                </a:lnTo>
                <a:lnTo>
                  <a:pt x="529" y="9"/>
                </a:lnTo>
                <a:lnTo>
                  <a:pt x="533" y="5"/>
                </a:lnTo>
                <a:lnTo>
                  <a:pt x="537" y="3"/>
                </a:lnTo>
                <a:lnTo>
                  <a:pt x="543" y="2"/>
                </a:lnTo>
                <a:lnTo>
                  <a:pt x="547" y="0"/>
                </a:lnTo>
                <a:lnTo>
                  <a:pt x="552" y="0"/>
                </a:lnTo>
                <a:lnTo>
                  <a:pt x="560" y="0"/>
                </a:lnTo>
                <a:lnTo>
                  <a:pt x="566" y="0"/>
                </a:lnTo>
                <a:lnTo>
                  <a:pt x="574" y="0"/>
                </a:lnTo>
                <a:lnTo>
                  <a:pt x="581" y="2"/>
                </a:lnTo>
                <a:lnTo>
                  <a:pt x="591" y="3"/>
                </a:lnTo>
                <a:lnTo>
                  <a:pt x="599" y="5"/>
                </a:lnTo>
                <a:lnTo>
                  <a:pt x="608" y="9"/>
                </a:lnTo>
                <a:lnTo>
                  <a:pt x="618" y="13"/>
                </a:lnTo>
                <a:lnTo>
                  <a:pt x="627" y="17"/>
                </a:lnTo>
                <a:lnTo>
                  <a:pt x="637" y="23"/>
                </a:lnTo>
                <a:lnTo>
                  <a:pt x="648" y="28"/>
                </a:lnTo>
                <a:lnTo>
                  <a:pt x="660" y="34"/>
                </a:lnTo>
                <a:lnTo>
                  <a:pt x="671" y="42"/>
                </a:lnTo>
                <a:lnTo>
                  <a:pt x="681" y="50"/>
                </a:lnTo>
                <a:lnTo>
                  <a:pt x="691" y="59"/>
                </a:lnTo>
                <a:lnTo>
                  <a:pt x="700" y="67"/>
                </a:lnTo>
                <a:lnTo>
                  <a:pt x="710" y="76"/>
                </a:lnTo>
                <a:lnTo>
                  <a:pt x="718" y="84"/>
                </a:lnTo>
                <a:lnTo>
                  <a:pt x="723" y="92"/>
                </a:lnTo>
                <a:lnTo>
                  <a:pt x="731" y="99"/>
                </a:lnTo>
                <a:lnTo>
                  <a:pt x="737" y="105"/>
                </a:lnTo>
                <a:lnTo>
                  <a:pt x="741" y="113"/>
                </a:lnTo>
                <a:lnTo>
                  <a:pt x="744" y="119"/>
                </a:lnTo>
                <a:lnTo>
                  <a:pt x="748" y="126"/>
                </a:lnTo>
                <a:lnTo>
                  <a:pt x="750" y="132"/>
                </a:lnTo>
                <a:lnTo>
                  <a:pt x="754" y="138"/>
                </a:lnTo>
                <a:lnTo>
                  <a:pt x="754" y="142"/>
                </a:lnTo>
                <a:lnTo>
                  <a:pt x="756" y="147"/>
                </a:lnTo>
                <a:lnTo>
                  <a:pt x="756" y="153"/>
                </a:lnTo>
                <a:lnTo>
                  <a:pt x="756" y="155"/>
                </a:lnTo>
                <a:lnTo>
                  <a:pt x="754" y="161"/>
                </a:lnTo>
                <a:lnTo>
                  <a:pt x="754" y="165"/>
                </a:lnTo>
                <a:lnTo>
                  <a:pt x="752" y="170"/>
                </a:lnTo>
                <a:lnTo>
                  <a:pt x="750" y="176"/>
                </a:lnTo>
                <a:lnTo>
                  <a:pt x="746" y="182"/>
                </a:lnTo>
                <a:lnTo>
                  <a:pt x="744" y="190"/>
                </a:lnTo>
                <a:lnTo>
                  <a:pt x="741" y="197"/>
                </a:lnTo>
                <a:lnTo>
                  <a:pt x="735" y="205"/>
                </a:lnTo>
                <a:lnTo>
                  <a:pt x="731" y="213"/>
                </a:lnTo>
                <a:lnTo>
                  <a:pt x="725" y="222"/>
                </a:lnTo>
                <a:lnTo>
                  <a:pt x="719" y="232"/>
                </a:lnTo>
                <a:lnTo>
                  <a:pt x="714" y="241"/>
                </a:lnTo>
                <a:lnTo>
                  <a:pt x="708" y="253"/>
                </a:lnTo>
                <a:lnTo>
                  <a:pt x="700" y="264"/>
                </a:lnTo>
                <a:lnTo>
                  <a:pt x="693" y="276"/>
                </a:lnTo>
                <a:lnTo>
                  <a:pt x="685" y="289"/>
                </a:lnTo>
                <a:lnTo>
                  <a:pt x="677" y="301"/>
                </a:lnTo>
                <a:lnTo>
                  <a:pt x="668" y="314"/>
                </a:lnTo>
                <a:lnTo>
                  <a:pt x="658" y="330"/>
                </a:lnTo>
                <a:lnTo>
                  <a:pt x="648" y="345"/>
                </a:lnTo>
                <a:lnTo>
                  <a:pt x="639" y="360"/>
                </a:lnTo>
                <a:lnTo>
                  <a:pt x="627" y="376"/>
                </a:lnTo>
                <a:lnTo>
                  <a:pt x="616" y="393"/>
                </a:lnTo>
                <a:lnTo>
                  <a:pt x="604" y="410"/>
                </a:lnTo>
                <a:lnTo>
                  <a:pt x="593" y="427"/>
                </a:lnTo>
                <a:lnTo>
                  <a:pt x="581" y="447"/>
                </a:lnTo>
                <a:lnTo>
                  <a:pt x="568" y="466"/>
                </a:lnTo>
                <a:lnTo>
                  <a:pt x="554" y="485"/>
                </a:lnTo>
                <a:lnTo>
                  <a:pt x="541" y="506"/>
                </a:lnTo>
                <a:lnTo>
                  <a:pt x="527" y="527"/>
                </a:lnTo>
                <a:lnTo>
                  <a:pt x="512" y="55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38"/>
          <p:cNvSpPr/>
          <p:nvPr/>
        </p:nvSpPr>
        <p:spPr>
          <a:xfrm>
            <a:off x="5581800" y="4122720"/>
            <a:ext cx="836640" cy="455760"/>
          </a:xfrm>
          <a:custGeom>
            <a:avLst/>
            <a:gdLst/>
            <a:ahLst/>
            <a:rect l="l" t="t" r="r" b="b"/>
            <a:pathLst>
              <a:path w="1054" h="573">
                <a:moveTo>
                  <a:pt x="65" y="347"/>
                </a:moveTo>
                <a:lnTo>
                  <a:pt x="77" y="351"/>
                </a:lnTo>
                <a:lnTo>
                  <a:pt x="90" y="355"/>
                </a:lnTo>
                <a:lnTo>
                  <a:pt x="101" y="357"/>
                </a:lnTo>
                <a:lnTo>
                  <a:pt x="113" y="357"/>
                </a:lnTo>
                <a:lnTo>
                  <a:pt x="124" y="357"/>
                </a:lnTo>
                <a:lnTo>
                  <a:pt x="136" y="355"/>
                </a:lnTo>
                <a:lnTo>
                  <a:pt x="149" y="351"/>
                </a:lnTo>
                <a:lnTo>
                  <a:pt x="163" y="347"/>
                </a:lnTo>
                <a:lnTo>
                  <a:pt x="165" y="345"/>
                </a:lnTo>
                <a:lnTo>
                  <a:pt x="171" y="345"/>
                </a:lnTo>
                <a:lnTo>
                  <a:pt x="174" y="343"/>
                </a:lnTo>
                <a:lnTo>
                  <a:pt x="180" y="339"/>
                </a:lnTo>
                <a:lnTo>
                  <a:pt x="188" y="337"/>
                </a:lnTo>
                <a:lnTo>
                  <a:pt x="194" y="335"/>
                </a:lnTo>
                <a:lnTo>
                  <a:pt x="201" y="332"/>
                </a:lnTo>
                <a:lnTo>
                  <a:pt x="211" y="328"/>
                </a:lnTo>
                <a:lnTo>
                  <a:pt x="219" y="326"/>
                </a:lnTo>
                <a:lnTo>
                  <a:pt x="230" y="322"/>
                </a:lnTo>
                <a:lnTo>
                  <a:pt x="240" y="316"/>
                </a:lnTo>
                <a:lnTo>
                  <a:pt x="251" y="312"/>
                </a:lnTo>
                <a:lnTo>
                  <a:pt x="263" y="309"/>
                </a:lnTo>
                <a:lnTo>
                  <a:pt x="274" y="303"/>
                </a:lnTo>
                <a:lnTo>
                  <a:pt x="288" y="297"/>
                </a:lnTo>
                <a:lnTo>
                  <a:pt x="303" y="291"/>
                </a:lnTo>
                <a:lnTo>
                  <a:pt x="316" y="286"/>
                </a:lnTo>
                <a:lnTo>
                  <a:pt x="332" y="280"/>
                </a:lnTo>
                <a:lnTo>
                  <a:pt x="349" y="274"/>
                </a:lnTo>
                <a:lnTo>
                  <a:pt x="364" y="266"/>
                </a:lnTo>
                <a:lnTo>
                  <a:pt x="382" y="261"/>
                </a:lnTo>
                <a:lnTo>
                  <a:pt x="401" y="253"/>
                </a:lnTo>
                <a:lnTo>
                  <a:pt x="420" y="245"/>
                </a:lnTo>
                <a:lnTo>
                  <a:pt x="439" y="238"/>
                </a:lnTo>
                <a:lnTo>
                  <a:pt x="460" y="228"/>
                </a:lnTo>
                <a:lnTo>
                  <a:pt x="482" y="220"/>
                </a:lnTo>
                <a:lnTo>
                  <a:pt x="503" y="211"/>
                </a:lnTo>
                <a:lnTo>
                  <a:pt x="526" y="201"/>
                </a:lnTo>
                <a:lnTo>
                  <a:pt x="549" y="192"/>
                </a:lnTo>
                <a:lnTo>
                  <a:pt x="574" y="182"/>
                </a:lnTo>
                <a:lnTo>
                  <a:pt x="599" y="172"/>
                </a:lnTo>
                <a:lnTo>
                  <a:pt x="626" y="163"/>
                </a:lnTo>
                <a:lnTo>
                  <a:pt x="649" y="151"/>
                </a:lnTo>
                <a:lnTo>
                  <a:pt x="674" y="142"/>
                </a:lnTo>
                <a:lnTo>
                  <a:pt x="697" y="132"/>
                </a:lnTo>
                <a:lnTo>
                  <a:pt x="720" y="122"/>
                </a:lnTo>
                <a:lnTo>
                  <a:pt x="741" y="113"/>
                </a:lnTo>
                <a:lnTo>
                  <a:pt x="762" y="103"/>
                </a:lnTo>
                <a:lnTo>
                  <a:pt x="783" y="96"/>
                </a:lnTo>
                <a:lnTo>
                  <a:pt x="802" y="86"/>
                </a:lnTo>
                <a:lnTo>
                  <a:pt x="821" y="78"/>
                </a:lnTo>
                <a:lnTo>
                  <a:pt x="841" y="71"/>
                </a:lnTo>
                <a:lnTo>
                  <a:pt x="858" y="65"/>
                </a:lnTo>
                <a:lnTo>
                  <a:pt x="875" y="57"/>
                </a:lnTo>
                <a:lnTo>
                  <a:pt x="891" y="52"/>
                </a:lnTo>
                <a:lnTo>
                  <a:pt x="906" y="46"/>
                </a:lnTo>
                <a:lnTo>
                  <a:pt x="921" y="40"/>
                </a:lnTo>
                <a:lnTo>
                  <a:pt x="935" y="34"/>
                </a:lnTo>
                <a:lnTo>
                  <a:pt x="948" y="28"/>
                </a:lnTo>
                <a:lnTo>
                  <a:pt x="960" y="25"/>
                </a:lnTo>
                <a:lnTo>
                  <a:pt x="971" y="21"/>
                </a:lnTo>
                <a:lnTo>
                  <a:pt x="983" y="17"/>
                </a:lnTo>
                <a:lnTo>
                  <a:pt x="992" y="13"/>
                </a:lnTo>
                <a:lnTo>
                  <a:pt x="1002" y="9"/>
                </a:lnTo>
                <a:lnTo>
                  <a:pt x="1010" y="7"/>
                </a:lnTo>
                <a:lnTo>
                  <a:pt x="1019" y="5"/>
                </a:lnTo>
                <a:lnTo>
                  <a:pt x="1025" y="4"/>
                </a:lnTo>
                <a:lnTo>
                  <a:pt x="1031" y="2"/>
                </a:lnTo>
                <a:lnTo>
                  <a:pt x="1036" y="0"/>
                </a:lnTo>
                <a:lnTo>
                  <a:pt x="1042" y="0"/>
                </a:lnTo>
                <a:lnTo>
                  <a:pt x="1046" y="0"/>
                </a:lnTo>
                <a:lnTo>
                  <a:pt x="1048" y="0"/>
                </a:lnTo>
                <a:lnTo>
                  <a:pt x="1052" y="0"/>
                </a:lnTo>
                <a:lnTo>
                  <a:pt x="1054" y="2"/>
                </a:lnTo>
                <a:lnTo>
                  <a:pt x="1054" y="4"/>
                </a:lnTo>
                <a:lnTo>
                  <a:pt x="1052" y="7"/>
                </a:lnTo>
                <a:lnTo>
                  <a:pt x="1050" y="9"/>
                </a:lnTo>
                <a:lnTo>
                  <a:pt x="1048" y="13"/>
                </a:lnTo>
                <a:lnTo>
                  <a:pt x="1044" y="17"/>
                </a:lnTo>
                <a:lnTo>
                  <a:pt x="1038" y="21"/>
                </a:lnTo>
                <a:lnTo>
                  <a:pt x="1034" y="27"/>
                </a:lnTo>
                <a:lnTo>
                  <a:pt x="1027" y="30"/>
                </a:lnTo>
                <a:lnTo>
                  <a:pt x="1021" y="38"/>
                </a:lnTo>
                <a:lnTo>
                  <a:pt x="1013" y="44"/>
                </a:lnTo>
                <a:lnTo>
                  <a:pt x="1004" y="50"/>
                </a:lnTo>
                <a:lnTo>
                  <a:pt x="994" y="57"/>
                </a:lnTo>
                <a:lnTo>
                  <a:pt x="985" y="65"/>
                </a:lnTo>
                <a:lnTo>
                  <a:pt x="973" y="75"/>
                </a:lnTo>
                <a:lnTo>
                  <a:pt x="960" y="84"/>
                </a:lnTo>
                <a:lnTo>
                  <a:pt x="948" y="92"/>
                </a:lnTo>
                <a:lnTo>
                  <a:pt x="933" y="103"/>
                </a:lnTo>
                <a:lnTo>
                  <a:pt x="919" y="113"/>
                </a:lnTo>
                <a:lnTo>
                  <a:pt x="902" y="124"/>
                </a:lnTo>
                <a:lnTo>
                  <a:pt x="887" y="136"/>
                </a:lnTo>
                <a:lnTo>
                  <a:pt x="869" y="147"/>
                </a:lnTo>
                <a:lnTo>
                  <a:pt x="850" y="161"/>
                </a:lnTo>
                <a:lnTo>
                  <a:pt x="833" y="174"/>
                </a:lnTo>
                <a:lnTo>
                  <a:pt x="812" y="188"/>
                </a:lnTo>
                <a:lnTo>
                  <a:pt x="791" y="201"/>
                </a:lnTo>
                <a:lnTo>
                  <a:pt x="770" y="216"/>
                </a:lnTo>
                <a:lnTo>
                  <a:pt x="748" y="232"/>
                </a:lnTo>
                <a:lnTo>
                  <a:pt x="723" y="247"/>
                </a:lnTo>
                <a:lnTo>
                  <a:pt x="700" y="264"/>
                </a:lnTo>
                <a:lnTo>
                  <a:pt x="675" y="280"/>
                </a:lnTo>
                <a:lnTo>
                  <a:pt x="651" y="299"/>
                </a:lnTo>
                <a:lnTo>
                  <a:pt x="624" y="316"/>
                </a:lnTo>
                <a:lnTo>
                  <a:pt x="599" y="332"/>
                </a:lnTo>
                <a:lnTo>
                  <a:pt x="576" y="349"/>
                </a:lnTo>
                <a:lnTo>
                  <a:pt x="551" y="364"/>
                </a:lnTo>
                <a:lnTo>
                  <a:pt x="528" y="380"/>
                </a:lnTo>
                <a:lnTo>
                  <a:pt x="507" y="393"/>
                </a:lnTo>
                <a:lnTo>
                  <a:pt x="485" y="406"/>
                </a:lnTo>
                <a:lnTo>
                  <a:pt x="464" y="420"/>
                </a:lnTo>
                <a:lnTo>
                  <a:pt x="445" y="433"/>
                </a:lnTo>
                <a:lnTo>
                  <a:pt x="426" y="445"/>
                </a:lnTo>
                <a:lnTo>
                  <a:pt x="409" y="456"/>
                </a:lnTo>
                <a:lnTo>
                  <a:pt x="391" y="468"/>
                </a:lnTo>
                <a:lnTo>
                  <a:pt x="374" y="477"/>
                </a:lnTo>
                <a:lnTo>
                  <a:pt x="359" y="487"/>
                </a:lnTo>
                <a:lnTo>
                  <a:pt x="343" y="497"/>
                </a:lnTo>
                <a:lnTo>
                  <a:pt x="328" y="504"/>
                </a:lnTo>
                <a:lnTo>
                  <a:pt x="315" y="512"/>
                </a:lnTo>
                <a:lnTo>
                  <a:pt x="301" y="520"/>
                </a:lnTo>
                <a:lnTo>
                  <a:pt x="290" y="527"/>
                </a:lnTo>
                <a:lnTo>
                  <a:pt x="278" y="533"/>
                </a:lnTo>
                <a:lnTo>
                  <a:pt x="268" y="541"/>
                </a:lnTo>
                <a:lnTo>
                  <a:pt x="257" y="545"/>
                </a:lnTo>
                <a:lnTo>
                  <a:pt x="249" y="550"/>
                </a:lnTo>
                <a:lnTo>
                  <a:pt x="240" y="554"/>
                </a:lnTo>
                <a:lnTo>
                  <a:pt x="232" y="558"/>
                </a:lnTo>
                <a:lnTo>
                  <a:pt x="224" y="562"/>
                </a:lnTo>
                <a:lnTo>
                  <a:pt x="219" y="564"/>
                </a:lnTo>
                <a:lnTo>
                  <a:pt x="213" y="566"/>
                </a:lnTo>
                <a:lnTo>
                  <a:pt x="209" y="568"/>
                </a:lnTo>
                <a:lnTo>
                  <a:pt x="205" y="569"/>
                </a:lnTo>
                <a:lnTo>
                  <a:pt x="201" y="569"/>
                </a:lnTo>
                <a:lnTo>
                  <a:pt x="199" y="571"/>
                </a:lnTo>
                <a:lnTo>
                  <a:pt x="192" y="573"/>
                </a:lnTo>
                <a:lnTo>
                  <a:pt x="184" y="573"/>
                </a:lnTo>
                <a:lnTo>
                  <a:pt x="178" y="573"/>
                </a:lnTo>
                <a:lnTo>
                  <a:pt x="171" y="573"/>
                </a:lnTo>
                <a:lnTo>
                  <a:pt x="163" y="571"/>
                </a:lnTo>
                <a:lnTo>
                  <a:pt x="157" y="569"/>
                </a:lnTo>
                <a:lnTo>
                  <a:pt x="149" y="566"/>
                </a:lnTo>
                <a:lnTo>
                  <a:pt x="142" y="562"/>
                </a:lnTo>
                <a:lnTo>
                  <a:pt x="134" y="556"/>
                </a:lnTo>
                <a:lnTo>
                  <a:pt x="126" y="550"/>
                </a:lnTo>
                <a:lnTo>
                  <a:pt x="119" y="543"/>
                </a:lnTo>
                <a:lnTo>
                  <a:pt x="111" y="535"/>
                </a:lnTo>
                <a:lnTo>
                  <a:pt x="103" y="527"/>
                </a:lnTo>
                <a:lnTo>
                  <a:pt x="94" y="518"/>
                </a:lnTo>
                <a:lnTo>
                  <a:pt x="86" y="506"/>
                </a:lnTo>
                <a:lnTo>
                  <a:pt x="77" y="497"/>
                </a:lnTo>
                <a:lnTo>
                  <a:pt x="65" y="487"/>
                </a:lnTo>
                <a:lnTo>
                  <a:pt x="55" y="477"/>
                </a:lnTo>
                <a:lnTo>
                  <a:pt x="46" y="470"/>
                </a:lnTo>
                <a:lnTo>
                  <a:pt x="38" y="460"/>
                </a:lnTo>
                <a:lnTo>
                  <a:pt x="30" y="452"/>
                </a:lnTo>
                <a:lnTo>
                  <a:pt x="23" y="445"/>
                </a:lnTo>
                <a:lnTo>
                  <a:pt x="17" y="437"/>
                </a:lnTo>
                <a:lnTo>
                  <a:pt x="13" y="429"/>
                </a:lnTo>
                <a:lnTo>
                  <a:pt x="9" y="422"/>
                </a:lnTo>
                <a:lnTo>
                  <a:pt x="5" y="414"/>
                </a:lnTo>
                <a:lnTo>
                  <a:pt x="2" y="406"/>
                </a:lnTo>
                <a:lnTo>
                  <a:pt x="2" y="401"/>
                </a:lnTo>
                <a:lnTo>
                  <a:pt x="0" y="393"/>
                </a:lnTo>
                <a:lnTo>
                  <a:pt x="0" y="385"/>
                </a:lnTo>
                <a:lnTo>
                  <a:pt x="2" y="380"/>
                </a:lnTo>
                <a:lnTo>
                  <a:pt x="4" y="372"/>
                </a:lnTo>
                <a:lnTo>
                  <a:pt x="5" y="366"/>
                </a:lnTo>
                <a:lnTo>
                  <a:pt x="7" y="360"/>
                </a:lnTo>
                <a:lnTo>
                  <a:pt x="9" y="355"/>
                </a:lnTo>
                <a:lnTo>
                  <a:pt x="13" y="351"/>
                </a:lnTo>
                <a:lnTo>
                  <a:pt x="15" y="347"/>
                </a:lnTo>
                <a:lnTo>
                  <a:pt x="17" y="345"/>
                </a:lnTo>
                <a:lnTo>
                  <a:pt x="21" y="343"/>
                </a:lnTo>
                <a:lnTo>
                  <a:pt x="25" y="341"/>
                </a:lnTo>
                <a:lnTo>
                  <a:pt x="29" y="339"/>
                </a:lnTo>
                <a:lnTo>
                  <a:pt x="32" y="339"/>
                </a:lnTo>
                <a:lnTo>
                  <a:pt x="36" y="339"/>
                </a:lnTo>
                <a:lnTo>
                  <a:pt x="40" y="341"/>
                </a:lnTo>
                <a:lnTo>
                  <a:pt x="46" y="341"/>
                </a:lnTo>
                <a:lnTo>
                  <a:pt x="52" y="343"/>
                </a:lnTo>
                <a:lnTo>
                  <a:pt x="57" y="345"/>
                </a:lnTo>
                <a:lnTo>
                  <a:pt x="65" y="347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39"/>
          <p:cNvSpPr/>
          <p:nvPr/>
        </p:nvSpPr>
        <p:spPr>
          <a:xfrm>
            <a:off x="5716440" y="3147840"/>
            <a:ext cx="720720" cy="979560"/>
          </a:xfrm>
          <a:custGeom>
            <a:avLst/>
            <a:gdLst/>
            <a:ahLst/>
            <a:rect l="l" t="t" r="r" b="b"/>
            <a:pathLst>
              <a:path w="908" h="1235">
                <a:moveTo>
                  <a:pt x="700" y="90"/>
                </a:moveTo>
                <a:lnTo>
                  <a:pt x="698" y="83"/>
                </a:lnTo>
                <a:lnTo>
                  <a:pt x="697" y="77"/>
                </a:lnTo>
                <a:lnTo>
                  <a:pt x="697" y="69"/>
                </a:lnTo>
                <a:lnTo>
                  <a:pt x="695" y="63"/>
                </a:lnTo>
                <a:lnTo>
                  <a:pt x="697" y="56"/>
                </a:lnTo>
                <a:lnTo>
                  <a:pt x="697" y="50"/>
                </a:lnTo>
                <a:lnTo>
                  <a:pt x="698" y="38"/>
                </a:lnTo>
                <a:lnTo>
                  <a:pt x="702" y="27"/>
                </a:lnTo>
                <a:lnTo>
                  <a:pt x="708" y="17"/>
                </a:lnTo>
                <a:lnTo>
                  <a:pt x="712" y="13"/>
                </a:lnTo>
                <a:lnTo>
                  <a:pt x="716" y="10"/>
                </a:lnTo>
                <a:lnTo>
                  <a:pt x="720" y="6"/>
                </a:lnTo>
                <a:lnTo>
                  <a:pt x="725" y="4"/>
                </a:lnTo>
                <a:lnTo>
                  <a:pt x="727" y="2"/>
                </a:lnTo>
                <a:lnTo>
                  <a:pt x="731" y="0"/>
                </a:lnTo>
                <a:lnTo>
                  <a:pt x="733" y="0"/>
                </a:lnTo>
                <a:lnTo>
                  <a:pt x="739" y="2"/>
                </a:lnTo>
                <a:lnTo>
                  <a:pt x="743" y="2"/>
                </a:lnTo>
                <a:lnTo>
                  <a:pt x="748" y="4"/>
                </a:lnTo>
                <a:lnTo>
                  <a:pt x="754" y="8"/>
                </a:lnTo>
                <a:lnTo>
                  <a:pt x="760" y="12"/>
                </a:lnTo>
                <a:lnTo>
                  <a:pt x="766" y="15"/>
                </a:lnTo>
                <a:lnTo>
                  <a:pt x="773" y="21"/>
                </a:lnTo>
                <a:lnTo>
                  <a:pt x="781" y="27"/>
                </a:lnTo>
                <a:lnTo>
                  <a:pt x="789" y="33"/>
                </a:lnTo>
                <a:lnTo>
                  <a:pt x="796" y="40"/>
                </a:lnTo>
                <a:lnTo>
                  <a:pt x="804" y="48"/>
                </a:lnTo>
                <a:lnTo>
                  <a:pt x="814" y="58"/>
                </a:lnTo>
                <a:lnTo>
                  <a:pt x="823" y="67"/>
                </a:lnTo>
                <a:lnTo>
                  <a:pt x="831" y="77"/>
                </a:lnTo>
                <a:lnTo>
                  <a:pt x="839" y="88"/>
                </a:lnTo>
                <a:lnTo>
                  <a:pt x="846" y="98"/>
                </a:lnTo>
                <a:lnTo>
                  <a:pt x="854" y="107"/>
                </a:lnTo>
                <a:lnTo>
                  <a:pt x="862" y="117"/>
                </a:lnTo>
                <a:lnTo>
                  <a:pt x="867" y="125"/>
                </a:lnTo>
                <a:lnTo>
                  <a:pt x="873" y="134"/>
                </a:lnTo>
                <a:lnTo>
                  <a:pt x="879" y="140"/>
                </a:lnTo>
                <a:lnTo>
                  <a:pt x="883" y="148"/>
                </a:lnTo>
                <a:lnTo>
                  <a:pt x="889" y="154"/>
                </a:lnTo>
                <a:lnTo>
                  <a:pt x="892" y="159"/>
                </a:lnTo>
                <a:lnTo>
                  <a:pt x="896" y="163"/>
                </a:lnTo>
                <a:lnTo>
                  <a:pt x="900" y="169"/>
                </a:lnTo>
                <a:lnTo>
                  <a:pt x="902" y="171"/>
                </a:lnTo>
                <a:lnTo>
                  <a:pt x="906" y="175"/>
                </a:lnTo>
                <a:lnTo>
                  <a:pt x="908" y="178"/>
                </a:lnTo>
                <a:lnTo>
                  <a:pt x="908" y="180"/>
                </a:lnTo>
                <a:lnTo>
                  <a:pt x="906" y="184"/>
                </a:lnTo>
                <a:lnTo>
                  <a:pt x="906" y="188"/>
                </a:lnTo>
                <a:lnTo>
                  <a:pt x="902" y="194"/>
                </a:lnTo>
                <a:lnTo>
                  <a:pt x="900" y="200"/>
                </a:lnTo>
                <a:lnTo>
                  <a:pt x="896" y="207"/>
                </a:lnTo>
                <a:lnTo>
                  <a:pt x="892" y="215"/>
                </a:lnTo>
                <a:lnTo>
                  <a:pt x="889" y="223"/>
                </a:lnTo>
                <a:lnTo>
                  <a:pt x="883" y="232"/>
                </a:lnTo>
                <a:lnTo>
                  <a:pt x="875" y="242"/>
                </a:lnTo>
                <a:lnTo>
                  <a:pt x="869" y="251"/>
                </a:lnTo>
                <a:lnTo>
                  <a:pt x="862" y="263"/>
                </a:lnTo>
                <a:lnTo>
                  <a:pt x="852" y="274"/>
                </a:lnTo>
                <a:lnTo>
                  <a:pt x="842" y="288"/>
                </a:lnTo>
                <a:lnTo>
                  <a:pt x="833" y="299"/>
                </a:lnTo>
                <a:lnTo>
                  <a:pt x="823" y="315"/>
                </a:lnTo>
                <a:lnTo>
                  <a:pt x="810" y="330"/>
                </a:lnTo>
                <a:lnTo>
                  <a:pt x="796" y="347"/>
                </a:lnTo>
                <a:lnTo>
                  <a:pt x="783" y="366"/>
                </a:lnTo>
                <a:lnTo>
                  <a:pt x="768" y="386"/>
                </a:lnTo>
                <a:lnTo>
                  <a:pt x="750" y="407"/>
                </a:lnTo>
                <a:lnTo>
                  <a:pt x="733" y="428"/>
                </a:lnTo>
                <a:lnTo>
                  <a:pt x="714" y="449"/>
                </a:lnTo>
                <a:lnTo>
                  <a:pt x="695" y="472"/>
                </a:lnTo>
                <a:lnTo>
                  <a:pt x="672" y="497"/>
                </a:lnTo>
                <a:lnTo>
                  <a:pt x="650" y="522"/>
                </a:lnTo>
                <a:lnTo>
                  <a:pt x="627" y="549"/>
                </a:lnTo>
                <a:lnTo>
                  <a:pt x="602" y="576"/>
                </a:lnTo>
                <a:lnTo>
                  <a:pt x="576" y="604"/>
                </a:lnTo>
                <a:lnTo>
                  <a:pt x="549" y="635"/>
                </a:lnTo>
                <a:lnTo>
                  <a:pt x="522" y="666"/>
                </a:lnTo>
                <a:lnTo>
                  <a:pt x="493" y="698"/>
                </a:lnTo>
                <a:lnTo>
                  <a:pt x="478" y="714"/>
                </a:lnTo>
                <a:lnTo>
                  <a:pt x="464" y="729"/>
                </a:lnTo>
                <a:lnTo>
                  <a:pt x="451" y="744"/>
                </a:lnTo>
                <a:lnTo>
                  <a:pt x="437" y="760"/>
                </a:lnTo>
                <a:lnTo>
                  <a:pt x="424" y="773"/>
                </a:lnTo>
                <a:lnTo>
                  <a:pt x="412" y="787"/>
                </a:lnTo>
                <a:lnTo>
                  <a:pt x="401" y="800"/>
                </a:lnTo>
                <a:lnTo>
                  <a:pt x="389" y="812"/>
                </a:lnTo>
                <a:lnTo>
                  <a:pt x="378" y="825"/>
                </a:lnTo>
                <a:lnTo>
                  <a:pt x="366" y="836"/>
                </a:lnTo>
                <a:lnTo>
                  <a:pt x="357" y="848"/>
                </a:lnTo>
                <a:lnTo>
                  <a:pt x="347" y="858"/>
                </a:lnTo>
                <a:lnTo>
                  <a:pt x="338" y="867"/>
                </a:lnTo>
                <a:lnTo>
                  <a:pt x="330" y="877"/>
                </a:lnTo>
                <a:lnTo>
                  <a:pt x="322" y="886"/>
                </a:lnTo>
                <a:lnTo>
                  <a:pt x="315" y="896"/>
                </a:lnTo>
                <a:lnTo>
                  <a:pt x="307" y="904"/>
                </a:lnTo>
                <a:lnTo>
                  <a:pt x="299" y="911"/>
                </a:lnTo>
                <a:lnTo>
                  <a:pt x="293" y="919"/>
                </a:lnTo>
                <a:lnTo>
                  <a:pt x="288" y="925"/>
                </a:lnTo>
                <a:lnTo>
                  <a:pt x="282" y="930"/>
                </a:lnTo>
                <a:lnTo>
                  <a:pt x="278" y="938"/>
                </a:lnTo>
                <a:lnTo>
                  <a:pt x="274" y="942"/>
                </a:lnTo>
                <a:lnTo>
                  <a:pt x="270" y="948"/>
                </a:lnTo>
                <a:lnTo>
                  <a:pt x="267" y="952"/>
                </a:lnTo>
                <a:lnTo>
                  <a:pt x="265" y="955"/>
                </a:lnTo>
                <a:lnTo>
                  <a:pt x="263" y="959"/>
                </a:lnTo>
                <a:lnTo>
                  <a:pt x="261" y="963"/>
                </a:lnTo>
                <a:lnTo>
                  <a:pt x="261" y="965"/>
                </a:lnTo>
                <a:lnTo>
                  <a:pt x="259" y="967"/>
                </a:lnTo>
                <a:lnTo>
                  <a:pt x="261" y="969"/>
                </a:lnTo>
                <a:lnTo>
                  <a:pt x="261" y="971"/>
                </a:lnTo>
                <a:lnTo>
                  <a:pt x="265" y="973"/>
                </a:lnTo>
                <a:lnTo>
                  <a:pt x="268" y="975"/>
                </a:lnTo>
                <a:lnTo>
                  <a:pt x="276" y="976"/>
                </a:lnTo>
                <a:lnTo>
                  <a:pt x="284" y="976"/>
                </a:lnTo>
                <a:lnTo>
                  <a:pt x="293" y="978"/>
                </a:lnTo>
                <a:lnTo>
                  <a:pt x="305" y="978"/>
                </a:lnTo>
                <a:lnTo>
                  <a:pt x="318" y="978"/>
                </a:lnTo>
                <a:lnTo>
                  <a:pt x="334" y="976"/>
                </a:lnTo>
                <a:lnTo>
                  <a:pt x="351" y="976"/>
                </a:lnTo>
                <a:lnTo>
                  <a:pt x="370" y="973"/>
                </a:lnTo>
                <a:lnTo>
                  <a:pt x="389" y="971"/>
                </a:lnTo>
                <a:lnTo>
                  <a:pt x="412" y="967"/>
                </a:lnTo>
                <a:lnTo>
                  <a:pt x="435" y="963"/>
                </a:lnTo>
                <a:lnTo>
                  <a:pt x="460" y="957"/>
                </a:lnTo>
                <a:lnTo>
                  <a:pt x="487" y="952"/>
                </a:lnTo>
                <a:lnTo>
                  <a:pt x="518" y="946"/>
                </a:lnTo>
                <a:lnTo>
                  <a:pt x="547" y="938"/>
                </a:lnTo>
                <a:lnTo>
                  <a:pt x="574" y="932"/>
                </a:lnTo>
                <a:lnTo>
                  <a:pt x="601" y="927"/>
                </a:lnTo>
                <a:lnTo>
                  <a:pt x="624" y="923"/>
                </a:lnTo>
                <a:lnTo>
                  <a:pt x="649" y="917"/>
                </a:lnTo>
                <a:lnTo>
                  <a:pt x="670" y="913"/>
                </a:lnTo>
                <a:lnTo>
                  <a:pt x="691" y="909"/>
                </a:lnTo>
                <a:lnTo>
                  <a:pt x="710" y="907"/>
                </a:lnTo>
                <a:lnTo>
                  <a:pt x="727" y="904"/>
                </a:lnTo>
                <a:lnTo>
                  <a:pt x="743" y="902"/>
                </a:lnTo>
                <a:lnTo>
                  <a:pt x="758" y="900"/>
                </a:lnTo>
                <a:lnTo>
                  <a:pt x="771" y="898"/>
                </a:lnTo>
                <a:lnTo>
                  <a:pt x="783" y="898"/>
                </a:lnTo>
                <a:lnTo>
                  <a:pt x="793" y="896"/>
                </a:lnTo>
                <a:lnTo>
                  <a:pt x="802" y="896"/>
                </a:lnTo>
                <a:lnTo>
                  <a:pt x="810" y="896"/>
                </a:lnTo>
                <a:lnTo>
                  <a:pt x="816" y="896"/>
                </a:lnTo>
                <a:lnTo>
                  <a:pt x="823" y="896"/>
                </a:lnTo>
                <a:lnTo>
                  <a:pt x="827" y="898"/>
                </a:lnTo>
                <a:lnTo>
                  <a:pt x="833" y="898"/>
                </a:lnTo>
                <a:lnTo>
                  <a:pt x="837" y="900"/>
                </a:lnTo>
                <a:lnTo>
                  <a:pt x="841" y="900"/>
                </a:lnTo>
                <a:lnTo>
                  <a:pt x="848" y="904"/>
                </a:lnTo>
                <a:lnTo>
                  <a:pt x="852" y="907"/>
                </a:lnTo>
                <a:lnTo>
                  <a:pt x="856" y="911"/>
                </a:lnTo>
                <a:lnTo>
                  <a:pt x="858" y="917"/>
                </a:lnTo>
                <a:lnTo>
                  <a:pt x="860" y="921"/>
                </a:lnTo>
                <a:lnTo>
                  <a:pt x="858" y="923"/>
                </a:lnTo>
                <a:lnTo>
                  <a:pt x="858" y="927"/>
                </a:lnTo>
                <a:lnTo>
                  <a:pt x="856" y="929"/>
                </a:lnTo>
                <a:lnTo>
                  <a:pt x="854" y="930"/>
                </a:lnTo>
                <a:lnTo>
                  <a:pt x="852" y="934"/>
                </a:lnTo>
                <a:lnTo>
                  <a:pt x="848" y="936"/>
                </a:lnTo>
                <a:lnTo>
                  <a:pt x="844" y="938"/>
                </a:lnTo>
                <a:lnTo>
                  <a:pt x="841" y="942"/>
                </a:lnTo>
                <a:lnTo>
                  <a:pt x="835" y="944"/>
                </a:lnTo>
                <a:lnTo>
                  <a:pt x="829" y="948"/>
                </a:lnTo>
                <a:lnTo>
                  <a:pt x="823" y="952"/>
                </a:lnTo>
                <a:lnTo>
                  <a:pt x="817" y="953"/>
                </a:lnTo>
                <a:lnTo>
                  <a:pt x="810" y="957"/>
                </a:lnTo>
                <a:lnTo>
                  <a:pt x="802" y="961"/>
                </a:lnTo>
                <a:lnTo>
                  <a:pt x="793" y="965"/>
                </a:lnTo>
                <a:lnTo>
                  <a:pt x="785" y="969"/>
                </a:lnTo>
                <a:lnTo>
                  <a:pt x="773" y="973"/>
                </a:lnTo>
                <a:lnTo>
                  <a:pt x="764" y="976"/>
                </a:lnTo>
                <a:lnTo>
                  <a:pt x="752" y="980"/>
                </a:lnTo>
                <a:lnTo>
                  <a:pt x="741" y="984"/>
                </a:lnTo>
                <a:lnTo>
                  <a:pt x="729" y="988"/>
                </a:lnTo>
                <a:lnTo>
                  <a:pt x="716" y="994"/>
                </a:lnTo>
                <a:lnTo>
                  <a:pt x="702" y="998"/>
                </a:lnTo>
                <a:lnTo>
                  <a:pt x="689" y="1001"/>
                </a:lnTo>
                <a:lnTo>
                  <a:pt x="674" y="1007"/>
                </a:lnTo>
                <a:lnTo>
                  <a:pt x="658" y="1011"/>
                </a:lnTo>
                <a:lnTo>
                  <a:pt x="643" y="1017"/>
                </a:lnTo>
                <a:lnTo>
                  <a:pt x="626" y="1023"/>
                </a:lnTo>
                <a:lnTo>
                  <a:pt x="608" y="1028"/>
                </a:lnTo>
                <a:lnTo>
                  <a:pt x="591" y="1034"/>
                </a:lnTo>
                <a:lnTo>
                  <a:pt x="572" y="1038"/>
                </a:lnTo>
                <a:lnTo>
                  <a:pt x="554" y="1046"/>
                </a:lnTo>
                <a:lnTo>
                  <a:pt x="535" y="1051"/>
                </a:lnTo>
                <a:lnTo>
                  <a:pt x="516" y="1057"/>
                </a:lnTo>
                <a:lnTo>
                  <a:pt x="499" y="1063"/>
                </a:lnTo>
                <a:lnTo>
                  <a:pt x="482" y="1069"/>
                </a:lnTo>
                <a:lnTo>
                  <a:pt x="464" y="1072"/>
                </a:lnTo>
                <a:lnTo>
                  <a:pt x="447" y="1078"/>
                </a:lnTo>
                <a:lnTo>
                  <a:pt x="432" y="1084"/>
                </a:lnTo>
                <a:lnTo>
                  <a:pt x="416" y="1090"/>
                </a:lnTo>
                <a:lnTo>
                  <a:pt x="401" y="1095"/>
                </a:lnTo>
                <a:lnTo>
                  <a:pt x="387" y="1099"/>
                </a:lnTo>
                <a:lnTo>
                  <a:pt x="374" y="1105"/>
                </a:lnTo>
                <a:lnTo>
                  <a:pt x="361" y="1109"/>
                </a:lnTo>
                <a:lnTo>
                  <a:pt x="347" y="1115"/>
                </a:lnTo>
                <a:lnTo>
                  <a:pt x="336" y="1118"/>
                </a:lnTo>
                <a:lnTo>
                  <a:pt x="324" y="1124"/>
                </a:lnTo>
                <a:lnTo>
                  <a:pt x="313" y="1128"/>
                </a:lnTo>
                <a:lnTo>
                  <a:pt x="303" y="1134"/>
                </a:lnTo>
                <a:lnTo>
                  <a:pt x="293" y="1138"/>
                </a:lnTo>
                <a:lnTo>
                  <a:pt x="284" y="1141"/>
                </a:lnTo>
                <a:lnTo>
                  <a:pt x="274" y="1147"/>
                </a:lnTo>
                <a:lnTo>
                  <a:pt x="265" y="1151"/>
                </a:lnTo>
                <a:lnTo>
                  <a:pt x="257" y="1155"/>
                </a:lnTo>
                <a:lnTo>
                  <a:pt x="242" y="1163"/>
                </a:lnTo>
                <a:lnTo>
                  <a:pt x="228" y="1170"/>
                </a:lnTo>
                <a:lnTo>
                  <a:pt x="217" y="1178"/>
                </a:lnTo>
                <a:lnTo>
                  <a:pt x="209" y="1186"/>
                </a:lnTo>
                <a:lnTo>
                  <a:pt x="201" y="1193"/>
                </a:lnTo>
                <a:lnTo>
                  <a:pt x="194" y="1201"/>
                </a:lnTo>
                <a:lnTo>
                  <a:pt x="186" y="1207"/>
                </a:lnTo>
                <a:lnTo>
                  <a:pt x="180" y="1212"/>
                </a:lnTo>
                <a:lnTo>
                  <a:pt x="172" y="1216"/>
                </a:lnTo>
                <a:lnTo>
                  <a:pt x="167" y="1220"/>
                </a:lnTo>
                <a:lnTo>
                  <a:pt x="161" y="1224"/>
                </a:lnTo>
                <a:lnTo>
                  <a:pt x="153" y="1228"/>
                </a:lnTo>
                <a:lnTo>
                  <a:pt x="147" y="1232"/>
                </a:lnTo>
                <a:lnTo>
                  <a:pt x="142" y="1234"/>
                </a:lnTo>
                <a:lnTo>
                  <a:pt x="138" y="1234"/>
                </a:lnTo>
                <a:lnTo>
                  <a:pt x="132" y="1235"/>
                </a:lnTo>
                <a:lnTo>
                  <a:pt x="128" y="1235"/>
                </a:lnTo>
                <a:lnTo>
                  <a:pt x="124" y="1235"/>
                </a:lnTo>
                <a:lnTo>
                  <a:pt x="121" y="1234"/>
                </a:lnTo>
                <a:lnTo>
                  <a:pt x="117" y="1234"/>
                </a:lnTo>
                <a:lnTo>
                  <a:pt x="115" y="1232"/>
                </a:lnTo>
                <a:lnTo>
                  <a:pt x="111" y="1230"/>
                </a:lnTo>
                <a:lnTo>
                  <a:pt x="105" y="1230"/>
                </a:lnTo>
                <a:lnTo>
                  <a:pt x="101" y="1228"/>
                </a:lnTo>
                <a:lnTo>
                  <a:pt x="96" y="1226"/>
                </a:lnTo>
                <a:lnTo>
                  <a:pt x="92" y="1224"/>
                </a:lnTo>
                <a:lnTo>
                  <a:pt x="86" y="1220"/>
                </a:lnTo>
                <a:lnTo>
                  <a:pt x="82" y="1216"/>
                </a:lnTo>
                <a:lnTo>
                  <a:pt x="78" y="1211"/>
                </a:lnTo>
                <a:lnTo>
                  <a:pt x="73" y="1205"/>
                </a:lnTo>
                <a:lnTo>
                  <a:pt x="69" y="1199"/>
                </a:lnTo>
                <a:lnTo>
                  <a:pt x="65" y="1191"/>
                </a:lnTo>
                <a:lnTo>
                  <a:pt x="59" y="1184"/>
                </a:lnTo>
                <a:lnTo>
                  <a:pt x="55" y="1174"/>
                </a:lnTo>
                <a:lnTo>
                  <a:pt x="51" y="1164"/>
                </a:lnTo>
                <a:lnTo>
                  <a:pt x="46" y="1155"/>
                </a:lnTo>
                <a:lnTo>
                  <a:pt x="42" y="1143"/>
                </a:lnTo>
                <a:lnTo>
                  <a:pt x="36" y="1134"/>
                </a:lnTo>
                <a:lnTo>
                  <a:pt x="28" y="1126"/>
                </a:lnTo>
                <a:lnTo>
                  <a:pt x="25" y="1117"/>
                </a:lnTo>
                <a:lnTo>
                  <a:pt x="19" y="1109"/>
                </a:lnTo>
                <a:lnTo>
                  <a:pt x="15" y="1101"/>
                </a:lnTo>
                <a:lnTo>
                  <a:pt x="11" y="1094"/>
                </a:lnTo>
                <a:lnTo>
                  <a:pt x="7" y="1086"/>
                </a:lnTo>
                <a:lnTo>
                  <a:pt x="5" y="1080"/>
                </a:lnTo>
                <a:lnTo>
                  <a:pt x="3" y="1074"/>
                </a:lnTo>
                <a:lnTo>
                  <a:pt x="2" y="1069"/>
                </a:lnTo>
                <a:lnTo>
                  <a:pt x="2" y="1063"/>
                </a:lnTo>
                <a:lnTo>
                  <a:pt x="0" y="1059"/>
                </a:lnTo>
                <a:lnTo>
                  <a:pt x="0" y="1053"/>
                </a:lnTo>
                <a:lnTo>
                  <a:pt x="2" y="1051"/>
                </a:lnTo>
                <a:lnTo>
                  <a:pt x="3" y="1047"/>
                </a:lnTo>
                <a:lnTo>
                  <a:pt x="5" y="1046"/>
                </a:lnTo>
                <a:lnTo>
                  <a:pt x="5" y="1040"/>
                </a:lnTo>
                <a:lnTo>
                  <a:pt x="7" y="1036"/>
                </a:lnTo>
                <a:lnTo>
                  <a:pt x="11" y="1030"/>
                </a:lnTo>
                <a:lnTo>
                  <a:pt x="15" y="1024"/>
                </a:lnTo>
                <a:lnTo>
                  <a:pt x="23" y="1019"/>
                </a:lnTo>
                <a:lnTo>
                  <a:pt x="27" y="1015"/>
                </a:lnTo>
                <a:lnTo>
                  <a:pt x="30" y="1011"/>
                </a:lnTo>
                <a:lnTo>
                  <a:pt x="36" y="1007"/>
                </a:lnTo>
                <a:lnTo>
                  <a:pt x="40" y="1003"/>
                </a:lnTo>
                <a:lnTo>
                  <a:pt x="48" y="1000"/>
                </a:lnTo>
                <a:lnTo>
                  <a:pt x="53" y="996"/>
                </a:lnTo>
                <a:lnTo>
                  <a:pt x="61" y="992"/>
                </a:lnTo>
                <a:lnTo>
                  <a:pt x="69" y="988"/>
                </a:lnTo>
                <a:lnTo>
                  <a:pt x="76" y="982"/>
                </a:lnTo>
                <a:lnTo>
                  <a:pt x="86" y="975"/>
                </a:lnTo>
                <a:lnTo>
                  <a:pt x="96" y="967"/>
                </a:lnTo>
                <a:lnTo>
                  <a:pt x="107" y="955"/>
                </a:lnTo>
                <a:lnTo>
                  <a:pt x="119" y="946"/>
                </a:lnTo>
                <a:lnTo>
                  <a:pt x="130" y="934"/>
                </a:lnTo>
                <a:lnTo>
                  <a:pt x="144" y="921"/>
                </a:lnTo>
                <a:lnTo>
                  <a:pt x="157" y="906"/>
                </a:lnTo>
                <a:lnTo>
                  <a:pt x="172" y="890"/>
                </a:lnTo>
                <a:lnTo>
                  <a:pt x="188" y="873"/>
                </a:lnTo>
                <a:lnTo>
                  <a:pt x="205" y="856"/>
                </a:lnTo>
                <a:lnTo>
                  <a:pt x="222" y="836"/>
                </a:lnTo>
                <a:lnTo>
                  <a:pt x="242" y="817"/>
                </a:lnTo>
                <a:lnTo>
                  <a:pt x="261" y="798"/>
                </a:lnTo>
                <a:lnTo>
                  <a:pt x="280" y="775"/>
                </a:lnTo>
                <a:lnTo>
                  <a:pt x="297" y="754"/>
                </a:lnTo>
                <a:lnTo>
                  <a:pt x="316" y="731"/>
                </a:lnTo>
                <a:lnTo>
                  <a:pt x="334" y="706"/>
                </a:lnTo>
                <a:lnTo>
                  <a:pt x="353" y="683"/>
                </a:lnTo>
                <a:lnTo>
                  <a:pt x="372" y="658"/>
                </a:lnTo>
                <a:lnTo>
                  <a:pt x="389" y="631"/>
                </a:lnTo>
                <a:lnTo>
                  <a:pt x="409" y="606"/>
                </a:lnTo>
                <a:lnTo>
                  <a:pt x="428" y="577"/>
                </a:lnTo>
                <a:lnTo>
                  <a:pt x="447" y="551"/>
                </a:lnTo>
                <a:lnTo>
                  <a:pt x="466" y="524"/>
                </a:lnTo>
                <a:lnTo>
                  <a:pt x="485" y="495"/>
                </a:lnTo>
                <a:lnTo>
                  <a:pt x="526" y="436"/>
                </a:lnTo>
                <a:lnTo>
                  <a:pt x="566" y="376"/>
                </a:lnTo>
                <a:lnTo>
                  <a:pt x="585" y="347"/>
                </a:lnTo>
                <a:lnTo>
                  <a:pt x="602" y="318"/>
                </a:lnTo>
                <a:lnTo>
                  <a:pt x="620" y="292"/>
                </a:lnTo>
                <a:lnTo>
                  <a:pt x="635" y="269"/>
                </a:lnTo>
                <a:lnTo>
                  <a:pt x="649" y="246"/>
                </a:lnTo>
                <a:lnTo>
                  <a:pt x="660" y="224"/>
                </a:lnTo>
                <a:lnTo>
                  <a:pt x="670" y="203"/>
                </a:lnTo>
                <a:lnTo>
                  <a:pt x="677" y="186"/>
                </a:lnTo>
                <a:lnTo>
                  <a:pt x="685" y="169"/>
                </a:lnTo>
                <a:lnTo>
                  <a:pt x="691" y="154"/>
                </a:lnTo>
                <a:lnTo>
                  <a:pt x="697" y="140"/>
                </a:lnTo>
                <a:lnTo>
                  <a:pt x="700" y="129"/>
                </a:lnTo>
                <a:lnTo>
                  <a:pt x="702" y="117"/>
                </a:lnTo>
                <a:lnTo>
                  <a:pt x="702" y="107"/>
                </a:lnTo>
                <a:lnTo>
                  <a:pt x="702" y="98"/>
                </a:lnTo>
                <a:lnTo>
                  <a:pt x="700" y="9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廉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9" name="组合 8"/>
          <p:cNvGrpSpPr/>
          <p:nvPr/>
        </p:nvGrpSpPr>
        <p:grpSpPr>
          <a:xfrm>
            <a:off x="1211400" y="3975120"/>
            <a:ext cx="2840040" cy="1571760"/>
            <a:chOff x="1211400" y="3975120"/>
            <a:chExt cx="2840040" cy="1571760"/>
          </a:xfrm>
        </p:grpSpPr>
        <p:pic>
          <p:nvPicPr>
            <p:cNvPr id="150" name="图示 4" descr=""/>
            <p:cNvPicPr/>
            <p:nvPr/>
          </p:nvPicPr>
          <p:blipFill>
            <a:blip r:embed="rId1"/>
            <a:stretch/>
          </p:blipFill>
          <p:spPr>
            <a:xfrm>
              <a:off x="121140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矩形 2"/>
            <p:cNvSpPr/>
            <p:nvPr/>
          </p:nvSpPr>
          <p:spPr>
            <a:xfrm>
              <a:off x="125604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广”上点居中；第八画的中横出头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矩形 3"/>
          <p:cNvSpPr/>
          <p:nvPr/>
        </p:nvSpPr>
        <p:spPr>
          <a:xfrm>
            <a:off x="2092320" y="1868400"/>
            <a:ext cx="126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iá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29"/>
          <p:cNvSpPr/>
          <p:nvPr/>
        </p:nvSpPr>
        <p:spPr>
          <a:xfrm>
            <a:off x="5465880" y="3048120"/>
            <a:ext cx="680760" cy="1844640"/>
          </a:xfrm>
          <a:custGeom>
            <a:avLst/>
            <a:gdLst/>
            <a:ahLst/>
            <a:rect l="l" t="t" r="r" b="b"/>
            <a:pathLst>
              <a:path w="856" h="2323">
                <a:moveTo>
                  <a:pt x="2" y="2321"/>
                </a:moveTo>
                <a:lnTo>
                  <a:pt x="0" y="2317"/>
                </a:lnTo>
                <a:lnTo>
                  <a:pt x="0" y="2313"/>
                </a:lnTo>
                <a:lnTo>
                  <a:pt x="0" y="2308"/>
                </a:lnTo>
                <a:lnTo>
                  <a:pt x="2" y="2300"/>
                </a:lnTo>
                <a:lnTo>
                  <a:pt x="6" y="2292"/>
                </a:lnTo>
                <a:lnTo>
                  <a:pt x="9" y="2281"/>
                </a:lnTo>
                <a:lnTo>
                  <a:pt x="17" y="2269"/>
                </a:lnTo>
                <a:lnTo>
                  <a:pt x="23" y="2256"/>
                </a:lnTo>
                <a:lnTo>
                  <a:pt x="32" y="2241"/>
                </a:lnTo>
                <a:lnTo>
                  <a:pt x="42" y="2225"/>
                </a:lnTo>
                <a:lnTo>
                  <a:pt x="54" y="2208"/>
                </a:lnTo>
                <a:lnTo>
                  <a:pt x="67" y="2189"/>
                </a:lnTo>
                <a:lnTo>
                  <a:pt x="82" y="2168"/>
                </a:lnTo>
                <a:lnTo>
                  <a:pt x="100" y="2147"/>
                </a:lnTo>
                <a:lnTo>
                  <a:pt x="117" y="2124"/>
                </a:lnTo>
                <a:lnTo>
                  <a:pt x="136" y="2099"/>
                </a:lnTo>
                <a:lnTo>
                  <a:pt x="153" y="2074"/>
                </a:lnTo>
                <a:lnTo>
                  <a:pt x="173" y="2049"/>
                </a:lnTo>
                <a:lnTo>
                  <a:pt x="190" y="2024"/>
                </a:lnTo>
                <a:lnTo>
                  <a:pt x="207" y="1997"/>
                </a:lnTo>
                <a:lnTo>
                  <a:pt x="224" y="1970"/>
                </a:lnTo>
                <a:lnTo>
                  <a:pt x="242" y="1943"/>
                </a:lnTo>
                <a:lnTo>
                  <a:pt x="257" y="1914"/>
                </a:lnTo>
                <a:lnTo>
                  <a:pt x="274" y="1884"/>
                </a:lnTo>
                <a:lnTo>
                  <a:pt x="292" y="1853"/>
                </a:lnTo>
                <a:lnTo>
                  <a:pt x="307" y="1822"/>
                </a:lnTo>
                <a:lnTo>
                  <a:pt x="324" y="1790"/>
                </a:lnTo>
                <a:lnTo>
                  <a:pt x="340" y="1757"/>
                </a:lnTo>
                <a:lnTo>
                  <a:pt x="357" y="1723"/>
                </a:lnTo>
                <a:lnTo>
                  <a:pt x="372" y="1688"/>
                </a:lnTo>
                <a:lnTo>
                  <a:pt x="388" y="1652"/>
                </a:lnTo>
                <a:lnTo>
                  <a:pt x="405" y="1615"/>
                </a:lnTo>
                <a:lnTo>
                  <a:pt x="420" y="1577"/>
                </a:lnTo>
                <a:lnTo>
                  <a:pt x="434" y="1540"/>
                </a:lnTo>
                <a:lnTo>
                  <a:pt x="449" y="1504"/>
                </a:lnTo>
                <a:lnTo>
                  <a:pt x="462" y="1468"/>
                </a:lnTo>
                <a:lnTo>
                  <a:pt x="476" y="1433"/>
                </a:lnTo>
                <a:lnTo>
                  <a:pt x="489" y="1397"/>
                </a:lnTo>
                <a:lnTo>
                  <a:pt x="501" y="1362"/>
                </a:lnTo>
                <a:lnTo>
                  <a:pt x="514" y="1327"/>
                </a:lnTo>
                <a:lnTo>
                  <a:pt x="524" y="1293"/>
                </a:lnTo>
                <a:lnTo>
                  <a:pt x="535" y="1260"/>
                </a:lnTo>
                <a:lnTo>
                  <a:pt x="545" y="1228"/>
                </a:lnTo>
                <a:lnTo>
                  <a:pt x="555" y="1195"/>
                </a:lnTo>
                <a:lnTo>
                  <a:pt x="564" y="1162"/>
                </a:lnTo>
                <a:lnTo>
                  <a:pt x="572" y="1132"/>
                </a:lnTo>
                <a:lnTo>
                  <a:pt x="580" y="1099"/>
                </a:lnTo>
                <a:lnTo>
                  <a:pt x="587" y="1070"/>
                </a:lnTo>
                <a:lnTo>
                  <a:pt x="614" y="948"/>
                </a:lnTo>
                <a:lnTo>
                  <a:pt x="628" y="888"/>
                </a:lnTo>
                <a:lnTo>
                  <a:pt x="639" y="827"/>
                </a:lnTo>
                <a:lnTo>
                  <a:pt x="649" y="763"/>
                </a:lnTo>
                <a:lnTo>
                  <a:pt x="658" y="702"/>
                </a:lnTo>
                <a:lnTo>
                  <a:pt x="664" y="669"/>
                </a:lnTo>
                <a:lnTo>
                  <a:pt x="668" y="639"/>
                </a:lnTo>
                <a:lnTo>
                  <a:pt x="670" y="606"/>
                </a:lnTo>
                <a:lnTo>
                  <a:pt x="674" y="574"/>
                </a:lnTo>
                <a:lnTo>
                  <a:pt x="676" y="545"/>
                </a:lnTo>
                <a:lnTo>
                  <a:pt x="676" y="514"/>
                </a:lnTo>
                <a:lnTo>
                  <a:pt x="678" y="485"/>
                </a:lnTo>
                <a:lnTo>
                  <a:pt x="679" y="458"/>
                </a:lnTo>
                <a:lnTo>
                  <a:pt x="679" y="430"/>
                </a:lnTo>
                <a:lnTo>
                  <a:pt x="681" y="403"/>
                </a:lnTo>
                <a:lnTo>
                  <a:pt x="681" y="376"/>
                </a:lnTo>
                <a:lnTo>
                  <a:pt x="681" y="351"/>
                </a:lnTo>
                <a:lnTo>
                  <a:pt x="681" y="326"/>
                </a:lnTo>
                <a:lnTo>
                  <a:pt x="681" y="301"/>
                </a:lnTo>
                <a:lnTo>
                  <a:pt x="679" y="276"/>
                </a:lnTo>
                <a:lnTo>
                  <a:pt x="679" y="253"/>
                </a:lnTo>
                <a:lnTo>
                  <a:pt x="678" y="230"/>
                </a:lnTo>
                <a:lnTo>
                  <a:pt x="676" y="207"/>
                </a:lnTo>
                <a:lnTo>
                  <a:pt x="676" y="186"/>
                </a:lnTo>
                <a:lnTo>
                  <a:pt x="674" y="165"/>
                </a:lnTo>
                <a:lnTo>
                  <a:pt x="670" y="148"/>
                </a:lnTo>
                <a:lnTo>
                  <a:pt x="668" y="130"/>
                </a:lnTo>
                <a:lnTo>
                  <a:pt x="666" y="115"/>
                </a:lnTo>
                <a:lnTo>
                  <a:pt x="664" y="100"/>
                </a:lnTo>
                <a:lnTo>
                  <a:pt x="662" y="86"/>
                </a:lnTo>
                <a:lnTo>
                  <a:pt x="660" y="75"/>
                </a:lnTo>
                <a:lnTo>
                  <a:pt x="658" y="63"/>
                </a:lnTo>
                <a:lnTo>
                  <a:pt x="656" y="52"/>
                </a:lnTo>
                <a:lnTo>
                  <a:pt x="656" y="42"/>
                </a:lnTo>
                <a:lnTo>
                  <a:pt x="656" y="35"/>
                </a:lnTo>
                <a:lnTo>
                  <a:pt x="654" y="27"/>
                </a:lnTo>
                <a:lnTo>
                  <a:pt x="654" y="21"/>
                </a:lnTo>
                <a:lnTo>
                  <a:pt x="656" y="15"/>
                </a:lnTo>
                <a:lnTo>
                  <a:pt x="656" y="10"/>
                </a:lnTo>
                <a:lnTo>
                  <a:pt x="658" y="6"/>
                </a:lnTo>
                <a:lnTo>
                  <a:pt x="660" y="4"/>
                </a:lnTo>
                <a:lnTo>
                  <a:pt x="664" y="2"/>
                </a:lnTo>
                <a:lnTo>
                  <a:pt x="668" y="0"/>
                </a:lnTo>
                <a:lnTo>
                  <a:pt x="672" y="0"/>
                </a:lnTo>
                <a:lnTo>
                  <a:pt x="679" y="2"/>
                </a:lnTo>
                <a:lnTo>
                  <a:pt x="687" y="2"/>
                </a:lnTo>
                <a:lnTo>
                  <a:pt x="695" y="4"/>
                </a:lnTo>
                <a:lnTo>
                  <a:pt x="706" y="8"/>
                </a:lnTo>
                <a:lnTo>
                  <a:pt x="718" y="10"/>
                </a:lnTo>
                <a:lnTo>
                  <a:pt x="729" y="13"/>
                </a:lnTo>
                <a:lnTo>
                  <a:pt x="743" y="19"/>
                </a:lnTo>
                <a:lnTo>
                  <a:pt x="758" y="23"/>
                </a:lnTo>
                <a:lnTo>
                  <a:pt x="775" y="29"/>
                </a:lnTo>
                <a:lnTo>
                  <a:pt x="793" y="35"/>
                </a:lnTo>
                <a:lnTo>
                  <a:pt x="812" y="40"/>
                </a:lnTo>
                <a:lnTo>
                  <a:pt x="833" y="46"/>
                </a:lnTo>
                <a:lnTo>
                  <a:pt x="856" y="54"/>
                </a:lnTo>
                <a:lnTo>
                  <a:pt x="854" y="115"/>
                </a:lnTo>
                <a:lnTo>
                  <a:pt x="852" y="175"/>
                </a:lnTo>
                <a:lnTo>
                  <a:pt x="850" y="236"/>
                </a:lnTo>
                <a:lnTo>
                  <a:pt x="848" y="297"/>
                </a:lnTo>
                <a:lnTo>
                  <a:pt x="845" y="359"/>
                </a:lnTo>
                <a:lnTo>
                  <a:pt x="841" y="422"/>
                </a:lnTo>
                <a:lnTo>
                  <a:pt x="835" y="485"/>
                </a:lnTo>
                <a:lnTo>
                  <a:pt x="831" y="551"/>
                </a:lnTo>
                <a:lnTo>
                  <a:pt x="829" y="585"/>
                </a:lnTo>
                <a:lnTo>
                  <a:pt x="825" y="620"/>
                </a:lnTo>
                <a:lnTo>
                  <a:pt x="822" y="654"/>
                </a:lnTo>
                <a:lnTo>
                  <a:pt x="818" y="689"/>
                </a:lnTo>
                <a:lnTo>
                  <a:pt x="814" y="725"/>
                </a:lnTo>
                <a:lnTo>
                  <a:pt x="808" y="760"/>
                </a:lnTo>
                <a:lnTo>
                  <a:pt x="797" y="831"/>
                </a:lnTo>
                <a:lnTo>
                  <a:pt x="783" y="904"/>
                </a:lnTo>
                <a:lnTo>
                  <a:pt x="768" y="978"/>
                </a:lnTo>
                <a:lnTo>
                  <a:pt x="758" y="1015"/>
                </a:lnTo>
                <a:lnTo>
                  <a:pt x="750" y="1053"/>
                </a:lnTo>
                <a:lnTo>
                  <a:pt x="743" y="1093"/>
                </a:lnTo>
                <a:lnTo>
                  <a:pt x="733" y="1132"/>
                </a:lnTo>
                <a:lnTo>
                  <a:pt x="710" y="1210"/>
                </a:lnTo>
                <a:lnTo>
                  <a:pt x="685" y="1287"/>
                </a:lnTo>
                <a:lnTo>
                  <a:pt x="658" y="1364"/>
                </a:lnTo>
                <a:lnTo>
                  <a:pt x="631" y="1439"/>
                </a:lnTo>
                <a:lnTo>
                  <a:pt x="601" y="1512"/>
                </a:lnTo>
                <a:lnTo>
                  <a:pt x="570" y="1585"/>
                </a:lnTo>
                <a:lnTo>
                  <a:pt x="537" y="1656"/>
                </a:lnTo>
                <a:lnTo>
                  <a:pt x="503" y="1726"/>
                </a:lnTo>
                <a:lnTo>
                  <a:pt x="484" y="1761"/>
                </a:lnTo>
                <a:lnTo>
                  <a:pt x="466" y="1794"/>
                </a:lnTo>
                <a:lnTo>
                  <a:pt x="447" y="1826"/>
                </a:lnTo>
                <a:lnTo>
                  <a:pt x="430" y="1859"/>
                </a:lnTo>
                <a:lnTo>
                  <a:pt x="411" y="1890"/>
                </a:lnTo>
                <a:lnTo>
                  <a:pt x="391" y="1920"/>
                </a:lnTo>
                <a:lnTo>
                  <a:pt x="372" y="1949"/>
                </a:lnTo>
                <a:lnTo>
                  <a:pt x="353" y="1978"/>
                </a:lnTo>
                <a:lnTo>
                  <a:pt x="336" y="2005"/>
                </a:lnTo>
                <a:lnTo>
                  <a:pt x="315" y="2031"/>
                </a:lnTo>
                <a:lnTo>
                  <a:pt x="295" y="2056"/>
                </a:lnTo>
                <a:lnTo>
                  <a:pt x="276" y="2081"/>
                </a:lnTo>
                <a:lnTo>
                  <a:pt x="257" y="2104"/>
                </a:lnTo>
                <a:lnTo>
                  <a:pt x="238" y="2129"/>
                </a:lnTo>
                <a:lnTo>
                  <a:pt x="217" y="2150"/>
                </a:lnTo>
                <a:lnTo>
                  <a:pt x="198" y="2173"/>
                </a:lnTo>
                <a:lnTo>
                  <a:pt x="176" y="2193"/>
                </a:lnTo>
                <a:lnTo>
                  <a:pt x="157" y="2212"/>
                </a:lnTo>
                <a:lnTo>
                  <a:pt x="140" y="2229"/>
                </a:lnTo>
                <a:lnTo>
                  <a:pt x="125" y="2244"/>
                </a:lnTo>
                <a:lnTo>
                  <a:pt x="107" y="2260"/>
                </a:lnTo>
                <a:lnTo>
                  <a:pt x="94" y="2271"/>
                </a:lnTo>
                <a:lnTo>
                  <a:pt x="80" y="2283"/>
                </a:lnTo>
                <a:lnTo>
                  <a:pt x="67" y="2294"/>
                </a:lnTo>
                <a:lnTo>
                  <a:pt x="55" y="2302"/>
                </a:lnTo>
                <a:lnTo>
                  <a:pt x="46" y="2310"/>
                </a:lnTo>
                <a:lnTo>
                  <a:pt x="36" y="2315"/>
                </a:lnTo>
                <a:lnTo>
                  <a:pt x="27" y="2319"/>
                </a:lnTo>
                <a:lnTo>
                  <a:pt x="19" y="2321"/>
                </a:lnTo>
                <a:lnTo>
                  <a:pt x="13" y="2323"/>
                </a:lnTo>
                <a:lnTo>
                  <a:pt x="8" y="2323"/>
                </a:lnTo>
                <a:lnTo>
                  <a:pt x="2" y="2321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30"/>
          <p:cNvSpPr/>
          <p:nvPr/>
        </p:nvSpPr>
        <p:spPr>
          <a:xfrm>
            <a:off x="6513480" y="2698920"/>
            <a:ext cx="339840" cy="236520"/>
          </a:xfrm>
          <a:custGeom>
            <a:avLst/>
            <a:gdLst/>
            <a:ahLst/>
            <a:rect l="l" t="t" r="r" b="b"/>
            <a:pathLst>
              <a:path w="428" h="297">
                <a:moveTo>
                  <a:pt x="0" y="0"/>
                </a:moveTo>
                <a:lnTo>
                  <a:pt x="30" y="0"/>
                </a:lnTo>
                <a:lnTo>
                  <a:pt x="61" y="0"/>
                </a:lnTo>
                <a:lnTo>
                  <a:pt x="90" y="2"/>
                </a:lnTo>
                <a:lnTo>
                  <a:pt x="117" y="4"/>
                </a:lnTo>
                <a:lnTo>
                  <a:pt x="142" y="6"/>
                </a:lnTo>
                <a:lnTo>
                  <a:pt x="167" y="9"/>
                </a:lnTo>
                <a:lnTo>
                  <a:pt x="190" y="11"/>
                </a:lnTo>
                <a:lnTo>
                  <a:pt x="213" y="15"/>
                </a:lnTo>
                <a:lnTo>
                  <a:pt x="232" y="21"/>
                </a:lnTo>
                <a:lnTo>
                  <a:pt x="251" y="25"/>
                </a:lnTo>
                <a:lnTo>
                  <a:pt x="270" y="30"/>
                </a:lnTo>
                <a:lnTo>
                  <a:pt x="286" y="36"/>
                </a:lnTo>
                <a:lnTo>
                  <a:pt x="303" y="42"/>
                </a:lnTo>
                <a:lnTo>
                  <a:pt x="317" y="48"/>
                </a:lnTo>
                <a:lnTo>
                  <a:pt x="330" y="53"/>
                </a:lnTo>
                <a:lnTo>
                  <a:pt x="341" y="61"/>
                </a:lnTo>
                <a:lnTo>
                  <a:pt x="353" y="71"/>
                </a:lnTo>
                <a:lnTo>
                  <a:pt x="363" y="80"/>
                </a:lnTo>
                <a:lnTo>
                  <a:pt x="372" y="90"/>
                </a:lnTo>
                <a:lnTo>
                  <a:pt x="380" y="98"/>
                </a:lnTo>
                <a:lnTo>
                  <a:pt x="388" y="107"/>
                </a:lnTo>
                <a:lnTo>
                  <a:pt x="395" y="117"/>
                </a:lnTo>
                <a:lnTo>
                  <a:pt x="401" y="124"/>
                </a:lnTo>
                <a:lnTo>
                  <a:pt x="407" y="134"/>
                </a:lnTo>
                <a:lnTo>
                  <a:pt x="412" y="142"/>
                </a:lnTo>
                <a:lnTo>
                  <a:pt x="416" y="151"/>
                </a:lnTo>
                <a:lnTo>
                  <a:pt x="420" y="159"/>
                </a:lnTo>
                <a:lnTo>
                  <a:pt x="422" y="167"/>
                </a:lnTo>
                <a:lnTo>
                  <a:pt x="424" y="174"/>
                </a:lnTo>
                <a:lnTo>
                  <a:pt x="426" y="182"/>
                </a:lnTo>
                <a:lnTo>
                  <a:pt x="426" y="190"/>
                </a:lnTo>
                <a:lnTo>
                  <a:pt x="428" y="197"/>
                </a:lnTo>
                <a:lnTo>
                  <a:pt x="428" y="211"/>
                </a:lnTo>
                <a:lnTo>
                  <a:pt x="426" y="222"/>
                </a:lnTo>
                <a:lnTo>
                  <a:pt x="426" y="234"/>
                </a:lnTo>
                <a:lnTo>
                  <a:pt x="426" y="243"/>
                </a:lnTo>
                <a:lnTo>
                  <a:pt x="424" y="253"/>
                </a:lnTo>
                <a:lnTo>
                  <a:pt x="422" y="261"/>
                </a:lnTo>
                <a:lnTo>
                  <a:pt x="420" y="266"/>
                </a:lnTo>
                <a:lnTo>
                  <a:pt x="416" y="272"/>
                </a:lnTo>
                <a:lnTo>
                  <a:pt x="411" y="276"/>
                </a:lnTo>
                <a:lnTo>
                  <a:pt x="403" y="280"/>
                </a:lnTo>
                <a:lnTo>
                  <a:pt x="395" y="284"/>
                </a:lnTo>
                <a:lnTo>
                  <a:pt x="388" y="288"/>
                </a:lnTo>
                <a:lnTo>
                  <a:pt x="378" y="291"/>
                </a:lnTo>
                <a:lnTo>
                  <a:pt x="366" y="293"/>
                </a:lnTo>
                <a:lnTo>
                  <a:pt x="355" y="295"/>
                </a:lnTo>
                <a:lnTo>
                  <a:pt x="341" y="297"/>
                </a:lnTo>
                <a:lnTo>
                  <a:pt x="334" y="295"/>
                </a:lnTo>
                <a:lnTo>
                  <a:pt x="326" y="293"/>
                </a:lnTo>
                <a:lnTo>
                  <a:pt x="318" y="291"/>
                </a:lnTo>
                <a:lnTo>
                  <a:pt x="309" y="288"/>
                </a:lnTo>
                <a:lnTo>
                  <a:pt x="299" y="282"/>
                </a:lnTo>
                <a:lnTo>
                  <a:pt x="290" y="276"/>
                </a:lnTo>
                <a:lnTo>
                  <a:pt x="278" y="270"/>
                </a:lnTo>
                <a:lnTo>
                  <a:pt x="267" y="261"/>
                </a:lnTo>
                <a:lnTo>
                  <a:pt x="255" y="253"/>
                </a:lnTo>
                <a:lnTo>
                  <a:pt x="242" y="241"/>
                </a:lnTo>
                <a:lnTo>
                  <a:pt x="228" y="230"/>
                </a:lnTo>
                <a:lnTo>
                  <a:pt x="213" y="218"/>
                </a:lnTo>
                <a:lnTo>
                  <a:pt x="197" y="205"/>
                </a:lnTo>
                <a:lnTo>
                  <a:pt x="182" y="192"/>
                </a:lnTo>
                <a:lnTo>
                  <a:pt x="165" y="176"/>
                </a:lnTo>
                <a:lnTo>
                  <a:pt x="148" y="161"/>
                </a:lnTo>
                <a:lnTo>
                  <a:pt x="128" y="144"/>
                </a:lnTo>
                <a:lnTo>
                  <a:pt x="113" y="128"/>
                </a:lnTo>
                <a:lnTo>
                  <a:pt x="98" y="115"/>
                </a:lnTo>
                <a:lnTo>
                  <a:pt x="82" y="101"/>
                </a:lnTo>
                <a:lnTo>
                  <a:pt x="69" y="88"/>
                </a:lnTo>
                <a:lnTo>
                  <a:pt x="57" y="76"/>
                </a:lnTo>
                <a:lnTo>
                  <a:pt x="46" y="67"/>
                </a:lnTo>
                <a:lnTo>
                  <a:pt x="36" y="55"/>
                </a:lnTo>
                <a:lnTo>
                  <a:pt x="29" y="46"/>
                </a:lnTo>
                <a:lnTo>
                  <a:pt x="21" y="38"/>
                </a:lnTo>
                <a:lnTo>
                  <a:pt x="15" y="30"/>
                </a:lnTo>
                <a:lnTo>
                  <a:pt x="9" y="23"/>
                </a:lnTo>
                <a:lnTo>
                  <a:pt x="5" y="15"/>
                </a:lnTo>
                <a:lnTo>
                  <a:pt x="2" y="9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31"/>
          <p:cNvSpPr/>
          <p:nvPr/>
        </p:nvSpPr>
        <p:spPr>
          <a:xfrm>
            <a:off x="6068880" y="2935440"/>
            <a:ext cx="1214640" cy="244440"/>
          </a:xfrm>
          <a:custGeom>
            <a:avLst/>
            <a:gdLst/>
            <a:ahLst/>
            <a:rect l="l" t="t" r="r" b="b"/>
            <a:pathLst>
              <a:path w="1530" h="309">
                <a:moveTo>
                  <a:pt x="0" y="309"/>
                </a:moveTo>
                <a:lnTo>
                  <a:pt x="0" y="253"/>
                </a:lnTo>
                <a:lnTo>
                  <a:pt x="0" y="198"/>
                </a:lnTo>
                <a:lnTo>
                  <a:pt x="40" y="198"/>
                </a:lnTo>
                <a:lnTo>
                  <a:pt x="81" y="196"/>
                </a:lnTo>
                <a:lnTo>
                  <a:pt x="119" y="194"/>
                </a:lnTo>
                <a:lnTo>
                  <a:pt x="158" y="190"/>
                </a:lnTo>
                <a:lnTo>
                  <a:pt x="194" y="186"/>
                </a:lnTo>
                <a:lnTo>
                  <a:pt x="231" y="182"/>
                </a:lnTo>
                <a:lnTo>
                  <a:pt x="305" y="173"/>
                </a:lnTo>
                <a:lnTo>
                  <a:pt x="313" y="171"/>
                </a:lnTo>
                <a:lnTo>
                  <a:pt x="325" y="171"/>
                </a:lnTo>
                <a:lnTo>
                  <a:pt x="334" y="169"/>
                </a:lnTo>
                <a:lnTo>
                  <a:pt x="346" y="167"/>
                </a:lnTo>
                <a:lnTo>
                  <a:pt x="357" y="167"/>
                </a:lnTo>
                <a:lnTo>
                  <a:pt x="369" y="165"/>
                </a:lnTo>
                <a:lnTo>
                  <a:pt x="380" y="163"/>
                </a:lnTo>
                <a:lnTo>
                  <a:pt x="394" y="161"/>
                </a:lnTo>
                <a:lnTo>
                  <a:pt x="407" y="159"/>
                </a:lnTo>
                <a:lnTo>
                  <a:pt x="421" y="157"/>
                </a:lnTo>
                <a:lnTo>
                  <a:pt x="449" y="154"/>
                </a:lnTo>
                <a:lnTo>
                  <a:pt x="480" y="148"/>
                </a:lnTo>
                <a:lnTo>
                  <a:pt x="515" y="142"/>
                </a:lnTo>
                <a:lnTo>
                  <a:pt x="549" y="136"/>
                </a:lnTo>
                <a:lnTo>
                  <a:pt x="586" y="131"/>
                </a:lnTo>
                <a:lnTo>
                  <a:pt x="624" y="123"/>
                </a:lnTo>
                <a:lnTo>
                  <a:pt x="664" y="115"/>
                </a:lnTo>
                <a:lnTo>
                  <a:pt x="705" y="106"/>
                </a:lnTo>
                <a:lnTo>
                  <a:pt x="749" y="96"/>
                </a:lnTo>
                <a:lnTo>
                  <a:pt x="795" y="85"/>
                </a:lnTo>
                <a:lnTo>
                  <a:pt x="843" y="75"/>
                </a:lnTo>
                <a:lnTo>
                  <a:pt x="866" y="69"/>
                </a:lnTo>
                <a:lnTo>
                  <a:pt x="889" y="65"/>
                </a:lnTo>
                <a:lnTo>
                  <a:pt x="912" y="60"/>
                </a:lnTo>
                <a:lnTo>
                  <a:pt x="933" y="56"/>
                </a:lnTo>
                <a:lnTo>
                  <a:pt x="956" y="52"/>
                </a:lnTo>
                <a:lnTo>
                  <a:pt x="977" y="48"/>
                </a:lnTo>
                <a:lnTo>
                  <a:pt x="998" y="44"/>
                </a:lnTo>
                <a:lnTo>
                  <a:pt x="1018" y="40"/>
                </a:lnTo>
                <a:lnTo>
                  <a:pt x="1037" y="37"/>
                </a:lnTo>
                <a:lnTo>
                  <a:pt x="1056" y="35"/>
                </a:lnTo>
                <a:lnTo>
                  <a:pt x="1075" y="31"/>
                </a:lnTo>
                <a:lnTo>
                  <a:pt x="1094" y="29"/>
                </a:lnTo>
                <a:lnTo>
                  <a:pt x="1112" y="25"/>
                </a:lnTo>
                <a:lnTo>
                  <a:pt x="1129" y="23"/>
                </a:lnTo>
                <a:lnTo>
                  <a:pt x="1146" y="19"/>
                </a:lnTo>
                <a:lnTo>
                  <a:pt x="1162" y="17"/>
                </a:lnTo>
                <a:lnTo>
                  <a:pt x="1177" y="15"/>
                </a:lnTo>
                <a:lnTo>
                  <a:pt x="1192" y="14"/>
                </a:lnTo>
                <a:lnTo>
                  <a:pt x="1208" y="12"/>
                </a:lnTo>
                <a:lnTo>
                  <a:pt x="1223" y="10"/>
                </a:lnTo>
                <a:lnTo>
                  <a:pt x="1237" y="8"/>
                </a:lnTo>
                <a:lnTo>
                  <a:pt x="1250" y="6"/>
                </a:lnTo>
                <a:lnTo>
                  <a:pt x="1261" y="6"/>
                </a:lnTo>
                <a:lnTo>
                  <a:pt x="1275" y="4"/>
                </a:lnTo>
                <a:lnTo>
                  <a:pt x="1286" y="2"/>
                </a:lnTo>
                <a:lnTo>
                  <a:pt x="1298" y="2"/>
                </a:lnTo>
                <a:lnTo>
                  <a:pt x="1308" y="0"/>
                </a:lnTo>
                <a:lnTo>
                  <a:pt x="1319" y="0"/>
                </a:lnTo>
                <a:lnTo>
                  <a:pt x="1329" y="0"/>
                </a:lnTo>
                <a:lnTo>
                  <a:pt x="1338" y="0"/>
                </a:lnTo>
                <a:lnTo>
                  <a:pt x="1346" y="0"/>
                </a:lnTo>
                <a:lnTo>
                  <a:pt x="1356" y="0"/>
                </a:lnTo>
                <a:lnTo>
                  <a:pt x="1367" y="0"/>
                </a:lnTo>
                <a:lnTo>
                  <a:pt x="1380" y="0"/>
                </a:lnTo>
                <a:lnTo>
                  <a:pt x="1394" y="0"/>
                </a:lnTo>
                <a:lnTo>
                  <a:pt x="1405" y="2"/>
                </a:lnTo>
                <a:lnTo>
                  <a:pt x="1415" y="4"/>
                </a:lnTo>
                <a:lnTo>
                  <a:pt x="1427" y="6"/>
                </a:lnTo>
                <a:lnTo>
                  <a:pt x="1436" y="8"/>
                </a:lnTo>
                <a:lnTo>
                  <a:pt x="1446" y="10"/>
                </a:lnTo>
                <a:lnTo>
                  <a:pt x="1455" y="14"/>
                </a:lnTo>
                <a:lnTo>
                  <a:pt x="1463" y="17"/>
                </a:lnTo>
                <a:lnTo>
                  <a:pt x="1471" y="21"/>
                </a:lnTo>
                <a:lnTo>
                  <a:pt x="1478" y="25"/>
                </a:lnTo>
                <a:lnTo>
                  <a:pt x="1484" y="31"/>
                </a:lnTo>
                <a:lnTo>
                  <a:pt x="1490" y="37"/>
                </a:lnTo>
                <a:lnTo>
                  <a:pt x="1496" y="42"/>
                </a:lnTo>
                <a:lnTo>
                  <a:pt x="1501" y="50"/>
                </a:lnTo>
                <a:lnTo>
                  <a:pt x="1505" y="56"/>
                </a:lnTo>
                <a:lnTo>
                  <a:pt x="1509" y="61"/>
                </a:lnTo>
                <a:lnTo>
                  <a:pt x="1513" y="67"/>
                </a:lnTo>
                <a:lnTo>
                  <a:pt x="1517" y="73"/>
                </a:lnTo>
                <a:lnTo>
                  <a:pt x="1523" y="83"/>
                </a:lnTo>
                <a:lnTo>
                  <a:pt x="1526" y="90"/>
                </a:lnTo>
                <a:lnTo>
                  <a:pt x="1528" y="96"/>
                </a:lnTo>
                <a:lnTo>
                  <a:pt x="1530" y="100"/>
                </a:lnTo>
                <a:lnTo>
                  <a:pt x="1530" y="102"/>
                </a:lnTo>
                <a:lnTo>
                  <a:pt x="1528" y="104"/>
                </a:lnTo>
                <a:lnTo>
                  <a:pt x="1528" y="108"/>
                </a:lnTo>
                <a:lnTo>
                  <a:pt x="1526" y="109"/>
                </a:lnTo>
                <a:lnTo>
                  <a:pt x="1524" y="111"/>
                </a:lnTo>
                <a:lnTo>
                  <a:pt x="1523" y="113"/>
                </a:lnTo>
                <a:lnTo>
                  <a:pt x="1517" y="115"/>
                </a:lnTo>
                <a:lnTo>
                  <a:pt x="1509" y="115"/>
                </a:lnTo>
                <a:lnTo>
                  <a:pt x="1498" y="119"/>
                </a:lnTo>
                <a:lnTo>
                  <a:pt x="1482" y="121"/>
                </a:lnTo>
                <a:lnTo>
                  <a:pt x="1467" y="123"/>
                </a:lnTo>
                <a:lnTo>
                  <a:pt x="1446" y="127"/>
                </a:lnTo>
                <a:lnTo>
                  <a:pt x="1425" y="131"/>
                </a:lnTo>
                <a:lnTo>
                  <a:pt x="1398" y="132"/>
                </a:lnTo>
                <a:lnTo>
                  <a:pt x="1369" y="136"/>
                </a:lnTo>
                <a:lnTo>
                  <a:pt x="1338" y="142"/>
                </a:lnTo>
                <a:lnTo>
                  <a:pt x="1304" y="146"/>
                </a:lnTo>
                <a:lnTo>
                  <a:pt x="1267" y="152"/>
                </a:lnTo>
                <a:lnTo>
                  <a:pt x="1227" y="155"/>
                </a:lnTo>
                <a:lnTo>
                  <a:pt x="1183" y="161"/>
                </a:lnTo>
                <a:lnTo>
                  <a:pt x="1137" y="167"/>
                </a:lnTo>
                <a:lnTo>
                  <a:pt x="1089" y="173"/>
                </a:lnTo>
                <a:lnTo>
                  <a:pt x="1037" y="180"/>
                </a:lnTo>
                <a:lnTo>
                  <a:pt x="981" y="186"/>
                </a:lnTo>
                <a:lnTo>
                  <a:pt x="924" y="194"/>
                </a:lnTo>
                <a:lnTo>
                  <a:pt x="864" y="202"/>
                </a:lnTo>
                <a:lnTo>
                  <a:pt x="799" y="209"/>
                </a:lnTo>
                <a:lnTo>
                  <a:pt x="734" y="219"/>
                </a:lnTo>
                <a:lnTo>
                  <a:pt x="664" y="226"/>
                </a:lnTo>
                <a:lnTo>
                  <a:pt x="591" y="236"/>
                </a:lnTo>
                <a:lnTo>
                  <a:pt x="515" y="246"/>
                </a:lnTo>
                <a:lnTo>
                  <a:pt x="438" y="255"/>
                </a:lnTo>
                <a:lnTo>
                  <a:pt x="355" y="265"/>
                </a:lnTo>
                <a:lnTo>
                  <a:pt x="271" y="274"/>
                </a:lnTo>
                <a:lnTo>
                  <a:pt x="184" y="286"/>
                </a:lnTo>
                <a:lnTo>
                  <a:pt x="94" y="297"/>
                </a:lnTo>
                <a:lnTo>
                  <a:pt x="0" y="309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32"/>
          <p:cNvSpPr/>
          <p:nvPr/>
        </p:nvSpPr>
        <p:spPr>
          <a:xfrm>
            <a:off x="6408720" y="3249720"/>
            <a:ext cx="225360" cy="187200"/>
          </a:xfrm>
          <a:custGeom>
            <a:avLst/>
            <a:gdLst/>
            <a:ahLst/>
            <a:rect l="l" t="t" r="r" b="b"/>
            <a:pathLst>
              <a:path w="284" h="236">
                <a:moveTo>
                  <a:pt x="96" y="148"/>
                </a:moveTo>
                <a:lnTo>
                  <a:pt x="85" y="136"/>
                </a:lnTo>
                <a:lnTo>
                  <a:pt x="75" y="125"/>
                </a:lnTo>
                <a:lnTo>
                  <a:pt x="66" y="113"/>
                </a:lnTo>
                <a:lnTo>
                  <a:pt x="56" y="104"/>
                </a:lnTo>
                <a:lnTo>
                  <a:pt x="46" y="92"/>
                </a:lnTo>
                <a:lnTo>
                  <a:pt x="39" y="83"/>
                </a:lnTo>
                <a:lnTo>
                  <a:pt x="31" y="73"/>
                </a:lnTo>
                <a:lnTo>
                  <a:pt x="25" y="64"/>
                </a:lnTo>
                <a:lnTo>
                  <a:pt x="19" y="54"/>
                </a:lnTo>
                <a:lnTo>
                  <a:pt x="14" y="46"/>
                </a:lnTo>
                <a:lnTo>
                  <a:pt x="10" y="37"/>
                </a:lnTo>
                <a:lnTo>
                  <a:pt x="6" y="29"/>
                </a:lnTo>
                <a:lnTo>
                  <a:pt x="2" y="21"/>
                </a:lnTo>
                <a:lnTo>
                  <a:pt x="0" y="14"/>
                </a:lnTo>
                <a:lnTo>
                  <a:pt x="0" y="6"/>
                </a:lnTo>
                <a:lnTo>
                  <a:pt x="0" y="0"/>
                </a:lnTo>
                <a:lnTo>
                  <a:pt x="23" y="0"/>
                </a:lnTo>
                <a:lnTo>
                  <a:pt x="46" y="0"/>
                </a:lnTo>
                <a:lnTo>
                  <a:pt x="67" y="0"/>
                </a:lnTo>
                <a:lnTo>
                  <a:pt x="89" y="2"/>
                </a:lnTo>
                <a:lnTo>
                  <a:pt x="108" y="4"/>
                </a:lnTo>
                <a:lnTo>
                  <a:pt x="125" y="4"/>
                </a:lnTo>
                <a:lnTo>
                  <a:pt x="142" y="8"/>
                </a:lnTo>
                <a:lnTo>
                  <a:pt x="158" y="10"/>
                </a:lnTo>
                <a:lnTo>
                  <a:pt x="171" y="14"/>
                </a:lnTo>
                <a:lnTo>
                  <a:pt x="185" y="16"/>
                </a:lnTo>
                <a:lnTo>
                  <a:pt x="198" y="19"/>
                </a:lnTo>
                <a:lnTo>
                  <a:pt x="208" y="25"/>
                </a:lnTo>
                <a:lnTo>
                  <a:pt x="219" y="29"/>
                </a:lnTo>
                <a:lnTo>
                  <a:pt x="227" y="35"/>
                </a:lnTo>
                <a:lnTo>
                  <a:pt x="236" y="42"/>
                </a:lnTo>
                <a:lnTo>
                  <a:pt x="244" y="48"/>
                </a:lnTo>
                <a:lnTo>
                  <a:pt x="250" y="56"/>
                </a:lnTo>
                <a:lnTo>
                  <a:pt x="256" y="62"/>
                </a:lnTo>
                <a:lnTo>
                  <a:pt x="261" y="69"/>
                </a:lnTo>
                <a:lnTo>
                  <a:pt x="265" y="77"/>
                </a:lnTo>
                <a:lnTo>
                  <a:pt x="269" y="85"/>
                </a:lnTo>
                <a:lnTo>
                  <a:pt x="273" y="90"/>
                </a:lnTo>
                <a:lnTo>
                  <a:pt x="277" y="98"/>
                </a:lnTo>
                <a:lnTo>
                  <a:pt x="279" y="104"/>
                </a:lnTo>
                <a:lnTo>
                  <a:pt x="281" y="111"/>
                </a:lnTo>
                <a:lnTo>
                  <a:pt x="282" y="119"/>
                </a:lnTo>
                <a:lnTo>
                  <a:pt x="282" y="125"/>
                </a:lnTo>
                <a:lnTo>
                  <a:pt x="284" y="133"/>
                </a:lnTo>
                <a:lnTo>
                  <a:pt x="284" y="140"/>
                </a:lnTo>
                <a:lnTo>
                  <a:pt x="282" y="146"/>
                </a:lnTo>
                <a:lnTo>
                  <a:pt x="281" y="154"/>
                </a:lnTo>
                <a:lnTo>
                  <a:pt x="281" y="161"/>
                </a:lnTo>
                <a:lnTo>
                  <a:pt x="277" y="169"/>
                </a:lnTo>
                <a:lnTo>
                  <a:pt x="275" y="177"/>
                </a:lnTo>
                <a:lnTo>
                  <a:pt x="273" y="186"/>
                </a:lnTo>
                <a:lnTo>
                  <a:pt x="271" y="192"/>
                </a:lnTo>
                <a:lnTo>
                  <a:pt x="269" y="200"/>
                </a:lnTo>
                <a:lnTo>
                  <a:pt x="265" y="205"/>
                </a:lnTo>
                <a:lnTo>
                  <a:pt x="263" y="211"/>
                </a:lnTo>
                <a:lnTo>
                  <a:pt x="261" y="215"/>
                </a:lnTo>
                <a:lnTo>
                  <a:pt x="259" y="221"/>
                </a:lnTo>
                <a:lnTo>
                  <a:pt x="258" y="225"/>
                </a:lnTo>
                <a:lnTo>
                  <a:pt x="254" y="227"/>
                </a:lnTo>
                <a:lnTo>
                  <a:pt x="252" y="230"/>
                </a:lnTo>
                <a:lnTo>
                  <a:pt x="250" y="232"/>
                </a:lnTo>
                <a:lnTo>
                  <a:pt x="248" y="232"/>
                </a:lnTo>
                <a:lnTo>
                  <a:pt x="246" y="234"/>
                </a:lnTo>
                <a:lnTo>
                  <a:pt x="244" y="234"/>
                </a:lnTo>
                <a:lnTo>
                  <a:pt x="238" y="236"/>
                </a:lnTo>
                <a:lnTo>
                  <a:pt x="233" y="236"/>
                </a:lnTo>
                <a:lnTo>
                  <a:pt x="227" y="236"/>
                </a:lnTo>
                <a:lnTo>
                  <a:pt x="221" y="234"/>
                </a:lnTo>
                <a:lnTo>
                  <a:pt x="213" y="232"/>
                </a:lnTo>
                <a:lnTo>
                  <a:pt x="206" y="228"/>
                </a:lnTo>
                <a:lnTo>
                  <a:pt x="196" y="225"/>
                </a:lnTo>
                <a:lnTo>
                  <a:pt x="188" y="219"/>
                </a:lnTo>
                <a:lnTo>
                  <a:pt x="179" y="213"/>
                </a:lnTo>
                <a:lnTo>
                  <a:pt x="169" y="205"/>
                </a:lnTo>
                <a:lnTo>
                  <a:pt x="158" y="198"/>
                </a:lnTo>
                <a:lnTo>
                  <a:pt x="146" y="190"/>
                </a:lnTo>
                <a:lnTo>
                  <a:pt x="135" y="181"/>
                </a:lnTo>
                <a:lnTo>
                  <a:pt x="123" y="171"/>
                </a:lnTo>
                <a:lnTo>
                  <a:pt x="110" y="159"/>
                </a:lnTo>
                <a:lnTo>
                  <a:pt x="96" y="148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33"/>
          <p:cNvSpPr/>
          <p:nvPr/>
        </p:nvSpPr>
        <p:spPr>
          <a:xfrm>
            <a:off x="6765840" y="3125880"/>
            <a:ext cx="338400" cy="339480"/>
          </a:xfrm>
          <a:custGeom>
            <a:avLst/>
            <a:gdLst/>
            <a:ahLst/>
            <a:rect l="l" t="t" r="r" b="b"/>
            <a:pathLst>
              <a:path w="427" h="428">
                <a:moveTo>
                  <a:pt x="60" y="428"/>
                </a:moveTo>
                <a:lnTo>
                  <a:pt x="0" y="428"/>
                </a:lnTo>
                <a:lnTo>
                  <a:pt x="14" y="406"/>
                </a:lnTo>
                <a:lnTo>
                  <a:pt x="27" y="385"/>
                </a:lnTo>
                <a:lnTo>
                  <a:pt x="41" y="366"/>
                </a:lnTo>
                <a:lnTo>
                  <a:pt x="54" y="347"/>
                </a:lnTo>
                <a:lnTo>
                  <a:pt x="68" y="330"/>
                </a:lnTo>
                <a:lnTo>
                  <a:pt x="79" y="311"/>
                </a:lnTo>
                <a:lnTo>
                  <a:pt x="91" y="293"/>
                </a:lnTo>
                <a:lnTo>
                  <a:pt x="102" y="278"/>
                </a:lnTo>
                <a:lnTo>
                  <a:pt x="112" y="261"/>
                </a:lnTo>
                <a:lnTo>
                  <a:pt x="121" y="245"/>
                </a:lnTo>
                <a:lnTo>
                  <a:pt x="131" y="232"/>
                </a:lnTo>
                <a:lnTo>
                  <a:pt x="141" y="217"/>
                </a:lnTo>
                <a:lnTo>
                  <a:pt x="150" y="203"/>
                </a:lnTo>
                <a:lnTo>
                  <a:pt x="158" y="192"/>
                </a:lnTo>
                <a:lnTo>
                  <a:pt x="166" y="178"/>
                </a:lnTo>
                <a:lnTo>
                  <a:pt x="173" y="167"/>
                </a:lnTo>
                <a:lnTo>
                  <a:pt x="179" y="157"/>
                </a:lnTo>
                <a:lnTo>
                  <a:pt x="185" y="146"/>
                </a:lnTo>
                <a:lnTo>
                  <a:pt x="190" y="136"/>
                </a:lnTo>
                <a:lnTo>
                  <a:pt x="196" y="126"/>
                </a:lnTo>
                <a:lnTo>
                  <a:pt x="200" y="119"/>
                </a:lnTo>
                <a:lnTo>
                  <a:pt x="204" y="111"/>
                </a:lnTo>
                <a:lnTo>
                  <a:pt x="208" y="103"/>
                </a:lnTo>
                <a:lnTo>
                  <a:pt x="212" y="98"/>
                </a:lnTo>
                <a:lnTo>
                  <a:pt x="214" y="90"/>
                </a:lnTo>
                <a:lnTo>
                  <a:pt x="215" y="86"/>
                </a:lnTo>
                <a:lnTo>
                  <a:pt x="217" y="80"/>
                </a:lnTo>
                <a:lnTo>
                  <a:pt x="219" y="77"/>
                </a:lnTo>
                <a:lnTo>
                  <a:pt x="219" y="73"/>
                </a:lnTo>
                <a:lnTo>
                  <a:pt x="219" y="71"/>
                </a:lnTo>
                <a:lnTo>
                  <a:pt x="219" y="69"/>
                </a:lnTo>
                <a:lnTo>
                  <a:pt x="219" y="67"/>
                </a:lnTo>
                <a:lnTo>
                  <a:pt x="214" y="65"/>
                </a:lnTo>
                <a:lnTo>
                  <a:pt x="210" y="61"/>
                </a:lnTo>
                <a:lnTo>
                  <a:pt x="208" y="59"/>
                </a:lnTo>
                <a:lnTo>
                  <a:pt x="204" y="55"/>
                </a:lnTo>
                <a:lnTo>
                  <a:pt x="202" y="54"/>
                </a:lnTo>
                <a:lnTo>
                  <a:pt x="200" y="50"/>
                </a:lnTo>
                <a:lnTo>
                  <a:pt x="198" y="42"/>
                </a:lnTo>
                <a:lnTo>
                  <a:pt x="198" y="36"/>
                </a:lnTo>
                <a:lnTo>
                  <a:pt x="200" y="29"/>
                </a:lnTo>
                <a:lnTo>
                  <a:pt x="202" y="23"/>
                </a:lnTo>
                <a:lnTo>
                  <a:pt x="208" y="19"/>
                </a:lnTo>
                <a:lnTo>
                  <a:pt x="212" y="13"/>
                </a:lnTo>
                <a:lnTo>
                  <a:pt x="217" y="9"/>
                </a:lnTo>
                <a:lnTo>
                  <a:pt x="225" y="6"/>
                </a:lnTo>
                <a:lnTo>
                  <a:pt x="235" y="2"/>
                </a:lnTo>
                <a:lnTo>
                  <a:pt x="244" y="2"/>
                </a:lnTo>
                <a:lnTo>
                  <a:pt x="254" y="0"/>
                </a:lnTo>
                <a:lnTo>
                  <a:pt x="260" y="2"/>
                </a:lnTo>
                <a:lnTo>
                  <a:pt x="267" y="2"/>
                </a:lnTo>
                <a:lnTo>
                  <a:pt x="273" y="4"/>
                </a:lnTo>
                <a:lnTo>
                  <a:pt x="281" y="6"/>
                </a:lnTo>
                <a:lnTo>
                  <a:pt x="292" y="9"/>
                </a:lnTo>
                <a:lnTo>
                  <a:pt x="306" y="15"/>
                </a:lnTo>
                <a:lnTo>
                  <a:pt x="317" y="21"/>
                </a:lnTo>
                <a:lnTo>
                  <a:pt x="329" y="25"/>
                </a:lnTo>
                <a:lnTo>
                  <a:pt x="340" y="31"/>
                </a:lnTo>
                <a:lnTo>
                  <a:pt x="352" y="38"/>
                </a:lnTo>
                <a:lnTo>
                  <a:pt x="365" y="46"/>
                </a:lnTo>
                <a:lnTo>
                  <a:pt x="379" y="55"/>
                </a:lnTo>
                <a:lnTo>
                  <a:pt x="384" y="59"/>
                </a:lnTo>
                <a:lnTo>
                  <a:pt x="390" y="65"/>
                </a:lnTo>
                <a:lnTo>
                  <a:pt x="396" y="69"/>
                </a:lnTo>
                <a:lnTo>
                  <a:pt x="402" y="73"/>
                </a:lnTo>
                <a:lnTo>
                  <a:pt x="406" y="78"/>
                </a:lnTo>
                <a:lnTo>
                  <a:pt x="409" y="82"/>
                </a:lnTo>
                <a:lnTo>
                  <a:pt x="415" y="92"/>
                </a:lnTo>
                <a:lnTo>
                  <a:pt x="421" y="101"/>
                </a:lnTo>
                <a:lnTo>
                  <a:pt x="425" y="111"/>
                </a:lnTo>
                <a:lnTo>
                  <a:pt x="427" y="121"/>
                </a:lnTo>
                <a:lnTo>
                  <a:pt x="427" y="130"/>
                </a:lnTo>
                <a:lnTo>
                  <a:pt x="427" y="132"/>
                </a:lnTo>
                <a:lnTo>
                  <a:pt x="425" y="134"/>
                </a:lnTo>
                <a:lnTo>
                  <a:pt x="423" y="138"/>
                </a:lnTo>
                <a:lnTo>
                  <a:pt x="421" y="142"/>
                </a:lnTo>
                <a:lnTo>
                  <a:pt x="417" y="146"/>
                </a:lnTo>
                <a:lnTo>
                  <a:pt x="413" y="151"/>
                </a:lnTo>
                <a:lnTo>
                  <a:pt x="409" y="155"/>
                </a:lnTo>
                <a:lnTo>
                  <a:pt x="404" y="161"/>
                </a:lnTo>
                <a:lnTo>
                  <a:pt x="398" y="167"/>
                </a:lnTo>
                <a:lnTo>
                  <a:pt x="390" y="174"/>
                </a:lnTo>
                <a:lnTo>
                  <a:pt x="382" y="180"/>
                </a:lnTo>
                <a:lnTo>
                  <a:pt x="375" y="188"/>
                </a:lnTo>
                <a:lnTo>
                  <a:pt x="365" y="195"/>
                </a:lnTo>
                <a:lnTo>
                  <a:pt x="356" y="203"/>
                </a:lnTo>
                <a:lnTo>
                  <a:pt x="346" y="213"/>
                </a:lnTo>
                <a:lnTo>
                  <a:pt x="334" y="220"/>
                </a:lnTo>
                <a:lnTo>
                  <a:pt x="323" y="230"/>
                </a:lnTo>
                <a:lnTo>
                  <a:pt x="310" y="240"/>
                </a:lnTo>
                <a:lnTo>
                  <a:pt x="296" y="251"/>
                </a:lnTo>
                <a:lnTo>
                  <a:pt x="283" y="261"/>
                </a:lnTo>
                <a:lnTo>
                  <a:pt x="267" y="272"/>
                </a:lnTo>
                <a:lnTo>
                  <a:pt x="252" y="284"/>
                </a:lnTo>
                <a:lnTo>
                  <a:pt x="237" y="297"/>
                </a:lnTo>
                <a:lnTo>
                  <a:pt x="219" y="309"/>
                </a:lnTo>
                <a:lnTo>
                  <a:pt x="202" y="322"/>
                </a:lnTo>
                <a:lnTo>
                  <a:pt x="185" y="336"/>
                </a:lnTo>
                <a:lnTo>
                  <a:pt x="166" y="349"/>
                </a:lnTo>
                <a:lnTo>
                  <a:pt x="146" y="364"/>
                </a:lnTo>
                <a:lnTo>
                  <a:pt x="125" y="380"/>
                </a:lnTo>
                <a:lnTo>
                  <a:pt x="104" y="395"/>
                </a:lnTo>
                <a:lnTo>
                  <a:pt x="83" y="410"/>
                </a:lnTo>
                <a:lnTo>
                  <a:pt x="60" y="428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4"/>
          <p:cNvSpPr/>
          <p:nvPr/>
        </p:nvSpPr>
        <p:spPr>
          <a:xfrm>
            <a:off x="6175440" y="3357720"/>
            <a:ext cx="1162080" cy="225360"/>
          </a:xfrm>
          <a:custGeom>
            <a:avLst/>
            <a:gdLst/>
            <a:ahLst/>
            <a:rect l="l" t="t" r="r" b="b"/>
            <a:pathLst>
              <a:path w="1464" h="284">
                <a:moveTo>
                  <a:pt x="1414" y="137"/>
                </a:moveTo>
                <a:lnTo>
                  <a:pt x="1407" y="137"/>
                </a:lnTo>
                <a:lnTo>
                  <a:pt x="1399" y="137"/>
                </a:lnTo>
                <a:lnTo>
                  <a:pt x="1389" y="137"/>
                </a:lnTo>
                <a:lnTo>
                  <a:pt x="1380" y="137"/>
                </a:lnTo>
                <a:lnTo>
                  <a:pt x="1368" y="137"/>
                </a:lnTo>
                <a:lnTo>
                  <a:pt x="1357" y="137"/>
                </a:lnTo>
                <a:lnTo>
                  <a:pt x="1345" y="137"/>
                </a:lnTo>
                <a:lnTo>
                  <a:pt x="1330" y="137"/>
                </a:lnTo>
                <a:lnTo>
                  <a:pt x="1317" y="137"/>
                </a:lnTo>
                <a:lnTo>
                  <a:pt x="1299" y="137"/>
                </a:lnTo>
                <a:lnTo>
                  <a:pt x="1284" y="137"/>
                </a:lnTo>
                <a:lnTo>
                  <a:pt x="1265" y="137"/>
                </a:lnTo>
                <a:lnTo>
                  <a:pt x="1245" y="137"/>
                </a:lnTo>
                <a:lnTo>
                  <a:pt x="1226" y="137"/>
                </a:lnTo>
                <a:lnTo>
                  <a:pt x="1205" y="137"/>
                </a:lnTo>
                <a:lnTo>
                  <a:pt x="1182" y="137"/>
                </a:lnTo>
                <a:lnTo>
                  <a:pt x="1159" y="139"/>
                </a:lnTo>
                <a:lnTo>
                  <a:pt x="1132" y="140"/>
                </a:lnTo>
                <a:lnTo>
                  <a:pt x="1105" y="144"/>
                </a:lnTo>
                <a:lnTo>
                  <a:pt x="1077" y="148"/>
                </a:lnTo>
                <a:lnTo>
                  <a:pt x="1046" y="150"/>
                </a:lnTo>
                <a:lnTo>
                  <a:pt x="1013" y="154"/>
                </a:lnTo>
                <a:lnTo>
                  <a:pt x="979" y="160"/>
                </a:lnTo>
                <a:lnTo>
                  <a:pt x="942" y="163"/>
                </a:lnTo>
                <a:lnTo>
                  <a:pt x="906" y="167"/>
                </a:lnTo>
                <a:lnTo>
                  <a:pt x="865" y="173"/>
                </a:lnTo>
                <a:lnTo>
                  <a:pt x="823" y="179"/>
                </a:lnTo>
                <a:lnTo>
                  <a:pt x="802" y="181"/>
                </a:lnTo>
                <a:lnTo>
                  <a:pt x="779" y="185"/>
                </a:lnTo>
                <a:lnTo>
                  <a:pt x="758" y="186"/>
                </a:lnTo>
                <a:lnTo>
                  <a:pt x="733" y="190"/>
                </a:lnTo>
                <a:lnTo>
                  <a:pt x="710" y="192"/>
                </a:lnTo>
                <a:lnTo>
                  <a:pt x="687" y="196"/>
                </a:lnTo>
                <a:lnTo>
                  <a:pt x="662" y="200"/>
                </a:lnTo>
                <a:lnTo>
                  <a:pt x="637" y="202"/>
                </a:lnTo>
                <a:lnTo>
                  <a:pt x="612" y="206"/>
                </a:lnTo>
                <a:lnTo>
                  <a:pt x="585" y="209"/>
                </a:lnTo>
                <a:lnTo>
                  <a:pt x="558" y="213"/>
                </a:lnTo>
                <a:lnTo>
                  <a:pt x="533" y="219"/>
                </a:lnTo>
                <a:lnTo>
                  <a:pt x="510" y="223"/>
                </a:lnTo>
                <a:lnTo>
                  <a:pt x="485" y="227"/>
                </a:lnTo>
                <a:lnTo>
                  <a:pt x="462" y="231"/>
                </a:lnTo>
                <a:lnTo>
                  <a:pt x="439" y="234"/>
                </a:lnTo>
                <a:lnTo>
                  <a:pt x="418" y="238"/>
                </a:lnTo>
                <a:lnTo>
                  <a:pt x="397" y="242"/>
                </a:lnTo>
                <a:lnTo>
                  <a:pt x="378" y="246"/>
                </a:lnTo>
                <a:lnTo>
                  <a:pt x="359" y="250"/>
                </a:lnTo>
                <a:lnTo>
                  <a:pt x="339" y="252"/>
                </a:lnTo>
                <a:lnTo>
                  <a:pt x="322" y="256"/>
                </a:lnTo>
                <a:lnTo>
                  <a:pt x="305" y="257"/>
                </a:lnTo>
                <a:lnTo>
                  <a:pt x="288" y="261"/>
                </a:lnTo>
                <a:lnTo>
                  <a:pt x="272" y="263"/>
                </a:lnTo>
                <a:lnTo>
                  <a:pt x="259" y="265"/>
                </a:lnTo>
                <a:lnTo>
                  <a:pt x="245" y="269"/>
                </a:lnTo>
                <a:lnTo>
                  <a:pt x="232" y="271"/>
                </a:lnTo>
                <a:lnTo>
                  <a:pt x="218" y="273"/>
                </a:lnTo>
                <a:lnTo>
                  <a:pt x="207" y="275"/>
                </a:lnTo>
                <a:lnTo>
                  <a:pt x="197" y="277"/>
                </a:lnTo>
                <a:lnTo>
                  <a:pt x="188" y="277"/>
                </a:lnTo>
                <a:lnTo>
                  <a:pt x="178" y="279"/>
                </a:lnTo>
                <a:lnTo>
                  <a:pt x="168" y="280"/>
                </a:lnTo>
                <a:lnTo>
                  <a:pt x="163" y="280"/>
                </a:lnTo>
                <a:lnTo>
                  <a:pt x="155" y="282"/>
                </a:lnTo>
                <a:lnTo>
                  <a:pt x="149" y="282"/>
                </a:lnTo>
                <a:lnTo>
                  <a:pt x="144" y="282"/>
                </a:lnTo>
                <a:lnTo>
                  <a:pt x="140" y="284"/>
                </a:lnTo>
                <a:lnTo>
                  <a:pt x="138" y="284"/>
                </a:lnTo>
                <a:lnTo>
                  <a:pt x="134" y="284"/>
                </a:lnTo>
                <a:lnTo>
                  <a:pt x="124" y="284"/>
                </a:lnTo>
                <a:lnTo>
                  <a:pt x="115" y="282"/>
                </a:lnTo>
                <a:lnTo>
                  <a:pt x="105" y="280"/>
                </a:lnTo>
                <a:lnTo>
                  <a:pt x="96" y="277"/>
                </a:lnTo>
                <a:lnTo>
                  <a:pt x="84" y="273"/>
                </a:lnTo>
                <a:lnTo>
                  <a:pt x="72" y="269"/>
                </a:lnTo>
                <a:lnTo>
                  <a:pt x="61" y="263"/>
                </a:lnTo>
                <a:lnTo>
                  <a:pt x="48" y="259"/>
                </a:lnTo>
                <a:lnTo>
                  <a:pt x="42" y="257"/>
                </a:lnTo>
                <a:lnTo>
                  <a:pt x="34" y="254"/>
                </a:lnTo>
                <a:lnTo>
                  <a:pt x="30" y="252"/>
                </a:lnTo>
                <a:lnTo>
                  <a:pt x="24" y="248"/>
                </a:lnTo>
                <a:lnTo>
                  <a:pt x="21" y="244"/>
                </a:lnTo>
                <a:lnTo>
                  <a:pt x="17" y="242"/>
                </a:lnTo>
                <a:lnTo>
                  <a:pt x="9" y="234"/>
                </a:lnTo>
                <a:lnTo>
                  <a:pt x="5" y="227"/>
                </a:lnTo>
                <a:lnTo>
                  <a:pt x="1" y="221"/>
                </a:lnTo>
                <a:lnTo>
                  <a:pt x="0" y="215"/>
                </a:lnTo>
                <a:lnTo>
                  <a:pt x="0" y="209"/>
                </a:lnTo>
                <a:lnTo>
                  <a:pt x="0" y="208"/>
                </a:lnTo>
                <a:lnTo>
                  <a:pt x="1" y="206"/>
                </a:lnTo>
                <a:lnTo>
                  <a:pt x="3" y="204"/>
                </a:lnTo>
                <a:lnTo>
                  <a:pt x="5" y="202"/>
                </a:lnTo>
                <a:lnTo>
                  <a:pt x="9" y="202"/>
                </a:lnTo>
                <a:lnTo>
                  <a:pt x="15" y="200"/>
                </a:lnTo>
                <a:lnTo>
                  <a:pt x="19" y="198"/>
                </a:lnTo>
                <a:lnTo>
                  <a:pt x="24" y="198"/>
                </a:lnTo>
                <a:lnTo>
                  <a:pt x="32" y="196"/>
                </a:lnTo>
                <a:lnTo>
                  <a:pt x="40" y="194"/>
                </a:lnTo>
                <a:lnTo>
                  <a:pt x="48" y="194"/>
                </a:lnTo>
                <a:lnTo>
                  <a:pt x="55" y="192"/>
                </a:lnTo>
                <a:lnTo>
                  <a:pt x="65" y="190"/>
                </a:lnTo>
                <a:lnTo>
                  <a:pt x="74" y="188"/>
                </a:lnTo>
                <a:lnTo>
                  <a:pt x="86" y="186"/>
                </a:lnTo>
                <a:lnTo>
                  <a:pt x="97" y="185"/>
                </a:lnTo>
                <a:lnTo>
                  <a:pt x="109" y="185"/>
                </a:lnTo>
                <a:lnTo>
                  <a:pt x="122" y="185"/>
                </a:lnTo>
                <a:lnTo>
                  <a:pt x="136" y="183"/>
                </a:lnTo>
                <a:lnTo>
                  <a:pt x="151" y="183"/>
                </a:lnTo>
                <a:lnTo>
                  <a:pt x="168" y="181"/>
                </a:lnTo>
                <a:lnTo>
                  <a:pt x="186" y="179"/>
                </a:lnTo>
                <a:lnTo>
                  <a:pt x="205" y="177"/>
                </a:lnTo>
                <a:lnTo>
                  <a:pt x="224" y="175"/>
                </a:lnTo>
                <a:lnTo>
                  <a:pt x="245" y="171"/>
                </a:lnTo>
                <a:lnTo>
                  <a:pt x="268" y="167"/>
                </a:lnTo>
                <a:lnTo>
                  <a:pt x="291" y="163"/>
                </a:lnTo>
                <a:lnTo>
                  <a:pt x="316" y="160"/>
                </a:lnTo>
                <a:lnTo>
                  <a:pt x="341" y="154"/>
                </a:lnTo>
                <a:lnTo>
                  <a:pt x="368" y="148"/>
                </a:lnTo>
                <a:lnTo>
                  <a:pt x="397" y="142"/>
                </a:lnTo>
                <a:lnTo>
                  <a:pt x="426" y="137"/>
                </a:lnTo>
                <a:lnTo>
                  <a:pt x="481" y="127"/>
                </a:lnTo>
                <a:lnTo>
                  <a:pt x="539" y="117"/>
                </a:lnTo>
                <a:lnTo>
                  <a:pt x="597" y="106"/>
                </a:lnTo>
                <a:lnTo>
                  <a:pt x="656" y="96"/>
                </a:lnTo>
                <a:lnTo>
                  <a:pt x="718" y="87"/>
                </a:lnTo>
                <a:lnTo>
                  <a:pt x="750" y="81"/>
                </a:lnTo>
                <a:lnTo>
                  <a:pt x="781" y="75"/>
                </a:lnTo>
                <a:lnTo>
                  <a:pt x="814" y="68"/>
                </a:lnTo>
                <a:lnTo>
                  <a:pt x="846" y="62"/>
                </a:lnTo>
                <a:lnTo>
                  <a:pt x="881" y="56"/>
                </a:lnTo>
                <a:lnTo>
                  <a:pt x="915" y="48"/>
                </a:lnTo>
                <a:lnTo>
                  <a:pt x="946" y="43"/>
                </a:lnTo>
                <a:lnTo>
                  <a:pt x="975" y="35"/>
                </a:lnTo>
                <a:lnTo>
                  <a:pt x="1004" y="29"/>
                </a:lnTo>
                <a:lnTo>
                  <a:pt x="1030" y="25"/>
                </a:lnTo>
                <a:lnTo>
                  <a:pt x="1057" y="20"/>
                </a:lnTo>
                <a:lnTo>
                  <a:pt x="1082" y="16"/>
                </a:lnTo>
                <a:lnTo>
                  <a:pt x="1105" y="14"/>
                </a:lnTo>
                <a:lnTo>
                  <a:pt x="1126" y="10"/>
                </a:lnTo>
                <a:lnTo>
                  <a:pt x="1148" y="8"/>
                </a:lnTo>
                <a:lnTo>
                  <a:pt x="1167" y="4"/>
                </a:lnTo>
                <a:lnTo>
                  <a:pt x="1184" y="4"/>
                </a:lnTo>
                <a:lnTo>
                  <a:pt x="1201" y="2"/>
                </a:lnTo>
                <a:lnTo>
                  <a:pt x="1217" y="0"/>
                </a:lnTo>
                <a:lnTo>
                  <a:pt x="1230" y="0"/>
                </a:lnTo>
                <a:lnTo>
                  <a:pt x="1244" y="0"/>
                </a:lnTo>
                <a:lnTo>
                  <a:pt x="1257" y="0"/>
                </a:lnTo>
                <a:lnTo>
                  <a:pt x="1274" y="0"/>
                </a:lnTo>
                <a:lnTo>
                  <a:pt x="1293" y="2"/>
                </a:lnTo>
                <a:lnTo>
                  <a:pt x="1311" y="4"/>
                </a:lnTo>
                <a:lnTo>
                  <a:pt x="1330" y="6"/>
                </a:lnTo>
                <a:lnTo>
                  <a:pt x="1347" y="10"/>
                </a:lnTo>
                <a:lnTo>
                  <a:pt x="1365" y="16"/>
                </a:lnTo>
                <a:lnTo>
                  <a:pt x="1403" y="25"/>
                </a:lnTo>
                <a:lnTo>
                  <a:pt x="1414" y="33"/>
                </a:lnTo>
                <a:lnTo>
                  <a:pt x="1428" y="43"/>
                </a:lnTo>
                <a:lnTo>
                  <a:pt x="1437" y="52"/>
                </a:lnTo>
                <a:lnTo>
                  <a:pt x="1447" y="60"/>
                </a:lnTo>
                <a:lnTo>
                  <a:pt x="1453" y="68"/>
                </a:lnTo>
                <a:lnTo>
                  <a:pt x="1457" y="71"/>
                </a:lnTo>
                <a:lnTo>
                  <a:pt x="1459" y="75"/>
                </a:lnTo>
                <a:lnTo>
                  <a:pt x="1461" y="77"/>
                </a:lnTo>
                <a:lnTo>
                  <a:pt x="1462" y="81"/>
                </a:lnTo>
                <a:lnTo>
                  <a:pt x="1462" y="83"/>
                </a:lnTo>
                <a:lnTo>
                  <a:pt x="1464" y="87"/>
                </a:lnTo>
                <a:lnTo>
                  <a:pt x="1462" y="94"/>
                </a:lnTo>
                <a:lnTo>
                  <a:pt x="1461" y="102"/>
                </a:lnTo>
                <a:lnTo>
                  <a:pt x="1457" y="110"/>
                </a:lnTo>
                <a:lnTo>
                  <a:pt x="1453" y="115"/>
                </a:lnTo>
                <a:lnTo>
                  <a:pt x="1445" y="121"/>
                </a:lnTo>
                <a:lnTo>
                  <a:pt x="1441" y="123"/>
                </a:lnTo>
                <a:lnTo>
                  <a:pt x="1437" y="127"/>
                </a:lnTo>
                <a:lnTo>
                  <a:pt x="1432" y="129"/>
                </a:lnTo>
                <a:lnTo>
                  <a:pt x="1428" y="131"/>
                </a:lnTo>
                <a:lnTo>
                  <a:pt x="1420" y="133"/>
                </a:lnTo>
                <a:lnTo>
                  <a:pt x="1414" y="137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35"/>
          <p:cNvSpPr/>
          <p:nvPr/>
        </p:nvSpPr>
        <p:spPr>
          <a:xfrm>
            <a:off x="6489720" y="3514680"/>
            <a:ext cx="147600" cy="1465200"/>
          </a:xfrm>
          <a:custGeom>
            <a:avLst/>
            <a:gdLst/>
            <a:ahLst/>
            <a:rect l="l" t="t" r="r" b="b"/>
            <a:pathLst>
              <a:path w="184" h="1845">
                <a:moveTo>
                  <a:pt x="6" y="1673"/>
                </a:moveTo>
                <a:lnTo>
                  <a:pt x="4" y="1665"/>
                </a:lnTo>
                <a:lnTo>
                  <a:pt x="2" y="1656"/>
                </a:lnTo>
                <a:lnTo>
                  <a:pt x="0" y="1646"/>
                </a:lnTo>
                <a:lnTo>
                  <a:pt x="0" y="1634"/>
                </a:lnTo>
                <a:lnTo>
                  <a:pt x="0" y="1623"/>
                </a:lnTo>
                <a:lnTo>
                  <a:pt x="2" y="1609"/>
                </a:lnTo>
                <a:lnTo>
                  <a:pt x="2" y="1594"/>
                </a:lnTo>
                <a:lnTo>
                  <a:pt x="4" y="1579"/>
                </a:lnTo>
                <a:lnTo>
                  <a:pt x="6" y="1562"/>
                </a:lnTo>
                <a:lnTo>
                  <a:pt x="8" y="1544"/>
                </a:lnTo>
                <a:lnTo>
                  <a:pt x="10" y="1525"/>
                </a:lnTo>
                <a:lnTo>
                  <a:pt x="13" y="1504"/>
                </a:lnTo>
                <a:lnTo>
                  <a:pt x="17" y="1483"/>
                </a:lnTo>
                <a:lnTo>
                  <a:pt x="21" y="1460"/>
                </a:lnTo>
                <a:lnTo>
                  <a:pt x="25" y="1437"/>
                </a:lnTo>
                <a:lnTo>
                  <a:pt x="29" y="1412"/>
                </a:lnTo>
                <a:lnTo>
                  <a:pt x="31" y="1400"/>
                </a:lnTo>
                <a:lnTo>
                  <a:pt x="31" y="1387"/>
                </a:lnTo>
                <a:lnTo>
                  <a:pt x="33" y="1375"/>
                </a:lnTo>
                <a:lnTo>
                  <a:pt x="33" y="1360"/>
                </a:lnTo>
                <a:lnTo>
                  <a:pt x="34" y="1347"/>
                </a:lnTo>
                <a:lnTo>
                  <a:pt x="36" y="1331"/>
                </a:lnTo>
                <a:lnTo>
                  <a:pt x="36" y="1316"/>
                </a:lnTo>
                <a:lnTo>
                  <a:pt x="38" y="1301"/>
                </a:lnTo>
                <a:lnTo>
                  <a:pt x="38" y="1283"/>
                </a:lnTo>
                <a:lnTo>
                  <a:pt x="40" y="1266"/>
                </a:lnTo>
                <a:lnTo>
                  <a:pt x="40" y="1249"/>
                </a:lnTo>
                <a:lnTo>
                  <a:pt x="42" y="1230"/>
                </a:lnTo>
                <a:lnTo>
                  <a:pt x="44" y="1210"/>
                </a:lnTo>
                <a:lnTo>
                  <a:pt x="44" y="1191"/>
                </a:lnTo>
                <a:lnTo>
                  <a:pt x="44" y="1170"/>
                </a:lnTo>
                <a:lnTo>
                  <a:pt x="46" y="1151"/>
                </a:lnTo>
                <a:lnTo>
                  <a:pt x="46" y="1128"/>
                </a:lnTo>
                <a:lnTo>
                  <a:pt x="48" y="1107"/>
                </a:lnTo>
                <a:lnTo>
                  <a:pt x="48" y="1084"/>
                </a:lnTo>
                <a:lnTo>
                  <a:pt x="50" y="1061"/>
                </a:lnTo>
                <a:lnTo>
                  <a:pt x="50" y="1036"/>
                </a:lnTo>
                <a:lnTo>
                  <a:pt x="50" y="1011"/>
                </a:lnTo>
                <a:lnTo>
                  <a:pt x="52" y="986"/>
                </a:lnTo>
                <a:lnTo>
                  <a:pt x="52" y="961"/>
                </a:lnTo>
                <a:lnTo>
                  <a:pt x="52" y="934"/>
                </a:lnTo>
                <a:lnTo>
                  <a:pt x="52" y="907"/>
                </a:lnTo>
                <a:lnTo>
                  <a:pt x="54" y="879"/>
                </a:lnTo>
                <a:lnTo>
                  <a:pt x="54" y="850"/>
                </a:lnTo>
                <a:lnTo>
                  <a:pt x="54" y="821"/>
                </a:lnTo>
                <a:lnTo>
                  <a:pt x="54" y="792"/>
                </a:lnTo>
                <a:lnTo>
                  <a:pt x="54" y="762"/>
                </a:lnTo>
                <a:lnTo>
                  <a:pt x="54" y="731"/>
                </a:lnTo>
                <a:lnTo>
                  <a:pt x="54" y="698"/>
                </a:lnTo>
                <a:lnTo>
                  <a:pt x="54" y="668"/>
                </a:lnTo>
                <a:lnTo>
                  <a:pt x="54" y="639"/>
                </a:lnTo>
                <a:lnTo>
                  <a:pt x="54" y="610"/>
                </a:lnTo>
                <a:lnTo>
                  <a:pt x="54" y="581"/>
                </a:lnTo>
                <a:lnTo>
                  <a:pt x="52" y="552"/>
                </a:lnTo>
                <a:lnTo>
                  <a:pt x="52" y="526"/>
                </a:lnTo>
                <a:lnTo>
                  <a:pt x="52" y="497"/>
                </a:lnTo>
                <a:lnTo>
                  <a:pt x="52" y="472"/>
                </a:lnTo>
                <a:lnTo>
                  <a:pt x="50" y="445"/>
                </a:lnTo>
                <a:lnTo>
                  <a:pt x="50" y="420"/>
                </a:lnTo>
                <a:lnTo>
                  <a:pt x="50" y="395"/>
                </a:lnTo>
                <a:lnTo>
                  <a:pt x="48" y="370"/>
                </a:lnTo>
                <a:lnTo>
                  <a:pt x="48" y="345"/>
                </a:lnTo>
                <a:lnTo>
                  <a:pt x="46" y="322"/>
                </a:lnTo>
                <a:lnTo>
                  <a:pt x="46" y="299"/>
                </a:lnTo>
                <a:lnTo>
                  <a:pt x="44" y="278"/>
                </a:lnTo>
                <a:lnTo>
                  <a:pt x="44" y="255"/>
                </a:lnTo>
                <a:lnTo>
                  <a:pt x="44" y="234"/>
                </a:lnTo>
                <a:lnTo>
                  <a:pt x="42" y="213"/>
                </a:lnTo>
                <a:lnTo>
                  <a:pt x="40" y="192"/>
                </a:lnTo>
                <a:lnTo>
                  <a:pt x="40" y="173"/>
                </a:lnTo>
                <a:lnTo>
                  <a:pt x="38" y="153"/>
                </a:lnTo>
                <a:lnTo>
                  <a:pt x="38" y="134"/>
                </a:lnTo>
                <a:lnTo>
                  <a:pt x="36" y="98"/>
                </a:lnTo>
                <a:lnTo>
                  <a:pt x="33" y="63"/>
                </a:lnTo>
                <a:lnTo>
                  <a:pt x="31" y="31"/>
                </a:lnTo>
                <a:lnTo>
                  <a:pt x="29" y="0"/>
                </a:lnTo>
                <a:lnTo>
                  <a:pt x="44" y="11"/>
                </a:lnTo>
                <a:lnTo>
                  <a:pt x="59" y="23"/>
                </a:lnTo>
                <a:lnTo>
                  <a:pt x="73" y="35"/>
                </a:lnTo>
                <a:lnTo>
                  <a:pt x="86" y="46"/>
                </a:lnTo>
                <a:lnTo>
                  <a:pt x="98" y="58"/>
                </a:lnTo>
                <a:lnTo>
                  <a:pt x="109" y="67"/>
                </a:lnTo>
                <a:lnTo>
                  <a:pt x="121" y="79"/>
                </a:lnTo>
                <a:lnTo>
                  <a:pt x="130" y="90"/>
                </a:lnTo>
                <a:lnTo>
                  <a:pt x="138" y="100"/>
                </a:lnTo>
                <a:lnTo>
                  <a:pt x="146" y="109"/>
                </a:lnTo>
                <a:lnTo>
                  <a:pt x="154" y="119"/>
                </a:lnTo>
                <a:lnTo>
                  <a:pt x="159" y="129"/>
                </a:lnTo>
                <a:lnTo>
                  <a:pt x="165" y="136"/>
                </a:lnTo>
                <a:lnTo>
                  <a:pt x="169" y="146"/>
                </a:lnTo>
                <a:lnTo>
                  <a:pt x="173" y="153"/>
                </a:lnTo>
                <a:lnTo>
                  <a:pt x="177" y="161"/>
                </a:lnTo>
                <a:lnTo>
                  <a:pt x="177" y="165"/>
                </a:lnTo>
                <a:lnTo>
                  <a:pt x="178" y="171"/>
                </a:lnTo>
                <a:lnTo>
                  <a:pt x="178" y="178"/>
                </a:lnTo>
                <a:lnTo>
                  <a:pt x="178" y="188"/>
                </a:lnTo>
                <a:lnTo>
                  <a:pt x="180" y="196"/>
                </a:lnTo>
                <a:lnTo>
                  <a:pt x="180" y="207"/>
                </a:lnTo>
                <a:lnTo>
                  <a:pt x="182" y="219"/>
                </a:lnTo>
                <a:lnTo>
                  <a:pt x="182" y="230"/>
                </a:lnTo>
                <a:lnTo>
                  <a:pt x="182" y="244"/>
                </a:lnTo>
                <a:lnTo>
                  <a:pt x="182" y="257"/>
                </a:lnTo>
                <a:lnTo>
                  <a:pt x="184" y="274"/>
                </a:lnTo>
                <a:lnTo>
                  <a:pt x="184" y="290"/>
                </a:lnTo>
                <a:lnTo>
                  <a:pt x="184" y="307"/>
                </a:lnTo>
                <a:lnTo>
                  <a:pt x="184" y="326"/>
                </a:lnTo>
                <a:lnTo>
                  <a:pt x="184" y="345"/>
                </a:lnTo>
                <a:lnTo>
                  <a:pt x="184" y="366"/>
                </a:lnTo>
                <a:lnTo>
                  <a:pt x="184" y="387"/>
                </a:lnTo>
                <a:lnTo>
                  <a:pt x="184" y="411"/>
                </a:lnTo>
                <a:lnTo>
                  <a:pt x="184" y="435"/>
                </a:lnTo>
                <a:lnTo>
                  <a:pt x="184" y="460"/>
                </a:lnTo>
                <a:lnTo>
                  <a:pt x="184" y="485"/>
                </a:lnTo>
                <a:lnTo>
                  <a:pt x="182" y="512"/>
                </a:lnTo>
                <a:lnTo>
                  <a:pt x="182" y="541"/>
                </a:lnTo>
                <a:lnTo>
                  <a:pt x="182" y="570"/>
                </a:lnTo>
                <a:lnTo>
                  <a:pt x="182" y="600"/>
                </a:lnTo>
                <a:lnTo>
                  <a:pt x="180" y="631"/>
                </a:lnTo>
                <a:lnTo>
                  <a:pt x="180" y="664"/>
                </a:lnTo>
                <a:lnTo>
                  <a:pt x="178" y="698"/>
                </a:lnTo>
                <a:lnTo>
                  <a:pt x="178" y="733"/>
                </a:lnTo>
                <a:lnTo>
                  <a:pt x="178" y="767"/>
                </a:lnTo>
                <a:lnTo>
                  <a:pt x="177" y="804"/>
                </a:lnTo>
                <a:lnTo>
                  <a:pt x="177" y="842"/>
                </a:lnTo>
                <a:lnTo>
                  <a:pt x="175" y="881"/>
                </a:lnTo>
                <a:lnTo>
                  <a:pt x="173" y="917"/>
                </a:lnTo>
                <a:lnTo>
                  <a:pt x="173" y="953"/>
                </a:lnTo>
                <a:lnTo>
                  <a:pt x="171" y="988"/>
                </a:lnTo>
                <a:lnTo>
                  <a:pt x="171" y="1022"/>
                </a:lnTo>
                <a:lnTo>
                  <a:pt x="169" y="1057"/>
                </a:lnTo>
                <a:lnTo>
                  <a:pt x="167" y="1090"/>
                </a:lnTo>
                <a:lnTo>
                  <a:pt x="167" y="1120"/>
                </a:lnTo>
                <a:lnTo>
                  <a:pt x="165" y="1153"/>
                </a:lnTo>
                <a:lnTo>
                  <a:pt x="165" y="1182"/>
                </a:lnTo>
                <a:lnTo>
                  <a:pt x="163" y="1212"/>
                </a:lnTo>
                <a:lnTo>
                  <a:pt x="161" y="1241"/>
                </a:lnTo>
                <a:lnTo>
                  <a:pt x="161" y="1268"/>
                </a:lnTo>
                <a:lnTo>
                  <a:pt x="159" y="1295"/>
                </a:lnTo>
                <a:lnTo>
                  <a:pt x="159" y="1322"/>
                </a:lnTo>
                <a:lnTo>
                  <a:pt x="157" y="1347"/>
                </a:lnTo>
                <a:lnTo>
                  <a:pt x="155" y="1372"/>
                </a:lnTo>
                <a:lnTo>
                  <a:pt x="155" y="1395"/>
                </a:lnTo>
                <a:lnTo>
                  <a:pt x="154" y="1418"/>
                </a:lnTo>
                <a:lnTo>
                  <a:pt x="154" y="1441"/>
                </a:lnTo>
                <a:lnTo>
                  <a:pt x="152" y="1462"/>
                </a:lnTo>
                <a:lnTo>
                  <a:pt x="150" y="1483"/>
                </a:lnTo>
                <a:lnTo>
                  <a:pt x="150" y="1502"/>
                </a:lnTo>
                <a:lnTo>
                  <a:pt x="148" y="1521"/>
                </a:lnTo>
                <a:lnTo>
                  <a:pt x="148" y="1540"/>
                </a:lnTo>
                <a:lnTo>
                  <a:pt x="146" y="1558"/>
                </a:lnTo>
                <a:lnTo>
                  <a:pt x="144" y="1573"/>
                </a:lnTo>
                <a:lnTo>
                  <a:pt x="144" y="1590"/>
                </a:lnTo>
                <a:lnTo>
                  <a:pt x="142" y="1606"/>
                </a:lnTo>
                <a:lnTo>
                  <a:pt x="142" y="1619"/>
                </a:lnTo>
                <a:lnTo>
                  <a:pt x="140" y="1634"/>
                </a:lnTo>
                <a:lnTo>
                  <a:pt x="140" y="1648"/>
                </a:lnTo>
                <a:lnTo>
                  <a:pt x="136" y="1671"/>
                </a:lnTo>
                <a:lnTo>
                  <a:pt x="134" y="1694"/>
                </a:lnTo>
                <a:lnTo>
                  <a:pt x="130" y="1715"/>
                </a:lnTo>
                <a:lnTo>
                  <a:pt x="129" y="1736"/>
                </a:lnTo>
                <a:lnTo>
                  <a:pt x="125" y="1753"/>
                </a:lnTo>
                <a:lnTo>
                  <a:pt x="121" y="1769"/>
                </a:lnTo>
                <a:lnTo>
                  <a:pt x="119" y="1784"/>
                </a:lnTo>
                <a:lnTo>
                  <a:pt x="115" y="1797"/>
                </a:lnTo>
                <a:lnTo>
                  <a:pt x="111" y="1809"/>
                </a:lnTo>
                <a:lnTo>
                  <a:pt x="107" y="1819"/>
                </a:lnTo>
                <a:lnTo>
                  <a:pt x="106" y="1826"/>
                </a:lnTo>
                <a:lnTo>
                  <a:pt x="102" y="1834"/>
                </a:lnTo>
                <a:lnTo>
                  <a:pt x="98" y="1840"/>
                </a:lnTo>
                <a:lnTo>
                  <a:pt x="96" y="1842"/>
                </a:lnTo>
                <a:lnTo>
                  <a:pt x="92" y="1845"/>
                </a:lnTo>
                <a:lnTo>
                  <a:pt x="90" y="1845"/>
                </a:lnTo>
                <a:lnTo>
                  <a:pt x="84" y="1845"/>
                </a:lnTo>
                <a:lnTo>
                  <a:pt x="79" y="1844"/>
                </a:lnTo>
                <a:lnTo>
                  <a:pt x="73" y="1840"/>
                </a:lnTo>
                <a:lnTo>
                  <a:pt x="65" y="1834"/>
                </a:lnTo>
                <a:lnTo>
                  <a:pt x="59" y="1828"/>
                </a:lnTo>
                <a:lnTo>
                  <a:pt x="56" y="1824"/>
                </a:lnTo>
                <a:lnTo>
                  <a:pt x="52" y="1819"/>
                </a:lnTo>
                <a:lnTo>
                  <a:pt x="50" y="1815"/>
                </a:lnTo>
                <a:lnTo>
                  <a:pt x="46" y="1809"/>
                </a:lnTo>
                <a:lnTo>
                  <a:pt x="44" y="1803"/>
                </a:lnTo>
                <a:lnTo>
                  <a:pt x="42" y="1796"/>
                </a:lnTo>
                <a:lnTo>
                  <a:pt x="36" y="1780"/>
                </a:lnTo>
                <a:lnTo>
                  <a:pt x="33" y="1765"/>
                </a:lnTo>
                <a:lnTo>
                  <a:pt x="29" y="1750"/>
                </a:lnTo>
                <a:lnTo>
                  <a:pt x="23" y="1734"/>
                </a:lnTo>
                <a:lnTo>
                  <a:pt x="19" y="1717"/>
                </a:lnTo>
                <a:lnTo>
                  <a:pt x="13" y="1702"/>
                </a:lnTo>
                <a:lnTo>
                  <a:pt x="10" y="1686"/>
                </a:lnTo>
                <a:lnTo>
                  <a:pt x="6" y="1673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36"/>
          <p:cNvSpPr/>
          <p:nvPr/>
        </p:nvSpPr>
        <p:spPr>
          <a:xfrm>
            <a:off x="6253200" y="3603600"/>
            <a:ext cx="1106280" cy="511200"/>
          </a:xfrm>
          <a:custGeom>
            <a:avLst/>
            <a:gdLst/>
            <a:ahLst/>
            <a:rect l="l" t="t" r="r" b="b"/>
            <a:pathLst>
              <a:path w="1394" h="645">
                <a:moveTo>
                  <a:pt x="1390" y="150"/>
                </a:moveTo>
                <a:lnTo>
                  <a:pt x="1390" y="154"/>
                </a:lnTo>
                <a:lnTo>
                  <a:pt x="1388" y="158"/>
                </a:lnTo>
                <a:lnTo>
                  <a:pt x="1385" y="163"/>
                </a:lnTo>
                <a:lnTo>
                  <a:pt x="1381" y="167"/>
                </a:lnTo>
                <a:lnTo>
                  <a:pt x="1377" y="171"/>
                </a:lnTo>
                <a:lnTo>
                  <a:pt x="1369" y="177"/>
                </a:lnTo>
                <a:lnTo>
                  <a:pt x="1362" y="181"/>
                </a:lnTo>
                <a:lnTo>
                  <a:pt x="1354" y="186"/>
                </a:lnTo>
                <a:lnTo>
                  <a:pt x="1350" y="188"/>
                </a:lnTo>
                <a:lnTo>
                  <a:pt x="1344" y="192"/>
                </a:lnTo>
                <a:lnTo>
                  <a:pt x="1340" y="196"/>
                </a:lnTo>
                <a:lnTo>
                  <a:pt x="1337" y="202"/>
                </a:lnTo>
                <a:lnTo>
                  <a:pt x="1331" y="207"/>
                </a:lnTo>
                <a:lnTo>
                  <a:pt x="1327" y="213"/>
                </a:lnTo>
                <a:lnTo>
                  <a:pt x="1321" y="221"/>
                </a:lnTo>
                <a:lnTo>
                  <a:pt x="1317" y="229"/>
                </a:lnTo>
                <a:lnTo>
                  <a:pt x="1314" y="238"/>
                </a:lnTo>
                <a:lnTo>
                  <a:pt x="1308" y="246"/>
                </a:lnTo>
                <a:lnTo>
                  <a:pt x="1304" y="255"/>
                </a:lnTo>
                <a:lnTo>
                  <a:pt x="1298" y="267"/>
                </a:lnTo>
                <a:lnTo>
                  <a:pt x="1291" y="288"/>
                </a:lnTo>
                <a:lnTo>
                  <a:pt x="1281" y="311"/>
                </a:lnTo>
                <a:lnTo>
                  <a:pt x="1277" y="324"/>
                </a:lnTo>
                <a:lnTo>
                  <a:pt x="1271" y="340"/>
                </a:lnTo>
                <a:lnTo>
                  <a:pt x="1266" y="355"/>
                </a:lnTo>
                <a:lnTo>
                  <a:pt x="1260" y="372"/>
                </a:lnTo>
                <a:lnTo>
                  <a:pt x="1254" y="390"/>
                </a:lnTo>
                <a:lnTo>
                  <a:pt x="1248" y="409"/>
                </a:lnTo>
                <a:lnTo>
                  <a:pt x="1243" y="428"/>
                </a:lnTo>
                <a:lnTo>
                  <a:pt x="1237" y="449"/>
                </a:lnTo>
                <a:lnTo>
                  <a:pt x="1229" y="470"/>
                </a:lnTo>
                <a:lnTo>
                  <a:pt x="1223" y="493"/>
                </a:lnTo>
                <a:lnTo>
                  <a:pt x="1218" y="516"/>
                </a:lnTo>
                <a:lnTo>
                  <a:pt x="1210" y="539"/>
                </a:lnTo>
                <a:lnTo>
                  <a:pt x="1204" y="564"/>
                </a:lnTo>
                <a:lnTo>
                  <a:pt x="1196" y="589"/>
                </a:lnTo>
                <a:lnTo>
                  <a:pt x="1191" y="616"/>
                </a:lnTo>
                <a:lnTo>
                  <a:pt x="1183" y="645"/>
                </a:lnTo>
                <a:lnTo>
                  <a:pt x="1085" y="645"/>
                </a:lnTo>
                <a:lnTo>
                  <a:pt x="1089" y="618"/>
                </a:lnTo>
                <a:lnTo>
                  <a:pt x="1095" y="595"/>
                </a:lnTo>
                <a:lnTo>
                  <a:pt x="1099" y="570"/>
                </a:lnTo>
                <a:lnTo>
                  <a:pt x="1102" y="547"/>
                </a:lnTo>
                <a:lnTo>
                  <a:pt x="1108" y="524"/>
                </a:lnTo>
                <a:lnTo>
                  <a:pt x="1112" y="501"/>
                </a:lnTo>
                <a:lnTo>
                  <a:pt x="1116" y="480"/>
                </a:lnTo>
                <a:lnTo>
                  <a:pt x="1120" y="459"/>
                </a:lnTo>
                <a:lnTo>
                  <a:pt x="1124" y="438"/>
                </a:lnTo>
                <a:lnTo>
                  <a:pt x="1127" y="418"/>
                </a:lnTo>
                <a:lnTo>
                  <a:pt x="1131" y="399"/>
                </a:lnTo>
                <a:lnTo>
                  <a:pt x="1135" y="380"/>
                </a:lnTo>
                <a:lnTo>
                  <a:pt x="1139" y="361"/>
                </a:lnTo>
                <a:lnTo>
                  <a:pt x="1141" y="344"/>
                </a:lnTo>
                <a:lnTo>
                  <a:pt x="1145" y="326"/>
                </a:lnTo>
                <a:lnTo>
                  <a:pt x="1147" y="311"/>
                </a:lnTo>
                <a:lnTo>
                  <a:pt x="1148" y="294"/>
                </a:lnTo>
                <a:lnTo>
                  <a:pt x="1150" y="278"/>
                </a:lnTo>
                <a:lnTo>
                  <a:pt x="1152" y="265"/>
                </a:lnTo>
                <a:lnTo>
                  <a:pt x="1152" y="252"/>
                </a:lnTo>
                <a:lnTo>
                  <a:pt x="1154" y="238"/>
                </a:lnTo>
                <a:lnTo>
                  <a:pt x="1154" y="227"/>
                </a:lnTo>
                <a:lnTo>
                  <a:pt x="1154" y="217"/>
                </a:lnTo>
                <a:lnTo>
                  <a:pt x="1156" y="206"/>
                </a:lnTo>
                <a:lnTo>
                  <a:pt x="1154" y="196"/>
                </a:lnTo>
                <a:lnTo>
                  <a:pt x="1154" y="188"/>
                </a:lnTo>
                <a:lnTo>
                  <a:pt x="1154" y="181"/>
                </a:lnTo>
                <a:lnTo>
                  <a:pt x="1152" y="173"/>
                </a:lnTo>
                <a:lnTo>
                  <a:pt x="1152" y="165"/>
                </a:lnTo>
                <a:lnTo>
                  <a:pt x="1150" y="159"/>
                </a:lnTo>
                <a:lnTo>
                  <a:pt x="1148" y="154"/>
                </a:lnTo>
                <a:lnTo>
                  <a:pt x="1147" y="150"/>
                </a:lnTo>
                <a:lnTo>
                  <a:pt x="1145" y="148"/>
                </a:lnTo>
                <a:lnTo>
                  <a:pt x="1141" y="146"/>
                </a:lnTo>
                <a:lnTo>
                  <a:pt x="1137" y="146"/>
                </a:lnTo>
                <a:lnTo>
                  <a:pt x="1131" y="146"/>
                </a:lnTo>
                <a:lnTo>
                  <a:pt x="1125" y="144"/>
                </a:lnTo>
                <a:lnTo>
                  <a:pt x="1120" y="144"/>
                </a:lnTo>
                <a:lnTo>
                  <a:pt x="1112" y="144"/>
                </a:lnTo>
                <a:lnTo>
                  <a:pt x="1102" y="144"/>
                </a:lnTo>
                <a:lnTo>
                  <a:pt x="1095" y="144"/>
                </a:lnTo>
                <a:lnTo>
                  <a:pt x="1085" y="144"/>
                </a:lnTo>
                <a:lnTo>
                  <a:pt x="1074" y="144"/>
                </a:lnTo>
                <a:lnTo>
                  <a:pt x="1062" y="146"/>
                </a:lnTo>
                <a:lnTo>
                  <a:pt x="1051" y="146"/>
                </a:lnTo>
                <a:lnTo>
                  <a:pt x="1037" y="146"/>
                </a:lnTo>
                <a:lnTo>
                  <a:pt x="1024" y="148"/>
                </a:lnTo>
                <a:lnTo>
                  <a:pt x="1010" y="148"/>
                </a:lnTo>
                <a:lnTo>
                  <a:pt x="995" y="150"/>
                </a:lnTo>
                <a:lnTo>
                  <a:pt x="978" y="152"/>
                </a:lnTo>
                <a:lnTo>
                  <a:pt x="960" y="152"/>
                </a:lnTo>
                <a:lnTo>
                  <a:pt x="943" y="154"/>
                </a:lnTo>
                <a:lnTo>
                  <a:pt x="926" y="156"/>
                </a:lnTo>
                <a:lnTo>
                  <a:pt x="907" y="158"/>
                </a:lnTo>
                <a:lnTo>
                  <a:pt x="885" y="159"/>
                </a:lnTo>
                <a:lnTo>
                  <a:pt x="864" y="161"/>
                </a:lnTo>
                <a:lnTo>
                  <a:pt x="843" y="165"/>
                </a:lnTo>
                <a:lnTo>
                  <a:pt x="820" y="167"/>
                </a:lnTo>
                <a:lnTo>
                  <a:pt x="797" y="169"/>
                </a:lnTo>
                <a:lnTo>
                  <a:pt x="774" y="173"/>
                </a:lnTo>
                <a:lnTo>
                  <a:pt x="749" y="175"/>
                </a:lnTo>
                <a:lnTo>
                  <a:pt x="724" y="179"/>
                </a:lnTo>
                <a:lnTo>
                  <a:pt x="697" y="182"/>
                </a:lnTo>
                <a:lnTo>
                  <a:pt x="670" y="186"/>
                </a:lnTo>
                <a:lnTo>
                  <a:pt x="644" y="188"/>
                </a:lnTo>
                <a:lnTo>
                  <a:pt x="617" y="192"/>
                </a:lnTo>
                <a:lnTo>
                  <a:pt x="592" y="196"/>
                </a:lnTo>
                <a:lnTo>
                  <a:pt x="567" y="200"/>
                </a:lnTo>
                <a:lnTo>
                  <a:pt x="542" y="202"/>
                </a:lnTo>
                <a:lnTo>
                  <a:pt x="519" y="206"/>
                </a:lnTo>
                <a:lnTo>
                  <a:pt x="496" y="209"/>
                </a:lnTo>
                <a:lnTo>
                  <a:pt x="475" y="211"/>
                </a:lnTo>
                <a:lnTo>
                  <a:pt x="454" y="215"/>
                </a:lnTo>
                <a:lnTo>
                  <a:pt x="432" y="217"/>
                </a:lnTo>
                <a:lnTo>
                  <a:pt x="413" y="221"/>
                </a:lnTo>
                <a:lnTo>
                  <a:pt x="394" y="223"/>
                </a:lnTo>
                <a:lnTo>
                  <a:pt x="375" y="225"/>
                </a:lnTo>
                <a:lnTo>
                  <a:pt x="358" y="229"/>
                </a:lnTo>
                <a:lnTo>
                  <a:pt x="340" y="230"/>
                </a:lnTo>
                <a:lnTo>
                  <a:pt x="325" y="232"/>
                </a:lnTo>
                <a:lnTo>
                  <a:pt x="310" y="234"/>
                </a:lnTo>
                <a:lnTo>
                  <a:pt x="294" y="236"/>
                </a:lnTo>
                <a:lnTo>
                  <a:pt x="281" y="240"/>
                </a:lnTo>
                <a:lnTo>
                  <a:pt x="267" y="242"/>
                </a:lnTo>
                <a:lnTo>
                  <a:pt x="256" y="244"/>
                </a:lnTo>
                <a:lnTo>
                  <a:pt x="244" y="246"/>
                </a:lnTo>
                <a:lnTo>
                  <a:pt x="233" y="248"/>
                </a:lnTo>
                <a:lnTo>
                  <a:pt x="223" y="248"/>
                </a:lnTo>
                <a:lnTo>
                  <a:pt x="214" y="250"/>
                </a:lnTo>
                <a:lnTo>
                  <a:pt x="206" y="252"/>
                </a:lnTo>
                <a:lnTo>
                  <a:pt x="198" y="253"/>
                </a:lnTo>
                <a:lnTo>
                  <a:pt x="191" y="255"/>
                </a:lnTo>
                <a:lnTo>
                  <a:pt x="185" y="257"/>
                </a:lnTo>
                <a:lnTo>
                  <a:pt x="179" y="257"/>
                </a:lnTo>
                <a:lnTo>
                  <a:pt x="175" y="259"/>
                </a:lnTo>
                <a:lnTo>
                  <a:pt x="171" y="261"/>
                </a:lnTo>
                <a:lnTo>
                  <a:pt x="156" y="265"/>
                </a:lnTo>
                <a:lnTo>
                  <a:pt x="143" y="267"/>
                </a:lnTo>
                <a:lnTo>
                  <a:pt x="129" y="269"/>
                </a:lnTo>
                <a:lnTo>
                  <a:pt x="116" y="269"/>
                </a:lnTo>
                <a:lnTo>
                  <a:pt x="102" y="267"/>
                </a:lnTo>
                <a:lnTo>
                  <a:pt x="95" y="265"/>
                </a:lnTo>
                <a:lnTo>
                  <a:pt x="89" y="261"/>
                </a:lnTo>
                <a:lnTo>
                  <a:pt x="81" y="259"/>
                </a:lnTo>
                <a:lnTo>
                  <a:pt x="75" y="255"/>
                </a:lnTo>
                <a:lnTo>
                  <a:pt x="68" y="252"/>
                </a:lnTo>
                <a:lnTo>
                  <a:pt x="62" y="248"/>
                </a:lnTo>
                <a:lnTo>
                  <a:pt x="48" y="242"/>
                </a:lnTo>
                <a:lnTo>
                  <a:pt x="37" y="236"/>
                </a:lnTo>
                <a:lnTo>
                  <a:pt x="25" y="230"/>
                </a:lnTo>
                <a:lnTo>
                  <a:pt x="16" y="223"/>
                </a:lnTo>
                <a:lnTo>
                  <a:pt x="10" y="215"/>
                </a:lnTo>
                <a:lnTo>
                  <a:pt x="6" y="213"/>
                </a:lnTo>
                <a:lnTo>
                  <a:pt x="4" y="209"/>
                </a:lnTo>
                <a:lnTo>
                  <a:pt x="2" y="206"/>
                </a:lnTo>
                <a:lnTo>
                  <a:pt x="0" y="204"/>
                </a:lnTo>
                <a:lnTo>
                  <a:pt x="0" y="200"/>
                </a:lnTo>
                <a:lnTo>
                  <a:pt x="0" y="198"/>
                </a:lnTo>
                <a:lnTo>
                  <a:pt x="0" y="196"/>
                </a:lnTo>
                <a:lnTo>
                  <a:pt x="2" y="196"/>
                </a:lnTo>
                <a:lnTo>
                  <a:pt x="4" y="194"/>
                </a:lnTo>
                <a:lnTo>
                  <a:pt x="8" y="192"/>
                </a:lnTo>
                <a:lnTo>
                  <a:pt x="12" y="192"/>
                </a:lnTo>
                <a:lnTo>
                  <a:pt x="18" y="190"/>
                </a:lnTo>
                <a:lnTo>
                  <a:pt x="23" y="188"/>
                </a:lnTo>
                <a:lnTo>
                  <a:pt x="31" y="186"/>
                </a:lnTo>
                <a:lnTo>
                  <a:pt x="39" y="184"/>
                </a:lnTo>
                <a:lnTo>
                  <a:pt x="48" y="182"/>
                </a:lnTo>
                <a:lnTo>
                  <a:pt x="60" y="181"/>
                </a:lnTo>
                <a:lnTo>
                  <a:pt x="71" y="179"/>
                </a:lnTo>
                <a:lnTo>
                  <a:pt x="83" y="177"/>
                </a:lnTo>
                <a:lnTo>
                  <a:pt x="96" y="175"/>
                </a:lnTo>
                <a:lnTo>
                  <a:pt x="112" y="171"/>
                </a:lnTo>
                <a:lnTo>
                  <a:pt x="125" y="169"/>
                </a:lnTo>
                <a:lnTo>
                  <a:pt x="143" y="167"/>
                </a:lnTo>
                <a:lnTo>
                  <a:pt x="160" y="163"/>
                </a:lnTo>
                <a:lnTo>
                  <a:pt x="177" y="161"/>
                </a:lnTo>
                <a:lnTo>
                  <a:pt x="196" y="158"/>
                </a:lnTo>
                <a:lnTo>
                  <a:pt x="217" y="156"/>
                </a:lnTo>
                <a:lnTo>
                  <a:pt x="239" y="152"/>
                </a:lnTo>
                <a:lnTo>
                  <a:pt x="260" y="148"/>
                </a:lnTo>
                <a:lnTo>
                  <a:pt x="283" y="144"/>
                </a:lnTo>
                <a:lnTo>
                  <a:pt x="306" y="140"/>
                </a:lnTo>
                <a:lnTo>
                  <a:pt x="331" y="136"/>
                </a:lnTo>
                <a:lnTo>
                  <a:pt x="358" y="133"/>
                </a:lnTo>
                <a:lnTo>
                  <a:pt x="384" y="129"/>
                </a:lnTo>
                <a:lnTo>
                  <a:pt x="411" y="125"/>
                </a:lnTo>
                <a:lnTo>
                  <a:pt x="440" y="121"/>
                </a:lnTo>
                <a:lnTo>
                  <a:pt x="469" y="115"/>
                </a:lnTo>
                <a:lnTo>
                  <a:pt x="500" y="112"/>
                </a:lnTo>
                <a:lnTo>
                  <a:pt x="530" y="108"/>
                </a:lnTo>
                <a:lnTo>
                  <a:pt x="559" y="104"/>
                </a:lnTo>
                <a:lnTo>
                  <a:pt x="590" y="100"/>
                </a:lnTo>
                <a:lnTo>
                  <a:pt x="617" y="98"/>
                </a:lnTo>
                <a:lnTo>
                  <a:pt x="644" y="94"/>
                </a:lnTo>
                <a:lnTo>
                  <a:pt x="670" y="90"/>
                </a:lnTo>
                <a:lnTo>
                  <a:pt x="697" y="87"/>
                </a:lnTo>
                <a:lnTo>
                  <a:pt x="722" y="83"/>
                </a:lnTo>
                <a:lnTo>
                  <a:pt x="745" y="81"/>
                </a:lnTo>
                <a:lnTo>
                  <a:pt x="770" y="77"/>
                </a:lnTo>
                <a:lnTo>
                  <a:pt x="791" y="73"/>
                </a:lnTo>
                <a:lnTo>
                  <a:pt x="814" y="71"/>
                </a:lnTo>
                <a:lnTo>
                  <a:pt x="836" y="67"/>
                </a:lnTo>
                <a:lnTo>
                  <a:pt x="855" y="64"/>
                </a:lnTo>
                <a:lnTo>
                  <a:pt x="874" y="62"/>
                </a:lnTo>
                <a:lnTo>
                  <a:pt x="893" y="58"/>
                </a:lnTo>
                <a:lnTo>
                  <a:pt x="912" y="56"/>
                </a:lnTo>
                <a:lnTo>
                  <a:pt x="928" y="52"/>
                </a:lnTo>
                <a:lnTo>
                  <a:pt x="945" y="50"/>
                </a:lnTo>
                <a:lnTo>
                  <a:pt x="960" y="48"/>
                </a:lnTo>
                <a:lnTo>
                  <a:pt x="976" y="44"/>
                </a:lnTo>
                <a:lnTo>
                  <a:pt x="989" y="42"/>
                </a:lnTo>
                <a:lnTo>
                  <a:pt x="1003" y="41"/>
                </a:lnTo>
                <a:lnTo>
                  <a:pt x="1014" y="39"/>
                </a:lnTo>
                <a:lnTo>
                  <a:pt x="1026" y="37"/>
                </a:lnTo>
                <a:lnTo>
                  <a:pt x="1037" y="35"/>
                </a:lnTo>
                <a:lnTo>
                  <a:pt x="1047" y="33"/>
                </a:lnTo>
                <a:lnTo>
                  <a:pt x="1056" y="31"/>
                </a:lnTo>
                <a:lnTo>
                  <a:pt x="1064" y="29"/>
                </a:lnTo>
                <a:lnTo>
                  <a:pt x="1072" y="27"/>
                </a:lnTo>
                <a:lnTo>
                  <a:pt x="1079" y="25"/>
                </a:lnTo>
                <a:lnTo>
                  <a:pt x="1085" y="25"/>
                </a:lnTo>
                <a:lnTo>
                  <a:pt x="1108" y="19"/>
                </a:lnTo>
                <a:lnTo>
                  <a:pt x="1129" y="16"/>
                </a:lnTo>
                <a:lnTo>
                  <a:pt x="1148" y="12"/>
                </a:lnTo>
                <a:lnTo>
                  <a:pt x="1166" y="8"/>
                </a:lnTo>
                <a:lnTo>
                  <a:pt x="1183" y="4"/>
                </a:lnTo>
                <a:lnTo>
                  <a:pt x="1191" y="4"/>
                </a:lnTo>
                <a:lnTo>
                  <a:pt x="1196" y="2"/>
                </a:lnTo>
                <a:lnTo>
                  <a:pt x="1204" y="2"/>
                </a:lnTo>
                <a:lnTo>
                  <a:pt x="1210" y="0"/>
                </a:lnTo>
                <a:lnTo>
                  <a:pt x="1216" y="0"/>
                </a:lnTo>
                <a:lnTo>
                  <a:pt x="1220" y="0"/>
                </a:lnTo>
                <a:lnTo>
                  <a:pt x="1221" y="0"/>
                </a:lnTo>
                <a:lnTo>
                  <a:pt x="1225" y="0"/>
                </a:lnTo>
                <a:lnTo>
                  <a:pt x="1229" y="2"/>
                </a:lnTo>
                <a:lnTo>
                  <a:pt x="1233" y="2"/>
                </a:lnTo>
                <a:lnTo>
                  <a:pt x="1239" y="4"/>
                </a:lnTo>
                <a:lnTo>
                  <a:pt x="1244" y="6"/>
                </a:lnTo>
                <a:lnTo>
                  <a:pt x="1250" y="8"/>
                </a:lnTo>
                <a:lnTo>
                  <a:pt x="1256" y="10"/>
                </a:lnTo>
                <a:lnTo>
                  <a:pt x="1264" y="14"/>
                </a:lnTo>
                <a:lnTo>
                  <a:pt x="1271" y="18"/>
                </a:lnTo>
                <a:lnTo>
                  <a:pt x="1279" y="21"/>
                </a:lnTo>
                <a:lnTo>
                  <a:pt x="1289" y="25"/>
                </a:lnTo>
                <a:lnTo>
                  <a:pt x="1298" y="31"/>
                </a:lnTo>
                <a:lnTo>
                  <a:pt x="1308" y="37"/>
                </a:lnTo>
                <a:lnTo>
                  <a:pt x="1317" y="42"/>
                </a:lnTo>
                <a:lnTo>
                  <a:pt x="1329" y="50"/>
                </a:lnTo>
                <a:lnTo>
                  <a:pt x="1339" y="56"/>
                </a:lnTo>
                <a:lnTo>
                  <a:pt x="1346" y="64"/>
                </a:lnTo>
                <a:lnTo>
                  <a:pt x="1354" y="71"/>
                </a:lnTo>
                <a:lnTo>
                  <a:pt x="1362" y="77"/>
                </a:lnTo>
                <a:lnTo>
                  <a:pt x="1367" y="85"/>
                </a:lnTo>
                <a:lnTo>
                  <a:pt x="1373" y="90"/>
                </a:lnTo>
                <a:lnTo>
                  <a:pt x="1379" y="98"/>
                </a:lnTo>
                <a:lnTo>
                  <a:pt x="1383" y="104"/>
                </a:lnTo>
                <a:lnTo>
                  <a:pt x="1387" y="110"/>
                </a:lnTo>
                <a:lnTo>
                  <a:pt x="1388" y="117"/>
                </a:lnTo>
                <a:lnTo>
                  <a:pt x="1392" y="123"/>
                </a:lnTo>
                <a:lnTo>
                  <a:pt x="1392" y="129"/>
                </a:lnTo>
                <a:lnTo>
                  <a:pt x="1394" y="135"/>
                </a:lnTo>
                <a:lnTo>
                  <a:pt x="1394" y="138"/>
                </a:lnTo>
                <a:lnTo>
                  <a:pt x="1392" y="144"/>
                </a:lnTo>
                <a:lnTo>
                  <a:pt x="1390" y="15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37"/>
          <p:cNvSpPr/>
          <p:nvPr/>
        </p:nvSpPr>
        <p:spPr>
          <a:xfrm>
            <a:off x="5972040" y="3805200"/>
            <a:ext cx="1700280" cy="260280"/>
          </a:xfrm>
          <a:custGeom>
            <a:avLst/>
            <a:gdLst/>
            <a:ahLst/>
            <a:rect l="l" t="t" r="r" b="b"/>
            <a:pathLst>
              <a:path w="2143" h="328">
                <a:moveTo>
                  <a:pt x="1012" y="204"/>
                </a:moveTo>
                <a:lnTo>
                  <a:pt x="757" y="240"/>
                </a:lnTo>
                <a:lnTo>
                  <a:pt x="499" y="279"/>
                </a:lnTo>
                <a:lnTo>
                  <a:pt x="467" y="284"/>
                </a:lnTo>
                <a:lnTo>
                  <a:pt x="434" y="290"/>
                </a:lnTo>
                <a:lnTo>
                  <a:pt x="403" y="296"/>
                </a:lnTo>
                <a:lnTo>
                  <a:pt x="376" y="302"/>
                </a:lnTo>
                <a:lnTo>
                  <a:pt x="350" y="305"/>
                </a:lnTo>
                <a:lnTo>
                  <a:pt x="325" y="309"/>
                </a:lnTo>
                <a:lnTo>
                  <a:pt x="302" y="313"/>
                </a:lnTo>
                <a:lnTo>
                  <a:pt x="280" y="317"/>
                </a:lnTo>
                <a:lnTo>
                  <a:pt x="259" y="319"/>
                </a:lnTo>
                <a:lnTo>
                  <a:pt x="242" y="321"/>
                </a:lnTo>
                <a:lnTo>
                  <a:pt x="225" y="323"/>
                </a:lnTo>
                <a:lnTo>
                  <a:pt x="211" y="325"/>
                </a:lnTo>
                <a:lnTo>
                  <a:pt x="198" y="327"/>
                </a:lnTo>
                <a:lnTo>
                  <a:pt x="186" y="327"/>
                </a:lnTo>
                <a:lnTo>
                  <a:pt x="179" y="327"/>
                </a:lnTo>
                <a:lnTo>
                  <a:pt x="171" y="328"/>
                </a:lnTo>
                <a:lnTo>
                  <a:pt x="163" y="327"/>
                </a:lnTo>
                <a:lnTo>
                  <a:pt x="156" y="327"/>
                </a:lnTo>
                <a:lnTo>
                  <a:pt x="146" y="325"/>
                </a:lnTo>
                <a:lnTo>
                  <a:pt x="138" y="323"/>
                </a:lnTo>
                <a:lnTo>
                  <a:pt x="129" y="321"/>
                </a:lnTo>
                <a:lnTo>
                  <a:pt x="119" y="317"/>
                </a:lnTo>
                <a:lnTo>
                  <a:pt x="108" y="313"/>
                </a:lnTo>
                <a:lnTo>
                  <a:pt x="98" y="309"/>
                </a:lnTo>
                <a:lnTo>
                  <a:pt x="87" y="303"/>
                </a:lnTo>
                <a:lnTo>
                  <a:pt x="75" y="300"/>
                </a:lnTo>
                <a:lnTo>
                  <a:pt x="64" y="292"/>
                </a:lnTo>
                <a:lnTo>
                  <a:pt x="52" y="286"/>
                </a:lnTo>
                <a:lnTo>
                  <a:pt x="39" y="279"/>
                </a:lnTo>
                <a:lnTo>
                  <a:pt x="25" y="271"/>
                </a:lnTo>
                <a:lnTo>
                  <a:pt x="12" y="261"/>
                </a:lnTo>
                <a:lnTo>
                  <a:pt x="0" y="254"/>
                </a:lnTo>
                <a:lnTo>
                  <a:pt x="87" y="244"/>
                </a:lnTo>
                <a:lnTo>
                  <a:pt x="173" y="234"/>
                </a:lnTo>
                <a:lnTo>
                  <a:pt x="259" y="225"/>
                </a:lnTo>
                <a:lnTo>
                  <a:pt x="344" y="213"/>
                </a:lnTo>
                <a:lnTo>
                  <a:pt x="428" y="204"/>
                </a:lnTo>
                <a:lnTo>
                  <a:pt x="511" y="192"/>
                </a:lnTo>
                <a:lnTo>
                  <a:pt x="551" y="186"/>
                </a:lnTo>
                <a:lnTo>
                  <a:pt x="592" y="181"/>
                </a:lnTo>
                <a:lnTo>
                  <a:pt x="632" y="173"/>
                </a:lnTo>
                <a:lnTo>
                  <a:pt x="670" y="167"/>
                </a:lnTo>
                <a:lnTo>
                  <a:pt x="711" y="160"/>
                </a:lnTo>
                <a:lnTo>
                  <a:pt x="751" y="152"/>
                </a:lnTo>
                <a:lnTo>
                  <a:pt x="791" y="144"/>
                </a:lnTo>
                <a:lnTo>
                  <a:pt x="835" y="139"/>
                </a:lnTo>
                <a:lnTo>
                  <a:pt x="879" y="131"/>
                </a:lnTo>
                <a:lnTo>
                  <a:pt x="926" y="123"/>
                </a:lnTo>
                <a:lnTo>
                  <a:pt x="972" y="115"/>
                </a:lnTo>
                <a:lnTo>
                  <a:pt x="1020" y="110"/>
                </a:lnTo>
                <a:lnTo>
                  <a:pt x="1070" y="102"/>
                </a:lnTo>
                <a:lnTo>
                  <a:pt x="1119" y="94"/>
                </a:lnTo>
                <a:lnTo>
                  <a:pt x="1171" y="85"/>
                </a:lnTo>
                <a:lnTo>
                  <a:pt x="1225" y="77"/>
                </a:lnTo>
                <a:lnTo>
                  <a:pt x="1279" y="69"/>
                </a:lnTo>
                <a:lnTo>
                  <a:pt x="1334" y="60"/>
                </a:lnTo>
                <a:lnTo>
                  <a:pt x="1392" y="52"/>
                </a:lnTo>
                <a:lnTo>
                  <a:pt x="1452" y="43"/>
                </a:lnTo>
                <a:lnTo>
                  <a:pt x="1478" y="39"/>
                </a:lnTo>
                <a:lnTo>
                  <a:pt x="1507" y="35"/>
                </a:lnTo>
                <a:lnTo>
                  <a:pt x="1534" y="33"/>
                </a:lnTo>
                <a:lnTo>
                  <a:pt x="1559" y="29"/>
                </a:lnTo>
                <a:lnTo>
                  <a:pt x="1586" y="27"/>
                </a:lnTo>
                <a:lnTo>
                  <a:pt x="1611" y="23"/>
                </a:lnTo>
                <a:lnTo>
                  <a:pt x="1634" y="21"/>
                </a:lnTo>
                <a:lnTo>
                  <a:pt x="1659" y="20"/>
                </a:lnTo>
                <a:lnTo>
                  <a:pt x="1682" y="16"/>
                </a:lnTo>
                <a:lnTo>
                  <a:pt x="1703" y="14"/>
                </a:lnTo>
                <a:lnTo>
                  <a:pt x="1726" y="12"/>
                </a:lnTo>
                <a:lnTo>
                  <a:pt x="1747" y="10"/>
                </a:lnTo>
                <a:lnTo>
                  <a:pt x="1766" y="8"/>
                </a:lnTo>
                <a:lnTo>
                  <a:pt x="1786" y="8"/>
                </a:lnTo>
                <a:lnTo>
                  <a:pt x="1805" y="6"/>
                </a:lnTo>
                <a:lnTo>
                  <a:pt x="1822" y="4"/>
                </a:lnTo>
                <a:lnTo>
                  <a:pt x="1839" y="4"/>
                </a:lnTo>
                <a:lnTo>
                  <a:pt x="1857" y="2"/>
                </a:lnTo>
                <a:lnTo>
                  <a:pt x="1872" y="2"/>
                </a:lnTo>
                <a:lnTo>
                  <a:pt x="1887" y="2"/>
                </a:lnTo>
                <a:lnTo>
                  <a:pt x="1903" y="0"/>
                </a:lnTo>
                <a:lnTo>
                  <a:pt x="1916" y="0"/>
                </a:lnTo>
                <a:lnTo>
                  <a:pt x="1930" y="0"/>
                </a:lnTo>
                <a:lnTo>
                  <a:pt x="1941" y="0"/>
                </a:lnTo>
                <a:lnTo>
                  <a:pt x="1953" y="0"/>
                </a:lnTo>
                <a:lnTo>
                  <a:pt x="1964" y="0"/>
                </a:lnTo>
                <a:lnTo>
                  <a:pt x="1974" y="0"/>
                </a:lnTo>
                <a:lnTo>
                  <a:pt x="1983" y="2"/>
                </a:lnTo>
                <a:lnTo>
                  <a:pt x="1991" y="2"/>
                </a:lnTo>
                <a:lnTo>
                  <a:pt x="1999" y="2"/>
                </a:lnTo>
                <a:lnTo>
                  <a:pt x="2006" y="4"/>
                </a:lnTo>
                <a:lnTo>
                  <a:pt x="2012" y="6"/>
                </a:lnTo>
                <a:lnTo>
                  <a:pt x="2035" y="14"/>
                </a:lnTo>
                <a:lnTo>
                  <a:pt x="2054" y="23"/>
                </a:lnTo>
                <a:lnTo>
                  <a:pt x="2064" y="29"/>
                </a:lnTo>
                <a:lnTo>
                  <a:pt x="2074" y="33"/>
                </a:lnTo>
                <a:lnTo>
                  <a:pt x="2083" y="37"/>
                </a:lnTo>
                <a:lnTo>
                  <a:pt x="2091" y="43"/>
                </a:lnTo>
                <a:lnTo>
                  <a:pt x="2099" y="46"/>
                </a:lnTo>
                <a:lnTo>
                  <a:pt x="2106" y="52"/>
                </a:lnTo>
                <a:lnTo>
                  <a:pt x="2112" y="56"/>
                </a:lnTo>
                <a:lnTo>
                  <a:pt x="2118" y="60"/>
                </a:lnTo>
                <a:lnTo>
                  <a:pt x="2124" y="66"/>
                </a:lnTo>
                <a:lnTo>
                  <a:pt x="2127" y="69"/>
                </a:lnTo>
                <a:lnTo>
                  <a:pt x="2131" y="75"/>
                </a:lnTo>
                <a:lnTo>
                  <a:pt x="2135" y="79"/>
                </a:lnTo>
                <a:lnTo>
                  <a:pt x="2137" y="89"/>
                </a:lnTo>
                <a:lnTo>
                  <a:pt x="2141" y="96"/>
                </a:lnTo>
                <a:lnTo>
                  <a:pt x="2143" y="102"/>
                </a:lnTo>
                <a:lnTo>
                  <a:pt x="2143" y="108"/>
                </a:lnTo>
                <a:lnTo>
                  <a:pt x="2143" y="114"/>
                </a:lnTo>
                <a:lnTo>
                  <a:pt x="2141" y="119"/>
                </a:lnTo>
                <a:lnTo>
                  <a:pt x="2137" y="125"/>
                </a:lnTo>
                <a:lnTo>
                  <a:pt x="2135" y="129"/>
                </a:lnTo>
                <a:lnTo>
                  <a:pt x="2133" y="131"/>
                </a:lnTo>
                <a:lnTo>
                  <a:pt x="2131" y="131"/>
                </a:lnTo>
                <a:lnTo>
                  <a:pt x="2129" y="133"/>
                </a:lnTo>
                <a:lnTo>
                  <a:pt x="2125" y="133"/>
                </a:lnTo>
                <a:lnTo>
                  <a:pt x="2122" y="135"/>
                </a:lnTo>
                <a:lnTo>
                  <a:pt x="2118" y="135"/>
                </a:lnTo>
                <a:lnTo>
                  <a:pt x="2114" y="135"/>
                </a:lnTo>
                <a:lnTo>
                  <a:pt x="2108" y="137"/>
                </a:lnTo>
                <a:lnTo>
                  <a:pt x="2104" y="137"/>
                </a:lnTo>
                <a:lnTo>
                  <a:pt x="2099" y="137"/>
                </a:lnTo>
                <a:lnTo>
                  <a:pt x="2085" y="139"/>
                </a:lnTo>
                <a:lnTo>
                  <a:pt x="2070" y="139"/>
                </a:lnTo>
                <a:lnTo>
                  <a:pt x="2052" y="140"/>
                </a:lnTo>
                <a:lnTo>
                  <a:pt x="2035" y="140"/>
                </a:lnTo>
                <a:lnTo>
                  <a:pt x="2014" y="140"/>
                </a:lnTo>
                <a:lnTo>
                  <a:pt x="1991" y="140"/>
                </a:lnTo>
                <a:lnTo>
                  <a:pt x="1968" y="140"/>
                </a:lnTo>
                <a:lnTo>
                  <a:pt x="1941" y="140"/>
                </a:lnTo>
                <a:lnTo>
                  <a:pt x="1914" y="142"/>
                </a:lnTo>
                <a:lnTo>
                  <a:pt x="1884" y="142"/>
                </a:lnTo>
                <a:lnTo>
                  <a:pt x="1853" y="142"/>
                </a:lnTo>
                <a:lnTo>
                  <a:pt x="1822" y="142"/>
                </a:lnTo>
                <a:lnTo>
                  <a:pt x="1791" y="142"/>
                </a:lnTo>
                <a:lnTo>
                  <a:pt x="1761" y="142"/>
                </a:lnTo>
                <a:lnTo>
                  <a:pt x="1732" y="142"/>
                </a:lnTo>
                <a:lnTo>
                  <a:pt x="1703" y="142"/>
                </a:lnTo>
                <a:lnTo>
                  <a:pt x="1676" y="142"/>
                </a:lnTo>
                <a:lnTo>
                  <a:pt x="1649" y="142"/>
                </a:lnTo>
                <a:lnTo>
                  <a:pt x="1622" y="142"/>
                </a:lnTo>
                <a:lnTo>
                  <a:pt x="1597" y="144"/>
                </a:lnTo>
                <a:lnTo>
                  <a:pt x="1573" y="144"/>
                </a:lnTo>
                <a:lnTo>
                  <a:pt x="1549" y="146"/>
                </a:lnTo>
                <a:lnTo>
                  <a:pt x="1526" y="146"/>
                </a:lnTo>
                <a:lnTo>
                  <a:pt x="1503" y="148"/>
                </a:lnTo>
                <a:lnTo>
                  <a:pt x="1480" y="150"/>
                </a:lnTo>
                <a:lnTo>
                  <a:pt x="1459" y="152"/>
                </a:lnTo>
                <a:lnTo>
                  <a:pt x="1438" y="154"/>
                </a:lnTo>
                <a:lnTo>
                  <a:pt x="1417" y="156"/>
                </a:lnTo>
                <a:lnTo>
                  <a:pt x="1396" y="158"/>
                </a:lnTo>
                <a:lnTo>
                  <a:pt x="1375" y="162"/>
                </a:lnTo>
                <a:lnTo>
                  <a:pt x="1352" y="163"/>
                </a:lnTo>
                <a:lnTo>
                  <a:pt x="1327" y="165"/>
                </a:lnTo>
                <a:lnTo>
                  <a:pt x="1304" y="169"/>
                </a:lnTo>
                <a:lnTo>
                  <a:pt x="1279" y="171"/>
                </a:lnTo>
                <a:lnTo>
                  <a:pt x="1252" y="173"/>
                </a:lnTo>
                <a:lnTo>
                  <a:pt x="1225" y="177"/>
                </a:lnTo>
                <a:lnTo>
                  <a:pt x="1198" y="181"/>
                </a:lnTo>
                <a:lnTo>
                  <a:pt x="1169" y="183"/>
                </a:lnTo>
                <a:lnTo>
                  <a:pt x="1141" y="186"/>
                </a:lnTo>
                <a:lnTo>
                  <a:pt x="1110" y="190"/>
                </a:lnTo>
                <a:lnTo>
                  <a:pt x="1077" y="194"/>
                </a:lnTo>
                <a:lnTo>
                  <a:pt x="1047" y="200"/>
                </a:lnTo>
                <a:lnTo>
                  <a:pt x="1012" y="204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38"/>
          <p:cNvSpPr/>
          <p:nvPr/>
        </p:nvSpPr>
        <p:spPr>
          <a:xfrm>
            <a:off x="6146640" y="4075200"/>
            <a:ext cx="1084320" cy="209520"/>
          </a:xfrm>
          <a:custGeom>
            <a:avLst/>
            <a:gdLst/>
            <a:ahLst/>
            <a:rect l="l" t="t" r="r" b="b"/>
            <a:pathLst>
              <a:path w="1367" h="265">
                <a:moveTo>
                  <a:pt x="109" y="261"/>
                </a:moveTo>
                <a:lnTo>
                  <a:pt x="104" y="255"/>
                </a:lnTo>
                <a:lnTo>
                  <a:pt x="98" y="251"/>
                </a:lnTo>
                <a:lnTo>
                  <a:pt x="90" y="245"/>
                </a:lnTo>
                <a:lnTo>
                  <a:pt x="83" y="240"/>
                </a:lnTo>
                <a:lnTo>
                  <a:pt x="75" y="234"/>
                </a:lnTo>
                <a:lnTo>
                  <a:pt x="67" y="226"/>
                </a:lnTo>
                <a:lnTo>
                  <a:pt x="58" y="219"/>
                </a:lnTo>
                <a:lnTo>
                  <a:pt x="48" y="211"/>
                </a:lnTo>
                <a:lnTo>
                  <a:pt x="42" y="207"/>
                </a:lnTo>
                <a:lnTo>
                  <a:pt x="35" y="205"/>
                </a:lnTo>
                <a:lnTo>
                  <a:pt x="31" y="201"/>
                </a:lnTo>
                <a:lnTo>
                  <a:pt x="25" y="199"/>
                </a:lnTo>
                <a:lnTo>
                  <a:pt x="21" y="196"/>
                </a:lnTo>
                <a:lnTo>
                  <a:pt x="17" y="192"/>
                </a:lnTo>
                <a:lnTo>
                  <a:pt x="10" y="186"/>
                </a:lnTo>
                <a:lnTo>
                  <a:pt x="6" y="178"/>
                </a:lnTo>
                <a:lnTo>
                  <a:pt x="2" y="173"/>
                </a:lnTo>
                <a:lnTo>
                  <a:pt x="0" y="167"/>
                </a:lnTo>
                <a:lnTo>
                  <a:pt x="0" y="161"/>
                </a:lnTo>
                <a:lnTo>
                  <a:pt x="0" y="159"/>
                </a:lnTo>
                <a:lnTo>
                  <a:pt x="0" y="157"/>
                </a:lnTo>
                <a:lnTo>
                  <a:pt x="2" y="155"/>
                </a:lnTo>
                <a:lnTo>
                  <a:pt x="4" y="153"/>
                </a:lnTo>
                <a:lnTo>
                  <a:pt x="6" y="153"/>
                </a:lnTo>
                <a:lnTo>
                  <a:pt x="10" y="151"/>
                </a:lnTo>
                <a:lnTo>
                  <a:pt x="14" y="151"/>
                </a:lnTo>
                <a:lnTo>
                  <a:pt x="19" y="150"/>
                </a:lnTo>
                <a:lnTo>
                  <a:pt x="25" y="150"/>
                </a:lnTo>
                <a:lnTo>
                  <a:pt x="31" y="150"/>
                </a:lnTo>
                <a:lnTo>
                  <a:pt x="38" y="150"/>
                </a:lnTo>
                <a:lnTo>
                  <a:pt x="46" y="150"/>
                </a:lnTo>
                <a:lnTo>
                  <a:pt x="54" y="150"/>
                </a:lnTo>
                <a:lnTo>
                  <a:pt x="63" y="150"/>
                </a:lnTo>
                <a:lnTo>
                  <a:pt x="73" y="150"/>
                </a:lnTo>
                <a:lnTo>
                  <a:pt x="85" y="150"/>
                </a:lnTo>
                <a:lnTo>
                  <a:pt x="94" y="148"/>
                </a:lnTo>
                <a:lnTo>
                  <a:pt x="106" y="148"/>
                </a:lnTo>
                <a:lnTo>
                  <a:pt x="119" y="148"/>
                </a:lnTo>
                <a:lnTo>
                  <a:pt x="133" y="146"/>
                </a:lnTo>
                <a:lnTo>
                  <a:pt x="148" y="146"/>
                </a:lnTo>
                <a:lnTo>
                  <a:pt x="165" y="144"/>
                </a:lnTo>
                <a:lnTo>
                  <a:pt x="184" y="142"/>
                </a:lnTo>
                <a:lnTo>
                  <a:pt x="205" y="140"/>
                </a:lnTo>
                <a:lnTo>
                  <a:pt x="227" y="136"/>
                </a:lnTo>
                <a:lnTo>
                  <a:pt x="252" y="134"/>
                </a:lnTo>
                <a:lnTo>
                  <a:pt x="277" y="130"/>
                </a:lnTo>
                <a:lnTo>
                  <a:pt x="303" y="128"/>
                </a:lnTo>
                <a:lnTo>
                  <a:pt x="332" y="125"/>
                </a:lnTo>
                <a:lnTo>
                  <a:pt x="361" y="121"/>
                </a:lnTo>
                <a:lnTo>
                  <a:pt x="394" y="115"/>
                </a:lnTo>
                <a:lnTo>
                  <a:pt x="426" y="111"/>
                </a:lnTo>
                <a:lnTo>
                  <a:pt x="490" y="105"/>
                </a:lnTo>
                <a:lnTo>
                  <a:pt x="555" y="100"/>
                </a:lnTo>
                <a:lnTo>
                  <a:pt x="618" y="92"/>
                </a:lnTo>
                <a:lnTo>
                  <a:pt x="682" y="84"/>
                </a:lnTo>
                <a:lnTo>
                  <a:pt x="743" y="73"/>
                </a:lnTo>
                <a:lnTo>
                  <a:pt x="806" y="63"/>
                </a:lnTo>
                <a:lnTo>
                  <a:pt x="866" y="50"/>
                </a:lnTo>
                <a:lnTo>
                  <a:pt x="927" y="36"/>
                </a:lnTo>
                <a:lnTo>
                  <a:pt x="956" y="33"/>
                </a:lnTo>
                <a:lnTo>
                  <a:pt x="985" y="27"/>
                </a:lnTo>
                <a:lnTo>
                  <a:pt x="1012" y="23"/>
                </a:lnTo>
                <a:lnTo>
                  <a:pt x="1039" y="21"/>
                </a:lnTo>
                <a:lnTo>
                  <a:pt x="1064" y="17"/>
                </a:lnTo>
                <a:lnTo>
                  <a:pt x="1089" y="13"/>
                </a:lnTo>
                <a:lnTo>
                  <a:pt x="1112" y="11"/>
                </a:lnTo>
                <a:lnTo>
                  <a:pt x="1135" y="10"/>
                </a:lnTo>
                <a:lnTo>
                  <a:pt x="1156" y="8"/>
                </a:lnTo>
                <a:lnTo>
                  <a:pt x="1175" y="6"/>
                </a:lnTo>
                <a:lnTo>
                  <a:pt x="1194" y="4"/>
                </a:lnTo>
                <a:lnTo>
                  <a:pt x="1211" y="2"/>
                </a:lnTo>
                <a:lnTo>
                  <a:pt x="1227" y="2"/>
                </a:lnTo>
                <a:lnTo>
                  <a:pt x="1242" y="0"/>
                </a:lnTo>
                <a:lnTo>
                  <a:pt x="1256" y="0"/>
                </a:lnTo>
                <a:lnTo>
                  <a:pt x="1269" y="0"/>
                </a:lnTo>
                <a:lnTo>
                  <a:pt x="1279" y="0"/>
                </a:lnTo>
                <a:lnTo>
                  <a:pt x="1290" y="0"/>
                </a:lnTo>
                <a:lnTo>
                  <a:pt x="1300" y="2"/>
                </a:lnTo>
                <a:lnTo>
                  <a:pt x="1309" y="2"/>
                </a:lnTo>
                <a:lnTo>
                  <a:pt x="1319" y="4"/>
                </a:lnTo>
                <a:lnTo>
                  <a:pt x="1327" y="6"/>
                </a:lnTo>
                <a:lnTo>
                  <a:pt x="1334" y="8"/>
                </a:lnTo>
                <a:lnTo>
                  <a:pt x="1340" y="10"/>
                </a:lnTo>
                <a:lnTo>
                  <a:pt x="1346" y="11"/>
                </a:lnTo>
                <a:lnTo>
                  <a:pt x="1352" y="15"/>
                </a:lnTo>
                <a:lnTo>
                  <a:pt x="1355" y="17"/>
                </a:lnTo>
                <a:lnTo>
                  <a:pt x="1359" y="21"/>
                </a:lnTo>
                <a:lnTo>
                  <a:pt x="1363" y="25"/>
                </a:lnTo>
                <a:lnTo>
                  <a:pt x="1365" y="29"/>
                </a:lnTo>
                <a:lnTo>
                  <a:pt x="1365" y="33"/>
                </a:lnTo>
                <a:lnTo>
                  <a:pt x="1367" y="36"/>
                </a:lnTo>
                <a:lnTo>
                  <a:pt x="1365" y="46"/>
                </a:lnTo>
                <a:lnTo>
                  <a:pt x="1363" y="54"/>
                </a:lnTo>
                <a:lnTo>
                  <a:pt x="1359" y="59"/>
                </a:lnTo>
                <a:lnTo>
                  <a:pt x="1355" y="65"/>
                </a:lnTo>
                <a:lnTo>
                  <a:pt x="1348" y="71"/>
                </a:lnTo>
                <a:lnTo>
                  <a:pt x="1344" y="75"/>
                </a:lnTo>
                <a:lnTo>
                  <a:pt x="1340" y="77"/>
                </a:lnTo>
                <a:lnTo>
                  <a:pt x="1334" y="79"/>
                </a:lnTo>
                <a:lnTo>
                  <a:pt x="1330" y="82"/>
                </a:lnTo>
                <a:lnTo>
                  <a:pt x="1323" y="84"/>
                </a:lnTo>
                <a:lnTo>
                  <a:pt x="1317" y="86"/>
                </a:lnTo>
                <a:lnTo>
                  <a:pt x="1304" y="90"/>
                </a:lnTo>
                <a:lnTo>
                  <a:pt x="1292" y="96"/>
                </a:lnTo>
                <a:lnTo>
                  <a:pt x="1281" y="100"/>
                </a:lnTo>
                <a:lnTo>
                  <a:pt x="1271" y="104"/>
                </a:lnTo>
                <a:lnTo>
                  <a:pt x="1263" y="107"/>
                </a:lnTo>
                <a:lnTo>
                  <a:pt x="1256" y="109"/>
                </a:lnTo>
                <a:lnTo>
                  <a:pt x="1250" y="111"/>
                </a:lnTo>
                <a:lnTo>
                  <a:pt x="1244" y="111"/>
                </a:lnTo>
                <a:lnTo>
                  <a:pt x="1242" y="111"/>
                </a:lnTo>
                <a:lnTo>
                  <a:pt x="1238" y="111"/>
                </a:lnTo>
                <a:lnTo>
                  <a:pt x="1235" y="111"/>
                </a:lnTo>
                <a:lnTo>
                  <a:pt x="1229" y="111"/>
                </a:lnTo>
                <a:lnTo>
                  <a:pt x="1223" y="111"/>
                </a:lnTo>
                <a:lnTo>
                  <a:pt x="1217" y="113"/>
                </a:lnTo>
                <a:lnTo>
                  <a:pt x="1210" y="113"/>
                </a:lnTo>
                <a:lnTo>
                  <a:pt x="1202" y="113"/>
                </a:lnTo>
                <a:lnTo>
                  <a:pt x="1194" y="115"/>
                </a:lnTo>
                <a:lnTo>
                  <a:pt x="1185" y="115"/>
                </a:lnTo>
                <a:lnTo>
                  <a:pt x="1175" y="115"/>
                </a:lnTo>
                <a:lnTo>
                  <a:pt x="1163" y="117"/>
                </a:lnTo>
                <a:lnTo>
                  <a:pt x="1154" y="119"/>
                </a:lnTo>
                <a:lnTo>
                  <a:pt x="1140" y="119"/>
                </a:lnTo>
                <a:lnTo>
                  <a:pt x="1127" y="121"/>
                </a:lnTo>
                <a:lnTo>
                  <a:pt x="1114" y="123"/>
                </a:lnTo>
                <a:lnTo>
                  <a:pt x="1100" y="123"/>
                </a:lnTo>
                <a:lnTo>
                  <a:pt x="1085" y="125"/>
                </a:lnTo>
                <a:lnTo>
                  <a:pt x="1069" y="127"/>
                </a:lnTo>
                <a:lnTo>
                  <a:pt x="1052" y="128"/>
                </a:lnTo>
                <a:lnTo>
                  <a:pt x="1035" y="130"/>
                </a:lnTo>
                <a:lnTo>
                  <a:pt x="1018" y="132"/>
                </a:lnTo>
                <a:lnTo>
                  <a:pt x="998" y="134"/>
                </a:lnTo>
                <a:lnTo>
                  <a:pt x="979" y="138"/>
                </a:lnTo>
                <a:lnTo>
                  <a:pt x="958" y="140"/>
                </a:lnTo>
                <a:lnTo>
                  <a:pt x="937" y="142"/>
                </a:lnTo>
                <a:lnTo>
                  <a:pt x="914" y="146"/>
                </a:lnTo>
                <a:lnTo>
                  <a:pt x="893" y="148"/>
                </a:lnTo>
                <a:lnTo>
                  <a:pt x="868" y="151"/>
                </a:lnTo>
                <a:lnTo>
                  <a:pt x="845" y="153"/>
                </a:lnTo>
                <a:lnTo>
                  <a:pt x="820" y="157"/>
                </a:lnTo>
                <a:lnTo>
                  <a:pt x="793" y="161"/>
                </a:lnTo>
                <a:lnTo>
                  <a:pt x="766" y="165"/>
                </a:lnTo>
                <a:lnTo>
                  <a:pt x="741" y="169"/>
                </a:lnTo>
                <a:lnTo>
                  <a:pt x="716" y="171"/>
                </a:lnTo>
                <a:lnTo>
                  <a:pt x="693" y="175"/>
                </a:lnTo>
                <a:lnTo>
                  <a:pt x="670" y="178"/>
                </a:lnTo>
                <a:lnTo>
                  <a:pt x="647" y="182"/>
                </a:lnTo>
                <a:lnTo>
                  <a:pt x="624" y="186"/>
                </a:lnTo>
                <a:lnTo>
                  <a:pt x="603" y="188"/>
                </a:lnTo>
                <a:lnTo>
                  <a:pt x="582" y="192"/>
                </a:lnTo>
                <a:lnTo>
                  <a:pt x="561" y="196"/>
                </a:lnTo>
                <a:lnTo>
                  <a:pt x="541" y="198"/>
                </a:lnTo>
                <a:lnTo>
                  <a:pt x="522" y="201"/>
                </a:lnTo>
                <a:lnTo>
                  <a:pt x="505" y="205"/>
                </a:lnTo>
                <a:lnTo>
                  <a:pt x="486" y="207"/>
                </a:lnTo>
                <a:lnTo>
                  <a:pt x="468" y="211"/>
                </a:lnTo>
                <a:lnTo>
                  <a:pt x="453" y="213"/>
                </a:lnTo>
                <a:lnTo>
                  <a:pt x="436" y="217"/>
                </a:lnTo>
                <a:lnTo>
                  <a:pt x="421" y="219"/>
                </a:lnTo>
                <a:lnTo>
                  <a:pt x="407" y="222"/>
                </a:lnTo>
                <a:lnTo>
                  <a:pt x="392" y="224"/>
                </a:lnTo>
                <a:lnTo>
                  <a:pt x="378" y="226"/>
                </a:lnTo>
                <a:lnTo>
                  <a:pt x="365" y="230"/>
                </a:lnTo>
                <a:lnTo>
                  <a:pt x="353" y="232"/>
                </a:lnTo>
                <a:lnTo>
                  <a:pt x="342" y="234"/>
                </a:lnTo>
                <a:lnTo>
                  <a:pt x="330" y="236"/>
                </a:lnTo>
                <a:lnTo>
                  <a:pt x="319" y="238"/>
                </a:lnTo>
                <a:lnTo>
                  <a:pt x="309" y="240"/>
                </a:lnTo>
                <a:lnTo>
                  <a:pt x="300" y="242"/>
                </a:lnTo>
                <a:lnTo>
                  <a:pt x="292" y="244"/>
                </a:lnTo>
                <a:lnTo>
                  <a:pt x="282" y="245"/>
                </a:lnTo>
                <a:lnTo>
                  <a:pt x="275" y="245"/>
                </a:lnTo>
                <a:lnTo>
                  <a:pt x="269" y="247"/>
                </a:lnTo>
                <a:lnTo>
                  <a:pt x="252" y="249"/>
                </a:lnTo>
                <a:lnTo>
                  <a:pt x="238" y="251"/>
                </a:lnTo>
                <a:lnTo>
                  <a:pt x="223" y="255"/>
                </a:lnTo>
                <a:lnTo>
                  <a:pt x="211" y="257"/>
                </a:lnTo>
                <a:lnTo>
                  <a:pt x="198" y="259"/>
                </a:lnTo>
                <a:lnTo>
                  <a:pt x="186" y="261"/>
                </a:lnTo>
                <a:lnTo>
                  <a:pt x="177" y="261"/>
                </a:lnTo>
                <a:lnTo>
                  <a:pt x="165" y="263"/>
                </a:lnTo>
                <a:lnTo>
                  <a:pt x="156" y="265"/>
                </a:lnTo>
                <a:lnTo>
                  <a:pt x="148" y="265"/>
                </a:lnTo>
                <a:lnTo>
                  <a:pt x="140" y="265"/>
                </a:lnTo>
                <a:lnTo>
                  <a:pt x="133" y="265"/>
                </a:lnTo>
                <a:lnTo>
                  <a:pt x="125" y="265"/>
                </a:lnTo>
                <a:lnTo>
                  <a:pt x="119" y="263"/>
                </a:lnTo>
                <a:lnTo>
                  <a:pt x="115" y="263"/>
                </a:lnTo>
                <a:lnTo>
                  <a:pt x="109" y="261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39"/>
          <p:cNvSpPr/>
          <p:nvPr/>
        </p:nvSpPr>
        <p:spPr>
          <a:xfrm>
            <a:off x="5873760" y="4211640"/>
            <a:ext cx="698400" cy="612720"/>
          </a:xfrm>
          <a:custGeom>
            <a:avLst/>
            <a:gdLst/>
            <a:ahLst/>
            <a:rect l="l" t="t" r="r" b="b"/>
            <a:pathLst>
              <a:path w="882" h="771">
                <a:moveTo>
                  <a:pt x="882" y="174"/>
                </a:moveTo>
                <a:lnTo>
                  <a:pt x="845" y="213"/>
                </a:lnTo>
                <a:lnTo>
                  <a:pt x="809" y="251"/>
                </a:lnTo>
                <a:lnTo>
                  <a:pt x="772" y="287"/>
                </a:lnTo>
                <a:lnTo>
                  <a:pt x="736" y="322"/>
                </a:lnTo>
                <a:lnTo>
                  <a:pt x="699" y="356"/>
                </a:lnTo>
                <a:lnTo>
                  <a:pt x="663" y="389"/>
                </a:lnTo>
                <a:lnTo>
                  <a:pt x="626" y="422"/>
                </a:lnTo>
                <a:lnTo>
                  <a:pt x="590" y="450"/>
                </a:lnTo>
                <a:lnTo>
                  <a:pt x="553" y="479"/>
                </a:lnTo>
                <a:lnTo>
                  <a:pt x="517" y="508"/>
                </a:lnTo>
                <a:lnTo>
                  <a:pt x="482" y="533"/>
                </a:lnTo>
                <a:lnTo>
                  <a:pt x="446" y="558"/>
                </a:lnTo>
                <a:lnTo>
                  <a:pt x="411" y="581"/>
                </a:lnTo>
                <a:lnTo>
                  <a:pt x="377" y="604"/>
                </a:lnTo>
                <a:lnTo>
                  <a:pt x="340" y="625"/>
                </a:lnTo>
                <a:lnTo>
                  <a:pt x="308" y="644"/>
                </a:lnTo>
                <a:lnTo>
                  <a:pt x="288" y="654"/>
                </a:lnTo>
                <a:lnTo>
                  <a:pt x="271" y="661"/>
                </a:lnTo>
                <a:lnTo>
                  <a:pt x="254" y="671"/>
                </a:lnTo>
                <a:lnTo>
                  <a:pt x="238" y="679"/>
                </a:lnTo>
                <a:lnTo>
                  <a:pt x="223" y="686"/>
                </a:lnTo>
                <a:lnTo>
                  <a:pt x="208" y="694"/>
                </a:lnTo>
                <a:lnTo>
                  <a:pt x="192" y="702"/>
                </a:lnTo>
                <a:lnTo>
                  <a:pt x="179" y="707"/>
                </a:lnTo>
                <a:lnTo>
                  <a:pt x="166" y="713"/>
                </a:lnTo>
                <a:lnTo>
                  <a:pt x="152" y="721"/>
                </a:lnTo>
                <a:lnTo>
                  <a:pt x="141" y="725"/>
                </a:lnTo>
                <a:lnTo>
                  <a:pt x="129" y="730"/>
                </a:lnTo>
                <a:lnTo>
                  <a:pt x="118" y="736"/>
                </a:lnTo>
                <a:lnTo>
                  <a:pt x="106" y="740"/>
                </a:lnTo>
                <a:lnTo>
                  <a:pt x="96" y="744"/>
                </a:lnTo>
                <a:lnTo>
                  <a:pt x="87" y="748"/>
                </a:lnTo>
                <a:lnTo>
                  <a:pt x="77" y="752"/>
                </a:lnTo>
                <a:lnTo>
                  <a:pt x="68" y="755"/>
                </a:lnTo>
                <a:lnTo>
                  <a:pt x="60" y="757"/>
                </a:lnTo>
                <a:lnTo>
                  <a:pt x="52" y="761"/>
                </a:lnTo>
                <a:lnTo>
                  <a:pt x="46" y="763"/>
                </a:lnTo>
                <a:lnTo>
                  <a:pt x="39" y="765"/>
                </a:lnTo>
                <a:lnTo>
                  <a:pt x="33" y="767"/>
                </a:lnTo>
                <a:lnTo>
                  <a:pt x="27" y="769"/>
                </a:lnTo>
                <a:lnTo>
                  <a:pt x="23" y="769"/>
                </a:lnTo>
                <a:lnTo>
                  <a:pt x="18" y="769"/>
                </a:lnTo>
                <a:lnTo>
                  <a:pt x="14" y="771"/>
                </a:lnTo>
                <a:lnTo>
                  <a:pt x="10" y="771"/>
                </a:lnTo>
                <a:lnTo>
                  <a:pt x="8" y="771"/>
                </a:lnTo>
                <a:lnTo>
                  <a:pt x="6" y="769"/>
                </a:lnTo>
                <a:lnTo>
                  <a:pt x="4" y="769"/>
                </a:lnTo>
                <a:lnTo>
                  <a:pt x="2" y="769"/>
                </a:lnTo>
                <a:lnTo>
                  <a:pt x="2" y="767"/>
                </a:lnTo>
                <a:lnTo>
                  <a:pt x="0" y="765"/>
                </a:lnTo>
                <a:lnTo>
                  <a:pt x="2" y="763"/>
                </a:lnTo>
                <a:lnTo>
                  <a:pt x="2" y="761"/>
                </a:lnTo>
                <a:lnTo>
                  <a:pt x="4" y="759"/>
                </a:lnTo>
                <a:lnTo>
                  <a:pt x="6" y="755"/>
                </a:lnTo>
                <a:lnTo>
                  <a:pt x="8" y="753"/>
                </a:lnTo>
                <a:lnTo>
                  <a:pt x="12" y="750"/>
                </a:lnTo>
                <a:lnTo>
                  <a:pt x="16" y="746"/>
                </a:lnTo>
                <a:lnTo>
                  <a:pt x="20" y="742"/>
                </a:lnTo>
                <a:lnTo>
                  <a:pt x="23" y="738"/>
                </a:lnTo>
                <a:lnTo>
                  <a:pt x="29" y="734"/>
                </a:lnTo>
                <a:lnTo>
                  <a:pt x="35" y="729"/>
                </a:lnTo>
                <a:lnTo>
                  <a:pt x="41" y="723"/>
                </a:lnTo>
                <a:lnTo>
                  <a:pt x="48" y="719"/>
                </a:lnTo>
                <a:lnTo>
                  <a:pt x="56" y="713"/>
                </a:lnTo>
                <a:lnTo>
                  <a:pt x="64" y="707"/>
                </a:lnTo>
                <a:lnTo>
                  <a:pt x="73" y="700"/>
                </a:lnTo>
                <a:lnTo>
                  <a:pt x="81" y="694"/>
                </a:lnTo>
                <a:lnTo>
                  <a:pt x="91" y="688"/>
                </a:lnTo>
                <a:lnTo>
                  <a:pt x="102" y="681"/>
                </a:lnTo>
                <a:lnTo>
                  <a:pt x="112" y="673"/>
                </a:lnTo>
                <a:lnTo>
                  <a:pt x="123" y="665"/>
                </a:lnTo>
                <a:lnTo>
                  <a:pt x="135" y="658"/>
                </a:lnTo>
                <a:lnTo>
                  <a:pt x="146" y="650"/>
                </a:lnTo>
                <a:lnTo>
                  <a:pt x="160" y="640"/>
                </a:lnTo>
                <a:lnTo>
                  <a:pt x="173" y="631"/>
                </a:lnTo>
                <a:lnTo>
                  <a:pt x="187" y="623"/>
                </a:lnTo>
                <a:lnTo>
                  <a:pt x="200" y="613"/>
                </a:lnTo>
                <a:lnTo>
                  <a:pt x="215" y="604"/>
                </a:lnTo>
                <a:lnTo>
                  <a:pt x="231" y="592"/>
                </a:lnTo>
                <a:lnTo>
                  <a:pt x="246" y="583"/>
                </a:lnTo>
                <a:lnTo>
                  <a:pt x="277" y="562"/>
                </a:lnTo>
                <a:lnTo>
                  <a:pt x="308" y="537"/>
                </a:lnTo>
                <a:lnTo>
                  <a:pt x="340" y="512"/>
                </a:lnTo>
                <a:lnTo>
                  <a:pt x="375" y="485"/>
                </a:lnTo>
                <a:lnTo>
                  <a:pt x="409" y="456"/>
                </a:lnTo>
                <a:lnTo>
                  <a:pt x="427" y="441"/>
                </a:lnTo>
                <a:lnTo>
                  <a:pt x="444" y="424"/>
                </a:lnTo>
                <a:lnTo>
                  <a:pt x="463" y="408"/>
                </a:lnTo>
                <a:lnTo>
                  <a:pt x="482" y="391"/>
                </a:lnTo>
                <a:lnTo>
                  <a:pt x="501" y="374"/>
                </a:lnTo>
                <a:lnTo>
                  <a:pt x="519" y="356"/>
                </a:lnTo>
                <a:lnTo>
                  <a:pt x="540" y="339"/>
                </a:lnTo>
                <a:lnTo>
                  <a:pt x="559" y="320"/>
                </a:lnTo>
                <a:lnTo>
                  <a:pt x="578" y="301"/>
                </a:lnTo>
                <a:lnTo>
                  <a:pt x="599" y="282"/>
                </a:lnTo>
                <a:lnTo>
                  <a:pt x="619" y="260"/>
                </a:lnTo>
                <a:lnTo>
                  <a:pt x="640" y="239"/>
                </a:lnTo>
                <a:lnTo>
                  <a:pt x="661" y="218"/>
                </a:lnTo>
                <a:lnTo>
                  <a:pt x="680" y="197"/>
                </a:lnTo>
                <a:lnTo>
                  <a:pt x="703" y="174"/>
                </a:lnTo>
                <a:lnTo>
                  <a:pt x="724" y="151"/>
                </a:lnTo>
                <a:lnTo>
                  <a:pt x="745" y="126"/>
                </a:lnTo>
                <a:lnTo>
                  <a:pt x="766" y="103"/>
                </a:lnTo>
                <a:lnTo>
                  <a:pt x="789" y="78"/>
                </a:lnTo>
                <a:lnTo>
                  <a:pt x="811" y="53"/>
                </a:lnTo>
                <a:lnTo>
                  <a:pt x="834" y="26"/>
                </a:lnTo>
                <a:lnTo>
                  <a:pt x="857" y="0"/>
                </a:lnTo>
                <a:lnTo>
                  <a:pt x="868" y="86"/>
                </a:lnTo>
                <a:lnTo>
                  <a:pt x="882" y="174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40"/>
          <p:cNvSpPr/>
          <p:nvPr/>
        </p:nvSpPr>
        <p:spPr>
          <a:xfrm>
            <a:off x="6872400" y="4173480"/>
            <a:ext cx="977760" cy="593640"/>
          </a:xfrm>
          <a:custGeom>
            <a:avLst/>
            <a:gdLst/>
            <a:ahLst/>
            <a:rect l="l" t="t" r="r" b="b"/>
            <a:pathLst>
              <a:path w="1230" h="748">
                <a:moveTo>
                  <a:pt x="1230" y="656"/>
                </a:moveTo>
                <a:lnTo>
                  <a:pt x="1230" y="658"/>
                </a:lnTo>
                <a:lnTo>
                  <a:pt x="1227" y="660"/>
                </a:lnTo>
                <a:lnTo>
                  <a:pt x="1223" y="663"/>
                </a:lnTo>
                <a:lnTo>
                  <a:pt x="1217" y="667"/>
                </a:lnTo>
                <a:lnTo>
                  <a:pt x="1209" y="669"/>
                </a:lnTo>
                <a:lnTo>
                  <a:pt x="1200" y="673"/>
                </a:lnTo>
                <a:lnTo>
                  <a:pt x="1190" y="677"/>
                </a:lnTo>
                <a:lnTo>
                  <a:pt x="1177" y="681"/>
                </a:lnTo>
                <a:lnTo>
                  <a:pt x="1163" y="686"/>
                </a:lnTo>
                <a:lnTo>
                  <a:pt x="1148" y="690"/>
                </a:lnTo>
                <a:lnTo>
                  <a:pt x="1131" y="694"/>
                </a:lnTo>
                <a:lnTo>
                  <a:pt x="1111" y="698"/>
                </a:lnTo>
                <a:lnTo>
                  <a:pt x="1092" y="704"/>
                </a:lnTo>
                <a:lnTo>
                  <a:pt x="1071" y="707"/>
                </a:lnTo>
                <a:lnTo>
                  <a:pt x="1048" y="713"/>
                </a:lnTo>
                <a:lnTo>
                  <a:pt x="1023" y="717"/>
                </a:lnTo>
                <a:lnTo>
                  <a:pt x="998" y="721"/>
                </a:lnTo>
                <a:lnTo>
                  <a:pt x="975" y="727"/>
                </a:lnTo>
                <a:lnTo>
                  <a:pt x="952" y="731"/>
                </a:lnTo>
                <a:lnTo>
                  <a:pt x="929" y="732"/>
                </a:lnTo>
                <a:lnTo>
                  <a:pt x="908" y="736"/>
                </a:lnTo>
                <a:lnTo>
                  <a:pt x="889" y="740"/>
                </a:lnTo>
                <a:lnTo>
                  <a:pt x="868" y="742"/>
                </a:lnTo>
                <a:lnTo>
                  <a:pt x="850" y="744"/>
                </a:lnTo>
                <a:lnTo>
                  <a:pt x="831" y="746"/>
                </a:lnTo>
                <a:lnTo>
                  <a:pt x="816" y="746"/>
                </a:lnTo>
                <a:lnTo>
                  <a:pt x="798" y="748"/>
                </a:lnTo>
                <a:lnTo>
                  <a:pt x="783" y="748"/>
                </a:lnTo>
                <a:lnTo>
                  <a:pt x="770" y="746"/>
                </a:lnTo>
                <a:lnTo>
                  <a:pt x="754" y="746"/>
                </a:lnTo>
                <a:lnTo>
                  <a:pt x="743" y="744"/>
                </a:lnTo>
                <a:lnTo>
                  <a:pt x="731" y="742"/>
                </a:lnTo>
                <a:lnTo>
                  <a:pt x="720" y="742"/>
                </a:lnTo>
                <a:lnTo>
                  <a:pt x="706" y="740"/>
                </a:lnTo>
                <a:lnTo>
                  <a:pt x="695" y="736"/>
                </a:lnTo>
                <a:lnTo>
                  <a:pt x="681" y="732"/>
                </a:lnTo>
                <a:lnTo>
                  <a:pt x="670" y="729"/>
                </a:lnTo>
                <a:lnTo>
                  <a:pt x="656" y="721"/>
                </a:lnTo>
                <a:lnTo>
                  <a:pt x="643" y="713"/>
                </a:lnTo>
                <a:lnTo>
                  <a:pt x="628" y="706"/>
                </a:lnTo>
                <a:lnTo>
                  <a:pt x="614" y="696"/>
                </a:lnTo>
                <a:lnTo>
                  <a:pt x="599" y="684"/>
                </a:lnTo>
                <a:lnTo>
                  <a:pt x="583" y="673"/>
                </a:lnTo>
                <a:lnTo>
                  <a:pt x="568" y="660"/>
                </a:lnTo>
                <a:lnTo>
                  <a:pt x="551" y="644"/>
                </a:lnTo>
                <a:lnTo>
                  <a:pt x="534" y="629"/>
                </a:lnTo>
                <a:lnTo>
                  <a:pt x="516" y="612"/>
                </a:lnTo>
                <a:lnTo>
                  <a:pt x="499" y="594"/>
                </a:lnTo>
                <a:lnTo>
                  <a:pt x="480" y="573"/>
                </a:lnTo>
                <a:lnTo>
                  <a:pt x="459" y="552"/>
                </a:lnTo>
                <a:lnTo>
                  <a:pt x="436" y="529"/>
                </a:lnTo>
                <a:lnTo>
                  <a:pt x="413" y="506"/>
                </a:lnTo>
                <a:lnTo>
                  <a:pt x="386" y="479"/>
                </a:lnTo>
                <a:lnTo>
                  <a:pt x="359" y="452"/>
                </a:lnTo>
                <a:lnTo>
                  <a:pt x="330" y="422"/>
                </a:lnTo>
                <a:lnTo>
                  <a:pt x="299" y="391"/>
                </a:lnTo>
                <a:lnTo>
                  <a:pt x="267" y="358"/>
                </a:lnTo>
                <a:lnTo>
                  <a:pt x="232" y="324"/>
                </a:lnTo>
                <a:lnTo>
                  <a:pt x="198" y="287"/>
                </a:lnTo>
                <a:lnTo>
                  <a:pt x="161" y="251"/>
                </a:lnTo>
                <a:lnTo>
                  <a:pt x="123" y="213"/>
                </a:lnTo>
                <a:lnTo>
                  <a:pt x="82" y="170"/>
                </a:lnTo>
                <a:lnTo>
                  <a:pt x="42" y="128"/>
                </a:lnTo>
                <a:lnTo>
                  <a:pt x="0" y="86"/>
                </a:lnTo>
                <a:lnTo>
                  <a:pt x="0" y="0"/>
                </a:lnTo>
                <a:lnTo>
                  <a:pt x="50" y="40"/>
                </a:lnTo>
                <a:lnTo>
                  <a:pt x="102" y="82"/>
                </a:lnTo>
                <a:lnTo>
                  <a:pt x="155" y="122"/>
                </a:lnTo>
                <a:lnTo>
                  <a:pt x="209" y="163"/>
                </a:lnTo>
                <a:lnTo>
                  <a:pt x="265" y="201"/>
                </a:lnTo>
                <a:lnTo>
                  <a:pt x="320" y="239"/>
                </a:lnTo>
                <a:lnTo>
                  <a:pt x="378" y="274"/>
                </a:lnTo>
                <a:lnTo>
                  <a:pt x="409" y="291"/>
                </a:lnTo>
                <a:lnTo>
                  <a:pt x="438" y="308"/>
                </a:lnTo>
                <a:lnTo>
                  <a:pt x="468" y="328"/>
                </a:lnTo>
                <a:lnTo>
                  <a:pt x="497" y="345"/>
                </a:lnTo>
                <a:lnTo>
                  <a:pt x="528" y="362"/>
                </a:lnTo>
                <a:lnTo>
                  <a:pt x="558" y="378"/>
                </a:lnTo>
                <a:lnTo>
                  <a:pt x="589" y="395"/>
                </a:lnTo>
                <a:lnTo>
                  <a:pt x="622" y="410"/>
                </a:lnTo>
                <a:lnTo>
                  <a:pt x="653" y="426"/>
                </a:lnTo>
                <a:lnTo>
                  <a:pt x="685" y="439"/>
                </a:lnTo>
                <a:lnTo>
                  <a:pt x="750" y="468"/>
                </a:lnTo>
                <a:lnTo>
                  <a:pt x="816" y="495"/>
                </a:lnTo>
                <a:lnTo>
                  <a:pt x="883" y="519"/>
                </a:lnTo>
                <a:lnTo>
                  <a:pt x="950" y="544"/>
                </a:lnTo>
                <a:lnTo>
                  <a:pt x="967" y="550"/>
                </a:lnTo>
                <a:lnTo>
                  <a:pt x="983" y="556"/>
                </a:lnTo>
                <a:lnTo>
                  <a:pt x="1000" y="560"/>
                </a:lnTo>
                <a:lnTo>
                  <a:pt x="1015" y="566"/>
                </a:lnTo>
                <a:lnTo>
                  <a:pt x="1029" y="571"/>
                </a:lnTo>
                <a:lnTo>
                  <a:pt x="1044" y="577"/>
                </a:lnTo>
                <a:lnTo>
                  <a:pt x="1058" y="581"/>
                </a:lnTo>
                <a:lnTo>
                  <a:pt x="1071" y="587"/>
                </a:lnTo>
                <a:lnTo>
                  <a:pt x="1085" y="590"/>
                </a:lnTo>
                <a:lnTo>
                  <a:pt x="1096" y="594"/>
                </a:lnTo>
                <a:lnTo>
                  <a:pt x="1108" y="600"/>
                </a:lnTo>
                <a:lnTo>
                  <a:pt x="1119" y="604"/>
                </a:lnTo>
                <a:lnTo>
                  <a:pt x="1131" y="608"/>
                </a:lnTo>
                <a:lnTo>
                  <a:pt x="1140" y="612"/>
                </a:lnTo>
                <a:lnTo>
                  <a:pt x="1150" y="615"/>
                </a:lnTo>
                <a:lnTo>
                  <a:pt x="1159" y="617"/>
                </a:lnTo>
                <a:lnTo>
                  <a:pt x="1167" y="621"/>
                </a:lnTo>
                <a:lnTo>
                  <a:pt x="1175" y="625"/>
                </a:lnTo>
                <a:lnTo>
                  <a:pt x="1182" y="627"/>
                </a:lnTo>
                <a:lnTo>
                  <a:pt x="1190" y="631"/>
                </a:lnTo>
                <a:lnTo>
                  <a:pt x="1196" y="633"/>
                </a:lnTo>
                <a:lnTo>
                  <a:pt x="1202" y="637"/>
                </a:lnTo>
                <a:lnTo>
                  <a:pt x="1207" y="638"/>
                </a:lnTo>
                <a:lnTo>
                  <a:pt x="1213" y="640"/>
                </a:lnTo>
                <a:lnTo>
                  <a:pt x="1217" y="644"/>
                </a:lnTo>
                <a:lnTo>
                  <a:pt x="1221" y="646"/>
                </a:lnTo>
                <a:lnTo>
                  <a:pt x="1223" y="648"/>
                </a:lnTo>
                <a:lnTo>
                  <a:pt x="1227" y="650"/>
                </a:lnTo>
                <a:lnTo>
                  <a:pt x="1228" y="650"/>
                </a:lnTo>
                <a:lnTo>
                  <a:pt x="1228" y="652"/>
                </a:lnTo>
                <a:lnTo>
                  <a:pt x="1230" y="654"/>
                </a:lnTo>
                <a:lnTo>
                  <a:pt x="1230" y="656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41"/>
          <p:cNvSpPr/>
          <p:nvPr/>
        </p:nvSpPr>
        <p:spPr>
          <a:xfrm>
            <a:off x="6818400" y="3456000"/>
            <a:ext cx="112680" cy="1611360"/>
          </a:xfrm>
          <a:custGeom>
            <a:avLst/>
            <a:gdLst/>
            <a:ahLst/>
            <a:rect l="l" t="t" r="r" b="b"/>
            <a:pathLst>
              <a:path w="142" h="2032">
                <a:moveTo>
                  <a:pt x="128" y="236"/>
                </a:moveTo>
                <a:lnTo>
                  <a:pt x="124" y="282"/>
                </a:lnTo>
                <a:lnTo>
                  <a:pt x="123" y="330"/>
                </a:lnTo>
                <a:lnTo>
                  <a:pt x="119" y="380"/>
                </a:lnTo>
                <a:lnTo>
                  <a:pt x="119" y="430"/>
                </a:lnTo>
                <a:lnTo>
                  <a:pt x="117" y="480"/>
                </a:lnTo>
                <a:lnTo>
                  <a:pt x="117" y="530"/>
                </a:lnTo>
                <a:lnTo>
                  <a:pt x="117" y="633"/>
                </a:lnTo>
                <a:lnTo>
                  <a:pt x="117" y="645"/>
                </a:lnTo>
                <a:lnTo>
                  <a:pt x="117" y="658"/>
                </a:lnTo>
                <a:lnTo>
                  <a:pt x="117" y="674"/>
                </a:lnTo>
                <a:lnTo>
                  <a:pt x="117" y="687"/>
                </a:lnTo>
                <a:lnTo>
                  <a:pt x="117" y="702"/>
                </a:lnTo>
                <a:lnTo>
                  <a:pt x="117" y="718"/>
                </a:lnTo>
                <a:lnTo>
                  <a:pt x="117" y="750"/>
                </a:lnTo>
                <a:lnTo>
                  <a:pt x="117" y="785"/>
                </a:lnTo>
                <a:lnTo>
                  <a:pt x="117" y="821"/>
                </a:lnTo>
                <a:lnTo>
                  <a:pt x="119" y="860"/>
                </a:lnTo>
                <a:lnTo>
                  <a:pt x="119" y="898"/>
                </a:lnTo>
                <a:lnTo>
                  <a:pt x="119" y="940"/>
                </a:lnTo>
                <a:lnTo>
                  <a:pt x="119" y="982"/>
                </a:lnTo>
                <a:lnTo>
                  <a:pt x="121" y="1028"/>
                </a:lnTo>
                <a:lnTo>
                  <a:pt x="123" y="1074"/>
                </a:lnTo>
                <a:lnTo>
                  <a:pt x="123" y="1122"/>
                </a:lnTo>
                <a:lnTo>
                  <a:pt x="124" y="1172"/>
                </a:lnTo>
                <a:lnTo>
                  <a:pt x="126" y="1224"/>
                </a:lnTo>
                <a:lnTo>
                  <a:pt x="128" y="1276"/>
                </a:lnTo>
                <a:lnTo>
                  <a:pt x="130" y="1303"/>
                </a:lnTo>
                <a:lnTo>
                  <a:pt x="130" y="1330"/>
                </a:lnTo>
                <a:lnTo>
                  <a:pt x="132" y="1356"/>
                </a:lnTo>
                <a:lnTo>
                  <a:pt x="132" y="1381"/>
                </a:lnTo>
                <a:lnTo>
                  <a:pt x="134" y="1404"/>
                </a:lnTo>
                <a:lnTo>
                  <a:pt x="134" y="1429"/>
                </a:lnTo>
                <a:lnTo>
                  <a:pt x="134" y="1452"/>
                </a:lnTo>
                <a:lnTo>
                  <a:pt x="136" y="1473"/>
                </a:lnTo>
                <a:lnTo>
                  <a:pt x="136" y="1495"/>
                </a:lnTo>
                <a:lnTo>
                  <a:pt x="136" y="1516"/>
                </a:lnTo>
                <a:lnTo>
                  <a:pt x="138" y="1535"/>
                </a:lnTo>
                <a:lnTo>
                  <a:pt x="138" y="1552"/>
                </a:lnTo>
                <a:lnTo>
                  <a:pt x="138" y="1571"/>
                </a:lnTo>
                <a:lnTo>
                  <a:pt x="138" y="1589"/>
                </a:lnTo>
                <a:lnTo>
                  <a:pt x="140" y="1604"/>
                </a:lnTo>
                <a:lnTo>
                  <a:pt x="140" y="1619"/>
                </a:lnTo>
                <a:lnTo>
                  <a:pt x="140" y="1635"/>
                </a:lnTo>
                <a:lnTo>
                  <a:pt x="140" y="1648"/>
                </a:lnTo>
                <a:lnTo>
                  <a:pt x="140" y="1661"/>
                </a:lnTo>
                <a:lnTo>
                  <a:pt x="140" y="1673"/>
                </a:lnTo>
                <a:lnTo>
                  <a:pt x="140" y="1684"/>
                </a:lnTo>
                <a:lnTo>
                  <a:pt x="140" y="1696"/>
                </a:lnTo>
                <a:lnTo>
                  <a:pt x="140" y="1706"/>
                </a:lnTo>
                <a:lnTo>
                  <a:pt x="140" y="1715"/>
                </a:lnTo>
                <a:lnTo>
                  <a:pt x="140" y="1723"/>
                </a:lnTo>
                <a:lnTo>
                  <a:pt x="140" y="1731"/>
                </a:lnTo>
                <a:lnTo>
                  <a:pt x="140" y="1738"/>
                </a:lnTo>
                <a:lnTo>
                  <a:pt x="142" y="1744"/>
                </a:lnTo>
                <a:lnTo>
                  <a:pt x="142" y="1748"/>
                </a:lnTo>
                <a:lnTo>
                  <a:pt x="142" y="1754"/>
                </a:lnTo>
                <a:lnTo>
                  <a:pt x="142" y="1757"/>
                </a:lnTo>
                <a:lnTo>
                  <a:pt x="142" y="1759"/>
                </a:lnTo>
                <a:lnTo>
                  <a:pt x="140" y="1761"/>
                </a:lnTo>
                <a:lnTo>
                  <a:pt x="140" y="1765"/>
                </a:lnTo>
                <a:lnTo>
                  <a:pt x="140" y="1771"/>
                </a:lnTo>
                <a:lnTo>
                  <a:pt x="138" y="1777"/>
                </a:lnTo>
                <a:lnTo>
                  <a:pt x="138" y="1782"/>
                </a:lnTo>
                <a:lnTo>
                  <a:pt x="136" y="1790"/>
                </a:lnTo>
                <a:lnTo>
                  <a:pt x="134" y="1798"/>
                </a:lnTo>
                <a:lnTo>
                  <a:pt x="134" y="1805"/>
                </a:lnTo>
                <a:lnTo>
                  <a:pt x="132" y="1815"/>
                </a:lnTo>
                <a:lnTo>
                  <a:pt x="130" y="1826"/>
                </a:lnTo>
                <a:lnTo>
                  <a:pt x="128" y="1838"/>
                </a:lnTo>
                <a:lnTo>
                  <a:pt x="126" y="1849"/>
                </a:lnTo>
                <a:lnTo>
                  <a:pt x="123" y="1863"/>
                </a:lnTo>
                <a:lnTo>
                  <a:pt x="121" y="1878"/>
                </a:lnTo>
                <a:lnTo>
                  <a:pt x="119" y="1892"/>
                </a:lnTo>
                <a:lnTo>
                  <a:pt x="117" y="1909"/>
                </a:lnTo>
                <a:lnTo>
                  <a:pt x="115" y="1924"/>
                </a:lnTo>
                <a:lnTo>
                  <a:pt x="111" y="1938"/>
                </a:lnTo>
                <a:lnTo>
                  <a:pt x="109" y="1951"/>
                </a:lnTo>
                <a:lnTo>
                  <a:pt x="105" y="1965"/>
                </a:lnTo>
                <a:lnTo>
                  <a:pt x="101" y="1974"/>
                </a:lnTo>
                <a:lnTo>
                  <a:pt x="100" y="1986"/>
                </a:lnTo>
                <a:lnTo>
                  <a:pt x="96" y="1993"/>
                </a:lnTo>
                <a:lnTo>
                  <a:pt x="92" y="2003"/>
                </a:lnTo>
                <a:lnTo>
                  <a:pt x="88" y="2009"/>
                </a:lnTo>
                <a:lnTo>
                  <a:pt x="86" y="2014"/>
                </a:lnTo>
                <a:lnTo>
                  <a:pt x="82" y="2020"/>
                </a:lnTo>
                <a:lnTo>
                  <a:pt x="78" y="2024"/>
                </a:lnTo>
                <a:lnTo>
                  <a:pt x="76" y="2028"/>
                </a:lnTo>
                <a:lnTo>
                  <a:pt x="73" y="2030"/>
                </a:lnTo>
                <a:lnTo>
                  <a:pt x="71" y="2032"/>
                </a:lnTo>
                <a:lnTo>
                  <a:pt x="69" y="2032"/>
                </a:lnTo>
                <a:lnTo>
                  <a:pt x="65" y="2030"/>
                </a:lnTo>
                <a:lnTo>
                  <a:pt x="63" y="2026"/>
                </a:lnTo>
                <a:lnTo>
                  <a:pt x="59" y="2022"/>
                </a:lnTo>
                <a:lnTo>
                  <a:pt x="57" y="2018"/>
                </a:lnTo>
                <a:lnTo>
                  <a:pt x="53" y="2013"/>
                </a:lnTo>
                <a:lnTo>
                  <a:pt x="50" y="2007"/>
                </a:lnTo>
                <a:lnTo>
                  <a:pt x="46" y="2001"/>
                </a:lnTo>
                <a:lnTo>
                  <a:pt x="44" y="1995"/>
                </a:lnTo>
                <a:lnTo>
                  <a:pt x="40" y="1988"/>
                </a:lnTo>
                <a:lnTo>
                  <a:pt x="36" y="1980"/>
                </a:lnTo>
                <a:lnTo>
                  <a:pt x="32" y="1972"/>
                </a:lnTo>
                <a:lnTo>
                  <a:pt x="30" y="1963"/>
                </a:lnTo>
                <a:lnTo>
                  <a:pt x="27" y="1953"/>
                </a:lnTo>
                <a:lnTo>
                  <a:pt x="25" y="1943"/>
                </a:lnTo>
                <a:lnTo>
                  <a:pt x="21" y="1932"/>
                </a:lnTo>
                <a:lnTo>
                  <a:pt x="19" y="1920"/>
                </a:lnTo>
                <a:lnTo>
                  <a:pt x="15" y="1909"/>
                </a:lnTo>
                <a:lnTo>
                  <a:pt x="11" y="1895"/>
                </a:lnTo>
                <a:lnTo>
                  <a:pt x="7" y="1882"/>
                </a:lnTo>
                <a:lnTo>
                  <a:pt x="5" y="1867"/>
                </a:lnTo>
                <a:lnTo>
                  <a:pt x="4" y="1851"/>
                </a:lnTo>
                <a:lnTo>
                  <a:pt x="2" y="1834"/>
                </a:lnTo>
                <a:lnTo>
                  <a:pt x="0" y="1817"/>
                </a:lnTo>
                <a:lnTo>
                  <a:pt x="0" y="1800"/>
                </a:lnTo>
                <a:lnTo>
                  <a:pt x="0" y="1780"/>
                </a:lnTo>
                <a:lnTo>
                  <a:pt x="0" y="1761"/>
                </a:lnTo>
                <a:lnTo>
                  <a:pt x="0" y="1740"/>
                </a:lnTo>
                <a:lnTo>
                  <a:pt x="0" y="1719"/>
                </a:lnTo>
                <a:lnTo>
                  <a:pt x="2" y="1696"/>
                </a:lnTo>
                <a:lnTo>
                  <a:pt x="4" y="1673"/>
                </a:lnTo>
                <a:lnTo>
                  <a:pt x="4" y="1648"/>
                </a:lnTo>
                <a:lnTo>
                  <a:pt x="7" y="1623"/>
                </a:lnTo>
                <a:lnTo>
                  <a:pt x="7" y="1610"/>
                </a:lnTo>
                <a:lnTo>
                  <a:pt x="9" y="1594"/>
                </a:lnTo>
                <a:lnTo>
                  <a:pt x="9" y="1577"/>
                </a:lnTo>
                <a:lnTo>
                  <a:pt x="11" y="1558"/>
                </a:lnTo>
                <a:lnTo>
                  <a:pt x="11" y="1535"/>
                </a:lnTo>
                <a:lnTo>
                  <a:pt x="11" y="1510"/>
                </a:lnTo>
                <a:lnTo>
                  <a:pt x="13" y="1481"/>
                </a:lnTo>
                <a:lnTo>
                  <a:pt x="13" y="1452"/>
                </a:lnTo>
                <a:lnTo>
                  <a:pt x="13" y="1420"/>
                </a:lnTo>
                <a:lnTo>
                  <a:pt x="15" y="1383"/>
                </a:lnTo>
                <a:lnTo>
                  <a:pt x="15" y="1347"/>
                </a:lnTo>
                <a:lnTo>
                  <a:pt x="15" y="1307"/>
                </a:lnTo>
                <a:lnTo>
                  <a:pt x="15" y="1264"/>
                </a:lnTo>
                <a:lnTo>
                  <a:pt x="15" y="1220"/>
                </a:lnTo>
                <a:lnTo>
                  <a:pt x="15" y="1172"/>
                </a:lnTo>
                <a:lnTo>
                  <a:pt x="15" y="1122"/>
                </a:lnTo>
                <a:lnTo>
                  <a:pt x="15" y="1071"/>
                </a:lnTo>
                <a:lnTo>
                  <a:pt x="15" y="1017"/>
                </a:lnTo>
                <a:lnTo>
                  <a:pt x="15" y="959"/>
                </a:lnTo>
                <a:lnTo>
                  <a:pt x="15" y="900"/>
                </a:lnTo>
                <a:lnTo>
                  <a:pt x="15" y="838"/>
                </a:lnTo>
                <a:lnTo>
                  <a:pt x="15" y="773"/>
                </a:lnTo>
                <a:lnTo>
                  <a:pt x="13" y="708"/>
                </a:lnTo>
                <a:lnTo>
                  <a:pt x="13" y="639"/>
                </a:lnTo>
                <a:lnTo>
                  <a:pt x="13" y="568"/>
                </a:lnTo>
                <a:lnTo>
                  <a:pt x="11" y="493"/>
                </a:lnTo>
                <a:lnTo>
                  <a:pt x="11" y="416"/>
                </a:lnTo>
                <a:lnTo>
                  <a:pt x="11" y="338"/>
                </a:lnTo>
                <a:lnTo>
                  <a:pt x="9" y="257"/>
                </a:lnTo>
                <a:lnTo>
                  <a:pt x="9" y="175"/>
                </a:lnTo>
                <a:lnTo>
                  <a:pt x="7" y="88"/>
                </a:lnTo>
                <a:lnTo>
                  <a:pt x="7" y="0"/>
                </a:lnTo>
                <a:lnTo>
                  <a:pt x="75" y="0"/>
                </a:lnTo>
                <a:lnTo>
                  <a:pt x="142" y="0"/>
                </a:lnTo>
                <a:lnTo>
                  <a:pt x="142" y="6"/>
                </a:lnTo>
                <a:lnTo>
                  <a:pt x="142" y="12"/>
                </a:lnTo>
                <a:lnTo>
                  <a:pt x="140" y="19"/>
                </a:lnTo>
                <a:lnTo>
                  <a:pt x="140" y="29"/>
                </a:lnTo>
                <a:lnTo>
                  <a:pt x="140" y="39"/>
                </a:lnTo>
                <a:lnTo>
                  <a:pt x="140" y="50"/>
                </a:lnTo>
                <a:lnTo>
                  <a:pt x="140" y="62"/>
                </a:lnTo>
                <a:lnTo>
                  <a:pt x="140" y="77"/>
                </a:lnTo>
                <a:lnTo>
                  <a:pt x="138" y="90"/>
                </a:lnTo>
                <a:lnTo>
                  <a:pt x="138" y="108"/>
                </a:lnTo>
                <a:lnTo>
                  <a:pt x="136" y="125"/>
                </a:lnTo>
                <a:lnTo>
                  <a:pt x="136" y="144"/>
                </a:lnTo>
                <a:lnTo>
                  <a:pt x="134" y="165"/>
                </a:lnTo>
                <a:lnTo>
                  <a:pt x="132" y="186"/>
                </a:lnTo>
                <a:lnTo>
                  <a:pt x="130" y="211"/>
                </a:lnTo>
                <a:lnTo>
                  <a:pt x="128" y="236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4T02:11:17Z</dcterms:modified>
  <cp:revision>4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