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gif" ContentType="image/gif"/>
  <Override PartName="/ppt/media/image1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E0C229-E87C-4C88-8EAE-2C9BBED3891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5E1F1A-B9A9-47C6-A5BF-BEEEB6C6B9F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3BC9-B1FF-4D11-AC3D-DBD1134F4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7AF0-3883-41C6-B414-9B39B873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F1AC-2809-4883-ACED-7DC67505C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43ED-7132-4640-9181-2B829CB4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DFDE-BA26-4331-80F9-43227553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EB5A-24AC-4B1D-A3EF-35C35477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C444-E6A3-44FC-9F5F-5EED1FC2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724E-1C15-4187-848E-DC415866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4A30-2F85-4A2A-8973-E1949B83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DA88-4524-46BB-A5CE-B073070B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3A3E-83A6-460D-8886-3FE5EA2B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4674-8DA7-4005-AAF3-925949F2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A7C8EA-BD7B-470F-B215-5FCF4A33ADD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图片 22" descr="屏幕剪辑"/>
          <p:cNvPicPr/>
          <p:nvPr/>
        </p:nvPicPr>
        <p:blipFill>
          <a:blip r:embed="rId1"/>
          <a:stretch/>
        </p:blipFill>
        <p:spPr>
          <a:xfrm>
            <a:off x="2219400" y="2243160"/>
            <a:ext cx="4833720" cy="3024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53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" name="图片 46" descr="枫叶副本"/>
            <p:cNvPicPr/>
            <p:nvPr/>
          </p:nvPicPr>
          <p:blipFill>
            <a:blip r:embed="rId4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矩形 47" descr=""/>
            <p:cNvPicPr/>
            <p:nvPr/>
          </p:nvPicPr>
          <p:blipFill>
            <a:blip r:embed="rId5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组合 13338"/>
          <p:cNvGrpSpPr/>
          <p:nvPr/>
        </p:nvGrpSpPr>
        <p:grpSpPr>
          <a:xfrm>
            <a:off x="1971720" y="905040"/>
            <a:ext cx="5770440" cy="1180800"/>
            <a:chOff x="1971720" y="905040"/>
            <a:chExt cx="5770440" cy="1180800"/>
          </a:xfrm>
        </p:grpSpPr>
        <p:sp>
          <p:nvSpPr>
            <p:cNvPr id="57" name="Text Box 2"/>
            <p:cNvSpPr/>
            <p:nvPr/>
          </p:nvSpPr>
          <p:spPr>
            <a:xfrm>
              <a:off x="3230640" y="1011240"/>
              <a:ext cx="4511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妙语批试卷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" name="组合 13337"/>
            <p:cNvGrpSpPr/>
            <p:nvPr/>
          </p:nvGrpSpPr>
          <p:grpSpPr>
            <a:xfrm>
              <a:off x="1971720" y="905040"/>
              <a:ext cx="1180800" cy="1180800"/>
              <a:chOff x="1971720" y="905040"/>
              <a:chExt cx="1180800" cy="1180800"/>
            </a:xfrm>
          </p:grpSpPr>
          <p:sp>
            <p:nvSpPr>
              <p:cNvPr id="59" name="AutoShape 11"/>
              <p:cNvSpPr/>
              <p:nvPr/>
            </p:nvSpPr>
            <p:spPr>
              <a:xfrm>
                <a:off x="197172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文本框 13"/>
              <p:cNvSpPr/>
              <p:nvPr/>
            </p:nvSpPr>
            <p:spPr>
              <a:xfrm>
                <a:off x="2189160" y="98496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4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内容占位符 2"/>
          <p:cNvSpPr/>
          <p:nvPr/>
        </p:nvSpPr>
        <p:spPr>
          <a:xfrm>
            <a:off x="625320" y="1947960"/>
            <a:ext cx="7847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思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阎锡山为什么要请康有为为主考官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1"/>
          <p:cNvSpPr/>
          <p:nvPr/>
        </p:nvSpPr>
        <p:spPr>
          <a:xfrm>
            <a:off x="1039680" y="254808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2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是他为了表示自己政治开明，用人唯贤；二是康有为参加过维新变法，很有本领；三是康有为正好从国外回来，被阎锡山请来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内容占位符 2"/>
          <p:cNvSpPr/>
          <p:nvPr/>
        </p:nvSpPr>
        <p:spPr>
          <a:xfrm>
            <a:off x="804960" y="2192400"/>
            <a:ext cx="76453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析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考生的试卷错在哪里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1039680" y="277956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2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考生把“廉吏民表”的“表”的意思“表率”，理解成了“计量某种量的器具”。考生不懂装懂，才闹出了这样的笑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内容占位符 2"/>
          <p:cNvSpPr/>
          <p:nvPr/>
        </p:nvSpPr>
        <p:spPr>
          <a:xfrm>
            <a:off x="790560" y="2717640"/>
            <a:ext cx="7645320" cy="30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品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康有为是一个怎样的人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1"/>
          <p:cNvSpPr/>
          <p:nvPr/>
        </p:nvSpPr>
        <p:spPr>
          <a:xfrm>
            <a:off x="1198440" y="3348000"/>
            <a:ext cx="72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53172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康有为是一个富有才学、机敏聪慧、爱国爱民，并且具有中国式幽默的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26"/>
          <p:cNvSpPr/>
          <p:nvPr/>
        </p:nvSpPr>
        <p:spPr>
          <a:xfrm>
            <a:off x="1032480" y="2349720"/>
            <a:ext cx="78984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妙语批试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1936800" y="2324160"/>
            <a:ext cx="4638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考试的原因和目的，引出康有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左大括号 6"/>
          <p:cNvSpPr/>
          <p:nvPr/>
        </p:nvSpPr>
        <p:spPr>
          <a:xfrm>
            <a:off x="1735200" y="2379600"/>
            <a:ext cx="312840" cy="3360960"/>
          </a:xfrm>
          <a:custGeom>
            <a:avLst/>
            <a:gdLst>
              <a:gd name="textAreaLeft" fmla="*/ 199800 w 312840"/>
              <a:gd name="textAreaRight" fmla="*/ 313200 w 312840"/>
              <a:gd name="textAreaTop" fmla="*/ 7920 h 3360960"/>
              <a:gd name="textAreaBottom" fmla="*/ 3353040 h 336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4"/>
                  <a:pt x="10800" y="167"/>
                </a:cubicBezTo>
                <a:lnTo>
                  <a:pt x="10800" y="10633"/>
                </a:lnTo>
                <a:cubicBezTo>
                  <a:pt x="10800" y="10717"/>
                  <a:pt x="5400" y="10800"/>
                  <a:pt x="0" y="10800"/>
                </a:cubicBezTo>
                <a:cubicBezTo>
                  <a:pt x="5400" y="10800"/>
                  <a:pt x="10800" y="10884"/>
                  <a:pt x="10800" y="10967"/>
                </a:cubicBezTo>
                <a:lnTo>
                  <a:pt x="10800" y="21433"/>
                </a:lnTo>
                <a:cubicBezTo>
                  <a:pt x="10800" y="21517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左大括号 24"/>
          <p:cNvSpPr/>
          <p:nvPr/>
        </p:nvSpPr>
        <p:spPr>
          <a:xfrm flipH="1">
            <a:off x="6392880" y="2459160"/>
            <a:ext cx="200160" cy="3222360"/>
          </a:xfrm>
          <a:custGeom>
            <a:avLst/>
            <a:gdLst>
              <a:gd name="textAreaLeft" fmla="*/ 127800 w 200160"/>
              <a:gd name="textAreaRight" fmla="*/ 200520 w 200160"/>
              <a:gd name="textAreaTop" fmla="*/ 5040 h 3222360"/>
              <a:gd name="textAreaBottom" fmla="*/ 3217320 h 322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"/>
                  <a:pt x="10800" y="112"/>
                </a:cubicBezTo>
                <a:lnTo>
                  <a:pt x="10800" y="10688"/>
                </a:lnTo>
                <a:cubicBezTo>
                  <a:pt x="10800" y="10744"/>
                  <a:pt x="5400" y="10800"/>
                  <a:pt x="0" y="10800"/>
                </a:cubicBezTo>
                <a:cubicBezTo>
                  <a:pt x="5400" y="10800"/>
                  <a:pt x="10800" y="10856"/>
                  <a:pt x="10800" y="10912"/>
                </a:cubicBezTo>
                <a:lnTo>
                  <a:pt x="10800" y="21488"/>
                </a:lnTo>
                <a:cubicBezTo>
                  <a:pt x="10800" y="2154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9"/>
          <p:cNvSpPr/>
          <p:nvPr/>
        </p:nvSpPr>
        <p:spPr>
          <a:xfrm>
            <a:off x="1940040" y="5307120"/>
            <a:ext cx="517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概括康有为的才学机敏、妙批所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0"/>
          <p:cNvSpPr/>
          <p:nvPr/>
        </p:nvSpPr>
        <p:spPr>
          <a:xfrm>
            <a:off x="1911240" y="3962520"/>
            <a:ext cx="466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交代试题，答卷举例，批卷作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 26"/>
          <p:cNvSpPr/>
          <p:nvPr/>
        </p:nvSpPr>
        <p:spPr>
          <a:xfrm>
            <a:off x="6697800" y="1832760"/>
            <a:ext cx="127764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才学机敏康有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不懂装懂答卷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8452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98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99" name="圆角矩形 1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0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内容占位符 2"/>
          <p:cNvSpPr/>
          <p:nvPr/>
        </p:nvSpPr>
        <p:spPr>
          <a:xfrm>
            <a:off x="934920" y="2084400"/>
            <a:ext cx="741708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写了康有为妙语暗讽不学无术之徒的故事。从中，我们能感受到康有为的才学和机敏，更能感受到“以彼之道，还施彼身”的中国式幽默的魅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04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5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6" descr=""/>
          <p:cNvPicPr/>
          <p:nvPr/>
        </p:nvPicPr>
        <p:blipFill>
          <a:blip r:embed="rId1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08" name="组合 3"/>
          <p:cNvGrpSpPr/>
          <p:nvPr/>
        </p:nvGrpSpPr>
        <p:grpSpPr>
          <a:xfrm>
            <a:off x="312840" y="958680"/>
            <a:ext cx="2593800" cy="667080"/>
            <a:chOff x="312840" y="958680"/>
            <a:chExt cx="2593800" cy="667080"/>
          </a:xfrm>
        </p:grpSpPr>
        <p:sp>
          <p:nvSpPr>
            <p:cNvPr id="109" name="圆角矩形 4"/>
            <p:cNvSpPr/>
            <p:nvPr/>
          </p:nvSpPr>
          <p:spPr>
            <a:xfrm>
              <a:off x="1128600" y="1096920"/>
              <a:ext cx="1778040" cy="449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0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312840" y="958680"/>
              <a:ext cx="1087200" cy="6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文本框 16"/>
            <p:cNvSpPr/>
            <p:nvPr/>
          </p:nvSpPr>
          <p:spPr>
            <a:xfrm>
              <a:off x="1388160" y="1116000"/>
              <a:ext cx="151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内容占位符 2"/>
          <p:cNvSpPr/>
          <p:nvPr/>
        </p:nvSpPr>
        <p:spPr>
          <a:xfrm>
            <a:off x="750960" y="1422360"/>
            <a:ext cx="78850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语言的魅力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在繁华的巴黎大街的路旁，站着一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衣衫褴（</a:t>
            </a:r>
            <a:r>
              <a:rPr b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lán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褛（</a:t>
            </a:r>
            <a:r>
              <a:rPr b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l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，头发斑白，双目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失明的老人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他不像其他乞丐（</a:t>
            </a:r>
            <a:r>
              <a:rPr b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gài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那样伸手向过路行人乞讨，而是在身旁立一块木牌，上面写着：“我什么也看不见！”不用说，他是为生活所迫才这样做的。街上过往的行人很多，那些穿着华丽的绅（</a:t>
            </a:r>
            <a:r>
              <a:rPr b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ēn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士、贵妇人，那些打扮漂亮的少男少女们，看了木牌上的字都无动于衷，有的还淡淡一笑，便姗姗而去了。这天中午，法国著名诗人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彼浩勒也经过这里。他看看木牌上的字，问盲老人：“老人家，今天上午有人给你钱吗？”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图片 1" descr="屏幕剪辑"/>
          <p:cNvPicPr/>
          <p:nvPr/>
        </p:nvPicPr>
        <p:blipFill>
          <a:blip r:embed="rId3"/>
          <a:stretch/>
        </p:blipFill>
        <p:spPr>
          <a:xfrm>
            <a:off x="5775480" y="1727280"/>
            <a:ext cx="2447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内容占位符 2"/>
          <p:cNvSpPr/>
          <p:nvPr/>
        </p:nvSpPr>
        <p:spPr>
          <a:xfrm>
            <a:off x="243000" y="927000"/>
            <a:ext cx="87264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唉！”那盲老人叹息着回答，“我，我什么也没有得到。”说着，脸上的神情非常悲伤。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彼浩勒听了，拿起笔悄悄地在那行字的前面添上了“春天到了，可是”几个字，就匆匆地离去了。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晚上，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彼浩勒又经过这里，问那个盲老人下午的收入情况，那盲人笑着对诗人说：“先生，不知为什么，下午给我钱的人多极了！”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彼浩勒听了，也摸着胡子满意地笑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春天到了，可是我什么也看不见！”这富有诗意的语言，产生这么大的作用，就在于它有非常浓厚的感情色彩。是的，春天是美好的，那蓝天白云，那绿树红花，那莺歌燕语，那流水人家，怎么不叫人陶醉呢？但这良辰美景，对于一个双目失明的人来说，只是一片漆黑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这是多么令人心酸呀！当人们想到这个盲老人，一生里连万紫千红的春天都不曾看到，怎能不对他产生同情之心呢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1"/>
          <p:cNvSpPr/>
          <p:nvPr/>
        </p:nvSpPr>
        <p:spPr>
          <a:xfrm>
            <a:off x="1000080" y="2479680"/>
            <a:ext cx="7607520" cy="14961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真才者，必不矜才；有实学者，必不夸学。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格言连璧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祖宗虽远，祭祀不可不诚；子孙虽愚，经书不可不读。居身务期质朴，教子要有义方。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朱子家训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17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1"/>
          <p:cNvSpPr/>
          <p:nvPr/>
        </p:nvSpPr>
        <p:spPr>
          <a:xfrm>
            <a:off x="1487880" y="2095560"/>
            <a:ext cx="12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妙对故事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2"/>
          <p:cNvSpPr/>
          <p:nvPr/>
        </p:nvSpPr>
        <p:spPr>
          <a:xfrm>
            <a:off x="1265400" y="2562120"/>
            <a:ext cx="705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沈义甫八岁时，其师出对：绿水本无忧，因风皱面。沈对：青山原不老，为雪白头。师赞之不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123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矩形 1"/>
          <p:cNvSpPr/>
          <p:nvPr/>
        </p:nvSpPr>
        <p:spPr>
          <a:xfrm>
            <a:off x="1553040" y="3789360"/>
            <a:ext cx="14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徐儒子妙答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2"/>
          <p:cNvSpPr/>
          <p:nvPr/>
        </p:nvSpPr>
        <p:spPr>
          <a:xfrm>
            <a:off x="1266840" y="4255920"/>
            <a:ext cx="705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徐儒子九岁时，有一次别人说，月亮里如果什么也没有，会更亮。徐儒子回答说，这好比人的眼睛里有瞳仁，如果没有这个，一定看不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1"/>
          <p:cNvSpPr/>
          <p:nvPr/>
        </p:nvSpPr>
        <p:spPr>
          <a:xfrm>
            <a:off x="4107240" y="18050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关于幽默的名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2"/>
          <p:cNvSpPr/>
          <p:nvPr/>
        </p:nvSpPr>
        <p:spPr>
          <a:xfrm>
            <a:off x="873000" y="2449440"/>
            <a:ext cx="7878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幽默的内在根源不是欢乐，而是悲哀；天堂里是没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幽默的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马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吐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幽默感就是分寸感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纪伯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幽默和风趣是智慧的闪现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莎士比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幽默来自智慧，恶语来自无能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松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幽默是具有智慧、教育和道德上优越的表现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格斯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" name="组合 6"/>
          <p:cNvGrpSpPr/>
          <p:nvPr/>
        </p:nvGrpSpPr>
        <p:grpSpPr>
          <a:xfrm>
            <a:off x="558720" y="900000"/>
            <a:ext cx="2811600" cy="666720"/>
            <a:chOff x="558720" y="900000"/>
            <a:chExt cx="2811600" cy="666720"/>
          </a:xfrm>
        </p:grpSpPr>
        <p:sp>
          <p:nvSpPr>
            <p:cNvPr id="131" name="圆角矩形 7"/>
            <p:cNvSpPr/>
            <p:nvPr/>
          </p:nvSpPr>
          <p:spPr>
            <a:xfrm>
              <a:off x="1347840" y="1037880"/>
              <a:ext cx="1913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文本框 16"/>
            <p:cNvSpPr/>
            <p:nvPr/>
          </p:nvSpPr>
          <p:spPr>
            <a:xfrm>
              <a:off x="1715400" y="1056960"/>
              <a:ext cx="165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拓展积累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900000"/>
              <a:ext cx="108684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6"/>
          <p:cNvSpPr/>
          <p:nvPr/>
        </p:nvSpPr>
        <p:spPr>
          <a:xfrm>
            <a:off x="811080" y="2381400"/>
            <a:ext cx="75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感受康有为的中国式幽默以及祖国语言文字的魅力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理解课文内容的基础上，进行相关的拓展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图示 3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2" descr=""/>
          <p:cNvPicPr/>
          <p:nvPr/>
        </p:nvPicPr>
        <p:blipFill>
          <a:blip r:embed="rId2"/>
          <a:stretch/>
        </p:blipFill>
        <p:spPr>
          <a:xfrm>
            <a:off x="-3943440" y="714240"/>
            <a:ext cx="18972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35" name="矩形 11"/>
          <p:cNvSpPr/>
          <p:nvPr/>
        </p:nvSpPr>
        <p:spPr>
          <a:xfrm>
            <a:off x="1017720" y="2268360"/>
            <a:ext cx="738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妙语批试卷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一课编排在汉语家园当中，目的是让我们的感受到中国语言文字的无限魅力，体会到祖国文字的博大精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2"/>
          <p:cNvSpPr/>
          <p:nvPr/>
        </p:nvSpPr>
        <p:spPr>
          <a:xfrm>
            <a:off x="1063800" y="4048200"/>
            <a:ext cx="728820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Calibri"/>
              </a:rPr>
              <a:t>点拨：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理解这些文言文的意思，一方面要反复读，根据自己的理解推敲词句；另一方面要通过其他工具书或资料弄清字、词的意思，这样句子的意思才能明晰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-103320" y="768240"/>
            <a:ext cx="4303800" cy="1243080"/>
          </a:xfrm>
          <a:prstGeom prst="rect">
            <a:avLst/>
          </a:prstGeom>
          <a:ln w="0">
            <a:noFill/>
          </a:ln>
        </p:spPr>
      </p:pic>
      <p:sp>
        <p:nvSpPr>
          <p:cNvPr id="138" name="矩形 2"/>
          <p:cNvSpPr/>
          <p:nvPr/>
        </p:nvSpPr>
        <p:spPr>
          <a:xfrm>
            <a:off x="1999440" y="2389320"/>
            <a:ext cx="48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借助工具书或资料，说说句子的意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廉者，民之表也，贪者，民之贼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尔之文观之，学不优，无以仕，百里侯无望矣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组合 3"/>
          <p:cNvGrpSpPr/>
          <p:nvPr/>
        </p:nvGrpSpPr>
        <p:grpSpPr>
          <a:xfrm>
            <a:off x="522360" y="1747800"/>
            <a:ext cx="5027400" cy="527040"/>
            <a:chOff x="522360" y="1747800"/>
            <a:chExt cx="5027400" cy="527040"/>
          </a:xfrm>
        </p:grpSpPr>
        <p:sp>
          <p:nvSpPr>
            <p:cNvPr id="140" name="矩形 1"/>
            <p:cNvSpPr/>
            <p:nvPr/>
          </p:nvSpPr>
          <p:spPr>
            <a:xfrm>
              <a:off x="977400" y="1754640"/>
              <a:ext cx="457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思考与交流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1" name="Picture 5" descr="E:\各版本共用文件\0未分类文件\图片\课件制作所需图片\四叶草.png"/>
            <p:cNvPicPr/>
            <p:nvPr/>
          </p:nvPicPr>
          <p:blipFill>
            <a:blip r:embed="rId2"/>
            <a:stretch/>
          </p:blipFill>
          <p:spPr>
            <a:xfrm>
              <a:off x="522360" y="1747800"/>
              <a:ext cx="471240" cy="527040"/>
            </a:xfrm>
            <a:prstGeom prst="rect">
              <a:avLst/>
            </a:prstGeom>
            <a:ln w="0">
              <a:noFill/>
            </a:ln>
            <a:effectLst>
              <a:outerShdw dist="38183" dir="13500000" blurRad="0" rotWithShape="0">
                <a:srgbClr val="000000">
                  <a:alpha val="4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2"/>
          <p:cNvSpPr/>
          <p:nvPr/>
        </p:nvSpPr>
        <p:spPr>
          <a:xfrm>
            <a:off x="941400" y="2490840"/>
            <a:ext cx="7288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Calibri"/>
              </a:rPr>
              <a:t>参考答案： </a:t>
            </a: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(1)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意思是：廉洁奉公的官吏，是人民的表率，贪污受贿的官吏，是危害民众的奸贼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(2)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意思是：从你写的文章来看，你的学习不优秀，不能凭借它来做官，做百里侯你是没有希望了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2"/>
          <p:cNvSpPr/>
          <p:nvPr/>
        </p:nvSpPr>
        <p:spPr>
          <a:xfrm>
            <a:off x="801720" y="3483000"/>
            <a:ext cx="7935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Calibri"/>
              </a:rPr>
              <a:t>点拨：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比较这两句话，一是看它们有什么不同之处。二是要品味不同的话的作用是什么，会达到怎样不同的效果。三是要联系课文内容体会，因为脱离了课文内容的理解是不深刻的，还可能会产生偏颇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Calibri"/>
              </a:rPr>
              <a:t>参考答案： </a:t>
            </a: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(2)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只是点出了错误所在，而</a:t>
            </a: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(1)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运用了和试卷错误相同的形式，在比照中揭示错误所在，妙趣横生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2"/>
          <p:cNvSpPr/>
          <p:nvPr/>
        </p:nvSpPr>
        <p:spPr>
          <a:xfrm>
            <a:off x="349200" y="871560"/>
            <a:ext cx="84898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比一比，说一说，康有为的批语妙在何处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题为廉吏民表，尔却扯及摄氏表，华氏表；今若题为“阎锡山论”，尔必曰：“盛矣哉，山西山之多也，有五台山，有中条山，而今又有阎锡山也。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题为廉吏民表，尔却扯及摄氏表，华氏表，真是所答非所问也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2"/>
          <p:cNvSpPr/>
          <p:nvPr/>
        </p:nvSpPr>
        <p:spPr>
          <a:xfrm>
            <a:off x="1019160" y="3409920"/>
            <a:ext cx="765972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Calibri"/>
              </a:rPr>
              <a:t>点拨：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这个小故事能够使我们进一步体会汉语言的博大精深、丰富多彩，激发我们学习语言、运用语言的兴趣。熟读故事，重点结合“洞”“窝儿”“孔”“穴”“窟窿”等字词来理解，从中知道汉语言是丰富的，对同一种事物，会有不同的称呼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500040" y="2214720"/>
            <a:ext cx="82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下面的小故事，从中体会汉语言的博大精深，丰富多彩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原文略，见教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页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组合 3"/>
          <p:cNvGrpSpPr/>
          <p:nvPr/>
        </p:nvGrpSpPr>
        <p:grpSpPr>
          <a:xfrm>
            <a:off x="522360" y="1617840"/>
            <a:ext cx="5027400" cy="527040"/>
            <a:chOff x="522360" y="1617840"/>
            <a:chExt cx="5027400" cy="527040"/>
          </a:xfrm>
        </p:grpSpPr>
        <p:sp>
          <p:nvSpPr>
            <p:cNvPr id="148" name="矩形 1"/>
            <p:cNvSpPr/>
            <p:nvPr/>
          </p:nvSpPr>
          <p:spPr>
            <a:xfrm>
              <a:off x="977400" y="1624680"/>
              <a:ext cx="457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拓展与运用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9" name="Picture 5" descr="E:\各版本共用文件\0未分类文件\图片\课件制作所需图片\四叶草.png"/>
            <p:cNvPicPr/>
            <p:nvPr/>
          </p:nvPicPr>
          <p:blipFill>
            <a:blip r:embed="rId1"/>
            <a:stretch/>
          </p:blipFill>
          <p:spPr>
            <a:xfrm>
              <a:off x="522360" y="1617840"/>
              <a:ext cx="471240" cy="527040"/>
            </a:xfrm>
            <a:prstGeom prst="rect">
              <a:avLst/>
            </a:prstGeom>
            <a:ln w="0">
              <a:noFill/>
            </a:ln>
            <a:effectLst>
              <a:outerShdw dist="38183" dir="13500000" blurRad="0" rotWithShape="0">
                <a:srgbClr val="000000">
                  <a:alpha val="4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2"/>
          <p:cNvSpPr/>
          <p:nvPr/>
        </p:nvSpPr>
        <p:spPr>
          <a:xfrm>
            <a:off x="1019160" y="3917880"/>
            <a:ext cx="765972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Calibri"/>
              </a:rPr>
              <a:t>点拨：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读这些词语时，注意“哭笑不得”的“得”读</a:t>
            </a:r>
            <a:r>
              <a:rPr b="1" lang="en-US" sz="2100" spc="-1" strike="noStrike">
                <a:solidFill>
                  <a:srgbClr val="ff0000"/>
                </a:solidFill>
                <a:latin typeface="方正姚体"/>
                <a:ea typeface="方正姚体"/>
              </a:rPr>
              <a:t>dé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，“啼笑皆非”的“啼”读</a:t>
            </a: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tí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。书写时，注意“唯”的右部是“隹”，“墨”的“土”不要写得太大。体会这些词语的意思，除了查词典、结合课文内容，还可以结合平时的积累以及造句等方法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2"/>
          <p:cNvSpPr/>
          <p:nvPr/>
        </p:nvSpPr>
        <p:spPr>
          <a:xfrm>
            <a:off x="500040" y="1692360"/>
            <a:ext cx="822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一读，写一写，借助词典或结合课文内容体会词语的意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人唯贤　妙趣横生　舞文弄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哭笑不得　不学无术　无言以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无点墨　啼笑皆非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组合 3"/>
          <p:cNvGrpSpPr/>
          <p:nvPr/>
        </p:nvGrpSpPr>
        <p:grpSpPr>
          <a:xfrm>
            <a:off x="522360" y="1095480"/>
            <a:ext cx="5070240" cy="527040"/>
            <a:chOff x="522360" y="1095480"/>
            <a:chExt cx="5070240" cy="527040"/>
          </a:xfrm>
        </p:grpSpPr>
        <p:sp>
          <p:nvSpPr>
            <p:cNvPr id="153" name="矩形 1"/>
            <p:cNvSpPr/>
            <p:nvPr/>
          </p:nvSpPr>
          <p:spPr>
            <a:xfrm>
              <a:off x="1019880" y="1095480"/>
              <a:ext cx="457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积累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4" name="Picture 5" descr="E:\各版本共用文件\0未分类文件\图片\课件制作所需图片\四叶草.png"/>
            <p:cNvPicPr/>
            <p:nvPr/>
          </p:nvPicPr>
          <p:blipFill>
            <a:blip r:embed="rId1"/>
            <a:stretch/>
          </p:blipFill>
          <p:spPr>
            <a:xfrm>
              <a:off x="522360" y="1095480"/>
              <a:ext cx="471240" cy="527040"/>
            </a:xfrm>
            <a:prstGeom prst="rect">
              <a:avLst/>
            </a:prstGeom>
            <a:ln w="0">
              <a:noFill/>
            </a:ln>
            <a:effectLst>
              <a:outerShdw dist="38183" dir="13500000" blurRad="0" rotWithShape="0">
                <a:srgbClr val="000000">
                  <a:alpha val="4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2"/>
          <p:cNvSpPr/>
          <p:nvPr/>
        </p:nvSpPr>
        <p:spPr>
          <a:xfrm>
            <a:off x="1023840" y="1422360"/>
            <a:ext cx="75693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用人唯贤：用人只用贤才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妙趣横生：洋溢着美妙意趣。多指语言、文章或美术品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舞文弄墨：玩弄文字技巧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哭笑不得：哭也不是，笑也不是，形容很尴尬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不学无术：没有学问，没有能力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无言以对：没有话来应对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胸无点墨：形容读书太少，文化水平极低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啼笑皆非：哭也不是，笑也不是，形容既令人难受又令人发笑。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7167"/>
          <p:cNvSpPr/>
          <p:nvPr/>
        </p:nvSpPr>
        <p:spPr>
          <a:xfrm>
            <a:off x="1627200" y="2284560"/>
            <a:ext cx="702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写出加点字的正确读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都督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摄氏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表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百里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谬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盛矣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7168"/>
          <p:cNvSpPr/>
          <p:nvPr/>
        </p:nvSpPr>
        <p:spPr>
          <a:xfrm>
            <a:off x="1960560" y="3192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7168"/>
          <p:cNvSpPr/>
          <p:nvPr/>
        </p:nvSpPr>
        <p:spPr>
          <a:xfrm>
            <a:off x="4709880" y="3178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7168"/>
          <p:cNvSpPr/>
          <p:nvPr/>
        </p:nvSpPr>
        <p:spPr>
          <a:xfrm>
            <a:off x="2263680" y="3768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61" name="矩形 7168"/>
          <p:cNvSpPr/>
          <p:nvPr/>
        </p:nvSpPr>
        <p:spPr>
          <a:xfrm>
            <a:off x="4405320" y="3733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7168"/>
          <p:cNvSpPr/>
          <p:nvPr/>
        </p:nvSpPr>
        <p:spPr>
          <a:xfrm>
            <a:off x="6835680" y="3192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7168"/>
          <p:cNvSpPr/>
          <p:nvPr/>
        </p:nvSpPr>
        <p:spPr>
          <a:xfrm>
            <a:off x="6848280" y="3780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6"/>
          <p:cNvSpPr/>
          <p:nvPr/>
        </p:nvSpPr>
        <p:spPr>
          <a:xfrm>
            <a:off x="2593800" y="2997360"/>
            <a:ext cx="5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d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7"/>
          <p:cNvSpPr/>
          <p:nvPr/>
        </p:nvSpPr>
        <p:spPr>
          <a:xfrm>
            <a:off x="5237280" y="298764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8"/>
          <p:cNvSpPr/>
          <p:nvPr/>
        </p:nvSpPr>
        <p:spPr>
          <a:xfrm>
            <a:off x="7290360" y="298440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uà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9"/>
          <p:cNvSpPr/>
          <p:nvPr/>
        </p:nvSpPr>
        <p:spPr>
          <a:xfrm>
            <a:off x="2822400" y="3549600"/>
            <a:ext cx="7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hó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10"/>
          <p:cNvSpPr/>
          <p:nvPr/>
        </p:nvSpPr>
        <p:spPr>
          <a:xfrm>
            <a:off x="4910760" y="35575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mi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11"/>
          <p:cNvSpPr/>
          <p:nvPr/>
        </p:nvSpPr>
        <p:spPr>
          <a:xfrm>
            <a:off x="7490880" y="352440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zā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14"/>
          <p:cNvSpPr/>
          <p:nvPr/>
        </p:nvSpPr>
        <p:spPr>
          <a:xfrm>
            <a:off x="1376280" y="2352600"/>
            <a:ext cx="668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学无树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啼笑皆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哭笑不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言已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舞文弄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妙趣横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3"/>
          <p:cNvSpPr/>
          <p:nvPr/>
        </p:nvSpPr>
        <p:spPr>
          <a:xfrm>
            <a:off x="755640" y="1444680"/>
            <a:ext cx="72723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二、用横线标出词语中的错别字并把正确的写在括号里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4"/>
          <p:cNvSpPr/>
          <p:nvPr/>
        </p:nvSpPr>
        <p:spPr>
          <a:xfrm>
            <a:off x="3637080" y="17784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7"/>
          <p:cNvSpPr/>
          <p:nvPr/>
        </p:nvSpPr>
        <p:spPr>
          <a:xfrm>
            <a:off x="5305320" y="-18576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直接连接符 7"/>
          <p:cNvSpPr/>
          <p:nvPr/>
        </p:nvSpPr>
        <p:spPr>
          <a:xfrm>
            <a:off x="2403360" y="3083040"/>
            <a:ext cx="4129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直接连接符 13"/>
          <p:cNvSpPr/>
          <p:nvPr/>
        </p:nvSpPr>
        <p:spPr>
          <a:xfrm>
            <a:off x="5167440" y="3087720"/>
            <a:ext cx="4125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直接连接符 15"/>
          <p:cNvSpPr/>
          <p:nvPr/>
        </p:nvSpPr>
        <p:spPr>
          <a:xfrm>
            <a:off x="2394000" y="3795840"/>
            <a:ext cx="4125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直接连接符 16"/>
          <p:cNvSpPr/>
          <p:nvPr/>
        </p:nvSpPr>
        <p:spPr>
          <a:xfrm>
            <a:off x="4846680" y="3770280"/>
            <a:ext cx="41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直接连接符 17"/>
          <p:cNvSpPr/>
          <p:nvPr/>
        </p:nvSpPr>
        <p:spPr>
          <a:xfrm>
            <a:off x="2384280" y="4537080"/>
            <a:ext cx="4129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直接连接符 18"/>
          <p:cNvSpPr/>
          <p:nvPr/>
        </p:nvSpPr>
        <p:spPr>
          <a:xfrm>
            <a:off x="5146560" y="4513320"/>
            <a:ext cx="4129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8"/>
          <p:cNvSpPr/>
          <p:nvPr/>
        </p:nvSpPr>
        <p:spPr>
          <a:xfrm>
            <a:off x="3171600" y="2611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10"/>
          <p:cNvSpPr/>
          <p:nvPr/>
        </p:nvSpPr>
        <p:spPr>
          <a:xfrm>
            <a:off x="5873760" y="2611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非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11"/>
          <p:cNvSpPr/>
          <p:nvPr/>
        </p:nvSpPr>
        <p:spPr>
          <a:xfrm>
            <a:off x="3159000" y="3338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12"/>
          <p:cNvSpPr/>
          <p:nvPr/>
        </p:nvSpPr>
        <p:spPr>
          <a:xfrm>
            <a:off x="5873760" y="3333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9"/>
          <p:cNvSpPr/>
          <p:nvPr/>
        </p:nvSpPr>
        <p:spPr>
          <a:xfrm>
            <a:off x="3171600" y="4086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20"/>
          <p:cNvSpPr/>
          <p:nvPr/>
        </p:nvSpPr>
        <p:spPr>
          <a:xfrm>
            <a:off x="5887800" y="4051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矩形 3"/>
          <p:cNvSpPr/>
          <p:nvPr/>
        </p:nvSpPr>
        <p:spPr>
          <a:xfrm>
            <a:off x="755640" y="1444680"/>
            <a:ext cx="72723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三、形近字组词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4"/>
          <p:cNvSpPr/>
          <p:nvPr/>
        </p:nvSpPr>
        <p:spPr>
          <a:xfrm>
            <a:off x="3637080" y="17784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7"/>
          <p:cNvSpPr/>
          <p:nvPr/>
        </p:nvSpPr>
        <p:spPr>
          <a:xfrm>
            <a:off x="5305320" y="-18576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6"/>
          <p:cNvSpPr/>
          <p:nvPr/>
        </p:nvSpPr>
        <p:spPr>
          <a:xfrm>
            <a:off x="1725480" y="2170080"/>
            <a:ext cx="5226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揍（　　　　）  吏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奏（　　　　）  史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廉（　　　　）  阀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镰（　　　　）  筏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左大括号 7"/>
          <p:cNvSpPr/>
          <p:nvPr/>
        </p:nvSpPr>
        <p:spPr>
          <a:xfrm>
            <a:off x="1620720" y="2522520"/>
            <a:ext cx="198720" cy="977760"/>
          </a:xfrm>
          <a:custGeom>
            <a:avLst/>
            <a:gdLst>
              <a:gd name="textAreaLeft" fmla="*/ 127080 w 198720"/>
              <a:gd name="textAreaRight" fmla="*/ 199080 w 198720"/>
              <a:gd name="textAreaTop" fmla="*/ 5040 h 977760"/>
              <a:gd name="textAreaBottom" fmla="*/ 97272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3"/>
                  <a:pt x="10800" y="365"/>
                </a:cubicBezTo>
                <a:lnTo>
                  <a:pt x="10800" y="10435"/>
                </a:lnTo>
                <a:cubicBezTo>
                  <a:pt x="10800" y="10618"/>
                  <a:pt x="5400" y="10800"/>
                  <a:pt x="0" y="10800"/>
                </a:cubicBezTo>
                <a:cubicBezTo>
                  <a:pt x="5400" y="10800"/>
                  <a:pt x="10800" y="10983"/>
                  <a:pt x="10800" y="11165"/>
                </a:cubicBezTo>
                <a:lnTo>
                  <a:pt x="10800" y="21235"/>
                </a:lnTo>
                <a:cubicBezTo>
                  <a:pt x="10800" y="2141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左大括号 8"/>
          <p:cNvSpPr/>
          <p:nvPr/>
        </p:nvSpPr>
        <p:spPr>
          <a:xfrm>
            <a:off x="4043520" y="2533680"/>
            <a:ext cx="198360" cy="977760"/>
          </a:xfrm>
          <a:custGeom>
            <a:avLst/>
            <a:gdLst>
              <a:gd name="textAreaLeft" fmla="*/ 126720 w 198360"/>
              <a:gd name="textAreaRight" fmla="*/ 198720 w 198360"/>
              <a:gd name="textAreaTop" fmla="*/ 5040 h 977760"/>
              <a:gd name="textAreaBottom" fmla="*/ 97272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3"/>
                  <a:pt x="10800" y="365"/>
                </a:cubicBezTo>
                <a:lnTo>
                  <a:pt x="10800" y="10435"/>
                </a:lnTo>
                <a:cubicBezTo>
                  <a:pt x="10800" y="10618"/>
                  <a:pt x="5400" y="10800"/>
                  <a:pt x="0" y="10800"/>
                </a:cubicBezTo>
                <a:cubicBezTo>
                  <a:pt x="5400" y="10800"/>
                  <a:pt x="10800" y="10983"/>
                  <a:pt x="10800" y="11165"/>
                </a:cubicBezTo>
                <a:lnTo>
                  <a:pt x="10800" y="21235"/>
                </a:lnTo>
                <a:cubicBezTo>
                  <a:pt x="10800" y="2141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9"/>
          <p:cNvSpPr/>
          <p:nvPr/>
        </p:nvSpPr>
        <p:spPr>
          <a:xfrm>
            <a:off x="2744640" y="2427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挨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10"/>
          <p:cNvSpPr/>
          <p:nvPr/>
        </p:nvSpPr>
        <p:spPr>
          <a:xfrm>
            <a:off x="2744640" y="3186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演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11"/>
          <p:cNvSpPr/>
          <p:nvPr/>
        </p:nvSpPr>
        <p:spPr>
          <a:xfrm>
            <a:off x="5216040" y="2433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官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12"/>
          <p:cNvSpPr/>
          <p:nvPr/>
        </p:nvSpPr>
        <p:spPr>
          <a:xfrm>
            <a:off x="5216040" y="3147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历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左大括号 13"/>
          <p:cNvSpPr/>
          <p:nvPr/>
        </p:nvSpPr>
        <p:spPr>
          <a:xfrm>
            <a:off x="1616040" y="3998880"/>
            <a:ext cx="198360" cy="977760"/>
          </a:xfrm>
          <a:custGeom>
            <a:avLst/>
            <a:gdLst>
              <a:gd name="textAreaLeft" fmla="*/ 126720 w 198360"/>
              <a:gd name="textAreaRight" fmla="*/ 198720 w 198360"/>
              <a:gd name="textAreaTop" fmla="*/ 5040 h 977760"/>
              <a:gd name="textAreaBottom" fmla="*/ 97272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3"/>
                  <a:pt x="10800" y="365"/>
                </a:cubicBezTo>
                <a:lnTo>
                  <a:pt x="10800" y="10435"/>
                </a:lnTo>
                <a:cubicBezTo>
                  <a:pt x="10800" y="10618"/>
                  <a:pt x="5400" y="10800"/>
                  <a:pt x="0" y="10800"/>
                </a:cubicBezTo>
                <a:cubicBezTo>
                  <a:pt x="5400" y="10800"/>
                  <a:pt x="10800" y="10983"/>
                  <a:pt x="10800" y="11165"/>
                </a:cubicBezTo>
                <a:lnTo>
                  <a:pt x="10800" y="21235"/>
                </a:lnTo>
                <a:cubicBezTo>
                  <a:pt x="10800" y="2141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15"/>
          <p:cNvSpPr/>
          <p:nvPr/>
        </p:nvSpPr>
        <p:spPr>
          <a:xfrm>
            <a:off x="2739600" y="3859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廉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16"/>
          <p:cNvSpPr/>
          <p:nvPr/>
        </p:nvSpPr>
        <p:spPr>
          <a:xfrm>
            <a:off x="2739600" y="4589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镰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左大括号 17"/>
          <p:cNvSpPr/>
          <p:nvPr/>
        </p:nvSpPr>
        <p:spPr>
          <a:xfrm>
            <a:off x="4043520" y="3921120"/>
            <a:ext cx="198360" cy="977760"/>
          </a:xfrm>
          <a:custGeom>
            <a:avLst/>
            <a:gdLst>
              <a:gd name="textAreaLeft" fmla="*/ 126720 w 198360"/>
              <a:gd name="textAreaRight" fmla="*/ 198720 w 198360"/>
              <a:gd name="textAreaTop" fmla="*/ 5040 h 977760"/>
              <a:gd name="textAreaBottom" fmla="*/ 97272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3"/>
                  <a:pt x="10800" y="365"/>
                </a:cubicBezTo>
                <a:lnTo>
                  <a:pt x="10800" y="10435"/>
                </a:lnTo>
                <a:cubicBezTo>
                  <a:pt x="10800" y="10618"/>
                  <a:pt x="5400" y="10800"/>
                  <a:pt x="0" y="10800"/>
                </a:cubicBezTo>
                <a:cubicBezTo>
                  <a:pt x="5400" y="10800"/>
                  <a:pt x="10800" y="10983"/>
                  <a:pt x="10800" y="11165"/>
                </a:cubicBezTo>
                <a:lnTo>
                  <a:pt x="10800" y="21235"/>
                </a:lnTo>
                <a:cubicBezTo>
                  <a:pt x="10800" y="2141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19"/>
          <p:cNvSpPr/>
          <p:nvPr/>
        </p:nvSpPr>
        <p:spPr>
          <a:xfrm>
            <a:off x="5206680" y="3868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军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20"/>
          <p:cNvSpPr/>
          <p:nvPr/>
        </p:nvSpPr>
        <p:spPr>
          <a:xfrm>
            <a:off x="5221080" y="4583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竹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内容占位符 2"/>
          <p:cNvSpPr/>
          <p:nvPr/>
        </p:nvSpPr>
        <p:spPr>
          <a:xfrm>
            <a:off x="782640" y="1897200"/>
            <a:ext cx="7792920" cy="40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黑体"/>
              </a:rPr>
              <a:t>康有为的批语妙在哪里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黑体"/>
                <a:ea typeface="黑体"/>
              </a:rPr>
              <a:t>串珠问题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课文写了一件什么事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阎锡山为什么要请康有为为主考官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考生的试卷错在哪里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康有为是一个怎样的人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1"/>
          <p:cNvSpPr/>
          <p:nvPr/>
        </p:nvSpPr>
        <p:spPr>
          <a:xfrm>
            <a:off x="1055520" y="1906560"/>
            <a:ext cx="764568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仿宋"/>
                <a:ea typeface="仿宋"/>
              </a:rPr>
              <a:t>【</a:t>
            </a:r>
            <a:r>
              <a:rPr b="1" lang="zh-CN" sz="2300" spc="-1" strike="noStrike">
                <a:solidFill>
                  <a:srgbClr val="000000"/>
                </a:solidFill>
                <a:latin typeface="仿宋"/>
                <a:ea typeface="仿宋"/>
              </a:rPr>
              <a:t>表</a:t>
            </a:r>
            <a:r>
              <a:rPr b="1" lang="en-US" sz="2300" spc="-1" strike="noStrike">
                <a:solidFill>
                  <a:srgbClr val="000000"/>
                </a:solidFill>
                <a:latin typeface="仿宋"/>
                <a:ea typeface="仿宋"/>
              </a:rPr>
              <a:t>】①</a:t>
            </a:r>
            <a:r>
              <a:rPr b="1" lang="zh-CN" sz="2300" spc="-1" strike="noStrike">
                <a:solidFill>
                  <a:srgbClr val="000000"/>
                </a:solidFill>
                <a:latin typeface="仿宋"/>
                <a:ea typeface="仿宋"/>
              </a:rPr>
              <a:t>外面，外表；②表亲，一种亲戚关系；③把思想感情显示出来；④榜样，模范；⑤古代文体，奏章的一种；⑥测量某种量的器具；⑦计时的器具；⑧用表格的形式排列事物的文件；⑨刻有文字或图案的石柱或石碑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．华氏表。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．廉者，民之表也。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．乘法表。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．无以言表。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3"/>
          <p:cNvSpPr/>
          <p:nvPr/>
        </p:nvSpPr>
        <p:spPr>
          <a:xfrm>
            <a:off x="923760" y="1211400"/>
            <a:ext cx="73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查字典，选择正确的字义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填序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1"/>
          <p:cNvSpPr/>
          <p:nvPr/>
        </p:nvSpPr>
        <p:spPr>
          <a:xfrm>
            <a:off x="3004200" y="410688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2"/>
          <p:cNvSpPr/>
          <p:nvPr/>
        </p:nvSpPr>
        <p:spPr>
          <a:xfrm>
            <a:off x="4170240" y="464832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4"/>
          <p:cNvSpPr/>
          <p:nvPr/>
        </p:nvSpPr>
        <p:spPr>
          <a:xfrm>
            <a:off x="2988360" y="51674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5"/>
          <p:cNvSpPr/>
          <p:nvPr/>
        </p:nvSpPr>
        <p:spPr>
          <a:xfrm>
            <a:off x="3280680" y="570240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矩形 1"/>
          <p:cNvSpPr/>
          <p:nvPr/>
        </p:nvSpPr>
        <p:spPr>
          <a:xfrm>
            <a:off x="1573200" y="2378160"/>
            <a:ext cx="601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wéi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ù           jiān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dū            xīn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hà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ūn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fá           xìng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sh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3"/>
          <p:cNvSpPr/>
          <p:nvPr/>
        </p:nvSpPr>
        <p:spPr>
          <a:xfrm>
            <a:off x="984240" y="1576440"/>
            <a:ext cx="73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五、读拼音，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606840" y="2925720"/>
          <a:ext cx="1440000" cy="7333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1709640" y="2925720"/>
          <a:ext cx="1440000" cy="7333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矩形 12"/>
          <p:cNvSpPr/>
          <p:nvPr/>
        </p:nvSpPr>
        <p:spPr>
          <a:xfrm>
            <a:off x="1939680" y="29811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维 护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14"/>
          <p:cNvSpPr/>
          <p:nvPr/>
        </p:nvSpPr>
        <p:spPr>
          <a:xfrm>
            <a:off x="3835080" y="29750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监 督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557680" y="2921040"/>
          <a:ext cx="1440000" cy="7333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矩形 16"/>
          <p:cNvSpPr/>
          <p:nvPr/>
        </p:nvSpPr>
        <p:spPr>
          <a:xfrm>
            <a:off x="5786280" y="2970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辛 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637080" y="3992400"/>
          <a:ext cx="1439640" cy="7336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739880" y="3992400"/>
          <a:ext cx="1440000" cy="7336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矩形 23"/>
          <p:cNvSpPr/>
          <p:nvPr/>
        </p:nvSpPr>
        <p:spPr>
          <a:xfrm>
            <a:off x="1969920" y="40482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军 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24"/>
          <p:cNvSpPr/>
          <p:nvPr/>
        </p:nvSpPr>
        <p:spPr>
          <a:xfrm>
            <a:off x="3865320" y="4041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姓 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3"/>
          <p:cNvSpPr/>
          <p:nvPr/>
        </p:nvSpPr>
        <p:spPr>
          <a:xfrm>
            <a:off x="773280" y="1111320"/>
            <a:ext cx="837072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六、句子练习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写出下面句子的意思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学不优，无以仕，百里侯无望矣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以其人之误反讥其人之谬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廉者，民之表也，贪者，民之贼也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修改病句：阎锡山啼笑皆非，无言以对，看了考卷与批语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5"/>
          <p:cNvSpPr/>
          <p:nvPr/>
        </p:nvSpPr>
        <p:spPr>
          <a:xfrm>
            <a:off x="1285920" y="5692680"/>
            <a:ext cx="705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阎锡山看了考卷与批语，啼笑皆非，无言以对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1"/>
          <p:cNvSpPr/>
          <p:nvPr/>
        </p:nvSpPr>
        <p:spPr>
          <a:xfrm>
            <a:off x="1263600" y="2662200"/>
            <a:ext cx="64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学得不好，不能当官，想当百里侯没有希望啊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4"/>
          <p:cNvSpPr/>
          <p:nvPr/>
        </p:nvSpPr>
        <p:spPr>
          <a:xfrm>
            <a:off x="1285920" y="3678120"/>
            <a:ext cx="477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以他人的错误反过来讥笑他人的谬论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矩形 7"/>
          <p:cNvSpPr/>
          <p:nvPr/>
        </p:nvSpPr>
        <p:spPr>
          <a:xfrm>
            <a:off x="1271520" y="4678200"/>
            <a:ext cx="7358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廉洁的官吏，是人民的表率；贪赃的官吏，是人民的盗贼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2"/>
          <p:cNvSpPr/>
          <p:nvPr/>
        </p:nvSpPr>
        <p:spPr>
          <a:xfrm>
            <a:off x="968400" y="1260360"/>
            <a:ext cx="73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山西军阀阎锡山在辛亥革命后，任山西都督和省长。在此期间，他为了表示自己政治开明，用人唯贤，于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925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举办山西省县长考试，特地礼请因维新变法失败逃亡国外避难，后又归国的康有为任主考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14"/>
          <p:cNvSpPr/>
          <p:nvPr/>
        </p:nvSpPr>
        <p:spPr>
          <a:xfrm>
            <a:off x="1098720" y="3668760"/>
            <a:ext cx="736884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本段对康有为的介绍非常简练，把他独特的人生阅历一笔带过，笔墨运用恰到好处。一方面，康有为是故事的主要人物，应做些介绍；另一方面，介绍康有为不是本文的主要内容，因此笔墨不宜过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2"/>
          <p:cNvSpPr/>
          <p:nvPr/>
        </p:nvSpPr>
        <p:spPr>
          <a:xfrm>
            <a:off x="749160" y="124920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康有为出的考题是“廉吏民表”，题目意思是清廉的官吏才可做民众的表率。这话是从宋代包拯奏折中的“廉者，民之表也，贪者，民之贼也”引来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矩形 1"/>
          <p:cNvSpPr/>
          <p:nvPr/>
        </p:nvSpPr>
        <p:spPr>
          <a:xfrm>
            <a:off x="885960" y="3513240"/>
            <a:ext cx="77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句运用了引用的手法，交代了考题的来源。“廉者，民之表也，贪者，民之贼也”的意思是廉洁奉公的官吏，是人民的表率，贪污受贿的官吏，是危害民众的奸贼。从中也可以看出康有为是一个关心民众的人，他想为人民选一个好县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标注 6"/>
          <p:cNvSpPr/>
          <p:nvPr/>
        </p:nvSpPr>
        <p:spPr>
          <a:xfrm>
            <a:off x="6680160" y="2998800"/>
            <a:ext cx="1454040" cy="511200"/>
          </a:xfrm>
          <a:prstGeom prst="wedgeRectCallout">
            <a:avLst>
              <a:gd name="adj1" fmla="val -49087"/>
              <a:gd name="adj2" fmla="val -74888"/>
            </a:avLst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6280" rIns="116280" tIns="116280" bIns="11628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引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2"/>
          <p:cNvSpPr/>
          <p:nvPr/>
        </p:nvSpPr>
        <p:spPr>
          <a:xfrm>
            <a:off x="749160" y="1409760"/>
            <a:ext cx="78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康有为看后，哭笑不得，本想一撕了之，又觉未出心中之气，也太便宜了这个不学无术之徒，便提笔在卷后批道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矩形 1"/>
          <p:cNvSpPr/>
          <p:nvPr/>
        </p:nvSpPr>
        <p:spPr>
          <a:xfrm>
            <a:off x="770040" y="387684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句运用心理描写，把康有为的想法写了出来，“哭笑不得”表达的正是康有为无奈的心理。此处破折号的作用是引出下文，下文应该写康有为的批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矩形标注 6"/>
          <p:cNvSpPr/>
          <p:nvPr/>
        </p:nvSpPr>
        <p:spPr>
          <a:xfrm>
            <a:off x="4956120" y="3114720"/>
            <a:ext cx="3378240" cy="511200"/>
          </a:xfrm>
          <a:prstGeom prst="wedgeRectCallout">
            <a:avLst>
              <a:gd name="adj1" fmla="val -49087"/>
              <a:gd name="adj2" fmla="val -74888"/>
            </a:avLst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6280" rIns="116280" tIns="116280" bIns="11628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心理描写、破折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文本框 23"/>
          <p:cNvSpPr/>
          <p:nvPr/>
        </p:nvSpPr>
        <p:spPr>
          <a:xfrm>
            <a:off x="820800" y="1836720"/>
            <a:ext cx="7727760" cy="32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1049"/>
              </a:spcAft>
              <a:buSzPct val="102884"/>
              <a:buBlip>
                <a:blip r:embed="rId1"/>
              </a:buBlip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概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行文中表示解释说明、话题或语气转变、声音延续的符号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1049"/>
              </a:spcAft>
              <a:buSzPct val="102884"/>
              <a:buBlip>
                <a:blip r:embed="rId2"/>
              </a:buBlip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达作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用于行文的解释、话题转折、声音延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1049"/>
              </a:spcAft>
              <a:buSzPct val="102884"/>
              <a:buBlip>
                <a:blip r:embed="rId3"/>
              </a:buBlip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判断方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在行文中用“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——”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表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组合 9"/>
          <p:cNvGrpSpPr/>
          <p:nvPr/>
        </p:nvGrpSpPr>
        <p:grpSpPr>
          <a:xfrm>
            <a:off x="650880" y="965160"/>
            <a:ext cx="8102520" cy="835200"/>
            <a:chOff x="650880" y="965160"/>
            <a:chExt cx="8102520" cy="835200"/>
          </a:xfrm>
        </p:grpSpPr>
        <p:sp>
          <p:nvSpPr>
            <p:cNvPr id="76" name="矩形 1"/>
            <p:cNvSpPr/>
            <p:nvPr/>
          </p:nvSpPr>
          <p:spPr>
            <a:xfrm>
              <a:off x="3729240" y="1001880"/>
              <a:ext cx="50241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品析破折号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7" name="Picture 6" descr=""/>
            <p:cNvPicPr/>
            <p:nvPr/>
          </p:nvPicPr>
          <p:blipFill>
            <a:blip r:embed="rId4"/>
            <a:stretch/>
          </p:blipFill>
          <p:spPr>
            <a:xfrm>
              <a:off x="650880" y="965160"/>
              <a:ext cx="307836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内容占位符 2"/>
          <p:cNvSpPr/>
          <p:nvPr/>
        </p:nvSpPr>
        <p:spPr>
          <a:xfrm>
            <a:off x="635040" y="1940040"/>
            <a:ext cx="220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1"/>
          <p:cNvSpPr/>
          <p:nvPr/>
        </p:nvSpPr>
        <p:spPr>
          <a:xfrm>
            <a:off x="992160" y="3143160"/>
            <a:ext cx="74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方面，康有为运用了与答卷者相同的错误来讥讽答卷者；另一方面，运用这个错误的同时让人明白这个错误是什么。这样的妙用总结起来就是：“以其人之误反讥其人之谬，谬误比照，妙趣横生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961920" y="2530440"/>
            <a:ext cx="742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康有为的批语妙在哪里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内容占位符 2"/>
          <p:cNvSpPr/>
          <p:nvPr/>
        </p:nvSpPr>
        <p:spPr>
          <a:xfrm>
            <a:off x="851040" y="2454120"/>
            <a:ext cx="76453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课文写了一件什么事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1"/>
          <p:cNvSpPr/>
          <p:nvPr/>
        </p:nvSpPr>
        <p:spPr>
          <a:xfrm>
            <a:off x="1197000" y="3094200"/>
            <a:ext cx="72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7095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课文写了康有为妙语暗讽不学无术之徒的故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内容占位符 2"/>
          <p:cNvSpPr/>
          <p:nvPr/>
        </p:nvSpPr>
        <p:spPr>
          <a:xfrm>
            <a:off x="635040" y="173340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4T02:11:24Z</dcterms:modified>
  <cp:revision>45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