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796DD-7464-469F-9D14-8B68ED676D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AF337-434B-46FF-925D-40CC452555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77535-E7CC-4053-AD37-E40D8C4B3A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E2C88-49C8-4B40-9175-3E18A9F8ED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9E846-EFA8-426B-8421-C9457A9AD4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018DC-4DC5-4111-ABB6-FEE4B60463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8FD20-A0AB-4107-B372-F85AE0C3224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B58F-9985-41BB-B344-2893A316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169-12E9-4F8B-9002-0CD1CAF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710-8A25-461A-8B98-D8B78566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7D4-A1E7-4E56-82A9-B6D469F8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114-6E98-4831-8DC8-B86C4E20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93A-8DB7-4F4D-9E83-B9D9D2AC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F87-F6DB-4353-911F-8455A8BE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F33-71D0-4647-99E3-D76965E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CBF-C68C-4B80-9DF0-D5FFEE64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530-5A2F-49F2-8A9A-22756059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08F-8556-4582-AF7D-17D110C5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21E-B425-4F0A-B3E1-4B5D6379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222B4-C88E-43BF-A9FD-5E0E9ACC49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238480"/>
            <a:ext cx="5657760" cy="413388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946680" y="193356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47920" y="4114080"/>
            <a:ext cx="568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变迁”指（情况或阶段）变化转移。我们的汉语家园是一个丰富多彩的世界，词语是这个大家庭的重要成员。本文条理清楚地从五个方面向我们介绍了词语变迁的时代印记，使我们感受到时代发展的脚步。让我们跟随作者的脚步，走进汉语家园，了解词语的变迁。相信阅读后，我们一定会有许多感触和收获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62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TextBox 1"/>
          <p:cNvSpPr/>
          <p:nvPr/>
        </p:nvSpPr>
        <p:spPr>
          <a:xfrm>
            <a:off x="2166840" y="3124080"/>
            <a:ext cx="578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舶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来客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     恤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杜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0"/>
          <p:cNvSpPr/>
          <p:nvPr/>
        </p:nvSpPr>
        <p:spPr>
          <a:xfrm>
            <a:off x="2194200" y="259236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5230080" y="259236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2643840" y="40068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7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TextBox 1"/>
          <p:cNvSpPr/>
          <p:nvPr/>
        </p:nvSpPr>
        <p:spPr>
          <a:xfrm>
            <a:off x="1103400" y="288612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26"/>
          <p:cNvGrpSpPr/>
          <p:nvPr/>
        </p:nvGrpSpPr>
        <p:grpSpPr>
          <a:xfrm>
            <a:off x="1585800" y="2408400"/>
            <a:ext cx="3953160" cy="1373400"/>
            <a:chOff x="1585800" y="2408400"/>
            <a:chExt cx="3953160" cy="1373400"/>
          </a:xfrm>
        </p:grpSpPr>
        <p:sp>
          <p:nvSpPr>
            <p:cNvPr id="175" name="左大括号 27"/>
            <p:cNvSpPr/>
            <p:nvPr/>
          </p:nvSpPr>
          <p:spPr>
            <a:xfrm>
              <a:off x="1585800" y="2651040"/>
              <a:ext cx="311040" cy="9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Box 28"/>
            <p:cNvSpPr/>
            <p:nvPr/>
          </p:nvSpPr>
          <p:spPr>
            <a:xfrm>
              <a:off x="1833480" y="2408400"/>
              <a:ext cx="37054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ì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应变　应答）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ī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应当　应该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1"/>
          <p:cNvSpPr/>
          <p:nvPr/>
        </p:nvSpPr>
        <p:spPr>
          <a:xfrm>
            <a:off x="1338120" y="1398600"/>
            <a:ext cx="74566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变迁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烙印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舶来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时髦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1"/>
          <p:cNvGrpSpPr/>
          <p:nvPr/>
        </p:nvGrpSpPr>
        <p:grpSpPr>
          <a:xfrm>
            <a:off x="558720" y="890640"/>
            <a:ext cx="2594160" cy="666720"/>
            <a:chOff x="558720" y="890640"/>
            <a:chExt cx="2594160" cy="666720"/>
          </a:xfrm>
        </p:grpSpPr>
        <p:sp>
          <p:nvSpPr>
            <p:cNvPr id="179" name="圆角矩形 5"/>
            <p:cNvSpPr/>
            <p:nvPr/>
          </p:nvSpPr>
          <p:spPr>
            <a:xfrm>
              <a:off x="1374840" y="10285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89064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文本框 16"/>
            <p:cNvSpPr/>
            <p:nvPr/>
          </p:nvSpPr>
          <p:spPr>
            <a:xfrm>
              <a:off x="1634040" y="104760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矩形 1"/>
          <p:cNvSpPr/>
          <p:nvPr/>
        </p:nvSpPr>
        <p:spPr>
          <a:xfrm>
            <a:off x="2085840" y="1405080"/>
            <a:ext cx="670896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情况或阶段变化转移。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由于环境的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变迁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有些动物灭绝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作名词，比喻不易磨灭的痕迹；作动词，比喻深刻地留下印象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种用生命打下的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烙印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是永远也不会消失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舶：航海大船。用船舶从海外运来的，泛指从外国进口或引进的。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圣诞节是一个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舶来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节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人的装饰衣着或其他事物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新颖入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"/>
          <p:cNvSpPr/>
          <p:nvPr/>
        </p:nvSpPr>
        <p:spPr>
          <a:xfrm>
            <a:off x="1022400" y="1619280"/>
            <a:ext cx="745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媒体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攀谈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历尽沧桑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摇身一变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脱口而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1"/>
          <p:cNvGrpSpPr/>
          <p:nvPr/>
        </p:nvGrpSpPr>
        <p:grpSpPr>
          <a:xfrm>
            <a:off x="212760" y="1033560"/>
            <a:ext cx="2593800" cy="666720"/>
            <a:chOff x="212760" y="1033560"/>
            <a:chExt cx="2593800" cy="666720"/>
          </a:xfrm>
        </p:grpSpPr>
        <p:sp>
          <p:nvSpPr>
            <p:cNvPr id="185" name="圆角矩形 5"/>
            <p:cNvSpPr/>
            <p:nvPr/>
          </p:nvSpPr>
          <p:spPr>
            <a:xfrm>
              <a:off x="1028520" y="11714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212760" y="10335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文本框 16"/>
            <p:cNvSpPr/>
            <p:nvPr/>
          </p:nvSpPr>
          <p:spPr>
            <a:xfrm>
              <a:off x="1288080" y="119052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矩形 1"/>
          <p:cNvSpPr/>
          <p:nvPr/>
        </p:nvSpPr>
        <p:spPr>
          <a:xfrm>
            <a:off x="1739880" y="1609560"/>
            <a:ext cx="7002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指交流、传播信息的工具，如报刊、广播、电视、互联网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拉扯闲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主人走上前去和两个来拜访的客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攀谈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历：经历。沧桑：沧海桑田的略语。多次经历变化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这段城墙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历尽沧桑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的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改变面目出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叔叔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摇身一变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成为大老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不假思索，随口说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因为我课前早有准备，老师要求回答的问题我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能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脱口而出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"/>
          <p:cNvSpPr/>
          <p:nvPr/>
        </p:nvSpPr>
        <p:spPr>
          <a:xfrm>
            <a:off x="3806280" y="19191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逐渐　逐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2004840" y="2459160"/>
            <a:ext cx="692640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表示事物形成、发展的过程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逐渐”指在发展的过程中没有明显的台阶。“逐步”表示这个过程按照一定的步骤一个台阶一个台阶地发展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立秋之后，天气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逐渐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转凉了，人们纷纷穿上较厚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衣裳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随着社会的不断进步，人民的生活水平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逐步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提高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组合 13"/>
          <p:cNvGrpSpPr/>
          <p:nvPr/>
        </p:nvGrpSpPr>
        <p:grpSpPr>
          <a:xfrm>
            <a:off x="401760" y="1127160"/>
            <a:ext cx="2593800" cy="666720"/>
            <a:chOff x="401760" y="1127160"/>
            <a:chExt cx="2593800" cy="666720"/>
          </a:xfrm>
        </p:grpSpPr>
        <p:sp>
          <p:nvSpPr>
            <p:cNvPr id="192" name="圆角矩形 14"/>
            <p:cNvSpPr/>
            <p:nvPr/>
          </p:nvSpPr>
          <p:spPr>
            <a:xfrm>
              <a:off x="1217520" y="12650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01760" y="11271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文本框 16"/>
            <p:cNvSpPr/>
            <p:nvPr/>
          </p:nvSpPr>
          <p:spPr>
            <a:xfrm>
              <a:off x="1477080" y="128412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4"/>
          <p:cNvGrpSpPr/>
          <p:nvPr/>
        </p:nvGrpSpPr>
        <p:grpSpPr>
          <a:xfrm>
            <a:off x="523800" y="2523960"/>
            <a:ext cx="1670040" cy="459720"/>
            <a:chOff x="523800" y="2523960"/>
            <a:chExt cx="1670040" cy="459720"/>
          </a:xfrm>
        </p:grpSpPr>
        <p:pic>
          <p:nvPicPr>
            <p:cNvPr id="196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523800" y="25783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3"/>
            <p:cNvSpPr/>
            <p:nvPr/>
          </p:nvSpPr>
          <p:spPr>
            <a:xfrm>
              <a:off x="866880" y="25239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0"/>
          <p:cNvGrpSpPr/>
          <p:nvPr/>
        </p:nvGrpSpPr>
        <p:grpSpPr>
          <a:xfrm>
            <a:off x="523800" y="3154320"/>
            <a:ext cx="1670040" cy="459720"/>
            <a:chOff x="523800" y="3154320"/>
            <a:chExt cx="1670040" cy="459720"/>
          </a:xfrm>
        </p:grpSpPr>
        <p:pic>
          <p:nvPicPr>
            <p:cNvPr id="199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523800" y="32086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22"/>
            <p:cNvSpPr/>
            <p:nvPr/>
          </p:nvSpPr>
          <p:spPr>
            <a:xfrm>
              <a:off x="866880" y="31543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523800" y="4795920"/>
            <a:ext cx="1670040" cy="459720"/>
            <a:chOff x="523800" y="4795920"/>
            <a:chExt cx="1670040" cy="459720"/>
          </a:xfrm>
        </p:grpSpPr>
        <p:pic>
          <p:nvPicPr>
            <p:cNvPr id="202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523800" y="48502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25"/>
            <p:cNvSpPr/>
            <p:nvPr/>
          </p:nvSpPr>
          <p:spPr>
            <a:xfrm>
              <a:off x="866880" y="47959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887400" y="222876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词语在变迁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总写词语是丰富多彩并有时代气息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变迁特点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别从五个方面介绍词语变迁的时代气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" name="组合 11"/>
          <p:cNvGrpSpPr/>
          <p:nvPr/>
        </p:nvGrpSpPr>
        <p:grpSpPr>
          <a:xfrm>
            <a:off x="804960" y="1200240"/>
            <a:ext cx="3792600" cy="717480"/>
            <a:chOff x="804960" y="1200240"/>
            <a:chExt cx="3792600" cy="717480"/>
          </a:xfrm>
        </p:grpSpPr>
        <p:grpSp>
          <p:nvGrpSpPr>
            <p:cNvPr id="206" name="圆角矩形 4"/>
            <p:cNvGrpSpPr/>
            <p:nvPr/>
          </p:nvGrpSpPr>
          <p:grpSpPr>
            <a:xfrm>
              <a:off x="804960" y="1208880"/>
              <a:ext cx="1032120" cy="530640"/>
              <a:chOff x="804960" y="1208880"/>
              <a:chExt cx="1032120" cy="530640"/>
            </a:xfrm>
          </p:grpSpPr>
          <p:pic>
            <p:nvPicPr>
              <p:cNvPr id="207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960" y="1208880"/>
                <a:ext cx="1032120" cy="5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50680" y="1242000"/>
                <a:ext cx="94068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9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1612800" y="1200240"/>
              <a:ext cx="298476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7"/>
          <p:cNvSpPr/>
          <p:nvPr/>
        </p:nvSpPr>
        <p:spPr>
          <a:xfrm>
            <a:off x="1157400" y="1812960"/>
            <a:ext cx="741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MM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妹妹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GG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哥哥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D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弟弟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J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：姐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恐龙：相貌难看的女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青蛙：相貌难看的男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菜鸟：就是初级水平的新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虾：高手或是大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倒：晕倒，厥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东东：东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偶：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473040" y="1171440"/>
            <a:ext cx="73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区分网络非正式词语和词语变迁的关系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13" name="矩形 11"/>
          <p:cNvSpPr/>
          <p:nvPr/>
        </p:nvSpPr>
        <p:spPr>
          <a:xfrm>
            <a:off x="1017720" y="245268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词语的变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丰富多彩　摇身一变　脱口而出　侧耳倾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3"/>
          <p:cNvSpPr/>
          <p:nvPr/>
        </p:nvSpPr>
        <p:spPr>
          <a:xfrm>
            <a:off x="993600" y="3322800"/>
            <a:ext cx="66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舶来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ó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á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体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uè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杜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6" name="矩形 17"/>
          <p:cNvSpPr/>
          <p:nvPr/>
        </p:nvSpPr>
        <p:spPr>
          <a:xfrm>
            <a:off x="853920" y="2363760"/>
            <a:ext cx="68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出加点字的正确读音，在下面画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10"/>
          <p:cNvSpPr/>
          <p:nvPr/>
        </p:nvSpPr>
        <p:spPr>
          <a:xfrm>
            <a:off x="2540160" y="3908520"/>
            <a:ext cx="406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接连接符 13"/>
          <p:cNvSpPr/>
          <p:nvPr/>
        </p:nvSpPr>
        <p:spPr>
          <a:xfrm>
            <a:off x="6037200" y="3894120"/>
            <a:ext cx="422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15"/>
          <p:cNvSpPr/>
          <p:nvPr/>
        </p:nvSpPr>
        <p:spPr>
          <a:xfrm>
            <a:off x="2728800" y="4435560"/>
            <a:ext cx="527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6"/>
          <p:cNvSpPr/>
          <p:nvPr/>
        </p:nvSpPr>
        <p:spPr>
          <a:xfrm>
            <a:off x="1438200" y="35082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4900680" y="3527280"/>
            <a:ext cx="2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1"/>
          <p:cNvSpPr/>
          <p:nvPr/>
        </p:nvSpPr>
        <p:spPr>
          <a:xfrm>
            <a:off x="1765440" y="4052880"/>
            <a:ext cx="2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21"/>
          <p:cNvSpPr/>
          <p:nvPr/>
        </p:nvSpPr>
        <p:spPr>
          <a:xfrm>
            <a:off x="1309680" y="2095560"/>
            <a:ext cx="640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uó    bo           xīn  chǒng          dù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ào    jié           mé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ǐ            bià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ā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áo   shē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yí   biàn         cè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ěr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ī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ī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635800" y="26463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687840" y="264636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矩形 28"/>
          <p:cNvSpPr/>
          <p:nvPr/>
        </p:nvSpPr>
        <p:spPr>
          <a:xfrm>
            <a:off x="3905640" y="2689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新 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0"/>
          <p:cNvSpPr/>
          <p:nvPr/>
        </p:nvSpPr>
        <p:spPr>
          <a:xfrm>
            <a:off x="5861520" y="26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杜 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7"/>
          <p:cNvSpPr/>
          <p:nvPr/>
        </p:nvSpPr>
        <p:spPr>
          <a:xfrm>
            <a:off x="758880" y="13050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我能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49600" y="26352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矩形 11"/>
          <p:cNvSpPr/>
          <p:nvPr/>
        </p:nvSpPr>
        <p:spPr>
          <a:xfrm>
            <a:off x="1967400" y="2678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萝 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640480" y="37465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692520" y="37465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矩形 14"/>
          <p:cNvSpPr/>
          <p:nvPr/>
        </p:nvSpPr>
        <p:spPr>
          <a:xfrm>
            <a:off x="3910320" y="378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媒 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6"/>
          <p:cNvSpPr/>
          <p:nvPr/>
        </p:nvSpPr>
        <p:spPr>
          <a:xfrm>
            <a:off x="5866200" y="3773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变 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55720" y="3735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矩形 19"/>
          <p:cNvSpPr/>
          <p:nvPr/>
        </p:nvSpPr>
        <p:spPr>
          <a:xfrm>
            <a:off x="1973520" y="3778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浩 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55720" y="4897440"/>
          <a:ext cx="287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矩形 21"/>
          <p:cNvSpPr/>
          <p:nvPr/>
        </p:nvSpPr>
        <p:spPr>
          <a:xfrm>
            <a:off x="2020680" y="4940280"/>
            <a:ext cx="2341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楷体"/>
                <a:ea typeface="楷体"/>
              </a:rPr>
              <a:t>摇 身 一 变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013360" y="4897440"/>
          <a:ext cx="287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矩形 24"/>
          <p:cNvSpPr/>
          <p:nvPr/>
        </p:nvSpPr>
        <p:spPr>
          <a:xfrm>
            <a:off x="5408280" y="4948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侧 耳 倾 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屏幕剪辑"/>
          <p:cNvPicPr/>
          <p:nvPr/>
        </p:nvPicPr>
        <p:blipFill>
          <a:blip r:embed="rId1"/>
          <a:stretch/>
        </p:blipFill>
        <p:spPr>
          <a:xfrm>
            <a:off x="3024360" y="2023920"/>
            <a:ext cx="3309840" cy="380376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1593720" y="905040"/>
            <a:ext cx="6319800" cy="1180800"/>
            <a:chOff x="1593720" y="905040"/>
            <a:chExt cx="6319800" cy="1180800"/>
          </a:xfrm>
        </p:grpSpPr>
        <p:sp>
          <p:nvSpPr>
            <p:cNvPr id="66" name="Text Box 2"/>
            <p:cNvSpPr/>
            <p:nvPr/>
          </p:nvSpPr>
          <p:spPr>
            <a:xfrm>
              <a:off x="2852640" y="1011240"/>
              <a:ext cx="506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词语的变迁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1593720" y="905040"/>
              <a:ext cx="1180800" cy="1180800"/>
              <a:chOff x="1593720" y="905040"/>
              <a:chExt cx="118080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159372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181116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5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7"/>
          <p:cNvSpPr/>
          <p:nvPr/>
        </p:nvSpPr>
        <p:spPr>
          <a:xfrm>
            <a:off x="884160" y="1411200"/>
            <a:ext cx="75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"/>
          <p:cNvSpPr/>
          <p:nvPr/>
        </p:nvSpPr>
        <p:spPr>
          <a:xfrm>
            <a:off x="1725480" y="2170080"/>
            <a:ext cx="52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媒（　　　　）  舶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谋（　　　　）  泊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萝（　　　　）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箩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左大括号 2"/>
          <p:cNvSpPr/>
          <p:nvPr/>
        </p:nvSpPr>
        <p:spPr>
          <a:xfrm>
            <a:off x="1620720" y="2522520"/>
            <a:ext cx="198720" cy="97776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左大括号 17"/>
          <p:cNvSpPr/>
          <p:nvPr/>
        </p:nvSpPr>
        <p:spPr>
          <a:xfrm>
            <a:off x="4043520" y="25336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3"/>
          <p:cNvSpPr/>
          <p:nvPr/>
        </p:nvSpPr>
        <p:spPr>
          <a:xfrm>
            <a:off x="2744640" y="24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媒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4"/>
          <p:cNvSpPr/>
          <p:nvPr/>
        </p:nvSpPr>
        <p:spPr>
          <a:xfrm>
            <a:off x="2744640" y="31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谋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5"/>
          <p:cNvSpPr/>
          <p:nvPr/>
        </p:nvSpPr>
        <p:spPr>
          <a:xfrm>
            <a:off x="5192280" y="2433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舶来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6"/>
          <p:cNvSpPr/>
          <p:nvPr/>
        </p:nvSpPr>
        <p:spPr>
          <a:xfrm>
            <a:off x="5240160" y="314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停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左大括号 13"/>
          <p:cNvSpPr/>
          <p:nvPr/>
        </p:nvSpPr>
        <p:spPr>
          <a:xfrm>
            <a:off x="1616040" y="39988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2739600" y="385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萝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16"/>
          <p:cNvSpPr/>
          <p:nvPr/>
        </p:nvSpPr>
        <p:spPr>
          <a:xfrm>
            <a:off x="2739600" y="4589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箩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888840" y="1565280"/>
            <a:ext cx="73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课文内容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世界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老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新生儿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舶来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商品    紧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3"/>
          <p:cNvSpPr/>
          <p:nvPr/>
        </p:nvSpPr>
        <p:spPr>
          <a:xfrm>
            <a:off x="1745640" y="2238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丰富多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4780800" y="2238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历尽沧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11"/>
          <p:cNvSpPr/>
          <p:nvPr/>
        </p:nvSpPr>
        <p:spPr>
          <a:xfrm>
            <a:off x="1745640" y="273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充满朝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2"/>
          <p:cNvSpPr/>
          <p:nvPr/>
        </p:nvSpPr>
        <p:spPr>
          <a:xfrm>
            <a:off x="4843800" y="2762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漂洋过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3"/>
          <p:cNvSpPr/>
          <p:nvPr/>
        </p:nvSpPr>
        <p:spPr>
          <a:xfrm>
            <a:off x="1745640" y="3340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广为走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4"/>
          <p:cNvSpPr/>
          <p:nvPr/>
        </p:nvSpPr>
        <p:spPr>
          <a:xfrm>
            <a:off x="5125320" y="3297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时代潮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731880" y="1380960"/>
            <a:ext cx="770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中有许多是历尽沧桑的老人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加点的词语造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新名词”挂在农民的口头上。“新名词”付诸具体的行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关联词连成一句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1292400" y="2525760"/>
            <a:ext cx="66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他那历尽沧桑的脸上写满了人生的艰辛与无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1278000" y="411156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新名词”不仅挂在农民的口头上，而且付诸具体的行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731880" y="1844640"/>
            <a:ext cx="770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鸟儿的语言也能进行“国际”交流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成反问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农民嘴里的词语正在不断改善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3"/>
          <p:cNvSpPr/>
          <p:nvPr/>
        </p:nvSpPr>
        <p:spPr>
          <a:xfrm>
            <a:off x="1278000" y="3557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农民嘴里的词语正在不断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2"/>
          <p:cNvSpPr/>
          <p:nvPr/>
        </p:nvSpPr>
        <p:spPr>
          <a:xfrm>
            <a:off x="1306440" y="2452680"/>
            <a:ext cx="69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鸟儿的语言怎么不能进行“国际”交流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“攀谈、侧耳倾听”等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6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组合 8"/>
          <p:cNvGrpSpPr/>
          <p:nvPr/>
        </p:nvGrpSpPr>
        <p:grpSpPr>
          <a:xfrm>
            <a:off x="1305000" y="3975120"/>
            <a:ext cx="2840040" cy="1571760"/>
            <a:chOff x="1305000" y="3975120"/>
            <a:chExt cx="2840040" cy="1571760"/>
          </a:xfrm>
        </p:grpSpPr>
        <p:pic>
          <p:nvPicPr>
            <p:cNvPr id="80" name="图示 4" descr=""/>
            <p:cNvPicPr/>
            <p:nvPr/>
          </p:nvPicPr>
          <p:blipFill>
            <a:blip r:embed="rId3"/>
            <a:stretch/>
          </p:blipFill>
          <p:spPr>
            <a:xfrm>
              <a:off x="130500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矩形 2"/>
            <p:cNvSpPr/>
            <p:nvPr/>
          </p:nvSpPr>
          <p:spPr>
            <a:xfrm>
              <a:off x="135180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艹”横稍长，盖住下部；“罒”略扁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矩形 3"/>
          <p:cNvSpPr/>
          <p:nvPr/>
        </p:nvSpPr>
        <p:spPr>
          <a:xfrm>
            <a:off x="2139840" y="1868400"/>
            <a:ext cx="146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u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88"/>
          <p:cNvSpPr/>
          <p:nvPr/>
        </p:nvSpPr>
        <p:spPr>
          <a:xfrm>
            <a:off x="5640480" y="2984400"/>
            <a:ext cx="2003400" cy="374760"/>
          </a:xfrm>
          <a:custGeom>
            <a:avLst/>
            <a:gdLst/>
            <a:ahLst/>
            <a:rect l="l" t="t" r="r" b="b"/>
            <a:pathLst>
              <a:path w="2525" h="472">
                <a:moveTo>
                  <a:pt x="743" y="248"/>
                </a:moveTo>
                <a:lnTo>
                  <a:pt x="864" y="225"/>
                </a:lnTo>
                <a:lnTo>
                  <a:pt x="985" y="204"/>
                </a:lnTo>
                <a:lnTo>
                  <a:pt x="1104" y="183"/>
                </a:lnTo>
                <a:lnTo>
                  <a:pt x="1223" y="161"/>
                </a:lnTo>
                <a:lnTo>
                  <a:pt x="1342" y="140"/>
                </a:lnTo>
                <a:lnTo>
                  <a:pt x="1463" y="119"/>
                </a:lnTo>
                <a:lnTo>
                  <a:pt x="1582" y="98"/>
                </a:lnTo>
                <a:lnTo>
                  <a:pt x="1703" y="75"/>
                </a:lnTo>
                <a:lnTo>
                  <a:pt x="1732" y="69"/>
                </a:lnTo>
                <a:lnTo>
                  <a:pt x="1761" y="65"/>
                </a:lnTo>
                <a:lnTo>
                  <a:pt x="1788" y="62"/>
                </a:lnTo>
                <a:lnTo>
                  <a:pt x="1814" y="58"/>
                </a:lnTo>
                <a:lnTo>
                  <a:pt x="1839" y="52"/>
                </a:lnTo>
                <a:lnTo>
                  <a:pt x="1864" y="48"/>
                </a:lnTo>
                <a:lnTo>
                  <a:pt x="1889" y="44"/>
                </a:lnTo>
                <a:lnTo>
                  <a:pt x="1912" y="42"/>
                </a:lnTo>
                <a:lnTo>
                  <a:pt x="1935" y="39"/>
                </a:lnTo>
                <a:lnTo>
                  <a:pt x="1958" y="35"/>
                </a:lnTo>
                <a:lnTo>
                  <a:pt x="1980" y="31"/>
                </a:lnTo>
                <a:lnTo>
                  <a:pt x="1999" y="29"/>
                </a:lnTo>
                <a:lnTo>
                  <a:pt x="2020" y="25"/>
                </a:lnTo>
                <a:lnTo>
                  <a:pt x="2039" y="23"/>
                </a:lnTo>
                <a:lnTo>
                  <a:pt x="2056" y="21"/>
                </a:lnTo>
                <a:lnTo>
                  <a:pt x="2074" y="17"/>
                </a:lnTo>
                <a:lnTo>
                  <a:pt x="2091" y="16"/>
                </a:lnTo>
                <a:lnTo>
                  <a:pt x="2106" y="14"/>
                </a:lnTo>
                <a:lnTo>
                  <a:pt x="2122" y="12"/>
                </a:lnTo>
                <a:lnTo>
                  <a:pt x="2137" y="10"/>
                </a:lnTo>
                <a:lnTo>
                  <a:pt x="2150" y="8"/>
                </a:lnTo>
                <a:lnTo>
                  <a:pt x="2164" y="8"/>
                </a:lnTo>
                <a:lnTo>
                  <a:pt x="2175" y="6"/>
                </a:lnTo>
                <a:lnTo>
                  <a:pt x="2189" y="4"/>
                </a:lnTo>
                <a:lnTo>
                  <a:pt x="2198" y="4"/>
                </a:lnTo>
                <a:lnTo>
                  <a:pt x="2210" y="2"/>
                </a:lnTo>
                <a:lnTo>
                  <a:pt x="2219" y="2"/>
                </a:lnTo>
                <a:lnTo>
                  <a:pt x="2227" y="0"/>
                </a:lnTo>
                <a:lnTo>
                  <a:pt x="2235" y="0"/>
                </a:lnTo>
                <a:lnTo>
                  <a:pt x="2243" y="0"/>
                </a:lnTo>
                <a:lnTo>
                  <a:pt x="2250" y="0"/>
                </a:lnTo>
                <a:lnTo>
                  <a:pt x="2256" y="0"/>
                </a:lnTo>
                <a:lnTo>
                  <a:pt x="2277" y="0"/>
                </a:lnTo>
                <a:lnTo>
                  <a:pt x="2298" y="2"/>
                </a:lnTo>
                <a:lnTo>
                  <a:pt x="2317" y="4"/>
                </a:lnTo>
                <a:lnTo>
                  <a:pt x="2337" y="8"/>
                </a:lnTo>
                <a:lnTo>
                  <a:pt x="2354" y="12"/>
                </a:lnTo>
                <a:lnTo>
                  <a:pt x="2371" y="16"/>
                </a:lnTo>
                <a:lnTo>
                  <a:pt x="2387" y="19"/>
                </a:lnTo>
                <a:lnTo>
                  <a:pt x="2400" y="25"/>
                </a:lnTo>
                <a:lnTo>
                  <a:pt x="2427" y="44"/>
                </a:lnTo>
                <a:lnTo>
                  <a:pt x="2440" y="54"/>
                </a:lnTo>
                <a:lnTo>
                  <a:pt x="2452" y="64"/>
                </a:lnTo>
                <a:lnTo>
                  <a:pt x="2465" y="75"/>
                </a:lnTo>
                <a:lnTo>
                  <a:pt x="2475" y="87"/>
                </a:lnTo>
                <a:lnTo>
                  <a:pt x="2486" y="98"/>
                </a:lnTo>
                <a:lnTo>
                  <a:pt x="2496" y="112"/>
                </a:lnTo>
                <a:lnTo>
                  <a:pt x="2500" y="119"/>
                </a:lnTo>
                <a:lnTo>
                  <a:pt x="2504" y="125"/>
                </a:lnTo>
                <a:lnTo>
                  <a:pt x="2507" y="131"/>
                </a:lnTo>
                <a:lnTo>
                  <a:pt x="2511" y="136"/>
                </a:lnTo>
                <a:lnTo>
                  <a:pt x="2517" y="144"/>
                </a:lnTo>
                <a:lnTo>
                  <a:pt x="2521" y="152"/>
                </a:lnTo>
                <a:lnTo>
                  <a:pt x="2523" y="159"/>
                </a:lnTo>
                <a:lnTo>
                  <a:pt x="2525" y="161"/>
                </a:lnTo>
                <a:lnTo>
                  <a:pt x="2525" y="163"/>
                </a:lnTo>
                <a:lnTo>
                  <a:pt x="2525" y="167"/>
                </a:lnTo>
                <a:lnTo>
                  <a:pt x="2523" y="169"/>
                </a:lnTo>
                <a:lnTo>
                  <a:pt x="2521" y="171"/>
                </a:lnTo>
                <a:lnTo>
                  <a:pt x="2519" y="175"/>
                </a:lnTo>
                <a:lnTo>
                  <a:pt x="2517" y="177"/>
                </a:lnTo>
                <a:lnTo>
                  <a:pt x="2513" y="177"/>
                </a:lnTo>
                <a:lnTo>
                  <a:pt x="2509" y="179"/>
                </a:lnTo>
                <a:lnTo>
                  <a:pt x="2506" y="181"/>
                </a:lnTo>
                <a:lnTo>
                  <a:pt x="2502" y="181"/>
                </a:lnTo>
                <a:lnTo>
                  <a:pt x="2496" y="183"/>
                </a:lnTo>
                <a:lnTo>
                  <a:pt x="2490" y="183"/>
                </a:lnTo>
                <a:lnTo>
                  <a:pt x="2484" y="184"/>
                </a:lnTo>
                <a:lnTo>
                  <a:pt x="2477" y="184"/>
                </a:lnTo>
                <a:lnTo>
                  <a:pt x="2469" y="186"/>
                </a:lnTo>
                <a:lnTo>
                  <a:pt x="2461" y="188"/>
                </a:lnTo>
                <a:lnTo>
                  <a:pt x="2452" y="188"/>
                </a:lnTo>
                <a:lnTo>
                  <a:pt x="2442" y="190"/>
                </a:lnTo>
                <a:lnTo>
                  <a:pt x="2431" y="190"/>
                </a:lnTo>
                <a:lnTo>
                  <a:pt x="2421" y="192"/>
                </a:lnTo>
                <a:lnTo>
                  <a:pt x="2410" y="192"/>
                </a:lnTo>
                <a:lnTo>
                  <a:pt x="2396" y="192"/>
                </a:lnTo>
                <a:lnTo>
                  <a:pt x="2385" y="194"/>
                </a:lnTo>
                <a:lnTo>
                  <a:pt x="2371" y="194"/>
                </a:lnTo>
                <a:lnTo>
                  <a:pt x="2356" y="196"/>
                </a:lnTo>
                <a:lnTo>
                  <a:pt x="2342" y="196"/>
                </a:lnTo>
                <a:lnTo>
                  <a:pt x="2327" y="196"/>
                </a:lnTo>
                <a:lnTo>
                  <a:pt x="2310" y="196"/>
                </a:lnTo>
                <a:lnTo>
                  <a:pt x="2294" y="198"/>
                </a:lnTo>
                <a:lnTo>
                  <a:pt x="2277" y="198"/>
                </a:lnTo>
                <a:lnTo>
                  <a:pt x="2258" y="198"/>
                </a:lnTo>
                <a:lnTo>
                  <a:pt x="2241" y="198"/>
                </a:lnTo>
                <a:lnTo>
                  <a:pt x="2221" y="198"/>
                </a:lnTo>
                <a:lnTo>
                  <a:pt x="2200" y="198"/>
                </a:lnTo>
                <a:lnTo>
                  <a:pt x="2181" y="198"/>
                </a:lnTo>
                <a:lnTo>
                  <a:pt x="2160" y="200"/>
                </a:lnTo>
                <a:lnTo>
                  <a:pt x="2118" y="200"/>
                </a:lnTo>
                <a:lnTo>
                  <a:pt x="2077" y="200"/>
                </a:lnTo>
                <a:lnTo>
                  <a:pt x="2037" y="200"/>
                </a:lnTo>
                <a:lnTo>
                  <a:pt x="1999" y="200"/>
                </a:lnTo>
                <a:lnTo>
                  <a:pt x="1962" y="200"/>
                </a:lnTo>
                <a:lnTo>
                  <a:pt x="1928" y="200"/>
                </a:lnTo>
                <a:lnTo>
                  <a:pt x="1893" y="200"/>
                </a:lnTo>
                <a:lnTo>
                  <a:pt x="1859" y="200"/>
                </a:lnTo>
                <a:lnTo>
                  <a:pt x="1828" y="202"/>
                </a:lnTo>
                <a:lnTo>
                  <a:pt x="1797" y="202"/>
                </a:lnTo>
                <a:lnTo>
                  <a:pt x="1766" y="204"/>
                </a:lnTo>
                <a:lnTo>
                  <a:pt x="1738" y="204"/>
                </a:lnTo>
                <a:lnTo>
                  <a:pt x="1709" y="206"/>
                </a:lnTo>
                <a:lnTo>
                  <a:pt x="1682" y="207"/>
                </a:lnTo>
                <a:lnTo>
                  <a:pt x="1657" y="209"/>
                </a:lnTo>
                <a:lnTo>
                  <a:pt x="1632" y="211"/>
                </a:lnTo>
                <a:lnTo>
                  <a:pt x="1582" y="217"/>
                </a:lnTo>
                <a:lnTo>
                  <a:pt x="1532" y="223"/>
                </a:lnTo>
                <a:lnTo>
                  <a:pt x="1482" y="229"/>
                </a:lnTo>
                <a:lnTo>
                  <a:pt x="1434" y="236"/>
                </a:lnTo>
                <a:lnTo>
                  <a:pt x="1384" y="244"/>
                </a:lnTo>
                <a:lnTo>
                  <a:pt x="1334" y="250"/>
                </a:lnTo>
                <a:lnTo>
                  <a:pt x="1285" y="255"/>
                </a:lnTo>
                <a:lnTo>
                  <a:pt x="1235" y="261"/>
                </a:lnTo>
                <a:lnTo>
                  <a:pt x="1208" y="265"/>
                </a:lnTo>
                <a:lnTo>
                  <a:pt x="1179" y="271"/>
                </a:lnTo>
                <a:lnTo>
                  <a:pt x="1148" y="277"/>
                </a:lnTo>
                <a:lnTo>
                  <a:pt x="1116" y="282"/>
                </a:lnTo>
                <a:lnTo>
                  <a:pt x="1083" y="288"/>
                </a:lnTo>
                <a:lnTo>
                  <a:pt x="1048" y="294"/>
                </a:lnTo>
                <a:lnTo>
                  <a:pt x="1012" y="301"/>
                </a:lnTo>
                <a:lnTo>
                  <a:pt x="974" y="309"/>
                </a:lnTo>
                <a:lnTo>
                  <a:pt x="935" y="317"/>
                </a:lnTo>
                <a:lnTo>
                  <a:pt x="895" y="325"/>
                </a:lnTo>
                <a:lnTo>
                  <a:pt x="853" y="334"/>
                </a:lnTo>
                <a:lnTo>
                  <a:pt x="810" y="342"/>
                </a:lnTo>
                <a:lnTo>
                  <a:pt x="766" y="351"/>
                </a:lnTo>
                <a:lnTo>
                  <a:pt x="720" y="363"/>
                </a:lnTo>
                <a:lnTo>
                  <a:pt x="672" y="374"/>
                </a:lnTo>
                <a:lnTo>
                  <a:pt x="624" y="386"/>
                </a:lnTo>
                <a:lnTo>
                  <a:pt x="597" y="392"/>
                </a:lnTo>
                <a:lnTo>
                  <a:pt x="572" y="396"/>
                </a:lnTo>
                <a:lnTo>
                  <a:pt x="549" y="401"/>
                </a:lnTo>
                <a:lnTo>
                  <a:pt x="526" y="407"/>
                </a:lnTo>
                <a:lnTo>
                  <a:pt x="503" y="413"/>
                </a:lnTo>
                <a:lnTo>
                  <a:pt x="482" y="417"/>
                </a:lnTo>
                <a:lnTo>
                  <a:pt x="461" y="420"/>
                </a:lnTo>
                <a:lnTo>
                  <a:pt x="442" y="426"/>
                </a:lnTo>
                <a:lnTo>
                  <a:pt x="421" y="430"/>
                </a:lnTo>
                <a:lnTo>
                  <a:pt x="403" y="434"/>
                </a:lnTo>
                <a:lnTo>
                  <a:pt x="384" y="438"/>
                </a:lnTo>
                <a:lnTo>
                  <a:pt x="369" y="440"/>
                </a:lnTo>
                <a:lnTo>
                  <a:pt x="352" y="444"/>
                </a:lnTo>
                <a:lnTo>
                  <a:pt x="336" y="447"/>
                </a:lnTo>
                <a:lnTo>
                  <a:pt x="321" y="449"/>
                </a:lnTo>
                <a:lnTo>
                  <a:pt x="307" y="453"/>
                </a:lnTo>
                <a:lnTo>
                  <a:pt x="294" y="455"/>
                </a:lnTo>
                <a:lnTo>
                  <a:pt x="280" y="457"/>
                </a:lnTo>
                <a:lnTo>
                  <a:pt x="269" y="459"/>
                </a:lnTo>
                <a:lnTo>
                  <a:pt x="257" y="461"/>
                </a:lnTo>
                <a:lnTo>
                  <a:pt x="248" y="463"/>
                </a:lnTo>
                <a:lnTo>
                  <a:pt x="238" y="465"/>
                </a:lnTo>
                <a:lnTo>
                  <a:pt x="229" y="467"/>
                </a:lnTo>
                <a:lnTo>
                  <a:pt x="219" y="467"/>
                </a:lnTo>
                <a:lnTo>
                  <a:pt x="213" y="468"/>
                </a:lnTo>
                <a:lnTo>
                  <a:pt x="206" y="470"/>
                </a:lnTo>
                <a:lnTo>
                  <a:pt x="200" y="470"/>
                </a:lnTo>
                <a:lnTo>
                  <a:pt x="194" y="470"/>
                </a:lnTo>
                <a:lnTo>
                  <a:pt x="188" y="472"/>
                </a:lnTo>
                <a:lnTo>
                  <a:pt x="184" y="472"/>
                </a:lnTo>
                <a:lnTo>
                  <a:pt x="183" y="472"/>
                </a:lnTo>
                <a:lnTo>
                  <a:pt x="179" y="472"/>
                </a:lnTo>
                <a:lnTo>
                  <a:pt x="173" y="472"/>
                </a:lnTo>
                <a:lnTo>
                  <a:pt x="165" y="470"/>
                </a:lnTo>
                <a:lnTo>
                  <a:pt x="156" y="468"/>
                </a:lnTo>
                <a:lnTo>
                  <a:pt x="148" y="465"/>
                </a:lnTo>
                <a:lnTo>
                  <a:pt x="138" y="461"/>
                </a:lnTo>
                <a:lnTo>
                  <a:pt x="129" y="457"/>
                </a:lnTo>
                <a:lnTo>
                  <a:pt x="117" y="451"/>
                </a:lnTo>
                <a:lnTo>
                  <a:pt x="108" y="444"/>
                </a:lnTo>
                <a:lnTo>
                  <a:pt x="96" y="438"/>
                </a:lnTo>
                <a:lnTo>
                  <a:pt x="83" y="428"/>
                </a:lnTo>
                <a:lnTo>
                  <a:pt x="71" y="420"/>
                </a:lnTo>
                <a:lnTo>
                  <a:pt x="58" y="409"/>
                </a:lnTo>
                <a:lnTo>
                  <a:pt x="44" y="399"/>
                </a:lnTo>
                <a:lnTo>
                  <a:pt x="29" y="386"/>
                </a:lnTo>
                <a:lnTo>
                  <a:pt x="16" y="374"/>
                </a:lnTo>
                <a:lnTo>
                  <a:pt x="0" y="361"/>
                </a:lnTo>
                <a:lnTo>
                  <a:pt x="19" y="357"/>
                </a:lnTo>
                <a:lnTo>
                  <a:pt x="39" y="355"/>
                </a:lnTo>
                <a:lnTo>
                  <a:pt x="56" y="353"/>
                </a:lnTo>
                <a:lnTo>
                  <a:pt x="73" y="351"/>
                </a:lnTo>
                <a:lnTo>
                  <a:pt x="90" y="349"/>
                </a:lnTo>
                <a:lnTo>
                  <a:pt x="106" y="346"/>
                </a:lnTo>
                <a:lnTo>
                  <a:pt x="121" y="344"/>
                </a:lnTo>
                <a:lnTo>
                  <a:pt x="135" y="342"/>
                </a:lnTo>
                <a:lnTo>
                  <a:pt x="148" y="340"/>
                </a:lnTo>
                <a:lnTo>
                  <a:pt x="160" y="338"/>
                </a:lnTo>
                <a:lnTo>
                  <a:pt x="171" y="334"/>
                </a:lnTo>
                <a:lnTo>
                  <a:pt x="181" y="332"/>
                </a:lnTo>
                <a:lnTo>
                  <a:pt x="190" y="330"/>
                </a:lnTo>
                <a:lnTo>
                  <a:pt x="200" y="328"/>
                </a:lnTo>
                <a:lnTo>
                  <a:pt x="208" y="325"/>
                </a:lnTo>
                <a:lnTo>
                  <a:pt x="215" y="323"/>
                </a:lnTo>
                <a:lnTo>
                  <a:pt x="219" y="323"/>
                </a:lnTo>
                <a:lnTo>
                  <a:pt x="223" y="323"/>
                </a:lnTo>
                <a:lnTo>
                  <a:pt x="229" y="323"/>
                </a:lnTo>
                <a:lnTo>
                  <a:pt x="234" y="323"/>
                </a:lnTo>
                <a:lnTo>
                  <a:pt x="242" y="321"/>
                </a:lnTo>
                <a:lnTo>
                  <a:pt x="250" y="321"/>
                </a:lnTo>
                <a:lnTo>
                  <a:pt x="257" y="319"/>
                </a:lnTo>
                <a:lnTo>
                  <a:pt x="267" y="319"/>
                </a:lnTo>
                <a:lnTo>
                  <a:pt x="279" y="317"/>
                </a:lnTo>
                <a:lnTo>
                  <a:pt x="288" y="317"/>
                </a:lnTo>
                <a:lnTo>
                  <a:pt x="300" y="315"/>
                </a:lnTo>
                <a:lnTo>
                  <a:pt x="313" y="313"/>
                </a:lnTo>
                <a:lnTo>
                  <a:pt x="327" y="311"/>
                </a:lnTo>
                <a:lnTo>
                  <a:pt x="340" y="309"/>
                </a:lnTo>
                <a:lnTo>
                  <a:pt x="355" y="307"/>
                </a:lnTo>
                <a:lnTo>
                  <a:pt x="371" y="305"/>
                </a:lnTo>
                <a:lnTo>
                  <a:pt x="388" y="301"/>
                </a:lnTo>
                <a:lnTo>
                  <a:pt x="405" y="300"/>
                </a:lnTo>
                <a:lnTo>
                  <a:pt x="424" y="298"/>
                </a:lnTo>
                <a:lnTo>
                  <a:pt x="444" y="294"/>
                </a:lnTo>
                <a:lnTo>
                  <a:pt x="463" y="292"/>
                </a:lnTo>
                <a:lnTo>
                  <a:pt x="484" y="288"/>
                </a:lnTo>
                <a:lnTo>
                  <a:pt x="507" y="284"/>
                </a:lnTo>
                <a:lnTo>
                  <a:pt x="530" y="282"/>
                </a:lnTo>
                <a:lnTo>
                  <a:pt x="553" y="278"/>
                </a:lnTo>
                <a:lnTo>
                  <a:pt x="578" y="275"/>
                </a:lnTo>
                <a:lnTo>
                  <a:pt x="603" y="271"/>
                </a:lnTo>
                <a:lnTo>
                  <a:pt x="630" y="267"/>
                </a:lnTo>
                <a:lnTo>
                  <a:pt x="657" y="261"/>
                </a:lnTo>
                <a:lnTo>
                  <a:pt x="684" y="257"/>
                </a:lnTo>
                <a:lnTo>
                  <a:pt x="712" y="254"/>
                </a:lnTo>
                <a:lnTo>
                  <a:pt x="743" y="2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89"/>
          <p:cNvSpPr/>
          <p:nvPr/>
        </p:nvSpPr>
        <p:spPr>
          <a:xfrm>
            <a:off x="6199200" y="2905200"/>
            <a:ext cx="279360" cy="554040"/>
          </a:xfrm>
          <a:custGeom>
            <a:avLst/>
            <a:gdLst/>
            <a:ahLst/>
            <a:rect l="l" t="t" r="r" b="b"/>
            <a:pathLst>
              <a:path w="351" h="697">
                <a:moveTo>
                  <a:pt x="230" y="497"/>
                </a:moveTo>
                <a:lnTo>
                  <a:pt x="224" y="473"/>
                </a:lnTo>
                <a:lnTo>
                  <a:pt x="217" y="448"/>
                </a:lnTo>
                <a:lnTo>
                  <a:pt x="211" y="426"/>
                </a:lnTo>
                <a:lnTo>
                  <a:pt x="203" y="403"/>
                </a:lnTo>
                <a:lnTo>
                  <a:pt x="198" y="382"/>
                </a:lnTo>
                <a:lnTo>
                  <a:pt x="192" y="363"/>
                </a:lnTo>
                <a:lnTo>
                  <a:pt x="186" y="344"/>
                </a:lnTo>
                <a:lnTo>
                  <a:pt x="180" y="327"/>
                </a:lnTo>
                <a:lnTo>
                  <a:pt x="174" y="309"/>
                </a:lnTo>
                <a:lnTo>
                  <a:pt x="169" y="294"/>
                </a:lnTo>
                <a:lnTo>
                  <a:pt x="165" y="279"/>
                </a:lnTo>
                <a:lnTo>
                  <a:pt x="159" y="263"/>
                </a:lnTo>
                <a:lnTo>
                  <a:pt x="155" y="250"/>
                </a:lnTo>
                <a:lnTo>
                  <a:pt x="151" y="236"/>
                </a:lnTo>
                <a:lnTo>
                  <a:pt x="150" y="223"/>
                </a:lnTo>
                <a:lnTo>
                  <a:pt x="146" y="212"/>
                </a:lnTo>
                <a:lnTo>
                  <a:pt x="142" y="200"/>
                </a:lnTo>
                <a:lnTo>
                  <a:pt x="136" y="190"/>
                </a:lnTo>
                <a:lnTo>
                  <a:pt x="132" y="179"/>
                </a:lnTo>
                <a:lnTo>
                  <a:pt x="126" y="169"/>
                </a:lnTo>
                <a:lnTo>
                  <a:pt x="121" y="160"/>
                </a:lnTo>
                <a:lnTo>
                  <a:pt x="115" y="152"/>
                </a:lnTo>
                <a:lnTo>
                  <a:pt x="109" y="144"/>
                </a:lnTo>
                <a:lnTo>
                  <a:pt x="103" y="137"/>
                </a:lnTo>
                <a:lnTo>
                  <a:pt x="90" y="121"/>
                </a:lnTo>
                <a:lnTo>
                  <a:pt x="77" y="110"/>
                </a:lnTo>
                <a:lnTo>
                  <a:pt x="63" y="98"/>
                </a:lnTo>
                <a:lnTo>
                  <a:pt x="50" y="87"/>
                </a:lnTo>
                <a:lnTo>
                  <a:pt x="38" y="83"/>
                </a:lnTo>
                <a:lnTo>
                  <a:pt x="27" y="75"/>
                </a:lnTo>
                <a:lnTo>
                  <a:pt x="21" y="73"/>
                </a:lnTo>
                <a:lnTo>
                  <a:pt x="17" y="69"/>
                </a:lnTo>
                <a:lnTo>
                  <a:pt x="13" y="66"/>
                </a:lnTo>
                <a:lnTo>
                  <a:pt x="9" y="62"/>
                </a:lnTo>
                <a:lnTo>
                  <a:pt x="6" y="58"/>
                </a:lnTo>
                <a:lnTo>
                  <a:pt x="4" y="52"/>
                </a:lnTo>
                <a:lnTo>
                  <a:pt x="2" y="48"/>
                </a:lnTo>
                <a:lnTo>
                  <a:pt x="0" y="45"/>
                </a:lnTo>
                <a:lnTo>
                  <a:pt x="0" y="39"/>
                </a:lnTo>
                <a:lnTo>
                  <a:pt x="0" y="35"/>
                </a:lnTo>
                <a:lnTo>
                  <a:pt x="0" y="31"/>
                </a:lnTo>
                <a:lnTo>
                  <a:pt x="2" y="25"/>
                </a:lnTo>
                <a:lnTo>
                  <a:pt x="4" y="23"/>
                </a:lnTo>
                <a:lnTo>
                  <a:pt x="6" y="22"/>
                </a:lnTo>
                <a:lnTo>
                  <a:pt x="7" y="20"/>
                </a:lnTo>
                <a:lnTo>
                  <a:pt x="11" y="16"/>
                </a:lnTo>
                <a:lnTo>
                  <a:pt x="17" y="14"/>
                </a:lnTo>
                <a:lnTo>
                  <a:pt x="23" y="12"/>
                </a:lnTo>
                <a:lnTo>
                  <a:pt x="29" y="10"/>
                </a:lnTo>
                <a:lnTo>
                  <a:pt x="36" y="8"/>
                </a:lnTo>
                <a:lnTo>
                  <a:pt x="46" y="6"/>
                </a:lnTo>
                <a:lnTo>
                  <a:pt x="55" y="6"/>
                </a:lnTo>
                <a:lnTo>
                  <a:pt x="67" y="4"/>
                </a:lnTo>
                <a:lnTo>
                  <a:pt x="78" y="2"/>
                </a:lnTo>
                <a:lnTo>
                  <a:pt x="92" y="2"/>
                </a:lnTo>
                <a:lnTo>
                  <a:pt x="105" y="0"/>
                </a:lnTo>
                <a:lnTo>
                  <a:pt x="119" y="0"/>
                </a:lnTo>
                <a:lnTo>
                  <a:pt x="134" y="0"/>
                </a:lnTo>
                <a:lnTo>
                  <a:pt x="150" y="0"/>
                </a:lnTo>
                <a:lnTo>
                  <a:pt x="165" y="0"/>
                </a:lnTo>
                <a:lnTo>
                  <a:pt x="178" y="2"/>
                </a:lnTo>
                <a:lnTo>
                  <a:pt x="190" y="2"/>
                </a:lnTo>
                <a:lnTo>
                  <a:pt x="203" y="4"/>
                </a:lnTo>
                <a:lnTo>
                  <a:pt x="213" y="6"/>
                </a:lnTo>
                <a:lnTo>
                  <a:pt x="224" y="8"/>
                </a:lnTo>
                <a:lnTo>
                  <a:pt x="234" y="10"/>
                </a:lnTo>
                <a:lnTo>
                  <a:pt x="242" y="12"/>
                </a:lnTo>
                <a:lnTo>
                  <a:pt x="249" y="16"/>
                </a:lnTo>
                <a:lnTo>
                  <a:pt x="257" y="18"/>
                </a:lnTo>
                <a:lnTo>
                  <a:pt x="263" y="22"/>
                </a:lnTo>
                <a:lnTo>
                  <a:pt x="269" y="25"/>
                </a:lnTo>
                <a:lnTo>
                  <a:pt x="272" y="29"/>
                </a:lnTo>
                <a:lnTo>
                  <a:pt x="276" y="33"/>
                </a:lnTo>
                <a:lnTo>
                  <a:pt x="278" y="39"/>
                </a:lnTo>
                <a:lnTo>
                  <a:pt x="280" y="43"/>
                </a:lnTo>
                <a:lnTo>
                  <a:pt x="284" y="50"/>
                </a:lnTo>
                <a:lnTo>
                  <a:pt x="286" y="58"/>
                </a:lnTo>
                <a:lnTo>
                  <a:pt x="290" y="66"/>
                </a:lnTo>
                <a:lnTo>
                  <a:pt x="292" y="75"/>
                </a:lnTo>
                <a:lnTo>
                  <a:pt x="295" y="87"/>
                </a:lnTo>
                <a:lnTo>
                  <a:pt x="299" y="98"/>
                </a:lnTo>
                <a:lnTo>
                  <a:pt x="303" y="112"/>
                </a:lnTo>
                <a:lnTo>
                  <a:pt x="305" y="127"/>
                </a:lnTo>
                <a:lnTo>
                  <a:pt x="309" y="142"/>
                </a:lnTo>
                <a:lnTo>
                  <a:pt x="313" y="160"/>
                </a:lnTo>
                <a:lnTo>
                  <a:pt x="317" y="177"/>
                </a:lnTo>
                <a:lnTo>
                  <a:pt x="318" y="196"/>
                </a:lnTo>
                <a:lnTo>
                  <a:pt x="322" y="217"/>
                </a:lnTo>
                <a:lnTo>
                  <a:pt x="324" y="238"/>
                </a:lnTo>
                <a:lnTo>
                  <a:pt x="326" y="261"/>
                </a:lnTo>
                <a:lnTo>
                  <a:pt x="328" y="286"/>
                </a:lnTo>
                <a:lnTo>
                  <a:pt x="330" y="311"/>
                </a:lnTo>
                <a:lnTo>
                  <a:pt x="334" y="334"/>
                </a:lnTo>
                <a:lnTo>
                  <a:pt x="336" y="357"/>
                </a:lnTo>
                <a:lnTo>
                  <a:pt x="338" y="378"/>
                </a:lnTo>
                <a:lnTo>
                  <a:pt x="340" y="400"/>
                </a:lnTo>
                <a:lnTo>
                  <a:pt x="341" y="421"/>
                </a:lnTo>
                <a:lnTo>
                  <a:pt x="343" y="440"/>
                </a:lnTo>
                <a:lnTo>
                  <a:pt x="345" y="459"/>
                </a:lnTo>
                <a:lnTo>
                  <a:pt x="345" y="476"/>
                </a:lnTo>
                <a:lnTo>
                  <a:pt x="347" y="494"/>
                </a:lnTo>
                <a:lnTo>
                  <a:pt x="349" y="511"/>
                </a:lnTo>
                <a:lnTo>
                  <a:pt x="349" y="528"/>
                </a:lnTo>
                <a:lnTo>
                  <a:pt x="349" y="544"/>
                </a:lnTo>
                <a:lnTo>
                  <a:pt x="351" y="557"/>
                </a:lnTo>
                <a:lnTo>
                  <a:pt x="351" y="572"/>
                </a:lnTo>
                <a:lnTo>
                  <a:pt x="351" y="588"/>
                </a:lnTo>
                <a:lnTo>
                  <a:pt x="349" y="603"/>
                </a:lnTo>
                <a:lnTo>
                  <a:pt x="349" y="616"/>
                </a:lnTo>
                <a:lnTo>
                  <a:pt x="349" y="628"/>
                </a:lnTo>
                <a:lnTo>
                  <a:pt x="347" y="639"/>
                </a:lnTo>
                <a:lnTo>
                  <a:pt x="345" y="649"/>
                </a:lnTo>
                <a:lnTo>
                  <a:pt x="345" y="659"/>
                </a:lnTo>
                <a:lnTo>
                  <a:pt x="343" y="666"/>
                </a:lnTo>
                <a:lnTo>
                  <a:pt x="341" y="674"/>
                </a:lnTo>
                <a:lnTo>
                  <a:pt x="340" y="680"/>
                </a:lnTo>
                <a:lnTo>
                  <a:pt x="338" y="686"/>
                </a:lnTo>
                <a:lnTo>
                  <a:pt x="336" y="689"/>
                </a:lnTo>
                <a:lnTo>
                  <a:pt x="334" y="693"/>
                </a:lnTo>
                <a:lnTo>
                  <a:pt x="330" y="695"/>
                </a:lnTo>
                <a:lnTo>
                  <a:pt x="328" y="695"/>
                </a:lnTo>
                <a:lnTo>
                  <a:pt x="326" y="697"/>
                </a:lnTo>
                <a:lnTo>
                  <a:pt x="322" y="695"/>
                </a:lnTo>
                <a:lnTo>
                  <a:pt x="317" y="693"/>
                </a:lnTo>
                <a:lnTo>
                  <a:pt x="313" y="689"/>
                </a:lnTo>
                <a:lnTo>
                  <a:pt x="307" y="684"/>
                </a:lnTo>
                <a:lnTo>
                  <a:pt x="301" y="678"/>
                </a:lnTo>
                <a:lnTo>
                  <a:pt x="295" y="670"/>
                </a:lnTo>
                <a:lnTo>
                  <a:pt x="290" y="661"/>
                </a:lnTo>
                <a:lnTo>
                  <a:pt x="282" y="649"/>
                </a:lnTo>
                <a:lnTo>
                  <a:pt x="276" y="636"/>
                </a:lnTo>
                <a:lnTo>
                  <a:pt x="270" y="620"/>
                </a:lnTo>
                <a:lnTo>
                  <a:pt x="263" y="605"/>
                </a:lnTo>
                <a:lnTo>
                  <a:pt x="257" y="586"/>
                </a:lnTo>
                <a:lnTo>
                  <a:pt x="251" y="567"/>
                </a:lnTo>
                <a:lnTo>
                  <a:pt x="244" y="545"/>
                </a:lnTo>
                <a:lnTo>
                  <a:pt x="238" y="522"/>
                </a:lnTo>
                <a:lnTo>
                  <a:pt x="230" y="4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90"/>
          <p:cNvSpPr/>
          <p:nvPr/>
        </p:nvSpPr>
        <p:spPr>
          <a:xfrm>
            <a:off x="6821640" y="2768760"/>
            <a:ext cx="266400" cy="599760"/>
          </a:xfrm>
          <a:custGeom>
            <a:avLst/>
            <a:gdLst/>
            <a:ahLst/>
            <a:rect l="l" t="t" r="r" b="b"/>
            <a:pathLst>
              <a:path w="336" h="756">
                <a:moveTo>
                  <a:pt x="37" y="533"/>
                </a:moveTo>
                <a:lnTo>
                  <a:pt x="42" y="502"/>
                </a:lnTo>
                <a:lnTo>
                  <a:pt x="48" y="476"/>
                </a:lnTo>
                <a:lnTo>
                  <a:pt x="54" y="447"/>
                </a:lnTo>
                <a:lnTo>
                  <a:pt x="60" y="422"/>
                </a:lnTo>
                <a:lnTo>
                  <a:pt x="65" y="397"/>
                </a:lnTo>
                <a:lnTo>
                  <a:pt x="71" y="372"/>
                </a:lnTo>
                <a:lnTo>
                  <a:pt x="75" y="349"/>
                </a:lnTo>
                <a:lnTo>
                  <a:pt x="81" y="328"/>
                </a:lnTo>
                <a:lnTo>
                  <a:pt x="85" y="307"/>
                </a:lnTo>
                <a:lnTo>
                  <a:pt x="88" y="288"/>
                </a:lnTo>
                <a:lnTo>
                  <a:pt x="92" y="270"/>
                </a:lnTo>
                <a:lnTo>
                  <a:pt x="96" y="253"/>
                </a:lnTo>
                <a:lnTo>
                  <a:pt x="100" y="238"/>
                </a:lnTo>
                <a:lnTo>
                  <a:pt x="102" y="222"/>
                </a:lnTo>
                <a:lnTo>
                  <a:pt x="106" y="209"/>
                </a:lnTo>
                <a:lnTo>
                  <a:pt x="108" y="197"/>
                </a:lnTo>
                <a:lnTo>
                  <a:pt x="109" y="186"/>
                </a:lnTo>
                <a:lnTo>
                  <a:pt x="111" y="174"/>
                </a:lnTo>
                <a:lnTo>
                  <a:pt x="111" y="165"/>
                </a:lnTo>
                <a:lnTo>
                  <a:pt x="111" y="153"/>
                </a:lnTo>
                <a:lnTo>
                  <a:pt x="111" y="144"/>
                </a:lnTo>
                <a:lnTo>
                  <a:pt x="111" y="134"/>
                </a:lnTo>
                <a:lnTo>
                  <a:pt x="109" y="115"/>
                </a:lnTo>
                <a:lnTo>
                  <a:pt x="106" y="99"/>
                </a:lnTo>
                <a:lnTo>
                  <a:pt x="102" y="92"/>
                </a:lnTo>
                <a:lnTo>
                  <a:pt x="100" y="84"/>
                </a:lnTo>
                <a:lnTo>
                  <a:pt x="96" y="78"/>
                </a:lnTo>
                <a:lnTo>
                  <a:pt x="92" y="71"/>
                </a:lnTo>
                <a:lnTo>
                  <a:pt x="88" y="65"/>
                </a:lnTo>
                <a:lnTo>
                  <a:pt x="85" y="61"/>
                </a:lnTo>
                <a:lnTo>
                  <a:pt x="79" y="59"/>
                </a:lnTo>
                <a:lnTo>
                  <a:pt x="75" y="55"/>
                </a:lnTo>
                <a:lnTo>
                  <a:pt x="73" y="53"/>
                </a:lnTo>
                <a:lnTo>
                  <a:pt x="69" y="50"/>
                </a:lnTo>
                <a:lnTo>
                  <a:pt x="67" y="46"/>
                </a:lnTo>
                <a:lnTo>
                  <a:pt x="65" y="44"/>
                </a:lnTo>
                <a:lnTo>
                  <a:pt x="63" y="36"/>
                </a:lnTo>
                <a:lnTo>
                  <a:pt x="63" y="28"/>
                </a:lnTo>
                <a:lnTo>
                  <a:pt x="65" y="23"/>
                </a:lnTo>
                <a:lnTo>
                  <a:pt x="67" y="17"/>
                </a:lnTo>
                <a:lnTo>
                  <a:pt x="71" y="11"/>
                </a:lnTo>
                <a:lnTo>
                  <a:pt x="77" y="7"/>
                </a:lnTo>
                <a:lnTo>
                  <a:pt x="83" y="4"/>
                </a:lnTo>
                <a:lnTo>
                  <a:pt x="90" y="2"/>
                </a:lnTo>
                <a:lnTo>
                  <a:pt x="100" y="0"/>
                </a:lnTo>
                <a:lnTo>
                  <a:pt x="111" y="0"/>
                </a:lnTo>
                <a:lnTo>
                  <a:pt x="117" y="0"/>
                </a:lnTo>
                <a:lnTo>
                  <a:pt x="123" y="0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56" y="0"/>
                </a:lnTo>
                <a:lnTo>
                  <a:pt x="169" y="0"/>
                </a:lnTo>
                <a:lnTo>
                  <a:pt x="184" y="2"/>
                </a:lnTo>
                <a:lnTo>
                  <a:pt x="200" y="5"/>
                </a:lnTo>
                <a:lnTo>
                  <a:pt x="215" y="9"/>
                </a:lnTo>
                <a:lnTo>
                  <a:pt x="223" y="13"/>
                </a:lnTo>
                <a:lnTo>
                  <a:pt x="232" y="17"/>
                </a:lnTo>
                <a:lnTo>
                  <a:pt x="240" y="21"/>
                </a:lnTo>
                <a:lnTo>
                  <a:pt x="248" y="25"/>
                </a:lnTo>
                <a:lnTo>
                  <a:pt x="253" y="30"/>
                </a:lnTo>
                <a:lnTo>
                  <a:pt x="261" y="36"/>
                </a:lnTo>
                <a:lnTo>
                  <a:pt x="269" y="42"/>
                </a:lnTo>
                <a:lnTo>
                  <a:pt x="277" y="48"/>
                </a:lnTo>
                <a:lnTo>
                  <a:pt x="288" y="61"/>
                </a:lnTo>
                <a:lnTo>
                  <a:pt x="300" y="75"/>
                </a:lnTo>
                <a:lnTo>
                  <a:pt x="311" y="86"/>
                </a:lnTo>
                <a:lnTo>
                  <a:pt x="319" y="98"/>
                </a:lnTo>
                <a:lnTo>
                  <a:pt x="326" y="107"/>
                </a:lnTo>
                <a:lnTo>
                  <a:pt x="328" y="111"/>
                </a:lnTo>
                <a:lnTo>
                  <a:pt x="330" y="117"/>
                </a:lnTo>
                <a:lnTo>
                  <a:pt x="332" y="121"/>
                </a:lnTo>
                <a:lnTo>
                  <a:pt x="334" y="126"/>
                </a:lnTo>
                <a:lnTo>
                  <a:pt x="336" y="130"/>
                </a:lnTo>
                <a:lnTo>
                  <a:pt x="336" y="136"/>
                </a:lnTo>
                <a:lnTo>
                  <a:pt x="334" y="146"/>
                </a:lnTo>
                <a:lnTo>
                  <a:pt x="334" y="155"/>
                </a:lnTo>
                <a:lnTo>
                  <a:pt x="330" y="165"/>
                </a:lnTo>
                <a:lnTo>
                  <a:pt x="328" y="174"/>
                </a:lnTo>
                <a:lnTo>
                  <a:pt x="324" y="186"/>
                </a:lnTo>
                <a:lnTo>
                  <a:pt x="321" y="197"/>
                </a:lnTo>
                <a:lnTo>
                  <a:pt x="317" y="209"/>
                </a:lnTo>
                <a:lnTo>
                  <a:pt x="311" y="222"/>
                </a:lnTo>
                <a:lnTo>
                  <a:pt x="307" y="230"/>
                </a:lnTo>
                <a:lnTo>
                  <a:pt x="301" y="240"/>
                </a:lnTo>
                <a:lnTo>
                  <a:pt x="296" y="249"/>
                </a:lnTo>
                <a:lnTo>
                  <a:pt x="288" y="263"/>
                </a:lnTo>
                <a:lnTo>
                  <a:pt x="282" y="276"/>
                </a:lnTo>
                <a:lnTo>
                  <a:pt x="273" y="289"/>
                </a:lnTo>
                <a:lnTo>
                  <a:pt x="265" y="307"/>
                </a:lnTo>
                <a:lnTo>
                  <a:pt x="255" y="324"/>
                </a:lnTo>
                <a:lnTo>
                  <a:pt x="246" y="343"/>
                </a:lnTo>
                <a:lnTo>
                  <a:pt x="234" y="364"/>
                </a:lnTo>
                <a:lnTo>
                  <a:pt x="223" y="387"/>
                </a:lnTo>
                <a:lnTo>
                  <a:pt x="211" y="410"/>
                </a:lnTo>
                <a:lnTo>
                  <a:pt x="198" y="435"/>
                </a:lnTo>
                <a:lnTo>
                  <a:pt x="184" y="462"/>
                </a:lnTo>
                <a:lnTo>
                  <a:pt x="171" y="491"/>
                </a:lnTo>
                <a:lnTo>
                  <a:pt x="156" y="520"/>
                </a:lnTo>
                <a:lnTo>
                  <a:pt x="148" y="535"/>
                </a:lnTo>
                <a:lnTo>
                  <a:pt x="140" y="550"/>
                </a:lnTo>
                <a:lnTo>
                  <a:pt x="133" y="564"/>
                </a:lnTo>
                <a:lnTo>
                  <a:pt x="127" y="577"/>
                </a:lnTo>
                <a:lnTo>
                  <a:pt x="119" y="591"/>
                </a:lnTo>
                <a:lnTo>
                  <a:pt x="113" y="602"/>
                </a:lnTo>
                <a:lnTo>
                  <a:pt x="106" y="614"/>
                </a:lnTo>
                <a:lnTo>
                  <a:pt x="100" y="625"/>
                </a:lnTo>
                <a:lnTo>
                  <a:pt x="94" y="637"/>
                </a:lnTo>
                <a:lnTo>
                  <a:pt x="88" y="646"/>
                </a:lnTo>
                <a:lnTo>
                  <a:pt x="83" y="658"/>
                </a:lnTo>
                <a:lnTo>
                  <a:pt x="77" y="666"/>
                </a:lnTo>
                <a:lnTo>
                  <a:pt x="71" y="675"/>
                </a:lnTo>
                <a:lnTo>
                  <a:pt x="67" y="685"/>
                </a:lnTo>
                <a:lnTo>
                  <a:pt x="61" y="692"/>
                </a:lnTo>
                <a:lnTo>
                  <a:pt x="58" y="700"/>
                </a:lnTo>
                <a:lnTo>
                  <a:pt x="48" y="714"/>
                </a:lnTo>
                <a:lnTo>
                  <a:pt x="40" y="725"/>
                </a:lnTo>
                <a:lnTo>
                  <a:pt x="33" y="735"/>
                </a:lnTo>
                <a:lnTo>
                  <a:pt x="27" y="742"/>
                </a:lnTo>
                <a:lnTo>
                  <a:pt x="23" y="748"/>
                </a:lnTo>
                <a:lnTo>
                  <a:pt x="17" y="754"/>
                </a:lnTo>
                <a:lnTo>
                  <a:pt x="13" y="756"/>
                </a:lnTo>
                <a:lnTo>
                  <a:pt x="12" y="756"/>
                </a:lnTo>
                <a:lnTo>
                  <a:pt x="8" y="756"/>
                </a:lnTo>
                <a:lnTo>
                  <a:pt x="4" y="754"/>
                </a:lnTo>
                <a:lnTo>
                  <a:pt x="2" y="748"/>
                </a:lnTo>
                <a:lnTo>
                  <a:pt x="0" y="742"/>
                </a:lnTo>
                <a:lnTo>
                  <a:pt x="0" y="735"/>
                </a:lnTo>
                <a:lnTo>
                  <a:pt x="0" y="725"/>
                </a:lnTo>
                <a:lnTo>
                  <a:pt x="0" y="714"/>
                </a:lnTo>
                <a:lnTo>
                  <a:pt x="2" y="700"/>
                </a:lnTo>
                <a:lnTo>
                  <a:pt x="4" y="687"/>
                </a:lnTo>
                <a:lnTo>
                  <a:pt x="6" y="669"/>
                </a:lnTo>
                <a:lnTo>
                  <a:pt x="10" y="650"/>
                </a:lnTo>
                <a:lnTo>
                  <a:pt x="13" y="631"/>
                </a:lnTo>
                <a:lnTo>
                  <a:pt x="17" y="610"/>
                </a:lnTo>
                <a:lnTo>
                  <a:pt x="23" y="585"/>
                </a:lnTo>
                <a:lnTo>
                  <a:pt x="29" y="560"/>
                </a:lnTo>
                <a:lnTo>
                  <a:pt x="37" y="5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91"/>
          <p:cNvSpPr/>
          <p:nvPr/>
        </p:nvSpPr>
        <p:spPr>
          <a:xfrm>
            <a:off x="5979960" y="3522600"/>
            <a:ext cx="270000" cy="459000"/>
          </a:xfrm>
          <a:custGeom>
            <a:avLst/>
            <a:gdLst/>
            <a:ahLst/>
            <a:rect l="l" t="t" r="r" b="b"/>
            <a:pathLst>
              <a:path w="340" h="577">
                <a:moveTo>
                  <a:pt x="219" y="17"/>
                </a:moveTo>
                <a:lnTo>
                  <a:pt x="227" y="46"/>
                </a:lnTo>
                <a:lnTo>
                  <a:pt x="235" y="74"/>
                </a:lnTo>
                <a:lnTo>
                  <a:pt x="242" y="101"/>
                </a:lnTo>
                <a:lnTo>
                  <a:pt x="248" y="128"/>
                </a:lnTo>
                <a:lnTo>
                  <a:pt x="256" y="153"/>
                </a:lnTo>
                <a:lnTo>
                  <a:pt x="261" y="176"/>
                </a:lnTo>
                <a:lnTo>
                  <a:pt x="267" y="201"/>
                </a:lnTo>
                <a:lnTo>
                  <a:pt x="273" y="222"/>
                </a:lnTo>
                <a:lnTo>
                  <a:pt x="279" y="245"/>
                </a:lnTo>
                <a:lnTo>
                  <a:pt x="284" y="266"/>
                </a:lnTo>
                <a:lnTo>
                  <a:pt x="288" y="286"/>
                </a:lnTo>
                <a:lnTo>
                  <a:pt x="294" y="305"/>
                </a:lnTo>
                <a:lnTo>
                  <a:pt x="298" y="324"/>
                </a:lnTo>
                <a:lnTo>
                  <a:pt x="302" y="341"/>
                </a:lnTo>
                <a:lnTo>
                  <a:pt x="307" y="359"/>
                </a:lnTo>
                <a:lnTo>
                  <a:pt x="311" y="376"/>
                </a:lnTo>
                <a:lnTo>
                  <a:pt x="313" y="391"/>
                </a:lnTo>
                <a:lnTo>
                  <a:pt x="317" y="405"/>
                </a:lnTo>
                <a:lnTo>
                  <a:pt x="321" y="418"/>
                </a:lnTo>
                <a:lnTo>
                  <a:pt x="323" y="431"/>
                </a:lnTo>
                <a:lnTo>
                  <a:pt x="327" y="443"/>
                </a:lnTo>
                <a:lnTo>
                  <a:pt x="329" y="454"/>
                </a:lnTo>
                <a:lnTo>
                  <a:pt x="331" y="466"/>
                </a:lnTo>
                <a:lnTo>
                  <a:pt x="332" y="476"/>
                </a:lnTo>
                <a:lnTo>
                  <a:pt x="334" y="485"/>
                </a:lnTo>
                <a:lnTo>
                  <a:pt x="336" y="493"/>
                </a:lnTo>
                <a:lnTo>
                  <a:pt x="336" y="501"/>
                </a:lnTo>
                <a:lnTo>
                  <a:pt x="338" y="506"/>
                </a:lnTo>
                <a:lnTo>
                  <a:pt x="338" y="514"/>
                </a:lnTo>
                <a:lnTo>
                  <a:pt x="338" y="518"/>
                </a:lnTo>
                <a:lnTo>
                  <a:pt x="340" y="524"/>
                </a:lnTo>
                <a:lnTo>
                  <a:pt x="340" y="527"/>
                </a:lnTo>
                <a:lnTo>
                  <a:pt x="340" y="533"/>
                </a:lnTo>
                <a:lnTo>
                  <a:pt x="338" y="539"/>
                </a:lnTo>
                <a:lnTo>
                  <a:pt x="338" y="545"/>
                </a:lnTo>
                <a:lnTo>
                  <a:pt x="338" y="550"/>
                </a:lnTo>
                <a:lnTo>
                  <a:pt x="336" y="554"/>
                </a:lnTo>
                <a:lnTo>
                  <a:pt x="334" y="560"/>
                </a:lnTo>
                <a:lnTo>
                  <a:pt x="332" y="566"/>
                </a:lnTo>
                <a:lnTo>
                  <a:pt x="329" y="572"/>
                </a:lnTo>
                <a:lnTo>
                  <a:pt x="325" y="573"/>
                </a:lnTo>
                <a:lnTo>
                  <a:pt x="319" y="575"/>
                </a:lnTo>
                <a:lnTo>
                  <a:pt x="315" y="577"/>
                </a:lnTo>
                <a:lnTo>
                  <a:pt x="311" y="575"/>
                </a:lnTo>
                <a:lnTo>
                  <a:pt x="306" y="573"/>
                </a:lnTo>
                <a:lnTo>
                  <a:pt x="300" y="570"/>
                </a:lnTo>
                <a:lnTo>
                  <a:pt x="294" y="562"/>
                </a:lnTo>
                <a:lnTo>
                  <a:pt x="288" y="556"/>
                </a:lnTo>
                <a:lnTo>
                  <a:pt x="283" y="547"/>
                </a:lnTo>
                <a:lnTo>
                  <a:pt x="275" y="535"/>
                </a:lnTo>
                <a:lnTo>
                  <a:pt x="269" y="522"/>
                </a:lnTo>
                <a:lnTo>
                  <a:pt x="261" y="508"/>
                </a:lnTo>
                <a:lnTo>
                  <a:pt x="254" y="493"/>
                </a:lnTo>
                <a:lnTo>
                  <a:pt x="244" y="476"/>
                </a:lnTo>
                <a:lnTo>
                  <a:pt x="236" y="456"/>
                </a:lnTo>
                <a:lnTo>
                  <a:pt x="227" y="435"/>
                </a:lnTo>
                <a:lnTo>
                  <a:pt x="217" y="414"/>
                </a:lnTo>
                <a:lnTo>
                  <a:pt x="206" y="391"/>
                </a:lnTo>
                <a:lnTo>
                  <a:pt x="196" y="366"/>
                </a:lnTo>
                <a:lnTo>
                  <a:pt x="185" y="341"/>
                </a:lnTo>
                <a:lnTo>
                  <a:pt x="173" y="316"/>
                </a:lnTo>
                <a:lnTo>
                  <a:pt x="163" y="295"/>
                </a:lnTo>
                <a:lnTo>
                  <a:pt x="152" y="274"/>
                </a:lnTo>
                <a:lnTo>
                  <a:pt x="142" y="255"/>
                </a:lnTo>
                <a:lnTo>
                  <a:pt x="133" y="238"/>
                </a:lnTo>
                <a:lnTo>
                  <a:pt x="123" y="220"/>
                </a:lnTo>
                <a:lnTo>
                  <a:pt x="114" y="205"/>
                </a:lnTo>
                <a:lnTo>
                  <a:pt x="106" y="190"/>
                </a:lnTo>
                <a:lnTo>
                  <a:pt x="96" y="176"/>
                </a:lnTo>
                <a:lnTo>
                  <a:pt x="89" y="165"/>
                </a:lnTo>
                <a:lnTo>
                  <a:pt x="81" y="153"/>
                </a:lnTo>
                <a:lnTo>
                  <a:pt x="73" y="142"/>
                </a:lnTo>
                <a:lnTo>
                  <a:pt x="66" y="132"/>
                </a:lnTo>
                <a:lnTo>
                  <a:pt x="58" y="124"/>
                </a:lnTo>
                <a:lnTo>
                  <a:pt x="52" y="117"/>
                </a:lnTo>
                <a:lnTo>
                  <a:pt x="39" y="107"/>
                </a:lnTo>
                <a:lnTo>
                  <a:pt x="27" y="98"/>
                </a:lnTo>
                <a:lnTo>
                  <a:pt x="21" y="94"/>
                </a:lnTo>
                <a:lnTo>
                  <a:pt x="18" y="88"/>
                </a:lnTo>
                <a:lnTo>
                  <a:pt x="14" y="84"/>
                </a:lnTo>
                <a:lnTo>
                  <a:pt x="10" y="78"/>
                </a:lnTo>
                <a:lnTo>
                  <a:pt x="6" y="73"/>
                </a:lnTo>
                <a:lnTo>
                  <a:pt x="4" y="67"/>
                </a:lnTo>
                <a:lnTo>
                  <a:pt x="2" y="61"/>
                </a:lnTo>
                <a:lnTo>
                  <a:pt x="0" y="55"/>
                </a:lnTo>
                <a:lnTo>
                  <a:pt x="0" y="50"/>
                </a:lnTo>
                <a:lnTo>
                  <a:pt x="0" y="44"/>
                </a:lnTo>
                <a:lnTo>
                  <a:pt x="2" y="36"/>
                </a:lnTo>
                <a:lnTo>
                  <a:pt x="4" y="30"/>
                </a:lnTo>
                <a:lnTo>
                  <a:pt x="6" y="23"/>
                </a:lnTo>
                <a:lnTo>
                  <a:pt x="10" y="19"/>
                </a:lnTo>
                <a:lnTo>
                  <a:pt x="16" y="13"/>
                </a:lnTo>
                <a:lnTo>
                  <a:pt x="23" y="9"/>
                </a:lnTo>
                <a:lnTo>
                  <a:pt x="33" y="5"/>
                </a:lnTo>
                <a:lnTo>
                  <a:pt x="43" y="3"/>
                </a:lnTo>
                <a:lnTo>
                  <a:pt x="54" y="2"/>
                </a:lnTo>
                <a:lnTo>
                  <a:pt x="66" y="0"/>
                </a:lnTo>
                <a:lnTo>
                  <a:pt x="81" y="0"/>
                </a:lnTo>
                <a:lnTo>
                  <a:pt x="96" y="2"/>
                </a:lnTo>
                <a:lnTo>
                  <a:pt x="114" y="2"/>
                </a:lnTo>
                <a:lnTo>
                  <a:pt x="131" y="3"/>
                </a:lnTo>
                <a:lnTo>
                  <a:pt x="152" y="5"/>
                </a:lnTo>
                <a:lnTo>
                  <a:pt x="173" y="9"/>
                </a:lnTo>
                <a:lnTo>
                  <a:pt x="196" y="13"/>
                </a:lnTo>
                <a:lnTo>
                  <a:pt x="219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92"/>
          <p:cNvSpPr/>
          <p:nvPr/>
        </p:nvSpPr>
        <p:spPr>
          <a:xfrm>
            <a:off x="6076800" y="3348000"/>
            <a:ext cx="1390680" cy="566640"/>
          </a:xfrm>
          <a:custGeom>
            <a:avLst/>
            <a:gdLst/>
            <a:ahLst/>
            <a:rect l="l" t="t" r="r" b="b"/>
            <a:pathLst>
              <a:path w="1753" h="714">
                <a:moveTo>
                  <a:pt x="1632" y="88"/>
                </a:moveTo>
                <a:lnTo>
                  <a:pt x="1647" y="98"/>
                </a:lnTo>
                <a:lnTo>
                  <a:pt x="1663" y="105"/>
                </a:lnTo>
                <a:lnTo>
                  <a:pt x="1674" y="115"/>
                </a:lnTo>
                <a:lnTo>
                  <a:pt x="1688" y="123"/>
                </a:lnTo>
                <a:lnTo>
                  <a:pt x="1697" y="130"/>
                </a:lnTo>
                <a:lnTo>
                  <a:pt x="1707" y="138"/>
                </a:lnTo>
                <a:lnTo>
                  <a:pt x="1716" y="146"/>
                </a:lnTo>
                <a:lnTo>
                  <a:pt x="1724" y="151"/>
                </a:lnTo>
                <a:lnTo>
                  <a:pt x="1732" y="157"/>
                </a:lnTo>
                <a:lnTo>
                  <a:pt x="1738" y="163"/>
                </a:lnTo>
                <a:lnTo>
                  <a:pt x="1741" y="169"/>
                </a:lnTo>
                <a:lnTo>
                  <a:pt x="1745" y="173"/>
                </a:lnTo>
                <a:lnTo>
                  <a:pt x="1749" y="178"/>
                </a:lnTo>
                <a:lnTo>
                  <a:pt x="1751" y="182"/>
                </a:lnTo>
                <a:lnTo>
                  <a:pt x="1753" y="184"/>
                </a:lnTo>
                <a:lnTo>
                  <a:pt x="1753" y="188"/>
                </a:lnTo>
                <a:lnTo>
                  <a:pt x="1753" y="190"/>
                </a:lnTo>
                <a:lnTo>
                  <a:pt x="1751" y="192"/>
                </a:lnTo>
                <a:lnTo>
                  <a:pt x="1751" y="196"/>
                </a:lnTo>
                <a:lnTo>
                  <a:pt x="1749" y="198"/>
                </a:lnTo>
                <a:lnTo>
                  <a:pt x="1745" y="201"/>
                </a:lnTo>
                <a:lnTo>
                  <a:pt x="1743" y="205"/>
                </a:lnTo>
                <a:lnTo>
                  <a:pt x="1736" y="213"/>
                </a:lnTo>
                <a:lnTo>
                  <a:pt x="1728" y="222"/>
                </a:lnTo>
                <a:lnTo>
                  <a:pt x="1716" y="230"/>
                </a:lnTo>
                <a:lnTo>
                  <a:pt x="1705" y="240"/>
                </a:lnTo>
                <a:lnTo>
                  <a:pt x="1693" y="249"/>
                </a:lnTo>
                <a:lnTo>
                  <a:pt x="1686" y="255"/>
                </a:lnTo>
                <a:lnTo>
                  <a:pt x="1678" y="261"/>
                </a:lnTo>
                <a:lnTo>
                  <a:pt x="1670" y="269"/>
                </a:lnTo>
                <a:lnTo>
                  <a:pt x="1661" y="278"/>
                </a:lnTo>
                <a:lnTo>
                  <a:pt x="1651" y="288"/>
                </a:lnTo>
                <a:lnTo>
                  <a:pt x="1642" y="299"/>
                </a:lnTo>
                <a:lnTo>
                  <a:pt x="1632" y="311"/>
                </a:lnTo>
                <a:lnTo>
                  <a:pt x="1622" y="326"/>
                </a:lnTo>
                <a:lnTo>
                  <a:pt x="1611" y="340"/>
                </a:lnTo>
                <a:lnTo>
                  <a:pt x="1599" y="357"/>
                </a:lnTo>
                <a:lnTo>
                  <a:pt x="1588" y="374"/>
                </a:lnTo>
                <a:lnTo>
                  <a:pt x="1576" y="393"/>
                </a:lnTo>
                <a:lnTo>
                  <a:pt x="1563" y="414"/>
                </a:lnTo>
                <a:lnTo>
                  <a:pt x="1551" y="437"/>
                </a:lnTo>
                <a:lnTo>
                  <a:pt x="1538" y="460"/>
                </a:lnTo>
                <a:lnTo>
                  <a:pt x="1525" y="485"/>
                </a:lnTo>
                <a:lnTo>
                  <a:pt x="1511" y="510"/>
                </a:lnTo>
                <a:lnTo>
                  <a:pt x="1500" y="533"/>
                </a:lnTo>
                <a:lnTo>
                  <a:pt x="1488" y="556"/>
                </a:lnTo>
                <a:lnTo>
                  <a:pt x="1477" y="576"/>
                </a:lnTo>
                <a:lnTo>
                  <a:pt x="1465" y="595"/>
                </a:lnTo>
                <a:lnTo>
                  <a:pt x="1455" y="612"/>
                </a:lnTo>
                <a:lnTo>
                  <a:pt x="1446" y="629"/>
                </a:lnTo>
                <a:lnTo>
                  <a:pt x="1436" y="645"/>
                </a:lnTo>
                <a:lnTo>
                  <a:pt x="1429" y="656"/>
                </a:lnTo>
                <a:lnTo>
                  <a:pt x="1421" y="670"/>
                </a:lnTo>
                <a:lnTo>
                  <a:pt x="1415" y="679"/>
                </a:lnTo>
                <a:lnTo>
                  <a:pt x="1407" y="689"/>
                </a:lnTo>
                <a:lnTo>
                  <a:pt x="1404" y="695"/>
                </a:lnTo>
                <a:lnTo>
                  <a:pt x="1400" y="700"/>
                </a:lnTo>
                <a:lnTo>
                  <a:pt x="1396" y="706"/>
                </a:lnTo>
                <a:lnTo>
                  <a:pt x="1392" y="708"/>
                </a:lnTo>
                <a:lnTo>
                  <a:pt x="1388" y="710"/>
                </a:lnTo>
                <a:lnTo>
                  <a:pt x="1384" y="712"/>
                </a:lnTo>
                <a:lnTo>
                  <a:pt x="1379" y="714"/>
                </a:lnTo>
                <a:lnTo>
                  <a:pt x="1375" y="714"/>
                </a:lnTo>
                <a:lnTo>
                  <a:pt x="1371" y="714"/>
                </a:lnTo>
                <a:lnTo>
                  <a:pt x="1367" y="714"/>
                </a:lnTo>
                <a:lnTo>
                  <a:pt x="1357" y="710"/>
                </a:lnTo>
                <a:lnTo>
                  <a:pt x="1350" y="706"/>
                </a:lnTo>
                <a:lnTo>
                  <a:pt x="1344" y="700"/>
                </a:lnTo>
                <a:lnTo>
                  <a:pt x="1338" y="693"/>
                </a:lnTo>
                <a:lnTo>
                  <a:pt x="1333" y="685"/>
                </a:lnTo>
                <a:lnTo>
                  <a:pt x="1329" y="679"/>
                </a:lnTo>
                <a:lnTo>
                  <a:pt x="1327" y="672"/>
                </a:lnTo>
                <a:lnTo>
                  <a:pt x="1325" y="664"/>
                </a:lnTo>
                <a:lnTo>
                  <a:pt x="1323" y="654"/>
                </a:lnTo>
                <a:lnTo>
                  <a:pt x="1325" y="643"/>
                </a:lnTo>
                <a:lnTo>
                  <a:pt x="1325" y="629"/>
                </a:lnTo>
                <a:lnTo>
                  <a:pt x="1329" y="614"/>
                </a:lnTo>
                <a:lnTo>
                  <a:pt x="1331" y="599"/>
                </a:lnTo>
                <a:lnTo>
                  <a:pt x="1336" y="581"/>
                </a:lnTo>
                <a:lnTo>
                  <a:pt x="1342" y="562"/>
                </a:lnTo>
                <a:lnTo>
                  <a:pt x="1348" y="541"/>
                </a:lnTo>
                <a:lnTo>
                  <a:pt x="1356" y="518"/>
                </a:lnTo>
                <a:lnTo>
                  <a:pt x="1363" y="493"/>
                </a:lnTo>
                <a:lnTo>
                  <a:pt x="1373" y="468"/>
                </a:lnTo>
                <a:lnTo>
                  <a:pt x="1382" y="439"/>
                </a:lnTo>
                <a:lnTo>
                  <a:pt x="1392" y="411"/>
                </a:lnTo>
                <a:lnTo>
                  <a:pt x="1404" y="382"/>
                </a:lnTo>
                <a:lnTo>
                  <a:pt x="1411" y="353"/>
                </a:lnTo>
                <a:lnTo>
                  <a:pt x="1419" y="328"/>
                </a:lnTo>
                <a:lnTo>
                  <a:pt x="1427" y="303"/>
                </a:lnTo>
                <a:lnTo>
                  <a:pt x="1432" y="280"/>
                </a:lnTo>
                <a:lnTo>
                  <a:pt x="1436" y="261"/>
                </a:lnTo>
                <a:lnTo>
                  <a:pt x="1438" y="242"/>
                </a:lnTo>
                <a:lnTo>
                  <a:pt x="1440" y="224"/>
                </a:lnTo>
                <a:lnTo>
                  <a:pt x="1440" y="209"/>
                </a:lnTo>
                <a:lnTo>
                  <a:pt x="1440" y="196"/>
                </a:lnTo>
                <a:lnTo>
                  <a:pt x="1438" y="184"/>
                </a:lnTo>
                <a:lnTo>
                  <a:pt x="1436" y="173"/>
                </a:lnTo>
                <a:lnTo>
                  <a:pt x="1432" y="165"/>
                </a:lnTo>
                <a:lnTo>
                  <a:pt x="1429" y="157"/>
                </a:lnTo>
                <a:lnTo>
                  <a:pt x="1423" y="153"/>
                </a:lnTo>
                <a:lnTo>
                  <a:pt x="1417" y="150"/>
                </a:lnTo>
                <a:lnTo>
                  <a:pt x="1411" y="148"/>
                </a:lnTo>
                <a:lnTo>
                  <a:pt x="1405" y="148"/>
                </a:lnTo>
                <a:lnTo>
                  <a:pt x="1398" y="148"/>
                </a:lnTo>
                <a:lnTo>
                  <a:pt x="1390" y="148"/>
                </a:lnTo>
                <a:lnTo>
                  <a:pt x="1381" y="148"/>
                </a:lnTo>
                <a:lnTo>
                  <a:pt x="1371" y="148"/>
                </a:lnTo>
                <a:lnTo>
                  <a:pt x="1359" y="148"/>
                </a:lnTo>
                <a:lnTo>
                  <a:pt x="1346" y="150"/>
                </a:lnTo>
                <a:lnTo>
                  <a:pt x="1333" y="150"/>
                </a:lnTo>
                <a:lnTo>
                  <a:pt x="1319" y="151"/>
                </a:lnTo>
                <a:lnTo>
                  <a:pt x="1302" y="153"/>
                </a:lnTo>
                <a:lnTo>
                  <a:pt x="1286" y="155"/>
                </a:lnTo>
                <a:lnTo>
                  <a:pt x="1267" y="157"/>
                </a:lnTo>
                <a:lnTo>
                  <a:pt x="1250" y="159"/>
                </a:lnTo>
                <a:lnTo>
                  <a:pt x="1229" y="161"/>
                </a:lnTo>
                <a:lnTo>
                  <a:pt x="1208" y="165"/>
                </a:lnTo>
                <a:lnTo>
                  <a:pt x="1187" y="167"/>
                </a:lnTo>
                <a:lnTo>
                  <a:pt x="1162" y="171"/>
                </a:lnTo>
                <a:lnTo>
                  <a:pt x="1139" y="175"/>
                </a:lnTo>
                <a:lnTo>
                  <a:pt x="1112" y="178"/>
                </a:lnTo>
                <a:lnTo>
                  <a:pt x="1087" y="182"/>
                </a:lnTo>
                <a:lnTo>
                  <a:pt x="1058" y="186"/>
                </a:lnTo>
                <a:lnTo>
                  <a:pt x="1029" y="190"/>
                </a:lnTo>
                <a:lnTo>
                  <a:pt x="1000" y="194"/>
                </a:lnTo>
                <a:lnTo>
                  <a:pt x="968" y="199"/>
                </a:lnTo>
                <a:lnTo>
                  <a:pt x="937" y="203"/>
                </a:lnTo>
                <a:lnTo>
                  <a:pt x="902" y="209"/>
                </a:lnTo>
                <a:lnTo>
                  <a:pt x="870" y="215"/>
                </a:lnTo>
                <a:lnTo>
                  <a:pt x="833" y="219"/>
                </a:lnTo>
                <a:lnTo>
                  <a:pt x="797" y="224"/>
                </a:lnTo>
                <a:lnTo>
                  <a:pt x="759" y="230"/>
                </a:lnTo>
                <a:lnTo>
                  <a:pt x="720" y="236"/>
                </a:lnTo>
                <a:lnTo>
                  <a:pt x="682" y="242"/>
                </a:lnTo>
                <a:lnTo>
                  <a:pt x="643" y="247"/>
                </a:lnTo>
                <a:lnTo>
                  <a:pt x="607" y="253"/>
                </a:lnTo>
                <a:lnTo>
                  <a:pt x="572" y="259"/>
                </a:lnTo>
                <a:lnTo>
                  <a:pt x="538" y="265"/>
                </a:lnTo>
                <a:lnTo>
                  <a:pt x="503" y="269"/>
                </a:lnTo>
                <a:lnTo>
                  <a:pt x="471" y="274"/>
                </a:lnTo>
                <a:lnTo>
                  <a:pt x="440" y="278"/>
                </a:lnTo>
                <a:lnTo>
                  <a:pt x="409" y="284"/>
                </a:lnTo>
                <a:lnTo>
                  <a:pt x="380" y="288"/>
                </a:lnTo>
                <a:lnTo>
                  <a:pt x="352" y="292"/>
                </a:lnTo>
                <a:lnTo>
                  <a:pt x="325" y="295"/>
                </a:lnTo>
                <a:lnTo>
                  <a:pt x="298" y="299"/>
                </a:lnTo>
                <a:lnTo>
                  <a:pt x="273" y="303"/>
                </a:lnTo>
                <a:lnTo>
                  <a:pt x="248" y="307"/>
                </a:lnTo>
                <a:lnTo>
                  <a:pt x="225" y="311"/>
                </a:lnTo>
                <a:lnTo>
                  <a:pt x="204" y="313"/>
                </a:lnTo>
                <a:lnTo>
                  <a:pt x="183" y="317"/>
                </a:lnTo>
                <a:lnTo>
                  <a:pt x="163" y="318"/>
                </a:lnTo>
                <a:lnTo>
                  <a:pt x="144" y="320"/>
                </a:lnTo>
                <a:lnTo>
                  <a:pt x="127" y="324"/>
                </a:lnTo>
                <a:lnTo>
                  <a:pt x="110" y="326"/>
                </a:lnTo>
                <a:lnTo>
                  <a:pt x="94" y="328"/>
                </a:lnTo>
                <a:lnTo>
                  <a:pt x="79" y="330"/>
                </a:lnTo>
                <a:lnTo>
                  <a:pt x="65" y="332"/>
                </a:lnTo>
                <a:lnTo>
                  <a:pt x="54" y="332"/>
                </a:lnTo>
                <a:lnTo>
                  <a:pt x="42" y="334"/>
                </a:lnTo>
                <a:lnTo>
                  <a:pt x="31" y="334"/>
                </a:lnTo>
                <a:lnTo>
                  <a:pt x="21" y="336"/>
                </a:lnTo>
                <a:lnTo>
                  <a:pt x="14" y="336"/>
                </a:lnTo>
                <a:lnTo>
                  <a:pt x="6" y="336"/>
                </a:lnTo>
                <a:lnTo>
                  <a:pt x="0" y="336"/>
                </a:lnTo>
                <a:lnTo>
                  <a:pt x="0" y="286"/>
                </a:lnTo>
                <a:lnTo>
                  <a:pt x="0" y="236"/>
                </a:lnTo>
                <a:lnTo>
                  <a:pt x="17" y="236"/>
                </a:lnTo>
                <a:lnTo>
                  <a:pt x="35" y="236"/>
                </a:lnTo>
                <a:lnTo>
                  <a:pt x="56" y="236"/>
                </a:lnTo>
                <a:lnTo>
                  <a:pt x="77" y="234"/>
                </a:lnTo>
                <a:lnTo>
                  <a:pt x="100" y="232"/>
                </a:lnTo>
                <a:lnTo>
                  <a:pt x="125" y="230"/>
                </a:lnTo>
                <a:lnTo>
                  <a:pt x="152" y="228"/>
                </a:lnTo>
                <a:lnTo>
                  <a:pt x="179" y="226"/>
                </a:lnTo>
                <a:lnTo>
                  <a:pt x="208" y="222"/>
                </a:lnTo>
                <a:lnTo>
                  <a:pt x="240" y="219"/>
                </a:lnTo>
                <a:lnTo>
                  <a:pt x="273" y="215"/>
                </a:lnTo>
                <a:lnTo>
                  <a:pt x="305" y="211"/>
                </a:lnTo>
                <a:lnTo>
                  <a:pt x="342" y="205"/>
                </a:lnTo>
                <a:lnTo>
                  <a:pt x="378" y="199"/>
                </a:lnTo>
                <a:lnTo>
                  <a:pt x="417" y="194"/>
                </a:lnTo>
                <a:lnTo>
                  <a:pt x="457" y="188"/>
                </a:lnTo>
                <a:lnTo>
                  <a:pt x="534" y="173"/>
                </a:lnTo>
                <a:lnTo>
                  <a:pt x="609" y="161"/>
                </a:lnTo>
                <a:lnTo>
                  <a:pt x="686" y="150"/>
                </a:lnTo>
                <a:lnTo>
                  <a:pt x="762" y="138"/>
                </a:lnTo>
                <a:lnTo>
                  <a:pt x="839" y="127"/>
                </a:lnTo>
                <a:lnTo>
                  <a:pt x="916" y="113"/>
                </a:lnTo>
                <a:lnTo>
                  <a:pt x="993" y="102"/>
                </a:lnTo>
                <a:lnTo>
                  <a:pt x="1068" y="88"/>
                </a:lnTo>
                <a:lnTo>
                  <a:pt x="1087" y="84"/>
                </a:lnTo>
                <a:lnTo>
                  <a:pt x="1106" y="82"/>
                </a:lnTo>
                <a:lnTo>
                  <a:pt x="1123" y="80"/>
                </a:lnTo>
                <a:lnTo>
                  <a:pt x="1141" y="79"/>
                </a:lnTo>
                <a:lnTo>
                  <a:pt x="1158" y="77"/>
                </a:lnTo>
                <a:lnTo>
                  <a:pt x="1173" y="73"/>
                </a:lnTo>
                <a:lnTo>
                  <a:pt x="1189" y="71"/>
                </a:lnTo>
                <a:lnTo>
                  <a:pt x="1204" y="69"/>
                </a:lnTo>
                <a:lnTo>
                  <a:pt x="1217" y="67"/>
                </a:lnTo>
                <a:lnTo>
                  <a:pt x="1233" y="65"/>
                </a:lnTo>
                <a:lnTo>
                  <a:pt x="1246" y="63"/>
                </a:lnTo>
                <a:lnTo>
                  <a:pt x="1258" y="59"/>
                </a:lnTo>
                <a:lnTo>
                  <a:pt x="1271" y="57"/>
                </a:lnTo>
                <a:lnTo>
                  <a:pt x="1283" y="56"/>
                </a:lnTo>
                <a:lnTo>
                  <a:pt x="1294" y="54"/>
                </a:lnTo>
                <a:lnTo>
                  <a:pt x="1304" y="52"/>
                </a:lnTo>
                <a:lnTo>
                  <a:pt x="1313" y="50"/>
                </a:lnTo>
                <a:lnTo>
                  <a:pt x="1323" y="48"/>
                </a:lnTo>
                <a:lnTo>
                  <a:pt x="1333" y="46"/>
                </a:lnTo>
                <a:lnTo>
                  <a:pt x="1342" y="44"/>
                </a:lnTo>
                <a:lnTo>
                  <a:pt x="1350" y="42"/>
                </a:lnTo>
                <a:lnTo>
                  <a:pt x="1357" y="40"/>
                </a:lnTo>
                <a:lnTo>
                  <a:pt x="1363" y="38"/>
                </a:lnTo>
                <a:lnTo>
                  <a:pt x="1371" y="36"/>
                </a:lnTo>
                <a:lnTo>
                  <a:pt x="1377" y="36"/>
                </a:lnTo>
                <a:lnTo>
                  <a:pt x="1382" y="34"/>
                </a:lnTo>
                <a:lnTo>
                  <a:pt x="1386" y="32"/>
                </a:lnTo>
                <a:lnTo>
                  <a:pt x="1392" y="31"/>
                </a:lnTo>
                <a:lnTo>
                  <a:pt x="1396" y="29"/>
                </a:lnTo>
                <a:lnTo>
                  <a:pt x="1400" y="29"/>
                </a:lnTo>
                <a:lnTo>
                  <a:pt x="1402" y="27"/>
                </a:lnTo>
                <a:lnTo>
                  <a:pt x="1405" y="25"/>
                </a:lnTo>
                <a:lnTo>
                  <a:pt x="1423" y="17"/>
                </a:lnTo>
                <a:lnTo>
                  <a:pt x="1432" y="11"/>
                </a:lnTo>
                <a:lnTo>
                  <a:pt x="1440" y="8"/>
                </a:lnTo>
                <a:lnTo>
                  <a:pt x="1450" y="6"/>
                </a:lnTo>
                <a:lnTo>
                  <a:pt x="1459" y="2"/>
                </a:lnTo>
                <a:lnTo>
                  <a:pt x="1467" y="2"/>
                </a:lnTo>
                <a:lnTo>
                  <a:pt x="1477" y="0"/>
                </a:lnTo>
                <a:lnTo>
                  <a:pt x="1482" y="2"/>
                </a:lnTo>
                <a:lnTo>
                  <a:pt x="1486" y="2"/>
                </a:lnTo>
                <a:lnTo>
                  <a:pt x="1494" y="4"/>
                </a:lnTo>
                <a:lnTo>
                  <a:pt x="1500" y="6"/>
                </a:lnTo>
                <a:lnTo>
                  <a:pt x="1507" y="8"/>
                </a:lnTo>
                <a:lnTo>
                  <a:pt x="1515" y="11"/>
                </a:lnTo>
                <a:lnTo>
                  <a:pt x="1523" y="15"/>
                </a:lnTo>
                <a:lnTo>
                  <a:pt x="1532" y="21"/>
                </a:lnTo>
                <a:lnTo>
                  <a:pt x="1542" y="27"/>
                </a:lnTo>
                <a:lnTo>
                  <a:pt x="1553" y="32"/>
                </a:lnTo>
                <a:lnTo>
                  <a:pt x="1565" y="40"/>
                </a:lnTo>
                <a:lnTo>
                  <a:pt x="1576" y="48"/>
                </a:lnTo>
                <a:lnTo>
                  <a:pt x="1590" y="56"/>
                </a:lnTo>
                <a:lnTo>
                  <a:pt x="1603" y="65"/>
                </a:lnTo>
                <a:lnTo>
                  <a:pt x="1617" y="77"/>
                </a:lnTo>
                <a:lnTo>
                  <a:pt x="1632" y="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93"/>
          <p:cNvSpPr/>
          <p:nvPr/>
        </p:nvSpPr>
        <p:spPr>
          <a:xfrm>
            <a:off x="6429240" y="3506760"/>
            <a:ext cx="115920" cy="345960"/>
          </a:xfrm>
          <a:custGeom>
            <a:avLst/>
            <a:gdLst/>
            <a:ahLst/>
            <a:rect l="l" t="t" r="r" b="b"/>
            <a:pathLst>
              <a:path w="146" h="436">
                <a:moveTo>
                  <a:pt x="61" y="436"/>
                </a:moveTo>
                <a:lnTo>
                  <a:pt x="51" y="388"/>
                </a:lnTo>
                <a:lnTo>
                  <a:pt x="42" y="340"/>
                </a:lnTo>
                <a:lnTo>
                  <a:pt x="34" y="290"/>
                </a:lnTo>
                <a:lnTo>
                  <a:pt x="27" y="240"/>
                </a:lnTo>
                <a:lnTo>
                  <a:pt x="19" y="190"/>
                </a:lnTo>
                <a:lnTo>
                  <a:pt x="11" y="141"/>
                </a:lnTo>
                <a:lnTo>
                  <a:pt x="5" y="89"/>
                </a:lnTo>
                <a:lnTo>
                  <a:pt x="0" y="37"/>
                </a:lnTo>
                <a:lnTo>
                  <a:pt x="53" y="20"/>
                </a:lnTo>
                <a:lnTo>
                  <a:pt x="109" y="0"/>
                </a:lnTo>
                <a:lnTo>
                  <a:pt x="113" y="31"/>
                </a:lnTo>
                <a:lnTo>
                  <a:pt x="117" y="60"/>
                </a:lnTo>
                <a:lnTo>
                  <a:pt x="121" y="89"/>
                </a:lnTo>
                <a:lnTo>
                  <a:pt x="124" y="118"/>
                </a:lnTo>
                <a:lnTo>
                  <a:pt x="130" y="173"/>
                </a:lnTo>
                <a:lnTo>
                  <a:pt x="136" y="227"/>
                </a:lnTo>
                <a:lnTo>
                  <a:pt x="140" y="281"/>
                </a:lnTo>
                <a:lnTo>
                  <a:pt x="142" y="332"/>
                </a:lnTo>
                <a:lnTo>
                  <a:pt x="144" y="384"/>
                </a:lnTo>
                <a:lnTo>
                  <a:pt x="146" y="436"/>
                </a:lnTo>
                <a:lnTo>
                  <a:pt x="103" y="436"/>
                </a:lnTo>
                <a:lnTo>
                  <a:pt x="61" y="4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94"/>
          <p:cNvSpPr/>
          <p:nvPr/>
        </p:nvSpPr>
        <p:spPr>
          <a:xfrm>
            <a:off x="6783480" y="3459240"/>
            <a:ext cx="152280" cy="363600"/>
          </a:xfrm>
          <a:custGeom>
            <a:avLst/>
            <a:gdLst/>
            <a:ahLst/>
            <a:rect l="l" t="t" r="r" b="b"/>
            <a:pathLst>
              <a:path w="192" h="459">
                <a:moveTo>
                  <a:pt x="96" y="459"/>
                </a:moveTo>
                <a:lnTo>
                  <a:pt x="0" y="459"/>
                </a:lnTo>
                <a:lnTo>
                  <a:pt x="4" y="422"/>
                </a:lnTo>
                <a:lnTo>
                  <a:pt x="8" y="386"/>
                </a:lnTo>
                <a:lnTo>
                  <a:pt x="12" y="353"/>
                </a:lnTo>
                <a:lnTo>
                  <a:pt x="15" y="319"/>
                </a:lnTo>
                <a:lnTo>
                  <a:pt x="19" y="286"/>
                </a:lnTo>
                <a:lnTo>
                  <a:pt x="21" y="255"/>
                </a:lnTo>
                <a:lnTo>
                  <a:pt x="23" y="227"/>
                </a:lnTo>
                <a:lnTo>
                  <a:pt x="27" y="196"/>
                </a:lnTo>
                <a:lnTo>
                  <a:pt x="29" y="169"/>
                </a:lnTo>
                <a:lnTo>
                  <a:pt x="31" y="142"/>
                </a:lnTo>
                <a:lnTo>
                  <a:pt x="33" y="115"/>
                </a:lnTo>
                <a:lnTo>
                  <a:pt x="33" y="90"/>
                </a:lnTo>
                <a:lnTo>
                  <a:pt x="35" y="65"/>
                </a:lnTo>
                <a:lnTo>
                  <a:pt x="35" y="42"/>
                </a:lnTo>
                <a:lnTo>
                  <a:pt x="35" y="21"/>
                </a:lnTo>
                <a:lnTo>
                  <a:pt x="35" y="0"/>
                </a:lnTo>
                <a:lnTo>
                  <a:pt x="192" y="0"/>
                </a:lnTo>
                <a:lnTo>
                  <a:pt x="192" y="6"/>
                </a:lnTo>
                <a:lnTo>
                  <a:pt x="190" y="13"/>
                </a:lnTo>
                <a:lnTo>
                  <a:pt x="190" y="23"/>
                </a:lnTo>
                <a:lnTo>
                  <a:pt x="188" y="31"/>
                </a:lnTo>
                <a:lnTo>
                  <a:pt x="186" y="50"/>
                </a:lnTo>
                <a:lnTo>
                  <a:pt x="182" y="71"/>
                </a:lnTo>
                <a:lnTo>
                  <a:pt x="177" y="92"/>
                </a:lnTo>
                <a:lnTo>
                  <a:pt x="171" y="115"/>
                </a:lnTo>
                <a:lnTo>
                  <a:pt x="163" y="138"/>
                </a:lnTo>
                <a:lnTo>
                  <a:pt x="156" y="161"/>
                </a:lnTo>
                <a:lnTo>
                  <a:pt x="152" y="175"/>
                </a:lnTo>
                <a:lnTo>
                  <a:pt x="146" y="190"/>
                </a:lnTo>
                <a:lnTo>
                  <a:pt x="142" y="205"/>
                </a:lnTo>
                <a:lnTo>
                  <a:pt x="138" y="221"/>
                </a:lnTo>
                <a:lnTo>
                  <a:pt x="134" y="238"/>
                </a:lnTo>
                <a:lnTo>
                  <a:pt x="129" y="255"/>
                </a:lnTo>
                <a:lnTo>
                  <a:pt x="125" y="273"/>
                </a:lnTo>
                <a:lnTo>
                  <a:pt x="121" y="292"/>
                </a:lnTo>
                <a:lnTo>
                  <a:pt x="117" y="311"/>
                </a:lnTo>
                <a:lnTo>
                  <a:pt x="113" y="330"/>
                </a:lnTo>
                <a:lnTo>
                  <a:pt x="109" y="349"/>
                </a:lnTo>
                <a:lnTo>
                  <a:pt x="108" y="370"/>
                </a:lnTo>
                <a:lnTo>
                  <a:pt x="104" y="392"/>
                </a:lnTo>
                <a:lnTo>
                  <a:pt x="100" y="413"/>
                </a:lnTo>
                <a:lnTo>
                  <a:pt x="98" y="436"/>
                </a:lnTo>
                <a:lnTo>
                  <a:pt x="96" y="4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95"/>
          <p:cNvSpPr/>
          <p:nvPr/>
        </p:nvSpPr>
        <p:spPr>
          <a:xfrm>
            <a:off x="6353280" y="4344840"/>
            <a:ext cx="295200" cy="279720"/>
          </a:xfrm>
          <a:custGeom>
            <a:avLst/>
            <a:gdLst/>
            <a:ahLst/>
            <a:rect l="l" t="t" r="r" b="b"/>
            <a:pathLst>
              <a:path w="372" h="351">
                <a:moveTo>
                  <a:pt x="301" y="125"/>
                </a:moveTo>
                <a:lnTo>
                  <a:pt x="309" y="134"/>
                </a:lnTo>
                <a:lnTo>
                  <a:pt x="316" y="144"/>
                </a:lnTo>
                <a:lnTo>
                  <a:pt x="324" y="154"/>
                </a:lnTo>
                <a:lnTo>
                  <a:pt x="332" y="161"/>
                </a:lnTo>
                <a:lnTo>
                  <a:pt x="338" y="171"/>
                </a:lnTo>
                <a:lnTo>
                  <a:pt x="343" y="180"/>
                </a:lnTo>
                <a:lnTo>
                  <a:pt x="349" y="188"/>
                </a:lnTo>
                <a:lnTo>
                  <a:pt x="355" y="198"/>
                </a:lnTo>
                <a:lnTo>
                  <a:pt x="359" y="207"/>
                </a:lnTo>
                <a:lnTo>
                  <a:pt x="363" y="215"/>
                </a:lnTo>
                <a:lnTo>
                  <a:pt x="366" y="223"/>
                </a:lnTo>
                <a:lnTo>
                  <a:pt x="368" y="230"/>
                </a:lnTo>
                <a:lnTo>
                  <a:pt x="370" y="240"/>
                </a:lnTo>
                <a:lnTo>
                  <a:pt x="372" y="248"/>
                </a:lnTo>
                <a:lnTo>
                  <a:pt x="372" y="253"/>
                </a:lnTo>
                <a:lnTo>
                  <a:pt x="372" y="261"/>
                </a:lnTo>
                <a:lnTo>
                  <a:pt x="370" y="271"/>
                </a:lnTo>
                <a:lnTo>
                  <a:pt x="368" y="278"/>
                </a:lnTo>
                <a:lnTo>
                  <a:pt x="366" y="286"/>
                </a:lnTo>
                <a:lnTo>
                  <a:pt x="366" y="294"/>
                </a:lnTo>
                <a:lnTo>
                  <a:pt x="364" y="301"/>
                </a:lnTo>
                <a:lnTo>
                  <a:pt x="363" y="307"/>
                </a:lnTo>
                <a:lnTo>
                  <a:pt x="361" y="319"/>
                </a:lnTo>
                <a:lnTo>
                  <a:pt x="359" y="328"/>
                </a:lnTo>
                <a:lnTo>
                  <a:pt x="355" y="336"/>
                </a:lnTo>
                <a:lnTo>
                  <a:pt x="353" y="344"/>
                </a:lnTo>
                <a:lnTo>
                  <a:pt x="349" y="347"/>
                </a:lnTo>
                <a:lnTo>
                  <a:pt x="345" y="349"/>
                </a:lnTo>
                <a:lnTo>
                  <a:pt x="341" y="351"/>
                </a:lnTo>
                <a:lnTo>
                  <a:pt x="338" y="351"/>
                </a:lnTo>
                <a:lnTo>
                  <a:pt x="334" y="351"/>
                </a:lnTo>
                <a:lnTo>
                  <a:pt x="328" y="349"/>
                </a:lnTo>
                <a:lnTo>
                  <a:pt x="320" y="347"/>
                </a:lnTo>
                <a:lnTo>
                  <a:pt x="315" y="344"/>
                </a:lnTo>
                <a:lnTo>
                  <a:pt x="307" y="342"/>
                </a:lnTo>
                <a:lnTo>
                  <a:pt x="297" y="336"/>
                </a:lnTo>
                <a:lnTo>
                  <a:pt x="290" y="332"/>
                </a:lnTo>
                <a:lnTo>
                  <a:pt x="280" y="324"/>
                </a:lnTo>
                <a:lnTo>
                  <a:pt x="270" y="319"/>
                </a:lnTo>
                <a:lnTo>
                  <a:pt x="261" y="311"/>
                </a:lnTo>
                <a:lnTo>
                  <a:pt x="249" y="303"/>
                </a:lnTo>
                <a:lnTo>
                  <a:pt x="240" y="296"/>
                </a:lnTo>
                <a:lnTo>
                  <a:pt x="228" y="286"/>
                </a:lnTo>
                <a:lnTo>
                  <a:pt x="217" y="276"/>
                </a:lnTo>
                <a:lnTo>
                  <a:pt x="205" y="265"/>
                </a:lnTo>
                <a:lnTo>
                  <a:pt x="192" y="253"/>
                </a:lnTo>
                <a:lnTo>
                  <a:pt x="180" y="240"/>
                </a:lnTo>
                <a:lnTo>
                  <a:pt x="167" y="225"/>
                </a:lnTo>
                <a:lnTo>
                  <a:pt x="151" y="209"/>
                </a:lnTo>
                <a:lnTo>
                  <a:pt x="138" y="194"/>
                </a:lnTo>
                <a:lnTo>
                  <a:pt x="123" y="177"/>
                </a:lnTo>
                <a:lnTo>
                  <a:pt x="109" y="157"/>
                </a:lnTo>
                <a:lnTo>
                  <a:pt x="94" y="138"/>
                </a:lnTo>
                <a:lnTo>
                  <a:pt x="78" y="117"/>
                </a:lnTo>
                <a:lnTo>
                  <a:pt x="63" y="96"/>
                </a:lnTo>
                <a:lnTo>
                  <a:pt x="48" y="73"/>
                </a:lnTo>
                <a:lnTo>
                  <a:pt x="32" y="50"/>
                </a:lnTo>
                <a:lnTo>
                  <a:pt x="15" y="25"/>
                </a:lnTo>
                <a:lnTo>
                  <a:pt x="0" y="0"/>
                </a:lnTo>
                <a:lnTo>
                  <a:pt x="28" y="6"/>
                </a:lnTo>
                <a:lnTo>
                  <a:pt x="57" y="10"/>
                </a:lnTo>
                <a:lnTo>
                  <a:pt x="82" y="15"/>
                </a:lnTo>
                <a:lnTo>
                  <a:pt x="107" y="21"/>
                </a:lnTo>
                <a:lnTo>
                  <a:pt x="132" y="29"/>
                </a:lnTo>
                <a:lnTo>
                  <a:pt x="155" y="35"/>
                </a:lnTo>
                <a:lnTo>
                  <a:pt x="176" y="42"/>
                </a:lnTo>
                <a:lnTo>
                  <a:pt x="195" y="48"/>
                </a:lnTo>
                <a:lnTo>
                  <a:pt x="215" y="56"/>
                </a:lnTo>
                <a:lnTo>
                  <a:pt x="232" y="65"/>
                </a:lnTo>
                <a:lnTo>
                  <a:pt x="247" y="73"/>
                </a:lnTo>
                <a:lnTo>
                  <a:pt x="261" y="83"/>
                </a:lnTo>
                <a:lnTo>
                  <a:pt x="272" y="92"/>
                </a:lnTo>
                <a:lnTo>
                  <a:pt x="284" y="102"/>
                </a:lnTo>
                <a:lnTo>
                  <a:pt x="293" y="113"/>
                </a:lnTo>
                <a:lnTo>
                  <a:pt x="301" y="1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96"/>
          <p:cNvSpPr/>
          <p:nvPr/>
        </p:nvSpPr>
        <p:spPr>
          <a:xfrm>
            <a:off x="5791320" y="4029120"/>
            <a:ext cx="1457280" cy="1117440"/>
          </a:xfrm>
          <a:custGeom>
            <a:avLst/>
            <a:gdLst/>
            <a:ahLst/>
            <a:rect l="l" t="t" r="r" b="b"/>
            <a:pathLst>
              <a:path w="1838" h="1406">
                <a:moveTo>
                  <a:pt x="398" y="1330"/>
                </a:moveTo>
                <a:lnTo>
                  <a:pt x="375" y="1335"/>
                </a:lnTo>
                <a:lnTo>
                  <a:pt x="352" y="1341"/>
                </a:lnTo>
                <a:lnTo>
                  <a:pt x="330" y="1345"/>
                </a:lnTo>
                <a:lnTo>
                  <a:pt x="309" y="1351"/>
                </a:lnTo>
                <a:lnTo>
                  <a:pt x="288" y="1357"/>
                </a:lnTo>
                <a:lnTo>
                  <a:pt x="269" y="1360"/>
                </a:lnTo>
                <a:lnTo>
                  <a:pt x="250" y="1364"/>
                </a:lnTo>
                <a:lnTo>
                  <a:pt x="231" y="1370"/>
                </a:lnTo>
                <a:lnTo>
                  <a:pt x="213" y="1374"/>
                </a:lnTo>
                <a:lnTo>
                  <a:pt x="196" y="1378"/>
                </a:lnTo>
                <a:lnTo>
                  <a:pt x="181" y="1380"/>
                </a:lnTo>
                <a:lnTo>
                  <a:pt x="165" y="1383"/>
                </a:lnTo>
                <a:lnTo>
                  <a:pt x="150" y="1387"/>
                </a:lnTo>
                <a:lnTo>
                  <a:pt x="135" y="1389"/>
                </a:lnTo>
                <a:lnTo>
                  <a:pt x="121" y="1393"/>
                </a:lnTo>
                <a:lnTo>
                  <a:pt x="110" y="1395"/>
                </a:lnTo>
                <a:lnTo>
                  <a:pt x="98" y="1397"/>
                </a:lnTo>
                <a:lnTo>
                  <a:pt x="87" y="1399"/>
                </a:lnTo>
                <a:lnTo>
                  <a:pt x="75" y="1401"/>
                </a:lnTo>
                <a:lnTo>
                  <a:pt x="66" y="1403"/>
                </a:lnTo>
                <a:lnTo>
                  <a:pt x="56" y="1403"/>
                </a:lnTo>
                <a:lnTo>
                  <a:pt x="48" y="1405"/>
                </a:lnTo>
                <a:lnTo>
                  <a:pt x="41" y="1405"/>
                </a:lnTo>
                <a:lnTo>
                  <a:pt x="33" y="1406"/>
                </a:lnTo>
                <a:lnTo>
                  <a:pt x="27" y="1406"/>
                </a:lnTo>
                <a:lnTo>
                  <a:pt x="21" y="1406"/>
                </a:lnTo>
                <a:lnTo>
                  <a:pt x="16" y="1406"/>
                </a:lnTo>
                <a:lnTo>
                  <a:pt x="12" y="1406"/>
                </a:lnTo>
                <a:lnTo>
                  <a:pt x="8" y="1406"/>
                </a:lnTo>
                <a:lnTo>
                  <a:pt x="4" y="1406"/>
                </a:lnTo>
                <a:lnTo>
                  <a:pt x="2" y="1405"/>
                </a:lnTo>
                <a:lnTo>
                  <a:pt x="0" y="1401"/>
                </a:lnTo>
                <a:lnTo>
                  <a:pt x="0" y="1399"/>
                </a:lnTo>
                <a:lnTo>
                  <a:pt x="0" y="1395"/>
                </a:lnTo>
                <a:lnTo>
                  <a:pt x="2" y="1393"/>
                </a:lnTo>
                <a:lnTo>
                  <a:pt x="4" y="1389"/>
                </a:lnTo>
                <a:lnTo>
                  <a:pt x="8" y="1385"/>
                </a:lnTo>
                <a:lnTo>
                  <a:pt x="12" y="1382"/>
                </a:lnTo>
                <a:lnTo>
                  <a:pt x="16" y="1378"/>
                </a:lnTo>
                <a:lnTo>
                  <a:pt x="19" y="1374"/>
                </a:lnTo>
                <a:lnTo>
                  <a:pt x="25" y="1370"/>
                </a:lnTo>
                <a:lnTo>
                  <a:pt x="33" y="1366"/>
                </a:lnTo>
                <a:lnTo>
                  <a:pt x="39" y="1360"/>
                </a:lnTo>
                <a:lnTo>
                  <a:pt x="46" y="1357"/>
                </a:lnTo>
                <a:lnTo>
                  <a:pt x="56" y="1351"/>
                </a:lnTo>
                <a:lnTo>
                  <a:pt x="66" y="1345"/>
                </a:lnTo>
                <a:lnTo>
                  <a:pt x="75" y="1341"/>
                </a:lnTo>
                <a:lnTo>
                  <a:pt x="87" y="1335"/>
                </a:lnTo>
                <a:lnTo>
                  <a:pt x="98" y="1330"/>
                </a:lnTo>
                <a:lnTo>
                  <a:pt x="110" y="1324"/>
                </a:lnTo>
                <a:lnTo>
                  <a:pt x="123" y="1316"/>
                </a:lnTo>
                <a:lnTo>
                  <a:pt x="137" y="1310"/>
                </a:lnTo>
                <a:lnTo>
                  <a:pt x="150" y="1305"/>
                </a:lnTo>
                <a:lnTo>
                  <a:pt x="165" y="1297"/>
                </a:lnTo>
                <a:lnTo>
                  <a:pt x="183" y="1291"/>
                </a:lnTo>
                <a:lnTo>
                  <a:pt x="198" y="1284"/>
                </a:lnTo>
                <a:lnTo>
                  <a:pt x="217" y="1276"/>
                </a:lnTo>
                <a:lnTo>
                  <a:pt x="234" y="1268"/>
                </a:lnTo>
                <a:lnTo>
                  <a:pt x="254" y="1261"/>
                </a:lnTo>
                <a:lnTo>
                  <a:pt x="273" y="1253"/>
                </a:lnTo>
                <a:lnTo>
                  <a:pt x="294" y="1245"/>
                </a:lnTo>
                <a:lnTo>
                  <a:pt x="315" y="1238"/>
                </a:lnTo>
                <a:lnTo>
                  <a:pt x="338" y="1230"/>
                </a:lnTo>
                <a:lnTo>
                  <a:pt x="380" y="1213"/>
                </a:lnTo>
                <a:lnTo>
                  <a:pt x="423" y="1195"/>
                </a:lnTo>
                <a:lnTo>
                  <a:pt x="463" y="1178"/>
                </a:lnTo>
                <a:lnTo>
                  <a:pt x="503" y="1159"/>
                </a:lnTo>
                <a:lnTo>
                  <a:pt x="544" y="1142"/>
                </a:lnTo>
                <a:lnTo>
                  <a:pt x="584" y="1122"/>
                </a:lnTo>
                <a:lnTo>
                  <a:pt x="622" y="1101"/>
                </a:lnTo>
                <a:lnTo>
                  <a:pt x="663" y="1082"/>
                </a:lnTo>
                <a:lnTo>
                  <a:pt x="699" y="1061"/>
                </a:lnTo>
                <a:lnTo>
                  <a:pt x="737" y="1040"/>
                </a:lnTo>
                <a:lnTo>
                  <a:pt x="774" y="1019"/>
                </a:lnTo>
                <a:lnTo>
                  <a:pt x="810" y="998"/>
                </a:lnTo>
                <a:lnTo>
                  <a:pt x="847" y="975"/>
                </a:lnTo>
                <a:lnTo>
                  <a:pt x="881" y="954"/>
                </a:lnTo>
                <a:lnTo>
                  <a:pt x="916" y="931"/>
                </a:lnTo>
                <a:lnTo>
                  <a:pt x="951" y="907"/>
                </a:lnTo>
                <a:lnTo>
                  <a:pt x="981" y="884"/>
                </a:lnTo>
                <a:lnTo>
                  <a:pt x="1010" y="863"/>
                </a:lnTo>
                <a:lnTo>
                  <a:pt x="1041" y="840"/>
                </a:lnTo>
                <a:lnTo>
                  <a:pt x="1070" y="815"/>
                </a:lnTo>
                <a:lnTo>
                  <a:pt x="1096" y="790"/>
                </a:lnTo>
                <a:lnTo>
                  <a:pt x="1123" y="765"/>
                </a:lnTo>
                <a:lnTo>
                  <a:pt x="1150" y="741"/>
                </a:lnTo>
                <a:lnTo>
                  <a:pt x="1175" y="714"/>
                </a:lnTo>
                <a:lnTo>
                  <a:pt x="1202" y="687"/>
                </a:lnTo>
                <a:lnTo>
                  <a:pt x="1225" y="660"/>
                </a:lnTo>
                <a:lnTo>
                  <a:pt x="1250" y="631"/>
                </a:lnTo>
                <a:lnTo>
                  <a:pt x="1273" y="602"/>
                </a:lnTo>
                <a:lnTo>
                  <a:pt x="1294" y="574"/>
                </a:lnTo>
                <a:lnTo>
                  <a:pt x="1315" y="545"/>
                </a:lnTo>
                <a:lnTo>
                  <a:pt x="1336" y="514"/>
                </a:lnTo>
                <a:lnTo>
                  <a:pt x="1358" y="485"/>
                </a:lnTo>
                <a:lnTo>
                  <a:pt x="1377" y="455"/>
                </a:lnTo>
                <a:lnTo>
                  <a:pt x="1394" y="426"/>
                </a:lnTo>
                <a:lnTo>
                  <a:pt x="1411" y="399"/>
                </a:lnTo>
                <a:lnTo>
                  <a:pt x="1427" y="374"/>
                </a:lnTo>
                <a:lnTo>
                  <a:pt x="1440" y="351"/>
                </a:lnTo>
                <a:lnTo>
                  <a:pt x="1454" y="330"/>
                </a:lnTo>
                <a:lnTo>
                  <a:pt x="1465" y="309"/>
                </a:lnTo>
                <a:lnTo>
                  <a:pt x="1475" y="290"/>
                </a:lnTo>
                <a:lnTo>
                  <a:pt x="1482" y="272"/>
                </a:lnTo>
                <a:lnTo>
                  <a:pt x="1490" y="257"/>
                </a:lnTo>
                <a:lnTo>
                  <a:pt x="1494" y="243"/>
                </a:lnTo>
                <a:lnTo>
                  <a:pt x="1500" y="230"/>
                </a:lnTo>
                <a:lnTo>
                  <a:pt x="1502" y="220"/>
                </a:lnTo>
                <a:lnTo>
                  <a:pt x="1503" y="211"/>
                </a:lnTo>
                <a:lnTo>
                  <a:pt x="1503" y="205"/>
                </a:lnTo>
                <a:lnTo>
                  <a:pt x="1502" y="199"/>
                </a:lnTo>
                <a:lnTo>
                  <a:pt x="1498" y="194"/>
                </a:lnTo>
                <a:lnTo>
                  <a:pt x="1494" y="190"/>
                </a:lnTo>
                <a:lnTo>
                  <a:pt x="1488" y="188"/>
                </a:lnTo>
                <a:lnTo>
                  <a:pt x="1479" y="184"/>
                </a:lnTo>
                <a:lnTo>
                  <a:pt x="1469" y="182"/>
                </a:lnTo>
                <a:lnTo>
                  <a:pt x="1459" y="180"/>
                </a:lnTo>
                <a:lnTo>
                  <a:pt x="1446" y="180"/>
                </a:lnTo>
                <a:lnTo>
                  <a:pt x="1431" y="180"/>
                </a:lnTo>
                <a:lnTo>
                  <a:pt x="1415" y="180"/>
                </a:lnTo>
                <a:lnTo>
                  <a:pt x="1398" y="180"/>
                </a:lnTo>
                <a:lnTo>
                  <a:pt x="1379" y="182"/>
                </a:lnTo>
                <a:lnTo>
                  <a:pt x="1358" y="184"/>
                </a:lnTo>
                <a:lnTo>
                  <a:pt x="1336" y="188"/>
                </a:lnTo>
                <a:lnTo>
                  <a:pt x="1313" y="190"/>
                </a:lnTo>
                <a:lnTo>
                  <a:pt x="1288" y="194"/>
                </a:lnTo>
                <a:lnTo>
                  <a:pt x="1262" y="199"/>
                </a:lnTo>
                <a:lnTo>
                  <a:pt x="1233" y="203"/>
                </a:lnTo>
                <a:lnTo>
                  <a:pt x="1204" y="207"/>
                </a:lnTo>
                <a:lnTo>
                  <a:pt x="1177" y="211"/>
                </a:lnTo>
                <a:lnTo>
                  <a:pt x="1150" y="215"/>
                </a:lnTo>
                <a:lnTo>
                  <a:pt x="1125" y="219"/>
                </a:lnTo>
                <a:lnTo>
                  <a:pt x="1100" y="222"/>
                </a:lnTo>
                <a:lnTo>
                  <a:pt x="1075" y="224"/>
                </a:lnTo>
                <a:lnTo>
                  <a:pt x="1052" y="226"/>
                </a:lnTo>
                <a:lnTo>
                  <a:pt x="1027" y="228"/>
                </a:lnTo>
                <a:lnTo>
                  <a:pt x="1006" y="230"/>
                </a:lnTo>
                <a:lnTo>
                  <a:pt x="983" y="232"/>
                </a:lnTo>
                <a:lnTo>
                  <a:pt x="960" y="234"/>
                </a:lnTo>
                <a:lnTo>
                  <a:pt x="918" y="236"/>
                </a:lnTo>
                <a:lnTo>
                  <a:pt x="878" y="236"/>
                </a:lnTo>
                <a:lnTo>
                  <a:pt x="878" y="161"/>
                </a:lnTo>
                <a:lnTo>
                  <a:pt x="889" y="161"/>
                </a:lnTo>
                <a:lnTo>
                  <a:pt x="901" y="161"/>
                </a:lnTo>
                <a:lnTo>
                  <a:pt x="914" y="161"/>
                </a:lnTo>
                <a:lnTo>
                  <a:pt x="928" y="159"/>
                </a:lnTo>
                <a:lnTo>
                  <a:pt x="941" y="157"/>
                </a:lnTo>
                <a:lnTo>
                  <a:pt x="954" y="157"/>
                </a:lnTo>
                <a:lnTo>
                  <a:pt x="970" y="155"/>
                </a:lnTo>
                <a:lnTo>
                  <a:pt x="985" y="151"/>
                </a:lnTo>
                <a:lnTo>
                  <a:pt x="1002" y="149"/>
                </a:lnTo>
                <a:lnTo>
                  <a:pt x="1018" y="147"/>
                </a:lnTo>
                <a:lnTo>
                  <a:pt x="1035" y="144"/>
                </a:lnTo>
                <a:lnTo>
                  <a:pt x="1052" y="140"/>
                </a:lnTo>
                <a:lnTo>
                  <a:pt x="1072" y="136"/>
                </a:lnTo>
                <a:lnTo>
                  <a:pt x="1091" y="132"/>
                </a:lnTo>
                <a:lnTo>
                  <a:pt x="1110" y="128"/>
                </a:lnTo>
                <a:lnTo>
                  <a:pt x="1129" y="124"/>
                </a:lnTo>
                <a:lnTo>
                  <a:pt x="1150" y="121"/>
                </a:lnTo>
                <a:lnTo>
                  <a:pt x="1169" y="119"/>
                </a:lnTo>
                <a:lnTo>
                  <a:pt x="1189" y="115"/>
                </a:lnTo>
                <a:lnTo>
                  <a:pt x="1206" y="113"/>
                </a:lnTo>
                <a:lnTo>
                  <a:pt x="1223" y="109"/>
                </a:lnTo>
                <a:lnTo>
                  <a:pt x="1240" y="105"/>
                </a:lnTo>
                <a:lnTo>
                  <a:pt x="1258" y="103"/>
                </a:lnTo>
                <a:lnTo>
                  <a:pt x="1273" y="100"/>
                </a:lnTo>
                <a:lnTo>
                  <a:pt x="1288" y="96"/>
                </a:lnTo>
                <a:lnTo>
                  <a:pt x="1304" y="92"/>
                </a:lnTo>
                <a:lnTo>
                  <a:pt x="1319" y="88"/>
                </a:lnTo>
                <a:lnTo>
                  <a:pt x="1333" y="86"/>
                </a:lnTo>
                <a:lnTo>
                  <a:pt x="1346" y="82"/>
                </a:lnTo>
                <a:lnTo>
                  <a:pt x="1358" y="80"/>
                </a:lnTo>
                <a:lnTo>
                  <a:pt x="1371" y="76"/>
                </a:lnTo>
                <a:lnTo>
                  <a:pt x="1383" y="75"/>
                </a:lnTo>
                <a:lnTo>
                  <a:pt x="1404" y="69"/>
                </a:lnTo>
                <a:lnTo>
                  <a:pt x="1425" y="65"/>
                </a:lnTo>
                <a:lnTo>
                  <a:pt x="1444" y="59"/>
                </a:lnTo>
                <a:lnTo>
                  <a:pt x="1461" y="53"/>
                </a:lnTo>
                <a:lnTo>
                  <a:pt x="1477" y="48"/>
                </a:lnTo>
                <a:lnTo>
                  <a:pt x="1484" y="46"/>
                </a:lnTo>
                <a:lnTo>
                  <a:pt x="1492" y="42"/>
                </a:lnTo>
                <a:lnTo>
                  <a:pt x="1498" y="38"/>
                </a:lnTo>
                <a:lnTo>
                  <a:pt x="1503" y="34"/>
                </a:lnTo>
                <a:lnTo>
                  <a:pt x="1509" y="29"/>
                </a:lnTo>
                <a:lnTo>
                  <a:pt x="1513" y="25"/>
                </a:lnTo>
                <a:lnTo>
                  <a:pt x="1532" y="15"/>
                </a:lnTo>
                <a:lnTo>
                  <a:pt x="1542" y="11"/>
                </a:lnTo>
                <a:lnTo>
                  <a:pt x="1551" y="7"/>
                </a:lnTo>
                <a:lnTo>
                  <a:pt x="1561" y="5"/>
                </a:lnTo>
                <a:lnTo>
                  <a:pt x="1573" y="2"/>
                </a:lnTo>
                <a:lnTo>
                  <a:pt x="1584" y="0"/>
                </a:lnTo>
                <a:lnTo>
                  <a:pt x="1598" y="0"/>
                </a:lnTo>
                <a:lnTo>
                  <a:pt x="1603" y="0"/>
                </a:lnTo>
                <a:lnTo>
                  <a:pt x="1607" y="2"/>
                </a:lnTo>
                <a:lnTo>
                  <a:pt x="1613" y="2"/>
                </a:lnTo>
                <a:lnTo>
                  <a:pt x="1621" y="4"/>
                </a:lnTo>
                <a:lnTo>
                  <a:pt x="1626" y="7"/>
                </a:lnTo>
                <a:lnTo>
                  <a:pt x="1634" y="9"/>
                </a:lnTo>
                <a:lnTo>
                  <a:pt x="1644" y="13"/>
                </a:lnTo>
                <a:lnTo>
                  <a:pt x="1651" y="17"/>
                </a:lnTo>
                <a:lnTo>
                  <a:pt x="1661" y="21"/>
                </a:lnTo>
                <a:lnTo>
                  <a:pt x="1670" y="27"/>
                </a:lnTo>
                <a:lnTo>
                  <a:pt x="1682" y="30"/>
                </a:lnTo>
                <a:lnTo>
                  <a:pt x="1692" y="36"/>
                </a:lnTo>
                <a:lnTo>
                  <a:pt x="1703" y="42"/>
                </a:lnTo>
                <a:lnTo>
                  <a:pt x="1717" y="48"/>
                </a:lnTo>
                <a:lnTo>
                  <a:pt x="1728" y="55"/>
                </a:lnTo>
                <a:lnTo>
                  <a:pt x="1742" y="61"/>
                </a:lnTo>
                <a:lnTo>
                  <a:pt x="1753" y="71"/>
                </a:lnTo>
                <a:lnTo>
                  <a:pt x="1763" y="80"/>
                </a:lnTo>
                <a:lnTo>
                  <a:pt x="1772" y="88"/>
                </a:lnTo>
                <a:lnTo>
                  <a:pt x="1782" y="98"/>
                </a:lnTo>
                <a:lnTo>
                  <a:pt x="1790" y="105"/>
                </a:lnTo>
                <a:lnTo>
                  <a:pt x="1799" y="113"/>
                </a:lnTo>
                <a:lnTo>
                  <a:pt x="1805" y="119"/>
                </a:lnTo>
                <a:lnTo>
                  <a:pt x="1813" y="126"/>
                </a:lnTo>
                <a:lnTo>
                  <a:pt x="1818" y="132"/>
                </a:lnTo>
                <a:lnTo>
                  <a:pt x="1822" y="138"/>
                </a:lnTo>
                <a:lnTo>
                  <a:pt x="1828" y="144"/>
                </a:lnTo>
                <a:lnTo>
                  <a:pt x="1832" y="147"/>
                </a:lnTo>
                <a:lnTo>
                  <a:pt x="1834" y="151"/>
                </a:lnTo>
                <a:lnTo>
                  <a:pt x="1836" y="155"/>
                </a:lnTo>
                <a:lnTo>
                  <a:pt x="1838" y="159"/>
                </a:lnTo>
                <a:lnTo>
                  <a:pt x="1838" y="161"/>
                </a:lnTo>
                <a:lnTo>
                  <a:pt x="1838" y="171"/>
                </a:lnTo>
                <a:lnTo>
                  <a:pt x="1836" y="180"/>
                </a:lnTo>
                <a:lnTo>
                  <a:pt x="1832" y="188"/>
                </a:lnTo>
                <a:lnTo>
                  <a:pt x="1828" y="197"/>
                </a:lnTo>
                <a:lnTo>
                  <a:pt x="1820" y="205"/>
                </a:lnTo>
                <a:lnTo>
                  <a:pt x="1816" y="209"/>
                </a:lnTo>
                <a:lnTo>
                  <a:pt x="1813" y="213"/>
                </a:lnTo>
                <a:lnTo>
                  <a:pt x="1807" y="215"/>
                </a:lnTo>
                <a:lnTo>
                  <a:pt x="1801" y="219"/>
                </a:lnTo>
                <a:lnTo>
                  <a:pt x="1795" y="220"/>
                </a:lnTo>
                <a:lnTo>
                  <a:pt x="1790" y="224"/>
                </a:lnTo>
                <a:lnTo>
                  <a:pt x="1786" y="226"/>
                </a:lnTo>
                <a:lnTo>
                  <a:pt x="1782" y="230"/>
                </a:lnTo>
                <a:lnTo>
                  <a:pt x="1778" y="232"/>
                </a:lnTo>
                <a:lnTo>
                  <a:pt x="1774" y="238"/>
                </a:lnTo>
                <a:lnTo>
                  <a:pt x="1768" y="242"/>
                </a:lnTo>
                <a:lnTo>
                  <a:pt x="1765" y="247"/>
                </a:lnTo>
                <a:lnTo>
                  <a:pt x="1759" y="253"/>
                </a:lnTo>
                <a:lnTo>
                  <a:pt x="1753" y="259"/>
                </a:lnTo>
                <a:lnTo>
                  <a:pt x="1747" y="265"/>
                </a:lnTo>
                <a:lnTo>
                  <a:pt x="1742" y="272"/>
                </a:lnTo>
                <a:lnTo>
                  <a:pt x="1736" y="280"/>
                </a:lnTo>
                <a:lnTo>
                  <a:pt x="1728" y="288"/>
                </a:lnTo>
                <a:lnTo>
                  <a:pt x="1722" y="295"/>
                </a:lnTo>
                <a:lnTo>
                  <a:pt x="1715" y="305"/>
                </a:lnTo>
                <a:lnTo>
                  <a:pt x="1699" y="324"/>
                </a:lnTo>
                <a:lnTo>
                  <a:pt x="1682" y="345"/>
                </a:lnTo>
                <a:lnTo>
                  <a:pt x="1665" y="368"/>
                </a:lnTo>
                <a:lnTo>
                  <a:pt x="1647" y="393"/>
                </a:lnTo>
                <a:lnTo>
                  <a:pt x="1626" y="420"/>
                </a:lnTo>
                <a:lnTo>
                  <a:pt x="1605" y="449"/>
                </a:lnTo>
                <a:lnTo>
                  <a:pt x="1584" y="480"/>
                </a:lnTo>
                <a:lnTo>
                  <a:pt x="1561" y="512"/>
                </a:lnTo>
                <a:lnTo>
                  <a:pt x="1538" y="547"/>
                </a:lnTo>
                <a:lnTo>
                  <a:pt x="1513" y="581"/>
                </a:lnTo>
                <a:lnTo>
                  <a:pt x="1488" y="616"/>
                </a:lnTo>
                <a:lnTo>
                  <a:pt x="1461" y="648"/>
                </a:lnTo>
                <a:lnTo>
                  <a:pt x="1434" y="681"/>
                </a:lnTo>
                <a:lnTo>
                  <a:pt x="1407" y="714"/>
                </a:lnTo>
                <a:lnTo>
                  <a:pt x="1379" y="744"/>
                </a:lnTo>
                <a:lnTo>
                  <a:pt x="1352" y="775"/>
                </a:lnTo>
                <a:lnTo>
                  <a:pt x="1321" y="806"/>
                </a:lnTo>
                <a:lnTo>
                  <a:pt x="1292" y="835"/>
                </a:lnTo>
                <a:lnTo>
                  <a:pt x="1262" y="863"/>
                </a:lnTo>
                <a:lnTo>
                  <a:pt x="1231" y="890"/>
                </a:lnTo>
                <a:lnTo>
                  <a:pt x="1200" y="919"/>
                </a:lnTo>
                <a:lnTo>
                  <a:pt x="1168" y="944"/>
                </a:lnTo>
                <a:lnTo>
                  <a:pt x="1135" y="969"/>
                </a:lnTo>
                <a:lnTo>
                  <a:pt x="1102" y="994"/>
                </a:lnTo>
                <a:lnTo>
                  <a:pt x="1070" y="1019"/>
                </a:lnTo>
                <a:lnTo>
                  <a:pt x="1033" y="1044"/>
                </a:lnTo>
                <a:lnTo>
                  <a:pt x="997" y="1069"/>
                </a:lnTo>
                <a:lnTo>
                  <a:pt x="958" y="1092"/>
                </a:lnTo>
                <a:lnTo>
                  <a:pt x="920" y="1115"/>
                </a:lnTo>
                <a:lnTo>
                  <a:pt x="880" y="1136"/>
                </a:lnTo>
                <a:lnTo>
                  <a:pt x="839" y="1157"/>
                </a:lnTo>
                <a:lnTo>
                  <a:pt x="799" y="1178"/>
                </a:lnTo>
                <a:lnTo>
                  <a:pt x="757" y="1197"/>
                </a:lnTo>
                <a:lnTo>
                  <a:pt x="714" y="1216"/>
                </a:lnTo>
                <a:lnTo>
                  <a:pt x="670" y="1234"/>
                </a:lnTo>
                <a:lnTo>
                  <a:pt x="626" y="1251"/>
                </a:lnTo>
                <a:lnTo>
                  <a:pt x="582" y="1268"/>
                </a:lnTo>
                <a:lnTo>
                  <a:pt x="536" y="1284"/>
                </a:lnTo>
                <a:lnTo>
                  <a:pt x="490" y="1299"/>
                </a:lnTo>
                <a:lnTo>
                  <a:pt x="444" y="1314"/>
                </a:lnTo>
                <a:lnTo>
                  <a:pt x="398" y="13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97"/>
          <p:cNvSpPr/>
          <p:nvPr/>
        </p:nvSpPr>
        <p:spPr>
          <a:xfrm>
            <a:off x="6200640" y="3762360"/>
            <a:ext cx="992160" cy="187200"/>
          </a:xfrm>
          <a:custGeom>
            <a:avLst/>
            <a:gdLst/>
            <a:ahLst/>
            <a:rect l="l" t="t" r="r" b="b"/>
            <a:pathLst>
              <a:path w="1249" h="236">
                <a:moveTo>
                  <a:pt x="493" y="63"/>
                </a:moveTo>
                <a:lnTo>
                  <a:pt x="535" y="56"/>
                </a:lnTo>
                <a:lnTo>
                  <a:pt x="579" y="50"/>
                </a:lnTo>
                <a:lnTo>
                  <a:pt x="624" y="42"/>
                </a:lnTo>
                <a:lnTo>
                  <a:pt x="668" y="36"/>
                </a:lnTo>
                <a:lnTo>
                  <a:pt x="714" y="31"/>
                </a:lnTo>
                <a:lnTo>
                  <a:pt x="760" y="27"/>
                </a:lnTo>
                <a:lnTo>
                  <a:pt x="806" y="21"/>
                </a:lnTo>
                <a:lnTo>
                  <a:pt x="852" y="17"/>
                </a:lnTo>
                <a:lnTo>
                  <a:pt x="900" y="13"/>
                </a:lnTo>
                <a:lnTo>
                  <a:pt x="948" y="9"/>
                </a:lnTo>
                <a:lnTo>
                  <a:pt x="996" y="8"/>
                </a:lnTo>
                <a:lnTo>
                  <a:pt x="1046" y="6"/>
                </a:lnTo>
                <a:lnTo>
                  <a:pt x="1096" y="4"/>
                </a:lnTo>
                <a:lnTo>
                  <a:pt x="1146" y="2"/>
                </a:lnTo>
                <a:lnTo>
                  <a:pt x="1198" y="0"/>
                </a:lnTo>
                <a:lnTo>
                  <a:pt x="1249" y="0"/>
                </a:lnTo>
                <a:lnTo>
                  <a:pt x="1249" y="100"/>
                </a:lnTo>
                <a:lnTo>
                  <a:pt x="1230" y="100"/>
                </a:lnTo>
                <a:lnTo>
                  <a:pt x="1209" y="100"/>
                </a:lnTo>
                <a:lnTo>
                  <a:pt x="1188" y="102"/>
                </a:lnTo>
                <a:lnTo>
                  <a:pt x="1167" y="102"/>
                </a:lnTo>
                <a:lnTo>
                  <a:pt x="1142" y="104"/>
                </a:lnTo>
                <a:lnTo>
                  <a:pt x="1117" y="105"/>
                </a:lnTo>
                <a:lnTo>
                  <a:pt x="1092" y="107"/>
                </a:lnTo>
                <a:lnTo>
                  <a:pt x="1063" y="109"/>
                </a:lnTo>
                <a:lnTo>
                  <a:pt x="1034" y="111"/>
                </a:lnTo>
                <a:lnTo>
                  <a:pt x="1006" y="113"/>
                </a:lnTo>
                <a:lnTo>
                  <a:pt x="973" y="117"/>
                </a:lnTo>
                <a:lnTo>
                  <a:pt x="940" y="119"/>
                </a:lnTo>
                <a:lnTo>
                  <a:pt x="908" y="123"/>
                </a:lnTo>
                <a:lnTo>
                  <a:pt x="873" y="127"/>
                </a:lnTo>
                <a:lnTo>
                  <a:pt x="837" y="130"/>
                </a:lnTo>
                <a:lnTo>
                  <a:pt x="798" y="134"/>
                </a:lnTo>
                <a:lnTo>
                  <a:pt x="760" y="140"/>
                </a:lnTo>
                <a:lnTo>
                  <a:pt x="720" y="144"/>
                </a:lnTo>
                <a:lnTo>
                  <a:pt x="677" y="150"/>
                </a:lnTo>
                <a:lnTo>
                  <a:pt x="635" y="153"/>
                </a:lnTo>
                <a:lnTo>
                  <a:pt x="591" y="159"/>
                </a:lnTo>
                <a:lnTo>
                  <a:pt x="547" y="165"/>
                </a:lnTo>
                <a:lnTo>
                  <a:pt x="499" y="171"/>
                </a:lnTo>
                <a:lnTo>
                  <a:pt x="451" y="178"/>
                </a:lnTo>
                <a:lnTo>
                  <a:pt x="403" y="184"/>
                </a:lnTo>
                <a:lnTo>
                  <a:pt x="353" y="192"/>
                </a:lnTo>
                <a:lnTo>
                  <a:pt x="301" y="198"/>
                </a:lnTo>
                <a:lnTo>
                  <a:pt x="247" y="205"/>
                </a:lnTo>
                <a:lnTo>
                  <a:pt x="194" y="213"/>
                </a:lnTo>
                <a:lnTo>
                  <a:pt x="138" y="221"/>
                </a:lnTo>
                <a:lnTo>
                  <a:pt x="82" y="228"/>
                </a:lnTo>
                <a:lnTo>
                  <a:pt x="25" y="236"/>
                </a:lnTo>
                <a:lnTo>
                  <a:pt x="13" y="186"/>
                </a:lnTo>
                <a:lnTo>
                  <a:pt x="0" y="138"/>
                </a:lnTo>
                <a:lnTo>
                  <a:pt x="21" y="134"/>
                </a:lnTo>
                <a:lnTo>
                  <a:pt x="44" y="132"/>
                </a:lnTo>
                <a:lnTo>
                  <a:pt x="67" y="128"/>
                </a:lnTo>
                <a:lnTo>
                  <a:pt x="92" y="125"/>
                </a:lnTo>
                <a:lnTo>
                  <a:pt x="119" y="123"/>
                </a:lnTo>
                <a:lnTo>
                  <a:pt x="148" y="119"/>
                </a:lnTo>
                <a:lnTo>
                  <a:pt x="176" y="113"/>
                </a:lnTo>
                <a:lnTo>
                  <a:pt x="205" y="109"/>
                </a:lnTo>
                <a:lnTo>
                  <a:pt x="238" y="105"/>
                </a:lnTo>
                <a:lnTo>
                  <a:pt x="270" y="100"/>
                </a:lnTo>
                <a:lnTo>
                  <a:pt x="305" y="94"/>
                </a:lnTo>
                <a:lnTo>
                  <a:pt x="339" y="88"/>
                </a:lnTo>
                <a:lnTo>
                  <a:pt x="376" y="82"/>
                </a:lnTo>
                <a:lnTo>
                  <a:pt x="414" y="77"/>
                </a:lnTo>
                <a:lnTo>
                  <a:pt x="453" y="69"/>
                </a:lnTo>
                <a:lnTo>
                  <a:pt x="493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98"/>
          <p:cNvSpPr/>
          <p:nvPr/>
        </p:nvSpPr>
        <p:spPr>
          <a:xfrm>
            <a:off x="6066000" y="3862440"/>
            <a:ext cx="668160" cy="642960"/>
          </a:xfrm>
          <a:custGeom>
            <a:avLst/>
            <a:gdLst/>
            <a:ahLst/>
            <a:rect l="l" t="t" r="r" b="b"/>
            <a:pathLst>
              <a:path w="841" h="809">
                <a:moveTo>
                  <a:pt x="662" y="397"/>
                </a:moveTo>
                <a:lnTo>
                  <a:pt x="641" y="418"/>
                </a:lnTo>
                <a:lnTo>
                  <a:pt x="620" y="439"/>
                </a:lnTo>
                <a:lnTo>
                  <a:pt x="599" y="458"/>
                </a:lnTo>
                <a:lnTo>
                  <a:pt x="576" y="479"/>
                </a:lnTo>
                <a:lnTo>
                  <a:pt x="553" y="499"/>
                </a:lnTo>
                <a:lnTo>
                  <a:pt x="530" y="518"/>
                </a:lnTo>
                <a:lnTo>
                  <a:pt x="507" y="537"/>
                </a:lnTo>
                <a:lnTo>
                  <a:pt x="482" y="556"/>
                </a:lnTo>
                <a:lnTo>
                  <a:pt x="457" y="573"/>
                </a:lnTo>
                <a:lnTo>
                  <a:pt x="432" y="593"/>
                </a:lnTo>
                <a:lnTo>
                  <a:pt x="405" y="610"/>
                </a:lnTo>
                <a:lnTo>
                  <a:pt x="378" y="627"/>
                </a:lnTo>
                <a:lnTo>
                  <a:pt x="351" y="644"/>
                </a:lnTo>
                <a:lnTo>
                  <a:pt x="322" y="662"/>
                </a:lnTo>
                <a:lnTo>
                  <a:pt x="293" y="679"/>
                </a:lnTo>
                <a:lnTo>
                  <a:pt x="265" y="696"/>
                </a:lnTo>
                <a:lnTo>
                  <a:pt x="238" y="712"/>
                </a:lnTo>
                <a:lnTo>
                  <a:pt x="211" y="725"/>
                </a:lnTo>
                <a:lnTo>
                  <a:pt x="184" y="740"/>
                </a:lnTo>
                <a:lnTo>
                  <a:pt x="161" y="752"/>
                </a:lnTo>
                <a:lnTo>
                  <a:pt x="138" y="763"/>
                </a:lnTo>
                <a:lnTo>
                  <a:pt x="117" y="773"/>
                </a:lnTo>
                <a:lnTo>
                  <a:pt x="98" y="781"/>
                </a:lnTo>
                <a:lnTo>
                  <a:pt x="80" y="788"/>
                </a:lnTo>
                <a:lnTo>
                  <a:pt x="63" y="796"/>
                </a:lnTo>
                <a:lnTo>
                  <a:pt x="50" y="800"/>
                </a:lnTo>
                <a:lnTo>
                  <a:pt x="36" y="804"/>
                </a:lnTo>
                <a:lnTo>
                  <a:pt x="27" y="808"/>
                </a:lnTo>
                <a:lnTo>
                  <a:pt x="17" y="809"/>
                </a:lnTo>
                <a:lnTo>
                  <a:pt x="9" y="809"/>
                </a:lnTo>
                <a:lnTo>
                  <a:pt x="7" y="809"/>
                </a:lnTo>
                <a:lnTo>
                  <a:pt x="6" y="809"/>
                </a:lnTo>
                <a:lnTo>
                  <a:pt x="4" y="808"/>
                </a:lnTo>
                <a:lnTo>
                  <a:pt x="2" y="808"/>
                </a:lnTo>
                <a:lnTo>
                  <a:pt x="0" y="804"/>
                </a:lnTo>
                <a:lnTo>
                  <a:pt x="0" y="800"/>
                </a:lnTo>
                <a:lnTo>
                  <a:pt x="2" y="796"/>
                </a:lnTo>
                <a:lnTo>
                  <a:pt x="6" y="790"/>
                </a:lnTo>
                <a:lnTo>
                  <a:pt x="11" y="785"/>
                </a:lnTo>
                <a:lnTo>
                  <a:pt x="19" y="777"/>
                </a:lnTo>
                <a:lnTo>
                  <a:pt x="29" y="767"/>
                </a:lnTo>
                <a:lnTo>
                  <a:pt x="40" y="758"/>
                </a:lnTo>
                <a:lnTo>
                  <a:pt x="52" y="746"/>
                </a:lnTo>
                <a:lnTo>
                  <a:pt x="67" y="735"/>
                </a:lnTo>
                <a:lnTo>
                  <a:pt x="82" y="721"/>
                </a:lnTo>
                <a:lnTo>
                  <a:pt x="101" y="706"/>
                </a:lnTo>
                <a:lnTo>
                  <a:pt x="121" y="691"/>
                </a:lnTo>
                <a:lnTo>
                  <a:pt x="144" y="673"/>
                </a:lnTo>
                <a:lnTo>
                  <a:pt x="167" y="654"/>
                </a:lnTo>
                <a:lnTo>
                  <a:pt x="194" y="633"/>
                </a:lnTo>
                <a:lnTo>
                  <a:pt x="221" y="612"/>
                </a:lnTo>
                <a:lnTo>
                  <a:pt x="245" y="591"/>
                </a:lnTo>
                <a:lnTo>
                  <a:pt x="272" y="570"/>
                </a:lnTo>
                <a:lnTo>
                  <a:pt x="297" y="548"/>
                </a:lnTo>
                <a:lnTo>
                  <a:pt x="320" y="527"/>
                </a:lnTo>
                <a:lnTo>
                  <a:pt x="345" y="506"/>
                </a:lnTo>
                <a:lnTo>
                  <a:pt x="368" y="485"/>
                </a:lnTo>
                <a:lnTo>
                  <a:pt x="391" y="464"/>
                </a:lnTo>
                <a:lnTo>
                  <a:pt x="414" y="443"/>
                </a:lnTo>
                <a:lnTo>
                  <a:pt x="436" y="420"/>
                </a:lnTo>
                <a:lnTo>
                  <a:pt x="457" y="399"/>
                </a:lnTo>
                <a:lnTo>
                  <a:pt x="478" y="376"/>
                </a:lnTo>
                <a:lnTo>
                  <a:pt x="497" y="355"/>
                </a:lnTo>
                <a:lnTo>
                  <a:pt x="516" y="332"/>
                </a:lnTo>
                <a:lnTo>
                  <a:pt x="535" y="309"/>
                </a:lnTo>
                <a:lnTo>
                  <a:pt x="553" y="286"/>
                </a:lnTo>
                <a:lnTo>
                  <a:pt x="568" y="263"/>
                </a:lnTo>
                <a:lnTo>
                  <a:pt x="581" y="241"/>
                </a:lnTo>
                <a:lnTo>
                  <a:pt x="595" y="220"/>
                </a:lnTo>
                <a:lnTo>
                  <a:pt x="606" y="201"/>
                </a:lnTo>
                <a:lnTo>
                  <a:pt x="618" y="184"/>
                </a:lnTo>
                <a:lnTo>
                  <a:pt x="626" y="167"/>
                </a:lnTo>
                <a:lnTo>
                  <a:pt x="635" y="151"/>
                </a:lnTo>
                <a:lnTo>
                  <a:pt x="641" y="136"/>
                </a:lnTo>
                <a:lnTo>
                  <a:pt x="647" y="122"/>
                </a:lnTo>
                <a:lnTo>
                  <a:pt x="651" y="111"/>
                </a:lnTo>
                <a:lnTo>
                  <a:pt x="654" y="99"/>
                </a:lnTo>
                <a:lnTo>
                  <a:pt x="656" y="90"/>
                </a:lnTo>
                <a:lnTo>
                  <a:pt x="656" y="80"/>
                </a:lnTo>
                <a:lnTo>
                  <a:pt x="656" y="73"/>
                </a:lnTo>
                <a:lnTo>
                  <a:pt x="652" y="67"/>
                </a:lnTo>
                <a:lnTo>
                  <a:pt x="649" y="61"/>
                </a:lnTo>
                <a:lnTo>
                  <a:pt x="643" y="59"/>
                </a:lnTo>
                <a:lnTo>
                  <a:pt x="639" y="57"/>
                </a:lnTo>
                <a:lnTo>
                  <a:pt x="633" y="53"/>
                </a:lnTo>
                <a:lnTo>
                  <a:pt x="631" y="50"/>
                </a:lnTo>
                <a:lnTo>
                  <a:pt x="629" y="48"/>
                </a:lnTo>
                <a:lnTo>
                  <a:pt x="628" y="44"/>
                </a:lnTo>
                <a:lnTo>
                  <a:pt x="628" y="40"/>
                </a:lnTo>
                <a:lnTo>
                  <a:pt x="629" y="36"/>
                </a:lnTo>
                <a:lnTo>
                  <a:pt x="629" y="32"/>
                </a:lnTo>
                <a:lnTo>
                  <a:pt x="633" y="26"/>
                </a:lnTo>
                <a:lnTo>
                  <a:pt x="635" y="23"/>
                </a:lnTo>
                <a:lnTo>
                  <a:pt x="639" y="19"/>
                </a:lnTo>
                <a:lnTo>
                  <a:pt x="645" y="13"/>
                </a:lnTo>
                <a:lnTo>
                  <a:pt x="649" y="9"/>
                </a:lnTo>
                <a:lnTo>
                  <a:pt x="654" y="3"/>
                </a:lnTo>
                <a:lnTo>
                  <a:pt x="662" y="0"/>
                </a:lnTo>
                <a:lnTo>
                  <a:pt x="683" y="11"/>
                </a:lnTo>
                <a:lnTo>
                  <a:pt x="704" y="23"/>
                </a:lnTo>
                <a:lnTo>
                  <a:pt x="722" y="34"/>
                </a:lnTo>
                <a:lnTo>
                  <a:pt x="741" y="46"/>
                </a:lnTo>
                <a:lnTo>
                  <a:pt x="756" y="57"/>
                </a:lnTo>
                <a:lnTo>
                  <a:pt x="772" y="69"/>
                </a:lnTo>
                <a:lnTo>
                  <a:pt x="785" y="80"/>
                </a:lnTo>
                <a:lnTo>
                  <a:pt x="796" y="90"/>
                </a:lnTo>
                <a:lnTo>
                  <a:pt x="806" y="101"/>
                </a:lnTo>
                <a:lnTo>
                  <a:pt x="816" y="111"/>
                </a:lnTo>
                <a:lnTo>
                  <a:pt x="823" y="121"/>
                </a:lnTo>
                <a:lnTo>
                  <a:pt x="831" y="128"/>
                </a:lnTo>
                <a:lnTo>
                  <a:pt x="835" y="138"/>
                </a:lnTo>
                <a:lnTo>
                  <a:pt x="839" y="145"/>
                </a:lnTo>
                <a:lnTo>
                  <a:pt x="841" y="153"/>
                </a:lnTo>
                <a:lnTo>
                  <a:pt x="841" y="161"/>
                </a:lnTo>
                <a:lnTo>
                  <a:pt x="839" y="170"/>
                </a:lnTo>
                <a:lnTo>
                  <a:pt x="835" y="180"/>
                </a:lnTo>
                <a:lnTo>
                  <a:pt x="829" y="192"/>
                </a:lnTo>
                <a:lnTo>
                  <a:pt x="823" y="203"/>
                </a:lnTo>
                <a:lnTo>
                  <a:pt x="816" y="215"/>
                </a:lnTo>
                <a:lnTo>
                  <a:pt x="808" y="228"/>
                </a:lnTo>
                <a:lnTo>
                  <a:pt x="798" y="241"/>
                </a:lnTo>
                <a:lnTo>
                  <a:pt x="787" y="255"/>
                </a:lnTo>
                <a:lnTo>
                  <a:pt x="775" y="270"/>
                </a:lnTo>
                <a:lnTo>
                  <a:pt x="762" y="286"/>
                </a:lnTo>
                <a:lnTo>
                  <a:pt x="748" y="303"/>
                </a:lnTo>
                <a:lnTo>
                  <a:pt x="733" y="320"/>
                </a:lnTo>
                <a:lnTo>
                  <a:pt x="716" y="337"/>
                </a:lnTo>
                <a:lnTo>
                  <a:pt x="699" y="357"/>
                </a:lnTo>
                <a:lnTo>
                  <a:pt x="681" y="376"/>
                </a:lnTo>
                <a:lnTo>
                  <a:pt x="662" y="3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组合 8"/>
          <p:cNvGrpSpPr/>
          <p:nvPr/>
        </p:nvGrpSpPr>
        <p:grpSpPr>
          <a:xfrm>
            <a:off x="1227240" y="3975120"/>
            <a:ext cx="2840040" cy="1571760"/>
            <a:chOff x="1227240" y="3975120"/>
            <a:chExt cx="2840040" cy="1571760"/>
          </a:xfrm>
        </p:grpSpPr>
        <p:pic>
          <p:nvPicPr>
            <p:cNvPr id="97" name="图示 4" descr=""/>
            <p:cNvPicPr/>
            <p:nvPr/>
          </p:nvPicPr>
          <p:blipFill>
            <a:blip r:embed="rId1"/>
            <a:stretch/>
          </p:blipFill>
          <p:spPr>
            <a:xfrm>
              <a:off x="12272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矩形 2"/>
            <p:cNvSpPr/>
            <p:nvPr/>
          </p:nvSpPr>
          <p:spPr>
            <a:xfrm>
              <a:off x="12754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龙”第一撇伸展，竖弯钩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1855800" y="1868400"/>
            <a:ext cx="177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ǒ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41"/>
          <p:cNvSpPr/>
          <p:nvPr/>
        </p:nvSpPr>
        <p:spPr>
          <a:xfrm>
            <a:off x="6416640" y="2884320"/>
            <a:ext cx="308160" cy="306720"/>
          </a:xfrm>
          <a:custGeom>
            <a:avLst/>
            <a:gdLst/>
            <a:ahLst/>
            <a:rect l="l" t="t" r="r" b="b"/>
            <a:pathLst>
              <a:path w="388" h="386">
                <a:moveTo>
                  <a:pt x="255" y="75"/>
                </a:moveTo>
                <a:lnTo>
                  <a:pt x="271" y="83"/>
                </a:lnTo>
                <a:lnTo>
                  <a:pt x="286" y="90"/>
                </a:lnTo>
                <a:lnTo>
                  <a:pt x="299" y="98"/>
                </a:lnTo>
                <a:lnTo>
                  <a:pt x="313" y="108"/>
                </a:lnTo>
                <a:lnTo>
                  <a:pt x="324" y="117"/>
                </a:lnTo>
                <a:lnTo>
                  <a:pt x="334" y="127"/>
                </a:lnTo>
                <a:lnTo>
                  <a:pt x="346" y="136"/>
                </a:lnTo>
                <a:lnTo>
                  <a:pt x="353" y="146"/>
                </a:lnTo>
                <a:lnTo>
                  <a:pt x="361" y="158"/>
                </a:lnTo>
                <a:lnTo>
                  <a:pt x="369" y="167"/>
                </a:lnTo>
                <a:lnTo>
                  <a:pt x="374" y="179"/>
                </a:lnTo>
                <a:lnTo>
                  <a:pt x="380" y="190"/>
                </a:lnTo>
                <a:lnTo>
                  <a:pt x="384" y="202"/>
                </a:lnTo>
                <a:lnTo>
                  <a:pt x="386" y="213"/>
                </a:lnTo>
                <a:lnTo>
                  <a:pt x="388" y="225"/>
                </a:lnTo>
                <a:lnTo>
                  <a:pt x="388" y="236"/>
                </a:lnTo>
                <a:lnTo>
                  <a:pt x="388" y="259"/>
                </a:lnTo>
                <a:lnTo>
                  <a:pt x="386" y="280"/>
                </a:lnTo>
                <a:lnTo>
                  <a:pt x="386" y="290"/>
                </a:lnTo>
                <a:lnTo>
                  <a:pt x="384" y="300"/>
                </a:lnTo>
                <a:lnTo>
                  <a:pt x="382" y="309"/>
                </a:lnTo>
                <a:lnTo>
                  <a:pt x="380" y="317"/>
                </a:lnTo>
                <a:lnTo>
                  <a:pt x="378" y="324"/>
                </a:lnTo>
                <a:lnTo>
                  <a:pt x="376" y="332"/>
                </a:lnTo>
                <a:lnTo>
                  <a:pt x="374" y="338"/>
                </a:lnTo>
                <a:lnTo>
                  <a:pt x="372" y="344"/>
                </a:lnTo>
                <a:lnTo>
                  <a:pt x="370" y="349"/>
                </a:lnTo>
                <a:lnTo>
                  <a:pt x="369" y="353"/>
                </a:lnTo>
                <a:lnTo>
                  <a:pt x="367" y="357"/>
                </a:lnTo>
                <a:lnTo>
                  <a:pt x="365" y="361"/>
                </a:lnTo>
                <a:lnTo>
                  <a:pt x="359" y="365"/>
                </a:lnTo>
                <a:lnTo>
                  <a:pt x="353" y="371"/>
                </a:lnTo>
                <a:lnTo>
                  <a:pt x="347" y="374"/>
                </a:lnTo>
                <a:lnTo>
                  <a:pt x="340" y="378"/>
                </a:lnTo>
                <a:lnTo>
                  <a:pt x="334" y="380"/>
                </a:lnTo>
                <a:lnTo>
                  <a:pt x="326" y="382"/>
                </a:lnTo>
                <a:lnTo>
                  <a:pt x="321" y="384"/>
                </a:lnTo>
                <a:lnTo>
                  <a:pt x="317" y="386"/>
                </a:lnTo>
                <a:lnTo>
                  <a:pt x="311" y="384"/>
                </a:lnTo>
                <a:lnTo>
                  <a:pt x="305" y="384"/>
                </a:lnTo>
                <a:lnTo>
                  <a:pt x="299" y="380"/>
                </a:lnTo>
                <a:lnTo>
                  <a:pt x="294" y="378"/>
                </a:lnTo>
                <a:lnTo>
                  <a:pt x="286" y="374"/>
                </a:lnTo>
                <a:lnTo>
                  <a:pt x="278" y="369"/>
                </a:lnTo>
                <a:lnTo>
                  <a:pt x="271" y="363"/>
                </a:lnTo>
                <a:lnTo>
                  <a:pt x="261" y="355"/>
                </a:lnTo>
                <a:lnTo>
                  <a:pt x="253" y="348"/>
                </a:lnTo>
                <a:lnTo>
                  <a:pt x="242" y="340"/>
                </a:lnTo>
                <a:lnTo>
                  <a:pt x="232" y="328"/>
                </a:lnTo>
                <a:lnTo>
                  <a:pt x="221" y="317"/>
                </a:lnTo>
                <a:lnTo>
                  <a:pt x="209" y="305"/>
                </a:lnTo>
                <a:lnTo>
                  <a:pt x="198" y="292"/>
                </a:lnTo>
                <a:lnTo>
                  <a:pt x="186" y="276"/>
                </a:lnTo>
                <a:lnTo>
                  <a:pt x="173" y="261"/>
                </a:lnTo>
                <a:lnTo>
                  <a:pt x="157" y="248"/>
                </a:lnTo>
                <a:lnTo>
                  <a:pt x="142" y="234"/>
                </a:lnTo>
                <a:lnTo>
                  <a:pt x="129" y="221"/>
                </a:lnTo>
                <a:lnTo>
                  <a:pt x="117" y="207"/>
                </a:lnTo>
                <a:lnTo>
                  <a:pt x="104" y="196"/>
                </a:lnTo>
                <a:lnTo>
                  <a:pt x="94" y="182"/>
                </a:lnTo>
                <a:lnTo>
                  <a:pt x="82" y="171"/>
                </a:lnTo>
                <a:lnTo>
                  <a:pt x="73" y="159"/>
                </a:lnTo>
                <a:lnTo>
                  <a:pt x="65" y="150"/>
                </a:lnTo>
                <a:lnTo>
                  <a:pt x="58" y="138"/>
                </a:lnTo>
                <a:lnTo>
                  <a:pt x="50" y="129"/>
                </a:lnTo>
                <a:lnTo>
                  <a:pt x="44" y="119"/>
                </a:lnTo>
                <a:lnTo>
                  <a:pt x="38" y="111"/>
                </a:lnTo>
                <a:lnTo>
                  <a:pt x="35" y="102"/>
                </a:lnTo>
                <a:lnTo>
                  <a:pt x="31" y="94"/>
                </a:lnTo>
                <a:lnTo>
                  <a:pt x="29" y="87"/>
                </a:lnTo>
                <a:lnTo>
                  <a:pt x="19" y="73"/>
                </a:lnTo>
                <a:lnTo>
                  <a:pt x="13" y="62"/>
                </a:lnTo>
                <a:lnTo>
                  <a:pt x="8" y="50"/>
                </a:lnTo>
                <a:lnTo>
                  <a:pt x="2" y="40"/>
                </a:lnTo>
                <a:lnTo>
                  <a:pt x="0" y="31"/>
                </a:lnTo>
                <a:lnTo>
                  <a:pt x="0" y="27"/>
                </a:lnTo>
                <a:lnTo>
                  <a:pt x="0" y="25"/>
                </a:lnTo>
                <a:lnTo>
                  <a:pt x="0" y="21"/>
                </a:lnTo>
                <a:lnTo>
                  <a:pt x="0" y="17"/>
                </a:lnTo>
                <a:lnTo>
                  <a:pt x="2" y="15"/>
                </a:lnTo>
                <a:lnTo>
                  <a:pt x="4" y="14"/>
                </a:lnTo>
                <a:lnTo>
                  <a:pt x="4" y="10"/>
                </a:lnTo>
                <a:lnTo>
                  <a:pt x="6" y="8"/>
                </a:lnTo>
                <a:lnTo>
                  <a:pt x="8" y="6"/>
                </a:lnTo>
                <a:lnTo>
                  <a:pt x="11" y="4"/>
                </a:lnTo>
                <a:lnTo>
                  <a:pt x="13" y="4"/>
                </a:lnTo>
                <a:lnTo>
                  <a:pt x="21" y="2"/>
                </a:lnTo>
                <a:lnTo>
                  <a:pt x="29" y="0"/>
                </a:lnTo>
                <a:lnTo>
                  <a:pt x="40" y="0"/>
                </a:lnTo>
                <a:lnTo>
                  <a:pt x="52" y="0"/>
                </a:lnTo>
                <a:lnTo>
                  <a:pt x="65" y="0"/>
                </a:lnTo>
                <a:lnTo>
                  <a:pt x="71" y="0"/>
                </a:lnTo>
                <a:lnTo>
                  <a:pt x="79" y="2"/>
                </a:lnTo>
                <a:lnTo>
                  <a:pt x="88" y="2"/>
                </a:lnTo>
                <a:lnTo>
                  <a:pt x="98" y="4"/>
                </a:lnTo>
                <a:lnTo>
                  <a:pt x="107" y="8"/>
                </a:lnTo>
                <a:lnTo>
                  <a:pt x="119" y="10"/>
                </a:lnTo>
                <a:lnTo>
                  <a:pt x="130" y="14"/>
                </a:lnTo>
                <a:lnTo>
                  <a:pt x="142" y="19"/>
                </a:lnTo>
                <a:lnTo>
                  <a:pt x="155" y="23"/>
                </a:lnTo>
                <a:lnTo>
                  <a:pt x="169" y="29"/>
                </a:lnTo>
                <a:lnTo>
                  <a:pt x="182" y="35"/>
                </a:lnTo>
                <a:lnTo>
                  <a:pt x="196" y="42"/>
                </a:lnTo>
                <a:lnTo>
                  <a:pt x="211" y="48"/>
                </a:lnTo>
                <a:lnTo>
                  <a:pt x="225" y="58"/>
                </a:lnTo>
                <a:lnTo>
                  <a:pt x="240" y="65"/>
                </a:lnTo>
                <a:lnTo>
                  <a:pt x="255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2"/>
          <p:cNvSpPr/>
          <p:nvPr/>
        </p:nvSpPr>
        <p:spPr>
          <a:xfrm>
            <a:off x="5743440" y="3200400"/>
            <a:ext cx="257400" cy="581040"/>
          </a:xfrm>
          <a:custGeom>
            <a:avLst/>
            <a:gdLst/>
            <a:ahLst/>
            <a:rect l="l" t="t" r="r" b="b"/>
            <a:pathLst>
              <a:path w="325" h="734">
                <a:moveTo>
                  <a:pt x="288" y="436"/>
                </a:moveTo>
                <a:lnTo>
                  <a:pt x="286" y="451"/>
                </a:lnTo>
                <a:lnTo>
                  <a:pt x="283" y="467"/>
                </a:lnTo>
                <a:lnTo>
                  <a:pt x="281" y="482"/>
                </a:lnTo>
                <a:lnTo>
                  <a:pt x="277" y="497"/>
                </a:lnTo>
                <a:lnTo>
                  <a:pt x="267" y="528"/>
                </a:lnTo>
                <a:lnTo>
                  <a:pt x="256" y="555"/>
                </a:lnTo>
                <a:lnTo>
                  <a:pt x="244" y="580"/>
                </a:lnTo>
                <a:lnTo>
                  <a:pt x="238" y="593"/>
                </a:lnTo>
                <a:lnTo>
                  <a:pt x="231" y="605"/>
                </a:lnTo>
                <a:lnTo>
                  <a:pt x="225" y="616"/>
                </a:lnTo>
                <a:lnTo>
                  <a:pt x="217" y="626"/>
                </a:lnTo>
                <a:lnTo>
                  <a:pt x="212" y="638"/>
                </a:lnTo>
                <a:lnTo>
                  <a:pt x="206" y="647"/>
                </a:lnTo>
                <a:lnTo>
                  <a:pt x="198" y="659"/>
                </a:lnTo>
                <a:lnTo>
                  <a:pt x="192" y="668"/>
                </a:lnTo>
                <a:lnTo>
                  <a:pt x="185" y="678"/>
                </a:lnTo>
                <a:lnTo>
                  <a:pt x="179" y="687"/>
                </a:lnTo>
                <a:lnTo>
                  <a:pt x="171" y="695"/>
                </a:lnTo>
                <a:lnTo>
                  <a:pt x="165" y="701"/>
                </a:lnTo>
                <a:lnTo>
                  <a:pt x="160" y="709"/>
                </a:lnTo>
                <a:lnTo>
                  <a:pt x="154" y="714"/>
                </a:lnTo>
                <a:lnTo>
                  <a:pt x="148" y="718"/>
                </a:lnTo>
                <a:lnTo>
                  <a:pt x="142" y="722"/>
                </a:lnTo>
                <a:lnTo>
                  <a:pt x="139" y="726"/>
                </a:lnTo>
                <a:lnTo>
                  <a:pt x="135" y="730"/>
                </a:lnTo>
                <a:lnTo>
                  <a:pt x="131" y="732"/>
                </a:lnTo>
                <a:lnTo>
                  <a:pt x="127" y="732"/>
                </a:lnTo>
                <a:lnTo>
                  <a:pt x="123" y="734"/>
                </a:lnTo>
                <a:lnTo>
                  <a:pt x="121" y="734"/>
                </a:lnTo>
                <a:lnTo>
                  <a:pt x="119" y="734"/>
                </a:lnTo>
                <a:lnTo>
                  <a:pt x="116" y="732"/>
                </a:lnTo>
                <a:lnTo>
                  <a:pt x="114" y="730"/>
                </a:lnTo>
                <a:lnTo>
                  <a:pt x="110" y="728"/>
                </a:lnTo>
                <a:lnTo>
                  <a:pt x="106" y="724"/>
                </a:lnTo>
                <a:lnTo>
                  <a:pt x="102" y="718"/>
                </a:lnTo>
                <a:lnTo>
                  <a:pt x="98" y="712"/>
                </a:lnTo>
                <a:lnTo>
                  <a:pt x="94" y="707"/>
                </a:lnTo>
                <a:lnTo>
                  <a:pt x="89" y="701"/>
                </a:lnTo>
                <a:lnTo>
                  <a:pt x="85" y="693"/>
                </a:lnTo>
                <a:lnTo>
                  <a:pt x="79" y="686"/>
                </a:lnTo>
                <a:lnTo>
                  <a:pt x="73" y="676"/>
                </a:lnTo>
                <a:lnTo>
                  <a:pt x="68" y="666"/>
                </a:lnTo>
                <a:lnTo>
                  <a:pt x="62" y="657"/>
                </a:lnTo>
                <a:lnTo>
                  <a:pt x="56" y="645"/>
                </a:lnTo>
                <a:lnTo>
                  <a:pt x="48" y="634"/>
                </a:lnTo>
                <a:lnTo>
                  <a:pt x="43" y="622"/>
                </a:lnTo>
                <a:lnTo>
                  <a:pt x="37" y="613"/>
                </a:lnTo>
                <a:lnTo>
                  <a:pt x="31" y="601"/>
                </a:lnTo>
                <a:lnTo>
                  <a:pt x="27" y="591"/>
                </a:lnTo>
                <a:lnTo>
                  <a:pt x="22" y="584"/>
                </a:lnTo>
                <a:lnTo>
                  <a:pt x="18" y="574"/>
                </a:lnTo>
                <a:lnTo>
                  <a:pt x="14" y="567"/>
                </a:lnTo>
                <a:lnTo>
                  <a:pt x="12" y="559"/>
                </a:lnTo>
                <a:lnTo>
                  <a:pt x="8" y="553"/>
                </a:lnTo>
                <a:lnTo>
                  <a:pt x="6" y="547"/>
                </a:lnTo>
                <a:lnTo>
                  <a:pt x="4" y="542"/>
                </a:lnTo>
                <a:lnTo>
                  <a:pt x="4" y="536"/>
                </a:lnTo>
                <a:lnTo>
                  <a:pt x="2" y="532"/>
                </a:lnTo>
                <a:lnTo>
                  <a:pt x="2" y="528"/>
                </a:lnTo>
                <a:lnTo>
                  <a:pt x="0" y="524"/>
                </a:lnTo>
                <a:lnTo>
                  <a:pt x="0" y="522"/>
                </a:lnTo>
                <a:lnTo>
                  <a:pt x="0" y="520"/>
                </a:lnTo>
                <a:lnTo>
                  <a:pt x="2" y="517"/>
                </a:lnTo>
                <a:lnTo>
                  <a:pt x="4" y="513"/>
                </a:lnTo>
                <a:lnTo>
                  <a:pt x="6" y="509"/>
                </a:lnTo>
                <a:lnTo>
                  <a:pt x="8" y="503"/>
                </a:lnTo>
                <a:lnTo>
                  <a:pt x="10" y="497"/>
                </a:lnTo>
                <a:lnTo>
                  <a:pt x="14" y="492"/>
                </a:lnTo>
                <a:lnTo>
                  <a:pt x="18" y="486"/>
                </a:lnTo>
                <a:lnTo>
                  <a:pt x="22" y="478"/>
                </a:lnTo>
                <a:lnTo>
                  <a:pt x="27" y="471"/>
                </a:lnTo>
                <a:lnTo>
                  <a:pt x="31" y="461"/>
                </a:lnTo>
                <a:lnTo>
                  <a:pt x="37" y="453"/>
                </a:lnTo>
                <a:lnTo>
                  <a:pt x="43" y="444"/>
                </a:lnTo>
                <a:lnTo>
                  <a:pt x="48" y="432"/>
                </a:lnTo>
                <a:lnTo>
                  <a:pt x="54" y="423"/>
                </a:lnTo>
                <a:lnTo>
                  <a:pt x="62" y="411"/>
                </a:lnTo>
                <a:lnTo>
                  <a:pt x="73" y="386"/>
                </a:lnTo>
                <a:lnTo>
                  <a:pt x="87" y="361"/>
                </a:lnTo>
                <a:lnTo>
                  <a:pt x="94" y="348"/>
                </a:lnTo>
                <a:lnTo>
                  <a:pt x="100" y="334"/>
                </a:lnTo>
                <a:lnTo>
                  <a:pt x="108" y="319"/>
                </a:lnTo>
                <a:lnTo>
                  <a:pt x="114" y="306"/>
                </a:lnTo>
                <a:lnTo>
                  <a:pt x="119" y="290"/>
                </a:lnTo>
                <a:lnTo>
                  <a:pt x="125" y="273"/>
                </a:lnTo>
                <a:lnTo>
                  <a:pt x="131" y="258"/>
                </a:lnTo>
                <a:lnTo>
                  <a:pt x="137" y="240"/>
                </a:lnTo>
                <a:lnTo>
                  <a:pt x="142" y="221"/>
                </a:lnTo>
                <a:lnTo>
                  <a:pt x="148" y="202"/>
                </a:lnTo>
                <a:lnTo>
                  <a:pt x="152" y="183"/>
                </a:lnTo>
                <a:lnTo>
                  <a:pt x="158" y="162"/>
                </a:lnTo>
                <a:lnTo>
                  <a:pt x="162" y="142"/>
                </a:lnTo>
                <a:lnTo>
                  <a:pt x="165" y="123"/>
                </a:lnTo>
                <a:lnTo>
                  <a:pt x="169" y="106"/>
                </a:lnTo>
                <a:lnTo>
                  <a:pt x="175" y="91"/>
                </a:lnTo>
                <a:lnTo>
                  <a:pt x="179" y="75"/>
                </a:lnTo>
                <a:lnTo>
                  <a:pt x="183" y="62"/>
                </a:lnTo>
                <a:lnTo>
                  <a:pt x="187" y="50"/>
                </a:lnTo>
                <a:lnTo>
                  <a:pt x="190" y="39"/>
                </a:lnTo>
                <a:lnTo>
                  <a:pt x="194" y="29"/>
                </a:lnTo>
                <a:lnTo>
                  <a:pt x="198" y="22"/>
                </a:lnTo>
                <a:lnTo>
                  <a:pt x="202" y="16"/>
                </a:lnTo>
                <a:lnTo>
                  <a:pt x="206" y="10"/>
                </a:lnTo>
                <a:lnTo>
                  <a:pt x="210" y="6"/>
                </a:lnTo>
                <a:lnTo>
                  <a:pt x="212" y="2"/>
                </a:lnTo>
                <a:lnTo>
                  <a:pt x="215" y="0"/>
                </a:lnTo>
                <a:lnTo>
                  <a:pt x="217" y="0"/>
                </a:lnTo>
                <a:lnTo>
                  <a:pt x="219" y="0"/>
                </a:lnTo>
                <a:lnTo>
                  <a:pt x="221" y="2"/>
                </a:lnTo>
                <a:lnTo>
                  <a:pt x="223" y="2"/>
                </a:lnTo>
                <a:lnTo>
                  <a:pt x="227" y="4"/>
                </a:lnTo>
                <a:lnTo>
                  <a:pt x="229" y="8"/>
                </a:lnTo>
                <a:lnTo>
                  <a:pt x="233" y="10"/>
                </a:lnTo>
                <a:lnTo>
                  <a:pt x="238" y="18"/>
                </a:lnTo>
                <a:lnTo>
                  <a:pt x="246" y="27"/>
                </a:lnTo>
                <a:lnTo>
                  <a:pt x="254" y="37"/>
                </a:lnTo>
                <a:lnTo>
                  <a:pt x="265" y="50"/>
                </a:lnTo>
                <a:lnTo>
                  <a:pt x="271" y="56"/>
                </a:lnTo>
                <a:lnTo>
                  <a:pt x="277" y="64"/>
                </a:lnTo>
                <a:lnTo>
                  <a:pt x="285" y="81"/>
                </a:lnTo>
                <a:lnTo>
                  <a:pt x="292" y="100"/>
                </a:lnTo>
                <a:lnTo>
                  <a:pt x="300" y="119"/>
                </a:lnTo>
                <a:lnTo>
                  <a:pt x="306" y="137"/>
                </a:lnTo>
                <a:lnTo>
                  <a:pt x="311" y="156"/>
                </a:lnTo>
                <a:lnTo>
                  <a:pt x="315" y="175"/>
                </a:lnTo>
                <a:lnTo>
                  <a:pt x="325" y="212"/>
                </a:lnTo>
                <a:lnTo>
                  <a:pt x="325" y="236"/>
                </a:lnTo>
                <a:lnTo>
                  <a:pt x="323" y="261"/>
                </a:lnTo>
                <a:lnTo>
                  <a:pt x="319" y="286"/>
                </a:lnTo>
                <a:lnTo>
                  <a:pt x="315" y="315"/>
                </a:lnTo>
                <a:lnTo>
                  <a:pt x="311" y="342"/>
                </a:lnTo>
                <a:lnTo>
                  <a:pt x="304" y="373"/>
                </a:lnTo>
                <a:lnTo>
                  <a:pt x="298" y="403"/>
                </a:lnTo>
                <a:lnTo>
                  <a:pt x="288" y="4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43"/>
          <p:cNvSpPr/>
          <p:nvPr/>
        </p:nvSpPr>
        <p:spPr>
          <a:xfrm>
            <a:off x="5945040" y="3151080"/>
            <a:ext cx="1541520" cy="405000"/>
          </a:xfrm>
          <a:custGeom>
            <a:avLst/>
            <a:gdLst/>
            <a:ahLst/>
            <a:rect l="l" t="t" r="r" b="b"/>
            <a:pathLst>
              <a:path w="1943" h="510">
                <a:moveTo>
                  <a:pt x="1620" y="397"/>
                </a:moveTo>
                <a:lnTo>
                  <a:pt x="1607" y="413"/>
                </a:lnTo>
                <a:lnTo>
                  <a:pt x="1593" y="428"/>
                </a:lnTo>
                <a:lnTo>
                  <a:pt x="1584" y="441"/>
                </a:lnTo>
                <a:lnTo>
                  <a:pt x="1572" y="453"/>
                </a:lnTo>
                <a:lnTo>
                  <a:pt x="1563" y="464"/>
                </a:lnTo>
                <a:lnTo>
                  <a:pt x="1553" y="474"/>
                </a:lnTo>
                <a:lnTo>
                  <a:pt x="1545" y="484"/>
                </a:lnTo>
                <a:lnTo>
                  <a:pt x="1538" y="491"/>
                </a:lnTo>
                <a:lnTo>
                  <a:pt x="1530" y="497"/>
                </a:lnTo>
                <a:lnTo>
                  <a:pt x="1524" y="503"/>
                </a:lnTo>
                <a:lnTo>
                  <a:pt x="1518" y="507"/>
                </a:lnTo>
                <a:lnTo>
                  <a:pt x="1513" y="509"/>
                </a:lnTo>
                <a:lnTo>
                  <a:pt x="1509" y="510"/>
                </a:lnTo>
                <a:lnTo>
                  <a:pt x="1505" y="510"/>
                </a:lnTo>
                <a:lnTo>
                  <a:pt x="1501" y="510"/>
                </a:lnTo>
                <a:lnTo>
                  <a:pt x="1499" y="509"/>
                </a:lnTo>
                <a:lnTo>
                  <a:pt x="1497" y="507"/>
                </a:lnTo>
                <a:lnTo>
                  <a:pt x="1495" y="503"/>
                </a:lnTo>
                <a:lnTo>
                  <a:pt x="1493" y="497"/>
                </a:lnTo>
                <a:lnTo>
                  <a:pt x="1493" y="493"/>
                </a:lnTo>
                <a:lnTo>
                  <a:pt x="1491" y="486"/>
                </a:lnTo>
                <a:lnTo>
                  <a:pt x="1491" y="480"/>
                </a:lnTo>
                <a:lnTo>
                  <a:pt x="1491" y="472"/>
                </a:lnTo>
                <a:lnTo>
                  <a:pt x="1491" y="463"/>
                </a:lnTo>
                <a:lnTo>
                  <a:pt x="1493" y="453"/>
                </a:lnTo>
                <a:lnTo>
                  <a:pt x="1493" y="441"/>
                </a:lnTo>
                <a:lnTo>
                  <a:pt x="1495" y="430"/>
                </a:lnTo>
                <a:lnTo>
                  <a:pt x="1497" y="418"/>
                </a:lnTo>
                <a:lnTo>
                  <a:pt x="1501" y="405"/>
                </a:lnTo>
                <a:lnTo>
                  <a:pt x="1503" y="391"/>
                </a:lnTo>
                <a:lnTo>
                  <a:pt x="1507" y="376"/>
                </a:lnTo>
                <a:lnTo>
                  <a:pt x="1511" y="361"/>
                </a:lnTo>
                <a:lnTo>
                  <a:pt x="1513" y="344"/>
                </a:lnTo>
                <a:lnTo>
                  <a:pt x="1516" y="328"/>
                </a:lnTo>
                <a:lnTo>
                  <a:pt x="1518" y="315"/>
                </a:lnTo>
                <a:lnTo>
                  <a:pt x="1520" y="301"/>
                </a:lnTo>
                <a:lnTo>
                  <a:pt x="1522" y="288"/>
                </a:lnTo>
                <a:lnTo>
                  <a:pt x="1524" y="276"/>
                </a:lnTo>
                <a:lnTo>
                  <a:pt x="1524" y="267"/>
                </a:lnTo>
                <a:lnTo>
                  <a:pt x="1526" y="255"/>
                </a:lnTo>
                <a:lnTo>
                  <a:pt x="1528" y="246"/>
                </a:lnTo>
                <a:lnTo>
                  <a:pt x="1528" y="238"/>
                </a:lnTo>
                <a:lnTo>
                  <a:pt x="1528" y="228"/>
                </a:lnTo>
                <a:lnTo>
                  <a:pt x="1528" y="223"/>
                </a:lnTo>
                <a:lnTo>
                  <a:pt x="1528" y="215"/>
                </a:lnTo>
                <a:lnTo>
                  <a:pt x="1526" y="209"/>
                </a:lnTo>
                <a:lnTo>
                  <a:pt x="1526" y="203"/>
                </a:lnTo>
                <a:lnTo>
                  <a:pt x="1524" y="198"/>
                </a:lnTo>
                <a:lnTo>
                  <a:pt x="1520" y="196"/>
                </a:lnTo>
                <a:lnTo>
                  <a:pt x="1516" y="194"/>
                </a:lnTo>
                <a:lnTo>
                  <a:pt x="1511" y="192"/>
                </a:lnTo>
                <a:lnTo>
                  <a:pt x="1503" y="190"/>
                </a:lnTo>
                <a:lnTo>
                  <a:pt x="1495" y="188"/>
                </a:lnTo>
                <a:lnTo>
                  <a:pt x="1486" y="186"/>
                </a:lnTo>
                <a:lnTo>
                  <a:pt x="1474" y="184"/>
                </a:lnTo>
                <a:lnTo>
                  <a:pt x="1463" y="182"/>
                </a:lnTo>
                <a:lnTo>
                  <a:pt x="1451" y="182"/>
                </a:lnTo>
                <a:lnTo>
                  <a:pt x="1436" y="180"/>
                </a:lnTo>
                <a:lnTo>
                  <a:pt x="1420" y="180"/>
                </a:lnTo>
                <a:lnTo>
                  <a:pt x="1405" y="180"/>
                </a:lnTo>
                <a:lnTo>
                  <a:pt x="1388" y="180"/>
                </a:lnTo>
                <a:lnTo>
                  <a:pt x="1371" y="182"/>
                </a:lnTo>
                <a:lnTo>
                  <a:pt x="1351" y="184"/>
                </a:lnTo>
                <a:lnTo>
                  <a:pt x="1332" y="186"/>
                </a:lnTo>
                <a:lnTo>
                  <a:pt x="1319" y="186"/>
                </a:lnTo>
                <a:lnTo>
                  <a:pt x="1305" y="188"/>
                </a:lnTo>
                <a:lnTo>
                  <a:pt x="1288" y="190"/>
                </a:lnTo>
                <a:lnTo>
                  <a:pt x="1271" y="192"/>
                </a:lnTo>
                <a:lnTo>
                  <a:pt x="1252" y="194"/>
                </a:lnTo>
                <a:lnTo>
                  <a:pt x="1230" y="198"/>
                </a:lnTo>
                <a:lnTo>
                  <a:pt x="1205" y="200"/>
                </a:lnTo>
                <a:lnTo>
                  <a:pt x="1180" y="201"/>
                </a:lnTo>
                <a:lnTo>
                  <a:pt x="1154" y="205"/>
                </a:lnTo>
                <a:lnTo>
                  <a:pt x="1123" y="209"/>
                </a:lnTo>
                <a:lnTo>
                  <a:pt x="1092" y="213"/>
                </a:lnTo>
                <a:lnTo>
                  <a:pt x="1060" y="215"/>
                </a:lnTo>
                <a:lnTo>
                  <a:pt x="1025" y="221"/>
                </a:lnTo>
                <a:lnTo>
                  <a:pt x="987" y="225"/>
                </a:lnTo>
                <a:lnTo>
                  <a:pt x="948" y="228"/>
                </a:lnTo>
                <a:lnTo>
                  <a:pt x="908" y="234"/>
                </a:lnTo>
                <a:lnTo>
                  <a:pt x="866" y="238"/>
                </a:lnTo>
                <a:lnTo>
                  <a:pt x="821" y="244"/>
                </a:lnTo>
                <a:lnTo>
                  <a:pt x="775" y="249"/>
                </a:lnTo>
                <a:lnTo>
                  <a:pt x="725" y="255"/>
                </a:lnTo>
                <a:lnTo>
                  <a:pt x="676" y="261"/>
                </a:lnTo>
                <a:lnTo>
                  <a:pt x="624" y="267"/>
                </a:lnTo>
                <a:lnTo>
                  <a:pt x="570" y="274"/>
                </a:lnTo>
                <a:lnTo>
                  <a:pt x="514" y="282"/>
                </a:lnTo>
                <a:lnTo>
                  <a:pt x="457" y="288"/>
                </a:lnTo>
                <a:lnTo>
                  <a:pt x="397" y="296"/>
                </a:lnTo>
                <a:lnTo>
                  <a:pt x="336" y="303"/>
                </a:lnTo>
                <a:lnTo>
                  <a:pt x="272" y="313"/>
                </a:lnTo>
                <a:lnTo>
                  <a:pt x="207" y="320"/>
                </a:lnTo>
                <a:lnTo>
                  <a:pt x="140" y="328"/>
                </a:lnTo>
                <a:lnTo>
                  <a:pt x="71" y="338"/>
                </a:lnTo>
                <a:lnTo>
                  <a:pt x="0" y="347"/>
                </a:lnTo>
                <a:lnTo>
                  <a:pt x="0" y="248"/>
                </a:lnTo>
                <a:lnTo>
                  <a:pt x="17" y="246"/>
                </a:lnTo>
                <a:lnTo>
                  <a:pt x="36" y="244"/>
                </a:lnTo>
                <a:lnTo>
                  <a:pt x="55" y="242"/>
                </a:lnTo>
                <a:lnTo>
                  <a:pt x="75" y="238"/>
                </a:lnTo>
                <a:lnTo>
                  <a:pt x="96" y="236"/>
                </a:lnTo>
                <a:lnTo>
                  <a:pt x="117" y="234"/>
                </a:lnTo>
                <a:lnTo>
                  <a:pt x="159" y="228"/>
                </a:lnTo>
                <a:lnTo>
                  <a:pt x="205" y="223"/>
                </a:lnTo>
                <a:lnTo>
                  <a:pt x="251" y="215"/>
                </a:lnTo>
                <a:lnTo>
                  <a:pt x="297" y="207"/>
                </a:lnTo>
                <a:lnTo>
                  <a:pt x="347" y="198"/>
                </a:lnTo>
                <a:lnTo>
                  <a:pt x="359" y="198"/>
                </a:lnTo>
                <a:lnTo>
                  <a:pt x="372" y="196"/>
                </a:lnTo>
                <a:lnTo>
                  <a:pt x="386" y="194"/>
                </a:lnTo>
                <a:lnTo>
                  <a:pt x="401" y="192"/>
                </a:lnTo>
                <a:lnTo>
                  <a:pt x="416" y="190"/>
                </a:lnTo>
                <a:lnTo>
                  <a:pt x="432" y="188"/>
                </a:lnTo>
                <a:lnTo>
                  <a:pt x="447" y="186"/>
                </a:lnTo>
                <a:lnTo>
                  <a:pt x="464" y="184"/>
                </a:lnTo>
                <a:lnTo>
                  <a:pt x="482" y="182"/>
                </a:lnTo>
                <a:lnTo>
                  <a:pt x="499" y="180"/>
                </a:lnTo>
                <a:lnTo>
                  <a:pt x="516" y="178"/>
                </a:lnTo>
                <a:lnTo>
                  <a:pt x="535" y="175"/>
                </a:lnTo>
                <a:lnTo>
                  <a:pt x="555" y="173"/>
                </a:lnTo>
                <a:lnTo>
                  <a:pt x="574" y="171"/>
                </a:lnTo>
                <a:lnTo>
                  <a:pt x="595" y="167"/>
                </a:lnTo>
                <a:lnTo>
                  <a:pt x="616" y="165"/>
                </a:lnTo>
                <a:lnTo>
                  <a:pt x="637" y="161"/>
                </a:lnTo>
                <a:lnTo>
                  <a:pt x="658" y="159"/>
                </a:lnTo>
                <a:lnTo>
                  <a:pt x="681" y="155"/>
                </a:lnTo>
                <a:lnTo>
                  <a:pt x="704" y="152"/>
                </a:lnTo>
                <a:lnTo>
                  <a:pt x="727" y="150"/>
                </a:lnTo>
                <a:lnTo>
                  <a:pt x="752" y="146"/>
                </a:lnTo>
                <a:lnTo>
                  <a:pt x="775" y="142"/>
                </a:lnTo>
                <a:lnTo>
                  <a:pt x="800" y="140"/>
                </a:lnTo>
                <a:lnTo>
                  <a:pt x="827" y="136"/>
                </a:lnTo>
                <a:lnTo>
                  <a:pt x="852" y="132"/>
                </a:lnTo>
                <a:lnTo>
                  <a:pt x="879" y="129"/>
                </a:lnTo>
                <a:lnTo>
                  <a:pt x="906" y="125"/>
                </a:lnTo>
                <a:lnTo>
                  <a:pt x="933" y="123"/>
                </a:lnTo>
                <a:lnTo>
                  <a:pt x="962" y="119"/>
                </a:lnTo>
                <a:lnTo>
                  <a:pt x="990" y="115"/>
                </a:lnTo>
                <a:lnTo>
                  <a:pt x="1019" y="111"/>
                </a:lnTo>
                <a:lnTo>
                  <a:pt x="1048" y="107"/>
                </a:lnTo>
                <a:lnTo>
                  <a:pt x="1077" y="104"/>
                </a:lnTo>
                <a:lnTo>
                  <a:pt x="1104" y="102"/>
                </a:lnTo>
                <a:lnTo>
                  <a:pt x="1129" y="98"/>
                </a:lnTo>
                <a:lnTo>
                  <a:pt x="1156" y="94"/>
                </a:lnTo>
                <a:lnTo>
                  <a:pt x="1180" y="92"/>
                </a:lnTo>
                <a:lnTo>
                  <a:pt x="1204" y="88"/>
                </a:lnTo>
                <a:lnTo>
                  <a:pt x="1227" y="84"/>
                </a:lnTo>
                <a:lnTo>
                  <a:pt x="1248" y="83"/>
                </a:lnTo>
                <a:lnTo>
                  <a:pt x="1271" y="79"/>
                </a:lnTo>
                <a:lnTo>
                  <a:pt x="1290" y="77"/>
                </a:lnTo>
                <a:lnTo>
                  <a:pt x="1311" y="73"/>
                </a:lnTo>
                <a:lnTo>
                  <a:pt x="1328" y="71"/>
                </a:lnTo>
                <a:lnTo>
                  <a:pt x="1348" y="69"/>
                </a:lnTo>
                <a:lnTo>
                  <a:pt x="1365" y="65"/>
                </a:lnTo>
                <a:lnTo>
                  <a:pt x="1380" y="63"/>
                </a:lnTo>
                <a:lnTo>
                  <a:pt x="1396" y="61"/>
                </a:lnTo>
                <a:lnTo>
                  <a:pt x="1411" y="58"/>
                </a:lnTo>
                <a:lnTo>
                  <a:pt x="1424" y="56"/>
                </a:lnTo>
                <a:lnTo>
                  <a:pt x="1438" y="54"/>
                </a:lnTo>
                <a:lnTo>
                  <a:pt x="1451" y="50"/>
                </a:lnTo>
                <a:lnTo>
                  <a:pt x="1463" y="48"/>
                </a:lnTo>
                <a:lnTo>
                  <a:pt x="1472" y="46"/>
                </a:lnTo>
                <a:lnTo>
                  <a:pt x="1484" y="44"/>
                </a:lnTo>
                <a:lnTo>
                  <a:pt x="1493" y="40"/>
                </a:lnTo>
                <a:lnTo>
                  <a:pt x="1501" y="38"/>
                </a:lnTo>
                <a:lnTo>
                  <a:pt x="1509" y="36"/>
                </a:lnTo>
                <a:lnTo>
                  <a:pt x="1516" y="35"/>
                </a:lnTo>
                <a:lnTo>
                  <a:pt x="1522" y="31"/>
                </a:lnTo>
                <a:lnTo>
                  <a:pt x="1526" y="29"/>
                </a:lnTo>
                <a:lnTo>
                  <a:pt x="1532" y="27"/>
                </a:lnTo>
                <a:lnTo>
                  <a:pt x="1536" y="25"/>
                </a:lnTo>
                <a:lnTo>
                  <a:pt x="1553" y="15"/>
                </a:lnTo>
                <a:lnTo>
                  <a:pt x="1563" y="12"/>
                </a:lnTo>
                <a:lnTo>
                  <a:pt x="1572" y="8"/>
                </a:lnTo>
                <a:lnTo>
                  <a:pt x="1584" y="4"/>
                </a:lnTo>
                <a:lnTo>
                  <a:pt x="1595" y="2"/>
                </a:lnTo>
                <a:lnTo>
                  <a:pt x="1607" y="0"/>
                </a:lnTo>
                <a:lnTo>
                  <a:pt x="1620" y="0"/>
                </a:lnTo>
                <a:lnTo>
                  <a:pt x="1624" y="2"/>
                </a:lnTo>
                <a:lnTo>
                  <a:pt x="1630" y="6"/>
                </a:lnTo>
                <a:lnTo>
                  <a:pt x="1637" y="8"/>
                </a:lnTo>
                <a:lnTo>
                  <a:pt x="1643" y="12"/>
                </a:lnTo>
                <a:lnTo>
                  <a:pt x="1653" y="15"/>
                </a:lnTo>
                <a:lnTo>
                  <a:pt x="1662" y="19"/>
                </a:lnTo>
                <a:lnTo>
                  <a:pt x="1672" y="25"/>
                </a:lnTo>
                <a:lnTo>
                  <a:pt x="1683" y="31"/>
                </a:lnTo>
                <a:lnTo>
                  <a:pt x="1695" y="36"/>
                </a:lnTo>
                <a:lnTo>
                  <a:pt x="1707" y="42"/>
                </a:lnTo>
                <a:lnTo>
                  <a:pt x="1720" y="50"/>
                </a:lnTo>
                <a:lnTo>
                  <a:pt x="1733" y="59"/>
                </a:lnTo>
                <a:lnTo>
                  <a:pt x="1749" y="67"/>
                </a:lnTo>
                <a:lnTo>
                  <a:pt x="1766" y="77"/>
                </a:lnTo>
                <a:lnTo>
                  <a:pt x="1781" y="88"/>
                </a:lnTo>
                <a:lnTo>
                  <a:pt x="1799" y="100"/>
                </a:lnTo>
                <a:lnTo>
                  <a:pt x="1816" y="111"/>
                </a:lnTo>
                <a:lnTo>
                  <a:pt x="1833" y="123"/>
                </a:lnTo>
                <a:lnTo>
                  <a:pt x="1849" y="132"/>
                </a:lnTo>
                <a:lnTo>
                  <a:pt x="1862" y="144"/>
                </a:lnTo>
                <a:lnTo>
                  <a:pt x="1875" y="154"/>
                </a:lnTo>
                <a:lnTo>
                  <a:pt x="1887" y="163"/>
                </a:lnTo>
                <a:lnTo>
                  <a:pt x="1897" y="171"/>
                </a:lnTo>
                <a:lnTo>
                  <a:pt x="1906" y="180"/>
                </a:lnTo>
                <a:lnTo>
                  <a:pt x="1916" y="188"/>
                </a:lnTo>
                <a:lnTo>
                  <a:pt x="1923" y="196"/>
                </a:lnTo>
                <a:lnTo>
                  <a:pt x="1929" y="201"/>
                </a:lnTo>
                <a:lnTo>
                  <a:pt x="1935" y="207"/>
                </a:lnTo>
                <a:lnTo>
                  <a:pt x="1939" y="213"/>
                </a:lnTo>
                <a:lnTo>
                  <a:pt x="1941" y="217"/>
                </a:lnTo>
                <a:lnTo>
                  <a:pt x="1943" y="221"/>
                </a:lnTo>
                <a:lnTo>
                  <a:pt x="1943" y="223"/>
                </a:lnTo>
                <a:lnTo>
                  <a:pt x="1943" y="228"/>
                </a:lnTo>
                <a:lnTo>
                  <a:pt x="1941" y="232"/>
                </a:lnTo>
                <a:lnTo>
                  <a:pt x="1939" y="236"/>
                </a:lnTo>
                <a:lnTo>
                  <a:pt x="1937" y="240"/>
                </a:lnTo>
                <a:lnTo>
                  <a:pt x="1933" y="244"/>
                </a:lnTo>
                <a:lnTo>
                  <a:pt x="1929" y="246"/>
                </a:lnTo>
                <a:lnTo>
                  <a:pt x="1923" y="249"/>
                </a:lnTo>
                <a:lnTo>
                  <a:pt x="1918" y="251"/>
                </a:lnTo>
                <a:lnTo>
                  <a:pt x="1912" y="253"/>
                </a:lnTo>
                <a:lnTo>
                  <a:pt x="1904" y="255"/>
                </a:lnTo>
                <a:lnTo>
                  <a:pt x="1897" y="257"/>
                </a:lnTo>
                <a:lnTo>
                  <a:pt x="1887" y="259"/>
                </a:lnTo>
                <a:lnTo>
                  <a:pt x="1877" y="259"/>
                </a:lnTo>
                <a:lnTo>
                  <a:pt x="1868" y="259"/>
                </a:lnTo>
                <a:lnTo>
                  <a:pt x="1858" y="261"/>
                </a:lnTo>
                <a:lnTo>
                  <a:pt x="1847" y="261"/>
                </a:lnTo>
                <a:lnTo>
                  <a:pt x="1833" y="263"/>
                </a:lnTo>
                <a:lnTo>
                  <a:pt x="1820" y="267"/>
                </a:lnTo>
                <a:lnTo>
                  <a:pt x="1806" y="271"/>
                </a:lnTo>
                <a:lnTo>
                  <a:pt x="1793" y="274"/>
                </a:lnTo>
                <a:lnTo>
                  <a:pt x="1779" y="280"/>
                </a:lnTo>
                <a:lnTo>
                  <a:pt x="1766" y="286"/>
                </a:lnTo>
                <a:lnTo>
                  <a:pt x="1751" y="294"/>
                </a:lnTo>
                <a:lnTo>
                  <a:pt x="1737" y="301"/>
                </a:lnTo>
                <a:lnTo>
                  <a:pt x="1724" y="309"/>
                </a:lnTo>
                <a:lnTo>
                  <a:pt x="1708" y="319"/>
                </a:lnTo>
                <a:lnTo>
                  <a:pt x="1695" y="328"/>
                </a:lnTo>
                <a:lnTo>
                  <a:pt x="1680" y="340"/>
                </a:lnTo>
                <a:lnTo>
                  <a:pt x="1664" y="353"/>
                </a:lnTo>
                <a:lnTo>
                  <a:pt x="1651" y="367"/>
                </a:lnTo>
                <a:lnTo>
                  <a:pt x="1635" y="382"/>
                </a:lnTo>
                <a:lnTo>
                  <a:pt x="1620" y="39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44"/>
          <p:cNvSpPr/>
          <p:nvPr/>
        </p:nvSpPr>
        <p:spPr>
          <a:xfrm>
            <a:off x="6800760" y="3546360"/>
            <a:ext cx="304920" cy="225720"/>
          </a:xfrm>
          <a:custGeom>
            <a:avLst/>
            <a:gdLst/>
            <a:ahLst/>
            <a:rect l="l" t="t" r="r" b="b"/>
            <a:pathLst>
              <a:path w="384" h="284">
                <a:moveTo>
                  <a:pt x="0" y="59"/>
                </a:moveTo>
                <a:lnTo>
                  <a:pt x="0" y="50"/>
                </a:lnTo>
                <a:lnTo>
                  <a:pt x="0" y="42"/>
                </a:lnTo>
                <a:lnTo>
                  <a:pt x="2" y="36"/>
                </a:lnTo>
                <a:lnTo>
                  <a:pt x="2" y="31"/>
                </a:lnTo>
                <a:lnTo>
                  <a:pt x="4" y="25"/>
                </a:lnTo>
                <a:lnTo>
                  <a:pt x="5" y="19"/>
                </a:lnTo>
                <a:lnTo>
                  <a:pt x="7" y="15"/>
                </a:lnTo>
                <a:lnTo>
                  <a:pt x="13" y="10"/>
                </a:lnTo>
                <a:lnTo>
                  <a:pt x="15" y="8"/>
                </a:lnTo>
                <a:lnTo>
                  <a:pt x="17" y="6"/>
                </a:lnTo>
                <a:lnTo>
                  <a:pt x="21" y="4"/>
                </a:lnTo>
                <a:lnTo>
                  <a:pt x="27" y="2"/>
                </a:lnTo>
                <a:lnTo>
                  <a:pt x="30" y="2"/>
                </a:lnTo>
                <a:lnTo>
                  <a:pt x="36" y="2"/>
                </a:lnTo>
                <a:lnTo>
                  <a:pt x="44" y="0"/>
                </a:lnTo>
                <a:lnTo>
                  <a:pt x="52" y="0"/>
                </a:lnTo>
                <a:lnTo>
                  <a:pt x="59" y="0"/>
                </a:lnTo>
                <a:lnTo>
                  <a:pt x="69" y="2"/>
                </a:lnTo>
                <a:lnTo>
                  <a:pt x="78" y="2"/>
                </a:lnTo>
                <a:lnTo>
                  <a:pt x="90" y="2"/>
                </a:lnTo>
                <a:lnTo>
                  <a:pt x="101" y="4"/>
                </a:lnTo>
                <a:lnTo>
                  <a:pt x="115" y="6"/>
                </a:lnTo>
                <a:lnTo>
                  <a:pt x="128" y="8"/>
                </a:lnTo>
                <a:lnTo>
                  <a:pt x="144" y="10"/>
                </a:lnTo>
                <a:lnTo>
                  <a:pt x="171" y="15"/>
                </a:lnTo>
                <a:lnTo>
                  <a:pt x="196" y="19"/>
                </a:lnTo>
                <a:lnTo>
                  <a:pt x="221" y="25"/>
                </a:lnTo>
                <a:lnTo>
                  <a:pt x="244" y="31"/>
                </a:lnTo>
                <a:lnTo>
                  <a:pt x="265" y="38"/>
                </a:lnTo>
                <a:lnTo>
                  <a:pt x="286" y="48"/>
                </a:lnTo>
                <a:lnTo>
                  <a:pt x="295" y="54"/>
                </a:lnTo>
                <a:lnTo>
                  <a:pt x="305" y="59"/>
                </a:lnTo>
                <a:lnTo>
                  <a:pt x="315" y="65"/>
                </a:lnTo>
                <a:lnTo>
                  <a:pt x="324" y="73"/>
                </a:lnTo>
                <a:lnTo>
                  <a:pt x="338" y="86"/>
                </a:lnTo>
                <a:lnTo>
                  <a:pt x="349" y="100"/>
                </a:lnTo>
                <a:lnTo>
                  <a:pt x="359" y="115"/>
                </a:lnTo>
                <a:lnTo>
                  <a:pt x="368" y="130"/>
                </a:lnTo>
                <a:lnTo>
                  <a:pt x="374" y="146"/>
                </a:lnTo>
                <a:lnTo>
                  <a:pt x="378" y="153"/>
                </a:lnTo>
                <a:lnTo>
                  <a:pt x="380" y="161"/>
                </a:lnTo>
                <a:lnTo>
                  <a:pt x="382" y="169"/>
                </a:lnTo>
                <a:lnTo>
                  <a:pt x="384" y="178"/>
                </a:lnTo>
                <a:lnTo>
                  <a:pt x="384" y="188"/>
                </a:lnTo>
                <a:lnTo>
                  <a:pt x="384" y="196"/>
                </a:lnTo>
                <a:lnTo>
                  <a:pt x="384" y="207"/>
                </a:lnTo>
                <a:lnTo>
                  <a:pt x="384" y="217"/>
                </a:lnTo>
                <a:lnTo>
                  <a:pt x="382" y="226"/>
                </a:lnTo>
                <a:lnTo>
                  <a:pt x="380" y="236"/>
                </a:lnTo>
                <a:lnTo>
                  <a:pt x="378" y="244"/>
                </a:lnTo>
                <a:lnTo>
                  <a:pt x="374" y="251"/>
                </a:lnTo>
                <a:lnTo>
                  <a:pt x="372" y="257"/>
                </a:lnTo>
                <a:lnTo>
                  <a:pt x="368" y="263"/>
                </a:lnTo>
                <a:lnTo>
                  <a:pt x="364" y="269"/>
                </a:lnTo>
                <a:lnTo>
                  <a:pt x="359" y="272"/>
                </a:lnTo>
                <a:lnTo>
                  <a:pt x="355" y="276"/>
                </a:lnTo>
                <a:lnTo>
                  <a:pt x="349" y="278"/>
                </a:lnTo>
                <a:lnTo>
                  <a:pt x="343" y="280"/>
                </a:lnTo>
                <a:lnTo>
                  <a:pt x="338" y="282"/>
                </a:lnTo>
                <a:lnTo>
                  <a:pt x="330" y="282"/>
                </a:lnTo>
                <a:lnTo>
                  <a:pt x="324" y="284"/>
                </a:lnTo>
                <a:lnTo>
                  <a:pt x="315" y="282"/>
                </a:lnTo>
                <a:lnTo>
                  <a:pt x="305" y="282"/>
                </a:lnTo>
                <a:lnTo>
                  <a:pt x="295" y="280"/>
                </a:lnTo>
                <a:lnTo>
                  <a:pt x="286" y="276"/>
                </a:lnTo>
                <a:lnTo>
                  <a:pt x="276" y="272"/>
                </a:lnTo>
                <a:lnTo>
                  <a:pt x="265" y="269"/>
                </a:lnTo>
                <a:lnTo>
                  <a:pt x="253" y="263"/>
                </a:lnTo>
                <a:lnTo>
                  <a:pt x="242" y="257"/>
                </a:lnTo>
                <a:lnTo>
                  <a:pt x="230" y="249"/>
                </a:lnTo>
                <a:lnTo>
                  <a:pt x="217" y="244"/>
                </a:lnTo>
                <a:lnTo>
                  <a:pt x="203" y="234"/>
                </a:lnTo>
                <a:lnTo>
                  <a:pt x="190" y="226"/>
                </a:lnTo>
                <a:lnTo>
                  <a:pt x="176" y="217"/>
                </a:lnTo>
                <a:lnTo>
                  <a:pt x="163" y="205"/>
                </a:lnTo>
                <a:lnTo>
                  <a:pt x="148" y="196"/>
                </a:lnTo>
                <a:lnTo>
                  <a:pt x="132" y="184"/>
                </a:lnTo>
                <a:lnTo>
                  <a:pt x="117" y="173"/>
                </a:lnTo>
                <a:lnTo>
                  <a:pt x="103" y="161"/>
                </a:lnTo>
                <a:lnTo>
                  <a:pt x="90" y="150"/>
                </a:lnTo>
                <a:lnTo>
                  <a:pt x="77" y="140"/>
                </a:lnTo>
                <a:lnTo>
                  <a:pt x="65" y="130"/>
                </a:lnTo>
                <a:lnTo>
                  <a:pt x="53" y="121"/>
                </a:lnTo>
                <a:lnTo>
                  <a:pt x="44" y="111"/>
                </a:lnTo>
                <a:lnTo>
                  <a:pt x="34" y="104"/>
                </a:lnTo>
                <a:lnTo>
                  <a:pt x="27" y="94"/>
                </a:lnTo>
                <a:lnTo>
                  <a:pt x="21" y="88"/>
                </a:lnTo>
                <a:lnTo>
                  <a:pt x="13" y="81"/>
                </a:lnTo>
                <a:lnTo>
                  <a:pt x="9" y="75"/>
                </a:lnTo>
                <a:lnTo>
                  <a:pt x="5" y="71"/>
                </a:lnTo>
                <a:lnTo>
                  <a:pt x="2" y="65"/>
                </a:lnTo>
                <a:lnTo>
                  <a:pt x="2" y="61"/>
                </a:lnTo>
                <a:lnTo>
                  <a:pt x="0" y="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45"/>
          <p:cNvSpPr/>
          <p:nvPr/>
        </p:nvSpPr>
        <p:spPr>
          <a:xfrm>
            <a:off x="5524560" y="3467160"/>
            <a:ext cx="1047600" cy="1589040"/>
          </a:xfrm>
          <a:custGeom>
            <a:avLst/>
            <a:gdLst/>
            <a:ahLst/>
            <a:rect l="l" t="t" r="r" b="b"/>
            <a:pathLst>
              <a:path w="1321" h="2004">
                <a:moveTo>
                  <a:pt x="578" y="1689"/>
                </a:moveTo>
                <a:lnTo>
                  <a:pt x="553" y="1710"/>
                </a:lnTo>
                <a:lnTo>
                  <a:pt x="528" y="1729"/>
                </a:lnTo>
                <a:lnTo>
                  <a:pt x="505" y="1749"/>
                </a:lnTo>
                <a:lnTo>
                  <a:pt x="480" y="1768"/>
                </a:lnTo>
                <a:lnTo>
                  <a:pt x="457" y="1785"/>
                </a:lnTo>
                <a:lnTo>
                  <a:pt x="434" y="1800"/>
                </a:lnTo>
                <a:lnTo>
                  <a:pt x="411" y="1818"/>
                </a:lnTo>
                <a:lnTo>
                  <a:pt x="386" y="1833"/>
                </a:lnTo>
                <a:lnTo>
                  <a:pt x="363" y="1846"/>
                </a:lnTo>
                <a:lnTo>
                  <a:pt x="342" y="1862"/>
                </a:lnTo>
                <a:lnTo>
                  <a:pt x="319" y="1875"/>
                </a:lnTo>
                <a:lnTo>
                  <a:pt x="296" y="1889"/>
                </a:lnTo>
                <a:lnTo>
                  <a:pt x="250" y="1914"/>
                </a:lnTo>
                <a:lnTo>
                  <a:pt x="205" y="1939"/>
                </a:lnTo>
                <a:lnTo>
                  <a:pt x="180" y="1950"/>
                </a:lnTo>
                <a:lnTo>
                  <a:pt x="159" y="1960"/>
                </a:lnTo>
                <a:lnTo>
                  <a:pt x="138" y="1967"/>
                </a:lnTo>
                <a:lnTo>
                  <a:pt x="119" y="1977"/>
                </a:lnTo>
                <a:lnTo>
                  <a:pt x="102" y="1983"/>
                </a:lnTo>
                <a:lnTo>
                  <a:pt x="86" y="1988"/>
                </a:lnTo>
                <a:lnTo>
                  <a:pt x="71" y="1994"/>
                </a:lnTo>
                <a:lnTo>
                  <a:pt x="58" y="1998"/>
                </a:lnTo>
                <a:lnTo>
                  <a:pt x="46" y="2000"/>
                </a:lnTo>
                <a:lnTo>
                  <a:pt x="36" y="2002"/>
                </a:lnTo>
                <a:lnTo>
                  <a:pt x="27" y="2004"/>
                </a:lnTo>
                <a:lnTo>
                  <a:pt x="19" y="2004"/>
                </a:lnTo>
                <a:lnTo>
                  <a:pt x="13" y="2004"/>
                </a:lnTo>
                <a:lnTo>
                  <a:pt x="8" y="2004"/>
                </a:lnTo>
                <a:lnTo>
                  <a:pt x="4" y="2002"/>
                </a:lnTo>
                <a:lnTo>
                  <a:pt x="2" y="2000"/>
                </a:lnTo>
                <a:lnTo>
                  <a:pt x="0" y="1998"/>
                </a:lnTo>
                <a:lnTo>
                  <a:pt x="0" y="1994"/>
                </a:lnTo>
                <a:lnTo>
                  <a:pt x="0" y="1988"/>
                </a:lnTo>
                <a:lnTo>
                  <a:pt x="4" y="1985"/>
                </a:lnTo>
                <a:lnTo>
                  <a:pt x="8" y="1977"/>
                </a:lnTo>
                <a:lnTo>
                  <a:pt x="13" y="1971"/>
                </a:lnTo>
                <a:lnTo>
                  <a:pt x="21" y="1964"/>
                </a:lnTo>
                <a:lnTo>
                  <a:pt x="31" y="1954"/>
                </a:lnTo>
                <a:lnTo>
                  <a:pt x="42" y="1944"/>
                </a:lnTo>
                <a:lnTo>
                  <a:pt x="56" y="1933"/>
                </a:lnTo>
                <a:lnTo>
                  <a:pt x="69" y="1921"/>
                </a:lnTo>
                <a:lnTo>
                  <a:pt x="86" y="1910"/>
                </a:lnTo>
                <a:lnTo>
                  <a:pt x="104" y="1896"/>
                </a:lnTo>
                <a:lnTo>
                  <a:pt x="123" y="1883"/>
                </a:lnTo>
                <a:lnTo>
                  <a:pt x="146" y="1868"/>
                </a:lnTo>
                <a:lnTo>
                  <a:pt x="157" y="1860"/>
                </a:lnTo>
                <a:lnTo>
                  <a:pt x="169" y="1852"/>
                </a:lnTo>
                <a:lnTo>
                  <a:pt x="194" y="1835"/>
                </a:lnTo>
                <a:lnTo>
                  <a:pt x="219" y="1818"/>
                </a:lnTo>
                <a:lnTo>
                  <a:pt x="244" y="1798"/>
                </a:lnTo>
                <a:lnTo>
                  <a:pt x="267" y="1781"/>
                </a:lnTo>
                <a:lnTo>
                  <a:pt x="292" y="1762"/>
                </a:lnTo>
                <a:lnTo>
                  <a:pt x="317" y="1743"/>
                </a:lnTo>
                <a:lnTo>
                  <a:pt x="342" y="1722"/>
                </a:lnTo>
                <a:lnTo>
                  <a:pt x="367" y="1701"/>
                </a:lnTo>
                <a:lnTo>
                  <a:pt x="392" y="1680"/>
                </a:lnTo>
                <a:lnTo>
                  <a:pt x="417" y="1656"/>
                </a:lnTo>
                <a:lnTo>
                  <a:pt x="441" y="1633"/>
                </a:lnTo>
                <a:lnTo>
                  <a:pt x="466" y="1608"/>
                </a:lnTo>
                <a:lnTo>
                  <a:pt x="491" y="1584"/>
                </a:lnTo>
                <a:lnTo>
                  <a:pt x="516" y="1557"/>
                </a:lnTo>
                <a:lnTo>
                  <a:pt x="539" y="1530"/>
                </a:lnTo>
                <a:lnTo>
                  <a:pt x="564" y="1503"/>
                </a:lnTo>
                <a:lnTo>
                  <a:pt x="589" y="1474"/>
                </a:lnTo>
                <a:lnTo>
                  <a:pt x="612" y="1445"/>
                </a:lnTo>
                <a:lnTo>
                  <a:pt x="635" y="1417"/>
                </a:lnTo>
                <a:lnTo>
                  <a:pt x="658" y="1388"/>
                </a:lnTo>
                <a:lnTo>
                  <a:pt x="681" y="1359"/>
                </a:lnTo>
                <a:lnTo>
                  <a:pt x="703" y="1330"/>
                </a:lnTo>
                <a:lnTo>
                  <a:pt x="724" y="1300"/>
                </a:lnTo>
                <a:lnTo>
                  <a:pt x="745" y="1271"/>
                </a:lnTo>
                <a:lnTo>
                  <a:pt x="764" y="1240"/>
                </a:lnTo>
                <a:lnTo>
                  <a:pt x="785" y="1209"/>
                </a:lnTo>
                <a:lnTo>
                  <a:pt x="804" y="1179"/>
                </a:lnTo>
                <a:lnTo>
                  <a:pt x="822" y="1148"/>
                </a:lnTo>
                <a:lnTo>
                  <a:pt x="839" y="1115"/>
                </a:lnTo>
                <a:lnTo>
                  <a:pt x="856" y="1085"/>
                </a:lnTo>
                <a:lnTo>
                  <a:pt x="873" y="1052"/>
                </a:lnTo>
                <a:lnTo>
                  <a:pt x="889" y="1019"/>
                </a:lnTo>
                <a:lnTo>
                  <a:pt x="904" y="987"/>
                </a:lnTo>
                <a:lnTo>
                  <a:pt x="918" y="954"/>
                </a:lnTo>
                <a:lnTo>
                  <a:pt x="933" y="921"/>
                </a:lnTo>
                <a:lnTo>
                  <a:pt x="944" y="889"/>
                </a:lnTo>
                <a:lnTo>
                  <a:pt x="958" y="856"/>
                </a:lnTo>
                <a:lnTo>
                  <a:pt x="969" y="824"/>
                </a:lnTo>
                <a:lnTo>
                  <a:pt x="981" y="791"/>
                </a:lnTo>
                <a:lnTo>
                  <a:pt x="991" y="758"/>
                </a:lnTo>
                <a:lnTo>
                  <a:pt x="1000" y="728"/>
                </a:lnTo>
                <a:lnTo>
                  <a:pt x="1010" y="695"/>
                </a:lnTo>
                <a:lnTo>
                  <a:pt x="1019" y="664"/>
                </a:lnTo>
                <a:lnTo>
                  <a:pt x="1027" y="634"/>
                </a:lnTo>
                <a:lnTo>
                  <a:pt x="1042" y="570"/>
                </a:lnTo>
                <a:lnTo>
                  <a:pt x="1058" y="509"/>
                </a:lnTo>
                <a:lnTo>
                  <a:pt x="1064" y="480"/>
                </a:lnTo>
                <a:lnTo>
                  <a:pt x="1069" y="451"/>
                </a:lnTo>
                <a:lnTo>
                  <a:pt x="1075" y="424"/>
                </a:lnTo>
                <a:lnTo>
                  <a:pt x="1079" y="399"/>
                </a:lnTo>
                <a:lnTo>
                  <a:pt x="1085" y="376"/>
                </a:lnTo>
                <a:lnTo>
                  <a:pt x="1088" y="353"/>
                </a:lnTo>
                <a:lnTo>
                  <a:pt x="1090" y="332"/>
                </a:lnTo>
                <a:lnTo>
                  <a:pt x="1094" y="313"/>
                </a:lnTo>
                <a:lnTo>
                  <a:pt x="1096" y="296"/>
                </a:lnTo>
                <a:lnTo>
                  <a:pt x="1100" y="279"/>
                </a:lnTo>
                <a:lnTo>
                  <a:pt x="1100" y="265"/>
                </a:lnTo>
                <a:lnTo>
                  <a:pt x="1102" y="252"/>
                </a:lnTo>
                <a:lnTo>
                  <a:pt x="1104" y="238"/>
                </a:lnTo>
                <a:lnTo>
                  <a:pt x="1104" y="229"/>
                </a:lnTo>
                <a:lnTo>
                  <a:pt x="1104" y="219"/>
                </a:lnTo>
                <a:lnTo>
                  <a:pt x="1106" y="211"/>
                </a:lnTo>
                <a:lnTo>
                  <a:pt x="1104" y="198"/>
                </a:lnTo>
                <a:lnTo>
                  <a:pt x="1102" y="183"/>
                </a:lnTo>
                <a:lnTo>
                  <a:pt x="1100" y="169"/>
                </a:lnTo>
                <a:lnTo>
                  <a:pt x="1094" y="156"/>
                </a:lnTo>
                <a:lnTo>
                  <a:pt x="1088" y="142"/>
                </a:lnTo>
                <a:lnTo>
                  <a:pt x="1085" y="135"/>
                </a:lnTo>
                <a:lnTo>
                  <a:pt x="1079" y="127"/>
                </a:lnTo>
                <a:lnTo>
                  <a:pt x="1075" y="121"/>
                </a:lnTo>
                <a:lnTo>
                  <a:pt x="1069" y="113"/>
                </a:lnTo>
                <a:lnTo>
                  <a:pt x="1064" y="106"/>
                </a:lnTo>
                <a:lnTo>
                  <a:pt x="1058" y="100"/>
                </a:lnTo>
                <a:lnTo>
                  <a:pt x="1050" y="92"/>
                </a:lnTo>
                <a:lnTo>
                  <a:pt x="1046" y="87"/>
                </a:lnTo>
                <a:lnTo>
                  <a:pt x="1040" y="79"/>
                </a:lnTo>
                <a:lnTo>
                  <a:pt x="1037" y="73"/>
                </a:lnTo>
                <a:lnTo>
                  <a:pt x="1033" y="67"/>
                </a:lnTo>
                <a:lnTo>
                  <a:pt x="1031" y="62"/>
                </a:lnTo>
                <a:lnTo>
                  <a:pt x="1029" y="58"/>
                </a:lnTo>
                <a:lnTo>
                  <a:pt x="1029" y="52"/>
                </a:lnTo>
                <a:lnTo>
                  <a:pt x="1029" y="48"/>
                </a:lnTo>
                <a:lnTo>
                  <a:pt x="1029" y="44"/>
                </a:lnTo>
                <a:lnTo>
                  <a:pt x="1031" y="41"/>
                </a:lnTo>
                <a:lnTo>
                  <a:pt x="1033" y="37"/>
                </a:lnTo>
                <a:lnTo>
                  <a:pt x="1035" y="33"/>
                </a:lnTo>
                <a:lnTo>
                  <a:pt x="1037" y="31"/>
                </a:lnTo>
                <a:lnTo>
                  <a:pt x="1040" y="27"/>
                </a:lnTo>
                <a:lnTo>
                  <a:pt x="1046" y="25"/>
                </a:lnTo>
                <a:lnTo>
                  <a:pt x="1048" y="23"/>
                </a:lnTo>
                <a:lnTo>
                  <a:pt x="1050" y="21"/>
                </a:lnTo>
                <a:lnTo>
                  <a:pt x="1054" y="18"/>
                </a:lnTo>
                <a:lnTo>
                  <a:pt x="1058" y="16"/>
                </a:lnTo>
                <a:lnTo>
                  <a:pt x="1064" y="14"/>
                </a:lnTo>
                <a:lnTo>
                  <a:pt x="1067" y="12"/>
                </a:lnTo>
                <a:lnTo>
                  <a:pt x="1079" y="8"/>
                </a:lnTo>
                <a:lnTo>
                  <a:pt x="1092" y="4"/>
                </a:lnTo>
                <a:lnTo>
                  <a:pt x="1108" y="2"/>
                </a:lnTo>
                <a:lnTo>
                  <a:pt x="1123" y="0"/>
                </a:lnTo>
                <a:lnTo>
                  <a:pt x="1140" y="0"/>
                </a:lnTo>
                <a:lnTo>
                  <a:pt x="1156" y="4"/>
                </a:lnTo>
                <a:lnTo>
                  <a:pt x="1169" y="10"/>
                </a:lnTo>
                <a:lnTo>
                  <a:pt x="1184" y="16"/>
                </a:lnTo>
                <a:lnTo>
                  <a:pt x="1202" y="19"/>
                </a:lnTo>
                <a:lnTo>
                  <a:pt x="1217" y="27"/>
                </a:lnTo>
                <a:lnTo>
                  <a:pt x="1232" y="33"/>
                </a:lnTo>
                <a:lnTo>
                  <a:pt x="1248" y="41"/>
                </a:lnTo>
                <a:lnTo>
                  <a:pt x="1261" y="50"/>
                </a:lnTo>
                <a:lnTo>
                  <a:pt x="1275" y="64"/>
                </a:lnTo>
                <a:lnTo>
                  <a:pt x="1286" y="75"/>
                </a:lnTo>
                <a:lnTo>
                  <a:pt x="1296" y="87"/>
                </a:lnTo>
                <a:lnTo>
                  <a:pt x="1305" y="98"/>
                </a:lnTo>
                <a:lnTo>
                  <a:pt x="1311" y="108"/>
                </a:lnTo>
                <a:lnTo>
                  <a:pt x="1315" y="113"/>
                </a:lnTo>
                <a:lnTo>
                  <a:pt x="1317" y="117"/>
                </a:lnTo>
                <a:lnTo>
                  <a:pt x="1319" y="123"/>
                </a:lnTo>
                <a:lnTo>
                  <a:pt x="1321" y="127"/>
                </a:lnTo>
                <a:lnTo>
                  <a:pt x="1321" y="133"/>
                </a:lnTo>
                <a:lnTo>
                  <a:pt x="1321" y="137"/>
                </a:lnTo>
                <a:lnTo>
                  <a:pt x="1321" y="152"/>
                </a:lnTo>
                <a:lnTo>
                  <a:pt x="1319" y="167"/>
                </a:lnTo>
                <a:lnTo>
                  <a:pt x="1317" y="184"/>
                </a:lnTo>
                <a:lnTo>
                  <a:pt x="1313" y="204"/>
                </a:lnTo>
                <a:lnTo>
                  <a:pt x="1309" y="225"/>
                </a:lnTo>
                <a:lnTo>
                  <a:pt x="1307" y="234"/>
                </a:lnTo>
                <a:lnTo>
                  <a:pt x="1305" y="246"/>
                </a:lnTo>
                <a:lnTo>
                  <a:pt x="1303" y="259"/>
                </a:lnTo>
                <a:lnTo>
                  <a:pt x="1302" y="271"/>
                </a:lnTo>
                <a:lnTo>
                  <a:pt x="1300" y="284"/>
                </a:lnTo>
                <a:lnTo>
                  <a:pt x="1298" y="298"/>
                </a:lnTo>
                <a:lnTo>
                  <a:pt x="1294" y="315"/>
                </a:lnTo>
                <a:lnTo>
                  <a:pt x="1292" y="332"/>
                </a:lnTo>
                <a:lnTo>
                  <a:pt x="1288" y="351"/>
                </a:lnTo>
                <a:lnTo>
                  <a:pt x="1284" y="373"/>
                </a:lnTo>
                <a:lnTo>
                  <a:pt x="1279" y="394"/>
                </a:lnTo>
                <a:lnTo>
                  <a:pt x="1273" y="417"/>
                </a:lnTo>
                <a:lnTo>
                  <a:pt x="1267" y="442"/>
                </a:lnTo>
                <a:lnTo>
                  <a:pt x="1261" y="467"/>
                </a:lnTo>
                <a:lnTo>
                  <a:pt x="1254" y="493"/>
                </a:lnTo>
                <a:lnTo>
                  <a:pt x="1246" y="522"/>
                </a:lnTo>
                <a:lnTo>
                  <a:pt x="1238" y="551"/>
                </a:lnTo>
                <a:lnTo>
                  <a:pt x="1229" y="582"/>
                </a:lnTo>
                <a:lnTo>
                  <a:pt x="1221" y="614"/>
                </a:lnTo>
                <a:lnTo>
                  <a:pt x="1209" y="649"/>
                </a:lnTo>
                <a:lnTo>
                  <a:pt x="1200" y="683"/>
                </a:lnTo>
                <a:lnTo>
                  <a:pt x="1190" y="720"/>
                </a:lnTo>
                <a:lnTo>
                  <a:pt x="1179" y="760"/>
                </a:lnTo>
                <a:lnTo>
                  <a:pt x="1165" y="799"/>
                </a:lnTo>
                <a:lnTo>
                  <a:pt x="1154" y="835"/>
                </a:lnTo>
                <a:lnTo>
                  <a:pt x="1140" y="872"/>
                </a:lnTo>
                <a:lnTo>
                  <a:pt x="1127" y="908"/>
                </a:lnTo>
                <a:lnTo>
                  <a:pt x="1112" y="944"/>
                </a:lnTo>
                <a:lnTo>
                  <a:pt x="1096" y="979"/>
                </a:lnTo>
                <a:lnTo>
                  <a:pt x="1081" y="1012"/>
                </a:lnTo>
                <a:lnTo>
                  <a:pt x="1065" y="1046"/>
                </a:lnTo>
                <a:lnTo>
                  <a:pt x="1048" y="1079"/>
                </a:lnTo>
                <a:lnTo>
                  <a:pt x="1031" y="1111"/>
                </a:lnTo>
                <a:lnTo>
                  <a:pt x="1014" y="1142"/>
                </a:lnTo>
                <a:lnTo>
                  <a:pt x="994" y="1175"/>
                </a:lnTo>
                <a:lnTo>
                  <a:pt x="977" y="1205"/>
                </a:lnTo>
                <a:lnTo>
                  <a:pt x="937" y="1267"/>
                </a:lnTo>
                <a:lnTo>
                  <a:pt x="896" y="1328"/>
                </a:lnTo>
                <a:lnTo>
                  <a:pt x="854" y="1386"/>
                </a:lnTo>
                <a:lnTo>
                  <a:pt x="833" y="1415"/>
                </a:lnTo>
                <a:lnTo>
                  <a:pt x="810" y="1442"/>
                </a:lnTo>
                <a:lnTo>
                  <a:pt x="789" y="1470"/>
                </a:lnTo>
                <a:lnTo>
                  <a:pt x="766" y="1497"/>
                </a:lnTo>
                <a:lnTo>
                  <a:pt x="743" y="1524"/>
                </a:lnTo>
                <a:lnTo>
                  <a:pt x="720" y="1549"/>
                </a:lnTo>
                <a:lnTo>
                  <a:pt x="697" y="1574"/>
                </a:lnTo>
                <a:lnTo>
                  <a:pt x="674" y="1599"/>
                </a:lnTo>
                <a:lnTo>
                  <a:pt x="649" y="1622"/>
                </a:lnTo>
                <a:lnTo>
                  <a:pt x="626" y="1645"/>
                </a:lnTo>
                <a:lnTo>
                  <a:pt x="601" y="1668"/>
                </a:lnTo>
                <a:lnTo>
                  <a:pt x="578" y="16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46"/>
          <p:cNvSpPr/>
          <p:nvPr/>
        </p:nvSpPr>
        <p:spPr>
          <a:xfrm>
            <a:off x="5886360" y="3848040"/>
            <a:ext cx="1067040" cy="249120"/>
          </a:xfrm>
          <a:custGeom>
            <a:avLst/>
            <a:gdLst/>
            <a:ahLst/>
            <a:rect l="l" t="t" r="r" b="b"/>
            <a:pathLst>
              <a:path w="1344" h="315">
                <a:moveTo>
                  <a:pt x="948" y="54"/>
                </a:moveTo>
                <a:lnTo>
                  <a:pt x="977" y="46"/>
                </a:lnTo>
                <a:lnTo>
                  <a:pt x="1004" y="37"/>
                </a:lnTo>
                <a:lnTo>
                  <a:pt x="1031" y="29"/>
                </a:lnTo>
                <a:lnTo>
                  <a:pt x="1056" y="23"/>
                </a:lnTo>
                <a:lnTo>
                  <a:pt x="1081" y="17"/>
                </a:lnTo>
                <a:lnTo>
                  <a:pt x="1104" y="13"/>
                </a:lnTo>
                <a:lnTo>
                  <a:pt x="1125" y="10"/>
                </a:lnTo>
                <a:lnTo>
                  <a:pt x="1146" y="6"/>
                </a:lnTo>
                <a:lnTo>
                  <a:pt x="1165" y="4"/>
                </a:lnTo>
                <a:lnTo>
                  <a:pt x="1184" y="2"/>
                </a:lnTo>
                <a:lnTo>
                  <a:pt x="1202" y="0"/>
                </a:lnTo>
                <a:lnTo>
                  <a:pt x="1219" y="0"/>
                </a:lnTo>
                <a:lnTo>
                  <a:pt x="1234" y="0"/>
                </a:lnTo>
                <a:lnTo>
                  <a:pt x="1248" y="0"/>
                </a:lnTo>
                <a:lnTo>
                  <a:pt x="1261" y="2"/>
                </a:lnTo>
                <a:lnTo>
                  <a:pt x="1273" y="4"/>
                </a:lnTo>
                <a:lnTo>
                  <a:pt x="1280" y="10"/>
                </a:lnTo>
                <a:lnTo>
                  <a:pt x="1290" y="13"/>
                </a:lnTo>
                <a:lnTo>
                  <a:pt x="1298" y="19"/>
                </a:lnTo>
                <a:lnTo>
                  <a:pt x="1303" y="23"/>
                </a:lnTo>
                <a:lnTo>
                  <a:pt x="1311" y="29"/>
                </a:lnTo>
                <a:lnTo>
                  <a:pt x="1317" y="33"/>
                </a:lnTo>
                <a:lnTo>
                  <a:pt x="1321" y="37"/>
                </a:lnTo>
                <a:lnTo>
                  <a:pt x="1326" y="42"/>
                </a:lnTo>
                <a:lnTo>
                  <a:pt x="1330" y="46"/>
                </a:lnTo>
                <a:lnTo>
                  <a:pt x="1334" y="52"/>
                </a:lnTo>
                <a:lnTo>
                  <a:pt x="1338" y="56"/>
                </a:lnTo>
                <a:lnTo>
                  <a:pt x="1340" y="61"/>
                </a:lnTo>
                <a:lnTo>
                  <a:pt x="1342" y="65"/>
                </a:lnTo>
                <a:lnTo>
                  <a:pt x="1344" y="69"/>
                </a:lnTo>
                <a:lnTo>
                  <a:pt x="1344" y="75"/>
                </a:lnTo>
                <a:lnTo>
                  <a:pt x="1344" y="79"/>
                </a:lnTo>
                <a:lnTo>
                  <a:pt x="1344" y="83"/>
                </a:lnTo>
                <a:lnTo>
                  <a:pt x="1344" y="84"/>
                </a:lnTo>
                <a:lnTo>
                  <a:pt x="1342" y="86"/>
                </a:lnTo>
                <a:lnTo>
                  <a:pt x="1340" y="88"/>
                </a:lnTo>
                <a:lnTo>
                  <a:pt x="1338" y="92"/>
                </a:lnTo>
                <a:lnTo>
                  <a:pt x="1336" y="94"/>
                </a:lnTo>
                <a:lnTo>
                  <a:pt x="1332" y="98"/>
                </a:lnTo>
                <a:lnTo>
                  <a:pt x="1328" y="100"/>
                </a:lnTo>
                <a:lnTo>
                  <a:pt x="1321" y="106"/>
                </a:lnTo>
                <a:lnTo>
                  <a:pt x="1309" y="111"/>
                </a:lnTo>
                <a:lnTo>
                  <a:pt x="1298" y="117"/>
                </a:lnTo>
                <a:lnTo>
                  <a:pt x="1282" y="125"/>
                </a:lnTo>
                <a:lnTo>
                  <a:pt x="1267" y="131"/>
                </a:lnTo>
                <a:lnTo>
                  <a:pt x="1248" y="136"/>
                </a:lnTo>
                <a:lnTo>
                  <a:pt x="1229" y="144"/>
                </a:lnTo>
                <a:lnTo>
                  <a:pt x="1207" y="150"/>
                </a:lnTo>
                <a:lnTo>
                  <a:pt x="1184" y="157"/>
                </a:lnTo>
                <a:lnTo>
                  <a:pt x="1159" y="165"/>
                </a:lnTo>
                <a:lnTo>
                  <a:pt x="1133" y="171"/>
                </a:lnTo>
                <a:lnTo>
                  <a:pt x="1104" y="179"/>
                </a:lnTo>
                <a:lnTo>
                  <a:pt x="1046" y="192"/>
                </a:lnTo>
                <a:lnTo>
                  <a:pt x="985" y="207"/>
                </a:lnTo>
                <a:lnTo>
                  <a:pt x="925" y="221"/>
                </a:lnTo>
                <a:lnTo>
                  <a:pt x="864" y="232"/>
                </a:lnTo>
                <a:lnTo>
                  <a:pt x="804" y="246"/>
                </a:lnTo>
                <a:lnTo>
                  <a:pt x="743" y="257"/>
                </a:lnTo>
                <a:lnTo>
                  <a:pt x="683" y="269"/>
                </a:lnTo>
                <a:lnTo>
                  <a:pt x="624" y="278"/>
                </a:lnTo>
                <a:lnTo>
                  <a:pt x="595" y="282"/>
                </a:lnTo>
                <a:lnTo>
                  <a:pt x="568" y="286"/>
                </a:lnTo>
                <a:lnTo>
                  <a:pt x="541" y="290"/>
                </a:lnTo>
                <a:lnTo>
                  <a:pt x="514" y="294"/>
                </a:lnTo>
                <a:lnTo>
                  <a:pt x="489" y="298"/>
                </a:lnTo>
                <a:lnTo>
                  <a:pt x="464" y="301"/>
                </a:lnTo>
                <a:lnTo>
                  <a:pt x="441" y="303"/>
                </a:lnTo>
                <a:lnTo>
                  <a:pt x="418" y="305"/>
                </a:lnTo>
                <a:lnTo>
                  <a:pt x="397" y="309"/>
                </a:lnTo>
                <a:lnTo>
                  <a:pt x="376" y="311"/>
                </a:lnTo>
                <a:lnTo>
                  <a:pt x="357" y="311"/>
                </a:lnTo>
                <a:lnTo>
                  <a:pt x="340" y="313"/>
                </a:lnTo>
                <a:lnTo>
                  <a:pt x="320" y="315"/>
                </a:lnTo>
                <a:lnTo>
                  <a:pt x="305" y="315"/>
                </a:lnTo>
                <a:lnTo>
                  <a:pt x="290" y="315"/>
                </a:lnTo>
                <a:lnTo>
                  <a:pt x="276" y="315"/>
                </a:lnTo>
                <a:lnTo>
                  <a:pt x="261" y="315"/>
                </a:lnTo>
                <a:lnTo>
                  <a:pt x="246" y="315"/>
                </a:lnTo>
                <a:lnTo>
                  <a:pt x="230" y="315"/>
                </a:lnTo>
                <a:lnTo>
                  <a:pt x="217" y="313"/>
                </a:lnTo>
                <a:lnTo>
                  <a:pt x="203" y="313"/>
                </a:lnTo>
                <a:lnTo>
                  <a:pt x="190" y="311"/>
                </a:lnTo>
                <a:lnTo>
                  <a:pt x="167" y="307"/>
                </a:lnTo>
                <a:lnTo>
                  <a:pt x="144" y="303"/>
                </a:lnTo>
                <a:lnTo>
                  <a:pt x="123" y="299"/>
                </a:lnTo>
                <a:lnTo>
                  <a:pt x="102" y="296"/>
                </a:lnTo>
                <a:lnTo>
                  <a:pt x="84" y="290"/>
                </a:lnTo>
                <a:lnTo>
                  <a:pt x="73" y="288"/>
                </a:lnTo>
                <a:lnTo>
                  <a:pt x="63" y="286"/>
                </a:lnTo>
                <a:lnTo>
                  <a:pt x="54" y="284"/>
                </a:lnTo>
                <a:lnTo>
                  <a:pt x="46" y="280"/>
                </a:lnTo>
                <a:lnTo>
                  <a:pt x="38" y="278"/>
                </a:lnTo>
                <a:lnTo>
                  <a:pt x="31" y="276"/>
                </a:lnTo>
                <a:lnTo>
                  <a:pt x="25" y="274"/>
                </a:lnTo>
                <a:lnTo>
                  <a:pt x="19" y="271"/>
                </a:lnTo>
                <a:lnTo>
                  <a:pt x="15" y="269"/>
                </a:lnTo>
                <a:lnTo>
                  <a:pt x="11" y="267"/>
                </a:lnTo>
                <a:lnTo>
                  <a:pt x="8" y="265"/>
                </a:lnTo>
                <a:lnTo>
                  <a:pt x="4" y="263"/>
                </a:lnTo>
                <a:lnTo>
                  <a:pt x="2" y="259"/>
                </a:lnTo>
                <a:lnTo>
                  <a:pt x="2" y="257"/>
                </a:lnTo>
                <a:lnTo>
                  <a:pt x="0" y="255"/>
                </a:lnTo>
                <a:lnTo>
                  <a:pt x="0" y="253"/>
                </a:lnTo>
                <a:lnTo>
                  <a:pt x="0" y="251"/>
                </a:lnTo>
                <a:lnTo>
                  <a:pt x="2" y="250"/>
                </a:lnTo>
                <a:lnTo>
                  <a:pt x="2" y="248"/>
                </a:lnTo>
                <a:lnTo>
                  <a:pt x="4" y="246"/>
                </a:lnTo>
                <a:lnTo>
                  <a:pt x="8" y="244"/>
                </a:lnTo>
                <a:lnTo>
                  <a:pt x="11" y="244"/>
                </a:lnTo>
                <a:lnTo>
                  <a:pt x="15" y="242"/>
                </a:lnTo>
                <a:lnTo>
                  <a:pt x="19" y="240"/>
                </a:lnTo>
                <a:lnTo>
                  <a:pt x="25" y="240"/>
                </a:lnTo>
                <a:lnTo>
                  <a:pt x="31" y="238"/>
                </a:lnTo>
                <a:lnTo>
                  <a:pt x="38" y="236"/>
                </a:lnTo>
                <a:lnTo>
                  <a:pt x="46" y="236"/>
                </a:lnTo>
                <a:lnTo>
                  <a:pt x="54" y="234"/>
                </a:lnTo>
                <a:lnTo>
                  <a:pt x="63" y="232"/>
                </a:lnTo>
                <a:lnTo>
                  <a:pt x="73" y="230"/>
                </a:lnTo>
                <a:lnTo>
                  <a:pt x="84" y="228"/>
                </a:lnTo>
                <a:lnTo>
                  <a:pt x="94" y="226"/>
                </a:lnTo>
                <a:lnTo>
                  <a:pt x="105" y="223"/>
                </a:lnTo>
                <a:lnTo>
                  <a:pt x="119" y="221"/>
                </a:lnTo>
                <a:lnTo>
                  <a:pt x="132" y="219"/>
                </a:lnTo>
                <a:lnTo>
                  <a:pt x="150" y="215"/>
                </a:lnTo>
                <a:lnTo>
                  <a:pt x="167" y="213"/>
                </a:lnTo>
                <a:lnTo>
                  <a:pt x="188" y="209"/>
                </a:lnTo>
                <a:lnTo>
                  <a:pt x="209" y="207"/>
                </a:lnTo>
                <a:lnTo>
                  <a:pt x="232" y="203"/>
                </a:lnTo>
                <a:lnTo>
                  <a:pt x="255" y="200"/>
                </a:lnTo>
                <a:lnTo>
                  <a:pt x="282" y="194"/>
                </a:lnTo>
                <a:lnTo>
                  <a:pt x="309" y="190"/>
                </a:lnTo>
                <a:lnTo>
                  <a:pt x="338" y="184"/>
                </a:lnTo>
                <a:lnTo>
                  <a:pt x="367" y="179"/>
                </a:lnTo>
                <a:lnTo>
                  <a:pt x="399" y="173"/>
                </a:lnTo>
                <a:lnTo>
                  <a:pt x="432" y="167"/>
                </a:lnTo>
                <a:lnTo>
                  <a:pt x="499" y="152"/>
                </a:lnTo>
                <a:lnTo>
                  <a:pt x="566" y="138"/>
                </a:lnTo>
                <a:lnTo>
                  <a:pt x="633" y="125"/>
                </a:lnTo>
                <a:lnTo>
                  <a:pt x="699" y="109"/>
                </a:lnTo>
                <a:lnTo>
                  <a:pt x="764" y="96"/>
                </a:lnTo>
                <a:lnTo>
                  <a:pt x="827" y="83"/>
                </a:lnTo>
                <a:lnTo>
                  <a:pt x="858" y="75"/>
                </a:lnTo>
                <a:lnTo>
                  <a:pt x="889" y="69"/>
                </a:lnTo>
                <a:lnTo>
                  <a:pt x="919" y="61"/>
                </a:lnTo>
                <a:lnTo>
                  <a:pt x="948" y="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47"/>
          <p:cNvSpPr/>
          <p:nvPr/>
        </p:nvSpPr>
        <p:spPr>
          <a:xfrm>
            <a:off x="6512040" y="4081320"/>
            <a:ext cx="1199880" cy="1011240"/>
          </a:xfrm>
          <a:custGeom>
            <a:avLst/>
            <a:gdLst/>
            <a:ahLst/>
            <a:rect l="l" t="t" r="r" b="b"/>
            <a:pathLst>
              <a:path w="1513" h="1274">
                <a:moveTo>
                  <a:pt x="1494" y="988"/>
                </a:moveTo>
                <a:lnTo>
                  <a:pt x="1499" y="999"/>
                </a:lnTo>
                <a:lnTo>
                  <a:pt x="1505" y="1011"/>
                </a:lnTo>
                <a:lnTo>
                  <a:pt x="1509" y="1022"/>
                </a:lnTo>
                <a:lnTo>
                  <a:pt x="1511" y="1032"/>
                </a:lnTo>
                <a:lnTo>
                  <a:pt x="1513" y="1042"/>
                </a:lnTo>
                <a:lnTo>
                  <a:pt x="1513" y="1053"/>
                </a:lnTo>
                <a:lnTo>
                  <a:pt x="1513" y="1063"/>
                </a:lnTo>
                <a:lnTo>
                  <a:pt x="1511" y="1072"/>
                </a:lnTo>
                <a:lnTo>
                  <a:pt x="1509" y="1080"/>
                </a:lnTo>
                <a:lnTo>
                  <a:pt x="1505" y="1090"/>
                </a:lnTo>
                <a:lnTo>
                  <a:pt x="1499" y="1099"/>
                </a:lnTo>
                <a:lnTo>
                  <a:pt x="1494" y="1107"/>
                </a:lnTo>
                <a:lnTo>
                  <a:pt x="1486" y="1115"/>
                </a:lnTo>
                <a:lnTo>
                  <a:pt x="1478" y="1122"/>
                </a:lnTo>
                <a:lnTo>
                  <a:pt x="1469" y="1130"/>
                </a:lnTo>
                <a:lnTo>
                  <a:pt x="1457" y="1138"/>
                </a:lnTo>
                <a:lnTo>
                  <a:pt x="1446" y="1143"/>
                </a:lnTo>
                <a:lnTo>
                  <a:pt x="1434" y="1151"/>
                </a:lnTo>
                <a:lnTo>
                  <a:pt x="1421" y="1159"/>
                </a:lnTo>
                <a:lnTo>
                  <a:pt x="1407" y="1165"/>
                </a:lnTo>
                <a:lnTo>
                  <a:pt x="1394" y="1172"/>
                </a:lnTo>
                <a:lnTo>
                  <a:pt x="1380" y="1178"/>
                </a:lnTo>
                <a:lnTo>
                  <a:pt x="1352" y="1191"/>
                </a:lnTo>
                <a:lnTo>
                  <a:pt x="1319" y="1205"/>
                </a:lnTo>
                <a:lnTo>
                  <a:pt x="1286" y="1216"/>
                </a:lnTo>
                <a:lnTo>
                  <a:pt x="1252" y="1226"/>
                </a:lnTo>
                <a:lnTo>
                  <a:pt x="1217" y="1237"/>
                </a:lnTo>
                <a:lnTo>
                  <a:pt x="1198" y="1241"/>
                </a:lnTo>
                <a:lnTo>
                  <a:pt x="1179" y="1245"/>
                </a:lnTo>
                <a:lnTo>
                  <a:pt x="1160" y="1249"/>
                </a:lnTo>
                <a:lnTo>
                  <a:pt x="1138" y="1253"/>
                </a:lnTo>
                <a:lnTo>
                  <a:pt x="1117" y="1257"/>
                </a:lnTo>
                <a:lnTo>
                  <a:pt x="1094" y="1260"/>
                </a:lnTo>
                <a:lnTo>
                  <a:pt x="1069" y="1262"/>
                </a:lnTo>
                <a:lnTo>
                  <a:pt x="1044" y="1264"/>
                </a:lnTo>
                <a:lnTo>
                  <a:pt x="1019" y="1266"/>
                </a:lnTo>
                <a:lnTo>
                  <a:pt x="993" y="1268"/>
                </a:lnTo>
                <a:lnTo>
                  <a:pt x="964" y="1270"/>
                </a:lnTo>
                <a:lnTo>
                  <a:pt x="935" y="1272"/>
                </a:lnTo>
                <a:lnTo>
                  <a:pt x="906" y="1272"/>
                </a:lnTo>
                <a:lnTo>
                  <a:pt x="875" y="1274"/>
                </a:lnTo>
                <a:lnTo>
                  <a:pt x="843" y="1274"/>
                </a:lnTo>
                <a:lnTo>
                  <a:pt x="810" y="1274"/>
                </a:lnTo>
                <a:lnTo>
                  <a:pt x="776" y="1274"/>
                </a:lnTo>
                <a:lnTo>
                  <a:pt x="745" y="1274"/>
                </a:lnTo>
                <a:lnTo>
                  <a:pt x="712" y="1272"/>
                </a:lnTo>
                <a:lnTo>
                  <a:pt x="683" y="1272"/>
                </a:lnTo>
                <a:lnTo>
                  <a:pt x="655" y="1270"/>
                </a:lnTo>
                <a:lnTo>
                  <a:pt x="628" y="1270"/>
                </a:lnTo>
                <a:lnTo>
                  <a:pt x="601" y="1268"/>
                </a:lnTo>
                <a:lnTo>
                  <a:pt x="576" y="1266"/>
                </a:lnTo>
                <a:lnTo>
                  <a:pt x="551" y="1264"/>
                </a:lnTo>
                <a:lnTo>
                  <a:pt x="528" y="1262"/>
                </a:lnTo>
                <a:lnTo>
                  <a:pt x="507" y="1260"/>
                </a:lnTo>
                <a:lnTo>
                  <a:pt x="486" y="1259"/>
                </a:lnTo>
                <a:lnTo>
                  <a:pt x="466" y="1257"/>
                </a:lnTo>
                <a:lnTo>
                  <a:pt x="447" y="1253"/>
                </a:lnTo>
                <a:lnTo>
                  <a:pt x="430" y="1251"/>
                </a:lnTo>
                <a:lnTo>
                  <a:pt x="413" y="1249"/>
                </a:lnTo>
                <a:lnTo>
                  <a:pt x="382" y="1239"/>
                </a:lnTo>
                <a:lnTo>
                  <a:pt x="353" y="1228"/>
                </a:lnTo>
                <a:lnTo>
                  <a:pt x="324" y="1216"/>
                </a:lnTo>
                <a:lnTo>
                  <a:pt x="296" y="1203"/>
                </a:lnTo>
                <a:lnTo>
                  <a:pt x="269" y="1191"/>
                </a:lnTo>
                <a:lnTo>
                  <a:pt x="244" y="1178"/>
                </a:lnTo>
                <a:lnTo>
                  <a:pt x="221" y="1165"/>
                </a:lnTo>
                <a:lnTo>
                  <a:pt x="198" y="1149"/>
                </a:lnTo>
                <a:lnTo>
                  <a:pt x="186" y="1140"/>
                </a:lnTo>
                <a:lnTo>
                  <a:pt x="177" y="1130"/>
                </a:lnTo>
                <a:lnTo>
                  <a:pt x="165" y="1122"/>
                </a:lnTo>
                <a:lnTo>
                  <a:pt x="157" y="1113"/>
                </a:lnTo>
                <a:lnTo>
                  <a:pt x="148" y="1103"/>
                </a:lnTo>
                <a:lnTo>
                  <a:pt x="138" y="1093"/>
                </a:lnTo>
                <a:lnTo>
                  <a:pt x="123" y="1072"/>
                </a:lnTo>
                <a:lnTo>
                  <a:pt x="109" y="1053"/>
                </a:lnTo>
                <a:lnTo>
                  <a:pt x="98" y="1032"/>
                </a:lnTo>
                <a:lnTo>
                  <a:pt x="86" y="1011"/>
                </a:lnTo>
                <a:lnTo>
                  <a:pt x="77" y="988"/>
                </a:lnTo>
                <a:lnTo>
                  <a:pt x="69" y="965"/>
                </a:lnTo>
                <a:lnTo>
                  <a:pt x="61" y="942"/>
                </a:lnTo>
                <a:lnTo>
                  <a:pt x="56" y="917"/>
                </a:lnTo>
                <a:lnTo>
                  <a:pt x="50" y="894"/>
                </a:lnTo>
                <a:lnTo>
                  <a:pt x="46" y="869"/>
                </a:lnTo>
                <a:lnTo>
                  <a:pt x="44" y="844"/>
                </a:lnTo>
                <a:lnTo>
                  <a:pt x="42" y="817"/>
                </a:lnTo>
                <a:lnTo>
                  <a:pt x="42" y="790"/>
                </a:lnTo>
                <a:lnTo>
                  <a:pt x="42" y="777"/>
                </a:lnTo>
                <a:lnTo>
                  <a:pt x="42" y="763"/>
                </a:lnTo>
                <a:lnTo>
                  <a:pt x="42" y="750"/>
                </a:lnTo>
                <a:lnTo>
                  <a:pt x="42" y="733"/>
                </a:lnTo>
                <a:lnTo>
                  <a:pt x="42" y="717"/>
                </a:lnTo>
                <a:lnTo>
                  <a:pt x="42" y="698"/>
                </a:lnTo>
                <a:lnTo>
                  <a:pt x="42" y="681"/>
                </a:lnTo>
                <a:lnTo>
                  <a:pt x="42" y="660"/>
                </a:lnTo>
                <a:lnTo>
                  <a:pt x="44" y="639"/>
                </a:lnTo>
                <a:lnTo>
                  <a:pt x="44" y="618"/>
                </a:lnTo>
                <a:lnTo>
                  <a:pt x="46" y="595"/>
                </a:lnTo>
                <a:lnTo>
                  <a:pt x="46" y="571"/>
                </a:lnTo>
                <a:lnTo>
                  <a:pt x="48" y="547"/>
                </a:lnTo>
                <a:lnTo>
                  <a:pt x="50" y="520"/>
                </a:lnTo>
                <a:lnTo>
                  <a:pt x="52" y="495"/>
                </a:lnTo>
                <a:lnTo>
                  <a:pt x="54" y="466"/>
                </a:lnTo>
                <a:lnTo>
                  <a:pt x="54" y="439"/>
                </a:lnTo>
                <a:lnTo>
                  <a:pt x="54" y="412"/>
                </a:lnTo>
                <a:lnTo>
                  <a:pt x="54" y="387"/>
                </a:lnTo>
                <a:lnTo>
                  <a:pt x="54" y="364"/>
                </a:lnTo>
                <a:lnTo>
                  <a:pt x="54" y="341"/>
                </a:lnTo>
                <a:lnTo>
                  <a:pt x="54" y="320"/>
                </a:lnTo>
                <a:lnTo>
                  <a:pt x="54" y="299"/>
                </a:lnTo>
                <a:lnTo>
                  <a:pt x="54" y="280"/>
                </a:lnTo>
                <a:lnTo>
                  <a:pt x="54" y="263"/>
                </a:lnTo>
                <a:lnTo>
                  <a:pt x="54" y="245"/>
                </a:lnTo>
                <a:lnTo>
                  <a:pt x="54" y="230"/>
                </a:lnTo>
                <a:lnTo>
                  <a:pt x="54" y="215"/>
                </a:lnTo>
                <a:lnTo>
                  <a:pt x="54" y="201"/>
                </a:lnTo>
                <a:lnTo>
                  <a:pt x="54" y="190"/>
                </a:lnTo>
                <a:lnTo>
                  <a:pt x="54" y="178"/>
                </a:lnTo>
                <a:lnTo>
                  <a:pt x="54" y="168"/>
                </a:lnTo>
                <a:lnTo>
                  <a:pt x="52" y="149"/>
                </a:lnTo>
                <a:lnTo>
                  <a:pt x="52" y="134"/>
                </a:lnTo>
                <a:lnTo>
                  <a:pt x="48" y="119"/>
                </a:lnTo>
                <a:lnTo>
                  <a:pt x="44" y="103"/>
                </a:lnTo>
                <a:lnTo>
                  <a:pt x="38" y="90"/>
                </a:lnTo>
                <a:lnTo>
                  <a:pt x="33" y="78"/>
                </a:lnTo>
                <a:lnTo>
                  <a:pt x="25" y="67"/>
                </a:lnTo>
                <a:lnTo>
                  <a:pt x="17" y="57"/>
                </a:lnTo>
                <a:lnTo>
                  <a:pt x="13" y="53"/>
                </a:lnTo>
                <a:lnTo>
                  <a:pt x="10" y="51"/>
                </a:lnTo>
                <a:lnTo>
                  <a:pt x="6" y="48"/>
                </a:lnTo>
                <a:lnTo>
                  <a:pt x="4" y="46"/>
                </a:lnTo>
                <a:lnTo>
                  <a:pt x="2" y="42"/>
                </a:lnTo>
                <a:lnTo>
                  <a:pt x="0" y="38"/>
                </a:lnTo>
                <a:lnTo>
                  <a:pt x="0" y="34"/>
                </a:lnTo>
                <a:lnTo>
                  <a:pt x="0" y="32"/>
                </a:lnTo>
                <a:lnTo>
                  <a:pt x="0" y="28"/>
                </a:lnTo>
                <a:lnTo>
                  <a:pt x="0" y="25"/>
                </a:lnTo>
                <a:lnTo>
                  <a:pt x="2" y="21"/>
                </a:lnTo>
                <a:lnTo>
                  <a:pt x="4" y="19"/>
                </a:lnTo>
                <a:lnTo>
                  <a:pt x="6" y="15"/>
                </a:lnTo>
                <a:lnTo>
                  <a:pt x="10" y="11"/>
                </a:lnTo>
                <a:lnTo>
                  <a:pt x="13" y="9"/>
                </a:lnTo>
                <a:lnTo>
                  <a:pt x="17" y="7"/>
                </a:lnTo>
                <a:lnTo>
                  <a:pt x="21" y="5"/>
                </a:lnTo>
                <a:lnTo>
                  <a:pt x="27" y="3"/>
                </a:lnTo>
                <a:lnTo>
                  <a:pt x="33" y="2"/>
                </a:lnTo>
                <a:lnTo>
                  <a:pt x="38" y="0"/>
                </a:lnTo>
                <a:lnTo>
                  <a:pt x="46" y="0"/>
                </a:lnTo>
                <a:lnTo>
                  <a:pt x="54" y="0"/>
                </a:lnTo>
                <a:lnTo>
                  <a:pt x="61" y="0"/>
                </a:lnTo>
                <a:lnTo>
                  <a:pt x="69" y="0"/>
                </a:lnTo>
                <a:lnTo>
                  <a:pt x="79" y="2"/>
                </a:lnTo>
                <a:lnTo>
                  <a:pt x="86" y="3"/>
                </a:lnTo>
                <a:lnTo>
                  <a:pt x="96" y="7"/>
                </a:lnTo>
                <a:lnTo>
                  <a:pt x="106" y="9"/>
                </a:lnTo>
                <a:lnTo>
                  <a:pt x="117" y="15"/>
                </a:lnTo>
                <a:lnTo>
                  <a:pt x="127" y="19"/>
                </a:lnTo>
                <a:lnTo>
                  <a:pt x="138" y="25"/>
                </a:lnTo>
                <a:lnTo>
                  <a:pt x="150" y="32"/>
                </a:lnTo>
                <a:lnTo>
                  <a:pt x="159" y="38"/>
                </a:lnTo>
                <a:lnTo>
                  <a:pt x="169" y="46"/>
                </a:lnTo>
                <a:lnTo>
                  <a:pt x="179" y="53"/>
                </a:lnTo>
                <a:lnTo>
                  <a:pt x="188" y="59"/>
                </a:lnTo>
                <a:lnTo>
                  <a:pt x="196" y="67"/>
                </a:lnTo>
                <a:lnTo>
                  <a:pt x="202" y="73"/>
                </a:lnTo>
                <a:lnTo>
                  <a:pt x="207" y="80"/>
                </a:lnTo>
                <a:lnTo>
                  <a:pt x="213" y="86"/>
                </a:lnTo>
                <a:lnTo>
                  <a:pt x="219" y="92"/>
                </a:lnTo>
                <a:lnTo>
                  <a:pt x="223" y="99"/>
                </a:lnTo>
                <a:lnTo>
                  <a:pt x="227" y="105"/>
                </a:lnTo>
                <a:lnTo>
                  <a:pt x="228" y="111"/>
                </a:lnTo>
                <a:lnTo>
                  <a:pt x="230" y="117"/>
                </a:lnTo>
                <a:lnTo>
                  <a:pt x="232" y="120"/>
                </a:lnTo>
                <a:lnTo>
                  <a:pt x="232" y="126"/>
                </a:lnTo>
                <a:lnTo>
                  <a:pt x="234" y="132"/>
                </a:lnTo>
                <a:lnTo>
                  <a:pt x="232" y="136"/>
                </a:lnTo>
                <a:lnTo>
                  <a:pt x="232" y="142"/>
                </a:lnTo>
                <a:lnTo>
                  <a:pt x="232" y="149"/>
                </a:lnTo>
                <a:lnTo>
                  <a:pt x="230" y="157"/>
                </a:lnTo>
                <a:lnTo>
                  <a:pt x="230" y="165"/>
                </a:lnTo>
                <a:lnTo>
                  <a:pt x="228" y="176"/>
                </a:lnTo>
                <a:lnTo>
                  <a:pt x="227" y="186"/>
                </a:lnTo>
                <a:lnTo>
                  <a:pt x="227" y="197"/>
                </a:lnTo>
                <a:lnTo>
                  <a:pt x="225" y="211"/>
                </a:lnTo>
                <a:lnTo>
                  <a:pt x="223" y="224"/>
                </a:lnTo>
                <a:lnTo>
                  <a:pt x="221" y="239"/>
                </a:lnTo>
                <a:lnTo>
                  <a:pt x="219" y="255"/>
                </a:lnTo>
                <a:lnTo>
                  <a:pt x="215" y="272"/>
                </a:lnTo>
                <a:lnTo>
                  <a:pt x="213" y="289"/>
                </a:lnTo>
                <a:lnTo>
                  <a:pt x="211" y="309"/>
                </a:lnTo>
                <a:lnTo>
                  <a:pt x="209" y="330"/>
                </a:lnTo>
                <a:lnTo>
                  <a:pt x="202" y="372"/>
                </a:lnTo>
                <a:lnTo>
                  <a:pt x="194" y="414"/>
                </a:lnTo>
                <a:lnTo>
                  <a:pt x="188" y="454"/>
                </a:lnTo>
                <a:lnTo>
                  <a:pt x="182" y="497"/>
                </a:lnTo>
                <a:lnTo>
                  <a:pt x="179" y="537"/>
                </a:lnTo>
                <a:lnTo>
                  <a:pt x="175" y="575"/>
                </a:lnTo>
                <a:lnTo>
                  <a:pt x="175" y="616"/>
                </a:lnTo>
                <a:lnTo>
                  <a:pt x="173" y="652"/>
                </a:lnTo>
                <a:lnTo>
                  <a:pt x="171" y="673"/>
                </a:lnTo>
                <a:lnTo>
                  <a:pt x="171" y="692"/>
                </a:lnTo>
                <a:lnTo>
                  <a:pt x="169" y="712"/>
                </a:lnTo>
                <a:lnTo>
                  <a:pt x="169" y="731"/>
                </a:lnTo>
                <a:lnTo>
                  <a:pt x="169" y="748"/>
                </a:lnTo>
                <a:lnTo>
                  <a:pt x="171" y="763"/>
                </a:lnTo>
                <a:lnTo>
                  <a:pt x="171" y="781"/>
                </a:lnTo>
                <a:lnTo>
                  <a:pt x="173" y="796"/>
                </a:lnTo>
                <a:lnTo>
                  <a:pt x="177" y="809"/>
                </a:lnTo>
                <a:lnTo>
                  <a:pt x="179" y="825"/>
                </a:lnTo>
                <a:lnTo>
                  <a:pt x="182" y="838"/>
                </a:lnTo>
                <a:lnTo>
                  <a:pt x="186" y="852"/>
                </a:lnTo>
                <a:lnTo>
                  <a:pt x="192" y="865"/>
                </a:lnTo>
                <a:lnTo>
                  <a:pt x="198" y="877"/>
                </a:lnTo>
                <a:lnTo>
                  <a:pt x="203" y="890"/>
                </a:lnTo>
                <a:lnTo>
                  <a:pt x="209" y="902"/>
                </a:lnTo>
                <a:lnTo>
                  <a:pt x="213" y="913"/>
                </a:lnTo>
                <a:lnTo>
                  <a:pt x="219" y="923"/>
                </a:lnTo>
                <a:lnTo>
                  <a:pt x="225" y="934"/>
                </a:lnTo>
                <a:lnTo>
                  <a:pt x="232" y="944"/>
                </a:lnTo>
                <a:lnTo>
                  <a:pt x="238" y="953"/>
                </a:lnTo>
                <a:lnTo>
                  <a:pt x="246" y="961"/>
                </a:lnTo>
                <a:lnTo>
                  <a:pt x="261" y="976"/>
                </a:lnTo>
                <a:lnTo>
                  <a:pt x="280" y="992"/>
                </a:lnTo>
                <a:lnTo>
                  <a:pt x="299" y="1003"/>
                </a:lnTo>
                <a:lnTo>
                  <a:pt x="319" y="1015"/>
                </a:lnTo>
                <a:lnTo>
                  <a:pt x="342" y="1026"/>
                </a:lnTo>
                <a:lnTo>
                  <a:pt x="353" y="1032"/>
                </a:lnTo>
                <a:lnTo>
                  <a:pt x="365" y="1038"/>
                </a:lnTo>
                <a:lnTo>
                  <a:pt x="378" y="1044"/>
                </a:lnTo>
                <a:lnTo>
                  <a:pt x="392" y="1049"/>
                </a:lnTo>
                <a:lnTo>
                  <a:pt x="407" y="1053"/>
                </a:lnTo>
                <a:lnTo>
                  <a:pt x="422" y="1059"/>
                </a:lnTo>
                <a:lnTo>
                  <a:pt x="438" y="1063"/>
                </a:lnTo>
                <a:lnTo>
                  <a:pt x="455" y="1067"/>
                </a:lnTo>
                <a:lnTo>
                  <a:pt x="472" y="1069"/>
                </a:lnTo>
                <a:lnTo>
                  <a:pt x="490" y="1072"/>
                </a:lnTo>
                <a:lnTo>
                  <a:pt x="509" y="1074"/>
                </a:lnTo>
                <a:lnTo>
                  <a:pt x="526" y="1078"/>
                </a:lnTo>
                <a:lnTo>
                  <a:pt x="564" y="1082"/>
                </a:lnTo>
                <a:lnTo>
                  <a:pt x="605" y="1088"/>
                </a:lnTo>
                <a:lnTo>
                  <a:pt x="626" y="1090"/>
                </a:lnTo>
                <a:lnTo>
                  <a:pt x="645" y="1092"/>
                </a:lnTo>
                <a:lnTo>
                  <a:pt x="666" y="1092"/>
                </a:lnTo>
                <a:lnTo>
                  <a:pt x="685" y="1093"/>
                </a:lnTo>
                <a:lnTo>
                  <a:pt x="726" y="1093"/>
                </a:lnTo>
                <a:lnTo>
                  <a:pt x="766" y="1092"/>
                </a:lnTo>
                <a:lnTo>
                  <a:pt x="804" y="1088"/>
                </a:lnTo>
                <a:lnTo>
                  <a:pt x="843" y="1084"/>
                </a:lnTo>
                <a:lnTo>
                  <a:pt x="881" y="1080"/>
                </a:lnTo>
                <a:lnTo>
                  <a:pt x="918" y="1076"/>
                </a:lnTo>
                <a:lnTo>
                  <a:pt x="952" y="1070"/>
                </a:lnTo>
                <a:lnTo>
                  <a:pt x="987" y="1065"/>
                </a:lnTo>
                <a:lnTo>
                  <a:pt x="1019" y="1061"/>
                </a:lnTo>
                <a:lnTo>
                  <a:pt x="1050" y="1055"/>
                </a:lnTo>
                <a:lnTo>
                  <a:pt x="1081" y="1049"/>
                </a:lnTo>
                <a:lnTo>
                  <a:pt x="1094" y="1046"/>
                </a:lnTo>
                <a:lnTo>
                  <a:pt x="1108" y="1042"/>
                </a:lnTo>
                <a:lnTo>
                  <a:pt x="1121" y="1038"/>
                </a:lnTo>
                <a:lnTo>
                  <a:pt x="1135" y="1034"/>
                </a:lnTo>
                <a:lnTo>
                  <a:pt x="1146" y="1030"/>
                </a:lnTo>
                <a:lnTo>
                  <a:pt x="1158" y="1026"/>
                </a:lnTo>
                <a:lnTo>
                  <a:pt x="1167" y="1021"/>
                </a:lnTo>
                <a:lnTo>
                  <a:pt x="1179" y="1015"/>
                </a:lnTo>
                <a:lnTo>
                  <a:pt x="1188" y="1009"/>
                </a:lnTo>
                <a:lnTo>
                  <a:pt x="1198" y="1001"/>
                </a:lnTo>
                <a:lnTo>
                  <a:pt x="1208" y="996"/>
                </a:lnTo>
                <a:lnTo>
                  <a:pt x="1215" y="988"/>
                </a:lnTo>
                <a:lnTo>
                  <a:pt x="1231" y="971"/>
                </a:lnTo>
                <a:lnTo>
                  <a:pt x="1244" y="953"/>
                </a:lnTo>
                <a:lnTo>
                  <a:pt x="1257" y="932"/>
                </a:lnTo>
                <a:lnTo>
                  <a:pt x="1267" y="911"/>
                </a:lnTo>
                <a:lnTo>
                  <a:pt x="1277" y="888"/>
                </a:lnTo>
                <a:lnTo>
                  <a:pt x="1280" y="877"/>
                </a:lnTo>
                <a:lnTo>
                  <a:pt x="1282" y="863"/>
                </a:lnTo>
                <a:lnTo>
                  <a:pt x="1284" y="850"/>
                </a:lnTo>
                <a:lnTo>
                  <a:pt x="1288" y="834"/>
                </a:lnTo>
                <a:lnTo>
                  <a:pt x="1292" y="819"/>
                </a:lnTo>
                <a:lnTo>
                  <a:pt x="1294" y="804"/>
                </a:lnTo>
                <a:lnTo>
                  <a:pt x="1298" y="786"/>
                </a:lnTo>
                <a:lnTo>
                  <a:pt x="1302" y="769"/>
                </a:lnTo>
                <a:lnTo>
                  <a:pt x="1305" y="750"/>
                </a:lnTo>
                <a:lnTo>
                  <a:pt x="1307" y="731"/>
                </a:lnTo>
                <a:lnTo>
                  <a:pt x="1311" y="712"/>
                </a:lnTo>
                <a:lnTo>
                  <a:pt x="1315" y="690"/>
                </a:lnTo>
                <a:lnTo>
                  <a:pt x="1317" y="669"/>
                </a:lnTo>
                <a:lnTo>
                  <a:pt x="1321" y="648"/>
                </a:lnTo>
                <a:lnTo>
                  <a:pt x="1323" y="625"/>
                </a:lnTo>
                <a:lnTo>
                  <a:pt x="1325" y="604"/>
                </a:lnTo>
                <a:lnTo>
                  <a:pt x="1328" y="581"/>
                </a:lnTo>
                <a:lnTo>
                  <a:pt x="1330" y="560"/>
                </a:lnTo>
                <a:lnTo>
                  <a:pt x="1332" y="539"/>
                </a:lnTo>
                <a:lnTo>
                  <a:pt x="1336" y="522"/>
                </a:lnTo>
                <a:lnTo>
                  <a:pt x="1340" y="504"/>
                </a:lnTo>
                <a:lnTo>
                  <a:pt x="1344" y="489"/>
                </a:lnTo>
                <a:lnTo>
                  <a:pt x="1348" y="476"/>
                </a:lnTo>
                <a:lnTo>
                  <a:pt x="1352" y="464"/>
                </a:lnTo>
                <a:lnTo>
                  <a:pt x="1355" y="453"/>
                </a:lnTo>
                <a:lnTo>
                  <a:pt x="1359" y="443"/>
                </a:lnTo>
                <a:lnTo>
                  <a:pt x="1363" y="435"/>
                </a:lnTo>
                <a:lnTo>
                  <a:pt x="1367" y="428"/>
                </a:lnTo>
                <a:lnTo>
                  <a:pt x="1373" y="424"/>
                </a:lnTo>
                <a:lnTo>
                  <a:pt x="1376" y="420"/>
                </a:lnTo>
                <a:lnTo>
                  <a:pt x="1380" y="418"/>
                </a:lnTo>
                <a:lnTo>
                  <a:pt x="1386" y="416"/>
                </a:lnTo>
                <a:lnTo>
                  <a:pt x="1388" y="420"/>
                </a:lnTo>
                <a:lnTo>
                  <a:pt x="1390" y="424"/>
                </a:lnTo>
                <a:lnTo>
                  <a:pt x="1394" y="429"/>
                </a:lnTo>
                <a:lnTo>
                  <a:pt x="1396" y="437"/>
                </a:lnTo>
                <a:lnTo>
                  <a:pt x="1400" y="447"/>
                </a:lnTo>
                <a:lnTo>
                  <a:pt x="1403" y="458"/>
                </a:lnTo>
                <a:lnTo>
                  <a:pt x="1405" y="470"/>
                </a:lnTo>
                <a:lnTo>
                  <a:pt x="1409" y="485"/>
                </a:lnTo>
                <a:lnTo>
                  <a:pt x="1413" y="500"/>
                </a:lnTo>
                <a:lnTo>
                  <a:pt x="1417" y="518"/>
                </a:lnTo>
                <a:lnTo>
                  <a:pt x="1419" y="539"/>
                </a:lnTo>
                <a:lnTo>
                  <a:pt x="1423" y="560"/>
                </a:lnTo>
                <a:lnTo>
                  <a:pt x="1424" y="571"/>
                </a:lnTo>
                <a:lnTo>
                  <a:pt x="1426" y="583"/>
                </a:lnTo>
                <a:lnTo>
                  <a:pt x="1426" y="596"/>
                </a:lnTo>
                <a:lnTo>
                  <a:pt x="1428" y="608"/>
                </a:lnTo>
                <a:lnTo>
                  <a:pt x="1430" y="621"/>
                </a:lnTo>
                <a:lnTo>
                  <a:pt x="1432" y="637"/>
                </a:lnTo>
                <a:lnTo>
                  <a:pt x="1432" y="650"/>
                </a:lnTo>
                <a:lnTo>
                  <a:pt x="1434" y="666"/>
                </a:lnTo>
                <a:lnTo>
                  <a:pt x="1436" y="694"/>
                </a:lnTo>
                <a:lnTo>
                  <a:pt x="1438" y="723"/>
                </a:lnTo>
                <a:lnTo>
                  <a:pt x="1440" y="750"/>
                </a:lnTo>
                <a:lnTo>
                  <a:pt x="1444" y="775"/>
                </a:lnTo>
                <a:lnTo>
                  <a:pt x="1446" y="800"/>
                </a:lnTo>
                <a:lnTo>
                  <a:pt x="1448" y="821"/>
                </a:lnTo>
                <a:lnTo>
                  <a:pt x="1451" y="844"/>
                </a:lnTo>
                <a:lnTo>
                  <a:pt x="1455" y="863"/>
                </a:lnTo>
                <a:lnTo>
                  <a:pt x="1457" y="882"/>
                </a:lnTo>
                <a:lnTo>
                  <a:pt x="1461" y="902"/>
                </a:lnTo>
                <a:lnTo>
                  <a:pt x="1467" y="919"/>
                </a:lnTo>
                <a:lnTo>
                  <a:pt x="1471" y="934"/>
                </a:lnTo>
                <a:lnTo>
                  <a:pt x="1476" y="950"/>
                </a:lnTo>
                <a:lnTo>
                  <a:pt x="1480" y="963"/>
                </a:lnTo>
                <a:lnTo>
                  <a:pt x="1486" y="976"/>
                </a:lnTo>
                <a:lnTo>
                  <a:pt x="1494" y="9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48"/>
          <p:cNvSpPr/>
          <p:nvPr/>
        </p:nvSpPr>
        <p:spPr>
          <a:xfrm>
            <a:off x="6191280" y="4127400"/>
            <a:ext cx="947880" cy="762120"/>
          </a:xfrm>
          <a:custGeom>
            <a:avLst/>
            <a:gdLst/>
            <a:ahLst/>
            <a:rect l="l" t="t" r="r" b="b"/>
            <a:pathLst>
              <a:path w="1192" h="960">
                <a:moveTo>
                  <a:pt x="660" y="670"/>
                </a:moveTo>
                <a:lnTo>
                  <a:pt x="633" y="689"/>
                </a:lnTo>
                <a:lnTo>
                  <a:pt x="606" y="706"/>
                </a:lnTo>
                <a:lnTo>
                  <a:pt x="580" y="724"/>
                </a:lnTo>
                <a:lnTo>
                  <a:pt x="553" y="741"/>
                </a:lnTo>
                <a:lnTo>
                  <a:pt x="526" y="756"/>
                </a:lnTo>
                <a:lnTo>
                  <a:pt x="499" y="772"/>
                </a:lnTo>
                <a:lnTo>
                  <a:pt x="472" y="787"/>
                </a:lnTo>
                <a:lnTo>
                  <a:pt x="445" y="800"/>
                </a:lnTo>
                <a:lnTo>
                  <a:pt x="416" y="814"/>
                </a:lnTo>
                <a:lnTo>
                  <a:pt x="390" y="827"/>
                </a:lnTo>
                <a:lnTo>
                  <a:pt x="363" y="839"/>
                </a:lnTo>
                <a:lnTo>
                  <a:pt x="336" y="852"/>
                </a:lnTo>
                <a:lnTo>
                  <a:pt x="309" y="864"/>
                </a:lnTo>
                <a:lnTo>
                  <a:pt x="282" y="873"/>
                </a:lnTo>
                <a:lnTo>
                  <a:pt x="255" y="883"/>
                </a:lnTo>
                <a:lnTo>
                  <a:pt x="228" y="894"/>
                </a:lnTo>
                <a:lnTo>
                  <a:pt x="215" y="900"/>
                </a:lnTo>
                <a:lnTo>
                  <a:pt x="199" y="904"/>
                </a:lnTo>
                <a:lnTo>
                  <a:pt x="186" y="910"/>
                </a:lnTo>
                <a:lnTo>
                  <a:pt x="175" y="916"/>
                </a:lnTo>
                <a:lnTo>
                  <a:pt x="150" y="923"/>
                </a:lnTo>
                <a:lnTo>
                  <a:pt x="127" y="931"/>
                </a:lnTo>
                <a:lnTo>
                  <a:pt x="107" y="939"/>
                </a:lnTo>
                <a:lnTo>
                  <a:pt x="88" y="944"/>
                </a:lnTo>
                <a:lnTo>
                  <a:pt x="71" y="950"/>
                </a:lnTo>
                <a:lnTo>
                  <a:pt x="55" y="954"/>
                </a:lnTo>
                <a:lnTo>
                  <a:pt x="42" y="956"/>
                </a:lnTo>
                <a:lnTo>
                  <a:pt x="31" y="958"/>
                </a:lnTo>
                <a:lnTo>
                  <a:pt x="21" y="960"/>
                </a:lnTo>
                <a:lnTo>
                  <a:pt x="13" y="960"/>
                </a:lnTo>
                <a:lnTo>
                  <a:pt x="7" y="960"/>
                </a:lnTo>
                <a:lnTo>
                  <a:pt x="4" y="960"/>
                </a:lnTo>
                <a:lnTo>
                  <a:pt x="0" y="958"/>
                </a:lnTo>
                <a:lnTo>
                  <a:pt x="0" y="956"/>
                </a:lnTo>
                <a:lnTo>
                  <a:pt x="0" y="954"/>
                </a:lnTo>
                <a:lnTo>
                  <a:pt x="2" y="954"/>
                </a:lnTo>
                <a:lnTo>
                  <a:pt x="2" y="952"/>
                </a:lnTo>
                <a:lnTo>
                  <a:pt x="4" y="948"/>
                </a:lnTo>
                <a:lnTo>
                  <a:pt x="6" y="946"/>
                </a:lnTo>
                <a:lnTo>
                  <a:pt x="9" y="944"/>
                </a:lnTo>
                <a:lnTo>
                  <a:pt x="11" y="941"/>
                </a:lnTo>
                <a:lnTo>
                  <a:pt x="15" y="939"/>
                </a:lnTo>
                <a:lnTo>
                  <a:pt x="19" y="935"/>
                </a:lnTo>
                <a:lnTo>
                  <a:pt x="25" y="931"/>
                </a:lnTo>
                <a:lnTo>
                  <a:pt x="31" y="927"/>
                </a:lnTo>
                <a:lnTo>
                  <a:pt x="36" y="923"/>
                </a:lnTo>
                <a:lnTo>
                  <a:pt x="42" y="918"/>
                </a:lnTo>
                <a:lnTo>
                  <a:pt x="48" y="914"/>
                </a:lnTo>
                <a:lnTo>
                  <a:pt x="55" y="908"/>
                </a:lnTo>
                <a:lnTo>
                  <a:pt x="63" y="904"/>
                </a:lnTo>
                <a:lnTo>
                  <a:pt x="71" y="898"/>
                </a:lnTo>
                <a:lnTo>
                  <a:pt x="80" y="893"/>
                </a:lnTo>
                <a:lnTo>
                  <a:pt x="90" y="887"/>
                </a:lnTo>
                <a:lnTo>
                  <a:pt x="100" y="881"/>
                </a:lnTo>
                <a:lnTo>
                  <a:pt x="109" y="875"/>
                </a:lnTo>
                <a:lnTo>
                  <a:pt x="119" y="868"/>
                </a:lnTo>
                <a:lnTo>
                  <a:pt x="130" y="862"/>
                </a:lnTo>
                <a:lnTo>
                  <a:pt x="142" y="856"/>
                </a:lnTo>
                <a:lnTo>
                  <a:pt x="153" y="848"/>
                </a:lnTo>
                <a:lnTo>
                  <a:pt x="167" y="841"/>
                </a:lnTo>
                <a:lnTo>
                  <a:pt x="180" y="833"/>
                </a:lnTo>
                <a:lnTo>
                  <a:pt x="194" y="825"/>
                </a:lnTo>
                <a:lnTo>
                  <a:pt x="207" y="820"/>
                </a:lnTo>
                <a:lnTo>
                  <a:pt x="221" y="810"/>
                </a:lnTo>
                <a:lnTo>
                  <a:pt x="236" y="802"/>
                </a:lnTo>
                <a:lnTo>
                  <a:pt x="251" y="795"/>
                </a:lnTo>
                <a:lnTo>
                  <a:pt x="282" y="777"/>
                </a:lnTo>
                <a:lnTo>
                  <a:pt x="313" y="760"/>
                </a:lnTo>
                <a:lnTo>
                  <a:pt x="343" y="743"/>
                </a:lnTo>
                <a:lnTo>
                  <a:pt x="374" y="724"/>
                </a:lnTo>
                <a:lnTo>
                  <a:pt x="403" y="706"/>
                </a:lnTo>
                <a:lnTo>
                  <a:pt x="432" y="687"/>
                </a:lnTo>
                <a:lnTo>
                  <a:pt x="459" y="668"/>
                </a:lnTo>
                <a:lnTo>
                  <a:pt x="486" y="649"/>
                </a:lnTo>
                <a:lnTo>
                  <a:pt x="512" y="628"/>
                </a:lnTo>
                <a:lnTo>
                  <a:pt x="539" y="609"/>
                </a:lnTo>
                <a:lnTo>
                  <a:pt x="564" y="587"/>
                </a:lnTo>
                <a:lnTo>
                  <a:pt x="589" y="568"/>
                </a:lnTo>
                <a:lnTo>
                  <a:pt x="614" y="547"/>
                </a:lnTo>
                <a:lnTo>
                  <a:pt x="639" y="526"/>
                </a:lnTo>
                <a:lnTo>
                  <a:pt x="662" y="505"/>
                </a:lnTo>
                <a:lnTo>
                  <a:pt x="685" y="484"/>
                </a:lnTo>
                <a:lnTo>
                  <a:pt x="704" y="463"/>
                </a:lnTo>
                <a:lnTo>
                  <a:pt x="724" y="443"/>
                </a:lnTo>
                <a:lnTo>
                  <a:pt x="743" y="422"/>
                </a:lnTo>
                <a:lnTo>
                  <a:pt x="760" y="405"/>
                </a:lnTo>
                <a:lnTo>
                  <a:pt x="777" y="386"/>
                </a:lnTo>
                <a:lnTo>
                  <a:pt x="795" y="369"/>
                </a:lnTo>
                <a:lnTo>
                  <a:pt x="810" y="351"/>
                </a:lnTo>
                <a:lnTo>
                  <a:pt x="827" y="334"/>
                </a:lnTo>
                <a:lnTo>
                  <a:pt x="841" y="319"/>
                </a:lnTo>
                <a:lnTo>
                  <a:pt x="856" y="303"/>
                </a:lnTo>
                <a:lnTo>
                  <a:pt x="869" y="288"/>
                </a:lnTo>
                <a:lnTo>
                  <a:pt x="881" y="275"/>
                </a:lnTo>
                <a:lnTo>
                  <a:pt x="894" y="261"/>
                </a:lnTo>
                <a:lnTo>
                  <a:pt x="904" y="248"/>
                </a:lnTo>
                <a:lnTo>
                  <a:pt x="916" y="236"/>
                </a:lnTo>
                <a:lnTo>
                  <a:pt x="925" y="223"/>
                </a:lnTo>
                <a:lnTo>
                  <a:pt x="937" y="200"/>
                </a:lnTo>
                <a:lnTo>
                  <a:pt x="948" y="177"/>
                </a:lnTo>
                <a:lnTo>
                  <a:pt x="954" y="165"/>
                </a:lnTo>
                <a:lnTo>
                  <a:pt x="958" y="154"/>
                </a:lnTo>
                <a:lnTo>
                  <a:pt x="962" y="144"/>
                </a:lnTo>
                <a:lnTo>
                  <a:pt x="965" y="133"/>
                </a:lnTo>
                <a:lnTo>
                  <a:pt x="969" y="123"/>
                </a:lnTo>
                <a:lnTo>
                  <a:pt x="971" y="113"/>
                </a:lnTo>
                <a:lnTo>
                  <a:pt x="973" y="102"/>
                </a:lnTo>
                <a:lnTo>
                  <a:pt x="975" y="94"/>
                </a:lnTo>
                <a:lnTo>
                  <a:pt x="975" y="85"/>
                </a:lnTo>
                <a:lnTo>
                  <a:pt x="975" y="77"/>
                </a:lnTo>
                <a:lnTo>
                  <a:pt x="973" y="69"/>
                </a:lnTo>
                <a:lnTo>
                  <a:pt x="973" y="62"/>
                </a:lnTo>
                <a:lnTo>
                  <a:pt x="969" y="56"/>
                </a:lnTo>
                <a:lnTo>
                  <a:pt x="969" y="48"/>
                </a:lnTo>
                <a:lnTo>
                  <a:pt x="967" y="42"/>
                </a:lnTo>
                <a:lnTo>
                  <a:pt x="965" y="39"/>
                </a:lnTo>
                <a:lnTo>
                  <a:pt x="965" y="33"/>
                </a:lnTo>
                <a:lnTo>
                  <a:pt x="965" y="29"/>
                </a:lnTo>
                <a:lnTo>
                  <a:pt x="965" y="25"/>
                </a:lnTo>
                <a:lnTo>
                  <a:pt x="965" y="21"/>
                </a:lnTo>
                <a:lnTo>
                  <a:pt x="967" y="17"/>
                </a:lnTo>
                <a:lnTo>
                  <a:pt x="969" y="16"/>
                </a:lnTo>
                <a:lnTo>
                  <a:pt x="973" y="12"/>
                </a:lnTo>
                <a:lnTo>
                  <a:pt x="975" y="10"/>
                </a:lnTo>
                <a:lnTo>
                  <a:pt x="979" y="6"/>
                </a:lnTo>
                <a:lnTo>
                  <a:pt x="985" y="4"/>
                </a:lnTo>
                <a:lnTo>
                  <a:pt x="990" y="2"/>
                </a:lnTo>
                <a:lnTo>
                  <a:pt x="996" y="0"/>
                </a:lnTo>
                <a:lnTo>
                  <a:pt x="1000" y="0"/>
                </a:lnTo>
                <a:lnTo>
                  <a:pt x="1006" y="0"/>
                </a:lnTo>
                <a:lnTo>
                  <a:pt x="1012" y="2"/>
                </a:lnTo>
                <a:lnTo>
                  <a:pt x="1017" y="4"/>
                </a:lnTo>
                <a:lnTo>
                  <a:pt x="1023" y="6"/>
                </a:lnTo>
                <a:lnTo>
                  <a:pt x="1029" y="10"/>
                </a:lnTo>
                <a:lnTo>
                  <a:pt x="1037" y="14"/>
                </a:lnTo>
                <a:lnTo>
                  <a:pt x="1042" y="17"/>
                </a:lnTo>
                <a:lnTo>
                  <a:pt x="1050" y="23"/>
                </a:lnTo>
                <a:lnTo>
                  <a:pt x="1058" y="29"/>
                </a:lnTo>
                <a:lnTo>
                  <a:pt x="1067" y="35"/>
                </a:lnTo>
                <a:lnTo>
                  <a:pt x="1075" y="40"/>
                </a:lnTo>
                <a:lnTo>
                  <a:pt x="1085" y="48"/>
                </a:lnTo>
                <a:lnTo>
                  <a:pt x="1094" y="56"/>
                </a:lnTo>
                <a:lnTo>
                  <a:pt x="1106" y="65"/>
                </a:lnTo>
                <a:lnTo>
                  <a:pt x="1117" y="75"/>
                </a:lnTo>
                <a:lnTo>
                  <a:pt x="1127" y="83"/>
                </a:lnTo>
                <a:lnTo>
                  <a:pt x="1136" y="92"/>
                </a:lnTo>
                <a:lnTo>
                  <a:pt x="1146" y="102"/>
                </a:lnTo>
                <a:lnTo>
                  <a:pt x="1154" y="110"/>
                </a:lnTo>
                <a:lnTo>
                  <a:pt x="1161" y="117"/>
                </a:lnTo>
                <a:lnTo>
                  <a:pt x="1169" y="125"/>
                </a:lnTo>
                <a:lnTo>
                  <a:pt x="1175" y="133"/>
                </a:lnTo>
                <a:lnTo>
                  <a:pt x="1179" y="140"/>
                </a:lnTo>
                <a:lnTo>
                  <a:pt x="1182" y="148"/>
                </a:lnTo>
                <a:lnTo>
                  <a:pt x="1186" y="156"/>
                </a:lnTo>
                <a:lnTo>
                  <a:pt x="1188" y="163"/>
                </a:lnTo>
                <a:lnTo>
                  <a:pt x="1190" y="171"/>
                </a:lnTo>
                <a:lnTo>
                  <a:pt x="1192" y="177"/>
                </a:lnTo>
                <a:lnTo>
                  <a:pt x="1190" y="184"/>
                </a:lnTo>
                <a:lnTo>
                  <a:pt x="1190" y="192"/>
                </a:lnTo>
                <a:lnTo>
                  <a:pt x="1188" y="198"/>
                </a:lnTo>
                <a:lnTo>
                  <a:pt x="1186" y="206"/>
                </a:lnTo>
                <a:lnTo>
                  <a:pt x="1182" y="213"/>
                </a:lnTo>
                <a:lnTo>
                  <a:pt x="1177" y="221"/>
                </a:lnTo>
                <a:lnTo>
                  <a:pt x="1173" y="230"/>
                </a:lnTo>
                <a:lnTo>
                  <a:pt x="1165" y="240"/>
                </a:lnTo>
                <a:lnTo>
                  <a:pt x="1159" y="250"/>
                </a:lnTo>
                <a:lnTo>
                  <a:pt x="1150" y="261"/>
                </a:lnTo>
                <a:lnTo>
                  <a:pt x="1142" y="273"/>
                </a:lnTo>
                <a:lnTo>
                  <a:pt x="1131" y="284"/>
                </a:lnTo>
                <a:lnTo>
                  <a:pt x="1121" y="298"/>
                </a:lnTo>
                <a:lnTo>
                  <a:pt x="1108" y="309"/>
                </a:lnTo>
                <a:lnTo>
                  <a:pt x="1094" y="324"/>
                </a:lnTo>
                <a:lnTo>
                  <a:pt x="1081" y="338"/>
                </a:lnTo>
                <a:lnTo>
                  <a:pt x="1065" y="353"/>
                </a:lnTo>
                <a:lnTo>
                  <a:pt x="1050" y="369"/>
                </a:lnTo>
                <a:lnTo>
                  <a:pt x="1033" y="384"/>
                </a:lnTo>
                <a:lnTo>
                  <a:pt x="990" y="419"/>
                </a:lnTo>
                <a:lnTo>
                  <a:pt x="948" y="451"/>
                </a:lnTo>
                <a:lnTo>
                  <a:pt x="906" y="488"/>
                </a:lnTo>
                <a:lnTo>
                  <a:pt x="860" y="522"/>
                </a:lnTo>
                <a:lnTo>
                  <a:pt x="812" y="559"/>
                </a:lnTo>
                <a:lnTo>
                  <a:pt x="764" y="595"/>
                </a:lnTo>
                <a:lnTo>
                  <a:pt x="712" y="633"/>
                </a:lnTo>
                <a:lnTo>
                  <a:pt x="687" y="651"/>
                </a:lnTo>
                <a:lnTo>
                  <a:pt x="660" y="6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0" name="组合 8"/>
          <p:cNvGrpSpPr/>
          <p:nvPr/>
        </p:nvGrpSpPr>
        <p:grpSpPr>
          <a:xfrm>
            <a:off x="1211400" y="3975120"/>
            <a:ext cx="2840040" cy="1571760"/>
            <a:chOff x="1211400" y="3975120"/>
            <a:chExt cx="2840040" cy="1571760"/>
          </a:xfrm>
        </p:grpSpPr>
        <p:pic>
          <p:nvPicPr>
            <p:cNvPr id="111" name="图示 4" descr=""/>
            <p:cNvPicPr/>
            <p:nvPr/>
          </p:nvPicPr>
          <p:blipFill>
            <a:blip r:embed="rId1"/>
            <a:stretch/>
          </p:blipFill>
          <p:spPr>
            <a:xfrm>
              <a:off x="121140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矩形 2"/>
            <p:cNvSpPr/>
            <p:nvPr/>
          </p:nvSpPr>
          <p:spPr>
            <a:xfrm>
              <a:off x="125604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首横稍长，长竖在竖中线上，点画独立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225108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9"/>
          <p:cNvSpPr/>
          <p:nvPr/>
        </p:nvSpPr>
        <p:spPr>
          <a:xfrm>
            <a:off x="6894360" y="2801880"/>
            <a:ext cx="293760" cy="246240"/>
          </a:xfrm>
          <a:custGeom>
            <a:avLst/>
            <a:gdLst/>
            <a:ahLst/>
            <a:rect l="l" t="t" r="r" b="b"/>
            <a:pathLst>
              <a:path w="368" h="311">
                <a:moveTo>
                  <a:pt x="359" y="172"/>
                </a:moveTo>
                <a:lnTo>
                  <a:pt x="361" y="184"/>
                </a:lnTo>
                <a:lnTo>
                  <a:pt x="363" y="195"/>
                </a:lnTo>
                <a:lnTo>
                  <a:pt x="365" y="205"/>
                </a:lnTo>
                <a:lnTo>
                  <a:pt x="365" y="215"/>
                </a:lnTo>
                <a:lnTo>
                  <a:pt x="366" y="224"/>
                </a:lnTo>
                <a:lnTo>
                  <a:pt x="366" y="232"/>
                </a:lnTo>
                <a:lnTo>
                  <a:pt x="368" y="249"/>
                </a:lnTo>
                <a:lnTo>
                  <a:pt x="366" y="263"/>
                </a:lnTo>
                <a:lnTo>
                  <a:pt x="365" y="276"/>
                </a:lnTo>
                <a:lnTo>
                  <a:pt x="363" y="288"/>
                </a:lnTo>
                <a:lnTo>
                  <a:pt x="359" y="297"/>
                </a:lnTo>
                <a:lnTo>
                  <a:pt x="355" y="301"/>
                </a:lnTo>
                <a:lnTo>
                  <a:pt x="349" y="305"/>
                </a:lnTo>
                <a:lnTo>
                  <a:pt x="343" y="307"/>
                </a:lnTo>
                <a:lnTo>
                  <a:pt x="336" y="309"/>
                </a:lnTo>
                <a:lnTo>
                  <a:pt x="330" y="311"/>
                </a:lnTo>
                <a:lnTo>
                  <a:pt x="322" y="311"/>
                </a:lnTo>
                <a:lnTo>
                  <a:pt x="313" y="311"/>
                </a:lnTo>
                <a:lnTo>
                  <a:pt x="305" y="309"/>
                </a:lnTo>
                <a:lnTo>
                  <a:pt x="295" y="307"/>
                </a:lnTo>
                <a:lnTo>
                  <a:pt x="286" y="303"/>
                </a:lnTo>
                <a:lnTo>
                  <a:pt x="274" y="299"/>
                </a:lnTo>
                <a:lnTo>
                  <a:pt x="265" y="295"/>
                </a:lnTo>
                <a:lnTo>
                  <a:pt x="253" y="291"/>
                </a:lnTo>
                <a:lnTo>
                  <a:pt x="240" y="286"/>
                </a:lnTo>
                <a:lnTo>
                  <a:pt x="228" y="280"/>
                </a:lnTo>
                <a:lnTo>
                  <a:pt x="215" y="272"/>
                </a:lnTo>
                <a:lnTo>
                  <a:pt x="201" y="265"/>
                </a:lnTo>
                <a:lnTo>
                  <a:pt x="190" y="257"/>
                </a:lnTo>
                <a:lnTo>
                  <a:pt x="176" y="249"/>
                </a:lnTo>
                <a:lnTo>
                  <a:pt x="165" y="242"/>
                </a:lnTo>
                <a:lnTo>
                  <a:pt x="153" y="234"/>
                </a:lnTo>
                <a:lnTo>
                  <a:pt x="144" y="226"/>
                </a:lnTo>
                <a:lnTo>
                  <a:pt x="123" y="209"/>
                </a:lnTo>
                <a:lnTo>
                  <a:pt x="105" y="192"/>
                </a:lnTo>
                <a:lnTo>
                  <a:pt x="88" y="172"/>
                </a:lnTo>
                <a:lnTo>
                  <a:pt x="73" y="153"/>
                </a:lnTo>
                <a:lnTo>
                  <a:pt x="59" y="136"/>
                </a:lnTo>
                <a:lnTo>
                  <a:pt x="46" y="117"/>
                </a:lnTo>
                <a:lnTo>
                  <a:pt x="34" y="101"/>
                </a:lnTo>
                <a:lnTo>
                  <a:pt x="25" y="84"/>
                </a:lnTo>
                <a:lnTo>
                  <a:pt x="15" y="71"/>
                </a:lnTo>
                <a:lnTo>
                  <a:pt x="9" y="57"/>
                </a:lnTo>
                <a:lnTo>
                  <a:pt x="6" y="52"/>
                </a:lnTo>
                <a:lnTo>
                  <a:pt x="4" y="44"/>
                </a:lnTo>
                <a:lnTo>
                  <a:pt x="2" y="38"/>
                </a:lnTo>
                <a:lnTo>
                  <a:pt x="0" y="34"/>
                </a:lnTo>
                <a:lnTo>
                  <a:pt x="0" y="29"/>
                </a:lnTo>
                <a:lnTo>
                  <a:pt x="0" y="25"/>
                </a:lnTo>
                <a:lnTo>
                  <a:pt x="0" y="19"/>
                </a:lnTo>
                <a:lnTo>
                  <a:pt x="2" y="15"/>
                </a:lnTo>
                <a:lnTo>
                  <a:pt x="4" y="11"/>
                </a:lnTo>
                <a:lnTo>
                  <a:pt x="9" y="7"/>
                </a:lnTo>
                <a:lnTo>
                  <a:pt x="15" y="4"/>
                </a:lnTo>
                <a:lnTo>
                  <a:pt x="19" y="2"/>
                </a:lnTo>
                <a:lnTo>
                  <a:pt x="25" y="2"/>
                </a:lnTo>
                <a:lnTo>
                  <a:pt x="29" y="0"/>
                </a:lnTo>
                <a:lnTo>
                  <a:pt x="34" y="0"/>
                </a:lnTo>
                <a:lnTo>
                  <a:pt x="40" y="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9" y="0"/>
                </a:lnTo>
                <a:lnTo>
                  <a:pt x="79" y="2"/>
                </a:lnTo>
                <a:lnTo>
                  <a:pt x="88" y="2"/>
                </a:lnTo>
                <a:lnTo>
                  <a:pt x="98" y="4"/>
                </a:lnTo>
                <a:lnTo>
                  <a:pt x="107" y="5"/>
                </a:lnTo>
                <a:lnTo>
                  <a:pt x="119" y="7"/>
                </a:lnTo>
                <a:lnTo>
                  <a:pt x="130" y="11"/>
                </a:lnTo>
                <a:lnTo>
                  <a:pt x="142" y="13"/>
                </a:lnTo>
                <a:lnTo>
                  <a:pt x="155" y="17"/>
                </a:lnTo>
                <a:lnTo>
                  <a:pt x="169" y="19"/>
                </a:lnTo>
                <a:lnTo>
                  <a:pt x="182" y="23"/>
                </a:lnTo>
                <a:lnTo>
                  <a:pt x="196" y="27"/>
                </a:lnTo>
                <a:lnTo>
                  <a:pt x="211" y="32"/>
                </a:lnTo>
                <a:lnTo>
                  <a:pt x="226" y="36"/>
                </a:lnTo>
                <a:lnTo>
                  <a:pt x="242" y="42"/>
                </a:lnTo>
                <a:lnTo>
                  <a:pt x="255" y="48"/>
                </a:lnTo>
                <a:lnTo>
                  <a:pt x="269" y="53"/>
                </a:lnTo>
                <a:lnTo>
                  <a:pt x="280" y="59"/>
                </a:lnTo>
                <a:lnTo>
                  <a:pt x="292" y="67"/>
                </a:lnTo>
                <a:lnTo>
                  <a:pt x="301" y="75"/>
                </a:lnTo>
                <a:lnTo>
                  <a:pt x="311" y="82"/>
                </a:lnTo>
                <a:lnTo>
                  <a:pt x="320" y="90"/>
                </a:lnTo>
                <a:lnTo>
                  <a:pt x="326" y="100"/>
                </a:lnTo>
                <a:lnTo>
                  <a:pt x="334" y="109"/>
                </a:lnTo>
                <a:lnTo>
                  <a:pt x="340" y="119"/>
                </a:lnTo>
                <a:lnTo>
                  <a:pt x="345" y="128"/>
                </a:lnTo>
                <a:lnTo>
                  <a:pt x="349" y="140"/>
                </a:lnTo>
                <a:lnTo>
                  <a:pt x="353" y="149"/>
                </a:lnTo>
                <a:lnTo>
                  <a:pt x="357" y="161"/>
                </a:lnTo>
                <a:lnTo>
                  <a:pt x="359" y="1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30"/>
          <p:cNvSpPr/>
          <p:nvPr/>
        </p:nvSpPr>
        <p:spPr>
          <a:xfrm>
            <a:off x="6402240" y="2698920"/>
            <a:ext cx="223920" cy="2124000"/>
          </a:xfrm>
          <a:custGeom>
            <a:avLst/>
            <a:gdLst/>
            <a:ahLst/>
            <a:rect l="l" t="t" r="r" b="b"/>
            <a:pathLst>
              <a:path w="282" h="2677">
                <a:moveTo>
                  <a:pt x="19" y="92"/>
                </a:moveTo>
                <a:lnTo>
                  <a:pt x="15" y="89"/>
                </a:lnTo>
                <a:lnTo>
                  <a:pt x="11" y="83"/>
                </a:lnTo>
                <a:lnTo>
                  <a:pt x="7" y="79"/>
                </a:lnTo>
                <a:lnTo>
                  <a:pt x="5" y="73"/>
                </a:lnTo>
                <a:lnTo>
                  <a:pt x="2" y="65"/>
                </a:lnTo>
                <a:lnTo>
                  <a:pt x="0" y="56"/>
                </a:lnTo>
                <a:lnTo>
                  <a:pt x="0" y="46"/>
                </a:lnTo>
                <a:lnTo>
                  <a:pt x="0" y="37"/>
                </a:lnTo>
                <a:lnTo>
                  <a:pt x="2" y="27"/>
                </a:lnTo>
                <a:lnTo>
                  <a:pt x="7" y="18"/>
                </a:lnTo>
                <a:lnTo>
                  <a:pt x="9" y="14"/>
                </a:lnTo>
                <a:lnTo>
                  <a:pt x="13" y="10"/>
                </a:lnTo>
                <a:lnTo>
                  <a:pt x="17" y="6"/>
                </a:lnTo>
                <a:lnTo>
                  <a:pt x="23" y="4"/>
                </a:lnTo>
                <a:lnTo>
                  <a:pt x="29" y="2"/>
                </a:lnTo>
                <a:lnTo>
                  <a:pt x="36" y="0"/>
                </a:lnTo>
                <a:lnTo>
                  <a:pt x="44" y="0"/>
                </a:lnTo>
                <a:lnTo>
                  <a:pt x="52" y="0"/>
                </a:lnTo>
                <a:lnTo>
                  <a:pt x="61" y="2"/>
                </a:lnTo>
                <a:lnTo>
                  <a:pt x="71" y="4"/>
                </a:lnTo>
                <a:lnTo>
                  <a:pt x="82" y="6"/>
                </a:lnTo>
                <a:lnTo>
                  <a:pt x="94" y="10"/>
                </a:lnTo>
                <a:lnTo>
                  <a:pt x="107" y="14"/>
                </a:lnTo>
                <a:lnTo>
                  <a:pt x="121" y="18"/>
                </a:lnTo>
                <a:lnTo>
                  <a:pt x="136" y="23"/>
                </a:lnTo>
                <a:lnTo>
                  <a:pt x="151" y="31"/>
                </a:lnTo>
                <a:lnTo>
                  <a:pt x="167" y="37"/>
                </a:lnTo>
                <a:lnTo>
                  <a:pt x="180" y="44"/>
                </a:lnTo>
                <a:lnTo>
                  <a:pt x="194" y="52"/>
                </a:lnTo>
                <a:lnTo>
                  <a:pt x="207" y="58"/>
                </a:lnTo>
                <a:lnTo>
                  <a:pt x="219" y="65"/>
                </a:lnTo>
                <a:lnTo>
                  <a:pt x="228" y="71"/>
                </a:lnTo>
                <a:lnTo>
                  <a:pt x="240" y="77"/>
                </a:lnTo>
                <a:lnTo>
                  <a:pt x="247" y="83"/>
                </a:lnTo>
                <a:lnTo>
                  <a:pt x="255" y="89"/>
                </a:lnTo>
                <a:lnTo>
                  <a:pt x="263" y="94"/>
                </a:lnTo>
                <a:lnTo>
                  <a:pt x="268" y="100"/>
                </a:lnTo>
                <a:lnTo>
                  <a:pt x="274" y="104"/>
                </a:lnTo>
                <a:lnTo>
                  <a:pt x="278" y="108"/>
                </a:lnTo>
                <a:lnTo>
                  <a:pt x="280" y="112"/>
                </a:lnTo>
                <a:lnTo>
                  <a:pt x="282" y="115"/>
                </a:lnTo>
                <a:lnTo>
                  <a:pt x="282" y="117"/>
                </a:lnTo>
                <a:lnTo>
                  <a:pt x="282" y="123"/>
                </a:lnTo>
                <a:lnTo>
                  <a:pt x="282" y="129"/>
                </a:lnTo>
                <a:lnTo>
                  <a:pt x="282" y="138"/>
                </a:lnTo>
                <a:lnTo>
                  <a:pt x="280" y="148"/>
                </a:lnTo>
                <a:lnTo>
                  <a:pt x="280" y="158"/>
                </a:lnTo>
                <a:lnTo>
                  <a:pt x="278" y="171"/>
                </a:lnTo>
                <a:lnTo>
                  <a:pt x="276" y="184"/>
                </a:lnTo>
                <a:lnTo>
                  <a:pt x="274" y="200"/>
                </a:lnTo>
                <a:lnTo>
                  <a:pt x="272" y="215"/>
                </a:lnTo>
                <a:lnTo>
                  <a:pt x="270" y="234"/>
                </a:lnTo>
                <a:lnTo>
                  <a:pt x="268" y="254"/>
                </a:lnTo>
                <a:lnTo>
                  <a:pt x="267" y="273"/>
                </a:lnTo>
                <a:lnTo>
                  <a:pt x="265" y="294"/>
                </a:lnTo>
                <a:lnTo>
                  <a:pt x="263" y="317"/>
                </a:lnTo>
                <a:lnTo>
                  <a:pt x="261" y="340"/>
                </a:lnTo>
                <a:lnTo>
                  <a:pt x="259" y="367"/>
                </a:lnTo>
                <a:lnTo>
                  <a:pt x="257" y="380"/>
                </a:lnTo>
                <a:lnTo>
                  <a:pt x="257" y="396"/>
                </a:lnTo>
                <a:lnTo>
                  <a:pt x="255" y="413"/>
                </a:lnTo>
                <a:lnTo>
                  <a:pt x="255" y="432"/>
                </a:lnTo>
                <a:lnTo>
                  <a:pt x="253" y="451"/>
                </a:lnTo>
                <a:lnTo>
                  <a:pt x="251" y="472"/>
                </a:lnTo>
                <a:lnTo>
                  <a:pt x="251" y="493"/>
                </a:lnTo>
                <a:lnTo>
                  <a:pt x="249" y="518"/>
                </a:lnTo>
                <a:lnTo>
                  <a:pt x="249" y="541"/>
                </a:lnTo>
                <a:lnTo>
                  <a:pt x="247" y="568"/>
                </a:lnTo>
                <a:lnTo>
                  <a:pt x="247" y="595"/>
                </a:lnTo>
                <a:lnTo>
                  <a:pt x="245" y="624"/>
                </a:lnTo>
                <a:lnTo>
                  <a:pt x="245" y="653"/>
                </a:lnTo>
                <a:lnTo>
                  <a:pt x="244" y="683"/>
                </a:lnTo>
                <a:lnTo>
                  <a:pt x="244" y="716"/>
                </a:lnTo>
                <a:lnTo>
                  <a:pt x="242" y="749"/>
                </a:lnTo>
                <a:lnTo>
                  <a:pt x="242" y="785"/>
                </a:lnTo>
                <a:lnTo>
                  <a:pt x="242" y="820"/>
                </a:lnTo>
                <a:lnTo>
                  <a:pt x="240" y="858"/>
                </a:lnTo>
                <a:lnTo>
                  <a:pt x="240" y="896"/>
                </a:lnTo>
                <a:lnTo>
                  <a:pt x="238" y="937"/>
                </a:lnTo>
                <a:lnTo>
                  <a:pt x="238" y="977"/>
                </a:lnTo>
                <a:lnTo>
                  <a:pt x="238" y="1019"/>
                </a:lnTo>
                <a:lnTo>
                  <a:pt x="238" y="1063"/>
                </a:lnTo>
                <a:lnTo>
                  <a:pt x="236" y="1108"/>
                </a:lnTo>
                <a:lnTo>
                  <a:pt x="236" y="1154"/>
                </a:lnTo>
                <a:lnTo>
                  <a:pt x="236" y="1202"/>
                </a:lnTo>
                <a:lnTo>
                  <a:pt x="236" y="1252"/>
                </a:lnTo>
                <a:lnTo>
                  <a:pt x="236" y="1301"/>
                </a:lnTo>
                <a:lnTo>
                  <a:pt x="236" y="1353"/>
                </a:lnTo>
                <a:lnTo>
                  <a:pt x="236" y="1405"/>
                </a:lnTo>
                <a:lnTo>
                  <a:pt x="236" y="1459"/>
                </a:lnTo>
                <a:lnTo>
                  <a:pt x="236" y="1513"/>
                </a:lnTo>
                <a:lnTo>
                  <a:pt x="234" y="1566"/>
                </a:lnTo>
                <a:lnTo>
                  <a:pt x="234" y="1618"/>
                </a:lnTo>
                <a:lnTo>
                  <a:pt x="234" y="1668"/>
                </a:lnTo>
                <a:lnTo>
                  <a:pt x="234" y="1716"/>
                </a:lnTo>
                <a:lnTo>
                  <a:pt x="234" y="1762"/>
                </a:lnTo>
                <a:lnTo>
                  <a:pt x="234" y="1808"/>
                </a:lnTo>
                <a:lnTo>
                  <a:pt x="232" y="1852"/>
                </a:lnTo>
                <a:lnTo>
                  <a:pt x="232" y="1896"/>
                </a:lnTo>
                <a:lnTo>
                  <a:pt x="232" y="1937"/>
                </a:lnTo>
                <a:lnTo>
                  <a:pt x="230" y="1977"/>
                </a:lnTo>
                <a:lnTo>
                  <a:pt x="230" y="2017"/>
                </a:lnTo>
                <a:lnTo>
                  <a:pt x="230" y="2054"/>
                </a:lnTo>
                <a:lnTo>
                  <a:pt x="228" y="2090"/>
                </a:lnTo>
                <a:lnTo>
                  <a:pt x="228" y="2125"/>
                </a:lnTo>
                <a:lnTo>
                  <a:pt x="226" y="2157"/>
                </a:lnTo>
                <a:lnTo>
                  <a:pt x="226" y="2190"/>
                </a:lnTo>
                <a:lnTo>
                  <a:pt x="226" y="2221"/>
                </a:lnTo>
                <a:lnTo>
                  <a:pt x="224" y="2249"/>
                </a:lnTo>
                <a:lnTo>
                  <a:pt x="224" y="2276"/>
                </a:lnTo>
                <a:lnTo>
                  <a:pt x="222" y="2303"/>
                </a:lnTo>
                <a:lnTo>
                  <a:pt x="220" y="2328"/>
                </a:lnTo>
                <a:lnTo>
                  <a:pt x="220" y="2353"/>
                </a:lnTo>
                <a:lnTo>
                  <a:pt x="219" y="2374"/>
                </a:lnTo>
                <a:lnTo>
                  <a:pt x="219" y="2395"/>
                </a:lnTo>
                <a:lnTo>
                  <a:pt x="217" y="2415"/>
                </a:lnTo>
                <a:lnTo>
                  <a:pt x="217" y="2434"/>
                </a:lnTo>
                <a:lnTo>
                  <a:pt x="215" y="2449"/>
                </a:lnTo>
                <a:lnTo>
                  <a:pt x="215" y="2464"/>
                </a:lnTo>
                <a:lnTo>
                  <a:pt x="213" y="2480"/>
                </a:lnTo>
                <a:lnTo>
                  <a:pt x="211" y="2491"/>
                </a:lnTo>
                <a:lnTo>
                  <a:pt x="211" y="2503"/>
                </a:lnTo>
                <a:lnTo>
                  <a:pt x="209" y="2526"/>
                </a:lnTo>
                <a:lnTo>
                  <a:pt x="205" y="2545"/>
                </a:lnTo>
                <a:lnTo>
                  <a:pt x="203" y="2564"/>
                </a:lnTo>
                <a:lnTo>
                  <a:pt x="199" y="2581"/>
                </a:lnTo>
                <a:lnTo>
                  <a:pt x="197" y="2599"/>
                </a:lnTo>
                <a:lnTo>
                  <a:pt x="194" y="2612"/>
                </a:lnTo>
                <a:lnTo>
                  <a:pt x="190" y="2626"/>
                </a:lnTo>
                <a:lnTo>
                  <a:pt x="186" y="2635"/>
                </a:lnTo>
                <a:lnTo>
                  <a:pt x="184" y="2647"/>
                </a:lnTo>
                <a:lnTo>
                  <a:pt x="180" y="2654"/>
                </a:lnTo>
                <a:lnTo>
                  <a:pt x="176" y="2662"/>
                </a:lnTo>
                <a:lnTo>
                  <a:pt x="172" y="2666"/>
                </a:lnTo>
                <a:lnTo>
                  <a:pt x="171" y="2672"/>
                </a:lnTo>
                <a:lnTo>
                  <a:pt x="167" y="2674"/>
                </a:lnTo>
                <a:lnTo>
                  <a:pt x="165" y="2676"/>
                </a:lnTo>
                <a:lnTo>
                  <a:pt x="163" y="2677"/>
                </a:lnTo>
                <a:lnTo>
                  <a:pt x="157" y="2674"/>
                </a:lnTo>
                <a:lnTo>
                  <a:pt x="153" y="2668"/>
                </a:lnTo>
                <a:lnTo>
                  <a:pt x="149" y="2662"/>
                </a:lnTo>
                <a:lnTo>
                  <a:pt x="144" y="2652"/>
                </a:lnTo>
                <a:lnTo>
                  <a:pt x="140" y="2643"/>
                </a:lnTo>
                <a:lnTo>
                  <a:pt x="136" y="2631"/>
                </a:lnTo>
                <a:lnTo>
                  <a:pt x="132" y="2618"/>
                </a:lnTo>
                <a:lnTo>
                  <a:pt x="128" y="2603"/>
                </a:lnTo>
                <a:lnTo>
                  <a:pt x="125" y="2585"/>
                </a:lnTo>
                <a:lnTo>
                  <a:pt x="121" y="2566"/>
                </a:lnTo>
                <a:lnTo>
                  <a:pt x="117" y="2545"/>
                </a:lnTo>
                <a:lnTo>
                  <a:pt x="113" y="2522"/>
                </a:lnTo>
                <a:lnTo>
                  <a:pt x="111" y="2499"/>
                </a:lnTo>
                <a:lnTo>
                  <a:pt x="107" y="2472"/>
                </a:lnTo>
                <a:lnTo>
                  <a:pt x="105" y="2445"/>
                </a:lnTo>
                <a:lnTo>
                  <a:pt x="103" y="2416"/>
                </a:lnTo>
                <a:lnTo>
                  <a:pt x="100" y="2399"/>
                </a:lnTo>
                <a:lnTo>
                  <a:pt x="98" y="2384"/>
                </a:lnTo>
                <a:lnTo>
                  <a:pt x="96" y="2365"/>
                </a:lnTo>
                <a:lnTo>
                  <a:pt x="94" y="2345"/>
                </a:lnTo>
                <a:lnTo>
                  <a:pt x="92" y="2326"/>
                </a:lnTo>
                <a:lnTo>
                  <a:pt x="90" y="2305"/>
                </a:lnTo>
                <a:lnTo>
                  <a:pt x="88" y="2284"/>
                </a:lnTo>
                <a:lnTo>
                  <a:pt x="88" y="2259"/>
                </a:lnTo>
                <a:lnTo>
                  <a:pt x="86" y="2236"/>
                </a:lnTo>
                <a:lnTo>
                  <a:pt x="84" y="2211"/>
                </a:lnTo>
                <a:lnTo>
                  <a:pt x="82" y="2184"/>
                </a:lnTo>
                <a:lnTo>
                  <a:pt x="82" y="2157"/>
                </a:lnTo>
                <a:lnTo>
                  <a:pt x="80" y="2129"/>
                </a:lnTo>
                <a:lnTo>
                  <a:pt x="78" y="2100"/>
                </a:lnTo>
                <a:lnTo>
                  <a:pt x="78" y="2069"/>
                </a:lnTo>
                <a:lnTo>
                  <a:pt x="77" y="2036"/>
                </a:lnTo>
                <a:lnTo>
                  <a:pt x="77" y="2004"/>
                </a:lnTo>
                <a:lnTo>
                  <a:pt x="77" y="1971"/>
                </a:lnTo>
                <a:lnTo>
                  <a:pt x="75" y="1937"/>
                </a:lnTo>
                <a:lnTo>
                  <a:pt x="75" y="1900"/>
                </a:lnTo>
                <a:lnTo>
                  <a:pt x="75" y="1864"/>
                </a:lnTo>
                <a:lnTo>
                  <a:pt x="75" y="1827"/>
                </a:lnTo>
                <a:lnTo>
                  <a:pt x="75" y="1789"/>
                </a:lnTo>
                <a:lnTo>
                  <a:pt x="75" y="1749"/>
                </a:lnTo>
                <a:lnTo>
                  <a:pt x="75" y="1708"/>
                </a:lnTo>
                <a:lnTo>
                  <a:pt x="75" y="1666"/>
                </a:lnTo>
                <a:lnTo>
                  <a:pt x="75" y="1624"/>
                </a:lnTo>
                <a:lnTo>
                  <a:pt x="75" y="1580"/>
                </a:lnTo>
                <a:lnTo>
                  <a:pt x="77" y="1536"/>
                </a:lnTo>
                <a:lnTo>
                  <a:pt x="77" y="1491"/>
                </a:lnTo>
                <a:lnTo>
                  <a:pt x="77" y="1443"/>
                </a:lnTo>
                <a:lnTo>
                  <a:pt x="78" y="1397"/>
                </a:lnTo>
                <a:lnTo>
                  <a:pt x="78" y="1349"/>
                </a:lnTo>
                <a:lnTo>
                  <a:pt x="78" y="1303"/>
                </a:lnTo>
                <a:lnTo>
                  <a:pt x="78" y="1257"/>
                </a:lnTo>
                <a:lnTo>
                  <a:pt x="78" y="1213"/>
                </a:lnTo>
                <a:lnTo>
                  <a:pt x="78" y="1171"/>
                </a:lnTo>
                <a:lnTo>
                  <a:pt x="78" y="1127"/>
                </a:lnTo>
                <a:lnTo>
                  <a:pt x="78" y="1086"/>
                </a:lnTo>
                <a:lnTo>
                  <a:pt x="78" y="1046"/>
                </a:lnTo>
                <a:lnTo>
                  <a:pt x="78" y="1006"/>
                </a:lnTo>
                <a:lnTo>
                  <a:pt x="78" y="967"/>
                </a:lnTo>
                <a:lnTo>
                  <a:pt x="78" y="929"/>
                </a:lnTo>
                <a:lnTo>
                  <a:pt x="78" y="893"/>
                </a:lnTo>
                <a:lnTo>
                  <a:pt x="78" y="858"/>
                </a:lnTo>
                <a:lnTo>
                  <a:pt x="77" y="824"/>
                </a:lnTo>
                <a:lnTo>
                  <a:pt x="77" y="789"/>
                </a:lnTo>
                <a:lnTo>
                  <a:pt x="77" y="756"/>
                </a:lnTo>
                <a:lnTo>
                  <a:pt x="77" y="726"/>
                </a:lnTo>
                <a:lnTo>
                  <a:pt x="77" y="695"/>
                </a:lnTo>
                <a:lnTo>
                  <a:pt x="77" y="666"/>
                </a:lnTo>
                <a:lnTo>
                  <a:pt x="75" y="637"/>
                </a:lnTo>
                <a:lnTo>
                  <a:pt x="75" y="611"/>
                </a:lnTo>
                <a:lnTo>
                  <a:pt x="75" y="584"/>
                </a:lnTo>
                <a:lnTo>
                  <a:pt x="75" y="559"/>
                </a:lnTo>
                <a:lnTo>
                  <a:pt x="73" y="534"/>
                </a:lnTo>
                <a:lnTo>
                  <a:pt x="73" y="511"/>
                </a:lnTo>
                <a:lnTo>
                  <a:pt x="73" y="488"/>
                </a:lnTo>
                <a:lnTo>
                  <a:pt x="71" y="467"/>
                </a:lnTo>
                <a:lnTo>
                  <a:pt x="71" y="447"/>
                </a:lnTo>
                <a:lnTo>
                  <a:pt x="69" y="428"/>
                </a:lnTo>
                <a:lnTo>
                  <a:pt x="69" y="411"/>
                </a:lnTo>
                <a:lnTo>
                  <a:pt x="67" y="394"/>
                </a:lnTo>
                <a:lnTo>
                  <a:pt x="67" y="378"/>
                </a:lnTo>
                <a:lnTo>
                  <a:pt x="65" y="350"/>
                </a:lnTo>
                <a:lnTo>
                  <a:pt x="61" y="321"/>
                </a:lnTo>
                <a:lnTo>
                  <a:pt x="59" y="294"/>
                </a:lnTo>
                <a:lnTo>
                  <a:pt x="57" y="269"/>
                </a:lnTo>
                <a:lnTo>
                  <a:pt x="55" y="246"/>
                </a:lnTo>
                <a:lnTo>
                  <a:pt x="53" y="223"/>
                </a:lnTo>
                <a:lnTo>
                  <a:pt x="50" y="204"/>
                </a:lnTo>
                <a:lnTo>
                  <a:pt x="48" y="184"/>
                </a:lnTo>
                <a:lnTo>
                  <a:pt x="44" y="167"/>
                </a:lnTo>
                <a:lnTo>
                  <a:pt x="42" y="152"/>
                </a:lnTo>
                <a:lnTo>
                  <a:pt x="38" y="138"/>
                </a:lnTo>
                <a:lnTo>
                  <a:pt x="34" y="125"/>
                </a:lnTo>
                <a:lnTo>
                  <a:pt x="30" y="115"/>
                </a:lnTo>
                <a:lnTo>
                  <a:pt x="27" y="106"/>
                </a:lnTo>
                <a:lnTo>
                  <a:pt x="23" y="98"/>
                </a:lnTo>
                <a:lnTo>
                  <a:pt x="19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31"/>
          <p:cNvSpPr/>
          <p:nvPr/>
        </p:nvSpPr>
        <p:spPr>
          <a:xfrm>
            <a:off x="5929200" y="3635280"/>
            <a:ext cx="184320" cy="1197000"/>
          </a:xfrm>
          <a:custGeom>
            <a:avLst/>
            <a:gdLst/>
            <a:ahLst/>
            <a:rect l="l" t="t" r="r" b="b"/>
            <a:pathLst>
              <a:path w="232" h="1508">
                <a:moveTo>
                  <a:pt x="28" y="130"/>
                </a:moveTo>
                <a:lnTo>
                  <a:pt x="19" y="115"/>
                </a:lnTo>
                <a:lnTo>
                  <a:pt x="11" y="103"/>
                </a:lnTo>
                <a:lnTo>
                  <a:pt x="5" y="92"/>
                </a:lnTo>
                <a:lnTo>
                  <a:pt x="2" y="80"/>
                </a:lnTo>
                <a:lnTo>
                  <a:pt x="0" y="69"/>
                </a:lnTo>
                <a:lnTo>
                  <a:pt x="0" y="61"/>
                </a:lnTo>
                <a:lnTo>
                  <a:pt x="0" y="55"/>
                </a:lnTo>
                <a:lnTo>
                  <a:pt x="0" y="49"/>
                </a:lnTo>
                <a:lnTo>
                  <a:pt x="0" y="44"/>
                </a:lnTo>
                <a:lnTo>
                  <a:pt x="2" y="36"/>
                </a:lnTo>
                <a:lnTo>
                  <a:pt x="3" y="30"/>
                </a:lnTo>
                <a:lnTo>
                  <a:pt x="7" y="21"/>
                </a:lnTo>
                <a:lnTo>
                  <a:pt x="13" y="13"/>
                </a:lnTo>
                <a:lnTo>
                  <a:pt x="19" y="7"/>
                </a:lnTo>
                <a:lnTo>
                  <a:pt x="25" y="3"/>
                </a:lnTo>
                <a:lnTo>
                  <a:pt x="32" y="1"/>
                </a:lnTo>
                <a:lnTo>
                  <a:pt x="36" y="0"/>
                </a:lnTo>
                <a:lnTo>
                  <a:pt x="40" y="0"/>
                </a:lnTo>
                <a:lnTo>
                  <a:pt x="46" y="0"/>
                </a:lnTo>
                <a:lnTo>
                  <a:pt x="51" y="1"/>
                </a:lnTo>
                <a:lnTo>
                  <a:pt x="57" y="3"/>
                </a:lnTo>
                <a:lnTo>
                  <a:pt x="63" y="5"/>
                </a:lnTo>
                <a:lnTo>
                  <a:pt x="69" y="7"/>
                </a:lnTo>
                <a:lnTo>
                  <a:pt x="75" y="9"/>
                </a:lnTo>
                <a:lnTo>
                  <a:pt x="80" y="11"/>
                </a:lnTo>
                <a:lnTo>
                  <a:pt x="88" y="15"/>
                </a:lnTo>
                <a:lnTo>
                  <a:pt x="96" y="17"/>
                </a:lnTo>
                <a:lnTo>
                  <a:pt x="105" y="19"/>
                </a:lnTo>
                <a:lnTo>
                  <a:pt x="115" y="21"/>
                </a:lnTo>
                <a:lnTo>
                  <a:pt x="124" y="23"/>
                </a:lnTo>
                <a:lnTo>
                  <a:pt x="136" y="26"/>
                </a:lnTo>
                <a:lnTo>
                  <a:pt x="147" y="28"/>
                </a:lnTo>
                <a:lnTo>
                  <a:pt x="161" y="30"/>
                </a:lnTo>
                <a:lnTo>
                  <a:pt x="172" y="32"/>
                </a:lnTo>
                <a:lnTo>
                  <a:pt x="188" y="36"/>
                </a:lnTo>
                <a:lnTo>
                  <a:pt x="201" y="38"/>
                </a:lnTo>
                <a:lnTo>
                  <a:pt x="217" y="40"/>
                </a:lnTo>
                <a:lnTo>
                  <a:pt x="232" y="42"/>
                </a:lnTo>
                <a:lnTo>
                  <a:pt x="232" y="84"/>
                </a:lnTo>
                <a:lnTo>
                  <a:pt x="232" y="124"/>
                </a:lnTo>
                <a:lnTo>
                  <a:pt x="232" y="166"/>
                </a:lnTo>
                <a:lnTo>
                  <a:pt x="232" y="207"/>
                </a:lnTo>
                <a:lnTo>
                  <a:pt x="232" y="245"/>
                </a:lnTo>
                <a:lnTo>
                  <a:pt x="232" y="285"/>
                </a:lnTo>
                <a:lnTo>
                  <a:pt x="232" y="324"/>
                </a:lnTo>
                <a:lnTo>
                  <a:pt x="232" y="360"/>
                </a:lnTo>
                <a:lnTo>
                  <a:pt x="232" y="399"/>
                </a:lnTo>
                <a:lnTo>
                  <a:pt x="232" y="435"/>
                </a:lnTo>
                <a:lnTo>
                  <a:pt x="232" y="472"/>
                </a:lnTo>
                <a:lnTo>
                  <a:pt x="230" y="508"/>
                </a:lnTo>
                <a:lnTo>
                  <a:pt x="230" y="543"/>
                </a:lnTo>
                <a:lnTo>
                  <a:pt x="230" y="579"/>
                </a:lnTo>
                <a:lnTo>
                  <a:pt x="230" y="612"/>
                </a:lnTo>
                <a:lnTo>
                  <a:pt x="230" y="646"/>
                </a:lnTo>
                <a:lnTo>
                  <a:pt x="230" y="679"/>
                </a:lnTo>
                <a:lnTo>
                  <a:pt x="230" y="712"/>
                </a:lnTo>
                <a:lnTo>
                  <a:pt x="228" y="744"/>
                </a:lnTo>
                <a:lnTo>
                  <a:pt x="228" y="777"/>
                </a:lnTo>
                <a:lnTo>
                  <a:pt x="228" y="807"/>
                </a:lnTo>
                <a:lnTo>
                  <a:pt x="228" y="838"/>
                </a:lnTo>
                <a:lnTo>
                  <a:pt x="226" y="867"/>
                </a:lnTo>
                <a:lnTo>
                  <a:pt x="226" y="896"/>
                </a:lnTo>
                <a:lnTo>
                  <a:pt x="226" y="925"/>
                </a:lnTo>
                <a:lnTo>
                  <a:pt x="224" y="953"/>
                </a:lnTo>
                <a:lnTo>
                  <a:pt x="224" y="982"/>
                </a:lnTo>
                <a:lnTo>
                  <a:pt x="224" y="1009"/>
                </a:lnTo>
                <a:lnTo>
                  <a:pt x="222" y="1034"/>
                </a:lnTo>
                <a:lnTo>
                  <a:pt x="222" y="1061"/>
                </a:lnTo>
                <a:lnTo>
                  <a:pt x="220" y="1086"/>
                </a:lnTo>
                <a:lnTo>
                  <a:pt x="220" y="1111"/>
                </a:lnTo>
                <a:lnTo>
                  <a:pt x="219" y="1136"/>
                </a:lnTo>
                <a:lnTo>
                  <a:pt x="217" y="1159"/>
                </a:lnTo>
                <a:lnTo>
                  <a:pt x="217" y="1180"/>
                </a:lnTo>
                <a:lnTo>
                  <a:pt x="215" y="1203"/>
                </a:lnTo>
                <a:lnTo>
                  <a:pt x="213" y="1224"/>
                </a:lnTo>
                <a:lnTo>
                  <a:pt x="213" y="1245"/>
                </a:lnTo>
                <a:lnTo>
                  <a:pt x="211" y="1264"/>
                </a:lnTo>
                <a:lnTo>
                  <a:pt x="209" y="1283"/>
                </a:lnTo>
                <a:lnTo>
                  <a:pt x="207" y="1301"/>
                </a:lnTo>
                <a:lnTo>
                  <a:pt x="205" y="1318"/>
                </a:lnTo>
                <a:lnTo>
                  <a:pt x="203" y="1335"/>
                </a:lnTo>
                <a:lnTo>
                  <a:pt x="203" y="1351"/>
                </a:lnTo>
                <a:lnTo>
                  <a:pt x="201" y="1366"/>
                </a:lnTo>
                <a:lnTo>
                  <a:pt x="199" y="1381"/>
                </a:lnTo>
                <a:lnTo>
                  <a:pt x="197" y="1395"/>
                </a:lnTo>
                <a:lnTo>
                  <a:pt x="195" y="1406"/>
                </a:lnTo>
                <a:lnTo>
                  <a:pt x="194" y="1420"/>
                </a:lnTo>
                <a:lnTo>
                  <a:pt x="192" y="1431"/>
                </a:lnTo>
                <a:lnTo>
                  <a:pt x="190" y="1441"/>
                </a:lnTo>
                <a:lnTo>
                  <a:pt x="190" y="1450"/>
                </a:lnTo>
                <a:lnTo>
                  <a:pt x="188" y="1460"/>
                </a:lnTo>
                <a:lnTo>
                  <a:pt x="186" y="1468"/>
                </a:lnTo>
                <a:lnTo>
                  <a:pt x="184" y="1475"/>
                </a:lnTo>
                <a:lnTo>
                  <a:pt x="182" y="1483"/>
                </a:lnTo>
                <a:lnTo>
                  <a:pt x="180" y="1489"/>
                </a:lnTo>
                <a:lnTo>
                  <a:pt x="180" y="1495"/>
                </a:lnTo>
                <a:lnTo>
                  <a:pt x="178" y="1498"/>
                </a:lnTo>
                <a:lnTo>
                  <a:pt x="176" y="1502"/>
                </a:lnTo>
                <a:lnTo>
                  <a:pt x="174" y="1504"/>
                </a:lnTo>
                <a:lnTo>
                  <a:pt x="174" y="1506"/>
                </a:lnTo>
                <a:lnTo>
                  <a:pt x="172" y="1508"/>
                </a:lnTo>
                <a:lnTo>
                  <a:pt x="167" y="1508"/>
                </a:lnTo>
                <a:lnTo>
                  <a:pt x="163" y="1506"/>
                </a:lnTo>
                <a:lnTo>
                  <a:pt x="157" y="1506"/>
                </a:lnTo>
                <a:lnTo>
                  <a:pt x="151" y="1504"/>
                </a:lnTo>
                <a:lnTo>
                  <a:pt x="146" y="1500"/>
                </a:lnTo>
                <a:lnTo>
                  <a:pt x="140" y="1498"/>
                </a:lnTo>
                <a:lnTo>
                  <a:pt x="134" y="1495"/>
                </a:lnTo>
                <a:lnTo>
                  <a:pt x="128" y="1489"/>
                </a:lnTo>
                <a:lnTo>
                  <a:pt x="123" y="1485"/>
                </a:lnTo>
                <a:lnTo>
                  <a:pt x="115" y="1479"/>
                </a:lnTo>
                <a:lnTo>
                  <a:pt x="109" y="1473"/>
                </a:lnTo>
                <a:lnTo>
                  <a:pt x="101" y="1466"/>
                </a:lnTo>
                <a:lnTo>
                  <a:pt x="96" y="1460"/>
                </a:lnTo>
                <a:lnTo>
                  <a:pt x="88" y="1450"/>
                </a:lnTo>
                <a:lnTo>
                  <a:pt x="82" y="1443"/>
                </a:lnTo>
                <a:lnTo>
                  <a:pt x="76" y="1433"/>
                </a:lnTo>
                <a:lnTo>
                  <a:pt x="69" y="1422"/>
                </a:lnTo>
                <a:lnTo>
                  <a:pt x="63" y="1410"/>
                </a:lnTo>
                <a:lnTo>
                  <a:pt x="57" y="1399"/>
                </a:lnTo>
                <a:lnTo>
                  <a:pt x="53" y="1387"/>
                </a:lnTo>
                <a:lnTo>
                  <a:pt x="50" y="1376"/>
                </a:lnTo>
                <a:lnTo>
                  <a:pt x="46" y="1362"/>
                </a:lnTo>
                <a:lnTo>
                  <a:pt x="42" y="1351"/>
                </a:lnTo>
                <a:lnTo>
                  <a:pt x="40" y="1339"/>
                </a:lnTo>
                <a:lnTo>
                  <a:pt x="38" y="1326"/>
                </a:lnTo>
                <a:lnTo>
                  <a:pt x="36" y="1314"/>
                </a:lnTo>
                <a:lnTo>
                  <a:pt x="36" y="1301"/>
                </a:lnTo>
                <a:lnTo>
                  <a:pt x="34" y="1289"/>
                </a:lnTo>
                <a:lnTo>
                  <a:pt x="36" y="1276"/>
                </a:lnTo>
                <a:lnTo>
                  <a:pt x="36" y="1262"/>
                </a:lnTo>
                <a:lnTo>
                  <a:pt x="38" y="1249"/>
                </a:lnTo>
                <a:lnTo>
                  <a:pt x="40" y="1235"/>
                </a:lnTo>
                <a:lnTo>
                  <a:pt x="42" y="1222"/>
                </a:lnTo>
                <a:lnTo>
                  <a:pt x="44" y="1210"/>
                </a:lnTo>
                <a:lnTo>
                  <a:pt x="46" y="1195"/>
                </a:lnTo>
                <a:lnTo>
                  <a:pt x="46" y="1182"/>
                </a:lnTo>
                <a:lnTo>
                  <a:pt x="48" y="1166"/>
                </a:lnTo>
                <a:lnTo>
                  <a:pt x="50" y="1149"/>
                </a:lnTo>
                <a:lnTo>
                  <a:pt x="50" y="1134"/>
                </a:lnTo>
                <a:lnTo>
                  <a:pt x="51" y="1115"/>
                </a:lnTo>
                <a:lnTo>
                  <a:pt x="53" y="1097"/>
                </a:lnTo>
                <a:lnTo>
                  <a:pt x="53" y="1078"/>
                </a:lnTo>
                <a:lnTo>
                  <a:pt x="55" y="1057"/>
                </a:lnTo>
                <a:lnTo>
                  <a:pt x="57" y="1038"/>
                </a:lnTo>
                <a:lnTo>
                  <a:pt x="57" y="1017"/>
                </a:lnTo>
                <a:lnTo>
                  <a:pt x="59" y="994"/>
                </a:lnTo>
                <a:lnTo>
                  <a:pt x="61" y="973"/>
                </a:lnTo>
                <a:lnTo>
                  <a:pt x="63" y="949"/>
                </a:lnTo>
                <a:lnTo>
                  <a:pt x="63" y="928"/>
                </a:lnTo>
                <a:lnTo>
                  <a:pt x="63" y="905"/>
                </a:lnTo>
                <a:lnTo>
                  <a:pt x="63" y="880"/>
                </a:lnTo>
                <a:lnTo>
                  <a:pt x="63" y="855"/>
                </a:lnTo>
                <a:lnTo>
                  <a:pt x="63" y="830"/>
                </a:lnTo>
                <a:lnTo>
                  <a:pt x="63" y="802"/>
                </a:lnTo>
                <a:lnTo>
                  <a:pt x="63" y="773"/>
                </a:lnTo>
                <a:lnTo>
                  <a:pt x="63" y="744"/>
                </a:lnTo>
                <a:lnTo>
                  <a:pt x="63" y="713"/>
                </a:lnTo>
                <a:lnTo>
                  <a:pt x="63" y="681"/>
                </a:lnTo>
                <a:lnTo>
                  <a:pt x="63" y="648"/>
                </a:lnTo>
                <a:lnTo>
                  <a:pt x="63" y="614"/>
                </a:lnTo>
                <a:lnTo>
                  <a:pt x="63" y="577"/>
                </a:lnTo>
                <a:lnTo>
                  <a:pt x="63" y="541"/>
                </a:lnTo>
                <a:lnTo>
                  <a:pt x="63" y="504"/>
                </a:lnTo>
                <a:lnTo>
                  <a:pt x="63" y="464"/>
                </a:lnTo>
                <a:lnTo>
                  <a:pt x="63" y="447"/>
                </a:lnTo>
                <a:lnTo>
                  <a:pt x="63" y="427"/>
                </a:lnTo>
                <a:lnTo>
                  <a:pt x="63" y="410"/>
                </a:lnTo>
                <a:lnTo>
                  <a:pt x="63" y="395"/>
                </a:lnTo>
                <a:lnTo>
                  <a:pt x="63" y="378"/>
                </a:lnTo>
                <a:lnTo>
                  <a:pt x="63" y="362"/>
                </a:lnTo>
                <a:lnTo>
                  <a:pt x="61" y="347"/>
                </a:lnTo>
                <a:lnTo>
                  <a:pt x="61" y="332"/>
                </a:lnTo>
                <a:lnTo>
                  <a:pt x="61" y="318"/>
                </a:lnTo>
                <a:lnTo>
                  <a:pt x="59" y="303"/>
                </a:lnTo>
                <a:lnTo>
                  <a:pt x="59" y="291"/>
                </a:lnTo>
                <a:lnTo>
                  <a:pt x="59" y="278"/>
                </a:lnTo>
                <a:lnTo>
                  <a:pt x="57" y="266"/>
                </a:lnTo>
                <a:lnTo>
                  <a:pt x="57" y="253"/>
                </a:lnTo>
                <a:lnTo>
                  <a:pt x="55" y="243"/>
                </a:lnTo>
                <a:lnTo>
                  <a:pt x="53" y="232"/>
                </a:lnTo>
                <a:lnTo>
                  <a:pt x="53" y="222"/>
                </a:lnTo>
                <a:lnTo>
                  <a:pt x="51" y="213"/>
                </a:lnTo>
                <a:lnTo>
                  <a:pt x="51" y="203"/>
                </a:lnTo>
                <a:lnTo>
                  <a:pt x="50" y="193"/>
                </a:lnTo>
                <a:lnTo>
                  <a:pt x="48" y="186"/>
                </a:lnTo>
                <a:lnTo>
                  <a:pt x="46" y="178"/>
                </a:lnTo>
                <a:lnTo>
                  <a:pt x="44" y="170"/>
                </a:lnTo>
                <a:lnTo>
                  <a:pt x="44" y="165"/>
                </a:lnTo>
                <a:lnTo>
                  <a:pt x="42" y="159"/>
                </a:lnTo>
                <a:lnTo>
                  <a:pt x="40" y="153"/>
                </a:lnTo>
                <a:lnTo>
                  <a:pt x="38" y="147"/>
                </a:lnTo>
                <a:lnTo>
                  <a:pt x="36" y="143"/>
                </a:lnTo>
                <a:lnTo>
                  <a:pt x="34" y="138"/>
                </a:lnTo>
                <a:lnTo>
                  <a:pt x="32" y="134"/>
                </a:lnTo>
                <a:lnTo>
                  <a:pt x="30" y="132"/>
                </a:lnTo>
                <a:lnTo>
                  <a:pt x="28" y="1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32"/>
          <p:cNvSpPr/>
          <p:nvPr/>
        </p:nvSpPr>
        <p:spPr>
          <a:xfrm>
            <a:off x="6027840" y="3471840"/>
            <a:ext cx="1218960" cy="1519200"/>
          </a:xfrm>
          <a:custGeom>
            <a:avLst/>
            <a:gdLst/>
            <a:ahLst/>
            <a:rect l="l" t="t" r="r" b="b"/>
            <a:pathLst>
              <a:path w="1536" h="1914">
                <a:moveTo>
                  <a:pt x="1127" y="1628"/>
                </a:moveTo>
                <a:lnTo>
                  <a:pt x="1112" y="1616"/>
                </a:lnTo>
                <a:lnTo>
                  <a:pt x="1099" y="1605"/>
                </a:lnTo>
                <a:lnTo>
                  <a:pt x="1085" y="1595"/>
                </a:lnTo>
                <a:lnTo>
                  <a:pt x="1074" y="1585"/>
                </a:lnTo>
                <a:lnTo>
                  <a:pt x="1062" y="1576"/>
                </a:lnTo>
                <a:lnTo>
                  <a:pt x="1052" y="1568"/>
                </a:lnTo>
                <a:lnTo>
                  <a:pt x="1045" y="1560"/>
                </a:lnTo>
                <a:lnTo>
                  <a:pt x="1037" y="1553"/>
                </a:lnTo>
                <a:lnTo>
                  <a:pt x="1029" y="1545"/>
                </a:lnTo>
                <a:lnTo>
                  <a:pt x="1024" y="1539"/>
                </a:lnTo>
                <a:lnTo>
                  <a:pt x="1020" y="1534"/>
                </a:lnTo>
                <a:lnTo>
                  <a:pt x="1014" y="1530"/>
                </a:lnTo>
                <a:lnTo>
                  <a:pt x="1012" y="1526"/>
                </a:lnTo>
                <a:lnTo>
                  <a:pt x="1010" y="1522"/>
                </a:lnTo>
                <a:lnTo>
                  <a:pt x="1008" y="1518"/>
                </a:lnTo>
                <a:lnTo>
                  <a:pt x="1008" y="1516"/>
                </a:lnTo>
                <a:lnTo>
                  <a:pt x="1008" y="1512"/>
                </a:lnTo>
                <a:lnTo>
                  <a:pt x="1010" y="1511"/>
                </a:lnTo>
                <a:lnTo>
                  <a:pt x="1012" y="1511"/>
                </a:lnTo>
                <a:lnTo>
                  <a:pt x="1016" y="1509"/>
                </a:lnTo>
                <a:lnTo>
                  <a:pt x="1022" y="1507"/>
                </a:lnTo>
                <a:lnTo>
                  <a:pt x="1028" y="1507"/>
                </a:lnTo>
                <a:lnTo>
                  <a:pt x="1035" y="1507"/>
                </a:lnTo>
                <a:lnTo>
                  <a:pt x="1043" y="1507"/>
                </a:lnTo>
                <a:lnTo>
                  <a:pt x="1052" y="1507"/>
                </a:lnTo>
                <a:lnTo>
                  <a:pt x="1064" y="1507"/>
                </a:lnTo>
                <a:lnTo>
                  <a:pt x="1076" y="1507"/>
                </a:lnTo>
                <a:lnTo>
                  <a:pt x="1089" y="1509"/>
                </a:lnTo>
                <a:lnTo>
                  <a:pt x="1102" y="1509"/>
                </a:lnTo>
                <a:lnTo>
                  <a:pt x="1118" y="1511"/>
                </a:lnTo>
                <a:lnTo>
                  <a:pt x="1135" y="1512"/>
                </a:lnTo>
                <a:lnTo>
                  <a:pt x="1152" y="1516"/>
                </a:lnTo>
                <a:lnTo>
                  <a:pt x="1170" y="1520"/>
                </a:lnTo>
                <a:lnTo>
                  <a:pt x="1187" y="1524"/>
                </a:lnTo>
                <a:lnTo>
                  <a:pt x="1202" y="1526"/>
                </a:lnTo>
                <a:lnTo>
                  <a:pt x="1218" y="1528"/>
                </a:lnTo>
                <a:lnTo>
                  <a:pt x="1231" y="1528"/>
                </a:lnTo>
                <a:lnTo>
                  <a:pt x="1244" y="1528"/>
                </a:lnTo>
                <a:lnTo>
                  <a:pt x="1256" y="1528"/>
                </a:lnTo>
                <a:lnTo>
                  <a:pt x="1268" y="1526"/>
                </a:lnTo>
                <a:lnTo>
                  <a:pt x="1277" y="1524"/>
                </a:lnTo>
                <a:lnTo>
                  <a:pt x="1287" y="1522"/>
                </a:lnTo>
                <a:lnTo>
                  <a:pt x="1294" y="1518"/>
                </a:lnTo>
                <a:lnTo>
                  <a:pt x="1302" y="1514"/>
                </a:lnTo>
                <a:lnTo>
                  <a:pt x="1308" y="1509"/>
                </a:lnTo>
                <a:lnTo>
                  <a:pt x="1314" y="1503"/>
                </a:lnTo>
                <a:lnTo>
                  <a:pt x="1317" y="1497"/>
                </a:lnTo>
                <a:lnTo>
                  <a:pt x="1319" y="1491"/>
                </a:lnTo>
                <a:lnTo>
                  <a:pt x="1321" y="1487"/>
                </a:lnTo>
                <a:lnTo>
                  <a:pt x="1321" y="1482"/>
                </a:lnTo>
                <a:lnTo>
                  <a:pt x="1323" y="1478"/>
                </a:lnTo>
                <a:lnTo>
                  <a:pt x="1323" y="1472"/>
                </a:lnTo>
                <a:lnTo>
                  <a:pt x="1325" y="1466"/>
                </a:lnTo>
                <a:lnTo>
                  <a:pt x="1327" y="1461"/>
                </a:lnTo>
                <a:lnTo>
                  <a:pt x="1327" y="1453"/>
                </a:lnTo>
                <a:lnTo>
                  <a:pt x="1329" y="1445"/>
                </a:lnTo>
                <a:lnTo>
                  <a:pt x="1329" y="1438"/>
                </a:lnTo>
                <a:lnTo>
                  <a:pt x="1331" y="1430"/>
                </a:lnTo>
                <a:lnTo>
                  <a:pt x="1331" y="1420"/>
                </a:lnTo>
                <a:lnTo>
                  <a:pt x="1333" y="1411"/>
                </a:lnTo>
                <a:lnTo>
                  <a:pt x="1333" y="1401"/>
                </a:lnTo>
                <a:lnTo>
                  <a:pt x="1335" y="1390"/>
                </a:lnTo>
                <a:lnTo>
                  <a:pt x="1335" y="1380"/>
                </a:lnTo>
                <a:lnTo>
                  <a:pt x="1337" y="1369"/>
                </a:lnTo>
                <a:lnTo>
                  <a:pt x="1337" y="1355"/>
                </a:lnTo>
                <a:lnTo>
                  <a:pt x="1339" y="1344"/>
                </a:lnTo>
                <a:lnTo>
                  <a:pt x="1339" y="1330"/>
                </a:lnTo>
                <a:lnTo>
                  <a:pt x="1339" y="1315"/>
                </a:lnTo>
                <a:lnTo>
                  <a:pt x="1340" y="1301"/>
                </a:lnTo>
                <a:lnTo>
                  <a:pt x="1340" y="1286"/>
                </a:lnTo>
                <a:lnTo>
                  <a:pt x="1340" y="1271"/>
                </a:lnTo>
                <a:lnTo>
                  <a:pt x="1342" y="1255"/>
                </a:lnTo>
                <a:lnTo>
                  <a:pt x="1342" y="1238"/>
                </a:lnTo>
                <a:lnTo>
                  <a:pt x="1342" y="1221"/>
                </a:lnTo>
                <a:lnTo>
                  <a:pt x="1342" y="1203"/>
                </a:lnTo>
                <a:lnTo>
                  <a:pt x="1342" y="1184"/>
                </a:lnTo>
                <a:lnTo>
                  <a:pt x="1344" y="1165"/>
                </a:lnTo>
                <a:lnTo>
                  <a:pt x="1344" y="1146"/>
                </a:lnTo>
                <a:lnTo>
                  <a:pt x="1344" y="1127"/>
                </a:lnTo>
                <a:lnTo>
                  <a:pt x="1344" y="1106"/>
                </a:lnTo>
                <a:lnTo>
                  <a:pt x="1344" y="1063"/>
                </a:lnTo>
                <a:lnTo>
                  <a:pt x="1342" y="1023"/>
                </a:lnTo>
                <a:lnTo>
                  <a:pt x="1342" y="983"/>
                </a:lnTo>
                <a:lnTo>
                  <a:pt x="1342" y="942"/>
                </a:lnTo>
                <a:lnTo>
                  <a:pt x="1340" y="902"/>
                </a:lnTo>
                <a:lnTo>
                  <a:pt x="1339" y="864"/>
                </a:lnTo>
                <a:lnTo>
                  <a:pt x="1339" y="825"/>
                </a:lnTo>
                <a:lnTo>
                  <a:pt x="1337" y="789"/>
                </a:lnTo>
                <a:lnTo>
                  <a:pt x="1335" y="752"/>
                </a:lnTo>
                <a:lnTo>
                  <a:pt x="1333" y="716"/>
                </a:lnTo>
                <a:lnTo>
                  <a:pt x="1331" y="680"/>
                </a:lnTo>
                <a:lnTo>
                  <a:pt x="1329" y="645"/>
                </a:lnTo>
                <a:lnTo>
                  <a:pt x="1327" y="610"/>
                </a:lnTo>
                <a:lnTo>
                  <a:pt x="1323" y="576"/>
                </a:lnTo>
                <a:lnTo>
                  <a:pt x="1321" y="541"/>
                </a:lnTo>
                <a:lnTo>
                  <a:pt x="1319" y="509"/>
                </a:lnTo>
                <a:lnTo>
                  <a:pt x="1316" y="478"/>
                </a:lnTo>
                <a:lnTo>
                  <a:pt x="1310" y="447"/>
                </a:lnTo>
                <a:lnTo>
                  <a:pt x="1306" y="419"/>
                </a:lnTo>
                <a:lnTo>
                  <a:pt x="1302" y="394"/>
                </a:lnTo>
                <a:lnTo>
                  <a:pt x="1298" y="369"/>
                </a:lnTo>
                <a:lnTo>
                  <a:pt x="1294" y="346"/>
                </a:lnTo>
                <a:lnTo>
                  <a:pt x="1289" y="324"/>
                </a:lnTo>
                <a:lnTo>
                  <a:pt x="1285" y="303"/>
                </a:lnTo>
                <a:lnTo>
                  <a:pt x="1281" y="286"/>
                </a:lnTo>
                <a:lnTo>
                  <a:pt x="1277" y="271"/>
                </a:lnTo>
                <a:lnTo>
                  <a:pt x="1273" y="255"/>
                </a:lnTo>
                <a:lnTo>
                  <a:pt x="1271" y="244"/>
                </a:lnTo>
                <a:lnTo>
                  <a:pt x="1268" y="232"/>
                </a:lnTo>
                <a:lnTo>
                  <a:pt x="1266" y="223"/>
                </a:lnTo>
                <a:lnTo>
                  <a:pt x="1262" y="217"/>
                </a:lnTo>
                <a:lnTo>
                  <a:pt x="1260" y="211"/>
                </a:lnTo>
                <a:lnTo>
                  <a:pt x="1258" y="206"/>
                </a:lnTo>
                <a:lnTo>
                  <a:pt x="1254" y="202"/>
                </a:lnTo>
                <a:lnTo>
                  <a:pt x="1250" y="198"/>
                </a:lnTo>
                <a:lnTo>
                  <a:pt x="1246" y="194"/>
                </a:lnTo>
                <a:lnTo>
                  <a:pt x="1243" y="190"/>
                </a:lnTo>
                <a:lnTo>
                  <a:pt x="1237" y="188"/>
                </a:lnTo>
                <a:lnTo>
                  <a:pt x="1225" y="182"/>
                </a:lnTo>
                <a:lnTo>
                  <a:pt x="1212" y="179"/>
                </a:lnTo>
                <a:lnTo>
                  <a:pt x="1198" y="175"/>
                </a:lnTo>
                <a:lnTo>
                  <a:pt x="1181" y="175"/>
                </a:lnTo>
                <a:lnTo>
                  <a:pt x="1164" y="173"/>
                </a:lnTo>
                <a:lnTo>
                  <a:pt x="1160" y="173"/>
                </a:lnTo>
                <a:lnTo>
                  <a:pt x="1154" y="173"/>
                </a:lnTo>
                <a:lnTo>
                  <a:pt x="1147" y="175"/>
                </a:lnTo>
                <a:lnTo>
                  <a:pt x="1141" y="175"/>
                </a:lnTo>
                <a:lnTo>
                  <a:pt x="1133" y="175"/>
                </a:lnTo>
                <a:lnTo>
                  <a:pt x="1125" y="177"/>
                </a:lnTo>
                <a:lnTo>
                  <a:pt x="1116" y="177"/>
                </a:lnTo>
                <a:lnTo>
                  <a:pt x="1108" y="179"/>
                </a:lnTo>
                <a:lnTo>
                  <a:pt x="1097" y="179"/>
                </a:lnTo>
                <a:lnTo>
                  <a:pt x="1087" y="181"/>
                </a:lnTo>
                <a:lnTo>
                  <a:pt x="1076" y="182"/>
                </a:lnTo>
                <a:lnTo>
                  <a:pt x="1064" y="184"/>
                </a:lnTo>
                <a:lnTo>
                  <a:pt x="1051" y="186"/>
                </a:lnTo>
                <a:lnTo>
                  <a:pt x="1037" y="188"/>
                </a:lnTo>
                <a:lnTo>
                  <a:pt x="1024" y="190"/>
                </a:lnTo>
                <a:lnTo>
                  <a:pt x="1008" y="192"/>
                </a:lnTo>
                <a:lnTo>
                  <a:pt x="993" y="194"/>
                </a:lnTo>
                <a:lnTo>
                  <a:pt x="978" y="196"/>
                </a:lnTo>
                <a:lnTo>
                  <a:pt x="962" y="200"/>
                </a:lnTo>
                <a:lnTo>
                  <a:pt x="945" y="202"/>
                </a:lnTo>
                <a:lnTo>
                  <a:pt x="926" y="206"/>
                </a:lnTo>
                <a:lnTo>
                  <a:pt x="907" y="207"/>
                </a:lnTo>
                <a:lnTo>
                  <a:pt x="887" y="211"/>
                </a:lnTo>
                <a:lnTo>
                  <a:pt x="868" y="215"/>
                </a:lnTo>
                <a:lnTo>
                  <a:pt x="847" y="219"/>
                </a:lnTo>
                <a:lnTo>
                  <a:pt x="826" y="223"/>
                </a:lnTo>
                <a:lnTo>
                  <a:pt x="805" y="227"/>
                </a:lnTo>
                <a:lnTo>
                  <a:pt x="782" y="230"/>
                </a:lnTo>
                <a:lnTo>
                  <a:pt x="759" y="234"/>
                </a:lnTo>
                <a:lnTo>
                  <a:pt x="734" y="238"/>
                </a:lnTo>
                <a:lnTo>
                  <a:pt x="709" y="244"/>
                </a:lnTo>
                <a:lnTo>
                  <a:pt x="684" y="248"/>
                </a:lnTo>
                <a:lnTo>
                  <a:pt x="632" y="257"/>
                </a:lnTo>
                <a:lnTo>
                  <a:pt x="582" y="267"/>
                </a:lnTo>
                <a:lnTo>
                  <a:pt x="534" y="275"/>
                </a:lnTo>
                <a:lnTo>
                  <a:pt x="486" y="282"/>
                </a:lnTo>
                <a:lnTo>
                  <a:pt x="438" y="292"/>
                </a:lnTo>
                <a:lnTo>
                  <a:pt x="394" y="298"/>
                </a:lnTo>
                <a:lnTo>
                  <a:pt x="350" y="305"/>
                </a:lnTo>
                <a:lnTo>
                  <a:pt x="306" y="311"/>
                </a:lnTo>
                <a:lnTo>
                  <a:pt x="263" y="319"/>
                </a:lnTo>
                <a:lnTo>
                  <a:pt x="223" y="324"/>
                </a:lnTo>
                <a:lnTo>
                  <a:pt x="183" y="328"/>
                </a:lnTo>
                <a:lnTo>
                  <a:pt x="144" y="334"/>
                </a:lnTo>
                <a:lnTo>
                  <a:pt x="106" y="338"/>
                </a:lnTo>
                <a:lnTo>
                  <a:pt x="70" y="342"/>
                </a:lnTo>
                <a:lnTo>
                  <a:pt x="33" y="346"/>
                </a:lnTo>
                <a:lnTo>
                  <a:pt x="0" y="348"/>
                </a:lnTo>
                <a:lnTo>
                  <a:pt x="0" y="248"/>
                </a:lnTo>
                <a:lnTo>
                  <a:pt x="41" y="244"/>
                </a:lnTo>
                <a:lnTo>
                  <a:pt x="83" y="238"/>
                </a:lnTo>
                <a:lnTo>
                  <a:pt x="125" y="232"/>
                </a:lnTo>
                <a:lnTo>
                  <a:pt x="167" y="227"/>
                </a:lnTo>
                <a:lnTo>
                  <a:pt x="212" y="221"/>
                </a:lnTo>
                <a:lnTo>
                  <a:pt x="258" y="215"/>
                </a:lnTo>
                <a:lnTo>
                  <a:pt x="304" y="209"/>
                </a:lnTo>
                <a:lnTo>
                  <a:pt x="350" y="202"/>
                </a:lnTo>
                <a:lnTo>
                  <a:pt x="398" y="194"/>
                </a:lnTo>
                <a:lnTo>
                  <a:pt x="446" y="186"/>
                </a:lnTo>
                <a:lnTo>
                  <a:pt x="496" y="179"/>
                </a:lnTo>
                <a:lnTo>
                  <a:pt x="546" y="171"/>
                </a:lnTo>
                <a:lnTo>
                  <a:pt x="598" y="163"/>
                </a:lnTo>
                <a:lnTo>
                  <a:pt x="649" y="156"/>
                </a:lnTo>
                <a:lnTo>
                  <a:pt x="701" y="146"/>
                </a:lnTo>
                <a:lnTo>
                  <a:pt x="755" y="136"/>
                </a:lnTo>
                <a:lnTo>
                  <a:pt x="782" y="133"/>
                </a:lnTo>
                <a:lnTo>
                  <a:pt x="805" y="127"/>
                </a:lnTo>
                <a:lnTo>
                  <a:pt x="830" y="123"/>
                </a:lnTo>
                <a:lnTo>
                  <a:pt x="853" y="117"/>
                </a:lnTo>
                <a:lnTo>
                  <a:pt x="876" y="113"/>
                </a:lnTo>
                <a:lnTo>
                  <a:pt x="899" y="110"/>
                </a:lnTo>
                <a:lnTo>
                  <a:pt x="920" y="106"/>
                </a:lnTo>
                <a:lnTo>
                  <a:pt x="939" y="102"/>
                </a:lnTo>
                <a:lnTo>
                  <a:pt x="960" y="96"/>
                </a:lnTo>
                <a:lnTo>
                  <a:pt x="980" y="92"/>
                </a:lnTo>
                <a:lnTo>
                  <a:pt x="997" y="88"/>
                </a:lnTo>
                <a:lnTo>
                  <a:pt x="1016" y="85"/>
                </a:lnTo>
                <a:lnTo>
                  <a:pt x="1033" y="81"/>
                </a:lnTo>
                <a:lnTo>
                  <a:pt x="1049" y="79"/>
                </a:lnTo>
                <a:lnTo>
                  <a:pt x="1064" y="75"/>
                </a:lnTo>
                <a:lnTo>
                  <a:pt x="1079" y="71"/>
                </a:lnTo>
                <a:lnTo>
                  <a:pt x="1095" y="67"/>
                </a:lnTo>
                <a:lnTo>
                  <a:pt x="1108" y="63"/>
                </a:lnTo>
                <a:lnTo>
                  <a:pt x="1120" y="62"/>
                </a:lnTo>
                <a:lnTo>
                  <a:pt x="1133" y="58"/>
                </a:lnTo>
                <a:lnTo>
                  <a:pt x="1145" y="54"/>
                </a:lnTo>
                <a:lnTo>
                  <a:pt x="1154" y="52"/>
                </a:lnTo>
                <a:lnTo>
                  <a:pt x="1166" y="48"/>
                </a:lnTo>
                <a:lnTo>
                  <a:pt x="1173" y="46"/>
                </a:lnTo>
                <a:lnTo>
                  <a:pt x="1183" y="42"/>
                </a:lnTo>
                <a:lnTo>
                  <a:pt x="1191" y="40"/>
                </a:lnTo>
                <a:lnTo>
                  <a:pt x="1198" y="37"/>
                </a:lnTo>
                <a:lnTo>
                  <a:pt x="1204" y="35"/>
                </a:lnTo>
                <a:lnTo>
                  <a:pt x="1210" y="33"/>
                </a:lnTo>
                <a:lnTo>
                  <a:pt x="1216" y="29"/>
                </a:lnTo>
                <a:lnTo>
                  <a:pt x="1220" y="27"/>
                </a:lnTo>
                <a:lnTo>
                  <a:pt x="1223" y="25"/>
                </a:lnTo>
                <a:lnTo>
                  <a:pt x="1243" y="16"/>
                </a:lnTo>
                <a:lnTo>
                  <a:pt x="1252" y="12"/>
                </a:lnTo>
                <a:lnTo>
                  <a:pt x="1262" y="8"/>
                </a:lnTo>
                <a:lnTo>
                  <a:pt x="1271" y="4"/>
                </a:lnTo>
                <a:lnTo>
                  <a:pt x="1283" y="2"/>
                </a:lnTo>
                <a:lnTo>
                  <a:pt x="1294" y="0"/>
                </a:lnTo>
                <a:lnTo>
                  <a:pt x="1308" y="0"/>
                </a:lnTo>
                <a:lnTo>
                  <a:pt x="1312" y="2"/>
                </a:lnTo>
                <a:lnTo>
                  <a:pt x="1317" y="6"/>
                </a:lnTo>
                <a:lnTo>
                  <a:pt x="1323" y="8"/>
                </a:lnTo>
                <a:lnTo>
                  <a:pt x="1331" y="12"/>
                </a:lnTo>
                <a:lnTo>
                  <a:pt x="1337" y="16"/>
                </a:lnTo>
                <a:lnTo>
                  <a:pt x="1344" y="19"/>
                </a:lnTo>
                <a:lnTo>
                  <a:pt x="1360" y="27"/>
                </a:lnTo>
                <a:lnTo>
                  <a:pt x="1379" y="37"/>
                </a:lnTo>
                <a:lnTo>
                  <a:pt x="1398" y="48"/>
                </a:lnTo>
                <a:lnTo>
                  <a:pt x="1417" y="62"/>
                </a:lnTo>
                <a:lnTo>
                  <a:pt x="1440" y="75"/>
                </a:lnTo>
                <a:lnTo>
                  <a:pt x="1450" y="83"/>
                </a:lnTo>
                <a:lnTo>
                  <a:pt x="1461" y="92"/>
                </a:lnTo>
                <a:lnTo>
                  <a:pt x="1471" y="100"/>
                </a:lnTo>
                <a:lnTo>
                  <a:pt x="1481" y="110"/>
                </a:lnTo>
                <a:lnTo>
                  <a:pt x="1488" y="117"/>
                </a:lnTo>
                <a:lnTo>
                  <a:pt x="1496" y="125"/>
                </a:lnTo>
                <a:lnTo>
                  <a:pt x="1504" y="131"/>
                </a:lnTo>
                <a:lnTo>
                  <a:pt x="1509" y="138"/>
                </a:lnTo>
                <a:lnTo>
                  <a:pt x="1515" y="144"/>
                </a:lnTo>
                <a:lnTo>
                  <a:pt x="1521" y="150"/>
                </a:lnTo>
                <a:lnTo>
                  <a:pt x="1525" y="156"/>
                </a:lnTo>
                <a:lnTo>
                  <a:pt x="1529" y="159"/>
                </a:lnTo>
                <a:lnTo>
                  <a:pt x="1532" y="163"/>
                </a:lnTo>
                <a:lnTo>
                  <a:pt x="1534" y="167"/>
                </a:lnTo>
                <a:lnTo>
                  <a:pt x="1536" y="171"/>
                </a:lnTo>
                <a:lnTo>
                  <a:pt x="1536" y="173"/>
                </a:lnTo>
                <a:lnTo>
                  <a:pt x="1534" y="182"/>
                </a:lnTo>
                <a:lnTo>
                  <a:pt x="1534" y="192"/>
                </a:lnTo>
                <a:lnTo>
                  <a:pt x="1531" y="200"/>
                </a:lnTo>
                <a:lnTo>
                  <a:pt x="1527" y="209"/>
                </a:lnTo>
                <a:lnTo>
                  <a:pt x="1521" y="217"/>
                </a:lnTo>
                <a:lnTo>
                  <a:pt x="1515" y="225"/>
                </a:lnTo>
                <a:lnTo>
                  <a:pt x="1507" y="230"/>
                </a:lnTo>
                <a:lnTo>
                  <a:pt x="1500" y="236"/>
                </a:lnTo>
                <a:lnTo>
                  <a:pt x="1496" y="240"/>
                </a:lnTo>
                <a:lnTo>
                  <a:pt x="1492" y="248"/>
                </a:lnTo>
                <a:lnTo>
                  <a:pt x="1488" y="253"/>
                </a:lnTo>
                <a:lnTo>
                  <a:pt x="1484" y="261"/>
                </a:lnTo>
                <a:lnTo>
                  <a:pt x="1481" y="269"/>
                </a:lnTo>
                <a:lnTo>
                  <a:pt x="1479" y="278"/>
                </a:lnTo>
                <a:lnTo>
                  <a:pt x="1477" y="288"/>
                </a:lnTo>
                <a:lnTo>
                  <a:pt x="1475" y="300"/>
                </a:lnTo>
                <a:lnTo>
                  <a:pt x="1473" y="311"/>
                </a:lnTo>
                <a:lnTo>
                  <a:pt x="1471" y="323"/>
                </a:lnTo>
                <a:lnTo>
                  <a:pt x="1471" y="336"/>
                </a:lnTo>
                <a:lnTo>
                  <a:pt x="1471" y="349"/>
                </a:lnTo>
                <a:lnTo>
                  <a:pt x="1471" y="363"/>
                </a:lnTo>
                <a:lnTo>
                  <a:pt x="1473" y="378"/>
                </a:lnTo>
                <a:lnTo>
                  <a:pt x="1473" y="394"/>
                </a:lnTo>
                <a:lnTo>
                  <a:pt x="1477" y="409"/>
                </a:lnTo>
                <a:lnTo>
                  <a:pt x="1477" y="419"/>
                </a:lnTo>
                <a:lnTo>
                  <a:pt x="1479" y="426"/>
                </a:lnTo>
                <a:lnTo>
                  <a:pt x="1479" y="436"/>
                </a:lnTo>
                <a:lnTo>
                  <a:pt x="1481" y="447"/>
                </a:lnTo>
                <a:lnTo>
                  <a:pt x="1481" y="457"/>
                </a:lnTo>
                <a:lnTo>
                  <a:pt x="1483" y="468"/>
                </a:lnTo>
                <a:lnTo>
                  <a:pt x="1484" y="480"/>
                </a:lnTo>
                <a:lnTo>
                  <a:pt x="1484" y="493"/>
                </a:lnTo>
                <a:lnTo>
                  <a:pt x="1486" y="507"/>
                </a:lnTo>
                <a:lnTo>
                  <a:pt x="1486" y="520"/>
                </a:lnTo>
                <a:lnTo>
                  <a:pt x="1488" y="534"/>
                </a:lnTo>
                <a:lnTo>
                  <a:pt x="1488" y="549"/>
                </a:lnTo>
                <a:lnTo>
                  <a:pt x="1490" y="564"/>
                </a:lnTo>
                <a:lnTo>
                  <a:pt x="1492" y="580"/>
                </a:lnTo>
                <a:lnTo>
                  <a:pt x="1492" y="597"/>
                </a:lnTo>
                <a:lnTo>
                  <a:pt x="1494" y="612"/>
                </a:lnTo>
                <a:lnTo>
                  <a:pt x="1494" y="630"/>
                </a:lnTo>
                <a:lnTo>
                  <a:pt x="1496" y="649"/>
                </a:lnTo>
                <a:lnTo>
                  <a:pt x="1498" y="668"/>
                </a:lnTo>
                <a:lnTo>
                  <a:pt x="1498" y="685"/>
                </a:lnTo>
                <a:lnTo>
                  <a:pt x="1500" y="706"/>
                </a:lnTo>
                <a:lnTo>
                  <a:pt x="1500" y="726"/>
                </a:lnTo>
                <a:lnTo>
                  <a:pt x="1502" y="747"/>
                </a:lnTo>
                <a:lnTo>
                  <a:pt x="1504" y="768"/>
                </a:lnTo>
                <a:lnTo>
                  <a:pt x="1504" y="789"/>
                </a:lnTo>
                <a:lnTo>
                  <a:pt x="1506" y="812"/>
                </a:lnTo>
                <a:lnTo>
                  <a:pt x="1506" y="835"/>
                </a:lnTo>
                <a:lnTo>
                  <a:pt x="1507" y="858"/>
                </a:lnTo>
                <a:lnTo>
                  <a:pt x="1509" y="881"/>
                </a:lnTo>
                <a:lnTo>
                  <a:pt x="1509" y="906"/>
                </a:lnTo>
                <a:lnTo>
                  <a:pt x="1511" y="931"/>
                </a:lnTo>
                <a:lnTo>
                  <a:pt x="1511" y="956"/>
                </a:lnTo>
                <a:lnTo>
                  <a:pt x="1513" y="981"/>
                </a:lnTo>
                <a:lnTo>
                  <a:pt x="1513" y="1006"/>
                </a:lnTo>
                <a:lnTo>
                  <a:pt x="1515" y="1031"/>
                </a:lnTo>
                <a:lnTo>
                  <a:pt x="1515" y="1054"/>
                </a:lnTo>
                <a:lnTo>
                  <a:pt x="1517" y="1079"/>
                </a:lnTo>
                <a:lnTo>
                  <a:pt x="1517" y="1102"/>
                </a:lnTo>
                <a:lnTo>
                  <a:pt x="1517" y="1123"/>
                </a:lnTo>
                <a:lnTo>
                  <a:pt x="1519" y="1144"/>
                </a:lnTo>
                <a:lnTo>
                  <a:pt x="1519" y="1167"/>
                </a:lnTo>
                <a:lnTo>
                  <a:pt x="1519" y="1186"/>
                </a:lnTo>
                <a:lnTo>
                  <a:pt x="1521" y="1207"/>
                </a:lnTo>
                <a:lnTo>
                  <a:pt x="1521" y="1226"/>
                </a:lnTo>
                <a:lnTo>
                  <a:pt x="1521" y="1246"/>
                </a:lnTo>
                <a:lnTo>
                  <a:pt x="1521" y="1265"/>
                </a:lnTo>
                <a:lnTo>
                  <a:pt x="1521" y="1284"/>
                </a:lnTo>
                <a:lnTo>
                  <a:pt x="1523" y="1301"/>
                </a:lnTo>
                <a:lnTo>
                  <a:pt x="1523" y="1319"/>
                </a:lnTo>
                <a:lnTo>
                  <a:pt x="1523" y="1334"/>
                </a:lnTo>
                <a:lnTo>
                  <a:pt x="1523" y="1351"/>
                </a:lnTo>
                <a:lnTo>
                  <a:pt x="1523" y="1367"/>
                </a:lnTo>
                <a:lnTo>
                  <a:pt x="1523" y="1382"/>
                </a:lnTo>
                <a:lnTo>
                  <a:pt x="1523" y="1397"/>
                </a:lnTo>
                <a:lnTo>
                  <a:pt x="1523" y="1411"/>
                </a:lnTo>
                <a:lnTo>
                  <a:pt x="1523" y="1424"/>
                </a:lnTo>
                <a:lnTo>
                  <a:pt x="1523" y="1438"/>
                </a:lnTo>
                <a:lnTo>
                  <a:pt x="1523" y="1451"/>
                </a:lnTo>
                <a:lnTo>
                  <a:pt x="1523" y="1463"/>
                </a:lnTo>
                <a:lnTo>
                  <a:pt x="1523" y="1474"/>
                </a:lnTo>
                <a:lnTo>
                  <a:pt x="1525" y="1486"/>
                </a:lnTo>
                <a:lnTo>
                  <a:pt x="1525" y="1495"/>
                </a:lnTo>
                <a:lnTo>
                  <a:pt x="1525" y="1507"/>
                </a:lnTo>
                <a:lnTo>
                  <a:pt x="1525" y="1516"/>
                </a:lnTo>
                <a:lnTo>
                  <a:pt x="1521" y="1535"/>
                </a:lnTo>
                <a:lnTo>
                  <a:pt x="1519" y="1557"/>
                </a:lnTo>
                <a:lnTo>
                  <a:pt x="1515" y="1576"/>
                </a:lnTo>
                <a:lnTo>
                  <a:pt x="1513" y="1595"/>
                </a:lnTo>
                <a:lnTo>
                  <a:pt x="1506" y="1631"/>
                </a:lnTo>
                <a:lnTo>
                  <a:pt x="1496" y="1668"/>
                </a:lnTo>
                <a:lnTo>
                  <a:pt x="1486" y="1702"/>
                </a:lnTo>
                <a:lnTo>
                  <a:pt x="1477" y="1735"/>
                </a:lnTo>
                <a:lnTo>
                  <a:pt x="1465" y="1768"/>
                </a:lnTo>
                <a:lnTo>
                  <a:pt x="1452" y="1800"/>
                </a:lnTo>
                <a:lnTo>
                  <a:pt x="1442" y="1814"/>
                </a:lnTo>
                <a:lnTo>
                  <a:pt x="1435" y="1827"/>
                </a:lnTo>
                <a:lnTo>
                  <a:pt x="1427" y="1839"/>
                </a:lnTo>
                <a:lnTo>
                  <a:pt x="1419" y="1850"/>
                </a:lnTo>
                <a:lnTo>
                  <a:pt x="1412" y="1860"/>
                </a:lnTo>
                <a:lnTo>
                  <a:pt x="1404" y="1869"/>
                </a:lnTo>
                <a:lnTo>
                  <a:pt x="1396" y="1877"/>
                </a:lnTo>
                <a:lnTo>
                  <a:pt x="1390" y="1885"/>
                </a:lnTo>
                <a:lnTo>
                  <a:pt x="1385" y="1891"/>
                </a:lnTo>
                <a:lnTo>
                  <a:pt x="1379" y="1896"/>
                </a:lnTo>
                <a:lnTo>
                  <a:pt x="1373" y="1902"/>
                </a:lnTo>
                <a:lnTo>
                  <a:pt x="1369" y="1906"/>
                </a:lnTo>
                <a:lnTo>
                  <a:pt x="1365" y="1908"/>
                </a:lnTo>
                <a:lnTo>
                  <a:pt x="1362" y="1912"/>
                </a:lnTo>
                <a:lnTo>
                  <a:pt x="1358" y="1912"/>
                </a:lnTo>
                <a:lnTo>
                  <a:pt x="1356" y="1914"/>
                </a:lnTo>
                <a:lnTo>
                  <a:pt x="1352" y="1912"/>
                </a:lnTo>
                <a:lnTo>
                  <a:pt x="1346" y="1912"/>
                </a:lnTo>
                <a:lnTo>
                  <a:pt x="1342" y="1910"/>
                </a:lnTo>
                <a:lnTo>
                  <a:pt x="1339" y="1906"/>
                </a:lnTo>
                <a:lnTo>
                  <a:pt x="1333" y="1902"/>
                </a:lnTo>
                <a:lnTo>
                  <a:pt x="1329" y="1898"/>
                </a:lnTo>
                <a:lnTo>
                  <a:pt x="1325" y="1892"/>
                </a:lnTo>
                <a:lnTo>
                  <a:pt x="1319" y="1887"/>
                </a:lnTo>
                <a:lnTo>
                  <a:pt x="1316" y="1879"/>
                </a:lnTo>
                <a:lnTo>
                  <a:pt x="1310" y="1871"/>
                </a:lnTo>
                <a:lnTo>
                  <a:pt x="1306" y="1864"/>
                </a:lnTo>
                <a:lnTo>
                  <a:pt x="1302" y="1856"/>
                </a:lnTo>
                <a:lnTo>
                  <a:pt x="1296" y="1846"/>
                </a:lnTo>
                <a:lnTo>
                  <a:pt x="1292" y="1835"/>
                </a:lnTo>
                <a:lnTo>
                  <a:pt x="1289" y="1825"/>
                </a:lnTo>
                <a:lnTo>
                  <a:pt x="1285" y="1814"/>
                </a:lnTo>
                <a:lnTo>
                  <a:pt x="1279" y="1800"/>
                </a:lnTo>
                <a:lnTo>
                  <a:pt x="1273" y="1785"/>
                </a:lnTo>
                <a:lnTo>
                  <a:pt x="1268" y="1773"/>
                </a:lnTo>
                <a:lnTo>
                  <a:pt x="1262" y="1760"/>
                </a:lnTo>
                <a:lnTo>
                  <a:pt x="1254" y="1747"/>
                </a:lnTo>
                <a:lnTo>
                  <a:pt x="1246" y="1735"/>
                </a:lnTo>
                <a:lnTo>
                  <a:pt x="1237" y="1724"/>
                </a:lnTo>
                <a:lnTo>
                  <a:pt x="1229" y="1710"/>
                </a:lnTo>
                <a:lnTo>
                  <a:pt x="1218" y="1701"/>
                </a:lnTo>
                <a:lnTo>
                  <a:pt x="1208" y="1689"/>
                </a:lnTo>
                <a:lnTo>
                  <a:pt x="1196" y="1677"/>
                </a:lnTo>
                <a:lnTo>
                  <a:pt x="1185" y="1668"/>
                </a:lnTo>
                <a:lnTo>
                  <a:pt x="1172" y="1656"/>
                </a:lnTo>
                <a:lnTo>
                  <a:pt x="1158" y="1647"/>
                </a:lnTo>
                <a:lnTo>
                  <a:pt x="1143" y="1637"/>
                </a:lnTo>
                <a:lnTo>
                  <a:pt x="1127" y="16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33"/>
          <p:cNvSpPr/>
          <p:nvPr/>
        </p:nvSpPr>
        <p:spPr>
          <a:xfrm>
            <a:off x="6207120" y="3835440"/>
            <a:ext cx="687240" cy="165240"/>
          </a:xfrm>
          <a:custGeom>
            <a:avLst/>
            <a:gdLst/>
            <a:ahLst/>
            <a:rect l="l" t="t" r="r" b="b"/>
            <a:pathLst>
              <a:path w="866" h="207">
                <a:moveTo>
                  <a:pt x="25" y="199"/>
                </a:moveTo>
                <a:lnTo>
                  <a:pt x="19" y="194"/>
                </a:lnTo>
                <a:lnTo>
                  <a:pt x="15" y="188"/>
                </a:lnTo>
                <a:lnTo>
                  <a:pt x="11" y="180"/>
                </a:lnTo>
                <a:lnTo>
                  <a:pt x="8" y="174"/>
                </a:lnTo>
                <a:lnTo>
                  <a:pt x="6" y="167"/>
                </a:lnTo>
                <a:lnTo>
                  <a:pt x="2" y="161"/>
                </a:lnTo>
                <a:lnTo>
                  <a:pt x="2" y="153"/>
                </a:lnTo>
                <a:lnTo>
                  <a:pt x="0" y="150"/>
                </a:lnTo>
                <a:lnTo>
                  <a:pt x="0" y="148"/>
                </a:lnTo>
                <a:lnTo>
                  <a:pt x="2" y="148"/>
                </a:lnTo>
                <a:lnTo>
                  <a:pt x="4" y="146"/>
                </a:lnTo>
                <a:lnTo>
                  <a:pt x="6" y="144"/>
                </a:lnTo>
                <a:lnTo>
                  <a:pt x="8" y="142"/>
                </a:lnTo>
                <a:lnTo>
                  <a:pt x="11" y="142"/>
                </a:lnTo>
                <a:lnTo>
                  <a:pt x="15" y="140"/>
                </a:lnTo>
                <a:lnTo>
                  <a:pt x="21" y="138"/>
                </a:lnTo>
                <a:lnTo>
                  <a:pt x="27" y="136"/>
                </a:lnTo>
                <a:lnTo>
                  <a:pt x="33" y="134"/>
                </a:lnTo>
                <a:lnTo>
                  <a:pt x="40" y="132"/>
                </a:lnTo>
                <a:lnTo>
                  <a:pt x="46" y="130"/>
                </a:lnTo>
                <a:lnTo>
                  <a:pt x="56" y="128"/>
                </a:lnTo>
                <a:lnTo>
                  <a:pt x="63" y="125"/>
                </a:lnTo>
                <a:lnTo>
                  <a:pt x="73" y="123"/>
                </a:lnTo>
                <a:lnTo>
                  <a:pt x="83" y="121"/>
                </a:lnTo>
                <a:lnTo>
                  <a:pt x="94" y="117"/>
                </a:lnTo>
                <a:lnTo>
                  <a:pt x="106" y="115"/>
                </a:lnTo>
                <a:lnTo>
                  <a:pt x="117" y="111"/>
                </a:lnTo>
                <a:lnTo>
                  <a:pt x="131" y="109"/>
                </a:lnTo>
                <a:lnTo>
                  <a:pt x="144" y="105"/>
                </a:lnTo>
                <a:lnTo>
                  <a:pt x="157" y="102"/>
                </a:lnTo>
                <a:lnTo>
                  <a:pt x="173" y="100"/>
                </a:lnTo>
                <a:lnTo>
                  <a:pt x="188" y="96"/>
                </a:lnTo>
                <a:lnTo>
                  <a:pt x="203" y="92"/>
                </a:lnTo>
                <a:lnTo>
                  <a:pt x="221" y="88"/>
                </a:lnTo>
                <a:lnTo>
                  <a:pt x="238" y="84"/>
                </a:lnTo>
                <a:lnTo>
                  <a:pt x="257" y="80"/>
                </a:lnTo>
                <a:lnTo>
                  <a:pt x="276" y="77"/>
                </a:lnTo>
                <a:lnTo>
                  <a:pt x="296" y="71"/>
                </a:lnTo>
                <a:lnTo>
                  <a:pt x="315" y="67"/>
                </a:lnTo>
                <a:lnTo>
                  <a:pt x="336" y="63"/>
                </a:lnTo>
                <a:lnTo>
                  <a:pt x="357" y="59"/>
                </a:lnTo>
                <a:lnTo>
                  <a:pt x="378" y="55"/>
                </a:lnTo>
                <a:lnTo>
                  <a:pt x="397" y="52"/>
                </a:lnTo>
                <a:lnTo>
                  <a:pt x="417" y="48"/>
                </a:lnTo>
                <a:lnTo>
                  <a:pt x="436" y="46"/>
                </a:lnTo>
                <a:lnTo>
                  <a:pt x="453" y="42"/>
                </a:lnTo>
                <a:lnTo>
                  <a:pt x="470" y="40"/>
                </a:lnTo>
                <a:lnTo>
                  <a:pt x="488" y="36"/>
                </a:lnTo>
                <a:lnTo>
                  <a:pt x="503" y="34"/>
                </a:lnTo>
                <a:lnTo>
                  <a:pt x="520" y="31"/>
                </a:lnTo>
                <a:lnTo>
                  <a:pt x="534" y="29"/>
                </a:lnTo>
                <a:lnTo>
                  <a:pt x="549" y="27"/>
                </a:lnTo>
                <a:lnTo>
                  <a:pt x="562" y="23"/>
                </a:lnTo>
                <a:lnTo>
                  <a:pt x="576" y="21"/>
                </a:lnTo>
                <a:lnTo>
                  <a:pt x="587" y="19"/>
                </a:lnTo>
                <a:lnTo>
                  <a:pt x="601" y="17"/>
                </a:lnTo>
                <a:lnTo>
                  <a:pt x="612" y="15"/>
                </a:lnTo>
                <a:lnTo>
                  <a:pt x="622" y="13"/>
                </a:lnTo>
                <a:lnTo>
                  <a:pt x="634" y="11"/>
                </a:lnTo>
                <a:lnTo>
                  <a:pt x="643" y="9"/>
                </a:lnTo>
                <a:lnTo>
                  <a:pt x="653" y="8"/>
                </a:lnTo>
                <a:lnTo>
                  <a:pt x="660" y="8"/>
                </a:lnTo>
                <a:lnTo>
                  <a:pt x="670" y="6"/>
                </a:lnTo>
                <a:lnTo>
                  <a:pt x="678" y="6"/>
                </a:lnTo>
                <a:lnTo>
                  <a:pt x="685" y="4"/>
                </a:lnTo>
                <a:lnTo>
                  <a:pt x="691" y="4"/>
                </a:lnTo>
                <a:lnTo>
                  <a:pt x="697" y="2"/>
                </a:lnTo>
                <a:lnTo>
                  <a:pt x="703" y="2"/>
                </a:lnTo>
                <a:lnTo>
                  <a:pt x="708" y="2"/>
                </a:lnTo>
                <a:lnTo>
                  <a:pt x="712" y="0"/>
                </a:lnTo>
                <a:lnTo>
                  <a:pt x="716" y="0"/>
                </a:lnTo>
                <a:lnTo>
                  <a:pt x="720" y="0"/>
                </a:lnTo>
                <a:lnTo>
                  <a:pt x="733" y="2"/>
                </a:lnTo>
                <a:lnTo>
                  <a:pt x="745" y="2"/>
                </a:lnTo>
                <a:lnTo>
                  <a:pt x="758" y="6"/>
                </a:lnTo>
                <a:lnTo>
                  <a:pt x="768" y="8"/>
                </a:lnTo>
                <a:lnTo>
                  <a:pt x="779" y="11"/>
                </a:lnTo>
                <a:lnTo>
                  <a:pt x="791" y="15"/>
                </a:lnTo>
                <a:lnTo>
                  <a:pt x="804" y="21"/>
                </a:lnTo>
                <a:lnTo>
                  <a:pt x="816" y="25"/>
                </a:lnTo>
                <a:lnTo>
                  <a:pt x="824" y="31"/>
                </a:lnTo>
                <a:lnTo>
                  <a:pt x="829" y="34"/>
                </a:lnTo>
                <a:lnTo>
                  <a:pt x="835" y="38"/>
                </a:lnTo>
                <a:lnTo>
                  <a:pt x="839" y="42"/>
                </a:lnTo>
                <a:lnTo>
                  <a:pt x="843" y="46"/>
                </a:lnTo>
                <a:lnTo>
                  <a:pt x="847" y="48"/>
                </a:lnTo>
                <a:lnTo>
                  <a:pt x="854" y="55"/>
                </a:lnTo>
                <a:lnTo>
                  <a:pt x="858" y="59"/>
                </a:lnTo>
                <a:lnTo>
                  <a:pt x="862" y="65"/>
                </a:lnTo>
                <a:lnTo>
                  <a:pt x="864" y="71"/>
                </a:lnTo>
                <a:lnTo>
                  <a:pt x="866" y="75"/>
                </a:lnTo>
                <a:lnTo>
                  <a:pt x="864" y="79"/>
                </a:lnTo>
                <a:lnTo>
                  <a:pt x="862" y="82"/>
                </a:lnTo>
                <a:lnTo>
                  <a:pt x="858" y="84"/>
                </a:lnTo>
                <a:lnTo>
                  <a:pt x="854" y="88"/>
                </a:lnTo>
                <a:lnTo>
                  <a:pt x="847" y="90"/>
                </a:lnTo>
                <a:lnTo>
                  <a:pt x="843" y="90"/>
                </a:lnTo>
                <a:lnTo>
                  <a:pt x="839" y="92"/>
                </a:lnTo>
                <a:lnTo>
                  <a:pt x="835" y="94"/>
                </a:lnTo>
                <a:lnTo>
                  <a:pt x="829" y="96"/>
                </a:lnTo>
                <a:lnTo>
                  <a:pt x="824" y="98"/>
                </a:lnTo>
                <a:lnTo>
                  <a:pt x="816" y="100"/>
                </a:lnTo>
                <a:lnTo>
                  <a:pt x="812" y="102"/>
                </a:lnTo>
                <a:lnTo>
                  <a:pt x="808" y="102"/>
                </a:lnTo>
                <a:lnTo>
                  <a:pt x="804" y="103"/>
                </a:lnTo>
                <a:lnTo>
                  <a:pt x="799" y="105"/>
                </a:lnTo>
                <a:lnTo>
                  <a:pt x="793" y="107"/>
                </a:lnTo>
                <a:lnTo>
                  <a:pt x="787" y="107"/>
                </a:lnTo>
                <a:lnTo>
                  <a:pt x="779" y="109"/>
                </a:lnTo>
                <a:lnTo>
                  <a:pt x="772" y="111"/>
                </a:lnTo>
                <a:lnTo>
                  <a:pt x="764" y="113"/>
                </a:lnTo>
                <a:lnTo>
                  <a:pt x="754" y="115"/>
                </a:lnTo>
                <a:lnTo>
                  <a:pt x="745" y="117"/>
                </a:lnTo>
                <a:lnTo>
                  <a:pt x="735" y="119"/>
                </a:lnTo>
                <a:lnTo>
                  <a:pt x="724" y="121"/>
                </a:lnTo>
                <a:lnTo>
                  <a:pt x="714" y="123"/>
                </a:lnTo>
                <a:lnTo>
                  <a:pt x="701" y="125"/>
                </a:lnTo>
                <a:lnTo>
                  <a:pt x="689" y="126"/>
                </a:lnTo>
                <a:lnTo>
                  <a:pt x="676" y="130"/>
                </a:lnTo>
                <a:lnTo>
                  <a:pt x="662" y="132"/>
                </a:lnTo>
                <a:lnTo>
                  <a:pt x="649" y="134"/>
                </a:lnTo>
                <a:lnTo>
                  <a:pt x="634" y="138"/>
                </a:lnTo>
                <a:lnTo>
                  <a:pt x="618" y="140"/>
                </a:lnTo>
                <a:lnTo>
                  <a:pt x="603" y="142"/>
                </a:lnTo>
                <a:lnTo>
                  <a:pt x="586" y="146"/>
                </a:lnTo>
                <a:lnTo>
                  <a:pt x="568" y="148"/>
                </a:lnTo>
                <a:lnTo>
                  <a:pt x="551" y="151"/>
                </a:lnTo>
                <a:lnTo>
                  <a:pt x="532" y="153"/>
                </a:lnTo>
                <a:lnTo>
                  <a:pt x="513" y="157"/>
                </a:lnTo>
                <a:lnTo>
                  <a:pt x="493" y="161"/>
                </a:lnTo>
                <a:lnTo>
                  <a:pt x="472" y="163"/>
                </a:lnTo>
                <a:lnTo>
                  <a:pt x="453" y="167"/>
                </a:lnTo>
                <a:lnTo>
                  <a:pt x="430" y="171"/>
                </a:lnTo>
                <a:lnTo>
                  <a:pt x="409" y="174"/>
                </a:lnTo>
                <a:lnTo>
                  <a:pt x="386" y="178"/>
                </a:lnTo>
                <a:lnTo>
                  <a:pt x="365" y="180"/>
                </a:lnTo>
                <a:lnTo>
                  <a:pt x="344" y="184"/>
                </a:lnTo>
                <a:lnTo>
                  <a:pt x="324" y="186"/>
                </a:lnTo>
                <a:lnTo>
                  <a:pt x="303" y="190"/>
                </a:lnTo>
                <a:lnTo>
                  <a:pt x="286" y="192"/>
                </a:lnTo>
                <a:lnTo>
                  <a:pt x="267" y="194"/>
                </a:lnTo>
                <a:lnTo>
                  <a:pt x="250" y="196"/>
                </a:lnTo>
                <a:lnTo>
                  <a:pt x="232" y="197"/>
                </a:lnTo>
                <a:lnTo>
                  <a:pt x="215" y="199"/>
                </a:lnTo>
                <a:lnTo>
                  <a:pt x="200" y="201"/>
                </a:lnTo>
                <a:lnTo>
                  <a:pt x="184" y="201"/>
                </a:lnTo>
                <a:lnTo>
                  <a:pt x="171" y="203"/>
                </a:lnTo>
                <a:lnTo>
                  <a:pt x="157" y="203"/>
                </a:lnTo>
                <a:lnTo>
                  <a:pt x="144" y="205"/>
                </a:lnTo>
                <a:lnTo>
                  <a:pt x="131" y="205"/>
                </a:lnTo>
                <a:lnTo>
                  <a:pt x="119" y="205"/>
                </a:lnTo>
                <a:lnTo>
                  <a:pt x="107" y="207"/>
                </a:lnTo>
                <a:lnTo>
                  <a:pt x="98" y="207"/>
                </a:lnTo>
                <a:lnTo>
                  <a:pt x="88" y="207"/>
                </a:lnTo>
                <a:lnTo>
                  <a:pt x="79" y="207"/>
                </a:lnTo>
                <a:lnTo>
                  <a:pt x="71" y="207"/>
                </a:lnTo>
                <a:lnTo>
                  <a:pt x="63" y="205"/>
                </a:lnTo>
                <a:lnTo>
                  <a:pt x="56" y="205"/>
                </a:lnTo>
                <a:lnTo>
                  <a:pt x="50" y="205"/>
                </a:lnTo>
                <a:lnTo>
                  <a:pt x="44" y="205"/>
                </a:lnTo>
                <a:lnTo>
                  <a:pt x="38" y="203"/>
                </a:lnTo>
                <a:lnTo>
                  <a:pt x="35" y="203"/>
                </a:lnTo>
                <a:lnTo>
                  <a:pt x="31" y="201"/>
                </a:lnTo>
                <a:lnTo>
                  <a:pt x="29" y="201"/>
                </a:lnTo>
                <a:lnTo>
                  <a:pt x="27" y="199"/>
                </a:lnTo>
                <a:lnTo>
                  <a:pt x="25" y="1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34"/>
          <p:cNvSpPr/>
          <p:nvPr/>
        </p:nvSpPr>
        <p:spPr>
          <a:xfrm>
            <a:off x="6207120" y="4141800"/>
            <a:ext cx="716040" cy="196920"/>
          </a:xfrm>
          <a:custGeom>
            <a:avLst/>
            <a:gdLst/>
            <a:ahLst/>
            <a:rect l="l" t="t" r="r" b="b"/>
            <a:pathLst>
              <a:path w="900" h="247">
                <a:moveTo>
                  <a:pt x="852" y="111"/>
                </a:moveTo>
                <a:lnTo>
                  <a:pt x="839" y="117"/>
                </a:lnTo>
                <a:lnTo>
                  <a:pt x="824" y="120"/>
                </a:lnTo>
                <a:lnTo>
                  <a:pt x="808" y="126"/>
                </a:lnTo>
                <a:lnTo>
                  <a:pt x="789" y="130"/>
                </a:lnTo>
                <a:lnTo>
                  <a:pt x="772" y="134"/>
                </a:lnTo>
                <a:lnTo>
                  <a:pt x="751" y="140"/>
                </a:lnTo>
                <a:lnTo>
                  <a:pt x="731" y="144"/>
                </a:lnTo>
                <a:lnTo>
                  <a:pt x="708" y="149"/>
                </a:lnTo>
                <a:lnTo>
                  <a:pt x="697" y="151"/>
                </a:lnTo>
                <a:lnTo>
                  <a:pt x="683" y="153"/>
                </a:lnTo>
                <a:lnTo>
                  <a:pt x="670" y="155"/>
                </a:lnTo>
                <a:lnTo>
                  <a:pt x="655" y="157"/>
                </a:lnTo>
                <a:lnTo>
                  <a:pt x="637" y="161"/>
                </a:lnTo>
                <a:lnTo>
                  <a:pt x="620" y="163"/>
                </a:lnTo>
                <a:lnTo>
                  <a:pt x="603" y="167"/>
                </a:lnTo>
                <a:lnTo>
                  <a:pt x="582" y="168"/>
                </a:lnTo>
                <a:lnTo>
                  <a:pt x="562" y="172"/>
                </a:lnTo>
                <a:lnTo>
                  <a:pt x="539" y="174"/>
                </a:lnTo>
                <a:lnTo>
                  <a:pt x="516" y="178"/>
                </a:lnTo>
                <a:lnTo>
                  <a:pt x="493" y="182"/>
                </a:lnTo>
                <a:lnTo>
                  <a:pt x="466" y="186"/>
                </a:lnTo>
                <a:lnTo>
                  <a:pt x="442" y="190"/>
                </a:lnTo>
                <a:lnTo>
                  <a:pt x="413" y="193"/>
                </a:lnTo>
                <a:lnTo>
                  <a:pt x="384" y="199"/>
                </a:lnTo>
                <a:lnTo>
                  <a:pt x="355" y="205"/>
                </a:lnTo>
                <a:lnTo>
                  <a:pt x="330" y="211"/>
                </a:lnTo>
                <a:lnTo>
                  <a:pt x="305" y="216"/>
                </a:lnTo>
                <a:lnTo>
                  <a:pt x="280" y="222"/>
                </a:lnTo>
                <a:lnTo>
                  <a:pt x="259" y="226"/>
                </a:lnTo>
                <a:lnTo>
                  <a:pt x="240" y="230"/>
                </a:lnTo>
                <a:lnTo>
                  <a:pt x="221" y="234"/>
                </a:lnTo>
                <a:lnTo>
                  <a:pt x="205" y="238"/>
                </a:lnTo>
                <a:lnTo>
                  <a:pt x="190" y="239"/>
                </a:lnTo>
                <a:lnTo>
                  <a:pt x="177" y="241"/>
                </a:lnTo>
                <a:lnTo>
                  <a:pt x="165" y="243"/>
                </a:lnTo>
                <a:lnTo>
                  <a:pt x="155" y="245"/>
                </a:lnTo>
                <a:lnTo>
                  <a:pt x="146" y="247"/>
                </a:lnTo>
                <a:lnTo>
                  <a:pt x="140" y="247"/>
                </a:lnTo>
                <a:lnTo>
                  <a:pt x="136" y="247"/>
                </a:lnTo>
                <a:lnTo>
                  <a:pt x="132" y="247"/>
                </a:lnTo>
                <a:lnTo>
                  <a:pt x="127" y="247"/>
                </a:lnTo>
                <a:lnTo>
                  <a:pt x="121" y="245"/>
                </a:lnTo>
                <a:lnTo>
                  <a:pt x="113" y="243"/>
                </a:lnTo>
                <a:lnTo>
                  <a:pt x="106" y="239"/>
                </a:lnTo>
                <a:lnTo>
                  <a:pt x="96" y="234"/>
                </a:lnTo>
                <a:lnTo>
                  <a:pt x="84" y="228"/>
                </a:lnTo>
                <a:lnTo>
                  <a:pt x="73" y="220"/>
                </a:lnTo>
                <a:lnTo>
                  <a:pt x="61" y="211"/>
                </a:lnTo>
                <a:lnTo>
                  <a:pt x="48" y="201"/>
                </a:lnTo>
                <a:lnTo>
                  <a:pt x="36" y="191"/>
                </a:lnTo>
                <a:lnTo>
                  <a:pt x="27" y="184"/>
                </a:lnTo>
                <a:lnTo>
                  <a:pt x="17" y="174"/>
                </a:lnTo>
                <a:lnTo>
                  <a:pt x="10" y="167"/>
                </a:lnTo>
                <a:lnTo>
                  <a:pt x="8" y="163"/>
                </a:lnTo>
                <a:lnTo>
                  <a:pt x="6" y="159"/>
                </a:lnTo>
                <a:lnTo>
                  <a:pt x="4" y="157"/>
                </a:lnTo>
                <a:lnTo>
                  <a:pt x="2" y="153"/>
                </a:lnTo>
                <a:lnTo>
                  <a:pt x="0" y="151"/>
                </a:lnTo>
                <a:lnTo>
                  <a:pt x="0" y="149"/>
                </a:lnTo>
                <a:lnTo>
                  <a:pt x="0" y="147"/>
                </a:lnTo>
                <a:lnTo>
                  <a:pt x="2" y="145"/>
                </a:lnTo>
                <a:lnTo>
                  <a:pt x="4" y="145"/>
                </a:lnTo>
                <a:lnTo>
                  <a:pt x="6" y="144"/>
                </a:lnTo>
                <a:lnTo>
                  <a:pt x="10" y="142"/>
                </a:lnTo>
                <a:lnTo>
                  <a:pt x="15" y="140"/>
                </a:lnTo>
                <a:lnTo>
                  <a:pt x="19" y="138"/>
                </a:lnTo>
                <a:lnTo>
                  <a:pt x="25" y="136"/>
                </a:lnTo>
                <a:lnTo>
                  <a:pt x="31" y="134"/>
                </a:lnTo>
                <a:lnTo>
                  <a:pt x="38" y="132"/>
                </a:lnTo>
                <a:lnTo>
                  <a:pt x="46" y="130"/>
                </a:lnTo>
                <a:lnTo>
                  <a:pt x="56" y="128"/>
                </a:lnTo>
                <a:lnTo>
                  <a:pt x="65" y="126"/>
                </a:lnTo>
                <a:lnTo>
                  <a:pt x="75" y="124"/>
                </a:lnTo>
                <a:lnTo>
                  <a:pt x="86" y="122"/>
                </a:lnTo>
                <a:lnTo>
                  <a:pt x="98" y="119"/>
                </a:lnTo>
                <a:lnTo>
                  <a:pt x="111" y="117"/>
                </a:lnTo>
                <a:lnTo>
                  <a:pt x="125" y="115"/>
                </a:lnTo>
                <a:lnTo>
                  <a:pt x="138" y="111"/>
                </a:lnTo>
                <a:lnTo>
                  <a:pt x="152" y="109"/>
                </a:lnTo>
                <a:lnTo>
                  <a:pt x="167" y="105"/>
                </a:lnTo>
                <a:lnTo>
                  <a:pt x="184" y="101"/>
                </a:lnTo>
                <a:lnTo>
                  <a:pt x="202" y="97"/>
                </a:lnTo>
                <a:lnTo>
                  <a:pt x="219" y="96"/>
                </a:lnTo>
                <a:lnTo>
                  <a:pt x="236" y="92"/>
                </a:lnTo>
                <a:lnTo>
                  <a:pt x="255" y="88"/>
                </a:lnTo>
                <a:lnTo>
                  <a:pt x="275" y="84"/>
                </a:lnTo>
                <a:lnTo>
                  <a:pt x="296" y="80"/>
                </a:lnTo>
                <a:lnTo>
                  <a:pt x="317" y="74"/>
                </a:lnTo>
                <a:lnTo>
                  <a:pt x="338" y="71"/>
                </a:lnTo>
                <a:lnTo>
                  <a:pt x="361" y="67"/>
                </a:lnTo>
                <a:lnTo>
                  <a:pt x="384" y="61"/>
                </a:lnTo>
                <a:lnTo>
                  <a:pt x="407" y="57"/>
                </a:lnTo>
                <a:lnTo>
                  <a:pt x="430" y="55"/>
                </a:lnTo>
                <a:lnTo>
                  <a:pt x="453" y="51"/>
                </a:lnTo>
                <a:lnTo>
                  <a:pt x="474" y="48"/>
                </a:lnTo>
                <a:lnTo>
                  <a:pt x="495" y="46"/>
                </a:lnTo>
                <a:lnTo>
                  <a:pt x="514" y="42"/>
                </a:lnTo>
                <a:lnTo>
                  <a:pt x="534" y="38"/>
                </a:lnTo>
                <a:lnTo>
                  <a:pt x="553" y="36"/>
                </a:lnTo>
                <a:lnTo>
                  <a:pt x="570" y="32"/>
                </a:lnTo>
                <a:lnTo>
                  <a:pt x="589" y="30"/>
                </a:lnTo>
                <a:lnTo>
                  <a:pt x="605" y="28"/>
                </a:lnTo>
                <a:lnTo>
                  <a:pt x="622" y="25"/>
                </a:lnTo>
                <a:lnTo>
                  <a:pt x="637" y="23"/>
                </a:lnTo>
                <a:lnTo>
                  <a:pt x="651" y="21"/>
                </a:lnTo>
                <a:lnTo>
                  <a:pt x="666" y="19"/>
                </a:lnTo>
                <a:lnTo>
                  <a:pt x="678" y="17"/>
                </a:lnTo>
                <a:lnTo>
                  <a:pt x="691" y="15"/>
                </a:lnTo>
                <a:lnTo>
                  <a:pt x="703" y="13"/>
                </a:lnTo>
                <a:lnTo>
                  <a:pt x="714" y="11"/>
                </a:lnTo>
                <a:lnTo>
                  <a:pt x="726" y="9"/>
                </a:lnTo>
                <a:lnTo>
                  <a:pt x="735" y="7"/>
                </a:lnTo>
                <a:lnTo>
                  <a:pt x="743" y="5"/>
                </a:lnTo>
                <a:lnTo>
                  <a:pt x="753" y="5"/>
                </a:lnTo>
                <a:lnTo>
                  <a:pt x="758" y="3"/>
                </a:lnTo>
                <a:lnTo>
                  <a:pt x="766" y="3"/>
                </a:lnTo>
                <a:lnTo>
                  <a:pt x="772" y="1"/>
                </a:lnTo>
                <a:lnTo>
                  <a:pt x="778" y="1"/>
                </a:lnTo>
                <a:lnTo>
                  <a:pt x="781" y="0"/>
                </a:lnTo>
                <a:lnTo>
                  <a:pt x="785" y="0"/>
                </a:lnTo>
                <a:lnTo>
                  <a:pt x="789" y="0"/>
                </a:lnTo>
                <a:lnTo>
                  <a:pt x="791" y="0"/>
                </a:lnTo>
                <a:lnTo>
                  <a:pt x="793" y="0"/>
                </a:lnTo>
                <a:lnTo>
                  <a:pt x="797" y="0"/>
                </a:lnTo>
                <a:lnTo>
                  <a:pt x="802" y="0"/>
                </a:lnTo>
                <a:lnTo>
                  <a:pt x="808" y="0"/>
                </a:lnTo>
                <a:lnTo>
                  <a:pt x="814" y="1"/>
                </a:lnTo>
                <a:lnTo>
                  <a:pt x="822" y="1"/>
                </a:lnTo>
                <a:lnTo>
                  <a:pt x="829" y="5"/>
                </a:lnTo>
                <a:lnTo>
                  <a:pt x="835" y="5"/>
                </a:lnTo>
                <a:lnTo>
                  <a:pt x="841" y="7"/>
                </a:lnTo>
                <a:lnTo>
                  <a:pt x="847" y="9"/>
                </a:lnTo>
                <a:lnTo>
                  <a:pt x="852" y="11"/>
                </a:lnTo>
                <a:lnTo>
                  <a:pt x="860" y="15"/>
                </a:lnTo>
                <a:lnTo>
                  <a:pt x="866" y="17"/>
                </a:lnTo>
                <a:lnTo>
                  <a:pt x="870" y="21"/>
                </a:lnTo>
                <a:lnTo>
                  <a:pt x="875" y="23"/>
                </a:lnTo>
                <a:lnTo>
                  <a:pt x="883" y="30"/>
                </a:lnTo>
                <a:lnTo>
                  <a:pt x="891" y="36"/>
                </a:lnTo>
                <a:lnTo>
                  <a:pt x="895" y="44"/>
                </a:lnTo>
                <a:lnTo>
                  <a:pt x="898" y="49"/>
                </a:lnTo>
                <a:lnTo>
                  <a:pt x="900" y="57"/>
                </a:lnTo>
                <a:lnTo>
                  <a:pt x="900" y="61"/>
                </a:lnTo>
                <a:lnTo>
                  <a:pt x="900" y="67"/>
                </a:lnTo>
                <a:lnTo>
                  <a:pt x="898" y="73"/>
                </a:lnTo>
                <a:lnTo>
                  <a:pt x="895" y="80"/>
                </a:lnTo>
                <a:lnTo>
                  <a:pt x="891" y="86"/>
                </a:lnTo>
                <a:lnTo>
                  <a:pt x="883" y="94"/>
                </a:lnTo>
                <a:lnTo>
                  <a:pt x="875" y="99"/>
                </a:lnTo>
                <a:lnTo>
                  <a:pt x="870" y="103"/>
                </a:lnTo>
                <a:lnTo>
                  <a:pt x="866" y="105"/>
                </a:lnTo>
                <a:lnTo>
                  <a:pt x="860" y="109"/>
                </a:lnTo>
                <a:lnTo>
                  <a:pt x="852" y="1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35"/>
          <p:cNvSpPr/>
          <p:nvPr/>
        </p:nvSpPr>
        <p:spPr>
          <a:xfrm>
            <a:off x="5599080" y="3092400"/>
            <a:ext cx="2009880" cy="311040"/>
          </a:xfrm>
          <a:custGeom>
            <a:avLst/>
            <a:gdLst/>
            <a:ahLst/>
            <a:rect l="l" t="t" r="r" b="b"/>
            <a:pathLst>
              <a:path w="2532" h="392">
                <a:moveTo>
                  <a:pt x="2125" y="18"/>
                </a:moveTo>
                <a:lnTo>
                  <a:pt x="2148" y="14"/>
                </a:lnTo>
                <a:lnTo>
                  <a:pt x="2169" y="8"/>
                </a:lnTo>
                <a:lnTo>
                  <a:pt x="2194" y="6"/>
                </a:lnTo>
                <a:lnTo>
                  <a:pt x="2217" y="2"/>
                </a:lnTo>
                <a:lnTo>
                  <a:pt x="2242" y="0"/>
                </a:lnTo>
                <a:lnTo>
                  <a:pt x="2269" y="0"/>
                </a:lnTo>
                <a:lnTo>
                  <a:pt x="2285" y="0"/>
                </a:lnTo>
                <a:lnTo>
                  <a:pt x="2298" y="2"/>
                </a:lnTo>
                <a:lnTo>
                  <a:pt x="2313" y="4"/>
                </a:lnTo>
                <a:lnTo>
                  <a:pt x="2329" y="6"/>
                </a:lnTo>
                <a:lnTo>
                  <a:pt x="2342" y="8"/>
                </a:lnTo>
                <a:lnTo>
                  <a:pt x="2356" y="12"/>
                </a:lnTo>
                <a:lnTo>
                  <a:pt x="2367" y="14"/>
                </a:lnTo>
                <a:lnTo>
                  <a:pt x="2379" y="18"/>
                </a:lnTo>
                <a:lnTo>
                  <a:pt x="2390" y="21"/>
                </a:lnTo>
                <a:lnTo>
                  <a:pt x="2400" y="25"/>
                </a:lnTo>
                <a:lnTo>
                  <a:pt x="2421" y="33"/>
                </a:lnTo>
                <a:lnTo>
                  <a:pt x="2438" y="43"/>
                </a:lnTo>
                <a:lnTo>
                  <a:pt x="2455" y="54"/>
                </a:lnTo>
                <a:lnTo>
                  <a:pt x="2471" y="67"/>
                </a:lnTo>
                <a:lnTo>
                  <a:pt x="2484" y="81"/>
                </a:lnTo>
                <a:lnTo>
                  <a:pt x="2492" y="87"/>
                </a:lnTo>
                <a:lnTo>
                  <a:pt x="2498" y="94"/>
                </a:lnTo>
                <a:lnTo>
                  <a:pt x="2502" y="100"/>
                </a:lnTo>
                <a:lnTo>
                  <a:pt x="2507" y="106"/>
                </a:lnTo>
                <a:lnTo>
                  <a:pt x="2515" y="117"/>
                </a:lnTo>
                <a:lnTo>
                  <a:pt x="2523" y="127"/>
                </a:lnTo>
                <a:lnTo>
                  <a:pt x="2527" y="137"/>
                </a:lnTo>
                <a:lnTo>
                  <a:pt x="2530" y="142"/>
                </a:lnTo>
                <a:lnTo>
                  <a:pt x="2532" y="150"/>
                </a:lnTo>
                <a:lnTo>
                  <a:pt x="2532" y="156"/>
                </a:lnTo>
                <a:lnTo>
                  <a:pt x="2532" y="160"/>
                </a:lnTo>
                <a:lnTo>
                  <a:pt x="2530" y="163"/>
                </a:lnTo>
                <a:lnTo>
                  <a:pt x="2525" y="167"/>
                </a:lnTo>
                <a:lnTo>
                  <a:pt x="2519" y="171"/>
                </a:lnTo>
                <a:lnTo>
                  <a:pt x="2511" y="175"/>
                </a:lnTo>
                <a:lnTo>
                  <a:pt x="2503" y="177"/>
                </a:lnTo>
                <a:lnTo>
                  <a:pt x="2492" y="181"/>
                </a:lnTo>
                <a:lnTo>
                  <a:pt x="2480" y="183"/>
                </a:lnTo>
                <a:lnTo>
                  <a:pt x="2467" y="185"/>
                </a:lnTo>
                <a:lnTo>
                  <a:pt x="2452" y="186"/>
                </a:lnTo>
                <a:lnTo>
                  <a:pt x="2434" y="188"/>
                </a:lnTo>
                <a:lnTo>
                  <a:pt x="2417" y="190"/>
                </a:lnTo>
                <a:lnTo>
                  <a:pt x="2396" y="190"/>
                </a:lnTo>
                <a:lnTo>
                  <a:pt x="2375" y="192"/>
                </a:lnTo>
                <a:lnTo>
                  <a:pt x="2354" y="192"/>
                </a:lnTo>
                <a:lnTo>
                  <a:pt x="2329" y="192"/>
                </a:lnTo>
                <a:lnTo>
                  <a:pt x="2315" y="192"/>
                </a:lnTo>
                <a:lnTo>
                  <a:pt x="2300" y="192"/>
                </a:lnTo>
                <a:lnTo>
                  <a:pt x="2285" y="192"/>
                </a:lnTo>
                <a:lnTo>
                  <a:pt x="2269" y="192"/>
                </a:lnTo>
                <a:lnTo>
                  <a:pt x="2252" y="192"/>
                </a:lnTo>
                <a:lnTo>
                  <a:pt x="2235" y="194"/>
                </a:lnTo>
                <a:lnTo>
                  <a:pt x="2217" y="194"/>
                </a:lnTo>
                <a:lnTo>
                  <a:pt x="2198" y="194"/>
                </a:lnTo>
                <a:lnTo>
                  <a:pt x="2179" y="196"/>
                </a:lnTo>
                <a:lnTo>
                  <a:pt x="2158" y="196"/>
                </a:lnTo>
                <a:lnTo>
                  <a:pt x="2137" y="196"/>
                </a:lnTo>
                <a:lnTo>
                  <a:pt x="2116" y="198"/>
                </a:lnTo>
                <a:lnTo>
                  <a:pt x="2093" y="200"/>
                </a:lnTo>
                <a:lnTo>
                  <a:pt x="2070" y="200"/>
                </a:lnTo>
                <a:lnTo>
                  <a:pt x="2047" y="202"/>
                </a:lnTo>
                <a:lnTo>
                  <a:pt x="2022" y="202"/>
                </a:lnTo>
                <a:lnTo>
                  <a:pt x="1997" y="204"/>
                </a:lnTo>
                <a:lnTo>
                  <a:pt x="1970" y="206"/>
                </a:lnTo>
                <a:lnTo>
                  <a:pt x="1943" y="208"/>
                </a:lnTo>
                <a:lnTo>
                  <a:pt x="1916" y="209"/>
                </a:lnTo>
                <a:lnTo>
                  <a:pt x="1887" y="211"/>
                </a:lnTo>
                <a:lnTo>
                  <a:pt x="1858" y="213"/>
                </a:lnTo>
                <a:lnTo>
                  <a:pt x="1828" y="215"/>
                </a:lnTo>
                <a:lnTo>
                  <a:pt x="1797" y="217"/>
                </a:lnTo>
                <a:lnTo>
                  <a:pt x="1766" y="221"/>
                </a:lnTo>
                <a:lnTo>
                  <a:pt x="1734" y="223"/>
                </a:lnTo>
                <a:lnTo>
                  <a:pt x="1701" y="225"/>
                </a:lnTo>
                <a:lnTo>
                  <a:pt x="1666" y="229"/>
                </a:lnTo>
                <a:lnTo>
                  <a:pt x="1632" y="233"/>
                </a:lnTo>
                <a:lnTo>
                  <a:pt x="1597" y="234"/>
                </a:lnTo>
                <a:lnTo>
                  <a:pt x="1561" y="238"/>
                </a:lnTo>
                <a:lnTo>
                  <a:pt x="1524" y="242"/>
                </a:lnTo>
                <a:lnTo>
                  <a:pt x="1488" y="246"/>
                </a:lnTo>
                <a:lnTo>
                  <a:pt x="1451" y="248"/>
                </a:lnTo>
                <a:lnTo>
                  <a:pt x="1417" y="252"/>
                </a:lnTo>
                <a:lnTo>
                  <a:pt x="1380" y="256"/>
                </a:lnTo>
                <a:lnTo>
                  <a:pt x="1348" y="259"/>
                </a:lnTo>
                <a:lnTo>
                  <a:pt x="1313" y="261"/>
                </a:lnTo>
                <a:lnTo>
                  <a:pt x="1281" y="265"/>
                </a:lnTo>
                <a:lnTo>
                  <a:pt x="1248" y="267"/>
                </a:lnTo>
                <a:lnTo>
                  <a:pt x="1217" y="271"/>
                </a:lnTo>
                <a:lnTo>
                  <a:pt x="1185" y="275"/>
                </a:lnTo>
                <a:lnTo>
                  <a:pt x="1156" y="277"/>
                </a:lnTo>
                <a:lnTo>
                  <a:pt x="1125" y="280"/>
                </a:lnTo>
                <a:lnTo>
                  <a:pt x="1096" y="282"/>
                </a:lnTo>
                <a:lnTo>
                  <a:pt x="1067" y="286"/>
                </a:lnTo>
                <a:lnTo>
                  <a:pt x="1041" y="288"/>
                </a:lnTo>
                <a:lnTo>
                  <a:pt x="1014" y="292"/>
                </a:lnTo>
                <a:lnTo>
                  <a:pt x="987" y="294"/>
                </a:lnTo>
                <a:lnTo>
                  <a:pt x="962" y="298"/>
                </a:lnTo>
                <a:lnTo>
                  <a:pt x="935" y="300"/>
                </a:lnTo>
                <a:lnTo>
                  <a:pt x="912" y="304"/>
                </a:lnTo>
                <a:lnTo>
                  <a:pt x="887" y="305"/>
                </a:lnTo>
                <a:lnTo>
                  <a:pt x="864" y="309"/>
                </a:lnTo>
                <a:lnTo>
                  <a:pt x="843" y="311"/>
                </a:lnTo>
                <a:lnTo>
                  <a:pt x="822" y="315"/>
                </a:lnTo>
                <a:lnTo>
                  <a:pt x="801" y="317"/>
                </a:lnTo>
                <a:lnTo>
                  <a:pt x="779" y="321"/>
                </a:lnTo>
                <a:lnTo>
                  <a:pt x="760" y="325"/>
                </a:lnTo>
                <a:lnTo>
                  <a:pt x="741" y="327"/>
                </a:lnTo>
                <a:lnTo>
                  <a:pt x="724" y="330"/>
                </a:lnTo>
                <a:lnTo>
                  <a:pt x="705" y="334"/>
                </a:lnTo>
                <a:lnTo>
                  <a:pt x="689" y="338"/>
                </a:lnTo>
                <a:lnTo>
                  <a:pt x="672" y="342"/>
                </a:lnTo>
                <a:lnTo>
                  <a:pt x="641" y="348"/>
                </a:lnTo>
                <a:lnTo>
                  <a:pt x="611" y="353"/>
                </a:lnTo>
                <a:lnTo>
                  <a:pt x="582" y="359"/>
                </a:lnTo>
                <a:lnTo>
                  <a:pt x="553" y="365"/>
                </a:lnTo>
                <a:lnTo>
                  <a:pt x="526" y="369"/>
                </a:lnTo>
                <a:lnTo>
                  <a:pt x="499" y="373"/>
                </a:lnTo>
                <a:lnTo>
                  <a:pt x="474" y="376"/>
                </a:lnTo>
                <a:lnTo>
                  <a:pt x="449" y="380"/>
                </a:lnTo>
                <a:lnTo>
                  <a:pt x="426" y="382"/>
                </a:lnTo>
                <a:lnTo>
                  <a:pt x="403" y="386"/>
                </a:lnTo>
                <a:lnTo>
                  <a:pt x="380" y="386"/>
                </a:lnTo>
                <a:lnTo>
                  <a:pt x="361" y="388"/>
                </a:lnTo>
                <a:lnTo>
                  <a:pt x="340" y="390"/>
                </a:lnTo>
                <a:lnTo>
                  <a:pt x="323" y="390"/>
                </a:lnTo>
                <a:lnTo>
                  <a:pt x="305" y="390"/>
                </a:lnTo>
                <a:lnTo>
                  <a:pt x="288" y="392"/>
                </a:lnTo>
                <a:lnTo>
                  <a:pt x="257" y="390"/>
                </a:lnTo>
                <a:lnTo>
                  <a:pt x="229" y="388"/>
                </a:lnTo>
                <a:lnTo>
                  <a:pt x="200" y="386"/>
                </a:lnTo>
                <a:lnTo>
                  <a:pt x="173" y="382"/>
                </a:lnTo>
                <a:lnTo>
                  <a:pt x="148" y="376"/>
                </a:lnTo>
                <a:lnTo>
                  <a:pt x="136" y="373"/>
                </a:lnTo>
                <a:lnTo>
                  <a:pt x="125" y="371"/>
                </a:lnTo>
                <a:lnTo>
                  <a:pt x="113" y="367"/>
                </a:lnTo>
                <a:lnTo>
                  <a:pt x="104" y="363"/>
                </a:lnTo>
                <a:lnTo>
                  <a:pt x="94" y="357"/>
                </a:lnTo>
                <a:lnTo>
                  <a:pt x="85" y="353"/>
                </a:lnTo>
                <a:lnTo>
                  <a:pt x="73" y="351"/>
                </a:lnTo>
                <a:lnTo>
                  <a:pt x="63" y="348"/>
                </a:lnTo>
                <a:lnTo>
                  <a:pt x="54" y="346"/>
                </a:lnTo>
                <a:lnTo>
                  <a:pt x="46" y="342"/>
                </a:lnTo>
                <a:lnTo>
                  <a:pt x="38" y="338"/>
                </a:lnTo>
                <a:lnTo>
                  <a:pt x="31" y="334"/>
                </a:lnTo>
                <a:lnTo>
                  <a:pt x="25" y="330"/>
                </a:lnTo>
                <a:lnTo>
                  <a:pt x="19" y="327"/>
                </a:lnTo>
                <a:lnTo>
                  <a:pt x="15" y="323"/>
                </a:lnTo>
                <a:lnTo>
                  <a:pt x="12" y="319"/>
                </a:lnTo>
                <a:lnTo>
                  <a:pt x="8" y="315"/>
                </a:lnTo>
                <a:lnTo>
                  <a:pt x="6" y="309"/>
                </a:lnTo>
                <a:lnTo>
                  <a:pt x="4" y="305"/>
                </a:lnTo>
                <a:lnTo>
                  <a:pt x="2" y="300"/>
                </a:lnTo>
                <a:lnTo>
                  <a:pt x="0" y="296"/>
                </a:lnTo>
                <a:lnTo>
                  <a:pt x="0" y="292"/>
                </a:lnTo>
                <a:lnTo>
                  <a:pt x="2" y="288"/>
                </a:lnTo>
                <a:lnTo>
                  <a:pt x="2" y="286"/>
                </a:lnTo>
                <a:lnTo>
                  <a:pt x="6" y="284"/>
                </a:lnTo>
                <a:lnTo>
                  <a:pt x="10" y="282"/>
                </a:lnTo>
                <a:lnTo>
                  <a:pt x="15" y="280"/>
                </a:lnTo>
                <a:lnTo>
                  <a:pt x="21" y="279"/>
                </a:lnTo>
                <a:lnTo>
                  <a:pt x="29" y="277"/>
                </a:lnTo>
                <a:lnTo>
                  <a:pt x="37" y="275"/>
                </a:lnTo>
                <a:lnTo>
                  <a:pt x="46" y="273"/>
                </a:lnTo>
                <a:lnTo>
                  <a:pt x="58" y="271"/>
                </a:lnTo>
                <a:lnTo>
                  <a:pt x="69" y="269"/>
                </a:lnTo>
                <a:lnTo>
                  <a:pt x="81" y="269"/>
                </a:lnTo>
                <a:lnTo>
                  <a:pt x="96" y="267"/>
                </a:lnTo>
                <a:lnTo>
                  <a:pt x="111" y="267"/>
                </a:lnTo>
                <a:lnTo>
                  <a:pt x="127" y="267"/>
                </a:lnTo>
                <a:lnTo>
                  <a:pt x="144" y="267"/>
                </a:lnTo>
                <a:lnTo>
                  <a:pt x="163" y="267"/>
                </a:lnTo>
                <a:lnTo>
                  <a:pt x="182" y="265"/>
                </a:lnTo>
                <a:lnTo>
                  <a:pt x="202" y="265"/>
                </a:lnTo>
                <a:lnTo>
                  <a:pt x="221" y="265"/>
                </a:lnTo>
                <a:lnTo>
                  <a:pt x="242" y="263"/>
                </a:lnTo>
                <a:lnTo>
                  <a:pt x="263" y="261"/>
                </a:lnTo>
                <a:lnTo>
                  <a:pt x="286" y="259"/>
                </a:lnTo>
                <a:lnTo>
                  <a:pt x="307" y="257"/>
                </a:lnTo>
                <a:lnTo>
                  <a:pt x="332" y="256"/>
                </a:lnTo>
                <a:lnTo>
                  <a:pt x="355" y="252"/>
                </a:lnTo>
                <a:lnTo>
                  <a:pt x="380" y="250"/>
                </a:lnTo>
                <a:lnTo>
                  <a:pt x="407" y="246"/>
                </a:lnTo>
                <a:lnTo>
                  <a:pt x="432" y="242"/>
                </a:lnTo>
                <a:lnTo>
                  <a:pt x="459" y="238"/>
                </a:lnTo>
                <a:lnTo>
                  <a:pt x="488" y="234"/>
                </a:lnTo>
                <a:lnTo>
                  <a:pt x="516" y="229"/>
                </a:lnTo>
                <a:lnTo>
                  <a:pt x="530" y="227"/>
                </a:lnTo>
                <a:lnTo>
                  <a:pt x="545" y="225"/>
                </a:lnTo>
                <a:lnTo>
                  <a:pt x="561" y="221"/>
                </a:lnTo>
                <a:lnTo>
                  <a:pt x="578" y="219"/>
                </a:lnTo>
                <a:lnTo>
                  <a:pt x="595" y="217"/>
                </a:lnTo>
                <a:lnTo>
                  <a:pt x="612" y="213"/>
                </a:lnTo>
                <a:lnTo>
                  <a:pt x="632" y="211"/>
                </a:lnTo>
                <a:lnTo>
                  <a:pt x="651" y="208"/>
                </a:lnTo>
                <a:lnTo>
                  <a:pt x="672" y="206"/>
                </a:lnTo>
                <a:lnTo>
                  <a:pt x="695" y="202"/>
                </a:lnTo>
                <a:lnTo>
                  <a:pt x="716" y="198"/>
                </a:lnTo>
                <a:lnTo>
                  <a:pt x="739" y="196"/>
                </a:lnTo>
                <a:lnTo>
                  <a:pt x="764" y="192"/>
                </a:lnTo>
                <a:lnTo>
                  <a:pt x="789" y="188"/>
                </a:lnTo>
                <a:lnTo>
                  <a:pt x="816" y="185"/>
                </a:lnTo>
                <a:lnTo>
                  <a:pt x="843" y="181"/>
                </a:lnTo>
                <a:lnTo>
                  <a:pt x="870" y="177"/>
                </a:lnTo>
                <a:lnTo>
                  <a:pt x="899" y="173"/>
                </a:lnTo>
                <a:lnTo>
                  <a:pt x="927" y="169"/>
                </a:lnTo>
                <a:lnTo>
                  <a:pt x="958" y="165"/>
                </a:lnTo>
                <a:lnTo>
                  <a:pt x="991" y="161"/>
                </a:lnTo>
                <a:lnTo>
                  <a:pt x="1021" y="156"/>
                </a:lnTo>
                <a:lnTo>
                  <a:pt x="1054" y="152"/>
                </a:lnTo>
                <a:lnTo>
                  <a:pt x="1089" y="148"/>
                </a:lnTo>
                <a:lnTo>
                  <a:pt x="1123" y="142"/>
                </a:lnTo>
                <a:lnTo>
                  <a:pt x="1160" y="138"/>
                </a:lnTo>
                <a:lnTo>
                  <a:pt x="1196" y="133"/>
                </a:lnTo>
                <a:lnTo>
                  <a:pt x="1234" y="127"/>
                </a:lnTo>
                <a:lnTo>
                  <a:pt x="1273" y="121"/>
                </a:lnTo>
                <a:lnTo>
                  <a:pt x="1311" y="117"/>
                </a:lnTo>
                <a:lnTo>
                  <a:pt x="1352" y="112"/>
                </a:lnTo>
                <a:lnTo>
                  <a:pt x="1394" y="106"/>
                </a:lnTo>
                <a:lnTo>
                  <a:pt x="1432" y="100"/>
                </a:lnTo>
                <a:lnTo>
                  <a:pt x="1473" y="96"/>
                </a:lnTo>
                <a:lnTo>
                  <a:pt x="1509" y="90"/>
                </a:lnTo>
                <a:lnTo>
                  <a:pt x="1546" y="87"/>
                </a:lnTo>
                <a:lnTo>
                  <a:pt x="1582" y="83"/>
                </a:lnTo>
                <a:lnTo>
                  <a:pt x="1617" y="79"/>
                </a:lnTo>
                <a:lnTo>
                  <a:pt x="1649" y="75"/>
                </a:lnTo>
                <a:lnTo>
                  <a:pt x="1682" y="71"/>
                </a:lnTo>
                <a:lnTo>
                  <a:pt x="1713" y="67"/>
                </a:lnTo>
                <a:lnTo>
                  <a:pt x="1741" y="66"/>
                </a:lnTo>
                <a:lnTo>
                  <a:pt x="1770" y="62"/>
                </a:lnTo>
                <a:lnTo>
                  <a:pt x="1799" y="58"/>
                </a:lnTo>
                <a:lnTo>
                  <a:pt x="1826" y="56"/>
                </a:lnTo>
                <a:lnTo>
                  <a:pt x="1851" y="52"/>
                </a:lnTo>
                <a:lnTo>
                  <a:pt x="1876" y="50"/>
                </a:lnTo>
                <a:lnTo>
                  <a:pt x="1899" y="46"/>
                </a:lnTo>
                <a:lnTo>
                  <a:pt x="1920" y="44"/>
                </a:lnTo>
                <a:lnTo>
                  <a:pt x="1941" y="43"/>
                </a:lnTo>
                <a:lnTo>
                  <a:pt x="1962" y="41"/>
                </a:lnTo>
                <a:lnTo>
                  <a:pt x="1981" y="37"/>
                </a:lnTo>
                <a:lnTo>
                  <a:pt x="1999" y="35"/>
                </a:lnTo>
                <a:lnTo>
                  <a:pt x="2016" y="33"/>
                </a:lnTo>
                <a:lnTo>
                  <a:pt x="2031" y="31"/>
                </a:lnTo>
                <a:lnTo>
                  <a:pt x="2047" y="29"/>
                </a:lnTo>
                <a:lnTo>
                  <a:pt x="2060" y="27"/>
                </a:lnTo>
                <a:lnTo>
                  <a:pt x="2072" y="27"/>
                </a:lnTo>
                <a:lnTo>
                  <a:pt x="2083" y="25"/>
                </a:lnTo>
                <a:lnTo>
                  <a:pt x="2095" y="23"/>
                </a:lnTo>
                <a:lnTo>
                  <a:pt x="2104" y="21"/>
                </a:lnTo>
                <a:lnTo>
                  <a:pt x="2112" y="21"/>
                </a:lnTo>
                <a:lnTo>
                  <a:pt x="2120" y="19"/>
                </a:lnTo>
                <a:lnTo>
                  <a:pt x="2125" y="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组合 8"/>
          <p:cNvGrpSpPr/>
          <p:nvPr/>
        </p:nvGrpSpPr>
        <p:grpSpPr>
          <a:xfrm>
            <a:off x="1243080" y="3975120"/>
            <a:ext cx="2840040" cy="1621080"/>
            <a:chOff x="1243080" y="3975120"/>
            <a:chExt cx="2840040" cy="1621080"/>
          </a:xfrm>
        </p:grpSpPr>
        <p:pic>
          <p:nvPicPr>
            <p:cNvPr id="124" name="图示 4" descr=""/>
            <p:cNvPicPr/>
            <p:nvPr/>
          </p:nvPicPr>
          <p:blipFill>
            <a:blip r:embed="rId1"/>
            <a:stretch/>
          </p:blipFill>
          <p:spPr>
            <a:xfrm>
              <a:off x="124308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矩形 2"/>
            <p:cNvSpPr/>
            <p:nvPr/>
          </p:nvSpPr>
          <p:spPr>
            <a:xfrm>
              <a:off x="128916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力”的横折钩略内收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矩形 3"/>
          <p:cNvSpPr/>
          <p:nvPr/>
        </p:nvSpPr>
        <p:spPr>
          <a:xfrm>
            <a:off x="221940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9"/>
          <p:cNvSpPr/>
          <p:nvPr/>
        </p:nvSpPr>
        <p:spPr>
          <a:xfrm>
            <a:off x="6259680" y="2970360"/>
            <a:ext cx="1000080" cy="1984320"/>
          </a:xfrm>
          <a:custGeom>
            <a:avLst/>
            <a:gdLst/>
            <a:ahLst/>
            <a:rect l="l" t="t" r="r" b="b"/>
            <a:pathLst>
              <a:path w="1261" h="2498">
                <a:moveTo>
                  <a:pt x="1165" y="681"/>
                </a:moveTo>
                <a:lnTo>
                  <a:pt x="1158" y="725"/>
                </a:lnTo>
                <a:lnTo>
                  <a:pt x="1150" y="767"/>
                </a:lnTo>
                <a:lnTo>
                  <a:pt x="1142" y="811"/>
                </a:lnTo>
                <a:lnTo>
                  <a:pt x="1135" y="854"/>
                </a:lnTo>
                <a:lnTo>
                  <a:pt x="1125" y="898"/>
                </a:lnTo>
                <a:lnTo>
                  <a:pt x="1116" y="938"/>
                </a:lnTo>
                <a:lnTo>
                  <a:pt x="1106" y="980"/>
                </a:lnTo>
                <a:lnTo>
                  <a:pt x="1096" y="1023"/>
                </a:lnTo>
                <a:lnTo>
                  <a:pt x="1087" y="1063"/>
                </a:lnTo>
                <a:lnTo>
                  <a:pt x="1075" y="1101"/>
                </a:lnTo>
                <a:lnTo>
                  <a:pt x="1064" y="1142"/>
                </a:lnTo>
                <a:lnTo>
                  <a:pt x="1054" y="1180"/>
                </a:lnTo>
                <a:lnTo>
                  <a:pt x="1043" y="1218"/>
                </a:lnTo>
                <a:lnTo>
                  <a:pt x="1031" y="1255"/>
                </a:lnTo>
                <a:lnTo>
                  <a:pt x="1020" y="1291"/>
                </a:lnTo>
                <a:lnTo>
                  <a:pt x="1010" y="1328"/>
                </a:lnTo>
                <a:lnTo>
                  <a:pt x="998" y="1362"/>
                </a:lnTo>
                <a:lnTo>
                  <a:pt x="985" y="1397"/>
                </a:lnTo>
                <a:lnTo>
                  <a:pt x="973" y="1429"/>
                </a:lnTo>
                <a:lnTo>
                  <a:pt x="960" y="1464"/>
                </a:lnTo>
                <a:lnTo>
                  <a:pt x="947" y="1497"/>
                </a:lnTo>
                <a:lnTo>
                  <a:pt x="933" y="1529"/>
                </a:lnTo>
                <a:lnTo>
                  <a:pt x="918" y="1562"/>
                </a:lnTo>
                <a:lnTo>
                  <a:pt x="902" y="1595"/>
                </a:lnTo>
                <a:lnTo>
                  <a:pt x="872" y="1658"/>
                </a:lnTo>
                <a:lnTo>
                  <a:pt x="854" y="1689"/>
                </a:lnTo>
                <a:lnTo>
                  <a:pt x="839" y="1719"/>
                </a:lnTo>
                <a:lnTo>
                  <a:pt x="822" y="1748"/>
                </a:lnTo>
                <a:lnTo>
                  <a:pt x="805" y="1779"/>
                </a:lnTo>
                <a:lnTo>
                  <a:pt x="787" y="1808"/>
                </a:lnTo>
                <a:lnTo>
                  <a:pt x="770" y="1836"/>
                </a:lnTo>
                <a:lnTo>
                  <a:pt x="751" y="1865"/>
                </a:lnTo>
                <a:lnTo>
                  <a:pt x="734" y="1894"/>
                </a:lnTo>
                <a:lnTo>
                  <a:pt x="716" y="1921"/>
                </a:lnTo>
                <a:lnTo>
                  <a:pt x="697" y="1948"/>
                </a:lnTo>
                <a:lnTo>
                  <a:pt x="680" y="1974"/>
                </a:lnTo>
                <a:lnTo>
                  <a:pt x="662" y="1998"/>
                </a:lnTo>
                <a:lnTo>
                  <a:pt x="643" y="2021"/>
                </a:lnTo>
                <a:lnTo>
                  <a:pt x="626" y="2044"/>
                </a:lnTo>
                <a:lnTo>
                  <a:pt x="607" y="2065"/>
                </a:lnTo>
                <a:lnTo>
                  <a:pt x="590" y="2086"/>
                </a:lnTo>
                <a:lnTo>
                  <a:pt x="570" y="2107"/>
                </a:lnTo>
                <a:lnTo>
                  <a:pt x="553" y="2126"/>
                </a:lnTo>
                <a:lnTo>
                  <a:pt x="536" y="2143"/>
                </a:lnTo>
                <a:lnTo>
                  <a:pt x="517" y="2163"/>
                </a:lnTo>
                <a:lnTo>
                  <a:pt x="499" y="2180"/>
                </a:lnTo>
                <a:lnTo>
                  <a:pt x="482" y="2197"/>
                </a:lnTo>
                <a:lnTo>
                  <a:pt x="446" y="2228"/>
                </a:lnTo>
                <a:lnTo>
                  <a:pt x="409" y="2259"/>
                </a:lnTo>
                <a:lnTo>
                  <a:pt x="373" y="2289"/>
                </a:lnTo>
                <a:lnTo>
                  <a:pt x="336" y="2316"/>
                </a:lnTo>
                <a:lnTo>
                  <a:pt x="298" y="2345"/>
                </a:lnTo>
                <a:lnTo>
                  <a:pt x="261" y="2370"/>
                </a:lnTo>
                <a:lnTo>
                  <a:pt x="221" y="2395"/>
                </a:lnTo>
                <a:lnTo>
                  <a:pt x="183" y="2420"/>
                </a:lnTo>
                <a:lnTo>
                  <a:pt x="161" y="2431"/>
                </a:lnTo>
                <a:lnTo>
                  <a:pt x="144" y="2441"/>
                </a:lnTo>
                <a:lnTo>
                  <a:pt x="127" y="2450"/>
                </a:lnTo>
                <a:lnTo>
                  <a:pt x="110" y="2460"/>
                </a:lnTo>
                <a:lnTo>
                  <a:pt x="94" y="2468"/>
                </a:lnTo>
                <a:lnTo>
                  <a:pt x="81" y="2475"/>
                </a:lnTo>
                <a:lnTo>
                  <a:pt x="67" y="2481"/>
                </a:lnTo>
                <a:lnTo>
                  <a:pt x="56" y="2485"/>
                </a:lnTo>
                <a:lnTo>
                  <a:pt x="44" y="2491"/>
                </a:lnTo>
                <a:lnTo>
                  <a:pt x="35" y="2493"/>
                </a:lnTo>
                <a:lnTo>
                  <a:pt x="27" y="2497"/>
                </a:lnTo>
                <a:lnTo>
                  <a:pt x="19" y="2497"/>
                </a:lnTo>
                <a:lnTo>
                  <a:pt x="14" y="2498"/>
                </a:lnTo>
                <a:lnTo>
                  <a:pt x="8" y="2498"/>
                </a:lnTo>
                <a:lnTo>
                  <a:pt x="4" y="2497"/>
                </a:lnTo>
                <a:lnTo>
                  <a:pt x="2" y="2495"/>
                </a:lnTo>
                <a:lnTo>
                  <a:pt x="0" y="2493"/>
                </a:lnTo>
                <a:lnTo>
                  <a:pt x="0" y="2487"/>
                </a:lnTo>
                <a:lnTo>
                  <a:pt x="2" y="2483"/>
                </a:lnTo>
                <a:lnTo>
                  <a:pt x="6" y="2475"/>
                </a:lnTo>
                <a:lnTo>
                  <a:pt x="12" y="2470"/>
                </a:lnTo>
                <a:lnTo>
                  <a:pt x="19" y="2460"/>
                </a:lnTo>
                <a:lnTo>
                  <a:pt x="27" y="2450"/>
                </a:lnTo>
                <a:lnTo>
                  <a:pt x="39" y="2441"/>
                </a:lnTo>
                <a:lnTo>
                  <a:pt x="50" y="2429"/>
                </a:lnTo>
                <a:lnTo>
                  <a:pt x="64" y="2416"/>
                </a:lnTo>
                <a:lnTo>
                  <a:pt x="79" y="2402"/>
                </a:lnTo>
                <a:lnTo>
                  <a:pt x="96" y="2387"/>
                </a:lnTo>
                <a:lnTo>
                  <a:pt x="115" y="2372"/>
                </a:lnTo>
                <a:lnTo>
                  <a:pt x="136" y="2356"/>
                </a:lnTo>
                <a:lnTo>
                  <a:pt x="158" y="2339"/>
                </a:lnTo>
                <a:lnTo>
                  <a:pt x="183" y="2320"/>
                </a:lnTo>
                <a:lnTo>
                  <a:pt x="204" y="2303"/>
                </a:lnTo>
                <a:lnTo>
                  <a:pt x="227" y="2285"/>
                </a:lnTo>
                <a:lnTo>
                  <a:pt x="248" y="2268"/>
                </a:lnTo>
                <a:lnTo>
                  <a:pt x="269" y="2247"/>
                </a:lnTo>
                <a:lnTo>
                  <a:pt x="290" y="2228"/>
                </a:lnTo>
                <a:lnTo>
                  <a:pt x="313" y="2207"/>
                </a:lnTo>
                <a:lnTo>
                  <a:pt x="334" y="2186"/>
                </a:lnTo>
                <a:lnTo>
                  <a:pt x="353" y="2163"/>
                </a:lnTo>
                <a:lnTo>
                  <a:pt x="375" y="2140"/>
                </a:lnTo>
                <a:lnTo>
                  <a:pt x="396" y="2117"/>
                </a:lnTo>
                <a:lnTo>
                  <a:pt x="417" y="2092"/>
                </a:lnTo>
                <a:lnTo>
                  <a:pt x="436" y="2067"/>
                </a:lnTo>
                <a:lnTo>
                  <a:pt x="457" y="2042"/>
                </a:lnTo>
                <a:lnTo>
                  <a:pt x="478" y="2015"/>
                </a:lnTo>
                <a:lnTo>
                  <a:pt x="497" y="1988"/>
                </a:lnTo>
                <a:lnTo>
                  <a:pt x="519" y="1961"/>
                </a:lnTo>
                <a:lnTo>
                  <a:pt x="557" y="1907"/>
                </a:lnTo>
                <a:lnTo>
                  <a:pt x="593" y="1856"/>
                </a:lnTo>
                <a:lnTo>
                  <a:pt x="630" y="1800"/>
                </a:lnTo>
                <a:lnTo>
                  <a:pt x="662" y="1746"/>
                </a:lnTo>
                <a:lnTo>
                  <a:pt x="695" y="1689"/>
                </a:lnTo>
                <a:lnTo>
                  <a:pt x="726" y="1631"/>
                </a:lnTo>
                <a:lnTo>
                  <a:pt x="755" y="1573"/>
                </a:lnTo>
                <a:lnTo>
                  <a:pt x="782" y="1514"/>
                </a:lnTo>
                <a:lnTo>
                  <a:pt x="793" y="1483"/>
                </a:lnTo>
                <a:lnTo>
                  <a:pt x="803" y="1452"/>
                </a:lnTo>
                <a:lnTo>
                  <a:pt x="814" y="1424"/>
                </a:lnTo>
                <a:lnTo>
                  <a:pt x="824" y="1395"/>
                </a:lnTo>
                <a:lnTo>
                  <a:pt x="843" y="1339"/>
                </a:lnTo>
                <a:lnTo>
                  <a:pt x="862" y="1286"/>
                </a:lnTo>
                <a:lnTo>
                  <a:pt x="879" y="1234"/>
                </a:lnTo>
                <a:lnTo>
                  <a:pt x="897" y="1180"/>
                </a:lnTo>
                <a:lnTo>
                  <a:pt x="912" y="1130"/>
                </a:lnTo>
                <a:lnTo>
                  <a:pt x="925" y="1078"/>
                </a:lnTo>
                <a:lnTo>
                  <a:pt x="939" y="1026"/>
                </a:lnTo>
                <a:lnTo>
                  <a:pt x="950" y="973"/>
                </a:lnTo>
                <a:lnTo>
                  <a:pt x="962" y="919"/>
                </a:lnTo>
                <a:lnTo>
                  <a:pt x="972" y="863"/>
                </a:lnTo>
                <a:lnTo>
                  <a:pt x="981" y="808"/>
                </a:lnTo>
                <a:lnTo>
                  <a:pt x="991" y="750"/>
                </a:lnTo>
                <a:lnTo>
                  <a:pt x="1000" y="691"/>
                </a:lnTo>
                <a:lnTo>
                  <a:pt x="1010" y="631"/>
                </a:lnTo>
                <a:lnTo>
                  <a:pt x="1012" y="600"/>
                </a:lnTo>
                <a:lnTo>
                  <a:pt x="1014" y="572"/>
                </a:lnTo>
                <a:lnTo>
                  <a:pt x="1016" y="545"/>
                </a:lnTo>
                <a:lnTo>
                  <a:pt x="1018" y="516"/>
                </a:lnTo>
                <a:lnTo>
                  <a:pt x="1020" y="491"/>
                </a:lnTo>
                <a:lnTo>
                  <a:pt x="1021" y="464"/>
                </a:lnTo>
                <a:lnTo>
                  <a:pt x="1023" y="441"/>
                </a:lnTo>
                <a:lnTo>
                  <a:pt x="1025" y="416"/>
                </a:lnTo>
                <a:lnTo>
                  <a:pt x="1027" y="393"/>
                </a:lnTo>
                <a:lnTo>
                  <a:pt x="1029" y="372"/>
                </a:lnTo>
                <a:lnTo>
                  <a:pt x="1029" y="351"/>
                </a:lnTo>
                <a:lnTo>
                  <a:pt x="1031" y="330"/>
                </a:lnTo>
                <a:lnTo>
                  <a:pt x="1031" y="311"/>
                </a:lnTo>
                <a:lnTo>
                  <a:pt x="1033" y="291"/>
                </a:lnTo>
                <a:lnTo>
                  <a:pt x="1033" y="274"/>
                </a:lnTo>
                <a:lnTo>
                  <a:pt x="1033" y="259"/>
                </a:lnTo>
                <a:lnTo>
                  <a:pt x="1033" y="242"/>
                </a:lnTo>
                <a:lnTo>
                  <a:pt x="1033" y="226"/>
                </a:lnTo>
                <a:lnTo>
                  <a:pt x="1031" y="213"/>
                </a:lnTo>
                <a:lnTo>
                  <a:pt x="1031" y="197"/>
                </a:lnTo>
                <a:lnTo>
                  <a:pt x="1029" y="184"/>
                </a:lnTo>
                <a:lnTo>
                  <a:pt x="1027" y="172"/>
                </a:lnTo>
                <a:lnTo>
                  <a:pt x="1027" y="159"/>
                </a:lnTo>
                <a:lnTo>
                  <a:pt x="1023" y="147"/>
                </a:lnTo>
                <a:lnTo>
                  <a:pt x="1021" y="138"/>
                </a:lnTo>
                <a:lnTo>
                  <a:pt x="1020" y="128"/>
                </a:lnTo>
                <a:lnTo>
                  <a:pt x="1016" y="119"/>
                </a:lnTo>
                <a:lnTo>
                  <a:pt x="1014" y="109"/>
                </a:lnTo>
                <a:lnTo>
                  <a:pt x="1010" y="101"/>
                </a:lnTo>
                <a:lnTo>
                  <a:pt x="1006" y="96"/>
                </a:lnTo>
                <a:lnTo>
                  <a:pt x="1002" y="90"/>
                </a:lnTo>
                <a:lnTo>
                  <a:pt x="998" y="84"/>
                </a:lnTo>
                <a:lnTo>
                  <a:pt x="989" y="75"/>
                </a:lnTo>
                <a:lnTo>
                  <a:pt x="981" y="65"/>
                </a:lnTo>
                <a:lnTo>
                  <a:pt x="975" y="55"/>
                </a:lnTo>
                <a:lnTo>
                  <a:pt x="972" y="48"/>
                </a:lnTo>
                <a:lnTo>
                  <a:pt x="970" y="38"/>
                </a:lnTo>
                <a:lnTo>
                  <a:pt x="970" y="28"/>
                </a:lnTo>
                <a:lnTo>
                  <a:pt x="970" y="23"/>
                </a:lnTo>
                <a:lnTo>
                  <a:pt x="970" y="19"/>
                </a:lnTo>
                <a:lnTo>
                  <a:pt x="972" y="13"/>
                </a:lnTo>
                <a:lnTo>
                  <a:pt x="973" y="9"/>
                </a:lnTo>
                <a:lnTo>
                  <a:pt x="979" y="5"/>
                </a:lnTo>
                <a:lnTo>
                  <a:pt x="985" y="2"/>
                </a:lnTo>
                <a:lnTo>
                  <a:pt x="989" y="2"/>
                </a:lnTo>
                <a:lnTo>
                  <a:pt x="993" y="0"/>
                </a:lnTo>
                <a:lnTo>
                  <a:pt x="998" y="0"/>
                </a:lnTo>
                <a:lnTo>
                  <a:pt x="1002" y="0"/>
                </a:lnTo>
                <a:lnTo>
                  <a:pt x="1010" y="0"/>
                </a:lnTo>
                <a:lnTo>
                  <a:pt x="1016" y="0"/>
                </a:lnTo>
                <a:lnTo>
                  <a:pt x="1023" y="2"/>
                </a:lnTo>
                <a:lnTo>
                  <a:pt x="1031" y="2"/>
                </a:lnTo>
                <a:lnTo>
                  <a:pt x="1039" y="4"/>
                </a:lnTo>
                <a:lnTo>
                  <a:pt x="1048" y="5"/>
                </a:lnTo>
                <a:lnTo>
                  <a:pt x="1058" y="7"/>
                </a:lnTo>
                <a:lnTo>
                  <a:pt x="1069" y="9"/>
                </a:lnTo>
                <a:lnTo>
                  <a:pt x="1091" y="15"/>
                </a:lnTo>
                <a:lnTo>
                  <a:pt x="1112" y="21"/>
                </a:lnTo>
                <a:lnTo>
                  <a:pt x="1131" y="28"/>
                </a:lnTo>
                <a:lnTo>
                  <a:pt x="1150" y="36"/>
                </a:lnTo>
                <a:lnTo>
                  <a:pt x="1167" y="44"/>
                </a:lnTo>
                <a:lnTo>
                  <a:pt x="1185" y="53"/>
                </a:lnTo>
                <a:lnTo>
                  <a:pt x="1200" y="63"/>
                </a:lnTo>
                <a:lnTo>
                  <a:pt x="1213" y="73"/>
                </a:lnTo>
                <a:lnTo>
                  <a:pt x="1219" y="78"/>
                </a:lnTo>
                <a:lnTo>
                  <a:pt x="1225" y="86"/>
                </a:lnTo>
                <a:lnTo>
                  <a:pt x="1231" y="92"/>
                </a:lnTo>
                <a:lnTo>
                  <a:pt x="1237" y="98"/>
                </a:lnTo>
                <a:lnTo>
                  <a:pt x="1244" y="109"/>
                </a:lnTo>
                <a:lnTo>
                  <a:pt x="1250" y="119"/>
                </a:lnTo>
                <a:lnTo>
                  <a:pt x="1256" y="126"/>
                </a:lnTo>
                <a:lnTo>
                  <a:pt x="1260" y="134"/>
                </a:lnTo>
                <a:lnTo>
                  <a:pt x="1261" y="142"/>
                </a:lnTo>
                <a:lnTo>
                  <a:pt x="1261" y="147"/>
                </a:lnTo>
                <a:lnTo>
                  <a:pt x="1261" y="157"/>
                </a:lnTo>
                <a:lnTo>
                  <a:pt x="1261" y="167"/>
                </a:lnTo>
                <a:lnTo>
                  <a:pt x="1261" y="178"/>
                </a:lnTo>
                <a:lnTo>
                  <a:pt x="1260" y="192"/>
                </a:lnTo>
                <a:lnTo>
                  <a:pt x="1258" y="205"/>
                </a:lnTo>
                <a:lnTo>
                  <a:pt x="1256" y="218"/>
                </a:lnTo>
                <a:lnTo>
                  <a:pt x="1254" y="232"/>
                </a:lnTo>
                <a:lnTo>
                  <a:pt x="1250" y="245"/>
                </a:lnTo>
                <a:lnTo>
                  <a:pt x="1248" y="251"/>
                </a:lnTo>
                <a:lnTo>
                  <a:pt x="1246" y="255"/>
                </a:lnTo>
                <a:lnTo>
                  <a:pt x="1246" y="263"/>
                </a:lnTo>
                <a:lnTo>
                  <a:pt x="1244" y="268"/>
                </a:lnTo>
                <a:lnTo>
                  <a:pt x="1242" y="276"/>
                </a:lnTo>
                <a:lnTo>
                  <a:pt x="1240" y="284"/>
                </a:lnTo>
                <a:lnTo>
                  <a:pt x="1238" y="291"/>
                </a:lnTo>
                <a:lnTo>
                  <a:pt x="1237" y="301"/>
                </a:lnTo>
                <a:lnTo>
                  <a:pt x="1235" y="311"/>
                </a:lnTo>
                <a:lnTo>
                  <a:pt x="1231" y="320"/>
                </a:lnTo>
                <a:lnTo>
                  <a:pt x="1229" y="332"/>
                </a:lnTo>
                <a:lnTo>
                  <a:pt x="1227" y="343"/>
                </a:lnTo>
                <a:lnTo>
                  <a:pt x="1225" y="355"/>
                </a:lnTo>
                <a:lnTo>
                  <a:pt x="1221" y="366"/>
                </a:lnTo>
                <a:lnTo>
                  <a:pt x="1219" y="380"/>
                </a:lnTo>
                <a:lnTo>
                  <a:pt x="1215" y="393"/>
                </a:lnTo>
                <a:lnTo>
                  <a:pt x="1213" y="407"/>
                </a:lnTo>
                <a:lnTo>
                  <a:pt x="1210" y="422"/>
                </a:lnTo>
                <a:lnTo>
                  <a:pt x="1208" y="437"/>
                </a:lnTo>
                <a:lnTo>
                  <a:pt x="1204" y="453"/>
                </a:lnTo>
                <a:lnTo>
                  <a:pt x="1202" y="468"/>
                </a:lnTo>
                <a:lnTo>
                  <a:pt x="1198" y="485"/>
                </a:lnTo>
                <a:lnTo>
                  <a:pt x="1194" y="503"/>
                </a:lnTo>
                <a:lnTo>
                  <a:pt x="1192" y="520"/>
                </a:lnTo>
                <a:lnTo>
                  <a:pt x="1189" y="537"/>
                </a:lnTo>
                <a:lnTo>
                  <a:pt x="1185" y="556"/>
                </a:lnTo>
                <a:lnTo>
                  <a:pt x="1183" y="575"/>
                </a:lnTo>
                <a:lnTo>
                  <a:pt x="1179" y="597"/>
                </a:lnTo>
                <a:lnTo>
                  <a:pt x="1175" y="616"/>
                </a:lnTo>
                <a:lnTo>
                  <a:pt x="1171" y="637"/>
                </a:lnTo>
                <a:lnTo>
                  <a:pt x="1169" y="658"/>
                </a:lnTo>
                <a:lnTo>
                  <a:pt x="1165" y="68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30"/>
          <p:cNvSpPr/>
          <p:nvPr/>
        </p:nvSpPr>
        <p:spPr>
          <a:xfrm>
            <a:off x="5888160" y="3462480"/>
            <a:ext cx="733320" cy="210960"/>
          </a:xfrm>
          <a:custGeom>
            <a:avLst/>
            <a:gdLst/>
            <a:ahLst/>
            <a:rect l="l" t="t" r="r" b="b"/>
            <a:pathLst>
              <a:path w="923" h="264">
                <a:moveTo>
                  <a:pt x="576" y="197"/>
                </a:moveTo>
                <a:lnTo>
                  <a:pt x="554" y="201"/>
                </a:lnTo>
                <a:lnTo>
                  <a:pt x="533" y="205"/>
                </a:lnTo>
                <a:lnTo>
                  <a:pt x="514" y="207"/>
                </a:lnTo>
                <a:lnTo>
                  <a:pt x="495" y="211"/>
                </a:lnTo>
                <a:lnTo>
                  <a:pt x="476" y="215"/>
                </a:lnTo>
                <a:lnTo>
                  <a:pt x="458" y="216"/>
                </a:lnTo>
                <a:lnTo>
                  <a:pt x="441" y="220"/>
                </a:lnTo>
                <a:lnTo>
                  <a:pt x="424" y="222"/>
                </a:lnTo>
                <a:lnTo>
                  <a:pt x="409" y="226"/>
                </a:lnTo>
                <a:lnTo>
                  <a:pt x="393" y="228"/>
                </a:lnTo>
                <a:lnTo>
                  <a:pt x="378" y="232"/>
                </a:lnTo>
                <a:lnTo>
                  <a:pt x="362" y="234"/>
                </a:lnTo>
                <a:lnTo>
                  <a:pt x="349" y="236"/>
                </a:lnTo>
                <a:lnTo>
                  <a:pt x="336" y="238"/>
                </a:lnTo>
                <a:lnTo>
                  <a:pt x="324" y="239"/>
                </a:lnTo>
                <a:lnTo>
                  <a:pt x="311" y="243"/>
                </a:lnTo>
                <a:lnTo>
                  <a:pt x="299" y="245"/>
                </a:lnTo>
                <a:lnTo>
                  <a:pt x="290" y="247"/>
                </a:lnTo>
                <a:lnTo>
                  <a:pt x="278" y="249"/>
                </a:lnTo>
                <a:lnTo>
                  <a:pt x="268" y="249"/>
                </a:lnTo>
                <a:lnTo>
                  <a:pt x="259" y="251"/>
                </a:lnTo>
                <a:lnTo>
                  <a:pt x="251" y="253"/>
                </a:lnTo>
                <a:lnTo>
                  <a:pt x="242" y="255"/>
                </a:lnTo>
                <a:lnTo>
                  <a:pt x="234" y="255"/>
                </a:lnTo>
                <a:lnTo>
                  <a:pt x="228" y="257"/>
                </a:lnTo>
                <a:lnTo>
                  <a:pt x="220" y="257"/>
                </a:lnTo>
                <a:lnTo>
                  <a:pt x="215" y="259"/>
                </a:lnTo>
                <a:lnTo>
                  <a:pt x="209" y="259"/>
                </a:lnTo>
                <a:lnTo>
                  <a:pt x="203" y="259"/>
                </a:lnTo>
                <a:lnTo>
                  <a:pt x="199" y="259"/>
                </a:lnTo>
                <a:lnTo>
                  <a:pt x="195" y="259"/>
                </a:lnTo>
                <a:lnTo>
                  <a:pt x="192" y="261"/>
                </a:lnTo>
                <a:lnTo>
                  <a:pt x="184" y="263"/>
                </a:lnTo>
                <a:lnTo>
                  <a:pt x="178" y="263"/>
                </a:lnTo>
                <a:lnTo>
                  <a:pt x="171" y="264"/>
                </a:lnTo>
                <a:lnTo>
                  <a:pt x="163" y="264"/>
                </a:lnTo>
                <a:lnTo>
                  <a:pt x="155" y="264"/>
                </a:lnTo>
                <a:lnTo>
                  <a:pt x="147" y="264"/>
                </a:lnTo>
                <a:lnTo>
                  <a:pt x="132" y="261"/>
                </a:lnTo>
                <a:lnTo>
                  <a:pt x="115" y="257"/>
                </a:lnTo>
                <a:lnTo>
                  <a:pt x="99" y="251"/>
                </a:lnTo>
                <a:lnTo>
                  <a:pt x="86" y="243"/>
                </a:lnTo>
                <a:lnTo>
                  <a:pt x="73" y="236"/>
                </a:lnTo>
                <a:lnTo>
                  <a:pt x="63" y="230"/>
                </a:lnTo>
                <a:lnTo>
                  <a:pt x="55" y="226"/>
                </a:lnTo>
                <a:lnTo>
                  <a:pt x="48" y="220"/>
                </a:lnTo>
                <a:lnTo>
                  <a:pt x="40" y="216"/>
                </a:lnTo>
                <a:lnTo>
                  <a:pt x="34" y="211"/>
                </a:lnTo>
                <a:lnTo>
                  <a:pt x="28" y="207"/>
                </a:lnTo>
                <a:lnTo>
                  <a:pt x="23" y="203"/>
                </a:lnTo>
                <a:lnTo>
                  <a:pt x="17" y="199"/>
                </a:lnTo>
                <a:lnTo>
                  <a:pt x="13" y="195"/>
                </a:lnTo>
                <a:lnTo>
                  <a:pt x="9" y="191"/>
                </a:lnTo>
                <a:lnTo>
                  <a:pt x="5" y="188"/>
                </a:lnTo>
                <a:lnTo>
                  <a:pt x="3" y="184"/>
                </a:lnTo>
                <a:lnTo>
                  <a:pt x="2" y="180"/>
                </a:lnTo>
                <a:lnTo>
                  <a:pt x="0" y="178"/>
                </a:lnTo>
                <a:lnTo>
                  <a:pt x="0" y="174"/>
                </a:lnTo>
                <a:lnTo>
                  <a:pt x="0" y="172"/>
                </a:lnTo>
                <a:lnTo>
                  <a:pt x="0" y="168"/>
                </a:lnTo>
                <a:lnTo>
                  <a:pt x="2" y="165"/>
                </a:lnTo>
                <a:lnTo>
                  <a:pt x="5" y="163"/>
                </a:lnTo>
                <a:lnTo>
                  <a:pt x="9" y="161"/>
                </a:lnTo>
                <a:lnTo>
                  <a:pt x="17" y="161"/>
                </a:lnTo>
                <a:lnTo>
                  <a:pt x="21" y="161"/>
                </a:lnTo>
                <a:lnTo>
                  <a:pt x="25" y="161"/>
                </a:lnTo>
                <a:lnTo>
                  <a:pt x="30" y="161"/>
                </a:lnTo>
                <a:lnTo>
                  <a:pt x="34" y="161"/>
                </a:lnTo>
                <a:lnTo>
                  <a:pt x="42" y="161"/>
                </a:lnTo>
                <a:lnTo>
                  <a:pt x="48" y="161"/>
                </a:lnTo>
                <a:lnTo>
                  <a:pt x="51" y="159"/>
                </a:lnTo>
                <a:lnTo>
                  <a:pt x="55" y="159"/>
                </a:lnTo>
                <a:lnTo>
                  <a:pt x="59" y="159"/>
                </a:lnTo>
                <a:lnTo>
                  <a:pt x="65" y="159"/>
                </a:lnTo>
                <a:lnTo>
                  <a:pt x="71" y="159"/>
                </a:lnTo>
                <a:lnTo>
                  <a:pt x="76" y="157"/>
                </a:lnTo>
                <a:lnTo>
                  <a:pt x="84" y="157"/>
                </a:lnTo>
                <a:lnTo>
                  <a:pt x="90" y="155"/>
                </a:lnTo>
                <a:lnTo>
                  <a:pt x="98" y="153"/>
                </a:lnTo>
                <a:lnTo>
                  <a:pt x="107" y="153"/>
                </a:lnTo>
                <a:lnTo>
                  <a:pt x="115" y="151"/>
                </a:lnTo>
                <a:lnTo>
                  <a:pt x="124" y="149"/>
                </a:lnTo>
                <a:lnTo>
                  <a:pt x="134" y="147"/>
                </a:lnTo>
                <a:lnTo>
                  <a:pt x="146" y="145"/>
                </a:lnTo>
                <a:lnTo>
                  <a:pt x="155" y="142"/>
                </a:lnTo>
                <a:lnTo>
                  <a:pt x="167" y="140"/>
                </a:lnTo>
                <a:lnTo>
                  <a:pt x="180" y="138"/>
                </a:lnTo>
                <a:lnTo>
                  <a:pt x="192" y="134"/>
                </a:lnTo>
                <a:lnTo>
                  <a:pt x="205" y="132"/>
                </a:lnTo>
                <a:lnTo>
                  <a:pt x="218" y="128"/>
                </a:lnTo>
                <a:lnTo>
                  <a:pt x="234" y="124"/>
                </a:lnTo>
                <a:lnTo>
                  <a:pt x="249" y="120"/>
                </a:lnTo>
                <a:lnTo>
                  <a:pt x="265" y="117"/>
                </a:lnTo>
                <a:lnTo>
                  <a:pt x="280" y="113"/>
                </a:lnTo>
                <a:lnTo>
                  <a:pt x="297" y="109"/>
                </a:lnTo>
                <a:lnTo>
                  <a:pt x="314" y="103"/>
                </a:lnTo>
                <a:lnTo>
                  <a:pt x="332" y="99"/>
                </a:lnTo>
                <a:lnTo>
                  <a:pt x="351" y="94"/>
                </a:lnTo>
                <a:lnTo>
                  <a:pt x="370" y="90"/>
                </a:lnTo>
                <a:lnTo>
                  <a:pt x="389" y="84"/>
                </a:lnTo>
                <a:lnTo>
                  <a:pt x="410" y="78"/>
                </a:lnTo>
                <a:lnTo>
                  <a:pt x="432" y="73"/>
                </a:lnTo>
                <a:lnTo>
                  <a:pt x="453" y="69"/>
                </a:lnTo>
                <a:lnTo>
                  <a:pt x="474" y="63"/>
                </a:lnTo>
                <a:lnTo>
                  <a:pt x="493" y="59"/>
                </a:lnTo>
                <a:lnTo>
                  <a:pt x="512" y="55"/>
                </a:lnTo>
                <a:lnTo>
                  <a:pt x="531" y="51"/>
                </a:lnTo>
                <a:lnTo>
                  <a:pt x="549" y="48"/>
                </a:lnTo>
                <a:lnTo>
                  <a:pt x="566" y="44"/>
                </a:lnTo>
                <a:lnTo>
                  <a:pt x="583" y="40"/>
                </a:lnTo>
                <a:lnTo>
                  <a:pt x="599" y="36"/>
                </a:lnTo>
                <a:lnTo>
                  <a:pt x="614" y="34"/>
                </a:lnTo>
                <a:lnTo>
                  <a:pt x="629" y="30"/>
                </a:lnTo>
                <a:lnTo>
                  <a:pt x="643" y="26"/>
                </a:lnTo>
                <a:lnTo>
                  <a:pt x="658" y="25"/>
                </a:lnTo>
                <a:lnTo>
                  <a:pt x="670" y="23"/>
                </a:lnTo>
                <a:lnTo>
                  <a:pt x="683" y="19"/>
                </a:lnTo>
                <a:lnTo>
                  <a:pt x="695" y="17"/>
                </a:lnTo>
                <a:lnTo>
                  <a:pt x="706" y="15"/>
                </a:lnTo>
                <a:lnTo>
                  <a:pt x="718" y="13"/>
                </a:lnTo>
                <a:lnTo>
                  <a:pt x="727" y="11"/>
                </a:lnTo>
                <a:lnTo>
                  <a:pt x="739" y="9"/>
                </a:lnTo>
                <a:lnTo>
                  <a:pt x="746" y="7"/>
                </a:lnTo>
                <a:lnTo>
                  <a:pt x="756" y="5"/>
                </a:lnTo>
                <a:lnTo>
                  <a:pt x="764" y="5"/>
                </a:lnTo>
                <a:lnTo>
                  <a:pt x="771" y="3"/>
                </a:lnTo>
                <a:lnTo>
                  <a:pt x="779" y="2"/>
                </a:lnTo>
                <a:lnTo>
                  <a:pt x="787" y="2"/>
                </a:lnTo>
                <a:lnTo>
                  <a:pt x="793" y="0"/>
                </a:lnTo>
                <a:lnTo>
                  <a:pt x="798" y="0"/>
                </a:lnTo>
                <a:lnTo>
                  <a:pt x="804" y="0"/>
                </a:lnTo>
                <a:lnTo>
                  <a:pt x="808" y="0"/>
                </a:lnTo>
                <a:lnTo>
                  <a:pt x="812" y="0"/>
                </a:lnTo>
                <a:lnTo>
                  <a:pt x="816" y="0"/>
                </a:lnTo>
                <a:lnTo>
                  <a:pt x="829" y="0"/>
                </a:lnTo>
                <a:lnTo>
                  <a:pt x="841" y="2"/>
                </a:lnTo>
                <a:lnTo>
                  <a:pt x="852" y="3"/>
                </a:lnTo>
                <a:lnTo>
                  <a:pt x="862" y="9"/>
                </a:lnTo>
                <a:lnTo>
                  <a:pt x="867" y="13"/>
                </a:lnTo>
                <a:lnTo>
                  <a:pt x="871" y="15"/>
                </a:lnTo>
                <a:lnTo>
                  <a:pt x="877" y="19"/>
                </a:lnTo>
                <a:lnTo>
                  <a:pt x="881" y="25"/>
                </a:lnTo>
                <a:lnTo>
                  <a:pt x="887" y="28"/>
                </a:lnTo>
                <a:lnTo>
                  <a:pt x="890" y="34"/>
                </a:lnTo>
                <a:lnTo>
                  <a:pt x="894" y="42"/>
                </a:lnTo>
                <a:lnTo>
                  <a:pt x="900" y="48"/>
                </a:lnTo>
                <a:lnTo>
                  <a:pt x="902" y="55"/>
                </a:lnTo>
                <a:lnTo>
                  <a:pt x="904" y="61"/>
                </a:lnTo>
                <a:lnTo>
                  <a:pt x="906" y="67"/>
                </a:lnTo>
                <a:lnTo>
                  <a:pt x="908" y="71"/>
                </a:lnTo>
                <a:lnTo>
                  <a:pt x="912" y="80"/>
                </a:lnTo>
                <a:lnTo>
                  <a:pt x="915" y="88"/>
                </a:lnTo>
                <a:lnTo>
                  <a:pt x="919" y="96"/>
                </a:lnTo>
                <a:lnTo>
                  <a:pt x="921" y="99"/>
                </a:lnTo>
                <a:lnTo>
                  <a:pt x="923" y="105"/>
                </a:lnTo>
                <a:lnTo>
                  <a:pt x="923" y="111"/>
                </a:lnTo>
                <a:lnTo>
                  <a:pt x="921" y="111"/>
                </a:lnTo>
                <a:lnTo>
                  <a:pt x="919" y="113"/>
                </a:lnTo>
                <a:lnTo>
                  <a:pt x="917" y="115"/>
                </a:lnTo>
                <a:lnTo>
                  <a:pt x="913" y="117"/>
                </a:lnTo>
                <a:lnTo>
                  <a:pt x="910" y="117"/>
                </a:lnTo>
                <a:lnTo>
                  <a:pt x="906" y="119"/>
                </a:lnTo>
                <a:lnTo>
                  <a:pt x="902" y="120"/>
                </a:lnTo>
                <a:lnTo>
                  <a:pt x="896" y="124"/>
                </a:lnTo>
                <a:lnTo>
                  <a:pt x="890" y="126"/>
                </a:lnTo>
                <a:lnTo>
                  <a:pt x="883" y="128"/>
                </a:lnTo>
                <a:lnTo>
                  <a:pt x="875" y="130"/>
                </a:lnTo>
                <a:lnTo>
                  <a:pt x="867" y="134"/>
                </a:lnTo>
                <a:lnTo>
                  <a:pt x="860" y="136"/>
                </a:lnTo>
                <a:lnTo>
                  <a:pt x="850" y="138"/>
                </a:lnTo>
                <a:lnTo>
                  <a:pt x="841" y="142"/>
                </a:lnTo>
                <a:lnTo>
                  <a:pt x="831" y="144"/>
                </a:lnTo>
                <a:lnTo>
                  <a:pt x="819" y="147"/>
                </a:lnTo>
                <a:lnTo>
                  <a:pt x="808" y="149"/>
                </a:lnTo>
                <a:lnTo>
                  <a:pt x="796" y="153"/>
                </a:lnTo>
                <a:lnTo>
                  <a:pt x="783" y="157"/>
                </a:lnTo>
                <a:lnTo>
                  <a:pt x="769" y="159"/>
                </a:lnTo>
                <a:lnTo>
                  <a:pt x="754" y="163"/>
                </a:lnTo>
                <a:lnTo>
                  <a:pt x="741" y="167"/>
                </a:lnTo>
                <a:lnTo>
                  <a:pt x="723" y="168"/>
                </a:lnTo>
                <a:lnTo>
                  <a:pt x="708" y="172"/>
                </a:lnTo>
                <a:lnTo>
                  <a:pt x="691" y="176"/>
                </a:lnTo>
                <a:lnTo>
                  <a:pt x="673" y="180"/>
                </a:lnTo>
                <a:lnTo>
                  <a:pt x="656" y="184"/>
                </a:lnTo>
                <a:lnTo>
                  <a:pt x="637" y="186"/>
                </a:lnTo>
                <a:lnTo>
                  <a:pt x="618" y="190"/>
                </a:lnTo>
                <a:lnTo>
                  <a:pt x="597" y="193"/>
                </a:lnTo>
                <a:lnTo>
                  <a:pt x="576" y="197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31"/>
          <p:cNvSpPr/>
          <p:nvPr/>
        </p:nvSpPr>
        <p:spPr>
          <a:xfrm>
            <a:off x="6130800" y="2951280"/>
            <a:ext cx="211320" cy="1003320"/>
          </a:xfrm>
          <a:custGeom>
            <a:avLst/>
            <a:gdLst/>
            <a:ahLst/>
            <a:rect l="l" t="t" r="r" b="b"/>
            <a:pathLst>
              <a:path w="267" h="1264">
                <a:moveTo>
                  <a:pt x="223" y="556"/>
                </a:moveTo>
                <a:lnTo>
                  <a:pt x="223" y="597"/>
                </a:lnTo>
                <a:lnTo>
                  <a:pt x="223" y="637"/>
                </a:lnTo>
                <a:lnTo>
                  <a:pt x="223" y="677"/>
                </a:lnTo>
                <a:lnTo>
                  <a:pt x="223" y="719"/>
                </a:lnTo>
                <a:lnTo>
                  <a:pt x="223" y="762"/>
                </a:lnTo>
                <a:lnTo>
                  <a:pt x="223" y="804"/>
                </a:lnTo>
                <a:lnTo>
                  <a:pt x="221" y="848"/>
                </a:lnTo>
                <a:lnTo>
                  <a:pt x="221" y="892"/>
                </a:lnTo>
                <a:lnTo>
                  <a:pt x="221" y="936"/>
                </a:lnTo>
                <a:lnTo>
                  <a:pt x="219" y="982"/>
                </a:lnTo>
                <a:lnTo>
                  <a:pt x="219" y="1026"/>
                </a:lnTo>
                <a:lnTo>
                  <a:pt x="217" y="1073"/>
                </a:lnTo>
                <a:lnTo>
                  <a:pt x="215" y="1121"/>
                </a:lnTo>
                <a:lnTo>
                  <a:pt x="215" y="1169"/>
                </a:lnTo>
                <a:lnTo>
                  <a:pt x="213" y="1216"/>
                </a:lnTo>
                <a:lnTo>
                  <a:pt x="211" y="1264"/>
                </a:lnTo>
                <a:lnTo>
                  <a:pt x="79" y="1264"/>
                </a:lnTo>
                <a:lnTo>
                  <a:pt x="79" y="1230"/>
                </a:lnTo>
                <a:lnTo>
                  <a:pt x="79" y="1195"/>
                </a:lnTo>
                <a:lnTo>
                  <a:pt x="77" y="1163"/>
                </a:lnTo>
                <a:lnTo>
                  <a:pt x="77" y="1128"/>
                </a:lnTo>
                <a:lnTo>
                  <a:pt x="77" y="1096"/>
                </a:lnTo>
                <a:lnTo>
                  <a:pt x="77" y="1065"/>
                </a:lnTo>
                <a:lnTo>
                  <a:pt x="77" y="1032"/>
                </a:lnTo>
                <a:lnTo>
                  <a:pt x="77" y="1002"/>
                </a:lnTo>
                <a:lnTo>
                  <a:pt x="77" y="971"/>
                </a:lnTo>
                <a:lnTo>
                  <a:pt x="77" y="940"/>
                </a:lnTo>
                <a:lnTo>
                  <a:pt x="77" y="911"/>
                </a:lnTo>
                <a:lnTo>
                  <a:pt x="77" y="883"/>
                </a:lnTo>
                <a:lnTo>
                  <a:pt x="77" y="854"/>
                </a:lnTo>
                <a:lnTo>
                  <a:pt x="77" y="825"/>
                </a:lnTo>
                <a:lnTo>
                  <a:pt x="75" y="798"/>
                </a:lnTo>
                <a:lnTo>
                  <a:pt x="75" y="771"/>
                </a:lnTo>
                <a:lnTo>
                  <a:pt x="75" y="744"/>
                </a:lnTo>
                <a:lnTo>
                  <a:pt x="75" y="718"/>
                </a:lnTo>
                <a:lnTo>
                  <a:pt x="75" y="693"/>
                </a:lnTo>
                <a:lnTo>
                  <a:pt x="75" y="668"/>
                </a:lnTo>
                <a:lnTo>
                  <a:pt x="73" y="643"/>
                </a:lnTo>
                <a:lnTo>
                  <a:pt x="73" y="620"/>
                </a:lnTo>
                <a:lnTo>
                  <a:pt x="73" y="597"/>
                </a:lnTo>
                <a:lnTo>
                  <a:pt x="73" y="574"/>
                </a:lnTo>
                <a:lnTo>
                  <a:pt x="71" y="551"/>
                </a:lnTo>
                <a:lnTo>
                  <a:pt x="71" y="529"/>
                </a:lnTo>
                <a:lnTo>
                  <a:pt x="71" y="508"/>
                </a:lnTo>
                <a:lnTo>
                  <a:pt x="71" y="487"/>
                </a:lnTo>
                <a:lnTo>
                  <a:pt x="69" y="466"/>
                </a:lnTo>
                <a:lnTo>
                  <a:pt x="69" y="447"/>
                </a:lnTo>
                <a:lnTo>
                  <a:pt x="69" y="428"/>
                </a:lnTo>
                <a:lnTo>
                  <a:pt x="67" y="409"/>
                </a:lnTo>
                <a:lnTo>
                  <a:pt x="67" y="391"/>
                </a:lnTo>
                <a:lnTo>
                  <a:pt x="65" y="372"/>
                </a:lnTo>
                <a:lnTo>
                  <a:pt x="65" y="355"/>
                </a:lnTo>
                <a:lnTo>
                  <a:pt x="65" y="339"/>
                </a:lnTo>
                <a:lnTo>
                  <a:pt x="63" y="322"/>
                </a:lnTo>
                <a:lnTo>
                  <a:pt x="63" y="307"/>
                </a:lnTo>
                <a:lnTo>
                  <a:pt x="61" y="291"/>
                </a:lnTo>
                <a:lnTo>
                  <a:pt x="61" y="278"/>
                </a:lnTo>
                <a:lnTo>
                  <a:pt x="59" y="263"/>
                </a:lnTo>
                <a:lnTo>
                  <a:pt x="59" y="249"/>
                </a:lnTo>
                <a:lnTo>
                  <a:pt x="57" y="238"/>
                </a:lnTo>
                <a:lnTo>
                  <a:pt x="57" y="224"/>
                </a:lnTo>
                <a:lnTo>
                  <a:pt x="56" y="213"/>
                </a:lnTo>
                <a:lnTo>
                  <a:pt x="56" y="201"/>
                </a:lnTo>
                <a:lnTo>
                  <a:pt x="54" y="190"/>
                </a:lnTo>
                <a:lnTo>
                  <a:pt x="54" y="180"/>
                </a:lnTo>
                <a:lnTo>
                  <a:pt x="52" y="171"/>
                </a:lnTo>
                <a:lnTo>
                  <a:pt x="50" y="161"/>
                </a:lnTo>
                <a:lnTo>
                  <a:pt x="50" y="151"/>
                </a:lnTo>
                <a:lnTo>
                  <a:pt x="48" y="144"/>
                </a:lnTo>
                <a:lnTo>
                  <a:pt x="46" y="136"/>
                </a:lnTo>
                <a:lnTo>
                  <a:pt x="46" y="128"/>
                </a:lnTo>
                <a:lnTo>
                  <a:pt x="44" y="121"/>
                </a:lnTo>
                <a:lnTo>
                  <a:pt x="42" y="115"/>
                </a:lnTo>
                <a:lnTo>
                  <a:pt x="42" y="109"/>
                </a:lnTo>
                <a:lnTo>
                  <a:pt x="40" y="103"/>
                </a:lnTo>
                <a:lnTo>
                  <a:pt x="38" y="100"/>
                </a:lnTo>
                <a:lnTo>
                  <a:pt x="36" y="96"/>
                </a:lnTo>
                <a:lnTo>
                  <a:pt x="34" y="92"/>
                </a:lnTo>
                <a:lnTo>
                  <a:pt x="34" y="88"/>
                </a:lnTo>
                <a:lnTo>
                  <a:pt x="33" y="86"/>
                </a:lnTo>
                <a:lnTo>
                  <a:pt x="31" y="84"/>
                </a:lnTo>
                <a:lnTo>
                  <a:pt x="25" y="77"/>
                </a:lnTo>
                <a:lnTo>
                  <a:pt x="19" y="71"/>
                </a:lnTo>
                <a:lnTo>
                  <a:pt x="13" y="65"/>
                </a:lnTo>
                <a:lnTo>
                  <a:pt x="9" y="59"/>
                </a:lnTo>
                <a:lnTo>
                  <a:pt x="6" y="53"/>
                </a:lnTo>
                <a:lnTo>
                  <a:pt x="4" y="48"/>
                </a:lnTo>
                <a:lnTo>
                  <a:pt x="2" y="42"/>
                </a:lnTo>
                <a:lnTo>
                  <a:pt x="0" y="38"/>
                </a:lnTo>
                <a:lnTo>
                  <a:pt x="0" y="34"/>
                </a:lnTo>
                <a:lnTo>
                  <a:pt x="0" y="29"/>
                </a:lnTo>
                <a:lnTo>
                  <a:pt x="0" y="25"/>
                </a:lnTo>
                <a:lnTo>
                  <a:pt x="0" y="23"/>
                </a:lnTo>
                <a:lnTo>
                  <a:pt x="2" y="15"/>
                </a:lnTo>
                <a:lnTo>
                  <a:pt x="8" y="11"/>
                </a:lnTo>
                <a:lnTo>
                  <a:pt x="9" y="7"/>
                </a:lnTo>
                <a:lnTo>
                  <a:pt x="13" y="6"/>
                </a:lnTo>
                <a:lnTo>
                  <a:pt x="17" y="4"/>
                </a:lnTo>
                <a:lnTo>
                  <a:pt x="21" y="4"/>
                </a:lnTo>
                <a:lnTo>
                  <a:pt x="27" y="2"/>
                </a:lnTo>
                <a:lnTo>
                  <a:pt x="34" y="2"/>
                </a:lnTo>
                <a:lnTo>
                  <a:pt x="40" y="0"/>
                </a:lnTo>
                <a:lnTo>
                  <a:pt x="48" y="0"/>
                </a:lnTo>
                <a:lnTo>
                  <a:pt x="56" y="0"/>
                </a:lnTo>
                <a:lnTo>
                  <a:pt x="65" y="2"/>
                </a:lnTo>
                <a:lnTo>
                  <a:pt x="75" y="2"/>
                </a:lnTo>
                <a:lnTo>
                  <a:pt x="84" y="4"/>
                </a:lnTo>
                <a:lnTo>
                  <a:pt x="105" y="6"/>
                </a:lnTo>
                <a:lnTo>
                  <a:pt x="127" y="11"/>
                </a:lnTo>
                <a:lnTo>
                  <a:pt x="148" y="19"/>
                </a:lnTo>
                <a:lnTo>
                  <a:pt x="169" y="29"/>
                </a:lnTo>
                <a:lnTo>
                  <a:pt x="188" y="38"/>
                </a:lnTo>
                <a:lnTo>
                  <a:pt x="205" y="46"/>
                </a:lnTo>
                <a:lnTo>
                  <a:pt x="223" y="53"/>
                </a:lnTo>
                <a:lnTo>
                  <a:pt x="228" y="57"/>
                </a:lnTo>
                <a:lnTo>
                  <a:pt x="236" y="61"/>
                </a:lnTo>
                <a:lnTo>
                  <a:pt x="242" y="63"/>
                </a:lnTo>
                <a:lnTo>
                  <a:pt x="248" y="67"/>
                </a:lnTo>
                <a:lnTo>
                  <a:pt x="253" y="69"/>
                </a:lnTo>
                <a:lnTo>
                  <a:pt x="259" y="73"/>
                </a:lnTo>
                <a:lnTo>
                  <a:pt x="261" y="82"/>
                </a:lnTo>
                <a:lnTo>
                  <a:pt x="265" y="92"/>
                </a:lnTo>
                <a:lnTo>
                  <a:pt x="267" y="105"/>
                </a:lnTo>
                <a:lnTo>
                  <a:pt x="267" y="117"/>
                </a:lnTo>
                <a:lnTo>
                  <a:pt x="267" y="130"/>
                </a:lnTo>
                <a:lnTo>
                  <a:pt x="265" y="144"/>
                </a:lnTo>
                <a:lnTo>
                  <a:pt x="261" y="157"/>
                </a:lnTo>
                <a:lnTo>
                  <a:pt x="259" y="172"/>
                </a:lnTo>
                <a:lnTo>
                  <a:pt x="257" y="174"/>
                </a:lnTo>
                <a:lnTo>
                  <a:pt x="255" y="180"/>
                </a:lnTo>
                <a:lnTo>
                  <a:pt x="255" y="184"/>
                </a:lnTo>
                <a:lnTo>
                  <a:pt x="253" y="190"/>
                </a:lnTo>
                <a:lnTo>
                  <a:pt x="253" y="196"/>
                </a:lnTo>
                <a:lnTo>
                  <a:pt x="251" y="203"/>
                </a:lnTo>
                <a:lnTo>
                  <a:pt x="251" y="211"/>
                </a:lnTo>
                <a:lnTo>
                  <a:pt x="249" y="219"/>
                </a:lnTo>
                <a:lnTo>
                  <a:pt x="248" y="226"/>
                </a:lnTo>
                <a:lnTo>
                  <a:pt x="248" y="236"/>
                </a:lnTo>
                <a:lnTo>
                  <a:pt x="246" y="243"/>
                </a:lnTo>
                <a:lnTo>
                  <a:pt x="246" y="255"/>
                </a:lnTo>
                <a:lnTo>
                  <a:pt x="244" y="265"/>
                </a:lnTo>
                <a:lnTo>
                  <a:pt x="242" y="276"/>
                </a:lnTo>
                <a:lnTo>
                  <a:pt x="242" y="288"/>
                </a:lnTo>
                <a:lnTo>
                  <a:pt x="240" y="299"/>
                </a:lnTo>
                <a:lnTo>
                  <a:pt x="240" y="311"/>
                </a:lnTo>
                <a:lnTo>
                  <a:pt x="238" y="324"/>
                </a:lnTo>
                <a:lnTo>
                  <a:pt x="238" y="338"/>
                </a:lnTo>
                <a:lnTo>
                  <a:pt x="236" y="351"/>
                </a:lnTo>
                <a:lnTo>
                  <a:pt x="234" y="366"/>
                </a:lnTo>
                <a:lnTo>
                  <a:pt x="234" y="382"/>
                </a:lnTo>
                <a:lnTo>
                  <a:pt x="232" y="397"/>
                </a:lnTo>
                <a:lnTo>
                  <a:pt x="232" y="412"/>
                </a:lnTo>
                <a:lnTo>
                  <a:pt x="228" y="445"/>
                </a:lnTo>
                <a:lnTo>
                  <a:pt x="226" y="481"/>
                </a:lnTo>
                <a:lnTo>
                  <a:pt x="225" y="518"/>
                </a:lnTo>
                <a:lnTo>
                  <a:pt x="223" y="55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32"/>
          <p:cNvSpPr/>
          <p:nvPr/>
        </p:nvSpPr>
        <p:spPr>
          <a:xfrm>
            <a:off x="5751360" y="3990960"/>
            <a:ext cx="776520" cy="716040"/>
          </a:xfrm>
          <a:custGeom>
            <a:avLst/>
            <a:gdLst/>
            <a:ahLst/>
            <a:rect l="l" t="t" r="r" b="b"/>
            <a:pathLst>
              <a:path w="977" h="902">
                <a:moveTo>
                  <a:pt x="568" y="53"/>
                </a:moveTo>
                <a:lnTo>
                  <a:pt x="580" y="61"/>
                </a:lnTo>
                <a:lnTo>
                  <a:pt x="589" y="67"/>
                </a:lnTo>
                <a:lnTo>
                  <a:pt x="599" y="72"/>
                </a:lnTo>
                <a:lnTo>
                  <a:pt x="607" y="80"/>
                </a:lnTo>
                <a:lnTo>
                  <a:pt x="614" y="86"/>
                </a:lnTo>
                <a:lnTo>
                  <a:pt x="622" y="92"/>
                </a:lnTo>
                <a:lnTo>
                  <a:pt x="628" y="97"/>
                </a:lnTo>
                <a:lnTo>
                  <a:pt x="633" y="103"/>
                </a:lnTo>
                <a:lnTo>
                  <a:pt x="637" y="109"/>
                </a:lnTo>
                <a:lnTo>
                  <a:pt x="641" y="115"/>
                </a:lnTo>
                <a:lnTo>
                  <a:pt x="645" y="120"/>
                </a:lnTo>
                <a:lnTo>
                  <a:pt x="649" y="126"/>
                </a:lnTo>
                <a:lnTo>
                  <a:pt x="651" y="132"/>
                </a:lnTo>
                <a:lnTo>
                  <a:pt x="651" y="140"/>
                </a:lnTo>
                <a:lnTo>
                  <a:pt x="653" y="145"/>
                </a:lnTo>
                <a:lnTo>
                  <a:pt x="653" y="153"/>
                </a:lnTo>
                <a:lnTo>
                  <a:pt x="653" y="159"/>
                </a:lnTo>
                <a:lnTo>
                  <a:pt x="651" y="168"/>
                </a:lnTo>
                <a:lnTo>
                  <a:pt x="647" y="178"/>
                </a:lnTo>
                <a:lnTo>
                  <a:pt x="641" y="190"/>
                </a:lnTo>
                <a:lnTo>
                  <a:pt x="635" y="201"/>
                </a:lnTo>
                <a:lnTo>
                  <a:pt x="626" y="214"/>
                </a:lnTo>
                <a:lnTo>
                  <a:pt x="616" y="230"/>
                </a:lnTo>
                <a:lnTo>
                  <a:pt x="607" y="245"/>
                </a:lnTo>
                <a:lnTo>
                  <a:pt x="593" y="262"/>
                </a:lnTo>
                <a:lnTo>
                  <a:pt x="580" y="280"/>
                </a:lnTo>
                <a:lnTo>
                  <a:pt x="562" y="299"/>
                </a:lnTo>
                <a:lnTo>
                  <a:pt x="545" y="320"/>
                </a:lnTo>
                <a:lnTo>
                  <a:pt x="528" y="341"/>
                </a:lnTo>
                <a:lnTo>
                  <a:pt x="507" y="364"/>
                </a:lnTo>
                <a:lnTo>
                  <a:pt x="484" y="387"/>
                </a:lnTo>
                <a:lnTo>
                  <a:pt x="461" y="414"/>
                </a:lnTo>
                <a:lnTo>
                  <a:pt x="438" y="439"/>
                </a:lnTo>
                <a:lnTo>
                  <a:pt x="415" y="462"/>
                </a:lnTo>
                <a:lnTo>
                  <a:pt x="395" y="483"/>
                </a:lnTo>
                <a:lnTo>
                  <a:pt x="378" y="504"/>
                </a:lnTo>
                <a:lnTo>
                  <a:pt x="361" y="523"/>
                </a:lnTo>
                <a:lnTo>
                  <a:pt x="347" y="541"/>
                </a:lnTo>
                <a:lnTo>
                  <a:pt x="336" y="558"/>
                </a:lnTo>
                <a:lnTo>
                  <a:pt x="324" y="571"/>
                </a:lnTo>
                <a:lnTo>
                  <a:pt x="317" y="585"/>
                </a:lnTo>
                <a:lnTo>
                  <a:pt x="309" y="596"/>
                </a:lnTo>
                <a:lnTo>
                  <a:pt x="303" y="608"/>
                </a:lnTo>
                <a:lnTo>
                  <a:pt x="299" y="616"/>
                </a:lnTo>
                <a:lnTo>
                  <a:pt x="299" y="623"/>
                </a:lnTo>
                <a:lnTo>
                  <a:pt x="299" y="629"/>
                </a:lnTo>
                <a:lnTo>
                  <a:pt x="301" y="633"/>
                </a:lnTo>
                <a:lnTo>
                  <a:pt x="305" y="637"/>
                </a:lnTo>
                <a:lnTo>
                  <a:pt x="307" y="639"/>
                </a:lnTo>
                <a:lnTo>
                  <a:pt x="311" y="641"/>
                </a:lnTo>
                <a:lnTo>
                  <a:pt x="315" y="641"/>
                </a:lnTo>
                <a:lnTo>
                  <a:pt x="320" y="642"/>
                </a:lnTo>
                <a:lnTo>
                  <a:pt x="326" y="642"/>
                </a:lnTo>
                <a:lnTo>
                  <a:pt x="332" y="641"/>
                </a:lnTo>
                <a:lnTo>
                  <a:pt x="340" y="641"/>
                </a:lnTo>
                <a:lnTo>
                  <a:pt x="347" y="639"/>
                </a:lnTo>
                <a:lnTo>
                  <a:pt x="357" y="637"/>
                </a:lnTo>
                <a:lnTo>
                  <a:pt x="367" y="635"/>
                </a:lnTo>
                <a:lnTo>
                  <a:pt x="376" y="631"/>
                </a:lnTo>
                <a:lnTo>
                  <a:pt x="388" y="629"/>
                </a:lnTo>
                <a:lnTo>
                  <a:pt x="397" y="625"/>
                </a:lnTo>
                <a:lnTo>
                  <a:pt x="411" y="621"/>
                </a:lnTo>
                <a:lnTo>
                  <a:pt x="422" y="616"/>
                </a:lnTo>
                <a:lnTo>
                  <a:pt x="436" y="612"/>
                </a:lnTo>
                <a:lnTo>
                  <a:pt x="447" y="610"/>
                </a:lnTo>
                <a:lnTo>
                  <a:pt x="459" y="606"/>
                </a:lnTo>
                <a:lnTo>
                  <a:pt x="472" y="604"/>
                </a:lnTo>
                <a:lnTo>
                  <a:pt x="486" y="600"/>
                </a:lnTo>
                <a:lnTo>
                  <a:pt x="499" y="596"/>
                </a:lnTo>
                <a:lnTo>
                  <a:pt x="514" y="593"/>
                </a:lnTo>
                <a:lnTo>
                  <a:pt x="530" y="589"/>
                </a:lnTo>
                <a:lnTo>
                  <a:pt x="545" y="585"/>
                </a:lnTo>
                <a:lnTo>
                  <a:pt x="560" y="579"/>
                </a:lnTo>
                <a:lnTo>
                  <a:pt x="578" y="575"/>
                </a:lnTo>
                <a:lnTo>
                  <a:pt x="595" y="570"/>
                </a:lnTo>
                <a:lnTo>
                  <a:pt x="612" y="564"/>
                </a:lnTo>
                <a:lnTo>
                  <a:pt x="630" y="558"/>
                </a:lnTo>
                <a:lnTo>
                  <a:pt x="649" y="552"/>
                </a:lnTo>
                <a:lnTo>
                  <a:pt x="668" y="545"/>
                </a:lnTo>
                <a:lnTo>
                  <a:pt x="689" y="539"/>
                </a:lnTo>
                <a:lnTo>
                  <a:pt x="727" y="529"/>
                </a:lnTo>
                <a:lnTo>
                  <a:pt x="768" y="520"/>
                </a:lnTo>
                <a:lnTo>
                  <a:pt x="804" y="510"/>
                </a:lnTo>
                <a:lnTo>
                  <a:pt x="841" y="502"/>
                </a:lnTo>
                <a:lnTo>
                  <a:pt x="877" y="495"/>
                </a:lnTo>
                <a:lnTo>
                  <a:pt x="912" y="487"/>
                </a:lnTo>
                <a:lnTo>
                  <a:pt x="944" y="481"/>
                </a:lnTo>
                <a:lnTo>
                  <a:pt x="977" y="475"/>
                </a:lnTo>
                <a:lnTo>
                  <a:pt x="977" y="562"/>
                </a:lnTo>
                <a:lnTo>
                  <a:pt x="969" y="564"/>
                </a:lnTo>
                <a:lnTo>
                  <a:pt x="964" y="564"/>
                </a:lnTo>
                <a:lnTo>
                  <a:pt x="958" y="566"/>
                </a:lnTo>
                <a:lnTo>
                  <a:pt x="950" y="568"/>
                </a:lnTo>
                <a:lnTo>
                  <a:pt x="942" y="570"/>
                </a:lnTo>
                <a:lnTo>
                  <a:pt x="933" y="573"/>
                </a:lnTo>
                <a:lnTo>
                  <a:pt x="916" y="577"/>
                </a:lnTo>
                <a:lnTo>
                  <a:pt x="896" y="583"/>
                </a:lnTo>
                <a:lnTo>
                  <a:pt x="875" y="591"/>
                </a:lnTo>
                <a:lnTo>
                  <a:pt x="850" y="596"/>
                </a:lnTo>
                <a:lnTo>
                  <a:pt x="825" y="606"/>
                </a:lnTo>
                <a:lnTo>
                  <a:pt x="798" y="614"/>
                </a:lnTo>
                <a:lnTo>
                  <a:pt x="772" y="623"/>
                </a:lnTo>
                <a:lnTo>
                  <a:pt x="741" y="633"/>
                </a:lnTo>
                <a:lnTo>
                  <a:pt x="710" y="642"/>
                </a:lnTo>
                <a:lnTo>
                  <a:pt x="676" y="652"/>
                </a:lnTo>
                <a:lnTo>
                  <a:pt x="641" y="664"/>
                </a:lnTo>
                <a:lnTo>
                  <a:pt x="607" y="675"/>
                </a:lnTo>
                <a:lnTo>
                  <a:pt x="568" y="687"/>
                </a:lnTo>
                <a:lnTo>
                  <a:pt x="532" y="700"/>
                </a:lnTo>
                <a:lnTo>
                  <a:pt x="495" y="713"/>
                </a:lnTo>
                <a:lnTo>
                  <a:pt x="461" y="727"/>
                </a:lnTo>
                <a:lnTo>
                  <a:pt x="428" y="738"/>
                </a:lnTo>
                <a:lnTo>
                  <a:pt x="399" y="750"/>
                </a:lnTo>
                <a:lnTo>
                  <a:pt x="368" y="761"/>
                </a:lnTo>
                <a:lnTo>
                  <a:pt x="342" y="771"/>
                </a:lnTo>
                <a:lnTo>
                  <a:pt x="317" y="783"/>
                </a:lnTo>
                <a:lnTo>
                  <a:pt x="292" y="792"/>
                </a:lnTo>
                <a:lnTo>
                  <a:pt x="271" y="800"/>
                </a:lnTo>
                <a:lnTo>
                  <a:pt x="249" y="809"/>
                </a:lnTo>
                <a:lnTo>
                  <a:pt x="230" y="817"/>
                </a:lnTo>
                <a:lnTo>
                  <a:pt x="213" y="825"/>
                </a:lnTo>
                <a:lnTo>
                  <a:pt x="198" y="832"/>
                </a:lnTo>
                <a:lnTo>
                  <a:pt x="184" y="840"/>
                </a:lnTo>
                <a:lnTo>
                  <a:pt x="173" y="848"/>
                </a:lnTo>
                <a:lnTo>
                  <a:pt x="150" y="861"/>
                </a:lnTo>
                <a:lnTo>
                  <a:pt x="130" y="873"/>
                </a:lnTo>
                <a:lnTo>
                  <a:pt x="121" y="878"/>
                </a:lnTo>
                <a:lnTo>
                  <a:pt x="111" y="884"/>
                </a:lnTo>
                <a:lnTo>
                  <a:pt x="102" y="888"/>
                </a:lnTo>
                <a:lnTo>
                  <a:pt x="94" y="892"/>
                </a:lnTo>
                <a:lnTo>
                  <a:pt x="86" y="896"/>
                </a:lnTo>
                <a:lnTo>
                  <a:pt x="79" y="898"/>
                </a:lnTo>
                <a:lnTo>
                  <a:pt x="73" y="900"/>
                </a:lnTo>
                <a:lnTo>
                  <a:pt x="67" y="902"/>
                </a:lnTo>
                <a:lnTo>
                  <a:pt x="63" y="902"/>
                </a:lnTo>
                <a:lnTo>
                  <a:pt x="57" y="902"/>
                </a:lnTo>
                <a:lnTo>
                  <a:pt x="54" y="900"/>
                </a:lnTo>
                <a:lnTo>
                  <a:pt x="52" y="898"/>
                </a:lnTo>
                <a:lnTo>
                  <a:pt x="50" y="898"/>
                </a:lnTo>
                <a:lnTo>
                  <a:pt x="48" y="896"/>
                </a:lnTo>
                <a:lnTo>
                  <a:pt x="46" y="896"/>
                </a:lnTo>
                <a:lnTo>
                  <a:pt x="42" y="894"/>
                </a:lnTo>
                <a:lnTo>
                  <a:pt x="40" y="890"/>
                </a:lnTo>
                <a:lnTo>
                  <a:pt x="38" y="888"/>
                </a:lnTo>
                <a:lnTo>
                  <a:pt x="36" y="884"/>
                </a:lnTo>
                <a:lnTo>
                  <a:pt x="34" y="878"/>
                </a:lnTo>
                <a:lnTo>
                  <a:pt x="32" y="875"/>
                </a:lnTo>
                <a:lnTo>
                  <a:pt x="29" y="869"/>
                </a:lnTo>
                <a:lnTo>
                  <a:pt x="27" y="863"/>
                </a:lnTo>
                <a:lnTo>
                  <a:pt x="25" y="855"/>
                </a:lnTo>
                <a:lnTo>
                  <a:pt x="23" y="848"/>
                </a:lnTo>
                <a:lnTo>
                  <a:pt x="21" y="840"/>
                </a:lnTo>
                <a:lnTo>
                  <a:pt x="19" y="832"/>
                </a:lnTo>
                <a:lnTo>
                  <a:pt x="17" y="823"/>
                </a:lnTo>
                <a:lnTo>
                  <a:pt x="11" y="809"/>
                </a:lnTo>
                <a:lnTo>
                  <a:pt x="8" y="796"/>
                </a:lnTo>
                <a:lnTo>
                  <a:pt x="4" y="783"/>
                </a:lnTo>
                <a:lnTo>
                  <a:pt x="2" y="771"/>
                </a:lnTo>
                <a:lnTo>
                  <a:pt x="0" y="760"/>
                </a:lnTo>
                <a:lnTo>
                  <a:pt x="0" y="750"/>
                </a:lnTo>
                <a:lnTo>
                  <a:pt x="0" y="746"/>
                </a:lnTo>
                <a:lnTo>
                  <a:pt x="0" y="742"/>
                </a:lnTo>
                <a:lnTo>
                  <a:pt x="2" y="738"/>
                </a:lnTo>
                <a:lnTo>
                  <a:pt x="4" y="736"/>
                </a:lnTo>
                <a:lnTo>
                  <a:pt x="4" y="735"/>
                </a:lnTo>
                <a:lnTo>
                  <a:pt x="6" y="731"/>
                </a:lnTo>
                <a:lnTo>
                  <a:pt x="8" y="727"/>
                </a:lnTo>
                <a:lnTo>
                  <a:pt x="11" y="723"/>
                </a:lnTo>
                <a:lnTo>
                  <a:pt x="15" y="717"/>
                </a:lnTo>
                <a:lnTo>
                  <a:pt x="19" y="713"/>
                </a:lnTo>
                <a:lnTo>
                  <a:pt x="25" y="708"/>
                </a:lnTo>
                <a:lnTo>
                  <a:pt x="31" y="702"/>
                </a:lnTo>
                <a:lnTo>
                  <a:pt x="38" y="694"/>
                </a:lnTo>
                <a:lnTo>
                  <a:pt x="46" y="687"/>
                </a:lnTo>
                <a:lnTo>
                  <a:pt x="56" y="681"/>
                </a:lnTo>
                <a:lnTo>
                  <a:pt x="65" y="671"/>
                </a:lnTo>
                <a:lnTo>
                  <a:pt x="75" y="664"/>
                </a:lnTo>
                <a:lnTo>
                  <a:pt x="86" y="656"/>
                </a:lnTo>
                <a:lnTo>
                  <a:pt x="100" y="646"/>
                </a:lnTo>
                <a:lnTo>
                  <a:pt x="113" y="637"/>
                </a:lnTo>
                <a:lnTo>
                  <a:pt x="123" y="627"/>
                </a:lnTo>
                <a:lnTo>
                  <a:pt x="134" y="617"/>
                </a:lnTo>
                <a:lnTo>
                  <a:pt x="148" y="606"/>
                </a:lnTo>
                <a:lnTo>
                  <a:pt x="159" y="594"/>
                </a:lnTo>
                <a:lnTo>
                  <a:pt x="171" y="583"/>
                </a:lnTo>
                <a:lnTo>
                  <a:pt x="184" y="571"/>
                </a:lnTo>
                <a:lnTo>
                  <a:pt x="209" y="545"/>
                </a:lnTo>
                <a:lnTo>
                  <a:pt x="232" y="518"/>
                </a:lnTo>
                <a:lnTo>
                  <a:pt x="257" y="489"/>
                </a:lnTo>
                <a:lnTo>
                  <a:pt x="282" y="458"/>
                </a:lnTo>
                <a:lnTo>
                  <a:pt x="305" y="426"/>
                </a:lnTo>
                <a:lnTo>
                  <a:pt x="326" y="393"/>
                </a:lnTo>
                <a:lnTo>
                  <a:pt x="347" y="362"/>
                </a:lnTo>
                <a:lnTo>
                  <a:pt x="367" y="333"/>
                </a:lnTo>
                <a:lnTo>
                  <a:pt x="384" y="305"/>
                </a:lnTo>
                <a:lnTo>
                  <a:pt x="399" y="278"/>
                </a:lnTo>
                <a:lnTo>
                  <a:pt x="407" y="264"/>
                </a:lnTo>
                <a:lnTo>
                  <a:pt x="415" y="251"/>
                </a:lnTo>
                <a:lnTo>
                  <a:pt x="420" y="237"/>
                </a:lnTo>
                <a:lnTo>
                  <a:pt x="426" y="226"/>
                </a:lnTo>
                <a:lnTo>
                  <a:pt x="432" y="214"/>
                </a:lnTo>
                <a:lnTo>
                  <a:pt x="436" y="203"/>
                </a:lnTo>
                <a:lnTo>
                  <a:pt x="439" y="191"/>
                </a:lnTo>
                <a:lnTo>
                  <a:pt x="443" y="180"/>
                </a:lnTo>
                <a:lnTo>
                  <a:pt x="447" y="168"/>
                </a:lnTo>
                <a:lnTo>
                  <a:pt x="449" y="159"/>
                </a:lnTo>
                <a:lnTo>
                  <a:pt x="451" y="147"/>
                </a:lnTo>
                <a:lnTo>
                  <a:pt x="453" y="138"/>
                </a:lnTo>
                <a:lnTo>
                  <a:pt x="455" y="120"/>
                </a:lnTo>
                <a:lnTo>
                  <a:pt x="455" y="103"/>
                </a:lnTo>
                <a:lnTo>
                  <a:pt x="455" y="95"/>
                </a:lnTo>
                <a:lnTo>
                  <a:pt x="455" y="90"/>
                </a:lnTo>
                <a:lnTo>
                  <a:pt x="453" y="82"/>
                </a:lnTo>
                <a:lnTo>
                  <a:pt x="451" y="76"/>
                </a:lnTo>
                <a:lnTo>
                  <a:pt x="451" y="71"/>
                </a:lnTo>
                <a:lnTo>
                  <a:pt x="449" y="67"/>
                </a:lnTo>
                <a:lnTo>
                  <a:pt x="445" y="57"/>
                </a:lnTo>
                <a:lnTo>
                  <a:pt x="441" y="48"/>
                </a:lnTo>
                <a:lnTo>
                  <a:pt x="441" y="38"/>
                </a:lnTo>
                <a:lnTo>
                  <a:pt x="441" y="30"/>
                </a:lnTo>
                <a:lnTo>
                  <a:pt x="443" y="23"/>
                </a:lnTo>
                <a:lnTo>
                  <a:pt x="445" y="19"/>
                </a:lnTo>
                <a:lnTo>
                  <a:pt x="447" y="15"/>
                </a:lnTo>
                <a:lnTo>
                  <a:pt x="449" y="11"/>
                </a:lnTo>
                <a:lnTo>
                  <a:pt x="453" y="9"/>
                </a:lnTo>
                <a:lnTo>
                  <a:pt x="457" y="5"/>
                </a:lnTo>
                <a:lnTo>
                  <a:pt x="461" y="3"/>
                </a:lnTo>
                <a:lnTo>
                  <a:pt x="464" y="1"/>
                </a:lnTo>
                <a:lnTo>
                  <a:pt x="470" y="0"/>
                </a:lnTo>
                <a:lnTo>
                  <a:pt x="476" y="0"/>
                </a:lnTo>
                <a:lnTo>
                  <a:pt x="480" y="1"/>
                </a:lnTo>
                <a:lnTo>
                  <a:pt x="486" y="1"/>
                </a:lnTo>
                <a:lnTo>
                  <a:pt x="493" y="3"/>
                </a:lnTo>
                <a:lnTo>
                  <a:pt x="499" y="5"/>
                </a:lnTo>
                <a:lnTo>
                  <a:pt x="505" y="9"/>
                </a:lnTo>
                <a:lnTo>
                  <a:pt x="512" y="13"/>
                </a:lnTo>
                <a:lnTo>
                  <a:pt x="520" y="17"/>
                </a:lnTo>
                <a:lnTo>
                  <a:pt x="528" y="23"/>
                </a:lnTo>
                <a:lnTo>
                  <a:pt x="535" y="28"/>
                </a:lnTo>
                <a:lnTo>
                  <a:pt x="551" y="40"/>
                </a:lnTo>
                <a:lnTo>
                  <a:pt x="568" y="5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33"/>
          <p:cNvSpPr/>
          <p:nvPr/>
        </p:nvSpPr>
        <p:spPr>
          <a:xfrm>
            <a:off x="6375240" y="4202280"/>
            <a:ext cx="220680" cy="334800"/>
          </a:xfrm>
          <a:custGeom>
            <a:avLst/>
            <a:gdLst/>
            <a:ahLst/>
            <a:rect l="l" t="t" r="r" b="b"/>
            <a:pathLst>
              <a:path w="278" h="423">
                <a:moveTo>
                  <a:pt x="71" y="236"/>
                </a:moveTo>
                <a:lnTo>
                  <a:pt x="63" y="213"/>
                </a:lnTo>
                <a:lnTo>
                  <a:pt x="54" y="192"/>
                </a:lnTo>
                <a:lnTo>
                  <a:pt x="46" y="171"/>
                </a:lnTo>
                <a:lnTo>
                  <a:pt x="40" y="152"/>
                </a:lnTo>
                <a:lnTo>
                  <a:pt x="33" y="135"/>
                </a:lnTo>
                <a:lnTo>
                  <a:pt x="27" y="117"/>
                </a:lnTo>
                <a:lnTo>
                  <a:pt x="23" y="102"/>
                </a:lnTo>
                <a:lnTo>
                  <a:pt x="17" y="89"/>
                </a:lnTo>
                <a:lnTo>
                  <a:pt x="13" y="75"/>
                </a:lnTo>
                <a:lnTo>
                  <a:pt x="10" y="66"/>
                </a:lnTo>
                <a:lnTo>
                  <a:pt x="6" y="54"/>
                </a:lnTo>
                <a:lnTo>
                  <a:pt x="4" y="46"/>
                </a:lnTo>
                <a:lnTo>
                  <a:pt x="2" y="39"/>
                </a:lnTo>
                <a:lnTo>
                  <a:pt x="0" y="33"/>
                </a:lnTo>
                <a:lnTo>
                  <a:pt x="0" y="29"/>
                </a:lnTo>
                <a:lnTo>
                  <a:pt x="0" y="25"/>
                </a:lnTo>
                <a:lnTo>
                  <a:pt x="0" y="21"/>
                </a:lnTo>
                <a:lnTo>
                  <a:pt x="2" y="16"/>
                </a:lnTo>
                <a:lnTo>
                  <a:pt x="6" y="12"/>
                </a:lnTo>
                <a:lnTo>
                  <a:pt x="10" y="8"/>
                </a:lnTo>
                <a:lnTo>
                  <a:pt x="15" y="4"/>
                </a:lnTo>
                <a:lnTo>
                  <a:pt x="25" y="2"/>
                </a:lnTo>
                <a:lnTo>
                  <a:pt x="29" y="2"/>
                </a:lnTo>
                <a:lnTo>
                  <a:pt x="35" y="0"/>
                </a:lnTo>
                <a:lnTo>
                  <a:pt x="40" y="0"/>
                </a:lnTo>
                <a:lnTo>
                  <a:pt x="48" y="0"/>
                </a:lnTo>
                <a:lnTo>
                  <a:pt x="52" y="0"/>
                </a:lnTo>
                <a:lnTo>
                  <a:pt x="58" y="2"/>
                </a:lnTo>
                <a:lnTo>
                  <a:pt x="63" y="4"/>
                </a:lnTo>
                <a:lnTo>
                  <a:pt x="69" y="6"/>
                </a:lnTo>
                <a:lnTo>
                  <a:pt x="77" y="10"/>
                </a:lnTo>
                <a:lnTo>
                  <a:pt x="85" y="16"/>
                </a:lnTo>
                <a:lnTo>
                  <a:pt x="92" y="20"/>
                </a:lnTo>
                <a:lnTo>
                  <a:pt x="102" y="27"/>
                </a:lnTo>
                <a:lnTo>
                  <a:pt x="111" y="33"/>
                </a:lnTo>
                <a:lnTo>
                  <a:pt x="121" y="41"/>
                </a:lnTo>
                <a:lnTo>
                  <a:pt x="131" y="48"/>
                </a:lnTo>
                <a:lnTo>
                  <a:pt x="142" y="58"/>
                </a:lnTo>
                <a:lnTo>
                  <a:pt x="154" y="68"/>
                </a:lnTo>
                <a:lnTo>
                  <a:pt x="165" y="77"/>
                </a:lnTo>
                <a:lnTo>
                  <a:pt x="179" y="89"/>
                </a:lnTo>
                <a:lnTo>
                  <a:pt x="192" y="100"/>
                </a:lnTo>
                <a:lnTo>
                  <a:pt x="202" y="112"/>
                </a:lnTo>
                <a:lnTo>
                  <a:pt x="213" y="123"/>
                </a:lnTo>
                <a:lnTo>
                  <a:pt x="223" y="135"/>
                </a:lnTo>
                <a:lnTo>
                  <a:pt x="230" y="146"/>
                </a:lnTo>
                <a:lnTo>
                  <a:pt x="240" y="158"/>
                </a:lnTo>
                <a:lnTo>
                  <a:pt x="248" y="169"/>
                </a:lnTo>
                <a:lnTo>
                  <a:pt x="253" y="181"/>
                </a:lnTo>
                <a:lnTo>
                  <a:pt x="259" y="192"/>
                </a:lnTo>
                <a:lnTo>
                  <a:pt x="265" y="204"/>
                </a:lnTo>
                <a:lnTo>
                  <a:pt x="269" y="215"/>
                </a:lnTo>
                <a:lnTo>
                  <a:pt x="273" y="227"/>
                </a:lnTo>
                <a:lnTo>
                  <a:pt x="277" y="240"/>
                </a:lnTo>
                <a:lnTo>
                  <a:pt x="277" y="252"/>
                </a:lnTo>
                <a:lnTo>
                  <a:pt x="278" y="263"/>
                </a:lnTo>
                <a:lnTo>
                  <a:pt x="277" y="275"/>
                </a:lnTo>
                <a:lnTo>
                  <a:pt x="277" y="286"/>
                </a:lnTo>
                <a:lnTo>
                  <a:pt x="273" y="296"/>
                </a:lnTo>
                <a:lnTo>
                  <a:pt x="271" y="307"/>
                </a:lnTo>
                <a:lnTo>
                  <a:pt x="269" y="317"/>
                </a:lnTo>
                <a:lnTo>
                  <a:pt x="269" y="327"/>
                </a:lnTo>
                <a:lnTo>
                  <a:pt x="267" y="336"/>
                </a:lnTo>
                <a:lnTo>
                  <a:pt x="265" y="346"/>
                </a:lnTo>
                <a:lnTo>
                  <a:pt x="265" y="353"/>
                </a:lnTo>
                <a:lnTo>
                  <a:pt x="263" y="361"/>
                </a:lnTo>
                <a:lnTo>
                  <a:pt x="261" y="367"/>
                </a:lnTo>
                <a:lnTo>
                  <a:pt x="261" y="373"/>
                </a:lnTo>
                <a:lnTo>
                  <a:pt x="259" y="378"/>
                </a:lnTo>
                <a:lnTo>
                  <a:pt x="259" y="384"/>
                </a:lnTo>
                <a:lnTo>
                  <a:pt x="257" y="388"/>
                </a:lnTo>
                <a:lnTo>
                  <a:pt x="255" y="392"/>
                </a:lnTo>
                <a:lnTo>
                  <a:pt x="253" y="396"/>
                </a:lnTo>
                <a:lnTo>
                  <a:pt x="252" y="398"/>
                </a:lnTo>
                <a:lnTo>
                  <a:pt x="246" y="401"/>
                </a:lnTo>
                <a:lnTo>
                  <a:pt x="240" y="407"/>
                </a:lnTo>
                <a:lnTo>
                  <a:pt x="232" y="411"/>
                </a:lnTo>
                <a:lnTo>
                  <a:pt x="227" y="415"/>
                </a:lnTo>
                <a:lnTo>
                  <a:pt x="217" y="419"/>
                </a:lnTo>
                <a:lnTo>
                  <a:pt x="209" y="421"/>
                </a:lnTo>
                <a:lnTo>
                  <a:pt x="200" y="423"/>
                </a:lnTo>
                <a:lnTo>
                  <a:pt x="192" y="423"/>
                </a:lnTo>
                <a:lnTo>
                  <a:pt x="186" y="423"/>
                </a:lnTo>
                <a:lnTo>
                  <a:pt x="182" y="421"/>
                </a:lnTo>
                <a:lnTo>
                  <a:pt x="177" y="417"/>
                </a:lnTo>
                <a:lnTo>
                  <a:pt x="171" y="411"/>
                </a:lnTo>
                <a:lnTo>
                  <a:pt x="165" y="405"/>
                </a:lnTo>
                <a:lnTo>
                  <a:pt x="157" y="396"/>
                </a:lnTo>
                <a:lnTo>
                  <a:pt x="152" y="388"/>
                </a:lnTo>
                <a:lnTo>
                  <a:pt x="144" y="377"/>
                </a:lnTo>
                <a:lnTo>
                  <a:pt x="136" y="363"/>
                </a:lnTo>
                <a:lnTo>
                  <a:pt x="129" y="350"/>
                </a:lnTo>
                <a:lnTo>
                  <a:pt x="121" y="334"/>
                </a:lnTo>
                <a:lnTo>
                  <a:pt x="111" y="319"/>
                </a:lnTo>
                <a:lnTo>
                  <a:pt x="102" y="300"/>
                </a:lnTo>
                <a:lnTo>
                  <a:pt x="92" y="281"/>
                </a:lnTo>
                <a:lnTo>
                  <a:pt x="83" y="259"/>
                </a:lnTo>
                <a:lnTo>
                  <a:pt x="71" y="23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34"/>
          <p:cNvSpPr/>
          <p:nvPr/>
        </p:nvSpPr>
        <p:spPr>
          <a:xfrm>
            <a:off x="6697800" y="3560760"/>
            <a:ext cx="963360" cy="1419120"/>
          </a:xfrm>
          <a:custGeom>
            <a:avLst/>
            <a:gdLst/>
            <a:ahLst/>
            <a:rect l="l" t="t" r="r" b="b"/>
            <a:pathLst>
              <a:path w="1213" h="1789">
                <a:moveTo>
                  <a:pt x="589" y="1691"/>
                </a:moveTo>
                <a:lnTo>
                  <a:pt x="588" y="1676"/>
                </a:lnTo>
                <a:lnTo>
                  <a:pt x="588" y="1662"/>
                </a:lnTo>
                <a:lnTo>
                  <a:pt x="586" y="1649"/>
                </a:lnTo>
                <a:lnTo>
                  <a:pt x="582" y="1634"/>
                </a:lnTo>
                <a:lnTo>
                  <a:pt x="578" y="1620"/>
                </a:lnTo>
                <a:lnTo>
                  <a:pt x="574" y="1607"/>
                </a:lnTo>
                <a:lnTo>
                  <a:pt x="568" y="1593"/>
                </a:lnTo>
                <a:lnTo>
                  <a:pt x="563" y="1580"/>
                </a:lnTo>
                <a:lnTo>
                  <a:pt x="557" y="1566"/>
                </a:lnTo>
                <a:lnTo>
                  <a:pt x="549" y="1553"/>
                </a:lnTo>
                <a:lnTo>
                  <a:pt x="541" y="1541"/>
                </a:lnTo>
                <a:lnTo>
                  <a:pt x="532" y="1528"/>
                </a:lnTo>
                <a:lnTo>
                  <a:pt x="524" y="1515"/>
                </a:lnTo>
                <a:lnTo>
                  <a:pt x="515" y="1503"/>
                </a:lnTo>
                <a:lnTo>
                  <a:pt x="503" y="1492"/>
                </a:lnTo>
                <a:lnTo>
                  <a:pt x="493" y="1480"/>
                </a:lnTo>
                <a:lnTo>
                  <a:pt x="482" y="1467"/>
                </a:lnTo>
                <a:lnTo>
                  <a:pt x="470" y="1457"/>
                </a:lnTo>
                <a:lnTo>
                  <a:pt x="461" y="1446"/>
                </a:lnTo>
                <a:lnTo>
                  <a:pt x="453" y="1436"/>
                </a:lnTo>
                <a:lnTo>
                  <a:pt x="444" y="1428"/>
                </a:lnTo>
                <a:lnTo>
                  <a:pt x="436" y="1419"/>
                </a:lnTo>
                <a:lnTo>
                  <a:pt x="430" y="1411"/>
                </a:lnTo>
                <a:lnTo>
                  <a:pt x="424" y="1403"/>
                </a:lnTo>
                <a:lnTo>
                  <a:pt x="419" y="1398"/>
                </a:lnTo>
                <a:lnTo>
                  <a:pt x="415" y="1392"/>
                </a:lnTo>
                <a:lnTo>
                  <a:pt x="411" y="1386"/>
                </a:lnTo>
                <a:lnTo>
                  <a:pt x="409" y="1380"/>
                </a:lnTo>
                <a:lnTo>
                  <a:pt x="407" y="1376"/>
                </a:lnTo>
                <a:lnTo>
                  <a:pt x="405" y="1373"/>
                </a:lnTo>
                <a:lnTo>
                  <a:pt x="407" y="1369"/>
                </a:lnTo>
                <a:lnTo>
                  <a:pt x="409" y="1367"/>
                </a:lnTo>
                <a:lnTo>
                  <a:pt x="409" y="1365"/>
                </a:lnTo>
                <a:lnTo>
                  <a:pt x="411" y="1363"/>
                </a:lnTo>
                <a:lnTo>
                  <a:pt x="413" y="1363"/>
                </a:lnTo>
                <a:lnTo>
                  <a:pt x="417" y="1361"/>
                </a:lnTo>
                <a:lnTo>
                  <a:pt x="422" y="1361"/>
                </a:lnTo>
                <a:lnTo>
                  <a:pt x="428" y="1363"/>
                </a:lnTo>
                <a:lnTo>
                  <a:pt x="434" y="1363"/>
                </a:lnTo>
                <a:lnTo>
                  <a:pt x="444" y="1363"/>
                </a:lnTo>
                <a:lnTo>
                  <a:pt x="451" y="1365"/>
                </a:lnTo>
                <a:lnTo>
                  <a:pt x="461" y="1367"/>
                </a:lnTo>
                <a:lnTo>
                  <a:pt x="472" y="1369"/>
                </a:lnTo>
                <a:lnTo>
                  <a:pt x="484" y="1371"/>
                </a:lnTo>
                <a:lnTo>
                  <a:pt x="497" y="1373"/>
                </a:lnTo>
                <a:lnTo>
                  <a:pt x="511" y="1375"/>
                </a:lnTo>
                <a:lnTo>
                  <a:pt x="524" y="1376"/>
                </a:lnTo>
                <a:lnTo>
                  <a:pt x="541" y="1380"/>
                </a:lnTo>
                <a:lnTo>
                  <a:pt x="555" y="1384"/>
                </a:lnTo>
                <a:lnTo>
                  <a:pt x="570" y="1388"/>
                </a:lnTo>
                <a:lnTo>
                  <a:pt x="584" y="1392"/>
                </a:lnTo>
                <a:lnTo>
                  <a:pt x="597" y="1394"/>
                </a:lnTo>
                <a:lnTo>
                  <a:pt x="609" y="1396"/>
                </a:lnTo>
                <a:lnTo>
                  <a:pt x="620" y="1398"/>
                </a:lnTo>
                <a:lnTo>
                  <a:pt x="632" y="1398"/>
                </a:lnTo>
                <a:lnTo>
                  <a:pt x="641" y="1398"/>
                </a:lnTo>
                <a:lnTo>
                  <a:pt x="651" y="1398"/>
                </a:lnTo>
                <a:lnTo>
                  <a:pt x="659" y="1398"/>
                </a:lnTo>
                <a:lnTo>
                  <a:pt x="666" y="1396"/>
                </a:lnTo>
                <a:lnTo>
                  <a:pt x="674" y="1394"/>
                </a:lnTo>
                <a:lnTo>
                  <a:pt x="680" y="1392"/>
                </a:lnTo>
                <a:lnTo>
                  <a:pt x="685" y="1388"/>
                </a:lnTo>
                <a:lnTo>
                  <a:pt x="691" y="1384"/>
                </a:lnTo>
                <a:lnTo>
                  <a:pt x="697" y="1380"/>
                </a:lnTo>
                <a:lnTo>
                  <a:pt x="701" y="1375"/>
                </a:lnTo>
                <a:lnTo>
                  <a:pt x="707" y="1367"/>
                </a:lnTo>
                <a:lnTo>
                  <a:pt x="710" y="1361"/>
                </a:lnTo>
                <a:lnTo>
                  <a:pt x="716" y="1351"/>
                </a:lnTo>
                <a:lnTo>
                  <a:pt x="722" y="1342"/>
                </a:lnTo>
                <a:lnTo>
                  <a:pt x="728" y="1330"/>
                </a:lnTo>
                <a:lnTo>
                  <a:pt x="733" y="1319"/>
                </a:lnTo>
                <a:lnTo>
                  <a:pt x="741" y="1307"/>
                </a:lnTo>
                <a:lnTo>
                  <a:pt x="747" y="1292"/>
                </a:lnTo>
                <a:lnTo>
                  <a:pt x="753" y="1279"/>
                </a:lnTo>
                <a:lnTo>
                  <a:pt x="760" y="1261"/>
                </a:lnTo>
                <a:lnTo>
                  <a:pt x="766" y="1246"/>
                </a:lnTo>
                <a:lnTo>
                  <a:pt x="774" y="1227"/>
                </a:lnTo>
                <a:lnTo>
                  <a:pt x="779" y="1209"/>
                </a:lnTo>
                <a:lnTo>
                  <a:pt x="787" y="1188"/>
                </a:lnTo>
                <a:lnTo>
                  <a:pt x="793" y="1169"/>
                </a:lnTo>
                <a:lnTo>
                  <a:pt x="799" y="1146"/>
                </a:lnTo>
                <a:lnTo>
                  <a:pt x="806" y="1123"/>
                </a:lnTo>
                <a:lnTo>
                  <a:pt x="812" y="1098"/>
                </a:lnTo>
                <a:lnTo>
                  <a:pt x="820" y="1073"/>
                </a:lnTo>
                <a:lnTo>
                  <a:pt x="826" y="1044"/>
                </a:lnTo>
                <a:lnTo>
                  <a:pt x="833" y="1016"/>
                </a:lnTo>
                <a:lnTo>
                  <a:pt x="839" y="985"/>
                </a:lnTo>
                <a:lnTo>
                  <a:pt x="847" y="954"/>
                </a:lnTo>
                <a:lnTo>
                  <a:pt x="852" y="920"/>
                </a:lnTo>
                <a:lnTo>
                  <a:pt x="860" y="885"/>
                </a:lnTo>
                <a:lnTo>
                  <a:pt x="866" y="849"/>
                </a:lnTo>
                <a:lnTo>
                  <a:pt x="874" y="812"/>
                </a:lnTo>
                <a:lnTo>
                  <a:pt x="881" y="772"/>
                </a:lnTo>
                <a:lnTo>
                  <a:pt x="887" y="732"/>
                </a:lnTo>
                <a:lnTo>
                  <a:pt x="895" y="689"/>
                </a:lnTo>
                <a:lnTo>
                  <a:pt x="900" y="647"/>
                </a:lnTo>
                <a:lnTo>
                  <a:pt x="904" y="626"/>
                </a:lnTo>
                <a:lnTo>
                  <a:pt x="906" y="605"/>
                </a:lnTo>
                <a:lnTo>
                  <a:pt x="910" y="586"/>
                </a:lnTo>
                <a:lnTo>
                  <a:pt x="912" y="567"/>
                </a:lnTo>
                <a:lnTo>
                  <a:pt x="916" y="549"/>
                </a:lnTo>
                <a:lnTo>
                  <a:pt x="918" y="530"/>
                </a:lnTo>
                <a:lnTo>
                  <a:pt x="920" y="513"/>
                </a:lnTo>
                <a:lnTo>
                  <a:pt x="923" y="497"/>
                </a:lnTo>
                <a:lnTo>
                  <a:pt x="925" y="480"/>
                </a:lnTo>
                <a:lnTo>
                  <a:pt x="927" y="465"/>
                </a:lnTo>
                <a:lnTo>
                  <a:pt x="929" y="451"/>
                </a:lnTo>
                <a:lnTo>
                  <a:pt x="931" y="436"/>
                </a:lnTo>
                <a:lnTo>
                  <a:pt x="933" y="423"/>
                </a:lnTo>
                <a:lnTo>
                  <a:pt x="935" y="409"/>
                </a:lnTo>
                <a:lnTo>
                  <a:pt x="937" y="396"/>
                </a:lnTo>
                <a:lnTo>
                  <a:pt x="937" y="384"/>
                </a:lnTo>
                <a:lnTo>
                  <a:pt x="939" y="373"/>
                </a:lnTo>
                <a:lnTo>
                  <a:pt x="941" y="361"/>
                </a:lnTo>
                <a:lnTo>
                  <a:pt x="941" y="352"/>
                </a:lnTo>
                <a:lnTo>
                  <a:pt x="943" y="340"/>
                </a:lnTo>
                <a:lnTo>
                  <a:pt x="943" y="331"/>
                </a:lnTo>
                <a:lnTo>
                  <a:pt x="945" y="323"/>
                </a:lnTo>
                <a:lnTo>
                  <a:pt x="945" y="313"/>
                </a:lnTo>
                <a:lnTo>
                  <a:pt x="947" y="306"/>
                </a:lnTo>
                <a:lnTo>
                  <a:pt x="947" y="298"/>
                </a:lnTo>
                <a:lnTo>
                  <a:pt x="947" y="292"/>
                </a:lnTo>
                <a:lnTo>
                  <a:pt x="948" y="284"/>
                </a:lnTo>
                <a:lnTo>
                  <a:pt x="948" y="279"/>
                </a:lnTo>
                <a:lnTo>
                  <a:pt x="948" y="275"/>
                </a:lnTo>
                <a:lnTo>
                  <a:pt x="948" y="269"/>
                </a:lnTo>
                <a:lnTo>
                  <a:pt x="948" y="265"/>
                </a:lnTo>
                <a:lnTo>
                  <a:pt x="948" y="261"/>
                </a:lnTo>
                <a:lnTo>
                  <a:pt x="945" y="248"/>
                </a:lnTo>
                <a:lnTo>
                  <a:pt x="941" y="236"/>
                </a:lnTo>
                <a:lnTo>
                  <a:pt x="939" y="225"/>
                </a:lnTo>
                <a:lnTo>
                  <a:pt x="937" y="215"/>
                </a:lnTo>
                <a:lnTo>
                  <a:pt x="935" y="206"/>
                </a:lnTo>
                <a:lnTo>
                  <a:pt x="931" y="198"/>
                </a:lnTo>
                <a:lnTo>
                  <a:pt x="929" y="192"/>
                </a:lnTo>
                <a:lnTo>
                  <a:pt x="925" y="187"/>
                </a:lnTo>
                <a:lnTo>
                  <a:pt x="922" y="185"/>
                </a:lnTo>
                <a:lnTo>
                  <a:pt x="920" y="183"/>
                </a:lnTo>
                <a:lnTo>
                  <a:pt x="916" y="181"/>
                </a:lnTo>
                <a:lnTo>
                  <a:pt x="912" y="179"/>
                </a:lnTo>
                <a:lnTo>
                  <a:pt x="906" y="179"/>
                </a:lnTo>
                <a:lnTo>
                  <a:pt x="900" y="177"/>
                </a:lnTo>
                <a:lnTo>
                  <a:pt x="895" y="177"/>
                </a:lnTo>
                <a:lnTo>
                  <a:pt x="889" y="175"/>
                </a:lnTo>
                <a:lnTo>
                  <a:pt x="881" y="175"/>
                </a:lnTo>
                <a:lnTo>
                  <a:pt x="874" y="175"/>
                </a:lnTo>
                <a:lnTo>
                  <a:pt x="866" y="175"/>
                </a:lnTo>
                <a:lnTo>
                  <a:pt x="858" y="175"/>
                </a:lnTo>
                <a:lnTo>
                  <a:pt x="849" y="175"/>
                </a:lnTo>
                <a:lnTo>
                  <a:pt x="839" y="175"/>
                </a:lnTo>
                <a:lnTo>
                  <a:pt x="827" y="175"/>
                </a:lnTo>
                <a:lnTo>
                  <a:pt x="818" y="175"/>
                </a:lnTo>
                <a:lnTo>
                  <a:pt x="795" y="175"/>
                </a:lnTo>
                <a:lnTo>
                  <a:pt x="774" y="175"/>
                </a:lnTo>
                <a:lnTo>
                  <a:pt x="755" y="175"/>
                </a:lnTo>
                <a:lnTo>
                  <a:pt x="735" y="175"/>
                </a:lnTo>
                <a:lnTo>
                  <a:pt x="718" y="177"/>
                </a:lnTo>
                <a:lnTo>
                  <a:pt x="703" y="179"/>
                </a:lnTo>
                <a:lnTo>
                  <a:pt x="687" y="183"/>
                </a:lnTo>
                <a:lnTo>
                  <a:pt x="674" y="187"/>
                </a:lnTo>
                <a:lnTo>
                  <a:pt x="666" y="188"/>
                </a:lnTo>
                <a:lnTo>
                  <a:pt x="657" y="192"/>
                </a:lnTo>
                <a:lnTo>
                  <a:pt x="647" y="196"/>
                </a:lnTo>
                <a:lnTo>
                  <a:pt x="636" y="198"/>
                </a:lnTo>
                <a:lnTo>
                  <a:pt x="622" y="202"/>
                </a:lnTo>
                <a:lnTo>
                  <a:pt x="609" y="206"/>
                </a:lnTo>
                <a:lnTo>
                  <a:pt x="593" y="210"/>
                </a:lnTo>
                <a:lnTo>
                  <a:pt x="576" y="215"/>
                </a:lnTo>
                <a:lnTo>
                  <a:pt x="559" y="219"/>
                </a:lnTo>
                <a:lnTo>
                  <a:pt x="540" y="225"/>
                </a:lnTo>
                <a:lnTo>
                  <a:pt x="520" y="231"/>
                </a:lnTo>
                <a:lnTo>
                  <a:pt x="501" y="236"/>
                </a:lnTo>
                <a:lnTo>
                  <a:pt x="478" y="242"/>
                </a:lnTo>
                <a:lnTo>
                  <a:pt x="455" y="248"/>
                </a:lnTo>
                <a:lnTo>
                  <a:pt x="432" y="254"/>
                </a:lnTo>
                <a:lnTo>
                  <a:pt x="409" y="261"/>
                </a:lnTo>
                <a:lnTo>
                  <a:pt x="382" y="269"/>
                </a:lnTo>
                <a:lnTo>
                  <a:pt x="357" y="275"/>
                </a:lnTo>
                <a:lnTo>
                  <a:pt x="334" y="281"/>
                </a:lnTo>
                <a:lnTo>
                  <a:pt x="313" y="286"/>
                </a:lnTo>
                <a:lnTo>
                  <a:pt x="294" y="290"/>
                </a:lnTo>
                <a:lnTo>
                  <a:pt x="277" y="294"/>
                </a:lnTo>
                <a:lnTo>
                  <a:pt x="259" y="298"/>
                </a:lnTo>
                <a:lnTo>
                  <a:pt x="244" y="302"/>
                </a:lnTo>
                <a:lnTo>
                  <a:pt x="230" y="304"/>
                </a:lnTo>
                <a:lnTo>
                  <a:pt x="219" y="306"/>
                </a:lnTo>
                <a:lnTo>
                  <a:pt x="209" y="307"/>
                </a:lnTo>
                <a:lnTo>
                  <a:pt x="202" y="309"/>
                </a:lnTo>
                <a:lnTo>
                  <a:pt x="194" y="309"/>
                </a:lnTo>
                <a:lnTo>
                  <a:pt x="188" y="311"/>
                </a:lnTo>
                <a:lnTo>
                  <a:pt x="184" y="311"/>
                </a:lnTo>
                <a:lnTo>
                  <a:pt x="181" y="311"/>
                </a:lnTo>
                <a:lnTo>
                  <a:pt x="179" y="311"/>
                </a:lnTo>
                <a:lnTo>
                  <a:pt x="175" y="311"/>
                </a:lnTo>
                <a:lnTo>
                  <a:pt x="171" y="309"/>
                </a:lnTo>
                <a:lnTo>
                  <a:pt x="167" y="309"/>
                </a:lnTo>
                <a:lnTo>
                  <a:pt x="157" y="306"/>
                </a:lnTo>
                <a:lnTo>
                  <a:pt x="146" y="302"/>
                </a:lnTo>
                <a:lnTo>
                  <a:pt x="133" y="296"/>
                </a:lnTo>
                <a:lnTo>
                  <a:pt x="117" y="290"/>
                </a:lnTo>
                <a:lnTo>
                  <a:pt x="102" y="283"/>
                </a:lnTo>
                <a:lnTo>
                  <a:pt x="85" y="275"/>
                </a:lnTo>
                <a:lnTo>
                  <a:pt x="73" y="271"/>
                </a:lnTo>
                <a:lnTo>
                  <a:pt x="63" y="269"/>
                </a:lnTo>
                <a:lnTo>
                  <a:pt x="54" y="265"/>
                </a:lnTo>
                <a:lnTo>
                  <a:pt x="46" y="263"/>
                </a:lnTo>
                <a:lnTo>
                  <a:pt x="38" y="259"/>
                </a:lnTo>
                <a:lnTo>
                  <a:pt x="31" y="256"/>
                </a:lnTo>
                <a:lnTo>
                  <a:pt x="25" y="252"/>
                </a:lnTo>
                <a:lnTo>
                  <a:pt x="19" y="248"/>
                </a:lnTo>
                <a:lnTo>
                  <a:pt x="15" y="244"/>
                </a:lnTo>
                <a:lnTo>
                  <a:pt x="12" y="238"/>
                </a:lnTo>
                <a:lnTo>
                  <a:pt x="8" y="235"/>
                </a:lnTo>
                <a:lnTo>
                  <a:pt x="4" y="231"/>
                </a:lnTo>
                <a:lnTo>
                  <a:pt x="2" y="225"/>
                </a:lnTo>
                <a:lnTo>
                  <a:pt x="2" y="221"/>
                </a:lnTo>
                <a:lnTo>
                  <a:pt x="0" y="215"/>
                </a:lnTo>
                <a:lnTo>
                  <a:pt x="0" y="212"/>
                </a:lnTo>
                <a:lnTo>
                  <a:pt x="29" y="208"/>
                </a:lnTo>
                <a:lnTo>
                  <a:pt x="56" y="204"/>
                </a:lnTo>
                <a:lnTo>
                  <a:pt x="83" y="202"/>
                </a:lnTo>
                <a:lnTo>
                  <a:pt x="109" y="198"/>
                </a:lnTo>
                <a:lnTo>
                  <a:pt x="134" y="194"/>
                </a:lnTo>
                <a:lnTo>
                  <a:pt x="159" y="190"/>
                </a:lnTo>
                <a:lnTo>
                  <a:pt x="184" y="187"/>
                </a:lnTo>
                <a:lnTo>
                  <a:pt x="209" y="183"/>
                </a:lnTo>
                <a:lnTo>
                  <a:pt x="257" y="177"/>
                </a:lnTo>
                <a:lnTo>
                  <a:pt x="303" y="169"/>
                </a:lnTo>
                <a:lnTo>
                  <a:pt x="348" y="164"/>
                </a:lnTo>
                <a:lnTo>
                  <a:pt x="390" y="156"/>
                </a:lnTo>
                <a:lnTo>
                  <a:pt x="430" y="148"/>
                </a:lnTo>
                <a:lnTo>
                  <a:pt x="467" y="142"/>
                </a:lnTo>
                <a:lnTo>
                  <a:pt x="505" y="135"/>
                </a:lnTo>
                <a:lnTo>
                  <a:pt x="540" y="129"/>
                </a:lnTo>
                <a:lnTo>
                  <a:pt x="572" y="121"/>
                </a:lnTo>
                <a:lnTo>
                  <a:pt x="603" y="114"/>
                </a:lnTo>
                <a:lnTo>
                  <a:pt x="634" y="108"/>
                </a:lnTo>
                <a:lnTo>
                  <a:pt x="660" y="100"/>
                </a:lnTo>
                <a:lnTo>
                  <a:pt x="685" y="93"/>
                </a:lnTo>
                <a:lnTo>
                  <a:pt x="708" y="87"/>
                </a:lnTo>
                <a:lnTo>
                  <a:pt x="730" y="81"/>
                </a:lnTo>
                <a:lnTo>
                  <a:pt x="751" y="73"/>
                </a:lnTo>
                <a:lnTo>
                  <a:pt x="770" y="68"/>
                </a:lnTo>
                <a:lnTo>
                  <a:pt x="787" y="64"/>
                </a:lnTo>
                <a:lnTo>
                  <a:pt x="804" y="58"/>
                </a:lnTo>
                <a:lnTo>
                  <a:pt x="822" y="52"/>
                </a:lnTo>
                <a:lnTo>
                  <a:pt x="835" y="48"/>
                </a:lnTo>
                <a:lnTo>
                  <a:pt x="849" y="45"/>
                </a:lnTo>
                <a:lnTo>
                  <a:pt x="860" y="41"/>
                </a:lnTo>
                <a:lnTo>
                  <a:pt x="872" y="37"/>
                </a:lnTo>
                <a:lnTo>
                  <a:pt x="881" y="33"/>
                </a:lnTo>
                <a:lnTo>
                  <a:pt x="889" y="31"/>
                </a:lnTo>
                <a:lnTo>
                  <a:pt x="895" y="27"/>
                </a:lnTo>
                <a:lnTo>
                  <a:pt x="900" y="25"/>
                </a:lnTo>
                <a:lnTo>
                  <a:pt x="906" y="22"/>
                </a:lnTo>
                <a:lnTo>
                  <a:pt x="912" y="16"/>
                </a:lnTo>
                <a:lnTo>
                  <a:pt x="918" y="12"/>
                </a:lnTo>
                <a:lnTo>
                  <a:pt x="925" y="8"/>
                </a:lnTo>
                <a:lnTo>
                  <a:pt x="935" y="4"/>
                </a:lnTo>
                <a:lnTo>
                  <a:pt x="943" y="2"/>
                </a:lnTo>
                <a:lnTo>
                  <a:pt x="952" y="0"/>
                </a:lnTo>
                <a:lnTo>
                  <a:pt x="962" y="0"/>
                </a:lnTo>
                <a:lnTo>
                  <a:pt x="966" y="2"/>
                </a:lnTo>
                <a:lnTo>
                  <a:pt x="971" y="6"/>
                </a:lnTo>
                <a:lnTo>
                  <a:pt x="977" y="8"/>
                </a:lnTo>
                <a:lnTo>
                  <a:pt x="983" y="12"/>
                </a:lnTo>
                <a:lnTo>
                  <a:pt x="991" y="16"/>
                </a:lnTo>
                <a:lnTo>
                  <a:pt x="998" y="20"/>
                </a:lnTo>
                <a:lnTo>
                  <a:pt x="1006" y="23"/>
                </a:lnTo>
                <a:lnTo>
                  <a:pt x="1014" y="27"/>
                </a:lnTo>
                <a:lnTo>
                  <a:pt x="1023" y="33"/>
                </a:lnTo>
                <a:lnTo>
                  <a:pt x="1033" y="39"/>
                </a:lnTo>
                <a:lnTo>
                  <a:pt x="1044" y="43"/>
                </a:lnTo>
                <a:lnTo>
                  <a:pt x="1056" y="48"/>
                </a:lnTo>
                <a:lnTo>
                  <a:pt x="1067" y="56"/>
                </a:lnTo>
                <a:lnTo>
                  <a:pt x="1079" y="62"/>
                </a:lnTo>
                <a:lnTo>
                  <a:pt x="1092" y="68"/>
                </a:lnTo>
                <a:lnTo>
                  <a:pt x="1106" y="75"/>
                </a:lnTo>
                <a:lnTo>
                  <a:pt x="1117" y="85"/>
                </a:lnTo>
                <a:lnTo>
                  <a:pt x="1131" y="93"/>
                </a:lnTo>
                <a:lnTo>
                  <a:pt x="1140" y="102"/>
                </a:lnTo>
                <a:lnTo>
                  <a:pt x="1152" y="110"/>
                </a:lnTo>
                <a:lnTo>
                  <a:pt x="1162" y="117"/>
                </a:lnTo>
                <a:lnTo>
                  <a:pt x="1169" y="125"/>
                </a:lnTo>
                <a:lnTo>
                  <a:pt x="1179" y="133"/>
                </a:lnTo>
                <a:lnTo>
                  <a:pt x="1185" y="139"/>
                </a:lnTo>
                <a:lnTo>
                  <a:pt x="1192" y="144"/>
                </a:lnTo>
                <a:lnTo>
                  <a:pt x="1198" y="150"/>
                </a:lnTo>
                <a:lnTo>
                  <a:pt x="1202" y="156"/>
                </a:lnTo>
                <a:lnTo>
                  <a:pt x="1206" y="160"/>
                </a:lnTo>
                <a:lnTo>
                  <a:pt x="1210" y="165"/>
                </a:lnTo>
                <a:lnTo>
                  <a:pt x="1211" y="169"/>
                </a:lnTo>
                <a:lnTo>
                  <a:pt x="1211" y="171"/>
                </a:lnTo>
                <a:lnTo>
                  <a:pt x="1213" y="175"/>
                </a:lnTo>
                <a:lnTo>
                  <a:pt x="1211" y="183"/>
                </a:lnTo>
                <a:lnTo>
                  <a:pt x="1210" y="192"/>
                </a:lnTo>
                <a:lnTo>
                  <a:pt x="1208" y="202"/>
                </a:lnTo>
                <a:lnTo>
                  <a:pt x="1204" y="210"/>
                </a:lnTo>
                <a:lnTo>
                  <a:pt x="1198" y="217"/>
                </a:lnTo>
                <a:lnTo>
                  <a:pt x="1192" y="225"/>
                </a:lnTo>
                <a:lnTo>
                  <a:pt x="1185" y="231"/>
                </a:lnTo>
                <a:lnTo>
                  <a:pt x="1177" y="236"/>
                </a:lnTo>
                <a:lnTo>
                  <a:pt x="1173" y="240"/>
                </a:lnTo>
                <a:lnTo>
                  <a:pt x="1169" y="244"/>
                </a:lnTo>
                <a:lnTo>
                  <a:pt x="1165" y="248"/>
                </a:lnTo>
                <a:lnTo>
                  <a:pt x="1162" y="256"/>
                </a:lnTo>
                <a:lnTo>
                  <a:pt x="1158" y="261"/>
                </a:lnTo>
                <a:lnTo>
                  <a:pt x="1154" y="271"/>
                </a:lnTo>
                <a:lnTo>
                  <a:pt x="1152" y="279"/>
                </a:lnTo>
                <a:lnTo>
                  <a:pt x="1148" y="290"/>
                </a:lnTo>
                <a:lnTo>
                  <a:pt x="1146" y="300"/>
                </a:lnTo>
                <a:lnTo>
                  <a:pt x="1142" y="311"/>
                </a:lnTo>
                <a:lnTo>
                  <a:pt x="1140" y="325"/>
                </a:lnTo>
                <a:lnTo>
                  <a:pt x="1137" y="338"/>
                </a:lnTo>
                <a:lnTo>
                  <a:pt x="1135" y="352"/>
                </a:lnTo>
                <a:lnTo>
                  <a:pt x="1133" y="367"/>
                </a:lnTo>
                <a:lnTo>
                  <a:pt x="1131" y="382"/>
                </a:lnTo>
                <a:lnTo>
                  <a:pt x="1129" y="398"/>
                </a:lnTo>
                <a:lnTo>
                  <a:pt x="1125" y="415"/>
                </a:lnTo>
                <a:lnTo>
                  <a:pt x="1123" y="434"/>
                </a:lnTo>
                <a:lnTo>
                  <a:pt x="1121" y="453"/>
                </a:lnTo>
                <a:lnTo>
                  <a:pt x="1119" y="474"/>
                </a:lnTo>
                <a:lnTo>
                  <a:pt x="1115" y="497"/>
                </a:lnTo>
                <a:lnTo>
                  <a:pt x="1114" y="520"/>
                </a:lnTo>
                <a:lnTo>
                  <a:pt x="1110" y="545"/>
                </a:lnTo>
                <a:lnTo>
                  <a:pt x="1108" y="572"/>
                </a:lnTo>
                <a:lnTo>
                  <a:pt x="1104" y="599"/>
                </a:lnTo>
                <a:lnTo>
                  <a:pt x="1100" y="628"/>
                </a:lnTo>
                <a:lnTo>
                  <a:pt x="1096" y="657"/>
                </a:lnTo>
                <a:lnTo>
                  <a:pt x="1091" y="687"/>
                </a:lnTo>
                <a:lnTo>
                  <a:pt x="1087" y="720"/>
                </a:lnTo>
                <a:lnTo>
                  <a:pt x="1081" y="753"/>
                </a:lnTo>
                <a:lnTo>
                  <a:pt x="1075" y="785"/>
                </a:lnTo>
                <a:lnTo>
                  <a:pt x="1069" y="822"/>
                </a:lnTo>
                <a:lnTo>
                  <a:pt x="1062" y="858"/>
                </a:lnTo>
                <a:lnTo>
                  <a:pt x="1054" y="895"/>
                </a:lnTo>
                <a:lnTo>
                  <a:pt x="1046" y="929"/>
                </a:lnTo>
                <a:lnTo>
                  <a:pt x="1039" y="966"/>
                </a:lnTo>
                <a:lnTo>
                  <a:pt x="1031" y="1000"/>
                </a:lnTo>
                <a:lnTo>
                  <a:pt x="1023" y="1035"/>
                </a:lnTo>
                <a:lnTo>
                  <a:pt x="1008" y="1102"/>
                </a:lnTo>
                <a:lnTo>
                  <a:pt x="991" y="1167"/>
                </a:lnTo>
                <a:lnTo>
                  <a:pt x="971" y="1231"/>
                </a:lnTo>
                <a:lnTo>
                  <a:pt x="954" y="1294"/>
                </a:lnTo>
                <a:lnTo>
                  <a:pt x="937" y="1355"/>
                </a:lnTo>
                <a:lnTo>
                  <a:pt x="925" y="1384"/>
                </a:lnTo>
                <a:lnTo>
                  <a:pt x="914" y="1413"/>
                </a:lnTo>
                <a:lnTo>
                  <a:pt x="902" y="1440"/>
                </a:lnTo>
                <a:lnTo>
                  <a:pt x="893" y="1467"/>
                </a:lnTo>
                <a:lnTo>
                  <a:pt x="881" y="1492"/>
                </a:lnTo>
                <a:lnTo>
                  <a:pt x="870" y="1515"/>
                </a:lnTo>
                <a:lnTo>
                  <a:pt x="858" y="1538"/>
                </a:lnTo>
                <a:lnTo>
                  <a:pt x="847" y="1559"/>
                </a:lnTo>
                <a:lnTo>
                  <a:pt x="835" y="1580"/>
                </a:lnTo>
                <a:lnTo>
                  <a:pt x="824" y="1599"/>
                </a:lnTo>
                <a:lnTo>
                  <a:pt x="812" y="1616"/>
                </a:lnTo>
                <a:lnTo>
                  <a:pt x="801" y="1634"/>
                </a:lnTo>
                <a:lnTo>
                  <a:pt x="791" y="1649"/>
                </a:lnTo>
                <a:lnTo>
                  <a:pt x="779" y="1664"/>
                </a:lnTo>
                <a:lnTo>
                  <a:pt x="768" y="1678"/>
                </a:lnTo>
                <a:lnTo>
                  <a:pt x="756" y="1691"/>
                </a:lnTo>
                <a:lnTo>
                  <a:pt x="745" y="1701"/>
                </a:lnTo>
                <a:lnTo>
                  <a:pt x="735" y="1712"/>
                </a:lnTo>
                <a:lnTo>
                  <a:pt x="724" y="1722"/>
                </a:lnTo>
                <a:lnTo>
                  <a:pt x="714" y="1731"/>
                </a:lnTo>
                <a:lnTo>
                  <a:pt x="705" y="1741"/>
                </a:lnTo>
                <a:lnTo>
                  <a:pt x="695" y="1749"/>
                </a:lnTo>
                <a:lnTo>
                  <a:pt x="687" y="1756"/>
                </a:lnTo>
                <a:lnTo>
                  <a:pt x="680" y="1762"/>
                </a:lnTo>
                <a:lnTo>
                  <a:pt x="672" y="1770"/>
                </a:lnTo>
                <a:lnTo>
                  <a:pt x="664" y="1774"/>
                </a:lnTo>
                <a:lnTo>
                  <a:pt x="659" y="1779"/>
                </a:lnTo>
                <a:lnTo>
                  <a:pt x="653" y="1783"/>
                </a:lnTo>
                <a:lnTo>
                  <a:pt x="647" y="1785"/>
                </a:lnTo>
                <a:lnTo>
                  <a:pt x="643" y="1787"/>
                </a:lnTo>
                <a:lnTo>
                  <a:pt x="639" y="1789"/>
                </a:lnTo>
                <a:lnTo>
                  <a:pt x="637" y="1789"/>
                </a:lnTo>
                <a:lnTo>
                  <a:pt x="632" y="1789"/>
                </a:lnTo>
                <a:lnTo>
                  <a:pt x="628" y="1787"/>
                </a:lnTo>
                <a:lnTo>
                  <a:pt x="624" y="1785"/>
                </a:lnTo>
                <a:lnTo>
                  <a:pt x="620" y="1783"/>
                </a:lnTo>
                <a:lnTo>
                  <a:pt x="616" y="1779"/>
                </a:lnTo>
                <a:lnTo>
                  <a:pt x="614" y="1774"/>
                </a:lnTo>
                <a:lnTo>
                  <a:pt x="611" y="1770"/>
                </a:lnTo>
                <a:lnTo>
                  <a:pt x="609" y="1762"/>
                </a:lnTo>
                <a:lnTo>
                  <a:pt x="605" y="1756"/>
                </a:lnTo>
                <a:lnTo>
                  <a:pt x="603" y="1749"/>
                </a:lnTo>
                <a:lnTo>
                  <a:pt x="599" y="1741"/>
                </a:lnTo>
                <a:lnTo>
                  <a:pt x="597" y="1731"/>
                </a:lnTo>
                <a:lnTo>
                  <a:pt x="595" y="1722"/>
                </a:lnTo>
                <a:lnTo>
                  <a:pt x="593" y="1712"/>
                </a:lnTo>
                <a:lnTo>
                  <a:pt x="591" y="1701"/>
                </a:lnTo>
                <a:lnTo>
                  <a:pt x="589" y="169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35"/>
          <p:cNvSpPr/>
          <p:nvPr/>
        </p:nvSpPr>
        <p:spPr>
          <a:xfrm>
            <a:off x="5567400" y="3836880"/>
            <a:ext cx="1206360" cy="285840"/>
          </a:xfrm>
          <a:custGeom>
            <a:avLst/>
            <a:gdLst/>
            <a:ahLst/>
            <a:rect l="l" t="t" r="r" b="b"/>
            <a:pathLst>
              <a:path w="1520" h="359">
                <a:moveTo>
                  <a:pt x="309" y="334"/>
                </a:moveTo>
                <a:lnTo>
                  <a:pt x="293" y="336"/>
                </a:lnTo>
                <a:lnTo>
                  <a:pt x="278" y="337"/>
                </a:lnTo>
                <a:lnTo>
                  <a:pt x="264" y="341"/>
                </a:lnTo>
                <a:lnTo>
                  <a:pt x="251" y="343"/>
                </a:lnTo>
                <a:lnTo>
                  <a:pt x="238" y="345"/>
                </a:lnTo>
                <a:lnTo>
                  <a:pt x="224" y="347"/>
                </a:lnTo>
                <a:lnTo>
                  <a:pt x="215" y="349"/>
                </a:lnTo>
                <a:lnTo>
                  <a:pt x="203" y="351"/>
                </a:lnTo>
                <a:lnTo>
                  <a:pt x="193" y="353"/>
                </a:lnTo>
                <a:lnTo>
                  <a:pt x="184" y="355"/>
                </a:lnTo>
                <a:lnTo>
                  <a:pt x="176" y="355"/>
                </a:lnTo>
                <a:lnTo>
                  <a:pt x="170" y="357"/>
                </a:lnTo>
                <a:lnTo>
                  <a:pt x="163" y="357"/>
                </a:lnTo>
                <a:lnTo>
                  <a:pt x="159" y="359"/>
                </a:lnTo>
                <a:lnTo>
                  <a:pt x="155" y="359"/>
                </a:lnTo>
                <a:lnTo>
                  <a:pt x="153" y="359"/>
                </a:lnTo>
                <a:lnTo>
                  <a:pt x="147" y="359"/>
                </a:lnTo>
                <a:lnTo>
                  <a:pt x="142" y="357"/>
                </a:lnTo>
                <a:lnTo>
                  <a:pt x="134" y="353"/>
                </a:lnTo>
                <a:lnTo>
                  <a:pt x="124" y="349"/>
                </a:lnTo>
                <a:lnTo>
                  <a:pt x="115" y="345"/>
                </a:lnTo>
                <a:lnTo>
                  <a:pt x="105" y="337"/>
                </a:lnTo>
                <a:lnTo>
                  <a:pt x="94" y="330"/>
                </a:lnTo>
                <a:lnTo>
                  <a:pt x="80" y="322"/>
                </a:lnTo>
                <a:lnTo>
                  <a:pt x="67" y="313"/>
                </a:lnTo>
                <a:lnTo>
                  <a:pt x="55" y="303"/>
                </a:lnTo>
                <a:lnTo>
                  <a:pt x="46" y="293"/>
                </a:lnTo>
                <a:lnTo>
                  <a:pt x="36" y="284"/>
                </a:lnTo>
                <a:lnTo>
                  <a:pt x="26" y="274"/>
                </a:lnTo>
                <a:lnTo>
                  <a:pt x="19" y="266"/>
                </a:lnTo>
                <a:lnTo>
                  <a:pt x="13" y="257"/>
                </a:lnTo>
                <a:lnTo>
                  <a:pt x="9" y="247"/>
                </a:lnTo>
                <a:lnTo>
                  <a:pt x="5" y="242"/>
                </a:lnTo>
                <a:lnTo>
                  <a:pt x="1" y="238"/>
                </a:lnTo>
                <a:lnTo>
                  <a:pt x="0" y="232"/>
                </a:lnTo>
                <a:lnTo>
                  <a:pt x="0" y="228"/>
                </a:lnTo>
                <a:lnTo>
                  <a:pt x="0" y="224"/>
                </a:lnTo>
                <a:lnTo>
                  <a:pt x="1" y="218"/>
                </a:lnTo>
                <a:lnTo>
                  <a:pt x="5" y="215"/>
                </a:lnTo>
                <a:lnTo>
                  <a:pt x="9" y="211"/>
                </a:lnTo>
                <a:lnTo>
                  <a:pt x="13" y="211"/>
                </a:lnTo>
                <a:lnTo>
                  <a:pt x="19" y="211"/>
                </a:lnTo>
                <a:lnTo>
                  <a:pt x="23" y="211"/>
                </a:lnTo>
                <a:lnTo>
                  <a:pt x="28" y="211"/>
                </a:lnTo>
                <a:lnTo>
                  <a:pt x="32" y="211"/>
                </a:lnTo>
                <a:lnTo>
                  <a:pt x="38" y="211"/>
                </a:lnTo>
                <a:lnTo>
                  <a:pt x="44" y="211"/>
                </a:lnTo>
                <a:lnTo>
                  <a:pt x="49" y="211"/>
                </a:lnTo>
                <a:lnTo>
                  <a:pt x="57" y="211"/>
                </a:lnTo>
                <a:lnTo>
                  <a:pt x="65" y="211"/>
                </a:lnTo>
                <a:lnTo>
                  <a:pt x="74" y="211"/>
                </a:lnTo>
                <a:lnTo>
                  <a:pt x="84" y="211"/>
                </a:lnTo>
                <a:lnTo>
                  <a:pt x="94" y="211"/>
                </a:lnTo>
                <a:lnTo>
                  <a:pt x="105" y="211"/>
                </a:lnTo>
                <a:lnTo>
                  <a:pt x="115" y="213"/>
                </a:lnTo>
                <a:lnTo>
                  <a:pt x="124" y="213"/>
                </a:lnTo>
                <a:lnTo>
                  <a:pt x="136" y="215"/>
                </a:lnTo>
                <a:lnTo>
                  <a:pt x="149" y="215"/>
                </a:lnTo>
                <a:lnTo>
                  <a:pt x="163" y="215"/>
                </a:lnTo>
                <a:lnTo>
                  <a:pt x="178" y="215"/>
                </a:lnTo>
                <a:lnTo>
                  <a:pt x="195" y="213"/>
                </a:lnTo>
                <a:lnTo>
                  <a:pt x="213" y="211"/>
                </a:lnTo>
                <a:lnTo>
                  <a:pt x="230" y="209"/>
                </a:lnTo>
                <a:lnTo>
                  <a:pt x="251" y="207"/>
                </a:lnTo>
                <a:lnTo>
                  <a:pt x="272" y="205"/>
                </a:lnTo>
                <a:lnTo>
                  <a:pt x="293" y="201"/>
                </a:lnTo>
                <a:lnTo>
                  <a:pt x="316" y="197"/>
                </a:lnTo>
                <a:lnTo>
                  <a:pt x="341" y="194"/>
                </a:lnTo>
                <a:lnTo>
                  <a:pt x="366" y="190"/>
                </a:lnTo>
                <a:lnTo>
                  <a:pt x="393" y="186"/>
                </a:lnTo>
                <a:lnTo>
                  <a:pt x="418" y="180"/>
                </a:lnTo>
                <a:lnTo>
                  <a:pt x="443" y="174"/>
                </a:lnTo>
                <a:lnTo>
                  <a:pt x="470" y="169"/>
                </a:lnTo>
                <a:lnTo>
                  <a:pt x="497" y="163"/>
                </a:lnTo>
                <a:lnTo>
                  <a:pt x="526" y="157"/>
                </a:lnTo>
                <a:lnTo>
                  <a:pt x="554" y="151"/>
                </a:lnTo>
                <a:lnTo>
                  <a:pt x="585" y="146"/>
                </a:lnTo>
                <a:lnTo>
                  <a:pt x="616" y="138"/>
                </a:lnTo>
                <a:lnTo>
                  <a:pt x="647" y="130"/>
                </a:lnTo>
                <a:lnTo>
                  <a:pt x="679" y="124"/>
                </a:lnTo>
                <a:lnTo>
                  <a:pt x="712" y="117"/>
                </a:lnTo>
                <a:lnTo>
                  <a:pt x="744" y="107"/>
                </a:lnTo>
                <a:lnTo>
                  <a:pt x="779" y="99"/>
                </a:lnTo>
                <a:lnTo>
                  <a:pt x="814" y="92"/>
                </a:lnTo>
                <a:lnTo>
                  <a:pt x="848" y="82"/>
                </a:lnTo>
                <a:lnTo>
                  <a:pt x="885" y="73"/>
                </a:lnTo>
                <a:lnTo>
                  <a:pt x="919" y="65"/>
                </a:lnTo>
                <a:lnTo>
                  <a:pt x="954" y="59"/>
                </a:lnTo>
                <a:lnTo>
                  <a:pt x="986" y="53"/>
                </a:lnTo>
                <a:lnTo>
                  <a:pt x="1017" y="48"/>
                </a:lnTo>
                <a:lnTo>
                  <a:pt x="1048" y="42"/>
                </a:lnTo>
                <a:lnTo>
                  <a:pt x="1077" y="36"/>
                </a:lnTo>
                <a:lnTo>
                  <a:pt x="1103" y="30"/>
                </a:lnTo>
                <a:lnTo>
                  <a:pt x="1128" y="27"/>
                </a:lnTo>
                <a:lnTo>
                  <a:pt x="1153" y="23"/>
                </a:lnTo>
                <a:lnTo>
                  <a:pt x="1176" y="17"/>
                </a:lnTo>
                <a:lnTo>
                  <a:pt x="1199" y="13"/>
                </a:lnTo>
                <a:lnTo>
                  <a:pt x="1221" y="11"/>
                </a:lnTo>
                <a:lnTo>
                  <a:pt x="1240" y="7"/>
                </a:lnTo>
                <a:lnTo>
                  <a:pt x="1259" y="4"/>
                </a:lnTo>
                <a:lnTo>
                  <a:pt x="1276" y="2"/>
                </a:lnTo>
                <a:lnTo>
                  <a:pt x="1294" y="0"/>
                </a:lnTo>
                <a:lnTo>
                  <a:pt x="1318" y="0"/>
                </a:lnTo>
                <a:lnTo>
                  <a:pt x="1343" y="2"/>
                </a:lnTo>
                <a:lnTo>
                  <a:pt x="1368" y="4"/>
                </a:lnTo>
                <a:lnTo>
                  <a:pt x="1390" y="5"/>
                </a:lnTo>
                <a:lnTo>
                  <a:pt x="1411" y="9"/>
                </a:lnTo>
                <a:lnTo>
                  <a:pt x="1430" y="15"/>
                </a:lnTo>
                <a:lnTo>
                  <a:pt x="1437" y="17"/>
                </a:lnTo>
                <a:lnTo>
                  <a:pt x="1445" y="19"/>
                </a:lnTo>
                <a:lnTo>
                  <a:pt x="1453" y="21"/>
                </a:lnTo>
                <a:lnTo>
                  <a:pt x="1461" y="25"/>
                </a:lnTo>
                <a:lnTo>
                  <a:pt x="1474" y="32"/>
                </a:lnTo>
                <a:lnTo>
                  <a:pt x="1485" y="42"/>
                </a:lnTo>
                <a:lnTo>
                  <a:pt x="1495" y="52"/>
                </a:lnTo>
                <a:lnTo>
                  <a:pt x="1503" y="59"/>
                </a:lnTo>
                <a:lnTo>
                  <a:pt x="1510" y="67"/>
                </a:lnTo>
                <a:lnTo>
                  <a:pt x="1514" y="71"/>
                </a:lnTo>
                <a:lnTo>
                  <a:pt x="1516" y="75"/>
                </a:lnTo>
                <a:lnTo>
                  <a:pt x="1518" y="76"/>
                </a:lnTo>
                <a:lnTo>
                  <a:pt x="1518" y="80"/>
                </a:lnTo>
                <a:lnTo>
                  <a:pt x="1520" y="82"/>
                </a:lnTo>
                <a:lnTo>
                  <a:pt x="1520" y="86"/>
                </a:lnTo>
                <a:lnTo>
                  <a:pt x="1520" y="88"/>
                </a:lnTo>
                <a:lnTo>
                  <a:pt x="1518" y="90"/>
                </a:lnTo>
                <a:lnTo>
                  <a:pt x="1518" y="92"/>
                </a:lnTo>
                <a:lnTo>
                  <a:pt x="1516" y="94"/>
                </a:lnTo>
                <a:lnTo>
                  <a:pt x="1512" y="98"/>
                </a:lnTo>
                <a:lnTo>
                  <a:pt x="1510" y="99"/>
                </a:lnTo>
                <a:lnTo>
                  <a:pt x="1507" y="101"/>
                </a:lnTo>
                <a:lnTo>
                  <a:pt x="1503" y="103"/>
                </a:lnTo>
                <a:lnTo>
                  <a:pt x="1497" y="105"/>
                </a:lnTo>
                <a:lnTo>
                  <a:pt x="1491" y="109"/>
                </a:lnTo>
                <a:lnTo>
                  <a:pt x="1485" y="111"/>
                </a:lnTo>
                <a:lnTo>
                  <a:pt x="1480" y="113"/>
                </a:lnTo>
                <a:lnTo>
                  <a:pt x="1472" y="115"/>
                </a:lnTo>
                <a:lnTo>
                  <a:pt x="1464" y="117"/>
                </a:lnTo>
                <a:lnTo>
                  <a:pt x="1457" y="119"/>
                </a:lnTo>
                <a:lnTo>
                  <a:pt x="1449" y="121"/>
                </a:lnTo>
                <a:lnTo>
                  <a:pt x="1439" y="123"/>
                </a:lnTo>
                <a:lnTo>
                  <a:pt x="1430" y="124"/>
                </a:lnTo>
                <a:lnTo>
                  <a:pt x="1418" y="126"/>
                </a:lnTo>
                <a:lnTo>
                  <a:pt x="1407" y="128"/>
                </a:lnTo>
                <a:lnTo>
                  <a:pt x="1395" y="130"/>
                </a:lnTo>
                <a:lnTo>
                  <a:pt x="1384" y="132"/>
                </a:lnTo>
                <a:lnTo>
                  <a:pt x="1372" y="134"/>
                </a:lnTo>
                <a:lnTo>
                  <a:pt x="1359" y="136"/>
                </a:lnTo>
                <a:lnTo>
                  <a:pt x="1343" y="138"/>
                </a:lnTo>
                <a:lnTo>
                  <a:pt x="1330" y="140"/>
                </a:lnTo>
                <a:lnTo>
                  <a:pt x="1315" y="142"/>
                </a:lnTo>
                <a:lnTo>
                  <a:pt x="1299" y="142"/>
                </a:lnTo>
                <a:lnTo>
                  <a:pt x="1284" y="144"/>
                </a:lnTo>
                <a:lnTo>
                  <a:pt x="1267" y="146"/>
                </a:lnTo>
                <a:lnTo>
                  <a:pt x="1249" y="146"/>
                </a:lnTo>
                <a:lnTo>
                  <a:pt x="1232" y="147"/>
                </a:lnTo>
                <a:lnTo>
                  <a:pt x="1161" y="157"/>
                </a:lnTo>
                <a:lnTo>
                  <a:pt x="1090" y="169"/>
                </a:lnTo>
                <a:lnTo>
                  <a:pt x="1021" y="180"/>
                </a:lnTo>
                <a:lnTo>
                  <a:pt x="954" y="192"/>
                </a:lnTo>
                <a:lnTo>
                  <a:pt x="888" y="205"/>
                </a:lnTo>
                <a:lnTo>
                  <a:pt x="858" y="213"/>
                </a:lnTo>
                <a:lnTo>
                  <a:pt x="825" y="218"/>
                </a:lnTo>
                <a:lnTo>
                  <a:pt x="794" y="226"/>
                </a:lnTo>
                <a:lnTo>
                  <a:pt x="764" y="234"/>
                </a:lnTo>
                <a:lnTo>
                  <a:pt x="733" y="240"/>
                </a:lnTo>
                <a:lnTo>
                  <a:pt x="704" y="247"/>
                </a:lnTo>
                <a:lnTo>
                  <a:pt x="673" y="255"/>
                </a:lnTo>
                <a:lnTo>
                  <a:pt x="643" y="261"/>
                </a:lnTo>
                <a:lnTo>
                  <a:pt x="614" y="268"/>
                </a:lnTo>
                <a:lnTo>
                  <a:pt x="585" y="274"/>
                </a:lnTo>
                <a:lnTo>
                  <a:pt x="556" y="282"/>
                </a:lnTo>
                <a:lnTo>
                  <a:pt x="529" y="288"/>
                </a:lnTo>
                <a:lnTo>
                  <a:pt x="504" y="293"/>
                </a:lnTo>
                <a:lnTo>
                  <a:pt x="480" y="299"/>
                </a:lnTo>
                <a:lnTo>
                  <a:pt x="455" y="305"/>
                </a:lnTo>
                <a:lnTo>
                  <a:pt x="432" y="311"/>
                </a:lnTo>
                <a:lnTo>
                  <a:pt x="408" y="316"/>
                </a:lnTo>
                <a:lnTo>
                  <a:pt x="387" y="320"/>
                </a:lnTo>
                <a:lnTo>
                  <a:pt x="366" y="324"/>
                </a:lnTo>
                <a:lnTo>
                  <a:pt x="345" y="328"/>
                </a:lnTo>
                <a:lnTo>
                  <a:pt x="328" y="332"/>
                </a:lnTo>
                <a:lnTo>
                  <a:pt x="309" y="33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媒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6" name="组合 8"/>
          <p:cNvGrpSpPr/>
          <p:nvPr/>
        </p:nvGrpSpPr>
        <p:grpSpPr>
          <a:xfrm>
            <a:off x="1100160" y="3975120"/>
            <a:ext cx="3251160" cy="1571760"/>
            <a:chOff x="1100160" y="3975120"/>
            <a:chExt cx="3251160" cy="1571760"/>
          </a:xfrm>
        </p:grpSpPr>
        <p:pic>
          <p:nvPicPr>
            <p:cNvPr id="137" name="图示 4" descr=""/>
            <p:cNvPicPr/>
            <p:nvPr/>
          </p:nvPicPr>
          <p:blipFill>
            <a:blip r:embed="rId1"/>
            <a:stretch/>
          </p:blipFill>
          <p:spPr>
            <a:xfrm>
              <a:off x="1100160" y="3975120"/>
              <a:ext cx="32511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矩形 2"/>
            <p:cNvSpPr/>
            <p:nvPr/>
          </p:nvSpPr>
          <p:spPr>
            <a:xfrm>
              <a:off x="1154160" y="4587840"/>
              <a:ext cx="31680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女”撇点的点不要过长，以让右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矩形 3"/>
          <p:cNvSpPr/>
          <p:nvPr/>
        </p:nvSpPr>
        <p:spPr>
          <a:xfrm>
            <a:off x="2108160" y="1868400"/>
            <a:ext cx="12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é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9"/>
          <p:cNvSpPr/>
          <p:nvPr/>
        </p:nvSpPr>
        <p:spPr>
          <a:xfrm>
            <a:off x="5786280" y="2930400"/>
            <a:ext cx="444600" cy="1685880"/>
          </a:xfrm>
          <a:custGeom>
            <a:avLst/>
            <a:gdLst/>
            <a:ahLst/>
            <a:rect l="l" t="t" r="r" b="b"/>
            <a:pathLst>
              <a:path w="559" h="2124">
                <a:moveTo>
                  <a:pt x="325" y="361"/>
                </a:moveTo>
                <a:lnTo>
                  <a:pt x="323" y="382"/>
                </a:lnTo>
                <a:lnTo>
                  <a:pt x="319" y="403"/>
                </a:lnTo>
                <a:lnTo>
                  <a:pt x="317" y="426"/>
                </a:lnTo>
                <a:lnTo>
                  <a:pt x="313" y="451"/>
                </a:lnTo>
                <a:lnTo>
                  <a:pt x="309" y="476"/>
                </a:lnTo>
                <a:lnTo>
                  <a:pt x="306" y="501"/>
                </a:lnTo>
                <a:lnTo>
                  <a:pt x="302" y="527"/>
                </a:lnTo>
                <a:lnTo>
                  <a:pt x="298" y="554"/>
                </a:lnTo>
                <a:lnTo>
                  <a:pt x="294" y="583"/>
                </a:lnTo>
                <a:lnTo>
                  <a:pt x="288" y="612"/>
                </a:lnTo>
                <a:lnTo>
                  <a:pt x="283" y="643"/>
                </a:lnTo>
                <a:lnTo>
                  <a:pt x="277" y="673"/>
                </a:lnTo>
                <a:lnTo>
                  <a:pt x="271" y="706"/>
                </a:lnTo>
                <a:lnTo>
                  <a:pt x="265" y="739"/>
                </a:lnTo>
                <a:lnTo>
                  <a:pt x="260" y="773"/>
                </a:lnTo>
                <a:lnTo>
                  <a:pt x="254" y="808"/>
                </a:lnTo>
                <a:lnTo>
                  <a:pt x="240" y="877"/>
                </a:lnTo>
                <a:lnTo>
                  <a:pt x="229" y="944"/>
                </a:lnTo>
                <a:lnTo>
                  <a:pt x="223" y="977"/>
                </a:lnTo>
                <a:lnTo>
                  <a:pt x="217" y="1009"/>
                </a:lnTo>
                <a:lnTo>
                  <a:pt x="212" y="1042"/>
                </a:lnTo>
                <a:lnTo>
                  <a:pt x="206" y="1074"/>
                </a:lnTo>
                <a:lnTo>
                  <a:pt x="202" y="1105"/>
                </a:lnTo>
                <a:lnTo>
                  <a:pt x="196" y="1136"/>
                </a:lnTo>
                <a:lnTo>
                  <a:pt x="192" y="1165"/>
                </a:lnTo>
                <a:lnTo>
                  <a:pt x="187" y="1195"/>
                </a:lnTo>
                <a:lnTo>
                  <a:pt x="183" y="1222"/>
                </a:lnTo>
                <a:lnTo>
                  <a:pt x="177" y="1251"/>
                </a:lnTo>
                <a:lnTo>
                  <a:pt x="173" y="1278"/>
                </a:lnTo>
                <a:lnTo>
                  <a:pt x="169" y="1305"/>
                </a:lnTo>
                <a:lnTo>
                  <a:pt x="164" y="1330"/>
                </a:lnTo>
                <a:lnTo>
                  <a:pt x="160" y="1353"/>
                </a:lnTo>
                <a:lnTo>
                  <a:pt x="156" y="1376"/>
                </a:lnTo>
                <a:lnTo>
                  <a:pt x="154" y="1397"/>
                </a:lnTo>
                <a:lnTo>
                  <a:pt x="150" y="1416"/>
                </a:lnTo>
                <a:lnTo>
                  <a:pt x="148" y="1435"/>
                </a:lnTo>
                <a:lnTo>
                  <a:pt x="146" y="1453"/>
                </a:lnTo>
                <a:lnTo>
                  <a:pt x="144" y="1468"/>
                </a:lnTo>
                <a:lnTo>
                  <a:pt x="142" y="1483"/>
                </a:lnTo>
                <a:lnTo>
                  <a:pt x="140" y="1495"/>
                </a:lnTo>
                <a:lnTo>
                  <a:pt x="140" y="1506"/>
                </a:lnTo>
                <a:lnTo>
                  <a:pt x="140" y="1516"/>
                </a:lnTo>
                <a:lnTo>
                  <a:pt x="140" y="1525"/>
                </a:lnTo>
                <a:lnTo>
                  <a:pt x="140" y="1531"/>
                </a:lnTo>
                <a:lnTo>
                  <a:pt x="142" y="1537"/>
                </a:lnTo>
                <a:lnTo>
                  <a:pt x="144" y="1541"/>
                </a:lnTo>
                <a:lnTo>
                  <a:pt x="144" y="1543"/>
                </a:lnTo>
                <a:lnTo>
                  <a:pt x="148" y="1547"/>
                </a:lnTo>
                <a:lnTo>
                  <a:pt x="150" y="1552"/>
                </a:lnTo>
                <a:lnTo>
                  <a:pt x="156" y="1558"/>
                </a:lnTo>
                <a:lnTo>
                  <a:pt x="164" y="1566"/>
                </a:lnTo>
                <a:lnTo>
                  <a:pt x="171" y="1573"/>
                </a:lnTo>
                <a:lnTo>
                  <a:pt x="181" y="1583"/>
                </a:lnTo>
                <a:lnTo>
                  <a:pt x="192" y="1595"/>
                </a:lnTo>
                <a:lnTo>
                  <a:pt x="204" y="1606"/>
                </a:lnTo>
                <a:lnTo>
                  <a:pt x="217" y="1618"/>
                </a:lnTo>
                <a:lnTo>
                  <a:pt x="235" y="1631"/>
                </a:lnTo>
                <a:lnTo>
                  <a:pt x="252" y="1646"/>
                </a:lnTo>
                <a:lnTo>
                  <a:pt x="271" y="1662"/>
                </a:lnTo>
                <a:lnTo>
                  <a:pt x="290" y="1677"/>
                </a:lnTo>
                <a:lnTo>
                  <a:pt x="313" y="1694"/>
                </a:lnTo>
                <a:lnTo>
                  <a:pt x="336" y="1714"/>
                </a:lnTo>
                <a:lnTo>
                  <a:pt x="357" y="1733"/>
                </a:lnTo>
                <a:lnTo>
                  <a:pt x="379" y="1750"/>
                </a:lnTo>
                <a:lnTo>
                  <a:pt x="398" y="1769"/>
                </a:lnTo>
                <a:lnTo>
                  <a:pt x="417" y="1786"/>
                </a:lnTo>
                <a:lnTo>
                  <a:pt x="434" y="1804"/>
                </a:lnTo>
                <a:lnTo>
                  <a:pt x="451" y="1821"/>
                </a:lnTo>
                <a:lnTo>
                  <a:pt x="467" y="1838"/>
                </a:lnTo>
                <a:lnTo>
                  <a:pt x="480" y="1856"/>
                </a:lnTo>
                <a:lnTo>
                  <a:pt x="494" y="1873"/>
                </a:lnTo>
                <a:lnTo>
                  <a:pt x="505" y="1888"/>
                </a:lnTo>
                <a:lnTo>
                  <a:pt x="517" y="1905"/>
                </a:lnTo>
                <a:lnTo>
                  <a:pt x="526" y="1921"/>
                </a:lnTo>
                <a:lnTo>
                  <a:pt x="534" y="1938"/>
                </a:lnTo>
                <a:lnTo>
                  <a:pt x="542" y="1953"/>
                </a:lnTo>
                <a:lnTo>
                  <a:pt x="547" y="1971"/>
                </a:lnTo>
                <a:lnTo>
                  <a:pt x="553" y="1988"/>
                </a:lnTo>
                <a:lnTo>
                  <a:pt x="555" y="2003"/>
                </a:lnTo>
                <a:lnTo>
                  <a:pt x="557" y="2017"/>
                </a:lnTo>
                <a:lnTo>
                  <a:pt x="557" y="2030"/>
                </a:lnTo>
                <a:lnTo>
                  <a:pt x="559" y="2044"/>
                </a:lnTo>
                <a:lnTo>
                  <a:pt x="559" y="2055"/>
                </a:lnTo>
                <a:lnTo>
                  <a:pt x="559" y="2065"/>
                </a:lnTo>
                <a:lnTo>
                  <a:pt x="559" y="2074"/>
                </a:lnTo>
                <a:lnTo>
                  <a:pt x="559" y="2082"/>
                </a:lnTo>
                <a:lnTo>
                  <a:pt x="557" y="2090"/>
                </a:lnTo>
                <a:lnTo>
                  <a:pt x="555" y="2097"/>
                </a:lnTo>
                <a:lnTo>
                  <a:pt x="553" y="2103"/>
                </a:lnTo>
                <a:lnTo>
                  <a:pt x="549" y="2109"/>
                </a:lnTo>
                <a:lnTo>
                  <a:pt x="546" y="2113"/>
                </a:lnTo>
                <a:lnTo>
                  <a:pt x="540" y="2117"/>
                </a:lnTo>
                <a:lnTo>
                  <a:pt x="534" y="2120"/>
                </a:lnTo>
                <a:lnTo>
                  <a:pt x="528" y="2124"/>
                </a:lnTo>
                <a:lnTo>
                  <a:pt x="521" y="2124"/>
                </a:lnTo>
                <a:lnTo>
                  <a:pt x="513" y="2124"/>
                </a:lnTo>
                <a:lnTo>
                  <a:pt x="505" y="2124"/>
                </a:lnTo>
                <a:lnTo>
                  <a:pt x="498" y="2120"/>
                </a:lnTo>
                <a:lnTo>
                  <a:pt x="488" y="2117"/>
                </a:lnTo>
                <a:lnTo>
                  <a:pt x="476" y="2111"/>
                </a:lnTo>
                <a:lnTo>
                  <a:pt x="467" y="2103"/>
                </a:lnTo>
                <a:lnTo>
                  <a:pt x="455" y="2094"/>
                </a:lnTo>
                <a:lnTo>
                  <a:pt x="442" y="2082"/>
                </a:lnTo>
                <a:lnTo>
                  <a:pt x="430" y="2069"/>
                </a:lnTo>
                <a:lnTo>
                  <a:pt x="415" y="2053"/>
                </a:lnTo>
                <a:lnTo>
                  <a:pt x="402" y="2036"/>
                </a:lnTo>
                <a:lnTo>
                  <a:pt x="394" y="2026"/>
                </a:lnTo>
                <a:lnTo>
                  <a:pt x="386" y="2017"/>
                </a:lnTo>
                <a:lnTo>
                  <a:pt x="379" y="2007"/>
                </a:lnTo>
                <a:lnTo>
                  <a:pt x="371" y="1998"/>
                </a:lnTo>
                <a:lnTo>
                  <a:pt x="361" y="1986"/>
                </a:lnTo>
                <a:lnTo>
                  <a:pt x="354" y="1975"/>
                </a:lnTo>
                <a:lnTo>
                  <a:pt x="346" y="1963"/>
                </a:lnTo>
                <a:lnTo>
                  <a:pt x="336" y="1950"/>
                </a:lnTo>
                <a:lnTo>
                  <a:pt x="319" y="1925"/>
                </a:lnTo>
                <a:lnTo>
                  <a:pt x="300" y="1900"/>
                </a:lnTo>
                <a:lnTo>
                  <a:pt x="283" y="1875"/>
                </a:lnTo>
                <a:lnTo>
                  <a:pt x="263" y="1852"/>
                </a:lnTo>
                <a:lnTo>
                  <a:pt x="223" y="1806"/>
                </a:lnTo>
                <a:lnTo>
                  <a:pt x="183" y="1760"/>
                </a:lnTo>
                <a:lnTo>
                  <a:pt x="140" y="1717"/>
                </a:lnTo>
                <a:lnTo>
                  <a:pt x="94" y="1673"/>
                </a:lnTo>
                <a:lnTo>
                  <a:pt x="71" y="1652"/>
                </a:lnTo>
                <a:lnTo>
                  <a:pt x="48" y="1631"/>
                </a:lnTo>
                <a:lnTo>
                  <a:pt x="25" y="1610"/>
                </a:lnTo>
                <a:lnTo>
                  <a:pt x="0" y="1591"/>
                </a:lnTo>
                <a:lnTo>
                  <a:pt x="8" y="1556"/>
                </a:lnTo>
                <a:lnTo>
                  <a:pt x="14" y="1524"/>
                </a:lnTo>
                <a:lnTo>
                  <a:pt x="21" y="1487"/>
                </a:lnTo>
                <a:lnTo>
                  <a:pt x="27" y="1453"/>
                </a:lnTo>
                <a:lnTo>
                  <a:pt x="35" y="1416"/>
                </a:lnTo>
                <a:lnTo>
                  <a:pt x="41" y="1378"/>
                </a:lnTo>
                <a:lnTo>
                  <a:pt x="48" y="1339"/>
                </a:lnTo>
                <a:lnTo>
                  <a:pt x="54" y="1301"/>
                </a:lnTo>
                <a:lnTo>
                  <a:pt x="62" y="1261"/>
                </a:lnTo>
                <a:lnTo>
                  <a:pt x="68" y="1220"/>
                </a:lnTo>
                <a:lnTo>
                  <a:pt x="75" y="1178"/>
                </a:lnTo>
                <a:lnTo>
                  <a:pt x="81" y="1134"/>
                </a:lnTo>
                <a:lnTo>
                  <a:pt x="89" y="1092"/>
                </a:lnTo>
                <a:lnTo>
                  <a:pt x="96" y="1048"/>
                </a:lnTo>
                <a:lnTo>
                  <a:pt x="102" y="1002"/>
                </a:lnTo>
                <a:lnTo>
                  <a:pt x="110" y="955"/>
                </a:lnTo>
                <a:lnTo>
                  <a:pt x="116" y="911"/>
                </a:lnTo>
                <a:lnTo>
                  <a:pt x="121" y="869"/>
                </a:lnTo>
                <a:lnTo>
                  <a:pt x="127" y="827"/>
                </a:lnTo>
                <a:lnTo>
                  <a:pt x="131" y="787"/>
                </a:lnTo>
                <a:lnTo>
                  <a:pt x="137" y="746"/>
                </a:lnTo>
                <a:lnTo>
                  <a:pt x="140" y="706"/>
                </a:lnTo>
                <a:lnTo>
                  <a:pt x="142" y="668"/>
                </a:lnTo>
                <a:lnTo>
                  <a:pt x="146" y="631"/>
                </a:lnTo>
                <a:lnTo>
                  <a:pt x="148" y="595"/>
                </a:lnTo>
                <a:lnTo>
                  <a:pt x="150" y="560"/>
                </a:lnTo>
                <a:lnTo>
                  <a:pt x="152" y="526"/>
                </a:lnTo>
                <a:lnTo>
                  <a:pt x="154" y="493"/>
                </a:lnTo>
                <a:lnTo>
                  <a:pt x="156" y="460"/>
                </a:lnTo>
                <a:lnTo>
                  <a:pt x="156" y="430"/>
                </a:lnTo>
                <a:lnTo>
                  <a:pt x="156" y="401"/>
                </a:lnTo>
                <a:lnTo>
                  <a:pt x="158" y="372"/>
                </a:lnTo>
                <a:lnTo>
                  <a:pt x="156" y="345"/>
                </a:lnTo>
                <a:lnTo>
                  <a:pt x="156" y="318"/>
                </a:lnTo>
                <a:lnTo>
                  <a:pt x="156" y="295"/>
                </a:lnTo>
                <a:lnTo>
                  <a:pt x="154" y="272"/>
                </a:lnTo>
                <a:lnTo>
                  <a:pt x="154" y="249"/>
                </a:lnTo>
                <a:lnTo>
                  <a:pt x="152" y="230"/>
                </a:lnTo>
                <a:lnTo>
                  <a:pt x="150" y="211"/>
                </a:lnTo>
                <a:lnTo>
                  <a:pt x="148" y="194"/>
                </a:lnTo>
                <a:lnTo>
                  <a:pt x="144" y="176"/>
                </a:lnTo>
                <a:lnTo>
                  <a:pt x="142" y="163"/>
                </a:lnTo>
                <a:lnTo>
                  <a:pt x="139" y="149"/>
                </a:lnTo>
                <a:lnTo>
                  <a:pt x="137" y="136"/>
                </a:lnTo>
                <a:lnTo>
                  <a:pt x="133" y="124"/>
                </a:lnTo>
                <a:lnTo>
                  <a:pt x="129" y="115"/>
                </a:lnTo>
                <a:lnTo>
                  <a:pt x="125" y="105"/>
                </a:lnTo>
                <a:lnTo>
                  <a:pt x="121" y="100"/>
                </a:lnTo>
                <a:lnTo>
                  <a:pt x="114" y="94"/>
                </a:lnTo>
                <a:lnTo>
                  <a:pt x="108" y="90"/>
                </a:lnTo>
                <a:lnTo>
                  <a:pt x="102" y="84"/>
                </a:lnTo>
                <a:lnTo>
                  <a:pt x="98" y="80"/>
                </a:lnTo>
                <a:lnTo>
                  <a:pt x="94" y="75"/>
                </a:lnTo>
                <a:lnTo>
                  <a:pt x="91" y="71"/>
                </a:lnTo>
                <a:lnTo>
                  <a:pt x="87" y="65"/>
                </a:lnTo>
                <a:lnTo>
                  <a:pt x="85" y="61"/>
                </a:lnTo>
                <a:lnTo>
                  <a:pt x="83" y="57"/>
                </a:lnTo>
                <a:lnTo>
                  <a:pt x="81" y="52"/>
                </a:lnTo>
                <a:lnTo>
                  <a:pt x="81" y="48"/>
                </a:lnTo>
                <a:lnTo>
                  <a:pt x="81" y="42"/>
                </a:lnTo>
                <a:lnTo>
                  <a:pt x="81" y="38"/>
                </a:lnTo>
                <a:lnTo>
                  <a:pt x="81" y="32"/>
                </a:lnTo>
                <a:lnTo>
                  <a:pt x="83" y="29"/>
                </a:lnTo>
                <a:lnTo>
                  <a:pt x="85" y="25"/>
                </a:lnTo>
                <a:lnTo>
                  <a:pt x="91" y="19"/>
                </a:lnTo>
                <a:lnTo>
                  <a:pt x="96" y="15"/>
                </a:lnTo>
                <a:lnTo>
                  <a:pt x="104" y="11"/>
                </a:lnTo>
                <a:lnTo>
                  <a:pt x="112" y="7"/>
                </a:lnTo>
                <a:lnTo>
                  <a:pt x="121" y="4"/>
                </a:lnTo>
                <a:lnTo>
                  <a:pt x="131" y="2"/>
                </a:lnTo>
                <a:lnTo>
                  <a:pt x="144" y="0"/>
                </a:lnTo>
                <a:lnTo>
                  <a:pt x="158" y="0"/>
                </a:lnTo>
                <a:lnTo>
                  <a:pt x="171" y="4"/>
                </a:lnTo>
                <a:lnTo>
                  <a:pt x="187" y="7"/>
                </a:lnTo>
                <a:lnTo>
                  <a:pt x="202" y="13"/>
                </a:lnTo>
                <a:lnTo>
                  <a:pt x="219" y="19"/>
                </a:lnTo>
                <a:lnTo>
                  <a:pt x="235" y="25"/>
                </a:lnTo>
                <a:lnTo>
                  <a:pt x="254" y="32"/>
                </a:lnTo>
                <a:lnTo>
                  <a:pt x="271" y="40"/>
                </a:lnTo>
                <a:lnTo>
                  <a:pt x="288" y="50"/>
                </a:lnTo>
                <a:lnTo>
                  <a:pt x="302" y="63"/>
                </a:lnTo>
                <a:lnTo>
                  <a:pt x="313" y="75"/>
                </a:lnTo>
                <a:lnTo>
                  <a:pt x="323" y="86"/>
                </a:lnTo>
                <a:lnTo>
                  <a:pt x="332" y="98"/>
                </a:lnTo>
                <a:lnTo>
                  <a:pt x="340" y="107"/>
                </a:lnTo>
                <a:lnTo>
                  <a:pt x="342" y="113"/>
                </a:lnTo>
                <a:lnTo>
                  <a:pt x="344" y="117"/>
                </a:lnTo>
                <a:lnTo>
                  <a:pt x="346" y="123"/>
                </a:lnTo>
                <a:lnTo>
                  <a:pt x="348" y="126"/>
                </a:lnTo>
                <a:lnTo>
                  <a:pt x="348" y="132"/>
                </a:lnTo>
                <a:lnTo>
                  <a:pt x="350" y="136"/>
                </a:lnTo>
                <a:lnTo>
                  <a:pt x="348" y="144"/>
                </a:lnTo>
                <a:lnTo>
                  <a:pt x="348" y="151"/>
                </a:lnTo>
                <a:lnTo>
                  <a:pt x="348" y="161"/>
                </a:lnTo>
                <a:lnTo>
                  <a:pt x="346" y="171"/>
                </a:lnTo>
                <a:lnTo>
                  <a:pt x="346" y="182"/>
                </a:lnTo>
                <a:lnTo>
                  <a:pt x="344" y="194"/>
                </a:lnTo>
                <a:lnTo>
                  <a:pt x="342" y="205"/>
                </a:lnTo>
                <a:lnTo>
                  <a:pt x="342" y="219"/>
                </a:lnTo>
                <a:lnTo>
                  <a:pt x="340" y="234"/>
                </a:lnTo>
                <a:lnTo>
                  <a:pt x="338" y="249"/>
                </a:lnTo>
                <a:lnTo>
                  <a:pt x="336" y="265"/>
                </a:lnTo>
                <a:lnTo>
                  <a:pt x="334" y="282"/>
                </a:lnTo>
                <a:lnTo>
                  <a:pt x="331" y="301"/>
                </a:lnTo>
                <a:lnTo>
                  <a:pt x="329" y="318"/>
                </a:lnTo>
                <a:lnTo>
                  <a:pt x="327" y="339"/>
                </a:lnTo>
                <a:lnTo>
                  <a:pt x="325" y="36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30"/>
          <p:cNvSpPr/>
          <p:nvPr/>
        </p:nvSpPr>
        <p:spPr>
          <a:xfrm>
            <a:off x="5405400" y="3668760"/>
            <a:ext cx="866880" cy="290520"/>
          </a:xfrm>
          <a:custGeom>
            <a:avLst/>
            <a:gdLst/>
            <a:ahLst/>
            <a:rect l="l" t="t" r="r" b="b"/>
            <a:pathLst>
              <a:path w="1093" h="364">
                <a:moveTo>
                  <a:pt x="277" y="324"/>
                </a:moveTo>
                <a:lnTo>
                  <a:pt x="263" y="332"/>
                </a:lnTo>
                <a:lnTo>
                  <a:pt x="252" y="339"/>
                </a:lnTo>
                <a:lnTo>
                  <a:pt x="240" y="345"/>
                </a:lnTo>
                <a:lnTo>
                  <a:pt x="229" y="351"/>
                </a:lnTo>
                <a:lnTo>
                  <a:pt x="217" y="355"/>
                </a:lnTo>
                <a:lnTo>
                  <a:pt x="206" y="358"/>
                </a:lnTo>
                <a:lnTo>
                  <a:pt x="194" y="360"/>
                </a:lnTo>
                <a:lnTo>
                  <a:pt x="181" y="360"/>
                </a:lnTo>
                <a:lnTo>
                  <a:pt x="173" y="362"/>
                </a:lnTo>
                <a:lnTo>
                  <a:pt x="167" y="364"/>
                </a:lnTo>
                <a:lnTo>
                  <a:pt x="160" y="364"/>
                </a:lnTo>
                <a:lnTo>
                  <a:pt x="154" y="362"/>
                </a:lnTo>
                <a:lnTo>
                  <a:pt x="146" y="362"/>
                </a:lnTo>
                <a:lnTo>
                  <a:pt x="141" y="360"/>
                </a:lnTo>
                <a:lnTo>
                  <a:pt x="133" y="356"/>
                </a:lnTo>
                <a:lnTo>
                  <a:pt x="127" y="355"/>
                </a:lnTo>
                <a:lnTo>
                  <a:pt x="119" y="351"/>
                </a:lnTo>
                <a:lnTo>
                  <a:pt x="114" y="347"/>
                </a:lnTo>
                <a:lnTo>
                  <a:pt x="106" y="341"/>
                </a:lnTo>
                <a:lnTo>
                  <a:pt x="98" y="335"/>
                </a:lnTo>
                <a:lnTo>
                  <a:pt x="85" y="324"/>
                </a:lnTo>
                <a:lnTo>
                  <a:pt x="73" y="310"/>
                </a:lnTo>
                <a:lnTo>
                  <a:pt x="64" y="303"/>
                </a:lnTo>
                <a:lnTo>
                  <a:pt x="56" y="297"/>
                </a:lnTo>
                <a:lnTo>
                  <a:pt x="48" y="291"/>
                </a:lnTo>
                <a:lnTo>
                  <a:pt x="41" y="285"/>
                </a:lnTo>
                <a:lnTo>
                  <a:pt x="35" y="278"/>
                </a:lnTo>
                <a:lnTo>
                  <a:pt x="29" y="272"/>
                </a:lnTo>
                <a:lnTo>
                  <a:pt x="23" y="268"/>
                </a:lnTo>
                <a:lnTo>
                  <a:pt x="20" y="262"/>
                </a:lnTo>
                <a:lnTo>
                  <a:pt x="14" y="257"/>
                </a:lnTo>
                <a:lnTo>
                  <a:pt x="10" y="251"/>
                </a:lnTo>
                <a:lnTo>
                  <a:pt x="8" y="247"/>
                </a:lnTo>
                <a:lnTo>
                  <a:pt x="4" y="241"/>
                </a:lnTo>
                <a:lnTo>
                  <a:pt x="2" y="237"/>
                </a:lnTo>
                <a:lnTo>
                  <a:pt x="2" y="232"/>
                </a:lnTo>
                <a:lnTo>
                  <a:pt x="0" y="228"/>
                </a:lnTo>
                <a:lnTo>
                  <a:pt x="0" y="224"/>
                </a:lnTo>
                <a:lnTo>
                  <a:pt x="0" y="218"/>
                </a:lnTo>
                <a:lnTo>
                  <a:pt x="2" y="214"/>
                </a:lnTo>
                <a:lnTo>
                  <a:pt x="6" y="211"/>
                </a:lnTo>
                <a:lnTo>
                  <a:pt x="12" y="207"/>
                </a:lnTo>
                <a:lnTo>
                  <a:pt x="18" y="203"/>
                </a:lnTo>
                <a:lnTo>
                  <a:pt x="25" y="201"/>
                </a:lnTo>
                <a:lnTo>
                  <a:pt x="31" y="199"/>
                </a:lnTo>
                <a:lnTo>
                  <a:pt x="37" y="199"/>
                </a:lnTo>
                <a:lnTo>
                  <a:pt x="43" y="199"/>
                </a:lnTo>
                <a:lnTo>
                  <a:pt x="48" y="199"/>
                </a:lnTo>
                <a:lnTo>
                  <a:pt x="52" y="197"/>
                </a:lnTo>
                <a:lnTo>
                  <a:pt x="56" y="197"/>
                </a:lnTo>
                <a:lnTo>
                  <a:pt x="62" y="197"/>
                </a:lnTo>
                <a:lnTo>
                  <a:pt x="68" y="197"/>
                </a:lnTo>
                <a:lnTo>
                  <a:pt x="73" y="195"/>
                </a:lnTo>
                <a:lnTo>
                  <a:pt x="81" y="195"/>
                </a:lnTo>
                <a:lnTo>
                  <a:pt x="89" y="193"/>
                </a:lnTo>
                <a:lnTo>
                  <a:pt x="98" y="191"/>
                </a:lnTo>
                <a:lnTo>
                  <a:pt x="108" y="190"/>
                </a:lnTo>
                <a:lnTo>
                  <a:pt x="117" y="188"/>
                </a:lnTo>
                <a:lnTo>
                  <a:pt x="129" y="186"/>
                </a:lnTo>
                <a:lnTo>
                  <a:pt x="141" y="184"/>
                </a:lnTo>
                <a:lnTo>
                  <a:pt x="152" y="182"/>
                </a:lnTo>
                <a:lnTo>
                  <a:pt x="165" y="178"/>
                </a:lnTo>
                <a:lnTo>
                  <a:pt x="179" y="176"/>
                </a:lnTo>
                <a:lnTo>
                  <a:pt x="194" y="172"/>
                </a:lnTo>
                <a:lnTo>
                  <a:pt x="210" y="168"/>
                </a:lnTo>
                <a:lnTo>
                  <a:pt x="225" y="166"/>
                </a:lnTo>
                <a:lnTo>
                  <a:pt x="242" y="163"/>
                </a:lnTo>
                <a:lnTo>
                  <a:pt x="260" y="159"/>
                </a:lnTo>
                <a:lnTo>
                  <a:pt x="279" y="155"/>
                </a:lnTo>
                <a:lnTo>
                  <a:pt x="296" y="151"/>
                </a:lnTo>
                <a:lnTo>
                  <a:pt x="317" y="145"/>
                </a:lnTo>
                <a:lnTo>
                  <a:pt x="336" y="142"/>
                </a:lnTo>
                <a:lnTo>
                  <a:pt x="357" y="138"/>
                </a:lnTo>
                <a:lnTo>
                  <a:pt x="381" y="132"/>
                </a:lnTo>
                <a:lnTo>
                  <a:pt x="404" y="126"/>
                </a:lnTo>
                <a:lnTo>
                  <a:pt x="427" y="122"/>
                </a:lnTo>
                <a:lnTo>
                  <a:pt x="452" y="117"/>
                </a:lnTo>
                <a:lnTo>
                  <a:pt x="477" y="111"/>
                </a:lnTo>
                <a:lnTo>
                  <a:pt x="501" y="105"/>
                </a:lnTo>
                <a:lnTo>
                  <a:pt x="528" y="99"/>
                </a:lnTo>
                <a:lnTo>
                  <a:pt x="555" y="94"/>
                </a:lnTo>
                <a:lnTo>
                  <a:pt x="582" y="88"/>
                </a:lnTo>
                <a:lnTo>
                  <a:pt x="607" y="82"/>
                </a:lnTo>
                <a:lnTo>
                  <a:pt x="632" y="76"/>
                </a:lnTo>
                <a:lnTo>
                  <a:pt x="657" y="72"/>
                </a:lnTo>
                <a:lnTo>
                  <a:pt x="680" y="67"/>
                </a:lnTo>
                <a:lnTo>
                  <a:pt x="703" y="61"/>
                </a:lnTo>
                <a:lnTo>
                  <a:pt x="726" y="57"/>
                </a:lnTo>
                <a:lnTo>
                  <a:pt x="749" y="53"/>
                </a:lnTo>
                <a:lnTo>
                  <a:pt x="770" y="47"/>
                </a:lnTo>
                <a:lnTo>
                  <a:pt x="791" y="44"/>
                </a:lnTo>
                <a:lnTo>
                  <a:pt x="811" y="40"/>
                </a:lnTo>
                <a:lnTo>
                  <a:pt x="832" y="36"/>
                </a:lnTo>
                <a:lnTo>
                  <a:pt x="851" y="32"/>
                </a:lnTo>
                <a:lnTo>
                  <a:pt x="868" y="28"/>
                </a:lnTo>
                <a:lnTo>
                  <a:pt x="887" y="26"/>
                </a:lnTo>
                <a:lnTo>
                  <a:pt x="905" y="23"/>
                </a:lnTo>
                <a:lnTo>
                  <a:pt x="922" y="21"/>
                </a:lnTo>
                <a:lnTo>
                  <a:pt x="937" y="17"/>
                </a:lnTo>
                <a:lnTo>
                  <a:pt x="953" y="15"/>
                </a:lnTo>
                <a:lnTo>
                  <a:pt x="968" y="13"/>
                </a:lnTo>
                <a:lnTo>
                  <a:pt x="983" y="9"/>
                </a:lnTo>
                <a:lnTo>
                  <a:pt x="997" y="7"/>
                </a:lnTo>
                <a:lnTo>
                  <a:pt x="1010" y="7"/>
                </a:lnTo>
                <a:lnTo>
                  <a:pt x="1022" y="5"/>
                </a:lnTo>
                <a:lnTo>
                  <a:pt x="1033" y="3"/>
                </a:lnTo>
                <a:lnTo>
                  <a:pt x="1045" y="1"/>
                </a:lnTo>
                <a:lnTo>
                  <a:pt x="1056" y="1"/>
                </a:lnTo>
                <a:lnTo>
                  <a:pt x="1066" y="1"/>
                </a:lnTo>
                <a:lnTo>
                  <a:pt x="1075" y="0"/>
                </a:lnTo>
                <a:lnTo>
                  <a:pt x="1085" y="0"/>
                </a:lnTo>
                <a:lnTo>
                  <a:pt x="1093" y="0"/>
                </a:lnTo>
                <a:lnTo>
                  <a:pt x="1093" y="30"/>
                </a:lnTo>
                <a:lnTo>
                  <a:pt x="1093" y="63"/>
                </a:lnTo>
                <a:lnTo>
                  <a:pt x="1026" y="80"/>
                </a:lnTo>
                <a:lnTo>
                  <a:pt x="960" y="99"/>
                </a:lnTo>
                <a:lnTo>
                  <a:pt x="895" y="119"/>
                </a:lnTo>
                <a:lnTo>
                  <a:pt x="832" y="136"/>
                </a:lnTo>
                <a:lnTo>
                  <a:pt x="770" y="155"/>
                </a:lnTo>
                <a:lnTo>
                  <a:pt x="709" y="174"/>
                </a:lnTo>
                <a:lnTo>
                  <a:pt x="647" y="191"/>
                </a:lnTo>
                <a:lnTo>
                  <a:pt x="590" y="211"/>
                </a:lnTo>
                <a:lnTo>
                  <a:pt x="557" y="220"/>
                </a:lnTo>
                <a:lnTo>
                  <a:pt x="528" y="230"/>
                </a:lnTo>
                <a:lnTo>
                  <a:pt x="501" y="237"/>
                </a:lnTo>
                <a:lnTo>
                  <a:pt x="475" y="247"/>
                </a:lnTo>
                <a:lnTo>
                  <a:pt x="450" y="255"/>
                </a:lnTo>
                <a:lnTo>
                  <a:pt x="427" y="262"/>
                </a:lnTo>
                <a:lnTo>
                  <a:pt x="404" y="270"/>
                </a:lnTo>
                <a:lnTo>
                  <a:pt x="382" y="276"/>
                </a:lnTo>
                <a:lnTo>
                  <a:pt x="365" y="284"/>
                </a:lnTo>
                <a:lnTo>
                  <a:pt x="346" y="289"/>
                </a:lnTo>
                <a:lnTo>
                  <a:pt x="331" y="297"/>
                </a:lnTo>
                <a:lnTo>
                  <a:pt x="317" y="303"/>
                </a:lnTo>
                <a:lnTo>
                  <a:pt x="304" y="308"/>
                </a:lnTo>
                <a:lnTo>
                  <a:pt x="294" y="312"/>
                </a:lnTo>
                <a:lnTo>
                  <a:pt x="285" y="318"/>
                </a:lnTo>
                <a:lnTo>
                  <a:pt x="277" y="32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31"/>
          <p:cNvSpPr/>
          <p:nvPr/>
        </p:nvSpPr>
        <p:spPr>
          <a:xfrm>
            <a:off x="6348240" y="3117960"/>
            <a:ext cx="1143000" cy="260280"/>
          </a:xfrm>
          <a:custGeom>
            <a:avLst/>
            <a:gdLst/>
            <a:ahLst/>
            <a:rect l="l" t="t" r="r" b="b"/>
            <a:pathLst>
              <a:path w="1440" h="328">
                <a:moveTo>
                  <a:pt x="1357" y="149"/>
                </a:moveTo>
                <a:lnTo>
                  <a:pt x="1338" y="153"/>
                </a:lnTo>
                <a:lnTo>
                  <a:pt x="1321" y="155"/>
                </a:lnTo>
                <a:lnTo>
                  <a:pt x="1303" y="157"/>
                </a:lnTo>
                <a:lnTo>
                  <a:pt x="1286" y="159"/>
                </a:lnTo>
                <a:lnTo>
                  <a:pt x="1269" y="161"/>
                </a:lnTo>
                <a:lnTo>
                  <a:pt x="1253" y="161"/>
                </a:lnTo>
                <a:lnTo>
                  <a:pt x="1238" y="161"/>
                </a:lnTo>
                <a:lnTo>
                  <a:pt x="1225" y="161"/>
                </a:lnTo>
                <a:lnTo>
                  <a:pt x="1213" y="161"/>
                </a:lnTo>
                <a:lnTo>
                  <a:pt x="1202" y="161"/>
                </a:lnTo>
                <a:lnTo>
                  <a:pt x="1190" y="163"/>
                </a:lnTo>
                <a:lnTo>
                  <a:pt x="1175" y="163"/>
                </a:lnTo>
                <a:lnTo>
                  <a:pt x="1157" y="165"/>
                </a:lnTo>
                <a:lnTo>
                  <a:pt x="1140" y="167"/>
                </a:lnTo>
                <a:lnTo>
                  <a:pt x="1119" y="169"/>
                </a:lnTo>
                <a:lnTo>
                  <a:pt x="1098" y="171"/>
                </a:lnTo>
                <a:lnTo>
                  <a:pt x="1075" y="174"/>
                </a:lnTo>
                <a:lnTo>
                  <a:pt x="1050" y="178"/>
                </a:lnTo>
                <a:lnTo>
                  <a:pt x="1023" y="182"/>
                </a:lnTo>
                <a:lnTo>
                  <a:pt x="994" y="186"/>
                </a:lnTo>
                <a:lnTo>
                  <a:pt x="963" y="192"/>
                </a:lnTo>
                <a:lnTo>
                  <a:pt x="933" y="197"/>
                </a:lnTo>
                <a:lnTo>
                  <a:pt x="898" y="203"/>
                </a:lnTo>
                <a:lnTo>
                  <a:pt x="864" y="211"/>
                </a:lnTo>
                <a:lnTo>
                  <a:pt x="827" y="217"/>
                </a:lnTo>
                <a:lnTo>
                  <a:pt x="793" y="224"/>
                </a:lnTo>
                <a:lnTo>
                  <a:pt x="760" y="230"/>
                </a:lnTo>
                <a:lnTo>
                  <a:pt x="725" y="236"/>
                </a:lnTo>
                <a:lnTo>
                  <a:pt x="695" y="242"/>
                </a:lnTo>
                <a:lnTo>
                  <a:pt x="662" y="247"/>
                </a:lnTo>
                <a:lnTo>
                  <a:pt x="631" y="253"/>
                </a:lnTo>
                <a:lnTo>
                  <a:pt x="601" y="259"/>
                </a:lnTo>
                <a:lnTo>
                  <a:pt x="572" y="265"/>
                </a:lnTo>
                <a:lnTo>
                  <a:pt x="543" y="268"/>
                </a:lnTo>
                <a:lnTo>
                  <a:pt x="514" y="274"/>
                </a:lnTo>
                <a:lnTo>
                  <a:pt x="487" y="278"/>
                </a:lnTo>
                <a:lnTo>
                  <a:pt x="461" y="284"/>
                </a:lnTo>
                <a:lnTo>
                  <a:pt x="434" y="288"/>
                </a:lnTo>
                <a:lnTo>
                  <a:pt x="409" y="293"/>
                </a:lnTo>
                <a:lnTo>
                  <a:pt x="384" y="297"/>
                </a:lnTo>
                <a:lnTo>
                  <a:pt x="361" y="301"/>
                </a:lnTo>
                <a:lnTo>
                  <a:pt x="338" y="307"/>
                </a:lnTo>
                <a:lnTo>
                  <a:pt x="317" y="311"/>
                </a:lnTo>
                <a:lnTo>
                  <a:pt x="295" y="313"/>
                </a:lnTo>
                <a:lnTo>
                  <a:pt x="278" y="316"/>
                </a:lnTo>
                <a:lnTo>
                  <a:pt x="259" y="320"/>
                </a:lnTo>
                <a:lnTo>
                  <a:pt x="244" y="322"/>
                </a:lnTo>
                <a:lnTo>
                  <a:pt x="228" y="324"/>
                </a:lnTo>
                <a:lnTo>
                  <a:pt x="215" y="326"/>
                </a:lnTo>
                <a:lnTo>
                  <a:pt x="201" y="326"/>
                </a:lnTo>
                <a:lnTo>
                  <a:pt x="190" y="328"/>
                </a:lnTo>
                <a:lnTo>
                  <a:pt x="178" y="328"/>
                </a:lnTo>
                <a:lnTo>
                  <a:pt x="169" y="326"/>
                </a:lnTo>
                <a:lnTo>
                  <a:pt x="159" y="326"/>
                </a:lnTo>
                <a:lnTo>
                  <a:pt x="151" y="324"/>
                </a:lnTo>
                <a:lnTo>
                  <a:pt x="144" y="322"/>
                </a:lnTo>
                <a:lnTo>
                  <a:pt x="136" y="322"/>
                </a:lnTo>
                <a:lnTo>
                  <a:pt x="130" y="320"/>
                </a:lnTo>
                <a:lnTo>
                  <a:pt x="123" y="320"/>
                </a:lnTo>
                <a:lnTo>
                  <a:pt x="115" y="318"/>
                </a:lnTo>
                <a:lnTo>
                  <a:pt x="105" y="315"/>
                </a:lnTo>
                <a:lnTo>
                  <a:pt x="98" y="311"/>
                </a:lnTo>
                <a:lnTo>
                  <a:pt x="90" y="307"/>
                </a:lnTo>
                <a:lnTo>
                  <a:pt x="80" y="303"/>
                </a:lnTo>
                <a:lnTo>
                  <a:pt x="71" y="297"/>
                </a:lnTo>
                <a:lnTo>
                  <a:pt x="61" y="290"/>
                </a:lnTo>
                <a:lnTo>
                  <a:pt x="52" y="284"/>
                </a:lnTo>
                <a:lnTo>
                  <a:pt x="42" y="276"/>
                </a:lnTo>
                <a:lnTo>
                  <a:pt x="32" y="267"/>
                </a:lnTo>
                <a:lnTo>
                  <a:pt x="21" y="257"/>
                </a:lnTo>
                <a:lnTo>
                  <a:pt x="11" y="245"/>
                </a:lnTo>
                <a:lnTo>
                  <a:pt x="0" y="236"/>
                </a:lnTo>
                <a:lnTo>
                  <a:pt x="7" y="234"/>
                </a:lnTo>
                <a:lnTo>
                  <a:pt x="17" y="234"/>
                </a:lnTo>
                <a:lnTo>
                  <a:pt x="27" y="234"/>
                </a:lnTo>
                <a:lnTo>
                  <a:pt x="36" y="234"/>
                </a:lnTo>
                <a:lnTo>
                  <a:pt x="48" y="234"/>
                </a:lnTo>
                <a:lnTo>
                  <a:pt x="57" y="232"/>
                </a:lnTo>
                <a:lnTo>
                  <a:pt x="71" y="232"/>
                </a:lnTo>
                <a:lnTo>
                  <a:pt x="82" y="230"/>
                </a:lnTo>
                <a:lnTo>
                  <a:pt x="96" y="228"/>
                </a:lnTo>
                <a:lnTo>
                  <a:pt x="109" y="228"/>
                </a:lnTo>
                <a:lnTo>
                  <a:pt x="125" y="226"/>
                </a:lnTo>
                <a:lnTo>
                  <a:pt x="140" y="224"/>
                </a:lnTo>
                <a:lnTo>
                  <a:pt x="155" y="222"/>
                </a:lnTo>
                <a:lnTo>
                  <a:pt x="171" y="220"/>
                </a:lnTo>
                <a:lnTo>
                  <a:pt x="188" y="219"/>
                </a:lnTo>
                <a:lnTo>
                  <a:pt x="205" y="215"/>
                </a:lnTo>
                <a:lnTo>
                  <a:pt x="222" y="213"/>
                </a:lnTo>
                <a:lnTo>
                  <a:pt x="242" y="211"/>
                </a:lnTo>
                <a:lnTo>
                  <a:pt x="261" y="207"/>
                </a:lnTo>
                <a:lnTo>
                  <a:pt x="282" y="203"/>
                </a:lnTo>
                <a:lnTo>
                  <a:pt x="301" y="199"/>
                </a:lnTo>
                <a:lnTo>
                  <a:pt x="322" y="197"/>
                </a:lnTo>
                <a:lnTo>
                  <a:pt x="343" y="194"/>
                </a:lnTo>
                <a:lnTo>
                  <a:pt x="366" y="188"/>
                </a:lnTo>
                <a:lnTo>
                  <a:pt x="389" y="184"/>
                </a:lnTo>
                <a:lnTo>
                  <a:pt x="413" y="180"/>
                </a:lnTo>
                <a:lnTo>
                  <a:pt x="436" y="174"/>
                </a:lnTo>
                <a:lnTo>
                  <a:pt x="461" y="171"/>
                </a:lnTo>
                <a:lnTo>
                  <a:pt x="485" y="165"/>
                </a:lnTo>
                <a:lnTo>
                  <a:pt x="510" y="159"/>
                </a:lnTo>
                <a:lnTo>
                  <a:pt x="537" y="155"/>
                </a:lnTo>
                <a:lnTo>
                  <a:pt x="564" y="149"/>
                </a:lnTo>
                <a:lnTo>
                  <a:pt x="591" y="142"/>
                </a:lnTo>
                <a:lnTo>
                  <a:pt x="616" y="138"/>
                </a:lnTo>
                <a:lnTo>
                  <a:pt x="643" y="132"/>
                </a:lnTo>
                <a:lnTo>
                  <a:pt x="666" y="126"/>
                </a:lnTo>
                <a:lnTo>
                  <a:pt x="691" y="121"/>
                </a:lnTo>
                <a:lnTo>
                  <a:pt x="714" y="115"/>
                </a:lnTo>
                <a:lnTo>
                  <a:pt x="737" y="111"/>
                </a:lnTo>
                <a:lnTo>
                  <a:pt x="760" y="105"/>
                </a:lnTo>
                <a:lnTo>
                  <a:pt x="781" y="101"/>
                </a:lnTo>
                <a:lnTo>
                  <a:pt x="802" y="98"/>
                </a:lnTo>
                <a:lnTo>
                  <a:pt x="821" y="92"/>
                </a:lnTo>
                <a:lnTo>
                  <a:pt x="843" y="88"/>
                </a:lnTo>
                <a:lnTo>
                  <a:pt x="860" y="84"/>
                </a:lnTo>
                <a:lnTo>
                  <a:pt x="879" y="80"/>
                </a:lnTo>
                <a:lnTo>
                  <a:pt x="896" y="77"/>
                </a:lnTo>
                <a:lnTo>
                  <a:pt x="914" y="73"/>
                </a:lnTo>
                <a:lnTo>
                  <a:pt x="929" y="69"/>
                </a:lnTo>
                <a:lnTo>
                  <a:pt x="946" y="65"/>
                </a:lnTo>
                <a:lnTo>
                  <a:pt x="960" y="61"/>
                </a:lnTo>
                <a:lnTo>
                  <a:pt x="975" y="57"/>
                </a:lnTo>
                <a:lnTo>
                  <a:pt x="988" y="55"/>
                </a:lnTo>
                <a:lnTo>
                  <a:pt x="1002" y="52"/>
                </a:lnTo>
                <a:lnTo>
                  <a:pt x="1013" y="48"/>
                </a:lnTo>
                <a:lnTo>
                  <a:pt x="1025" y="46"/>
                </a:lnTo>
                <a:lnTo>
                  <a:pt x="1036" y="42"/>
                </a:lnTo>
                <a:lnTo>
                  <a:pt x="1046" y="40"/>
                </a:lnTo>
                <a:lnTo>
                  <a:pt x="1056" y="36"/>
                </a:lnTo>
                <a:lnTo>
                  <a:pt x="1063" y="34"/>
                </a:lnTo>
                <a:lnTo>
                  <a:pt x="1073" y="30"/>
                </a:lnTo>
                <a:lnTo>
                  <a:pt x="1079" y="29"/>
                </a:lnTo>
                <a:lnTo>
                  <a:pt x="1086" y="27"/>
                </a:lnTo>
                <a:lnTo>
                  <a:pt x="1092" y="25"/>
                </a:lnTo>
                <a:lnTo>
                  <a:pt x="1115" y="19"/>
                </a:lnTo>
                <a:lnTo>
                  <a:pt x="1136" y="15"/>
                </a:lnTo>
                <a:lnTo>
                  <a:pt x="1157" y="11"/>
                </a:lnTo>
                <a:lnTo>
                  <a:pt x="1179" y="7"/>
                </a:lnTo>
                <a:lnTo>
                  <a:pt x="1198" y="4"/>
                </a:lnTo>
                <a:lnTo>
                  <a:pt x="1217" y="2"/>
                </a:lnTo>
                <a:lnTo>
                  <a:pt x="1225" y="0"/>
                </a:lnTo>
                <a:lnTo>
                  <a:pt x="1234" y="0"/>
                </a:lnTo>
                <a:lnTo>
                  <a:pt x="1240" y="0"/>
                </a:lnTo>
                <a:lnTo>
                  <a:pt x="1248" y="0"/>
                </a:lnTo>
                <a:lnTo>
                  <a:pt x="1261" y="0"/>
                </a:lnTo>
                <a:lnTo>
                  <a:pt x="1276" y="2"/>
                </a:lnTo>
                <a:lnTo>
                  <a:pt x="1294" y="4"/>
                </a:lnTo>
                <a:lnTo>
                  <a:pt x="1309" y="7"/>
                </a:lnTo>
                <a:lnTo>
                  <a:pt x="1326" y="11"/>
                </a:lnTo>
                <a:lnTo>
                  <a:pt x="1344" y="15"/>
                </a:lnTo>
                <a:lnTo>
                  <a:pt x="1380" y="25"/>
                </a:lnTo>
                <a:lnTo>
                  <a:pt x="1394" y="32"/>
                </a:lnTo>
                <a:lnTo>
                  <a:pt x="1405" y="42"/>
                </a:lnTo>
                <a:lnTo>
                  <a:pt x="1415" y="52"/>
                </a:lnTo>
                <a:lnTo>
                  <a:pt x="1422" y="59"/>
                </a:lnTo>
                <a:lnTo>
                  <a:pt x="1430" y="67"/>
                </a:lnTo>
                <a:lnTo>
                  <a:pt x="1434" y="71"/>
                </a:lnTo>
                <a:lnTo>
                  <a:pt x="1436" y="75"/>
                </a:lnTo>
                <a:lnTo>
                  <a:pt x="1438" y="78"/>
                </a:lnTo>
                <a:lnTo>
                  <a:pt x="1438" y="80"/>
                </a:lnTo>
                <a:lnTo>
                  <a:pt x="1440" y="84"/>
                </a:lnTo>
                <a:lnTo>
                  <a:pt x="1440" y="86"/>
                </a:lnTo>
                <a:lnTo>
                  <a:pt x="1440" y="90"/>
                </a:lnTo>
                <a:lnTo>
                  <a:pt x="1438" y="96"/>
                </a:lnTo>
                <a:lnTo>
                  <a:pt x="1438" y="100"/>
                </a:lnTo>
                <a:lnTo>
                  <a:pt x="1436" y="105"/>
                </a:lnTo>
                <a:lnTo>
                  <a:pt x="1432" y="109"/>
                </a:lnTo>
                <a:lnTo>
                  <a:pt x="1428" y="113"/>
                </a:lnTo>
                <a:lnTo>
                  <a:pt x="1424" y="117"/>
                </a:lnTo>
                <a:lnTo>
                  <a:pt x="1420" y="123"/>
                </a:lnTo>
                <a:lnTo>
                  <a:pt x="1415" y="126"/>
                </a:lnTo>
                <a:lnTo>
                  <a:pt x="1409" y="130"/>
                </a:lnTo>
                <a:lnTo>
                  <a:pt x="1401" y="132"/>
                </a:lnTo>
                <a:lnTo>
                  <a:pt x="1394" y="136"/>
                </a:lnTo>
                <a:lnTo>
                  <a:pt x="1386" y="140"/>
                </a:lnTo>
                <a:lnTo>
                  <a:pt x="1376" y="144"/>
                </a:lnTo>
                <a:lnTo>
                  <a:pt x="1367" y="146"/>
                </a:lnTo>
                <a:lnTo>
                  <a:pt x="1357" y="149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32"/>
          <p:cNvSpPr/>
          <p:nvPr/>
        </p:nvSpPr>
        <p:spPr>
          <a:xfrm>
            <a:off x="7031160" y="2793960"/>
            <a:ext cx="223560" cy="1106640"/>
          </a:xfrm>
          <a:custGeom>
            <a:avLst/>
            <a:gdLst/>
            <a:ahLst/>
            <a:rect l="l" t="t" r="r" b="b"/>
            <a:pathLst>
              <a:path w="280" h="1393">
                <a:moveTo>
                  <a:pt x="221" y="332"/>
                </a:moveTo>
                <a:lnTo>
                  <a:pt x="221" y="424"/>
                </a:lnTo>
                <a:lnTo>
                  <a:pt x="221" y="518"/>
                </a:lnTo>
                <a:lnTo>
                  <a:pt x="219" y="524"/>
                </a:lnTo>
                <a:lnTo>
                  <a:pt x="217" y="532"/>
                </a:lnTo>
                <a:lnTo>
                  <a:pt x="217" y="537"/>
                </a:lnTo>
                <a:lnTo>
                  <a:pt x="215" y="545"/>
                </a:lnTo>
                <a:lnTo>
                  <a:pt x="215" y="555"/>
                </a:lnTo>
                <a:lnTo>
                  <a:pt x="213" y="562"/>
                </a:lnTo>
                <a:lnTo>
                  <a:pt x="213" y="572"/>
                </a:lnTo>
                <a:lnTo>
                  <a:pt x="211" y="581"/>
                </a:lnTo>
                <a:lnTo>
                  <a:pt x="209" y="591"/>
                </a:lnTo>
                <a:lnTo>
                  <a:pt x="209" y="603"/>
                </a:lnTo>
                <a:lnTo>
                  <a:pt x="207" y="614"/>
                </a:lnTo>
                <a:lnTo>
                  <a:pt x="207" y="626"/>
                </a:lnTo>
                <a:lnTo>
                  <a:pt x="205" y="639"/>
                </a:lnTo>
                <a:lnTo>
                  <a:pt x="203" y="652"/>
                </a:lnTo>
                <a:lnTo>
                  <a:pt x="203" y="666"/>
                </a:lnTo>
                <a:lnTo>
                  <a:pt x="201" y="679"/>
                </a:lnTo>
                <a:lnTo>
                  <a:pt x="201" y="695"/>
                </a:lnTo>
                <a:lnTo>
                  <a:pt x="199" y="710"/>
                </a:lnTo>
                <a:lnTo>
                  <a:pt x="199" y="725"/>
                </a:lnTo>
                <a:lnTo>
                  <a:pt x="198" y="743"/>
                </a:lnTo>
                <a:lnTo>
                  <a:pt x="196" y="760"/>
                </a:lnTo>
                <a:lnTo>
                  <a:pt x="196" y="777"/>
                </a:lnTo>
                <a:lnTo>
                  <a:pt x="194" y="796"/>
                </a:lnTo>
                <a:lnTo>
                  <a:pt x="194" y="816"/>
                </a:lnTo>
                <a:lnTo>
                  <a:pt x="192" y="835"/>
                </a:lnTo>
                <a:lnTo>
                  <a:pt x="190" y="856"/>
                </a:lnTo>
                <a:lnTo>
                  <a:pt x="190" y="877"/>
                </a:lnTo>
                <a:lnTo>
                  <a:pt x="188" y="898"/>
                </a:lnTo>
                <a:lnTo>
                  <a:pt x="188" y="919"/>
                </a:lnTo>
                <a:lnTo>
                  <a:pt x="186" y="942"/>
                </a:lnTo>
                <a:lnTo>
                  <a:pt x="186" y="965"/>
                </a:lnTo>
                <a:lnTo>
                  <a:pt x="184" y="990"/>
                </a:lnTo>
                <a:lnTo>
                  <a:pt x="182" y="1015"/>
                </a:lnTo>
                <a:lnTo>
                  <a:pt x="180" y="1038"/>
                </a:lnTo>
                <a:lnTo>
                  <a:pt x="178" y="1061"/>
                </a:lnTo>
                <a:lnTo>
                  <a:pt x="175" y="1082"/>
                </a:lnTo>
                <a:lnTo>
                  <a:pt x="173" y="1103"/>
                </a:lnTo>
                <a:lnTo>
                  <a:pt x="171" y="1125"/>
                </a:lnTo>
                <a:lnTo>
                  <a:pt x="169" y="1144"/>
                </a:lnTo>
                <a:lnTo>
                  <a:pt x="167" y="1163"/>
                </a:lnTo>
                <a:lnTo>
                  <a:pt x="163" y="1180"/>
                </a:lnTo>
                <a:lnTo>
                  <a:pt x="161" y="1197"/>
                </a:lnTo>
                <a:lnTo>
                  <a:pt x="159" y="1215"/>
                </a:lnTo>
                <a:lnTo>
                  <a:pt x="157" y="1230"/>
                </a:lnTo>
                <a:lnTo>
                  <a:pt x="155" y="1245"/>
                </a:lnTo>
                <a:lnTo>
                  <a:pt x="153" y="1261"/>
                </a:lnTo>
                <a:lnTo>
                  <a:pt x="150" y="1274"/>
                </a:lnTo>
                <a:lnTo>
                  <a:pt x="148" y="1288"/>
                </a:lnTo>
                <a:lnTo>
                  <a:pt x="146" y="1299"/>
                </a:lnTo>
                <a:lnTo>
                  <a:pt x="144" y="1311"/>
                </a:lnTo>
                <a:lnTo>
                  <a:pt x="142" y="1320"/>
                </a:lnTo>
                <a:lnTo>
                  <a:pt x="140" y="1330"/>
                </a:lnTo>
                <a:lnTo>
                  <a:pt x="136" y="1339"/>
                </a:lnTo>
                <a:lnTo>
                  <a:pt x="134" y="1347"/>
                </a:lnTo>
                <a:lnTo>
                  <a:pt x="132" y="1355"/>
                </a:lnTo>
                <a:lnTo>
                  <a:pt x="130" y="1363"/>
                </a:lnTo>
                <a:lnTo>
                  <a:pt x="128" y="1368"/>
                </a:lnTo>
                <a:lnTo>
                  <a:pt x="127" y="1374"/>
                </a:lnTo>
                <a:lnTo>
                  <a:pt x="123" y="1378"/>
                </a:lnTo>
                <a:lnTo>
                  <a:pt x="121" y="1382"/>
                </a:lnTo>
                <a:lnTo>
                  <a:pt x="119" y="1384"/>
                </a:lnTo>
                <a:lnTo>
                  <a:pt x="117" y="1386"/>
                </a:lnTo>
                <a:lnTo>
                  <a:pt x="115" y="1387"/>
                </a:lnTo>
                <a:lnTo>
                  <a:pt x="113" y="1387"/>
                </a:lnTo>
                <a:lnTo>
                  <a:pt x="105" y="1389"/>
                </a:lnTo>
                <a:lnTo>
                  <a:pt x="100" y="1391"/>
                </a:lnTo>
                <a:lnTo>
                  <a:pt x="94" y="1391"/>
                </a:lnTo>
                <a:lnTo>
                  <a:pt x="88" y="1393"/>
                </a:lnTo>
                <a:lnTo>
                  <a:pt x="84" y="1393"/>
                </a:lnTo>
                <a:lnTo>
                  <a:pt x="80" y="1391"/>
                </a:lnTo>
                <a:lnTo>
                  <a:pt x="73" y="1389"/>
                </a:lnTo>
                <a:lnTo>
                  <a:pt x="67" y="1386"/>
                </a:lnTo>
                <a:lnTo>
                  <a:pt x="61" y="1378"/>
                </a:lnTo>
                <a:lnTo>
                  <a:pt x="55" y="1372"/>
                </a:lnTo>
                <a:lnTo>
                  <a:pt x="52" y="1363"/>
                </a:lnTo>
                <a:lnTo>
                  <a:pt x="50" y="1357"/>
                </a:lnTo>
                <a:lnTo>
                  <a:pt x="48" y="1349"/>
                </a:lnTo>
                <a:lnTo>
                  <a:pt x="46" y="1341"/>
                </a:lnTo>
                <a:lnTo>
                  <a:pt x="46" y="1330"/>
                </a:lnTo>
                <a:lnTo>
                  <a:pt x="44" y="1318"/>
                </a:lnTo>
                <a:lnTo>
                  <a:pt x="44" y="1303"/>
                </a:lnTo>
                <a:lnTo>
                  <a:pt x="44" y="1288"/>
                </a:lnTo>
                <a:lnTo>
                  <a:pt x="44" y="1270"/>
                </a:lnTo>
                <a:lnTo>
                  <a:pt x="44" y="1249"/>
                </a:lnTo>
                <a:lnTo>
                  <a:pt x="44" y="1228"/>
                </a:lnTo>
                <a:lnTo>
                  <a:pt x="44" y="1205"/>
                </a:lnTo>
                <a:lnTo>
                  <a:pt x="46" y="1180"/>
                </a:lnTo>
                <a:lnTo>
                  <a:pt x="46" y="1155"/>
                </a:lnTo>
                <a:lnTo>
                  <a:pt x="48" y="1126"/>
                </a:lnTo>
                <a:lnTo>
                  <a:pt x="50" y="1096"/>
                </a:lnTo>
                <a:lnTo>
                  <a:pt x="52" y="1065"/>
                </a:lnTo>
                <a:lnTo>
                  <a:pt x="54" y="1031"/>
                </a:lnTo>
                <a:lnTo>
                  <a:pt x="55" y="998"/>
                </a:lnTo>
                <a:lnTo>
                  <a:pt x="57" y="963"/>
                </a:lnTo>
                <a:lnTo>
                  <a:pt x="59" y="927"/>
                </a:lnTo>
                <a:lnTo>
                  <a:pt x="59" y="890"/>
                </a:lnTo>
                <a:lnTo>
                  <a:pt x="61" y="854"/>
                </a:lnTo>
                <a:lnTo>
                  <a:pt x="61" y="816"/>
                </a:lnTo>
                <a:lnTo>
                  <a:pt x="63" y="777"/>
                </a:lnTo>
                <a:lnTo>
                  <a:pt x="63" y="737"/>
                </a:lnTo>
                <a:lnTo>
                  <a:pt x="63" y="698"/>
                </a:lnTo>
                <a:lnTo>
                  <a:pt x="63" y="656"/>
                </a:lnTo>
                <a:lnTo>
                  <a:pt x="63" y="616"/>
                </a:lnTo>
                <a:lnTo>
                  <a:pt x="63" y="574"/>
                </a:lnTo>
                <a:lnTo>
                  <a:pt x="65" y="532"/>
                </a:lnTo>
                <a:lnTo>
                  <a:pt x="65" y="487"/>
                </a:lnTo>
                <a:lnTo>
                  <a:pt x="65" y="443"/>
                </a:lnTo>
                <a:lnTo>
                  <a:pt x="65" y="422"/>
                </a:lnTo>
                <a:lnTo>
                  <a:pt x="63" y="401"/>
                </a:lnTo>
                <a:lnTo>
                  <a:pt x="63" y="380"/>
                </a:lnTo>
                <a:lnTo>
                  <a:pt x="63" y="361"/>
                </a:lnTo>
                <a:lnTo>
                  <a:pt x="63" y="342"/>
                </a:lnTo>
                <a:lnTo>
                  <a:pt x="63" y="322"/>
                </a:lnTo>
                <a:lnTo>
                  <a:pt x="63" y="305"/>
                </a:lnTo>
                <a:lnTo>
                  <a:pt x="61" y="288"/>
                </a:lnTo>
                <a:lnTo>
                  <a:pt x="61" y="271"/>
                </a:lnTo>
                <a:lnTo>
                  <a:pt x="61" y="255"/>
                </a:lnTo>
                <a:lnTo>
                  <a:pt x="59" y="240"/>
                </a:lnTo>
                <a:lnTo>
                  <a:pt x="59" y="224"/>
                </a:lnTo>
                <a:lnTo>
                  <a:pt x="57" y="211"/>
                </a:lnTo>
                <a:lnTo>
                  <a:pt x="57" y="198"/>
                </a:lnTo>
                <a:lnTo>
                  <a:pt x="55" y="184"/>
                </a:lnTo>
                <a:lnTo>
                  <a:pt x="55" y="173"/>
                </a:lnTo>
                <a:lnTo>
                  <a:pt x="54" y="159"/>
                </a:lnTo>
                <a:lnTo>
                  <a:pt x="52" y="150"/>
                </a:lnTo>
                <a:lnTo>
                  <a:pt x="52" y="138"/>
                </a:lnTo>
                <a:lnTo>
                  <a:pt x="50" y="129"/>
                </a:lnTo>
                <a:lnTo>
                  <a:pt x="48" y="119"/>
                </a:lnTo>
                <a:lnTo>
                  <a:pt x="46" y="111"/>
                </a:lnTo>
                <a:lnTo>
                  <a:pt x="46" y="104"/>
                </a:lnTo>
                <a:lnTo>
                  <a:pt x="44" y="96"/>
                </a:lnTo>
                <a:lnTo>
                  <a:pt x="42" y="90"/>
                </a:lnTo>
                <a:lnTo>
                  <a:pt x="40" y="82"/>
                </a:lnTo>
                <a:lnTo>
                  <a:pt x="38" y="77"/>
                </a:lnTo>
                <a:lnTo>
                  <a:pt x="36" y="73"/>
                </a:lnTo>
                <a:lnTo>
                  <a:pt x="34" y="69"/>
                </a:lnTo>
                <a:lnTo>
                  <a:pt x="32" y="65"/>
                </a:lnTo>
                <a:lnTo>
                  <a:pt x="31" y="61"/>
                </a:lnTo>
                <a:lnTo>
                  <a:pt x="29" y="59"/>
                </a:lnTo>
                <a:lnTo>
                  <a:pt x="21" y="56"/>
                </a:lnTo>
                <a:lnTo>
                  <a:pt x="15" y="54"/>
                </a:lnTo>
                <a:lnTo>
                  <a:pt x="11" y="50"/>
                </a:lnTo>
                <a:lnTo>
                  <a:pt x="8" y="48"/>
                </a:lnTo>
                <a:lnTo>
                  <a:pt x="4" y="44"/>
                </a:lnTo>
                <a:lnTo>
                  <a:pt x="2" y="40"/>
                </a:lnTo>
                <a:lnTo>
                  <a:pt x="0" y="36"/>
                </a:lnTo>
                <a:lnTo>
                  <a:pt x="0" y="34"/>
                </a:lnTo>
                <a:lnTo>
                  <a:pt x="0" y="31"/>
                </a:lnTo>
                <a:lnTo>
                  <a:pt x="0" y="27"/>
                </a:lnTo>
                <a:lnTo>
                  <a:pt x="2" y="23"/>
                </a:lnTo>
                <a:lnTo>
                  <a:pt x="4" y="19"/>
                </a:lnTo>
                <a:lnTo>
                  <a:pt x="6" y="17"/>
                </a:lnTo>
                <a:lnTo>
                  <a:pt x="8" y="13"/>
                </a:lnTo>
                <a:lnTo>
                  <a:pt x="11" y="11"/>
                </a:lnTo>
                <a:lnTo>
                  <a:pt x="17" y="10"/>
                </a:lnTo>
                <a:lnTo>
                  <a:pt x="21" y="6"/>
                </a:lnTo>
                <a:lnTo>
                  <a:pt x="27" y="4"/>
                </a:lnTo>
                <a:lnTo>
                  <a:pt x="32" y="4"/>
                </a:lnTo>
                <a:lnTo>
                  <a:pt x="38" y="2"/>
                </a:lnTo>
                <a:lnTo>
                  <a:pt x="46" y="2"/>
                </a:lnTo>
                <a:lnTo>
                  <a:pt x="54" y="0"/>
                </a:lnTo>
                <a:lnTo>
                  <a:pt x="61" y="0"/>
                </a:lnTo>
                <a:lnTo>
                  <a:pt x="71" y="0"/>
                </a:lnTo>
                <a:lnTo>
                  <a:pt x="79" y="2"/>
                </a:lnTo>
                <a:lnTo>
                  <a:pt x="90" y="4"/>
                </a:lnTo>
                <a:lnTo>
                  <a:pt x="100" y="4"/>
                </a:lnTo>
                <a:lnTo>
                  <a:pt x="111" y="8"/>
                </a:lnTo>
                <a:lnTo>
                  <a:pt x="123" y="10"/>
                </a:lnTo>
                <a:lnTo>
                  <a:pt x="134" y="13"/>
                </a:lnTo>
                <a:lnTo>
                  <a:pt x="148" y="17"/>
                </a:lnTo>
                <a:lnTo>
                  <a:pt x="161" y="21"/>
                </a:lnTo>
                <a:lnTo>
                  <a:pt x="173" y="29"/>
                </a:lnTo>
                <a:lnTo>
                  <a:pt x="186" y="34"/>
                </a:lnTo>
                <a:lnTo>
                  <a:pt x="196" y="40"/>
                </a:lnTo>
                <a:lnTo>
                  <a:pt x="207" y="48"/>
                </a:lnTo>
                <a:lnTo>
                  <a:pt x="217" y="54"/>
                </a:lnTo>
                <a:lnTo>
                  <a:pt x="226" y="59"/>
                </a:lnTo>
                <a:lnTo>
                  <a:pt x="234" y="63"/>
                </a:lnTo>
                <a:lnTo>
                  <a:pt x="242" y="69"/>
                </a:lnTo>
                <a:lnTo>
                  <a:pt x="249" y="75"/>
                </a:lnTo>
                <a:lnTo>
                  <a:pt x="255" y="81"/>
                </a:lnTo>
                <a:lnTo>
                  <a:pt x="261" y="84"/>
                </a:lnTo>
                <a:lnTo>
                  <a:pt x="267" y="90"/>
                </a:lnTo>
                <a:lnTo>
                  <a:pt x="271" y="94"/>
                </a:lnTo>
                <a:lnTo>
                  <a:pt x="274" y="100"/>
                </a:lnTo>
                <a:lnTo>
                  <a:pt x="278" y="104"/>
                </a:lnTo>
                <a:lnTo>
                  <a:pt x="280" y="109"/>
                </a:lnTo>
                <a:lnTo>
                  <a:pt x="280" y="117"/>
                </a:lnTo>
                <a:lnTo>
                  <a:pt x="278" y="127"/>
                </a:lnTo>
                <a:lnTo>
                  <a:pt x="276" y="136"/>
                </a:lnTo>
                <a:lnTo>
                  <a:pt x="272" y="146"/>
                </a:lnTo>
                <a:lnTo>
                  <a:pt x="269" y="155"/>
                </a:lnTo>
                <a:lnTo>
                  <a:pt x="265" y="163"/>
                </a:lnTo>
                <a:lnTo>
                  <a:pt x="257" y="182"/>
                </a:lnTo>
                <a:lnTo>
                  <a:pt x="253" y="188"/>
                </a:lnTo>
                <a:lnTo>
                  <a:pt x="251" y="194"/>
                </a:lnTo>
                <a:lnTo>
                  <a:pt x="249" y="200"/>
                </a:lnTo>
                <a:lnTo>
                  <a:pt x="247" y="205"/>
                </a:lnTo>
                <a:lnTo>
                  <a:pt x="244" y="213"/>
                </a:lnTo>
                <a:lnTo>
                  <a:pt x="242" y="221"/>
                </a:lnTo>
                <a:lnTo>
                  <a:pt x="240" y="230"/>
                </a:lnTo>
                <a:lnTo>
                  <a:pt x="238" y="238"/>
                </a:lnTo>
                <a:lnTo>
                  <a:pt x="236" y="247"/>
                </a:lnTo>
                <a:lnTo>
                  <a:pt x="232" y="259"/>
                </a:lnTo>
                <a:lnTo>
                  <a:pt x="230" y="269"/>
                </a:lnTo>
                <a:lnTo>
                  <a:pt x="228" y="280"/>
                </a:lnTo>
                <a:lnTo>
                  <a:pt x="226" y="292"/>
                </a:lnTo>
                <a:lnTo>
                  <a:pt x="224" y="305"/>
                </a:lnTo>
                <a:lnTo>
                  <a:pt x="223" y="319"/>
                </a:lnTo>
                <a:lnTo>
                  <a:pt x="221" y="33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33"/>
          <p:cNvSpPr/>
          <p:nvPr/>
        </p:nvSpPr>
        <p:spPr>
          <a:xfrm>
            <a:off x="6516720" y="2970360"/>
            <a:ext cx="189000" cy="938160"/>
          </a:xfrm>
          <a:custGeom>
            <a:avLst/>
            <a:gdLst/>
            <a:ahLst/>
            <a:rect l="l" t="t" r="r" b="b"/>
            <a:pathLst>
              <a:path w="238" h="1182">
                <a:moveTo>
                  <a:pt x="221" y="1155"/>
                </a:moveTo>
                <a:lnTo>
                  <a:pt x="219" y="1161"/>
                </a:lnTo>
                <a:lnTo>
                  <a:pt x="217" y="1166"/>
                </a:lnTo>
                <a:lnTo>
                  <a:pt x="215" y="1170"/>
                </a:lnTo>
                <a:lnTo>
                  <a:pt x="211" y="1174"/>
                </a:lnTo>
                <a:lnTo>
                  <a:pt x="209" y="1178"/>
                </a:lnTo>
                <a:lnTo>
                  <a:pt x="207" y="1180"/>
                </a:lnTo>
                <a:lnTo>
                  <a:pt x="203" y="1182"/>
                </a:lnTo>
                <a:lnTo>
                  <a:pt x="202" y="1182"/>
                </a:lnTo>
                <a:lnTo>
                  <a:pt x="198" y="1182"/>
                </a:lnTo>
                <a:lnTo>
                  <a:pt x="196" y="1180"/>
                </a:lnTo>
                <a:lnTo>
                  <a:pt x="192" y="1178"/>
                </a:lnTo>
                <a:lnTo>
                  <a:pt x="188" y="1174"/>
                </a:lnTo>
                <a:lnTo>
                  <a:pt x="184" y="1170"/>
                </a:lnTo>
                <a:lnTo>
                  <a:pt x="180" y="1166"/>
                </a:lnTo>
                <a:lnTo>
                  <a:pt x="177" y="1161"/>
                </a:lnTo>
                <a:lnTo>
                  <a:pt x="173" y="1155"/>
                </a:lnTo>
                <a:lnTo>
                  <a:pt x="167" y="1147"/>
                </a:lnTo>
                <a:lnTo>
                  <a:pt x="161" y="1138"/>
                </a:lnTo>
                <a:lnTo>
                  <a:pt x="155" y="1130"/>
                </a:lnTo>
                <a:lnTo>
                  <a:pt x="150" y="1118"/>
                </a:lnTo>
                <a:lnTo>
                  <a:pt x="146" y="1109"/>
                </a:lnTo>
                <a:lnTo>
                  <a:pt x="142" y="1097"/>
                </a:lnTo>
                <a:lnTo>
                  <a:pt x="138" y="1084"/>
                </a:lnTo>
                <a:lnTo>
                  <a:pt x="136" y="1071"/>
                </a:lnTo>
                <a:lnTo>
                  <a:pt x="132" y="1055"/>
                </a:lnTo>
                <a:lnTo>
                  <a:pt x="130" y="1040"/>
                </a:lnTo>
                <a:lnTo>
                  <a:pt x="129" y="1024"/>
                </a:lnTo>
                <a:lnTo>
                  <a:pt x="127" y="1007"/>
                </a:lnTo>
                <a:lnTo>
                  <a:pt x="127" y="990"/>
                </a:lnTo>
                <a:lnTo>
                  <a:pt x="125" y="971"/>
                </a:lnTo>
                <a:lnTo>
                  <a:pt x="125" y="952"/>
                </a:lnTo>
                <a:lnTo>
                  <a:pt x="125" y="930"/>
                </a:lnTo>
                <a:lnTo>
                  <a:pt x="125" y="846"/>
                </a:lnTo>
                <a:lnTo>
                  <a:pt x="125" y="804"/>
                </a:lnTo>
                <a:lnTo>
                  <a:pt x="123" y="762"/>
                </a:lnTo>
                <a:lnTo>
                  <a:pt x="123" y="717"/>
                </a:lnTo>
                <a:lnTo>
                  <a:pt x="119" y="673"/>
                </a:lnTo>
                <a:lnTo>
                  <a:pt x="117" y="629"/>
                </a:lnTo>
                <a:lnTo>
                  <a:pt x="113" y="583"/>
                </a:lnTo>
                <a:lnTo>
                  <a:pt x="109" y="541"/>
                </a:lnTo>
                <a:lnTo>
                  <a:pt x="106" y="499"/>
                </a:lnTo>
                <a:lnTo>
                  <a:pt x="104" y="456"/>
                </a:lnTo>
                <a:lnTo>
                  <a:pt x="102" y="414"/>
                </a:lnTo>
                <a:lnTo>
                  <a:pt x="98" y="372"/>
                </a:lnTo>
                <a:lnTo>
                  <a:pt x="96" y="332"/>
                </a:lnTo>
                <a:lnTo>
                  <a:pt x="94" y="289"/>
                </a:lnTo>
                <a:lnTo>
                  <a:pt x="90" y="247"/>
                </a:lnTo>
                <a:lnTo>
                  <a:pt x="86" y="230"/>
                </a:lnTo>
                <a:lnTo>
                  <a:pt x="84" y="211"/>
                </a:lnTo>
                <a:lnTo>
                  <a:pt x="81" y="195"/>
                </a:lnTo>
                <a:lnTo>
                  <a:pt x="79" y="180"/>
                </a:lnTo>
                <a:lnTo>
                  <a:pt x="75" y="165"/>
                </a:lnTo>
                <a:lnTo>
                  <a:pt x="71" y="151"/>
                </a:lnTo>
                <a:lnTo>
                  <a:pt x="67" y="140"/>
                </a:lnTo>
                <a:lnTo>
                  <a:pt x="63" y="128"/>
                </a:lnTo>
                <a:lnTo>
                  <a:pt x="59" y="117"/>
                </a:lnTo>
                <a:lnTo>
                  <a:pt x="56" y="107"/>
                </a:lnTo>
                <a:lnTo>
                  <a:pt x="52" y="99"/>
                </a:lnTo>
                <a:lnTo>
                  <a:pt x="46" y="92"/>
                </a:lnTo>
                <a:lnTo>
                  <a:pt x="42" y="86"/>
                </a:lnTo>
                <a:lnTo>
                  <a:pt x="38" y="80"/>
                </a:lnTo>
                <a:lnTo>
                  <a:pt x="33" y="76"/>
                </a:lnTo>
                <a:lnTo>
                  <a:pt x="29" y="74"/>
                </a:lnTo>
                <a:lnTo>
                  <a:pt x="21" y="69"/>
                </a:lnTo>
                <a:lnTo>
                  <a:pt x="13" y="65"/>
                </a:lnTo>
                <a:lnTo>
                  <a:pt x="8" y="59"/>
                </a:lnTo>
                <a:lnTo>
                  <a:pt x="4" y="53"/>
                </a:lnTo>
                <a:lnTo>
                  <a:pt x="2" y="48"/>
                </a:lnTo>
                <a:lnTo>
                  <a:pt x="0" y="40"/>
                </a:lnTo>
                <a:lnTo>
                  <a:pt x="0" y="36"/>
                </a:lnTo>
                <a:lnTo>
                  <a:pt x="2" y="32"/>
                </a:lnTo>
                <a:lnTo>
                  <a:pt x="4" y="28"/>
                </a:lnTo>
                <a:lnTo>
                  <a:pt x="6" y="25"/>
                </a:lnTo>
                <a:lnTo>
                  <a:pt x="6" y="21"/>
                </a:lnTo>
                <a:lnTo>
                  <a:pt x="6" y="19"/>
                </a:lnTo>
                <a:lnTo>
                  <a:pt x="8" y="17"/>
                </a:lnTo>
                <a:lnTo>
                  <a:pt x="10" y="15"/>
                </a:lnTo>
                <a:lnTo>
                  <a:pt x="11" y="13"/>
                </a:lnTo>
                <a:lnTo>
                  <a:pt x="13" y="11"/>
                </a:lnTo>
                <a:lnTo>
                  <a:pt x="21" y="7"/>
                </a:lnTo>
                <a:lnTo>
                  <a:pt x="31" y="3"/>
                </a:lnTo>
                <a:lnTo>
                  <a:pt x="40" y="2"/>
                </a:lnTo>
                <a:lnTo>
                  <a:pt x="52" y="0"/>
                </a:lnTo>
                <a:lnTo>
                  <a:pt x="65" y="0"/>
                </a:lnTo>
                <a:lnTo>
                  <a:pt x="79" y="3"/>
                </a:lnTo>
                <a:lnTo>
                  <a:pt x="92" y="5"/>
                </a:lnTo>
                <a:lnTo>
                  <a:pt x="106" y="9"/>
                </a:lnTo>
                <a:lnTo>
                  <a:pt x="119" y="11"/>
                </a:lnTo>
                <a:lnTo>
                  <a:pt x="132" y="13"/>
                </a:lnTo>
                <a:lnTo>
                  <a:pt x="146" y="17"/>
                </a:lnTo>
                <a:lnTo>
                  <a:pt x="159" y="19"/>
                </a:lnTo>
                <a:lnTo>
                  <a:pt x="173" y="25"/>
                </a:lnTo>
                <a:lnTo>
                  <a:pt x="178" y="26"/>
                </a:lnTo>
                <a:lnTo>
                  <a:pt x="186" y="28"/>
                </a:lnTo>
                <a:lnTo>
                  <a:pt x="190" y="32"/>
                </a:lnTo>
                <a:lnTo>
                  <a:pt x="196" y="34"/>
                </a:lnTo>
                <a:lnTo>
                  <a:pt x="205" y="42"/>
                </a:lnTo>
                <a:lnTo>
                  <a:pt x="211" y="50"/>
                </a:lnTo>
                <a:lnTo>
                  <a:pt x="219" y="55"/>
                </a:lnTo>
                <a:lnTo>
                  <a:pt x="225" y="63"/>
                </a:lnTo>
                <a:lnTo>
                  <a:pt x="228" y="69"/>
                </a:lnTo>
                <a:lnTo>
                  <a:pt x="234" y="74"/>
                </a:lnTo>
                <a:lnTo>
                  <a:pt x="234" y="76"/>
                </a:lnTo>
                <a:lnTo>
                  <a:pt x="234" y="80"/>
                </a:lnTo>
                <a:lnTo>
                  <a:pt x="234" y="84"/>
                </a:lnTo>
                <a:lnTo>
                  <a:pt x="234" y="88"/>
                </a:lnTo>
                <a:lnTo>
                  <a:pt x="234" y="92"/>
                </a:lnTo>
                <a:lnTo>
                  <a:pt x="234" y="98"/>
                </a:lnTo>
                <a:lnTo>
                  <a:pt x="234" y="103"/>
                </a:lnTo>
                <a:lnTo>
                  <a:pt x="234" y="111"/>
                </a:lnTo>
                <a:lnTo>
                  <a:pt x="234" y="119"/>
                </a:lnTo>
                <a:lnTo>
                  <a:pt x="234" y="126"/>
                </a:lnTo>
                <a:lnTo>
                  <a:pt x="234" y="134"/>
                </a:lnTo>
                <a:lnTo>
                  <a:pt x="234" y="144"/>
                </a:lnTo>
                <a:lnTo>
                  <a:pt x="234" y="153"/>
                </a:lnTo>
                <a:lnTo>
                  <a:pt x="234" y="163"/>
                </a:lnTo>
                <a:lnTo>
                  <a:pt x="234" y="174"/>
                </a:lnTo>
                <a:lnTo>
                  <a:pt x="234" y="186"/>
                </a:lnTo>
                <a:lnTo>
                  <a:pt x="232" y="192"/>
                </a:lnTo>
                <a:lnTo>
                  <a:pt x="230" y="197"/>
                </a:lnTo>
                <a:lnTo>
                  <a:pt x="230" y="205"/>
                </a:lnTo>
                <a:lnTo>
                  <a:pt x="228" y="213"/>
                </a:lnTo>
                <a:lnTo>
                  <a:pt x="228" y="222"/>
                </a:lnTo>
                <a:lnTo>
                  <a:pt x="228" y="230"/>
                </a:lnTo>
                <a:lnTo>
                  <a:pt x="226" y="240"/>
                </a:lnTo>
                <a:lnTo>
                  <a:pt x="226" y="251"/>
                </a:lnTo>
                <a:lnTo>
                  <a:pt x="226" y="261"/>
                </a:lnTo>
                <a:lnTo>
                  <a:pt x="225" y="272"/>
                </a:lnTo>
                <a:lnTo>
                  <a:pt x="225" y="286"/>
                </a:lnTo>
                <a:lnTo>
                  <a:pt x="225" y="297"/>
                </a:lnTo>
                <a:lnTo>
                  <a:pt x="225" y="311"/>
                </a:lnTo>
                <a:lnTo>
                  <a:pt x="225" y="324"/>
                </a:lnTo>
                <a:lnTo>
                  <a:pt x="225" y="339"/>
                </a:lnTo>
                <a:lnTo>
                  <a:pt x="225" y="355"/>
                </a:lnTo>
                <a:lnTo>
                  <a:pt x="225" y="370"/>
                </a:lnTo>
                <a:lnTo>
                  <a:pt x="225" y="385"/>
                </a:lnTo>
                <a:lnTo>
                  <a:pt x="225" y="403"/>
                </a:lnTo>
                <a:lnTo>
                  <a:pt x="225" y="422"/>
                </a:lnTo>
                <a:lnTo>
                  <a:pt x="225" y="439"/>
                </a:lnTo>
                <a:lnTo>
                  <a:pt x="225" y="458"/>
                </a:lnTo>
                <a:lnTo>
                  <a:pt x="226" y="477"/>
                </a:lnTo>
                <a:lnTo>
                  <a:pt x="226" y="499"/>
                </a:lnTo>
                <a:lnTo>
                  <a:pt x="226" y="518"/>
                </a:lnTo>
                <a:lnTo>
                  <a:pt x="228" y="539"/>
                </a:lnTo>
                <a:lnTo>
                  <a:pt x="228" y="562"/>
                </a:lnTo>
                <a:lnTo>
                  <a:pt x="228" y="585"/>
                </a:lnTo>
                <a:lnTo>
                  <a:pt x="230" y="608"/>
                </a:lnTo>
                <a:lnTo>
                  <a:pt x="230" y="631"/>
                </a:lnTo>
                <a:lnTo>
                  <a:pt x="232" y="656"/>
                </a:lnTo>
                <a:lnTo>
                  <a:pt x="234" y="683"/>
                </a:lnTo>
                <a:lnTo>
                  <a:pt x="234" y="708"/>
                </a:lnTo>
                <a:lnTo>
                  <a:pt x="236" y="735"/>
                </a:lnTo>
                <a:lnTo>
                  <a:pt x="236" y="760"/>
                </a:lnTo>
                <a:lnTo>
                  <a:pt x="236" y="783"/>
                </a:lnTo>
                <a:lnTo>
                  <a:pt x="236" y="806"/>
                </a:lnTo>
                <a:lnTo>
                  <a:pt x="238" y="829"/>
                </a:lnTo>
                <a:lnTo>
                  <a:pt x="238" y="850"/>
                </a:lnTo>
                <a:lnTo>
                  <a:pt x="238" y="871"/>
                </a:lnTo>
                <a:lnTo>
                  <a:pt x="238" y="892"/>
                </a:lnTo>
                <a:lnTo>
                  <a:pt x="238" y="911"/>
                </a:lnTo>
                <a:lnTo>
                  <a:pt x="238" y="928"/>
                </a:lnTo>
                <a:lnTo>
                  <a:pt x="238" y="948"/>
                </a:lnTo>
                <a:lnTo>
                  <a:pt x="238" y="965"/>
                </a:lnTo>
                <a:lnTo>
                  <a:pt x="236" y="980"/>
                </a:lnTo>
                <a:lnTo>
                  <a:pt x="236" y="996"/>
                </a:lnTo>
                <a:lnTo>
                  <a:pt x="236" y="1011"/>
                </a:lnTo>
                <a:lnTo>
                  <a:pt x="234" y="1024"/>
                </a:lnTo>
                <a:lnTo>
                  <a:pt x="234" y="1038"/>
                </a:lnTo>
                <a:lnTo>
                  <a:pt x="234" y="1051"/>
                </a:lnTo>
                <a:lnTo>
                  <a:pt x="232" y="1063"/>
                </a:lnTo>
                <a:lnTo>
                  <a:pt x="232" y="1074"/>
                </a:lnTo>
                <a:lnTo>
                  <a:pt x="230" y="1086"/>
                </a:lnTo>
                <a:lnTo>
                  <a:pt x="230" y="1095"/>
                </a:lnTo>
                <a:lnTo>
                  <a:pt x="228" y="1105"/>
                </a:lnTo>
                <a:lnTo>
                  <a:pt x="228" y="1113"/>
                </a:lnTo>
                <a:lnTo>
                  <a:pt x="226" y="1120"/>
                </a:lnTo>
                <a:lnTo>
                  <a:pt x="226" y="1128"/>
                </a:lnTo>
                <a:lnTo>
                  <a:pt x="225" y="1134"/>
                </a:lnTo>
                <a:lnTo>
                  <a:pt x="225" y="1140"/>
                </a:lnTo>
                <a:lnTo>
                  <a:pt x="223" y="1145"/>
                </a:lnTo>
                <a:lnTo>
                  <a:pt x="223" y="1151"/>
                </a:lnTo>
                <a:lnTo>
                  <a:pt x="221" y="1155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34"/>
          <p:cNvSpPr/>
          <p:nvPr/>
        </p:nvSpPr>
        <p:spPr>
          <a:xfrm>
            <a:off x="6653160" y="3481560"/>
            <a:ext cx="335160" cy="118800"/>
          </a:xfrm>
          <a:custGeom>
            <a:avLst/>
            <a:gdLst/>
            <a:ahLst/>
            <a:rect l="l" t="t" r="r" b="b"/>
            <a:pathLst>
              <a:path w="420" h="150">
                <a:moveTo>
                  <a:pt x="0" y="64"/>
                </a:moveTo>
                <a:lnTo>
                  <a:pt x="23" y="62"/>
                </a:lnTo>
                <a:lnTo>
                  <a:pt x="48" y="60"/>
                </a:lnTo>
                <a:lnTo>
                  <a:pt x="71" y="58"/>
                </a:lnTo>
                <a:lnTo>
                  <a:pt x="96" y="54"/>
                </a:lnTo>
                <a:lnTo>
                  <a:pt x="121" y="48"/>
                </a:lnTo>
                <a:lnTo>
                  <a:pt x="146" y="43"/>
                </a:lnTo>
                <a:lnTo>
                  <a:pt x="169" y="35"/>
                </a:lnTo>
                <a:lnTo>
                  <a:pt x="192" y="25"/>
                </a:lnTo>
                <a:lnTo>
                  <a:pt x="236" y="16"/>
                </a:lnTo>
                <a:lnTo>
                  <a:pt x="259" y="12"/>
                </a:lnTo>
                <a:lnTo>
                  <a:pt x="280" y="8"/>
                </a:lnTo>
                <a:lnTo>
                  <a:pt x="301" y="4"/>
                </a:lnTo>
                <a:lnTo>
                  <a:pt x="322" y="2"/>
                </a:lnTo>
                <a:lnTo>
                  <a:pt x="341" y="0"/>
                </a:lnTo>
                <a:lnTo>
                  <a:pt x="361" y="0"/>
                </a:lnTo>
                <a:lnTo>
                  <a:pt x="372" y="0"/>
                </a:lnTo>
                <a:lnTo>
                  <a:pt x="384" y="2"/>
                </a:lnTo>
                <a:lnTo>
                  <a:pt x="395" y="6"/>
                </a:lnTo>
                <a:lnTo>
                  <a:pt x="403" y="10"/>
                </a:lnTo>
                <a:lnTo>
                  <a:pt x="411" y="16"/>
                </a:lnTo>
                <a:lnTo>
                  <a:pt x="414" y="18"/>
                </a:lnTo>
                <a:lnTo>
                  <a:pt x="416" y="22"/>
                </a:lnTo>
                <a:lnTo>
                  <a:pt x="418" y="25"/>
                </a:lnTo>
                <a:lnTo>
                  <a:pt x="418" y="29"/>
                </a:lnTo>
                <a:lnTo>
                  <a:pt x="420" y="33"/>
                </a:lnTo>
                <a:lnTo>
                  <a:pt x="420" y="39"/>
                </a:lnTo>
                <a:lnTo>
                  <a:pt x="420" y="43"/>
                </a:lnTo>
                <a:lnTo>
                  <a:pt x="418" y="47"/>
                </a:lnTo>
                <a:lnTo>
                  <a:pt x="414" y="52"/>
                </a:lnTo>
                <a:lnTo>
                  <a:pt x="411" y="56"/>
                </a:lnTo>
                <a:lnTo>
                  <a:pt x="407" y="62"/>
                </a:lnTo>
                <a:lnTo>
                  <a:pt x="399" y="66"/>
                </a:lnTo>
                <a:lnTo>
                  <a:pt x="393" y="70"/>
                </a:lnTo>
                <a:lnTo>
                  <a:pt x="384" y="75"/>
                </a:lnTo>
                <a:lnTo>
                  <a:pt x="374" y="79"/>
                </a:lnTo>
                <a:lnTo>
                  <a:pt x="364" y="85"/>
                </a:lnTo>
                <a:lnTo>
                  <a:pt x="353" y="89"/>
                </a:lnTo>
                <a:lnTo>
                  <a:pt x="340" y="94"/>
                </a:lnTo>
                <a:lnTo>
                  <a:pt x="326" y="98"/>
                </a:lnTo>
                <a:lnTo>
                  <a:pt x="311" y="104"/>
                </a:lnTo>
                <a:lnTo>
                  <a:pt x="293" y="108"/>
                </a:lnTo>
                <a:lnTo>
                  <a:pt x="276" y="114"/>
                </a:lnTo>
                <a:lnTo>
                  <a:pt x="240" y="121"/>
                </a:lnTo>
                <a:lnTo>
                  <a:pt x="205" y="129"/>
                </a:lnTo>
                <a:lnTo>
                  <a:pt x="169" y="135"/>
                </a:lnTo>
                <a:lnTo>
                  <a:pt x="134" y="141"/>
                </a:lnTo>
                <a:lnTo>
                  <a:pt x="100" y="144"/>
                </a:lnTo>
                <a:lnTo>
                  <a:pt x="65" y="148"/>
                </a:lnTo>
                <a:lnTo>
                  <a:pt x="32" y="150"/>
                </a:lnTo>
                <a:lnTo>
                  <a:pt x="0" y="150"/>
                </a:lnTo>
                <a:lnTo>
                  <a:pt x="0" y="106"/>
                </a:lnTo>
                <a:lnTo>
                  <a:pt x="0" y="6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35"/>
          <p:cNvSpPr/>
          <p:nvPr/>
        </p:nvSpPr>
        <p:spPr>
          <a:xfrm>
            <a:off x="6673680" y="3747960"/>
            <a:ext cx="428760" cy="108000"/>
          </a:xfrm>
          <a:custGeom>
            <a:avLst/>
            <a:gdLst/>
            <a:ahLst/>
            <a:rect l="l" t="t" r="r" b="b"/>
            <a:pathLst>
              <a:path w="539" h="137">
                <a:moveTo>
                  <a:pt x="0" y="50"/>
                </a:moveTo>
                <a:lnTo>
                  <a:pt x="25" y="48"/>
                </a:lnTo>
                <a:lnTo>
                  <a:pt x="52" y="44"/>
                </a:lnTo>
                <a:lnTo>
                  <a:pt x="78" y="43"/>
                </a:lnTo>
                <a:lnTo>
                  <a:pt x="107" y="39"/>
                </a:lnTo>
                <a:lnTo>
                  <a:pt x="136" y="35"/>
                </a:lnTo>
                <a:lnTo>
                  <a:pt x="169" y="31"/>
                </a:lnTo>
                <a:lnTo>
                  <a:pt x="199" y="29"/>
                </a:lnTo>
                <a:lnTo>
                  <a:pt x="234" y="25"/>
                </a:lnTo>
                <a:lnTo>
                  <a:pt x="267" y="21"/>
                </a:lnTo>
                <a:lnTo>
                  <a:pt x="303" y="18"/>
                </a:lnTo>
                <a:lnTo>
                  <a:pt x="339" y="16"/>
                </a:lnTo>
                <a:lnTo>
                  <a:pt x="378" y="12"/>
                </a:lnTo>
                <a:lnTo>
                  <a:pt x="416" y="8"/>
                </a:lnTo>
                <a:lnTo>
                  <a:pt x="457" y="6"/>
                </a:lnTo>
                <a:lnTo>
                  <a:pt x="497" y="2"/>
                </a:lnTo>
                <a:lnTo>
                  <a:pt x="539" y="0"/>
                </a:lnTo>
                <a:lnTo>
                  <a:pt x="539" y="50"/>
                </a:lnTo>
                <a:lnTo>
                  <a:pt x="539" y="100"/>
                </a:lnTo>
                <a:lnTo>
                  <a:pt x="501" y="102"/>
                </a:lnTo>
                <a:lnTo>
                  <a:pt x="464" y="104"/>
                </a:lnTo>
                <a:lnTo>
                  <a:pt x="426" y="106"/>
                </a:lnTo>
                <a:lnTo>
                  <a:pt x="391" y="110"/>
                </a:lnTo>
                <a:lnTo>
                  <a:pt x="355" y="112"/>
                </a:lnTo>
                <a:lnTo>
                  <a:pt x="320" y="114"/>
                </a:lnTo>
                <a:lnTo>
                  <a:pt x="286" y="115"/>
                </a:lnTo>
                <a:lnTo>
                  <a:pt x="251" y="117"/>
                </a:lnTo>
                <a:lnTo>
                  <a:pt x="217" y="121"/>
                </a:lnTo>
                <a:lnTo>
                  <a:pt x="184" y="123"/>
                </a:lnTo>
                <a:lnTo>
                  <a:pt x="151" y="125"/>
                </a:lnTo>
                <a:lnTo>
                  <a:pt x="121" y="127"/>
                </a:lnTo>
                <a:lnTo>
                  <a:pt x="90" y="129"/>
                </a:lnTo>
                <a:lnTo>
                  <a:pt x="59" y="133"/>
                </a:lnTo>
                <a:lnTo>
                  <a:pt x="28" y="135"/>
                </a:lnTo>
                <a:lnTo>
                  <a:pt x="0" y="137"/>
                </a:lnTo>
                <a:lnTo>
                  <a:pt x="0" y="5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36"/>
          <p:cNvSpPr/>
          <p:nvPr/>
        </p:nvSpPr>
        <p:spPr>
          <a:xfrm>
            <a:off x="6272280" y="3986280"/>
            <a:ext cx="1353960" cy="276120"/>
          </a:xfrm>
          <a:custGeom>
            <a:avLst/>
            <a:gdLst/>
            <a:ahLst/>
            <a:rect l="l" t="t" r="r" b="b"/>
            <a:pathLst>
              <a:path w="1705" h="347">
                <a:moveTo>
                  <a:pt x="1513" y="161"/>
                </a:moveTo>
                <a:lnTo>
                  <a:pt x="1486" y="161"/>
                </a:lnTo>
                <a:lnTo>
                  <a:pt x="1461" y="161"/>
                </a:lnTo>
                <a:lnTo>
                  <a:pt x="1434" y="161"/>
                </a:lnTo>
                <a:lnTo>
                  <a:pt x="1407" y="163"/>
                </a:lnTo>
                <a:lnTo>
                  <a:pt x="1378" y="163"/>
                </a:lnTo>
                <a:lnTo>
                  <a:pt x="1347" y="165"/>
                </a:lnTo>
                <a:lnTo>
                  <a:pt x="1319" y="167"/>
                </a:lnTo>
                <a:lnTo>
                  <a:pt x="1288" y="169"/>
                </a:lnTo>
                <a:lnTo>
                  <a:pt x="1255" y="170"/>
                </a:lnTo>
                <a:lnTo>
                  <a:pt x="1223" y="174"/>
                </a:lnTo>
                <a:lnTo>
                  <a:pt x="1188" y="178"/>
                </a:lnTo>
                <a:lnTo>
                  <a:pt x="1154" y="180"/>
                </a:lnTo>
                <a:lnTo>
                  <a:pt x="1119" y="184"/>
                </a:lnTo>
                <a:lnTo>
                  <a:pt x="1083" y="188"/>
                </a:lnTo>
                <a:lnTo>
                  <a:pt x="1046" y="194"/>
                </a:lnTo>
                <a:lnTo>
                  <a:pt x="1008" y="197"/>
                </a:lnTo>
                <a:lnTo>
                  <a:pt x="969" y="205"/>
                </a:lnTo>
                <a:lnTo>
                  <a:pt x="933" y="211"/>
                </a:lnTo>
                <a:lnTo>
                  <a:pt x="896" y="217"/>
                </a:lnTo>
                <a:lnTo>
                  <a:pt x="860" y="224"/>
                </a:lnTo>
                <a:lnTo>
                  <a:pt x="789" y="236"/>
                </a:lnTo>
                <a:lnTo>
                  <a:pt x="718" y="247"/>
                </a:lnTo>
                <a:lnTo>
                  <a:pt x="651" y="259"/>
                </a:lnTo>
                <a:lnTo>
                  <a:pt x="583" y="270"/>
                </a:lnTo>
                <a:lnTo>
                  <a:pt x="520" y="284"/>
                </a:lnTo>
                <a:lnTo>
                  <a:pt x="457" y="297"/>
                </a:lnTo>
                <a:lnTo>
                  <a:pt x="426" y="303"/>
                </a:lnTo>
                <a:lnTo>
                  <a:pt x="395" y="309"/>
                </a:lnTo>
                <a:lnTo>
                  <a:pt x="368" y="314"/>
                </a:lnTo>
                <a:lnTo>
                  <a:pt x="343" y="320"/>
                </a:lnTo>
                <a:lnTo>
                  <a:pt x="320" y="324"/>
                </a:lnTo>
                <a:lnTo>
                  <a:pt x="297" y="330"/>
                </a:lnTo>
                <a:lnTo>
                  <a:pt x="278" y="332"/>
                </a:lnTo>
                <a:lnTo>
                  <a:pt x="259" y="336"/>
                </a:lnTo>
                <a:lnTo>
                  <a:pt x="244" y="337"/>
                </a:lnTo>
                <a:lnTo>
                  <a:pt x="228" y="341"/>
                </a:lnTo>
                <a:lnTo>
                  <a:pt x="215" y="343"/>
                </a:lnTo>
                <a:lnTo>
                  <a:pt x="203" y="343"/>
                </a:lnTo>
                <a:lnTo>
                  <a:pt x="196" y="345"/>
                </a:lnTo>
                <a:lnTo>
                  <a:pt x="192" y="345"/>
                </a:lnTo>
                <a:lnTo>
                  <a:pt x="188" y="345"/>
                </a:lnTo>
                <a:lnTo>
                  <a:pt x="184" y="345"/>
                </a:lnTo>
                <a:lnTo>
                  <a:pt x="182" y="345"/>
                </a:lnTo>
                <a:lnTo>
                  <a:pt x="180" y="347"/>
                </a:lnTo>
                <a:lnTo>
                  <a:pt x="171" y="345"/>
                </a:lnTo>
                <a:lnTo>
                  <a:pt x="159" y="343"/>
                </a:lnTo>
                <a:lnTo>
                  <a:pt x="148" y="341"/>
                </a:lnTo>
                <a:lnTo>
                  <a:pt x="134" y="336"/>
                </a:lnTo>
                <a:lnTo>
                  <a:pt x="128" y="332"/>
                </a:lnTo>
                <a:lnTo>
                  <a:pt x="121" y="330"/>
                </a:lnTo>
                <a:lnTo>
                  <a:pt x="113" y="324"/>
                </a:lnTo>
                <a:lnTo>
                  <a:pt x="105" y="320"/>
                </a:lnTo>
                <a:lnTo>
                  <a:pt x="98" y="314"/>
                </a:lnTo>
                <a:lnTo>
                  <a:pt x="90" y="309"/>
                </a:lnTo>
                <a:lnTo>
                  <a:pt x="80" y="303"/>
                </a:lnTo>
                <a:lnTo>
                  <a:pt x="73" y="297"/>
                </a:lnTo>
                <a:lnTo>
                  <a:pt x="63" y="291"/>
                </a:lnTo>
                <a:lnTo>
                  <a:pt x="55" y="288"/>
                </a:lnTo>
                <a:lnTo>
                  <a:pt x="48" y="284"/>
                </a:lnTo>
                <a:lnTo>
                  <a:pt x="40" y="280"/>
                </a:lnTo>
                <a:lnTo>
                  <a:pt x="34" y="276"/>
                </a:lnTo>
                <a:lnTo>
                  <a:pt x="29" y="272"/>
                </a:lnTo>
                <a:lnTo>
                  <a:pt x="23" y="270"/>
                </a:lnTo>
                <a:lnTo>
                  <a:pt x="17" y="266"/>
                </a:lnTo>
                <a:lnTo>
                  <a:pt x="13" y="265"/>
                </a:lnTo>
                <a:lnTo>
                  <a:pt x="9" y="263"/>
                </a:lnTo>
                <a:lnTo>
                  <a:pt x="7" y="259"/>
                </a:lnTo>
                <a:lnTo>
                  <a:pt x="4" y="257"/>
                </a:lnTo>
                <a:lnTo>
                  <a:pt x="2" y="255"/>
                </a:lnTo>
                <a:lnTo>
                  <a:pt x="2" y="251"/>
                </a:lnTo>
                <a:lnTo>
                  <a:pt x="0" y="249"/>
                </a:lnTo>
                <a:lnTo>
                  <a:pt x="0" y="247"/>
                </a:lnTo>
                <a:lnTo>
                  <a:pt x="0" y="243"/>
                </a:lnTo>
                <a:lnTo>
                  <a:pt x="2" y="240"/>
                </a:lnTo>
                <a:lnTo>
                  <a:pt x="6" y="238"/>
                </a:lnTo>
                <a:lnTo>
                  <a:pt x="9" y="236"/>
                </a:lnTo>
                <a:lnTo>
                  <a:pt x="17" y="236"/>
                </a:lnTo>
                <a:lnTo>
                  <a:pt x="21" y="236"/>
                </a:lnTo>
                <a:lnTo>
                  <a:pt x="25" y="236"/>
                </a:lnTo>
                <a:lnTo>
                  <a:pt x="30" y="236"/>
                </a:lnTo>
                <a:lnTo>
                  <a:pt x="34" y="236"/>
                </a:lnTo>
                <a:lnTo>
                  <a:pt x="42" y="236"/>
                </a:lnTo>
                <a:lnTo>
                  <a:pt x="48" y="236"/>
                </a:lnTo>
                <a:lnTo>
                  <a:pt x="55" y="234"/>
                </a:lnTo>
                <a:lnTo>
                  <a:pt x="63" y="234"/>
                </a:lnTo>
                <a:lnTo>
                  <a:pt x="73" y="234"/>
                </a:lnTo>
                <a:lnTo>
                  <a:pt x="82" y="232"/>
                </a:lnTo>
                <a:lnTo>
                  <a:pt x="92" y="232"/>
                </a:lnTo>
                <a:lnTo>
                  <a:pt x="103" y="230"/>
                </a:lnTo>
                <a:lnTo>
                  <a:pt x="115" y="228"/>
                </a:lnTo>
                <a:lnTo>
                  <a:pt x="128" y="226"/>
                </a:lnTo>
                <a:lnTo>
                  <a:pt x="142" y="226"/>
                </a:lnTo>
                <a:lnTo>
                  <a:pt x="157" y="222"/>
                </a:lnTo>
                <a:lnTo>
                  <a:pt x="173" y="220"/>
                </a:lnTo>
                <a:lnTo>
                  <a:pt x="190" y="218"/>
                </a:lnTo>
                <a:lnTo>
                  <a:pt x="207" y="217"/>
                </a:lnTo>
                <a:lnTo>
                  <a:pt x="224" y="215"/>
                </a:lnTo>
                <a:lnTo>
                  <a:pt x="244" y="213"/>
                </a:lnTo>
                <a:lnTo>
                  <a:pt x="265" y="211"/>
                </a:lnTo>
                <a:lnTo>
                  <a:pt x="305" y="205"/>
                </a:lnTo>
                <a:lnTo>
                  <a:pt x="347" y="199"/>
                </a:lnTo>
                <a:lnTo>
                  <a:pt x="391" y="195"/>
                </a:lnTo>
                <a:lnTo>
                  <a:pt x="436" y="190"/>
                </a:lnTo>
                <a:lnTo>
                  <a:pt x="480" y="184"/>
                </a:lnTo>
                <a:lnTo>
                  <a:pt x="528" y="176"/>
                </a:lnTo>
                <a:lnTo>
                  <a:pt x="576" y="169"/>
                </a:lnTo>
                <a:lnTo>
                  <a:pt x="624" y="161"/>
                </a:lnTo>
                <a:lnTo>
                  <a:pt x="649" y="157"/>
                </a:lnTo>
                <a:lnTo>
                  <a:pt x="676" y="155"/>
                </a:lnTo>
                <a:lnTo>
                  <a:pt x="702" y="151"/>
                </a:lnTo>
                <a:lnTo>
                  <a:pt x="731" y="146"/>
                </a:lnTo>
                <a:lnTo>
                  <a:pt x="762" y="142"/>
                </a:lnTo>
                <a:lnTo>
                  <a:pt x="793" y="136"/>
                </a:lnTo>
                <a:lnTo>
                  <a:pt x="823" y="130"/>
                </a:lnTo>
                <a:lnTo>
                  <a:pt x="856" y="124"/>
                </a:lnTo>
                <a:lnTo>
                  <a:pt x="891" y="119"/>
                </a:lnTo>
                <a:lnTo>
                  <a:pt x="925" y="111"/>
                </a:lnTo>
                <a:lnTo>
                  <a:pt x="960" y="103"/>
                </a:lnTo>
                <a:lnTo>
                  <a:pt x="996" y="96"/>
                </a:lnTo>
                <a:lnTo>
                  <a:pt x="1035" y="88"/>
                </a:lnTo>
                <a:lnTo>
                  <a:pt x="1073" y="78"/>
                </a:lnTo>
                <a:lnTo>
                  <a:pt x="1111" y="69"/>
                </a:lnTo>
                <a:lnTo>
                  <a:pt x="1152" y="61"/>
                </a:lnTo>
                <a:lnTo>
                  <a:pt x="1171" y="57"/>
                </a:lnTo>
                <a:lnTo>
                  <a:pt x="1192" y="53"/>
                </a:lnTo>
                <a:lnTo>
                  <a:pt x="1209" y="50"/>
                </a:lnTo>
                <a:lnTo>
                  <a:pt x="1228" y="48"/>
                </a:lnTo>
                <a:lnTo>
                  <a:pt x="1246" y="44"/>
                </a:lnTo>
                <a:lnTo>
                  <a:pt x="1263" y="40"/>
                </a:lnTo>
                <a:lnTo>
                  <a:pt x="1280" y="38"/>
                </a:lnTo>
                <a:lnTo>
                  <a:pt x="1296" y="34"/>
                </a:lnTo>
                <a:lnTo>
                  <a:pt x="1311" y="32"/>
                </a:lnTo>
                <a:lnTo>
                  <a:pt x="1326" y="28"/>
                </a:lnTo>
                <a:lnTo>
                  <a:pt x="1342" y="27"/>
                </a:lnTo>
                <a:lnTo>
                  <a:pt x="1355" y="25"/>
                </a:lnTo>
                <a:lnTo>
                  <a:pt x="1369" y="23"/>
                </a:lnTo>
                <a:lnTo>
                  <a:pt x="1382" y="19"/>
                </a:lnTo>
                <a:lnTo>
                  <a:pt x="1394" y="17"/>
                </a:lnTo>
                <a:lnTo>
                  <a:pt x="1405" y="15"/>
                </a:lnTo>
                <a:lnTo>
                  <a:pt x="1417" y="13"/>
                </a:lnTo>
                <a:lnTo>
                  <a:pt x="1428" y="11"/>
                </a:lnTo>
                <a:lnTo>
                  <a:pt x="1438" y="9"/>
                </a:lnTo>
                <a:lnTo>
                  <a:pt x="1447" y="9"/>
                </a:lnTo>
                <a:lnTo>
                  <a:pt x="1457" y="7"/>
                </a:lnTo>
                <a:lnTo>
                  <a:pt x="1465" y="5"/>
                </a:lnTo>
                <a:lnTo>
                  <a:pt x="1474" y="4"/>
                </a:lnTo>
                <a:lnTo>
                  <a:pt x="1482" y="4"/>
                </a:lnTo>
                <a:lnTo>
                  <a:pt x="1488" y="2"/>
                </a:lnTo>
                <a:lnTo>
                  <a:pt x="1495" y="2"/>
                </a:lnTo>
                <a:lnTo>
                  <a:pt x="1501" y="0"/>
                </a:lnTo>
                <a:lnTo>
                  <a:pt x="1507" y="0"/>
                </a:lnTo>
                <a:lnTo>
                  <a:pt x="1513" y="0"/>
                </a:lnTo>
                <a:lnTo>
                  <a:pt x="1516" y="0"/>
                </a:lnTo>
                <a:lnTo>
                  <a:pt x="1520" y="0"/>
                </a:lnTo>
                <a:lnTo>
                  <a:pt x="1524" y="0"/>
                </a:lnTo>
                <a:lnTo>
                  <a:pt x="1538" y="0"/>
                </a:lnTo>
                <a:lnTo>
                  <a:pt x="1551" y="2"/>
                </a:lnTo>
                <a:lnTo>
                  <a:pt x="1564" y="4"/>
                </a:lnTo>
                <a:lnTo>
                  <a:pt x="1578" y="9"/>
                </a:lnTo>
                <a:lnTo>
                  <a:pt x="1586" y="13"/>
                </a:lnTo>
                <a:lnTo>
                  <a:pt x="1591" y="15"/>
                </a:lnTo>
                <a:lnTo>
                  <a:pt x="1599" y="19"/>
                </a:lnTo>
                <a:lnTo>
                  <a:pt x="1605" y="25"/>
                </a:lnTo>
                <a:lnTo>
                  <a:pt x="1612" y="28"/>
                </a:lnTo>
                <a:lnTo>
                  <a:pt x="1618" y="34"/>
                </a:lnTo>
                <a:lnTo>
                  <a:pt x="1626" y="42"/>
                </a:lnTo>
                <a:lnTo>
                  <a:pt x="1632" y="48"/>
                </a:lnTo>
                <a:lnTo>
                  <a:pt x="1645" y="61"/>
                </a:lnTo>
                <a:lnTo>
                  <a:pt x="1657" y="75"/>
                </a:lnTo>
                <a:lnTo>
                  <a:pt x="1666" y="84"/>
                </a:lnTo>
                <a:lnTo>
                  <a:pt x="1676" y="96"/>
                </a:lnTo>
                <a:lnTo>
                  <a:pt x="1685" y="103"/>
                </a:lnTo>
                <a:lnTo>
                  <a:pt x="1693" y="111"/>
                </a:lnTo>
                <a:lnTo>
                  <a:pt x="1699" y="117"/>
                </a:lnTo>
                <a:lnTo>
                  <a:pt x="1705" y="123"/>
                </a:lnTo>
                <a:lnTo>
                  <a:pt x="1705" y="124"/>
                </a:lnTo>
                <a:lnTo>
                  <a:pt x="1705" y="126"/>
                </a:lnTo>
                <a:lnTo>
                  <a:pt x="1705" y="130"/>
                </a:lnTo>
                <a:lnTo>
                  <a:pt x="1705" y="132"/>
                </a:lnTo>
                <a:lnTo>
                  <a:pt x="1703" y="136"/>
                </a:lnTo>
                <a:lnTo>
                  <a:pt x="1697" y="140"/>
                </a:lnTo>
                <a:lnTo>
                  <a:pt x="1691" y="142"/>
                </a:lnTo>
                <a:lnTo>
                  <a:pt x="1683" y="146"/>
                </a:lnTo>
                <a:lnTo>
                  <a:pt x="1674" y="147"/>
                </a:lnTo>
                <a:lnTo>
                  <a:pt x="1662" y="151"/>
                </a:lnTo>
                <a:lnTo>
                  <a:pt x="1649" y="153"/>
                </a:lnTo>
                <a:lnTo>
                  <a:pt x="1634" y="155"/>
                </a:lnTo>
                <a:lnTo>
                  <a:pt x="1618" y="157"/>
                </a:lnTo>
                <a:lnTo>
                  <a:pt x="1599" y="157"/>
                </a:lnTo>
                <a:lnTo>
                  <a:pt x="1580" y="159"/>
                </a:lnTo>
                <a:lnTo>
                  <a:pt x="1559" y="159"/>
                </a:lnTo>
                <a:lnTo>
                  <a:pt x="1536" y="159"/>
                </a:lnTo>
                <a:lnTo>
                  <a:pt x="1513" y="16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37"/>
          <p:cNvSpPr/>
          <p:nvPr/>
        </p:nvSpPr>
        <p:spPr>
          <a:xfrm>
            <a:off x="6783480" y="3925800"/>
            <a:ext cx="177840" cy="1104840"/>
          </a:xfrm>
          <a:custGeom>
            <a:avLst/>
            <a:gdLst/>
            <a:ahLst/>
            <a:rect l="l" t="t" r="r" b="b"/>
            <a:pathLst>
              <a:path w="225" h="1391">
                <a:moveTo>
                  <a:pt x="65" y="0"/>
                </a:moveTo>
                <a:lnTo>
                  <a:pt x="79" y="0"/>
                </a:lnTo>
                <a:lnTo>
                  <a:pt x="94" y="2"/>
                </a:lnTo>
                <a:lnTo>
                  <a:pt x="109" y="4"/>
                </a:lnTo>
                <a:lnTo>
                  <a:pt x="125" y="8"/>
                </a:lnTo>
                <a:lnTo>
                  <a:pt x="140" y="11"/>
                </a:lnTo>
                <a:lnTo>
                  <a:pt x="155" y="15"/>
                </a:lnTo>
                <a:lnTo>
                  <a:pt x="171" y="19"/>
                </a:lnTo>
                <a:lnTo>
                  <a:pt x="186" y="25"/>
                </a:lnTo>
                <a:lnTo>
                  <a:pt x="192" y="27"/>
                </a:lnTo>
                <a:lnTo>
                  <a:pt x="198" y="29"/>
                </a:lnTo>
                <a:lnTo>
                  <a:pt x="203" y="32"/>
                </a:lnTo>
                <a:lnTo>
                  <a:pt x="207" y="36"/>
                </a:lnTo>
                <a:lnTo>
                  <a:pt x="211" y="40"/>
                </a:lnTo>
                <a:lnTo>
                  <a:pt x="215" y="44"/>
                </a:lnTo>
                <a:lnTo>
                  <a:pt x="219" y="48"/>
                </a:lnTo>
                <a:lnTo>
                  <a:pt x="221" y="52"/>
                </a:lnTo>
                <a:lnTo>
                  <a:pt x="223" y="57"/>
                </a:lnTo>
                <a:lnTo>
                  <a:pt x="225" y="61"/>
                </a:lnTo>
                <a:lnTo>
                  <a:pt x="225" y="67"/>
                </a:lnTo>
                <a:lnTo>
                  <a:pt x="225" y="73"/>
                </a:lnTo>
                <a:lnTo>
                  <a:pt x="225" y="79"/>
                </a:lnTo>
                <a:lnTo>
                  <a:pt x="225" y="86"/>
                </a:lnTo>
                <a:lnTo>
                  <a:pt x="223" y="92"/>
                </a:lnTo>
                <a:lnTo>
                  <a:pt x="221" y="100"/>
                </a:lnTo>
                <a:lnTo>
                  <a:pt x="217" y="111"/>
                </a:lnTo>
                <a:lnTo>
                  <a:pt x="213" y="125"/>
                </a:lnTo>
                <a:lnTo>
                  <a:pt x="207" y="134"/>
                </a:lnTo>
                <a:lnTo>
                  <a:pt x="205" y="144"/>
                </a:lnTo>
                <a:lnTo>
                  <a:pt x="201" y="153"/>
                </a:lnTo>
                <a:lnTo>
                  <a:pt x="200" y="161"/>
                </a:lnTo>
                <a:lnTo>
                  <a:pt x="198" y="167"/>
                </a:lnTo>
                <a:lnTo>
                  <a:pt x="198" y="173"/>
                </a:lnTo>
                <a:lnTo>
                  <a:pt x="194" y="174"/>
                </a:lnTo>
                <a:lnTo>
                  <a:pt x="194" y="178"/>
                </a:lnTo>
                <a:lnTo>
                  <a:pt x="192" y="182"/>
                </a:lnTo>
                <a:lnTo>
                  <a:pt x="190" y="186"/>
                </a:lnTo>
                <a:lnTo>
                  <a:pt x="188" y="196"/>
                </a:lnTo>
                <a:lnTo>
                  <a:pt x="184" y="207"/>
                </a:lnTo>
                <a:lnTo>
                  <a:pt x="182" y="219"/>
                </a:lnTo>
                <a:lnTo>
                  <a:pt x="180" y="232"/>
                </a:lnTo>
                <a:lnTo>
                  <a:pt x="177" y="245"/>
                </a:lnTo>
                <a:lnTo>
                  <a:pt x="173" y="261"/>
                </a:lnTo>
                <a:lnTo>
                  <a:pt x="171" y="265"/>
                </a:lnTo>
                <a:lnTo>
                  <a:pt x="171" y="270"/>
                </a:lnTo>
                <a:lnTo>
                  <a:pt x="169" y="276"/>
                </a:lnTo>
                <a:lnTo>
                  <a:pt x="169" y="284"/>
                </a:lnTo>
                <a:lnTo>
                  <a:pt x="169" y="290"/>
                </a:lnTo>
                <a:lnTo>
                  <a:pt x="167" y="299"/>
                </a:lnTo>
                <a:lnTo>
                  <a:pt x="167" y="307"/>
                </a:lnTo>
                <a:lnTo>
                  <a:pt x="167" y="317"/>
                </a:lnTo>
                <a:lnTo>
                  <a:pt x="165" y="326"/>
                </a:lnTo>
                <a:lnTo>
                  <a:pt x="165" y="336"/>
                </a:lnTo>
                <a:lnTo>
                  <a:pt x="165" y="345"/>
                </a:lnTo>
                <a:lnTo>
                  <a:pt x="165" y="357"/>
                </a:lnTo>
                <a:lnTo>
                  <a:pt x="165" y="368"/>
                </a:lnTo>
                <a:lnTo>
                  <a:pt x="165" y="382"/>
                </a:lnTo>
                <a:lnTo>
                  <a:pt x="165" y="393"/>
                </a:lnTo>
                <a:lnTo>
                  <a:pt x="165" y="407"/>
                </a:lnTo>
                <a:lnTo>
                  <a:pt x="165" y="422"/>
                </a:lnTo>
                <a:lnTo>
                  <a:pt x="165" y="435"/>
                </a:lnTo>
                <a:lnTo>
                  <a:pt x="165" y="451"/>
                </a:lnTo>
                <a:lnTo>
                  <a:pt x="165" y="466"/>
                </a:lnTo>
                <a:lnTo>
                  <a:pt x="165" y="483"/>
                </a:lnTo>
                <a:lnTo>
                  <a:pt x="165" y="499"/>
                </a:lnTo>
                <a:lnTo>
                  <a:pt x="165" y="516"/>
                </a:lnTo>
                <a:lnTo>
                  <a:pt x="167" y="533"/>
                </a:lnTo>
                <a:lnTo>
                  <a:pt x="167" y="553"/>
                </a:lnTo>
                <a:lnTo>
                  <a:pt x="167" y="572"/>
                </a:lnTo>
                <a:lnTo>
                  <a:pt x="169" y="591"/>
                </a:lnTo>
                <a:lnTo>
                  <a:pt x="169" y="610"/>
                </a:lnTo>
                <a:lnTo>
                  <a:pt x="169" y="631"/>
                </a:lnTo>
                <a:lnTo>
                  <a:pt x="171" y="650"/>
                </a:lnTo>
                <a:lnTo>
                  <a:pt x="171" y="673"/>
                </a:lnTo>
                <a:lnTo>
                  <a:pt x="173" y="695"/>
                </a:lnTo>
                <a:lnTo>
                  <a:pt x="175" y="739"/>
                </a:lnTo>
                <a:lnTo>
                  <a:pt x="177" y="779"/>
                </a:lnTo>
                <a:lnTo>
                  <a:pt x="178" y="819"/>
                </a:lnTo>
                <a:lnTo>
                  <a:pt x="180" y="858"/>
                </a:lnTo>
                <a:lnTo>
                  <a:pt x="180" y="875"/>
                </a:lnTo>
                <a:lnTo>
                  <a:pt x="180" y="894"/>
                </a:lnTo>
                <a:lnTo>
                  <a:pt x="180" y="911"/>
                </a:lnTo>
                <a:lnTo>
                  <a:pt x="182" y="927"/>
                </a:lnTo>
                <a:lnTo>
                  <a:pt x="182" y="944"/>
                </a:lnTo>
                <a:lnTo>
                  <a:pt x="182" y="959"/>
                </a:lnTo>
                <a:lnTo>
                  <a:pt x="182" y="975"/>
                </a:lnTo>
                <a:lnTo>
                  <a:pt x="184" y="990"/>
                </a:lnTo>
                <a:lnTo>
                  <a:pt x="184" y="1004"/>
                </a:lnTo>
                <a:lnTo>
                  <a:pt x="184" y="1017"/>
                </a:lnTo>
                <a:lnTo>
                  <a:pt x="184" y="1030"/>
                </a:lnTo>
                <a:lnTo>
                  <a:pt x="184" y="1044"/>
                </a:lnTo>
                <a:lnTo>
                  <a:pt x="184" y="1055"/>
                </a:lnTo>
                <a:lnTo>
                  <a:pt x="184" y="1067"/>
                </a:lnTo>
                <a:lnTo>
                  <a:pt x="184" y="1078"/>
                </a:lnTo>
                <a:lnTo>
                  <a:pt x="184" y="1090"/>
                </a:lnTo>
                <a:lnTo>
                  <a:pt x="184" y="1100"/>
                </a:lnTo>
                <a:lnTo>
                  <a:pt x="184" y="1109"/>
                </a:lnTo>
                <a:lnTo>
                  <a:pt x="184" y="1119"/>
                </a:lnTo>
                <a:lnTo>
                  <a:pt x="184" y="1126"/>
                </a:lnTo>
                <a:lnTo>
                  <a:pt x="186" y="1134"/>
                </a:lnTo>
                <a:lnTo>
                  <a:pt x="186" y="1142"/>
                </a:lnTo>
                <a:lnTo>
                  <a:pt x="186" y="1147"/>
                </a:lnTo>
                <a:lnTo>
                  <a:pt x="186" y="1155"/>
                </a:lnTo>
                <a:lnTo>
                  <a:pt x="177" y="1201"/>
                </a:lnTo>
                <a:lnTo>
                  <a:pt x="171" y="1224"/>
                </a:lnTo>
                <a:lnTo>
                  <a:pt x="167" y="1245"/>
                </a:lnTo>
                <a:lnTo>
                  <a:pt x="161" y="1268"/>
                </a:lnTo>
                <a:lnTo>
                  <a:pt x="157" y="1288"/>
                </a:lnTo>
                <a:lnTo>
                  <a:pt x="153" y="1309"/>
                </a:lnTo>
                <a:lnTo>
                  <a:pt x="150" y="1328"/>
                </a:lnTo>
                <a:lnTo>
                  <a:pt x="144" y="1341"/>
                </a:lnTo>
                <a:lnTo>
                  <a:pt x="140" y="1353"/>
                </a:lnTo>
                <a:lnTo>
                  <a:pt x="136" y="1364"/>
                </a:lnTo>
                <a:lnTo>
                  <a:pt x="130" y="1374"/>
                </a:lnTo>
                <a:lnTo>
                  <a:pt x="127" y="1380"/>
                </a:lnTo>
                <a:lnTo>
                  <a:pt x="125" y="1384"/>
                </a:lnTo>
                <a:lnTo>
                  <a:pt x="123" y="1385"/>
                </a:lnTo>
                <a:lnTo>
                  <a:pt x="119" y="1387"/>
                </a:lnTo>
                <a:lnTo>
                  <a:pt x="117" y="1389"/>
                </a:lnTo>
                <a:lnTo>
                  <a:pt x="115" y="1389"/>
                </a:lnTo>
                <a:lnTo>
                  <a:pt x="113" y="1391"/>
                </a:lnTo>
                <a:lnTo>
                  <a:pt x="111" y="1389"/>
                </a:lnTo>
                <a:lnTo>
                  <a:pt x="107" y="1389"/>
                </a:lnTo>
                <a:lnTo>
                  <a:pt x="105" y="1387"/>
                </a:lnTo>
                <a:lnTo>
                  <a:pt x="102" y="1384"/>
                </a:lnTo>
                <a:lnTo>
                  <a:pt x="100" y="1380"/>
                </a:lnTo>
                <a:lnTo>
                  <a:pt x="96" y="1376"/>
                </a:lnTo>
                <a:lnTo>
                  <a:pt x="92" y="1370"/>
                </a:lnTo>
                <a:lnTo>
                  <a:pt x="88" y="1364"/>
                </a:lnTo>
                <a:lnTo>
                  <a:pt x="86" y="1357"/>
                </a:lnTo>
                <a:lnTo>
                  <a:pt x="82" y="1349"/>
                </a:lnTo>
                <a:lnTo>
                  <a:pt x="79" y="1341"/>
                </a:lnTo>
                <a:lnTo>
                  <a:pt x="77" y="1332"/>
                </a:lnTo>
                <a:lnTo>
                  <a:pt x="73" y="1322"/>
                </a:lnTo>
                <a:lnTo>
                  <a:pt x="71" y="1313"/>
                </a:lnTo>
                <a:lnTo>
                  <a:pt x="67" y="1301"/>
                </a:lnTo>
                <a:lnTo>
                  <a:pt x="65" y="1291"/>
                </a:lnTo>
                <a:lnTo>
                  <a:pt x="61" y="1276"/>
                </a:lnTo>
                <a:lnTo>
                  <a:pt x="57" y="1265"/>
                </a:lnTo>
                <a:lnTo>
                  <a:pt x="54" y="1251"/>
                </a:lnTo>
                <a:lnTo>
                  <a:pt x="50" y="1240"/>
                </a:lnTo>
                <a:lnTo>
                  <a:pt x="46" y="1228"/>
                </a:lnTo>
                <a:lnTo>
                  <a:pt x="44" y="1219"/>
                </a:lnTo>
                <a:lnTo>
                  <a:pt x="40" y="1209"/>
                </a:lnTo>
                <a:lnTo>
                  <a:pt x="38" y="1199"/>
                </a:lnTo>
                <a:lnTo>
                  <a:pt x="36" y="1192"/>
                </a:lnTo>
                <a:lnTo>
                  <a:pt x="34" y="1184"/>
                </a:lnTo>
                <a:lnTo>
                  <a:pt x="33" y="1176"/>
                </a:lnTo>
                <a:lnTo>
                  <a:pt x="31" y="1171"/>
                </a:lnTo>
                <a:lnTo>
                  <a:pt x="31" y="1165"/>
                </a:lnTo>
                <a:lnTo>
                  <a:pt x="29" y="1161"/>
                </a:lnTo>
                <a:lnTo>
                  <a:pt x="29" y="1157"/>
                </a:lnTo>
                <a:lnTo>
                  <a:pt x="29" y="1155"/>
                </a:lnTo>
                <a:lnTo>
                  <a:pt x="29" y="1153"/>
                </a:lnTo>
                <a:lnTo>
                  <a:pt x="29" y="1151"/>
                </a:lnTo>
                <a:lnTo>
                  <a:pt x="29" y="1147"/>
                </a:lnTo>
                <a:lnTo>
                  <a:pt x="29" y="1146"/>
                </a:lnTo>
                <a:lnTo>
                  <a:pt x="29" y="1142"/>
                </a:lnTo>
                <a:lnTo>
                  <a:pt x="31" y="1136"/>
                </a:lnTo>
                <a:lnTo>
                  <a:pt x="31" y="1132"/>
                </a:lnTo>
                <a:lnTo>
                  <a:pt x="31" y="1126"/>
                </a:lnTo>
                <a:lnTo>
                  <a:pt x="31" y="1121"/>
                </a:lnTo>
                <a:lnTo>
                  <a:pt x="33" y="1115"/>
                </a:lnTo>
                <a:lnTo>
                  <a:pt x="33" y="1107"/>
                </a:lnTo>
                <a:lnTo>
                  <a:pt x="33" y="1100"/>
                </a:lnTo>
                <a:lnTo>
                  <a:pt x="34" y="1092"/>
                </a:lnTo>
                <a:lnTo>
                  <a:pt x="34" y="1082"/>
                </a:lnTo>
                <a:lnTo>
                  <a:pt x="36" y="1073"/>
                </a:lnTo>
                <a:lnTo>
                  <a:pt x="36" y="1063"/>
                </a:lnTo>
                <a:lnTo>
                  <a:pt x="36" y="1053"/>
                </a:lnTo>
                <a:lnTo>
                  <a:pt x="38" y="1044"/>
                </a:lnTo>
                <a:lnTo>
                  <a:pt x="38" y="1032"/>
                </a:lnTo>
                <a:lnTo>
                  <a:pt x="40" y="1021"/>
                </a:lnTo>
                <a:lnTo>
                  <a:pt x="40" y="1007"/>
                </a:lnTo>
                <a:lnTo>
                  <a:pt x="42" y="996"/>
                </a:lnTo>
                <a:lnTo>
                  <a:pt x="42" y="982"/>
                </a:lnTo>
                <a:lnTo>
                  <a:pt x="44" y="969"/>
                </a:lnTo>
                <a:lnTo>
                  <a:pt x="46" y="940"/>
                </a:lnTo>
                <a:lnTo>
                  <a:pt x="48" y="910"/>
                </a:lnTo>
                <a:lnTo>
                  <a:pt x="50" y="877"/>
                </a:lnTo>
                <a:lnTo>
                  <a:pt x="54" y="844"/>
                </a:lnTo>
                <a:lnTo>
                  <a:pt x="56" y="808"/>
                </a:lnTo>
                <a:lnTo>
                  <a:pt x="57" y="775"/>
                </a:lnTo>
                <a:lnTo>
                  <a:pt x="59" y="741"/>
                </a:lnTo>
                <a:lnTo>
                  <a:pt x="61" y="708"/>
                </a:lnTo>
                <a:lnTo>
                  <a:pt x="63" y="675"/>
                </a:lnTo>
                <a:lnTo>
                  <a:pt x="65" y="645"/>
                </a:lnTo>
                <a:lnTo>
                  <a:pt x="67" y="614"/>
                </a:lnTo>
                <a:lnTo>
                  <a:pt x="69" y="583"/>
                </a:lnTo>
                <a:lnTo>
                  <a:pt x="71" y="553"/>
                </a:lnTo>
                <a:lnTo>
                  <a:pt x="73" y="524"/>
                </a:lnTo>
                <a:lnTo>
                  <a:pt x="73" y="495"/>
                </a:lnTo>
                <a:lnTo>
                  <a:pt x="75" y="466"/>
                </a:lnTo>
                <a:lnTo>
                  <a:pt x="75" y="439"/>
                </a:lnTo>
                <a:lnTo>
                  <a:pt x="77" y="411"/>
                </a:lnTo>
                <a:lnTo>
                  <a:pt x="77" y="386"/>
                </a:lnTo>
                <a:lnTo>
                  <a:pt x="77" y="359"/>
                </a:lnTo>
                <a:lnTo>
                  <a:pt x="75" y="334"/>
                </a:lnTo>
                <a:lnTo>
                  <a:pt x="73" y="311"/>
                </a:lnTo>
                <a:lnTo>
                  <a:pt x="71" y="288"/>
                </a:lnTo>
                <a:lnTo>
                  <a:pt x="67" y="267"/>
                </a:lnTo>
                <a:lnTo>
                  <a:pt x="65" y="245"/>
                </a:lnTo>
                <a:lnTo>
                  <a:pt x="63" y="226"/>
                </a:lnTo>
                <a:lnTo>
                  <a:pt x="59" y="209"/>
                </a:lnTo>
                <a:lnTo>
                  <a:pt x="57" y="192"/>
                </a:lnTo>
                <a:lnTo>
                  <a:pt x="54" y="176"/>
                </a:lnTo>
                <a:lnTo>
                  <a:pt x="52" y="161"/>
                </a:lnTo>
                <a:lnTo>
                  <a:pt x="48" y="148"/>
                </a:lnTo>
                <a:lnTo>
                  <a:pt x="44" y="136"/>
                </a:lnTo>
                <a:lnTo>
                  <a:pt x="40" y="125"/>
                </a:lnTo>
                <a:lnTo>
                  <a:pt x="36" y="115"/>
                </a:lnTo>
                <a:lnTo>
                  <a:pt x="33" y="105"/>
                </a:lnTo>
                <a:lnTo>
                  <a:pt x="29" y="100"/>
                </a:lnTo>
                <a:lnTo>
                  <a:pt x="21" y="84"/>
                </a:lnTo>
                <a:lnTo>
                  <a:pt x="13" y="73"/>
                </a:lnTo>
                <a:lnTo>
                  <a:pt x="8" y="61"/>
                </a:lnTo>
                <a:lnTo>
                  <a:pt x="4" y="52"/>
                </a:lnTo>
                <a:lnTo>
                  <a:pt x="2" y="42"/>
                </a:lnTo>
                <a:lnTo>
                  <a:pt x="0" y="36"/>
                </a:lnTo>
                <a:lnTo>
                  <a:pt x="0" y="32"/>
                </a:lnTo>
                <a:lnTo>
                  <a:pt x="2" y="29"/>
                </a:lnTo>
                <a:lnTo>
                  <a:pt x="4" y="27"/>
                </a:lnTo>
                <a:lnTo>
                  <a:pt x="6" y="25"/>
                </a:lnTo>
                <a:lnTo>
                  <a:pt x="9" y="19"/>
                </a:lnTo>
                <a:lnTo>
                  <a:pt x="15" y="15"/>
                </a:lnTo>
                <a:lnTo>
                  <a:pt x="19" y="11"/>
                </a:lnTo>
                <a:lnTo>
                  <a:pt x="27" y="8"/>
                </a:lnTo>
                <a:lnTo>
                  <a:pt x="33" y="4"/>
                </a:lnTo>
                <a:lnTo>
                  <a:pt x="42" y="2"/>
                </a:lnTo>
                <a:lnTo>
                  <a:pt x="48" y="0"/>
                </a:lnTo>
                <a:lnTo>
                  <a:pt x="52" y="0"/>
                </a:lnTo>
                <a:lnTo>
                  <a:pt x="59" y="0"/>
                </a:lnTo>
                <a:lnTo>
                  <a:pt x="65" y="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38"/>
          <p:cNvSpPr/>
          <p:nvPr/>
        </p:nvSpPr>
        <p:spPr>
          <a:xfrm>
            <a:off x="6186600" y="4143240"/>
            <a:ext cx="695160" cy="714600"/>
          </a:xfrm>
          <a:custGeom>
            <a:avLst/>
            <a:gdLst/>
            <a:ahLst/>
            <a:rect l="l" t="t" r="r" b="b"/>
            <a:pathLst>
              <a:path w="878" h="900">
                <a:moveTo>
                  <a:pt x="747" y="0"/>
                </a:moveTo>
                <a:lnTo>
                  <a:pt x="780" y="16"/>
                </a:lnTo>
                <a:lnTo>
                  <a:pt x="812" y="31"/>
                </a:lnTo>
                <a:lnTo>
                  <a:pt x="845" y="46"/>
                </a:lnTo>
                <a:lnTo>
                  <a:pt x="878" y="64"/>
                </a:lnTo>
                <a:lnTo>
                  <a:pt x="858" y="96"/>
                </a:lnTo>
                <a:lnTo>
                  <a:pt x="837" y="131"/>
                </a:lnTo>
                <a:lnTo>
                  <a:pt x="818" y="163"/>
                </a:lnTo>
                <a:lnTo>
                  <a:pt x="799" y="194"/>
                </a:lnTo>
                <a:lnTo>
                  <a:pt x="780" y="223"/>
                </a:lnTo>
                <a:lnTo>
                  <a:pt x="761" y="252"/>
                </a:lnTo>
                <a:lnTo>
                  <a:pt x="741" y="281"/>
                </a:lnTo>
                <a:lnTo>
                  <a:pt x="722" y="307"/>
                </a:lnTo>
                <a:lnTo>
                  <a:pt x="703" y="334"/>
                </a:lnTo>
                <a:lnTo>
                  <a:pt x="684" y="359"/>
                </a:lnTo>
                <a:lnTo>
                  <a:pt x="665" y="384"/>
                </a:lnTo>
                <a:lnTo>
                  <a:pt x="645" y="407"/>
                </a:lnTo>
                <a:lnTo>
                  <a:pt x="624" y="430"/>
                </a:lnTo>
                <a:lnTo>
                  <a:pt x="605" y="453"/>
                </a:lnTo>
                <a:lnTo>
                  <a:pt x="586" y="474"/>
                </a:lnTo>
                <a:lnTo>
                  <a:pt x="567" y="497"/>
                </a:lnTo>
                <a:lnTo>
                  <a:pt x="546" y="517"/>
                </a:lnTo>
                <a:lnTo>
                  <a:pt x="526" y="538"/>
                </a:lnTo>
                <a:lnTo>
                  <a:pt x="505" y="557"/>
                </a:lnTo>
                <a:lnTo>
                  <a:pt x="484" y="576"/>
                </a:lnTo>
                <a:lnTo>
                  <a:pt x="465" y="595"/>
                </a:lnTo>
                <a:lnTo>
                  <a:pt x="444" y="613"/>
                </a:lnTo>
                <a:lnTo>
                  <a:pt x="402" y="649"/>
                </a:lnTo>
                <a:lnTo>
                  <a:pt x="357" y="684"/>
                </a:lnTo>
                <a:lnTo>
                  <a:pt x="313" y="716"/>
                </a:lnTo>
                <a:lnTo>
                  <a:pt x="267" y="749"/>
                </a:lnTo>
                <a:lnTo>
                  <a:pt x="219" y="783"/>
                </a:lnTo>
                <a:lnTo>
                  <a:pt x="194" y="799"/>
                </a:lnTo>
                <a:lnTo>
                  <a:pt x="171" y="814"/>
                </a:lnTo>
                <a:lnTo>
                  <a:pt x="150" y="828"/>
                </a:lnTo>
                <a:lnTo>
                  <a:pt x="131" y="841"/>
                </a:lnTo>
                <a:lnTo>
                  <a:pt x="112" y="852"/>
                </a:lnTo>
                <a:lnTo>
                  <a:pt x="94" y="864"/>
                </a:lnTo>
                <a:lnTo>
                  <a:pt x="79" y="874"/>
                </a:lnTo>
                <a:lnTo>
                  <a:pt x="66" y="881"/>
                </a:lnTo>
                <a:lnTo>
                  <a:pt x="52" y="887"/>
                </a:lnTo>
                <a:lnTo>
                  <a:pt x="41" y="893"/>
                </a:lnTo>
                <a:lnTo>
                  <a:pt x="31" y="897"/>
                </a:lnTo>
                <a:lnTo>
                  <a:pt x="21" y="900"/>
                </a:lnTo>
                <a:lnTo>
                  <a:pt x="14" y="900"/>
                </a:lnTo>
                <a:lnTo>
                  <a:pt x="8" y="900"/>
                </a:lnTo>
                <a:lnTo>
                  <a:pt x="4" y="899"/>
                </a:lnTo>
                <a:lnTo>
                  <a:pt x="2" y="895"/>
                </a:lnTo>
                <a:lnTo>
                  <a:pt x="0" y="893"/>
                </a:lnTo>
                <a:lnTo>
                  <a:pt x="0" y="887"/>
                </a:lnTo>
                <a:lnTo>
                  <a:pt x="2" y="883"/>
                </a:lnTo>
                <a:lnTo>
                  <a:pt x="4" y="875"/>
                </a:lnTo>
                <a:lnTo>
                  <a:pt x="8" y="870"/>
                </a:lnTo>
                <a:lnTo>
                  <a:pt x="16" y="860"/>
                </a:lnTo>
                <a:lnTo>
                  <a:pt x="23" y="851"/>
                </a:lnTo>
                <a:lnTo>
                  <a:pt x="33" y="839"/>
                </a:lnTo>
                <a:lnTo>
                  <a:pt x="43" y="828"/>
                </a:lnTo>
                <a:lnTo>
                  <a:pt x="56" y="814"/>
                </a:lnTo>
                <a:lnTo>
                  <a:pt x="69" y="799"/>
                </a:lnTo>
                <a:lnTo>
                  <a:pt x="87" y="783"/>
                </a:lnTo>
                <a:lnTo>
                  <a:pt x="104" y="766"/>
                </a:lnTo>
                <a:lnTo>
                  <a:pt x="123" y="749"/>
                </a:lnTo>
                <a:lnTo>
                  <a:pt x="146" y="730"/>
                </a:lnTo>
                <a:lnTo>
                  <a:pt x="169" y="709"/>
                </a:lnTo>
                <a:lnTo>
                  <a:pt x="194" y="687"/>
                </a:lnTo>
                <a:lnTo>
                  <a:pt x="217" y="666"/>
                </a:lnTo>
                <a:lnTo>
                  <a:pt x="240" y="647"/>
                </a:lnTo>
                <a:lnTo>
                  <a:pt x="263" y="626"/>
                </a:lnTo>
                <a:lnTo>
                  <a:pt x="286" y="607"/>
                </a:lnTo>
                <a:lnTo>
                  <a:pt x="307" y="588"/>
                </a:lnTo>
                <a:lnTo>
                  <a:pt x="329" y="568"/>
                </a:lnTo>
                <a:lnTo>
                  <a:pt x="350" y="549"/>
                </a:lnTo>
                <a:lnTo>
                  <a:pt x="369" y="532"/>
                </a:lnTo>
                <a:lnTo>
                  <a:pt x="388" y="513"/>
                </a:lnTo>
                <a:lnTo>
                  <a:pt x="407" y="496"/>
                </a:lnTo>
                <a:lnTo>
                  <a:pt x="427" y="478"/>
                </a:lnTo>
                <a:lnTo>
                  <a:pt x="444" y="461"/>
                </a:lnTo>
                <a:lnTo>
                  <a:pt x="461" y="444"/>
                </a:lnTo>
                <a:lnTo>
                  <a:pt x="478" y="426"/>
                </a:lnTo>
                <a:lnTo>
                  <a:pt x="494" y="411"/>
                </a:lnTo>
                <a:lnTo>
                  <a:pt x="509" y="394"/>
                </a:lnTo>
                <a:lnTo>
                  <a:pt x="524" y="375"/>
                </a:lnTo>
                <a:lnTo>
                  <a:pt x="542" y="355"/>
                </a:lnTo>
                <a:lnTo>
                  <a:pt x="557" y="334"/>
                </a:lnTo>
                <a:lnTo>
                  <a:pt x="572" y="313"/>
                </a:lnTo>
                <a:lnTo>
                  <a:pt x="588" y="290"/>
                </a:lnTo>
                <a:lnTo>
                  <a:pt x="605" y="267"/>
                </a:lnTo>
                <a:lnTo>
                  <a:pt x="620" y="242"/>
                </a:lnTo>
                <a:lnTo>
                  <a:pt x="636" y="215"/>
                </a:lnTo>
                <a:lnTo>
                  <a:pt x="651" y="188"/>
                </a:lnTo>
                <a:lnTo>
                  <a:pt x="668" y="160"/>
                </a:lnTo>
                <a:lnTo>
                  <a:pt x="684" y="131"/>
                </a:lnTo>
                <a:lnTo>
                  <a:pt x="699" y="100"/>
                </a:lnTo>
                <a:lnTo>
                  <a:pt x="714" y="68"/>
                </a:lnTo>
                <a:lnTo>
                  <a:pt x="730" y="35"/>
                </a:lnTo>
                <a:lnTo>
                  <a:pt x="747" y="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39"/>
          <p:cNvSpPr/>
          <p:nvPr/>
        </p:nvSpPr>
        <p:spPr>
          <a:xfrm>
            <a:off x="6881760" y="4113360"/>
            <a:ext cx="944640" cy="639720"/>
          </a:xfrm>
          <a:custGeom>
            <a:avLst/>
            <a:gdLst/>
            <a:ahLst/>
            <a:rect l="l" t="t" r="r" b="b"/>
            <a:pathLst>
              <a:path w="1188" h="804">
                <a:moveTo>
                  <a:pt x="1188" y="756"/>
                </a:moveTo>
                <a:lnTo>
                  <a:pt x="1188" y="758"/>
                </a:lnTo>
                <a:lnTo>
                  <a:pt x="1186" y="760"/>
                </a:lnTo>
                <a:lnTo>
                  <a:pt x="1182" y="764"/>
                </a:lnTo>
                <a:lnTo>
                  <a:pt x="1177" y="766"/>
                </a:lnTo>
                <a:lnTo>
                  <a:pt x="1171" y="768"/>
                </a:lnTo>
                <a:lnTo>
                  <a:pt x="1163" y="769"/>
                </a:lnTo>
                <a:lnTo>
                  <a:pt x="1153" y="773"/>
                </a:lnTo>
                <a:lnTo>
                  <a:pt x="1144" y="775"/>
                </a:lnTo>
                <a:lnTo>
                  <a:pt x="1130" y="777"/>
                </a:lnTo>
                <a:lnTo>
                  <a:pt x="1117" y="779"/>
                </a:lnTo>
                <a:lnTo>
                  <a:pt x="1104" y="781"/>
                </a:lnTo>
                <a:lnTo>
                  <a:pt x="1086" y="785"/>
                </a:lnTo>
                <a:lnTo>
                  <a:pt x="1069" y="787"/>
                </a:lnTo>
                <a:lnTo>
                  <a:pt x="1050" y="789"/>
                </a:lnTo>
                <a:lnTo>
                  <a:pt x="1029" y="791"/>
                </a:lnTo>
                <a:lnTo>
                  <a:pt x="1008" y="794"/>
                </a:lnTo>
                <a:lnTo>
                  <a:pt x="983" y="796"/>
                </a:lnTo>
                <a:lnTo>
                  <a:pt x="960" y="798"/>
                </a:lnTo>
                <a:lnTo>
                  <a:pt x="938" y="800"/>
                </a:lnTo>
                <a:lnTo>
                  <a:pt x="917" y="800"/>
                </a:lnTo>
                <a:lnTo>
                  <a:pt x="898" y="802"/>
                </a:lnTo>
                <a:lnTo>
                  <a:pt x="879" y="802"/>
                </a:lnTo>
                <a:lnTo>
                  <a:pt x="860" y="804"/>
                </a:lnTo>
                <a:lnTo>
                  <a:pt x="842" y="804"/>
                </a:lnTo>
                <a:lnTo>
                  <a:pt x="827" y="804"/>
                </a:lnTo>
                <a:lnTo>
                  <a:pt x="810" y="802"/>
                </a:lnTo>
                <a:lnTo>
                  <a:pt x="796" y="802"/>
                </a:lnTo>
                <a:lnTo>
                  <a:pt x="781" y="800"/>
                </a:lnTo>
                <a:lnTo>
                  <a:pt x="768" y="800"/>
                </a:lnTo>
                <a:lnTo>
                  <a:pt x="756" y="798"/>
                </a:lnTo>
                <a:lnTo>
                  <a:pt x="743" y="796"/>
                </a:lnTo>
                <a:lnTo>
                  <a:pt x="733" y="794"/>
                </a:lnTo>
                <a:lnTo>
                  <a:pt x="722" y="793"/>
                </a:lnTo>
                <a:lnTo>
                  <a:pt x="710" y="793"/>
                </a:lnTo>
                <a:lnTo>
                  <a:pt x="698" y="791"/>
                </a:lnTo>
                <a:lnTo>
                  <a:pt x="687" y="789"/>
                </a:lnTo>
                <a:lnTo>
                  <a:pt x="675" y="787"/>
                </a:lnTo>
                <a:lnTo>
                  <a:pt x="664" y="783"/>
                </a:lnTo>
                <a:lnTo>
                  <a:pt x="654" y="779"/>
                </a:lnTo>
                <a:lnTo>
                  <a:pt x="643" y="775"/>
                </a:lnTo>
                <a:lnTo>
                  <a:pt x="633" y="769"/>
                </a:lnTo>
                <a:lnTo>
                  <a:pt x="622" y="766"/>
                </a:lnTo>
                <a:lnTo>
                  <a:pt x="612" y="758"/>
                </a:lnTo>
                <a:lnTo>
                  <a:pt x="603" y="752"/>
                </a:lnTo>
                <a:lnTo>
                  <a:pt x="591" y="745"/>
                </a:lnTo>
                <a:lnTo>
                  <a:pt x="583" y="737"/>
                </a:lnTo>
                <a:lnTo>
                  <a:pt x="574" y="729"/>
                </a:lnTo>
                <a:lnTo>
                  <a:pt x="564" y="720"/>
                </a:lnTo>
                <a:lnTo>
                  <a:pt x="558" y="716"/>
                </a:lnTo>
                <a:lnTo>
                  <a:pt x="551" y="710"/>
                </a:lnTo>
                <a:lnTo>
                  <a:pt x="545" y="704"/>
                </a:lnTo>
                <a:lnTo>
                  <a:pt x="535" y="697"/>
                </a:lnTo>
                <a:lnTo>
                  <a:pt x="528" y="687"/>
                </a:lnTo>
                <a:lnTo>
                  <a:pt x="518" y="677"/>
                </a:lnTo>
                <a:lnTo>
                  <a:pt x="507" y="666"/>
                </a:lnTo>
                <a:lnTo>
                  <a:pt x="495" y="654"/>
                </a:lnTo>
                <a:lnTo>
                  <a:pt x="483" y="641"/>
                </a:lnTo>
                <a:lnTo>
                  <a:pt x="472" y="627"/>
                </a:lnTo>
                <a:lnTo>
                  <a:pt x="459" y="612"/>
                </a:lnTo>
                <a:lnTo>
                  <a:pt x="443" y="595"/>
                </a:lnTo>
                <a:lnTo>
                  <a:pt x="430" y="578"/>
                </a:lnTo>
                <a:lnTo>
                  <a:pt x="414" y="558"/>
                </a:lnTo>
                <a:lnTo>
                  <a:pt x="397" y="539"/>
                </a:lnTo>
                <a:lnTo>
                  <a:pt x="380" y="518"/>
                </a:lnTo>
                <a:lnTo>
                  <a:pt x="363" y="497"/>
                </a:lnTo>
                <a:lnTo>
                  <a:pt x="343" y="474"/>
                </a:lnTo>
                <a:lnTo>
                  <a:pt x="324" y="449"/>
                </a:lnTo>
                <a:lnTo>
                  <a:pt x="303" y="424"/>
                </a:lnTo>
                <a:lnTo>
                  <a:pt x="282" y="397"/>
                </a:lnTo>
                <a:lnTo>
                  <a:pt x="261" y="370"/>
                </a:lnTo>
                <a:lnTo>
                  <a:pt x="238" y="342"/>
                </a:lnTo>
                <a:lnTo>
                  <a:pt x="215" y="313"/>
                </a:lnTo>
                <a:lnTo>
                  <a:pt x="190" y="282"/>
                </a:lnTo>
                <a:lnTo>
                  <a:pt x="167" y="249"/>
                </a:lnTo>
                <a:lnTo>
                  <a:pt x="140" y="217"/>
                </a:lnTo>
                <a:lnTo>
                  <a:pt x="113" y="182"/>
                </a:lnTo>
                <a:lnTo>
                  <a:pt x="86" y="148"/>
                </a:lnTo>
                <a:lnTo>
                  <a:pt x="59" y="111"/>
                </a:lnTo>
                <a:lnTo>
                  <a:pt x="28" y="75"/>
                </a:lnTo>
                <a:lnTo>
                  <a:pt x="0" y="36"/>
                </a:lnTo>
                <a:lnTo>
                  <a:pt x="61" y="0"/>
                </a:lnTo>
                <a:lnTo>
                  <a:pt x="96" y="36"/>
                </a:lnTo>
                <a:lnTo>
                  <a:pt x="130" y="71"/>
                </a:lnTo>
                <a:lnTo>
                  <a:pt x="163" y="105"/>
                </a:lnTo>
                <a:lnTo>
                  <a:pt x="197" y="138"/>
                </a:lnTo>
                <a:lnTo>
                  <a:pt x="228" y="169"/>
                </a:lnTo>
                <a:lnTo>
                  <a:pt x="261" y="198"/>
                </a:lnTo>
                <a:lnTo>
                  <a:pt x="291" y="226"/>
                </a:lnTo>
                <a:lnTo>
                  <a:pt x="320" y="251"/>
                </a:lnTo>
                <a:lnTo>
                  <a:pt x="349" y="278"/>
                </a:lnTo>
                <a:lnTo>
                  <a:pt x="378" y="301"/>
                </a:lnTo>
                <a:lnTo>
                  <a:pt x="405" y="324"/>
                </a:lnTo>
                <a:lnTo>
                  <a:pt x="432" y="345"/>
                </a:lnTo>
                <a:lnTo>
                  <a:pt x="457" y="366"/>
                </a:lnTo>
                <a:lnTo>
                  <a:pt x="482" y="386"/>
                </a:lnTo>
                <a:lnTo>
                  <a:pt x="505" y="405"/>
                </a:lnTo>
                <a:lnTo>
                  <a:pt x="528" y="422"/>
                </a:lnTo>
                <a:lnTo>
                  <a:pt x="551" y="437"/>
                </a:lnTo>
                <a:lnTo>
                  <a:pt x="574" y="453"/>
                </a:lnTo>
                <a:lnTo>
                  <a:pt x="597" y="468"/>
                </a:lnTo>
                <a:lnTo>
                  <a:pt x="622" y="484"/>
                </a:lnTo>
                <a:lnTo>
                  <a:pt x="647" y="499"/>
                </a:lnTo>
                <a:lnTo>
                  <a:pt x="672" y="514"/>
                </a:lnTo>
                <a:lnTo>
                  <a:pt x="723" y="541"/>
                </a:lnTo>
                <a:lnTo>
                  <a:pt x="777" y="566"/>
                </a:lnTo>
                <a:lnTo>
                  <a:pt x="833" y="591"/>
                </a:lnTo>
                <a:lnTo>
                  <a:pt x="862" y="601"/>
                </a:lnTo>
                <a:lnTo>
                  <a:pt x="890" y="612"/>
                </a:lnTo>
                <a:lnTo>
                  <a:pt x="919" y="622"/>
                </a:lnTo>
                <a:lnTo>
                  <a:pt x="948" y="633"/>
                </a:lnTo>
                <a:lnTo>
                  <a:pt x="977" y="645"/>
                </a:lnTo>
                <a:lnTo>
                  <a:pt x="1004" y="654"/>
                </a:lnTo>
                <a:lnTo>
                  <a:pt x="1029" y="666"/>
                </a:lnTo>
                <a:lnTo>
                  <a:pt x="1052" y="675"/>
                </a:lnTo>
                <a:lnTo>
                  <a:pt x="1073" y="685"/>
                </a:lnTo>
                <a:lnTo>
                  <a:pt x="1092" y="693"/>
                </a:lnTo>
                <a:lnTo>
                  <a:pt x="1111" y="700"/>
                </a:lnTo>
                <a:lnTo>
                  <a:pt x="1127" y="708"/>
                </a:lnTo>
                <a:lnTo>
                  <a:pt x="1140" y="716"/>
                </a:lnTo>
                <a:lnTo>
                  <a:pt x="1153" y="723"/>
                </a:lnTo>
                <a:lnTo>
                  <a:pt x="1163" y="729"/>
                </a:lnTo>
                <a:lnTo>
                  <a:pt x="1173" y="735"/>
                </a:lnTo>
                <a:lnTo>
                  <a:pt x="1177" y="739"/>
                </a:lnTo>
                <a:lnTo>
                  <a:pt x="1178" y="741"/>
                </a:lnTo>
                <a:lnTo>
                  <a:pt x="1182" y="745"/>
                </a:lnTo>
                <a:lnTo>
                  <a:pt x="1184" y="746"/>
                </a:lnTo>
                <a:lnTo>
                  <a:pt x="1186" y="748"/>
                </a:lnTo>
                <a:lnTo>
                  <a:pt x="1188" y="752"/>
                </a:lnTo>
                <a:lnTo>
                  <a:pt x="1188" y="754"/>
                </a:lnTo>
                <a:lnTo>
                  <a:pt x="1188" y="75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40"/>
          <p:cNvSpPr/>
          <p:nvPr/>
        </p:nvSpPr>
        <p:spPr>
          <a:xfrm>
            <a:off x="5567400" y="3481560"/>
            <a:ext cx="780840" cy="1293480"/>
          </a:xfrm>
          <a:custGeom>
            <a:avLst/>
            <a:gdLst/>
            <a:ahLst/>
            <a:rect l="l" t="t" r="r" b="b"/>
            <a:pathLst>
              <a:path w="985" h="1630">
                <a:moveTo>
                  <a:pt x="2" y="1628"/>
                </a:moveTo>
                <a:lnTo>
                  <a:pt x="0" y="1626"/>
                </a:lnTo>
                <a:lnTo>
                  <a:pt x="0" y="1620"/>
                </a:lnTo>
                <a:lnTo>
                  <a:pt x="2" y="1616"/>
                </a:lnTo>
                <a:lnTo>
                  <a:pt x="6" y="1609"/>
                </a:lnTo>
                <a:lnTo>
                  <a:pt x="9" y="1603"/>
                </a:lnTo>
                <a:lnTo>
                  <a:pt x="17" y="1593"/>
                </a:lnTo>
                <a:lnTo>
                  <a:pt x="25" y="1584"/>
                </a:lnTo>
                <a:lnTo>
                  <a:pt x="36" y="1572"/>
                </a:lnTo>
                <a:lnTo>
                  <a:pt x="48" y="1561"/>
                </a:lnTo>
                <a:lnTo>
                  <a:pt x="59" y="1547"/>
                </a:lnTo>
                <a:lnTo>
                  <a:pt x="75" y="1532"/>
                </a:lnTo>
                <a:lnTo>
                  <a:pt x="90" y="1517"/>
                </a:lnTo>
                <a:lnTo>
                  <a:pt x="107" y="1499"/>
                </a:lnTo>
                <a:lnTo>
                  <a:pt x="127" y="1482"/>
                </a:lnTo>
                <a:lnTo>
                  <a:pt x="148" y="1463"/>
                </a:lnTo>
                <a:lnTo>
                  <a:pt x="169" y="1442"/>
                </a:lnTo>
                <a:lnTo>
                  <a:pt x="209" y="1403"/>
                </a:lnTo>
                <a:lnTo>
                  <a:pt x="249" y="1365"/>
                </a:lnTo>
                <a:lnTo>
                  <a:pt x="290" y="1325"/>
                </a:lnTo>
                <a:lnTo>
                  <a:pt x="330" y="1282"/>
                </a:lnTo>
                <a:lnTo>
                  <a:pt x="349" y="1259"/>
                </a:lnTo>
                <a:lnTo>
                  <a:pt x="368" y="1238"/>
                </a:lnTo>
                <a:lnTo>
                  <a:pt x="388" y="1215"/>
                </a:lnTo>
                <a:lnTo>
                  <a:pt x="407" y="1192"/>
                </a:lnTo>
                <a:lnTo>
                  <a:pt x="426" y="1169"/>
                </a:lnTo>
                <a:lnTo>
                  <a:pt x="445" y="1144"/>
                </a:lnTo>
                <a:lnTo>
                  <a:pt x="463" y="1119"/>
                </a:lnTo>
                <a:lnTo>
                  <a:pt x="482" y="1094"/>
                </a:lnTo>
                <a:lnTo>
                  <a:pt x="499" y="1071"/>
                </a:lnTo>
                <a:lnTo>
                  <a:pt x="516" y="1048"/>
                </a:lnTo>
                <a:lnTo>
                  <a:pt x="532" y="1023"/>
                </a:lnTo>
                <a:lnTo>
                  <a:pt x="547" y="1000"/>
                </a:lnTo>
                <a:lnTo>
                  <a:pt x="562" y="977"/>
                </a:lnTo>
                <a:lnTo>
                  <a:pt x="578" y="954"/>
                </a:lnTo>
                <a:lnTo>
                  <a:pt x="591" y="931"/>
                </a:lnTo>
                <a:lnTo>
                  <a:pt x="605" y="908"/>
                </a:lnTo>
                <a:lnTo>
                  <a:pt x="618" y="883"/>
                </a:lnTo>
                <a:lnTo>
                  <a:pt x="630" y="860"/>
                </a:lnTo>
                <a:lnTo>
                  <a:pt x="641" y="837"/>
                </a:lnTo>
                <a:lnTo>
                  <a:pt x="651" y="814"/>
                </a:lnTo>
                <a:lnTo>
                  <a:pt x="660" y="791"/>
                </a:lnTo>
                <a:lnTo>
                  <a:pt x="670" y="768"/>
                </a:lnTo>
                <a:lnTo>
                  <a:pt x="678" y="745"/>
                </a:lnTo>
                <a:lnTo>
                  <a:pt x="685" y="722"/>
                </a:lnTo>
                <a:lnTo>
                  <a:pt x="710" y="628"/>
                </a:lnTo>
                <a:lnTo>
                  <a:pt x="724" y="580"/>
                </a:lnTo>
                <a:lnTo>
                  <a:pt x="737" y="534"/>
                </a:lnTo>
                <a:lnTo>
                  <a:pt x="749" y="486"/>
                </a:lnTo>
                <a:lnTo>
                  <a:pt x="760" y="436"/>
                </a:lnTo>
                <a:lnTo>
                  <a:pt x="772" y="386"/>
                </a:lnTo>
                <a:lnTo>
                  <a:pt x="781" y="336"/>
                </a:lnTo>
                <a:lnTo>
                  <a:pt x="785" y="311"/>
                </a:lnTo>
                <a:lnTo>
                  <a:pt x="789" y="288"/>
                </a:lnTo>
                <a:lnTo>
                  <a:pt x="791" y="265"/>
                </a:lnTo>
                <a:lnTo>
                  <a:pt x="795" y="244"/>
                </a:lnTo>
                <a:lnTo>
                  <a:pt x="797" y="225"/>
                </a:lnTo>
                <a:lnTo>
                  <a:pt x="797" y="208"/>
                </a:lnTo>
                <a:lnTo>
                  <a:pt x="799" y="190"/>
                </a:lnTo>
                <a:lnTo>
                  <a:pt x="799" y="177"/>
                </a:lnTo>
                <a:lnTo>
                  <a:pt x="799" y="162"/>
                </a:lnTo>
                <a:lnTo>
                  <a:pt x="797" y="150"/>
                </a:lnTo>
                <a:lnTo>
                  <a:pt x="797" y="139"/>
                </a:lnTo>
                <a:lnTo>
                  <a:pt x="795" y="129"/>
                </a:lnTo>
                <a:lnTo>
                  <a:pt x="791" y="119"/>
                </a:lnTo>
                <a:lnTo>
                  <a:pt x="789" y="112"/>
                </a:lnTo>
                <a:lnTo>
                  <a:pt x="785" y="106"/>
                </a:lnTo>
                <a:lnTo>
                  <a:pt x="781" y="100"/>
                </a:lnTo>
                <a:lnTo>
                  <a:pt x="772" y="91"/>
                </a:lnTo>
                <a:lnTo>
                  <a:pt x="766" y="81"/>
                </a:lnTo>
                <a:lnTo>
                  <a:pt x="760" y="71"/>
                </a:lnTo>
                <a:lnTo>
                  <a:pt x="756" y="64"/>
                </a:lnTo>
                <a:lnTo>
                  <a:pt x="752" y="54"/>
                </a:lnTo>
                <a:lnTo>
                  <a:pt x="752" y="48"/>
                </a:lnTo>
                <a:lnTo>
                  <a:pt x="752" y="45"/>
                </a:lnTo>
                <a:lnTo>
                  <a:pt x="752" y="39"/>
                </a:lnTo>
                <a:lnTo>
                  <a:pt x="752" y="35"/>
                </a:lnTo>
                <a:lnTo>
                  <a:pt x="754" y="29"/>
                </a:lnTo>
                <a:lnTo>
                  <a:pt x="756" y="25"/>
                </a:lnTo>
                <a:lnTo>
                  <a:pt x="756" y="22"/>
                </a:lnTo>
                <a:lnTo>
                  <a:pt x="758" y="16"/>
                </a:lnTo>
                <a:lnTo>
                  <a:pt x="762" y="12"/>
                </a:lnTo>
                <a:lnTo>
                  <a:pt x="768" y="8"/>
                </a:lnTo>
                <a:lnTo>
                  <a:pt x="774" y="4"/>
                </a:lnTo>
                <a:lnTo>
                  <a:pt x="781" y="2"/>
                </a:lnTo>
                <a:lnTo>
                  <a:pt x="787" y="2"/>
                </a:lnTo>
                <a:lnTo>
                  <a:pt x="793" y="0"/>
                </a:lnTo>
                <a:lnTo>
                  <a:pt x="799" y="0"/>
                </a:lnTo>
                <a:lnTo>
                  <a:pt x="804" y="0"/>
                </a:lnTo>
                <a:lnTo>
                  <a:pt x="818" y="0"/>
                </a:lnTo>
                <a:lnTo>
                  <a:pt x="831" y="2"/>
                </a:lnTo>
                <a:lnTo>
                  <a:pt x="847" y="4"/>
                </a:lnTo>
                <a:lnTo>
                  <a:pt x="860" y="8"/>
                </a:lnTo>
                <a:lnTo>
                  <a:pt x="875" y="12"/>
                </a:lnTo>
                <a:lnTo>
                  <a:pt x="891" y="16"/>
                </a:lnTo>
                <a:lnTo>
                  <a:pt x="908" y="22"/>
                </a:lnTo>
                <a:lnTo>
                  <a:pt x="925" y="25"/>
                </a:lnTo>
                <a:lnTo>
                  <a:pt x="937" y="35"/>
                </a:lnTo>
                <a:lnTo>
                  <a:pt x="948" y="45"/>
                </a:lnTo>
                <a:lnTo>
                  <a:pt x="960" y="54"/>
                </a:lnTo>
                <a:lnTo>
                  <a:pt x="967" y="64"/>
                </a:lnTo>
                <a:lnTo>
                  <a:pt x="975" y="71"/>
                </a:lnTo>
                <a:lnTo>
                  <a:pt x="979" y="77"/>
                </a:lnTo>
                <a:lnTo>
                  <a:pt x="981" y="81"/>
                </a:lnTo>
                <a:lnTo>
                  <a:pt x="983" y="87"/>
                </a:lnTo>
                <a:lnTo>
                  <a:pt x="983" y="91"/>
                </a:lnTo>
                <a:lnTo>
                  <a:pt x="985" y="96"/>
                </a:lnTo>
                <a:lnTo>
                  <a:pt x="985" y="100"/>
                </a:lnTo>
                <a:lnTo>
                  <a:pt x="983" y="108"/>
                </a:lnTo>
                <a:lnTo>
                  <a:pt x="981" y="118"/>
                </a:lnTo>
                <a:lnTo>
                  <a:pt x="979" y="127"/>
                </a:lnTo>
                <a:lnTo>
                  <a:pt x="975" y="139"/>
                </a:lnTo>
                <a:lnTo>
                  <a:pt x="973" y="150"/>
                </a:lnTo>
                <a:lnTo>
                  <a:pt x="971" y="164"/>
                </a:lnTo>
                <a:lnTo>
                  <a:pt x="967" y="179"/>
                </a:lnTo>
                <a:lnTo>
                  <a:pt x="966" y="194"/>
                </a:lnTo>
                <a:lnTo>
                  <a:pt x="962" y="212"/>
                </a:lnTo>
                <a:lnTo>
                  <a:pt x="960" y="231"/>
                </a:lnTo>
                <a:lnTo>
                  <a:pt x="956" y="252"/>
                </a:lnTo>
                <a:lnTo>
                  <a:pt x="952" y="273"/>
                </a:lnTo>
                <a:lnTo>
                  <a:pt x="948" y="296"/>
                </a:lnTo>
                <a:lnTo>
                  <a:pt x="944" y="321"/>
                </a:lnTo>
                <a:lnTo>
                  <a:pt x="941" y="346"/>
                </a:lnTo>
                <a:lnTo>
                  <a:pt x="937" y="375"/>
                </a:lnTo>
                <a:lnTo>
                  <a:pt x="923" y="430"/>
                </a:lnTo>
                <a:lnTo>
                  <a:pt x="908" y="488"/>
                </a:lnTo>
                <a:lnTo>
                  <a:pt x="891" y="545"/>
                </a:lnTo>
                <a:lnTo>
                  <a:pt x="871" y="605"/>
                </a:lnTo>
                <a:lnTo>
                  <a:pt x="852" y="664"/>
                </a:lnTo>
                <a:lnTo>
                  <a:pt x="829" y="724"/>
                </a:lnTo>
                <a:lnTo>
                  <a:pt x="806" y="785"/>
                </a:lnTo>
                <a:lnTo>
                  <a:pt x="793" y="816"/>
                </a:lnTo>
                <a:lnTo>
                  <a:pt x="781" y="847"/>
                </a:lnTo>
                <a:lnTo>
                  <a:pt x="768" y="878"/>
                </a:lnTo>
                <a:lnTo>
                  <a:pt x="752" y="910"/>
                </a:lnTo>
                <a:lnTo>
                  <a:pt x="737" y="939"/>
                </a:lnTo>
                <a:lnTo>
                  <a:pt x="724" y="970"/>
                </a:lnTo>
                <a:lnTo>
                  <a:pt x="706" y="998"/>
                </a:lnTo>
                <a:lnTo>
                  <a:pt x="691" y="1025"/>
                </a:lnTo>
                <a:lnTo>
                  <a:pt x="674" y="1054"/>
                </a:lnTo>
                <a:lnTo>
                  <a:pt x="656" y="1079"/>
                </a:lnTo>
                <a:lnTo>
                  <a:pt x="639" y="1106"/>
                </a:lnTo>
                <a:lnTo>
                  <a:pt x="620" y="1131"/>
                </a:lnTo>
                <a:lnTo>
                  <a:pt x="603" y="1156"/>
                </a:lnTo>
                <a:lnTo>
                  <a:pt x="584" y="1179"/>
                </a:lnTo>
                <a:lnTo>
                  <a:pt x="564" y="1202"/>
                </a:lnTo>
                <a:lnTo>
                  <a:pt x="545" y="1225"/>
                </a:lnTo>
                <a:lnTo>
                  <a:pt x="524" y="1246"/>
                </a:lnTo>
                <a:lnTo>
                  <a:pt x="505" y="1269"/>
                </a:lnTo>
                <a:lnTo>
                  <a:pt x="464" y="1309"/>
                </a:lnTo>
                <a:lnTo>
                  <a:pt x="424" y="1350"/>
                </a:lnTo>
                <a:lnTo>
                  <a:pt x="405" y="1369"/>
                </a:lnTo>
                <a:lnTo>
                  <a:pt x="384" y="1388"/>
                </a:lnTo>
                <a:lnTo>
                  <a:pt x="363" y="1405"/>
                </a:lnTo>
                <a:lnTo>
                  <a:pt x="344" y="1423"/>
                </a:lnTo>
                <a:lnTo>
                  <a:pt x="322" y="1440"/>
                </a:lnTo>
                <a:lnTo>
                  <a:pt x="301" y="1457"/>
                </a:lnTo>
                <a:lnTo>
                  <a:pt x="282" y="1472"/>
                </a:lnTo>
                <a:lnTo>
                  <a:pt x="261" y="1488"/>
                </a:lnTo>
                <a:lnTo>
                  <a:pt x="242" y="1503"/>
                </a:lnTo>
                <a:lnTo>
                  <a:pt x="221" y="1517"/>
                </a:lnTo>
                <a:lnTo>
                  <a:pt x="201" y="1530"/>
                </a:lnTo>
                <a:lnTo>
                  <a:pt x="180" y="1542"/>
                </a:lnTo>
                <a:lnTo>
                  <a:pt x="161" y="1553"/>
                </a:lnTo>
                <a:lnTo>
                  <a:pt x="142" y="1565"/>
                </a:lnTo>
                <a:lnTo>
                  <a:pt x="125" y="1574"/>
                </a:lnTo>
                <a:lnTo>
                  <a:pt x="109" y="1584"/>
                </a:lnTo>
                <a:lnTo>
                  <a:pt x="94" y="1591"/>
                </a:lnTo>
                <a:lnTo>
                  <a:pt x="79" y="1599"/>
                </a:lnTo>
                <a:lnTo>
                  <a:pt x="67" y="1607"/>
                </a:lnTo>
                <a:lnTo>
                  <a:pt x="56" y="1613"/>
                </a:lnTo>
                <a:lnTo>
                  <a:pt x="44" y="1618"/>
                </a:lnTo>
                <a:lnTo>
                  <a:pt x="34" y="1622"/>
                </a:lnTo>
                <a:lnTo>
                  <a:pt x="27" y="1626"/>
                </a:lnTo>
                <a:lnTo>
                  <a:pt x="19" y="1628"/>
                </a:lnTo>
                <a:lnTo>
                  <a:pt x="13" y="1630"/>
                </a:lnTo>
                <a:lnTo>
                  <a:pt x="8" y="1630"/>
                </a:lnTo>
                <a:lnTo>
                  <a:pt x="4" y="1630"/>
                </a:lnTo>
                <a:lnTo>
                  <a:pt x="2" y="162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舶      恤      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1729080" y="227016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4176000" y="231624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11"/>
          <p:cNvSpPr/>
          <p:nvPr/>
        </p:nvSpPr>
        <p:spPr>
          <a:xfrm>
            <a:off x="6361920" y="234144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57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0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4T02:08:26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