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15.png" ContentType="image/png"/>
  <Override PartName="/ppt/media/image9.png" ContentType="image/png"/>
  <Override PartName="/ppt/media/image13.png" ContentType="image/png"/>
  <Override PartName="/ppt/media/image8.png" ContentType="image/png"/>
  <Override PartName="/ppt/media/image7.png" ContentType="image/png"/>
  <Override PartName="/ppt/media/image11.png" ContentType="image/png"/>
  <Override PartName="/ppt/media/image6.png" ContentType="image/png"/>
  <Override PartName="/ppt/media/image10.png" ContentType="image/png"/>
  <Override PartName="/ppt/media/applause.wav" ContentType="audio/x-wav"/>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1F898-8304-42E8-8995-AD53352B8DC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ff0000"/>
              </a:solidFill>
              <a:latin typeface="Calibri"/>
            </a:endParaRPr>
          </a:p>
        </p:txBody>
      </p:sp>
      <p:sp>
        <p:nvSpPr>
          <p:cNvPr id="2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3897F3-34C8-4FD5-9A5B-96F793635D4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ff0000"/>
              </a:solidFill>
              <a:latin typeface="Calibri"/>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60BDA1-BDA4-4F68-B51D-F40CFDE1A51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37DA5C-867A-4BA6-A994-4ABA09ADDB2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ff0000"/>
              </a:solidFill>
              <a:latin typeface="Calibri"/>
            </a:endParaRPr>
          </a:p>
        </p:txBody>
      </p:sp>
      <p:sp>
        <p:nvSpPr>
          <p:cNvPr id="2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BA6B3-ACB3-4815-B6ED-DE6527652B5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ff0000"/>
              </a:solidFill>
              <a:latin typeface="Calibri"/>
            </a:endParaRPr>
          </a:p>
        </p:txBody>
      </p:sp>
      <p:sp>
        <p:nvSpPr>
          <p:cNvPr id="2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9132C-DD25-4F65-8B78-22CF101F123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ff0000"/>
              </a:solidFill>
              <a:latin typeface="Calibri"/>
            </a:endParaRPr>
          </a:p>
        </p:txBody>
      </p:sp>
      <p:sp>
        <p:nvSpPr>
          <p:cNvPr id="2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94FF2-89E6-4884-BD41-6BFAA917990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ff0000"/>
              </a:solidFill>
              <a:latin typeface="Calibri"/>
            </a:endParaRPr>
          </a:p>
        </p:txBody>
      </p:sp>
      <p:sp>
        <p:nvSpPr>
          <p:cNvPr id="2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70DE13-E8F1-4026-BD4A-A7A097FC2A2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6E7A3-1222-4463-A4D4-FE3715832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7C434-5C8E-4D9C-AB13-B89EA62E9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8554D-8D4E-414D-83C6-CE6E27032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82AC4-106B-4D96-817E-963C84CF4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C0793-40E3-4BA6-B73B-60071A8DC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A0CED-E4E1-4CE5-9A81-523CC29C6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1094C-97C3-4E1D-BC1D-100A53E0D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2DA73-5C66-4DE8-96BC-8308E9D67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C1291-C2EC-4709-A036-A64277D78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ACBE5-02D7-43B8-817B-DB93B4935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D966A-A9FE-40CD-B3D2-42310326C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6B3C3-7A8F-40B1-AB6A-0DDD306AF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303DC2-CC6E-4FC8-BA48-BAD685253DC7}"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21.pn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图片 8" descr="小花.png"/>
          <p:cNvPicPr/>
          <p:nvPr/>
        </p:nvPicPr>
        <p:blipFill>
          <a:blip r:embed="rId1"/>
          <a:stretch/>
        </p:blipFill>
        <p:spPr>
          <a:xfrm rot="1153200">
            <a:off x="7589520" y="5304960"/>
            <a:ext cx="1139760" cy="1117800"/>
          </a:xfrm>
          <a:prstGeom prst="rect">
            <a:avLst/>
          </a:prstGeom>
          <a:ln w="0">
            <a:noFill/>
          </a:ln>
        </p:spPr>
      </p:pic>
      <p:pic>
        <p:nvPicPr>
          <p:cNvPr id="49" name="Picture 39" descr="구름"/>
          <p:cNvPicPr/>
          <p:nvPr/>
        </p:nvPicPr>
        <p:blipFill>
          <a:blip r:embed="rId2"/>
          <a:stretch/>
        </p:blipFill>
        <p:spPr>
          <a:xfrm>
            <a:off x="4768920" y="179280"/>
            <a:ext cx="682560" cy="363600"/>
          </a:xfrm>
          <a:prstGeom prst="rect">
            <a:avLst/>
          </a:prstGeom>
          <a:ln w="0">
            <a:noFill/>
          </a:ln>
        </p:spPr>
      </p:pic>
      <p:pic>
        <p:nvPicPr>
          <p:cNvPr id="50" name="Picture 40" descr="구름"/>
          <p:cNvPicPr/>
          <p:nvPr/>
        </p:nvPicPr>
        <p:blipFill>
          <a:blip r:embed="rId3"/>
          <a:stretch/>
        </p:blipFill>
        <p:spPr>
          <a:xfrm>
            <a:off x="7236000" y="503280"/>
            <a:ext cx="1042920" cy="555480"/>
          </a:xfrm>
          <a:prstGeom prst="rect">
            <a:avLst/>
          </a:prstGeom>
          <a:ln w="0">
            <a:noFill/>
          </a:ln>
        </p:spPr>
      </p:pic>
      <p:pic>
        <p:nvPicPr>
          <p:cNvPr id="51" name="图片 3" descr="趣味导入.png"/>
          <p:cNvPicPr/>
          <p:nvPr/>
        </p:nvPicPr>
        <p:blipFill>
          <a:blip r:embed="rId4"/>
          <a:stretch/>
        </p:blipFill>
        <p:spPr>
          <a:xfrm>
            <a:off x="2349360" y="492120"/>
            <a:ext cx="4445280" cy="1566720"/>
          </a:xfrm>
          <a:prstGeom prst="rect">
            <a:avLst/>
          </a:prstGeom>
          <a:ln w="0">
            <a:noFill/>
          </a:ln>
        </p:spPr>
      </p:pic>
      <p:sp>
        <p:nvSpPr>
          <p:cNvPr id="52" name="AutoShape 508"/>
          <p:cNvSpPr/>
          <p:nvPr/>
        </p:nvSpPr>
        <p:spPr>
          <a:xfrm>
            <a:off x="3224160" y="2332080"/>
            <a:ext cx="5351400" cy="4040280"/>
          </a:xfrm>
          <a:prstGeom prst="roundRect">
            <a:avLst>
              <a:gd name="adj" fmla="val 5074"/>
            </a:avLst>
          </a:prstGeom>
          <a:solidFill>
            <a:srgbClr val="ffffff"/>
          </a:solid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 name="Picture 39" descr="구름"/>
          <p:cNvPicPr/>
          <p:nvPr/>
        </p:nvPicPr>
        <p:blipFill>
          <a:blip r:embed="rId5"/>
          <a:stretch/>
        </p:blipFill>
        <p:spPr>
          <a:xfrm>
            <a:off x="1054080" y="1639800"/>
            <a:ext cx="682560" cy="363600"/>
          </a:xfrm>
          <a:prstGeom prst="rect">
            <a:avLst/>
          </a:prstGeom>
          <a:ln w="0">
            <a:noFill/>
          </a:ln>
        </p:spPr>
      </p:pic>
      <p:pic>
        <p:nvPicPr>
          <p:cNvPr id="54" name="图片 28" descr="蝴蝶.png"/>
          <p:cNvPicPr/>
          <p:nvPr/>
        </p:nvPicPr>
        <p:blipFill>
          <a:blip r:embed="rId6"/>
          <a:stretch/>
        </p:blipFill>
        <p:spPr>
          <a:xfrm flipH="1" rot="18291600">
            <a:off x="6593040" y="1128960"/>
            <a:ext cx="1019160" cy="1103400"/>
          </a:xfrm>
          <a:prstGeom prst="rect">
            <a:avLst/>
          </a:prstGeom>
          <a:ln w="0">
            <a:noFill/>
          </a:ln>
        </p:spPr>
      </p:pic>
      <p:pic>
        <p:nvPicPr>
          <p:cNvPr id="55" name="Picture 22" descr=""/>
          <p:cNvPicPr/>
          <p:nvPr/>
        </p:nvPicPr>
        <p:blipFill>
          <a:blip r:embed="rId7"/>
          <a:stretch/>
        </p:blipFill>
        <p:spPr>
          <a:xfrm>
            <a:off x="3803760" y="1901880"/>
            <a:ext cx="4267080" cy="669960"/>
          </a:xfrm>
          <a:prstGeom prst="rect">
            <a:avLst/>
          </a:prstGeom>
          <a:ln w="0">
            <a:noFill/>
          </a:ln>
        </p:spPr>
      </p:pic>
      <p:sp>
        <p:nvSpPr>
          <p:cNvPr id="56" name="Rectangle 8"/>
          <p:cNvSpPr/>
          <p:nvPr/>
        </p:nvSpPr>
        <p:spPr>
          <a:xfrm>
            <a:off x="3397320" y="3875400"/>
            <a:ext cx="5210280" cy="1099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800000"/>
                </a:solidFill>
                <a:latin typeface="宋体"/>
              </a:rPr>
              <a:t>《</a:t>
            </a:r>
            <a:r>
              <a:rPr b="1" lang="zh-CN" sz="2200" spc="-1" strike="noStrike">
                <a:solidFill>
                  <a:srgbClr val="800000"/>
                </a:solidFill>
                <a:latin typeface="宋体"/>
              </a:rPr>
              <a:t>诗经</a:t>
            </a:r>
            <a:r>
              <a:rPr b="1" lang="en-US" sz="2200" spc="-1" strike="noStrike">
                <a:solidFill>
                  <a:srgbClr val="800000"/>
                </a:solidFill>
                <a:latin typeface="宋体"/>
              </a:rPr>
              <a:t>》</a:t>
            </a:r>
            <a:r>
              <a:rPr b="1" lang="zh-CN" sz="2200" spc="-1" strike="noStrike">
                <a:solidFill>
                  <a:srgbClr val="800000"/>
                </a:solidFill>
                <a:latin typeface="宋体"/>
              </a:rPr>
              <a:t>中描写天鹅“白鸟洁白肥泽”从古至今，人们都把羽毛洁白、体态优美、叫声动人、行为忠诚的天鹅作为纯洁、忠诚、高贵的象征。法国作家布封的</a:t>
            </a:r>
            <a:r>
              <a:rPr b="1" lang="en-US" sz="2200" spc="-1" strike="noStrike">
                <a:solidFill>
                  <a:srgbClr val="800000"/>
                </a:solidFill>
                <a:latin typeface="宋体"/>
              </a:rPr>
              <a:t>《</a:t>
            </a:r>
            <a:r>
              <a:rPr b="1" lang="zh-CN" sz="2200" spc="-1" strike="noStrike">
                <a:solidFill>
                  <a:srgbClr val="800000"/>
                </a:solidFill>
                <a:latin typeface="宋体"/>
              </a:rPr>
              <a:t>天鹅</a:t>
            </a:r>
            <a:r>
              <a:rPr b="1" lang="en-US" sz="2200" spc="-1" strike="noStrike">
                <a:solidFill>
                  <a:srgbClr val="800000"/>
                </a:solidFill>
                <a:latin typeface="宋体"/>
              </a:rPr>
              <a:t>》</a:t>
            </a:r>
            <a:r>
              <a:rPr b="1" lang="zh-CN" sz="2200" spc="-1" strike="noStrike">
                <a:solidFill>
                  <a:srgbClr val="800000"/>
                </a:solidFill>
                <a:latin typeface="宋体"/>
              </a:rPr>
              <a:t>是一篇散文，文章语言优美而典雅，赞美了美丽、高贵、自由的天鹅，表达了自己对美德向往和对和平、自由等美好理想的追求。</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6"/>
                                        </p:tgtEl>
                                        <p:attrNameLst>
                                          <p:attrName>style.visibility</p:attrName>
                                        </p:attrNameLst>
                                      </p:cBhvr>
                                      <p:to>
                                        <p:strVal val="visible"/>
                                      </p:to>
                                    </p:set>
                                    <p:animEffect filter="wipe(left)" transition="in">
                                      <p:cBhvr additive="repl">
                                        <p:cTn id="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俘</a:t>
            </a:r>
            <a:endParaRPr b="0" lang="en-US" sz="8000" spc="-1" strike="noStrike">
              <a:solidFill>
                <a:srgbClr val="000000"/>
              </a:solidFill>
              <a:latin typeface="Calibri"/>
            </a:endParaRPr>
          </a:p>
        </p:txBody>
      </p:sp>
      <p:graphicFrame>
        <p:nvGraphicFramePr>
          <p:cNvPr id="154"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55" name="组合 8"/>
          <p:cNvGrpSpPr/>
          <p:nvPr/>
        </p:nvGrpSpPr>
        <p:grpSpPr>
          <a:xfrm>
            <a:off x="1274760" y="3975120"/>
            <a:ext cx="2840040" cy="1571760"/>
            <a:chOff x="1274760" y="3975120"/>
            <a:chExt cx="2840040" cy="1571760"/>
          </a:xfrm>
        </p:grpSpPr>
        <p:pic>
          <p:nvPicPr>
            <p:cNvPr id="156" name="图示 4" descr=""/>
            <p:cNvPicPr/>
            <p:nvPr/>
          </p:nvPicPr>
          <p:blipFill>
            <a:blip r:embed="rId1"/>
            <a:stretch/>
          </p:blipFill>
          <p:spPr>
            <a:xfrm>
              <a:off x="1274760" y="3975120"/>
              <a:ext cx="2840040" cy="1571760"/>
            </a:xfrm>
            <a:prstGeom prst="rect">
              <a:avLst/>
            </a:prstGeom>
            <a:ln w="0">
              <a:noFill/>
            </a:ln>
          </p:spPr>
        </p:pic>
        <p:sp>
          <p:nvSpPr>
            <p:cNvPr id="157" name="矩形 2"/>
            <p:cNvSpPr/>
            <p:nvPr/>
          </p:nvSpPr>
          <p:spPr>
            <a:xfrm>
              <a:off x="1321920" y="4587840"/>
              <a:ext cx="27666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a:t>
              </a:r>
              <a:r>
                <a:rPr b="1" lang="zh-CN" sz="2000" spc="-1" strike="noStrike">
                  <a:solidFill>
                    <a:srgbClr val="000000"/>
                  </a:solidFill>
                  <a:latin typeface="仿宋"/>
                  <a:ea typeface="仿宋"/>
                </a:rPr>
                <a:t>孚”的平撇短，末笔横要长。</a:t>
              </a:r>
              <a:endParaRPr b="0" lang="en-US" sz="2000" spc="-1" strike="noStrike">
                <a:solidFill>
                  <a:srgbClr val="000000"/>
                </a:solidFill>
                <a:latin typeface="Calibri"/>
              </a:endParaRPr>
            </a:p>
          </p:txBody>
        </p:sp>
      </p:grpSp>
      <p:sp>
        <p:nvSpPr>
          <p:cNvPr id="158" name="矩形 3"/>
          <p:cNvSpPr/>
          <p:nvPr/>
        </p:nvSpPr>
        <p:spPr>
          <a:xfrm>
            <a:off x="2266920" y="1868400"/>
            <a:ext cx="917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fú</a:t>
            </a:r>
            <a:endParaRPr b="0" lang="en-US" sz="4800" spc="-1" strike="noStrike">
              <a:solidFill>
                <a:srgbClr val="000000"/>
              </a:solidFill>
              <a:latin typeface="Calibri"/>
            </a:endParaRPr>
          </a:p>
        </p:txBody>
      </p:sp>
      <p:sp>
        <p:nvSpPr>
          <p:cNvPr id="159" name="Freeform 29"/>
          <p:cNvSpPr/>
          <p:nvPr/>
        </p:nvSpPr>
        <p:spPr>
          <a:xfrm>
            <a:off x="5411880" y="2766960"/>
            <a:ext cx="896760" cy="1290600"/>
          </a:xfrm>
          <a:custGeom>
            <a:avLst/>
            <a:gdLst/>
            <a:ahLst/>
            <a:rect l="l" t="t" r="r" b="b"/>
            <a:pathLst>
              <a:path w="1128" h="1625">
                <a:moveTo>
                  <a:pt x="756" y="434"/>
                </a:moveTo>
                <a:lnTo>
                  <a:pt x="771" y="397"/>
                </a:lnTo>
                <a:lnTo>
                  <a:pt x="785" y="365"/>
                </a:lnTo>
                <a:lnTo>
                  <a:pt x="798" y="332"/>
                </a:lnTo>
                <a:lnTo>
                  <a:pt x="810" y="301"/>
                </a:lnTo>
                <a:lnTo>
                  <a:pt x="819" y="273"/>
                </a:lnTo>
                <a:lnTo>
                  <a:pt x="827" y="246"/>
                </a:lnTo>
                <a:lnTo>
                  <a:pt x="835" y="221"/>
                </a:lnTo>
                <a:lnTo>
                  <a:pt x="840" y="200"/>
                </a:lnTo>
                <a:lnTo>
                  <a:pt x="844" y="179"/>
                </a:lnTo>
                <a:lnTo>
                  <a:pt x="848" y="159"/>
                </a:lnTo>
                <a:lnTo>
                  <a:pt x="850" y="142"/>
                </a:lnTo>
                <a:lnTo>
                  <a:pt x="852" y="127"/>
                </a:lnTo>
                <a:lnTo>
                  <a:pt x="852" y="113"/>
                </a:lnTo>
                <a:lnTo>
                  <a:pt x="850" y="100"/>
                </a:lnTo>
                <a:lnTo>
                  <a:pt x="846" y="90"/>
                </a:lnTo>
                <a:lnTo>
                  <a:pt x="842" y="83"/>
                </a:lnTo>
                <a:lnTo>
                  <a:pt x="839" y="75"/>
                </a:lnTo>
                <a:lnTo>
                  <a:pt x="835" y="69"/>
                </a:lnTo>
                <a:lnTo>
                  <a:pt x="833" y="62"/>
                </a:lnTo>
                <a:lnTo>
                  <a:pt x="831" y="56"/>
                </a:lnTo>
                <a:lnTo>
                  <a:pt x="831" y="50"/>
                </a:lnTo>
                <a:lnTo>
                  <a:pt x="831" y="44"/>
                </a:lnTo>
                <a:lnTo>
                  <a:pt x="831" y="38"/>
                </a:lnTo>
                <a:lnTo>
                  <a:pt x="833" y="33"/>
                </a:lnTo>
                <a:lnTo>
                  <a:pt x="835" y="29"/>
                </a:lnTo>
                <a:lnTo>
                  <a:pt x="837" y="25"/>
                </a:lnTo>
                <a:lnTo>
                  <a:pt x="840" y="19"/>
                </a:lnTo>
                <a:lnTo>
                  <a:pt x="844" y="15"/>
                </a:lnTo>
                <a:lnTo>
                  <a:pt x="850" y="14"/>
                </a:lnTo>
                <a:lnTo>
                  <a:pt x="854" y="10"/>
                </a:lnTo>
                <a:lnTo>
                  <a:pt x="862" y="6"/>
                </a:lnTo>
                <a:lnTo>
                  <a:pt x="867" y="4"/>
                </a:lnTo>
                <a:lnTo>
                  <a:pt x="875" y="2"/>
                </a:lnTo>
                <a:lnTo>
                  <a:pt x="883" y="0"/>
                </a:lnTo>
                <a:lnTo>
                  <a:pt x="890" y="0"/>
                </a:lnTo>
                <a:lnTo>
                  <a:pt x="900" y="2"/>
                </a:lnTo>
                <a:lnTo>
                  <a:pt x="910" y="2"/>
                </a:lnTo>
                <a:lnTo>
                  <a:pt x="919" y="4"/>
                </a:lnTo>
                <a:lnTo>
                  <a:pt x="929" y="8"/>
                </a:lnTo>
                <a:lnTo>
                  <a:pt x="938" y="10"/>
                </a:lnTo>
                <a:lnTo>
                  <a:pt x="950" y="14"/>
                </a:lnTo>
                <a:lnTo>
                  <a:pt x="961" y="19"/>
                </a:lnTo>
                <a:lnTo>
                  <a:pt x="971" y="23"/>
                </a:lnTo>
                <a:lnTo>
                  <a:pt x="983" y="29"/>
                </a:lnTo>
                <a:lnTo>
                  <a:pt x="1006" y="42"/>
                </a:lnTo>
                <a:lnTo>
                  <a:pt x="1029" y="56"/>
                </a:lnTo>
                <a:lnTo>
                  <a:pt x="1040" y="63"/>
                </a:lnTo>
                <a:lnTo>
                  <a:pt x="1050" y="71"/>
                </a:lnTo>
                <a:lnTo>
                  <a:pt x="1059" y="79"/>
                </a:lnTo>
                <a:lnTo>
                  <a:pt x="1069" y="86"/>
                </a:lnTo>
                <a:lnTo>
                  <a:pt x="1077" y="92"/>
                </a:lnTo>
                <a:lnTo>
                  <a:pt x="1084" y="100"/>
                </a:lnTo>
                <a:lnTo>
                  <a:pt x="1090" y="108"/>
                </a:lnTo>
                <a:lnTo>
                  <a:pt x="1098" y="115"/>
                </a:lnTo>
                <a:lnTo>
                  <a:pt x="1104" y="123"/>
                </a:lnTo>
                <a:lnTo>
                  <a:pt x="1107" y="129"/>
                </a:lnTo>
                <a:lnTo>
                  <a:pt x="1113" y="136"/>
                </a:lnTo>
                <a:lnTo>
                  <a:pt x="1117" y="144"/>
                </a:lnTo>
                <a:lnTo>
                  <a:pt x="1123" y="159"/>
                </a:lnTo>
                <a:lnTo>
                  <a:pt x="1128" y="173"/>
                </a:lnTo>
                <a:lnTo>
                  <a:pt x="1128" y="177"/>
                </a:lnTo>
                <a:lnTo>
                  <a:pt x="1128" y="180"/>
                </a:lnTo>
                <a:lnTo>
                  <a:pt x="1127" y="186"/>
                </a:lnTo>
                <a:lnTo>
                  <a:pt x="1125" y="192"/>
                </a:lnTo>
                <a:lnTo>
                  <a:pt x="1123" y="198"/>
                </a:lnTo>
                <a:lnTo>
                  <a:pt x="1121" y="205"/>
                </a:lnTo>
                <a:lnTo>
                  <a:pt x="1117" y="211"/>
                </a:lnTo>
                <a:lnTo>
                  <a:pt x="1115" y="219"/>
                </a:lnTo>
                <a:lnTo>
                  <a:pt x="1111" y="228"/>
                </a:lnTo>
                <a:lnTo>
                  <a:pt x="1105" y="236"/>
                </a:lnTo>
                <a:lnTo>
                  <a:pt x="1102" y="246"/>
                </a:lnTo>
                <a:lnTo>
                  <a:pt x="1096" y="257"/>
                </a:lnTo>
                <a:lnTo>
                  <a:pt x="1090" y="267"/>
                </a:lnTo>
                <a:lnTo>
                  <a:pt x="1084" y="278"/>
                </a:lnTo>
                <a:lnTo>
                  <a:pt x="1079" y="290"/>
                </a:lnTo>
                <a:lnTo>
                  <a:pt x="1071" y="303"/>
                </a:lnTo>
                <a:lnTo>
                  <a:pt x="1065" y="315"/>
                </a:lnTo>
                <a:lnTo>
                  <a:pt x="1057" y="330"/>
                </a:lnTo>
                <a:lnTo>
                  <a:pt x="1048" y="344"/>
                </a:lnTo>
                <a:lnTo>
                  <a:pt x="1040" y="359"/>
                </a:lnTo>
                <a:lnTo>
                  <a:pt x="1031" y="374"/>
                </a:lnTo>
                <a:lnTo>
                  <a:pt x="1021" y="390"/>
                </a:lnTo>
                <a:lnTo>
                  <a:pt x="1011" y="407"/>
                </a:lnTo>
                <a:lnTo>
                  <a:pt x="1002" y="424"/>
                </a:lnTo>
                <a:lnTo>
                  <a:pt x="990" y="443"/>
                </a:lnTo>
                <a:lnTo>
                  <a:pt x="981" y="463"/>
                </a:lnTo>
                <a:lnTo>
                  <a:pt x="969" y="482"/>
                </a:lnTo>
                <a:lnTo>
                  <a:pt x="956" y="501"/>
                </a:lnTo>
                <a:lnTo>
                  <a:pt x="944" y="522"/>
                </a:lnTo>
                <a:lnTo>
                  <a:pt x="931" y="543"/>
                </a:lnTo>
                <a:lnTo>
                  <a:pt x="919" y="566"/>
                </a:lnTo>
                <a:lnTo>
                  <a:pt x="906" y="589"/>
                </a:lnTo>
                <a:lnTo>
                  <a:pt x="877" y="635"/>
                </a:lnTo>
                <a:lnTo>
                  <a:pt x="850" y="679"/>
                </a:lnTo>
                <a:lnTo>
                  <a:pt x="825" y="722"/>
                </a:lnTo>
                <a:lnTo>
                  <a:pt x="798" y="764"/>
                </a:lnTo>
                <a:lnTo>
                  <a:pt x="773" y="802"/>
                </a:lnTo>
                <a:lnTo>
                  <a:pt x="748" y="841"/>
                </a:lnTo>
                <a:lnTo>
                  <a:pt x="725" y="877"/>
                </a:lnTo>
                <a:lnTo>
                  <a:pt x="702" y="912"/>
                </a:lnTo>
                <a:lnTo>
                  <a:pt x="679" y="944"/>
                </a:lnTo>
                <a:lnTo>
                  <a:pt x="658" y="977"/>
                </a:lnTo>
                <a:lnTo>
                  <a:pt x="637" y="1008"/>
                </a:lnTo>
                <a:lnTo>
                  <a:pt x="618" y="1036"/>
                </a:lnTo>
                <a:lnTo>
                  <a:pt x="597" y="1063"/>
                </a:lnTo>
                <a:lnTo>
                  <a:pt x="579" y="1088"/>
                </a:lnTo>
                <a:lnTo>
                  <a:pt x="562" y="1113"/>
                </a:lnTo>
                <a:lnTo>
                  <a:pt x="545" y="1136"/>
                </a:lnTo>
                <a:lnTo>
                  <a:pt x="506" y="1180"/>
                </a:lnTo>
                <a:lnTo>
                  <a:pt x="468" y="1224"/>
                </a:lnTo>
                <a:lnTo>
                  <a:pt x="428" y="1267"/>
                </a:lnTo>
                <a:lnTo>
                  <a:pt x="385" y="1311"/>
                </a:lnTo>
                <a:lnTo>
                  <a:pt x="341" y="1355"/>
                </a:lnTo>
                <a:lnTo>
                  <a:pt x="295" y="1399"/>
                </a:lnTo>
                <a:lnTo>
                  <a:pt x="272" y="1420"/>
                </a:lnTo>
                <a:lnTo>
                  <a:pt x="247" y="1443"/>
                </a:lnTo>
                <a:lnTo>
                  <a:pt x="222" y="1464"/>
                </a:lnTo>
                <a:lnTo>
                  <a:pt x="197" y="1487"/>
                </a:lnTo>
                <a:lnTo>
                  <a:pt x="172" y="1508"/>
                </a:lnTo>
                <a:lnTo>
                  <a:pt x="149" y="1528"/>
                </a:lnTo>
                <a:lnTo>
                  <a:pt x="130" y="1545"/>
                </a:lnTo>
                <a:lnTo>
                  <a:pt x="109" y="1560"/>
                </a:lnTo>
                <a:lnTo>
                  <a:pt x="92" y="1575"/>
                </a:lnTo>
                <a:lnTo>
                  <a:pt x="76" y="1587"/>
                </a:lnTo>
                <a:lnTo>
                  <a:pt x="61" y="1597"/>
                </a:lnTo>
                <a:lnTo>
                  <a:pt x="48" y="1606"/>
                </a:lnTo>
                <a:lnTo>
                  <a:pt x="36" y="1614"/>
                </a:lnTo>
                <a:lnTo>
                  <a:pt x="26" y="1618"/>
                </a:lnTo>
                <a:lnTo>
                  <a:pt x="19" y="1622"/>
                </a:lnTo>
                <a:lnTo>
                  <a:pt x="11" y="1623"/>
                </a:lnTo>
                <a:lnTo>
                  <a:pt x="7" y="1625"/>
                </a:lnTo>
                <a:lnTo>
                  <a:pt x="3" y="1623"/>
                </a:lnTo>
                <a:lnTo>
                  <a:pt x="0" y="1622"/>
                </a:lnTo>
                <a:lnTo>
                  <a:pt x="0" y="1618"/>
                </a:lnTo>
                <a:lnTo>
                  <a:pt x="0" y="1614"/>
                </a:lnTo>
                <a:lnTo>
                  <a:pt x="3" y="1608"/>
                </a:lnTo>
                <a:lnTo>
                  <a:pt x="5" y="1602"/>
                </a:lnTo>
                <a:lnTo>
                  <a:pt x="11" y="1595"/>
                </a:lnTo>
                <a:lnTo>
                  <a:pt x="17" y="1585"/>
                </a:lnTo>
                <a:lnTo>
                  <a:pt x="25" y="1575"/>
                </a:lnTo>
                <a:lnTo>
                  <a:pt x="34" y="1564"/>
                </a:lnTo>
                <a:lnTo>
                  <a:pt x="46" y="1551"/>
                </a:lnTo>
                <a:lnTo>
                  <a:pt x="57" y="1535"/>
                </a:lnTo>
                <a:lnTo>
                  <a:pt x="71" y="1520"/>
                </a:lnTo>
                <a:lnTo>
                  <a:pt x="84" y="1503"/>
                </a:lnTo>
                <a:lnTo>
                  <a:pt x="99" y="1483"/>
                </a:lnTo>
                <a:lnTo>
                  <a:pt x="117" y="1464"/>
                </a:lnTo>
                <a:lnTo>
                  <a:pt x="134" y="1441"/>
                </a:lnTo>
                <a:lnTo>
                  <a:pt x="153" y="1420"/>
                </a:lnTo>
                <a:lnTo>
                  <a:pt x="174" y="1395"/>
                </a:lnTo>
                <a:lnTo>
                  <a:pt x="215" y="1345"/>
                </a:lnTo>
                <a:lnTo>
                  <a:pt x="255" y="1295"/>
                </a:lnTo>
                <a:lnTo>
                  <a:pt x="295" y="1244"/>
                </a:lnTo>
                <a:lnTo>
                  <a:pt x="336" y="1190"/>
                </a:lnTo>
                <a:lnTo>
                  <a:pt x="355" y="1161"/>
                </a:lnTo>
                <a:lnTo>
                  <a:pt x="374" y="1134"/>
                </a:lnTo>
                <a:lnTo>
                  <a:pt x="395" y="1105"/>
                </a:lnTo>
                <a:lnTo>
                  <a:pt x="414" y="1077"/>
                </a:lnTo>
                <a:lnTo>
                  <a:pt x="435" y="1046"/>
                </a:lnTo>
                <a:lnTo>
                  <a:pt x="455" y="1017"/>
                </a:lnTo>
                <a:lnTo>
                  <a:pt x="476" y="984"/>
                </a:lnTo>
                <a:lnTo>
                  <a:pt x="497" y="954"/>
                </a:lnTo>
                <a:lnTo>
                  <a:pt x="531" y="894"/>
                </a:lnTo>
                <a:lnTo>
                  <a:pt x="568" y="833"/>
                </a:lnTo>
                <a:lnTo>
                  <a:pt x="602" y="771"/>
                </a:lnTo>
                <a:lnTo>
                  <a:pt x="635" y="708"/>
                </a:lnTo>
                <a:lnTo>
                  <a:pt x="652" y="676"/>
                </a:lnTo>
                <a:lnTo>
                  <a:pt x="668" y="643"/>
                </a:lnTo>
                <a:lnTo>
                  <a:pt x="683" y="608"/>
                </a:lnTo>
                <a:lnTo>
                  <a:pt x="698" y="576"/>
                </a:lnTo>
                <a:lnTo>
                  <a:pt x="714" y="541"/>
                </a:lnTo>
                <a:lnTo>
                  <a:pt x="727" y="505"/>
                </a:lnTo>
                <a:lnTo>
                  <a:pt x="743" y="470"/>
                </a:lnTo>
                <a:lnTo>
                  <a:pt x="756" y="434"/>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30"/>
          <p:cNvSpPr/>
          <p:nvPr/>
        </p:nvSpPr>
        <p:spPr>
          <a:xfrm>
            <a:off x="5904000" y="3441600"/>
            <a:ext cx="168120" cy="1441440"/>
          </a:xfrm>
          <a:custGeom>
            <a:avLst/>
            <a:gdLst/>
            <a:ahLst/>
            <a:rect l="l" t="t" r="r" b="b"/>
            <a:pathLst>
              <a:path w="211" h="1815">
                <a:moveTo>
                  <a:pt x="211" y="390"/>
                </a:moveTo>
                <a:lnTo>
                  <a:pt x="211" y="585"/>
                </a:lnTo>
                <a:lnTo>
                  <a:pt x="211" y="781"/>
                </a:lnTo>
                <a:lnTo>
                  <a:pt x="211" y="806"/>
                </a:lnTo>
                <a:lnTo>
                  <a:pt x="211" y="831"/>
                </a:lnTo>
                <a:lnTo>
                  <a:pt x="211" y="860"/>
                </a:lnTo>
                <a:lnTo>
                  <a:pt x="211" y="891"/>
                </a:lnTo>
                <a:lnTo>
                  <a:pt x="211" y="921"/>
                </a:lnTo>
                <a:lnTo>
                  <a:pt x="211" y="954"/>
                </a:lnTo>
                <a:lnTo>
                  <a:pt x="209" y="988"/>
                </a:lnTo>
                <a:lnTo>
                  <a:pt x="209" y="1023"/>
                </a:lnTo>
                <a:lnTo>
                  <a:pt x="209" y="1061"/>
                </a:lnTo>
                <a:lnTo>
                  <a:pt x="207" y="1100"/>
                </a:lnTo>
                <a:lnTo>
                  <a:pt x="207" y="1140"/>
                </a:lnTo>
                <a:lnTo>
                  <a:pt x="205" y="1182"/>
                </a:lnTo>
                <a:lnTo>
                  <a:pt x="203" y="1224"/>
                </a:lnTo>
                <a:lnTo>
                  <a:pt x="203" y="1270"/>
                </a:lnTo>
                <a:lnTo>
                  <a:pt x="201" y="1316"/>
                </a:lnTo>
                <a:lnTo>
                  <a:pt x="199" y="1364"/>
                </a:lnTo>
                <a:lnTo>
                  <a:pt x="197" y="1389"/>
                </a:lnTo>
                <a:lnTo>
                  <a:pt x="196" y="1414"/>
                </a:lnTo>
                <a:lnTo>
                  <a:pt x="196" y="1437"/>
                </a:lnTo>
                <a:lnTo>
                  <a:pt x="194" y="1460"/>
                </a:lnTo>
                <a:lnTo>
                  <a:pt x="192" y="1483"/>
                </a:lnTo>
                <a:lnTo>
                  <a:pt x="190" y="1505"/>
                </a:lnTo>
                <a:lnTo>
                  <a:pt x="188" y="1526"/>
                </a:lnTo>
                <a:lnTo>
                  <a:pt x="188" y="1545"/>
                </a:lnTo>
                <a:lnTo>
                  <a:pt x="186" y="1564"/>
                </a:lnTo>
                <a:lnTo>
                  <a:pt x="184" y="1583"/>
                </a:lnTo>
                <a:lnTo>
                  <a:pt x="182" y="1600"/>
                </a:lnTo>
                <a:lnTo>
                  <a:pt x="180" y="1618"/>
                </a:lnTo>
                <a:lnTo>
                  <a:pt x="178" y="1633"/>
                </a:lnTo>
                <a:lnTo>
                  <a:pt x="176" y="1650"/>
                </a:lnTo>
                <a:lnTo>
                  <a:pt x="174" y="1664"/>
                </a:lnTo>
                <a:lnTo>
                  <a:pt x="174" y="1679"/>
                </a:lnTo>
                <a:lnTo>
                  <a:pt x="172" y="1693"/>
                </a:lnTo>
                <a:lnTo>
                  <a:pt x="171" y="1704"/>
                </a:lnTo>
                <a:lnTo>
                  <a:pt x="169" y="1716"/>
                </a:lnTo>
                <a:lnTo>
                  <a:pt x="167" y="1727"/>
                </a:lnTo>
                <a:lnTo>
                  <a:pt x="165" y="1739"/>
                </a:lnTo>
                <a:lnTo>
                  <a:pt x="163" y="1748"/>
                </a:lnTo>
                <a:lnTo>
                  <a:pt x="161" y="1756"/>
                </a:lnTo>
                <a:lnTo>
                  <a:pt x="159" y="1765"/>
                </a:lnTo>
                <a:lnTo>
                  <a:pt x="159" y="1773"/>
                </a:lnTo>
                <a:lnTo>
                  <a:pt x="157" y="1779"/>
                </a:lnTo>
                <a:lnTo>
                  <a:pt x="155" y="1787"/>
                </a:lnTo>
                <a:lnTo>
                  <a:pt x="153" y="1792"/>
                </a:lnTo>
                <a:lnTo>
                  <a:pt x="153" y="1796"/>
                </a:lnTo>
                <a:lnTo>
                  <a:pt x="151" y="1800"/>
                </a:lnTo>
                <a:lnTo>
                  <a:pt x="149" y="1804"/>
                </a:lnTo>
                <a:lnTo>
                  <a:pt x="149" y="1808"/>
                </a:lnTo>
                <a:lnTo>
                  <a:pt x="140" y="1812"/>
                </a:lnTo>
                <a:lnTo>
                  <a:pt x="130" y="1813"/>
                </a:lnTo>
                <a:lnTo>
                  <a:pt x="126" y="1815"/>
                </a:lnTo>
                <a:lnTo>
                  <a:pt x="121" y="1815"/>
                </a:lnTo>
                <a:lnTo>
                  <a:pt x="117" y="1815"/>
                </a:lnTo>
                <a:lnTo>
                  <a:pt x="113" y="1813"/>
                </a:lnTo>
                <a:lnTo>
                  <a:pt x="109" y="1812"/>
                </a:lnTo>
                <a:lnTo>
                  <a:pt x="105" y="1810"/>
                </a:lnTo>
                <a:lnTo>
                  <a:pt x="101" y="1808"/>
                </a:lnTo>
                <a:lnTo>
                  <a:pt x="98" y="1804"/>
                </a:lnTo>
                <a:lnTo>
                  <a:pt x="94" y="1798"/>
                </a:lnTo>
                <a:lnTo>
                  <a:pt x="92" y="1794"/>
                </a:lnTo>
                <a:lnTo>
                  <a:pt x="88" y="1789"/>
                </a:lnTo>
                <a:lnTo>
                  <a:pt x="86" y="1781"/>
                </a:lnTo>
                <a:lnTo>
                  <a:pt x="69" y="1752"/>
                </a:lnTo>
                <a:lnTo>
                  <a:pt x="59" y="1737"/>
                </a:lnTo>
                <a:lnTo>
                  <a:pt x="52" y="1721"/>
                </a:lnTo>
                <a:lnTo>
                  <a:pt x="42" y="1704"/>
                </a:lnTo>
                <a:lnTo>
                  <a:pt x="36" y="1689"/>
                </a:lnTo>
                <a:lnTo>
                  <a:pt x="30" y="1670"/>
                </a:lnTo>
                <a:lnTo>
                  <a:pt x="25" y="1652"/>
                </a:lnTo>
                <a:lnTo>
                  <a:pt x="21" y="1633"/>
                </a:lnTo>
                <a:lnTo>
                  <a:pt x="15" y="1614"/>
                </a:lnTo>
                <a:lnTo>
                  <a:pt x="11" y="1599"/>
                </a:lnTo>
                <a:lnTo>
                  <a:pt x="7" y="1583"/>
                </a:lnTo>
                <a:lnTo>
                  <a:pt x="4" y="1570"/>
                </a:lnTo>
                <a:lnTo>
                  <a:pt x="2" y="1556"/>
                </a:lnTo>
                <a:lnTo>
                  <a:pt x="0" y="1545"/>
                </a:lnTo>
                <a:lnTo>
                  <a:pt x="0" y="1535"/>
                </a:lnTo>
                <a:lnTo>
                  <a:pt x="0" y="1529"/>
                </a:lnTo>
                <a:lnTo>
                  <a:pt x="0" y="1524"/>
                </a:lnTo>
                <a:lnTo>
                  <a:pt x="2" y="1516"/>
                </a:lnTo>
                <a:lnTo>
                  <a:pt x="2" y="1510"/>
                </a:lnTo>
                <a:lnTo>
                  <a:pt x="4" y="1503"/>
                </a:lnTo>
                <a:lnTo>
                  <a:pt x="4" y="1495"/>
                </a:lnTo>
                <a:lnTo>
                  <a:pt x="5" y="1485"/>
                </a:lnTo>
                <a:lnTo>
                  <a:pt x="7" y="1478"/>
                </a:lnTo>
                <a:lnTo>
                  <a:pt x="11" y="1458"/>
                </a:lnTo>
                <a:lnTo>
                  <a:pt x="15" y="1437"/>
                </a:lnTo>
                <a:lnTo>
                  <a:pt x="21" y="1414"/>
                </a:lnTo>
                <a:lnTo>
                  <a:pt x="25" y="1391"/>
                </a:lnTo>
                <a:lnTo>
                  <a:pt x="27" y="1384"/>
                </a:lnTo>
                <a:lnTo>
                  <a:pt x="27" y="1378"/>
                </a:lnTo>
                <a:lnTo>
                  <a:pt x="29" y="1368"/>
                </a:lnTo>
                <a:lnTo>
                  <a:pt x="30" y="1361"/>
                </a:lnTo>
                <a:lnTo>
                  <a:pt x="30" y="1351"/>
                </a:lnTo>
                <a:lnTo>
                  <a:pt x="32" y="1341"/>
                </a:lnTo>
                <a:lnTo>
                  <a:pt x="34" y="1332"/>
                </a:lnTo>
                <a:lnTo>
                  <a:pt x="36" y="1320"/>
                </a:lnTo>
                <a:lnTo>
                  <a:pt x="38" y="1309"/>
                </a:lnTo>
                <a:lnTo>
                  <a:pt x="38" y="1295"/>
                </a:lnTo>
                <a:lnTo>
                  <a:pt x="40" y="1282"/>
                </a:lnTo>
                <a:lnTo>
                  <a:pt x="42" y="1269"/>
                </a:lnTo>
                <a:lnTo>
                  <a:pt x="44" y="1253"/>
                </a:lnTo>
                <a:lnTo>
                  <a:pt x="46" y="1238"/>
                </a:lnTo>
                <a:lnTo>
                  <a:pt x="48" y="1222"/>
                </a:lnTo>
                <a:lnTo>
                  <a:pt x="50" y="1205"/>
                </a:lnTo>
                <a:lnTo>
                  <a:pt x="52" y="1188"/>
                </a:lnTo>
                <a:lnTo>
                  <a:pt x="53" y="1171"/>
                </a:lnTo>
                <a:lnTo>
                  <a:pt x="55" y="1151"/>
                </a:lnTo>
                <a:lnTo>
                  <a:pt x="57" y="1132"/>
                </a:lnTo>
                <a:lnTo>
                  <a:pt x="57" y="1111"/>
                </a:lnTo>
                <a:lnTo>
                  <a:pt x="59" y="1090"/>
                </a:lnTo>
                <a:lnTo>
                  <a:pt x="61" y="1069"/>
                </a:lnTo>
                <a:lnTo>
                  <a:pt x="63" y="1048"/>
                </a:lnTo>
                <a:lnTo>
                  <a:pt x="65" y="1025"/>
                </a:lnTo>
                <a:lnTo>
                  <a:pt x="67" y="1000"/>
                </a:lnTo>
                <a:lnTo>
                  <a:pt x="69" y="977"/>
                </a:lnTo>
                <a:lnTo>
                  <a:pt x="69" y="952"/>
                </a:lnTo>
                <a:lnTo>
                  <a:pt x="71" y="925"/>
                </a:lnTo>
                <a:lnTo>
                  <a:pt x="73" y="900"/>
                </a:lnTo>
                <a:lnTo>
                  <a:pt x="73" y="871"/>
                </a:lnTo>
                <a:lnTo>
                  <a:pt x="75" y="844"/>
                </a:lnTo>
                <a:lnTo>
                  <a:pt x="77" y="791"/>
                </a:lnTo>
                <a:lnTo>
                  <a:pt x="78" y="737"/>
                </a:lnTo>
                <a:lnTo>
                  <a:pt x="78" y="683"/>
                </a:lnTo>
                <a:lnTo>
                  <a:pt x="78" y="630"/>
                </a:lnTo>
                <a:lnTo>
                  <a:pt x="78" y="524"/>
                </a:lnTo>
                <a:lnTo>
                  <a:pt x="77" y="417"/>
                </a:lnTo>
                <a:lnTo>
                  <a:pt x="75" y="311"/>
                </a:lnTo>
                <a:lnTo>
                  <a:pt x="71" y="207"/>
                </a:lnTo>
                <a:lnTo>
                  <a:pt x="65" y="102"/>
                </a:lnTo>
                <a:lnTo>
                  <a:pt x="61" y="0"/>
                </a:lnTo>
                <a:lnTo>
                  <a:pt x="77" y="12"/>
                </a:lnTo>
                <a:lnTo>
                  <a:pt x="92" y="23"/>
                </a:lnTo>
                <a:lnTo>
                  <a:pt x="105" y="35"/>
                </a:lnTo>
                <a:lnTo>
                  <a:pt x="117" y="46"/>
                </a:lnTo>
                <a:lnTo>
                  <a:pt x="128" y="56"/>
                </a:lnTo>
                <a:lnTo>
                  <a:pt x="140" y="67"/>
                </a:lnTo>
                <a:lnTo>
                  <a:pt x="149" y="77"/>
                </a:lnTo>
                <a:lnTo>
                  <a:pt x="157" y="87"/>
                </a:lnTo>
                <a:lnTo>
                  <a:pt x="165" y="94"/>
                </a:lnTo>
                <a:lnTo>
                  <a:pt x="172" y="104"/>
                </a:lnTo>
                <a:lnTo>
                  <a:pt x="178" y="111"/>
                </a:lnTo>
                <a:lnTo>
                  <a:pt x="184" y="119"/>
                </a:lnTo>
                <a:lnTo>
                  <a:pt x="188" y="125"/>
                </a:lnTo>
                <a:lnTo>
                  <a:pt x="192" y="131"/>
                </a:lnTo>
                <a:lnTo>
                  <a:pt x="196" y="136"/>
                </a:lnTo>
                <a:lnTo>
                  <a:pt x="199" y="142"/>
                </a:lnTo>
                <a:lnTo>
                  <a:pt x="201" y="150"/>
                </a:lnTo>
                <a:lnTo>
                  <a:pt x="203" y="159"/>
                </a:lnTo>
                <a:lnTo>
                  <a:pt x="203" y="169"/>
                </a:lnTo>
                <a:lnTo>
                  <a:pt x="205" y="179"/>
                </a:lnTo>
                <a:lnTo>
                  <a:pt x="207" y="190"/>
                </a:lnTo>
                <a:lnTo>
                  <a:pt x="207" y="204"/>
                </a:lnTo>
                <a:lnTo>
                  <a:pt x="209" y="217"/>
                </a:lnTo>
                <a:lnTo>
                  <a:pt x="209" y="232"/>
                </a:lnTo>
                <a:lnTo>
                  <a:pt x="209" y="248"/>
                </a:lnTo>
                <a:lnTo>
                  <a:pt x="211" y="265"/>
                </a:lnTo>
                <a:lnTo>
                  <a:pt x="211" y="282"/>
                </a:lnTo>
                <a:lnTo>
                  <a:pt x="211" y="301"/>
                </a:lnTo>
                <a:lnTo>
                  <a:pt x="211" y="323"/>
                </a:lnTo>
                <a:lnTo>
                  <a:pt x="211" y="344"/>
                </a:lnTo>
                <a:lnTo>
                  <a:pt x="211" y="367"/>
                </a:lnTo>
                <a:lnTo>
                  <a:pt x="211" y="390"/>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Freeform 31"/>
          <p:cNvSpPr/>
          <p:nvPr/>
        </p:nvSpPr>
        <p:spPr>
          <a:xfrm>
            <a:off x="6396120" y="3230640"/>
            <a:ext cx="247680" cy="282600"/>
          </a:xfrm>
          <a:custGeom>
            <a:avLst/>
            <a:gdLst/>
            <a:ahLst/>
            <a:rect l="l" t="t" r="r" b="b"/>
            <a:pathLst>
              <a:path w="311" h="357">
                <a:moveTo>
                  <a:pt x="0" y="20"/>
                </a:moveTo>
                <a:lnTo>
                  <a:pt x="6" y="14"/>
                </a:lnTo>
                <a:lnTo>
                  <a:pt x="11" y="10"/>
                </a:lnTo>
                <a:lnTo>
                  <a:pt x="19" y="6"/>
                </a:lnTo>
                <a:lnTo>
                  <a:pt x="29" y="2"/>
                </a:lnTo>
                <a:lnTo>
                  <a:pt x="40" y="0"/>
                </a:lnTo>
                <a:lnTo>
                  <a:pt x="48" y="0"/>
                </a:lnTo>
                <a:lnTo>
                  <a:pt x="54" y="0"/>
                </a:lnTo>
                <a:lnTo>
                  <a:pt x="61" y="0"/>
                </a:lnTo>
                <a:lnTo>
                  <a:pt x="69" y="2"/>
                </a:lnTo>
                <a:lnTo>
                  <a:pt x="77" y="4"/>
                </a:lnTo>
                <a:lnTo>
                  <a:pt x="86" y="6"/>
                </a:lnTo>
                <a:lnTo>
                  <a:pt x="94" y="8"/>
                </a:lnTo>
                <a:lnTo>
                  <a:pt x="102" y="12"/>
                </a:lnTo>
                <a:lnTo>
                  <a:pt x="109" y="16"/>
                </a:lnTo>
                <a:lnTo>
                  <a:pt x="117" y="22"/>
                </a:lnTo>
                <a:lnTo>
                  <a:pt x="134" y="31"/>
                </a:lnTo>
                <a:lnTo>
                  <a:pt x="152" y="43"/>
                </a:lnTo>
                <a:lnTo>
                  <a:pt x="171" y="54"/>
                </a:lnTo>
                <a:lnTo>
                  <a:pt x="192" y="68"/>
                </a:lnTo>
                <a:lnTo>
                  <a:pt x="213" y="83"/>
                </a:lnTo>
                <a:lnTo>
                  <a:pt x="236" y="98"/>
                </a:lnTo>
                <a:lnTo>
                  <a:pt x="244" y="104"/>
                </a:lnTo>
                <a:lnTo>
                  <a:pt x="253" y="112"/>
                </a:lnTo>
                <a:lnTo>
                  <a:pt x="261" y="119"/>
                </a:lnTo>
                <a:lnTo>
                  <a:pt x="269" y="127"/>
                </a:lnTo>
                <a:lnTo>
                  <a:pt x="274" y="135"/>
                </a:lnTo>
                <a:lnTo>
                  <a:pt x="280" y="141"/>
                </a:lnTo>
                <a:lnTo>
                  <a:pt x="286" y="148"/>
                </a:lnTo>
                <a:lnTo>
                  <a:pt x="292" y="156"/>
                </a:lnTo>
                <a:lnTo>
                  <a:pt x="296" y="164"/>
                </a:lnTo>
                <a:lnTo>
                  <a:pt x="299" y="171"/>
                </a:lnTo>
                <a:lnTo>
                  <a:pt x="303" y="177"/>
                </a:lnTo>
                <a:lnTo>
                  <a:pt x="305" y="185"/>
                </a:lnTo>
                <a:lnTo>
                  <a:pt x="307" y="192"/>
                </a:lnTo>
                <a:lnTo>
                  <a:pt x="309" y="200"/>
                </a:lnTo>
                <a:lnTo>
                  <a:pt x="309" y="208"/>
                </a:lnTo>
                <a:lnTo>
                  <a:pt x="311" y="215"/>
                </a:lnTo>
                <a:lnTo>
                  <a:pt x="309" y="229"/>
                </a:lnTo>
                <a:lnTo>
                  <a:pt x="307" y="244"/>
                </a:lnTo>
                <a:lnTo>
                  <a:pt x="305" y="258"/>
                </a:lnTo>
                <a:lnTo>
                  <a:pt x="301" y="271"/>
                </a:lnTo>
                <a:lnTo>
                  <a:pt x="297" y="284"/>
                </a:lnTo>
                <a:lnTo>
                  <a:pt x="294" y="296"/>
                </a:lnTo>
                <a:lnTo>
                  <a:pt x="290" y="307"/>
                </a:lnTo>
                <a:lnTo>
                  <a:pt x="286" y="319"/>
                </a:lnTo>
                <a:lnTo>
                  <a:pt x="276" y="327"/>
                </a:lnTo>
                <a:lnTo>
                  <a:pt x="267" y="336"/>
                </a:lnTo>
                <a:lnTo>
                  <a:pt x="257" y="342"/>
                </a:lnTo>
                <a:lnTo>
                  <a:pt x="249" y="348"/>
                </a:lnTo>
                <a:lnTo>
                  <a:pt x="242" y="352"/>
                </a:lnTo>
                <a:lnTo>
                  <a:pt x="234" y="355"/>
                </a:lnTo>
                <a:lnTo>
                  <a:pt x="228" y="357"/>
                </a:lnTo>
                <a:lnTo>
                  <a:pt x="224" y="357"/>
                </a:lnTo>
                <a:lnTo>
                  <a:pt x="219" y="357"/>
                </a:lnTo>
                <a:lnTo>
                  <a:pt x="213" y="355"/>
                </a:lnTo>
                <a:lnTo>
                  <a:pt x="207" y="355"/>
                </a:lnTo>
                <a:lnTo>
                  <a:pt x="201" y="352"/>
                </a:lnTo>
                <a:lnTo>
                  <a:pt x="196" y="350"/>
                </a:lnTo>
                <a:lnTo>
                  <a:pt x="190" y="346"/>
                </a:lnTo>
                <a:lnTo>
                  <a:pt x="184" y="342"/>
                </a:lnTo>
                <a:lnTo>
                  <a:pt x="176" y="336"/>
                </a:lnTo>
                <a:lnTo>
                  <a:pt x="169" y="330"/>
                </a:lnTo>
                <a:lnTo>
                  <a:pt x="161" y="323"/>
                </a:lnTo>
                <a:lnTo>
                  <a:pt x="153" y="317"/>
                </a:lnTo>
                <a:lnTo>
                  <a:pt x="146" y="307"/>
                </a:lnTo>
                <a:lnTo>
                  <a:pt x="138" y="300"/>
                </a:lnTo>
                <a:lnTo>
                  <a:pt x="128" y="288"/>
                </a:lnTo>
                <a:lnTo>
                  <a:pt x="121" y="279"/>
                </a:lnTo>
                <a:lnTo>
                  <a:pt x="111" y="267"/>
                </a:lnTo>
                <a:lnTo>
                  <a:pt x="102" y="254"/>
                </a:lnTo>
                <a:lnTo>
                  <a:pt x="94" y="242"/>
                </a:lnTo>
                <a:lnTo>
                  <a:pt x="86" y="231"/>
                </a:lnTo>
                <a:lnTo>
                  <a:pt x="79" y="219"/>
                </a:lnTo>
                <a:lnTo>
                  <a:pt x="71" y="208"/>
                </a:lnTo>
                <a:lnTo>
                  <a:pt x="65" y="198"/>
                </a:lnTo>
                <a:lnTo>
                  <a:pt x="54" y="177"/>
                </a:lnTo>
                <a:lnTo>
                  <a:pt x="44" y="156"/>
                </a:lnTo>
                <a:lnTo>
                  <a:pt x="36" y="137"/>
                </a:lnTo>
                <a:lnTo>
                  <a:pt x="31" y="117"/>
                </a:lnTo>
                <a:lnTo>
                  <a:pt x="25" y="98"/>
                </a:lnTo>
                <a:lnTo>
                  <a:pt x="21" y="83"/>
                </a:lnTo>
                <a:lnTo>
                  <a:pt x="15" y="70"/>
                </a:lnTo>
                <a:lnTo>
                  <a:pt x="11" y="58"/>
                </a:lnTo>
                <a:lnTo>
                  <a:pt x="8" y="48"/>
                </a:lnTo>
                <a:lnTo>
                  <a:pt x="4" y="39"/>
                </a:lnTo>
                <a:lnTo>
                  <a:pt x="2" y="31"/>
                </a:lnTo>
                <a:lnTo>
                  <a:pt x="0" y="25"/>
                </a:lnTo>
                <a:lnTo>
                  <a:pt x="0" y="20"/>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Freeform 32"/>
          <p:cNvSpPr/>
          <p:nvPr/>
        </p:nvSpPr>
        <p:spPr>
          <a:xfrm>
            <a:off x="7040520" y="3017880"/>
            <a:ext cx="528840" cy="455400"/>
          </a:xfrm>
          <a:custGeom>
            <a:avLst/>
            <a:gdLst/>
            <a:ahLst/>
            <a:rect l="l" t="t" r="r" b="b"/>
            <a:pathLst>
              <a:path w="664" h="573">
                <a:moveTo>
                  <a:pt x="355" y="207"/>
                </a:moveTo>
                <a:lnTo>
                  <a:pt x="367" y="184"/>
                </a:lnTo>
                <a:lnTo>
                  <a:pt x="378" y="161"/>
                </a:lnTo>
                <a:lnTo>
                  <a:pt x="384" y="149"/>
                </a:lnTo>
                <a:lnTo>
                  <a:pt x="390" y="140"/>
                </a:lnTo>
                <a:lnTo>
                  <a:pt x="394" y="128"/>
                </a:lnTo>
                <a:lnTo>
                  <a:pt x="397" y="119"/>
                </a:lnTo>
                <a:lnTo>
                  <a:pt x="399" y="109"/>
                </a:lnTo>
                <a:lnTo>
                  <a:pt x="403" y="99"/>
                </a:lnTo>
                <a:lnTo>
                  <a:pt x="405" y="92"/>
                </a:lnTo>
                <a:lnTo>
                  <a:pt x="405" y="82"/>
                </a:lnTo>
                <a:lnTo>
                  <a:pt x="407" y="75"/>
                </a:lnTo>
                <a:lnTo>
                  <a:pt x="407" y="67"/>
                </a:lnTo>
                <a:lnTo>
                  <a:pt x="405" y="59"/>
                </a:lnTo>
                <a:lnTo>
                  <a:pt x="403" y="52"/>
                </a:lnTo>
                <a:lnTo>
                  <a:pt x="401" y="44"/>
                </a:lnTo>
                <a:lnTo>
                  <a:pt x="399" y="38"/>
                </a:lnTo>
                <a:lnTo>
                  <a:pt x="399" y="32"/>
                </a:lnTo>
                <a:lnTo>
                  <a:pt x="399" y="27"/>
                </a:lnTo>
                <a:lnTo>
                  <a:pt x="399" y="23"/>
                </a:lnTo>
                <a:lnTo>
                  <a:pt x="399" y="17"/>
                </a:lnTo>
                <a:lnTo>
                  <a:pt x="401" y="13"/>
                </a:lnTo>
                <a:lnTo>
                  <a:pt x="403" y="11"/>
                </a:lnTo>
                <a:lnTo>
                  <a:pt x="407" y="7"/>
                </a:lnTo>
                <a:lnTo>
                  <a:pt x="409" y="5"/>
                </a:lnTo>
                <a:lnTo>
                  <a:pt x="413" y="4"/>
                </a:lnTo>
                <a:lnTo>
                  <a:pt x="417" y="2"/>
                </a:lnTo>
                <a:lnTo>
                  <a:pt x="422" y="0"/>
                </a:lnTo>
                <a:lnTo>
                  <a:pt x="428" y="0"/>
                </a:lnTo>
                <a:lnTo>
                  <a:pt x="434" y="0"/>
                </a:lnTo>
                <a:lnTo>
                  <a:pt x="442" y="0"/>
                </a:lnTo>
                <a:lnTo>
                  <a:pt x="445" y="0"/>
                </a:lnTo>
                <a:lnTo>
                  <a:pt x="451" y="0"/>
                </a:lnTo>
                <a:lnTo>
                  <a:pt x="457" y="2"/>
                </a:lnTo>
                <a:lnTo>
                  <a:pt x="465" y="4"/>
                </a:lnTo>
                <a:lnTo>
                  <a:pt x="470" y="5"/>
                </a:lnTo>
                <a:lnTo>
                  <a:pt x="478" y="9"/>
                </a:lnTo>
                <a:lnTo>
                  <a:pt x="486" y="13"/>
                </a:lnTo>
                <a:lnTo>
                  <a:pt x="495" y="19"/>
                </a:lnTo>
                <a:lnTo>
                  <a:pt x="505" y="23"/>
                </a:lnTo>
                <a:lnTo>
                  <a:pt x="513" y="28"/>
                </a:lnTo>
                <a:lnTo>
                  <a:pt x="522" y="36"/>
                </a:lnTo>
                <a:lnTo>
                  <a:pt x="534" y="44"/>
                </a:lnTo>
                <a:lnTo>
                  <a:pt x="543" y="52"/>
                </a:lnTo>
                <a:lnTo>
                  <a:pt x="555" y="59"/>
                </a:lnTo>
                <a:lnTo>
                  <a:pt x="566" y="69"/>
                </a:lnTo>
                <a:lnTo>
                  <a:pt x="578" y="78"/>
                </a:lnTo>
                <a:lnTo>
                  <a:pt x="587" y="88"/>
                </a:lnTo>
                <a:lnTo>
                  <a:pt x="599" y="96"/>
                </a:lnTo>
                <a:lnTo>
                  <a:pt x="609" y="105"/>
                </a:lnTo>
                <a:lnTo>
                  <a:pt x="616" y="115"/>
                </a:lnTo>
                <a:lnTo>
                  <a:pt x="624" y="123"/>
                </a:lnTo>
                <a:lnTo>
                  <a:pt x="632" y="130"/>
                </a:lnTo>
                <a:lnTo>
                  <a:pt x="637" y="138"/>
                </a:lnTo>
                <a:lnTo>
                  <a:pt x="643" y="146"/>
                </a:lnTo>
                <a:lnTo>
                  <a:pt x="649" y="153"/>
                </a:lnTo>
                <a:lnTo>
                  <a:pt x="653" y="161"/>
                </a:lnTo>
                <a:lnTo>
                  <a:pt x="657" y="167"/>
                </a:lnTo>
                <a:lnTo>
                  <a:pt x="658" y="172"/>
                </a:lnTo>
                <a:lnTo>
                  <a:pt x="662" y="178"/>
                </a:lnTo>
                <a:lnTo>
                  <a:pt x="662" y="184"/>
                </a:lnTo>
                <a:lnTo>
                  <a:pt x="664" y="190"/>
                </a:lnTo>
                <a:lnTo>
                  <a:pt x="664" y="195"/>
                </a:lnTo>
                <a:lnTo>
                  <a:pt x="658" y="205"/>
                </a:lnTo>
                <a:lnTo>
                  <a:pt x="653" y="215"/>
                </a:lnTo>
                <a:lnTo>
                  <a:pt x="645" y="224"/>
                </a:lnTo>
                <a:lnTo>
                  <a:pt x="635" y="234"/>
                </a:lnTo>
                <a:lnTo>
                  <a:pt x="624" y="243"/>
                </a:lnTo>
                <a:lnTo>
                  <a:pt x="616" y="247"/>
                </a:lnTo>
                <a:lnTo>
                  <a:pt x="610" y="253"/>
                </a:lnTo>
                <a:lnTo>
                  <a:pt x="603" y="257"/>
                </a:lnTo>
                <a:lnTo>
                  <a:pt x="595" y="263"/>
                </a:lnTo>
                <a:lnTo>
                  <a:pt x="586" y="266"/>
                </a:lnTo>
                <a:lnTo>
                  <a:pt x="578" y="272"/>
                </a:lnTo>
                <a:lnTo>
                  <a:pt x="564" y="280"/>
                </a:lnTo>
                <a:lnTo>
                  <a:pt x="553" y="288"/>
                </a:lnTo>
                <a:lnTo>
                  <a:pt x="538" y="295"/>
                </a:lnTo>
                <a:lnTo>
                  <a:pt x="524" y="305"/>
                </a:lnTo>
                <a:lnTo>
                  <a:pt x="507" y="312"/>
                </a:lnTo>
                <a:lnTo>
                  <a:pt x="491" y="322"/>
                </a:lnTo>
                <a:lnTo>
                  <a:pt x="472" y="334"/>
                </a:lnTo>
                <a:lnTo>
                  <a:pt x="455" y="343"/>
                </a:lnTo>
                <a:lnTo>
                  <a:pt x="434" y="355"/>
                </a:lnTo>
                <a:lnTo>
                  <a:pt x="415" y="366"/>
                </a:lnTo>
                <a:lnTo>
                  <a:pt x="392" y="380"/>
                </a:lnTo>
                <a:lnTo>
                  <a:pt x="369" y="393"/>
                </a:lnTo>
                <a:lnTo>
                  <a:pt x="346" y="407"/>
                </a:lnTo>
                <a:lnTo>
                  <a:pt x="321" y="422"/>
                </a:lnTo>
                <a:lnTo>
                  <a:pt x="294" y="437"/>
                </a:lnTo>
                <a:lnTo>
                  <a:pt x="267" y="454"/>
                </a:lnTo>
                <a:lnTo>
                  <a:pt x="238" y="472"/>
                </a:lnTo>
                <a:lnTo>
                  <a:pt x="209" y="487"/>
                </a:lnTo>
                <a:lnTo>
                  <a:pt x="184" y="501"/>
                </a:lnTo>
                <a:lnTo>
                  <a:pt x="161" y="514"/>
                </a:lnTo>
                <a:lnTo>
                  <a:pt x="138" y="525"/>
                </a:lnTo>
                <a:lnTo>
                  <a:pt x="117" y="535"/>
                </a:lnTo>
                <a:lnTo>
                  <a:pt x="98" y="545"/>
                </a:lnTo>
                <a:lnTo>
                  <a:pt x="81" y="552"/>
                </a:lnTo>
                <a:lnTo>
                  <a:pt x="65" y="558"/>
                </a:lnTo>
                <a:lnTo>
                  <a:pt x="52" y="564"/>
                </a:lnTo>
                <a:lnTo>
                  <a:pt x="40" y="568"/>
                </a:lnTo>
                <a:lnTo>
                  <a:pt x="31" y="572"/>
                </a:lnTo>
                <a:lnTo>
                  <a:pt x="21" y="573"/>
                </a:lnTo>
                <a:lnTo>
                  <a:pt x="15" y="573"/>
                </a:lnTo>
                <a:lnTo>
                  <a:pt x="10" y="573"/>
                </a:lnTo>
                <a:lnTo>
                  <a:pt x="8" y="572"/>
                </a:lnTo>
                <a:lnTo>
                  <a:pt x="4" y="572"/>
                </a:lnTo>
                <a:lnTo>
                  <a:pt x="0" y="570"/>
                </a:lnTo>
                <a:lnTo>
                  <a:pt x="0" y="566"/>
                </a:lnTo>
                <a:lnTo>
                  <a:pt x="2" y="562"/>
                </a:lnTo>
                <a:lnTo>
                  <a:pt x="6" y="556"/>
                </a:lnTo>
                <a:lnTo>
                  <a:pt x="10" y="550"/>
                </a:lnTo>
                <a:lnTo>
                  <a:pt x="15" y="543"/>
                </a:lnTo>
                <a:lnTo>
                  <a:pt x="25" y="535"/>
                </a:lnTo>
                <a:lnTo>
                  <a:pt x="35" y="525"/>
                </a:lnTo>
                <a:lnTo>
                  <a:pt x="44" y="514"/>
                </a:lnTo>
                <a:lnTo>
                  <a:pt x="58" y="502"/>
                </a:lnTo>
                <a:lnTo>
                  <a:pt x="71" y="489"/>
                </a:lnTo>
                <a:lnTo>
                  <a:pt x="88" y="476"/>
                </a:lnTo>
                <a:lnTo>
                  <a:pt x="104" y="462"/>
                </a:lnTo>
                <a:lnTo>
                  <a:pt x="123" y="445"/>
                </a:lnTo>
                <a:lnTo>
                  <a:pt x="144" y="430"/>
                </a:lnTo>
                <a:lnTo>
                  <a:pt x="163" y="412"/>
                </a:lnTo>
                <a:lnTo>
                  <a:pt x="182" y="395"/>
                </a:lnTo>
                <a:lnTo>
                  <a:pt x="200" y="378"/>
                </a:lnTo>
                <a:lnTo>
                  <a:pt x="217" y="362"/>
                </a:lnTo>
                <a:lnTo>
                  <a:pt x="234" y="347"/>
                </a:lnTo>
                <a:lnTo>
                  <a:pt x="248" y="332"/>
                </a:lnTo>
                <a:lnTo>
                  <a:pt x="263" y="316"/>
                </a:lnTo>
                <a:lnTo>
                  <a:pt x="276" y="303"/>
                </a:lnTo>
                <a:lnTo>
                  <a:pt x="288" y="289"/>
                </a:lnTo>
                <a:lnTo>
                  <a:pt x="299" y="276"/>
                </a:lnTo>
                <a:lnTo>
                  <a:pt x="311" y="263"/>
                </a:lnTo>
                <a:lnTo>
                  <a:pt x="321" y="251"/>
                </a:lnTo>
                <a:lnTo>
                  <a:pt x="330" y="240"/>
                </a:lnTo>
                <a:lnTo>
                  <a:pt x="340" y="228"/>
                </a:lnTo>
                <a:lnTo>
                  <a:pt x="347" y="217"/>
                </a:lnTo>
                <a:lnTo>
                  <a:pt x="355" y="207"/>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Freeform 33"/>
          <p:cNvSpPr/>
          <p:nvPr/>
        </p:nvSpPr>
        <p:spPr>
          <a:xfrm>
            <a:off x="6775560" y="3141720"/>
            <a:ext cx="233280" cy="231840"/>
          </a:xfrm>
          <a:custGeom>
            <a:avLst/>
            <a:gdLst/>
            <a:ahLst/>
            <a:rect l="l" t="t" r="r" b="b"/>
            <a:pathLst>
              <a:path w="294" h="292">
                <a:moveTo>
                  <a:pt x="292" y="182"/>
                </a:moveTo>
                <a:lnTo>
                  <a:pt x="288" y="194"/>
                </a:lnTo>
                <a:lnTo>
                  <a:pt x="286" y="205"/>
                </a:lnTo>
                <a:lnTo>
                  <a:pt x="284" y="215"/>
                </a:lnTo>
                <a:lnTo>
                  <a:pt x="284" y="225"/>
                </a:lnTo>
                <a:lnTo>
                  <a:pt x="282" y="232"/>
                </a:lnTo>
                <a:lnTo>
                  <a:pt x="280" y="240"/>
                </a:lnTo>
                <a:lnTo>
                  <a:pt x="280" y="248"/>
                </a:lnTo>
                <a:lnTo>
                  <a:pt x="278" y="253"/>
                </a:lnTo>
                <a:lnTo>
                  <a:pt x="276" y="259"/>
                </a:lnTo>
                <a:lnTo>
                  <a:pt x="276" y="265"/>
                </a:lnTo>
                <a:lnTo>
                  <a:pt x="274" y="269"/>
                </a:lnTo>
                <a:lnTo>
                  <a:pt x="273" y="275"/>
                </a:lnTo>
                <a:lnTo>
                  <a:pt x="271" y="280"/>
                </a:lnTo>
                <a:lnTo>
                  <a:pt x="267" y="286"/>
                </a:lnTo>
                <a:lnTo>
                  <a:pt x="263" y="288"/>
                </a:lnTo>
                <a:lnTo>
                  <a:pt x="261" y="290"/>
                </a:lnTo>
                <a:lnTo>
                  <a:pt x="257" y="290"/>
                </a:lnTo>
                <a:lnTo>
                  <a:pt x="251" y="292"/>
                </a:lnTo>
                <a:lnTo>
                  <a:pt x="248" y="290"/>
                </a:lnTo>
                <a:lnTo>
                  <a:pt x="242" y="290"/>
                </a:lnTo>
                <a:lnTo>
                  <a:pt x="236" y="288"/>
                </a:lnTo>
                <a:lnTo>
                  <a:pt x="228" y="284"/>
                </a:lnTo>
                <a:lnTo>
                  <a:pt x="221" y="282"/>
                </a:lnTo>
                <a:lnTo>
                  <a:pt x="213" y="276"/>
                </a:lnTo>
                <a:lnTo>
                  <a:pt x="205" y="273"/>
                </a:lnTo>
                <a:lnTo>
                  <a:pt x="196" y="267"/>
                </a:lnTo>
                <a:lnTo>
                  <a:pt x="186" y="259"/>
                </a:lnTo>
                <a:lnTo>
                  <a:pt x="177" y="252"/>
                </a:lnTo>
                <a:lnTo>
                  <a:pt x="165" y="244"/>
                </a:lnTo>
                <a:lnTo>
                  <a:pt x="155" y="234"/>
                </a:lnTo>
                <a:lnTo>
                  <a:pt x="144" y="227"/>
                </a:lnTo>
                <a:lnTo>
                  <a:pt x="132" y="219"/>
                </a:lnTo>
                <a:lnTo>
                  <a:pt x="123" y="211"/>
                </a:lnTo>
                <a:lnTo>
                  <a:pt x="113" y="204"/>
                </a:lnTo>
                <a:lnTo>
                  <a:pt x="104" y="194"/>
                </a:lnTo>
                <a:lnTo>
                  <a:pt x="94" y="186"/>
                </a:lnTo>
                <a:lnTo>
                  <a:pt x="79" y="169"/>
                </a:lnTo>
                <a:lnTo>
                  <a:pt x="63" y="152"/>
                </a:lnTo>
                <a:lnTo>
                  <a:pt x="52" y="136"/>
                </a:lnTo>
                <a:lnTo>
                  <a:pt x="40" y="119"/>
                </a:lnTo>
                <a:lnTo>
                  <a:pt x="31" y="106"/>
                </a:lnTo>
                <a:lnTo>
                  <a:pt x="21" y="90"/>
                </a:lnTo>
                <a:lnTo>
                  <a:pt x="15" y="75"/>
                </a:lnTo>
                <a:lnTo>
                  <a:pt x="8" y="62"/>
                </a:lnTo>
                <a:lnTo>
                  <a:pt x="4" y="50"/>
                </a:lnTo>
                <a:lnTo>
                  <a:pt x="2" y="39"/>
                </a:lnTo>
                <a:lnTo>
                  <a:pt x="2" y="33"/>
                </a:lnTo>
                <a:lnTo>
                  <a:pt x="0" y="29"/>
                </a:lnTo>
                <a:lnTo>
                  <a:pt x="2" y="23"/>
                </a:lnTo>
                <a:lnTo>
                  <a:pt x="2" y="19"/>
                </a:lnTo>
                <a:lnTo>
                  <a:pt x="4" y="15"/>
                </a:lnTo>
                <a:lnTo>
                  <a:pt x="6" y="14"/>
                </a:lnTo>
                <a:lnTo>
                  <a:pt x="6" y="12"/>
                </a:lnTo>
                <a:lnTo>
                  <a:pt x="8" y="10"/>
                </a:lnTo>
                <a:lnTo>
                  <a:pt x="8" y="8"/>
                </a:lnTo>
                <a:lnTo>
                  <a:pt x="9" y="6"/>
                </a:lnTo>
                <a:lnTo>
                  <a:pt x="13" y="4"/>
                </a:lnTo>
                <a:lnTo>
                  <a:pt x="15" y="4"/>
                </a:lnTo>
                <a:lnTo>
                  <a:pt x="19" y="2"/>
                </a:lnTo>
                <a:lnTo>
                  <a:pt x="25" y="2"/>
                </a:lnTo>
                <a:lnTo>
                  <a:pt x="29" y="2"/>
                </a:lnTo>
                <a:lnTo>
                  <a:pt x="34" y="0"/>
                </a:lnTo>
                <a:lnTo>
                  <a:pt x="40" y="0"/>
                </a:lnTo>
                <a:lnTo>
                  <a:pt x="48" y="0"/>
                </a:lnTo>
                <a:lnTo>
                  <a:pt x="54" y="0"/>
                </a:lnTo>
                <a:lnTo>
                  <a:pt x="63" y="0"/>
                </a:lnTo>
                <a:lnTo>
                  <a:pt x="71" y="0"/>
                </a:lnTo>
                <a:lnTo>
                  <a:pt x="81" y="0"/>
                </a:lnTo>
                <a:lnTo>
                  <a:pt x="94" y="0"/>
                </a:lnTo>
                <a:lnTo>
                  <a:pt x="109" y="2"/>
                </a:lnTo>
                <a:lnTo>
                  <a:pt x="127" y="6"/>
                </a:lnTo>
                <a:lnTo>
                  <a:pt x="146" y="10"/>
                </a:lnTo>
                <a:lnTo>
                  <a:pt x="165" y="15"/>
                </a:lnTo>
                <a:lnTo>
                  <a:pt x="184" y="21"/>
                </a:lnTo>
                <a:lnTo>
                  <a:pt x="207" y="31"/>
                </a:lnTo>
                <a:lnTo>
                  <a:pt x="230" y="40"/>
                </a:lnTo>
                <a:lnTo>
                  <a:pt x="238" y="44"/>
                </a:lnTo>
                <a:lnTo>
                  <a:pt x="246" y="50"/>
                </a:lnTo>
                <a:lnTo>
                  <a:pt x="255" y="56"/>
                </a:lnTo>
                <a:lnTo>
                  <a:pt x="261" y="63"/>
                </a:lnTo>
                <a:lnTo>
                  <a:pt x="269" y="71"/>
                </a:lnTo>
                <a:lnTo>
                  <a:pt x="274" y="79"/>
                </a:lnTo>
                <a:lnTo>
                  <a:pt x="278" y="86"/>
                </a:lnTo>
                <a:lnTo>
                  <a:pt x="284" y="96"/>
                </a:lnTo>
                <a:lnTo>
                  <a:pt x="286" y="106"/>
                </a:lnTo>
                <a:lnTo>
                  <a:pt x="290" y="115"/>
                </a:lnTo>
                <a:lnTo>
                  <a:pt x="292" y="125"/>
                </a:lnTo>
                <a:lnTo>
                  <a:pt x="294" y="136"/>
                </a:lnTo>
                <a:lnTo>
                  <a:pt x="294" y="148"/>
                </a:lnTo>
                <a:lnTo>
                  <a:pt x="294" y="159"/>
                </a:lnTo>
                <a:lnTo>
                  <a:pt x="294" y="171"/>
                </a:lnTo>
                <a:lnTo>
                  <a:pt x="292" y="182"/>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Freeform 34"/>
          <p:cNvSpPr/>
          <p:nvPr/>
        </p:nvSpPr>
        <p:spPr>
          <a:xfrm>
            <a:off x="6464160" y="3508200"/>
            <a:ext cx="909720" cy="449280"/>
          </a:xfrm>
          <a:custGeom>
            <a:avLst/>
            <a:gdLst/>
            <a:ahLst/>
            <a:rect l="l" t="t" r="r" b="b"/>
            <a:pathLst>
              <a:path w="1147" h="566">
                <a:moveTo>
                  <a:pt x="711" y="566"/>
                </a:moveTo>
                <a:lnTo>
                  <a:pt x="686" y="552"/>
                </a:lnTo>
                <a:lnTo>
                  <a:pt x="661" y="539"/>
                </a:lnTo>
                <a:lnTo>
                  <a:pt x="672" y="518"/>
                </a:lnTo>
                <a:lnTo>
                  <a:pt x="684" y="497"/>
                </a:lnTo>
                <a:lnTo>
                  <a:pt x="695" y="475"/>
                </a:lnTo>
                <a:lnTo>
                  <a:pt x="707" y="456"/>
                </a:lnTo>
                <a:lnTo>
                  <a:pt x="718" y="437"/>
                </a:lnTo>
                <a:lnTo>
                  <a:pt x="728" y="418"/>
                </a:lnTo>
                <a:lnTo>
                  <a:pt x="738" y="401"/>
                </a:lnTo>
                <a:lnTo>
                  <a:pt x="747" y="383"/>
                </a:lnTo>
                <a:lnTo>
                  <a:pt x="757" y="366"/>
                </a:lnTo>
                <a:lnTo>
                  <a:pt x="764" y="349"/>
                </a:lnTo>
                <a:lnTo>
                  <a:pt x="774" y="333"/>
                </a:lnTo>
                <a:lnTo>
                  <a:pt x="782" y="320"/>
                </a:lnTo>
                <a:lnTo>
                  <a:pt x="789" y="305"/>
                </a:lnTo>
                <a:lnTo>
                  <a:pt x="795" y="291"/>
                </a:lnTo>
                <a:lnTo>
                  <a:pt x="803" y="280"/>
                </a:lnTo>
                <a:lnTo>
                  <a:pt x="809" y="266"/>
                </a:lnTo>
                <a:lnTo>
                  <a:pt x="814" y="255"/>
                </a:lnTo>
                <a:lnTo>
                  <a:pt x="818" y="245"/>
                </a:lnTo>
                <a:lnTo>
                  <a:pt x="824" y="234"/>
                </a:lnTo>
                <a:lnTo>
                  <a:pt x="828" y="224"/>
                </a:lnTo>
                <a:lnTo>
                  <a:pt x="832" y="216"/>
                </a:lnTo>
                <a:lnTo>
                  <a:pt x="835" y="207"/>
                </a:lnTo>
                <a:lnTo>
                  <a:pt x="839" y="199"/>
                </a:lnTo>
                <a:lnTo>
                  <a:pt x="841" y="193"/>
                </a:lnTo>
                <a:lnTo>
                  <a:pt x="843" y="186"/>
                </a:lnTo>
                <a:lnTo>
                  <a:pt x="845" y="182"/>
                </a:lnTo>
                <a:lnTo>
                  <a:pt x="847" y="176"/>
                </a:lnTo>
                <a:lnTo>
                  <a:pt x="847" y="172"/>
                </a:lnTo>
                <a:lnTo>
                  <a:pt x="847" y="168"/>
                </a:lnTo>
                <a:lnTo>
                  <a:pt x="847" y="165"/>
                </a:lnTo>
                <a:lnTo>
                  <a:pt x="847" y="163"/>
                </a:lnTo>
                <a:lnTo>
                  <a:pt x="845" y="161"/>
                </a:lnTo>
                <a:lnTo>
                  <a:pt x="843" y="161"/>
                </a:lnTo>
                <a:lnTo>
                  <a:pt x="839" y="159"/>
                </a:lnTo>
                <a:lnTo>
                  <a:pt x="837" y="159"/>
                </a:lnTo>
                <a:lnTo>
                  <a:pt x="834" y="159"/>
                </a:lnTo>
                <a:lnTo>
                  <a:pt x="830" y="159"/>
                </a:lnTo>
                <a:lnTo>
                  <a:pt x="826" y="161"/>
                </a:lnTo>
                <a:lnTo>
                  <a:pt x="820" y="161"/>
                </a:lnTo>
                <a:lnTo>
                  <a:pt x="814" y="163"/>
                </a:lnTo>
                <a:lnTo>
                  <a:pt x="809" y="163"/>
                </a:lnTo>
                <a:lnTo>
                  <a:pt x="801" y="165"/>
                </a:lnTo>
                <a:lnTo>
                  <a:pt x="793" y="167"/>
                </a:lnTo>
                <a:lnTo>
                  <a:pt x="786" y="170"/>
                </a:lnTo>
                <a:lnTo>
                  <a:pt x="778" y="172"/>
                </a:lnTo>
                <a:lnTo>
                  <a:pt x="768" y="174"/>
                </a:lnTo>
                <a:lnTo>
                  <a:pt x="759" y="178"/>
                </a:lnTo>
                <a:lnTo>
                  <a:pt x="749" y="180"/>
                </a:lnTo>
                <a:lnTo>
                  <a:pt x="738" y="184"/>
                </a:lnTo>
                <a:lnTo>
                  <a:pt x="726" y="188"/>
                </a:lnTo>
                <a:lnTo>
                  <a:pt x="715" y="191"/>
                </a:lnTo>
                <a:lnTo>
                  <a:pt x="703" y="195"/>
                </a:lnTo>
                <a:lnTo>
                  <a:pt x="690" y="199"/>
                </a:lnTo>
                <a:lnTo>
                  <a:pt x="676" y="205"/>
                </a:lnTo>
                <a:lnTo>
                  <a:pt x="661" y="209"/>
                </a:lnTo>
                <a:lnTo>
                  <a:pt x="645" y="214"/>
                </a:lnTo>
                <a:lnTo>
                  <a:pt x="630" y="218"/>
                </a:lnTo>
                <a:lnTo>
                  <a:pt x="615" y="224"/>
                </a:lnTo>
                <a:lnTo>
                  <a:pt x="597" y="230"/>
                </a:lnTo>
                <a:lnTo>
                  <a:pt x="580" y="236"/>
                </a:lnTo>
                <a:lnTo>
                  <a:pt x="561" y="241"/>
                </a:lnTo>
                <a:lnTo>
                  <a:pt x="544" y="247"/>
                </a:lnTo>
                <a:lnTo>
                  <a:pt x="524" y="253"/>
                </a:lnTo>
                <a:lnTo>
                  <a:pt x="503" y="261"/>
                </a:lnTo>
                <a:lnTo>
                  <a:pt x="486" y="266"/>
                </a:lnTo>
                <a:lnTo>
                  <a:pt x="467" y="274"/>
                </a:lnTo>
                <a:lnTo>
                  <a:pt x="450" y="280"/>
                </a:lnTo>
                <a:lnTo>
                  <a:pt x="430" y="287"/>
                </a:lnTo>
                <a:lnTo>
                  <a:pt x="415" y="293"/>
                </a:lnTo>
                <a:lnTo>
                  <a:pt x="398" y="299"/>
                </a:lnTo>
                <a:lnTo>
                  <a:pt x="382" y="305"/>
                </a:lnTo>
                <a:lnTo>
                  <a:pt x="367" y="310"/>
                </a:lnTo>
                <a:lnTo>
                  <a:pt x="352" y="314"/>
                </a:lnTo>
                <a:lnTo>
                  <a:pt x="336" y="320"/>
                </a:lnTo>
                <a:lnTo>
                  <a:pt x="323" y="324"/>
                </a:lnTo>
                <a:lnTo>
                  <a:pt x="309" y="330"/>
                </a:lnTo>
                <a:lnTo>
                  <a:pt x="296" y="333"/>
                </a:lnTo>
                <a:lnTo>
                  <a:pt x="284" y="337"/>
                </a:lnTo>
                <a:lnTo>
                  <a:pt x="273" y="341"/>
                </a:lnTo>
                <a:lnTo>
                  <a:pt x="261" y="345"/>
                </a:lnTo>
                <a:lnTo>
                  <a:pt x="250" y="347"/>
                </a:lnTo>
                <a:lnTo>
                  <a:pt x="240" y="351"/>
                </a:lnTo>
                <a:lnTo>
                  <a:pt x="231" y="355"/>
                </a:lnTo>
                <a:lnTo>
                  <a:pt x="221" y="356"/>
                </a:lnTo>
                <a:lnTo>
                  <a:pt x="212" y="358"/>
                </a:lnTo>
                <a:lnTo>
                  <a:pt x="204" y="360"/>
                </a:lnTo>
                <a:lnTo>
                  <a:pt x="196" y="362"/>
                </a:lnTo>
                <a:lnTo>
                  <a:pt x="188" y="364"/>
                </a:lnTo>
                <a:lnTo>
                  <a:pt x="181" y="366"/>
                </a:lnTo>
                <a:lnTo>
                  <a:pt x="175" y="368"/>
                </a:lnTo>
                <a:lnTo>
                  <a:pt x="169" y="368"/>
                </a:lnTo>
                <a:lnTo>
                  <a:pt x="164" y="368"/>
                </a:lnTo>
                <a:lnTo>
                  <a:pt x="160" y="370"/>
                </a:lnTo>
                <a:lnTo>
                  <a:pt x="154" y="370"/>
                </a:lnTo>
                <a:lnTo>
                  <a:pt x="152" y="370"/>
                </a:lnTo>
                <a:lnTo>
                  <a:pt x="144" y="370"/>
                </a:lnTo>
                <a:lnTo>
                  <a:pt x="139" y="368"/>
                </a:lnTo>
                <a:lnTo>
                  <a:pt x="131" y="368"/>
                </a:lnTo>
                <a:lnTo>
                  <a:pt x="125" y="366"/>
                </a:lnTo>
                <a:lnTo>
                  <a:pt x="119" y="362"/>
                </a:lnTo>
                <a:lnTo>
                  <a:pt x="114" y="360"/>
                </a:lnTo>
                <a:lnTo>
                  <a:pt x="108" y="356"/>
                </a:lnTo>
                <a:lnTo>
                  <a:pt x="102" y="353"/>
                </a:lnTo>
                <a:lnTo>
                  <a:pt x="91" y="343"/>
                </a:lnTo>
                <a:lnTo>
                  <a:pt x="77" y="332"/>
                </a:lnTo>
                <a:lnTo>
                  <a:pt x="66" y="318"/>
                </a:lnTo>
                <a:lnTo>
                  <a:pt x="52" y="305"/>
                </a:lnTo>
                <a:lnTo>
                  <a:pt x="39" y="291"/>
                </a:lnTo>
                <a:lnTo>
                  <a:pt x="27" y="278"/>
                </a:lnTo>
                <a:lnTo>
                  <a:pt x="21" y="272"/>
                </a:lnTo>
                <a:lnTo>
                  <a:pt x="18" y="266"/>
                </a:lnTo>
                <a:lnTo>
                  <a:pt x="14" y="261"/>
                </a:lnTo>
                <a:lnTo>
                  <a:pt x="10" y="257"/>
                </a:lnTo>
                <a:lnTo>
                  <a:pt x="6" y="251"/>
                </a:lnTo>
                <a:lnTo>
                  <a:pt x="4" y="247"/>
                </a:lnTo>
                <a:lnTo>
                  <a:pt x="2" y="243"/>
                </a:lnTo>
                <a:lnTo>
                  <a:pt x="0" y="239"/>
                </a:lnTo>
                <a:lnTo>
                  <a:pt x="0" y="236"/>
                </a:lnTo>
                <a:lnTo>
                  <a:pt x="0" y="232"/>
                </a:lnTo>
                <a:lnTo>
                  <a:pt x="0" y="230"/>
                </a:lnTo>
                <a:lnTo>
                  <a:pt x="2" y="228"/>
                </a:lnTo>
                <a:lnTo>
                  <a:pt x="8" y="228"/>
                </a:lnTo>
                <a:lnTo>
                  <a:pt x="14" y="228"/>
                </a:lnTo>
                <a:lnTo>
                  <a:pt x="21" y="228"/>
                </a:lnTo>
                <a:lnTo>
                  <a:pt x="31" y="228"/>
                </a:lnTo>
                <a:lnTo>
                  <a:pt x="41" y="228"/>
                </a:lnTo>
                <a:lnTo>
                  <a:pt x="52" y="228"/>
                </a:lnTo>
                <a:lnTo>
                  <a:pt x="64" y="228"/>
                </a:lnTo>
                <a:lnTo>
                  <a:pt x="77" y="228"/>
                </a:lnTo>
                <a:lnTo>
                  <a:pt x="81" y="226"/>
                </a:lnTo>
                <a:lnTo>
                  <a:pt x="85" y="226"/>
                </a:lnTo>
                <a:lnTo>
                  <a:pt x="91" y="226"/>
                </a:lnTo>
                <a:lnTo>
                  <a:pt x="96" y="226"/>
                </a:lnTo>
                <a:lnTo>
                  <a:pt x="102" y="226"/>
                </a:lnTo>
                <a:lnTo>
                  <a:pt x="108" y="224"/>
                </a:lnTo>
                <a:lnTo>
                  <a:pt x="116" y="224"/>
                </a:lnTo>
                <a:lnTo>
                  <a:pt x="123" y="222"/>
                </a:lnTo>
                <a:lnTo>
                  <a:pt x="131" y="220"/>
                </a:lnTo>
                <a:lnTo>
                  <a:pt x="140" y="220"/>
                </a:lnTo>
                <a:lnTo>
                  <a:pt x="150" y="218"/>
                </a:lnTo>
                <a:lnTo>
                  <a:pt x="160" y="216"/>
                </a:lnTo>
                <a:lnTo>
                  <a:pt x="169" y="214"/>
                </a:lnTo>
                <a:lnTo>
                  <a:pt x="181" y="213"/>
                </a:lnTo>
                <a:lnTo>
                  <a:pt x="192" y="211"/>
                </a:lnTo>
                <a:lnTo>
                  <a:pt x="204" y="207"/>
                </a:lnTo>
                <a:lnTo>
                  <a:pt x="217" y="205"/>
                </a:lnTo>
                <a:lnTo>
                  <a:pt x="231" y="203"/>
                </a:lnTo>
                <a:lnTo>
                  <a:pt x="244" y="199"/>
                </a:lnTo>
                <a:lnTo>
                  <a:pt x="258" y="197"/>
                </a:lnTo>
                <a:lnTo>
                  <a:pt x="271" y="193"/>
                </a:lnTo>
                <a:lnTo>
                  <a:pt x="286" y="190"/>
                </a:lnTo>
                <a:lnTo>
                  <a:pt x="302" y="186"/>
                </a:lnTo>
                <a:lnTo>
                  <a:pt x="319" y="184"/>
                </a:lnTo>
                <a:lnTo>
                  <a:pt x="352" y="176"/>
                </a:lnTo>
                <a:lnTo>
                  <a:pt x="386" y="167"/>
                </a:lnTo>
                <a:lnTo>
                  <a:pt x="423" y="159"/>
                </a:lnTo>
                <a:lnTo>
                  <a:pt x="463" y="149"/>
                </a:lnTo>
                <a:lnTo>
                  <a:pt x="482" y="143"/>
                </a:lnTo>
                <a:lnTo>
                  <a:pt x="499" y="138"/>
                </a:lnTo>
                <a:lnTo>
                  <a:pt x="519" y="134"/>
                </a:lnTo>
                <a:lnTo>
                  <a:pt x="536" y="130"/>
                </a:lnTo>
                <a:lnTo>
                  <a:pt x="553" y="124"/>
                </a:lnTo>
                <a:lnTo>
                  <a:pt x="571" y="120"/>
                </a:lnTo>
                <a:lnTo>
                  <a:pt x="586" y="117"/>
                </a:lnTo>
                <a:lnTo>
                  <a:pt x="601" y="111"/>
                </a:lnTo>
                <a:lnTo>
                  <a:pt x="617" y="107"/>
                </a:lnTo>
                <a:lnTo>
                  <a:pt x="632" y="103"/>
                </a:lnTo>
                <a:lnTo>
                  <a:pt x="645" y="99"/>
                </a:lnTo>
                <a:lnTo>
                  <a:pt x="659" y="96"/>
                </a:lnTo>
                <a:lnTo>
                  <a:pt x="670" y="92"/>
                </a:lnTo>
                <a:lnTo>
                  <a:pt x="684" y="88"/>
                </a:lnTo>
                <a:lnTo>
                  <a:pt x="695" y="84"/>
                </a:lnTo>
                <a:lnTo>
                  <a:pt x="707" y="80"/>
                </a:lnTo>
                <a:lnTo>
                  <a:pt x="718" y="76"/>
                </a:lnTo>
                <a:lnTo>
                  <a:pt x="728" y="73"/>
                </a:lnTo>
                <a:lnTo>
                  <a:pt x="738" y="69"/>
                </a:lnTo>
                <a:lnTo>
                  <a:pt x="747" y="67"/>
                </a:lnTo>
                <a:lnTo>
                  <a:pt x="755" y="63"/>
                </a:lnTo>
                <a:lnTo>
                  <a:pt x="764" y="59"/>
                </a:lnTo>
                <a:lnTo>
                  <a:pt x="772" y="57"/>
                </a:lnTo>
                <a:lnTo>
                  <a:pt x="780" y="53"/>
                </a:lnTo>
                <a:lnTo>
                  <a:pt x="793" y="48"/>
                </a:lnTo>
                <a:lnTo>
                  <a:pt x="805" y="42"/>
                </a:lnTo>
                <a:lnTo>
                  <a:pt x="812" y="36"/>
                </a:lnTo>
                <a:lnTo>
                  <a:pt x="822" y="32"/>
                </a:lnTo>
                <a:lnTo>
                  <a:pt x="835" y="23"/>
                </a:lnTo>
                <a:lnTo>
                  <a:pt x="847" y="15"/>
                </a:lnTo>
                <a:lnTo>
                  <a:pt x="859" y="7"/>
                </a:lnTo>
                <a:lnTo>
                  <a:pt x="872" y="3"/>
                </a:lnTo>
                <a:lnTo>
                  <a:pt x="878" y="2"/>
                </a:lnTo>
                <a:lnTo>
                  <a:pt x="883" y="2"/>
                </a:lnTo>
                <a:lnTo>
                  <a:pt x="889" y="0"/>
                </a:lnTo>
                <a:lnTo>
                  <a:pt x="895" y="0"/>
                </a:lnTo>
                <a:lnTo>
                  <a:pt x="901" y="2"/>
                </a:lnTo>
                <a:lnTo>
                  <a:pt x="907" y="2"/>
                </a:lnTo>
                <a:lnTo>
                  <a:pt x="914" y="3"/>
                </a:lnTo>
                <a:lnTo>
                  <a:pt x="922" y="5"/>
                </a:lnTo>
                <a:lnTo>
                  <a:pt x="931" y="11"/>
                </a:lnTo>
                <a:lnTo>
                  <a:pt x="943" y="15"/>
                </a:lnTo>
                <a:lnTo>
                  <a:pt x="955" y="21"/>
                </a:lnTo>
                <a:lnTo>
                  <a:pt x="970" y="28"/>
                </a:lnTo>
                <a:lnTo>
                  <a:pt x="985" y="36"/>
                </a:lnTo>
                <a:lnTo>
                  <a:pt x="993" y="40"/>
                </a:lnTo>
                <a:lnTo>
                  <a:pt x="1003" y="46"/>
                </a:lnTo>
                <a:lnTo>
                  <a:pt x="1012" y="51"/>
                </a:lnTo>
                <a:lnTo>
                  <a:pt x="1024" y="57"/>
                </a:lnTo>
                <a:lnTo>
                  <a:pt x="1033" y="63"/>
                </a:lnTo>
                <a:lnTo>
                  <a:pt x="1045" y="71"/>
                </a:lnTo>
                <a:lnTo>
                  <a:pt x="1056" y="78"/>
                </a:lnTo>
                <a:lnTo>
                  <a:pt x="1066" y="84"/>
                </a:lnTo>
                <a:lnTo>
                  <a:pt x="1075" y="92"/>
                </a:lnTo>
                <a:lnTo>
                  <a:pt x="1085" y="97"/>
                </a:lnTo>
                <a:lnTo>
                  <a:pt x="1093" y="103"/>
                </a:lnTo>
                <a:lnTo>
                  <a:pt x="1100" y="109"/>
                </a:lnTo>
                <a:lnTo>
                  <a:pt x="1106" y="115"/>
                </a:lnTo>
                <a:lnTo>
                  <a:pt x="1112" y="120"/>
                </a:lnTo>
                <a:lnTo>
                  <a:pt x="1118" y="124"/>
                </a:lnTo>
                <a:lnTo>
                  <a:pt x="1123" y="128"/>
                </a:lnTo>
                <a:lnTo>
                  <a:pt x="1127" y="132"/>
                </a:lnTo>
                <a:lnTo>
                  <a:pt x="1131" y="136"/>
                </a:lnTo>
                <a:lnTo>
                  <a:pt x="1139" y="143"/>
                </a:lnTo>
                <a:lnTo>
                  <a:pt x="1145" y="149"/>
                </a:lnTo>
                <a:lnTo>
                  <a:pt x="1147" y="153"/>
                </a:lnTo>
                <a:lnTo>
                  <a:pt x="1147" y="159"/>
                </a:lnTo>
                <a:lnTo>
                  <a:pt x="1147" y="163"/>
                </a:lnTo>
                <a:lnTo>
                  <a:pt x="1147" y="168"/>
                </a:lnTo>
                <a:lnTo>
                  <a:pt x="1145" y="172"/>
                </a:lnTo>
                <a:lnTo>
                  <a:pt x="1143" y="176"/>
                </a:lnTo>
                <a:lnTo>
                  <a:pt x="1139" y="182"/>
                </a:lnTo>
                <a:lnTo>
                  <a:pt x="1135" y="186"/>
                </a:lnTo>
                <a:lnTo>
                  <a:pt x="1129" y="190"/>
                </a:lnTo>
                <a:lnTo>
                  <a:pt x="1123" y="193"/>
                </a:lnTo>
                <a:lnTo>
                  <a:pt x="1116" y="197"/>
                </a:lnTo>
                <a:lnTo>
                  <a:pt x="1108" y="201"/>
                </a:lnTo>
                <a:lnTo>
                  <a:pt x="1100" y="205"/>
                </a:lnTo>
                <a:lnTo>
                  <a:pt x="1091" y="209"/>
                </a:lnTo>
                <a:lnTo>
                  <a:pt x="1081" y="211"/>
                </a:lnTo>
                <a:lnTo>
                  <a:pt x="1070" y="214"/>
                </a:lnTo>
                <a:lnTo>
                  <a:pt x="1064" y="214"/>
                </a:lnTo>
                <a:lnTo>
                  <a:pt x="1058" y="216"/>
                </a:lnTo>
                <a:lnTo>
                  <a:pt x="1051" y="220"/>
                </a:lnTo>
                <a:lnTo>
                  <a:pt x="1045" y="224"/>
                </a:lnTo>
                <a:lnTo>
                  <a:pt x="1037" y="228"/>
                </a:lnTo>
                <a:lnTo>
                  <a:pt x="1029" y="232"/>
                </a:lnTo>
                <a:lnTo>
                  <a:pt x="1022" y="238"/>
                </a:lnTo>
                <a:lnTo>
                  <a:pt x="1014" y="243"/>
                </a:lnTo>
                <a:lnTo>
                  <a:pt x="1004" y="249"/>
                </a:lnTo>
                <a:lnTo>
                  <a:pt x="995" y="257"/>
                </a:lnTo>
                <a:lnTo>
                  <a:pt x="987" y="264"/>
                </a:lnTo>
                <a:lnTo>
                  <a:pt x="978" y="272"/>
                </a:lnTo>
                <a:lnTo>
                  <a:pt x="968" y="280"/>
                </a:lnTo>
                <a:lnTo>
                  <a:pt x="956" y="289"/>
                </a:lnTo>
                <a:lnTo>
                  <a:pt x="947" y="301"/>
                </a:lnTo>
                <a:lnTo>
                  <a:pt x="935" y="310"/>
                </a:lnTo>
                <a:lnTo>
                  <a:pt x="924" y="322"/>
                </a:lnTo>
                <a:lnTo>
                  <a:pt x="912" y="333"/>
                </a:lnTo>
                <a:lnTo>
                  <a:pt x="901" y="347"/>
                </a:lnTo>
                <a:lnTo>
                  <a:pt x="887" y="358"/>
                </a:lnTo>
                <a:lnTo>
                  <a:pt x="876" y="374"/>
                </a:lnTo>
                <a:lnTo>
                  <a:pt x="862" y="387"/>
                </a:lnTo>
                <a:lnTo>
                  <a:pt x="849" y="403"/>
                </a:lnTo>
                <a:lnTo>
                  <a:pt x="835" y="418"/>
                </a:lnTo>
                <a:lnTo>
                  <a:pt x="820" y="433"/>
                </a:lnTo>
                <a:lnTo>
                  <a:pt x="807" y="451"/>
                </a:lnTo>
                <a:lnTo>
                  <a:pt x="791" y="468"/>
                </a:lnTo>
                <a:lnTo>
                  <a:pt x="776" y="487"/>
                </a:lnTo>
                <a:lnTo>
                  <a:pt x="761" y="504"/>
                </a:lnTo>
                <a:lnTo>
                  <a:pt x="743" y="523"/>
                </a:lnTo>
                <a:lnTo>
                  <a:pt x="726" y="545"/>
                </a:lnTo>
                <a:lnTo>
                  <a:pt x="711" y="566"/>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Freeform 35"/>
          <p:cNvSpPr/>
          <p:nvPr/>
        </p:nvSpPr>
        <p:spPr>
          <a:xfrm>
            <a:off x="6653160" y="3843360"/>
            <a:ext cx="436680" cy="1271520"/>
          </a:xfrm>
          <a:custGeom>
            <a:avLst/>
            <a:gdLst/>
            <a:ahLst/>
            <a:rect l="l" t="t" r="r" b="b"/>
            <a:pathLst>
              <a:path w="551" h="1600">
                <a:moveTo>
                  <a:pt x="286" y="1508"/>
                </a:moveTo>
                <a:lnTo>
                  <a:pt x="281" y="1496"/>
                </a:lnTo>
                <a:lnTo>
                  <a:pt x="275" y="1485"/>
                </a:lnTo>
                <a:lnTo>
                  <a:pt x="269" y="1473"/>
                </a:lnTo>
                <a:lnTo>
                  <a:pt x="261" y="1462"/>
                </a:lnTo>
                <a:lnTo>
                  <a:pt x="256" y="1450"/>
                </a:lnTo>
                <a:lnTo>
                  <a:pt x="246" y="1439"/>
                </a:lnTo>
                <a:lnTo>
                  <a:pt x="238" y="1429"/>
                </a:lnTo>
                <a:lnTo>
                  <a:pt x="229" y="1420"/>
                </a:lnTo>
                <a:lnTo>
                  <a:pt x="217" y="1408"/>
                </a:lnTo>
                <a:lnTo>
                  <a:pt x="208" y="1399"/>
                </a:lnTo>
                <a:lnTo>
                  <a:pt x="194" y="1389"/>
                </a:lnTo>
                <a:lnTo>
                  <a:pt x="183" y="1379"/>
                </a:lnTo>
                <a:lnTo>
                  <a:pt x="169" y="1368"/>
                </a:lnTo>
                <a:lnTo>
                  <a:pt x="156" y="1358"/>
                </a:lnTo>
                <a:lnTo>
                  <a:pt x="141" y="1349"/>
                </a:lnTo>
                <a:lnTo>
                  <a:pt x="125" y="1339"/>
                </a:lnTo>
                <a:lnTo>
                  <a:pt x="108" y="1328"/>
                </a:lnTo>
                <a:lnTo>
                  <a:pt x="94" y="1316"/>
                </a:lnTo>
                <a:lnTo>
                  <a:pt x="81" y="1305"/>
                </a:lnTo>
                <a:lnTo>
                  <a:pt x="70" y="1295"/>
                </a:lnTo>
                <a:lnTo>
                  <a:pt x="58" y="1285"/>
                </a:lnTo>
                <a:lnTo>
                  <a:pt x="48" y="1276"/>
                </a:lnTo>
                <a:lnTo>
                  <a:pt x="39" y="1268"/>
                </a:lnTo>
                <a:lnTo>
                  <a:pt x="31" y="1260"/>
                </a:lnTo>
                <a:lnTo>
                  <a:pt x="23" y="1253"/>
                </a:lnTo>
                <a:lnTo>
                  <a:pt x="18" y="1247"/>
                </a:lnTo>
                <a:lnTo>
                  <a:pt x="12" y="1241"/>
                </a:lnTo>
                <a:lnTo>
                  <a:pt x="8" y="1235"/>
                </a:lnTo>
                <a:lnTo>
                  <a:pt x="4" y="1232"/>
                </a:lnTo>
                <a:lnTo>
                  <a:pt x="2" y="1228"/>
                </a:lnTo>
                <a:lnTo>
                  <a:pt x="0" y="1224"/>
                </a:lnTo>
                <a:lnTo>
                  <a:pt x="0" y="1222"/>
                </a:lnTo>
                <a:lnTo>
                  <a:pt x="0" y="1220"/>
                </a:lnTo>
                <a:lnTo>
                  <a:pt x="2" y="1218"/>
                </a:lnTo>
                <a:lnTo>
                  <a:pt x="6" y="1216"/>
                </a:lnTo>
                <a:lnTo>
                  <a:pt x="10" y="1214"/>
                </a:lnTo>
                <a:lnTo>
                  <a:pt x="16" y="1214"/>
                </a:lnTo>
                <a:lnTo>
                  <a:pt x="22" y="1212"/>
                </a:lnTo>
                <a:lnTo>
                  <a:pt x="29" y="1212"/>
                </a:lnTo>
                <a:lnTo>
                  <a:pt x="37" y="1212"/>
                </a:lnTo>
                <a:lnTo>
                  <a:pt x="48" y="1212"/>
                </a:lnTo>
                <a:lnTo>
                  <a:pt x="58" y="1212"/>
                </a:lnTo>
                <a:lnTo>
                  <a:pt x="71" y="1214"/>
                </a:lnTo>
                <a:lnTo>
                  <a:pt x="85" y="1214"/>
                </a:lnTo>
                <a:lnTo>
                  <a:pt x="98" y="1216"/>
                </a:lnTo>
                <a:lnTo>
                  <a:pt x="114" y="1218"/>
                </a:lnTo>
                <a:lnTo>
                  <a:pt x="131" y="1220"/>
                </a:lnTo>
                <a:lnTo>
                  <a:pt x="150" y="1222"/>
                </a:lnTo>
                <a:lnTo>
                  <a:pt x="165" y="1226"/>
                </a:lnTo>
                <a:lnTo>
                  <a:pt x="181" y="1230"/>
                </a:lnTo>
                <a:lnTo>
                  <a:pt x="196" y="1234"/>
                </a:lnTo>
                <a:lnTo>
                  <a:pt x="210" y="1237"/>
                </a:lnTo>
                <a:lnTo>
                  <a:pt x="223" y="1239"/>
                </a:lnTo>
                <a:lnTo>
                  <a:pt x="237" y="1241"/>
                </a:lnTo>
                <a:lnTo>
                  <a:pt x="248" y="1241"/>
                </a:lnTo>
                <a:lnTo>
                  <a:pt x="261" y="1241"/>
                </a:lnTo>
                <a:lnTo>
                  <a:pt x="273" y="1241"/>
                </a:lnTo>
                <a:lnTo>
                  <a:pt x="283" y="1241"/>
                </a:lnTo>
                <a:lnTo>
                  <a:pt x="292" y="1239"/>
                </a:lnTo>
                <a:lnTo>
                  <a:pt x="302" y="1237"/>
                </a:lnTo>
                <a:lnTo>
                  <a:pt x="311" y="1234"/>
                </a:lnTo>
                <a:lnTo>
                  <a:pt x="321" y="1230"/>
                </a:lnTo>
                <a:lnTo>
                  <a:pt x="329" y="1226"/>
                </a:lnTo>
                <a:lnTo>
                  <a:pt x="336" y="1222"/>
                </a:lnTo>
                <a:lnTo>
                  <a:pt x="340" y="1218"/>
                </a:lnTo>
                <a:lnTo>
                  <a:pt x="344" y="1214"/>
                </a:lnTo>
                <a:lnTo>
                  <a:pt x="350" y="1207"/>
                </a:lnTo>
                <a:lnTo>
                  <a:pt x="354" y="1197"/>
                </a:lnTo>
                <a:lnTo>
                  <a:pt x="357" y="1188"/>
                </a:lnTo>
                <a:lnTo>
                  <a:pt x="363" y="1176"/>
                </a:lnTo>
                <a:lnTo>
                  <a:pt x="367" y="1161"/>
                </a:lnTo>
                <a:lnTo>
                  <a:pt x="371" y="1145"/>
                </a:lnTo>
                <a:lnTo>
                  <a:pt x="375" y="1128"/>
                </a:lnTo>
                <a:lnTo>
                  <a:pt x="379" y="1109"/>
                </a:lnTo>
                <a:lnTo>
                  <a:pt x="382" y="1090"/>
                </a:lnTo>
                <a:lnTo>
                  <a:pt x="386" y="1067"/>
                </a:lnTo>
                <a:lnTo>
                  <a:pt x="388" y="1044"/>
                </a:lnTo>
                <a:lnTo>
                  <a:pt x="392" y="1017"/>
                </a:lnTo>
                <a:lnTo>
                  <a:pt x="394" y="990"/>
                </a:lnTo>
                <a:lnTo>
                  <a:pt x="398" y="963"/>
                </a:lnTo>
                <a:lnTo>
                  <a:pt x="400" y="934"/>
                </a:lnTo>
                <a:lnTo>
                  <a:pt x="402" y="907"/>
                </a:lnTo>
                <a:lnTo>
                  <a:pt x="402" y="879"/>
                </a:lnTo>
                <a:lnTo>
                  <a:pt x="404" y="850"/>
                </a:lnTo>
                <a:lnTo>
                  <a:pt x="405" y="792"/>
                </a:lnTo>
                <a:lnTo>
                  <a:pt x="405" y="731"/>
                </a:lnTo>
                <a:lnTo>
                  <a:pt x="405" y="669"/>
                </a:lnTo>
                <a:lnTo>
                  <a:pt x="404" y="608"/>
                </a:lnTo>
                <a:lnTo>
                  <a:pt x="402" y="545"/>
                </a:lnTo>
                <a:lnTo>
                  <a:pt x="398" y="481"/>
                </a:lnTo>
                <a:lnTo>
                  <a:pt x="394" y="449"/>
                </a:lnTo>
                <a:lnTo>
                  <a:pt x="392" y="420"/>
                </a:lnTo>
                <a:lnTo>
                  <a:pt x="388" y="391"/>
                </a:lnTo>
                <a:lnTo>
                  <a:pt x="386" y="364"/>
                </a:lnTo>
                <a:lnTo>
                  <a:pt x="382" y="337"/>
                </a:lnTo>
                <a:lnTo>
                  <a:pt x="379" y="313"/>
                </a:lnTo>
                <a:lnTo>
                  <a:pt x="375" y="289"/>
                </a:lnTo>
                <a:lnTo>
                  <a:pt x="369" y="266"/>
                </a:lnTo>
                <a:lnTo>
                  <a:pt x="365" y="245"/>
                </a:lnTo>
                <a:lnTo>
                  <a:pt x="359" y="226"/>
                </a:lnTo>
                <a:lnTo>
                  <a:pt x="354" y="207"/>
                </a:lnTo>
                <a:lnTo>
                  <a:pt x="348" y="190"/>
                </a:lnTo>
                <a:lnTo>
                  <a:pt x="342" y="172"/>
                </a:lnTo>
                <a:lnTo>
                  <a:pt x="336" y="157"/>
                </a:lnTo>
                <a:lnTo>
                  <a:pt x="331" y="144"/>
                </a:lnTo>
                <a:lnTo>
                  <a:pt x="323" y="130"/>
                </a:lnTo>
                <a:lnTo>
                  <a:pt x="317" y="119"/>
                </a:lnTo>
                <a:lnTo>
                  <a:pt x="309" y="107"/>
                </a:lnTo>
                <a:lnTo>
                  <a:pt x="306" y="96"/>
                </a:lnTo>
                <a:lnTo>
                  <a:pt x="300" y="86"/>
                </a:lnTo>
                <a:lnTo>
                  <a:pt x="296" y="76"/>
                </a:lnTo>
                <a:lnTo>
                  <a:pt x="290" y="67"/>
                </a:lnTo>
                <a:lnTo>
                  <a:pt x="288" y="59"/>
                </a:lnTo>
                <a:lnTo>
                  <a:pt x="285" y="52"/>
                </a:lnTo>
                <a:lnTo>
                  <a:pt x="281" y="44"/>
                </a:lnTo>
                <a:lnTo>
                  <a:pt x="279" y="38"/>
                </a:lnTo>
                <a:lnTo>
                  <a:pt x="277" y="32"/>
                </a:lnTo>
                <a:lnTo>
                  <a:pt x="275" y="27"/>
                </a:lnTo>
                <a:lnTo>
                  <a:pt x="275" y="23"/>
                </a:lnTo>
                <a:lnTo>
                  <a:pt x="273" y="19"/>
                </a:lnTo>
                <a:lnTo>
                  <a:pt x="273" y="15"/>
                </a:lnTo>
                <a:lnTo>
                  <a:pt x="273" y="13"/>
                </a:lnTo>
                <a:lnTo>
                  <a:pt x="273" y="9"/>
                </a:lnTo>
                <a:lnTo>
                  <a:pt x="275" y="7"/>
                </a:lnTo>
                <a:lnTo>
                  <a:pt x="279" y="5"/>
                </a:lnTo>
                <a:lnTo>
                  <a:pt x="281" y="4"/>
                </a:lnTo>
                <a:lnTo>
                  <a:pt x="285" y="4"/>
                </a:lnTo>
                <a:lnTo>
                  <a:pt x="288" y="2"/>
                </a:lnTo>
                <a:lnTo>
                  <a:pt x="294" y="2"/>
                </a:lnTo>
                <a:lnTo>
                  <a:pt x="300" y="2"/>
                </a:lnTo>
                <a:lnTo>
                  <a:pt x="306" y="0"/>
                </a:lnTo>
                <a:lnTo>
                  <a:pt x="313" y="0"/>
                </a:lnTo>
                <a:lnTo>
                  <a:pt x="321" y="0"/>
                </a:lnTo>
                <a:lnTo>
                  <a:pt x="329" y="0"/>
                </a:lnTo>
                <a:lnTo>
                  <a:pt x="338" y="0"/>
                </a:lnTo>
                <a:lnTo>
                  <a:pt x="350" y="0"/>
                </a:lnTo>
                <a:lnTo>
                  <a:pt x="361" y="0"/>
                </a:lnTo>
                <a:lnTo>
                  <a:pt x="379" y="0"/>
                </a:lnTo>
                <a:lnTo>
                  <a:pt x="396" y="2"/>
                </a:lnTo>
                <a:lnTo>
                  <a:pt x="411" y="5"/>
                </a:lnTo>
                <a:lnTo>
                  <a:pt x="427" y="9"/>
                </a:lnTo>
                <a:lnTo>
                  <a:pt x="440" y="15"/>
                </a:lnTo>
                <a:lnTo>
                  <a:pt x="452" y="21"/>
                </a:lnTo>
                <a:lnTo>
                  <a:pt x="463" y="29"/>
                </a:lnTo>
                <a:lnTo>
                  <a:pt x="473" y="38"/>
                </a:lnTo>
                <a:lnTo>
                  <a:pt x="475" y="40"/>
                </a:lnTo>
                <a:lnTo>
                  <a:pt x="477" y="44"/>
                </a:lnTo>
                <a:lnTo>
                  <a:pt x="478" y="48"/>
                </a:lnTo>
                <a:lnTo>
                  <a:pt x="480" y="52"/>
                </a:lnTo>
                <a:lnTo>
                  <a:pt x="484" y="57"/>
                </a:lnTo>
                <a:lnTo>
                  <a:pt x="486" y="63"/>
                </a:lnTo>
                <a:lnTo>
                  <a:pt x="488" y="69"/>
                </a:lnTo>
                <a:lnTo>
                  <a:pt x="490" y="75"/>
                </a:lnTo>
                <a:lnTo>
                  <a:pt x="492" y="82"/>
                </a:lnTo>
                <a:lnTo>
                  <a:pt x="496" y="90"/>
                </a:lnTo>
                <a:lnTo>
                  <a:pt x="498" y="98"/>
                </a:lnTo>
                <a:lnTo>
                  <a:pt x="500" y="107"/>
                </a:lnTo>
                <a:lnTo>
                  <a:pt x="501" y="117"/>
                </a:lnTo>
                <a:lnTo>
                  <a:pt x="503" y="126"/>
                </a:lnTo>
                <a:lnTo>
                  <a:pt x="505" y="136"/>
                </a:lnTo>
                <a:lnTo>
                  <a:pt x="507" y="147"/>
                </a:lnTo>
                <a:lnTo>
                  <a:pt x="509" y="159"/>
                </a:lnTo>
                <a:lnTo>
                  <a:pt x="511" y="172"/>
                </a:lnTo>
                <a:lnTo>
                  <a:pt x="513" y="184"/>
                </a:lnTo>
                <a:lnTo>
                  <a:pt x="515" y="197"/>
                </a:lnTo>
                <a:lnTo>
                  <a:pt x="517" y="211"/>
                </a:lnTo>
                <a:lnTo>
                  <a:pt x="519" y="226"/>
                </a:lnTo>
                <a:lnTo>
                  <a:pt x="521" y="242"/>
                </a:lnTo>
                <a:lnTo>
                  <a:pt x="523" y="257"/>
                </a:lnTo>
                <a:lnTo>
                  <a:pt x="525" y="272"/>
                </a:lnTo>
                <a:lnTo>
                  <a:pt x="526" y="289"/>
                </a:lnTo>
                <a:lnTo>
                  <a:pt x="528" y="307"/>
                </a:lnTo>
                <a:lnTo>
                  <a:pt x="528" y="324"/>
                </a:lnTo>
                <a:lnTo>
                  <a:pt x="530" y="343"/>
                </a:lnTo>
                <a:lnTo>
                  <a:pt x="532" y="362"/>
                </a:lnTo>
                <a:lnTo>
                  <a:pt x="532" y="382"/>
                </a:lnTo>
                <a:lnTo>
                  <a:pt x="534" y="403"/>
                </a:lnTo>
                <a:lnTo>
                  <a:pt x="538" y="487"/>
                </a:lnTo>
                <a:lnTo>
                  <a:pt x="542" y="572"/>
                </a:lnTo>
                <a:lnTo>
                  <a:pt x="546" y="656"/>
                </a:lnTo>
                <a:lnTo>
                  <a:pt x="549" y="740"/>
                </a:lnTo>
                <a:lnTo>
                  <a:pt x="551" y="827"/>
                </a:lnTo>
                <a:lnTo>
                  <a:pt x="551" y="911"/>
                </a:lnTo>
                <a:lnTo>
                  <a:pt x="551" y="953"/>
                </a:lnTo>
                <a:lnTo>
                  <a:pt x="549" y="996"/>
                </a:lnTo>
                <a:lnTo>
                  <a:pt x="549" y="1038"/>
                </a:lnTo>
                <a:lnTo>
                  <a:pt x="548" y="1080"/>
                </a:lnTo>
                <a:lnTo>
                  <a:pt x="544" y="1120"/>
                </a:lnTo>
                <a:lnTo>
                  <a:pt x="540" y="1159"/>
                </a:lnTo>
                <a:lnTo>
                  <a:pt x="538" y="1195"/>
                </a:lnTo>
                <a:lnTo>
                  <a:pt x="532" y="1230"/>
                </a:lnTo>
                <a:lnTo>
                  <a:pt x="528" y="1262"/>
                </a:lnTo>
                <a:lnTo>
                  <a:pt x="523" y="1295"/>
                </a:lnTo>
                <a:lnTo>
                  <a:pt x="517" y="1324"/>
                </a:lnTo>
                <a:lnTo>
                  <a:pt x="511" y="1353"/>
                </a:lnTo>
                <a:lnTo>
                  <a:pt x="505" y="1377"/>
                </a:lnTo>
                <a:lnTo>
                  <a:pt x="500" y="1402"/>
                </a:lnTo>
                <a:lnTo>
                  <a:pt x="494" y="1424"/>
                </a:lnTo>
                <a:lnTo>
                  <a:pt x="486" y="1445"/>
                </a:lnTo>
                <a:lnTo>
                  <a:pt x="480" y="1464"/>
                </a:lnTo>
                <a:lnTo>
                  <a:pt x="473" y="1479"/>
                </a:lnTo>
                <a:lnTo>
                  <a:pt x="467" y="1495"/>
                </a:lnTo>
                <a:lnTo>
                  <a:pt x="459" y="1508"/>
                </a:lnTo>
                <a:lnTo>
                  <a:pt x="450" y="1519"/>
                </a:lnTo>
                <a:lnTo>
                  <a:pt x="442" y="1531"/>
                </a:lnTo>
                <a:lnTo>
                  <a:pt x="432" y="1541"/>
                </a:lnTo>
                <a:lnTo>
                  <a:pt x="425" y="1550"/>
                </a:lnTo>
                <a:lnTo>
                  <a:pt x="417" y="1558"/>
                </a:lnTo>
                <a:lnTo>
                  <a:pt x="409" y="1566"/>
                </a:lnTo>
                <a:lnTo>
                  <a:pt x="404" y="1571"/>
                </a:lnTo>
                <a:lnTo>
                  <a:pt x="396" y="1579"/>
                </a:lnTo>
                <a:lnTo>
                  <a:pt x="390" y="1583"/>
                </a:lnTo>
                <a:lnTo>
                  <a:pt x="384" y="1587"/>
                </a:lnTo>
                <a:lnTo>
                  <a:pt x="379" y="1590"/>
                </a:lnTo>
                <a:lnTo>
                  <a:pt x="375" y="1594"/>
                </a:lnTo>
                <a:lnTo>
                  <a:pt x="371" y="1596"/>
                </a:lnTo>
                <a:lnTo>
                  <a:pt x="367" y="1598"/>
                </a:lnTo>
                <a:lnTo>
                  <a:pt x="363" y="1598"/>
                </a:lnTo>
                <a:lnTo>
                  <a:pt x="361" y="1600"/>
                </a:lnTo>
                <a:lnTo>
                  <a:pt x="356" y="1598"/>
                </a:lnTo>
                <a:lnTo>
                  <a:pt x="352" y="1598"/>
                </a:lnTo>
                <a:lnTo>
                  <a:pt x="346" y="1596"/>
                </a:lnTo>
                <a:lnTo>
                  <a:pt x="342" y="1594"/>
                </a:lnTo>
                <a:lnTo>
                  <a:pt x="336" y="1590"/>
                </a:lnTo>
                <a:lnTo>
                  <a:pt x="333" y="1587"/>
                </a:lnTo>
                <a:lnTo>
                  <a:pt x="327" y="1583"/>
                </a:lnTo>
                <a:lnTo>
                  <a:pt x="323" y="1579"/>
                </a:lnTo>
                <a:lnTo>
                  <a:pt x="319" y="1571"/>
                </a:lnTo>
                <a:lnTo>
                  <a:pt x="313" y="1566"/>
                </a:lnTo>
                <a:lnTo>
                  <a:pt x="309" y="1558"/>
                </a:lnTo>
                <a:lnTo>
                  <a:pt x="304" y="1550"/>
                </a:lnTo>
                <a:lnTo>
                  <a:pt x="300" y="1541"/>
                </a:lnTo>
                <a:lnTo>
                  <a:pt x="294" y="1531"/>
                </a:lnTo>
                <a:lnTo>
                  <a:pt x="290" y="1519"/>
                </a:lnTo>
                <a:lnTo>
                  <a:pt x="286" y="1508"/>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Freeform 36"/>
          <p:cNvSpPr/>
          <p:nvPr/>
        </p:nvSpPr>
        <p:spPr>
          <a:xfrm>
            <a:off x="6151680" y="3936960"/>
            <a:ext cx="1684080" cy="330120"/>
          </a:xfrm>
          <a:custGeom>
            <a:avLst/>
            <a:gdLst/>
            <a:ahLst/>
            <a:rect l="l" t="t" r="r" b="b"/>
            <a:pathLst>
              <a:path w="2121" h="416">
                <a:moveTo>
                  <a:pt x="1463" y="78"/>
                </a:moveTo>
                <a:lnTo>
                  <a:pt x="1482" y="73"/>
                </a:lnTo>
                <a:lnTo>
                  <a:pt x="1501" y="69"/>
                </a:lnTo>
                <a:lnTo>
                  <a:pt x="1520" y="63"/>
                </a:lnTo>
                <a:lnTo>
                  <a:pt x="1538" y="59"/>
                </a:lnTo>
                <a:lnTo>
                  <a:pt x="1555" y="55"/>
                </a:lnTo>
                <a:lnTo>
                  <a:pt x="1572" y="52"/>
                </a:lnTo>
                <a:lnTo>
                  <a:pt x="1588" y="48"/>
                </a:lnTo>
                <a:lnTo>
                  <a:pt x="1605" y="44"/>
                </a:lnTo>
                <a:lnTo>
                  <a:pt x="1620" y="40"/>
                </a:lnTo>
                <a:lnTo>
                  <a:pt x="1635" y="36"/>
                </a:lnTo>
                <a:lnTo>
                  <a:pt x="1649" y="32"/>
                </a:lnTo>
                <a:lnTo>
                  <a:pt x="1662" y="30"/>
                </a:lnTo>
                <a:lnTo>
                  <a:pt x="1676" y="27"/>
                </a:lnTo>
                <a:lnTo>
                  <a:pt x="1689" y="25"/>
                </a:lnTo>
                <a:lnTo>
                  <a:pt x="1703" y="21"/>
                </a:lnTo>
                <a:lnTo>
                  <a:pt x="1714" y="19"/>
                </a:lnTo>
                <a:lnTo>
                  <a:pt x="1726" y="17"/>
                </a:lnTo>
                <a:lnTo>
                  <a:pt x="1735" y="15"/>
                </a:lnTo>
                <a:lnTo>
                  <a:pt x="1747" y="13"/>
                </a:lnTo>
                <a:lnTo>
                  <a:pt x="1756" y="11"/>
                </a:lnTo>
                <a:lnTo>
                  <a:pt x="1766" y="9"/>
                </a:lnTo>
                <a:lnTo>
                  <a:pt x="1774" y="7"/>
                </a:lnTo>
                <a:lnTo>
                  <a:pt x="1783" y="6"/>
                </a:lnTo>
                <a:lnTo>
                  <a:pt x="1791" y="4"/>
                </a:lnTo>
                <a:lnTo>
                  <a:pt x="1799" y="4"/>
                </a:lnTo>
                <a:lnTo>
                  <a:pt x="1804" y="2"/>
                </a:lnTo>
                <a:lnTo>
                  <a:pt x="1812" y="2"/>
                </a:lnTo>
                <a:lnTo>
                  <a:pt x="1818" y="2"/>
                </a:lnTo>
                <a:lnTo>
                  <a:pt x="1822" y="0"/>
                </a:lnTo>
                <a:lnTo>
                  <a:pt x="1827" y="0"/>
                </a:lnTo>
                <a:lnTo>
                  <a:pt x="1831" y="0"/>
                </a:lnTo>
                <a:lnTo>
                  <a:pt x="1835" y="0"/>
                </a:lnTo>
                <a:lnTo>
                  <a:pt x="1849" y="0"/>
                </a:lnTo>
                <a:lnTo>
                  <a:pt x="1866" y="2"/>
                </a:lnTo>
                <a:lnTo>
                  <a:pt x="1874" y="4"/>
                </a:lnTo>
                <a:lnTo>
                  <a:pt x="1883" y="6"/>
                </a:lnTo>
                <a:lnTo>
                  <a:pt x="1893" y="7"/>
                </a:lnTo>
                <a:lnTo>
                  <a:pt x="1902" y="11"/>
                </a:lnTo>
                <a:lnTo>
                  <a:pt x="1914" y="15"/>
                </a:lnTo>
                <a:lnTo>
                  <a:pt x="1925" y="17"/>
                </a:lnTo>
                <a:lnTo>
                  <a:pt x="1937" y="23"/>
                </a:lnTo>
                <a:lnTo>
                  <a:pt x="1950" y="27"/>
                </a:lnTo>
                <a:lnTo>
                  <a:pt x="1964" y="32"/>
                </a:lnTo>
                <a:lnTo>
                  <a:pt x="1977" y="38"/>
                </a:lnTo>
                <a:lnTo>
                  <a:pt x="1993" y="44"/>
                </a:lnTo>
                <a:lnTo>
                  <a:pt x="2008" y="52"/>
                </a:lnTo>
                <a:lnTo>
                  <a:pt x="2021" y="59"/>
                </a:lnTo>
                <a:lnTo>
                  <a:pt x="2035" y="67"/>
                </a:lnTo>
                <a:lnTo>
                  <a:pt x="2046" y="73"/>
                </a:lnTo>
                <a:lnTo>
                  <a:pt x="2058" y="80"/>
                </a:lnTo>
                <a:lnTo>
                  <a:pt x="2067" y="86"/>
                </a:lnTo>
                <a:lnTo>
                  <a:pt x="2077" y="92"/>
                </a:lnTo>
                <a:lnTo>
                  <a:pt x="2085" y="98"/>
                </a:lnTo>
                <a:lnTo>
                  <a:pt x="2092" y="103"/>
                </a:lnTo>
                <a:lnTo>
                  <a:pt x="2098" y="111"/>
                </a:lnTo>
                <a:lnTo>
                  <a:pt x="2104" y="117"/>
                </a:lnTo>
                <a:lnTo>
                  <a:pt x="2110" y="123"/>
                </a:lnTo>
                <a:lnTo>
                  <a:pt x="2114" y="128"/>
                </a:lnTo>
                <a:lnTo>
                  <a:pt x="2115" y="136"/>
                </a:lnTo>
                <a:lnTo>
                  <a:pt x="2119" y="142"/>
                </a:lnTo>
                <a:lnTo>
                  <a:pt x="2119" y="149"/>
                </a:lnTo>
                <a:lnTo>
                  <a:pt x="2121" y="157"/>
                </a:lnTo>
                <a:lnTo>
                  <a:pt x="2119" y="159"/>
                </a:lnTo>
                <a:lnTo>
                  <a:pt x="2119" y="163"/>
                </a:lnTo>
                <a:lnTo>
                  <a:pt x="2117" y="167"/>
                </a:lnTo>
                <a:lnTo>
                  <a:pt x="2115" y="169"/>
                </a:lnTo>
                <a:lnTo>
                  <a:pt x="2114" y="172"/>
                </a:lnTo>
                <a:lnTo>
                  <a:pt x="2110" y="174"/>
                </a:lnTo>
                <a:lnTo>
                  <a:pt x="2106" y="178"/>
                </a:lnTo>
                <a:lnTo>
                  <a:pt x="2102" y="180"/>
                </a:lnTo>
                <a:lnTo>
                  <a:pt x="2096" y="182"/>
                </a:lnTo>
                <a:lnTo>
                  <a:pt x="2092" y="186"/>
                </a:lnTo>
                <a:lnTo>
                  <a:pt x="2085" y="188"/>
                </a:lnTo>
                <a:lnTo>
                  <a:pt x="2079" y="190"/>
                </a:lnTo>
                <a:lnTo>
                  <a:pt x="2071" y="192"/>
                </a:lnTo>
                <a:lnTo>
                  <a:pt x="2064" y="194"/>
                </a:lnTo>
                <a:lnTo>
                  <a:pt x="2056" y="196"/>
                </a:lnTo>
                <a:lnTo>
                  <a:pt x="2046" y="197"/>
                </a:lnTo>
                <a:lnTo>
                  <a:pt x="2039" y="197"/>
                </a:lnTo>
                <a:lnTo>
                  <a:pt x="2027" y="199"/>
                </a:lnTo>
                <a:lnTo>
                  <a:pt x="2018" y="201"/>
                </a:lnTo>
                <a:lnTo>
                  <a:pt x="2006" y="201"/>
                </a:lnTo>
                <a:lnTo>
                  <a:pt x="1995" y="203"/>
                </a:lnTo>
                <a:lnTo>
                  <a:pt x="1983" y="203"/>
                </a:lnTo>
                <a:lnTo>
                  <a:pt x="1971" y="205"/>
                </a:lnTo>
                <a:lnTo>
                  <a:pt x="1958" y="205"/>
                </a:lnTo>
                <a:lnTo>
                  <a:pt x="1945" y="205"/>
                </a:lnTo>
                <a:lnTo>
                  <a:pt x="1931" y="207"/>
                </a:lnTo>
                <a:lnTo>
                  <a:pt x="1916" y="207"/>
                </a:lnTo>
                <a:lnTo>
                  <a:pt x="1900" y="207"/>
                </a:lnTo>
                <a:lnTo>
                  <a:pt x="1885" y="207"/>
                </a:lnTo>
                <a:lnTo>
                  <a:pt x="1870" y="207"/>
                </a:lnTo>
                <a:lnTo>
                  <a:pt x="1852" y="207"/>
                </a:lnTo>
                <a:lnTo>
                  <a:pt x="1835" y="209"/>
                </a:lnTo>
                <a:lnTo>
                  <a:pt x="1801" y="209"/>
                </a:lnTo>
                <a:lnTo>
                  <a:pt x="1764" y="209"/>
                </a:lnTo>
                <a:lnTo>
                  <a:pt x="1728" y="209"/>
                </a:lnTo>
                <a:lnTo>
                  <a:pt x="1691" y="211"/>
                </a:lnTo>
                <a:lnTo>
                  <a:pt x="1616" y="215"/>
                </a:lnTo>
                <a:lnTo>
                  <a:pt x="1540" y="219"/>
                </a:lnTo>
                <a:lnTo>
                  <a:pt x="1501" y="222"/>
                </a:lnTo>
                <a:lnTo>
                  <a:pt x="1463" y="226"/>
                </a:lnTo>
                <a:lnTo>
                  <a:pt x="1424" y="230"/>
                </a:lnTo>
                <a:lnTo>
                  <a:pt x="1384" y="234"/>
                </a:lnTo>
                <a:lnTo>
                  <a:pt x="1346" y="240"/>
                </a:lnTo>
                <a:lnTo>
                  <a:pt x="1305" y="245"/>
                </a:lnTo>
                <a:lnTo>
                  <a:pt x="1267" y="253"/>
                </a:lnTo>
                <a:lnTo>
                  <a:pt x="1227" y="261"/>
                </a:lnTo>
                <a:lnTo>
                  <a:pt x="1184" y="267"/>
                </a:lnTo>
                <a:lnTo>
                  <a:pt x="1144" y="274"/>
                </a:lnTo>
                <a:lnTo>
                  <a:pt x="1104" y="280"/>
                </a:lnTo>
                <a:lnTo>
                  <a:pt x="1063" y="288"/>
                </a:lnTo>
                <a:lnTo>
                  <a:pt x="1025" y="293"/>
                </a:lnTo>
                <a:lnTo>
                  <a:pt x="987" y="299"/>
                </a:lnTo>
                <a:lnTo>
                  <a:pt x="948" y="305"/>
                </a:lnTo>
                <a:lnTo>
                  <a:pt x="910" y="313"/>
                </a:lnTo>
                <a:lnTo>
                  <a:pt x="873" y="318"/>
                </a:lnTo>
                <a:lnTo>
                  <a:pt x="837" y="324"/>
                </a:lnTo>
                <a:lnTo>
                  <a:pt x="802" y="330"/>
                </a:lnTo>
                <a:lnTo>
                  <a:pt x="766" y="336"/>
                </a:lnTo>
                <a:lnTo>
                  <a:pt x="731" y="343"/>
                </a:lnTo>
                <a:lnTo>
                  <a:pt x="699" y="349"/>
                </a:lnTo>
                <a:lnTo>
                  <a:pt x="664" y="357"/>
                </a:lnTo>
                <a:lnTo>
                  <a:pt x="631" y="364"/>
                </a:lnTo>
                <a:lnTo>
                  <a:pt x="597" y="370"/>
                </a:lnTo>
                <a:lnTo>
                  <a:pt x="564" y="378"/>
                </a:lnTo>
                <a:lnTo>
                  <a:pt x="535" y="384"/>
                </a:lnTo>
                <a:lnTo>
                  <a:pt x="505" y="389"/>
                </a:lnTo>
                <a:lnTo>
                  <a:pt x="478" y="393"/>
                </a:lnTo>
                <a:lnTo>
                  <a:pt x="453" y="397"/>
                </a:lnTo>
                <a:lnTo>
                  <a:pt x="430" y="401"/>
                </a:lnTo>
                <a:lnTo>
                  <a:pt x="407" y="405"/>
                </a:lnTo>
                <a:lnTo>
                  <a:pt x="386" y="408"/>
                </a:lnTo>
                <a:lnTo>
                  <a:pt x="366" y="410"/>
                </a:lnTo>
                <a:lnTo>
                  <a:pt x="349" y="412"/>
                </a:lnTo>
                <a:lnTo>
                  <a:pt x="334" y="414"/>
                </a:lnTo>
                <a:lnTo>
                  <a:pt x="318" y="414"/>
                </a:lnTo>
                <a:lnTo>
                  <a:pt x="305" y="416"/>
                </a:lnTo>
                <a:lnTo>
                  <a:pt x="293" y="416"/>
                </a:lnTo>
                <a:lnTo>
                  <a:pt x="284" y="416"/>
                </a:lnTo>
                <a:lnTo>
                  <a:pt x="261" y="416"/>
                </a:lnTo>
                <a:lnTo>
                  <a:pt x="238" y="414"/>
                </a:lnTo>
                <a:lnTo>
                  <a:pt x="215" y="410"/>
                </a:lnTo>
                <a:lnTo>
                  <a:pt x="192" y="405"/>
                </a:lnTo>
                <a:lnTo>
                  <a:pt x="178" y="401"/>
                </a:lnTo>
                <a:lnTo>
                  <a:pt x="167" y="397"/>
                </a:lnTo>
                <a:lnTo>
                  <a:pt x="155" y="393"/>
                </a:lnTo>
                <a:lnTo>
                  <a:pt x="144" y="389"/>
                </a:lnTo>
                <a:lnTo>
                  <a:pt x="132" y="384"/>
                </a:lnTo>
                <a:lnTo>
                  <a:pt x="121" y="378"/>
                </a:lnTo>
                <a:lnTo>
                  <a:pt x="109" y="370"/>
                </a:lnTo>
                <a:lnTo>
                  <a:pt x="98" y="364"/>
                </a:lnTo>
                <a:lnTo>
                  <a:pt x="86" y="357"/>
                </a:lnTo>
                <a:lnTo>
                  <a:pt x="77" y="349"/>
                </a:lnTo>
                <a:lnTo>
                  <a:pt x="65" y="343"/>
                </a:lnTo>
                <a:lnTo>
                  <a:pt x="55" y="338"/>
                </a:lnTo>
                <a:lnTo>
                  <a:pt x="48" y="330"/>
                </a:lnTo>
                <a:lnTo>
                  <a:pt x="40" y="326"/>
                </a:lnTo>
                <a:lnTo>
                  <a:pt x="32" y="320"/>
                </a:lnTo>
                <a:lnTo>
                  <a:pt x="25" y="314"/>
                </a:lnTo>
                <a:lnTo>
                  <a:pt x="19" y="311"/>
                </a:lnTo>
                <a:lnTo>
                  <a:pt x="13" y="307"/>
                </a:lnTo>
                <a:lnTo>
                  <a:pt x="9" y="301"/>
                </a:lnTo>
                <a:lnTo>
                  <a:pt x="5" y="297"/>
                </a:lnTo>
                <a:lnTo>
                  <a:pt x="4" y="295"/>
                </a:lnTo>
                <a:lnTo>
                  <a:pt x="0" y="291"/>
                </a:lnTo>
                <a:lnTo>
                  <a:pt x="0" y="288"/>
                </a:lnTo>
                <a:lnTo>
                  <a:pt x="0" y="286"/>
                </a:lnTo>
                <a:lnTo>
                  <a:pt x="0" y="284"/>
                </a:lnTo>
                <a:lnTo>
                  <a:pt x="0" y="282"/>
                </a:lnTo>
                <a:lnTo>
                  <a:pt x="2" y="280"/>
                </a:lnTo>
                <a:lnTo>
                  <a:pt x="4" y="278"/>
                </a:lnTo>
                <a:lnTo>
                  <a:pt x="7" y="276"/>
                </a:lnTo>
                <a:lnTo>
                  <a:pt x="9" y="276"/>
                </a:lnTo>
                <a:lnTo>
                  <a:pt x="13" y="274"/>
                </a:lnTo>
                <a:lnTo>
                  <a:pt x="19" y="274"/>
                </a:lnTo>
                <a:lnTo>
                  <a:pt x="25" y="274"/>
                </a:lnTo>
                <a:lnTo>
                  <a:pt x="30" y="272"/>
                </a:lnTo>
                <a:lnTo>
                  <a:pt x="38" y="272"/>
                </a:lnTo>
                <a:lnTo>
                  <a:pt x="46" y="272"/>
                </a:lnTo>
                <a:lnTo>
                  <a:pt x="53" y="272"/>
                </a:lnTo>
                <a:lnTo>
                  <a:pt x="63" y="272"/>
                </a:lnTo>
                <a:lnTo>
                  <a:pt x="75" y="272"/>
                </a:lnTo>
                <a:lnTo>
                  <a:pt x="86" y="272"/>
                </a:lnTo>
                <a:lnTo>
                  <a:pt x="90" y="272"/>
                </a:lnTo>
                <a:lnTo>
                  <a:pt x="96" y="272"/>
                </a:lnTo>
                <a:lnTo>
                  <a:pt x="103" y="272"/>
                </a:lnTo>
                <a:lnTo>
                  <a:pt x="111" y="270"/>
                </a:lnTo>
                <a:lnTo>
                  <a:pt x="119" y="270"/>
                </a:lnTo>
                <a:lnTo>
                  <a:pt x="128" y="270"/>
                </a:lnTo>
                <a:lnTo>
                  <a:pt x="138" y="268"/>
                </a:lnTo>
                <a:lnTo>
                  <a:pt x="148" y="268"/>
                </a:lnTo>
                <a:lnTo>
                  <a:pt x="159" y="267"/>
                </a:lnTo>
                <a:lnTo>
                  <a:pt x="173" y="265"/>
                </a:lnTo>
                <a:lnTo>
                  <a:pt x="186" y="265"/>
                </a:lnTo>
                <a:lnTo>
                  <a:pt x="199" y="263"/>
                </a:lnTo>
                <a:lnTo>
                  <a:pt x="215" y="261"/>
                </a:lnTo>
                <a:lnTo>
                  <a:pt x="230" y="259"/>
                </a:lnTo>
                <a:lnTo>
                  <a:pt x="247" y="257"/>
                </a:lnTo>
                <a:lnTo>
                  <a:pt x="265" y="255"/>
                </a:lnTo>
                <a:lnTo>
                  <a:pt x="282" y="253"/>
                </a:lnTo>
                <a:lnTo>
                  <a:pt x="301" y="251"/>
                </a:lnTo>
                <a:lnTo>
                  <a:pt x="320" y="247"/>
                </a:lnTo>
                <a:lnTo>
                  <a:pt x="341" y="245"/>
                </a:lnTo>
                <a:lnTo>
                  <a:pt x="363" y="243"/>
                </a:lnTo>
                <a:lnTo>
                  <a:pt x="386" y="240"/>
                </a:lnTo>
                <a:lnTo>
                  <a:pt x="409" y="238"/>
                </a:lnTo>
                <a:lnTo>
                  <a:pt x="434" y="234"/>
                </a:lnTo>
                <a:lnTo>
                  <a:pt x="459" y="232"/>
                </a:lnTo>
                <a:lnTo>
                  <a:pt x="484" y="228"/>
                </a:lnTo>
                <a:lnTo>
                  <a:pt x="510" y="226"/>
                </a:lnTo>
                <a:lnTo>
                  <a:pt x="537" y="222"/>
                </a:lnTo>
                <a:lnTo>
                  <a:pt x="566" y="219"/>
                </a:lnTo>
                <a:lnTo>
                  <a:pt x="595" y="215"/>
                </a:lnTo>
                <a:lnTo>
                  <a:pt x="626" y="211"/>
                </a:lnTo>
                <a:lnTo>
                  <a:pt x="656" y="209"/>
                </a:lnTo>
                <a:lnTo>
                  <a:pt x="716" y="201"/>
                </a:lnTo>
                <a:lnTo>
                  <a:pt x="775" y="192"/>
                </a:lnTo>
                <a:lnTo>
                  <a:pt x="833" y="184"/>
                </a:lnTo>
                <a:lnTo>
                  <a:pt x="889" y="176"/>
                </a:lnTo>
                <a:lnTo>
                  <a:pt x="944" y="169"/>
                </a:lnTo>
                <a:lnTo>
                  <a:pt x="998" y="159"/>
                </a:lnTo>
                <a:lnTo>
                  <a:pt x="1050" y="151"/>
                </a:lnTo>
                <a:lnTo>
                  <a:pt x="1102" y="144"/>
                </a:lnTo>
                <a:lnTo>
                  <a:pt x="1152" y="134"/>
                </a:lnTo>
                <a:lnTo>
                  <a:pt x="1200" y="126"/>
                </a:lnTo>
                <a:lnTo>
                  <a:pt x="1248" y="117"/>
                </a:lnTo>
                <a:lnTo>
                  <a:pt x="1294" y="109"/>
                </a:lnTo>
                <a:lnTo>
                  <a:pt x="1338" y="101"/>
                </a:lnTo>
                <a:lnTo>
                  <a:pt x="1380" y="94"/>
                </a:lnTo>
                <a:lnTo>
                  <a:pt x="1422" y="86"/>
                </a:lnTo>
                <a:lnTo>
                  <a:pt x="1463" y="78"/>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Freeform 37"/>
          <p:cNvSpPr/>
          <p:nvPr/>
        </p:nvSpPr>
        <p:spPr>
          <a:xfrm>
            <a:off x="6545160" y="2698920"/>
            <a:ext cx="708120" cy="336240"/>
          </a:xfrm>
          <a:custGeom>
            <a:avLst/>
            <a:gdLst/>
            <a:ahLst/>
            <a:rect l="l" t="t" r="r" b="b"/>
            <a:pathLst>
              <a:path w="893" h="424">
                <a:moveTo>
                  <a:pt x="645" y="52"/>
                </a:moveTo>
                <a:lnTo>
                  <a:pt x="643" y="44"/>
                </a:lnTo>
                <a:lnTo>
                  <a:pt x="641" y="38"/>
                </a:lnTo>
                <a:lnTo>
                  <a:pt x="641" y="32"/>
                </a:lnTo>
                <a:lnTo>
                  <a:pt x="639" y="27"/>
                </a:lnTo>
                <a:lnTo>
                  <a:pt x="641" y="21"/>
                </a:lnTo>
                <a:lnTo>
                  <a:pt x="641" y="17"/>
                </a:lnTo>
                <a:lnTo>
                  <a:pt x="641" y="13"/>
                </a:lnTo>
                <a:lnTo>
                  <a:pt x="643" y="11"/>
                </a:lnTo>
                <a:lnTo>
                  <a:pt x="647" y="6"/>
                </a:lnTo>
                <a:lnTo>
                  <a:pt x="655" y="2"/>
                </a:lnTo>
                <a:lnTo>
                  <a:pt x="661" y="0"/>
                </a:lnTo>
                <a:lnTo>
                  <a:pt x="670" y="0"/>
                </a:lnTo>
                <a:lnTo>
                  <a:pt x="676" y="0"/>
                </a:lnTo>
                <a:lnTo>
                  <a:pt x="680" y="0"/>
                </a:lnTo>
                <a:lnTo>
                  <a:pt x="685" y="2"/>
                </a:lnTo>
                <a:lnTo>
                  <a:pt x="693" y="4"/>
                </a:lnTo>
                <a:lnTo>
                  <a:pt x="701" y="6"/>
                </a:lnTo>
                <a:lnTo>
                  <a:pt x="709" y="9"/>
                </a:lnTo>
                <a:lnTo>
                  <a:pt x="716" y="13"/>
                </a:lnTo>
                <a:lnTo>
                  <a:pt x="724" y="17"/>
                </a:lnTo>
                <a:lnTo>
                  <a:pt x="743" y="27"/>
                </a:lnTo>
                <a:lnTo>
                  <a:pt x="762" y="38"/>
                </a:lnTo>
                <a:lnTo>
                  <a:pt x="783" y="50"/>
                </a:lnTo>
                <a:lnTo>
                  <a:pt x="806" y="65"/>
                </a:lnTo>
                <a:lnTo>
                  <a:pt x="818" y="75"/>
                </a:lnTo>
                <a:lnTo>
                  <a:pt x="828" y="82"/>
                </a:lnTo>
                <a:lnTo>
                  <a:pt x="837" y="92"/>
                </a:lnTo>
                <a:lnTo>
                  <a:pt x="847" y="101"/>
                </a:lnTo>
                <a:lnTo>
                  <a:pt x="854" y="109"/>
                </a:lnTo>
                <a:lnTo>
                  <a:pt x="860" y="117"/>
                </a:lnTo>
                <a:lnTo>
                  <a:pt x="868" y="124"/>
                </a:lnTo>
                <a:lnTo>
                  <a:pt x="874" y="132"/>
                </a:lnTo>
                <a:lnTo>
                  <a:pt x="877" y="140"/>
                </a:lnTo>
                <a:lnTo>
                  <a:pt x="881" y="148"/>
                </a:lnTo>
                <a:lnTo>
                  <a:pt x="885" y="153"/>
                </a:lnTo>
                <a:lnTo>
                  <a:pt x="887" y="159"/>
                </a:lnTo>
                <a:lnTo>
                  <a:pt x="891" y="165"/>
                </a:lnTo>
                <a:lnTo>
                  <a:pt x="891" y="171"/>
                </a:lnTo>
                <a:lnTo>
                  <a:pt x="893" y="176"/>
                </a:lnTo>
                <a:lnTo>
                  <a:pt x="893" y="182"/>
                </a:lnTo>
                <a:lnTo>
                  <a:pt x="893" y="188"/>
                </a:lnTo>
                <a:lnTo>
                  <a:pt x="891" y="195"/>
                </a:lnTo>
                <a:lnTo>
                  <a:pt x="891" y="201"/>
                </a:lnTo>
                <a:lnTo>
                  <a:pt x="889" y="209"/>
                </a:lnTo>
                <a:lnTo>
                  <a:pt x="885" y="215"/>
                </a:lnTo>
                <a:lnTo>
                  <a:pt x="881" y="220"/>
                </a:lnTo>
                <a:lnTo>
                  <a:pt x="877" y="224"/>
                </a:lnTo>
                <a:lnTo>
                  <a:pt x="874" y="230"/>
                </a:lnTo>
                <a:lnTo>
                  <a:pt x="868" y="234"/>
                </a:lnTo>
                <a:lnTo>
                  <a:pt x="862" y="240"/>
                </a:lnTo>
                <a:lnTo>
                  <a:pt x="854" y="243"/>
                </a:lnTo>
                <a:lnTo>
                  <a:pt x="847" y="247"/>
                </a:lnTo>
                <a:lnTo>
                  <a:pt x="837" y="251"/>
                </a:lnTo>
                <a:lnTo>
                  <a:pt x="828" y="253"/>
                </a:lnTo>
                <a:lnTo>
                  <a:pt x="818" y="257"/>
                </a:lnTo>
                <a:lnTo>
                  <a:pt x="806" y="259"/>
                </a:lnTo>
                <a:lnTo>
                  <a:pt x="795" y="265"/>
                </a:lnTo>
                <a:lnTo>
                  <a:pt x="781" y="268"/>
                </a:lnTo>
                <a:lnTo>
                  <a:pt x="766" y="274"/>
                </a:lnTo>
                <a:lnTo>
                  <a:pt x="751" y="278"/>
                </a:lnTo>
                <a:lnTo>
                  <a:pt x="733" y="284"/>
                </a:lnTo>
                <a:lnTo>
                  <a:pt x="716" y="290"/>
                </a:lnTo>
                <a:lnTo>
                  <a:pt x="699" y="295"/>
                </a:lnTo>
                <a:lnTo>
                  <a:pt x="680" y="299"/>
                </a:lnTo>
                <a:lnTo>
                  <a:pt x="659" y="305"/>
                </a:lnTo>
                <a:lnTo>
                  <a:pt x="637" y="311"/>
                </a:lnTo>
                <a:lnTo>
                  <a:pt x="616" y="316"/>
                </a:lnTo>
                <a:lnTo>
                  <a:pt x="593" y="322"/>
                </a:lnTo>
                <a:lnTo>
                  <a:pt x="570" y="330"/>
                </a:lnTo>
                <a:lnTo>
                  <a:pt x="547" y="336"/>
                </a:lnTo>
                <a:lnTo>
                  <a:pt x="522" y="343"/>
                </a:lnTo>
                <a:lnTo>
                  <a:pt x="497" y="351"/>
                </a:lnTo>
                <a:lnTo>
                  <a:pt x="469" y="357"/>
                </a:lnTo>
                <a:lnTo>
                  <a:pt x="442" y="364"/>
                </a:lnTo>
                <a:lnTo>
                  <a:pt x="415" y="370"/>
                </a:lnTo>
                <a:lnTo>
                  <a:pt x="390" y="376"/>
                </a:lnTo>
                <a:lnTo>
                  <a:pt x="365" y="380"/>
                </a:lnTo>
                <a:lnTo>
                  <a:pt x="340" y="385"/>
                </a:lnTo>
                <a:lnTo>
                  <a:pt x="317" y="389"/>
                </a:lnTo>
                <a:lnTo>
                  <a:pt x="294" y="393"/>
                </a:lnTo>
                <a:lnTo>
                  <a:pt x="271" y="397"/>
                </a:lnTo>
                <a:lnTo>
                  <a:pt x="250" y="399"/>
                </a:lnTo>
                <a:lnTo>
                  <a:pt x="229" y="403"/>
                </a:lnTo>
                <a:lnTo>
                  <a:pt x="207" y="405"/>
                </a:lnTo>
                <a:lnTo>
                  <a:pt x="188" y="408"/>
                </a:lnTo>
                <a:lnTo>
                  <a:pt x="171" y="410"/>
                </a:lnTo>
                <a:lnTo>
                  <a:pt x="154" y="412"/>
                </a:lnTo>
                <a:lnTo>
                  <a:pt x="136" y="416"/>
                </a:lnTo>
                <a:lnTo>
                  <a:pt x="121" y="418"/>
                </a:lnTo>
                <a:lnTo>
                  <a:pt x="106" y="420"/>
                </a:lnTo>
                <a:lnTo>
                  <a:pt x="92" y="422"/>
                </a:lnTo>
                <a:lnTo>
                  <a:pt x="79" y="422"/>
                </a:lnTo>
                <a:lnTo>
                  <a:pt x="65" y="424"/>
                </a:lnTo>
                <a:lnTo>
                  <a:pt x="56" y="424"/>
                </a:lnTo>
                <a:lnTo>
                  <a:pt x="44" y="424"/>
                </a:lnTo>
                <a:lnTo>
                  <a:pt x="35" y="424"/>
                </a:lnTo>
                <a:lnTo>
                  <a:pt x="27" y="422"/>
                </a:lnTo>
                <a:lnTo>
                  <a:pt x="19" y="422"/>
                </a:lnTo>
                <a:lnTo>
                  <a:pt x="14" y="420"/>
                </a:lnTo>
                <a:lnTo>
                  <a:pt x="10" y="418"/>
                </a:lnTo>
                <a:lnTo>
                  <a:pt x="6" y="414"/>
                </a:lnTo>
                <a:lnTo>
                  <a:pt x="2" y="410"/>
                </a:lnTo>
                <a:lnTo>
                  <a:pt x="0" y="407"/>
                </a:lnTo>
                <a:lnTo>
                  <a:pt x="0" y="403"/>
                </a:lnTo>
                <a:lnTo>
                  <a:pt x="0" y="399"/>
                </a:lnTo>
                <a:lnTo>
                  <a:pt x="4" y="395"/>
                </a:lnTo>
                <a:lnTo>
                  <a:pt x="8" y="391"/>
                </a:lnTo>
                <a:lnTo>
                  <a:pt x="14" y="387"/>
                </a:lnTo>
                <a:lnTo>
                  <a:pt x="21" y="384"/>
                </a:lnTo>
                <a:lnTo>
                  <a:pt x="31" y="378"/>
                </a:lnTo>
                <a:lnTo>
                  <a:pt x="42" y="372"/>
                </a:lnTo>
                <a:lnTo>
                  <a:pt x="56" y="364"/>
                </a:lnTo>
                <a:lnTo>
                  <a:pt x="71" y="359"/>
                </a:lnTo>
                <a:lnTo>
                  <a:pt x="88" y="351"/>
                </a:lnTo>
                <a:lnTo>
                  <a:pt x="106" y="343"/>
                </a:lnTo>
                <a:lnTo>
                  <a:pt x="127" y="336"/>
                </a:lnTo>
                <a:lnTo>
                  <a:pt x="148" y="326"/>
                </a:lnTo>
                <a:lnTo>
                  <a:pt x="171" y="316"/>
                </a:lnTo>
                <a:lnTo>
                  <a:pt x="196" y="309"/>
                </a:lnTo>
                <a:lnTo>
                  <a:pt x="225" y="299"/>
                </a:lnTo>
                <a:lnTo>
                  <a:pt x="250" y="291"/>
                </a:lnTo>
                <a:lnTo>
                  <a:pt x="273" y="284"/>
                </a:lnTo>
                <a:lnTo>
                  <a:pt x="298" y="274"/>
                </a:lnTo>
                <a:lnTo>
                  <a:pt x="321" y="266"/>
                </a:lnTo>
                <a:lnTo>
                  <a:pt x="344" y="259"/>
                </a:lnTo>
                <a:lnTo>
                  <a:pt x="365" y="251"/>
                </a:lnTo>
                <a:lnTo>
                  <a:pt x="388" y="242"/>
                </a:lnTo>
                <a:lnTo>
                  <a:pt x="407" y="234"/>
                </a:lnTo>
                <a:lnTo>
                  <a:pt x="428" y="224"/>
                </a:lnTo>
                <a:lnTo>
                  <a:pt x="447" y="217"/>
                </a:lnTo>
                <a:lnTo>
                  <a:pt x="465" y="209"/>
                </a:lnTo>
                <a:lnTo>
                  <a:pt x="484" y="199"/>
                </a:lnTo>
                <a:lnTo>
                  <a:pt x="501" y="192"/>
                </a:lnTo>
                <a:lnTo>
                  <a:pt x="517" y="184"/>
                </a:lnTo>
                <a:lnTo>
                  <a:pt x="532" y="176"/>
                </a:lnTo>
                <a:lnTo>
                  <a:pt x="547" y="169"/>
                </a:lnTo>
                <a:lnTo>
                  <a:pt x="561" y="161"/>
                </a:lnTo>
                <a:lnTo>
                  <a:pt x="572" y="153"/>
                </a:lnTo>
                <a:lnTo>
                  <a:pt x="584" y="146"/>
                </a:lnTo>
                <a:lnTo>
                  <a:pt x="595" y="138"/>
                </a:lnTo>
                <a:lnTo>
                  <a:pt x="605" y="132"/>
                </a:lnTo>
                <a:lnTo>
                  <a:pt x="613" y="124"/>
                </a:lnTo>
                <a:lnTo>
                  <a:pt x="622" y="117"/>
                </a:lnTo>
                <a:lnTo>
                  <a:pt x="628" y="109"/>
                </a:lnTo>
                <a:lnTo>
                  <a:pt x="634" y="101"/>
                </a:lnTo>
                <a:lnTo>
                  <a:pt x="639" y="94"/>
                </a:lnTo>
                <a:lnTo>
                  <a:pt x="643" y="88"/>
                </a:lnTo>
                <a:lnTo>
                  <a:pt x="645" y="80"/>
                </a:lnTo>
                <a:lnTo>
                  <a:pt x="647" y="73"/>
                </a:lnTo>
                <a:lnTo>
                  <a:pt x="647" y="65"/>
                </a:lnTo>
                <a:lnTo>
                  <a:pt x="647" y="57"/>
                </a:lnTo>
                <a:lnTo>
                  <a:pt x="645" y="52"/>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58"/>
                                        </p:tgtEl>
                                        <p:attrNameLst>
                                          <p:attrName>style.visibility</p:attrName>
                                        </p:attrNameLst>
                                      </p:cBhvr>
                                      <p:to>
                                        <p:strVal val="visible"/>
                                      </p:to>
                                    </p:set>
                                    <p:anim calcmode="lin" valueType="num">
                                      <p:cBhvr additive="base">
                                        <p:cTn id="274" dur="500" fill="hold"/>
                                        <p:tgtEl>
                                          <p:spTgt spid="158"/>
                                        </p:tgtEl>
                                        <p:attrNameLst>
                                          <p:attrName>ppt_x</p:attrName>
                                        </p:attrNameLst>
                                      </p:cBhvr>
                                      <p:tavLst>
                                        <p:tav tm="0">
                                          <p:val>
                                            <p:strVal val="0-#ppt_w/2"/>
                                          </p:val>
                                        </p:tav>
                                        <p:tav tm="100000">
                                          <p:val>
                                            <p:strVal val="#ppt_x"/>
                                          </p:val>
                                        </p:tav>
                                      </p:tavLst>
                                    </p:anim>
                                    <p:anim calcmode="lin" valueType="num">
                                      <p:cBhvr additive="base">
                                        <p:cTn id="27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159"/>
                                        </p:tgtEl>
                                        <p:attrNameLst>
                                          <p:attrName>style.visibility</p:attrName>
                                        </p:attrNameLst>
                                      </p:cBhvr>
                                      <p:to>
                                        <p:strVal val="visible"/>
                                      </p:to>
                                    </p:set>
                                    <p:animEffect filter="wipe(up)" transition="in">
                                      <p:cBhvr additive="repl">
                                        <p:cTn id="280" dur="500"/>
                                        <p:tgtEl>
                                          <p:spTgt spid="159"/>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60"/>
                                        </p:tgtEl>
                                        <p:attrNameLst>
                                          <p:attrName>style.visibility</p:attrName>
                                        </p:attrNameLst>
                                      </p:cBhvr>
                                      <p:to>
                                        <p:strVal val="visible"/>
                                      </p:to>
                                    </p:set>
                                    <p:animEffect filter="wipe(up)" transition="in">
                                      <p:cBhvr additive="repl">
                                        <p:cTn id="285" dur="500"/>
                                        <p:tgtEl>
                                          <p:spTgt spid="160"/>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167"/>
                                        </p:tgtEl>
                                        <p:attrNameLst>
                                          <p:attrName>style.visibility</p:attrName>
                                        </p:attrNameLst>
                                      </p:cBhvr>
                                      <p:to>
                                        <p:strVal val="visible"/>
                                      </p:to>
                                    </p:set>
                                    <p:animEffect filter="wipe(up)" transition="in">
                                      <p:cBhvr additive="repl">
                                        <p:cTn id="290" dur="500"/>
                                        <p:tgtEl>
                                          <p:spTgt spid="16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161"/>
                                        </p:tgtEl>
                                        <p:attrNameLst>
                                          <p:attrName>style.visibility</p:attrName>
                                        </p:attrNameLst>
                                      </p:cBhvr>
                                      <p:to>
                                        <p:strVal val="visible"/>
                                      </p:to>
                                    </p:set>
                                    <p:animEffect filter="wipe(up)" transition="in">
                                      <p:cBhvr additive="repl">
                                        <p:cTn id="295" dur="500"/>
                                        <p:tgtEl>
                                          <p:spTgt spid="161"/>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63"/>
                                        </p:tgtEl>
                                        <p:attrNameLst>
                                          <p:attrName>style.visibility</p:attrName>
                                        </p:attrNameLst>
                                      </p:cBhvr>
                                      <p:to>
                                        <p:strVal val="visible"/>
                                      </p:to>
                                    </p:set>
                                    <p:animEffect filter="wipe(up)" transition="in">
                                      <p:cBhvr additive="repl">
                                        <p:cTn id="300" dur="500"/>
                                        <p:tgtEl>
                                          <p:spTgt spid="16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162"/>
                                        </p:tgtEl>
                                        <p:attrNameLst>
                                          <p:attrName>style.visibility</p:attrName>
                                        </p:attrNameLst>
                                      </p:cBhvr>
                                      <p:to>
                                        <p:strVal val="visible"/>
                                      </p:to>
                                    </p:set>
                                    <p:animEffect filter="wipe(up)" transition="in">
                                      <p:cBhvr additive="repl">
                                        <p:cTn id="305" dur="500"/>
                                        <p:tgtEl>
                                          <p:spTgt spid="162"/>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8" presetSubtype="6">
                                  <p:stCondLst>
                                    <p:cond delay="0"/>
                                  </p:stCondLst>
                                  <p:childTnLst>
                                    <p:set>
                                      <p:cBhvr>
                                        <p:cTn id="309" dur="1" fill="hold">
                                          <p:stCondLst>
                                            <p:cond delay="0"/>
                                          </p:stCondLst>
                                        </p:cTn>
                                        <p:tgtEl>
                                          <p:spTgt spid="164"/>
                                        </p:tgtEl>
                                        <p:attrNameLst>
                                          <p:attrName>style.visibility</p:attrName>
                                        </p:attrNameLst>
                                      </p:cBhvr>
                                      <p:to>
                                        <p:strVal val="visible"/>
                                      </p:to>
                                    </p:set>
                                    <p:animEffect filter="strips(downRight)" transition="in">
                                      <p:cBhvr additive="repl">
                                        <p:cTn id="310" dur="500"/>
                                        <p:tgtEl>
                                          <p:spTgt spid="164"/>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165"/>
                                        </p:tgtEl>
                                        <p:attrNameLst>
                                          <p:attrName>style.visibility</p:attrName>
                                        </p:attrNameLst>
                                      </p:cBhvr>
                                      <p:to>
                                        <p:strVal val="visible"/>
                                      </p:to>
                                    </p:set>
                                    <p:animEffect filter="wipe(up)" transition="in">
                                      <p:cBhvr additive="repl">
                                        <p:cTn id="315" dur="500"/>
                                        <p:tgtEl>
                                          <p:spTgt spid="165"/>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66"/>
                                        </p:tgtEl>
                                        <p:attrNameLst>
                                          <p:attrName>style.visibility</p:attrName>
                                        </p:attrNameLst>
                                      </p:cBhvr>
                                      <p:to>
                                        <p:strVal val="visible"/>
                                      </p:to>
                                    </p:set>
                                    <p:animEffect filter="wipe(left)" transition="in">
                                      <p:cBhvr additive="repl">
                                        <p:cTn id="320" dur="500"/>
                                        <p:tgtEl>
                                          <p:spTgt spid="166"/>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53" presetSubtype="16">
                                  <p:stCondLst>
                                    <p:cond delay="0"/>
                                  </p:stCondLst>
                                  <p:childTnLst>
                                    <p:set>
                                      <p:cBhvr>
                                        <p:cTn id="324" dur="1" fill="hold">
                                          <p:stCondLst>
                                            <p:cond delay="0"/>
                                          </p:stCondLst>
                                        </p:cTn>
                                        <p:tgtEl>
                                          <p:spTgt spid="155"/>
                                        </p:tgtEl>
                                        <p:attrNameLst>
                                          <p:attrName>style.visibility</p:attrName>
                                        </p:attrNameLst>
                                      </p:cBhvr>
                                      <p:to>
                                        <p:strVal val="visible"/>
                                      </p:to>
                                    </p:set>
                                    <p:anim calcmode="lin" valueType="num">
                                      <p:cBhvr additive="repl">
                                        <p:cTn id="325" dur="500" fill="hold"/>
                                        <p:tgtEl>
                                          <p:spTgt spid="155"/>
                                        </p:tgtEl>
                                        <p:attrNameLst>
                                          <p:attrName>ppt_w</p:attrName>
                                        </p:attrNameLst>
                                      </p:cBhvr>
                                      <p:tavLst>
                                        <p:tav tm="0">
                                          <p:val>
                                            <p:fltVal val="0"/>
                                          </p:val>
                                        </p:tav>
                                        <p:tav tm="100000">
                                          <p:val>
                                            <p:strVal val="#ppt_w"/>
                                          </p:val>
                                        </p:tav>
                                      </p:tavLst>
                                    </p:anim>
                                    <p:anim calcmode="lin" valueType="num">
                                      <p:cBhvr additive="repl">
                                        <p:cTn id="326" dur="500" fill="hold"/>
                                        <p:tgtEl>
                                          <p:spTgt spid="155"/>
                                        </p:tgtEl>
                                        <p:attrNameLst>
                                          <p:attrName>ppt_h</p:attrName>
                                        </p:attrNameLst>
                                      </p:cBhvr>
                                      <p:tavLst>
                                        <p:tav tm="0">
                                          <p:val>
                                            <p:fltVal val="0"/>
                                          </p:val>
                                        </p:tav>
                                        <p:tav tm="100000">
                                          <p:val>
                                            <p:strVal val="#ppt_h"/>
                                          </p:val>
                                        </p:tav>
                                      </p:tavLst>
                                    </p:anim>
                                    <p:animEffect filter="fade" transition="in">
                                      <p:cBhvr additive="repl">
                                        <p:cTn id="327"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囚</a:t>
            </a:r>
            <a:endParaRPr b="0" lang="en-US" sz="8000" spc="-1" strike="noStrike">
              <a:solidFill>
                <a:srgbClr val="000000"/>
              </a:solidFill>
              <a:latin typeface="Calibri"/>
            </a:endParaRPr>
          </a:p>
        </p:txBody>
      </p:sp>
      <p:graphicFrame>
        <p:nvGraphicFramePr>
          <p:cNvPr id="169"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70" name="组合 8"/>
          <p:cNvGrpSpPr/>
          <p:nvPr/>
        </p:nvGrpSpPr>
        <p:grpSpPr>
          <a:xfrm>
            <a:off x="1179360" y="3975120"/>
            <a:ext cx="2840040" cy="1621080"/>
            <a:chOff x="1179360" y="3975120"/>
            <a:chExt cx="2840040" cy="1621080"/>
          </a:xfrm>
        </p:grpSpPr>
        <p:pic>
          <p:nvPicPr>
            <p:cNvPr id="171" name="图示 4" descr=""/>
            <p:cNvPicPr/>
            <p:nvPr/>
          </p:nvPicPr>
          <p:blipFill>
            <a:blip r:embed="rId1"/>
            <a:stretch/>
          </p:blipFill>
          <p:spPr>
            <a:xfrm>
              <a:off x="1179360" y="3975120"/>
              <a:ext cx="2840040" cy="1571760"/>
            </a:xfrm>
            <a:prstGeom prst="rect">
              <a:avLst/>
            </a:prstGeom>
            <a:ln w="0">
              <a:noFill/>
            </a:ln>
          </p:spPr>
        </p:pic>
        <p:sp>
          <p:nvSpPr>
            <p:cNvPr id="172" name="矩形 2"/>
            <p:cNvSpPr/>
            <p:nvPr/>
          </p:nvSpPr>
          <p:spPr>
            <a:xfrm>
              <a:off x="1228680" y="4587840"/>
              <a:ext cx="2766600" cy="1008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a:t>
              </a:r>
              <a:r>
                <a:rPr b="1" lang="zh-CN" sz="2000" spc="-1" strike="noStrike">
                  <a:solidFill>
                    <a:srgbClr val="000000"/>
                  </a:solidFill>
                  <a:latin typeface="仿宋"/>
                  <a:ea typeface="仿宋"/>
                </a:rPr>
                <a:t>口”要写得方正而大。</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grpSp>
      <p:sp>
        <p:nvSpPr>
          <p:cNvPr id="173" name="矩形 3"/>
          <p:cNvSpPr/>
          <p:nvPr/>
        </p:nvSpPr>
        <p:spPr>
          <a:xfrm>
            <a:off x="2076480" y="1868400"/>
            <a:ext cx="1265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qiú</a:t>
            </a:r>
            <a:endParaRPr b="0" lang="en-US" sz="4800" spc="-1" strike="noStrike">
              <a:solidFill>
                <a:srgbClr val="000000"/>
              </a:solidFill>
              <a:latin typeface="Calibri"/>
            </a:endParaRPr>
          </a:p>
        </p:txBody>
      </p:sp>
      <p:sp>
        <p:nvSpPr>
          <p:cNvPr id="174" name="Freeform 29"/>
          <p:cNvSpPr/>
          <p:nvPr/>
        </p:nvSpPr>
        <p:spPr>
          <a:xfrm>
            <a:off x="5881680" y="3046320"/>
            <a:ext cx="181080" cy="1805040"/>
          </a:xfrm>
          <a:custGeom>
            <a:avLst/>
            <a:gdLst/>
            <a:ahLst/>
            <a:rect l="l" t="t" r="r" b="b"/>
            <a:pathLst>
              <a:path w="229" h="2274">
                <a:moveTo>
                  <a:pt x="106" y="11"/>
                </a:moveTo>
                <a:lnTo>
                  <a:pt x="119" y="15"/>
                </a:lnTo>
                <a:lnTo>
                  <a:pt x="135" y="21"/>
                </a:lnTo>
                <a:lnTo>
                  <a:pt x="150" y="25"/>
                </a:lnTo>
                <a:lnTo>
                  <a:pt x="167" y="29"/>
                </a:lnTo>
                <a:lnTo>
                  <a:pt x="183" y="32"/>
                </a:lnTo>
                <a:lnTo>
                  <a:pt x="200" y="34"/>
                </a:lnTo>
                <a:lnTo>
                  <a:pt x="215" y="36"/>
                </a:lnTo>
                <a:lnTo>
                  <a:pt x="229" y="36"/>
                </a:lnTo>
                <a:lnTo>
                  <a:pt x="227" y="132"/>
                </a:lnTo>
                <a:lnTo>
                  <a:pt x="227" y="226"/>
                </a:lnTo>
                <a:lnTo>
                  <a:pt x="225" y="316"/>
                </a:lnTo>
                <a:lnTo>
                  <a:pt x="225" y="405"/>
                </a:lnTo>
                <a:lnTo>
                  <a:pt x="223" y="489"/>
                </a:lnTo>
                <a:lnTo>
                  <a:pt x="223" y="570"/>
                </a:lnTo>
                <a:lnTo>
                  <a:pt x="221" y="650"/>
                </a:lnTo>
                <a:lnTo>
                  <a:pt x="221" y="727"/>
                </a:lnTo>
                <a:lnTo>
                  <a:pt x="219" y="800"/>
                </a:lnTo>
                <a:lnTo>
                  <a:pt x="217" y="871"/>
                </a:lnTo>
                <a:lnTo>
                  <a:pt x="217" y="938"/>
                </a:lnTo>
                <a:lnTo>
                  <a:pt x="215" y="1003"/>
                </a:lnTo>
                <a:lnTo>
                  <a:pt x="215" y="1067"/>
                </a:lnTo>
                <a:lnTo>
                  <a:pt x="213" y="1126"/>
                </a:lnTo>
                <a:lnTo>
                  <a:pt x="213" y="1182"/>
                </a:lnTo>
                <a:lnTo>
                  <a:pt x="213" y="1236"/>
                </a:lnTo>
                <a:lnTo>
                  <a:pt x="211" y="1287"/>
                </a:lnTo>
                <a:lnTo>
                  <a:pt x="211" y="1335"/>
                </a:lnTo>
                <a:lnTo>
                  <a:pt x="209" y="1381"/>
                </a:lnTo>
                <a:lnTo>
                  <a:pt x="209" y="1424"/>
                </a:lnTo>
                <a:lnTo>
                  <a:pt x="209" y="1462"/>
                </a:lnTo>
                <a:lnTo>
                  <a:pt x="207" y="1500"/>
                </a:lnTo>
                <a:lnTo>
                  <a:pt x="207" y="1533"/>
                </a:lnTo>
                <a:lnTo>
                  <a:pt x="207" y="1566"/>
                </a:lnTo>
                <a:lnTo>
                  <a:pt x="206" y="1594"/>
                </a:lnTo>
                <a:lnTo>
                  <a:pt x="206" y="1619"/>
                </a:lnTo>
                <a:lnTo>
                  <a:pt x="206" y="1642"/>
                </a:lnTo>
                <a:lnTo>
                  <a:pt x="206" y="1662"/>
                </a:lnTo>
                <a:lnTo>
                  <a:pt x="206" y="1679"/>
                </a:lnTo>
                <a:lnTo>
                  <a:pt x="206" y="1694"/>
                </a:lnTo>
                <a:lnTo>
                  <a:pt x="206" y="1706"/>
                </a:lnTo>
                <a:lnTo>
                  <a:pt x="206" y="1715"/>
                </a:lnTo>
                <a:lnTo>
                  <a:pt x="204" y="1729"/>
                </a:lnTo>
                <a:lnTo>
                  <a:pt x="204" y="1746"/>
                </a:lnTo>
                <a:lnTo>
                  <a:pt x="204" y="1761"/>
                </a:lnTo>
                <a:lnTo>
                  <a:pt x="202" y="1781"/>
                </a:lnTo>
                <a:lnTo>
                  <a:pt x="202" y="1798"/>
                </a:lnTo>
                <a:lnTo>
                  <a:pt x="200" y="1817"/>
                </a:lnTo>
                <a:lnTo>
                  <a:pt x="198" y="1838"/>
                </a:lnTo>
                <a:lnTo>
                  <a:pt x="196" y="1859"/>
                </a:lnTo>
                <a:lnTo>
                  <a:pt x="194" y="1880"/>
                </a:lnTo>
                <a:lnTo>
                  <a:pt x="192" y="1903"/>
                </a:lnTo>
                <a:lnTo>
                  <a:pt x="190" y="1926"/>
                </a:lnTo>
                <a:lnTo>
                  <a:pt x="188" y="1949"/>
                </a:lnTo>
                <a:lnTo>
                  <a:pt x="186" y="1974"/>
                </a:lnTo>
                <a:lnTo>
                  <a:pt x="184" y="1999"/>
                </a:lnTo>
                <a:lnTo>
                  <a:pt x="183" y="2026"/>
                </a:lnTo>
                <a:lnTo>
                  <a:pt x="181" y="2053"/>
                </a:lnTo>
                <a:lnTo>
                  <a:pt x="177" y="2080"/>
                </a:lnTo>
                <a:lnTo>
                  <a:pt x="175" y="2107"/>
                </a:lnTo>
                <a:lnTo>
                  <a:pt x="171" y="2132"/>
                </a:lnTo>
                <a:lnTo>
                  <a:pt x="169" y="2155"/>
                </a:lnTo>
                <a:lnTo>
                  <a:pt x="167" y="2164"/>
                </a:lnTo>
                <a:lnTo>
                  <a:pt x="165" y="2176"/>
                </a:lnTo>
                <a:lnTo>
                  <a:pt x="163" y="2185"/>
                </a:lnTo>
                <a:lnTo>
                  <a:pt x="161" y="2195"/>
                </a:lnTo>
                <a:lnTo>
                  <a:pt x="159" y="2203"/>
                </a:lnTo>
                <a:lnTo>
                  <a:pt x="158" y="2210"/>
                </a:lnTo>
                <a:lnTo>
                  <a:pt x="156" y="2218"/>
                </a:lnTo>
                <a:lnTo>
                  <a:pt x="154" y="2226"/>
                </a:lnTo>
                <a:lnTo>
                  <a:pt x="152" y="2233"/>
                </a:lnTo>
                <a:lnTo>
                  <a:pt x="150" y="2239"/>
                </a:lnTo>
                <a:lnTo>
                  <a:pt x="146" y="2245"/>
                </a:lnTo>
                <a:lnTo>
                  <a:pt x="144" y="2251"/>
                </a:lnTo>
                <a:lnTo>
                  <a:pt x="142" y="2254"/>
                </a:lnTo>
                <a:lnTo>
                  <a:pt x="140" y="2258"/>
                </a:lnTo>
                <a:lnTo>
                  <a:pt x="138" y="2262"/>
                </a:lnTo>
                <a:lnTo>
                  <a:pt x="136" y="2266"/>
                </a:lnTo>
                <a:lnTo>
                  <a:pt x="133" y="2268"/>
                </a:lnTo>
                <a:lnTo>
                  <a:pt x="131" y="2270"/>
                </a:lnTo>
                <a:lnTo>
                  <a:pt x="129" y="2272"/>
                </a:lnTo>
                <a:lnTo>
                  <a:pt x="127" y="2274"/>
                </a:lnTo>
                <a:lnTo>
                  <a:pt x="125" y="2274"/>
                </a:lnTo>
                <a:lnTo>
                  <a:pt x="121" y="2274"/>
                </a:lnTo>
                <a:lnTo>
                  <a:pt x="119" y="2274"/>
                </a:lnTo>
                <a:lnTo>
                  <a:pt x="117" y="2274"/>
                </a:lnTo>
                <a:lnTo>
                  <a:pt x="110" y="2270"/>
                </a:lnTo>
                <a:lnTo>
                  <a:pt x="104" y="2266"/>
                </a:lnTo>
                <a:lnTo>
                  <a:pt x="98" y="2262"/>
                </a:lnTo>
                <a:lnTo>
                  <a:pt x="92" y="2258"/>
                </a:lnTo>
                <a:lnTo>
                  <a:pt x="87" y="2253"/>
                </a:lnTo>
                <a:lnTo>
                  <a:pt x="81" y="2247"/>
                </a:lnTo>
                <a:lnTo>
                  <a:pt x="75" y="2239"/>
                </a:lnTo>
                <a:lnTo>
                  <a:pt x="71" y="2233"/>
                </a:lnTo>
                <a:lnTo>
                  <a:pt x="65" y="2224"/>
                </a:lnTo>
                <a:lnTo>
                  <a:pt x="62" y="2214"/>
                </a:lnTo>
                <a:lnTo>
                  <a:pt x="58" y="2205"/>
                </a:lnTo>
                <a:lnTo>
                  <a:pt x="54" y="2195"/>
                </a:lnTo>
                <a:lnTo>
                  <a:pt x="50" y="2183"/>
                </a:lnTo>
                <a:lnTo>
                  <a:pt x="48" y="2170"/>
                </a:lnTo>
                <a:lnTo>
                  <a:pt x="44" y="2157"/>
                </a:lnTo>
                <a:lnTo>
                  <a:pt x="42" y="2143"/>
                </a:lnTo>
                <a:lnTo>
                  <a:pt x="39" y="2128"/>
                </a:lnTo>
                <a:lnTo>
                  <a:pt x="35" y="2114"/>
                </a:lnTo>
                <a:lnTo>
                  <a:pt x="31" y="2101"/>
                </a:lnTo>
                <a:lnTo>
                  <a:pt x="27" y="2089"/>
                </a:lnTo>
                <a:lnTo>
                  <a:pt x="23" y="2076"/>
                </a:lnTo>
                <a:lnTo>
                  <a:pt x="21" y="2065"/>
                </a:lnTo>
                <a:lnTo>
                  <a:pt x="17" y="2055"/>
                </a:lnTo>
                <a:lnTo>
                  <a:pt x="15" y="2043"/>
                </a:lnTo>
                <a:lnTo>
                  <a:pt x="12" y="2024"/>
                </a:lnTo>
                <a:lnTo>
                  <a:pt x="8" y="2005"/>
                </a:lnTo>
                <a:lnTo>
                  <a:pt x="6" y="1990"/>
                </a:lnTo>
                <a:lnTo>
                  <a:pt x="6" y="1974"/>
                </a:lnTo>
                <a:lnTo>
                  <a:pt x="4" y="1969"/>
                </a:lnTo>
                <a:lnTo>
                  <a:pt x="2" y="1961"/>
                </a:lnTo>
                <a:lnTo>
                  <a:pt x="2" y="1953"/>
                </a:lnTo>
                <a:lnTo>
                  <a:pt x="0" y="1944"/>
                </a:lnTo>
                <a:lnTo>
                  <a:pt x="2" y="1934"/>
                </a:lnTo>
                <a:lnTo>
                  <a:pt x="2" y="1923"/>
                </a:lnTo>
                <a:lnTo>
                  <a:pt x="2" y="1909"/>
                </a:lnTo>
                <a:lnTo>
                  <a:pt x="4" y="1896"/>
                </a:lnTo>
                <a:lnTo>
                  <a:pt x="6" y="1880"/>
                </a:lnTo>
                <a:lnTo>
                  <a:pt x="8" y="1865"/>
                </a:lnTo>
                <a:lnTo>
                  <a:pt x="12" y="1846"/>
                </a:lnTo>
                <a:lnTo>
                  <a:pt x="15" y="1828"/>
                </a:lnTo>
                <a:lnTo>
                  <a:pt x="17" y="1807"/>
                </a:lnTo>
                <a:lnTo>
                  <a:pt x="21" y="1786"/>
                </a:lnTo>
                <a:lnTo>
                  <a:pt x="27" y="1763"/>
                </a:lnTo>
                <a:lnTo>
                  <a:pt x="31" y="1740"/>
                </a:lnTo>
                <a:lnTo>
                  <a:pt x="33" y="1729"/>
                </a:lnTo>
                <a:lnTo>
                  <a:pt x="35" y="1715"/>
                </a:lnTo>
                <a:lnTo>
                  <a:pt x="37" y="1702"/>
                </a:lnTo>
                <a:lnTo>
                  <a:pt x="39" y="1688"/>
                </a:lnTo>
                <a:lnTo>
                  <a:pt x="40" y="1673"/>
                </a:lnTo>
                <a:lnTo>
                  <a:pt x="42" y="1656"/>
                </a:lnTo>
                <a:lnTo>
                  <a:pt x="44" y="1637"/>
                </a:lnTo>
                <a:lnTo>
                  <a:pt x="46" y="1619"/>
                </a:lnTo>
                <a:lnTo>
                  <a:pt x="48" y="1598"/>
                </a:lnTo>
                <a:lnTo>
                  <a:pt x="50" y="1577"/>
                </a:lnTo>
                <a:lnTo>
                  <a:pt x="52" y="1556"/>
                </a:lnTo>
                <a:lnTo>
                  <a:pt x="54" y="1533"/>
                </a:lnTo>
                <a:lnTo>
                  <a:pt x="54" y="1510"/>
                </a:lnTo>
                <a:lnTo>
                  <a:pt x="56" y="1485"/>
                </a:lnTo>
                <a:lnTo>
                  <a:pt x="58" y="1458"/>
                </a:lnTo>
                <a:lnTo>
                  <a:pt x="58" y="1431"/>
                </a:lnTo>
                <a:lnTo>
                  <a:pt x="60" y="1403"/>
                </a:lnTo>
                <a:lnTo>
                  <a:pt x="60" y="1374"/>
                </a:lnTo>
                <a:lnTo>
                  <a:pt x="62" y="1345"/>
                </a:lnTo>
                <a:lnTo>
                  <a:pt x="62" y="1314"/>
                </a:lnTo>
                <a:lnTo>
                  <a:pt x="63" y="1282"/>
                </a:lnTo>
                <a:lnTo>
                  <a:pt x="63" y="1249"/>
                </a:lnTo>
                <a:lnTo>
                  <a:pt x="63" y="1214"/>
                </a:lnTo>
                <a:lnTo>
                  <a:pt x="65" y="1180"/>
                </a:lnTo>
                <a:lnTo>
                  <a:pt x="65" y="1145"/>
                </a:lnTo>
                <a:lnTo>
                  <a:pt x="65" y="1109"/>
                </a:lnTo>
                <a:lnTo>
                  <a:pt x="67" y="1071"/>
                </a:lnTo>
                <a:lnTo>
                  <a:pt x="67" y="1032"/>
                </a:lnTo>
                <a:lnTo>
                  <a:pt x="67" y="994"/>
                </a:lnTo>
                <a:lnTo>
                  <a:pt x="67" y="953"/>
                </a:lnTo>
                <a:lnTo>
                  <a:pt x="67" y="911"/>
                </a:lnTo>
                <a:lnTo>
                  <a:pt x="67" y="869"/>
                </a:lnTo>
                <a:lnTo>
                  <a:pt x="67" y="827"/>
                </a:lnTo>
                <a:lnTo>
                  <a:pt x="67" y="787"/>
                </a:lnTo>
                <a:lnTo>
                  <a:pt x="67" y="746"/>
                </a:lnTo>
                <a:lnTo>
                  <a:pt x="67" y="708"/>
                </a:lnTo>
                <a:lnTo>
                  <a:pt x="67" y="671"/>
                </a:lnTo>
                <a:lnTo>
                  <a:pt x="65" y="635"/>
                </a:lnTo>
                <a:lnTo>
                  <a:pt x="65" y="600"/>
                </a:lnTo>
                <a:lnTo>
                  <a:pt x="65" y="566"/>
                </a:lnTo>
                <a:lnTo>
                  <a:pt x="65" y="533"/>
                </a:lnTo>
                <a:lnTo>
                  <a:pt x="63" y="503"/>
                </a:lnTo>
                <a:lnTo>
                  <a:pt x="63" y="472"/>
                </a:lnTo>
                <a:lnTo>
                  <a:pt x="63" y="443"/>
                </a:lnTo>
                <a:lnTo>
                  <a:pt x="62" y="416"/>
                </a:lnTo>
                <a:lnTo>
                  <a:pt x="62" y="389"/>
                </a:lnTo>
                <a:lnTo>
                  <a:pt x="60" y="364"/>
                </a:lnTo>
                <a:lnTo>
                  <a:pt x="60" y="341"/>
                </a:lnTo>
                <a:lnTo>
                  <a:pt x="58" y="318"/>
                </a:lnTo>
                <a:lnTo>
                  <a:pt x="58" y="295"/>
                </a:lnTo>
                <a:lnTo>
                  <a:pt x="58" y="276"/>
                </a:lnTo>
                <a:lnTo>
                  <a:pt x="56" y="255"/>
                </a:lnTo>
                <a:lnTo>
                  <a:pt x="54" y="238"/>
                </a:lnTo>
                <a:lnTo>
                  <a:pt x="54" y="220"/>
                </a:lnTo>
                <a:lnTo>
                  <a:pt x="52" y="205"/>
                </a:lnTo>
                <a:lnTo>
                  <a:pt x="52" y="190"/>
                </a:lnTo>
                <a:lnTo>
                  <a:pt x="50" y="176"/>
                </a:lnTo>
                <a:lnTo>
                  <a:pt x="50" y="165"/>
                </a:lnTo>
                <a:lnTo>
                  <a:pt x="48" y="153"/>
                </a:lnTo>
                <a:lnTo>
                  <a:pt x="46" y="144"/>
                </a:lnTo>
                <a:lnTo>
                  <a:pt x="46" y="134"/>
                </a:lnTo>
                <a:lnTo>
                  <a:pt x="44" y="126"/>
                </a:lnTo>
                <a:lnTo>
                  <a:pt x="44" y="119"/>
                </a:lnTo>
                <a:lnTo>
                  <a:pt x="42" y="115"/>
                </a:lnTo>
                <a:lnTo>
                  <a:pt x="39" y="107"/>
                </a:lnTo>
                <a:lnTo>
                  <a:pt x="35" y="100"/>
                </a:lnTo>
                <a:lnTo>
                  <a:pt x="31" y="92"/>
                </a:lnTo>
                <a:lnTo>
                  <a:pt x="29" y="86"/>
                </a:lnTo>
                <a:lnTo>
                  <a:pt x="27" y="78"/>
                </a:lnTo>
                <a:lnTo>
                  <a:pt x="25" y="71"/>
                </a:lnTo>
                <a:lnTo>
                  <a:pt x="23" y="57"/>
                </a:lnTo>
                <a:lnTo>
                  <a:pt x="23" y="44"/>
                </a:lnTo>
                <a:lnTo>
                  <a:pt x="23" y="32"/>
                </a:lnTo>
                <a:lnTo>
                  <a:pt x="27" y="21"/>
                </a:lnTo>
                <a:lnTo>
                  <a:pt x="31" y="11"/>
                </a:lnTo>
                <a:lnTo>
                  <a:pt x="37" y="6"/>
                </a:lnTo>
                <a:lnTo>
                  <a:pt x="42" y="4"/>
                </a:lnTo>
                <a:lnTo>
                  <a:pt x="50" y="2"/>
                </a:lnTo>
                <a:lnTo>
                  <a:pt x="58" y="0"/>
                </a:lnTo>
                <a:lnTo>
                  <a:pt x="67" y="2"/>
                </a:lnTo>
                <a:lnTo>
                  <a:pt x="79" y="4"/>
                </a:lnTo>
                <a:lnTo>
                  <a:pt x="92" y="6"/>
                </a:lnTo>
                <a:lnTo>
                  <a:pt x="106" y="11"/>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Freeform 30"/>
          <p:cNvSpPr/>
          <p:nvPr/>
        </p:nvSpPr>
        <p:spPr>
          <a:xfrm>
            <a:off x="5985000" y="2870280"/>
            <a:ext cx="1535040" cy="2146320"/>
          </a:xfrm>
          <a:custGeom>
            <a:avLst/>
            <a:gdLst/>
            <a:ahLst/>
            <a:rect l="l" t="t" r="r" b="b"/>
            <a:pathLst>
              <a:path w="1935" h="2704">
                <a:moveTo>
                  <a:pt x="1524" y="2197"/>
                </a:moveTo>
                <a:lnTo>
                  <a:pt x="1545" y="2195"/>
                </a:lnTo>
                <a:lnTo>
                  <a:pt x="1564" y="2195"/>
                </a:lnTo>
                <a:lnTo>
                  <a:pt x="1582" y="2195"/>
                </a:lnTo>
                <a:lnTo>
                  <a:pt x="1599" y="2193"/>
                </a:lnTo>
                <a:lnTo>
                  <a:pt x="1614" y="2192"/>
                </a:lnTo>
                <a:lnTo>
                  <a:pt x="1630" y="2190"/>
                </a:lnTo>
                <a:lnTo>
                  <a:pt x="1643" y="2188"/>
                </a:lnTo>
                <a:lnTo>
                  <a:pt x="1655" y="2186"/>
                </a:lnTo>
                <a:lnTo>
                  <a:pt x="1666" y="2182"/>
                </a:lnTo>
                <a:lnTo>
                  <a:pt x="1676" y="2178"/>
                </a:lnTo>
                <a:lnTo>
                  <a:pt x="1685" y="2174"/>
                </a:lnTo>
                <a:lnTo>
                  <a:pt x="1693" y="2169"/>
                </a:lnTo>
                <a:lnTo>
                  <a:pt x="1699" y="2165"/>
                </a:lnTo>
                <a:lnTo>
                  <a:pt x="1705" y="2159"/>
                </a:lnTo>
                <a:lnTo>
                  <a:pt x="1708" y="2151"/>
                </a:lnTo>
                <a:lnTo>
                  <a:pt x="1710" y="2146"/>
                </a:lnTo>
                <a:lnTo>
                  <a:pt x="1712" y="2140"/>
                </a:lnTo>
                <a:lnTo>
                  <a:pt x="1712" y="2136"/>
                </a:lnTo>
                <a:lnTo>
                  <a:pt x="1714" y="2130"/>
                </a:lnTo>
                <a:lnTo>
                  <a:pt x="1714" y="2122"/>
                </a:lnTo>
                <a:lnTo>
                  <a:pt x="1716" y="2115"/>
                </a:lnTo>
                <a:lnTo>
                  <a:pt x="1716" y="2107"/>
                </a:lnTo>
                <a:lnTo>
                  <a:pt x="1716" y="2098"/>
                </a:lnTo>
                <a:lnTo>
                  <a:pt x="1718" y="2086"/>
                </a:lnTo>
                <a:lnTo>
                  <a:pt x="1718" y="2075"/>
                </a:lnTo>
                <a:lnTo>
                  <a:pt x="1718" y="2063"/>
                </a:lnTo>
                <a:lnTo>
                  <a:pt x="1720" y="2050"/>
                </a:lnTo>
                <a:lnTo>
                  <a:pt x="1720" y="2034"/>
                </a:lnTo>
                <a:lnTo>
                  <a:pt x="1720" y="2019"/>
                </a:lnTo>
                <a:lnTo>
                  <a:pt x="1720" y="2004"/>
                </a:lnTo>
                <a:lnTo>
                  <a:pt x="1722" y="1986"/>
                </a:lnTo>
                <a:lnTo>
                  <a:pt x="1722" y="1967"/>
                </a:lnTo>
                <a:lnTo>
                  <a:pt x="1722" y="1948"/>
                </a:lnTo>
                <a:lnTo>
                  <a:pt x="1722" y="1929"/>
                </a:lnTo>
                <a:lnTo>
                  <a:pt x="1722" y="1908"/>
                </a:lnTo>
                <a:lnTo>
                  <a:pt x="1722" y="1886"/>
                </a:lnTo>
                <a:lnTo>
                  <a:pt x="1722" y="1863"/>
                </a:lnTo>
                <a:lnTo>
                  <a:pt x="1722" y="1838"/>
                </a:lnTo>
                <a:lnTo>
                  <a:pt x="1722" y="1814"/>
                </a:lnTo>
                <a:lnTo>
                  <a:pt x="1722" y="1789"/>
                </a:lnTo>
                <a:lnTo>
                  <a:pt x="1722" y="1762"/>
                </a:lnTo>
                <a:lnTo>
                  <a:pt x="1722" y="1733"/>
                </a:lnTo>
                <a:lnTo>
                  <a:pt x="1722" y="1704"/>
                </a:lnTo>
                <a:lnTo>
                  <a:pt x="1724" y="1675"/>
                </a:lnTo>
                <a:lnTo>
                  <a:pt x="1724" y="1645"/>
                </a:lnTo>
                <a:lnTo>
                  <a:pt x="1724" y="1614"/>
                </a:lnTo>
                <a:lnTo>
                  <a:pt x="1724" y="1581"/>
                </a:lnTo>
                <a:lnTo>
                  <a:pt x="1724" y="1547"/>
                </a:lnTo>
                <a:lnTo>
                  <a:pt x="1722" y="1482"/>
                </a:lnTo>
                <a:lnTo>
                  <a:pt x="1722" y="1416"/>
                </a:lnTo>
                <a:lnTo>
                  <a:pt x="1722" y="1353"/>
                </a:lnTo>
                <a:lnTo>
                  <a:pt x="1720" y="1292"/>
                </a:lnTo>
                <a:lnTo>
                  <a:pt x="1720" y="1230"/>
                </a:lnTo>
                <a:lnTo>
                  <a:pt x="1718" y="1169"/>
                </a:lnTo>
                <a:lnTo>
                  <a:pt x="1716" y="1111"/>
                </a:lnTo>
                <a:lnTo>
                  <a:pt x="1714" y="1054"/>
                </a:lnTo>
                <a:lnTo>
                  <a:pt x="1710" y="996"/>
                </a:lnTo>
                <a:lnTo>
                  <a:pt x="1708" y="940"/>
                </a:lnTo>
                <a:lnTo>
                  <a:pt x="1705" y="887"/>
                </a:lnTo>
                <a:lnTo>
                  <a:pt x="1703" y="833"/>
                </a:lnTo>
                <a:lnTo>
                  <a:pt x="1699" y="783"/>
                </a:lnTo>
                <a:lnTo>
                  <a:pt x="1695" y="731"/>
                </a:lnTo>
                <a:lnTo>
                  <a:pt x="1689" y="683"/>
                </a:lnTo>
                <a:lnTo>
                  <a:pt x="1685" y="637"/>
                </a:lnTo>
                <a:lnTo>
                  <a:pt x="1683" y="614"/>
                </a:lnTo>
                <a:lnTo>
                  <a:pt x="1682" y="591"/>
                </a:lnTo>
                <a:lnTo>
                  <a:pt x="1678" y="570"/>
                </a:lnTo>
                <a:lnTo>
                  <a:pt x="1676" y="549"/>
                </a:lnTo>
                <a:lnTo>
                  <a:pt x="1674" y="530"/>
                </a:lnTo>
                <a:lnTo>
                  <a:pt x="1672" y="511"/>
                </a:lnTo>
                <a:lnTo>
                  <a:pt x="1670" y="491"/>
                </a:lnTo>
                <a:lnTo>
                  <a:pt x="1668" y="472"/>
                </a:lnTo>
                <a:lnTo>
                  <a:pt x="1666" y="455"/>
                </a:lnTo>
                <a:lnTo>
                  <a:pt x="1662" y="440"/>
                </a:lnTo>
                <a:lnTo>
                  <a:pt x="1660" y="422"/>
                </a:lnTo>
                <a:lnTo>
                  <a:pt x="1658" y="407"/>
                </a:lnTo>
                <a:lnTo>
                  <a:pt x="1657" y="392"/>
                </a:lnTo>
                <a:lnTo>
                  <a:pt x="1655" y="378"/>
                </a:lnTo>
                <a:lnTo>
                  <a:pt x="1653" y="365"/>
                </a:lnTo>
                <a:lnTo>
                  <a:pt x="1651" y="351"/>
                </a:lnTo>
                <a:lnTo>
                  <a:pt x="1649" y="340"/>
                </a:lnTo>
                <a:lnTo>
                  <a:pt x="1647" y="328"/>
                </a:lnTo>
                <a:lnTo>
                  <a:pt x="1645" y="317"/>
                </a:lnTo>
                <a:lnTo>
                  <a:pt x="1643" y="307"/>
                </a:lnTo>
                <a:lnTo>
                  <a:pt x="1641" y="298"/>
                </a:lnTo>
                <a:lnTo>
                  <a:pt x="1639" y="288"/>
                </a:lnTo>
                <a:lnTo>
                  <a:pt x="1637" y="280"/>
                </a:lnTo>
                <a:lnTo>
                  <a:pt x="1635" y="273"/>
                </a:lnTo>
                <a:lnTo>
                  <a:pt x="1634" y="265"/>
                </a:lnTo>
                <a:lnTo>
                  <a:pt x="1632" y="259"/>
                </a:lnTo>
                <a:lnTo>
                  <a:pt x="1632" y="254"/>
                </a:lnTo>
                <a:lnTo>
                  <a:pt x="1630" y="248"/>
                </a:lnTo>
                <a:lnTo>
                  <a:pt x="1628" y="244"/>
                </a:lnTo>
                <a:lnTo>
                  <a:pt x="1626" y="240"/>
                </a:lnTo>
                <a:lnTo>
                  <a:pt x="1626" y="236"/>
                </a:lnTo>
                <a:lnTo>
                  <a:pt x="1624" y="234"/>
                </a:lnTo>
                <a:lnTo>
                  <a:pt x="1618" y="231"/>
                </a:lnTo>
                <a:lnTo>
                  <a:pt x="1612" y="229"/>
                </a:lnTo>
                <a:lnTo>
                  <a:pt x="1605" y="227"/>
                </a:lnTo>
                <a:lnTo>
                  <a:pt x="1597" y="223"/>
                </a:lnTo>
                <a:lnTo>
                  <a:pt x="1586" y="221"/>
                </a:lnTo>
                <a:lnTo>
                  <a:pt x="1576" y="219"/>
                </a:lnTo>
                <a:lnTo>
                  <a:pt x="1564" y="217"/>
                </a:lnTo>
                <a:lnTo>
                  <a:pt x="1551" y="215"/>
                </a:lnTo>
                <a:lnTo>
                  <a:pt x="1538" y="213"/>
                </a:lnTo>
                <a:lnTo>
                  <a:pt x="1522" y="211"/>
                </a:lnTo>
                <a:lnTo>
                  <a:pt x="1507" y="211"/>
                </a:lnTo>
                <a:lnTo>
                  <a:pt x="1490" y="209"/>
                </a:lnTo>
                <a:lnTo>
                  <a:pt x="1472" y="209"/>
                </a:lnTo>
                <a:lnTo>
                  <a:pt x="1453" y="207"/>
                </a:lnTo>
                <a:lnTo>
                  <a:pt x="1434" y="207"/>
                </a:lnTo>
                <a:lnTo>
                  <a:pt x="1413" y="207"/>
                </a:lnTo>
                <a:lnTo>
                  <a:pt x="1321" y="217"/>
                </a:lnTo>
                <a:lnTo>
                  <a:pt x="1275" y="221"/>
                </a:lnTo>
                <a:lnTo>
                  <a:pt x="1228" y="227"/>
                </a:lnTo>
                <a:lnTo>
                  <a:pt x="1184" y="232"/>
                </a:lnTo>
                <a:lnTo>
                  <a:pt x="1138" y="236"/>
                </a:lnTo>
                <a:lnTo>
                  <a:pt x="1096" y="242"/>
                </a:lnTo>
                <a:lnTo>
                  <a:pt x="1054" y="246"/>
                </a:lnTo>
                <a:lnTo>
                  <a:pt x="1040" y="248"/>
                </a:lnTo>
                <a:lnTo>
                  <a:pt x="1027" y="250"/>
                </a:lnTo>
                <a:lnTo>
                  <a:pt x="1011" y="250"/>
                </a:lnTo>
                <a:lnTo>
                  <a:pt x="996" y="254"/>
                </a:lnTo>
                <a:lnTo>
                  <a:pt x="979" y="255"/>
                </a:lnTo>
                <a:lnTo>
                  <a:pt x="960" y="257"/>
                </a:lnTo>
                <a:lnTo>
                  <a:pt x="939" y="259"/>
                </a:lnTo>
                <a:lnTo>
                  <a:pt x="917" y="263"/>
                </a:lnTo>
                <a:lnTo>
                  <a:pt x="894" y="265"/>
                </a:lnTo>
                <a:lnTo>
                  <a:pt x="871" y="269"/>
                </a:lnTo>
                <a:lnTo>
                  <a:pt x="844" y="273"/>
                </a:lnTo>
                <a:lnTo>
                  <a:pt x="818" y="277"/>
                </a:lnTo>
                <a:lnTo>
                  <a:pt x="791" y="278"/>
                </a:lnTo>
                <a:lnTo>
                  <a:pt x="760" y="282"/>
                </a:lnTo>
                <a:lnTo>
                  <a:pt x="729" y="288"/>
                </a:lnTo>
                <a:lnTo>
                  <a:pt x="699" y="292"/>
                </a:lnTo>
                <a:lnTo>
                  <a:pt x="664" y="296"/>
                </a:lnTo>
                <a:lnTo>
                  <a:pt x="629" y="300"/>
                </a:lnTo>
                <a:lnTo>
                  <a:pt x="593" y="305"/>
                </a:lnTo>
                <a:lnTo>
                  <a:pt x="556" y="309"/>
                </a:lnTo>
                <a:lnTo>
                  <a:pt x="516" y="315"/>
                </a:lnTo>
                <a:lnTo>
                  <a:pt x="476" y="319"/>
                </a:lnTo>
                <a:lnTo>
                  <a:pt x="436" y="325"/>
                </a:lnTo>
                <a:lnTo>
                  <a:pt x="391" y="330"/>
                </a:lnTo>
                <a:lnTo>
                  <a:pt x="347" y="336"/>
                </a:lnTo>
                <a:lnTo>
                  <a:pt x="301" y="342"/>
                </a:lnTo>
                <a:lnTo>
                  <a:pt x="255" y="346"/>
                </a:lnTo>
                <a:lnTo>
                  <a:pt x="207" y="351"/>
                </a:lnTo>
                <a:lnTo>
                  <a:pt x="157" y="359"/>
                </a:lnTo>
                <a:lnTo>
                  <a:pt x="105" y="365"/>
                </a:lnTo>
                <a:lnTo>
                  <a:pt x="53" y="371"/>
                </a:lnTo>
                <a:lnTo>
                  <a:pt x="0" y="376"/>
                </a:lnTo>
                <a:lnTo>
                  <a:pt x="0" y="319"/>
                </a:lnTo>
                <a:lnTo>
                  <a:pt x="0" y="259"/>
                </a:lnTo>
                <a:lnTo>
                  <a:pt x="42" y="259"/>
                </a:lnTo>
                <a:lnTo>
                  <a:pt x="86" y="257"/>
                </a:lnTo>
                <a:lnTo>
                  <a:pt x="107" y="255"/>
                </a:lnTo>
                <a:lnTo>
                  <a:pt x="130" y="254"/>
                </a:lnTo>
                <a:lnTo>
                  <a:pt x="155" y="252"/>
                </a:lnTo>
                <a:lnTo>
                  <a:pt x="178" y="250"/>
                </a:lnTo>
                <a:lnTo>
                  <a:pt x="203" y="248"/>
                </a:lnTo>
                <a:lnTo>
                  <a:pt x="228" y="244"/>
                </a:lnTo>
                <a:lnTo>
                  <a:pt x="255" y="240"/>
                </a:lnTo>
                <a:lnTo>
                  <a:pt x="282" y="238"/>
                </a:lnTo>
                <a:lnTo>
                  <a:pt x="309" y="234"/>
                </a:lnTo>
                <a:lnTo>
                  <a:pt x="338" y="229"/>
                </a:lnTo>
                <a:lnTo>
                  <a:pt x="366" y="225"/>
                </a:lnTo>
                <a:lnTo>
                  <a:pt x="397" y="221"/>
                </a:lnTo>
                <a:lnTo>
                  <a:pt x="457" y="209"/>
                </a:lnTo>
                <a:lnTo>
                  <a:pt x="514" y="200"/>
                </a:lnTo>
                <a:lnTo>
                  <a:pt x="572" y="190"/>
                </a:lnTo>
                <a:lnTo>
                  <a:pt x="629" y="181"/>
                </a:lnTo>
                <a:lnTo>
                  <a:pt x="687" y="171"/>
                </a:lnTo>
                <a:lnTo>
                  <a:pt x="743" y="161"/>
                </a:lnTo>
                <a:lnTo>
                  <a:pt x="856" y="142"/>
                </a:lnTo>
                <a:lnTo>
                  <a:pt x="906" y="136"/>
                </a:lnTo>
                <a:lnTo>
                  <a:pt x="960" y="131"/>
                </a:lnTo>
                <a:lnTo>
                  <a:pt x="1013" y="123"/>
                </a:lnTo>
                <a:lnTo>
                  <a:pt x="1067" y="117"/>
                </a:lnTo>
                <a:lnTo>
                  <a:pt x="1123" y="110"/>
                </a:lnTo>
                <a:lnTo>
                  <a:pt x="1177" y="102"/>
                </a:lnTo>
                <a:lnTo>
                  <a:pt x="1232" y="96"/>
                </a:lnTo>
                <a:lnTo>
                  <a:pt x="1290" y="90"/>
                </a:lnTo>
                <a:lnTo>
                  <a:pt x="1315" y="89"/>
                </a:lnTo>
                <a:lnTo>
                  <a:pt x="1338" y="85"/>
                </a:lnTo>
                <a:lnTo>
                  <a:pt x="1361" y="83"/>
                </a:lnTo>
                <a:lnTo>
                  <a:pt x="1382" y="81"/>
                </a:lnTo>
                <a:lnTo>
                  <a:pt x="1401" y="77"/>
                </a:lnTo>
                <a:lnTo>
                  <a:pt x="1420" y="75"/>
                </a:lnTo>
                <a:lnTo>
                  <a:pt x="1438" y="71"/>
                </a:lnTo>
                <a:lnTo>
                  <a:pt x="1455" y="69"/>
                </a:lnTo>
                <a:lnTo>
                  <a:pt x="1470" y="65"/>
                </a:lnTo>
                <a:lnTo>
                  <a:pt x="1484" y="64"/>
                </a:lnTo>
                <a:lnTo>
                  <a:pt x="1495" y="60"/>
                </a:lnTo>
                <a:lnTo>
                  <a:pt x="1507" y="56"/>
                </a:lnTo>
                <a:lnTo>
                  <a:pt x="1516" y="52"/>
                </a:lnTo>
                <a:lnTo>
                  <a:pt x="1524" y="48"/>
                </a:lnTo>
                <a:lnTo>
                  <a:pt x="1532" y="42"/>
                </a:lnTo>
                <a:lnTo>
                  <a:pt x="1538" y="39"/>
                </a:lnTo>
                <a:lnTo>
                  <a:pt x="1541" y="29"/>
                </a:lnTo>
                <a:lnTo>
                  <a:pt x="1549" y="21"/>
                </a:lnTo>
                <a:lnTo>
                  <a:pt x="1555" y="14"/>
                </a:lnTo>
                <a:lnTo>
                  <a:pt x="1562" y="10"/>
                </a:lnTo>
                <a:lnTo>
                  <a:pt x="1572" y="4"/>
                </a:lnTo>
                <a:lnTo>
                  <a:pt x="1580" y="2"/>
                </a:lnTo>
                <a:lnTo>
                  <a:pt x="1589" y="0"/>
                </a:lnTo>
                <a:lnTo>
                  <a:pt x="1599" y="0"/>
                </a:lnTo>
                <a:lnTo>
                  <a:pt x="1603" y="0"/>
                </a:lnTo>
                <a:lnTo>
                  <a:pt x="1607" y="0"/>
                </a:lnTo>
                <a:lnTo>
                  <a:pt x="1610" y="2"/>
                </a:lnTo>
                <a:lnTo>
                  <a:pt x="1618" y="4"/>
                </a:lnTo>
                <a:lnTo>
                  <a:pt x="1626" y="6"/>
                </a:lnTo>
                <a:lnTo>
                  <a:pt x="1634" y="10"/>
                </a:lnTo>
                <a:lnTo>
                  <a:pt x="1643" y="14"/>
                </a:lnTo>
                <a:lnTo>
                  <a:pt x="1653" y="18"/>
                </a:lnTo>
                <a:lnTo>
                  <a:pt x="1664" y="23"/>
                </a:lnTo>
                <a:lnTo>
                  <a:pt x="1678" y="29"/>
                </a:lnTo>
                <a:lnTo>
                  <a:pt x="1691" y="35"/>
                </a:lnTo>
                <a:lnTo>
                  <a:pt x="1706" y="42"/>
                </a:lnTo>
                <a:lnTo>
                  <a:pt x="1722" y="50"/>
                </a:lnTo>
                <a:lnTo>
                  <a:pt x="1737" y="58"/>
                </a:lnTo>
                <a:lnTo>
                  <a:pt x="1754" y="67"/>
                </a:lnTo>
                <a:lnTo>
                  <a:pt x="1774" y="77"/>
                </a:lnTo>
                <a:lnTo>
                  <a:pt x="1791" y="87"/>
                </a:lnTo>
                <a:lnTo>
                  <a:pt x="1808" y="96"/>
                </a:lnTo>
                <a:lnTo>
                  <a:pt x="1824" y="106"/>
                </a:lnTo>
                <a:lnTo>
                  <a:pt x="1837" y="113"/>
                </a:lnTo>
                <a:lnTo>
                  <a:pt x="1852" y="121"/>
                </a:lnTo>
                <a:lnTo>
                  <a:pt x="1864" y="131"/>
                </a:lnTo>
                <a:lnTo>
                  <a:pt x="1875" y="136"/>
                </a:lnTo>
                <a:lnTo>
                  <a:pt x="1885" y="144"/>
                </a:lnTo>
                <a:lnTo>
                  <a:pt x="1895" y="150"/>
                </a:lnTo>
                <a:lnTo>
                  <a:pt x="1904" y="156"/>
                </a:lnTo>
                <a:lnTo>
                  <a:pt x="1912" y="161"/>
                </a:lnTo>
                <a:lnTo>
                  <a:pt x="1918" y="167"/>
                </a:lnTo>
                <a:lnTo>
                  <a:pt x="1923" y="171"/>
                </a:lnTo>
                <a:lnTo>
                  <a:pt x="1927" y="175"/>
                </a:lnTo>
                <a:lnTo>
                  <a:pt x="1931" y="179"/>
                </a:lnTo>
                <a:lnTo>
                  <a:pt x="1935" y="183"/>
                </a:lnTo>
                <a:lnTo>
                  <a:pt x="1933" y="192"/>
                </a:lnTo>
                <a:lnTo>
                  <a:pt x="1931" y="202"/>
                </a:lnTo>
                <a:lnTo>
                  <a:pt x="1929" y="209"/>
                </a:lnTo>
                <a:lnTo>
                  <a:pt x="1925" y="219"/>
                </a:lnTo>
                <a:lnTo>
                  <a:pt x="1920" y="227"/>
                </a:lnTo>
                <a:lnTo>
                  <a:pt x="1914" y="234"/>
                </a:lnTo>
                <a:lnTo>
                  <a:pt x="1906" y="240"/>
                </a:lnTo>
                <a:lnTo>
                  <a:pt x="1897" y="246"/>
                </a:lnTo>
                <a:lnTo>
                  <a:pt x="1891" y="252"/>
                </a:lnTo>
                <a:lnTo>
                  <a:pt x="1885" y="259"/>
                </a:lnTo>
                <a:lnTo>
                  <a:pt x="1879" y="267"/>
                </a:lnTo>
                <a:lnTo>
                  <a:pt x="1875" y="275"/>
                </a:lnTo>
                <a:lnTo>
                  <a:pt x="1872" y="286"/>
                </a:lnTo>
                <a:lnTo>
                  <a:pt x="1870" y="298"/>
                </a:lnTo>
                <a:lnTo>
                  <a:pt x="1868" y="309"/>
                </a:lnTo>
                <a:lnTo>
                  <a:pt x="1866" y="323"/>
                </a:lnTo>
                <a:lnTo>
                  <a:pt x="1866" y="338"/>
                </a:lnTo>
                <a:lnTo>
                  <a:pt x="1864" y="353"/>
                </a:lnTo>
                <a:lnTo>
                  <a:pt x="1866" y="371"/>
                </a:lnTo>
                <a:lnTo>
                  <a:pt x="1866" y="388"/>
                </a:lnTo>
                <a:lnTo>
                  <a:pt x="1866" y="405"/>
                </a:lnTo>
                <a:lnTo>
                  <a:pt x="1868" y="426"/>
                </a:lnTo>
                <a:lnTo>
                  <a:pt x="1870" y="445"/>
                </a:lnTo>
                <a:lnTo>
                  <a:pt x="1872" y="468"/>
                </a:lnTo>
                <a:lnTo>
                  <a:pt x="1874" y="480"/>
                </a:lnTo>
                <a:lnTo>
                  <a:pt x="1874" y="493"/>
                </a:lnTo>
                <a:lnTo>
                  <a:pt x="1875" y="507"/>
                </a:lnTo>
                <a:lnTo>
                  <a:pt x="1875" y="522"/>
                </a:lnTo>
                <a:lnTo>
                  <a:pt x="1877" y="539"/>
                </a:lnTo>
                <a:lnTo>
                  <a:pt x="1879" y="555"/>
                </a:lnTo>
                <a:lnTo>
                  <a:pt x="1879" y="574"/>
                </a:lnTo>
                <a:lnTo>
                  <a:pt x="1881" y="591"/>
                </a:lnTo>
                <a:lnTo>
                  <a:pt x="1883" y="610"/>
                </a:lnTo>
                <a:lnTo>
                  <a:pt x="1883" y="632"/>
                </a:lnTo>
                <a:lnTo>
                  <a:pt x="1885" y="653"/>
                </a:lnTo>
                <a:lnTo>
                  <a:pt x="1885" y="674"/>
                </a:lnTo>
                <a:lnTo>
                  <a:pt x="1887" y="697"/>
                </a:lnTo>
                <a:lnTo>
                  <a:pt x="1889" y="720"/>
                </a:lnTo>
                <a:lnTo>
                  <a:pt x="1889" y="745"/>
                </a:lnTo>
                <a:lnTo>
                  <a:pt x="1891" y="770"/>
                </a:lnTo>
                <a:lnTo>
                  <a:pt x="1891" y="797"/>
                </a:lnTo>
                <a:lnTo>
                  <a:pt x="1893" y="823"/>
                </a:lnTo>
                <a:lnTo>
                  <a:pt x="1895" y="850"/>
                </a:lnTo>
                <a:lnTo>
                  <a:pt x="1895" y="879"/>
                </a:lnTo>
                <a:lnTo>
                  <a:pt x="1897" y="908"/>
                </a:lnTo>
                <a:lnTo>
                  <a:pt x="1897" y="939"/>
                </a:lnTo>
                <a:lnTo>
                  <a:pt x="1898" y="969"/>
                </a:lnTo>
                <a:lnTo>
                  <a:pt x="1900" y="1002"/>
                </a:lnTo>
                <a:lnTo>
                  <a:pt x="1900" y="1034"/>
                </a:lnTo>
                <a:lnTo>
                  <a:pt x="1902" y="1067"/>
                </a:lnTo>
                <a:lnTo>
                  <a:pt x="1902" y="1102"/>
                </a:lnTo>
                <a:lnTo>
                  <a:pt x="1904" y="1138"/>
                </a:lnTo>
                <a:lnTo>
                  <a:pt x="1906" y="1173"/>
                </a:lnTo>
                <a:lnTo>
                  <a:pt x="1906" y="1211"/>
                </a:lnTo>
                <a:lnTo>
                  <a:pt x="1908" y="1247"/>
                </a:lnTo>
                <a:lnTo>
                  <a:pt x="1910" y="1288"/>
                </a:lnTo>
                <a:lnTo>
                  <a:pt x="1910" y="1326"/>
                </a:lnTo>
                <a:lnTo>
                  <a:pt x="1912" y="1366"/>
                </a:lnTo>
                <a:lnTo>
                  <a:pt x="1912" y="1403"/>
                </a:lnTo>
                <a:lnTo>
                  <a:pt x="1914" y="1441"/>
                </a:lnTo>
                <a:lnTo>
                  <a:pt x="1914" y="1478"/>
                </a:lnTo>
                <a:lnTo>
                  <a:pt x="1916" y="1512"/>
                </a:lnTo>
                <a:lnTo>
                  <a:pt x="1916" y="1549"/>
                </a:lnTo>
                <a:lnTo>
                  <a:pt x="1916" y="1581"/>
                </a:lnTo>
                <a:lnTo>
                  <a:pt x="1918" y="1616"/>
                </a:lnTo>
                <a:lnTo>
                  <a:pt x="1918" y="1649"/>
                </a:lnTo>
                <a:lnTo>
                  <a:pt x="1918" y="1679"/>
                </a:lnTo>
                <a:lnTo>
                  <a:pt x="1918" y="1710"/>
                </a:lnTo>
                <a:lnTo>
                  <a:pt x="1920" y="1741"/>
                </a:lnTo>
                <a:lnTo>
                  <a:pt x="1920" y="1769"/>
                </a:lnTo>
                <a:lnTo>
                  <a:pt x="1920" y="1798"/>
                </a:lnTo>
                <a:lnTo>
                  <a:pt x="1920" y="1827"/>
                </a:lnTo>
                <a:lnTo>
                  <a:pt x="1920" y="1854"/>
                </a:lnTo>
                <a:lnTo>
                  <a:pt x="1920" y="1879"/>
                </a:lnTo>
                <a:lnTo>
                  <a:pt x="1922" y="1906"/>
                </a:lnTo>
                <a:lnTo>
                  <a:pt x="1922" y="1931"/>
                </a:lnTo>
                <a:lnTo>
                  <a:pt x="1922" y="1954"/>
                </a:lnTo>
                <a:lnTo>
                  <a:pt x="1922" y="1977"/>
                </a:lnTo>
                <a:lnTo>
                  <a:pt x="1922" y="2000"/>
                </a:lnTo>
                <a:lnTo>
                  <a:pt x="1922" y="2021"/>
                </a:lnTo>
                <a:lnTo>
                  <a:pt x="1922" y="2042"/>
                </a:lnTo>
                <a:lnTo>
                  <a:pt x="1922" y="2063"/>
                </a:lnTo>
                <a:lnTo>
                  <a:pt x="1922" y="2082"/>
                </a:lnTo>
                <a:lnTo>
                  <a:pt x="1922" y="2101"/>
                </a:lnTo>
                <a:lnTo>
                  <a:pt x="1922" y="2121"/>
                </a:lnTo>
                <a:lnTo>
                  <a:pt x="1922" y="2138"/>
                </a:lnTo>
                <a:lnTo>
                  <a:pt x="1922" y="2155"/>
                </a:lnTo>
                <a:lnTo>
                  <a:pt x="1922" y="2170"/>
                </a:lnTo>
                <a:lnTo>
                  <a:pt x="1920" y="2201"/>
                </a:lnTo>
                <a:lnTo>
                  <a:pt x="1916" y="2232"/>
                </a:lnTo>
                <a:lnTo>
                  <a:pt x="1914" y="2263"/>
                </a:lnTo>
                <a:lnTo>
                  <a:pt x="1910" y="2289"/>
                </a:lnTo>
                <a:lnTo>
                  <a:pt x="1906" y="2318"/>
                </a:lnTo>
                <a:lnTo>
                  <a:pt x="1902" y="2345"/>
                </a:lnTo>
                <a:lnTo>
                  <a:pt x="1897" y="2370"/>
                </a:lnTo>
                <a:lnTo>
                  <a:pt x="1891" y="2395"/>
                </a:lnTo>
                <a:lnTo>
                  <a:pt x="1887" y="2420"/>
                </a:lnTo>
                <a:lnTo>
                  <a:pt x="1881" y="2443"/>
                </a:lnTo>
                <a:lnTo>
                  <a:pt x="1874" y="2464"/>
                </a:lnTo>
                <a:lnTo>
                  <a:pt x="1868" y="2485"/>
                </a:lnTo>
                <a:lnTo>
                  <a:pt x="1860" y="2506"/>
                </a:lnTo>
                <a:lnTo>
                  <a:pt x="1852" y="2525"/>
                </a:lnTo>
                <a:lnTo>
                  <a:pt x="1845" y="2543"/>
                </a:lnTo>
                <a:lnTo>
                  <a:pt x="1835" y="2562"/>
                </a:lnTo>
                <a:lnTo>
                  <a:pt x="1826" y="2577"/>
                </a:lnTo>
                <a:lnTo>
                  <a:pt x="1818" y="2595"/>
                </a:lnTo>
                <a:lnTo>
                  <a:pt x="1808" y="2608"/>
                </a:lnTo>
                <a:lnTo>
                  <a:pt x="1801" y="2621"/>
                </a:lnTo>
                <a:lnTo>
                  <a:pt x="1793" y="2635"/>
                </a:lnTo>
                <a:lnTo>
                  <a:pt x="1783" y="2646"/>
                </a:lnTo>
                <a:lnTo>
                  <a:pt x="1776" y="2658"/>
                </a:lnTo>
                <a:lnTo>
                  <a:pt x="1768" y="2667"/>
                </a:lnTo>
                <a:lnTo>
                  <a:pt x="1760" y="2675"/>
                </a:lnTo>
                <a:lnTo>
                  <a:pt x="1753" y="2683"/>
                </a:lnTo>
                <a:lnTo>
                  <a:pt x="1747" y="2689"/>
                </a:lnTo>
                <a:lnTo>
                  <a:pt x="1739" y="2694"/>
                </a:lnTo>
                <a:lnTo>
                  <a:pt x="1731" y="2698"/>
                </a:lnTo>
                <a:lnTo>
                  <a:pt x="1724" y="2702"/>
                </a:lnTo>
                <a:lnTo>
                  <a:pt x="1718" y="2704"/>
                </a:lnTo>
                <a:lnTo>
                  <a:pt x="1710" y="2704"/>
                </a:lnTo>
                <a:lnTo>
                  <a:pt x="1705" y="2702"/>
                </a:lnTo>
                <a:lnTo>
                  <a:pt x="1697" y="2698"/>
                </a:lnTo>
                <a:lnTo>
                  <a:pt x="1693" y="2692"/>
                </a:lnTo>
                <a:lnTo>
                  <a:pt x="1687" y="2687"/>
                </a:lnTo>
                <a:lnTo>
                  <a:pt x="1683" y="2681"/>
                </a:lnTo>
                <a:lnTo>
                  <a:pt x="1680" y="2673"/>
                </a:lnTo>
                <a:lnTo>
                  <a:pt x="1676" y="2666"/>
                </a:lnTo>
                <a:lnTo>
                  <a:pt x="1674" y="2656"/>
                </a:lnTo>
                <a:lnTo>
                  <a:pt x="1672" y="2646"/>
                </a:lnTo>
                <a:lnTo>
                  <a:pt x="1670" y="2635"/>
                </a:lnTo>
                <a:lnTo>
                  <a:pt x="1670" y="2621"/>
                </a:lnTo>
                <a:lnTo>
                  <a:pt x="1670" y="2610"/>
                </a:lnTo>
                <a:lnTo>
                  <a:pt x="1670" y="2595"/>
                </a:lnTo>
                <a:lnTo>
                  <a:pt x="1670" y="2581"/>
                </a:lnTo>
                <a:lnTo>
                  <a:pt x="1672" y="2564"/>
                </a:lnTo>
                <a:lnTo>
                  <a:pt x="1674" y="2548"/>
                </a:lnTo>
                <a:lnTo>
                  <a:pt x="1676" y="2531"/>
                </a:lnTo>
                <a:lnTo>
                  <a:pt x="1676" y="2512"/>
                </a:lnTo>
                <a:lnTo>
                  <a:pt x="1674" y="2495"/>
                </a:lnTo>
                <a:lnTo>
                  <a:pt x="1670" y="2476"/>
                </a:lnTo>
                <a:lnTo>
                  <a:pt x="1666" y="2454"/>
                </a:lnTo>
                <a:lnTo>
                  <a:pt x="1660" y="2435"/>
                </a:lnTo>
                <a:lnTo>
                  <a:pt x="1653" y="2414"/>
                </a:lnTo>
                <a:lnTo>
                  <a:pt x="1645" y="2393"/>
                </a:lnTo>
                <a:lnTo>
                  <a:pt x="1635" y="2370"/>
                </a:lnTo>
                <a:lnTo>
                  <a:pt x="1624" y="2347"/>
                </a:lnTo>
                <a:lnTo>
                  <a:pt x="1610" y="2324"/>
                </a:lnTo>
                <a:lnTo>
                  <a:pt x="1595" y="2299"/>
                </a:lnTo>
                <a:lnTo>
                  <a:pt x="1580" y="2274"/>
                </a:lnTo>
                <a:lnTo>
                  <a:pt x="1562" y="2249"/>
                </a:lnTo>
                <a:lnTo>
                  <a:pt x="1543" y="2224"/>
                </a:lnTo>
                <a:lnTo>
                  <a:pt x="1524" y="2197"/>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Freeform 31"/>
          <p:cNvSpPr/>
          <p:nvPr/>
        </p:nvSpPr>
        <p:spPr>
          <a:xfrm>
            <a:off x="6091200" y="3205080"/>
            <a:ext cx="662040" cy="1144800"/>
          </a:xfrm>
          <a:custGeom>
            <a:avLst/>
            <a:gdLst/>
            <a:ahLst/>
            <a:rect l="l" t="t" r="r" b="b"/>
            <a:pathLst>
              <a:path w="833" h="1441">
                <a:moveTo>
                  <a:pt x="486" y="722"/>
                </a:moveTo>
                <a:lnTo>
                  <a:pt x="497" y="683"/>
                </a:lnTo>
                <a:lnTo>
                  <a:pt x="511" y="645"/>
                </a:lnTo>
                <a:lnTo>
                  <a:pt x="522" y="611"/>
                </a:lnTo>
                <a:lnTo>
                  <a:pt x="534" y="576"/>
                </a:lnTo>
                <a:lnTo>
                  <a:pt x="543" y="542"/>
                </a:lnTo>
                <a:lnTo>
                  <a:pt x="553" y="509"/>
                </a:lnTo>
                <a:lnTo>
                  <a:pt x="563" y="478"/>
                </a:lnTo>
                <a:lnTo>
                  <a:pt x="570" y="447"/>
                </a:lnTo>
                <a:lnTo>
                  <a:pt x="578" y="419"/>
                </a:lnTo>
                <a:lnTo>
                  <a:pt x="584" y="392"/>
                </a:lnTo>
                <a:lnTo>
                  <a:pt x="589" y="367"/>
                </a:lnTo>
                <a:lnTo>
                  <a:pt x="595" y="342"/>
                </a:lnTo>
                <a:lnTo>
                  <a:pt x="599" y="317"/>
                </a:lnTo>
                <a:lnTo>
                  <a:pt x="603" y="296"/>
                </a:lnTo>
                <a:lnTo>
                  <a:pt x="607" y="273"/>
                </a:lnTo>
                <a:lnTo>
                  <a:pt x="609" y="254"/>
                </a:lnTo>
                <a:lnTo>
                  <a:pt x="611" y="236"/>
                </a:lnTo>
                <a:lnTo>
                  <a:pt x="613" y="221"/>
                </a:lnTo>
                <a:lnTo>
                  <a:pt x="613" y="206"/>
                </a:lnTo>
                <a:lnTo>
                  <a:pt x="614" y="190"/>
                </a:lnTo>
                <a:lnTo>
                  <a:pt x="614" y="175"/>
                </a:lnTo>
                <a:lnTo>
                  <a:pt x="613" y="162"/>
                </a:lnTo>
                <a:lnTo>
                  <a:pt x="613" y="148"/>
                </a:lnTo>
                <a:lnTo>
                  <a:pt x="611" y="137"/>
                </a:lnTo>
                <a:lnTo>
                  <a:pt x="609" y="125"/>
                </a:lnTo>
                <a:lnTo>
                  <a:pt x="607" y="114"/>
                </a:lnTo>
                <a:lnTo>
                  <a:pt x="603" y="102"/>
                </a:lnTo>
                <a:lnTo>
                  <a:pt x="601" y="92"/>
                </a:lnTo>
                <a:lnTo>
                  <a:pt x="597" y="83"/>
                </a:lnTo>
                <a:lnTo>
                  <a:pt x="593" y="73"/>
                </a:lnTo>
                <a:lnTo>
                  <a:pt x="589" y="66"/>
                </a:lnTo>
                <a:lnTo>
                  <a:pt x="586" y="58"/>
                </a:lnTo>
                <a:lnTo>
                  <a:pt x="580" y="54"/>
                </a:lnTo>
                <a:lnTo>
                  <a:pt x="576" y="48"/>
                </a:lnTo>
                <a:lnTo>
                  <a:pt x="574" y="45"/>
                </a:lnTo>
                <a:lnTo>
                  <a:pt x="570" y="41"/>
                </a:lnTo>
                <a:lnTo>
                  <a:pt x="568" y="37"/>
                </a:lnTo>
                <a:lnTo>
                  <a:pt x="566" y="33"/>
                </a:lnTo>
                <a:lnTo>
                  <a:pt x="566" y="31"/>
                </a:lnTo>
                <a:lnTo>
                  <a:pt x="566" y="27"/>
                </a:lnTo>
                <a:lnTo>
                  <a:pt x="566" y="25"/>
                </a:lnTo>
                <a:lnTo>
                  <a:pt x="566" y="21"/>
                </a:lnTo>
                <a:lnTo>
                  <a:pt x="568" y="20"/>
                </a:lnTo>
                <a:lnTo>
                  <a:pt x="570" y="16"/>
                </a:lnTo>
                <a:lnTo>
                  <a:pt x="574" y="14"/>
                </a:lnTo>
                <a:lnTo>
                  <a:pt x="576" y="12"/>
                </a:lnTo>
                <a:lnTo>
                  <a:pt x="580" y="8"/>
                </a:lnTo>
                <a:lnTo>
                  <a:pt x="586" y="6"/>
                </a:lnTo>
                <a:lnTo>
                  <a:pt x="588" y="4"/>
                </a:lnTo>
                <a:lnTo>
                  <a:pt x="591" y="2"/>
                </a:lnTo>
                <a:lnTo>
                  <a:pt x="595" y="2"/>
                </a:lnTo>
                <a:lnTo>
                  <a:pt x="601" y="0"/>
                </a:lnTo>
                <a:lnTo>
                  <a:pt x="607" y="2"/>
                </a:lnTo>
                <a:lnTo>
                  <a:pt x="613" y="2"/>
                </a:lnTo>
                <a:lnTo>
                  <a:pt x="620" y="4"/>
                </a:lnTo>
                <a:lnTo>
                  <a:pt x="630" y="6"/>
                </a:lnTo>
                <a:lnTo>
                  <a:pt x="637" y="8"/>
                </a:lnTo>
                <a:lnTo>
                  <a:pt x="647" y="12"/>
                </a:lnTo>
                <a:lnTo>
                  <a:pt x="659" y="16"/>
                </a:lnTo>
                <a:lnTo>
                  <a:pt x="670" y="21"/>
                </a:lnTo>
                <a:lnTo>
                  <a:pt x="682" y="25"/>
                </a:lnTo>
                <a:lnTo>
                  <a:pt x="695" y="31"/>
                </a:lnTo>
                <a:lnTo>
                  <a:pt x="707" y="39"/>
                </a:lnTo>
                <a:lnTo>
                  <a:pt x="722" y="46"/>
                </a:lnTo>
                <a:lnTo>
                  <a:pt x="735" y="52"/>
                </a:lnTo>
                <a:lnTo>
                  <a:pt x="747" y="60"/>
                </a:lnTo>
                <a:lnTo>
                  <a:pt x="758" y="68"/>
                </a:lnTo>
                <a:lnTo>
                  <a:pt x="770" y="75"/>
                </a:lnTo>
                <a:lnTo>
                  <a:pt x="780" y="83"/>
                </a:lnTo>
                <a:lnTo>
                  <a:pt x="789" y="89"/>
                </a:lnTo>
                <a:lnTo>
                  <a:pt x="797" y="96"/>
                </a:lnTo>
                <a:lnTo>
                  <a:pt x="805" y="104"/>
                </a:lnTo>
                <a:lnTo>
                  <a:pt x="810" y="112"/>
                </a:lnTo>
                <a:lnTo>
                  <a:pt x="816" y="119"/>
                </a:lnTo>
                <a:lnTo>
                  <a:pt x="822" y="125"/>
                </a:lnTo>
                <a:lnTo>
                  <a:pt x="826" y="133"/>
                </a:lnTo>
                <a:lnTo>
                  <a:pt x="828" y="140"/>
                </a:lnTo>
                <a:lnTo>
                  <a:pt x="831" y="148"/>
                </a:lnTo>
                <a:lnTo>
                  <a:pt x="831" y="156"/>
                </a:lnTo>
                <a:lnTo>
                  <a:pt x="833" y="163"/>
                </a:lnTo>
                <a:lnTo>
                  <a:pt x="831" y="169"/>
                </a:lnTo>
                <a:lnTo>
                  <a:pt x="831" y="179"/>
                </a:lnTo>
                <a:lnTo>
                  <a:pt x="831" y="187"/>
                </a:lnTo>
                <a:lnTo>
                  <a:pt x="829" y="196"/>
                </a:lnTo>
                <a:lnTo>
                  <a:pt x="829" y="208"/>
                </a:lnTo>
                <a:lnTo>
                  <a:pt x="828" y="217"/>
                </a:lnTo>
                <a:lnTo>
                  <a:pt x="826" y="229"/>
                </a:lnTo>
                <a:lnTo>
                  <a:pt x="824" y="242"/>
                </a:lnTo>
                <a:lnTo>
                  <a:pt x="820" y="256"/>
                </a:lnTo>
                <a:lnTo>
                  <a:pt x="818" y="269"/>
                </a:lnTo>
                <a:lnTo>
                  <a:pt x="814" y="284"/>
                </a:lnTo>
                <a:lnTo>
                  <a:pt x="812" y="300"/>
                </a:lnTo>
                <a:lnTo>
                  <a:pt x="808" y="315"/>
                </a:lnTo>
                <a:lnTo>
                  <a:pt x="805" y="334"/>
                </a:lnTo>
                <a:lnTo>
                  <a:pt x="799" y="352"/>
                </a:lnTo>
                <a:lnTo>
                  <a:pt x="795" y="371"/>
                </a:lnTo>
                <a:lnTo>
                  <a:pt x="791" y="390"/>
                </a:lnTo>
                <a:lnTo>
                  <a:pt x="785" y="411"/>
                </a:lnTo>
                <a:lnTo>
                  <a:pt x="778" y="432"/>
                </a:lnTo>
                <a:lnTo>
                  <a:pt x="772" y="453"/>
                </a:lnTo>
                <a:lnTo>
                  <a:pt x="764" y="476"/>
                </a:lnTo>
                <a:lnTo>
                  <a:pt x="757" y="499"/>
                </a:lnTo>
                <a:lnTo>
                  <a:pt x="749" y="522"/>
                </a:lnTo>
                <a:lnTo>
                  <a:pt x="739" y="547"/>
                </a:lnTo>
                <a:lnTo>
                  <a:pt x="730" y="572"/>
                </a:lnTo>
                <a:lnTo>
                  <a:pt x="718" y="599"/>
                </a:lnTo>
                <a:lnTo>
                  <a:pt x="709" y="626"/>
                </a:lnTo>
                <a:lnTo>
                  <a:pt x="697" y="653"/>
                </a:lnTo>
                <a:lnTo>
                  <a:pt x="685" y="682"/>
                </a:lnTo>
                <a:lnTo>
                  <a:pt x="672" y="712"/>
                </a:lnTo>
                <a:lnTo>
                  <a:pt x="661" y="743"/>
                </a:lnTo>
                <a:lnTo>
                  <a:pt x="647" y="774"/>
                </a:lnTo>
                <a:lnTo>
                  <a:pt x="632" y="804"/>
                </a:lnTo>
                <a:lnTo>
                  <a:pt x="618" y="835"/>
                </a:lnTo>
                <a:lnTo>
                  <a:pt x="603" y="866"/>
                </a:lnTo>
                <a:lnTo>
                  <a:pt x="589" y="895"/>
                </a:lnTo>
                <a:lnTo>
                  <a:pt x="574" y="923"/>
                </a:lnTo>
                <a:lnTo>
                  <a:pt x="559" y="952"/>
                </a:lnTo>
                <a:lnTo>
                  <a:pt x="543" y="979"/>
                </a:lnTo>
                <a:lnTo>
                  <a:pt x="526" y="1004"/>
                </a:lnTo>
                <a:lnTo>
                  <a:pt x="511" y="1029"/>
                </a:lnTo>
                <a:lnTo>
                  <a:pt x="495" y="1054"/>
                </a:lnTo>
                <a:lnTo>
                  <a:pt x="480" y="1077"/>
                </a:lnTo>
                <a:lnTo>
                  <a:pt x="463" y="1098"/>
                </a:lnTo>
                <a:lnTo>
                  <a:pt x="447" y="1119"/>
                </a:lnTo>
                <a:lnTo>
                  <a:pt x="430" y="1140"/>
                </a:lnTo>
                <a:lnTo>
                  <a:pt x="415" y="1159"/>
                </a:lnTo>
                <a:lnTo>
                  <a:pt x="399" y="1177"/>
                </a:lnTo>
                <a:lnTo>
                  <a:pt x="367" y="1211"/>
                </a:lnTo>
                <a:lnTo>
                  <a:pt x="350" y="1227"/>
                </a:lnTo>
                <a:lnTo>
                  <a:pt x="334" y="1242"/>
                </a:lnTo>
                <a:lnTo>
                  <a:pt x="317" y="1257"/>
                </a:lnTo>
                <a:lnTo>
                  <a:pt x="302" y="1273"/>
                </a:lnTo>
                <a:lnTo>
                  <a:pt x="284" y="1286"/>
                </a:lnTo>
                <a:lnTo>
                  <a:pt x="269" y="1301"/>
                </a:lnTo>
                <a:lnTo>
                  <a:pt x="252" y="1313"/>
                </a:lnTo>
                <a:lnTo>
                  <a:pt x="236" y="1326"/>
                </a:lnTo>
                <a:lnTo>
                  <a:pt x="219" y="1338"/>
                </a:lnTo>
                <a:lnTo>
                  <a:pt x="204" y="1349"/>
                </a:lnTo>
                <a:lnTo>
                  <a:pt x="186" y="1359"/>
                </a:lnTo>
                <a:lnTo>
                  <a:pt x="171" y="1369"/>
                </a:lnTo>
                <a:lnTo>
                  <a:pt x="154" y="1376"/>
                </a:lnTo>
                <a:lnTo>
                  <a:pt x="138" y="1386"/>
                </a:lnTo>
                <a:lnTo>
                  <a:pt x="121" y="1393"/>
                </a:lnTo>
                <a:lnTo>
                  <a:pt x="108" y="1403"/>
                </a:lnTo>
                <a:lnTo>
                  <a:pt x="92" y="1411"/>
                </a:lnTo>
                <a:lnTo>
                  <a:pt x="79" y="1416"/>
                </a:lnTo>
                <a:lnTo>
                  <a:pt x="67" y="1422"/>
                </a:lnTo>
                <a:lnTo>
                  <a:pt x="56" y="1428"/>
                </a:lnTo>
                <a:lnTo>
                  <a:pt x="46" y="1432"/>
                </a:lnTo>
                <a:lnTo>
                  <a:pt x="37" y="1436"/>
                </a:lnTo>
                <a:lnTo>
                  <a:pt x="29" y="1438"/>
                </a:lnTo>
                <a:lnTo>
                  <a:pt x="21" y="1440"/>
                </a:lnTo>
                <a:lnTo>
                  <a:pt x="15" y="1441"/>
                </a:lnTo>
                <a:lnTo>
                  <a:pt x="10" y="1441"/>
                </a:lnTo>
                <a:lnTo>
                  <a:pt x="6" y="1441"/>
                </a:lnTo>
                <a:lnTo>
                  <a:pt x="4" y="1440"/>
                </a:lnTo>
                <a:lnTo>
                  <a:pt x="2" y="1440"/>
                </a:lnTo>
                <a:lnTo>
                  <a:pt x="2" y="1438"/>
                </a:lnTo>
                <a:lnTo>
                  <a:pt x="0" y="1434"/>
                </a:lnTo>
                <a:lnTo>
                  <a:pt x="0" y="1430"/>
                </a:lnTo>
                <a:lnTo>
                  <a:pt x="2" y="1422"/>
                </a:lnTo>
                <a:lnTo>
                  <a:pt x="6" y="1415"/>
                </a:lnTo>
                <a:lnTo>
                  <a:pt x="12" y="1407"/>
                </a:lnTo>
                <a:lnTo>
                  <a:pt x="19" y="1395"/>
                </a:lnTo>
                <a:lnTo>
                  <a:pt x="29" y="1384"/>
                </a:lnTo>
                <a:lnTo>
                  <a:pt x="38" y="1370"/>
                </a:lnTo>
                <a:lnTo>
                  <a:pt x="52" y="1357"/>
                </a:lnTo>
                <a:lnTo>
                  <a:pt x="65" y="1340"/>
                </a:lnTo>
                <a:lnTo>
                  <a:pt x="81" y="1322"/>
                </a:lnTo>
                <a:lnTo>
                  <a:pt x="100" y="1303"/>
                </a:lnTo>
                <a:lnTo>
                  <a:pt x="119" y="1284"/>
                </a:lnTo>
                <a:lnTo>
                  <a:pt x="140" y="1263"/>
                </a:lnTo>
                <a:lnTo>
                  <a:pt x="163" y="1240"/>
                </a:lnTo>
                <a:lnTo>
                  <a:pt x="188" y="1217"/>
                </a:lnTo>
                <a:lnTo>
                  <a:pt x="213" y="1190"/>
                </a:lnTo>
                <a:lnTo>
                  <a:pt x="236" y="1165"/>
                </a:lnTo>
                <a:lnTo>
                  <a:pt x="259" y="1138"/>
                </a:lnTo>
                <a:lnTo>
                  <a:pt x="282" y="1111"/>
                </a:lnTo>
                <a:lnTo>
                  <a:pt x="303" y="1083"/>
                </a:lnTo>
                <a:lnTo>
                  <a:pt x="325" y="1054"/>
                </a:lnTo>
                <a:lnTo>
                  <a:pt x="346" y="1023"/>
                </a:lnTo>
                <a:lnTo>
                  <a:pt x="365" y="992"/>
                </a:lnTo>
                <a:lnTo>
                  <a:pt x="382" y="962"/>
                </a:lnTo>
                <a:lnTo>
                  <a:pt x="399" y="929"/>
                </a:lnTo>
                <a:lnTo>
                  <a:pt x="417" y="896"/>
                </a:lnTo>
                <a:lnTo>
                  <a:pt x="432" y="862"/>
                </a:lnTo>
                <a:lnTo>
                  <a:pt x="447" y="829"/>
                </a:lnTo>
                <a:lnTo>
                  <a:pt x="461" y="793"/>
                </a:lnTo>
                <a:lnTo>
                  <a:pt x="472" y="758"/>
                </a:lnTo>
                <a:lnTo>
                  <a:pt x="486" y="722"/>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Freeform 32"/>
          <p:cNvSpPr/>
          <p:nvPr/>
        </p:nvSpPr>
        <p:spPr>
          <a:xfrm>
            <a:off x="6613560" y="3754440"/>
            <a:ext cx="473040" cy="466560"/>
          </a:xfrm>
          <a:custGeom>
            <a:avLst/>
            <a:gdLst/>
            <a:ahLst/>
            <a:rect l="l" t="t" r="r" b="b"/>
            <a:pathLst>
              <a:path w="595" h="589">
                <a:moveTo>
                  <a:pt x="458" y="238"/>
                </a:moveTo>
                <a:lnTo>
                  <a:pt x="474" y="253"/>
                </a:lnTo>
                <a:lnTo>
                  <a:pt x="489" y="269"/>
                </a:lnTo>
                <a:lnTo>
                  <a:pt x="503" y="282"/>
                </a:lnTo>
                <a:lnTo>
                  <a:pt x="516" y="298"/>
                </a:lnTo>
                <a:lnTo>
                  <a:pt x="528" y="313"/>
                </a:lnTo>
                <a:lnTo>
                  <a:pt x="539" y="326"/>
                </a:lnTo>
                <a:lnTo>
                  <a:pt x="551" y="342"/>
                </a:lnTo>
                <a:lnTo>
                  <a:pt x="558" y="355"/>
                </a:lnTo>
                <a:lnTo>
                  <a:pt x="568" y="371"/>
                </a:lnTo>
                <a:lnTo>
                  <a:pt x="574" y="386"/>
                </a:lnTo>
                <a:lnTo>
                  <a:pt x="581" y="399"/>
                </a:lnTo>
                <a:lnTo>
                  <a:pt x="585" y="415"/>
                </a:lnTo>
                <a:lnTo>
                  <a:pt x="589" y="430"/>
                </a:lnTo>
                <a:lnTo>
                  <a:pt x="593" y="443"/>
                </a:lnTo>
                <a:lnTo>
                  <a:pt x="595" y="459"/>
                </a:lnTo>
                <a:lnTo>
                  <a:pt x="595" y="474"/>
                </a:lnTo>
                <a:lnTo>
                  <a:pt x="595" y="488"/>
                </a:lnTo>
                <a:lnTo>
                  <a:pt x="595" y="501"/>
                </a:lnTo>
                <a:lnTo>
                  <a:pt x="593" y="513"/>
                </a:lnTo>
                <a:lnTo>
                  <a:pt x="593" y="524"/>
                </a:lnTo>
                <a:lnTo>
                  <a:pt x="591" y="534"/>
                </a:lnTo>
                <a:lnTo>
                  <a:pt x="589" y="543"/>
                </a:lnTo>
                <a:lnTo>
                  <a:pt x="587" y="553"/>
                </a:lnTo>
                <a:lnTo>
                  <a:pt x="583" y="560"/>
                </a:lnTo>
                <a:lnTo>
                  <a:pt x="581" y="566"/>
                </a:lnTo>
                <a:lnTo>
                  <a:pt x="578" y="574"/>
                </a:lnTo>
                <a:lnTo>
                  <a:pt x="574" y="578"/>
                </a:lnTo>
                <a:lnTo>
                  <a:pt x="570" y="582"/>
                </a:lnTo>
                <a:lnTo>
                  <a:pt x="564" y="585"/>
                </a:lnTo>
                <a:lnTo>
                  <a:pt x="558" y="587"/>
                </a:lnTo>
                <a:lnTo>
                  <a:pt x="553" y="589"/>
                </a:lnTo>
                <a:lnTo>
                  <a:pt x="547" y="589"/>
                </a:lnTo>
                <a:lnTo>
                  <a:pt x="541" y="589"/>
                </a:lnTo>
                <a:lnTo>
                  <a:pt x="537" y="587"/>
                </a:lnTo>
                <a:lnTo>
                  <a:pt x="531" y="584"/>
                </a:lnTo>
                <a:lnTo>
                  <a:pt x="526" y="580"/>
                </a:lnTo>
                <a:lnTo>
                  <a:pt x="518" y="576"/>
                </a:lnTo>
                <a:lnTo>
                  <a:pt x="510" y="568"/>
                </a:lnTo>
                <a:lnTo>
                  <a:pt x="501" y="562"/>
                </a:lnTo>
                <a:lnTo>
                  <a:pt x="491" y="553"/>
                </a:lnTo>
                <a:lnTo>
                  <a:pt x="482" y="543"/>
                </a:lnTo>
                <a:lnTo>
                  <a:pt x="470" y="534"/>
                </a:lnTo>
                <a:lnTo>
                  <a:pt x="457" y="522"/>
                </a:lnTo>
                <a:lnTo>
                  <a:pt x="443" y="509"/>
                </a:lnTo>
                <a:lnTo>
                  <a:pt x="430" y="493"/>
                </a:lnTo>
                <a:lnTo>
                  <a:pt x="414" y="478"/>
                </a:lnTo>
                <a:lnTo>
                  <a:pt x="399" y="463"/>
                </a:lnTo>
                <a:lnTo>
                  <a:pt x="384" y="445"/>
                </a:lnTo>
                <a:lnTo>
                  <a:pt x="366" y="426"/>
                </a:lnTo>
                <a:lnTo>
                  <a:pt x="347" y="407"/>
                </a:lnTo>
                <a:lnTo>
                  <a:pt x="328" y="386"/>
                </a:lnTo>
                <a:lnTo>
                  <a:pt x="309" y="363"/>
                </a:lnTo>
                <a:lnTo>
                  <a:pt x="288" y="340"/>
                </a:lnTo>
                <a:lnTo>
                  <a:pt x="266" y="315"/>
                </a:lnTo>
                <a:lnTo>
                  <a:pt x="243" y="290"/>
                </a:lnTo>
                <a:lnTo>
                  <a:pt x="220" y="263"/>
                </a:lnTo>
                <a:lnTo>
                  <a:pt x="195" y="234"/>
                </a:lnTo>
                <a:lnTo>
                  <a:pt x="170" y="205"/>
                </a:lnTo>
                <a:lnTo>
                  <a:pt x="144" y="175"/>
                </a:lnTo>
                <a:lnTo>
                  <a:pt x="117" y="142"/>
                </a:lnTo>
                <a:lnTo>
                  <a:pt x="88" y="110"/>
                </a:lnTo>
                <a:lnTo>
                  <a:pt x="59" y="77"/>
                </a:lnTo>
                <a:lnTo>
                  <a:pt x="30" y="40"/>
                </a:lnTo>
                <a:lnTo>
                  <a:pt x="0" y="6"/>
                </a:lnTo>
                <a:lnTo>
                  <a:pt x="11" y="2"/>
                </a:lnTo>
                <a:lnTo>
                  <a:pt x="23" y="2"/>
                </a:lnTo>
                <a:lnTo>
                  <a:pt x="34" y="0"/>
                </a:lnTo>
                <a:lnTo>
                  <a:pt x="48" y="0"/>
                </a:lnTo>
                <a:lnTo>
                  <a:pt x="59" y="0"/>
                </a:lnTo>
                <a:lnTo>
                  <a:pt x="71" y="0"/>
                </a:lnTo>
                <a:lnTo>
                  <a:pt x="84" y="2"/>
                </a:lnTo>
                <a:lnTo>
                  <a:pt x="96" y="4"/>
                </a:lnTo>
                <a:lnTo>
                  <a:pt x="109" y="8"/>
                </a:lnTo>
                <a:lnTo>
                  <a:pt x="122" y="10"/>
                </a:lnTo>
                <a:lnTo>
                  <a:pt x="136" y="14"/>
                </a:lnTo>
                <a:lnTo>
                  <a:pt x="149" y="19"/>
                </a:lnTo>
                <a:lnTo>
                  <a:pt x="165" y="23"/>
                </a:lnTo>
                <a:lnTo>
                  <a:pt x="180" y="29"/>
                </a:lnTo>
                <a:lnTo>
                  <a:pt x="195" y="37"/>
                </a:lnTo>
                <a:lnTo>
                  <a:pt x="211" y="44"/>
                </a:lnTo>
                <a:lnTo>
                  <a:pt x="226" y="52"/>
                </a:lnTo>
                <a:lnTo>
                  <a:pt x="243" y="60"/>
                </a:lnTo>
                <a:lnTo>
                  <a:pt x="259" y="69"/>
                </a:lnTo>
                <a:lnTo>
                  <a:pt x="274" y="79"/>
                </a:lnTo>
                <a:lnTo>
                  <a:pt x="290" y="88"/>
                </a:lnTo>
                <a:lnTo>
                  <a:pt x="305" y="98"/>
                </a:lnTo>
                <a:lnTo>
                  <a:pt x="320" y="110"/>
                </a:lnTo>
                <a:lnTo>
                  <a:pt x="336" y="121"/>
                </a:lnTo>
                <a:lnTo>
                  <a:pt x="351" y="134"/>
                </a:lnTo>
                <a:lnTo>
                  <a:pt x="366" y="148"/>
                </a:lnTo>
                <a:lnTo>
                  <a:pt x="380" y="161"/>
                </a:lnTo>
                <a:lnTo>
                  <a:pt x="395" y="175"/>
                </a:lnTo>
                <a:lnTo>
                  <a:pt x="410" y="190"/>
                </a:lnTo>
                <a:lnTo>
                  <a:pt x="428" y="205"/>
                </a:lnTo>
                <a:lnTo>
                  <a:pt x="443" y="221"/>
                </a:lnTo>
                <a:lnTo>
                  <a:pt x="458" y="238"/>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Freeform 33"/>
          <p:cNvSpPr/>
          <p:nvPr/>
        </p:nvSpPr>
        <p:spPr>
          <a:xfrm>
            <a:off x="5964120" y="4479840"/>
            <a:ext cx="1309680" cy="216000"/>
          </a:xfrm>
          <a:custGeom>
            <a:avLst/>
            <a:gdLst/>
            <a:ahLst/>
            <a:rect l="l" t="t" r="r" b="b"/>
            <a:pathLst>
              <a:path w="1649" h="273">
                <a:moveTo>
                  <a:pt x="831" y="79"/>
                </a:moveTo>
                <a:lnTo>
                  <a:pt x="862" y="73"/>
                </a:lnTo>
                <a:lnTo>
                  <a:pt x="891" y="68"/>
                </a:lnTo>
                <a:lnTo>
                  <a:pt x="921" y="64"/>
                </a:lnTo>
                <a:lnTo>
                  <a:pt x="948" y="60"/>
                </a:lnTo>
                <a:lnTo>
                  <a:pt x="977" y="54"/>
                </a:lnTo>
                <a:lnTo>
                  <a:pt x="1004" y="50"/>
                </a:lnTo>
                <a:lnTo>
                  <a:pt x="1029" y="47"/>
                </a:lnTo>
                <a:lnTo>
                  <a:pt x="1054" y="43"/>
                </a:lnTo>
                <a:lnTo>
                  <a:pt x="1077" y="39"/>
                </a:lnTo>
                <a:lnTo>
                  <a:pt x="1100" y="37"/>
                </a:lnTo>
                <a:lnTo>
                  <a:pt x="1123" y="33"/>
                </a:lnTo>
                <a:lnTo>
                  <a:pt x="1144" y="29"/>
                </a:lnTo>
                <a:lnTo>
                  <a:pt x="1165" y="27"/>
                </a:lnTo>
                <a:lnTo>
                  <a:pt x="1184" y="23"/>
                </a:lnTo>
                <a:lnTo>
                  <a:pt x="1204" y="22"/>
                </a:lnTo>
                <a:lnTo>
                  <a:pt x="1221" y="20"/>
                </a:lnTo>
                <a:lnTo>
                  <a:pt x="1238" y="16"/>
                </a:lnTo>
                <a:lnTo>
                  <a:pt x="1253" y="14"/>
                </a:lnTo>
                <a:lnTo>
                  <a:pt x="1269" y="12"/>
                </a:lnTo>
                <a:lnTo>
                  <a:pt x="1284" y="10"/>
                </a:lnTo>
                <a:lnTo>
                  <a:pt x="1298" y="8"/>
                </a:lnTo>
                <a:lnTo>
                  <a:pt x="1309" y="6"/>
                </a:lnTo>
                <a:lnTo>
                  <a:pt x="1321" y="6"/>
                </a:lnTo>
                <a:lnTo>
                  <a:pt x="1332" y="4"/>
                </a:lnTo>
                <a:lnTo>
                  <a:pt x="1342" y="2"/>
                </a:lnTo>
                <a:lnTo>
                  <a:pt x="1351" y="2"/>
                </a:lnTo>
                <a:lnTo>
                  <a:pt x="1359" y="0"/>
                </a:lnTo>
                <a:lnTo>
                  <a:pt x="1367" y="0"/>
                </a:lnTo>
                <a:lnTo>
                  <a:pt x="1374" y="0"/>
                </a:lnTo>
                <a:lnTo>
                  <a:pt x="1380" y="0"/>
                </a:lnTo>
                <a:lnTo>
                  <a:pt x="1384" y="0"/>
                </a:lnTo>
                <a:lnTo>
                  <a:pt x="1388" y="0"/>
                </a:lnTo>
                <a:lnTo>
                  <a:pt x="1403" y="0"/>
                </a:lnTo>
                <a:lnTo>
                  <a:pt x="1419" y="2"/>
                </a:lnTo>
                <a:lnTo>
                  <a:pt x="1434" y="4"/>
                </a:lnTo>
                <a:lnTo>
                  <a:pt x="1451" y="8"/>
                </a:lnTo>
                <a:lnTo>
                  <a:pt x="1470" y="12"/>
                </a:lnTo>
                <a:lnTo>
                  <a:pt x="1488" y="16"/>
                </a:lnTo>
                <a:lnTo>
                  <a:pt x="1526" y="25"/>
                </a:lnTo>
                <a:lnTo>
                  <a:pt x="1532" y="31"/>
                </a:lnTo>
                <a:lnTo>
                  <a:pt x="1539" y="37"/>
                </a:lnTo>
                <a:lnTo>
                  <a:pt x="1547" y="43"/>
                </a:lnTo>
                <a:lnTo>
                  <a:pt x="1555" y="50"/>
                </a:lnTo>
                <a:lnTo>
                  <a:pt x="1563" y="58"/>
                </a:lnTo>
                <a:lnTo>
                  <a:pt x="1570" y="66"/>
                </a:lnTo>
                <a:lnTo>
                  <a:pt x="1587" y="83"/>
                </a:lnTo>
                <a:lnTo>
                  <a:pt x="1603" y="102"/>
                </a:lnTo>
                <a:lnTo>
                  <a:pt x="1620" y="123"/>
                </a:lnTo>
                <a:lnTo>
                  <a:pt x="1635" y="144"/>
                </a:lnTo>
                <a:lnTo>
                  <a:pt x="1649" y="169"/>
                </a:lnTo>
                <a:lnTo>
                  <a:pt x="1635" y="169"/>
                </a:lnTo>
                <a:lnTo>
                  <a:pt x="1620" y="169"/>
                </a:lnTo>
                <a:lnTo>
                  <a:pt x="1603" y="169"/>
                </a:lnTo>
                <a:lnTo>
                  <a:pt x="1586" y="169"/>
                </a:lnTo>
                <a:lnTo>
                  <a:pt x="1568" y="169"/>
                </a:lnTo>
                <a:lnTo>
                  <a:pt x="1549" y="169"/>
                </a:lnTo>
                <a:lnTo>
                  <a:pt x="1530" y="171"/>
                </a:lnTo>
                <a:lnTo>
                  <a:pt x="1509" y="171"/>
                </a:lnTo>
                <a:lnTo>
                  <a:pt x="1488" y="171"/>
                </a:lnTo>
                <a:lnTo>
                  <a:pt x="1467" y="173"/>
                </a:lnTo>
                <a:lnTo>
                  <a:pt x="1444" y="173"/>
                </a:lnTo>
                <a:lnTo>
                  <a:pt x="1419" y="175"/>
                </a:lnTo>
                <a:lnTo>
                  <a:pt x="1396" y="175"/>
                </a:lnTo>
                <a:lnTo>
                  <a:pt x="1369" y="177"/>
                </a:lnTo>
                <a:lnTo>
                  <a:pt x="1344" y="179"/>
                </a:lnTo>
                <a:lnTo>
                  <a:pt x="1315" y="179"/>
                </a:lnTo>
                <a:lnTo>
                  <a:pt x="1288" y="181"/>
                </a:lnTo>
                <a:lnTo>
                  <a:pt x="1259" y="183"/>
                </a:lnTo>
                <a:lnTo>
                  <a:pt x="1228" y="185"/>
                </a:lnTo>
                <a:lnTo>
                  <a:pt x="1198" y="187"/>
                </a:lnTo>
                <a:lnTo>
                  <a:pt x="1167" y="189"/>
                </a:lnTo>
                <a:lnTo>
                  <a:pt x="1134" y="190"/>
                </a:lnTo>
                <a:lnTo>
                  <a:pt x="1102" y="194"/>
                </a:lnTo>
                <a:lnTo>
                  <a:pt x="1067" y="196"/>
                </a:lnTo>
                <a:lnTo>
                  <a:pt x="1033" y="198"/>
                </a:lnTo>
                <a:lnTo>
                  <a:pt x="998" y="202"/>
                </a:lnTo>
                <a:lnTo>
                  <a:pt x="962" y="204"/>
                </a:lnTo>
                <a:lnTo>
                  <a:pt x="925" y="208"/>
                </a:lnTo>
                <a:lnTo>
                  <a:pt x="887" y="210"/>
                </a:lnTo>
                <a:lnTo>
                  <a:pt x="848" y="213"/>
                </a:lnTo>
                <a:lnTo>
                  <a:pt x="808" y="217"/>
                </a:lnTo>
                <a:lnTo>
                  <a:pt x="768" y="221"/>
                </a:lnTo>
                <a:lnTo>
                  <a:pt x="727" y="225"/>
                </a:lnTo>
                <a:lnTo>
                  <a:pt x="687" y="229"/>
                </a:lnTo>
                <a:lnTo>
                  <a:pt x="647" y="231"/>
                </a:lnTo>
                <a:lnTo>
                  <a:pt x="608" y="235"/>
                </a:lnTo>
                <a:lnTo>
                  <a:pt x="572" y="238"/>
                </a:lnTo>
                <a:lnTo>
                  <a:pt x="537" y="240"/>
                </a:lnTo>
                <a:lnTo>
                  <a:pt x="501" y="244"/>
                </a:lnTo>
                <a:lnTo>
                  <a:pt x="468" y="246"/>
                </a:lnTo>
                <a:lnTo>
                  <a:pt x="436" y="248"/>
                </a:lnTo>
                <a:lnTo>
                  <a:pt x="405" y="250"/>
                </a:lnTo>
                <a:lnTo>
                  <a:pt x="374" y="254"/>
                </a:lnTo>
                <a:lnTo>
                  <a:pt x="345" y="256"/>
                </a:lnTo>
                <a:lnTo>
                  <a:pt x="317" y="258"/>
                </a:lnTo>
                <a:lnTo>
                  <a:pt x="290" y="260"/>
                </a:lnTo>
                <a:lnTo>
                  <a:pt x="265" y="260"/>
                </a:lnTo>
                <a:lnTo>
                  <a:pt x="240" y="261"/>
                </a:lnTo>
                <a:lnTo>
                  <a:pt x="217" y="263"/>
                </a:lnTo>
                <a:lnTo>
                  <a:pt x="194" y="265"/>
                </a:lnTo>
                <a:lnTo>
                  <a:pt x="173" y="265"/>
                </a:lnTo>
                <a:lnTo>
                  <a:pt x="151" y="267"/>
                </a:lnTo>
                <a:lnTo>
                  <a:pt x="132" y="267"/>
                </a:lnTo>
                <a:lnTo>
                  <a:pt x="115" y="269"/>
                </a:lnTo>
                <a:lnTo>
                  <a:pt x="98" y="269"/>
                </a:lnTo>
                <a:lnTo>
                  <a:pt x="82" y="271"/>
                </a:lnTo>
                <a:lnTo>
                  <a:pt x="69" y="271"/>
                </a:lnTo>
                <a:lnTo>
                  <a:pt x="55" y="271"/>
                </a:lnTo>
                <a:lnTo>
                  <a:pt x="42" y="273"/>
                </a:lnTo>
                <a:lnTo>
                  <a:pt x="32" y="273"/>
                </a:lnTo>
                <a:lnTo>
                  <a:pt x="21" y="273"/>
                </a:lnTo>
                <a:lnTo>
                  <a:pt x="13" y="273"/>
                </a:lnTo>
                <a:lnTo>
                  <a:pt x="5" y="273"/>
                </a:lnTo>
                <a:lnTo>
                  <a:pt x="0" y="273"/>
                </a:lnTo>
                <a:lnTo>
                  <a:pt x="0" y="208"/>
                </a:lnTo>
                <a:lnTo>
                  <a:pt x="0" y="142"/>
                </a:lnTo>
                <a:lnTo>
                  <a:pt x="42" y="142"/>
                </a:lnTo>
                <a:lnTo>
                  <a:pt x="84" y="141"/>
                </a:lnTo>
                <a:lnTo>
                  <a:pt x="130" y="141"/>
                </a:lnTo>
                <a:lnTo>
                  <a:pt x="176" y="139"/>
                </a:lnTo>
                <a:lnTo>
                  <a:pt x="222" y="135"/>
                </a:lnTo>
                <a:lnTo>
                  <a:pt x="272" y="133"/>
                </a:lnTo>
                <a:lnTo>
                  <a:pt x="322" y="129"/>
                </a:lnTo>
                <a:lnTo>
                  <a:pt x="372" y="125"/>
                </a:lnTo>
                <a:lnTo>
                  <a:pt x="426" y="121"/>
                </a:lnTo>
                <a:lnTo>
                  <a:pt x="480" y="116"/>
                </a:lnTo>
                <a:lnTo>
                  <a:pt x="533" y="110"/>
                </a:lnTo>
                <a:lnTo>
                  <a:pt x="591" y="104"/>
                </a:lnTo>
                <a:lnTo>
                  <a:pt x="649" y="98"/>
                </a:lnTo>
                <a:lnTo>
                  <a:pt x="708" y="93"/>
                </a:lnTo>
                <a:lnTo>
                  <a:pt x="768" y="85"/>
                </a:lnTo>
                <a:lnTo>
                  <a:pt x="831" y="79"/>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173"/>
                                        </p:tgtEl>
                                        <p:attrNameLst>
                                          <p:attrName>style.visibility</p:attrName>
                                        </p:attrNameLst>
                                      </p:cBhvr>
                                      <p:to>
                                        <p:strVal val="visible"/>
                                      </p:to>
                                    </p:set>
                                    <p:anim calcmode="lin" valueType="num">
                                      <p:cBhvr additive="base">
                                        <p:cTn id="334" dur="500" fill="hold"/>
                                        <p:tgtEl>
                                          <p:spTgt spid="173"/>
                                        </p:tgtEl>
                                        <p:attrNameLst>
                                          <p:attrName>ppt_x</p:attrName>
                                        </p:attrNameLst>
                                      </p:cBhvr>
                                      <p:tavLst>
                                        <p:tav tm="0">
                                          <p:val>
                                            <p:strVal val="0-#ppt_w/2"/>
                                          </p:val>
                                        </p:tav>
                                        <p:tav tm="100000">
                                          <p:val>
                                            <p:strVal val="#ppt_x"/>
                                          </p:val>
                                        </p:tav>
                                      </p:tavLst>
                                    </p:anim>
                                    <p:anim calcmode="lin" valueType="num">
                                      <p:cBhvr additive="base">
                                        <p:cTn id="335"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1">
                                  <p:stCondLst>
                                    <p:cond delay="0"/>
                                  </p:stCondLst>
                                  <p:childTnLst>
                                    <p:set>
                                      <p:cBhvr>
                                        <p:cTn id="339" dur="1" fill="hold">
                                          <p:stCondLst>
                                            <p:cond delay="0"/>
                                          </p:stCondLst>
                                        </p:cTn>
                                        <p:tgtEl>
                                          <p:spTgt spid="174"/>
                                        </p:tgtEl>
                                        <p:attrNameLst>
                                          <p:attrName>style.visibility</p:attrName>
                                        </p:attrNameLst>
                                      </p:cBhvr>
                                      <p:to>
                                        <p:strVal val="visible"/>
                                      </p:to>
                                    </p:set>
                                    <p:animEffect filter="wipe(up)" transition="in">
                                      <p:cBhvr additive="repl">
                                        <p:cTn id="340" dur="500"/>
                                        <p:tgtEl>
                                          <p:spTgt spid="174"/>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8" presetSubtype="6">
                                  <p:stCondLst>
                                    <p:cond delay="0"/>
                                  </p:stCondLst>
                                  <p:childTnLst>
                                    <p:set>
                                      <p:cBhvr>
                                        <p:cTn id="344" dur="1" fill="hold">
                                          <p:stCondLst>
                                            <p:cond delay="0"/>
                                          </p:stCondLst>
                                        </p:cTn>
                                        <p:tgtEl>
                                          <p:spTgt spid="175"/>
                                        </p:tgtEl>
                                        <p:attrNameLst>
                                          <p:attrName>style.visibility</p:attrName>
                                        </p:attrNameLst>
                                      </p:cBhvr>
                                      <p:to>
                                        <p:strVal val="visible"/>
                                      </p:to>
                                    </p:set>
                                    <p:animEffect filter="strips(downRight)" transition="in">
                                      <p:cBhvr additive="repl">
                                        <p:cTn id="345" dur="500"/>
                                        <p:tgtEl>
                                          <p:spTgt spid="175"/>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176"/>
                                        </p:tgtEl>
                                        <p:attrNameLst>
                                          <p:attrName>style.visibility</p:attrName>
                                        </p:attrNameLst>
                                      </p:cBhvr>
                                      <p:to>
                                        <p:strVal val="visible"/>
                                      </p:to>
                                    </p:set>
                                    <p:animEffect filter="wipe(up)" transition="in">
                                      <p:cBhvr additive="repl">
                                        <p:cTn id="350" dur="500"/>
                                        <p:tgtEl>
                                          <p:spTgt spid="176"/>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2" presetSubtype="1">
                                  <p:stCondLst>
                                    <p:cond delay="0"/>
                                  </p:stCondLst>
                                  <p:childTnLst>
                                    <p:set>
                                      <p:cBhvr>
                                        <p:cTn id="354" dur="1" fill="hold">
                                          <p:stCondLst>
                                            <p:cond delay="0"/>
                                          </p:stCondLst>
                                        </p:cTn>
                                        <p:tgtEl>
                                          <p:spTgt spid="177"/>
                                        </p:tgtEl>
                                        <p:attrNameLst>
                                          <p:attrName>style.visibility</p:attrName>
                                        </p:attrNameLst>
                                      </p:cBhvr>
                                      <p:to>
                                        <p:strVal val="visible"/>
                                      </p:to>
                                    </p:set>
                                    <p:animEffect filter="wipe(up)" transition="in">
                                      <p:cBhvr additive="repl">
                                        <p:cTn id="355" dur="500"/>
                                        <p:tgtEl>
                                          <p:spTgt spid="177"/>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178"/>
                                        </p:tgtEl>
                                        <p:attrNameLst>
                                          <p:attrName>style.visibility</p:attrName>
                                        </p:attrNameLst>
                                      </p:cBhvr>
                                      <p:to>
                                        <p:strVal val="visible"/>
                                      </p:to>
                                    </p:set>
                                    <p:animEffect filter="wipe(left)" transition="in">
                                      <p:cBhvr additive="repl">
                                        <p:cTn id="360" dur="500"/>
                                        <p:tgtEl>
                                          <p:spTgt spid="178"/>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3" presetSubtype="16">
                                  <p:stCondLst>
                                    <p:cond delay="0"/>
                                  </p:stCondLst>
                                  <p:childTnLst>
                                    <p:set>
                                      <p:cBhvr>
                                        <p:cTn id="364" dur="1" fill="hold">
                                          <p:stCondLst>
                                            <p:cond delay="0"/>
                                          </p:stCondLst>
                                        </p:cTn>
                                        <p:tgtEl>
                                          <p:spTgt spid="170"/>
                                        </p:tgtEl>
                                        <p:attrNameLst>
                                          <p:attrName>style.visibility</p:attrName>
                                        </p:attrNameLst>
                                      </p:cBhvr>
                                      <p:to>
                                        <p:strVal val="visible"/>
                                      </p:to>
                                    </p:set>
                                    <p:anim calcmode="lin" valueType="num">
                                      <p:cBhvr additive="repl">
                                        <p:cTn id="365" dur="500" fill="hold"/>
                                        <p:tgtEl>
                                          <p:spTgt spid="170"/>
                                        </p:tgtEl>
                                        <p:attrNameLst>
                                          <p:attrName>ppt_w</p:attrName>
                                        </p:attrNameLst>
                                      </p:cBhvr>
                                      <p:tavLst>
                                        <p:tav tm="0">
                                          <p:val>
                                            <p:fltVal val="0"/>
                                          </p:val>
                                        </p:tav>
                                        <p:tav tm="100000">
                                          <p:val>
                                            <p:strVal val="#ppt_w"/>
                                          </p:val>
                                        </p:tav>
                                      </p:tavLst>
                                    </p:anim>
                                    <p:anim calcmode="lin" valueType="num">
                                      <p:cBhvr additive="repl">
                                        <p:cTn id="366" dur="500" fill="hold"/>
                                        <p:tgtEl>
                                          <p:spTgt spid="170"/>
                                        </p:tgtEl>
                                        <p:attrNameLst>
                                          <p:attrName>ppt_h</p:attrName>
                                        </p:attrNameLst>
                                      </p:cBhvr>
                                      <p:tavLst>
                                        <p:tav tm="0">
                                          <p:val>
                                            <p:fltVal val="0"/>
                                          </p:val>
                                        </p:tav>
                                        <p:tav tm="100000">
                                          <p:val>
                                            <p:strVal val="#ppt_h"/>
                                          </p:val>
                                        </p:tav>
                                      </p:tavLst>
                                    </p:anim>
                                    <p:animEffect filter="fade" transition="in">
                                      <p:cBhvr additive="repl">
                                        <p:cTn id="36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任意多边形 8"/>
          <p:cNvSpPr/>
          <p:nvPr/>
        </p:nvSpPr>
        <p:spPr>
          <a:xfrm>
            <a:off x="1706400" y="2568600"/>
            <a:ext cx="6337440" cy="3166920"/>
          </a:xfrm>
          <a:prstGeom prst="pie">
            <a:avLst/>
          </a:prstGeom>
          <a:noFill/>
          <a:ln w="0">
            <a:noFill/>
          </a:ln>
        </p:spPr>
        <p:style>
          <a:lnRef idx="0"/>
          <a:fillRef idx="0"/>
          <a:effectRef idx="0"/>
          <a:fontRef idx="minor"/>
        </p:style>
        <p:txBody>
          <a:bodyPr lIns="90000" rIns="90000" tIns="91440" bIns="91440" anchor="t">
            <a:noAutofit/>
          </a:bodyPr>
          <a:p>
            <a:pPr>
              <a:lnSpc>
                <a:spcPct val="150000"/>
              </a:lnSpc>
              <a:spcAft>
                <a:spcPts val="2100"/>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4800" spc="-1" strike="noStrike">
                <a:solidFill>
                  <a:srgbClr val="000000"/>
                </a:solidFill>
                <a:latin typeface="楷体"/>
                <a:ea typeface="楷体"/>
              </a:rPr>
              <a:t>妍      瀚      遨</a:t>
            </a:r>
            <a:endParaRPr b="0" lang="en-US" sz="4800" spc="-1" strike="noStrike">
              <a:solidFill>
                <a:srgbClr val="000000"/>
              </a:solidFill>
              <a:latin typeface="Calibri"/>
            </a:endParaRPr>
          </a:p>
          <a:p>
            <a:pPr>
              <a:lnSpc>
                <a:spcPct val="150000"/>
              </a:lnSpc>
              <a:spcAft>
                <a:spcPts val="2100"/>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4800" spc="-1" strike="noStrike">
                <a:solidFill>
                  <a:srgbClr val="000000"/>
                </a:solidFill>
                <a:latin typeface="楷体"/>
                <a:ea typeface="楷体"/>
              </a:rPr>
              <a:t>芯      汊      黯</a:t>
            </a:r>
            <a:endParaRPr b="0" lang="en-US" sz="4800" spc="-1" strike="noStrike">
              <a:solidFill>
                <a:srgbClr val="000000"/>
              </a:solidFill>
              <a:latin typeface="Calibri"/>
            </a:endParaRPr>
          </a:p>
        </p:txBody>
      </p:sp>
      <p:sp>
        <p:nvSpPr>
          <p:cNvPr id="180" name="矩形 1"/>
          <p:cNvSpPr/>
          <p:nvPr/>
        </p:nvSpPr>
        <p:spPr>
          <a:xfrm>
            <a:off x="6661080" y="3689280"/>
            <a:ext cx="106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àn</a:t>
            </a:r>
            <a:endParaRPr b="0" lang="en-US" sz="3600" spc="-1" strike="noStrike">
              <a:solidFill>
                <a:srgbClr val="000000"/>
              </a:solidFill>
              <a:latin typeface="Calibri"/>
            </a:endParaRPr>
          </a:p>
        </p:txBody>
      </p:sp>
      <p:sp>
        <p:nvSpPr>
          <p:cNvPr id="181" name="矩形 3"/>
          <p:cNvSpPr/>
          <p:nvPr/>
        </p:nvSpPr>
        <p:spPr>
          <a:xfrm>
            <a:off x="1634400" y="227016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yán</a:t>
            </a:r>
            <a:endParaRPr b="0" lang="en-US" sz="3600" spc="-1" strike="noStrike">
              <a:solidFill>
                <a:srgbClr val="000000"/>
              </a:solidFill>
              <a:latin typeface="Calibri"/>
            </a:endParaRPr>
          </a:p>
        </p:txBody>
      </p:sp>
      <p:sp>
        <p:nvSpPr>
          <p:cNvPr id="182" name="矩形 9"/>
          <p:cNvSpPr/>
          <p:nvPr/>
        </p:nvSpPr>
        <p:spPr>
          <a:xfrm>
            <a:off x="4023000" y="2316240"/>
            <a:ext cx="105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hàn</a:t>
            </a:r>
            <a:endParaRPr b="0" lang="en-US" sz="3600" spc="-1" strike="noStrike">
              <a:solidFill>
                <a:srgbClr val="000000"/>
              </a:solidFill>
              <a:latin typeface="Calibri"/>
            </a:endParaRPr>
          </a:p>
        </p:txBody>
      </p:sp>
      <p:sp>
        <p:nvSpPr>
          <p:cNvPr id="183" name="矩形 11"/>
          <p:cNvSpPr/>
          <p:nvPr/>
        </p:nvSpPr>
        <p:spPr>
          <a:xfrm>
            <a:off x="6626880" y="2341440"/>
            <a:ext cx="740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áo</a:t>
            </a:r>
            <a:endParaRPr b="0" lang="en-US" sz="3600" spc="-1" strike="noStrike">
              <a:solidFill>
                <a:srgbClr val="000000"/>
              </a:solidFill>
              <a:latin typeface="Calibri"/>
            </a:endParaRPr>
          </a:p>
        </p:txBody>
      </p:sp>
      <p:sp>
        <p:nvSpPr>
          <p:cNvPr id="184" name="矩形 12"/>
          <p:cNvSpPr/>
          <p:nvPr/>
        </p:nvSpPr>
        <p:spPr>
          <a:xfrm>
            <a:off x="1645200" y="3675240"/>
            <a:ext cx="88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xīn</a:t>
            </a:r>
            <a:endParaRPr b="0" lang="en-US" sz="3600" spc="-1" strike="noStrike">
              <a:solidFill>
                <a:srgbClr val="000000"/>
              </a:solidFill>
              <a:latin typeface="Calibri"/>
            </a:endParaRPr>
          </a:p>
        </p:txBody>
      </p:sp>
      <p:sp>
        <p:nvSpPr>
          <p:cNvPr id="185" name="矩形 14"/>
          <p:cNvSpPr/>
          <p:nvPr/>
        </p:nvSpPr>
        <p:spPr>
          <a:xfrm>
            <a:off x="4052520" y="3678120"/>
            <a:ext cx="99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chà</a:t>
            </a:r>
            <a:endParaRPr b="0" lang="en-US" sz="3600" spc="-1" strike="noStrike">
              <a:solidFill>
                <a:srgbClr val="000000"/>
              </a:solidFill>
              <a:latin typeface="Calibri"/>
            </a:endParaRPr>
          </a:p>
        </p:txBody>
      </p:sp>
      <p:grpSp>
        <p:nvGrpSpPr>
          <p:cNvPr id="186" name="组合 2"/>
          <p:cNvGrpSpPr/>
          <p:nvPr/>
        </p:nvGrpSpPr>
        <p:grpSpPr>
          <a:xfrm>
            <a:off x="730080" y="1200240"/>
            <a:ext cx="2905200" cy="666720"/>
            <a:chOff x="730080" y="1200240"/>
            <a:chExt cx="2905200" cy="666720"/>
          </a:xfrm>
        </p:grpSpPr>
        <p:sp>
          <p:nvSpPr>
            <p:cNvPr id="187" name="圆角矩形 27"/>
            <p:cNvSpPr/>
            <p:nvPr/>
          </p:nvSpPr>
          <p:spPr>
            <a:xfrm>
              <a:off x="1545840" y="133812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88" name="图片 9" descr="book.gif"/>
            <p:cNvPicPr/>
            <p:nvPr/>
          </p:nvPicPr>
          <p:blipFill>
            <a:blip r:embed="rId1"/>
            <a:stretch/>
          </p:blipFill>
          <p:spPr>
            <a:xfrm>
              <a:off x="730080" y="1200240"/>
              <a:ext cx="1087200" cy="666720"/>
            </a:xfrm>
            <a:prstGeom prst="rect">
              <a:avLst/>
            </a:prstGeom>
            <a:ln w="0">
              <a:noFill/>
            </a:ln>
          </p:spPr>
        </p:pic>
        <p:sp>
          <p:nvSpPr>
            <p:cNvPr id="189" name="文本框 16"/>
            <p:cNvSpPr/>
            <p:nvPr/>
          </p:nvSpPr>
          <p:spPr>
            <a:xfrm>
              <a:off x="1805400" y="135720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我会认</a:t>
              </a:r>
              <a:endParaRPr b="0" lang="en-US" sz="2400" spc="-1" strike="noStrike">
                <a:solidFill>
                  <a:srgbClr val="000000"/>
                </a:solidFill>
                <a:latin typeface="Calibri"/>
              </a:endParaRPr>
            </a:p>
          </p:txBody>
        </p:sp>
      </p:grpSp>
      <p:pic>
        <p:nvPicPr>
          <p:cNvPr id="190" name="Picture 2" descr="C:\Users\Administrator\Desktop\赞扬.jpg"/>
          <p:cNvPicPr/>
          <p:nvPr/>
        </p:nvPicPr>
        <p:blipFill>
          <a:blip r:embed="rId2"/>
          <a:stretch/>
        </p:blipFill>
        <p:spPr>
          <a:xfrm>
            <a:off x="6853320" y="4807080"/>
            <a:ext cx="1752480" cy="147780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53" presetSubtype="16">
                                  <p:stCondLst>
                                    <p:cond delay="0"/>
                                  </p:stCondLst>
                                  <p:childTnLst>
                                    <p:set>
                                      <p:cBhvr>
                                        <p:cTn id="373" dur="1" fill="hold">
                                          <p:stCondLst>
                                            <p:cond delay="0"/>
                                          </p:stCondLst>
                                        </p:cTn>
                                        <p:tgtEl>
                                          <p:spTgt spid="181"/>
                                        </p:tgtEl>
                                        <p:attrNameLst>
                                          <p:attrName>style.visibility</p:attrName>
                                        </p:attrNameLst>
                                      </p:cBhvr>
                                      <p:to>
                                        <p:strVal val="visible"/>
                                      </p:to>
                                    </p:set>
                                    <p:anim calcmode="lin" valueType="num">
                                      <p:cBhvr additive="repl">
                                        <p:cTn id="374" dur="500" fill="hold"/>
                                        <p:tgtEl>
                                          <p:spTgt spid="181"/>
                                        </p:tgtEl>
                                        <p:attrNameLst>
                                          <p:attrName>ppt_w</p:attrName>
                                        </p:attrNameLst>
                                      </p:cBhvr>
                                      <p:tavLst>
                                        <p:tav tm="0">
                                          <p:val>
                                            <p:fltVal val="0"/>
                                          </p:val>
                                        </p:tav>
                                        <p:tav tm="100000">
                                          <p:val>
                                            <p:strVal val="#ppt_w"/>
                                          </p:val>
                                        </p:tav>
                                      </p:tavLst>
                                    </p:anim>
                                    <p:anim calcmode="lin" valueType="num">
                                      <p:cBhvr additive="repl">
                                        <p:cTn id="375" dur="500" fill="hold"/>
                                        <p:tgtEl>
                                          <p:spTgt spid="181"/>
                                        </p:tgtEl>
                                        <p:attrNameLst>
                                          <p:attrName>ppt_h</p:attrName>
                                        </p:attrNameLst>
                                      </p:cBhvr>
                                      <p:tavLst>
                                        <p:tav tm="0">
                                          <p:val>
                                            <p:fltVal val="0"/>
                                          </p:val>
                                        </p:tav>
                                        <p:tav tm="100000">
                                          <p:val>
                                            <p:strVal val="#ppt_h"/>
                                          </p:val>
                                        </p:tav>
                                      </p:tavLst>
                                    </p:anim>
                                    <p:animEffect filter="fade" transition="in">
                                      <p:cBhvr additive="repl">
                                        <p:cTn id="376" dur="500"/>
                                        <p:tgtEl>
                                          <p:spTgt spid="181"/>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53" presetSubtype="16">
                                  <p:stCondLst>
                                    <p:cond delay="0"/>
                                  </p:stCondLst>
                                  <p:childTnLst>
                                    <p:set>
                                      <p:cBhvr>
                                        <p:cTn id="380" dur="1" fill="hold">
                                          <p:stCondLst>
                                            <p:cond delay="0"/>
                                          </p:stCondLst>
                                        </p:cTn>
                                        <p:tgtEl>
                                          <p:spTgt spid="182"/>
                                        </p:tgtEl>
                                        <p:attrNameLst>
                                          <p:attrName>style.visibility</p:attrName>
                                        </p:attrNameLst>
                                      </p:cBhvr>
                                      <p:to>
                                        <p:strVal val="visible"/>
                                      </p:to>
                                    </p:set>
                                    <p:anim calcmode="lin" valueType="num">
                                      <p:cBhvr additive="repl">
                                        <p:cTn id="381" dur="500" fill="hold"/>
                                        <p:tgtEl>
                                          <p:spTgt spid="182"/>
                                        </p:tgtEl>
                                        <p:attrNameLst>
                                          <p:attrName>ppt_w</p:attrName>
                                        </p:attrNameLst>
                                      </p:cBhvr>
                                      <p:tavLst>
                                        <p:tav tm="0">
                                          <p:val>
                                            <p:fltVal val="0"/>
                                          </p:val>
                                        </p:tav>
                                        <p:tav tm="100000">
                                          <p:val>
                                            <p:strVal val="#ppt_w"/>
                                          </p:val>
                                        </p:tav>
                                      </p:tavLst>
                                    </p:anim>
                                    <p:anim calcmode="lin" valueType="num">
                                      <p:cBhvr additive="repl">
                                        <p:cTn id="382" dur="500" fill="hold"/>
                                        <p:tgtEl>
                                          <p:spTgt spid="182"/>
                                        </p:tgtEl>
                                        <p:attrNameLst>
                                          <p:attrName>ppt_h</p:attrName>
                                        </p:attrNameLst>
                                      </p:cBhvr>
                                      <p:tavLst>
                                        <p:tav tm="0">
                                          <p:val>
                                            <p:fltVal val="0"/>
                                          </p:val>
                                        </p:tav>
                                        <p:tav tm="100000">
                                          <p:val>
                                            <p:strVal val="#ppt_h"/>
                                          </p:val>
                                        </p:tav>
                                      </p:tavLst>
                                    </p:anim>
                                    <p:animEffect filter="fade" transition="in">
                                      <p:cBhvr additive="repl">
                                        <p:cTn id="383" dur="500"/>
                                        <p:tgtEl>
                                          <p:spTgt spid="182"/>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53" presetSubtype="16">
                                  <p:stCondLst>
                                    <p:cond delay="0"/>
                                  </p:stCondLst>
                                  <p:childTnLst>
                                    <p:set>
                                      <p:cBhvr>
                                        <p:cTn id="387" dur="1" fill="hold">
                                          <p:stCondLst>
                                            <p:cond delay="0"/>
                                          </p:stCondLst>
                                        </p:cTn>
                                        <p:tgtEl>
                                          <p:spTgt spid="183"/>
                                        </p:tgtEl>
                                        <p:attrNameLst>
                                          <p:attrName>style.visibility</p:attrName>
                                        </p:attrNameLst>
                                      </p:cBhvr>
                                      <p:to>
                                        <p:strVal val="visible"/>
                                      </p:to>
                                    </p:set>
                                    <p:anim calcmode="lin" valueType="num">
                                      <p:cBhvr additive="repl">
                                        <p:cTn id="388" dur="500" fill="hold"/>
                                        <p:tgtEl>
                                          <p:spTgt spid="183"/>
                                        </p:tgtEl>
                                        <p:attrNameLst>
                                          <p:attrName>ppt_w</p:attrName>
                                        </p:attrNameLst>
                                      </p:cBhvr>
                                      <p:tavLst>
                                        <p:tav tm="0">
                                          <p:val>
                                            <p:fltVal val="0"/>
                                          </p:val>
                                        </p:tav>
                                        <p:tav tm="100000">
                                          <p:val>
                                            <p:strVal val="#ppt_w"/>
                                          </p:val>
                                        </p:tav>
                                      </p:tavLst>
                                    </p:anim>
                                    <p:anim calcmode="lin" valueType="num">
                                      <p:cBhvr additive="repl">
                                        <p:cTn id="389" dur="500" fill="hold"/>
                                        <p:tgtEl>
                                          <p:spTgt spid="183"/>
                                        </p:tgtEl>
                                        <p:attrNameLst>
                                          <p:attrName>ppt_h</p:attrName>
                                        </p:attrNameLst>
                                      </p:cBhvr>
                                      <p:tavLst>
                                        <p:tav tm="0">
                                          <p:val>
                                            <p:fltVal val="0"/>
                                          </p:val>
                                        </p:tav>
                                        <p:tav tm="100000">
                                          <p:val>
                                            <p:strVal val="#ppt_h"/>
                                          </p:val>
                                        </p:tav>
                                      </p:tavLst>
                                    </p:anim>
                                    <p:animEffect filter="fade" transition="in">
                                      <p:cBhvr additive="repl">
                                        <p:cTn id="390" dur="500"/>
                                        <p:tgtEl>
                                          <p:spTgt spid="183"/>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53" presetSubtype="16">
                                  <p:stCondLst>
                                    <p:cond delay="0"/>
                                  </p:stCondLst>
                                  <p:childTnLst>
                                    <p:set>
                                      <p:cBhvr>
                                        <p:cTn id="394" dur="1" fill="hold">
                                          <p:stCondLst>
                                            <p:cond delay="0"/>
                                          </p:stCondLst>
                                        </p:cTn>
                                        <p:tgtEl>
                                          <p:spTgt spid="184"/>
                                        </p:tgtEl>
                                        <p:attrNameLst>
                                          <p:attrName>style.visibility</p:attrName>
                                        </p:attrNameLst>
                                      </p:cBhvr>
                                      <p:to>
                                        <p:strVal val="visible"/>
                                      </p:to>
                                    </p:set>
                                    <p:anim calcmode="lin" valueType="num">
                                      <p:cBhvr additive="repl">
                                        <p:cTn id="395" dur="500" fill="hold"/>
                                        <p:tgtEl>
                                          <p:spTgt spid="184"/>
                                        </p:tgtEl>
                                        <p:attrNameLst>
                                          <p:attrName>ppt_w</p:attrName>
                                        </p:attrNameLst>
                                      </p:cBhvr>
                                      <p:tavLst>
                                        <p:tav tm="0">
                                          <p:val>
                                            <p:fltVal val="0"/>
                                          </p:val>
                                        </p:tav>
                                        <p:tav tm="100000">
                                          <p:val>
                                            <p:strVal val="#ppt_w"/>
                                          </p:val>
                                        </p:tav>
                                      </p:tavLst>
                                    </p:anim>
                                    <p:anim calcmode="lin" valueType="num">
                                      <p:cBhvr additive="repl">
                                        <p:cTn id="396" dur="500" fill="hold"/>
                                        <p:tgtEl>
                                          <p:spTgt spid="184"/>
                                        </p:tgtEl>
                                        <p:attrNameLst>
                                          <p:attrName>ppt_h</p:attrName>
                                        </p:attrNameLst>
                                      </p:cBhvr>
                                      <p:tavLst>
                                        <p:tav tm="0">
                                          <p:val>
                                            <p:fltVal val="0"/>
                                          </p:val>
                                        </p:tav>
                                        <p:tav tm="100000">
                                          <p:val>
                                            <p:strVal val="#ppt_h"/>
                                          </p:val>
                                        </p:tav>
                                      </p:tavLst>
                                    </p:anim>
                                    <p:animEffect filter="fade" transition="in">
                                      <p:cBhvr additive="repl">
                                        <p:cTn id="397" dur="500"/>
                                        <p:tgtEl>
                                          <p:spTgt spid="184"/>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53" presetSubtype="16">
                                  <p:stCondLst>
                                    <p:cond delay="0"/>
                                  </p:stCondLst>
                                  <p:childTnLst>
                                    <p:set>
                                      <p:cBhvr>
                                        <p:cTn id="401" dur="1" fill="hold">
                                          <p:stCondLst>
                                            <p:cond delay="0"/>
                                          </p:stCondLst>
                                        </p:cTn>
                                        <p:tgtEl>
                                          <p:spTgt spid="185"/>
                                        </p:tgtEl>
                                        <p:attrNameLst>
                                          <p:attrName>style.visibility</p:attrName>
                                        </p:attrNameLst>
                                      </p:cBhvr>
                                      <p:to>
                                        <p:strVal val="visible"/>
                                      </p:to>
                                    </p:set>
                                    <p:anim calcmode="lin" valueType="num">
                                      <p:cBhvr additive="repl">
                                        <p:cTn id="402" dur="500" fill="hold"/>
                                        <p:tgtEl>
                                          <p:spTgt spid="185"/>
                                        </p:tgtEl>
                                        <p:attrNameLst>
                                          <p:attrName>ppt_w</p:attrName>
                                        </p:attrNameLst>
                                      </p:cBhvr>
                                      <p:tavLst>
                                        <p:tav tm="0">
                                          <p:val>
                                            <p:fltVal val="0"/>
                                          </p:val>
                                        </p:tav>
                                        <p:tav tm="100000">
                                          <p:val>
                                            <p:strVal val="#ppt_w"/>
                                          </p:val>
                                        </p:tav>
                                      </p:tavLst>
                                    </p:anim>
                                    <p:anim calcmode="lin" valueType="num">
                                      <p:cBhvr additive="repl">
                                        <p:cTn id="403" dur="500" fill="hold"/>
                                        <p:tgtEl>
                                          <p:spTgt spid="185"/>
                                        </p:tgtEl>
                                        <p:attrNameLst>
                                          <p:attrName>ppt_h</p:attrName>
                                        </p:attrNameLst>
                                      </p:cBhvr>
                                      <p:tavLst>
                                        <p:tav tm="0">
                                          <p:val>
                                            <p:fltVal val="0"/>
                                          </p:val>
                                        </p:tav>
                                        <p:tav tm="100000">
                                          <p:val>
                                            <p:strVal val="#ppt_h"/>
                                          </p:val>
                                        </p:tav>
                                      </p:tavLst>
                                    </p:anim>
                                    <p:animEffect filter="fade" transition="in">
                                      <p:cBhvr additive="repl">
                                        <p:cTn id="404" dur="500"/>
                                        <p:tgtEl>
                                          <p:spTgt spid="185"/>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53" presetSubtype="16">
                                  <p:stCondLst>
                                    <p:cond delay="0"/>
                                  </p:stCondLst>
                                  <p:childTnLst>
                                    <p:set>
                                      <p:cBhvr>
                                        <p:cTn id="408" dur="1" fill="hold">
                                          <p:stCondLst>
                                            <p:cond delay="0"/>
                                          </p:stCondLst>
                                        </p:cTn>
                                        <p:tgtEl>
                                          <p:spTgt spid="180"/>
                                        </p:tgtEl>
                                        <p:attrNameLst>
                                          <p:attrName>style.visibility</p:attrName>
                                        </p:attrNameLst>
                                      </p:cBhvr>
                                      <p:to>
                                        <p:strVal val="visible"/>
                                      </p:to>
                                    </p:set>
                                    <p:anim calcmode="lin" valueType="num">
                                      <p:cBhvr additive="repl">
                                        <p:cTn id="409" dur="500" fill="hold"/>
                                        <p:tgtEl>
                                          <p:spTgt spid="180"/>
                                        </p:tgtEl>
                                        <p:attrNameLst>
                                          <p:attrName>ppt_w</p:attrName>
                                        </p:attrNameLst>
                                      </p:cBhvr>
                                      <p:tavLst>
                                        <p:tav tm="0">
                                          <p:val>
                                            <p:fltVal val="0"/>
                                          </p:val>
                                        </p:tav>
                                        <p:tav tm="100000">
                                          <p:val>
                                            <p:strVal val="#ppt_w"/>
                                          </p:val>
                                        </p:tav>
                                      </p:tavLst>
                                    </p:anim>
                                    <p:anim calcmode="lin" valueType="num">
                                      <p:cBhvr additive="repl">
                                        <p:cTn id="410" dur="500" fill="hold"/>
                                        <p:tgtEl>
                                          <p:spTgt spid="180"/>
                                        </p:tgtEl>
                                        <p:attrNameLst>
                                          <p:attrName>ppt_h</p:attrName>
                                        </p:attrNameLst>
                                      </p:cBhvr>
                                      <p:tavLst>
                                        <p:tav tm="0">
                                          <p:val>
                                            <p:fltVal val="0"/>
                                          </p:val>
                                        </p:tav>
                                        <p:tav tm="100000">
                                          <p:val>
                                            <p:strVal val="#ppt_h"/>
                                          </p:val>
                                        </p:tav>
                                      </p:tavLst>
                                    </p:anim>
                                    <p:animEffect filter="fade" transition="in">
                                      <p:cBhvr additive="repl">
                                        <p:cTn id="411" dur="500"/>
                                        <p:tgtEl>
                                          <p:spTgt spid="180"/>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4">
                                  <p:stCondLst>
                                    <p:cond delay="0"/>
                                  </p:stCondLst>
                                  <p:childTnLst>
                                    <p:audio isNarration="0">
                                      <p:cMediaNode showWhenStopped="1">
                                        <p:cTn/>
                                        <p:tgtEl>
                                          <p:sndTgt r:embed="rId3" name="applause.wav"/>
                                        </p:tgtEl>
                                      </p:cMediaNode>
                                    </p:audio>
                                    <p:set>
                                      <p:cBhvr>
                                        <p:cTn id="415" dur="1" fill="hold">
                                          <p:stCondLst>
                                            <p:cond delay="0"/>
                                          </p:stCondLst>
                                        </p:cTn>
                                        <p:tgtEl>
                                          <p:spTgt spid="190"/>
                                        </p:tgtEl>
                                        <p:attrNameLst>
                                          <p:attrName>style.visibility</p:attrName>
                                        </p:attrNameLst>
                                      </p:cBhvr>
                                      <p:to>
                                        <p:strVal val="visible"/>
                                      </p:to>
                                    </p:set>
                                    <p:anim calcmode="lin" valueType="num">
                                      <p:cBhvr additive="base">
                                        <p:cTn id="416" dur="500" fill="hold"/>
                                        <p:tgtEl>
                                          <p:spTgt spid="190"/>
                                        </p:tgtEl>
                                        <p:attrNameLst>
                                          <p:attrName>ppt_x</p:attrName>
                                        </p:attrNameLst>
                                      </p:cBhvr>
                                      <p:tavLst>
                                        <p:tav tm="0">
                                          <p:val>
                                            <p:strVal val="#ppt_x"/>
                                          </p:val>
                                        </p:tav>
                                        <p:tav tm="100000">
                                          <p:val>
                                            <p:strVal val="#ppt_x"/>
                                          </p:val>
                                        </p:tav>
                                      </p:tavLst>
                                    </p:anim>
                                    <p:anim calcmode="lin" valueType="num">
                                      <p:cBhvr additive="base">
                                        <p:cTn id="417"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组合 2"/>
          <p:cNvGrpSpPr/>
          <p:nvPr/>
        </p:nvGrpSpPr>
        <p:grpSpPr>
          <a:xfrm>
            <a:off x="882720" y="1352520"/>
            <a:ext cx="2905200" cy="666720"/>
            <a:chOff x="882720" y="1352520"/>
            <a:chExt cx="2905200" cy="666720"/>
          </a:xfrm>
        </p:grpSpPr>
        <p:sp>
          <p:nvSpPr>
            <p:cNvPr id="192" name="圆角矩形 11"/>
            <p:cNvSpPr/>
            <p:nvPr/>
          </p:nvSpPr>
          <p:spPr>
            <a:xfrm>
              <a:off x="1698480" y="149040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93" name="图片 9" descr="book.gif"/>
            <p:cNvPicPr/>
            <p:nvPr/>
          </p:nvPicPr>
          <p:blipFill>
            <a:blip r:embed="rId1"/>
            <a:stretch/>
          </p:blipFill>
          <p:spPr>
            <a:xfrm>
              <a:off x="882720" y="1352520"/>
              <a:ext cx="1087200" cy="666720"/>
            </a:xfrm>
            <a:prstGeom prst="rect">
              <a:avLst/>
            </a:prstGeom>
            <a:ln w="0">
              <a:noFill/>
            </a:ln>
          </p:spPr>
        </p:pic>
        <p:sp>
          <p:nvSpPr>
            <p:cNvPr id="194" name="文本框 16"/>
            <p:cNvSpPr/>
            <p:nvPr/>
          </p:nvSpPr>
          <p:spPr>
            <a:xfrm>
              <a:off x="1958040" y="15094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易读错字</a:t>
              </a:r>
              <a:endParaRPr b="0" lang="en-US" sz="2400" spc="-1" strike="noStrike">
                <a:solidFill>
                  <a:srgbClr val="000000"/>
                </a:solidFill>
                <a:latin typeface="Calibri"/>
              </a:endParaRPr>
            </a:p>
          </p:txBody>
        </p:sp>
      </p:grpSp>
      <p:sp>
        <p:nvSpPr>
          <p:cNvPr id="195" name="TextBox 1"/>
          <p:cNvSpPr/>
          <p:nvPr/>
        </p:nvSpPr>
        <p:spPr>
          <a:xfrm>
            <a:off x="2166840" y="3124080"/>
            <a:ext cx="5783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掌</a:t>
            </a:r>
            <a:r>
              <a:rPr b="1" lang="zh-CN" sz="4400" spc="-1" strike="noStrike">
                <a:solidFill>
                  <a:srgbClr val="0000ff"/>
                </a:solidFill>
                <a:latin typeface="楷体"/>
                <a:ea typeface="楷体"/>
              </a:rPr>
              <a:t>舵    沼</a:t>
            </a:r>
            <a:r>
              <a:rPr b="1" lang="zh-CN" sz="4400" spc="-1" strike="noStrike">
                <a:solidFill>
                  <a:srgbClr val="000000"/>
                </a:solidFill>
                <a:latin typeface="楷体"/>
                <a:ea typeface="楷体"/>
              </a:rPr>
              <a:t>泽</a:t>
            </a:r>
            <a:endParaRPr b="0" lang="en-US" sz="4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灯</a:t>
            </a:r>
            <a:r>
              <a:rPr b="1" lang="zh-CN" sz="4400" spc="-1" strike="noStrike">
                <a:solidFill>
                  <a:srgbClr val="0000ff"/>
                </a:solidFill>
                <a:latin typeface="楷体"/>
                <a:ea typeface="楷体"/>
              </a:rPr>
              <a:t>芯</a:t>
            </a:r>
            <a:endParaRPr b="0" lang="en-US" sz="4400" spc="-1" strike="noStrike">
              <a:solidFill>
                <a:srgbClr val="000000"/>
              </a:solidFill>
              <a:latin typeface="Calibri"/>
            </a:endParaRPr>
          </a:p>
        </p:txBody>
      </p:sp>
      <p:sp>
        <p:nvSpPr>
          <p:cNvPr id="196" name="矩形 10"/>
          <p:cNvSpPr/>
          <p:nvPr/>
        </p:nvSpPr>
        <p:spPr>
          <a:xfrm>
            <a:off x="2601360" y="2592360"/>
            <a:ext cx="1054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duò</a:t>
            </a:r>
            <a:endParaRPr b="0" lang="en-US" sz="3600" spc="-1" strike="noStrike">
              <a:solidFill>
                <a:srgbClr val="000000"/>
              </a:solidFill>
              <a:latin typeface="Calibri"/>
            </a:endParaRPr>
          </a:p>
        </p:txBody>
      </p:sp>
      <p:sp>
        <p:nvSpPr>
          <p:cNvPr id="197" name="矩形 12"/>
          <p:cNvSpPr/>
          <p:nvPr/>
        </p:nvSpPr>
        <p:spPr>
          <a:xfrm>
            <a:off x="4134600" y="2592360"/>
            <a:ext cx="138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 </a:t>
            </a:r>
            <a:r>
              <a:rPr b="1" lang="en-US" sz="3600" spc="-1" strike="noStrike">
                <a:solidFill>
                  <a:srgbClr val="ff0000"/>
                </a:solidFill>
                <a:latin typeface="方正姚体"/>
                <a:ea typeface="方正姚体"/>
              </a:rPr>
              <a:t>zhǎo</a:t>
            </a:r>
            <a:endParaRPr b="0" lang="en-US" sz="3600" spc="-1" strike="noStrike">
              <a:solidFill>
                <a:srgbClr val="000000"/>
              </a:solidFill>
              <a:latin typeface="Calibri"/>
            </a:endParaRPr>
          </a:p>
        </p:txBody>
      </p:sp>
      <p:sp>
        <p:nvSpPr>
          <p:cNvPr id="198" name="矩形 13"/>
          <p:cNvSpPr/>
          <p:nvPr/>
        </p:nvSpPr>
        <p:spPr>
          <a:xfrm>
            <a:off x="2508120" y="40068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 </a:t>
            </a:r>
            <a:r>
              <a:rPr b="1" lang="en-US" sz="3600" spc="-1" strike="noStrike">
                <a:solidFill>
                  <a:srgbClr val="ff0000"/>
                </a:solidFill>
                <a:latin typeface="方正姚体"/>
                <a:ea typeface="方正姚体"/>
              </a:rPr>
              <a:t>xī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96"/>
                                        </p:tgtEl>
                                        <p:attrNameLst>
                                          <p:attrName>style.visibility</p:attrName>
                                        </p:attrNameLst>
                                      </p:cBhvr>
                                      <p:to>
                                        <p:strVal val="visible"/>
                                      </p:to>
                                    </p:set>
                                    <p:anim calcmode="lin" valueType="num">
                                      <p:cBhvr additive="base">
                                        <p:cTn id="424" dur="500" fill="hold"/>
                                        <p:tgtEl>
                                          <p:spTgt spid="196"/>
                                        </p:tgtEl>
                                        <p:attrNameLst>
                                          <p:attrName>ppt_x</p:attrName>
                                        </p:attrNameLst>
                                      </p:cBhvr>
                                      <p:tavLst>
                                        <p:tav tm="0">
                                          <p:val>
                                            <p:strVal val="#ppt_x"/>
                                          </p:val>
                                        </p:tav>
                                        <p:tav tm="100000">
                                          <p:val>
                                            <p:strVal val="#ppt_x"/>
                                          </p:val>
                                        </p:tav>
                                      </p:tavLst>
                                    </p:anim>
                                    <p:anim calcmode="lin" valueType="num">
                                      <p:cBhvr additive="base">
                                        <p:cTn id="425"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97"/>
                                        </p:tgtEl>
                                        <p:attrNameLst>
                                          <p:attrName>style.visibility</p:attrName>
                                        </p:attrNameLst>
                                      </p:cBhvr>
                                      <p:to>
                                        <p:strVal val="visible"/>
                                      </p:to>
                                    </p:set>
                                    <p:anim calcmode="lin" valueType="num">
                                      <p:cBhvr additive="base">
                                        <p:cTn id="430" dur="500" fill="hold"/>
                                        <p:tgtEl>
                                          <p:spTgt spid="197"/>
                                        </p:tgtEl>
                                        <p:attrNameLst>
                                          <p:attrName>ppt_x</p:attrName>
                                        </p:attrNameLst>
                                      </p:cBhvr>
                                      <p:tavLst>
                                        <p:tav tm="0">
                                          <p:val>
                                            <p:strVal val="#ppt_x"/>
                                          </p:val>
                                        </p:tav>
                                        <p:tav tm="100000">
                                          <p:val>
                                            <p:strVal val="#ppt_x"/>
                                          </p:val>
                                        </p:tav>
                                      </p:tavLst>
                                    </p:anim>
                                    <p:anim calcmode="lin" valueType="num">
                                      <p:cBhvr additive="base">
                                        <p:cTn id="431"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98"/>
                                        </p:tgtEl>
                                        <p:attrNameLst>
                                          <p:attrName>style.visibility</p:attrName>
                                        </p:attrNameLst>
                                      </p:cBhvr>
                                      <p:to>
                                        <p:strVal val="visible"/>
                                      </p:to>
                                    </p:set>
                                    <p:anim calcmode="lin" valueType="num">
                                      <p:cBhvr additive="base">
                                        <p:cTn id="436" dur="500" fill="hold"/>
                                        <p:tgtEl>
                                          <p:spTgt spid="198"/>
                                        </p:tgtEl>
                                        <p:attrNameLst>
                                          <p:attrName>ppt_x</p:attrName>
                                        </p:attrNameLst>
                                      </p:cBhvr>
                                      <p:tavLst>
                                        <p:tav tm="0">
                                          <p:val>
                                            <p:strVal val="#ppt_x"/>
                                          </p:val>
                                        </p:tav>
                                        <p:tav tm="100000">
                                          <p:val>
                                            <p:strVal val="#ppt_x"/>
                                          </p:val>
                                        </p:tav>
                                      </p:tavLst>
                                    </p:anim>
                                    <p:anim calcmode="lin" valueType="num">
                                      <p:cBhvr additive="base">
                                        <p:cTn id="43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组合 2"/>
          <p:cNvGrpSpPr/>
          <p:nvPr/>
        </p:nvGrpSpPr>
        <p:grpSpPr>
          <a:xfrm>
            <a:off x="504720" y="1352520"/>
            <a:ext cx="2905200" cy="666720"/>
            <a:chOff x="504720" y="1352520"/>
            <a:chExt cx="2905200" cy="666720"/>
          </a:xfrm>
        </p:grpSpPr>
        <p:sp>
          <p:nvSpPr>
            <p:cNvPr id="200" name="圆角矩形 17"/>
            <p:cNvSpPr/>
            <p:nvPr/>
          </p:nvSpPr>
          <p:spPr>
            <a:xfrm>
              <a:off x="1320480" y="149040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01" name="图片 9" descr="book.gif"/>
            <p:cNvPicPr/>
            <p:nvPr/>
          </p:nvPicPr>
          <p:blipFill>
            <a:blip r:embed="rId1"/>
            <a:stretch/>
          </p:blipFill>
          <p:spPr>
            <a:xfrm>
              <a:off x="504720" y="1352520"/>
              <a:ext cx="1087200" cy="666720"/>
            </a:xfrm>
            <a:prstGeom prst="rect">
              <a:avLst/>
            </a:prstGeom>
            <a:ln w="0">
              <a:noFill/>
            </a:ln>
          </p:spPr>
        </p:pic>
        <p:sp>
          <p:nvSpPr>
            <p:cNvPr id="202" name="文本框 16"/>
            <p:cNvSpPr/>
            <p:nvPr/>
          </p:nvSpPr>
          <p:spPr>
            <a:xfrm>
              <a:off x="1580040" y="15094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多音字</a:t>
              </a:r>
              <a:endParaRPr b="0" lang="en-US" sz="2400" spc="-1" strike="noStrike">
                <a:solidFill>
                  <a:srgbClr val="000000"/>
                </a:solidFill>
                <a:latin typeface="Calibri"/>
              </a:endParaRPr>
            </a:p>
          </p:txBody>
        </p:sp>
      </p:grpSp>
      <p:sp>
        <p:nvSpPr>
          <p:cNvPr id="203" name="TextBox 1"/>
          <p:cNvSpPr/>
          <p:nvPr/>
        </p:nvSpPr>
        <p:spPr>
          <a:xfrm>
            <a:off x="1150920" y="2901960"/>
            <a:ext cx="569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rPr>
              <a:t>翘</a:t>
            </a:r>
            <a:endParaRPr b="0" lang="en-US" sz="2800" spc="-1" strike="noStrike">
              <a:solidFill>
                <a:srgbClr val="000000"/>
              </a:solidFill>
              <a:latin typeface="Calibri"/>
            </a:endParaRPr>
          </a:p>
        </p:txBody>
      </p:sp>
      <p:grpSp>
        <p:nvGrpSpPr>
          <p:cNvPr id="204" name="组合 26"/>
          <p:cNvGrpSpPr/>
          <p:nvPr/>
        </p:nvGrpSpPr>
        <p:grpSpPr>
          <a:xfrm>
            <a:off x="1633680" y="2471760"/>
            <a:ext cx="4386240" cy="1373400"/>
            <a:chOff x="1633680" y="2471760"/>
            <a:chExt cx="4386240" cy="1373400"/>
          </a:xfrm>
        </p:grpSpPr>
        <p:sp>
          <p:nvSpPr>
            <p:cNvPr id="205" name="左大括号 27"/>
            <p:cNvSpPr/>
            <p:nvPr/>
          </p:nvSpPr>
          <p:spPr>
            <a:xfrm>
              <a:off x="1633680" y="2714400"/>
              <a:ext cx="345240" cy="928800"/>
            </a:xfrm>
            <a:custGeom>
              <a:avLst/>
              <a:gdLst>
                <a:gd name="textAreaLeft" fmla="*/ 220680 w 345240"/>
                <a:gd name="textAreaRight" fmla="*/ 345600 w 345240"/>
                <a:gd name="textAreaTop" fmla="*/ 5400 h 928800"/>
                <a:gd name="textAreaBottom" fmla="*/ 923400 h 928800"/>
              </a:gdLst>
              <a:ahLst/>
              <a:rect l="textAreaLeft" t="textAreaTop" r="textAreaRight" b="textAreaBottom"/>
              <a:pathLst>
                <a:path w="21600" h="21600">
                  <a:moveTo>
                    <a:pt x="21600" y="0"/>
                  </a:moveTo>
                  <a:cubicBezTo>
                    <a:pt x="16200" y="0"/>
                    <a:pt x="10800" y="213"/>
                    <a:pt x="10800" y="425"/>
                  </a:cubicBezTo>
                  <a:lnTo>
                    <a:pt x="10800" y="10375"/>
                  </a:lnTo>
                  <a:cubicBezTo>
                    <a:pt x="10800" y="10588"/>
                    <a:pt x="5400" y="10800"/>
                    <a:pt x="0" y="10800"/>
                  </a:cubicBezTo>
                  <a:cubicBezTo>
                    <a:pt x="5400" y="10800"/>
                    <a:pt x="10800" y="11013"/>
                    <a:pt x="10800" y="11225"/>
                  </a:cubicBezTo>
                  <a:lnTo>
                    <a:pt x="10800" y="21175"/>
                  </a:lnTo>
                  <a:cubicBezTo>
                    <a:pt x="10800" y="21388"/>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6" name="TextBox 28"/>
            <p:cNvSpPr/>
            <p:nvPr/>
          </p:nvSpPr>
          <p:spPr>
            <a:xfrm>
              <a:off x="1908000" y="2471760"/>
              <a:ext cx="41119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方正姚体"/>
                  <a:ea typeface="方正姚体"/>
                </a:rPr>
                <a:t>qiào</a:t>
              </a:r>
              <a:r>
                <a:rPr b="1" lang="zh-CN" sz="2800" spc="-1" strike="noStrike">
                  <a:solidFill>
                    <a:srgbClr val="ff0000"/>
                  </a:solidFill>
                  <a:latin typeface="宋体"/>
                </a:rPr>
                <a:t>（翘辫子　翘尾巴）</a:t>
              </a:r>
              <a:r>
                <a:rPr b="1" lang="en-US" sz="2800" spc="-1" strike="noStrike">
                  <a:solidFill>
                    <a:srgbClr val="ff0000"/>
                  </a:solidFill>
                  <a:latin typeface="方正姚体"/>
                  <a:ea typeface="方正姚体"/>
                </a:rPr>
                <a:t>qiáo</a:t>
              </a:r>
              <a:r>
                <a:rPr b="1" lang="zh-CN" sz="2800" spc="-1" strike="noStrike">
                  <a:solidFill>
                    <a:srgbClr val="ff0000"/>
                  </a:solidFill>
                  <a:latin typeface="宋体"/>
                </a:rPr>
                <a:t>（翘首　翘望）</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childTnLst>
                                    <p:set>
                                      <p:cBhvr>
                                        <p:cTn id="443" dur="1" fill="hold">
                                          <p:stCondLst>
                                            <p:cond delay="0"/>
                                          </p:stCondLst>
                                        </p:cTn>
                                        <p:tgtEl>
                                          <p:spTgt spid="204"/>
                                        </p:tgtEl>
                                        <p:attrNameLst>
                                          <p:attrName>style.visibility</p:attrName>
                                        </p:attrNameLst>
                                      </p:cBhvr>
                                      <p:to>
                                        <p:strVal val="visible"/>
                                      </p:to>
                                    </p:set>
                                    <p:animEffect filter="wipe(left)" transition="in">
                                      <p:cBhvr additive="repl">
                                        <p:cTn id="444"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矩形 1"/>
          <p:cNvSpPr/>
          <p:nvPr/>
        </p:nvSpPr>
        <p:spPr>
          <a:xfrm>
            <a:off x="1274760" y="1712880"/>
            <a:ext cx="7456320" cy="411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妍美：</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相称：</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点缀：</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雍容：</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奴役：</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弥留：</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如怨如诉：</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grpSp>
        <p:nvGrpSpPr>
          <p:cNvPr id="208" name="组合 1"/>
          <p:cNvGrpSpPr/>
          <p:nvPr/>
        </p:nvGrpSpPr>
        <p:grpSpPr>
          <a:xfrm>
            <a:off x="558720" y="1079640"/>
            <a:ext cx="2594160" cy="666720"/>
            <a:chOff x="558720" y="1079640"/>
            <a:chExt cx="2594160" cy="666720"/>
          </a:xfrm>
        </p:grpSpPr>
        <p:sp>
          <p:nvSpPr>
            <p:cNvPr id="209" name="圆角矩形 5"/>
            <p:cNvSpPr/>
            <p:nvPr/>
          </p:nvSpPr>
          <p:spPr>
            <a:xfrm>
              <a:off x="1374840" y="121752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10" name="图片 9" descr="book.gif"/>
            <p:cNvPicPr/>
            <p:nvPr/>
          </p:nvPicPr>
          <p:blipFill>
            <a:blip r:embed="rId1"/>
            <a:stretch/>
          </p:blipFill>
          <p:spPr>
            <a:xfrm>
              <a:off x="558720" y="1079640"/>
              <a:ext cx="1087560" cy="666720"/>
            </a:xfrm>
            <a:prstGeom prst="rect">
              <a:avLst/>
            </a:prstGeom>
            <a:ln w="0">
              <a:noFill/>
            </a:ln>
          </p:spPr>
        </p:pic>
        <p:sp>
          <p:nvSpPr>
            <p:cNvPr id="211" name="文本框 16"/>
            <p:cNvSpPr/>
            <p:nvPr/>
          </p:nvSpPr>
          <p:spPr>
            <a:xfrm>
              <a:off x="1634040" y="123660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Calibri"/>
              </a:endParaRPr>
            </a:p>
          </p:txBody>
        </p:sp>
      </p:grpSp>
      <p:sp>
        <p:nvSpPr>
          <p:cNvPr id="212" name="矩形 1"/>
          <p:cNvSpPr/>
          <p:nvPr/>
        </p:nvSpPr>
        <p:spPr>
          <a:xfrm>
            <a:off x="2038320" y="1719360"/>
            <a:ext cx="6296040" cy="461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美丽。</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事物配合起来显得合适。</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加以衬托或装饰，使原有事物更加美好。</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文雅大方，从容不迫的样子。</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把人当作奴役使用。</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病危濒死。</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         </a:t>
            </a:r>
            <a:r>
              <a:rPr b="1" lang="zh-CN" sz="2200" spc="-1" strike="noStrike">
                <a:solidFill>
                  <a:srgbClr val="ff0000"/>
                </a:solidFill>
                <a:latin typeface="Calibri"/>
              </a:rPr>
              <a:t>好像很哀怨，又像在倾诉。形容声音悲切。    </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        </a:t>
            </a:r>
            <a:r>
              <a:rPr b="1" lang="zh-CN" sz="2200" spc="-1" strike="noStrike">
                <a:solidFill>
                  <a:srgbClr val="000000"/>
                </a:solidFill>
                <a:latin typeface="Calibri"/>
              </a:rPr>
              <a:t>造句：随着吉他发出的</a:t>
            </a:r>
            <a:r>
              <a:rPr b="1" lang="zh-CN" sz="2200" spc="-1" strike="noStrike" u="sng">
                <a:solidFill>
                  <a:srgbClr val="000000"/>
                </a:solidFill>
                <a:uFillTx/>
                <a:latin typeface="Calibri"/>
              </a:rPr>
              <a:t>如怨如诉</a:t>
            </a:r>
            <a:r>
              <a:rPr b="1" lang="zh-CN" sz="2200" spc="-1" strike="noStrike">
                <a:solidFill>
                  <a:srgbClr val="000000"/>
                </a:solidFill>
                <a:latin typeface="Calibri"/>
              </a:rPr>
              <a:t>的旋律，我 </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                      </a:t>
            </a:r>
            <a:r>
              <a:rPr b="1" lang="zh-CN" sz="2200" spc="-1" strike="noStrike">
                <a:solidFill>
                  <a:srgbClr val="000000"/>
                </a:solidFill>
                <a:latin typeface="Calibri"/>
              </a:rPr>
              <a:t>的思绪飞向那个悲苦的年代。</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12">
                                            <p:txEl>
                                              <p:pRg st="0" end="0"/>
                                            </p:txEl>
                                          </p:spTgt>
                                        </p:tgtEl>
                                        <p:attrNameLst>
                                          <p:attrName>style.visibility</p:attrName>
                                        </p:attrNameLst>
                                      </p:cBhvr>
                                      <p:to>
                                        <p:strVal val="visible"/>
                                      </p:to>
                                    </p:set>
                                    <p:animEffect filter="wipe(left)" transition="in">
                                      <p:cBhvr additive="repl">
                                        <p:cTn id="451" dur="500"/>
                                        <p:tgtEl>
                                          <p:spTgt spid="212">
                                            <p:txEl>
                                              <p:pRg st="0" end="0"/>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12">
                                            <p:txEl>
                                              <p:pRg st="1" end="1"/>
                                            </p:txEl>
                                          </p:spTgt>
                                        </p:tgtEl>
                                        <p:attrNameLst>
                                          <p:attrName>style.visibility</p:attrName>
                                        </p:attrNameLst>
                                      </p:cBhvr>
                                      <p:to>
                                        <p:strVal val="visible"/>
                                      </p:to>
                                    </p:set>
                                    <p:animEffect filter="wipe(left)" transition="in">
                                      <p:cBhvr additive="repl">
                                        <p:cTn id="456" dur="500"/>
                                        <p:tgtEl>
                                          <p:spTgt spid="212">
                                            <p:txEl>
                                              <p:pRg st="1" end="1"/>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12">
                                            <p:txEl>
                                              <p:pRg st="2" end="2"/>
                                            </p:txEl>
                                          </p:spTgt>
                                        </p:tgtEl>
                                        <p:attrNameLst>
                                          <p:attrName>style.visibility</p:attrName>
                                        </p:attrNameLst>
                                      </p:cBhvr>
                                      <p:to>
                                        <p:strVal val="visible"/>
                                      </p:to>
                                    </p:set>
                                    <p:animEffect filter="wipe(left)" transition="in">
                                      <p:cBhvr additive="repl">
                                        <p:cTn id="461" dur="500"/>
                                        <p:tgtEl>
                                          <p:spTgt spid="212">
                                            <p:txEl>
                                              <p:pRg st="2" end="2"/>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12">
                                            <p:txEl>
                                              <p:pRg st="3" end="3"/>
                                            </p:txEl>
                                          </p:spTgt>
                                        </p:tgtEl>
                                        <p:attrNameLst>
                                          <p:attrName>style.visibility</p:attrName>
                                        </p:attrNameLst>
                                      </p:cBhvr>
                                      <p:to>
                                        <p:strVal val="visible"/>
                                      </p:to>
                                    </p:set>
                                    <p:animEffect filter="wipe(left)" transition="in">
                                      <p:cBhvr additive="repl">
                                        <p:cTn id="466" dur="500"/>
                                        <p:tgtEl>
                                          <p:spTgt spid="212">
                                            <p:txEl>
                                              <p:pRg st="3" end="3"/>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12">
                                            <p:txEl>
                                              <p:pRg st="4" end="4"/>
                                            </p:txEl>
                                          </p:spTgt>
                                        </p:tgtEl>
                                        <p:attrNameLst>
                                          <p:attrName>style.visibility</p:attrName>
                                        </p:attrNameLst>
                                      </p:cBhvr>
                                      <p:to>
                                        <p:strVal val="visible"/>
                                      </p:to>
                                    </p:set>
                                    <p:animEffect filter="wipe(left)" transition="in">
                                      <p:cBhvr additive="repl">
                                        <p:cTn id="471" dur="500"/>
                                        <p:tgtEl>
                                          <p:spTgt spid="212">
                                            <p:txEl>
                                              <p:pRg st="4" end="4"/>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12">
                                            <p:txEl>
                                              <p:pRg st="5" end="5"/>
                                            </p:txEl>
                                          </p:spTgt>
                                        </p:tgtEl>
                                        <p:attrNameLst>
                                          <p:attrName>style.visibility</p:attrName>
                                        </p:attrNameLst>
                                      </p:cBhvr>
                                      <p:to>
                                        <p:strVal val="visible"/>
                                      </p:to>
                                    </p:set>
                                    <p:animEffect filter="wipe(left)" transition="in">
                                      <p:cBhvr additive="repl">
                                        <p:cTn id="476" dur="500"/>
                                        <p:tgtEl>
                                          <p:spTgt spid="212">
                                            <p:txEl>
                                              <p:pRg st="5" end="5"/>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12">
                                            <p:txEl>
                                              <p:pRg st="6" end="6"/>
                                            </p:txEl>
                                          </p:spTgt>
                                        </p:tgtEl>
                                        <p:attrNameLst>
                                          <p:attrName>style.visibility</p:attrName>
                                        </p:attrNameLst>
                                      </p:cBhvr>
                                      <p:to>
                                        <p:strVal val="visible"/>
                                      </p:to>
                                    </p:set>
                                    <p:animEffect filter="wipe(left)" transition="in">
                                      <p:cBhvr additive="repl">
                                        <p:cTn id="481" dur="500"/>
                                        <p:tgtEl>
                                          <p:spTgt spid="212">
                                            <p:txEl>
                                              <p:pRg st="6" end="6"/>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212">
                                            <p:txEl>
                                              <p:pRg st="7" end="7"/>
                                            </p:txEl>
                                          </p:spTgt>
                                        </p:tgtEl>
                                        <p:attrNameLst>
                                          <p:attrName>style.visibility</p:attrName>
                                        </p:attrNameLst>
                                      </p:cBhvr>
                                      <p:to>
                                        <p:strVal val="visible"/>
                                      </p:to>
                                    </p:set>
                                    <p:animEffect filter="wipe(left)" transition="in">
                                      <p:cBhvr additive="repl">
                                        <p:cTn id="486" dur="500"/>
                                        <p:tgtEl>
                                          <p:spTgt spid="212">
                                            <p:txEl>
                                              <p:pRg st="7" end="7"/>
                                            </p:txEl>
                                          </p:spTgt>
                                        </p:tgtEl>
                                      </p:cBhvr>
                                    </p:animEffect>
                                  </p:childTnLst>
                                </p:cTn>
                              </p:par>
                              <p:par>
                                <p:cTn id="487" nodeType="withEffect" fill="hold" presetClass="entr" presetID="22" presetSubtype="8">
                                  <p:stCondLst>
                                    <p:cond delay="0"/>
                                  </p:stCondLst>
                                  <p:childTnLst>
                                    <p:set>
                                      <p:cBhvr>
                                        <p:cTn id="488" dur="1" fill="hold">
                                          <p:stCondLst>
                                            <p:cond delay="0"/>
                                          </p:stCondLst>
                                        </p:cTn>
                                        <p:tgtEl>
                                          <p:spTgt spid="212">
                                            <p:txEl>
                                              <p:pRg st="8" end="8"/>
                                            </p:txEl>
                                          </p:spTgt>
                                        </p:tgtEl>
                                        <p:attrNameLst>
                                          <p:attrName>style.visibility</p:attrName>
                                        </p:attrNameLst>
                                      </p:cBhvr>
                                      <p:to>
                                        <p:strVal val="visible"/>
                                      </p:to>
                                    </p:set>
                                    <p:animEffect filter="wipe(left)" transition="in">
                                      <p:cBhvr additive="repl">
                                        <p:cTn id="489" dur="500"/>
                                        <p:tgtEl>
                                          <p:spTgt spid="2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矩形 1"/>
          <p:cNvSpPr/>
          <p:nvPr/>
        </p:nvSpPr>
        <p:spPr>
          <a:xfrm>
            <a:off x="887400" y="1992240"/>
            <a:ext cx="74376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b0f0"/>
                </a:solidFill>
                <a:latin typeface="黑体"/>
                <a:ea typeface="黑体"/>
              </a:rPr>
              <a:t>第一部分</a:t>
            </a:r>
            <a:r>
              <a:rPr b="1" lang="en-US" sz="2400" spc="-1" strike="noStrike">
                <a:solidFill>
                  <a:srgbClr val="00b0f0"/>
                </a:solidFill>
                <a:latin typeface="黑体"/>
                <a:ea typeface="黑体"/>
              </a:rPr>
              <a:t>(</a:t>
            </a:r>
            <a:r>
              <a:rPr b="1" lang="zh-CN" sz="2400" spc="-1" strike="noStrike">
                <a:solidFill>
                  <a:srgbClr val="00b0f0"/>
                </a:solidFill>
                <a:latin typeface="黑体"/>
                <a:ea typeface="黑体"/>
              </a:rPr>
              <a:t>第</a:t>
            </a:r>
            <a:r>
              <a:rPr b="1" lang="en-US" sz="2400" spc="-1" strike="noStrike">
                <a:solidFill>
                  <a:srgbClr val="00b0f0"/>
                </a:solidFill>
                <a:latin typeface="黑体"/>
                <a:ea typeface="黑体"/>
              </a:rPr>
              <a:t>1</a:t>
            </a:r>
            <a:r>
              <a:rPr b="1" lang="zh-CN" sz="2400" spc="-1" strike="noStrike">
                <a:solidFill>
                  <a:srgbClr val="00b0f0"/>
                </a:solidFill>
                <a:latin typeface="黑体"/>
                <a:ea typeface="黑体"/>
              </a:rPr>
              <a:t>自然段</a:t>
            </a:r>
            <a:r>
              <a:rPr b="1" lang="en-US" sz="2400" spc="-1" strike="noStrike">
                <a:solidFill>
                  <a:srgbClr val="00b0f0"/>
                </a:solidFill>
                <a:latin typeface="黑体"/>
                <a:ea typeface="黑体"/>
              </a:rPr>
              <a:t>)</a:t>
            </a:r>
            <a:r>
              <a:rPr b="1" lang="zh-CN" sz="2400" spc="-1" strike="noStrike">
                <a:solidFill>
                  <a:srgbClr val="c00000"/>
                </a:solidFill>
                <a:latin typeface="Calibri"/>
              </a:rPr>
              <a:t>外形妍美。</a:t>
            </a:r>
            <a:r>
              <a:rPr b="1" lang="zh-CN" sz="2400" spc="-1" strike="noStrike">
                <a:solidFill>
                  <a:srgbClr val="000000"/>
                </a:solidFill>
                <a:latin typeface="Calibri"/>
              </a:rPr>
              <a:t>写天鹅优雅、妍美的形态。</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b0f0"/>
                </a:solidFill>
                <a:latin typeface="黑体"/>
                <a:ea typeface="黑体"/>
              </a:rPr>
              <a:t>第二部分</a:t>
            </a:r>
            <a:r>
              <a:rPr b="1" lang="en-US" sz="2400" spc="-1" strike="noStrike">
                <a:solidFill>
                  <a:srgbClr val="00b0f0"/>
                </a:solidFill>
                <a:latin typeface="黑体"/>
                <a:ea typeface="黑体"/>
              </a:rPr>
              <a:t>(</a:t>
            </a:r>
            <a:r>
              <a:rPr b="1" lang="zh-CN" sz="2400" spc="-1" strike="noStrike">
                <a:solidFill>
                  <a:srgbClr val="00b0f0"/>
                </a:solidFill>
                <a:latin typeface="黑体"/>
                <a:ea typeface="黑体"/>
              </a:rPr>
              <a:t>第</a:t>
            </a:r>
            <a:r>
              <a:rPr b="1" lang="en-US" sz="2400" spc="-1" strike="noStrike">
                <a:solidFill>
                  <a:srgbClr val="00b0f0"/>
                </a:solidFill>
                <a:latin typeface="黑体"/>
                <a:ea typeface="黑体"/>
              </a:rPr>
              <a:t>2</a:t>
            </a:r>
            <a:r>
              <a:rPr b="1" lang="zh-CN" sz="2400" spc="-1" strike="noStrike">
                <a:solidFill>
                  <a:srgbClr val="00b0f0"/>
                </a:solidFill>
                <a:latin typeface="黑体"/>
                <a:ea typeface="黑体"/>
              </a:rPr>
              <a:t>自然段</a:t>
            </a:r>
            <a:r>
              <a:rPr b="1" lang="en-US" sz="2400" spc="-1" strike="noStrike">
                <a:solidFill>
                  <a:srgbClr val="00b0f0"/>
                </a:solidFill>
                <a:latin typeface="黑体"/>
                <a:ea typeface="黑体"/>
              </a:rPr>
              <a:t>)</a:t>
            </a:r>
            <a:r>
              <a:rPr b="1" lang="zh-CN" sz="2400" spc="-1" strike="noStrike">
                <a:solidFill>
                  <a:srgbClr val="c00000"/>
                </a:solidFill>
                <a:latin typeface="Calibri"/>
              </a:rPr>
              <a:t>天鹅善航。</a:t>
            </a:r>
            <a:r>
              <a:rPr b="1" lang="zh-CN" sz="2400" spc="-1" strike="noStrike">
                <a:solidFill>
                  <a:srgbClr val="000000"/>
                </a:solidFill>
                <a:latin typeface="Calibri"/>
              </a:rPr>
              <a:t>写天鹅是善航者以及航行时的美丽。</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b0f0"/>
                </a:solidFill>
                <a:latin typeface="黑体"/>
                <a:ea typeface="黑体"/>
              </a:rPr>
              <a:t>第三部分</a:t>
            </a:r>
            <a:r>
              <a:rPr b="1" lang="en-US" sz="2400" spc="-1" strike="noStrike">
                <a:solidFill>
                  <a:srgbClr val="00b0f0"/>
                </a:solidFill>
                <a:latin typeface="黑体"/>
                <a:ea typeface="黑体"/>
              </a:rPr>
              <a:t>(</a:t>
            </a:r>
            <a:r>
              <a:rPr b="1" lang="zh-CN" sz="2400" spc="-1" strike="noStrike">
                <a:solidFill>
                  <a:srgbClr val="00b0f0"/>
                </a:solidFill>
                <a:latin typeface="黑体"/>
                <a:ea typeface="黑体"/>
              </a:rPr>
              <a:t>第</a:t>
            </a:r>
            <a:r>
              <a:rPr b="1" lang="en-US" sz="2400" spc="-1" strike="noStrike">
                <a:solidFill>
                  <a:srgbClr val="00b0f0"/>
                </a:solidFill>
                <a:latin typeface="黑体"/>
                <a:ea typeface="黑体"/>
              </a:rPr>
              <a:t>3</a:t>
            </a:r>
            <a:r>
              <a:rPr b="1" lang="zh-CN" sz="2400" spc="-1" strike="noStrike">
                <a:solidFill>
                  <a:srgbClr val="00b0f0"/>
                </a:solidFill>
                <a:latin typeface="黑体"/>
                <a:ea typeface="黑体"/>
              </a:rPr>
              <a:t>自然段</a:t>
            </a:r>
            <a:r>
              <a:rPr b="1" lang="en-US" sz="2400" spc="-1" strike="noStrike">
                <a:solidFill>
                  <a:srgbClr val="00b0f0"/>
                </a:solidFill>
                <a:latin typeface="黑体"/>
                <a:ea typeface="黑体"/>
              </a:rPr>
              <a:t>)</a:t>
            </a:r>
            <a:r>
              <a:rPr b="1" lang="zh-CN" sz="2400" spc="-1" strike="noStrike">
                <a:solidFill>
                  <a:srgbClr val="c00000"/>
                </a:solidFill>
                <a:latin typeface="Calibri"/>
              </a:rPr>
              <a:t>天鹅的美德。</a:t>
            </a:r>
            <a:r>
              <a:rPr b="1" lang="zh-CN" sz="2400" spc="-1" strike="noStrike">
                <a:solidFill>
                  <a:srgbClr val="000000"/>
                </a:solidFill>
                <a:latin typeface="Calibri"/>
              </a:rPr>
              <a:t>写天鹅具有自由的美德。</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b0f0"/>
                </a:solidFill>
                <a:latin typeface="黑体"/>
                <a:ea typeface="黑体"/>
              </a:rPr>
              <a:t>第四部分</a:t>
            </a:r>
            <a:r>
              <a:rPr b="1" lang="en-US" sz="2400" spc="-1" strike="noStrike">
                <a:solidFill>
                  <a:srgbClr val="00b0f0"/>
                </a:solidFill>
                <a:latin typeface="黑体"/>
                <a:ea typeface="黑体"/>
              </a:rPr>
              <a:t>(</a:t>
            </a:r>
            <a:r>
              <a:rPr b="1" lang="zh-CN" sz="2400" spc="-1" strike="noStrike">
                <a:solidFill>
                  <a:srgbClr val="00b0f0"/>
                </a:solidFill>
                <a:latin typeface="黑体"/>
                <a:ea typeface="黑体"/>
              </a:rPr>
              <a:t>第</a:t>
            </a:r>
            <a:r>
              <a:rPr b="1" lang="en-US" sz="2400" spc="-1" strike="noStrike">
                <a:solidFill>
                  <a:srgbClr val="00b0f0"/>
                </a:solidFill>
                <a:latin typeface="黑体"/>
                <a:ea typeface="黑体"/>
              </a:rPr>
              <a:t>4</a:t>
            </a:r>
            <a:r>
              <a:rPr b="1" lang="zh-CN" sz="2400" spc="-1" strike="noStrike">
                <a:solidFill>
                  <a:srgbClr val="00b0f0"/>
                </a:solidFill>
                <a:latin typeface="黑体"/>
                <a:ea typeface="黑体"/>
              </a:rPr>
              <a:t>自然段</a:t>
            </a:r>
            <a:r>
              <a:rPr b="1" lang="en-US" sz="2400" spc="-1" strike="noStrike">
                <a:solidFill>
                  <a:srgbClr val="00b0f0"/>
                </a:solidFill>
                <a:latin typeface="黑体"/>
                <a:ea typeface="黑体"/>
              </a:rPr>
              <a:t>)</a:t>
            </a:r>
            <a:r>
              <a:rPr b="1" lang="zh-CN" sz="2400" spc="-1" strike="noStrike">
                <a:solidFill>
                  <a:srgbClr val="c00000"/>
                </a:solidFill>
                <a:latin typeface="Calibri"/>
              </a:rPr>
              <a:t>弥留悲歌。</a:t>
            </a:r>
            <a:r>
              <a:rPr b="1" lang="zh-CN" sz="2400" spc="-1" strike="noStrike">
                <a:solidFill>
                  <a:srgbClr val="000000"/>
                </a:solidFill>
                <a:latin typeface="Calibri"/>
              </a:rPr>
              <a:t>写天鹅是一个神奇的歌手，会在弥留时歌唱。</a:t>
            </a:r>
            <a:endParaRPr b="0" lang="en-US" sz="2400" spc="-1" strike="noStrike">
              <a:solidFill>
                <a:srgbClr val="000000"/>
              </a:solidFill>
              <a:latin typeface="Calibri"/>
            </a:endParaRPr>
          </a:p>
        </p:txBody>
      </p:sp>
      <p:grpSp>
        <p:nvGrpSpPr>
          <p:cNvPr id="214" name="组合 11"/>
          <p:cNvGrpSpPr/>
          <p:nvPr/>
        </p:nvGrpSpPr>
        <p:grpSpPr>
          <a:xfrm>
            <a:off x="804960" y="1136520"/>
            <a:ext cx="3792600" cy="717840"/>
            <a:chOff x="804960" y="1136520"/>
            <a:chExt cx="3792600" cy="717840"/>
          </a:xfrm>
        </p:grpSpPr>
        <p:grpSp>
          <p:nvGrpSpPr>
            <p:cNvPr id="215" name="圆角矩形 4"/>
            <p:cNvGrpSpPr/>
            <p:nvPr/>
          </p:nvGrpSpPr>
          <p:grpSpPr>
            <a:xfrm>
              <a:off x="804960" y="1140840"/>
              <a:ext cx="1032120" cy="531000"/>
              <a:chOff x="804960" y="1140840"/>
              <a:chExt cx="1032120" cy="531000"/>
            </a:xfrm>
          </p:grpSpPr>
          <p:pic>
            <p:nvPicPr>
              <p:cNvPr id="216" name="圆角矩形 4" descr=""/>
              <p:cNvPicPr/>
              <p:nvPr/>
            </p:nvPicPr>
            <p:blipFill>
              <a:blip r:embed="rId1"/>
              <a:stretch/>
            </p:blipFill>
            <p:spPr>
              <a:xfrm>
                <a:off x="804960" y="1140840"/>
                <a:ext cx="1032120" cy="531000"/>
              </a:xfrm>
              <a:prstGeom prst="rect">
                <a:avLst/>
              </a:prstGeom>
              <a:ln w="0">
                <a:noFill/>
              </a:ln>
            </p:spPr>
          </p:pic>
          <p:sp>
            <p:nvSpPr>
              <p:cNvPr id="217" name=""/>
              <p:cNvSpPr/>
              <p:nvPr/>
            </p:nvSpPr>
            <p:spPr>
              <a:xfrm>
                <a:off x="850680" y="1176480"/>
                <a:ext cx="940680" cy="462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218" name="任意多边形 5" descr=""/>
            <p:cNvPicPr/>
            <p:nvPr/>
          </p:nvPicPr>
          <p:blipFill>
            <a:blip r:embed="rId2"/>
            <a:stretch/>
          </p:blipFill>
          <p:spPr>
            <a:xfrm>
              <a:off x="1612800" y="1136520"/>
              <a:ext cx="2984760" cy="717840"/>
            </a:xfrm>
            <a:prstGeom prst="rect">
              <a:avLst/>
            </a:prstGeom>
            <a:ln w="0">
              <a:noFill/>
            </a:ln>
          </p:spPr>
        </p:pic>
      </p:gr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496" dur="500"/>
                                        <p:tgtEl>
                                          <p:spTgt spid="213">
                                            <p:txEl>
                                              <p:pRg st="0" end="0"/>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213">
                                            <p:txEl>
                                              <p:pRg st="1" end="1"/>
                                            </p:txEl>
                                          </p:spTgt>
                                        </p:tgtEl>
                                        <p:attrNameLst>
                                          <p:attrName>style.visibility</p:attrName>
                                        </p:attrNameLst>
                                      </p:cBhvr>
                                      <p:to>
                                        <p:strVal val="visible"/>
                                      </p:to>
                                    </p:set>
                                    <p:animEffect filter="wipe(left)" transition="in">
                                      <p:cBhvr additive="repl">
                                        <p:cTn id="501" dur="500"/>
                                        <p:tgtEl>
                                          <p:spTgt spid="213">
                                            <p:txEl>
                                              <p:pRg st="1" end="1"/>
                                            </p:txEl>
                                          </p:spTgt>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2" presetSubtype="8">
                                  <p:stCondLst>
                                    <p:cond delay="0"/>
                                  </p:stCondLst>
                                  <p:childTnLst>
                                    <p:set>
                                      <p:cBhvr>
                                        <p:cTn id="505" dur="1" fill="hold">
                                          <p:stCondLst>
                                            <p:cond delay="0"/>
                                          </p:stCondLst>
                                        </p:cTn>
                                        <p:tgtEl>
                                          <p:spTgt spid="213">
                                            <p:txEl>
                                              <p:pRg st="2" end="2"/>
                                            </p:txEl>
                                          </p:spTgt>
                                        </p:tgtEl>
                                        <p:attrNameLst>
                                          <p:attrName>style.visibility</p:attrName>
                                        </p:attrNameLst>
                                      </p:cBhvr>
                                      <p:to>
                                        <p:strVal val="visible"/>
                                      </p:to>
                                    </p:set>
                                    <p:animEffect filter="wipe(left)" transition="in">
                                      <p:cBhvr additive="repl">
                                        <p:cTn id="506" dur="500"/>
                                        <p:tgtEl>
                                          <p:spTgt spid="213">
                                            <p:txEl>
                                              <p:pRg st="2" end="2"/>
                                            </p:txEl>
                                          </p:spTgt>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213">
                                            <p:txEl>
                                              <p:pRg st="3" end="3"/>
                                            </p:txEl>
                                          </p:spTgt>
                                        </p:tgtEl>
                                        <p:attrNameLst>
                                          <p:attrName>style.visibility</p:attrName>
                                        </p:attrNameLst>
                                      </p:cBhvr>
                                      <p:to>
                                        <p:strVal val="visible"/>
                                      </p:to>
                                    </p:set>
                                    <p:animEffect filter="wipe(left)" transition="in">
                                      <p:cBhvr additive="repl">
                                        <p:cTn id="511" dur="500"/>
                                        <p:tgtEl>
                                          <p:spTgt spid="2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TextBox 17"/>
          <p:cNvSpPr/>
          <p:nvPr/>
        </p:nvSpPr>
        <p:spPr>
          <a:xfrm>
            <a:off x="1149480" y="3456000"/>
            <a:ext cx="69786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宋体"/>
              </a:rPr>
              <a:t>突出说明天鹅的高尚、庄重、文雅的美德。</a:t>
            </a:r>
            <a:endParaRPr b="0" lang="en-US" sz="2800" spc="-1" strike="noStrike">
              <a:solidFill>
                <a:srgbClr val="000000"/>
              </a:solidFill>
              <a:latin typeface="Calibri"/>
            </a:endParaRPr>
          </a:p>
        </p:txBody>
      </p:sp>
      <p:sp>
        <p:nvSpPr>
          <p:cNvPr id="220" name="矩形 5"/>
          <p:cNvSpPr/>
          <p:nvPr/>
        </p:nvSpPr>
        <p:spPr>
          <a:xfrm>
            <a:off x="393840" y="2006640"/>
            <a:ext cx="81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黑体"/>
                <a:ea typeface="黑体"/>
              </a:rPr>
              <a:t>作者首先是以地上的狮、虎，空中的鹰、鹫引出水中之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天鹅，并进行对比，为了说明什么？</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4" presetSubtype="10">
                                  <p:stCondLst>
                                    <p:cond delay="0"/>
                                  </p:stCondLst>
                                  <p:childTnLst>
                                    <p:set>
                                      <p:cBhvr>
                                        <p:cTn id="517" dur="1" fill="hold">
                                          <p:stCondLst>
                                            <p:cond delay="0"/>
                                          </p:stCondLst>
                                        </p:cTn>
                                        <p:tgtEl>
                                          <p:spTgt spid="219"/>
                                        </p:tgtEl>
                                        <p:attrNameLst>
                                          <p:attrName>style.visibility</p:attrName>
                                        </p:attrNameLst>
                                      </p:cBhvr>
                                      <p:to>
                                        <p:strVal val="visible"/>
                                      </p:to>
                                    </p:set>
                                    <p:animEffect filter="randombar(horizontal)" transition="in">
                                      <p:cBhvr additive="repl">
                                        <p:cTn id="518"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图示 7" descr=""/>
          <p:cNvPicPr/>
          <p:nvPr/>
        </p:nvPicPr>
        <p:blipFill>
          <a:blip r:embed="rId1"/>
          <a:stretch/>
        </p:blipFill>
        <p:spPr>
          <a:xfrm>
            <a:off x="878040" y="1090440"/>
            <a:ext cx="3090600" cy="1470240"/>
          </a:xfrm>
          <a:prstGeom prst="rect">
            <a:avLst/>
          </a:prstGeom>
          <a:ln w="0">
            <a:noFill/>
          </a:ln>
        </p:spPr>
      </p:pic>
      <p:sp>
        <p:nvSpPr>
          <p:cNvPr id="222" name="矩形 11"/>
          <p:cNvSpPr/>
          <p:nvPr/>
        </p:nvSpPr>
        <p:spPr>
          <a:xfrm>
            <a:off x="1017720" y="2268360"/>
            <a:ext cx="7380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这是一篇介绍天鹅的科学小品，作者采用多种艺术手法介绍了天鹅的外形特点和性格特点以及天鹅的鸣叫，突出了天鹅是外在美和内在美的完美结合。</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53" presetSubtype="16">
                                  <p:stCondLst>
                                    <p:cond delay="0"/>
                                  </p:stCondLst>
                                  <p:childTnLst>
                                    <p:set>
                                      <p:cBhvr>
                                        <p:cTn id="524" dur="1" fill="hold">
                                          <p:stCondLst>
                                            <p:cond delay="0"/>
                                          </p:stCondLst>
                                        </p:cTn>
                                        <p:tgtEl>
                                          <p:spTgt spid="222"/>
                                        </p:tgtEl>
                                        <p:attrNameLst>
                                          <p:attrName>style.visibility</p:attrName>
                                        </p:attrNameLst>
                                      </p:cBhvr>
                                      <p:to>
                                        <p:strVal val="visible"/>
                                      </p:to>
                                    </p:set>
                                    <p:anim calcmode="lin" valueType="num">
                                      <p:cBhvr additive="repl">
                                        <p:cTn id="525" dur="500" fill="hold"/>
                                        <p:tgtEl>
                                          <p:spTgt spid="222"/>
                                        </p:tgtEl>
                                        <p:attrNameLst>
                                          <p:attrName>ppt_w</p:attrName>
                                        </p:attrNameLst>
                                      </p:cBhvr>
                                      <p:tavLst>
                                        <p:tav tm="0">
                                          <p:val>
                                            <p:fltVal val="0"/>
                                          </p:val>
                                        </p:tav>
                                        <p:tav tm="100000">
                                          <p:val>
                                            <p:strVal val="#ppt_w"/>
                                          </p:val>
                                        </p:tav>
                                      </p:tavLst>
                                    </p:anim>
                                    <p:anim calcmode="lin" valueType="num">
                                      <p:cBhvr additive="repl">
                                        <p:cTn id="526" dur="500" fill="hold"/>
                                        <p:tgtEl>
                                          <p:spTgt spid="222"/>
                                        </p:tgtEl>
                                        <p:attrNameLst>
                                          <p:attrName>ppt_h</p:attrName>
                                        </p:attrNameLst>
                                      </p:cBhvr>
                                      <p:tavLst>
                                        <p:tav tm="0">
                                          <p:val>
                                            <p:fltVal val="0"/>
                                          </p:val>
                                        </p:tav>
                                        <p:tav tm="100000">
                                          <p:val>
                                            <p:strVal val="#ppt_h"/>
                                          </p:val>
                                        </p:tav>
                                      </p:tavLst>
                                    </p:anim>
                                    <p:animEffect filter="fade" transition="in">
                                      <p:cBhvr additive="repl">
                                        <p:cTn id="527"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3332160" y="3095640"/>
          <a:ext cx="2160720" cy="733320"/>
        </p:xfrm>
        <a:graphic>
          <a:graphicData uri="http://schemas.openxmlformats.org/drawingml/2006/table">
            <a:tbl>
              <a:tblPr/>
              <a:tblGrid>
                <a:gridCol w="360360"/>
                <a:gridCol w="360360"/>
                <a:gridCol w="360360"/>
                <a:gridCol w="358920"/>
                <a:gridCol w="360360"/>
                <a:gridCol w="360360"/>
              </a:tblGrid>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24"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
        <p:nvSpPr>
          <p:cNvPr id="225" name="矩形 21"/>
          <p:cNvSpPr/>
          <p:nvPr/>
        </p:nvSpPr>
        <p:spPr>
          <a:xfrm>
            <a:off x="1309680" y="2544840"/>
            <a:ext cx="64022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mó  xíng     qiào</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wěi    bɑ     chuán</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duò</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chí</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zhǎo          fú</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huò           qiú</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fàn</a:t>
            </a:r>
            <a:endParaRPr b="0" lang="en-US" sz="2400" spc="-1" strike="noStrike">
              <a:solidFill>
                <a:srgbClr val="000000"/>
              </a:solidFill>
              <a:latin typeface="Calibri"/>
            </a:endParaRPr>
          </a:p>
        </p:txBody>
      </p:sp>
      <p:graphicFrame>
        <p:nvGraphicFramePr>
          <p:cNvPr id="226" name=""/>
          <p:cNvGraphicFramePr/>
          <p:nvPr/>
        </p:nvGraphicFramePr>
        <p:xfrm>
          <a:off x="5635800" y="3095640"/>
          <a:ext cx="1439640" cy="733320"/>
        </p:xfrm>
        <a:graphic>
          <a:graphicData uri="http://schemas.openxmlformats.org/drawingml/2006/table">
            <a:tbl>
              <a:tblPr/>
              <a:tblGrid>
                <a:gridCol w="360360"/>
                <a:gridCol w="360360"/>
                <a:gridCol w="358560"/>
                <a:gridCol w="360360"/>
              </a:tblGrid>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7" name="矩形 19"/>
          <p:cNvSpPr/>
          <p:nvPr/>
        </p:nvSpPr>
        <p:spPr>
          <a:xfrm>
            <a:off x="3640320" y="31258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翘 尾 巴</a:t>
            </a:r>
            <a:endParaRPr b="0" lang="en-US" sz="3600" spc="-1" strike="noStrike">
              <a:solidFill>
                <a:srgbClr val="000000"/>
              </a:solidFill>
              <a:latin typeface="Calibri"/>
            </a:endParaRPr>
          </a:p>
        </p:txBody>
      </p:sp>
      <p:sp>
        <p:nvSpPr>
          <p:cNvPr id="228" name="矩形 20"/>
          <p:cNvSpPr/>
          <p:nvPr/>
        </p:nvSpPr>
        <p:spPr>
          <a:xfrm>
            <a:off x="5861520" y="31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船 舵</a:t>
            </a:r>
            <a:endParaRPr b="0" lang="en-US" sz="3600" spc="-1" strike="noStrike">
              <a:solidFill>
                <a:srgbClr val="000000"/>
              </a:solidFill>
              <a:latin typeface="Calibri"/>
            </a:endParaRPr>
          </a:p>
        </p:txBody>
      </p:sp>
      <p:sp>
        <p:nvSpPr>
          <p:cNvPr id="229" name="矩形 17"/>
          <p:cNvSpPr/>
          <p:nvPr/>
        </p:nvSpPr>
        <p:spPr>
          <a:xfrm>
            <a:off x="758880" y="1855800"/>
            <a:ext cx="7986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根据拼音写出词语。</a:t>
            </a:r>
            <a:endParaRPr b="0" lang="en-US" sz="2400" spc="-1" strike="noStrike">
              <a:solidFill>
                <a:srgbClr val="000000"/>
              </a:solidFill>
              <a:latin typeface="Calibri"/>
            </a:endParaRPr>
          </a:p>
        </p:txBody>
      </p:sp>
      <p:graphicFrame>
        <p:nvGraphicFramePr>
          <p:cNvPr id="230" name=""/>
          <p:cNvGraphicFramePr/>
          <p:nvPr/>
        </p:nvGraphicFramePr>
        <p:xfrm>
          <a:off x="1749600" y="3084480"/>
          <a:ext cx="1439640" cy="733320"/>
        </p:xfrm>
        <a:graphic>
          <a:graphicData uri="http://schemas.openxmlformats.org/drawingml/2006/table">
            <a:tbl>
              <a:tblPr/>
              <a:tblGrid>
                <a:gridCol w="360360"/>
                <a:gridCol w="360360"/>
                <a:gridCol w="358560"/>
                <a:gridCol w="360360"/>
              </a:tblGrid>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1" name="矩形 23"/>
          <p:cNvSpPr/>
          <p:nvPr/>
        </p:nvSpPr>
        <p:spPr>
          <a:xfrm>
            <a:off x="1967400" y="31273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模 型</a:t>
            </a:r>
            <a:endParaRPr b="0" lang="en-US" sz="3600" spc="-1" strike="noStrike">
              <a:solidFill>
                <a:srgbClr val="000000"/>
              </a:solidFill>
              <a:latin typeface="Calibri"/>
            </a:endParaRPr>
          </a:p>
        </p:txBody>
      </p:sp>
      <p:graphicFrame>
        <p:nvGraphicFramePr>
          <p:cNvPr id="232" name=""/>
          <p:cNvGraphicFramePr/>
          <p:nvPr/>
        </p:nvGraphicFramePr>
        <p:xfrm>
          <a:off x="5640480" y="4195800"/>
          <a:ext cx="1439640" cy="733320"/>
        </p:xfrm>
        <a:graphic>
          <a:graphicData uri="http://schemas.openxmlformats.org/drawingml/2006/table">
            <a:tbl>
              <a:tblPr/>
              <a:tblGrid>
                <a:gridCol w="360360"/>
                <a:gridCol w="360360"/>
                <a:gridCol w="358560"/>
                <a:gridCol w="360360"/>
              </a:tblGrid>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33" name=""/>
          <p:cNvGraphicFramePr/>
          <p:nvPr/>
        </p:nvGraphicFramePr>
        <p:xfrm>
          <a:off x="3692520" y="4195800"/>
          <a:ext cx="1440000" cy="733320"/>
        </p:xfrm>
        <a:graphic>
          <a:graphicData uri="http://schemas.openxmlformats.org/drawingml/2006/table">
            <a:tbl>
              <a:tblPr/>
              <a:tblGrid>
                <a:gridCol w="360360"/>
                <a:gridCol w="360360"/>
                <a:gridCol w="358920"/>
                <a:gridCol w="360360"/>
              </a:tblGrid>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4" name="矩形 26"/>
          <p:cNvSpPr/>
          <p:nvPr/>
        </p:nvSpPr>
        <p:spPr>
          <a:xfrm>
            <a:off x="3910320" y="4238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俘 获</a:t>
            </a:r>
            <a:endParaRPr b="0" lang="en-US" sz="3600" spc="-1" strike="noStrike">
              <a:solidFill>
                <a:srgbClr val="000000"/>
              </a:solidFill>
              <a:latin typeface="Calibri"/>
            </a:endParaRPr>
          </a:p>
        </p:txBody>
      </p:sp>
      <p:sp>
        <p:nvSpPr>
          <p:cNvPr id="235" name="矩形 27"/>
          <p:cNvSpPr/>
          <p:nvPr/>
        </p:nvSpPr>
        <p:spPr>
          <a:xfrm>
            <a:off x="5866200" y="42228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囚 犯</a:t>
            </a:r>
            <a:endParaRPr b="0" lang="en-US" sz="3600" spc="-1" strike="noStrike">
              <a:solidFill>
                <a:srgbClr val="000000"/>
              </a:solidFill>
              <a:latin typeface="Calibri"/>
            </a:endParaRPr>
          </a:p>
        </p:txBody>
      </p:sp>
      <p:graphicFrame>
        <p:nvGraphicFramePr>
          <p:cNvPr id="236" name=""/>
          <p:cNvGraphicFramePr/>
          <p:nvPr/>
        </p:nvGraphicFramePr>
        <p:xfrm>
          <a:off x="1755720" y="4184640"/>
          <a:ext cx="1440000" cy="733320"/>
        </p:xfrm>
        <a:graphic>
          <a:graphicData uri="http://schemas.openxmlformats.org/drawingml/2006/table">
            <a:tbl>
              <a:tblPr/>
              <a:tblGrid>
                <a:gridCol w="360360"/>
                <a:gridCol w="360360"/>
                <a:gridCol w="358920"/>
                <a:gridCol w="360360"/>
              </a:tblGrid>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7" name="矩形 29"/>
          <p:cNvSpPr/>
          <p:nvPr/>
        </p:nvSpPr>
        <p:spPr>
          <a:xfrm>
            <a:off x="1973520" y="42274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池 沼</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231"/>
                                        </p:tgtEl>
                                        <p:attrNameLst>
                                          <p:attrName>style.visibility</p:attrName>
                                        </p:attrNameLst>
                                      </p:cBhvr>
                                      <p:to>
                                        <p:strVal val="visible"/>
                                      </p:to>
                                    </p:set>
                                    <p:animEffect filter="wipe(left)" transition="in">
                                      <p:cBhvr additive="repl">
                                        <p:cTn id="534" dur="500"/>
                                        <p:tgtEl>
                                          <p:spTgt spid="231"/>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227"/>
                                        </p:tgtEl>
                                        <p:attrNameLst>
                                          <p:attrName>style.visibility</p:attrName>
                                        </p:attrNameLst>
                                      </p:cBhvr>
                                      <p:to>
                                        <p:strVal val="visible"/>
                                      </p:to>
                                    </p:set>
                                    <p:animEffect filter="wipe(left)" transition="in">
                                      <p:cBhvr additive="repl">
                                        <p:cTn id="539" dur="500"/>
                                        <p:tgtEl>
                                          <p:spTgt spid="227"/>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228"/>
                                        </p:tgtEl>
                                        <p:attrNameLst>
                                          <p:attrName>style.visibility</p:attrName>
                                        </p:attrNameLst>
                                      </p:cBhvr>
                                      <p:to>
                                        <p:strVal val="visible"/>
                                      </p:to>
                                    </p:set>
                                    <p:animEffect filter="wipe(left)" transition="in">
                                      <p:cBhvr additive="repl">
                                        <p:cTn id="544" dur="500"/>
                                        <p:tgtEl>
                                          <p:spTgt spid="228"/>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2" presetSubtype="8">
                                  <p:stCondLst>
                                    <p:cond delay="0"/>
                                  </p:stCondLst>
                                  <p:childTnLst>
                                    <p:set>
                                      <p:cBhvr>
                                        <p:cTn id="548" dur="1" fill="hold">
                                          <p:stCondLst>
                                            <p:cond delay="0"/>
                                          </p:stCondLst>
                                        </p:cTn>
                                        <p:tgtEl>
                                          <p:spTgt spid="237"/>
                                        </p:tgtEl>
                                        <p:attrNameLst>
                                          <p:attrName>style.visibility</p:attrName>
                                        </p:attrNameLst>
                                      </p:cBhvr>
                                      <p:to>
                                        <p:strVal val="visible"/>
                                      </p:to>
                                    </p:set>
                                    <p:animEffect filter="wipe(left)" transition="in">
                                      <p:cBhvr additive="repl">
                                        <p:cTn id="549" dur="500"/>
                                        <p:tgtEl>
                                          <p:spTgt spid="237"/>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2" presetSubtype="8">
                                  <p:stCondLst>
                                    <p:cond delay="0"/>
                                  </p:stCondLst>
                                  <p:childTnLst>
                                    <p:set>
                                      <p:cBhvr>
                                        <p:cTn id="553" dur="1" fill="hold">
                                          <p:stCondLst>
                                            <p:cond delay="0"/>
                                          </p:stCondLst>
                                        </p:cTn>
                                        <p:tgtEl>
                                          <p:spTgt spid="234"/>
                                        </p:tgtEl>
                                        <p:attrNameLst>
                                          <p:attrName>style.visibility</p:attrName>
                                        </p:attrNameLst>
                                      </p:cBhvr>
                                      <p:to>
                                        <p:strVal val="visible"/>
                                      </p:to>
                                    </p:set>
                                    <p:animEffect filter="wipe(left)" transition="in">
                                      <p:cBhvr additive="repl">
                                        <p:cTn id="554" dur="500"/>
                                        <p:tgtEl>
                                          <p:spTgt spid="234"/>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2" presetSubtype="8">
                                  <p:stCondLst>
                                    <p:cond delay="0"/>
                                  </p:stCondLst>
                                  <p:childTnLst>
                                    <p:set>
                                      <p:cBhvr>
                                        <p:cTn id="558" dur="1" fill="hold">
                                          <p:stCondLst>
                                            <p:cond delay="0"/>
                                          </p:stCondLst>
                                        </p:cTn>
                                        <p:tgtEl>
                                          <p:spTgt spid="235"/>
                                        </p:tgtEl>
                                        <p:attrNameLst>
                                          <p:attrName>style.visibility</p:attrName>
                                        </p:attrNameLst>
                                      </p:cBhvr>
                                      <p:to>
                                        <p:strVal val="visible"/>
                                      </p:to>
                                    </p:set>
                                    <p:animEffect filter="wipe(left)" transition="in">
                                      <p:cBhvr additive="repl">
                                        <p:cTn id="559"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8" name="Picture 39" descr="구름"/>
          <p:cNvPicPr/>
          <p:nvPr/>
        </p:nvPicPr>
        <p:blipFill>
          <a:blip r:embed="rId1"/>
          <a:stretch/>
        </p:blipFill>
        <p:spPr>
          <a:xfrm>
            <a:off x="4795920" y="179280"/>
            <a:ext cx="682560" cy="363600"/>
          </a:xfrm>
          <a:prstGeom prst="rect">
            <a:avLst/>
          </a:prstGeom>
          <a:ln w="0">
            <a:noFill/>
          </a:ln>
        </p:spPr>
      </p:pic>
      <p:pic>
        <p:nvPicPr>
          <p:cNvPr id="59" name="图片 2" descr="屏幕剪辑"/>
          <p:cNvPicPr/>
          <p:nvPr/>
        </p:nvPicPr>
        <p:blipFill>
          <a:blip r:embed="rId2"/>
          <a:stretch/>
        </p:blipFill>
        <p:spPr>
          <a:xfrm>
            <a:off x="2163600" y="2279520"/>
            <a:ext cx="4859640" cy="2951280"/>
          </a:xfrm>
          <a:prstGeom prst="rect">
            <a:avLst/>
          </a:prstGeom>
          <a:ln w="0">
            <a:noFill/>
          </a:ln>
        </p:spPr>
      </p:pic>
      <p:pic>
        <p:nvPicPr>
          <p:cNvPr id="60" name="Picture 40" descr="구름"/>
          <p:cNvPicPr/>
          <p:nvPr/>
        </p:nvPicPr>
        <p:blipFill>
          <a:blip r:embed="rId3"/>
          <a:stretch/>
        </p:blipFill>
        <p:spPr>
          <a:xfrm>
            <a:off x="7236000" y="503280"/>
            <a:ext cx="1042920" cy="555480"/>
          </a:xfrm>
          <a:prstGeom prst="rect">
            <a:avLst/>
          </a:prstGeom>
          <a:ln w="0">
            <a:noFill/>
          </a:ln>
        </p:spPr>
      </p:pic>
      <p:grpSp>
        <p:nvGrpSpPr>
          <p:cNvPr id="61" name="组合 13336"/>
          <p:cNvGrpSpPr/>
          <p:nvPr/>
        </p:nvGrpSpPr>
        <p:grpSpPr>
          <a:xfrm>
            <a:off x="3086280" y="3159000"/>
            <a:ext cx="3186000" cy="1150920"/>
            <a:chOff x="3086280" y="3159000"/>
            <a:chExt cx="3186000" cy="1150920"/>
          </a:xfrm>
        </p:grpSpPr>
        <p:sp>
          <p:nvSpPr>
            <p:cNvPr id="62" name="矩形 13324"/>
            <p:cNvSpPr/>
            <p:nvPr/>
          </p:nvSpPr>
          <p:spPr>
            <a:xfrm>
              <a:off x="330768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3" name="图片 46" descr="枫叶副本"/>
            <p:cNvPicPr/>
            <p:nvPr/>
          </p:nvPicPr>
          <p:blipFill>
            <a:blip r:embed="rId4"/>
            <a:stretch/>
          </p:blipFill>
          <p:spPr>
            <a:xfrm>
              <a:off x="3989160" y="3244320"/>
              <a:ext cx="911160" cy="973440"/>
            </a:xfrm>
            <a:prstGeom prst="rect">
              <a:avLst/>
            </a:prstGeom>
            <a:ln w="0">
              <a:noFill/>
            </a:ln>
          </p:spPr>
        </p:pic>
        <p:pic>
          <p:nvPicPr>
            <p:cNvPr id="64" name="矩形 47" descr=""/>
            <p:cNvPicPr/>
            <p:nvPr/>
          </p:nvPicPr>
          <p:blipFill>
            <a:blip r:embed="rId5"/>
            <a:stretch/>
          </p:blipFill>
          <p:spPr>
            <a:xfrm>
              <a:off x="3086280" y="3204360"/>
              <a:ext cx="3186000" cy="1105560"/>
            </a:xfrm>
            <a:prstGeom prst="rect">
              <a:avLst/>
            </a:prstGeom>
            <a:ln w="0">
              <a:noFill/>
            </a:ln>
          </p:spPr>
        </p:pic>
      </p:grpSp>
      <p:grpSp>
        <p:nvGrpSpPr>
          <p:cNvPr id="65" name="组合 13338"/>
          <p:cNvGrpSpPr/>
          <p:nvPr/>
        </p:nvGrpSpPr>
        <p:grpSpPr>
          <a:xfrm>
            <a:off x="2162160" y="905040"/>
            <a:ext cx="4819680" cy="1180800"/>
            <a:chOff x="2162160" y="905040"/>
            <a:chExt cx="4819680" cy="1180800"/>
          </a:xfrm>
        </p:grpSpPr>
        <p:sp>
          <p:nvSpPr>
            <p:cNvPr id="66" name="Text Box 2"/>
            <p:cNvSpPr/>
            <p:nvPr/>
          </p:nvSpPr>
          <p:spPr>
            <a:xfrm>
              <a:off x="3421080" y="1011240"/>
              <a:ext cx="3560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 </a:t>
              </a:r>
              <a:r>
                <a:rPr b="1" lang="en-US" sz="6000" spc="-1" strike="noStrike">
                  <a:solidFill>
                    <a:srgbClr val="cc0000"/>
                  </a:solidFill>
                  <a:latin typeface="Calibri"/>
                  <a:ea typeface="黑体"/>
                </a:rPr>
                <a:t> </a:t>
              </a:r>
              <a:r>
                <a:rPr b="1" lang="zh-CN" sz="6000" spc="-1" strike="noStrike">
                  <a:solidFill>
                    <a:srgbClr val="cc0000"/>
                  </a:solidFill>
                  <a:latin typeface="Calibri"/>
                  <a:ea typeface="黑体"/>
                </a:rPr>
                <a:t>天　鹅</a:t>
              </a:r>
              <a:endParaRPr b="0" lang="en-US" sz="6000" spc="-1" strike="noStrike">
                <a:solidFill>
                  <a:srgbClr val="000000"/>
                </a:solidFill>
                <a:latin typeface="Calibri"/>
              </a:endParaRPr>
            </a:p>
          </p:txBody>
        </p:sp>
        <p:grpSp>
          <p:nvGrpSpPr>
            <p:cNvPr id="67" name="组合 13337"/>
            <p:cNvGrpSpPr/>
            <p:nvPr/>
          </p:nvGrpSpPr>
          <p:grpSpPr>
            <a:xfrm>
              <a:off x="2162160" y="905040"/>
              <a:ext cx="1180800" cy="1180800"/>
              <a:chOff x="2162160" y="905040"/>
              <a:chExt cx="1180800" cy="1180800"/>
            </a:xfrm>
          </p:grpSpPr>
          <p:sp>
            <p:nvSpPr>
              <p:cNvPr id="68" name="AutoShape 11"/>
              <p:cNvSpPr/>
              <p:nvPr/>
            </p:nvSpPr>
            <p:spPr>
              <a:xfrm>
                <a:off x="2162160" y="905040"/>
                <a:ext cx="1180800" cy="118080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 name="文本框 13"/>
              <p:cNvSpPr/>
              <p:nvPr/>
            </p:nvSpPr>
            <p:spPr>
              <a:xfrm>
                <a:off x="2379600" y="98496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6</a:t>
                </a:r>
                <a:endParaRPr b="0" lang="en-US" sz="6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矩形 17"/>
          <p:cNvSpPr/>
          <p:nvPr/>
        </p:nvSpPr>
        <p:spPr>
          <a:xfrm>
            <a:off x="758880" y="1305000"/>
            <a:ext cx="7986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我能根据拼音写词语。</a:t>
            </a:r>
            <a:endParaRPr b="0" lang="en-US" sz="2400" spc="-1" strike="noStrike">
              <a:solidFill>
                <a:srgbClr val="000000"/>
              </a:solidFill>
              <a:latin typeface="Calibri"/>
            </a:endParaRPr>
          </a:p>
        </p:txBody>
      </p:sp>
      <p:sp>
        <p:nvSpPr>
          <p:cNvPr id="239" name="矩形 23"/>
          <p:cNvSpPr/>
          <p:nvPr/>
        </p:nvSpPr>
        <p:spPr>
          <a:xfrm>
            <a:off x="2133720" y="2104920"/>
            <a:ext cx="5148000" cy="3020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　　　　） </a:t>
            </a:r>
            <a:endParaRPr b="0" lang="en-US" sz="2400" spc="-1" strike="noStrike">
              <a:solidFill>
                <a:srgbClr val="000000"/>
              </a:solidFill>
              <a:latin typeface="Calibri"/>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　　　　） </a:t>
            </a:r>
            <a:endParaRPr b="0" lang="en-US" sz="2400" spc="-1" strike="noStrike">
              <a:solidFill>
                <a:srgbClr val="000000"/>
              </a:solidFill>
              <a:latin typeface="Calibri"/>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　　　　） </a:t>
            </a:r>
            <a:endParaRPr b="0" lang="en-US" sz="2400" spc="-1" strike="noStrike">
              <a:solidFill>
                <a:srgbClr val="000000"/>
              </a:solidFill>
              <a:latin typeface="Calibri"/>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　　　　）</a:t>
            </a:r>
            <a:endParaRPr b="0" lang="en-US" sz="2400" spc="-1" strike="noStrike">
              <a:solidFill>
                <a:srgbClr val="000000"/>
              </a:solidFill>
              <a:latin typeface="Calibri"/>
            </a:endParaRPr>
          </a:p>
        </p:txBody>
      </p:sp>
      <p:sp>
        <p:nvSpPr>
          <p:cNvPr id="240" name="左大括号 25"/>
          <p:cNvSpPr/>
          <p:nvPr/>
        </p:nvSpPr>
        <p:spPr>
          <a:xfrm>
            <a:off x="2028960" y="2457360"/>
            <a:ext cx="198360" cy="978120"/>
          </a:xfrm>
          <a:custGeom>
            <a:avLst/>
            <a:gdLst>
              <a:gd name="textAreaLeft" fmla="*/ 126720 w 198360"/>
              <a:gd name="textAreaRight" fmla="*/ 198720 w 198360"/>
              <a:gd name="textAreaTop" fmla="*/ 5040 h 978120"/>
              <a:gd name="textAreaBottom" fmla="*/ 973080 h 978120"/>
            </a:gdLst>
            <a:ahLst/>
            <a:rect l="textAreaLeft" t="textAreaTop" r="textAreaRight" b="textAreaBottom"/>
            <a:pathLst>
              <a:path w="21600" h="21600">
                <a:moveTo>
                  <a:pt x="21600" y="0"/>
                </a:moveTo>
                <a:cubicBezTo>
                  <a:pt x="16200" y="0"/>
                  <a:pt x="10800" y="183"/>
                  <a:pt x="10800" y="365"/>
                </a:cubicBezTo>
                <a:lnTo>
                  <a:pt x="10800" y="10435"/>
                </a:lnTo>
                <a:cubicBezTo>
                  <a:pt x="10800" y="10618"/>
                  <a:pt x="5400" y="10800"/>
                  <a:pt x="0" y="10800"/>
                </a:cubicBezTo>
                <a:cubicBezTo>
                  <a:pt x="5400" y="10800"/>
                  <a:pt x="10800" y="10983"/>
                  <a:pt x="10800" y="11165"/>
                </a:cubicBezTo>
                <a:lnTo>
                  <a:pt x="10800" y="21235"/>
                </a:lnTo>
                <a:cubicBezTo>
                  <a:pt x="10800" y="21418"/>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1" name="矩形 1"/>
          <p:cNvSpPr/>
          <p:nvPr/>
        </p:nvSpPr>
        <p:spPr>
          <a:xfrm>
            <a:off x="1581120" y="27147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丧</a:t>
            </a:r>
            <a:endParaRPr b="0" lang="en-US" sz="2400" spc="-1" strike="noStrike">
              <a:solidFill>
                <a:srgbClr val="000000"/>
              </a:solidFill>
              <a:latin typeface="Calibri"/>
            </a:endParaRPr>
          </a:p>
        </p:txBody>
      </p:sp>
      <p:sp>
        <p:nvSpPr>
          <p:cNvPr id="242" name="左大括号 36"/>
          <p:cNvSpPr/>
          <p:nvPr/>
        </p:nvSpPr>
        <p:spPr>
          <a:xfrm>
            <a:off x="2017800" y="3916440"/>
            <a:ext cx="198360" cy="977760"/>
          </a:xfrm>
          <a:custGeom>
            <a:avLst/>
            <a:gdLst>
              <a:gd name="textAreaLeft" fmla="*/ 126720 w 198360"/>
              <a:gd name="textAreaRight" fmla="*/ 198720 w 198360"/>
              <a:gd name="textAreaTop" fmla="*/ 5040 h 977760"/>
              <a:gd name="textAreaBottom" fmla="*/ 972720 h 977760"/>
            </a:gdLst>
            <a:ahLst/>
            <a:rect l="textAreaLeft" t="textAreaTop" r="textAreaRight" b="textAreaBottom"/>
            <a:pathLst>
              <a:path w="21600" h="21600">
                <a:moveTo>
                  <a:pt x="21600" y="0"/>
                </a:moveTo>
                <a:cubicBezTo>
                  <a:pt x="16200" y="0"/>
                  <a:pt x="10800" y="183"/>
                  <a:pt x="10800" y="365"/>
                </a:cubicBezTo>
                <a:lnTo>
                  <a:pt x="10800" y="10435"/>
                </a:lnTo>
                <a:cubicBezTo>
                  <a:pt x="10800" y="10618"/>
                  <a:pt x="5400" y="10800"/>
                  <a:pt x="0" y="10800"/>
                </a:cubicBezTo>
                <a:cubicBezTo>
                  <a:pt x="5400" y="10800"/>
                  <a:pt x="10800" y="10983"/>
                  <a:pt x="10800" y="11165"/>
                </a:cubicBezTo>
                <a:lnTo>
                  <a:pt x="10800" y="21235"/>
                </a:lnTo>
                <a:cubicBezTo>
                  <a:pt x="10800" y="21418"/>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3" name="矩形 37"/>
          <p:cNvSpPr/>
          <p:nvPr/>
        </p:nvSpPr>
        <p:spPr>
          <a:xfrm>
            <a:off x="1587240" y="41083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模</a:t>
            </a:r>
            <a:endParaRPr b="0" lang="en-US" sz="2400" spc="-1" strike="noStrike">
              <a:solidFill>
                <a:srgbClr val="000000"/>
              </a:solidFill>
              <a:latin typeface="Calibri"/>
            </a:endParaRPr>
          </a:p>
        </p:txBody>
      </p:sp>
      <p:sp>
        <p:nvSpPr>
          <p:cNvPr id="244" name="矩形 2"/>
          <p:cNvSpPr/>
          <p:nvPr/>
        </p:nvSpPr>
        <p:spPr>
          <a:xfrm>
            <a:off x="2430720" y="231948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sàng</a:t>
            </a:r>
            <a:endParaRPr b="0" lang="en-US" sz="2400" spc="-1" strike="noStrike">
              <a:solidFill>
                <a:srgbClr val="000000"/>
              </a:solidFill>
              <a:latin typeface="Calibri"/>
            </a:endParaRPr>
          </a:p>
        </p:txBody>
      </p:sp>
      <p:sp>
        <p:nvSpPr>
          <p:cNvPr id="245" name="矩形 3"/>
          <p:cNvSpPr/>
          <p:nvPr/>
        </p:nvSpPr>
        <p:spPr>
          <a:xfrm>
            <a:off x="4262040" y="2319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丧失</a:t>
            </a:r>
            <a:endParaRPr b="0" lang="en-US" sz="2400" spc="-1" strike="noStrike">
              <a:solidFill>
                <a:srgbClr val="000000"/>
              </a:solidFill>
              <a:latin typeface="Calibri"/>
            </a:endParaRPr>
          </a:p>
        </p:txBody>
      </p:sp>
      <p:sp>
        <p:nvSpPr>
          <p:cNvPr id="246" name="矩形 4"/>
          <p:cNvSpPr/>
          <p:nvPr/>
        </p:nvSpPr>
        <p:spPr>
          <a:xfrm>
            <a:off x="2430720" y="30780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sāng</a:t>
            </a:r>
            <a:endParaRPr b="0" lang="en-US" sz="2400" spc="-1" strike="noStrike">
              <a:solidFill>
                <a:srgbClr val="000000"/>
              </a:solidFill>
              <a:latin typeface="Calibri"/>
            </a:endParaRPr>
          </a:p>
        </p:txBody>
      </p:sp>
      <p:sp>
        <p:nvSpPr>
          <p:cNvPr id="247" name="矩形 5"/>
          <p:cNvSpPr/>
          <p:nvPr/>
        </p:nvSpPr>
        <p:spPr>
          <a:xfrm>
            <a:off x="4301640" y="3078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丧事</a:t>
            </a:r>
            <a:endParaRPr b="0" lang="en-US" sz="2400" spc="-1" strike="noStrike">
              <a:solidFill>
                <a:srgbClr val="000000"/>
              </a:solidFill>
              <a:latin typeface="Calibri"/>
            </a:endParaRPr>
          </a:p>
        </p:txBody>
      </p:sp>
      <p:sp>
        <p:nvSpPr>
          <p:cNvPr id="248" name="矩形 6"/>
          <p:cNvSpPr/>
          <p:nvPr/>
        </p:nvSpPr>
        <p:spPr>
          <a:xfrm>
            <a:off x="2534400" y="3803760"/>
            <a:ext cx="66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mó</a:t>
            </a:r>
            <a:endParaRPr b="0" lang="en-US" sz="2400" spc="-1" strike="noStrike">
              <a:solidFill>
                <a:srgbClr val="000000"/>
              </a:solidFill>
              <a:latin typeface="Calibri"/>
            </a:endParaRPr>
          </a:p>
        </p:txBody>
      </p:sp>
      <p:sp>
        <p:nvSpPr>
          <p:cNvPr id="249" name="矩形 7"/>
          <p:cNvSpPr/>
          <p:nvPr/>
        </p:nvSpPr>
        <p:spPr>
          <a:xfrm>
            <a:off x="4277160" y="3822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模型</a:t>
            </a:r>
            <a:endParaRPr b="0" lang="en-US" sz="2400" spc="-1" strike="noStrike">
              <a:solidFill>
                <a:srgbClr val="000000"/>
              </a:solidFill>
              <a:latin typeface="Calibri"/>
            </a:endParaRPr>
          </a:p>
        </p:txBody>
      </p:sp>
      <p:sp>
        <p:nvSpPr>
          <p:cNvPr id="250" name="矩形 8"/>
          <p:cNvSpPr/>
          <p:nvPr/>
        </p:nvSpPr>
        <p:spPr>
          <a:xfrm>
            <a:off x="2514960" y="4519440"/>
            <a:ext cx="67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mú</a:t>
            </a:r>
            <a:endParaRPr b="0" lang="en-US" sz="2400" spc="-1" strike="noStrike">
              <a:solidFill>
                <a:srgbClr val="000000"/>
              </a:solidFill>
              <a:latin typeface="Calibri"/>
            </a:endParaRPr>
          </a:p>
        </p:txBody>
      </p:sp>
      <p:sp>
        <p:nvSpPr>
          <p:cNvPr id="251" name="矩形 9"/>
          <p:cNvSpPr/>
          <p:nvPr/>
        </p:nvSpPr>
        <p:spPr>
          <a:xfrm>
            <a:off x="4292280" y="4556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模样</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indefinite"/>
                      </p:stCondLst>
                      <p:childTnLst>
                        <p:par>
                          <p:cTn id="563" nodeType="withEffect" fill="hold">
                            <p:stCondLst>
                              <p:cond delay="0"/>
                            </p:stCondLst>
                            <p:childTnLst>
                              <p:par>
                                <p:cTn id="564" nodeType="clickEffect" fill="hold" presetClass="entr" presetID="22" presetSubtype="8">
                                  <p:stCondLst>
                                    <p:cond delay="0"/>
                                  </p:stCondLst>
                                  <p:childTnLst>
                                    <p:set>
                                      <p:cBhvr>
                                        <p:cTn id="565" dur="1" fill="hold">
                                          <p:stCondLst>
                                            <p:cond delay="0"/>
                                          </p:stCondLst>
                                        </p:cTn>
                                        <p:tgtEl>
                                          <p:spTgt spid="244"/>
                                        </p:tgtEl>
                                        <p:attrNameLst>
                                          <p:attrName>style.visibility</p:attrName>
                                        </p:attrNameLst>
                                      </p:cBhvr>
                                      <p:to>
                                        <p:strVal val="visible"/>
                                      </p:to>
                                    </p:set>
                                    <p:animEffect filter="wipe(left)" transition="in">
                                      <p:cBhvr additive="repl">
                                        <p:cTn id="566" dur="500"/>
                                        <p:tgtEl>
                                          <p:spTgt spid="244"/>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2" presetSubtype="8">
                                  <p:stCondLst>
                                    <p:cond delay="0"/>
                                  </p:stCondLst>
                                  <p:childTnLst>
                                    <p:set>
                                      <p:cBhvr>
                                        <p:cTn id="570" dur="1" fill="hold">
                                          <p:stCondLst>
                                            <p:cond delay="0"/>
                                          </p:stCondLst>
                                        </p:cTn>
                                        <p:tgtEl>
                                          <p:spTgt spid="245"/>
                                        </p:tgtEl>
                                        <p:attrNameLst>
                                          <p:attrName>style.visibility</p:attrName>
                                        </p:attrNameLst>
                                      </p:cBhvr>
                                      <p:to>
                                        <p:strVal val="visible"/>
                                      </p:to>
                                    </p:set>
                                    <p:animEffect filter="wipe(left)" transition="in">
                                      <p:cBhvr additive="repl">
                                        <p:cTn id="571" dur="500"/>
                                        <p:tgtEl>
                                          <p:spTgt spid="245"/>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246"/>
                                        </p:tgtEl>
                                        <p:attrNameLst>
                                          <p:attrName>style.visibility</p:attrName>
                                        </p:attrNameLst>
                                      </p:cBhvr>
                                      <p:to>
                                        <p:strVal val="visible"/>
                                      </p:to>
                                    </p:set>
                                    <p:animEffect filter="wipe(left)" transition="in">
                                      <p:cBhvr additive="repl">
                                        <p:cTn id="576" dur="500"/>
                                        <p:tgtEl>
                                          <p:spTgt spid="246"/>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247"/>
                                        </p:tgtEl>
                                        <p:attrNameLst>
                                          <p:attrName>style.visibility</p:attrName>
                                        </p:attrNameLst>
                                      </p:cBhvr>
                                      <p:to>
                                        <p:strVal val="visible"/>
                                      </p:to>
                                    </p:set>
                                    <p:animEffect filter="wipe(left)" transition="in">
                                      <p:cBhvr additive="repl">
                                        <p:cTn id="581" dur="500"/>
                                        <p:tgtEl>
                                          <p:spTgt spid="247"/>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248"/>
                                        </p:tgtEl>
                                        <p:attrNameLst>
                                          <p:attrName>style.visibility</p:attrName>
                                        </p:attrNameLst>
                                      </p:cBhvr>
                                      <p:to>
                                        <p:strVal val="visible"/>
                                      </p:to>
                                    </p:set>
                                    <p:animEffect filter="wipe(left)" transition="in">
                                      <p:cBhvr additive="repl">
                                        <p:cTn id="586" dur="500"/>
                                        <p:tgtEl>
                                          <p:spTgt spid="248"/>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249"/>
                                        </p:tgtEl>
                                        <p:attrNameLst>
                                          <p:attrName>style.visibility</p:attrName>
                                        </p:attrNameLst>
                                      </p:cBhvr>
                                      <p:to>
                                        <p:strVal val="visible"/>
                                      </p:to>
                                    </p:set>
                                    <p:animEffect filter="wipe(left)" transition="in">
                                      <p:cBhvr additive="repl">
                                        <p:cTn id="591" dur="500"/>
                                        <p:tgtEl>
                                          <p:spTgt spid="249"/>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2" presetSubtype="8">
                                  <p:stCondLst>
                                    <p:cond delay="0"/>
                                  </p:stCondLst>
                                  <p:childTnLst>
                                    <p:set>
                                      <p:cBhvr>
                                        <p:cTn id="595" dur="1" fill="hold">
                                          <p:stCondLst>
                                            <p:cond delay="0"/>
                                          </p:stCondLst>
                                        </p:cTn>
                                        <p:tgtEl>
                                          <p:spTgt spid="250"/>
                                        </p:tgtEl>
                                        <p:attrNameLst>
                                          <p:attrName>style.visibility</p:attrName>
                                        </p:attrNameLst>
                                      </p:cBhvr>
                                      <p:to>
                                        <p:strVal val="visible"/>
                                      </p:to>
                                    </p:set>
                                    <p:animEffect filter="wipe(left)" transition="in">
                                      <p:cBhvr additive="repl">
                                        <p:cTn id="596" dur="500"/>
                                        <p:tgtEl>
                                          <p:spTgt spid="250"/>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251"/>
                                        </p:tgtEl>
                                        <p:attrNameLst>
                                          <p:attrName>style.visibility</p:attrName>
                                        </p:attrNameLst>
                                      </p:cBhvr>
                                      <p:to>
                                        <p:strVal val="visible"/>
                                      </p:to>
                                    </p:set>
                                    <p:animEffect filter="wipe(left)" transition="in">
                                      <p:cBhvr additive="repl">
                                        <p:cTn id="601"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矩形 7"/>
          <p:cNvSpPr/>
          <p:nvPr/>
        </p:nvSpPr>
        <p:spPr>
          <a:xfrm>
            <a:off x="884160" y="1411200"/>
            <a:ext cx="7569360" cy="642600"/>
          </a:xfrm>
          <a:prstGeom prst="rect">
            <a:avLst/>
          </a:prstGeom>
          <a:noFill/>
          <a:ln w="0">
            <a:noFill/>
          </a:ln>
        </p:spPr>
        <p:style>
          <a:lnRef idx="0"/>
          <a:fillRef idx="0"/>
          <a:effectRef idx="0"/>
          <a:fontRef idx="minor"/>
        </p:style>
        <p:txBody>
          <a:bodyPr lIns="90000" rIns="90000" tIns="46800" bIns="46800" anchor="t">
            <a:spAutoFit/>
          </a:bodyPr>
          <a:p>
            <a:pPr marL="622440" indent="-62244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3</a:t>
            </a:r>
            <a:r>
              <a:rPr b="1" lang="zh-CN" sz="2400" spc="-1" strike="noStrike">
                <a:solidFill>
                  <a:srgbClr val="000000"/>
                </a:solidFill>
                <a:latin typeface="宋体"/>
              </a:rPr>
              <a:t>．辨字组词。</a:t>
            </a:r>
            <a:endParaRPr b="0" lang="en-US" sz="2400" spc="-1" strike="noStrike">
              <a:solidFill>
                <a:srgbClr val="000000"/>
              </a:solidFill>
              <a:latin typeface="Calibri"/>
            </a:endParaRPr>
          </a:p>
        </p:txBody>
      </p:sp>
      <p:sp>
        <p:nvSpPr>
          <p:cNvPr id="253" name="矩形 1"/>
          <p:cNvSpPr/>
          <p:nvPr/>
        </p:nvSpPr>
        <p:spPr>
          <a:xfrm>
            <a:off x="1725480" y="2170080"/>
            <a:ext cx="5226120" cy="3020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沼（　　　　）  舵（　　　　）</a:t>
            </a:r>
            <a:endParaRPr b="0" lang="en-US" sz="2400" spc="-1" strike="noStrike">
              <a:solidFill>
                <a:srgbClr val="000000"/>
              </a:solidFill>
              <a:latin typeface="Calibri"/>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招（　　　　）  鸵（　　　　）</a:t>
            </a:r>
            <a:endParaRPr b="0" lang="en-US" sz="2400" spc="-1" strike="noStrike">
              <a:solidFill>
                <a:srgbClr val="000000"/>
              </a:solidFill>
              <a:latin typeface="Calibri"/>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俘（　　　　）  </a:t>
            </a:r>
            <a:endParaRPr b="0" lang="en-US" sz="2400" spc="-1" strike="noStrike">
              <a:solidFill>
                <a:srgbClr val="000000"/>
              </a:solidFill>
              <a:latin typeface="Calibri"/>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浮（　　　　）</a:t>
            </a:r>
            <a:endParaRPr b="0" lang="en-US" sz="2400" spc="-1" strike="noStrike">
              <a:solidFill>
                <a:srgbClr val="000000"/>
              </a:solidFill>
              <a:latin typeface="Calibri"/>
            </a:endParaRPr>
          </a:p>
        </p:txBody>
      </p:sp>
      <p:sp>
        <p:nvSpPr>
          <p:cNvPr id="254" name="左大括号 2"/>
          <p:cNvSpPr/>
          <p:nvPr/>
        </p:nvSpPr>
        <p:spPr>
          <a:xfrm>
            <a:off x="1620720" y="2522520"/>
            <a:ext cx="198720" cy="977760"/>
          </a:xfrm>
          <a:custGeom>
            <a:avLst/>
            <a:gdLst>
              <a:gd name="textAreaLeft" fmla="*/ 127080 w 198720"/>
              <a:gd name="textAreaRight" fmla="*/ 199080 w 198720"/>
              <a:gd name="textAreaTop" fmla="*/ 5040 h 977760"/>
              <a:gd name="textAreaBottom" fmla="*/ 972720 h 977760"/>
            </a:gdLst>
            <a:ahLst/>
            <a:rect l="textAreaLeft" t="textAreaTop" r="textAreaRight" b="textAreaBottom"/>
            <a:pathLst>
              <a:path w="21600" h="21600">
                <a:moveTo>
                  <a:pt x="21600" y="0"/>
                </a:moveTo>
                <a:cubicBezTo>
                  <a:pt x="16200" y="0"/>
                  <a:pt x="10800" y="183"/>
                  <a:pt x="10800" y="365"/>
                </a:cubicBezTo>
                <a:lnTo>
                  <a:pt x="10800" y="10435"/>
                </a:lnTo>
                <a:cubicBezTo>
                  <a:pt x="10800" y="10618"/>
                  <a:pt x="5400" y="10800"/>
                  <a:pt x="0" y="10800"/>
                </a:cubicBezTo>
                <a:cubicBezTo>
                  <a:pt x="5400" y="10800"/>
                  <a:pt x="10800" y="10983"/>
                  <a:pt x="10800" y="11165"/>
                </a:cubicBezTo>
                <a:lnTo>
                  <a:pt x="10800" y="21235"/>
                </a:lnTo>
                <a:cubicBezTo>
                  <a:pt x="10800" y="21418"/>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5" name="左大括号 17"/>
          <p:cNvSpPr/>
          <p:nvPr/>
        </p:nvSpPr>
        <p:spPr>
          <a:xfrm>
            <a:off x="4043520" y="2533680"/>
            <a:ext cx="198360" cy="977760"/>
          </a:xfrm>
          <a:custGeom>
            <a:avLst/>
            <a:gdLst>
              <a:gd name="textAreaLeft" fmla="*/ 126720 w 198360"/>
              <a:gd name="textAreaRight" fmla="*/ 198720 w 198360"/>
              <a:gd name="textAreaTop" fmla="*/ 5040 h 977760"/>
              <a:gd name="textAreaBottom" fmla="*/ 972720 h 977760"/>
            </a:gdLst>
            <a:ahLst/>
            <a:rect l="textAreaLeft" t="textAreaTop" r="textAreaRight" b="textAreaBottom"/>
            <a:pathLst>
              <a:path w="21600" h="21600">
                <a:moveTo>
                  <a:pt x="21600" y="0"/>
                </a:moveTo>
                <a:cubicBezTo>
                  <a:pt x="16200" y="0"/>
                  <a:pt x="10800" y="183"/>
                  <a:pt x="10800" y="365"/>
                </a:cubicBezTo>
                <a:lnTo>
                  <a:pt x="10800" y="10435"/>
                </a:lnTo>
                <a:cubicBezTo>
                  <a:pt x="10800" y="10618"/>
                  <a:pt x="5400" y="10800"/>
                  <a:pt x="0" y="10800"/>
                </a:cubicBezTo>
                <a:cubicBezTo>
                  <a:pt x="5400" y="10800"/>
                  <a:pt x="10800" y="10983"/>
                  <a:pt x="10800" y="11165"/>
                </a:cubicBezTo>
                <a:lnTo>
                  <a:pt x="10800" y="21235"/>
                </a:lnTo>
                <a:cubicBezTo>
                  <a:pt x="10800" y="21418"/>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6" name="矩形 3"/>
          <p:cNvSpPr/>
          <p:nvPr/>
        </p:nvSpPr>
        <p:spPr>
          <a:xfrm>
            <a:off x="2744640" y="24271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池沼</a:t>
            </a:r>
            <a:endParaRPr b="0" lang="en-US" sz="2400" spc="-1" strike="noStrike">
              <a:solidFill>
                <a:srgbClr val="000000"/>
              </a:solidFill>
              <a:latin typeface="Calibri"/>
            </a:endParaRPr>
          </a:p>
        </p:txBody>
      </p:sp>
      <p:sp>
        <p:nvSpPr>
          <p:cNvPr id="257" name="矩形 4"/>
          <p:cNvSpPr/>
          <p:nvPr/>
        </p:nvSpPr>
        <p:spPr>
          <a:xfrm>
            <a:off x="2744640" y="31561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招手</a:t>
            </a:r>
            <a:endParaRPr b="0" lang="en-US" sz="2400" spc="-1" strike="noStrike">
              <a:solidFill>
                <a:srgbClr val="000000"/>
              </a:solidFill>
              <a:latin typeface="Calibri"/>
            </a:endParaRPr>
          </a:p>
        </p:txBody>
      </p:sp>
      <p:sp>
        <p:nvSpPr>
          <p:cNvPr id="258" name="矩形 5"/>
          <p:cNvSpPr/>
          <p:nvPr/>
        </p:nvSpPr>
        <p:spPr>
          <a:xfrm>
            <a:off x="5262120" y="2433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船舵</a:t>
            </a:r>
            <a:endParaRPr b="0" lang="en-US" sz="2400" spc="-1" strike="noStrike">
              <a:solidFill>
                <a:srgbClr val="000000"/>
              </a:solidFill>
              <a:latin typeface="Calibri"/>
            </a:endParaRPr>
          </a:p>
        </p:txBody>
      </p:sp>
      <p:sp>
        <p:nvSpPr>
          <p:cNvPr id="259" name="矩形 6"/>
          <p:cNvSpPr/>
          <p:nvPr/>
        </p:nvSpPr>
        <p:spPr>
          <a:xfrm>
            <a:off x="5240160" y="3147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鸵鸟</a:t>
            </a:r>
            <a:endParaRPr b="0" lang="en-US" sz="2400" spc="-1" strike="noStrike">
              <a:solidFill>
                <a:srgbClr val="000000"/>
              </a:solidFill>
              <a:latin typeface="Calibri"/>
            </a:endParaRPr>
          </a:p>
        </p:txBody>
      </p:sp>
      <p:sp>
        <p:nvSpPr>
          <p:cNvPr id="260" name="左大括号 13"/>
          <p:cNvSpPr/>
          <p:nvPr/>
        </p:nvSpPr>
        <p:spPr>
          <a:xfrm>
            <a:off x="1616040" y="3998880"/>
            <a:ext cx="198360" cy="977760"/>
          </a:xfrm>
          <a:custGeom>
            <a:avLst/>
            <a:gdLst>
              <a:gd name="textAreaLeft" fmla="*/ 126720 w 198360"/>
              <a:gd name="textAreaRight" fmla="*/ 198720 w 198360"/>
              <a:gd name="textAreaTop" fmla="*/ 5040 h 977760"/>
              <a:gd name="textAreaBottom" fmla="*/ 972720 h 977760"/>
            </a:gdLst>
            <a:ahLst/>
            <a:rect l="textAreaLeft" t="textAreaTop" r="textAreaRight" b="textAreaBottom"/>
            <a:pathLst>
              <a:path w="21600" h="21600">
                <a:moveTo>
                  <a:pt x="21600" y="0"/>
                </a:moveTo>
                <a:cubicBezTo>
                  <a:pt x="16200" y="0"/>
                  <a:pt x="10800" y="183"/>
                  <a:pt x="10800" y="365"/>
                </a:cubicBezTo>
                <a:lnTo>
                  <a:pt x="10800" y="10435"/>
                </a:lnTo>
                <a:cubicBezTo>
                  <a:pt x="10800" y="10618"/>
                  <a:pt x="5400" y="10800"/>
                  <a:pt x="0" y="10800"/>
                </a:cubicBezTo>
                <a:cubicBezTo>
                  <a:pt x="5400" y="10800"/>
                  <a:pt x="10800" y="10983"/>
                  <a:pt x="10800" y="11165"/>
                </a:cubicBezTo>
                <a:lnTo>
                  <a:pt x="10800" y="21235"/>
                </a:lnTo>
                <a:cubicBezTo>
                  <a:pt x="10800" y="21418"/>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1" name="矩形 15"/>
          <p:cNvSpPr/>
          <p:nvPr/>
        </p:nvSpPr>
        <p:spPr>
          <a:xfrm>
            <a:off x="2739600" y="3859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俘虏</a:t>
            </a:r>
            <a:endParaRPr b="0" lang="en-US" sz="2400" spc="-1" strike="noStrike">
              <a:solidFill>
                <a:srgbClr val="000000"/>
              </a:solidFill>
              <a:latin typeface="Calibri"/>
            </a:endParaRPr>
          </a:p>
        </p:txBody>
      </p:sp>
      <p:sp>
        <p:nvSpPr>
          <p:cNvPr id="262" name="矩形 16"/>
          <p:cNvSpPr/>
          <p:nvPr/>
        </p:nvSpPr>
        <p:spPr>
          <a:xfrm>
            <a:off x="2739600" y="4589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浮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56"/>
                                        </p:tgtEl>
                                        <p:attrNameLst>
                                          <p:attrName>style.visibility</p:attrName>
                                        </p:attrNameLst>
                                      </p:cBhvr>
                                      <p:to>
                                        <p:strVal val="visible"/>
                                      </p:to>
                                    </p:set>
                                    <p:animEffect filter="wipe(left)" transition="in">
                                      <p:cBhvr additive="repl">
                                        <p:cTn id="608" dur="500"/>
                                        <p:tgtEl>
                                          <p:spTgt spid="256"/>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257"/>
                                        </p:tgtEl>
                                        <p:attrNameLst>
                                          <p:attrName>style.visibility</p:attrName>
                                        </p:attrNameLst>
                                      </p:cBhvr>
                                      <p:to>
                                        <p:strVal val="visible"/>
                                      </p:to>
                                    </p:set>
                                    <p:animEffect filter="wipe(left)" transition="in">
                                      <p:cBhvr additive="repl">
                                        <p:cTn id="613" dur="500"/>
                                        <p:tgtEl>
                                          <p:spTgt spid="257"/>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258"/>
                                        </p:tgtEl>
                                        <p:attrNameLst>
                                          <p:attrName>style.visibility</p:attrName>
                                        </p:attrNameLst>
                                      </p:cBhvr>
                                      <p:to>
                                        <p:strVal val="visible"/>
                                      </p:to>
                                    </p:set>
                                    <p:animEffect filter="wipe(left)" transition="in">
                                      <p:cBhvr additive="repl">
                                        <p:cTn id="618" dur="500"/>
                                        <p:tgtEl>
                                          <p:spTgt spid="258"/>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259"/>
                                        </p:tgtEl>
                                        <p:attrNameLst>
                                          <p:attrName>style.visibility</p:attrName>
                                        </p:attrNameLst>
                                      </p:cBhvr>
                                      <p:to>
                                        <p:strVal val="visible"/>
                                      </p:to>
                                    </p:set>
                                    <p:animEffect filter="wipe(left)" transition="in">
                                      <p:cBhvr additive="repl">
                                        <p:cTn id="623" dur="500"/>
                                        <p:tgtEl>
                                          <p:spTgt spid="259"/>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261"/>
                                        </p:tgtEl>
                                        <p:attrNameLst>
                                          <p:attrName>style.visibility</p:attrName>
                                        </p:attrNameLst>
                                      </p:cBhvr>
                                      <p:to>
                                        <p:strVal val="visible"/>
                                      </p:to>
                                    </p:set>
                                    <p:animEffect filter="wipe(left)" transition="in">
                                      <p:cBhvr additive="repl">
                                        <p:cTn id="628" dur="500"/>
                                        <p:tgtEl>
                                          <p:spTgt spid="261"/>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262"/>
                                        </p:tgtEl>
                                        <p:attrNameLst>
                                          <p:attrName>style.visibility</p:attrName>
                                        </p:attrNameLst>
                                      </p:cBhvr>
                                      <p:to>
                                        <p:strVal val="visible"/>
                                      </p:to>
                                    </p:set>
                                    <p:animEffect filter="wipe(left)" transition="in">
                                      <p:cBhvr additive="repl">
                                        <p:cTn id="63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矩形 1"/>
          <p:cNvSpPr/>
          <p:nvPr/>
        </p:nvSpPr>
        <p:spPr>
          <a:xfrm>
            <a:off x="1297080" y="1565280"/>
            <a:ext cx="6559560" cy="2837160"/>
          </a:xfrm>
          <a:prstGeom prst="rect">
            <a:avLst/>
          </a:prstGeom>
          <a:noFill/>
          <a:ln w="0">
            <a:noFill/>
          </a:ln>
        </p:spPr>
        <p:style>
          <a:lnRef idx="0"/>
          <a:fillRef idx="0"/>
          <a:effectRef idx="0"/>
          <a:fontRef idx="minor"/>
        </p:style>
        <p:txBody>
          <a:bodyPr lIns="90000" rIns="90000" tIns="46800" bIns="46800" anchor="t">
            <a:spAutoFit/>
          </a:bodyPr>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4</a:t>
            </a:r>
            <a:r>
              <a:rPr b="1" lang="zh-CN" sz="2400" spc="-1" strike="noStrike">
                <a:solidFill>
                  <a:srgbClr val="000000"/>
                </a:solidFill>
                <a:latin typeface="宋体"/>
              </a:rPr>
              <a:t>．填上恰当的词语。</a:t>
            </a:r>
            <a:endParaRPr b="0" lang="en-US" sz="2400" spc="-1" strike="noStrike">
              <a:solidFill>
                <a:srgbClr val="000000"/>
              </a:solidFill>
              <a:latin typeface="Calibri"/>
            </a:endParaRPr>
          </a:p>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身段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形貌</a:t>
            </a:r>
            <a:endParaRPr b="0" lang="en-US" sz="2400" spc="-1" strike="noStrike">
              <a:solidFill>
                <a:srgbClr val="000000"/>
              </a:solidFill>
              <a:latin typeface="Calibri"/>
            </a:endParaRPr>
          </a:p>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线条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白色</a:t>
            </a:r>
            <a:endParaRPr b="0" lang="en-US" sz="2400" spc="-1" strike="noStrike">
              <a:solidFill>
                <a:srgbClr val="000000"/>
              </a:solidFill>
              <a:latin typeface="Calibri"/>
            </a:endParaRPr>
          </a:p>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动作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烟波</a:t>
            </a:r>
            <a:endParaRPr b="0" lang="en-US" sz="2400" spc="-1" strike="noStrike">
              <a:solidFill>
                <a:srgbClr val="000000"/>
              </a:solidFill>
              <a:latin typeface="Calibri"/>
            </a:endParaRPr>
          </a:p>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声音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船队</a:t>
            </a:r>
            <a:endParaRPr b="0" lang="en-US" sz="2400" spc="-1" strike="noStrike">
              <a:solidFill>
                <a:srgbClr val="000000"/>
              </a:solidFill>
              <a:latin typeface="Calibri"/>
            </a:endParaRPr>
          </a:p>
        </p:txBody>
      </p:sp>
      <p:sp>
        <p:nvSpPr>
          <p:cNvPr id="264" name="矩形 2"/>
          <p:cNvSpPr/>
          <p:nvPr/>
        </p:nvSpPr>
        <p:spPr>
          <a:xfrm>
            <a:off x="1977840" y="2203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俊秀</a:t>
            </a:r>
            <a:endParaRPr b="0" lang="en-US" sz="2400" spc="-1" strike="noStrike">
              <a:solidFill>
                <a:srgbClr val="000000"/>
              </a:solidFill>
              <a:latin typeface="Calibri"/>
            </a:endParaRPr>
          </a:p>
        </p:txBody>
      </p:sp>
      <p:sp>
        <p:nvSpPr>
          <p:cNvPr id="265" name="矩形 4"/>
          <p:cNvSpPr/>
          <p:nvPr/>
        </p:nvSpPr>
        <p:spPr>
          <a:xfrm>
            <a:off x="4705200" y="2203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圆润</a:t>
            </a:r>
            <a:endParaRPr b="0" lang="en-US" sz="2400" spc="-1" strike="noStrike">
              <a:solidFill>
                <a:srgbClr val="000000"/>
              </a:solidFill>
              <a:latin typeface="Calibri"/>
            </a:endParaRPr>
          </a:p>
        </p:txBody>
      </p:sp>
      <p:sp>
        <p:nvSpPr>
          <p:cNvPr id="266" name="矩形 6"/>
          <p:cNvSpPr/>
          <p:nvPr/>
        </p:nvSpPr>
        <p:spPr>
          <a:xfrm>
            <a:off x="1977840" y="2768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优美</a:t>
            </a:r>
            <a:endParaRPr b="0" lang="en-US" sz="2400" spc="-1" strike="noStrike">
              <a:solidFill>
                <a:srgbClr val="000000"/>
              </a:solidFill>
              <a:latin typeface="Calibri"/>
            </a:endParaRPr>
          </a:p>
        </p:txBody>
      </p:sp>
      <p:sp>
        <p:nvSpPr>
          <p:cNvPr id="267" name="矩形 7"/>
          <p:cNvSpPr/>
          <p:nvPr/>
        </p:nvSpPr>
        <p:spPr>
          <a:xfrm>
            <a:off x="4705200" y="2752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皎洁</a:t>
            </a:r>
            <a:endParaRPr b="0" lang="en-US" sz="2400" spc="-1" strike="noStrike">
              <a:solidFill>
                <a:srgbClr val="000000"/>
              </a:solidFill>
              <a:latin typeface="Calibri"/>
            </a:endParaRPr>
          </a:p>
        </p:txBody>
      </p:sp>
      <p:sp>
        <p:nvSpPr>
          <p:cNvPr id="268" name="矩形 8"/>
          <p:cNvSpPr/>
          <p:nvPr/>
        </p:nvSpPr>
        <p:spPr>
          <a:xfrm>
            <a:off x="1977840" y="3333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传神</a:t>
            </a:r>
            <a:endParaRPr b="0" lang="en-US" sz="2400" spc="-1" strike="noStrike">
              <a:solidFill>
                <a:srgbClr val="000000"/>
              </a:solidFill>
              <a:latin typeface="Calibri"/>
            </a:endParaRPr>
          </a:p>
        </p:txBody>
      </p:sp>
      <p:sp>
        <p:nvSpPr>
          <p:cNvPr id="269" name="矩形 10"/>
          <p:cNvSpPr/>
          <p:nvPr/>
        </p:nvSpPr>
        <p:spPr>
          <a:xfrm>
            <a:off x="4705200" y="3300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浩瀚</a:t>
            </a:r>
            <a:endParaRPr b="0" lang="en-US" sz="2400" spc="-1" strike="noStrike">
              <a:solidFill>
                <a:srgbClr val="000000"/>
              </a:solidFill>
              <a:latin typeface="Calibri"/>
            </a:endParaRPr>
          </a:p>
        </p:txBody>
      </p:sp>
      <p:sp>
        <p:nvSpPr>
          <p:cNvPr id="270" name="矩形 15"/>
          <p:cNvSpPr/>
          <p:nvPr/>
        </p:nvSpPr>
        <p:spPr>
          <a:xfrm>
            <a:off x="1977840" y="38988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和谐</a:t>
            </a:r>
            <a:endParaRPr b="0" lang="en-US" sz="2400" spc="-1" strike="noStrike">
              <a:solidFill>
                <a:srgbClr val="000000"/>
              </a:solidFill>
              <a:latin typeface="Calibri"/>
            </a:endParaRPr>
          </a:p>
        </p:txBody>
      </p:sp>
      <p:sp>
        <p:nvSpPr>
          <p:cNvPr id="271" name="矩形 16"/>
          <p:cNvSpPr/>
          <p:nvPr/>
        </p:nvSpPr>
        <p:spPr>
          <a:xfrm>
            <a:off x="4705200" y="3849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有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nodeType="clickEffect" fill="hold">
                      <p:stCondLst>
                        <p:cond delay="indefinite"/>
                      </p:stCondLst>
                      <p:childTnLst>
                        <p:par>
                          <p:cTn id="637" nodeType="withEffect"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264"/>
                                        </p:tgtEl>
                                        <p:attrNameLst>
                                          <p:attrName>style.visibility</p:attrName>
                                        </p:attrNameLst>
                                      </p:cBhvr>
                                      <p:to>
                                        <p:strVal val="visible"/>
                                      </p:to>
                                    </p:set>
                                    <p:animEffect filter="wipe(left)" transition="in">
                                      <p:cBhvr additive="repl">
                                        <p:cTn id="640" dur="500"/>
                                        <p:tgtEl>
                                          <p:spTgt spid="264"/>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265"/>
                                        </p:tgtEl>
                                        <p:attrNameLst>
                                          <p:attrName>style.visibility</p:attrName>
                                        </p:attrNameLst>
                                      </p:cBhvr>
                                      <p:to>
                                        <p:strVal val="visible"/>
                                      </p:to>
                                    </p:set>
                                    <p:animEffect filter="wipe(left)" transition="in">
                                      <p:cBhvr additive="repl">
                                        <p:cTn id="645" dur="500"/>
                                        <p:tgtEl>
                                          <p:spTgt spid="265"/>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266"/>
                                        </p:tgtEl>
                                        <p:attrNameLst>
                                          <p:attrName>style.visibility</p:attrName>
                                        </p:attrNameLst>
                                      </p:cBhvr>
                                      <p:to>
                                        <p:strVal val="visible"/>
                                      </p:to>
                                    </p:set>
                                    <p:animEffect filter="wipe(left)" transition="in">
                                      <p:cBhvr additive="repl">
                                        <p:cTn id="650" dur="500"/>
                                        <p:tgtEl>
                                          <p:spTgt spid="266"/>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267"/>
                                        </p:tgtEl>
                                        <p:attrNameLst>
                                          <p:attrName>style.visibility</p:attrName>
                                        </p:attrNameLst>
                                      </p:cBhvr>
                                      <p:to>
                                        <p:strVal val="visible"/>
                                      </p:to>
                                    </p:set>
                                    <p:animEffect filter="wipe(left)" transition="in">
                                      <p:cBhvr additive="repl">
                                        <p:cTn id="655" dur="500"/>
                                        <p:tgtEl>
                                          <p:spTgt spid="267"/>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268"/>
                                        </p:tgtEl>
                                        <p:attrNameLst>
                                          <p:attrName>style.visibility</p:attrName>
                                        </p:attrNameLst>
                                      </p:cBhvr>
                                      <p:to>
                                        <p:strVal val="visible"/>
                                      </p:to>
                                    </p:set>
                                    <p:animEffect filter="wipe(left)" transition="in">
                                      <p:cBhvr additive="repl">
                                        <p:cTn id="660" dur="500"/>
                                        <p:tgtEl>
                                          <p:spTgt spid="268"/>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269"/>
                                        </p:tgtEl>
                                        <p:attrNameLst>
                                          <p:attrName>style.visibility</p:attrName>
                                        </p:attrNameLst>
                                      </p:cBhvr>
                                      <p:to>
                                        <p:strVal val="visible"/>
                                      </p:to>
                                    </p:set>
                                    <p:animEffect filter="wipe(left)" transition="in">
                                      <p:cBhvr additive="repl">
                                        <p:cTn id="665" dur="500"/>
                                        <p:tgtEl>
                                          <p:spTgt spid="269"/>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270"/>
                                        </p:tgtEl>
                                        <p:attrNameLst>
                                          <p:attrName>style.visibility</p:attrName>
                                        </p:attrNameLst>
                                      </p:cBhvr>
                                      <p:to>
                                        <p:strVal val="visible"/>
                                      </p:to>
                                    </p:set>
                                    <p:animEffect filter="wipe(left)" transition="in">
                                      <p:cBhvr additive="repl">
                                        <p:cTn id="670" dur="500"/>
                                        <p:tgtEl>
                                          <p:spTgt spid="270"/>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271"/>
                                        </p:tgtEl>
                                        <p:attrNameLst>
                                          <p:attrName>style.visibility</p:attrName>
                                        </p:attrNameLst>
                                      </p:cBhvr>
                                      <p:to>
                                        <p:strVal val="visible"/>
                                      </p:to>
                                    </p:set>
                                    <p:animEffect filter="wipe(left)" transition="in">
                                      <p:cBhvr additive="repl">
                                        <p:cTn id="67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矩形 1"/>
          <p:cNvSpPr/>
          <p:nvPr/>
        </p:nvSpPr>
        <p:spPr>
          <a:xfrm>
            <a:off x="560520" y="1224000"/>
            <a:ext cx="8083440" cy="3934440"/>
          </a:xfrm>
          <a:prstGeom prst="rect">
            <a:avLst/>
          </a:prstGeom>
          <a:noFill/>
          <a:ln w="0">
            <a:noFill/>
          </a:ln>
        </p:spPr>
        <p:style>
          <a:lnRef idx="0"/>
          <a:fillRef idx="0"/>
          <a:effectRef idx="0"/>
          <a:fontRef idx="minor"/>
        </p:style>
        <p:txBody>
          <a:bodyPr lIns="90000" rIns="90000" tIns="46800" bIns="46800" anchor="t">
            <a:spAutoFit/>
          </a:bodyPr>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5</a:t>
            </a:r>
            <a:r>
              <a:rPr b="1" lang="zh-CN" sz="2400" spc="-1" strike="noStrike">
                <a:solidFill>
                  <a:srgbClr val="000000"/>
                </a:solidFill>
                <a:latin typeface="宋体"/>
              </a:rPr>
              <a:t>．按要求改写句子。</a:t>
            </a:r>
            <a:endParaRPr b="0" lang="en-US" sz="2400" spc="-1" strike="noStrike">
              <a:solidFill>
                <a:srgbClr val="000000"/>
              </a:solidFill>
              <a:latin typeface="Calibri"/>
            </a:endParaRPr>
          </a:p>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天鹅有天生的美质。天鹅有自由的美德。</a:t>
            </a:r>
            <a:r>
              <a:rPr b="1" lang="en-US" sz="2400" spc="-1" strike="noStrike">
                <a:solidFill>
                  <a:srgbClr val="000000"/>
                </a:solidFill>
                <a:latin typeface="宋体"/>
              </a:rPr>
              <a:t>(</a:t>
            </a:r>
            <a:r>
              <a:rPr b="1" lang="zh-CN" sz="2400" spc="-1" strike="noStrike">
                <a:solidFill>
                  <a:srgbClr val="000000"/>
                </a:solidFill>
                <a:latin typeface="宋体"/>
              </a:rPr>
              <a:t>用关联词连成一句话</a:t>
            </a:r>
            <a:r>
              <a:rPr b="1" lang="en-US" sz="2400" spc="-1" strike="noStrike">
                <a:solidFill>
                  <a:srgbClr val="000000"/>
                </a:solidFill>
                <a:latin typeface="宋体"/>
              </a:rPr>
              <a:t>)</a:t>
            </a:r>
            <a:endParaRPr b="0" lang="en-US" sz="2400" spc="-1" strike="noStrike">
              <a:solidFill>
                <a:srgbClr val="000000"/>
              </a:solidFill>
              <a:latin typeface="Calibri"/>
            </a:endParaRPr>
          </a:p>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凡是天鹅所到之处，人人都喜欢它。 </a:t>
            </a:r>
            <a:r>
              <a:rPr b="1" lang="en-US" sz="2400" spc="-1" strike="noStrike">
                <a:solidFill>
                  <a:srgbClr val="000000"/>
                </a:solidFill>
                <a:latin typeface="宋体"/>
              </a:rPr>
              <a:t>(</a:t>
            </a:r>
            <a:r>
              <a:rPr b="1" lang="zh-CN" sz="2400" spc="-1" strike="noStrike">
                <a:solidFill>
                  <a:srgbClr val="000000"/>
                </a:solidFill>
                <a:latin typeface="宋体"/>
              </a:rPr>
              <a:t>改为双重否定句</a:t>
            </a:r>
            <a:r>
              <a:rPr b="1" lang="en-US" sz="2400" spc="-1" strike="noStrike">
                <a:solidFill>
                  <a:srgbClr val="000000"/>
                </a:solidFill>
                <a:latin typeface="宋体"/>
              </a:rPr>
              <a:t>)</a:t>
            </a:r>
            <a:endParaRPr b="0" lang="en-US" sz="2400" spc="-1" strike="noStrike">
              <a:solidFill>
                <a:srgbClr val="000000"/>
              </a:solidFill>
              <a:latin typeface="Calibri"/>
            </a:endParaRPr>
          </a:p>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3)</a:t>
            </a:r>
            <a:r>
              <a:rPr b="1" lang="zh-CN" sz="2400" spc="-1" strike="noStrike">
                <a:solidFill>
                  <a:srgbClr val="000000"/>
                </a:solidFill>
                <a:latin typeface="宋体"/>
              </a:rPr>
              <a:t>古人把天鹅说成一个神奇的歌手。 </a:t>
            </a:r>
            <a:r>
              <a:rPr b="1" lang="en-US" sz="2400" spc="-1" strike="noStrike">
                <a:solidFill>
                  <a:srgbClr val="000000"/>
                </a:solidFill>
                <a:latin typeface="宋体"/>
              </a:rPr>
              <a:t>(</a:t>
            </a:r>
            <a:r>
              <a:rPr b="1" lang="zh-CN" sz="2400" spc="-1" strike="noStrike">
                <a:solidFill>
                  <a:srgbClr val="000000"/>
                </a:solidFill>
                <a:latin typeface="宋体"/>
              </a:rPr>
              <a:t>改为“被”字句</a:t>
            </a:r>
            <a:r>
              <a:rPr b="1" lang="en-US" sz="2400" spc="-1" strike="noStrike">
                <a:solidFill>
                  <a:srgbClr val="000000"/>
                </a:solidFill>
                <a:latin typeface="宋体"/>
              </a:rPr>
              <a:t>)</a:t>
            </a:r>
            <a:endParaRPr b="0" lang="en-US" sz="2400" spc="-1" strike="noStrike">
              <a:solidFill>
                <a:srgbClr val="000000"/>
              </a:solidFill>
              <a:latin typeface="Calibri"/>
            </a:endParaRPr>
          </a:p>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p:txBody>
      </p:sp>
      <p:sp>
        <p:nvSpPr>
          <p:cNvPr id="273" name="矩形 6"/>
          <p:cNvSpPr/>
          <p:nvPr/>
        </p:nvSpPr>
        <p:spPr>
          <a:xfrm>
            <a:off x="1069920" y="51260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天鹅被古人说成一个神奇的歌手。</a:t>
            </a:r>
            <a:endParaRPr b="0" lang="en-US" sz="2400" spc="-1" strike="noStrike">
              <a:solidFill>
                <a:srgbClr val="000000"/>
              </a:solidFill>
              <a:latin typeface="Calibri"/>
            </a:endParaRPr>
          </a:p>
        </p:txBody>
      </p:sp>
      <p:sp>
        <p:nvSpPr>
          <p:cNvPr id="274" name="矩形 2"/>
          <p:cNvSpPr/>
          <p:nvPr/>
        </p:nvSpPr>
        <p:spPr>
          <a:xfrm>
            <a:off x="1098720" y="2943360"/>
            <a:ext cx="551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天鹅既有天生的美质，又有自由的美德。</a:t>
            </a:r>
            <a:endParaRPr b="0" lang="en-US" sz="2400" spc="-1" strike="noStrike">
              <a:solidFill>
                <a:srgbClr val="000000"/>
              </a:solidFill>
              <a:latin typeface="Calibri"/>
            </a:endParaRPr>
          </a:p>
        </p:txBody>
      </p:sp>
      <p:sp>
        <p:nvSpPr>
          <p:cNvPr id="275" name="矩形 3"/>
          <p:cNvSpPr/>
          <p:nvPr/>
        </p:nvSpPr>
        <p:spPr>
          <a:xfrm>
            <a:off x="1098720" y="4046400"/>
            <a:ext cx="628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凡是天鹅所到之处，没有人不喜欢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nodeType="clickEffect" fill="hold">
                      <p:stCondLst>
                        <p:cond delay="indefinite"/>
                      </p:stCondLst>
                      <p:childTnLst>
                        <p:par>
                          <p:cTn id="679" nodeType="withEffect"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274"/>
                                        </p:tgtEl>
                                        <p:attrNameLst>
                                          <p:attrName>style.visibility</p:attrName>
                                        </p:attrNameLst>
                                      </p:cBhvr>
                                      <p:to>
                                        <p:strVal val="visible"/>
                                      </p:to>
                                    </p:set>
                                    <p:animEffect filter="wipe(left)" transition="in">
                                      <p:cBhvr additive="repl">
                                        <p:cTn id="682" dur="500"/>
                                        <p:tgtEl>
                                          <p:spTgt spid="274"/>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8">
                                  <p:stCondLst>
                                    <p:cond delay="0"/>
                                  </p:stCondLst>
                                  <p:childTnLst>
                                    <p:set>
                                      <p:cBhvr>
                                        <p:cTn id="686" dur="1" fill="hold">
                                          <p:stCondLst>
                                            <p:cond delay="0"/>
                                          </p:stCondLst>
                                        </p:cTn>
                                        <p:tgtEl>
                                          <p:spTgt spid="275"/>
                                        </p:tgtEl>
                                        <p:attrNameLst>
                                          <p:attrName>style.visibility</p:attrName>
                                        </p:attrNameLst>
                                      </p:cBhvr>
                                      <p:to>
                                        <p:strVal val="visible"/>
                                      </p:to>
                                    </p:set>
                                    <p:animEffect filter="wipe(left)" transition="in">
                                      <p:cBhvr additive="repl">
                                        <p:cTn id="687" dur="500"/>
                                        <p:tgtEl>
                                          <p:spTgt spid="275"/>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2" presetSubtype="8">
                                  <p:stCondLst>
                                    <p:cond delay="0"/>
                                  </p:stCondLst>
                                  <p:childTnLst>
                                    <p:set>
                                      <p:cBhvr>
                                        <p:cTn id="691" dur="1" fill="hold">
                                          <p:stCondLst>
                                            <p:cond delay="0"/>
                                          </p:stCondLst>
                                        </p:cTn>
                                        <p:tgtEl>
                                          <p:spTgt spid="273"/>
                                        </p:tgtEl>
                                        <p:attrNameLst>
                                          <p:attrName>style.visibility</p:attrName>
                                        </p:attrNameLst>
                                      </p:cBhvr>
                                      <p:to>
                                        <p:strVal val="visible"/>
                                      </p:to>
                                    </p:set>
                                    <p:animEffect filter="wipe(left)" transition="in">
                                      <p:cBhvr additive="repl">
                                        <p:cTn id="692"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矩形 1"/>
          <p:cNvSpPr/>
          <p:nvPr/>
        </p:nvSpPr>
        <p:spPr>
          <a:xfrm>
            <a:off x="731880" y="1844640"/>
            <a:ext cx="7708680" cy="2288520"/>
          </a:xfrm>
          <a:prstGeom prst="rect">
            <a:avLst/>
          </a:prstGeom>
          <a:noFill/>
          <a:ln w="0">
            <a:noFill/>
          </a:ln>
        </p:spPr>
        <p:style>
          <a:lnRef idx="0"/>
          <a:fillRef idx="0"/>
          <a:effectRef idx="0"/>
          <a:fontRef idx="minor"/>
        </p:style>
        <p:txBody>
          <a:bodyPr lIns="90000" rIns="90000" tIns="46800" bIns="46800" anchor="t">
            <a:spAutoFit/>
          </a:bodyPr>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3)</a:t>
            </a:r>
            <a:r>
              <a:rPr b="1" lang="zh-CN" sz="2400" spc="-1" strike="noStrike">
                <a:solidFill>
                  <a:srgbClr val="000000"/>
                </a:solidFill>
                <a:latin typeface="宋体"/>
              </a:rPr>
              <a:t>鸟儿的语言也能进行“国际”交流。</a:t>
            </a:r>
            <a:r>
              <a:rPr b="1" lang="en-US" sz="2400" spc="-1" strike="noStrike">
                <a:solidFill>
                  <a:srgbClr val="000000"/>
                </a:solidFill>
                <a:latin typeface="宋体"/>
              </a:rPr>
              <a:t>(</a:t>
            </a:r>
            <a:r>
              <a:rPr b="1" lang="zh-CN" sz="2400" spc="-1" strike="noStrike">
                <a:solidFill>
                  <a:srgbClr val="000000"/>
                </a:solidFill>
                <a:latin typeface="宋体"/>
              </a:rPr>
              <a:t>改成反问句</a:t>
            </a:r>
            <a:r>
              <a:rPr b="1" lang="en-US" sz="2400" spc="-1" strike="noStrike">
                <a:solidFill>
                  <a:srgbClr val="000000"/>
                </a:solidFill>
                <a:latin typeface="宋体"/>
              </a:rPr>
              <a:t>)</a:t>
            </a:r>
            <a:endParaRPr b="0" lang="en-US" sz="2400" spc="-1" strike="noStrike">
              <a:solidFill>
                <a:srgbClr val="000000"/>
              </a:solidFill>
              <a:latin typeface="Calibri"/>
            </a:endParaRPr>
          </a:p>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4)</a:t>
            </a:r>
            <a:r>
              <a:rPr b="1" lang="zh-CN" sz="2400" spc="-1" strike="noStrike">
                <a:solidFill>
                  <a:srgbClr val="000000"/>
                </a:solidFill>
                <a:latin typeface="宋体"/>
              </a:rPr>
              <a:t>农民嘴里的词语正在不断改善。</a:t>
            </a:r>
            <a:r>
              <a:rPr b="1" lang="en-US" sz="2400" spc="-1" strike="noStrike">
                <a:solidFill>
                  <a:srgbClr val="000000"/>
                </a:solidFill>
                <a:latin typeface="宋体"/>
              </a:rPr>
              <a:t>(</a:t>
            </a:r>
            <a:r>
              <a:rPr b="1" lang="zh-CN" sz="2400" spc="-1" strike="noStrike">
                <a:solidFill>
                  <a:srgbClr val="000000"/>
                </a:solidFill>
                <a:latin typeface="宋体"/>
              </a:rPr>
              <a:t>修改病句</a:t>
            </a:r>
            <a:r>
              <a:rPr b="1" lang="en-US" sz="2400" spc="-1" strike="noStrike">
                <a:solidFill>
                  <a:srgbClr val="000000"/>
                </a:solidFill>
                <a:latin typeface="宋体"/>
              </a:rPr>
              <a:t>)</a:t>
            </a:r>
            <a:endParaRPr b="0" lang="en-US" sz="2400" spc="-1" strike="noStrike">
              <a:solidFill>
                <a:srgbClr val="000000"/>
              </a:solidFill>
              <a:latin typeface="Calibri"/>
            </a:endParaRPr>
          </a:p>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p:txBody>
      </p:sp>
      <p:sp>
        <p:nvSpPr>
          <p:cNvPr id="277" name="矩形 3"/>
          <p:cNvSpPr/>
          <p:nvPr/>
        </p:nvSpPr>
        <p:spPr>
          <a:xfrm>
            <a:off x="1278000" y="35575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农民嘴里的词语正在不断变化。</a:t>
            </a:r>
            <a:endParaRPr b="0" lang="en-US" sz="2400" spc="-1" strike="noStrike">
              <a:solidFill>
                <a:srgbClr val="000000"/>
              </a:solidFill>
              <a:latin typeface="Calibri"/>
            </a:endParaRPr>
          </a:p>
        </p:txBody>
      </p:sp>
      <p:sp>
        <p:nvSpPr>
          <p:cNvPr id="278" name="矩形 2"/>
          <p:cNvSpPr/>
          <p:nvPr/>
        </p:nvSpPr>
        <p:spPr>
          <a:xfrm>
            <a:off x="1306440" y="2452680"/>
            <a:ext cx="695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鸟儿的语言怎么不能进行“国际”交流呢？</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nodeType="clickEffect" fill="hold">
                      <p:stCondLst>
                        <p:cond delay="indefinite"/>
                      </p:stCondLst>
                      <p:childTnLst>
                        <p:par>
                          <p:cTn id="696" nodeType="withEffect" fill="hold">
                            <p:stCondLst>
                              <p:cond delay="0"/>
                            </p:stCondLst>
                            <p:childTnLst>
                              <p:par>
                                <p:cTn id="697" nodeType="clickEffect" fill="hold" presetClass="entr" presetID="22" presetSubtype="8">
                                  <p:stCondLst>
                                    <p:cond delay="0"/>
                                  </p:stCondLst>
                                  <p:childTnLst>
                                    <p:set>
                                      <p:cBhvr>
                                        <p:cTn id="698" dur="1" fill="hold">
                                          <p:stCondLst>
                                            <p:cond delay="0"/>
                                          </p:stCondLst>
                                        </p:cTn>
                                        <p:tgtEl>
                                          <p:spTgt spid="278"/>
                                        </p:tgtEl>
                                        <p:attrNameLst>
                                          <p:attrName>style.visibility</p:attrName>
                                        </p:attrNameLst>
                                      </p:cBhvr>
                                      <p:to>
                                        <p:strVal val="visible"/>
                                      </p:to>
                                    </p:set>
                                    <p:animEffect filter="wipe(left)" transition="in">
                                      <p:cBhvr additive="repl">
                                        <p:cTn id="699" dur="500"/>
                                        <p:tgtEl>
                                          <p:spTgt spid="278"/>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22" presetSubtype="8">
                                  <p:stCondLst>
                                    <p:cond delay="0"/>
                                  </p:stCondLst>
                                  <p:childTnLst>
                                    <p:set>
                                      <p:cBhvr>
                                        <p:cTn id="703" dur="1" fill="hold">
                                          <p:stCondLst>
                                            <p:cond delay="0"/>
                                          </p:stCondLst>
                                        </p:cTn>
                                        <p:tgtEl>
                                          <p:spTgt spid="277"/>
                                        </p:tgtEl>
                                        <p:attrNameLst>
                                          <p:attrName>style.visibility</p:attrName>
                                        </p:attrNameLst>
                                      </p:cBhvr>
                                      <p:to>
                                        <p:strVal val="visible"/>
                                      </p:to>
                                    </p:set>
                                    <p:animEffect filter="wipe(left)" transition="in">
                                      <p:cBhvr additive="repl">
                                        <p:cTn id="704"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矩形 6"/>
          <p:cNvSpPr/>
          <p:nvPr/>
        </p:nvSpPr>
        <p:spPr>
          <a:xfrm>
            <a:off x="866880" y="2381400"/>
            <a:ext cx="749124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认识</a:t>
            </a:r>
            <a:r>
              <a:rPr b="1" lang="en-US" sz="2400" spc="-1" strike="noStrike">
                <a:solidFill>
                  <a:srgbClr val="000000"/>
                </a:solidFill>
                <a:latin typeface="宋体"/>
              </a:rPr>
              <a:t>9</a:t>
            </a:r>
            <a:r>
              <a:rPr b="1" lang="zh-CN" sz="2400" spc="-1" strike="noStrike">
                <a:solidFill>
                  <a:srgbClr val="000000"/>
                </a:solidFill>
                <a:latin typeface="宋体"/>
              </a:rPr>
              <a:t>个生字，会写</a:t>
            </a:r>
            <a:r>
              <a:rPr b="1" lang="en-US" sz="2400" spc="-1" strike="noStrike">
                <a:solidFill>
                  <a:srgbClr val="000000"/>
                </a:solidFill>
                <a:latin typeface="宋体"/>
              </a:rPr>
              <a:t>6</a:t>
            </a:r>
            <a:r>
              <a:rPr b="1" lang="zh-CN" sz="2400" spc="-1" strike="noStrike">
                <a:solidFill>
                  <a:srgbClr val="000000"/>
                </a:solidFill>
                <a:latin typeface="宋体"/>
              </a:rPr>
              <a:t>个生字；理解“妍美、浩瀚、凄黯”等词语。</a:t>
            </a:r>
            <a:r>
              <a:rPr b="1" lang="zh-CN" sz="2400" spc="-1" strike="noStrike">
                <a:solidFill>
                  <a:srgbClr val="ff0000"/>
                </a:solidFill>
                <a:latin typeface="宋体"/>
              </a:rPr>
              <a:t>（重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正确、流利、有感情地朗读课文。</a:t>
            </a:r>
            <a:endParaRPr b="0" lang="en-US" sz="2400" spc="-1" strike="noStrike">
              <a:solidFill>
                <a:srgbClr val="000000"/>
              </a:solidFill>
              <a:latin typeface="Calibri"/>
            </a:endParaRPr>
          </a:p>
        </p:txBody>
      </p:sp>
      <p:pic>
        <p:nvPicPr>
          <p:cNvPr id="71" name="图示 4" descr=""/>
          <p:cNvPicPr/>
          <p:nvPr/>
        </p:nvPicPr>
        <p:blipFill>
          <a:blip r:embed="rId1"/>
          <a:stretch/>
        </p:blipFill>
        <p:spPr>
          <a:xfrm>
            <a:off x="878040" y="1090440"/>
            <a:ext cx="3090600" cy="1470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矩形 4"/>
          <p:cNvSpPr/>
          <p:nvPr/>
        </p:nvSpPr>
        <p:spPr>
          <a:xfrm>
            <a:off x="3827520" y="2013120"/>
            <a:ext cx="4748040" cy="160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布封：</a:t>
            </a:r>
            <a:r>
              <a:rPr b="1" lang="en-US" sz="2200" spc="-1" strike="noStrike">
                <a:solidFill>
                  <a:srgbClr val="000000"/>
                </a:solidFill>
                <a:latin typeface="宋体"/>
              </a:rPr>
              <a:t>(1707</a:t>
            </a:r>
            <a:r>
              <a:rPr b="1" lang="zh-CN" sz="2200" spc="-1" strike="noStrike">
                <a:solidFill>
                  <a:srgbClr val="000000"/>
                </a:solidFill>
                <a:latin typeface="宋体"/>
              </a:rPr>
              <a:t>～</a:t>
            </a:r>
            <a:r>
              <a:rPr b="1" lang="en-US" sz="2200" spc="-1" strike="noStrike">
                <a:solidFill>
                  <a:srgbClr val="000000"/>
                </a:solidFill>
                <a:latin typeface="宋体"/>
              </a:rPr>
              <a:t>1788)</a:t>
            </a:r>
            <a:r>
              <a:rPr b="1" lang="zh-CN" sz="2200" spc="-1" strike="noStrike">
                <a:solidFill>
                  <a:srgbClr val="000000"/>
                </a:solidFill>
                <a:latin typeface="宋体"/>
              </a:rPr>
              <a:t>，十八世纪法国博物学家、作家。他用毕生精力经营皇家花园，并用</a:t>
            </a:r>
            <a:r>
              <a:rPr b="1" lang="en-US" sz="2200" spc="-1" strike="noStrike">
                <a:solidFill>
                  <a:srgbClr val="000000"/>
                </a:solidFill>
                <a:latin typeface="宋体"/>
              </a:rPr>
              <a:t>40</a:t>
            </a:r>
            <a:r>
              <a:rPr b="1" lang="zh-CN" sz="2200" spc="-1" strike="noStrike">
                <a:solidFill>
                  <a:srgbClr val="000000"/>
                </a:solidFill>
                <a:latin typeface="宋体"/>
              </a:rPr>
              <a:t>年时间写成</a:t>
            </a:r>
            <a:r>
              <a:rPr b="1" lang="en-US" sz="2200" spc="-1" strike="noStrike">
                <a:solidFill>
                  <a:srgbClr val="000000"/>
                </a:solidFill>
                <a:latin typeface="宋体"/>
              </a:rPr>
              <a:t>36</a:t>
            </a:r>
            <a:r>
              <a:rPr b="1" lang="zh-CN" sz="2200" spc="-1" strike="noStrike">
                <a:solidFill>
                  <a:srgbClr val="000000"/>
                </a:solidFill>
                <a:latin typeface="宋体"/>
              </a:rPr>
              <a:t>卷巨册的</a:t>
            </a:r>
            <a:r>
              <a:rPr b="1" lang="en-US" sz="2200" spc="-1" strike="noStrike">
                <a:solidFill>
                  <a:srgbClr val="000000"/>
                </a:solidFill>
                <a:latin typeface="宋体"/>
              </a:rPr>
              <a:t>《</a:t>
            </a:r>
            <a:r>
              <a:rPr b="1" lang="zh-CN" sz="2200" spc="-1" strike="noStrike">
                <a:solidFill>
                  <a:srgbClr val="000000"/>
                </a:solidFill>
                <a:latin typeface="宋体"/>
              </a:rPr>
              <a:t>自然史</a:t>
            </a:r>
            <a:r>
              <a:rPr b="1" lang="en-US" sz="2200" spc="-1" strike="noStrike">
                <a:solidFill>
                  <a:srgbClr val="000000"/>
                </a:solidFill>
                <a:latin typeface="宋体"/>
              </a:rPr>
              <a:t>》</a:t>
            </a:r>
            <a:r>
              <a:rPr b="1" lang="zh-CN" sz="2200" spc="-1" strike="noStrike">
                <a:solidFill>
                  <a:srgbClr val="000000"/>
                </a:solidFill>
                <a:latin typeface="宋体"/>
              </a:rPr>
              <a:t>。布封是人文主义思想的继承者和宣传者，他在作品中常用人性化的笔触描摹动物。</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主要作品：</a:t>
            </a:r>
            <a:r>
              <a:rPr b="1" lang="zh-CN" sz="2200" spc="-1" strike="noStrike">
                <a:solidFill>
                  <a:srgbClr val="000000"/>
                </a:solidFill>
                <a:latin typeface="宋体"/>
              </a:rPr>
              <a:t>有</a:t>
            </a:r>
            <a:r>
              <a:rPr b="1" lang="en-US" sz="2200" spc="-1" strike="noStrike">
                <a:solidFill>
                  <a:srgbClr val="ff0000"/>
                </a:solidFill>
                <a:latin typeface="宋体"/>
              </a:rPr>
              <a:t>《《</a:t>
            </a:r>
            <a:r>
              <a:rPr b="1" lang="zh-CN" sz="2200" spc="-1" strike="noStrike">
                <a:solidFill>
                  <a:srgbClr val="ff0000"/>
                </a:solidFill>
                <a:latin typeface="宋体"/>
              </a:rPr>
              <a:t>自然史</a:t>
            </a:r>
            <a:r>
              <a:rPr b="1" lang="en-US" sz="2200" spc="-1" strike="noStrike">
                <a:solidFill>
                  <a:srgbClr val="ff0000"/>
                </a:solidFill>
                <a:latin typeface="宋体"/>
              </a:rPr>
              <a:t>》《</a:t>
            </a:r>
            <a:r>
              <a:rPr b="1" lang="zh-CN" sz="2200" spc="-1" strike="noStrike">
                <a:solidFill>
                  <a:srgbClr val="ff0000"/>
                </a:solidFill>
                <a:latin typeface="宋体"/>
              </a:rPr>
              <a:t>马</a:t>
            </a:r>
            <a:r>
              <a:rPr b="1" lang="en-US" sz="2200" spc="-1" strike="noStrike">
                <a:solidFill>
                  <a:srgbClr val="ff0000"/>
                </a:solidFill>
                <a:latin typeface="宋体"/>
              </a:rPr>
              <a:t>》《</a:t>
            </a:r>
            <a:r>
              <a:rPr b="1" lang="zh-CN" sz="2200" spc="-1" strike="noStrike">
                <a:solidFill>
                  <a:srgbClr val="ff0000"/>
                </a:solidFill>
                <a:latin typeface="宋体"/>
              </a:rPr>
              <a:t>松鼠</a:t>
            </a:r>
            <a:r>
              <a:rPr b="1" lang="en-US" sz="2200" spc="-1" strike="noStrike">
                <a:solidFill>
                  <a:srgbClr val="ff0000"/>
                </a:solidFill>
                <a:latin typeface="宋体"/>
              </a:rPr>
              <a:t>》《</a:t>
            </a:r>
            <a:r>
              <a:rPr b="1" lang="zh-CN" sz="2200" spc="-1" strike="noStrike">
                <a:solidFill>
                  <a:srgbClr val="ff0000"/>
                </a:solidFill>
                <a:latin typeface="宋体"/>
              </a:rPr>
              <a:t>天鹅</a:t>
            </a:r>
            <a:r>
              <a:rPr b="1" lang="en-US" sz="2200" spc="-1" strike="noStrike">
                <a:solidFill>
                  <a:srgbClr val="ff0000"/>
                </a:solidFill>
                <a:latin typeface="宋体"/>
              </a:rPr>
              <a:t>》</a:t>
            </a:r>
            <a:r>
              <a:rPr b="1" lang="zh-CN" sz="2200" spc="-1" strike="noStrike">
                <a:solidFill>
                  <a:srgbClr val="000000"/>
                </a:solidFill>
                <a:latin typeface="宋体"/>
              </a:rPr>
              <a:t>等。</a:t>
            </a:r>
            <a:endParaRPr b="0" lang="en-US" sz="2200" spc="-1" strike="noStrike">
              <a:solidFill>
                <a:srgbClr val="000000"/>
              </a:solidFill>
              <a:latin typeface="Calibri"/>
            </a:endParaRPr>
          </a:p>
        </p:txBody>
      </p:sp>
      <p:pic>
        <p:nvPicPr>
          <p:cNvPr id="73" name="Picture 2" descr="C:\Users\Administrator\Desktop\3333\助读资料.png"/>
          <p:cNvPicPr/>
          <p:nvPr/>
        </p:nvPicPr>
        <p:blipFill>
          <a:blip r:embed="rId1"/>
          <a:stretch/>
        </p:blipFill>
        <p:spPr>
          <a:xfrm>
            <a:off x="3200400" y="241200"/>
            <a:ext cx="2712960" cy="712800"/>
          </a:xfrm>
          <a:prstGeom prst="rect">
            <a:avLst/>
          </a:prstGeom>
          <a:ln w="0">
            <a:noFill/>
          </a:ln>
          <a:effectLst>
            <a:outerShdw dist="153753" dir="2700000" blurRad="0" rotWithShape="0">
              <a:srgbClr val="000000">
                <a:alpha val="40000"/>
              </a:srgbClr>
            </a:outerShdw>
          </a:effectLst>
        </p:spPr>
      </p:pic>
      <p:grpSp>
        <p:nvGrpSpPr>
          <p:cNvPr id="74" name="组合 2"/>
          <p:cNvGrpSpPr/>
          <p:nvPr/>
        </p:nvGrpSpPr>
        <p:grpSpPr>
          <a:xfrm>
            <a:off x="647640" y="1069920"/>
            <a:ext cx="2905200" cy="666720"/>
            <a:chOff x="647640" y="1069920"/>
            <a:chExt cx="2905200" cy="666720"/>
          </a:xfrm>
        </p:grpSpPr>
        <p:sp>
          <p:nvSpPr>
            <p:cNvPr id="75" name="圆角矩形 7"/>
            <p:cNvSpPr/>
            <p:nvPr/>
          </p:nvSpPr>
          <p:spPr>
            <a:xfrm>
              <a:off x="1463400" y="120780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6" name="图片 9" descr="book.gif"/>
            <p:cNvPicPr/>
            <p:nvPr/>
          </p:nvPicPr>
          <p:blipFill>
            <a:blip r:embed="rId2"/>
            <a:stretch/>
          </p:blipFill>
          <p:spPr>
            <a:xfrm>
              <a:off x="647640" y="1069920"/>
              <a:ext cx="1087200" cy="666720"/>
            </a:xfrm>
            <a:prstGeom prst="rect">
              <a:avLst/>
            </a:prstGeom>
            <a:ln w="0">
              <a:noFill/>
            </a:ln>
          </p:spPr>
        </p:pic>
        <p:sp>
          <p:nvSpPr>
            <p:cNvPr id="77" name="文本框 16"/>
            <p:cNvSpPr/>
            <p:nvPr/>
          </p:nvSpPr>
          <p:spPr>
            <a:xfrm>
              <a:off x="1722960" y="12268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近作者</a:t>
              </a:r>
              <a:endParaRPr b="0" lang="en-US" sz="2400" spc="-1" strike="noStrike">
                <a:solidFill>
                  <a:srgbClr val="000000"/>
                </a:solidFill>
                <a:latin typeface="Calibri"/>
              </a:endParaRPr>
            </a:p>
          </p:txBody>
        </p:sp>
      </p:grpSp>
      <p:pic>
        <p:nvPicPr>
          <p:cNvPr id="78" name="图片 2" descr="屏幕剪辑"/>
          <p:cNvPicPr/>
          <p:nvPr/>
        </p:nvPicPr>
        <p:blipFill>
          <a:blip r:embed="rId3"/>
          <a:stretch/>
        </p:blipFill>
        <p:spPr>
          <a:xfrm>
            <a:off x="682560" y="2262240"/>
            <a:ext cx="3224160" cy="3754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2"/>
          <p:cNvSpPr/>
          <p:nvPr/>
        </p:nvSpPr>
        <p:spPr>
          <a:xfrm>
            <a:off x="1038240" y="1779480"/>
            <a:ext cx="7666200" cy="619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Calibri"/>
              </a:rPr>
              <a:t>天鹅　天鹅是天鹅属的鸟类，共有</a:t>
            </a:r>
            <a:r>
              <a:rPr b="1" lang="en-US" sz="2300" spc="-1" strike="noStrike">
                <a:solidFill>
                  <a:srgbClr val="000000"/>
                </a:solidFill>
                <a:latin typeface="Calibri"/>
              </a:rPr>
              <a:t>7</a:t>
            </a:r>
            <a:r>
              <a:rPr b="1" lang="zh-CN" sz="2300" spc="-1" strike="noStrike">
                <a:solidFill>
                  <a:srgbClr val="000000"/>
                </a:solidFill>
                <a:latin typeface="Calibri"/>
              </a:rPr>
              <a:t>种，属游禽。除非洲、南极洲之外的各大陆均有分布。为鸭科中个体最大的类群。喜欢群栖在湖泊和沼泽地带，主要以水生植物为食，也吃螺类和软体动物。多数是一夫一妻制，相伴终生。求偶的行为丰富，雌雄会趋于一致地做出相同的动作，还会体贴地互相梳理羽毛。一年繁殖一次，卵的体积较大，如大天鹅的卵有</a:t>
            </a:r>
            <a:r>
              <a:rPr b="1" lang="en-US" sz="2300" spc="-1" strike="noStrike">
                <a:solidFill>
                  <a:srgbClr val="000000"/>
                </a:solidFill>
                <a:latin typeface="Calibri"/>
              </a:rPr>
              <a:t>400</a:t>
            </a:r>
            <a:r>
              <a:rPr b="1" lang="zh-CN" sz="2300" spc="-1" strike="noStrike">
                <a:solidFill>
                  <a:srgbClr val="000000"/>
                </a:solidFill>
                <a:latin typeface="Calibri"/>
              </a:rPr>
              <a:t>多克重。迁徙时会多群集结，但仍是小群行动。</a:t>
            </a:r>
            <a:endParaRPr b="0" lang="en-US" sz="2300" spc="-1" strike="noStrike">
              <a:solidFill>
                <a:srgbClr val="000000"/>
              </a:solidFill>
              <a:latin typeface="Calibri"/>
            </a:endParaRPr>
          </a:p>
        </p:txBody>
      </p:sp>
      <p:grpSp>
        <p:nvGrpSpPr>
          <p:cNvPr id="80" name="组合 2"/>
          <p:cNvGrpSpPr/>
          <p:nvPr/>
        </p:nvGrpSpPr>
        <p:grpSpPr>
          <a:xfrm>
            <a:off x="647640" y="1069920"/>
            <a:ext cx="2905200" cy="666720"/>
            <a:chOff x="647640" y="1069920"/>
            <a:chExt cx="2905200" cy="666720"/>
          </a:xfrm>
        </p:grpSpPr>
        <p:sp>
          <p:nvSpPr>
            <p:cNvPr id="81" name="圆角矩形 5"/>
            <p:cNvSpPr/>
            <p:nvPr/>
          </p:nvSpPr>
          <p:spPr>
            <a:xfrm>
              <a:off x="1463400" y="120780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2" name="图片 9" descr="book.gif"/>
            <p:cNvPicPr/>
            <p:nvPr/>
          </p:nvPicPr>
          <p:blipFill>
            <a:blip r:embed="rId1"/>
            <a:stretch/>
          </p:blipFill>
          <p:spPr>
            <a:xfrm>
              <a:off x="647640" y="1069920"/>
              <a:ext cx="1087200" cy="666720"/>
            </a:xfrm>
            <a:prstGeom prst="rect">
              <a:avLst/>
            </a:prstGeom>
            <a:ln w="0">
              <a:noFill/>
            </a:ln>
          </p:spPr>
        </p:pic>
        <p:sp>
          <p:nvSpPr>
            <p:cNvPr id="83" name="文本框 16"/>
            <p:cNvSpPr/>
            <p:nvPr/>
          </p:nvSpPr>
          <p:spPr>
            <a:xfrm>
              <a:off x="1722960" y="12268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相关资料</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型</a:t>
            </a:r>
            <a:endParaRPr b="0" lang="en-US" sz="8000" spc="-1" strike="noStrike">
              <a:solidFill>
                <a:srgbClr val="000000"/>
              </a:solidFill>
              <a:latin typeface="Calibri"/>
            </a:endParaRPr>
          </a:p>
        </p:txBody>
      </p:sp>
      <p:graphicFrame>
        <p:nvGraphicFramePr>
          <p:cNvPr id="85"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6" name="图片 10" descr=""/>
          <p:cNvPicPr/>
          <p:nvPr/>
        </p:nvPicPr>
        <p:blipFill>
          <a:blip r:embed="rId1"/>
          <a:stretch/>
        </p:blipFill>
        <p:spPr>
          <a:xfrm>
            <a:off x="3284640" y="322200"/>
            <a:ext cx="2585880" cy="601560"/>
          </a:xfrm>
          <a:prstGeom prst="rect">
            <a:avLst/>
          </a:prstGeom>
          <a:ln w="0">
            <a:noFill/>
          </a:ln>
          <a:effectLst>
            <a:outerShdw dist="153753" dir="2700000" blurRad="0" rotWithShape="0">
              <a:srgbClr val="000000">
                <a:alpha val="40000"/>
              </a:srgbClr>
            </a:outerShdw>
          </a:effectLst>
        </p:spPr>
      </p:pic>
      <p:grpSp>
        <p:nvGrpSpPr>
          <p:cNvPr id="87" name="组合 2"/>
          <p:cNvGrpSpPr/>
          <p:nvPr/>
        </p:nvGrpSpPr>
        <p:grpSpPr>
          <a:xfrm>
            <a:off x="730080" y="1200240"/>
            <a:ext cx="2905200" cy="666720"/>
            <a:chOff x="730080" y="1200240"/>
            <a:chExt cx="2905200" cy="666720"/>
          </a:xfrm>
        </p:grpSpPr>
        <p:sp>
          <p:nvSpPr>
            <p:cNvPr id="88" name="圆角矩形 17"/>
            <p:cNvSpPr/>
            <p:nvPr/>
          </p:nvSpPr>
          <p:spPr>
            <a:xfrm>
              <a:off x="1545840" y="133812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9" name="图片 9" descr="book.gif"/>
            <p:cNvPicPr/>
            <p:nvPr/>
          </p:nvPicPr>
          <p:blipFill>
            <a:blip r:embed="rId2"/>
            <a:stretch/>
          </p:blipFill>
          <p:spPr>
            <a:xfrm>
              <a:off x="730080" y="1200240"/>
              <a:ext cx="1087200" cy="666720"/>
            </a:xfrm>
            <a:prstGeom prst="rect">
              <a:avLst/>
            </a:prstGeom>
            <a:ln w="0">
              <a:noFill/>
            </a:ln>
          </p:spPr>
        </p:pic>
        <p:sp>
          <p:nvSpPr>
            <p:cNvPr id="90" name="文本框 16"/>
            <p:cNvSpPr/>
            <p:nvPr/>
          </p:nvSpPr>
          <p:spPr>
            <a:xfrm>
              <a:off x="1805400" y="135720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我会写</a:t>
              </a:r>
              <a:endParaRPr b="0" lang="en-US" sz="2400" spc="-1" strike="noStrike">
                <a:solidFill>
                  <a:srgbClr val="000000"/>
                </a:solidFill>
                <a:latin typeface="Calibri"/>
              </a:endParaRPr>
            </a:p>
          </p:txBody>
        </p:sp>
      </p:grpSp>
      <p:grpSp>
        <p:nvGrpSpPr>
          <p:cNvPr id="91" name="组合 8"/>
          <p:cNvGrpSpPr/>
          <p:nvPr/>
        </p:nvGrpSpPr>
        <p:grpSpPr>
          <a:xfrm>
            <a:off x="1258920" y="3975120"/>
            <a:ext cx="2840040" cy="1571760"/>
            <a:chOff x="1258920" y="3975120"/>
            <a:chExt cx="2840040" cy="1571760"/>
          </a:xfrm>
        </p:grpSpPr>
        <p:pic>
          <p:nvPicPr>
            <p:cNvPr id="92" name="图示 4" descr=""/>
            <p:cNvPicPr/>
            <p:nvPr/>
          </p:nvPicPr>
          <p:blipFill>
            <a:blip r:embed="rId3"/>
            <a:stretch/>
          </p:blipFill>
          <p:spPr>
            <a:xfrm>
              <a:off x="1258920" y="3975120"/>
              <a:ext cx="2840040" cy="1571760"/>
            </a:xfrm>
            <a:prstGeom prst="rect">
              <a:avLst/>
            </a:prstGeom>
            <a:ln w="0">
              <a:noFill/>
            </a:ln>
          </p:spPr>
        </p:pic>
        <p:sp>
          <p:nvSpPr>
            <p:cNvPr id="93" name="矩形 2"/>
            <p:cNvSpPr/>
            <p:nvPr/>
          </p:nvSpPr>
          <p:spPr>
            <a:xfrm>
              <a:off x="1302480" y="4587840"/>
              <a:ext cx="277236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上部略扁；“土”两横间距不宜太大。</a:t>
              </a:r>
              <a:endParaRPr b="0" lang="en-US" sz="2000" spc="-1" strike="noStrike">
                <a:solidFill>
                  <a:srgbClr val="000000"/>
                </a:solidFill>
                <a:latin typeface="Calibri"/>
              </a:endParaRPr>
            </a:p>
          </p:txBody>
        </p:sp>
      </p:grpSp>
      <p:sp>
        <p:nvSpPr>
          <p:cNvPr id="94" name="矩形 3"/>
          <p:cNvSpPr/>
          <p:nvPr/>
        </p:nvSpPr>
        <p:spPr>
          <a:xfrm>
            <a:off x="2046240" y="1868400"/>
            <a:ext cx="1386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xíng</a:t>
            </a:r>
            <a:endParaRPr b="0" lang="en-US" sz="4800" spc="-1" strike="noStrike">
              <a:solidFill>
                <a:srgbClr val="000000"/>
              </a:solidFill>
              <a:latin typeface="Calibri"/>
            </a:endParaRPr>
          </a:p>
        </p:txBody>
      </p:sp>
      <p:sp>
        <p:nvSpPr>
          <p:cNvPr id="95" name="Freeform 98"/>
          <p:cNvSpPr/>
          <p:nvPr/>
        </p:nvSpPr>
        <p:spPr>
          <a:xfrm>
            <a:off x="5959440" y="2833560"/>
            <a:ext cx="876240" cy="250920"/>
          </a:xfrm>
          <a:custGeom>
            <a:avLst/>
            <a:gdLst/>
            <a:ahLst/>
            <a:rect l="l" t="t" r="r" b="b"/>
            <a:pathLst>
              <a:path w="1104" h="314">
                <a:moveTo>
                  <a:pt x="39" y="276"/>
                </a:moveTo>
                <a:lnTo>
                  <a:pt x="31" y="272"/>
                </a:lnTo>
                <a:lnTo>
                  <a:pt x="25" y="266"/>
                </a:lnTo>
                <a:lnTo>
                  <a:pt x="19" y="262"/>
                </a:lnTo>
                <a:lnTo>
                  <a:pt x="16" y="259"/>
                </a:lnTo>
                <a:lnTo>
                  <a:pt x="10" y="255"/>
                </a:lnTo>
                <a:lnTo>
                  <a:pt x="8" y="251"/>
                </a:lnTo>
                <a:lnTo>
                  <a:pt x="4" y="249"/>
                </a:lnTo>
                <a:lnTo>
                  <a:pt x="2" y="245"/>
                </a:lnTo>
                <a:lnTo>
                  <a:pt x="0" y="241"/>
                </a:lnTo>
                <a:lnTo>
                  <a:pt x="0" y="239"/>
                </a:lnTo>
                <a:lnTo>
                  <a:pt x="0" y="238"/>
                </a:lnTo>
                <a:lnTo>
                  <a:pt x="2" y="234"/>
                </a:lnTo>
                <a:lnTo>
                  <a:pt x="2" y="232"/>
                </a:lnTo>
                <a:lnTo>
                  <a:pt x="6" y="230"/>
                </a:lnTo>
                <a:lnTo>
                  <a:pt x="8" y="226"/>
                </a:lnTo>
                <a:lnTo>
                  <a:pt x="14" y="224"/>
                </a:lnTo>
                <a:lnTo>
                  <a:pt x="16" y="224"/>
                </a:lnTo>
                <a:lnTo>
                  <a:pt x="19" y="224"/>
                </a:lnTo>
                <a:lnTo>
                  <a:pt x="25" y="222"/>
                </a:lnTo>
                <a:lnTo>
                  <a:pt x="31" y="222"/>
                </a:lnTo>
                <a:lnTo>
                  <a:pt x="39" y="220"/>
                </a:lnTo>
                <a:lnTo>
                  <a:pt x="46" y="218"/>
                </a:lnTo>
                <a:lnTo>
                  <a:pt x="56" y="216"/>
                </a:lnTo>
                <a:lnTo>
                  <a:pt x="65" y="214"/>
                </a:lnTo>
                <a:lnTo>
                  <a:pt x="77" y="213"/>
                </a:lnTo>
                <a:lnTo>
                  <a:pt x="89" y="209"/>
                </a:lnTo>
                <a:lnTo>
                  <a:pt x="100" y="205"/>
                </a:lnTo>
                <a:lnTo>
                  <a:pt x="113" y="203"/>
                </a:lnTo>
                <a:lnTo>
                  <a:pt x="129" y="199"/>
                </a:lnTo>
                <a:lnTo>
                  <a:pt x="142" y="193"/>
                </a:lnTo>
                <a:lnTo>
                  <a:pt x="158" y="190"/>
                </a:lnTo>
                <a:lnTo>
                  <a:pt x="175" y="186"/>
                </a:lnTo>
                <a:lnTo>
                  <a:pt x="190" y="182"/>
                </a:lnTo>
                <a:lnTo>
                  <a:pt x="209" y="178"/>
                </a:lnTo>
                <a:lnTo>
                  <a:pt x="229" y="174"/>
                </a:lnTo>
                <a:lnTo>
                  <a:pt x="252" y="170"/>
                </a:lnTo>
                <a:lnTo>
                  <a:pt x="275" y="165"/>
                </a:lnTo>
                <a:lnTo>
                  <a:pt x="298" y="159"/>
                </a:lnTo>
                <a:lnTo>
                  <a:pt x="325" y="153"/>
                </a:lnTo>
                <a:lnTo>
                  <a:pt x="352" y="145"/>
                </a:lnTo>
                <a:lnTo>
                  <a:pt x="380" y="140"/>
                </a:lnTo>
                <a:lnTo>
                  <a:pt x="409" y="130"/>
                </a:lnTo>
                <a:lnTo>
                  <a:pt x="442" y="122"/>
                </a:lnTo>
                <a:lnTo>
                  <a:pt x="474" y="113"/>
                </a:lnTo>
                <a:lnTo>
                  <a:pt x="509" y="101"/>
                </a:lnTo>
                <a:lnTo>
                  <a:pt x="545" y="92"/>
                </a:lnTo>
                <a:lnTo>
                  <a:pt x="582" y="80"/>
                </a:lnTo>
                <a:lnTo>
                  <a:pt x="620" y="69"/>
                </a:lnTo>
                <a:lnTo>
                  <a:pt x="640" y="63"/>
                </a:lnTo>
                <a:lnTo>
                  <a:pt x="659" y="59"/>
                </a:lnTo>
                <a:lnTo>
                  <a:pt x="678" y="53"/>
                </a:lnTo>
                <a:lnTo>
                  <a:pt x="695" y="49"/>
                </a:lnTo>
                <a:lnTo>
                  <a:pt x="713" y="46"/>
                </a:lnTo>
                <a:lnTo>
                  <a:pt x="730" y="42"/>
                </a:lnTo>
                <a:lnTo>
                  <a:pt x="747" y="38"/>
                </a:lnTo>
                <a:lnTo>
                  <a:pt x="762" y="34"/>
                </a:lnTo>
                <a:lnTo>
                  <a:pt x="793" y="26"/>
                </a:lnTo>
                <a:lnTo>
                  <a:pt x="822" y="21"/>
                </a:lnTo>
                <a:lnTo>
                  <a:pt x="849" y="15"/>
                </a:lnTo>
                <a:lnTo>
                  <a:pt x="876" y="11"/>
                </a:lnTo>
                <a:lnTo>
                  <a:pt x="899" y="7"/>
                </a:lnTo>
                <a:lnTo>
                  <a:pt x="920" y="3"/>
                </a:lnTo>
                <a:lnTo>
                  <a:pt x="941" y="2"/>
                </a:lnTo>
                <a:lnTo>
                  <a:pt x="958" y="0"/>
                </a:lnTo>
                <a:lnTo>
                  <a:pt x="976" y="0"/>
                </a:lnTo>
                <a:lnTo>
                  <a:pt x="991" y="0"/>
                </a:lnTo>
                <a:lnTo>
                  <a:pt x="1006" y="2"/>
                </a:lnTo>
                <a:lnTo>
                  <a:pt x="1018" y="3"/>
                </a:lnTo>
                <a:lnTo>
                  <a:pt x="1029" y="5"/>
                </a:lnTo>
                <a:lnTo>
                  <a:pt x="1039" y="9"/>
                </a:lnTo>
                <a:lnTo>
                  <a:pt x="1048" y="11"/>
                </a:lnTo>
                <a:lnTo>
                  <a:pt x="1058" y="15"/>
                </a:lnTo>
                <a:lnTo>
                  <a:pt x="1066" y="19"/>
                </a:lnTo>
                <a:lnTo>
                  <a:pt x="1073" y="23"/>
                </a:lnTo>
                <a:lnTo>
                  <a:pt x="1079" y="28"/>
                </a:lnTo>
                <a:lnTo>
                  <a:pt x="1085" y="32"/>
                </a:lnTo>
                <a:lnTo>
                  <a:pt x="1089" y="38"/>
                </a:lnTo>
                <a:lnTo>
                  <a:pt x="1093" y="42"/>
                </a:lnTo>
                <a:lnTo>
                  <a:pt x="1096" y="48"/>
                </a:lnTo>
                <a:lnTo>
                  <a:pt x="1100" y="53"/>
                </a:lnTo>
                <a:lnTo>
                  <a:pt x="1102" y="61"/>
                </a:lnTo>
                <a:lnTo>
                  <a:pt x="1104" y="67"/>
                </a:lnTo>
                <a:lnTo>
                  <a:pt x="1104" y="74"/>
                </a:lnTo>
                <a:lnTo>
                  <a:pt x="1104" y="80"/>
                </a:lnTo>
                <a:lnTo>
                  <a:pt x="1104" y="88"/>
                </a:lnTo>
                <a:lnTo>
                  <a:pt x="1102" y="96"/>
                </a:lnTo>
                <a:lnTo>
                  <a:pt x="1100" y="101"/>
                </a:lnTo>
                <a:lnTo>
                  <a:pt x="1095" y="107"/>
                </a:lnTo>
                <a:lnTo>
                  <a:pt x="1091" y="113"/>
                </a:lnTo>
                <a:lnTo>
                  <a:pt x="1083" y="119"/>
                </a:lnTo>
                <a:lnTo>
                  <a:pt x="1075" y="124"/>
                </a:lnTo>
                <a:lnTo>
                  <a:pt x="1068" y="130"/>
                </a:lnTo>
                <a:lnTo>
                  <a:pt x="1058" y="134"/>
                </a:lnTo>
                <a:lnTo>
                  <a:pt x="1047" y="140"/>
                </a:lnTo>
                <a:lnTo>
                  <a:pt x="1035" y="144"/>
                </a:lnTo>
                <a:lnTo>
                  <a:pt x="1022" y="147"/>
                </a:lnTo>
                <a:lnTo>
                  <a:pt x="1006" y="149"/>
                </a:lnTo>
                <a:lnTo>
                  <a:pt x="991" y="153"/>
                </a:lnTo>
                <a:lnTo>
                  <a:pt x="974" y="157"/>
                </a:lnTo>
                <a:lnTo>
                  <a:pt x="956" y="159"/>
                </a:lnTo>
                <a:lnTo>
                  <a:pt x="937" y="165"/>
                </a:lnTo>
                <a:lnTo>
                  <a:pt x="916" y="168"/>
                </a:lnTo>
                <a:lnTo>
                  <a:pt x="893" y="174"/>
                </a:lnTo>
                <a:lnTo>
                  <a:pt x="870" y="178"/>
                </a:lnTo>
                <a:lnTo>
                  <a:pt x="845" y="184"/>
                </a:lnTo>
                <a:lnTo>
                  <a:pt x="818" y="190"/>
                </a:lnTo>
                <a:lnTo>
                  <a:pt x="789" y="193"/>
                </a:lnTo>
                <a:lnTo>
                  <a:pt x="761" y="199"/>
                </a:lnTo>
                <a:lnTo>
                  <a:pt x="730" y="205"/>
                </a:lnTo>
                <a:lnTo>
                  <a:pt x="697" y="211"/>
                </a:lnTo>
                <a:lnTo>
                  <a:pt x="663" y="216"/>
                </a:lnTo>
                <a:lnTo>
                  <a:pt x="628" y="222"/>
                </a:lnTo>
                <a:lnTo>
                  <a:pt x="592" y="230"/>
                </a:lnTo>
                <a:lnTo>
                  <a:pt x="553" y="236"/>
                </a:lnTo>
                <a:lnTo>
                  <a:pt x="513" y="243"/>
                </a:lnTo>
                <a:lnTo>
                  <a:pt x="473" y="251"/>
                </a:lnTo>
                <a:lnTo>
                  <a:pt x="451" y="253"/>
                </a:lnTo>
                <a:lnTo>
                  <a:pt x="432" y="257"/>
                </a:lnTo>
                <a:lnTo>
                  <a:pt x="413" y="261"/>
                </a:lnTo>
                <a:lnTo>
                  <a:pt x="394" y="264"/>
                </a:lnTo>
                <a:lnTo>
                  <a:pt x="375" y="268"/>
                </a:lnTo>
                <a:lnTo>
                  <a:pt x="357" y="270"/>
                </a:lnTo>
                <a:lnTo>
                  <a:pt x="342" y="274"/>
                </a:lnTo>
                <a:lnTo>
                  <a:pt x="325" y="278"/>
                </a:lnTo>
                <a:lnTo>
                  <a:pt x="309" y="280"/>
                </a:lnTo>
                <a:lnTo>
                  <a:pt x="296" y="284"/>
                </a:lnTo>
                <a:lnTo>
                  <a:pt x="281" y="285"/>
                </a:lnTo>
                <a:lnTo>
                  <a:pt x="267" y="287"/>
                </a:lnTo>
                <a:lnTo>
                  <a:pt x="254" y="291"/>
                </a:lnTo>
                <a:lnTo>
                  <a:pt x="242" y="293"/>
                </a:lnTo>
                <a:lnTo>
                  <a:pt x="231" y="295"/>
                </a:lnTo>
                <a:lnTo>
                  <a:pt x="219" y="297"/>
                </a:lnTo>
                <a:lnTo>
                  <a:pt x="209" y="299"/>
                </a:lnTo>
                <a:lnTo>
                  <a:pt x="198" y="301"/>
                </a:lnTo>
                <a:lnTo>
                  <a:pt x="190" y="303"/>
                </a:lnTo>
                <a:lnTo>
                  <a:pt x="181" y="305"/>
                </a:lnTo>
                <a:lnTo>
                  <a:pt x="173" y="307"/>
                </a:lnTo>
                <a:lnTo>
                  <a:pt x="165" y="309"/>
                </a:lnTo>
                <a:lnTo>
                  <a:pt x="160" y="309"/>
                </a:lnTo>
                <a:lnTo>
                  <a:pt x="152" y="310"/>
                </a:lnTo>
                <a:lnTo>
                  <a:pt x="146" y="312"/>
                </a:lnTo>
                <a:lnTo>
                  <a:pt x="142" y="312"/>
                </a:lnTo>
                <a:lnTo>
                  <a:pt x="138" y="312"/>
                </a:lnTo>
                <a:lnTo>
                  <a:pt x="135" y="314"/>
                </a:lnTo>
                <a:lnTo>
                  <a:pt x="131" y="314"/>
                </a:lnTo>
                <a:lnTo>
                  <a:pt x="129" y="314"/>
                </a:lnTo>
                <a:lnTo>
                  <a:pt x="127" y="314"/>
                </a:lnTo>
                <a:lnTo>
                  <a:pt x="125" y="314"/>
                </a:lnTo>
                <a:lnTo>
                  <a:pt x="121" y="314"/>
                </a:lnTo>
                <a:lnTo>
                  <a:pt x="119" y="314"/>
                </a:lnTo>
                <a:lnTo>
                  <a:pt x="115" y="314"/>
                </a:lnTo>
                <a:lnTo>
                  <a:pt x="112" y="312"/>
                </a:lnTo>
                <a:lnTo>
                  <a:pt x="102" y="310"/>
                </a:lnTo>
                <a:lnTo>
                  <a:pt x="90" y="305"/>
                </a:lnTo>
                <a:lnTo>
                  <a:pt x="79" y="301"/>
                </a:lnTo>
                <a:lnTo>
                  <a:pt x="65" y="293"/>
                </a:lnTo>
                <a:lnTo>
                  <a:pt x="52" y="285"/>
                </a:lnTo>
                <a:lnTo>
                  <a:pt x="39" y="27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99"/>
          <p:cNvSpPr/>
          <p:nvPr/>
        </p:nvSpPr>
        <p:spPr>
          <a:xfrm>
            <a:off x="6515280" y="2971800"/>
            <a:ext cx="152280" cy="990720"/>
          </a:xfrm>
          <a:custGeom>
            <a:avLst/>
            <a:gdLst/>
            <a:ahLst/>
            <a:rect l="l" t="t" r="r" b="b"/>
            <a:pathLst>
              <a:path w="194" h="1249">
                <a:moveTo>
                  <a:pt x="133" y="793"/>
                </a:moveTo>
                <a:lnTo>
                  <a:pt x="133" y="816"/>
                </a:lnTo>
                <a:lnTo>
                  <a:pt x="133" y="837"/>
                </a:lnTo>
                <a:lnTo>
                  <a:pt x="133" y="856"/>
                </a:lnTo>
                <a:lnTo>
                  <a:pt x="133" y="877"/>
                </a:lnTo>
                <a:lnTo>
                  <a:pt x="133" y="896"/>
                </a:lnTo>
                <a:lnTo>
                  <a:pt x="131" y="916"/>
                </a:lnTo>
                <a:lnTo>
                  <a:pt x="131" y="933"/>
                </a:lnTo>
                <a:lnTo>
                  <a:pt x="131" y="952"/>
                </a:lnTo>
                <a:lnTo>
                  <a:pt x="131" y="969"/>
                </a:lnTo>
                <a:lnTo>
                  <a:pt x="129" y="985"/>
                </a:lnTo>
                <a:lnTo>
                  <a:pt x="129" y="1002"/>
                </a:lnTo>
                <a:lnTo>
                  <a:pt x="127" y="1017"/>
                </a:lnTo>
                <a:lnTo>
                  <a:pt x="127" y="1033"/>
                </a:lnTo>
                <a:lnTo>
                  <a:pt x="125" y="1048"/>
                </a:lnTo>
                <a:lnTo>
                  <a:pt x="125" y="1061"/>
                </a:lnTo>
                <a:lnTo>
                  <a:pt x="123" y="1075"/>
                </a:lnTo>
                <a:lnTo>
                  <a:pt x="123" y="1086"/>
                </a:lnTo>
                <a:lnTo>
                  <a:pt x="121" y="1100"/>
                </a:lnTo>
                <a:lnTo>
                  <a:pt x="119" y="1111"/>
                </a:lnTo>
                <a:lnTo>
                  <a:pt x="117" y="1123"/>
                </a:lnTo>
                <a:lnTo>
                  <a:pt x="117" y="1132"/>
                </a:lnTo>
                <a:lnTo>
                  <a:pt x="115" y="1142"/>
                </a:lnTo>
                <a:lnTo>
                  <a:pt x="113" y="1152"/>
                </a:lnTo>
                <a:lnTo>
                  <a:pt x="111" y="1161"/>
                </a:lnTo>
                <a:lnTo>
                  <a:pt x="110" y="1169"/>
                </a:lnTo>
                <a:lnTo>
                  <a:pt x="108" y="1177"/>
                </a:lnTo>
                <a:lnTo>
                  <a:pt x="106" y="1184"/>
                </a:lnTo>
                <a:lnTo>
                  <a:pt x="104" y="1190"/>
                </a:lnTo>
                <a:lnTo>
                  <a:pt x="102" y="1196"/>
                </a:lnTo>
                <a:lnTo>
                  <a:pt x="100" y="1201"/>
                </a:lnTo>
                <a:lnTo>
                  <a:pt x="98" y="1205"/>
                </a:lnTo>
                <a:lnTo>
                  <a:pt x="96" y="1209"/>
                </a:lnTo>
                <a:lnTo>
                  <a:pt x="90" y="1219"/>
                </a:lnTo>
                <a:lnTo>
                  <a:pt x="86" y="1226"/>
                </a:lnTo>
                <a:lnTo>
                  <a:pt x="83" y="1234"/>
                </a:lnTo>
                <a:lnTo>
                  <a:pt x="77" y="1238"/>
                </a:lnTo>
                <a:lnTo>
                  <a:pt x="73" y="1244"/>
                </a:lnTo>
                <a:lnTo>
                  <a:pt x="67" y="1248"/>
                </a:lnTo>
                <a:lnTo>
                  <a:pt x="63" y="1249"/>
                </a:lnTo>
                <a:lnTo>
                  <a:pt x="58" y="1249"/>
                </a:lnTo>
                <a:lnTo>
                  <a:pt x="54" y="1249"/>
                </a:lnTo>
                <a:lnTo>
                  <a:pt x="48" y="1249"/>
                </a:lnTo>
                <a:lnTo>
                  <a:pt x="44" y="1248"/>
                </a:lnTo>
                <a:lnTo>
                  <a:pt x="40" y="1244"/>
                </a:lnTo>
                <a:lnTo>
                  <a:pt x="35" y="1240"/>
                </a:lnTo>
                <a:lnTo>
                  <a:pt x="31" y="1236"/>
                </a:lnTo>
                <a:lnTo>
                  <a:pt x="25" y="1228"/>
                </a:lnTo>
                <a:lnTo>
                  <a:pt x="21" y="1223"/>
                </a:lnTo>
                <a:lnTo>
                  <a:pt x="17" y="1215"/>
                </a:lnTo>
                <a:lnTo>
                  <a:pt x="14" y="1207"/>
                </a:lnTo>
                <a:lnTo>
                  <a:pt x="10" y="1198"/>
                </a:lnTo>
                <a:lnTo>
                  <a:pt x="8" y="1188"/>
                </a:lnTo>
                <a:lnTo>
                  <a:pt x="6" y="1177"/>
                </a:lnTo>
                <a:lnTo>
                  <a:pt x="4" y="1167"/>
                </a:lnTo>
                <a:lnTo>
                  <a:pt x="2" y="1154"/>
                </a:lnTo>
                <a:lnTo>
                  <a:pt x="2" y="1142"/>
                </a:lnTo>
                <a:lnTo>
                  <a:pt x="0" y="1127"/>
                </a:lnTo>
                <a:lnTo>
                  <a:pt x="0" y="1113"/>
                </a:lnTo>
                <a:lnTo>
                  <a:pt x="2" y="1096"/>
                </a:lnTo>
                <a:lnTo>
                  <a:pt x="2" y="1081"/>
                </a:lnTo>
                <a:lnTo>
                  <a:pt x="4" y="1061"/>
                </a:lnTo>
                <a:lnTo>
                  <a:pt x="4" y="1042"/>
                </a:lnTo>
                <a:lnTo>
                  <a:pt x="6" y="1023"/>
                </a:lnTo>
                <a:lnTo>
                  <a:pt x="10" y="1002"/>
                </a:lnTo>
                <a:lnTo>
                  <a:pt x="10" y="990"/>
                </a:lnTo>
                <a:lnTo>
                  <a:pt x="12" y="977"/>
                </a:lnTo>
                <a:lnTo>
                  <a:pt x="12" y="964"/>
                </a:lnTo>
                <a:lnTo>
                  <a:pt x="14" y="948"/>
                </a:lnTo>
                <a:lnTo>
                  <a:pt x="14" y="931"/>
                </a:lnTo>
                <a:lnTo>
                  <a:pt x="14" y="914"/>
                </a:lnTo>
                <a:lnTo>
                  <a:pt x="15" y="894"/>
                </a:lnTo>
                <a:lnTo>
                  <a:pt x="15" y="873"/>
                </a:lnTo>
                <a:lnTo>
                  <a:pt x="15" y="852"/>
                </a:lnTo>
                <a:lnTo>
                  <a:pt x="17" y="829"/>
                </a:lnTo>
                <a:lnTo>
                  <a:pt x="17" y="806"/>
                </a:lnTo>
                <a:lnTo>
                  <a:pt x="17" y="781"/>
                </a:lnTo>
                <a:lnTo>
                  <a:pt x="19" y="754"/>
                </a:lnTo>
                <a:lnTo>
                  <a:pt x="19" y="726"/>
                </a:lnTo>
                <a:lnTo>
                  <a:pt x="19" y="697"/>
                </a:lnTo>
                <a:lnTo>
                  <a:pt x="19" y="666"/>
                </a:lnTo>
                <a:lnTo>
                  <a:pt x="19" y="635"/>
                </a:lnTo>
                <a:lnTo>
                  <a:pt x="19" y="601"/>
                </a:lnTo>
                <a:lnTo>
                  <a:pt x="19" y="566"/>
                </a:lnTo>
                <a:lnTo>
                  <a:pt x="21" y="532"/>
                </a:lnTo>
                <a:lnTo>
                  <a:pt x="21" y="495"/>
                </a:lnTo>
                <a:lnTo>
                  <a:pt x="21" y="457"/>
                </a:lnTo>
                <a:lnTo>
                  <a:pt x="21" y="417"/>
                </a:lnTo>
                <a:lnTo>
                  <a:pt x="21" y="376"/>
                </a:lnTo>
                <a:lnTo>
                  <a:pt x="21" y="334"/>
                </a:lnTo>
                <a:lnTo>
                  <a:pt x="21" y="290"/>
                </a:lnTo>
                <a:lnTo>
                  <a:pt x="21" y="246"/>
                </a:lnTo>
                <a:lnTo>
                  <a:pt x="21" y="198"/>
                </a:lnTo>
                <a:lnTo>
                  <a:pt x="21" y="152"/>
                </a:lnTo>
                <a:lnTo>
                  <a:pt x="21" y="102"/>
                </a:lnTo>
                <a:lnTo>
                  <a:pt x="21" y="52"/>
                </a:lnTo>
                <a:lnTo>
                  <a:pt x="21" y="0"/>
                </a:lnTo>
                <a:lnTo>
                  <a:pt x="40" y="18"/>
                </a:lnTo>
                <a:lnTo>
                  <a:pt x="60" y="33"/>
                </a:lnTo>
                <a:lnTo>
                  <a:pt x="77" y="48"/>
                </a:lnTo>
                <a:lnTo>
                  <a:pt x="94" y="64"/>
                </a:lnTo>
                <a:lnTo>
                  <a:pt x="108" y="77"/>
                </a:lnTo>
                <a:lnTo>
                  <a:pt x="121" y="90"/>
                </a:lnTo>
                <a:lnTo>
                  <a:pt x="134" y="104"/>
                </a:lnTo>
                <a:lnTo>
                  <a:pt x="144" y="115"/>
                </a:lnTo>
                <a:lnTo>
                  <a:pt x="156" y="127"/>
                </a:lnTo>
                <a:lnTo>
                  <a:pt x="163" y="137"/>
                </a:lnTo>
                <a:lnTo>
                  <a:pt x="171" y="146"/>
                </a:lnTo>
                <a:lnTo>
                  <a:pt x="179" y="156"/>
                </a:lnTo>
                <a:lnTo>
                  <a:pt x="184" y="163"/>
                </a:lnTo>
                <a:lnTo>
                  <a:pt x="188" y="171"/>
                </a:lnTo>
                <a:lnTo>
                  <a:pt x="192" y="177"/>
                </a:lnTo>
                <a:lnTo>
                  <a:pt x="194" y="183"/>
                </a:lnTo>
                <a:lnTo>
                  <a:pt x="194" y="186"/>
                </a:lnTo>
                <a:lnTo>
                  <a:pt x="194" y="192"/>
                </a:lnTo>
                <a:lnTo>
                  <a:pt x="194" y="200"/>
                </a:lnTo>
                <a:lnTo>
                  <a:pt x="192" y="206"/>
                </a:lnTo>
                <a:lnTo>
                  <a:pt x="192" y="213"/>
                </a:lnTo>
                <a:lnTo>
                  <a:pt x="190" y="221"/>
                </a:lnTo>
                <a:lnTo>
                  <a:pt x="188" y="231"/>
                </a:lnTo>
                <a:lnTo>
                  <a:pt x="186" y="238"/>
                </a:lnTo>
                <a:lnTo>
                  <a:pt x="182" y="257"/>
                </a:lnTo>
                <a:lnTo>
                  <a:pt x="179" y="279"/>
                </a:lnTo>
                <a:lnTo>
                  <a:pt x="175" y="302"/>
                </a:lnTo>
                <a:lnTo>
                  <a:pt x="171" y="325"/>
                </a:lnTo>
                <a:lnTo>
                  <a:pt x="165" y="340"/>
                </a:lnTo>
                <a:lnTo>
                  <a:pt x="161" y="357"/>
                </a:lnTo>
                <a:lnTo>
                  <a:pt x="158" y="376"/>
                </a:lnTo>
                <a:lnTo>
                  <a:pt x="154" y="397"/>
                </a:lnTo>
                <a:lnTo>
                  <a:pt x="150" y="421"/>
                </a:lnTo>
                <a:lnTo>
                  <a:pt x="148" y="445"/>
                </a:lnTo>
                <a:lnTo>
                  <a:pt x="144" y="472"/>
                </a:lnTo>
                <a:lnTo>
                  <a:pt x="142" y="501"/>
                </a:lnTo>
                <a:lnTo>
                  <a:pt x="140" y="530"/>
                </a:lnTo>
                <a:lnTo>
                  <a:pt x="138" y="563"/>
                </a:lnTo>
                <a:lnTo>
                  <a:pt x="136" y="597"/>
                </a:lnTo>
                <a:lnTo>
                  <a:pt x="134" y="632"/>
                </a:lnTo>
                <a:lnTo>
                  <a:pt x="134" y="670"/>
                </a:lnTo>
                <a:lnTo>
                  <a:pt x="133" y="708"/>
                </a:lnTo>
                <a:lnTo>
                  <a:pt x="133" y="751"/>
                </a:lnTo>
                <a:lnTo>
                  <a:pt x="133" y="79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100"/>
          <p:cNvSpPr/>
          <p:nvPr/>
        </p:nvSpPr>
        <p:spPr>
          <a:xfrm>
            <a:off x="5626080" y="3301920"/>
            <a:ext cx="1322280" cy="309600"/>
          </a:xfrm>
          <a:custGeom>
            <a:avLst/>
            <a:gdLst/>
            <a:ahLst/>
            <a:rect l="l" t="t" r="r" b="b"/>
            <a:pathLst>
              <a:path w="1666" h="389">
                <a:moveTo>
                  <a:pt x="1660" y="130"/>
                </a:moveTo>
                <a:lnTo>
                  <a:pt x="1659" y="132"/>
                </a:lnTo>
                <a:lnTo>
                  <a:pt x="1655" y="134"/>
                </a:lnTo>
                <a:lnTo>
                  <a:pt x="1651" y="136"/>
                </a:lnTo>
                <a:lnTo>
                  <a:pt x="1647" y="136"/>
                </a:lnTo>
                <a:lnTo>
                  <a:pt x="1641" y="138"/>
                </a:lnTo>
                <a:lnTo>
                  <a:pt x="1636" y="140"/>
                </a:lnTo>
                <a:lnTo>
                  <a:pt x="1630" y="140"/>
                </a:lnTo>
                <a:lnTo>
                  <a:pt x="1622" y="140"/>
                </a:lnTo>
                <a:lnTo>
                  <a:pt x="1614" y="142"/>
                </a:lnTo>
                <a:lnTo>
                  <a:pt x="1605" y="142"/>
                </a:lnTo>
                <a:lnTo>
                  <a:pt x="1597" y="142"/>
                </a:lnTo>
                <a:lnTo>
                  <a:pt x="1586" y="142"/>
                </a:lnTo>
                <a:lnTo>
                  <a:pt x="1574" y="142"/>
                </a:lnTo>
                <a:lnTo>
                  <a:pt x="1563" y="142"/>
                </a:lnTo>
                <a:lnTo>
                  <a:pt x="1551" y="142"/>
                </a:lnTo>
                <a:lnTo>
                  <a:pt x="1538" y="142"/>
                </a:lnTo>
                <a:lnTo>
                  <a:pt x="1522" y="144"/>
                </a:lnTo>
                <a:lnTo>
                  <a:pt x="1507" y="146"/>
                </a:lnTo>
                <a:lnTo>
                  <a:pt x="1492" y="147"/>
                </a:lnTo>
                <a:lnTo>
                  <a:pt x="1476" y="149"/>
                </a:lnTo>
                <a:lnTo>
                  <a:pt x="1459" y="151"/>
                </a:lnTo>
                <a:lnTo>
                  <a:pt x="1442" y="153"/>
                </a:lnTo>
                <a:lnTo>
                  <a:pt x="1424" y="153"/>
                </a:lnTo>
                <a:lnTo>
                  <a:pt x="1405" y="155"/>
                </a:lnTo>
                <a:lnTo>
                  <a:pt x="1386" y="157"/>
                </a:lnTo>
                <a:lnTo>
                  <a:pt x="1365" y="157"/>
                </a:lnTo>
                <a:lnTo>
                  <a:pt x="1344" y="159"/>
                </a:lnTo>
                <a:lnTo>
                  <a:pt x="1323" y="161"/>
                </a:lnTo>
                <a:lnTo>
                  <a:pt x="1300" y="163"/>
                </a:lnTo>
                <a:lnTo>
                  <a:pt x="1277" y="163"/>
                </a:lnTo>
                <a:lnTo>
                  <a:pt x="1252" y="167"/>
                </a:lnTo>
                <a:lnTo>
                  <a:pt x="1227" y="169"/>
                </a:lnTo>
                <a:lnTo>
                  <a:pt x="1200" y="170"/>
                </a:lnTo>
                <a:lnTo>
                  <a:pt x="1173" y="174"/>
                </a:lnTo>
                <a:lnTo>
                  <a:pt x="1144" y="178"/>
                </a:lnTo>
                <a:lnTo>
                  <a:pt x="1113" y="182"/>
                </a:lnTo>
                <a:lnTo>
                  <a:pt x="1081" y="188"/>
                </a:lnTo>
                <a:lnTo>
                  <a:pt x="1048" y="193"/>
                </a:lnTo>
                <a:lnTo>
                  <a:pt x="1012" y="199"/>
                </a:lnTo>
                <a:lnTo>
                  <a:pt x="975" y="207"/>
                </a:lnTo>
                <a:lnTo>
                  <a:pt x="939" y="215"/>
                </a:lnTo>
                <a:lnTo>
                  <a:pt x="898" y="222"/>
                </a:lnTo>
                <a:lnTo>
                  <a:pt x="858" y="232"/>
                </a:lnTo>
                <a:lnTo>
                  <a:pt x="816" y="241"/>
                </a:lnTo>
                <a:lnTo>
                  <a:pt x="772" y="251"/>
                </a:lnTo>
                <a:lnTo>
                  <a:pt x="725" y="263"/>
                </a:lnTo>
                <a:lnTo>
                  <a:pt x="679" y="272"/>
                </a:lnTo>
                <a:lnTo>
                  <a:pt x="631" y="286"/>
                </a:lnTo>
                <a:lnTo>
                  <a:pt x="606" y="291"/>
                </a:lnTo>
                <a:lnTo>
                  <a:pt x="583" y="297"/>
                </a:lnTo>
                <a:lnTo>
                  <a:pt x="560" y="303"/>
                </a:lnTo>
                <a:lnTo>
                  <a:pt x="539" y="309"/>
                </a:lnTo>
                <a:lnTo>
                  <a:pt x="518" y="314"/>
                </a:lnTo>
                <a:lnTo>
                  <a:pt x="497" y="320"/>
                </a:lnTo>
                <a:lnTo>
                  <a:pt x="476" y="324"/>
                </a:lnTo>
                <a:lnTo>
                  <a:pt x="457" y="330"/>
                </a:lnTo>
                <a:lnTo>
                  <a:pt x="439" y="334"/>
                </a:lnTo>
                <a:lnTo>
                  <a:pt x="420" y="339"/>
                </a:lnTo>
                <a:lnTo>
                  <a:pt x="403" y="343"/>
                </a:lnTo>
                <a:lnTo>
                  <a:pt x="386" y="347"/>
                </a:lnTo>
                <a:lnTo>
                  <a:pt x="370" y="351"/>
                </a:lnTo>
                <a:lnTo>
                  <a:pt x="355" y="355"/>
                </a:lnTo>
                <a:lnTo>
                  <a:pt x="340" y="358"/>
                </a:lnTo>
                <a:lnTo>
                  <a:pt x="326" y="362"/>
                </a:lnTo>
                <a:lnTo>
                  <a:pt x="313" y="366"/>
                </a:lnTo>
                <a:lnTo>
                  <a:pt x="299" y="368"/>
                </a:lnTo>
                <a:lnTo>
                  <a:pt x="288" y="372"/>
                </a:lnTo>
                <a:lnTo>
                  <a:pt x="276" y="374"/>
                </a:lnTo>
                <a:lnTo>
                  <a:pt x="267" y="376"/>
                </a:lnTo>
                <a:lnTo>
                  <a:pt x="257" y="378"/>
                </a:lnTo>
                <a:lnTo>
                  <a:pt x="247" y="380"/>
                </a:lnTo>
                <a:lnTo>
                  <a:pt x="240" y="382"/>
                </a:lnTo>
                <a:lnTo>
                  <a:pt x="232" y="383"/>
                </a:lnTo>
                <a:lnTo>
                  <a:pt x="224" y="385"/>
                </a:lnTo>
                <a:lnTo>
                  <a:pt x="219" y="387"/>
                </a:lnTo>
                <a:lnTo>
                  <a:pt x="213" y="387"/>
                </a:lnTo>
                <a:lnTo>
                  <a:pt x="207" y="387"/>
                </a:lnTo>
                <a:lnTo>
                  <a:pt x="203" y="389"/>
                </a:lnTo>
                <a:lnTo>
                  <a:pt x="199" y="389"/>
                </a:lnTo>
                <a:lnTo>
                  <a:pt x="198" y="389"/>
                </a:lnTo>
                <a:lnTo>
                  <a:pt x="188" y="389"/>
                </a:lnTo>
                <a:lnTo>
                  <a:pt x="176" y="387"/>
                </a:lnTo>
                <a:lnTo>
                  <a:pt x="165" y="383"/>
                </a:lnTo>
                <a:lnTo>
                  <a:pt x="151" y="380"/>
                </a:lnTo>
                <a:lnTo>
                  <a:pt x="136" y="374"/>
                </a:lnTo>
                <a:lnTo>
                  <a:pt x="121" y="368"/>
                </a:lnTo>
                <a:lnTo>
                  <a:pt x="103" y="360"/>
                </a:lnTo>
                <a:lnTo>
                  <a:pt x="86" y="351"/>
                </a:lnTo>
                <a:lnTo>
                  <a:pt x="75" y="345"/>
                </a:lnTo>
                <a:lnTo>
                  <a:pt x="65" y="341"/>
                </a:lnTo>
                <a:lnTo>
                  <a:pt x="55" y="335"/>
                </a:lnTo>
                <a:lnTo>
                  <a:pt x="46" y="330"/>
                </a:lnTo>
                <a:lnTo>
                  <a:pt x="38" y="326"/>
                </a:lnTo>
                <a:lnTo>
                  <a:pt x="30" y="320"/>
                </a:lnTo>
                <a:lnTo>
                  <a:pt x="25" y="316"/>
                </a:lnTo>
                <a:lnTo>
                  <a:pt x="19" y="311"/>
                </a:lnTo>
                <a:lnTo>
                  <a:pt x="15" y="307"/>
                </a:lnTo>
                <a:lnTo>
                  <a:pt x="9" y="301"/>
                </a:lnTo>
                <a:lnTo>
                  <a:pt x="7" y="297"/>
                </a:lnTo>
                <a:lnTo>
                  <a:pt x="4" y="291"/>
                </a:lnTo>
                <a:lnTo>
                  <a:pt x="2" y="288"/>
                </a:lnTo>
                <a:lnTo>
                  <a:pt x="0" y="282"/>
                </a:lnTo>
                <a:lnTo>
                  <a:pt x="0" y="278"/>
                </a:lnTo>
                <a:lnTo>
                  <a:pt x="0" y="272"/>
                </a:lnTo>
                <a:lnTo>
                  <a:pt x="0" y="270"/>
                </a:lnTo>
                <a:lnTo>
                  <a:pt x="0" y="266"/>
                </a:lnTo>
                <a:lnTo>
                  <a:pt x="2" y="264"/>
                </a:lnTo>
                <a:lnTo>
                  <a:pt x="4" y="263"/>
                </a:lnTo>
                <a:lnTo>
                  <a:pt x="6" y="261"/>
                </a:lnTo>
                <a:lnTo>
                  <a:pt x="9" y="259"/>
                </a:lnTo>
                <a:lnTo>
                  <a:pt x="13" y="257"/>
                </a:lnTo>
                <a:lnTo>
                  <a:pt x="19" y="255"/>
                </a:lnTo>
                <a:lnTo>
                  <a:pt x="25" y="253"/>
                </a:lnTo>
                <a:lnTo>
                  <a:pt x="30" y="251"/>
                </a:lnTo>
                <a:lnTo>
                  <a:pt x="38" y="249"/>
                </a:lnTo>
                <a:lnTo>
                  <a:pt x="46" y="249"/>
                </a:lnTo>
                <a:lnTo>
                  <a:pt x="55" y="247"/>
                </a:lnTo>
                <a:lnTo>
                  <a:pt x="65" y="247"/>
                </a:lnTo>
                <a:lnTo>
                  <a:pt x="75" y="245"/>
                </a:lnTo>
                <a:lnTo>
                  <a:pt x="86" y="245"/>
                </a:lnTo>
                <a:lnTo>
                  <a:pt x="90" y="245"/>
                </a:lnTo>
                <a:lnTo>
                  <a:pt x="98" y="245"/>
                </a:lnTo>
                <a:lnTo>
                  <a:pt x="105" y="245"/>
                </a:lnTo>
                <a:lnTo>
                  <a:pt x="113" y="243"/>
                </a:lnTo>
                <a:lnTo>
                  <a:pt x="123" y="243"/>
                </a:lnTo>
                <a:lnTo>
                  <a:pt x="134" y="241"/>
                </a:lnTo>
                <a:lnTo>
                  <a:pt x="146" y="241"/>
                </a:lnTo>
                <a:lnTo>
                  <a:pt x="157" y="240"/>
                </a:lnTo>
                <a:lnTo>
                  <a:pt x="171" y="238"/>
                </a:lnTo>
                <a:lnTo>
                  <a:pt x="186" y="234"/>
                </a:lnTo>
                <a:lnTo>
                  <a:pt x="203" y="232"/>
                </a:lnTo>
                <a:lnTo>
                  <a:pt x="219" y="230"/>
                </a:lnTo>
                <a:lnTo>
                  <a:pt x="238" y="226"/>
                </a:lnTo>
                <a:lnTo>
                  <a:pt x="257" y="222"/>
                </a:lnTo>
                <a:lnTo>
                  <a:pt x="276" y="220"/>
                </a:lnTo>
                <a:lnTo>
                  <a:pt x="297" y="217"/>
                </a:lnTo>
                <a:lnTo>
                  <a:pt x="320" y="213"/>
                </a:lnTo>
                <a:lnTo>
                  <a:pt x="343" y="207"/>
                </a:lnTo>
                <a:lnTo>
                  <a:pt x="368" y="203"/>
                </a:lnTo>
                <a:lnTo>
                  <a:pt x="393" y="197"/>
                </a:lnTo>
                <a:lnTo>
                  <a:pt x="420" y="193"/>
                </a:lnTo>
                <a:lnTo>
                  <a:pt x="447" y="188"/>
                </a:lnTo>
                <a:lnTo>
                  <a:pt x="476" y="182"/>
                </a:lnTo>
                <a:lnTo>
                  <a:pt x="507" y="176"/>
                </a:lnTo>
                <a:lnTo>
                  <a:pt x="537" y="169"/>
                </a:lnTo>
                <a:lnTo>
                  <a:pt x="568" y="163"/>
                </a:lnTo>
                <a:lnTo>
                  <a:pt x="601" y="155"/>
                </a:lnTo>
                <a:lnTo>
                  <a:pt x="635" y="149"/>
                </a:lnTo>
                <a:lnTo>
                  <a:pt x="670" y="142"/>
                </a:lnTo>
                <a:lnTo>
                  <a:pt x="706" y="132"/>
                </a:lnTo>
                <a:lnTo>
                  <a:pt x="743" y="124"/>
                </a:lnTo>
                <a:lnTo>
                  <a:pt x="781" y="117"/>
                </a:lnTo>
                <a:lnTo>
                  <a:pt x="818" y="109"/>
                </a:lnTo>
                <a:lnTo>
                  <a:pt x="854" y="101"/>
                </a:lnTo>
                <a:lnTo>
                  <a:pt x="891" y="96"/>
                </a:lnTo>
                <a:lnTo>
                  <a:pt x="925" y="88"/>
                </a:lnTo>
                <a:lnTo>
                  <a:pt x="958" y="82"/>
                </a:lnTo>
                <a:lnTo>
                  <a:pt x="990" y="76"/>
                </a:lnTo>
                <a:lnTo>
                  <a:pt x="1023" y="71"/>
                </a:lnTo>
                <a:lnTo>
                  <a:pt x="1052" y="65"/>
                </a:lnTo>
                <a:lnTo>
                  <a:pt x="1083" y="59"/>
                </a:lnTo>
                <a:lnTo>
                  <a:pt x="1109" y="53"/>
                </a:lnTo>
                <a:lnTo>
                  <a:pt x="1138" y="50"/>
                </a:lnTo>
                <a:lnTo>
                  <a:pt x="1163" y="44"/>
                </a:lnTo>
                <a:lnTo>
                  <a:pt x="1188" y="40"/>
                </a:lnTo>
                <a:lnTo>
                  <a:pt x="1213" y="36"/>
                </a:lnTo>
                <a:lnTo>
                  <a:pt x="1236" y="32"/>
                </a:lnTo>
                <a:lnTo>
                  <a:pt x="1257" y="28"/>
                </a:lnTo>
                <a:lnTo>
                  <a:pt x="1278" y="25"/>
                </a:lnTo>
                <a:lnTo>
                  <a:pt x="1300" y="21"/>
                </a:lnTo>
                <a:lnTo>
                  <a:pt x="1319" y="17"/>
                </a:lnTo>
                <a:lnTo>
                  <a:pt x="1336" y="15"/>
                </a:lnTo>
                <a:lnTo>
                  <a:pt x="1353" y="13"/>
                </a:lnTo>
                <a:lnTo>
                  <a:pt x="1369" y="9"/>
                </a:lnTo>
                <a:lnTo>
                  <a:pt x="1384" y="7"/>
                </a:lnTo>
                <a:lnTo>
                  <a:pt x="1397" y="5"/>
                </a:lnTo>
                <a:lnTo>
                  <a:pt x="1411" y="4"/>
                </a:lnTo>
                <a:lnTo>
                  <a:pt x="1422" y="4"/>
                </a:lnTo>
                <a:lnTo>
                  <a:pt x="1434" y="2"/>
                </a:lnTo>
                <a:lnTo>
                  <a:pt x="1444" y="2"/>
                </a:lnTo>
                <a:lnTo>
                  <a:pt x="1453" y="0"/>
                </a:lnTo>
                <a:lnTo>
                  <a:pt x="1461" y="0"/>
                </a:lnTo>
                <a:lnTo>
                  <a:pt x="1468" y="0"/>
                </a:lnTo>
                <a:lnTo>
                  <a:pt x="1476" y="0"/>
                </a:lnTo>
                <a:lnTo>
                  <a:pt x="1497" y="0"/>
                </a:lnTo>
                <a:lnTo>
                  <a:pt x="1518" y="2"/>
                </a:lnTo>
                <a:lnTo>
                  <a:pt x="1540" y="5"/>
                </a:lnTo>
                <a:lnTo>
                  <a:pt x="1559" y="11"/>
                </a:lnTo>
                <a:lnTo>
                  <a:pt x="1568" y="13"/>
                </a:lnTo>
                <a:lnTo>
                  <a:pt x="1576" y="17"/>
                </a:lnTo>
                <a:lnTo>
                  <a:pt x="1586" y="21"/>
                </a:lnTo>
                <a:lnTo>
                  <a:pt x="1593" y="27"/>
                </a:lnTo>
                <a:lnTo>
                  <a:pt x="1601" y="32"/>
                </a:lnTo>
                <a:lnTo>
                  <a:pt x="1609" y="38"/>
                </a:lnTo>
                <a:lnTo>
                  <a:pt x="1616" y="44"/>
                </a:lnTo>
                <a:lnTo>
                  <a:pt x="1624" y="51"/>
                </a:lnTo>
                <a:lnTo>
                  <a:pt x="1630" y="59"/>
                </a:lnTo>
                <a:lnTo>
                  <a:pt x="1637" y="65"/>
                </a:lnTo>
                <a:lnTo>
                  <a:pt x="1641" y="73"/>
                </a:lnTo>
                <a:lnTo>
                  <a:pt x="1647" y="78"/>
                </a:lnTo>
                <a:lnTo>
                  <a:pt x="1651" y="84"/>
                </a:lnTo>
                <a:lnTo>
                  <a:pt x="1655" y="90"/>
                </a:lnTo>
                <a:lnTo>
                  <a:pt x="1659" y="96"/>
                </a:lnTo>
                <a:lnTo>
                  <a:pt x="1660" y="99"/>
                </a:lnTo>
                <a:lnTo>
                  <a:pt x="1662" y="105"/>
                </a:lnTo>
                <a:lnTo>
                  <a:pt x="1664" y="109"/>
                </a:lnTo>
                <a:lnTo>
                  <a:pt x="1666" y="113"/>
                </a:lnTo>
                <a:lnTo>
                  <a:pt x="1666" y="117"/>
                </a:lnTo>
                <a:lnTo>
                  <a:pt x="1666" y="121"/>
                </a:lnTo>
                <a:lnTo>
                  <a:pt x="1664" y="124"/>
                </a:lnTo>
                <a:lnTo>
                  <a:pt x="1662" y="126"/>
                </a:lnTo>
                <a:lnTo>
                  <a:pt x="1660" y="13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01"/>
          <p:cNvSpPr/>
          <p:nvPr/>
        </p:nvSpPr>
        <p:spPr>
          <a:xfrm>
            <a:off x="7010280" y="2997360"/>
            <a:ext cx="174600" cy="768240"/>
          </a:xfrm>
          <a:custGeom>
            <a:avLst/>
            <a:gdLst/>
            <a:ahLst/>
            <a:rect l="l" t="t" r="r" b="b"/>
            <a:pathLst>
              <a:path w="221" h="969">
                <a:moveTo>
                  <a:pt x="192" y="501"/>
                </a:moveTo>
                <a:lnTo>
                  <a:pt x="192" y="528"/>
                </a:lnTo>
                <a:lnTo>
                  <a:pt x="190" y="553"/>
                </a:lnTo>
                <a:lnTo>
                  <a:pt x="190" y="577"/>
                </a:lnTo>
                <a:lnTo>
                  <a:pt x="190" y="602"/>
                </a:lnTo>
                <a:lnTo>
                  <a:pt x="190" y="625"/>
                </a:lnTo>
                <a:lnTo>
                  <a:pt x="190" y="650"/>
                </a:lnTo>
                <a:lnTo>
                  <a:pt x="190" y="672"/>
                </a:lnTo>
                <a:lnTo>
                  <a:pt x="190" y="695"/>
                </a:lnTo>
                <a:lnTo>
                  <a:pt x="188" y="714"/>
                </a:lnTo>
                <a:lnTo>
                  <a:pt x="188" y="735"/>
                </a:lnTo>
                <a:lnTo>
                  <a:pt x="186" y="754"/>
                </a:lnTo>
                <a:lnTo>
                  <a:pt x="186" y="773"/>
                </a:lnTo>
                <a:lnTo>
                  <a:pt x="184" y="790"/>
                </a:lnTo>
                <a:lnTo>
                  <a:pt x="182" y="808"/>
                </a:lnTo>
                <a:lnTo>
                  <a:pt x="181" y="823"/>
                </a:lnTo>
                <a:lnTo>
                  <a:pt x="179" y="838"/>
                </a:lnTo>
                <a:lnTo>
                  <a:pt x="177" y="854"/>
                </a:lnTo>
                <a:lnTo>
                  <a:pt x="173" y="869"/>
                </a:lnTo>
                <a:lnTo>
                  <a:pt x="171" y="884"/>
                </a:lnTo>
                <a:lnTo>
                  <a:pt x="167" y="896"/>
                </a:lnTo>
                <a:lnTo>
                  <a:pt x="163" y="909"/>
                </a:lnTo>
                <a:lnTo>
                  <a:pt x="159" y="919"/>
                </a:lnTo>
                <a:lnTo>
                  <a:pt x="156" y="929"/>
                </a:lnTo>
                <a:lnTo>
                  <a:pt x="152" y="938"/>
                </a:lnTo>
                <a:lnTo>
                  <a:pt x="148" y="944"/>
                </a:lnTo>
                <a:lnTo>
                  <a:pt x="144" y="952"/>
                </a:lnTo>
                <a:lnTo>
                  <a:pt x="140" y="955"/>
                </a:lnTo>
                <a:lnTo>
                  <a:pt x="134" y="961"/>
                </a:lnTo>
                <a:lnTo>
                  <a:pt x="131" y="963"/>
                </a:lnTo>
                <a:lnTo>
                  <a:pt x="127" y="967"/>
                </a:lnTo>
                <a:lnTo>
                  <a:pt x="121" y="967"/>
                </a:lnTo>
                <a:lnTo>
                  <a:pt x="117" y="969"/>
                </a:lnTo>
                <a:lnTo>
                  <a:pt x="113" y="967"/>
                </a:lnTo>
                <a:lnTo>
                  <a:pt x="109" y="967"/>
                </a:lnTo>
                <a:lnTo>
                  <a:pt x="108" y="965"/>
                </a:lnTo>
                <a:lnTo>
                  <a:pt x="104" y="961"/>
                </a:lnTo>
                <a:lnTo>
                  <a:pt x="100" y="957"/>
                </a:lnTo>
                <a:lnTo>
                  <a:pt x="98" y="954"/>
                </a:lnTo>
                <a:lnTo>
                  <a:pt x="96" y="948"/>
                </a:lnTo>
                <a:lnTo>
                  <a:pt x="92" y="942"/>
                </a:lnTo>
                <a:lnTo>
                  <a:pt x="90" y="934"/>
                </a:lnTo>
                <a:lnTo>
                  <a:pt x="88" y="927"/>
                </a:lnTo>
                <a:lnTo>
                  <a:pt x="86" y="917"/>
                </a:lnTo>
                <a:lnTo>
                  <a:pt x="85" y="908"/>
                </a:lnTo>
                <a:lnTo>
                  <a:pt x="83" y="898"/>
                </a:lnTo>
                <a:lnTo>
                  <a:pt x="81" y="886"/>
                </a:lnTo>
                <a:lnTo>
                  <a:pt x="79" y="875"/>
                </a:lnTo>
                <a:lnTo>
                  <a:pt x="77" y="861"/>
                </a:lnTo>
                <a:lnTo>
                  <a:pt x="75" y="848"/>
                </a:lnTo>
                <a:lnTo>
                  <a:pt x="73" y="833"/>
                </a:lnTo>
                <a:lnTo>
                  <a:pt x="71" y="817"/>
                </a:lnTo>
                <a:lnTo>
                  <a:pt x="69" y="800"/>
                </a:lnTo>
                <a:lnTo>
                  <a:pt x="69" y="783"/>
                </a:lnTo>
                <a:lnTo>
                  <a:pt x="67" y="766"/>
                </a:lnTo>
                <a:lnTo>
                  <a:pt x="65" y="746"/>
                </a:lnTo>
                <a:lnTo>
                  <a:pt x="63" y="727"/>
                </a:lnTo>
                <a:lnTo>
                  <a:pt x="63" y="706"/>
                </a:lnTo>
                <a:lnTo>
                  <a:pt x="61" y="685"/>
                </a:lnTo>
                <a:lnTo>
                  <a:pt x="60" y="662"/>
                </a:lnTo>
                <a:lnTo>
                  <a:pt x="60" y="639"/>
                </a:lnTo>
                <a:lnTo>
                  <a:pt x="58" y="616"/>
                </a:lnTo>
                <a:lnTo>
                  <a:pt x="58" y="591"/>
                </a:lnTo>
                <a:lnTo>
                  <a:pt x="56" y="566"/>
                </a:lnTo>
                <a:lnTo>
                  <a:pt x="54" y="539"/>
                </a:lnTo>
                <a:lnTo>
                  <a:pt x="54" y="514"/>
                </a:lnTo>
                <a:lnTo>
                  <a:pt x="52" y="489"/>
                </a:lnTo>
                <a:lnTo>
                  <a:pt x="52" y="466"/>
                </a:lnTo>
                <a:lnTo>
                  <a:pt x="50" y="443"/>
                </a:lnTo>
                <a:lnTo>
                  <a:pt x="48" y="420"/>
                </a:lnTo>
                <a:lnTo>
                  <a:pt x="48" y="399"/>
                </a:lnTo>
                <a:lnTo>
                  <a:pt x="46" y="378"/>
                </a:lnTo>
                <a:lnTo>
                  <a:pt x="46" y="357"/>
                </a:lnTo>
                <a:lnTo>
                  <a:pt x="44" y="338"/>
                </a:lnTo>
                <a:lnTo>
                  <a:pt x="42" y="318"/>
                </a:lnTo>
                <a:lnTo>
                  <a:pt x="42" y="299"/>
                </a:lnTo>
                <a:lnTo>
                  <a:pt x="40" y="282"/>
                </a:lnTo>
                <a:lnTo>
                  <a:pt x="40" y="267"/>
                </a:lnTo>
                <a:lnTo>
                  <a:pt x="38" y="249"/>
                </a:lnTo>
                <a:lnTo>
                  <a:pt x="37" y="236"/>
                </a:lnTo>
                <a:lnTo>
                  <a:pt x="37" y="221"/>
                </a:lnTo>
                <a:lnTo>
                  <a:pt x="35" y="207"/>
                </a:lnTo>
                <a:lnTo>
                  <a:pt x="35" y="194"/>
                </a:lnTo>
                <a:lnTo>
                  <a:pt x="33" y="182"/>
                </a:lnTo>
                <a:lnTo>
                  <a:pt x="31" y="171"/>
                </a:lnTo>
                <a:lnTo>
                  <a:pt x="31" y="161"/>
                </a:lnTo>
                <a:lnTo>
                  <a:pt x="29" y="150"/>
                </a:lnTo>
                <a:lnTo>
                  <a:pt x="27" y="142"/>
                </a:lnTo>
                <a:lnTo>
                  <a:pt x="27" y="134"/>
                </a:lnTo>
                <a:lnTo>
                  <a:pt x="25" y="127"/>
                </a:lnTo>
                <a:lnTo>
                  <a:pt x="25" y="119"/>
                </a:lnTo>
                <a:lnTo>
                  <a:pt x="23" y="113"/>
                </a:lnTo>
                <a:lnTo>
                  <a:pt x="21" y="109"/>
                </a:lnTo>
                <a:lnTo>
                  <a:pt x="21" y="105"/>
                </a:lnTo>
                <a:lnTo>
                  <a:pt x="19" y="102"/>
                </a:lnTo>
                <a:lnTo>
                  <a:pt x="19" y="98"/>
                </a:lnTo>
                <a:lnTo>
                  <a:pt x="17" y="98"/>
                </a:lnTo>
                <a:lnTo>
                  <a:pt x="13" y="92"/>
                </a:lnTo>
                <a:lnTo>
                  <a:pt x="8" y="84"/>
                </a:lnTo>
                <a:lnTo>
                  <a:pt x="6" y="77"/>
                </a:lnTo>
                <a:lnTo>
                  <a:pt x="2" y="69"/>
                </a:lnTo>
                <a:lnTo>
                  <a:pt x="0" y="61"/>
                </a:lnTo>
                <a:lnTo>
                  <a:pt x="0" y="52"/>
                </a:lnTo>
                <a:lnTo>
                  <a:pt x="0" y="46"/>
                </a:lnTo>
                <a:lnTo>
                  <a:pt x="2" y="42"/>
                </a:lnTo>
                <a:lnTo>
                  <a:pt x="2" y="36"/>
                </a:lnTo>
                <a:lnTo>
                  <a:pt x="6" y="33"/>
                </a:lnTo>
                <a:lnTo>
                  <a:pt x="6" y="27"/>
                </a:lnTo>
                <a:lnTo>
                  <a:pt x="6" y="23"/>
                </a:lnTo>
                <a:lnTo>
                  <a:pt x="8" y="19"/>
                </a:lnTo>
                <a:lnTo>
                  <a:pt x="10" y="15"/>
                </a:lnTo>
                <a:lnTo>
                  <a:pt x="13" y="11"/>
                </a:lnTo>
                <a:lnTo>
                  <a:pt x="15" y="9"/>
                </a:lnTo>
                <a:lnTo>
                  <a:pt x="21" y="6"/>
                </a:lnTo>
                <a:lnTo>
                  <a:pt x="25" y="4"/>
                </a:lnTo>
                <a:lnTo>
                  <a:pt x="31" y="2"/>
                </a:lnTo>
                <a:lnTo>
                  <a:pt x="37" y="2"/>
                </a:lnTo>
                <a:lnTo>
                  <a:pt x="44" y="2"/>
                </a:lnTo>
                <a:lnTo>
                  <a:pt x="52" y="0"/>
                </a:lnTo>
                <a:lnTo>
                  <a:pt x="61" y="2"/>
                </a:lnTo>
                <a:lnTo>
                  <a:pt x="71" y="2"/>
                </a:lnTo>
                <a:lnTo>
                  <a:pt x="81" y="4"/>
                </a:lnTo>
                <a:lnTo>
                  <a:pt x="92" y="6"/>
                </a:lnTo>
                <a:lnTo>
                  <a:pt x="109" y="11"/>
                </a:lnTo>
                <a:lnTo>
                  <a:pt x="127" y="17"/>
                </a:lnTo>
                <a:lnTo>
                  <a:pt x="142" y="25"/>
                </a:lnTo>
                <a:lnTo>
                  <a:pt x="157" y="33"/>
                </a:lnTo>
                <a:lnTo>
                  <a:pt x="171" y="40"/>
                </a:lnTo>
                <a:lnTo>
                  <a:pt x="182" y="46"/>
                </a:lnTo>
                <a:lnTo>
                  <a:pt x="194" y="52"/>
                </a:lnTo>
                <a:lnTo>
                  <a:pt x="204" y="57"/>
                </a:lnTo>
                <a:lnTo>
                  <a:pt x="207" y="69"/>
                </a:lnTo>
                <a:lnTo>
                  <a:pt x="211" y="80"/>
                </a:lnTo>
                <a:lnTo>
                  <a:pt x="215" y="92"/>
                </a:lnTo>
                <a:lnTo>
                  <a:pt x="219" y="107"/>
                </a:lnTo>
                <a:lnTo>
                  <a:pt x="221" y="123"/>
                </a:lnTo>
                <a:lnTo>
                  <a:pt x="221" y="138"/>
                </a:lnTo>
                <a:lnTo>
                  <a:pt x="221" y="148"/>
                </a:lnTo>
                <a:lnTo>
                  <a:pt x="219" y="155"/>
                </a:lnTo>
                <a:lnTo>
                  <a:pt x="217" y="165"/>
                </a:lnTo>
                <a:lnTo>
                  <a:pt x="215" y="175"/>
                </a:lnTo>
                <a:lnTo>
                  <a:pt x="213" y="188"/>
                </a:lnTo>
                <a:lnTo>
                  <a:pt x="211" y="201"/>
                </a:lnTo>
                <a:lnTo>
                  <a:pt x="209" y="217"/>
                </a:lnTo>
                <a:lnTo>
                  <a:pt x="207" y="232"/>
                </a:lnTo>
                <a:lnTo>
                  <a:pt x="205" y="247"/>
                </a:lnTo>
                <a:lnTo>
                  <a:pt x="204" y="265"/>
                </a:lnTo>
                <a:lnTo>
                  <a:pt x="202" y="284"/>
                </a:lnTo>
                <a:lnTo>
                  <a:pt x="200" y="303"/>
                </a:lnTo>
                <a:lnTo>
                  <a:pt x="198" y="324"/>
                </a:lnTo>
                <a:lnTo>
                  <a:pt x="196" y="345"/>
                </a:lnTo>
                <a:lnTo>
                  <a:pt x="194" y="368"/>
                </a:lnTo>
                <a:lnTo>
                  <a:pt x="194" y="393"/>
                </a:lnTo>
                <a:lnTo>
                  <a:pt x="192" y="418"/>
                </a:lnTo>
                <a:lnTo>
                  <a:pt x="192" y="445"/>
                </a:lnTo>
                <a:lnTo>
                  <a:pt x="192" y="472"/>
                </a:lnTo>
                <a:lnTo>
                  <a:pt x="192" y="50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102"/>
          <p:cNvSpPr/>
          <p:nvPr/>
        </p:nvSpPr>
        <p:spPr>
          <a:xfrm>
            <a:off x="7210440" y="2698920"/>
            <a:ext cx="365040" cy="1428480"/>
          </a:xfrm>
          <a:custGeom>
            <a:avLst/>
            <a:gdLst/>
            <a:ahLst/>
            <a:rect l="l" t="t" r="r" b="b"/>
            <a:pathLst>
              <a:path w="459" h="1800">
                <a:moveTo>
                  <a:pt x="421" y="357"/>
                </a:moveTo>
                <a:lnTo>
                  <a:pt x="421" y="364"/>
                </a:lnTo>
                <a:lnTo>
                  <a:pt x="421" y="372"/>
                </a:lnTo>
                <a:lnTo>
                  <a:pt x="421" y="382"/>
                </a:lnTo>
                <a:lnTo>
                  <a:pt x="421" y="393"/>
                </a:lnTo>
                <a:lnTo>
                  <a:pt x="421" y="405"/>
                </a:lnTo>
                <a:lnTo>
                  <a:pt x="421" y="416"/>
                </a:lnTo>
                <a:lnTo>
                  <a:pt x="421" y="430"/>
                </a:lnTo>
                <a:lnTo>
                  <a:pt x="421" y="443"/>
                </a:lnTo>
                <a:lnTo>
                  <a:pt x="421" y="458"/>
                </a:lnTo>
                <a:lnTo>
                  <a:pt x="421" y="474"/>
                </a:lnTo>
                <a:lnTo>
                  <a:pt x="421" y="491"/>
                </a:lnTo>
                <a:lnTo>
                  <a:pt x="421" y="508"/>
                </a:lnTo>
                <a:lnTo>
                  <a:pt x="421" y="527"/>
                </a:lnTo>
                <a:lnTo>
                  <a:pt x="421" y="547"/>
                </a:lnTo>
                <a:lnTo>
                  <a:pt x="421" y="568"/>
                </a:lnTo>
                <a:lnTo>
                  <a:pt x="421" y="589"/>
                </a:lnTo>
                <a:lnTo>
                  <a:pt x="421" y="610"/>
                </a:lnTo>
                <a:lnTo>
                  <a:pt x="421" y="633"/>
                </a:lnTo>
                <a:lnTo>
                  <a:pt x="421" y="658"/>
                </a:lnTo>
                <a:lnTo>
                  <a:pt x="421" y="681"/>
                </a:lnTo>
                <a:lnTo>
                  <a:pt x="421" y="708"/>
                </a:lnTo>
                <a:lnTo>
                  <a:pt x="421" y="735"/>
                </a:lnTo>
                <a:lnTo>
                  <a:pt x="421" y="762"/>
                </a:lnTo>
                <a:lnTo>
                  <a:pt x="421" y="788"/>
                </a:lnTo>
                <a:lnTo>
                  <a:pt x="421" y="819"/>
                </a:lnTo>
                <a:lnTo>
                  <a:pt x="421" y="848"/>
                </a:lnTo>
                <a:lnTo>
                  <a:pt x="421" y="879"/>
                </a:lnTo>
                <a:lnTo>
                  <a:pt x="421" y="911"/>
                </a:lnTo>
                <a:lnTo>
                  <a:pt x="421" y="942"/>
                </a:lnTo>
                <a:lnTo>
                  <a:pt x="421" y="977"/>
                </a:lnTo>
                <a:lnTo>
                  <a:pt x="421" y="1011"/>
                </a:lnTo>
                <a:lnTo>
                  <a:pt x="421" y="1046"/>
                </a:lnTo>
                <a:lnTo>
                  <a:pt x="421" y="1080"/>
                </a:lnTo>
                <a:lnTo>
                  <a:pt x="421" y="1115"/>
                </a:lnTo>
                <a:lnTo>
                  <a:pt x="421" y="1147"/>
                </a:lnTo>
                <a:lnTo>
                  <a:pt x="421" y="1180"/>
                </a:lnTo>
                <a:lnTo>
                  <a:pt x="419" y="1211"/>
                </a:lnTo>
                <a:lnTo>
                  <a:pt x="419" y="1241"/>
                </a:lnTo>
                <a:lnTo>
                  <a:pt x="419" y="1270"/>
                </a:lnTo>
                <a:lnTo>
                  <a:pt x="417" y="1299"/>
                </a:lnTo>
                <a:lnTo>
                  <a:pt x="415" y="1326"/>
                </a:lnTo>
                <a:lnTo>
                  <a:pt x="415" y="1353"/>
                </a:lnTo>
                <a:lnTo>
                  <a:pt x="413" y="1379"/>
                </a:lnTo>
                <a:lnTo>
                  <a:pt x="411" y="1404"/>
                </a:lnTo>
                <a:lnTo>
                  <a:pt x="409" y="1427"/>
                </a:lnTo>
                <a:lnTo>
                  <a:pt x="407" y="1450"/>
                </a:lnTo>
                <a:lnTo>
                  <a:pt x="406" y="1473"/>
                </a:lnTo>
                <a:lnTo>
                  <a:pt x="404" y="1495"/>
                </a:lnTo>
                <a:lnTo>
                  <a:pt x="402" y="1514"/>
                </a:lnTo>
                <a:lnTo>
                  <a:pt x="400" y="1533"/>
                </a:lnTo>
                <a:lnTo>
                  <a:pt x="398" y="1552"/>
                </a:lnTo>
                <a:lnTo>
                  <a:pt x="396" y="1569"/>
                </a:lnTo>
                <a:lnTo>
                  <a:pt x="392" y="1587"/>
                </a:lnTo>
                <a:lnTo>
                  <a:pt x="390" y="1602"/>
                </a:lnTo>
                <a:lnTo>
                  <a:pt x="388" y="1615"/>
                </a:lnTo>
                <a:lnTo>
                  <a:pt x="384" y="1631"/>
                </a:lnTo>
                <a:lnTo>
                  <a:pt x="383" y="1642"/>
                </a:lnTo>
                <a:lnTo>
                  <a:pt x="379" y="1656"/>
                </a:lnTo>
                <a:lnTo>
                  <a:pt x="377" y="1667"/>
                </a:lnTo>
                <a:lnTo>
                  <a:pt x="373" y="1677"/>
                </a:lnTo>
                <a:lnTo>
                  <a:pt x="369" y="1686"/>
                </a:lnTo>
                <a:lnTo>
                  <a:pt x="367" y="1694"/>
                </a:lnTo>
                <a:lnTo>
                  <a:pt x="363" y="1702"/>
                </a:lnTo>
                <a:lnTo>
                  <a:pt x="359" y="1708"/>
                </a:lnTo>
                <a:lnTo>
                  <a:pt x="354" y="1721"/>
                </a:lnTo>
                <a:lnTo>
                  <a:pt x="346" y="1731"/>
                </a:lnTo>
                <a:lnTo>
                  <a:pt x="338" y="1740"/>
                </a:lnTo>
                <a:lnTo>
                  <a:pt x="333" y="1750"/>
                </a:lnTo>
                <a:lnTo>
                  <a:pt x="325" y="1759"/>
                </a:lnTo>
                <a:lnTo>
                  <a:pt x="319" y="1765"/>
                </a:lnTo>
                <a:lnTo>
                  <a:pt x="311" y="1773"/>
                </a:lnTo>
                <a:lnTo>
                  <a:pt x="304" y="1779"/>
                </a:lnTo>
                <a:lnTo>
                  <a:pt x="298" y="1784"/>
                </a:lnTo>
                <a:lnTo>
                  <a:pt x="290" y="1788"/>
                </a:lnTo>
                <a:lnTo>
                  <a:pt x="283" y="1792"/>
                </a:lnTo>
                <a:lnTo>
                  <a:pt x="277" y="1794"/>
                </a:lnTo>
                <a:lnTo>
                  <a:pt x="269" y="1796"/>
                </a:lnTo>
                <a:lnTo>
                  <a:pt x="262" y="1798"/>
                </a:lnTo>
                <a:lnTo>
                  <a:pt x="256" y="1800"/>
                </a:lnTo>
                <a:lnTo>
                  <a:pt x="248" y="1800"/>
                </a:lnTo>
                <a:lnTo>
                  <a:pt x="242" y="1800"/>
                </a:lnTo>
                <a:lnTo>
                  <a:pt x="235" y="1798"/>
                </a:lnTo>
                <a:lnTo>
                  <a:pt x="229" y="1796"/>
                </a:lnTo>
                <a:lnTo>
                  <a:pt x="225" y="1794"/>
                </a:lnTo>
                <a:lnTo>
                  <a:pt x="221" y="1792"/>
                </a:lnTo>
                <a:lnTo>
                  <a:pt x="217" y="1788"/>
                </a:lnTo>
                <a:lnTo>
                  <a:pt x="214" y="1784"/>
                </a:lnTo>
                <a:lnTo>
                  <a:pt x="212" y="1779"/>
                </a:lnTo>
                <a:lnTo>
                  <a:pt x="210" y="1773"/>
                </a:lnTo>
                <a:lnTo>
                  <a:pt x="208" y="1765"/>
                </a:lnTo>
                <a:lnTo>
                  <a:pt x="206" y="1757"/>
                </a:lnTo>
                <a:lnTo>
                  <a:pt x="206" y="1750"/>
                </a:lnTo>
                <a:lnTo>
                  <a:pt x="206" y="1740"/>
                </a:lnTo>
                <a:lnTo>
                  <a:pt x="208" y="1731"/>
                </a:lnTo>
                <a:lnTo>
                  <a:pt x="210" y="1721"/>
                </a:lnTo>
                <a:lnTo>
                  <a:pt x="212" y="1708"/>
                </a:lnTo>
                <a:lnTo>
                  <a:pt x="210" y="1698"/>
                </a:lnTo>
                <a:lnTo>
                  <a:pt x="210" y="1688"/>
                </a:lnTo>
                <a:lnTo>
                  <a:pt x="208" y="1679"/>
                </a:lnTo>
                <a:lnTo>
                  <a:pt x="204" y="1669"/>
                </a:lnTo>
                <a:lnTo>
                  <a:pt x="200" y="1660"/>
                </a:lnTo>
                <a:lnTo>
                  <a:pt x="196" y="1650"/>
                </a:lnTo>
                <a:lnTo>
                  <a:pt x="191" y="1639"/>
                </a:lnTo>
                <a:lnTo>
                  <a:pt x="185" y="1629"/>
                </a:lnTo>
                <a:lnTo>
                  <a:pt x="177" y="1619"/>
                </a:lnTo>
                <a:lnTo>
                  <a:pt x="169" y="1608"/>
                </a:lnTo>
                <a:lnTo>
                  <a:pt x="162" y="1598"/>
                </a:lnTo>
                <a:lnTo>
                  <a:pt x="152" y="1587"/>
                </a:lnTo>
                <a:lnTo>
                  <a:pt x="144" y="1575"/>
                </a:lnTo>
                <a:lnTo>
                  <a:pt x="133" y="1564"/>
                </a:lnTo>
                <a:lnTo>
                  <a:pt x="123" y="1552"/>
                </a:lnTo>
                <a:lnTo>
                  <a:pt x="112" y="1539"/>
                </a:lnTo>
                <a:lnTo>
                  <a:pt x="98" y="1529"/>
                </a:lnTo>
                <a:lnTo>
                  <a:pt x="85" y="1520"/>
                </a:lnTo>
                <a:lnTo>
                  <a:pt x="73" y="1512"/>
                </a:lnTo>
                <a:lnTo>
                  <a:pt x="64" y="1502"/>
                </a:lnTo>
                <a:lnTo>
                  <a:pt x="52" y="1495"/>
                </a:lnTo>
                <a:lnTo>
                  <a:pt x="45" y="1487"/>
                </a:lnTo>
                <a:lnTo>
                  <a:pt x="35" y="1479"/>
                </a:lnTo>
                <a:lnTo>
                  <a:pt x="27" y="1472"/>
                </a:lnTo>
                <a:lnTo>
                  <a:pt x="22" y="1464"/>
                </a:lnTo>
                <a:lnTo>
                  <a:pt x="16" y="1456"/>
                </a:lnTo>
                <a:lnTo>
                  <a:pt x="12" y="1450"/>
                </a:lnTo>
                <a:lnTo>
                  <a:pt x="8" y="1445"/>
                </a:lnTo>
                <a:lnTo>
                  <a:pt x="4" y="1439"/>
                </a:lnTo>
                <a:lnTo>
                  <a:pt x="2" y="1433"/>
                </a:lnTo>
                <a:lnTo>
                  <a:pt x="0" y="1427"/>
                </a:lnTo>
                <a:lnTo>
                  <a:pt x="0" y="1422"/>
                </a:lnTo>
                <a:lnTo>
                  <a:pt x="0" y="1420"/>
                </a:lnTo>
                <a:lnTo>
                  <a:pt x="2" y="1418"/>
                </a:lnTo>
                <a:lnTo>
                  <a:pt x="4" y="1416"/>
                </a:lnTo>
                <a:lnTo>
                  <a:pt x="8" y="1416"/>
                </a:lnTo>
                <a:lnTo>
                  <a:pt x="12" y="1414"/>
                </a:lnTo>
                <a:lnTo>
                  <a:pt x="16" y="1414"/>
                </a:lnTo>
                <a:lnTo>
                  <a:pt x="22" y="1414"/>
                </a:lnTo>
                <a:lnTo>
                  <a:pt x="27" y="1414"/>
                </a:lnTo>
                <a:lnTo>
                  <a:pt x="35" y="1414"/>
                </a:lnTo>
                <a:lnTo>
                  <a:pt x="45" y="1416"/>
                </a:lnTo>
                <a:lnTo>
                  <a:pt x="52" y="1418"/>
                </a:lnTo>
                <a:lnTo>
                  <a:pt x="64" y="1420"/>
                </a:lnTo>
                <a:lnTo>
                  <a:pt x="73" y="1424"/>
                </a:lnTo>
                <a:lnTo>
                  <a:pt x="85" y="1427"/>
                </a:lnTo>
                <a:lnTo>
                  <a:pt x="98" y="1431"/>
                </a:lnTo>
                <a:lnTo>
                  <a:pt x="112" y="1435"/>
                </a:lnTo>
                <a:lnTo>
                  <a:pt x="125" y="1443"/>
                </a:lnTo>
                <a:lnTo>
                  <a:pt x="139" y="1449"/>
                </a:lnTo>
                <a:lnTo>
                  <a:pt x="150" y="1454"/>
                </a:lnTo>
                <a:lnTo>
                  <a:pt x="164" y="1458"/>
                </a:lnTo>
                <a:lnTo>
                  <a:pt x="173" y="1460"/>
                </a:lnTo>
                <a:lnTo>
                  <a:pt x="185" y="1464"/>
                </a:lnTo>
                <a:lnTo>
                  <a:pt x="194" y="1464"/>
                </a:lnTo>
                <a:lnTo>
                  <a:pt x="204" y="1466"/>
                </a:lnTo>
                <a:lnTo>
                  <a:pt x="214" y="1464"/>
                </a:lnTo>
                <a:lnTo>
                  <a:pt x="223" y="1464"/>
                </a:lnTo>
                <a:lnTo>
                  <a:pt x="231" y="1460"/>
                </a:lnTo>
                <a:lnTo>
                  <a:pt x="237" y="1458"/>
                </a:lnTo>
                <a:lnTo>
                  <a:pt x="244" y="1452"/>
                </a:lnTo>
                <a:lnTo>
                  <a:pt x="250" y="1449"/>
                </a:lnTo>
                <a:lnTo>
                  <a:pt x="256" y="1443"/>
                </a:lnTo>
                <a:lnTo>
                  <a:pt x="260" y="1435"/>
                </a:lnTo>
                <a:lnTo>
                  <a:pt x="262" y="1431"/>
                </a:lnTo>
                <a:lnTo>
                  <a:pt x="264" y="1427"/>
                </a:lnTo>
                <a:lnTo>
                  <a:pt x="264" y="1422"/>
                </a:lnTo>
                <a:lnTo>
                  <a:pt x="265" y="1414"/>
                </a:lnTo>
                <a:lnTo>
                  <a:pt x="265" y="1408"/>
                </a:lnTo>
                <a:lnTo>
                  <a:pt x="267" y="1399"/>
                </a:lnTo>
                <a:lnTo>
                  <a:pt x="269" y="1391"/>
                </a:lnTo>
                <a:lnTo>
                  <a:pt x="269" y="1381"/>
                </a:lnTo>
                <a:lnTo>
                  <a:pt x="271" y="1372"/>
                </a:lnTo>
                <a:lnTo>
                  <a:pt x="271" y="1360"/>
                </a:lnTo>
                <a:lnTo>
                  <a:pt x="273" y="1349"/>
                </a:lnTo>
                <a:lnTo>
                  <a:pt x="273" y="1335"/>
                </a:lnTo>
                <a:lnTo>
                  <a:pt x="275" y="1322"/>
                </a:lnTo>
                <a:lnTo>
                  <a:pt x="275" y="1308"/>
                </a:lnTo>
                <a:lnTo>
                  <a:pt x="277" y="1293"/>
                </a:lnTo>
                <a:lnTo>
                  <a:pt x="277" y="1278"/>
                </a:lnTo>
                <a:lnTo>
                  <a:pt x="279" y="1260"/>
                </a:lnTo>
                <a:lnTo>
                  <a:pt x="279" y="1243"/>
                </a:lnTo>
                <a:lnTo>
                  <a:pt x="281" y="1226"/>
                </a:lnTo>
                <a:lnTo>
                  <a:pt x="281" y="1207"/>
                </a:lnTo>
                <a:lnTo>
                  <a:pt x="281" y="1188"/>
                </a:lnTo>
                <a:lnTo>
                  <a:pt x="283" y="1166"/>
                </a:lnTo>
                <a:lnTo>
                  <a:pt x="283" y="1145"/>
                </a:lnTo>
                <a:lnTo>
                  <a:pt x="283" y="1122"/>
                </a:lnTo>
                <a:lnTo>
                  <a:pt x="285" y="1099"/>
                </a:lnTo>
                <a:lnTo>
                  <a:pt x="285" y="1076"/>
                </a:lnTo>
                <a:lnTo>
                  <a:pt x="285" y="1051"/>
                </a:lnTo>
                <a:lnTo>
                  <a:pt x="285" y="1026"/>
                </a:lnTo>
                <a:lnTo>
                  <a:pt x="285" y="1000"/>
                </a:lnTo>
                <a:lnTo>
                  <a:pt x="285" y="973"/>
                </a:lnTo>
                <a:lnTo>
                  <a:pt x="285" y="944"/>
                </a:lnTo>
                <a:lnTo>
                  <a:pt x="285" y="915"/>
                </a:lnTo>
                <a:lnTo>
                  <a:pt x="285" y="886"/>
                </a:lnTo>
                <a:lnTo>
                  <a:pt x="285" y="858"/>
                </a:lnTo>
                <a:lnTo>
                  <a:pt x="285" y="831"/>
                </a:lnTo>
                <a:lnTo>
                  <a:pt x="285" y="802"/>
                </a:lnTo>
                <a:lnTo>
                  <a:pt x="285" y="775"/>
                </a:lnTo>
                <a:lnTo>
                  <a:pt x="285" y="750"/>
                </a:lnTo>
                <a:lnTo>
                  <a:pt x="285" y="723"/>
                </a:lnTo>
                <a:lnTo>
                  <a:pt x="285" y="698"/>
                </a:lnTo>
                <a:lnTo>
                  <a:pt x="285" y="673"/>
                </a:lnTo>
                <a:lnTo>
                  <a:pt x="285" y="650"/>
                </a:lnTo>
                <a:lnTo>
                  <a:pt x="285" y="625"/>
                </a:lnTo>
                <a:lnTo>
                  <a:pt x="285" y="602"/>
                </a:lnTo>
                <a:lnTo>
                  <a:pt x="285" y="581"/>
                </a:lnTo>
                <a:lnTo>
                  <a:pt x="285" y="558"/>
                </a:lnTo>
                <a:lnTo>
                  <a:pt x="285" y="537"/>
                </a:lnTo>
                <a:lnTo>
                  <a:pt x="285" y="516"/>
                </a:lnTo>
                <a:lnTo>
                  <a:pt x="283" y="497"/>
                </a:lnTo>
                <a:lnTo>
                  <a:pt x="283" y="478"/>
                </a:lnTo>
                <a:lnTo>
                  <a:pt x="283" y="458"/>
                </a:lnTo>
                <a:lnTo>
                  <a:pt x="283" y="439"/>
                </a:lnTo>
                <a:lnTo>
                  <a:pt x="281" y="422"/>
                </a:lnTo>
                <a:lnTo>
                  <a:pt x="281" y="405"/>
                </a:lnTo>
                <a:lnTo>
                  <a:pt x="281" y="387"/>
                </a:lnTo>
                <a:lnTo>
                  <a:pt x="281" y="372"/>
                </a:lnTo>
                <a:lnTo>
                  <a:pt x="279" y="357"/>
                </a:lnTo>
                <a:lnTo>
                  <a:pt x="279" y="341"/>
                </a:lnTo>
                <a:lnTo>
                  <a:pt x="277" y="328"/>
                </a:lnTo>
                <a:lnTo>
                  <a:pt x="277" y="315"/>
                </a:lnTo>
                <a:lnTo>
                  <a:pt x="277" y="301"/>
                </a:lnTo>
                <a:lnTo>
                  <a:pt x="275" y="288"/>
                </a:lnTo>
                <a:lnTo>
                  <a:pt x="273" y="276"/>
                </a:lnTo>
                <a:lnTo>
                  <a:pt x="273" y="265"/>
                </a:lnTo>
                <a:lnTo>
                  <a:pt x="271" y="244"/>
                </a:lnTo>
                <a:lnTo>
                  <a:pt x="267" y="224"/>
                </a:lnTo>
                <a:lnTo>
                  <a:pt x="265" y="205"/>
                </a:lnTo>
                <a:lnTo>
                  <a:pt x="262" y="190"/>
                </a:lnTo>
                <a:lnTo>
                  <a:pt x="258" y="174"/>
                </a:lnTo>
                <a:lnTo>
                  <a:pt x="254" y="159"/>
                </a:lnTo>
                <a:lnTo>
                  <a:pt x="250" y="148"/>
                </a:lnTo>
                <a:lnTo>
                  <a:pt x="246" y="136"/>
                </a:lnTo>
                <a:lnTo>
                  <a:pt x="242" y="125"/>
                </a:lnTo>
                <a:lnTo>
                  <a:pt x="239" y="115"/>
                </a:lnTo>
                <a:lnTo>
                  <a:pt x="235" y="107"/>
                </a:lnTo>
                <a:lnTo>
                  <a:pt x="229" y="100"/>
                </a:lnTo>
                <a:lnTo>
                  <a:pt x="225" y="94"/>
                </a:lnTo>
                <a:lnTo>
                  <a:pt x="219" y="90"/>
                </a:lnTo>
                <a:lnTo>
                  <a:pt x="216" y="86"/>
                </a:lnTo>
                <a:lnTo>
                  <a:pt x="212" y="82"/>
                </a:lnTo>
                <a:lnTo>
                  <a:pt x="202" y="82"/>
                </a:lnTo>
                <a:lnTo>
                  <a:pt x="194" y="80"/>
                </a:lnTo>
                <a:lnTo>
                  <a:pt x="189" y="77"/>
                </a:lnTo>
                <a:lnTo>
                  <a:pt x="185" y="71"/>
                </a:lnTo>
                <a:lnTo>
                  <a:pt x="183" y="69"/>
                </a:lnTo>
                <a:lnTo>
                  <a:pt x="183" y="65"/>
                </a:lnTo>
                <a:lnTo>
                  <a:pt x="181" y="59"/>
                </a:lnTo>
                <a:lnTo>
                  <a:pt x="181" y="55"/>
                </a:lnTo>
                <a:lnTo>
                  <a:pt x="181" y="50"/>
                </a:lnTo>
                <a:lnTo>
                  <a:pt x="183" y="44"/>
                </a:lnTo>
                <a:lnTo>
                  <a:pt x="185" y="38"/>
                </a:lnTo>
                <a:lnTo>
                  <a:pt x="187" y="31"/>
                </a:lnTo>
                <a:lnTo>
                  <a:pt x="187" y="27"/>
                </a:lnTo>
                <a:lnTo>
                  <a:pt x="187" y="21"/>
                </a:lnTo>
                <a:lnTo>
                  <a:pt x="189" y="17"/>
                </a:lnTo>
                <a:lnTo>
                  <a:pt x="191" y="13"/>
                </a:lnTo>
                <a:lnTo>
                  <a:pt x="192" y="11"/>
                </a:lnTo>
                <a:lnTo>
                  <a:pt x="196" y="7"/>
                </a:lnTo>
                <a:lnTo>
                  <a:pt x="200" y="6"/>
                </a:lnTo>
                <a:lnTo>
                  <a:pt x="204" y="4"/>
                </a:lnTo>
                <a:lnTo>
                  <a:pt x="210" y="2"/>
                </a:lnTo>
                <a:lnTo>
                  <a:pt x="216" y="0"/>
                </a:lnTo>
                <a:lnTo>
                  <a:pt x="221" y="0"/>
                </a:lnTo>
                <a:lnTo>
                  <a:pt x="227" y="0"/>
                </a:lnTo>
                <a:lnTo>
                  <a:pt x="235" y="0"/>
                </a:lnTo>
                <a:lnTo>
                  <a:pt x="242" y="2"/>
                </a:lnTo>
                <a:lnTo>
                  <a:pt x="252" y="2"/>
                </a:lnTo>
                <a:lnTo>
                  <a:pt x="260" y="6"/>
                </a:lnTo>
                <a:lnTo>
                  <a:pt x="279" y="9"/>
                </a:lnTo>
                <a:lnTo>
                  <a:pt x="298" y="17"/>
                </a:lnTo>
                <a:lnTo>
                  <a:pt x="315" y="23"/>
                </a:lnTo>
                <a:lnTo>
                  <a:pt x="333" y="31"/>
                </a:lnTo>
                <a:lnTo>
                  <a:pt x="350" y="38"/>
                </a:lnTo>
                <a:lnTo>
                  <a:pt x="367" y="44"/>
                </a:lnTo>
                <a:lnTo>
                  <a:pt x="383" y="52"/>
                </a:lnTo>
                <a:lnTo>
                  <a:pt x="398" y="57"/>
                </a:lnTo>
                <a:lnTo>
                  <a:pt x="404" y="61"/>
                </a:lnTo>
                <a:lnTo>
                  <a:pt x="409" y="67"/>
                </a:lnTo>
                <a:lnTo>
                  <a:pt x="415" y="71"/>
                </a:lnTo>
                <a:lnTo>
                  <a:pt x="421" y="77"/>
                </a:lnTo>
                <a:lnTo>
                  <a:pt x="431" y="86"/>
                </a:lnTo>
                <a:lnTo>
                  <a:pt x="438" y="96"/>
                </a:lnTo>
                <a:lnTo>
                  <a:pt x="444" y="105"/>
                </a:lnTo>
                <a:lnTo>
                  <a:pt x="450" y="115"/>
                </a:lnTo>
                <a:lnTo>
                  <a:pt x="454" y="125"/>
                </a:lnTo>
                <a:lnTo>
                  <a:pt x="459" y="134"/>
                </a:lnTo>
                <a:lnTo>
                  <a:pt x="459" y="153"/>
                </a:lnTo>
                <a:lnTo>
                  <a:pt x="457" y="163"/>
                </a:lnTo>
                <a:lnTo>
                  <a:pt x="457" y="173"/>
                </a:lnTo>
                <a:lnTo>
                  <a:pt x="455" y="180"/>
                </a:lnTo>
                <a:lnTo>
                  <a:pt x="454" y="188"/>
                </a:lnTo>
                <a:lnTo>
                  <a:pt x="452" y="194"/>
                </a:lnTo>
                <a:lnTo>
                  <a:pt x="446" y="199"/>
                </a:lnTo>
                <a:lnTo>
                  <a:pt x="444" y="205"/>
                </a:lnTo>
                <a:lnTo>
                  <a:pt x="442" y="211"/>
                </a:lnTo>
                <a:lnTo>
                  <a:pt x="440" y="217"/>
                </a:lnTo>
                <a:lnTo>
                  <a:pt x="440" y="224"/>
                </a:lnTo>
                <a:lnTo>
                  <a:pt x="438" y="232"/>
                </a:lnTo>
                <a:lnTo>
                  <a:pt x="436" y="240"/>
                </a:lnTo>
                <a:lnTo>
                  <a:pt x="436" y="249"/>
                </a:lnTo>
                <a:lnTo>
                  <a:pt x="434" y="259"/>
                </a:lnTo>
                <a:lnTo>
                  <a:pt x="432" y="268"/>
                </a:lnTo>
                <a:lnTo>
                  <a:pt x="432" y="280"/>
                </a:lnTo>
                <a:lnTo>
                  <a:pt x="431" y="290"/>
                </a:lnTo>
                <a:lnTo>
                  <a:pt x="429" y="303"/>
                </a:lnTo>
                <a:lnTo>
                  <a:pt x="427" y="315"/>
                </a:lnTo>
                <a:lnTo>
                  <a:pt x="427" y="328"/>
                </a:lnTo>
                <a:lnTo>
                  <a:pt x="425" y="341"/>
                </a:lnTo>
                <a:lnTo>
                  <a:pt x="421" y="35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103"/>
          <p:cNvSpPr/>
          <p:nvPr/>
        </p:nvSpPr>
        <p:spPr>
          <a:xfrm>
            <a:off x="6605640" y="3986280"/>
            <a:ext cx="244440" cy="770040"/>
          </a:xfrm>
          <a:custGeom>
            <a:avLst/>
            <a:gdLst/>
            <a:ahLst/>
            <a:rect l="l" t="t" r="r" b="b"/>
            <a:pathLst>
              <a:path w="307" h="971">
                <a:moveTo>
                  <a:pt x="18" y="10"/>
                </a:moveTo>
                <a:lnTo>
                  <a:pt x="23" y="8"/>
                </a:lnTo>
                <a:lnTo>
                  <a:pt x="29" y="6"/>
                </a:lnTo>
                <a:lnTo>
                  <a:pt x="35" y="4"/>
                </a:lnTo>
                <a:lnTo>
                  <a:pt x="41" y="2"/>
                </a:lnTo>
                <a:lnTo>
                  <a:pt x="48" y="2"/>
                </a:lnTo>
                <a:lnTo>
                  <a:pt x="56" y="0"/>
                </a:lnTo>
                <a:lnTo>
                  <a:pt x="66" y="0"/>
                </a:lnTo>
                <a:lnTo>
                  <a:pt x="75" y="0"/>
                </a:lnTo>
                <a:lnTo>
                  <a:pt x="85" y="2"/>
                </a:lnTo>
                <a:lnTo>
                  <a:pt x="96" y="4"/>
                </a:lnTo>
                <a:lnTo>
                  <a:pt x="108" y="4"/>
                </a:lnTo>
                <a:lnTo>
                  <a:pt x="121" y="8"/>
                </a:lnTo>
                <a:lnTo>
                  <a:pt x="135" y="10"/>
                </a:lnTo>
                <a:lnTo>
                  <a:pt x="148" y="14"/>
                </a:lnTo>
                <a:lnTo>
                  <a:pt x="163" y="18"/>
                </a:lnTo>
                <a:lnTo>
                  <a:pt x="179" y="23"/>
                </a:lnTo>
                <a:lnTo>
                  <a:pt x="192" y="27"/>
                </a:lnTo>
                <a:lnTo>
                  <a:pt x="206" y="33"/>
                </a:lnTo>
                <a:lnTo>
                  <a:pt x="217" y="37"/>
                </a:lnTo>
                <a:lnTo>
                  <a:pt x="229" y="42"/>
                </a:lnTo>
                <a:lnTo>
                  <a:pt x="238" y="46"/>
                </a:lnTo>
                <a:lnTo>
                  <a:pt x="248" y="52"/>
                </a:lnTo>
                <a:lnTo>
                  <a:pt x="256" y="56"/>
                </a:lnTo>
                <a:lnTo>
                  <a:pt x="263" y="62"/>
                </a:lnTo>
                <a:lnTo>
                  <a:pt x="271" y="65"/>
                </a:lnTo>
                <a:lnTo>
                  <a:pt x="279" y="71"/>
                </a:lnTo>
                <a:lnTo>
                  <a:pt x="284" y="75"/>
                </a:lnTo>
                <a:lnTo>
                  <a:pt x="288" y="81"/>
                </a:lnTo>
                <a:lnTo>
                  <a:pt x="294" y="87"/>
                </a:lnTo>
                <a:lnTo>
                  <a:pt x="298" y="90"/>
                </a:lnTo>
                <a:lnTo>
                  <a:pt x="300" y="96"/>
                </a:lnTo>
                <a:lnTo>
                  <a:pt x="304" y="100"/>
                </a:lnTo>
                <a:lnTo>
                  <a:pt x="306" y="106"/>
                </a:lnTo>
                <a:lnTo>
                  <a:pt x="306" y="110"/>
                </a:lnTo>
                <a:lnTo>
                  <a:pt x="307" y="115"/>
                </a:lnTo>
                <a:lnTo>
                  <a:pt x="307" y="119"/>
                </a:lnTo>
                <a:lnTo>
                  <a:pt x="307" y="129"/>
                </a:lnTo>
                <a:lnTo>
                  <a:pt x="306" y="140"/>
                </a:lnTo>
                <a:lnTo>
                  <a:pt x="304" y="150"/>
                </a:lnTo>
                <a:lnTo>
                  <a:pt x="300" y="160"/>
                </a:lnTo>
                <a:lnTo>
                  <a:pt x="296" y="169"/>
                </a:lnTo>
                <a:lnTo>
                  <a:pt x="290" y="179"/>
                </a:lnTo>
                <a:lnTo>
                  <a:pt x="288" y="186"/>
                </a:lnTo>
                <a:lnTo>
                  <a:pt x="286" y="196"/>
                </a:lnTo>
                <a:lnTo>
                  <a:pt x="284" y="209"/>
                </a:lnTo>
                <a:lnTo>
                  <a:pt x="281" y="223"/>
                </a:lnTo>
                <a:lnTo>
                  <a:pt x="279" y="238"/>
                </a:lnTo>
                <a:lnTo>
                  <a:pt x="277" y="255"/>
                </a:lnTo>
                <a:lnTo>
                  <a:pt x="275" y="275"/>
                </a:lnTo>
                <a:lnTo>
                  <a:pt x="273" y="296"/>
                </a:lnTo>
                <a:lnTo>
                  <a:pt x="269" y="319"/>
                </a:lnTo>
                <a:lnTo>
                  <a:pt x="267" y="344"/>
                </a:lnTo>
                <a:lnTo>
                  <a:pt x="265" y="369"/>
                </a:lnTo>
                <a:lnTo>
                  <a:pt x="263" y="397"/>
                </a:lnTo>
                <a:lnTo>
                  <a:pt x="259" y="428"/>
                </a:lnTo>
                <a:lnTo>
                  <a:pt x="258" y="461"/>
                </a:lnTo>
                <a:lnTo>
                  <a:pt x="256" y="493"/>
                </a:lnTo>
                <a:lnTo>
                  <a:pt x="254" y="530"/>
                </a:lnTo>
                <a:lnTo>
                  <a:pt x="252" y="566"/>
                </a:lnTo>
                <a:lnTo>
                  <a:pt x="250" y="601"/>
                </a:lnTo>
                <a:lnTo>
                  <a:pt x="248" y="635"/>
                </a:lnTo>
                <a:lnTo>
                  <a:pt x="246" y="668"/>
                </a:lnTo>
                <a:lnTo>
                  <a:pt x="246" y="701"/>
                </a:lnTo>
                <a:lnTo>
                  <a:pt x="244" y="731"/>
                </a:lnTo>
                <a:lnTo>
                  <a:pt x="244" y="760"/>
                </a:lnTo>
                <a:lnTo>
                  <a:pt x="242" y="789"/>
                </a:lnTo>
                <a:lnTo>
                  <a:pt x="242" y="818"/>
                </a:lnTo>
                <a:lnTo>
                  <a:pt x="242" y="843"/>
                </a:lnTo>
                <a:lnTo>
                  <a:pt x="242" y="868"/>
                </a:lnTo>
                <a:lnTo>
                  <a:pt x="242" y="893"/>
                </a:lnTo>
                <a:lnTo>
                  <a:pt x="242" y="914"/>
                </a:lnTo>
                <a:lnTo>
                  <a:pt x="242" y="935"/>
                </a:lnTo>
                <a:lnTo>
                  <a:pt x="242" y="954"/>
                </a:lnTo>
                <a:lnTo>
                  <a:pt x="242" y="971"/>
                </a:lnTo>
                <a:lnTo>
                  <a:pt x="160" y="971"/>
                </a:lnTo>
                <a:lnTo>
                  <a:pt x="79" y="971"/>
                </a:lnTo>
                <a:lnTo>
                  <a:pt x="79" y="919"/>
                </a:lnTo>
                <a:lnTo>
                  <a:pt x="79" y="868"/>
                </a:lnTo>
                <a:lnTo>
                  <a:pt x="79" y="818"/>
                </a:lnTo>
                <a:lnTo>
                  <a:pt x="79" y="770"/>
                </a:lnTo>
                <a:lnTo>
                  <a:pt x="79" y="724"/>
                </a:lnTo>
                <a:lnTo>
                  <a:pt x="79" y="680"/>
                </a:lnTo>
                <a:lnTo>
                  <a:pt x="77" y="635"/>
                </a:lnTo>
                <a:lnTo>
                  <a:pt x="77" y="593"/>
                </a:lnTo>
                <a:lnTo>
                  <a:pt x="77" y="555"/>
                </a:lnTo>
                <a:lnTo>
                  <a:pt x="75" y="514"/>
                </a:lnTo>
                <a:lnTo>
                  <a:pt x="75" y="478"/>
                </a:lnTo>
                <a:lnTo>
                  <a:pt x="73" y="443"/>
                </a:lnTo>
                <a:lnTo>
                  <a:pt x="73" y="409"/>
                </a:lnTo>
                <a:lnTo>
                  <a:pt x="71" y="378"/>
                </a:lnTo>
                <a:lnTo>
                  <a:pt x="69" y="348"/>
                </a:lnTo>
                <a:lnTo>
                  <a:pt x="69" y="319"/>
                </a:lnTo>
                <a:lnTo>
                  <a:pt x="67" y="292"/>
                </a:lnTo>
                <a:lnTo>
                  <a:pt x="66" y="265"/>
                </a:lnTo>
                <a:lnTo>
                  <a:pt x="64" y="242"/>
                </a:lnTo>
                <a:lnTo>
                  <a:pt x="62" y="219"/>
                </a:lnTo>
                <a:lnTo>
                  <a:pt x="60" y="198"/>
                </a:lnTo>
                <a:lnTo>
                  <a:pt x="58" y="179"/>
                </a:lnTo>
                <a:lnTo>
                  <a:pt x="56" y="161"/>
                </a:lnTo>
                <a:lnTo>
                  <a:pt x="54" y="146"/>
                </a:lnTo>
                <a:lnTo>
                  <a:pt x="50" y="131"/>
                </a:lnTo>
                <a:lnTo>
                  <a:pt x="48" y="117"/>
                </a:lnTo>
                <a:lnTo>
                  <a:pt x="46" y="106"/>
                </a:lnTo>
                <a:lnTo>
                  <a:pt x="43" y="96"/>
                </a:lnTo>
                <a:lnTo>
                  <a:pt x="41" y="89"/>
                </a:lnTo>
                <a:lnTo>
                  <a:pt x="37" y="83"/>
                </a:lnTo>
                <a:lnTo>
                  <a:pt x="33" y="77"/>
                </a:lnTo>
                <a:lnTo>
                  <a:pt x="31" y="75"/>
                </a:lnTo>
                <a:lnTo>
                  <a:pt x="23" y="69"/>
                </a:lnTo>
                <a:lnTo>
                  <a:pt x="18" y="65"/>
                </a:lnTo>
                <a:lnTo>
                  <a:pt x="14" y="60"/>
                </a:lnTo>
                <a:lnTo>
                  <a:pt x="10" y="56"/>
                </a:lnTo>
                <a:lnTo>
                  <a:pt x="6" y="50"/>
                </a:lnTo>
                <a:lnTo>
                  <a:pt x="4" y="46"/>
                </a:lnTo>
                <a:lnTo>
                  <a:pt x="2" y="41"/>
                </a:lnTo>
                <a:lnTo>
                  <a:pt x="0" y="37"/>
                </a:lnTo>
                <a:lnTo>
                  <a:pt x="0" y="33"/>
                </a:lnTo>
                <a:lnTo>
                  <a:pt x="0" y="29"/>
                </a:lnTo>
                <a:lnTo>
                  <a:pt x="2" y="25"/>
                </a:lnTo>
                <a:lnTo>
                  <a:pt x="4" y="21"/>
                </a:lnTo>
                <a:lnTo>
                  <a:pt x="6" y="18"/>
                </a:lnTo>
                <a:lnTo>
                  <a:pt x="10" y="16"/>
                </a:lnTo>
                <a:lnTo>
                  <a:pt x="14" y="12"/>
                </a:lnTo>
                <a:lnTo>
                  <a:pt x="18" y="1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4"/>
          <p:cNvSpPr/>
          <p:nvPr/>
        </p:nvSpPr>
        <p:spPr>
          <a:xfrm>
            <a:off x="5830920" y="4622760"/>
            <a:ext cx="1862280" cy="300240"/>
          </a:xfrm>
          <a:custGeom>
            <a:avLst/>
            <a:gdLst/>
            <a:ahLst/>
            <a:rect l="l" t="t" r="r" b="b"/>
            <a:pathLst>
              <a:path w="2344" h="378">
                <a:moveTo>
                  <a:pt x="447" y="338"/>
                </a:moveTo>
                <a:lnTo>
                  <a:pt x="422" y="344"/>
                </a:lnTo>
                <a:lnTo>
                  <a:pt x="397" y="348"/>
                </a:lnTo>
                <a:lnTo>
                  <a:pt x="376" y="351"/>
                </a:lnTo>
                <a:lnTo>
                  <a:pt x="353" y="355"/>
                </a:lnTo>
                <a:lnTo>
                  <a:pt x="334" y="359"/>
                </a:lnTo>
                <a:lnTo>
                  <a:pt x="315" y="363"/>
                </a:lnTo>
                <a:lnTo>
                  <a:pt x="298" y="365"/>
                </a:lnTo>
                <a:lnTo>
                  <a:pt x="280" y="369"/>
                </a:lnTo>
                <a:lnTo>
                  <a:pt x="267" y="371"/>
                </a:lnTo>
                <a:lnTo>
                  <a:pt x="251" y="373"/>
                </a:lnTo>
                <a:lnTo>
                  <a:pt x="240" y="374"/>
                </a:lnTo>
                <a:lnTo>
                  <a:pt x="228" y="374"/>
                </a:lnTo>
                <a:lnTo>
                  <a:pt x="219" y="376"/>
                </a:lnTo>
                <a:lnTo>
                  <a:pt x="211" y="376"/>
                </a:lnTo>
                <a:lnTo>
                  <a:pt x="203" y="378"/>
                </a:lnTo>
                <a:lnTo>
                  <a:pt x="200" y="378"/>
                </a:lnTo>
                <a:lnTo>
                  <a:pt x="194" y="376"/>
                </a:lnTo>
                <a:lnTo>
                  <a:pt x="188" y="376"/>
                </a:lnTo>
                <a:lnTo>
                  <a:pt x="184" y="374"/>
                </a:lnTo>
                <a:lnTo>
                  <a:pt x="179" y="373"/>
                </a:lnTo>
                <a:lnTo>
                  <a:pt x="171" y="371"/>
                </a:lnTo>
                <a:lnTo>
                  <a:pt x="165" y="367"/>
                </a:lnTo>
                <a:lnTo>
                  <a:pt x="159" y="365"/>
                </a:lnTo>
                <a:lnTo>
                  <a:pt x="152" y="359"/>
                </a:lnTo>
                <a:lnTo>
                  <a:pt x="138" y="351"/>
                </a:lnTo>
                <a:lnTo>
                  <a:pt x="121" y="340"/>
                </a:lnTo>
                <a:lnTo>
                  <a:pt x="106" y="327"/>
                </a:lnTo>
                <a:lnTo>
                  <a:pt x="86" y="313"/>
                </a:lnTo>
                <a:lnTo>
                  <a:pt x="77" y="305"/>
                </a:lnTo>
                <a:lnTo>
                  <a:pt x="65" y="298"/>
                </a:lnTo>
                <a:lnTo>
                  <a:pt x="56" y="292"/>
                </a:lnTo>
                <a:lnTo>
                  <a:pt x="48" y="286"/>
                </a:lnTo>
                <a:lnTo>
                  <a:pt x="40" y="280"/>
                </a:lnTo>
                <a:lnTo>
                  <a:pt x="33" y="275"/>
                </a:lnTo>
                <a:lnTo>
                  <a:pt x="27" y="269"/>
                </a:lnTo>
                <a:lnTo>
                  <a:pt x="21" y="263"/>
                </a:lnTo>
                <a:lnTo>
                  <a:pt x="15" y="259"/>
                </a:lnTo>
                <a:lnTo>
                  <a:pt x="11" y="256"/>
                </a:lnTo>
                <a:lnTo>
                  <a:pt x="8" y="250"/>
                </a:lnTo>
                <a:lnTo>
                  <a:pt x="6" y="248"/>
                </a:lnTo>
                <a:lnTo>
                  <a:pt x="4" y="244"/>
                </a:lnTo>
                <a:lnTo>
                  <a:pt x="2" y="240"/>
                </a:lnTo>
                <a:lnTo>
                  <a:pt x="0" y="238"/>
                </a:lnTo>
                <a:lnTo>
                  <a:pt x="0" y="234"/>
                </a:lnTo>
                <a:lnTo>
                  <a:pt x="0" y="231"/>
                </a:lnTo>
                <a:lnTo>
                  <a:pt x="2" y="227"/>
                </a:lnTo>
                <a:lnTo>
                  <a:pt x="4" y="223"/>
                </a:lnTo>
                <a:lnTo>
                  <a:pt x="8" y="219"/>
                </a:lnTo>
                <a:lnTo>
                  <a:pt x="11" y="217"/>
                </a:lnTo>
                <a:lnTo>
                  <a:pt x="17" y="215"/>
                </a:lnTo>
                <a:lnTo>
                  <a:pt x="23" y="213"/>
                </a:lnTo>
                <a:lnTo>
                  <a:pt x="29" y="211"/>
                </a:lnTo>
                <a:lnTo>
                  <a:pt x="38" y="211"/>
                </a:lnTo>
                <a:lnTo>
                  <a:pt x="46" y="209"/>
                </a:lnTo>
                <a:lnTo>
                  <a:pt x="58" y="209"/>
                </a:lnTo>
                <a:lnTo>
                  <a:pt x="69" y="209"/>
                </a:lnTo>
                <a:lnTo>
                  <a:pt x="81" y="209"/>
                </a:lnTo>
                <a:lnTo>
                  <a:pt x="94" y="209"/>
                </a:lnTo>
                <a:lnTo>
                  <a:pt x="109" y="209"/>
                </a:lnTo>
                <a:lnTo>
                  <a:pt x="125" y="209"/>
                </a:lnTo>
                <a:lnTo>
                  <a:pt x="132" y="209"/>
                </a:lnTo>
                <a:lnTo>
                  <a:pt x="142" y="208"/>
                </a:lnTo>
                <a:lnTo>
                  <a:pt x="152" y="208"/>
                </a:lnTo>
                <a:lnTo>
                  <a:pt x="163" y="208"/>
                </a:lnTo>
                <a:lnTo>
                  <a:pt x="177" y="206"/>
                </a:lnTo>
                <a:lnTo>
                  <a:pt x="192" y="206"/>
                </a:lnTo>
                <a:lnTo>
                  <a:pt x="209" y="204"/>
                </a:lnTo>
                <a:lnTo>
                  <a:pt x="226" y="202"/>
                </a:lnTo>
                <a:lnTo>
                  <a:pt x="246" y="200"/>
                </a:lnTo>
                <a:lnTo>
                  <a:pt x="267" y="198"/>
                </a:lnTo>
                <a:lnTo>
                  <a:pt x="288" y="196"/>
                </a:lnTo>
                <a:lnTo>
                  <a:pt x="313" y="194"/>
                </a:lnTo>
                <a:lnTo>
                  <a:pt x="338" y="190"/>
                </a:lnTo>
                <a:lnTo>
                  <a:pt x="363" y="188"/>
                </a:lnTo>
                <a:lnTo>
                  <a:pt x="392" y="185"/>
                </a:lnTo>
                <a:lnTo>
                  <a:pt x="420" y="183"/>
                </a:lnTo>
                <a:lnTo>
                  <a:pt x="451" y="179"/>
                </a:lnTo>
                <a:lnTo>
                  <a:pt x="484" y="175"/>
                </a:lnTo>
                <a:lnTo>
                  <a:pt x="516" y="171"/>
                </a:lnTo>
                <a:lnTo>
                  <a:pt x="551" y="167"/>
                </a:lnTo>
                <a:lnTo>
                  <a:pt x="587" y="163"/>
                </a:lnTo>
                <a:lnTo>
                  <a:pt x="626" y="158"/>
                </a:lnTo>
                <a:lnTo>
                  <a:pt x="664" y="154"/>
                </a:lnTo>
                <a:lnTo>
                  <a:pt x="705" y="148"/>
                </a:lnTo>
                <a:lnTo>
                  <a:pt x="747" y="144"/>
                </a:lnTo>
                <a:lnTo>
                  <a:pt x="791" y="138"/>
                </a:lnTo>
                <a:lnTo>
                  <a:pt x="835" y="135"/>
                </a:lnTo>
                <a:lnTo>
                  <a:pt x="881" y="129"/>
                </a:lnTo>
                <a:lnTo>
                  <a:pt x="929" y="123"/>
                </a:lnTo>
                <a:lnTo>
                  <a:pt x="977" y="117"/>
                </a:lnTo>
                <a:lnTo>
                  <a:pt x="1027" y="112"/>
                </a:lnTo>
                <a:lnTo>
                  <a:pt x="1079" y="104"/>
                </a:lnTo>
                <a:lnTo>
                  <a:pt x="1131" y="98"/>
                </a:lnTo>
                <a:lnTo>
                  <a:pt x="1181" y="92"/>
                </a:lnTo>
                <a:lnTo>
                  <a:pt x="1231" y="87"/>
                </a:lnTo>
                <a:lnTo>
                  <a:pt x="1277" y="81"/>
                </a:lnTo>
                <a:lnTo>
                  <a:pt x="1323" y="75"/>
                </a:lnTo>
                <a:lnTo>
                  <a:pt x="1367" y="71"/>
                </a:lnTo>
                <a:lnTo>
                  <a:pt x="1411" y="66"/>
                </a:lnTo>
                <a:lnTo>
                  <a:pt x="1451" y="60"/>
                </a:lnTo>
                <a:lnTo>
                  <a:pt x="1492" y="56"/>
                </a:lnTo>
                <a:lnTo>
                  <a:pt x="1530" y="50"/>
                </a:lnTo>
                <a:lnTo>
                  <a:pt x="1567" y="46"/>
                </a:lnTo>
                <a:lnTo>
                  <a:pt x="1603" y="43"/>
                </a:lnTo>
                <a:lnTo>
                  <a:pt x="1638" y="39"/>
                </a:lnTo>
                <a:lnTo>
                  <a:pt x="1670" y="35"/>
                </a:lnTo>
                <a:lnTo>
                  <a:pt x="1701" y="31"/>
                </a:lnTo>
                <a:lnTo>
                  <a:pt x="1732" y="27"/>
                </a:lnTo>
                <a:lnTo>
                  <a:pt x="1759" y="25"/>
                </a:lnTo>
                <a:lnTo>
                  <a:pt x="1785" y="21"/>
                </a:lnTo>
                <a:lnTo>
                  <a:pt x="1812" y="20"/>
                </a:lnTo>
                <a:lnTo>
                  <a:pt x="1835" y="16"/>
                </a:lnTo>
                <a:lnTo>
                  <a:pt x="1858" y="14"/>
                </a:lnTo>
                <a:lnTo>
                  <a:pt x="1880" y="12"/>
                </a:lnTo>
                <a:lnTo>
                  <a:pt x="1899" y="10"/>
                </a:lnTo>
                <a:lnTo>
                  <a:pt x="1916" y="8"/>
                </a:lnTo>
                <a:lnTo>
                  <a:pt x="1933" y="6"/>
                </a:lnTo>
                <a:lnTo>
                  <a:pt x="1949" y="4"/>
                </a:lnTo>
                <a:lnTo>
                  <a:pt x="1962" y="4"/>
                </a:lnTo>
                <a:lnTo>
                  <a:pt x="1976" y="2"/>
                </a:lnTo>
                <a:lnTo>
                  <a:pt x="1985" y="2"/>
                </a:lnTo>
                <a:lnTo>
                  <a:pt x="1995" y="0"/>
                </a:lnTo>
                <a:lnTo>
                  <a:pt x="2002" y="0"/>
                </a:lnTo>
                <a:lnTo>
                  <a:pt x="2010" y="0"/>
                </a:lnTo>
                <a:lnTo>
                  <a:pt x="2020" y="0"/>
                </a:lnTo>
                <a:lnTo>
                  <a:pt x="2029" y="2"/>
                </a:lnTo>
                <a:lnTo>
                  <a:pt x="2039" y="4"/>
                </a:lnTo>
                <a:lnTo>
                  <a:pt x="2050" y="6"/>
                </a:lnTo>
                <a:lnTo>
                  <a:pt x="2060" y="8"/>
                </a:lnTo>
                <a:lnTo>
                  <a:pt x="2072" y="12"/>
                </a:lnTo>
                <a:lnTo>
                  <a:pt x="2083" y="16"/>
                </a:lnTo>
                <a:lnTo>
                  <a:pt x="2095" y="20"/>
                </a:lnTo>
                <a:lnTo>
                  <a:pt x="2108" y="25"/>
                </a:lnTo>
                <a:lnTo>
                  <a:pt x="2121" y="31"/>
                </a:lnTo>
                <a:lnTo>
                  <a:pt x="2135" y="37"/>
                </a:lnTo>
                <a:lnTo>
                  <a:pt x="2148" y="44"/>
                </a:lnTo>
                <a:lnTo>
                  <a:pt x="2162" y="52"/>
                </a:lnTo>
                <a:lnTo>
                  <a:pt x="2177" y="60"/>
                </a:lnTo>
                <a:lnTo>
                  <a:pt x="2192" y="69"/>
                </a:lnTo>
                <a:lnTo>
                  <a:pt x="2208" y="79"/>
                </a:lnTo>
                <a:lnTo>
                  <a:pt x="2223" y="89"/>
                </a:lnTo>
                <a:lnTo>
                  <a:pt x="2239" y="98"/>
                </a:lnTo>
                <a:lnTo>
                  <a:pt x="2252" y="106"/>
                </a:lnTo>
                <a:lnTo>
                  <a:pt x="2264" y="115"/>
                </a:lnTo>
                <a:lnTo>
                  <a:pt x="2275" y="123"/>
                </a:lnTo>
                <a:lnTo>
                  <a:pt x="2287" y="133"/>
                </a:lnTo>
                <a:lnTo>
                  <a:pt x="2296" y="140"/>
                </a:lnTo>
                <a:lnTo>
                  <a:pt x="2304" y="148"/>
                </a:lnTo>
                <a:lnTo>
                  <a:pt x="2312" y="154"/>
                </a:lnTo>
                <a:lnTo>
                  <a:pt x="2319" y="162"/>
                </a:lnTo>
                <a:lnTo>
                  <a:pt x="2325" y="167"/>
                </a:lnTo>
                <a:lnTo>
                  <a:pt x="2331" y="173"/>
                </a:lnTo>
                <a:lnTo>
                  <a:pt x="2335" y="181"/>
                </a:lnTo>
                <a:lnTo>
                  <a:pt x="2338" y="185"/>
                </a:lnTo>
                <a:lnTo>
                  <a:pt x="2342" y="190"/>
                </a:lnTo>
                <a:lnTo>
                  <a:pt x="2344" y="196"/>
                </a:lnTo>
                <a:lnTo>
                  <a:pt x="2344" y="204"/>
                </a:lnTo>
                <a:lnTo>
                  <a:pt x="2342" y="209"/>
                </a:lnTo>
                <a:lnTo>
                  <a:pt x="2336" y="215"/>
                </a:lnTo>
                <a:lnTo>
                  <a:pt x="2331" y="221"/>
                </a:lnTo>
                <a:lnTo>
                  <a:pt x="2323" y="225"/>
                </a:lnTo>
                <a:lnTo>
                  <a:pt x="2313" y="229"/>
                </a:lnTo>
                <a:lnTo>
                  <a:pt x="2302" y="232"/>
                </a:lnTo>
                <a:lnTo>
                  <a:pt x="2288" y="234"/>
                </a:lnTo>
                <a:lnTo>
                  <a:pt x="2271" y="236"/>
                </a:lnTo>
                <a:lnTo>
                  <a:pt x="2264" y="238"/>
                </a:lnTo>
                <a:lnTo>
                  <a:pt x="2254" y="238"/>
                </a:lnTo>
                <a:lnTo>
                  <a:pt x="2244" y="238"/>
                </a:lnTo>
                <a:lnTo>
                  <a:pt x="2235" y="240"/>
                </a:lnTo>
                <a:lnTo>
                  <a:pt x="2225" y="240"/>
                </a:lnTo>
                <a:lnTo>
                  <a:pt x="2214" y="240"/>
                </a:lnTo>
                <a:lnTo>
                  <a:pt x="2202" y="240"/>
                </a:lnTo>
                <a:lnTo>
                  <a:pt x="2191" y="240"/>
                </a:lnTo>
                <a:lnTo>
                  <a:pt x="2179" y="238"/>
                </a:lnTo>
                <a:lnTo>
                  <a:pt x="2166" y="238"/>
                </a:lnTo>
                <a:lnTo>
                  <a:pt x="2152" y="238"/>
                </a:lnTo>
                <a:lnTo>
                  <a:pt x="2139" y="236"/>
                </a:lnTo>
                <a:lnTo>
                  <a:pt x="2123" y="236"/>
                </a:lnTo>
                <a:lnTo>
                  <a:pt x="2110" y="234"/>
                </a:lnTo>
                <a:lnTo>
                  <a:pt x="2048" y="231"/>
                </a:lnTo>
                <a:lnTo>
                  <a:pt x="1989" y="227"/>
                </a:lnTo>
                <a:lnTo>
                  <a:pt x="1928" y="225"/>
                </a:lnTo>
                <a:lnTo>
                  <a:pt x="1868" y="221"/>
                </a:lnTo>
                <a:lnTo>
                  <a:pt x="1810" y="219"/>
                </a:lnTo>
                <a:lnTo>
                  <a:pt x="1751" y="217"/>
                </a:lnTo>
                <a:lnTo>
                  <a:pt x="1693" y="213"/>
                </a:lnTo>
                <a:lnTo>
                  <a:pt x="1638" y="209"/>
                </a:lnTo>
                <a:lnTo>
                  <a:pt x="1609" y="209"/>
                </a:lnTo>
                <a:lnTo>
                  <a:pt x="1580" y="209"/>
                </a:lnTo>
                <a:lnTo>
                  <a:pt x="1549" y="209"/>
                </a:lnTo>
                <a:lnTo>
                  <a:pt x="1517" y="211"/>
                </a:lnTo>
                <a:lnTo>
                  <a:pt x="1484" y="213"/>
                </a:lnTo>
                <a:lnTo>
                  <a:pt x="1449" y="213"/>
                </a:lnTo>
                <a:lnTo>
                  <a:pt x="1413" y="215"/>
                </a:lnTo>
                <a:lnTo>
                  <a:pt x="1377" y="219"/>
                </a:lnTo>
                <a:lnTo>
                  <a:pt x="1340" y="221"/>
                </a:lnTo>
                <a:lnTo>
                  <a:pt x="1300" y="223"/>
                </a:lnTo>
                <a:lnTo>
                  <a:pt x="1259" y="227"/>
                </a:lnTo>
                <a:lnTo>
                  <a:pt x="1219" y="231"/>
                </a:lnTo>
                <a:lnTo>
                  <a:pt x="1177" y="234"/>
                </a:lnTo>
                <a:lnTo>
                  <a:pt x="1133" y="238"/>
                </a:lnTo>
                <a:lnTo>
                  <a:pt x="1089" y="244"/>
                </a:lnTo>
                <a:lnTo>
                  <a:pt x="1042" y="248"/>
                </a:lnTo>
                <a:lnTo>
                  <a:pt x="996" y="254"/>
                </a:lnTo>
                <a:lnTo>
                  <a:pt x="952" y="257"/>
                </a:lnTo>
                <a:lnTo>
                  <a:pt x="908" y="263"/>
                </a:lnTo>
                <a:lnTo>
                  <a:pt x="866" y="267"/>
                </a:lnTo>
                <a:lnTo>
                  <a:pt x="824" y="273"/>
                </a:lnTo>
                <a:lnTo>
                  <a:pt x="783" y="279"/>
                </a:lnTo>
                <a:lnTo>
                  <a:pt x="745" y="282"/>
                </a:lnTo>
                <a:lnTo>
                  <a:pt x="706" y="288"/>
                </a:lnTo>
                <a:lnTo>
                  <a:pt x="670" y="294"/>
                </a:lnTo>
                <a:lnTo>
                  <a:pt x="635" y="300"/>
                </a:lnTo>
                <a:lnTo>
                  <a:pt x="601" y="305"/>
                </a:lnTo>
                <a:lnTo>
                  <a:pt x="568" y="311"/>
                </a:lnTo>
                <a:lnTo>
                  <a:pt x="536" y="319"/>
                </a:lnTo>
                <a:lnTo>
                  <a:pt x="505" y="325"/>
                </a:lnTo>
                <a:lnTo>
                  <a:pt x="476" y="332"/>
                </a:lnTo>
                <a:lnTo>
                  <a:pt x="447" y="33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105"/>
          <p:cNvSpPr/>
          <p:nvPr/>
        </p:nvSpPr>
        <p:spPr>
          <a:xfrm>
            <a:off x="5800680" y="3022560"/>
            <a:ext cx="530280" cy="1219320"/>
          </a:xfrm>
          <a:custGeom>
            <a:avLst/>
            <a:gdLst/>
            <a:ahLst/>
            <a:rect l="l" t="t" r="r" b="b"/>
            <a:pathLst>
              <a:path w="668" h="1535">
                <a:moveTo>
                  <a:pt x="1" y="1533"/>
                </a:moveTo>
                <a:lnTo>
                  <a:pt x="0" y="1531"/>
                </a:lnTo>
                <a:lnTo>
                  <a:pt x="0" y="1527"/>
                </a:lnTo>
                <a:lnTo>
                  <a:pt x="0" y="1521"/>
                </a:lnTo>
                <a:lnTo>
                  <a:pt x="1" y="1513"/>
                </a:lnTo>
                <a:lnTo>
                  <a:pt x="5" y="1506"/>
                </a:lnTo>
                <a:lnTo>
                  <a:pt x="9" y="1498"/>
                </a:lnTo>
                <a:lnTo>
                  <a:pt x="15" y="1487"/>
                </a:lnTo>
                <a:lnTo>
                  <a:pt x="23" y="1475"/>
                </a:lnTo>
                <a:lnTo>
                  <a:pt x="32" y="1464"/>
                </a:lnTo>
                <a:lnTo>
                  <a:pt x="42" y="1448"/>
                </a:lnTo>
                <a:lnTo>
                  <a:pt x="55" y="1433"/>
                </a:lnTo>
                <a:lnTo>
                  <a:pt x="69" y="1418"/>
                </a:lnTo>
                <a:lnTo>
                  <a:pt x="82" y="1398"/>
                </a:lnTo>
                <a:lnTo>
                  <a:pt x="99" y="1381"/>
                </a:lnTo>
                <a:lnTo>
                  <a:pt x="119" y="1360"/>
                </a:lnTo>
                <a:lnTo>
                  <a:pt x="138" y="1339"/>
                </a:lnTo>
                <a:lnTo>
                  <a:pt x="157" y="1316"/>
                </a:lnTo>
                <a:lnTo>
                  <a:pt x="178" y="1293"/>
                </a:lnTo>
                <a:lnTo>
                  <a:pt x="195" y="1270"/>
                </a:lnTo>
                <a:lnTo>
                  <a:pt x="215" y="1247"/>
                </a:lnTo>
                <a:lnTo>
                  <a:pt x="232" y="1224"/>
                </a:lnTo>
                <a:lnTo>
                  <a:pt x="249" y="1201"/>
                </a:lnTo>
                <a:lnTo>
                  <a:pt x="264" y="1176"/>
                </a:lnTo>
                <a:lnTo>
                  <a:pt x="280" y="1151"/>
                </a:lnTo>
                <a:lnTo>
                  <a:pt x="295" y="1126"/>
                </a:lnTo>
                <a:lnTo>
                  <a:pt x="309" y="1101"/>
                </a:lnTo>
                <a:lnTo>
                  <a:pt x="324" y="1074"/>
                </a:lnTo>
                <a:lnTo>
                  <a:pt x="337" y="1047"/>
                </a:lnTo>
                <a:lnTo>
                  <a:pt x="349" y="1020"/>
                </a:lnTo>
                <a:lnTo>
                  <a:pt x="362" y="993"/>
                </a:lnTo>
                <a:lnTo>
                  <a:pt x="374" y="965"/>
                </a:lnTo>
                <a:lnTo>
                  <a:pt x="385" y="936"/>
                </a:lnTo>
                <a:lnTo>
                  <a:pt x="403" y="880"/>
                </a:lnTo>
                <a:lnTo>
                  <a:pt x="420" y="825"/>
                </a:lnTo>
                <a:lnTo>
                  <a:pt x="435" y="769"/>
                </a:lnTo>
                <a:lnTo>
                  <a:pt x="449" y="713"/>
                </a:lnTo>
                <a:lnTo>
                  <a:pt x="460" y="656"/>
                </a:lnTo>
                <a:lnTo>
                  <a:pt x="466" y="625"/>
                </a:lnTo>
                <a:lnTo>
                  <a:pt x="472" y="596"/>
                </a:lnTo>
                <a:lnTo>
                  <a:pt x="476" y="568"/>
                </a:lnTo>
                <a:lnTo>
                  <a:pt x="480" y="539"/>
                </a:lnTo>
                <a:lnTo>
                  <a:pt x="481" y="510"/>
                </a:lnTo>
                <a:lnTo>
                  <a:pt x="485" y="481"/>
                </a:lnTo>
                <a:lnTo>
                  <a:pt x="487" y="450"/>
                </a:lnTo>
                <a:lnTo>
                  <a:pt x="487" y="422"/>
                </a:lnTo>
                <a:lnTo>
                  <a:pt x="487" y="393"/>
                </a:lnTo>
                <a:lnTo>
                  <a:pt x="487" y="362"/>
                </a:lnTo>
                <a:lnTo>
                  <a:pt x="485" y="333"/>
                </a:lnTo>
                <a:lnTo>
                  <a:pt x="483" y="305"/>
                </a:lnTo>
                <a:lnTo>
                  <a:pt x="481" y="274"/>
                </a:lnTo>
                <a:lnTo>
                  <a:pt x="478" y="245"/>
                </a:lnTo>
                <a:lnTo>
                  <a:pt x="474" y="214"/>
                </a:lnTo>
                <a:lnTo>
                  <a:pt x="470" y="184"/>
                </a:lnTo>
                <a:lnTo>
                  <a:pt x="466" y="155"/>
                </a:lnTo>
                <a:lnTo>
                  <a:pt x="460" y="124"/>
                </a:lnTo>
                <a:lnTo>
                  <a:pt x="449" y="61"/>
                </a:lnTo>
                <a:lnTo>
                  <a:pt x="435" y="0"/>
                </a:lnTo>
                <a:lnTo>
                  <a:pt x="460" y="11"/>
                </a:lnTo>
                <a:lnTo>
                  <a:pt x="483" y="23"/>
                </a:lnTo>
                <a:lnTo>
                  <a:pt x="504" y="34"/>
                </a:lnTo>
                <a:lnTo>
                  <a:pt x="526" y="46"/>
                </a:lnTo>
                <a:lnTo>
                  <a:pt x="545" y="57"/>
                </a:lnTo>
                <a:lnTo>
                  <a:pt x="562" y="67"/>
                </a:lnTo>
                <a:lnTo>
                  <a:pt x="579" y="76"/>
                </a:lnTo>
                <a:lnTo>
                  <a:pt x="593" y="86"/>
                </a:lnTo>
                <a:lnTo>
                  <a:pt x="606" y="94"/>
                </a:lnTo>
                <a:lnTo>
                  <a:pt x="618" y="103"/>
                </a:lnTo>
                <a:lnTo>
                  <a:pt x="629" y="111"/>
                </a:lnTo>
                <a:lnTo>
                  <a:pt x="637" y="118"/>
                </a:lnTo>
                <a:lnTo>
                  <a:pt x="645" y="124"/>
                </a:lnTo>
                <a:lnTo>
                  <a:pt x="650" y="132"/>
                </a:lnTo>
                <a:lnTo>
                  <a:pt x="656" y="138"/>
                </a:lnTo>
                <a:lnTo>
                  <a:pt x="658" y="142"/>
                </a:lnTo>
                <a:lnTo>
                  <a:pt x="660" y="149"/>
                </a:lnTo>
                <a:lnTo>
                  <a:pt x="662" y="159"/>
                </a:lnTo>
                <a:lnTo>
                  <a:pt x="664" y="166"/>
                </a:lnTo>
                <a:lnTo>
                  <a:pt x="666" y="176"/>
                </a:lnTo>
                <a:lnTo>
                  <a:pt x="666" y="188"/>
                </a:lnTo>
                <a:lnTo>
                  <a:pt x="668" y="199"/>
                </a:lnTo>
                <a:lnTo>
                  <a:pt x="668" y="211"/>
                </a:lnTo>
                <a:lnTo>
                  <a:pt x="668" y="224"/>
                </a:lnTo>
                <a:lnTo>
                  <a:pt x="668" y="237"/>
                </a:lnTo>
                <a:lnTo>
                  <a:pt x="668" y="253"/>
                </a:lnTo>
                <a:lnTo>
                  <a:pt x="666" y="268"/>
                </a:lnTo>
                <a:lnTo>
                  <a:pt x="666" y="285"/>
                </a:lnTo>
                <a:lnTo>
                  <a:pt x="664" y="303"/>
                </a:lnTo>
                <a:lnTo>
                  <a:pt x="662" y="322"/>
                </a:lnTo>
                <a:lnTo>
                  <a:pt x="660" y="341"/>
                </a:lnTo>
                <a:lnTo>
                  <a:pt x="658" y="364"/>
                </a:lnTo>
                <a:lnTo>
                  <a:pt x="654" y="406"/>
                </a:lnTo>
                <a:lnTo>
                  <a:pt x="647" y="450"/>
                </a:lnTo>
                <a:lnTo>
                  <a:pt x="641" y="495"/>
                </a:lnTo>
                <a:lnTo>
                  <a:pt x="633" y="537"/>
                </a:lnTo>
                <a:lnTo>
                  <a:pt x="627" y="579"/>
                </a:lnTo>
                <a:lnTo>
                  <a:pt x="620" y="621"/>
                </a:lnTo>
                <a:lnTo>
                  <a:pt x="614" y="662"/>
                </a:lnTo>
                <a:lnTo>
                  <a:pt x="608" y="702"/>
                </a:lnTo>
                <a:lnTo>
                  <a:pt x="606" y="723"/>
                </a:lnTo>
                <a:lnTo>
                  <a:pt x="602" y="746"/>
                </a:lnTo>
                <a:lnTo>
                  <a:pt x="599" y="767"/>
                </a:lnTo>
                <a:lnTo>
                  <a:pt x="593" y="790"/>
                </a:lnTo>
                <a:lnTo>
                  <a:pt x="587" y="811"/>
                </a:lnTo>
                <a:lnTo>
                  <a:pt x="581" y="834"/>
                </a:lnTo>
                <a:lnTo>
                  <a:pt x="574" y="855"/>
                </a:lnTo>
                <a:lnTo>
                  <a:pt x="566" y="878"/>
                </a:lnTo>
                <a:lnTo>
                  <a:pt x="556" y="901"/>
                </a:lnTo>
                <a:lnTo>
                  <a:pt x="549" y="924"/>
                </a:lnTo>
                <a:lnTo>
                  <a:pt x="539" y="947"/>
                </a:lnTo>
                <a:lnTo>
                  <a:pt x="528" y="970"/>
                </a:lnTo>
                <a:lnTo>
                  <a:pt x="506" y="1017"/>
                </a:lnTo>
                <a:lnTo>
                  <a:pt x="485" y="1066"/>
                </a:lnTo>
                <a:lnTo>
                  <a:pt x="474" y="1091"/>
                </a:lnTo>
                <a:lnTo>
                  <a:pt x="460" y="1118"/>
                </a:lnTo>
                <a:lnTo>
                  <a:pt x="447" y="1141"/>
                </a:lnTo>
                <a:lnTo>
                  <a:pt x="432" y="1166"/>
                </a:lnTo>
                <a:lnTo>
                  <a:pt x="416" y="1189"/>
                </a:lnTo>
                <a:lnTo>
                  <a:pt x="401" y="1210"/>
                </a:lnTo>
                <a:lnTo>
                  <a:pt x="384" y="1233"/>
                </a:lnTo>
                <a:lnTo>
                  <a:pt x="366" y="1254"/>
                </a:lnTo>
                <a:lnTo>
                  <a:pt x="349" y="1274"/>
                </a:lnTo>
                <a:lnTo>
                  <a:pt x="332" y="1295"/>
                </a:lnTo>
                <a:lnTo>
                  <a:pt x="312" y="1314"/>
                </a:lnTo>
                <a:lnTo>
                  <a:pt x="293" y="1331"/>
                </a:lnTo>
                <a:lnTo>
                  <a:pt x="253" y="1368"/>
                </a:lnTo>
                <a:lnTo>
                  <a:pt x="213" y="1404"/>
                </a:lnTo>
                <a:lnTo>
                  <a:pt x="190" y="1419"/>
                </a:lnTo>
                <a:lnTo>
                  <a:pt x="169" y="1437"/>
                </a:lnTo>
                <a:lnTo>
                  <a:pt x="147" y="1450"/>
                </a:lnTo>
                <a:lnTo>
                  <a:pt x="128" y="1466"/>
                </a:lnTo>
                <a:lnTo>
                  <a:pt x="111" y="1477"/>
                </a:lnTo>
                <a:lnTo>
                  <a:pt x="94" y="1489"/>
                </a:lnTo>
                <a:lnTo>
                  <a:pt x="78" y="1498"/>
                </a:lnTo>
                <a:lnTo>
                  <a:pt x="65" y="1508"/>
                </a:lnTo>
                <a:lnTo>
                  <a:pt x="51" y="1515"/>
                </a:lnTo>
                <a:lnTo>
                  <a:pt x="40" y="1523"/>
                </a:lnTo>
                <a:lnTo>
                  <a:pt x="30" y="1527"/>
                </a:lnTo>
                <a:lnTo>
                  <a:pt x="23" y="1531"/>
                </a:lnTo>
                <a:lnTo>
                  <a:pt x="15" y="1535"/>
                </a:lnTo>
                <a:lnTo>
                  <a:pt x="9" y="1535"/>
                </a:lnTo>
                <a:lnTo>
                  <a:pt x="3" y="1535"/>
                </a:lnTo>
                <a:lnTo>
                  <a:pt x="1" y="153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106"/>
          <p:cNvSpPr/>
          <p:nvPr/>
        </p:nvSpPr>
        <p:spPr>
          <a:xfrm>
            <a:off x="6234120" y="4210200"/>
            <a:ext cx="1025640" cy="220680"/>
          </a:xfrm>
          <a:custGeom>
            <a:avLst/>
            <a:gdLst/>
            <a:ahLst/>
            <a:rect l="l" t="t" r="r" b="b"/>
            <a:pathLst>
              <a:path w="1292" h="279">
                <a:moveTo>
                  <a:pt x="151" y="131"/>
                </a:moveTo>
                <a:lnTo>
                  <a:pt x="171" y="129"/>
                </a:lnTo>
                <a:lnTo>
                  <a:pt x="192" y="125"/>
                </a:lnTo>
                <a:lnTo>
                  <a:pt x="213" y="121"/>
                </a:lnTo>
                <a:lnTo>
                  <a:pt x="238" y="119"/>
                </a:lnTo>
                <a:lnTo>
                  <a:pt x="263" y="115"/>
                </a:lnTo>
                <a:lnTo>
                  <a:pt x="288" y="110"/>
                </a:lnTo>
                <a:lnTo>
                  <a:pt x="317" y="106"/>
                </a:lnTo>
                <a:lnTo>
                  <a:pt x="345" y="102"/>
                </a:lnTo>
                <a:lnTo>
                  <a:pt x="378" y="96"/>
                </a:lnTo>
                <a:lnTo>
                  <a:pt x="409" y="90"/>
                </a:lnTo>
                <a:lnTo>
                  <a:pt x="443" y="85"/>
                </a:lnTo>
                <a:lnTo>
                  <a:pt x="480" y="79"/>
                </a:lnTo>
                <a:lnTo>
                  <a:pt x="516" y="73"/>
                </a:lnTo>
                <a:lnTo>
                  <a:pt x="555" y="67"/>
                </a:lnTo>
                <a:lnTo>
                  <a:pt x="593" y="60"/>
                </a:lnTo>
                <a:lnTo>
                  <a:pt x="635" y="52"/>
                </a:lnTo>
                <a:lnTo>
                  <a:pt x="674" y="44"/>
                </a:lnTo>
                <a:lnTo>
                  <a:pt x="710" y="39"/>
                </a:lnTo>
                <a:lnTo>
                  <a:pt x="747" y="33"/>
                </a:lnTo>
                <a:lnTo>
                  <a:pt x="781" y="27"/>
                </a:lnTo>
                <a:lnTo>
                  <a:pt x="814" y="23"/>
                </a:lnTo>
                <a:lnTo>
                  <a:pt x="845" y="18"/>
                </a:lnTo>
                <a:lnTo>
                  <a:pt x="875" y="14"/>
                </a:lnTo>
                <a:lnTo>
                  <a:pt x="902" y="12"/>
                </a:lnTo>
                <a:lnTo>
                  <a:pt x="929" y="8"/>
                </a:lnTo>
                <a:lnTo>
                  <a:pt x="954" y="6"/>
                </a:lnTo>
                <a:lnTo>
                  <a:pt x="977" y="4"/>
                </a:lnTo>
                <a:lnTo>
                  <a:pt x="1000" y="2"/>
                </a:lnTo>
                <a:lnTo>
                  <a:pt x="1019" y="2"/>
                </a:lnTo>
                <a:lnTo>
                  <a:pt x="1038" y="0"/>
                </a:lnTo>
                <a:lnTo>
                  <a:pt x="1054" y="0"/>
                </a:lnTo>
                <a:lnTo>
                  <a:pt x="1069" y="0"/>
                </a:lnTo>
                <a:lnTo>
                  <a:pt x="1096" y="0"/>
                </a:lnTo>
                <a:lnTo>
                  <a:pt x="1123" y="2"/>
                </a:lnTo>
                <a:lnTo>
                  <a:pt x="1146" y="6"/>
                </a:lnTo>
                <a:lnTo>
                  <a:pt x="1169" y="12"/>
                </a:lnTo>
                <a:lnTo>
                  <a:pt x="1181" y="16"/>
                </a:lnTo>
                <a:lnTo>
                  <a:pt x="1190" y="19"/>
                </a:lnTo>
                <a:lnTo>
                  <a:pt x="1202" y="23"/>
                </a:lnTo>
                <a:lnTo>
                  <a:pt x="1209" y="27"/>
                </a:lnTo>
                <a:lnTo>
                  <a:pt x="1219" y="33"/>
                </a:lnTo>
                <a:lnTo>
                  <a:pt x="1227" y="39"/>
                </a:lnTo>
                <a:lnTo>
                  <a:pt x="1236" y="44"/>
                </a:lnTo>
                <a:lnTo>
                  <a:pt x="1242" y="52"/>
                </a:lnTo>
                <a:lnTo>
                  <a:pt x="1250" y="60"/>
                </a:lnTo>
                <a:lnTo>
                  <a:pt x="1255" y="67"/>
                </a:lnTo>
                <a:lnTo>
                  <a:pt x="1261" y="73"/>
                </a:lnTo>
                <a:lnTo>
                  <a:pt x="1265" y="79"/>
                </a:lnTo>
                <a:lnTo>
                  <a:pt x="1271" y="85"/>
                </a:lnTo>
                <a:lnTo>
                  <a:pt x="1275" y="90"/>
                </a:lnTo>
                <a:lnTo>
                  <a:pt x="1280" y="102"/>
                </a:lnTo>
                <a:lnTo>
                  <a:pt x="1286" y="110"/>
                </a:lnTo>
                <a:lnTo>
                  <a:pt x="1290" y="119"/>
                </a:lnTo>
                <a:lnTo>
                  <a:pt x="1292" y="125"/>
                </a:lnTo>
                <a:lnTo>
                  <a:pt x="1292" y="131"/>
                </a:lnTo>
                <a:lnTo>
                  <a:pt x="1292" y="133"/>
                </a:lnTo>
                <a:lnTo>
                  <a:pt x="1288" y="135"/>
                </a:lnTo>
                <a:lnTo>
                  <a:pt x="1286" y="138"/>
                </a:lnTo>
                <a:lnTo>
                  <a:pt x="1280" y="140"/>
                </a:lnTo>
                <a:lnTo>
                  <a:pt x="1273" y="142"/>
                </a:lnTo>
                <a:lnTo>
                  <a:pt x="1265" y="144"/>
                </a:lnTo>
                <a:lnTo>
                  <a:pt x="1255" y="148"/>
                </a:lnTo>
                <a:lnTo>
                  <a:pt x="1244" y="150"/>
                </a:lnTo>
                <a:lnTo>
                  <a:pt x="1230" y="152"/>
                </a:lnTo>
                <a:lnTo>
                  <a:pt x="1217" y="156"/>
                </a:lnTo>
                <a:lnTo>
                  <a:pt x="1200" y="158"/>
                </a:lnTo>
                <a:lnTo>
                  <a:pt x="1182" y="160"/>
                </a:lnTo>
                <a:lnTo>
                  <a:pt x="1163" y="161"/>
                </a:lnTo>
                <a:lnTo>
                  <a:pt x="1140" y="165"/>
                </a:lnTo>
                <a:lnTo>
                  <a:pt x="1119" y="167"/>
                </a:lnTo>
                <a:lnTo>
                  <a:pt x="1094" y="169"/>
                </a:lnTo>
                <a:lnTo>
                  <a:pt x="1069" y="171"/>
                </a:lnTo>
                <a:lnTo>
                  <a:pt x="1044" y="175"/>
                </a:lnTo>
                <a:lnTo>
                  <a:pt x="1021" y="175"/>
                </a:lnTo>
                <a:lnTo>
                  <a:pt x="1000" y="177"/>
                </a:lnTo>
                <a:lnTo>
                  <a:pt x="979" y="179"/>
                </a:lnTo>
                <a:lnTo>
                  <a:pt x="960" y="179"/>
                </a:lnTo>
                <a:lnTo>
                  <a:pt x="941" y="181"/>
                </a:lnTo>
                <a:lnTo>
                  <a:pt x="923" y="181"/>
                </a:lnTo>
                <a:lnTo>
                  <a:pt x="906" y="181"/>
                </a:lnTo>
                <a:lnTo>
                  <a:pt x="891" y="183"/>
                </a:lnTo>
                <a:lnTo>
                  <a:pt x="875" y="183"/>
                </a:lnTo>
                <a:lnTo>
                  <a:pt x="860" y="183"/>
                </a:lnTo>
                <a:lnTo>
                  <a:pt x="846" y="183"/>
                </a:lnTo>
                <a:lnTo>
                  <a:pt x="833" y="183"/>
                </a:lnTo>
                <a:lnTo>
                  <a:pt x="820" y="183"/>
                </a:lnTo>
                <a:lnTo>
                  <a:pt x="808" y="183"/>
                </a:lnTo>
                <a:lnTo>
                  <a:pt x="797" y="185"/>
                </a:lnTo>
                <a:lnTo>
                  <a:pt x="783" y="188"/>
                </a:lnTo>
                <a:lnTo>
                  <a:pt x="768" y="190"/>
                </a:lnTo>
                <a:lnTo>
                  <a:pt x="752" y="192"/>
                </a:lnTo>
                <a:lnTo>
                  <a:pt x="735" y="196"/>
                </a:lnTo>
                <a:lnTo>
                  <a:pt x="718" y="198"/>
                </a:lnTo>
                <a:lnTo>
                  <a:pt x="699" y="200"/>
                </a:lnTo>
                <a:lnTo>
                  <a:pt x="679" y="204"/>
                </a:lnTo>
                <a:lnTo>
                  <a:pt x="658" y="208"/>
                </a:lnTo>
                <a:lnTo>
                  <a:pt x="637" y="209"/>
                </a:lnTo>
                <a:lnTo>
                  <a:pt x="614" y="213"/>
                </a:lnTo>
                <a:lnTo>
                  <a:pt x="591" y="217"/>
                </a:lnTo>
                <a:lnTo>
                  <a:pt x="566" y="221"/>
                </a:lnTo>
                <a:lnTo>
                  <a:pt x="539" y="225"/>
                </a:lnTo>
                <a:lnTo>
                  <a:pt x="512" y="231"/>
                </a:lnTo>
                <a:lnTo>
                  <a:pt x="486" y="234"/>
                </a:lnTo>
                <a:lnTo>
                  <a:pt x="457" y="240"/>
                </a:lnTo>
                <a:lnTo>
                  <a:pt x="428" y="244"/>
                </a:lnTo>
                <a:lnTo>
                  <a:pt x="403" y="248"/>
                </a:lnTo>
                <a:lnTo>
                  <a:pt x="378" y="252"/>
                </a:lnTo>
                <a:lnTo>
                  <a:pt x="357" y="256"/>
                </a:lnTo>
                <a:lnTo>
                  <a:pt x="336" y="259"/>
                </a:lnTo>
                <a:lnTo>
                  <a:pt x="317" y="261"/>
                </a:lnTo>
                <a:lnTo>
                  <a:pt x="297" y="263"/>
                </a:lnTo>
                <a:lnTo>
                  <a:pt x="282" y="267"/>
                </a:lnTo>
                <a:lnTo>
                  <a:pt x="267" y="269"/>
                </a:lnTo>
                <a:lnTo>
                  <a:pt x="255" y="269"/>
                </a:lnTo>
                <a:lnTo>
                  <a:pt x="244" y="271"/>
                </a:lnTo>
                <a:lnTo>
                  <a:pt x="234" y="273"/>
                </a:lnTo>
                <a:lnTo>
                  <a:pt x="224" y="273"/>
                </a:lnTo>
                <a:lnTo>
                  <a:pt x="219" y="273"/>
                </a:lnTo>
                <a:lnTo>
                  <a:pt x="213" y="273"/>
                </a:lnTo>
                <a:lnTo>
                  <a:pt x="205" y="277"/>
                </a:lnTo>
                <a:lnTo>
                  <a:pt x="199" y="277"/>
                </a:lnTo>
                <a:lnTo>
                  <a:pt x="192" y="279"/>
                </a:lnTo>
                <a:lnTo>
                  <a:pt x="184" y="279"/>
                </a:lnTo>
                <a:lnTo>
                  <a:pt x="176" y="279"/>
                </a:lnTo>
                <a:lnTo>
                  <a:pt x="169" y="277"/>
                </a:lnTo>
                <a:lnTo>
                  <a:pt x="161" y="277"/>
                </a:lnTo>
                <a:lnTo>
                  <a:pt x="153" y="275"/>
                </a:lnTo>
                <a:lnTo>
                  <a:pt x="146" y="271"/>
                </a:lnTo>
                <a:lnTo>
                  <a:pt x="136" y="267"/>
                </a:lnTo>
                <a:lnTo>
                  <a:pt x="128" y="263"/>
                </a:lnTo>
                <a:lnTo>
                  <a:pt x="119" y="259"/>
                </a:lnTo>
                <a:lnTo>
                  <a:pt x="109" y="254"/>
                </a:lnTo>
                <a:lnTo>
                  <a:pt x="98" y="248"/>
                </a:lnTo>
                <a:lnTo>
                  <a:pt x="88" y="242"/>
                </a:lnTo>
                <a:lnTo>
                  <a:pt x="77" y="234"/>
                </a:lnTo>
                <a:lnTo>
                  <a:pt x="65" y="227"/>
                </a:lnTo>
                <a:lnTo>
                  <a:pt x="55" y="221"/>
                </a:lnTo>
                <a:lnTo>
                  <a:pt x="46" y="213"/>
                </a:lnTo>
                <a:lnTo>
                  <a:pt x="36" y="208"/>
                </a:lnTo>
                <a:lnTo>
                  <a:pt x="29" y="202"/>
                </a:lnTo>
                <a:lnTo>
                  <a:pt x="23" y="196"/>
                </a:lnTo>
                <a:lnTo>
                  <a:pt x="17" y="190"/>
                </a:lnTo>
                <a:lnTo>
                  <a:pt x="11" y="186"/>
                </a:lnTo>
                <a:lnTo>
                  <a:pt x="7" y="181"/>
                </a:lnTo>
                <a:lnTo>
                  <a:pt x="4" y="177"/>
                </a:lnTo>
                <a:lnTo>
                  <a:pt x="2" y="173"/>
                </a:lnTo>
                <a:lnTo>
                  <a:pt x="0" y="169"/>
                </a:lnTo>
                <a:lnTo>
                  <a:pt x="0" y="165"/>
                </a:lnTo>
                <a:lnTo>
                  <a:pt x="0" y="161"/>
                </a:lnTo>
                <a:lnTo>
                  <a:pt x="0" y="160"/>
                </a:lnTo>
                <a:lnTo>
                  <a:pt x="2" y="156"/>
                </a:lnTo>
                <a:lnTo>
                  <a:pt x="6" y="154"/>
                </a:lnTo>
                <a:lnTo>
                  <a:pt x="7" y="152"/>
                </a:lnTo>
                <a:lnTo>
                  <a:pt x="13" y="150"/>
                </a:lnTo>
                <a:lnTo>
                  <a:pt x="19" y="148"/>
                </a:lnTo>
                <a:lnTo>
                  <a:pt x="25" y="148"/>
                </a:lnTo>
                <a:lnTo>
                  <a:pt x="32" y="146"/>
                </a:lnTo>
                <a:lnTo>
                  <a:pt x="40" y="144"/>
                </a:lnTo>
                <a:lnTo>
                  <a:pt x="48" y="144"/>
                </a:lnTo>
                <a:lnTo>
                  <a:pt x="57" y="142"/>
                </a:lnTo>
                <a:lnTo>
                  <a:pt x="69" y="140"/>
                </a:lnTo>
                <a:lnTo>
                  <a:pt x="80" y="140"/>
                </a:lnTo>
                <a:lnTo>
                  <a:pt x="92" y="138"/>
                </a:lnTo>
                <a:lnTo>
                  <a:pt x="105" y="137"/>
                </a:lnTo>
                <a:lnTo>
                  <a:pt x="121" y="135"/>
                </a:lnTo>
                <a:lnTo>
                  <a:pt x="134" y="133"/>
                </a:lnTo>
                <a:lnTo>
                  <a:pt x="151" y="13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94"/>
                                        </p:tgtEl>
                                        <p:attrNameLst>
                                          <p:attrName>style.visibility</p:attrName>
                                        </p:attrNameLst>
                                      </p:cBhvr>
                                      <p:to>
                                        <p:strVal val="visible"/>
                                      </p:to>
                                    </p:set>
                                    <p:anim calcmode="lin" valueType="num">
                                      <p:cBhvr additive="base">
                                        <p:cTn id="14" dur="500" fill="hold"/>
                                        <p:tgtEl>
                                          <p:spTgt spid="94"/>
                                        </p:tgtEl>
                                        <p:attrNameLst>
                                          <p:attrName>ppt_x</p:attrName>
                                        </p:attrNameLst>
                                      </p:cBhvr>
                                      <p:tavLst>
                                        <p:tav tm="0">
                                          <p:val>
                                            <p:strVal val="0-#ppt_w/2"/>
                                          </p:val>
                                        </p:tav>
                                        <p:tav tm="100000">
                                          <p:val>
                                            <p:strVal val="#ppt_x"/>
                                          </p:val>
                                        </p:tav>
                                      </p:tavLst>
                                    </p:anim>
                                    <p:anim calcmode="lin" valueType="num">
                                      <p:cBhvr additive="base">
                                        <p:cTn id="15"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95"/>
                                        </p:tgtEl>
                                        <p:attrNameLst>
                                          <p:attrName>style.visibility</p:attrName>
                                        </p:attrNameLst>
                                      </p:cBhvr>
                                      <p:to>
                                        <p:strVal val="visible"/>
                                      </p:to>
                                    </p:set>
                                    <p:animEffect filter="wipe(left)" transition="in">
                                      <p:cBhvr additive="repl">
                                        <p:cTn id="20" dur="500"/>
                                        <p:tgtEl>
                                          <p:spTgt spid="95"/>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97"/>
                                        </p:tgtEl>
                                        <p:attrNameLst>
                                          <p:attrName>style.visibility</p:attrName>
                                        </p:attrNameLst>
                                      </p:cBhvr>
                                      <p:to>
                                        <p:strVal val="visible"/>
                                      </p:to>
                                    </p:set>
                                    <p:animEffect filter="wipe(left)" transition="in">
                                      <p:cBhvr additive="repl">
                                        <p:cTn id="25" dur="500"/>
                                        <p:tgtEl>
                                          <p:spTgt spid="97"/>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102"/>
                                        </p:tgtEl>
                                        <p:attrNameLst>
                                          <p:attrName>style.visibility</p:attrName>
                                        </p:attrNameLst>
                                      </p:cBhvr>
                                      <p:to>
                                        <p:strVal val="visible"/>
                                      </p:to>
                                    </p:set>
                                    <p:animEffect filter="wipe(up)" transition="in">
                                      <p:cBhvr additive="repl">
                                        <p:cTn id="30" dur="500"/>
                                        <p:tgtEl>
                                          <p:spTgt spid="102"/>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96"/>
                                        </p:tgtEl>
                                        <p:attrNameLst>
                                          <p:attrName>style.visibility</p:attrName>
                                        </p:attrNameLst>
                                      </p:cBhvr>
                                      <p:to>
                                        <p:strVal val="visible"/>
                                      </p:to>
                                    </p:set>
                                    <p:animEffect filter="wipe(up)" transition="in">
                                      <p:cBhvr additive="repl">
                                        <p:cTn id="35" dur="500"/>
                                        <p:tgtEl>
                                          <p:spTgt spid="96"/>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98"/>
                                        </p:tgtEl>
                                        <p:attrNameLst>
                                          <p:attrName>style.visibility</p:attrName>
                                        </p:attrNameLst>
                                      </p:cBhvr>
                                      <p:to>
                                        <p:strVal val="visible"/>
                                      </p:to>
                                    </p:set>
                                    <p:animEffect filter="wipe(up)" transition="in">
                                      <p:cBhvr additive="repl">
                                        <p:cTn id="40" dur="500"/>
                                        <p:tgtEl>
                                          <p:spTgt spid="98"/>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99"/>
                                        </p:tgtEl>
                                        <p:attrNameLst>
                                          <p:attrName>style.visibility</p:attrName>
                                        </p:attrNameLst>
                                      </p:cBhvr>
                                      <p:to>
                                        <p:strVal val="visible"/>
                                      </p:to>
                                    </p:set>
                                    <p:animEffect filter="wipe(up)" transition="in">
                                      <p:cBhvr additive="repl">
                                        <p:cTn id="45" dur="500"/>
                                        <p:tgtEl>
                                          <p:spTgt spid="99"/>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03"/>
                                        </p:tgtEl>
                                        <p:attrNameLst>
                                          <p:attrName>style.visibility</p:attrName>
                                        </p:attrNameLst>
                                      </p:cBhvr>
                                      <p:to>
                                        <p:strVal val="visible"/>
                                      </p:to>
                                    </p:set>
                                    <p:animEffect filter="wipe(left)" transition="in">
                                      <p:cBhvr additive="repl">
                                        <p:cTn id="50" dur="500"/>
                                        <p:tgtEl>
                                          <p:spTgt spid="103"/>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100"/>
                                        </p:tgtEl>
                                        <p:attrNameLst>
                                          <p:attrName>style.visibility</p:attrName>
                                        </p:attrNameLst>
                                      </p:cBhvr>
                                      <p:to>
                                        <p:strVal val="visible"/>
                                      </p:to>
                                    </p:set>
                                    <p:animEffect filter="wipe(up)" transition="in">
                                      <p:cBhvr additive="repl">
                                        <p:cTn id="55" dur="500"/>
                                        <p:tgtEl>
                                          <p:spTgt spid="100"/>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01"/>
                                        </p:tgtEl>
                                        <p:attrNameLst>
                                          <p:attrName>style.visibility</p:attrName>
                                        </p:attrNameLst>
                                      </p:cBhvr>
                                      <p:to>
                                        <p:strVal val="visible"/>
                                      </p:to>
                                    </p:set>
                                    <p:animEffect filter="wipe(left)" transition="in">
                                      <p:cBhvr additive="repl">
                                        <p:cTn id="60" dur="500"/>
                                        <p:tgtEl>
                                          <p:spTgt spid="101"/>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53" presetSubtype="16">
                                  <p:stCondLst>
                                    <p:cond delay="0"/>
                                  </p:stCondLst>
                                  <p:childTnLst>
                                    <p:set>
                                      <p:cBhvr>
                                        <p:cTn id="64" dur="1" fill="hold">
                                          <p:stCondLst>
                                            <p:cond delay="0"/>
                                          </p:stCondLst>
                                        </p:cTn>
                                        <p:tgtEl>
                                          <p:spTgt spid="91"/>
                                        </p:tgtEl>
                                        <p:attrNameLst>
                                          <p:attrName>style.visibility</p:attrName>
                                        </p:attrNameLst>
                                      </p:cBhvr>
                                      <p:to>
                                        <p:strVal val="visible"/>
                                      </p:to>
                                    </p:set>
                                    <p:anim calcmode="lin" valueType="num">
                                      <p:cBhvr additive="repl">
                                        <p:cTn id="65" dur="500" fill="hold"/>
                                        <p:tgtEl>
                                          <p:spTgt spid="91"/>
                                        </p:tgtEl>
                                        <p:attrNameLst>
                                          <p:attrName>ppt_w</p:attrName>
                                        </p:attrNameLst>
                                      </p:cBhvr>
                                      <p:tavLst>
                                        <p:tav tm="0">
                                          <p:val>
                                            <p:fltVal val="0"/>
                                          </p:val>
                                        </p:tav>
                                        <p:tav tm="100000">
                                          <p:val>
                                            <p:strVal val="#ppt_w"/>
                                          </p:val>
                                        </p:tav>
                                      </p:tavLst>
                                    </p:anim>
                                    <p:anim calcmode="lin" valueType="num">
                                      <p:cBhvr additive="repl">
                                        <p:cTn id="66" dur="500" fill="hold"/>
                                        <p:tgtEl>
                                          <p:spTgt spid="91"/>
                                        </p:tgtEl>
                                        <p:attrNameLst>
                                          <p:attrName>ppt_h</p:attrName>
                                        </p:attrNameLst>
                                      </p:cBhvr>
                                      <p:tavLst>
                                        <p:tav tm="0">
                                          <p:val>
                                            <p:fltVal val="0"/>
                                          </p:val>
                                        </p:tav>
                                        <p:tav tm="100000">
                                          <p:val>
                                            <p:strVal val="#ppt_h"/>
                                          </p:val>
                                        </p:tav>
                                      </p:tavLst>
                                    </p:anim>
                                    <p:animEffect filter="fade" transition="in">
                                      <p:cBhvr additive="repl">
                                        <p:cTn id="6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翘</a:t>
            </a:r>
            <a:endParaRPr b="0" lang="en-US" sz="8000" spc="-1" strike="noStrike">
              <a:solidFill>
                <a:srgbClr val="000000"/>
              </a:solidFill>
              <a:latin typeface="Calibri"/>
            </a:endParaRPr>
          </a:p>
        </p:txBody>
      </p:sp>
      <p:graphicFrame>
        <p:nvGraphicFramePr>
          <p:cNvPr id="105"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06" name="组合 8"/>
          <p:cNvGrpSpPr/>
          <p:nvPr/>
        </p:nvGrpSpPr>
        <p:grpSpPr>
          <a:xfrm>
            <a:off x="1227240" y="3975120"/>
            <a:ext cx="2840040" cy="1571760"/>
            <a:chOff x="1227240" y="3975120"/>
            <a:chExt cx="2840040" cy="1571760"/>
          </a:xfrm>
        </p:grpSpPr>
        <p:pic>
          <p:nvPicPr>
            <p:cNvPr id="107" name="图示 4" descr=""/>
            <p:cNvPicPr/>
            <p:nvPr/>
          </p:nvPicPr>
          <p:blipFill>
            <a:blip r:embed="rId1"/>
            <a:stretch/>
          </p:blipFill>
          <p:spPr>
            <a:xfrm>
              <a:off x="1227240" y="3975120"/>
              <a:ext cx="2840040" cy="1571760"/>
            </a:xfrm>
            <a:prstGeom prst="rect">
              <a:avLst/>
            </a:prstGeom>
            <a:ln w="0">
              <a:noFill/>
            </a:ln>
          </p:spPr>
        </p:pic>
        <p:sp>
          <p:nvSpPr>
            <p:cNvPr id="108" name="矩形 2"/>
            <p:cNvSpPr/>
            <p:nvPr/>
          </p:nvSpPr>
          <p:spPr>
            <a:xfrm>
              <a:off x="1275480" y="4587840"/>
              <a:ext cx="27666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a:t>
              </a:r>
              <a:r>
                <a:rPr b="1" lang="zh-CN" sz="2000" spc="-1" strike="noStrike">
                  <a:solidFill>
                    <a:srgbClr val="000000"/>
                  </a:solidFill>
                  <a:latin typeface="仿宋"/>
                  <a:ea typeface="仿宋"/>
                </a:rPr>
                <a:t>尧”下部竖弯钩舒展且能托住“羽”。</a:t>
              </a:r>
              <a:endParaRPr b="0" lang="en-US" sz="2000" spc="-1" strike="noStrike">
                <a:solidFill>
                  <a:srgbClr val="000000"/>
                </a:solidFill>
                <a:latin typeface="Calibri"/>
              </a:endParaRPr>
            </a:p>
          </p:txBody>
        </p:sp>
      </p:grpSp>
      <p:sp>
        <p:nvSpPr>
          <p:cNvPr id="109" name="矩形 3"/>
          <p:cNvSpPr/>
          <p:nvPr/>
        </p:nvSpPr>
        <p:spPr>
          <a:xfrm>
            <a:off x="1998720" y="1868400"/>
            <a:ext cx="1454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qiào</a:t>
            </a:r>
            <a:endParaRPr b="0" lang="en-US" sz="4800" spc="-1" strike="noStrike">
              <a:solidFill>
                <a:srgbClr val="000000"/>
              </a:solidFill>
              <a:latin typeface="Calibri"/>
            </a:endParaRPr>
          </a:p>
        </p:txBody>
      </p:sp>
      <p:sp>
        <p:nvSpPr>
          <p:cNvPr id="110" name="Freeform 39"/>
          <p:cNvSpPr/>
          <p:nvPr/>
        </p:nvSpPr>
        <p:spPr>
          <a:xfrm>
            <a:off x="5595840" y="2982960"/>
            <a:ext cx="768600" cy="382680"/>
          </a:xfrm>
          <a:custGeom>
            <a:avLst/>
            <a:gdLst/>
            <a:ahLst/>
            <a:rect l="l" t="t" r="r" b="b"/>
            <a:pathLst>
              <a:path w="967" h="481">
                <a:moveTo>
                  <a:pt x="595" y="286"/>
                </a:moveTo>
                <a:lnTo>
                  <a:pt x="551" y="310"/>
                </a:lnTo>
                <a:lnTo>
                  <a:pt x="510" y="332"/>
                </a:lnTo>
                <a:lnTo>
                  <a:pt x="470" y="353"/>
                </a:lnTo>
                <a:lnTo>
                  <a:pt x="432" y="372"/>
                </a:lnTo>
                <a:lnTo>
                  <a:pt x="395" y="389"/>
                </a:lnTo>
                <a:lnTo>
                  <a:pt x="362" y="406"/>
                </a:lnTo>
                <a:lnTo>
                  <a:pt x="330" y="420"/>
                </a:lnTo>
                <a:lnTo>
                  <a:pt x="299" y="433"/>
                </a:lnTo>
                <a:lnTo>
                  <a:pt x="270" y="445"/>
                </a:lnTo>
                <a:lnTo>
                  <a:pt x="257" y="451"/>
                </a:lnTo>
                <a:lnTo>
                  <a:pt x="243" y="454"/>
                </a:lnTo>
                <a:lnTo>
                  <a:pt x="230" y="458"/>
                </a:lnTo>
                <a:lnTo>
                  <a:pt x="218" y="462"/>
                </a:lnTo>
                <a:lnTo>
                  <a:pt x="207" y="466"/>
                </a:lnTo>
                <a:lnTo>
                  <a:pt x="195" y="470"/>
                </a:lnTo>
                <a:lnTo>
                  <a:pt x="184" y="472"/>
                </a:lnTo>
                <a:lnTo>
                  <a:pt x="174" y="475"/>
                </a:lnTo>
                <a:lnTo>
                  <a:pt x="165" y="477"/>
                </a:lnTo>
                <a:lnTo>
                  <a:pt x="155" y="477"/>
                </a:lnTo>
                <a:lnTo>
                  <a:pt x="145" y="479"/>
                </a:lnTo>
                <a:lnTo>
                  <a:pt x="138" y="481"/>
                </a:lnTo>
                <a:lnTo>
                  <a:pt x="130" y="481"/>
                </a:lnTo>
                <a:lnTo>
                  <a:pt x="122" y="481"/>
                </a:lnTo>
                <a:lnTo>
                  <a:pt x="107" y="481"/>
                </a:lnTo>
                <a:lnTo>
                  <a:pt x="92" y="481"/>
                </a:lnTo>
                <a:lnTo>
                  <a:pt x="78" y="479"/>
                </a:lnTo>
                <a:lnTo>
                  <a:pt x="67" y="479"/>
                </a:lnTo>
                <a:lnTo>
                  <a:pt x="55" y="477"/>
                </a:lnTo>
                <a:lnTo>
                  <a:pt x="46" y="477"/>
                </a:lnTo>
                <a:lnTo>
                  <a:pt x="36" y="475"/>
                </a:lnTo>
                <a:lnTo>
                  <a:pt x="28" y="474"/>
                </a:lnTo>
                <a:lnTo>
                  <a:pt x="21" y="472"/>
                </a:lnTo>
                <a:lnTo>
                  <a:pt x="15" y="470"/>
                </a:lnTo>
                <a:lnTo>
                  <a:pt x="9" y="468"/>
                </a:lnTo>
                <a:lnTo>
                  <a:pt x="5" y="464"/>
                </a:lnTo>
                <a:lnTo>
                  <a:pt x="3" y="462"/>
                </a:lnTo>
                <a:lnTo>
                  <a:pt x="0" y="460"/>
                </a:lnTo>
                <a:lnTo>
                  <a:pt x="0" y="458"/>
                </a:lnTo>
                <a:lnTo>
                  <a:pt x="0" y="456"/>
                </a:lnTo>
                <a:lnTo>
                  <a:pt x="49" y="428"/>
                </a:lnTo>
                <a:lnTo>
                  <a:pt x="99" y="401"/>
                </a:lnTo>
                <a:lnTo>
                  <a:pt x="147" y="374"/>
                </a:lnTo>
                <a:lnTo>
                  <a:pt x="195" y="349"/>
                </a:lnTo>
                <a:lnTo>
                  <a:pt x="240" y="324"/>
                </a:lnTo>
                <a:lnTo>
                  <a:pt x="284" y="301"/>
                </a:lnTo>
                <a:lnTo>
                  <a:pt x="326" y="278"/>
                </a:lnTo>
                <a:lnTo>
                  <a:pt x="368" y="257"/>
                </a:lnTo>
                <a:lnTo>
                  <a:pt x="407" y="236"/>
                </a:lnTo>
                <a:lnTo>
                  <a:pt x="445" y="215"/>
                </a:lnTo>
                <a:lnTo>
                  <a:pt x="481" y="195"/>
                </a:lnTo>
                <a:lnTo>
                  <a:pt x="516" y="178"/>
                </a:lnTo>
                <a:lnTo>
                  <a:pt x="549" y="161"/>
                </a:lnTo>
                <a:lnTo>
                  <a:pt x="581" y="144"/>
                </a:lnTo>
                <a:lnTo>
                  <a:pt x="612" y="128"/>
                </a:lnTo>
                <a:lnTo>
                  <a:pt x="641" y="113"/>
                </a:lnTo>
                <a:lnTo>
                  <a:pt x="668" y="99"/>
                </a:lnTo>
                <a:lnTo>
                  <a:pt x="693" y="88"/>
                </a:lnTo>
                <a:lnTo>
                  <a:pt x="718" y="74"/>
                </a:lnTo>
                <a:lnTo>
                  <a:pt x="739" y="65"/>
                </a:lnTo>
                <a:lnTo>
                  <a:pt x="762" y="53"/>
                </a:lnTo>
                <a:lnTo>
                  <a:pt x="781" y="44"/>
                </a:lnTo>
                <a:lnTo>
                  <a:pt x="798" y="36"/>
                </a:lnTo>
                <a:lnTo>
                  <a:pt x="816" y="28"/>
                </a:lnTo>
                <a:lnTo>
                  <a:pt x="831" y="23"/>
                </a:lnTo>
                <a:lnTo>
                  <a:pt x="844" y="17"/>
                </a:lnTo>
                <a:lnTo>
                  <a:pt x="856" y="11"/>
                </a:lnTo>
                <a:lnTo>
                  <a:pt x="865" y="7"/>
                </a:lnTo>
                <a:lnTo>
                  <a:pt x="875" y="3"/>
                </a:lnTo>
                <a:lnTo>
                  <a:pt x="883" y="2"/>
                </a:lnTo>
                <a:lnTo>
                  <a:pt x="888" y="2"/>
                </a:lnTo>
                <a:lnTo>
                  <a:pt x="892" y="0"/>
                </a:lnTo>
                <a:lnTo>
                  <a:pt x="906" y="5"/>
                </a:lnTo>
                <a:lnTo>
                  <a:pt x="917" y="9"/>
                </a:lnTo>
                <a:lnTo>
                  <a:pt x="929" y="15"/>
                </a:lnTo>
                <a:lnTo>
                  <a:pt x="938" y="21"/>
                </a:lnTo>
                <a:lnTo>
                  <a:pt x="948" y="28"/>
                </a:lnTo>
                <a:lnTo>
                  <a:pt x="956" y="34"/>
                </a:lnTo>
                <a:lnTo>
                  <a:pt x="961" y="44"/>
                </a:lnTo>
                <a:lnTo>
                  <a:pt x="967" y="51"/>
                </a:lnTo>
                <a:lnTo>
                  <a:pt x="965" y="55"/>
                </a:lnTo>
                <a:lnTo>
                  <a:pt x="965" y="57"/>
                </a:lnTo>
                <a:lnTo>
                  <a:pt x="963" y="61"/>
                </a:lnTo>
                <a:lnTo>
                  <a:pt x="960" y="65"/>
                </a:lnTo>
                <a:lnTo>
                  <a:pt x="958" y="69"/>
                </a:lnTo>
                <a:lnTo>
                  <a:pt x="954" y="73"/>
                </a:lnTo>
                <a:lnTo>
                  <a:pt x="948" y="76"/>
                </a:lnTo>
                <a:lnTo>
                  <a:pt x="942" y="80"/>
                </a:lnTo>
                <a:lnTo>
                  <a:pt x="936" y="86"/>
                </a:lnTo>
                <a:lnTo>
                  <a:pt x="929" y="92"/>
                </a:lnTo>
                <a:lnTo>
                  <a:pt x="921" y="97"/>
                </a:lnTo>
                <a:lnTo>
                  <a:pt x="913" y="103"/>
                </a:lnTo>
                <a:lnTo>
                  <a:pt x="904" y="109"/>
                </a:lnTo>
                <a:lnTo>
                  <a:pt x="894" y="115"/>
                </a:lnTo>
                <a:lnTo>
                  <a:pt x="885" y="122"/>
                </a:lnTo>
                <a:lnTo>
                  <a:pt x="873" y="130"/>
                </a:lnTo>
                <a:lnTo>
                  <a:pt x="862" y="138"/>
                </a:lnTo>
                <a:lnTo>
                  <a:pt x="848" y="145"/>
                </a:lnTo>
                <a:lnTo>
                  <a:pt x="835" y="153"/>
                </a:lnTo>
                <a:lnTo>
                  <a:pt x="821" y="161"/>
                </a:lnTo>
                <a:lnTo>
                  <a:pt x="806" y="170"/>
                </a:lnTo>
                <a:lnTo>
                  <a:pt x="791" y="178"/>
                </a:lnTo>
                <a:lnTo>
                  <a:pt x="773" y="188"/>
                </a:lnTo>
                <a:lnTo>
                  <a:pt x="756" y="197"/>
                </a:lnTo>
                <a:lnTo>
                  <a:pt x="739" y="207"/>
                </a:lnTo>
                <a:lnTo>
                  <a:pt x="720" y="218"/>
                </a:lnTo>
                <a:lnTo>
                  <a:pt x="700" y="228"/>
                </a:lnTo>
                <a:lnTo>
                  <a:pt x="681" y="239"/>
                </a:lnTo>
                <a:lnTo>
                  <a:pt x="660" y="251"/>
                </a:lnTo>
                <a:lnTo>
                  <a:pt x="639" y="262"/>
                </a:lnTo>
                <a:lnTo>
                  <a:pt x="618" y="274"/>
                </a:lnTo>
                <a:lnTo>
                  <a:pt x="595" y="28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Freeform 40"/>
          <p:cNvSpPr/>
          <p:nvPr/>
        </p:nvSpPr>
        <p:spPr>
          <a:xfrm>
            <a:off x="5673600" y="3138480"/>
            <a:ext cx="819360" cy="685800"/>
          </a:xfrm>
          <a:custGeom>
            <a:avLst/>
            <a:gdLst/>
            <a:ahLst/>
            <a:rect l="l" t="t" r="r" b="b"/>
            <a:pathLst>
              <a:path w="1031" h="864">
                <a:moveTo>
                  <a:pt x="807" y="196"/>
                </a:moveTo>
                <a:lnTo>
                  <a:pt x="816" y="183"/>
                </a:lnTo>
                <a:lnTo>
                  <a:pt x="824" y="171"/>
                </a:lnTo>
                <a:lnTo>
                  <a:pt x="832" y="160"/>
                </a:lnTo>
                <a:lnTo>
                  <a:pt x="838" y="148"/>
                </a:lnTo>
                <a:lnTo>
                  <a:pt x="843" y="138"/>
                </a:lnTo>
                <a:lnTo>
                  <a:pt x="847" y="127"/>
                </a:lnTo>
                <a:lnTo>
                  <a:pt x="851" y="117"/>
                </a:lnTo>
                <a:lnTo>
                  <a:pt x="855" y="108"/>
                </a:lnTo>
                <a:lnTo>
                  <a:pt x="859" y="100"/>
                </a:lnTo>
                <a:lnTo>
                  <a:pt x="861" y="91"/>
                </a:lnTo>
                <a:lnTo>
                  <a:pt x="861" y="83"/>
                </a:lnTo>
                <a:lnTo>
                  <a:pt x="861" y="77"/>
                </a:lnTo>
                <a:lnTo>
                  <a:pt x="861" y="69"/>
                </a:lnTo>
                <a:lnTo>
                  <a:pt x="861" y="64"/>
                </a:lnTo>
                <a:lnTo>
                  <a:pt x="859" y="58"/>
                </a:lnTo>
                <a:lnTo>
                  <a:pt x="857" y="52"/>
                </a:lnTo>
                <a:lnTo>
                  <a:pt x="853" y="43"/>
                </a:lnTo>
                <a:lnTo>
                  <a:pt x="851" y="35"/>
                </a:lnTo>
                <a:lnTo>
                  <a:pt x="849" y="31"/>
                </a:lnTo>
                <a:lnTo>
                  <a:pt x="849" y="27"/>
                </a:lnTo>
                <a:lnTo>
                  <a:pt x="851" y="25"/>
                </a:lnTo>
                <a:lnTo>
                  <a:pt x="851" y="21"/>
                </a:lnTo>
                <a:lnTo>
                  <a:pt x="853" y="18"/>
                </a:lnTo>
                <a:lnTo>
                  <a:pt x="855" y="16"/>
                </a:lnTo>
                <a:lnTo>
                  <a:pt x="857" y="12"/>
                </a:lnTo>
                <a:lnTo>
                  <a:pt x="861" y="10"/>
                </a:lnTo>
                <a:lnTo>
                  <a:pt x="864" y="8"/>
                </a:lnTo>
                <a:lnTo>
                  <a:pt x="870" y="4"/>
                </a:lnTo>
                <a:lnTo>
                  <a:pt x="876" y="2"/>
                </a:lnTo>
                <a:lnTo>
                  <a:pt x="882" y="0"/>
                </a:lnTo>
                <a:lnTo>
                  <a:pt x="891" y="0"/>
                </a:lnTo>
                <a:lnTo>
                  <a:pt x="903" y="2"/>
                </a:lnTo>
                <a:lnTo>
                  <a:pt x="914" y="6"/>
                </a:lnTo>
                <a:lnTo>
                  <a:pt x="928" y="12"/>
                </a:lnTo>
                <a:lnTo>
                  <a:pt x="934" y="14"/>
                </a:lnTo>
                <a:lnTo>
                  <a:pt x="939" y="18"/>
                </a:lnTo>
                <a:lnTo>
                  <a:pt x="947" y="23"/>
                </a:lnTo>
                <a:lnTo>
                  <a:pt x="953" y="27"/>
                </a:lnTo>
                <a:lnTo>
                  <a:pt x="960" y="33"/>
                </a:lnTo>
                <a:lnTo>
                  <a:pt x="968" y="39"/>
                </a:lnTo>
                <a:lnTo>
                  <a:pt x="974" y="44"/>
                </a:lnTo>
                <a:lnTo>
                  <a:pt x="982" y="52"/>
                </a:lnTo>
                <a:lnTo>
                  <a:pt x="987" y="60"/>
                </a:lnTo>
                <a:lnTo>
                  <a:pt x="993" y="67"/>
                </a:lnTo>
                <a:lnTo>
                  <a:pt x="999" y="75"/>
                </a:lnTo>
                <a:lnTo>
                  <a:pt x="1005" y="81"/>
                </a:lnTo>
                <a:lnTo>
                  <a:pt x="1008" y="89"/>
                </a:lnTo>
                <a:lnTo>
                  <a:pt x="1012" y="96"/>
                </a:lnTo>
                <a:lnTo>
                  <a:pt x="1020" y="112"/>
                </a:lnTo>
                <a:lnTo>
                  <a:pt x="1024" y="125"/>
                </a:lnTo>
                <a:lnTo>
                  <a:pt x="1028" y="140"/>
                </a:lnTo>
                <a:lnTo>
                  <a:pt x="1030" y="154"/>
                </a:lnTo>
                <a:lnTo>
                  <a:pt x="1031" y="169"/>
                </a:lnTo>
                <a:lnTo>
                  <a:pt x="1030" y="177"/>
                </a:lnTo>
                <a:lnTo>
                  <a:pt x="1030" y="185"/>
                </a:lnTo>
                <a:lnTo>
                  <a:pt x="1026" y="192"/>
                </a:lnTo>
                <a:lnTo>
                  <a:pt x="1024" y="200"/>
                </a:lnTo>
                <a:lnTo>
                  <a:pt x="1020" y="209"/>
                </a:lnTo>
                <a:lnTo>
                  <a:pt x="1014" y="219"/>
                </a:lnTo>
                <a:lnTo>
                  <a:pt x="1008" y="227"/>
                </a:lnTo>
                <a:lnTo>
                  <a:pt x="1001" y="236"/>
                </a:lnTo>
                <a:lnTo>
                  <a:pt x="993" y="248"/>
                </a:lnTo>
                <a:lnTo>
                  <a:pt x="983" y="257"/>
                </a:lnTo>
                <a:lnTo>
                  <a:pt x="974" y="267"/>
                </a:lnTo>
                <a:lnTo>
                  <a:pt x="962" y="279"/>
                </a:lnTo>
                <a:lnTo>
                  <a:pt x="951" y="290"/>
                </a:lnTo>
                <a:lnTo>
                  <a:pt x="937" y="302"/>
                </a:lnTo>
                <a:lnTo>
                  <a:pt x="922" y="313"/>
                </a:lnTo>
                <a:lnTo>
                  <a:pt x="907" y="325"/>
                </a:lnTo>
                <a:lnTo>
                  <a:pt x="889" y="340"/>
                </a:lnTo>
                <a:lnTo>
                  <a:pt x="874" y="355"/>
                </a:lnTo>
                <a:lnTo>
                  <a:pt x="855" y="369"/>
                </a:lnTo>
                <a:lnTo>
                  <a:pt x="838" y="384"/>
                </a:lnTo>
                <a:lnTo>
                  <a:pt x="799" y="413"/>
                </a:lnTo>
                <a:lnTo>
                  <a:pt x="761" y="444"/>
                </a:lnTo>
                <a:lnTo>
                  <a:pt x="720" y="474"/>
                </a:lnTo>
                <a:lnTo>
                  <a:pt x="680" y="505"/>
                </a:lnTo>
                <a:lnTo>
                  <a:pt x="638" y="538"/>
                </a:lnTo>
                <a:lnTo>
                  <a:pt x="598" y="572"/>
                </a:lnTo>
                <a:lnTo>
                  <a:pt x="573" y="589"/>
                </a:lnTo>
                <a:lnTo>
                  <a:pt x="550" y="605"/>
                </a:lnTo>
                <a:lnTo>
                  <a:pt x="527" y="622"/>
                </a:lnTo>
                <a:lnTo>
                  <a:pt x="504" y="637"/>
                </a:lnTo>
                <a:lnTo>
                  <a:pt x="480" y="651"/>
                </a:lnTo>
                <a:lnTo>
                  <a:pt x="457" y="666"/>
                </a:lnTo>
                <a:lnTo>
                  <a:pt x="409" y="693"/>
                </a:lnTo>
                <a:lnTo>
                  <a:pt x="361" y="718"/>
                </a:lnTo>
                <a:lnTo>
                  <a:pt x="312" y="743"/>
                </a:lnTo>
                <a:lnTo>
                  <a:pt x="264" y="768"/>
                </a:lnTo>
                <a:lnTo>
                  <a:pt x="212" y="793"/>
                </a:lnTo>
                <a:lnTo>
                  <a:pt x="187" y="804"/>
                </a:lnTo>
                <a:lnTo>
                  <a:pt x="164" y="816"/>
                </a:lnTo>
                <a:lnTo>
                  <a:pt x="143" y="825"/>
                </a:lnTo>
                <a:lnTo>
                  <a:pt x="121" y="833"/>
                </a:lnTo>
                <a:lnTo>
                  <a:pt x="102" y="841"/>
                </a:lnTo>
                <a:lnTo>
                  <a:pt x="85" y="847"/>
                </a:lnTo>
                <a:lnTo>
                  <a:pt x="70" y="852"/>
                </a:lnTo>
                <a:lnTo>
                  <a:pt x="56" y="856"/>
                </a:lnTo>
                <a:lnTo>
                  <a:pt x="43" y="858"/>
                </a:lnTo>
                <a:lnTo>
                  <a:pt x="31" y="862"/>
                </a:lnTo>
                <a:lnTo>
                  <a:pt x="22" y="862"/>
                </a:lnTo>
                <a:lnTo>
                  <a:pt x="14" y="864"/>
                </a:lnTo>
                <a:lnTo>
                  <a:pt x="8" y="864"/>
                </a:lnTo>
                <a:lnTo>
                  <a:pt x="4" y="862"/>
                </a:lnTo>
                <a:lnTo>
                  <a:pt x="2" y="860"/>
                </a:lnTo>
                <a:lnTo>
                  <a:pt x="0" y="858"/>
                </a:lnTo>
                <a:lnTo>
                  <a:pt x="0" y="856"/>
                </a:lnTo>
                <a:lnTo>
                  <a:pt x="0" y="852"/>
                </a:lnTo>
                <a:lnTo>
                  <a:pt x="2" y="848"/>
                </a:lnTo>
                <a:lnTo>
                  <a:pt x="6" y="845"/>
                </a:lnTo>
                <a:lnTo>
                  <a:pt x="12" y="839"/>
                </a:lnTo>
                <a:lnTo>
                  <a:pt x="18" y="833"/>
                </a:lnTo>
                <a:lnTo>
                  <a:pt x="27" y="825"/>
                </a:lnTo>
                <a:lnTo>
                  <a:pt x="37" y="818"/>
                </a:lnTo>
                <a:lnTo>
                  <a:pt x="48" y="810"/>
                </a:lnTo>
                <a:lnTo>
                  <a:pt x="62" y="800"/>
                </a:lnTo>
                <a:lnTo>
                  <a:pt x="77" y="791"/>
                </a:lnTo>
                <a:lnTo>
                  <a:pt x="95" y="781"/>
                </a:lnTo>
                <a:lnTo>
                  <a:pt x="112" y="768"/>
                </a:lnTo>
                <a:lnTo>
                  <a:pt x="131" y="756"/>
                </a:lnTo>
                <a:lnTo>
                  <a:pt x="152" y="743"/>
                </a:lnTo>
                <a:lnTo>
                  <a:pt x="175" y="729"/>
                </a:lnTo>
                <a:lnTo>
                  <a:pt x="221" y="699"/>
                </a:lnTo>
                <a:lnTo>
                  <a:pt x="267" y="666"/>
                </a:lnTo>
                <a:lnTo>
                  <a:pt x="315" y="635"/>
                </a:lnTo>
                <a:lnTo>
                  <a:pt x="363" y="601"/>
                </a:lnTo>
                <a:lnTo>
                  <a:pt x="411" y="566"/>
                </a:lnTo>
                <a:lnTo>
                  <a:pt x="459" y="532"/>
                </a:lnTo>
                <a:lnTo>
                  <a:pt x="509" y="493"/>
                </a:lnTo>
                <a:lnTo>
                  <a:pt x="559" y="455"/>
                </a:lnTo>
                <a:lnTo>
                  <a:pt x="582" y="436"/>
                </a:lnTo>
                <a:lnTo>
                  <a:pt x="603" y="417"/>
                </a:lnTo>
                <a:lnTo>
                  <a:pt x="624" y="398"/>
                </a:lnTo>
                <a:lnTo>
                  <a:pt x="646" y="380"/>
                </a:lnTo>
                <a:lnTo>
                  <a:pt x="665" y="361"/>
                </a:lnTo>
                <a:lnTo>
                  <a:pt x="682" y="344"/>
                </a:lnTo>
                <a:lnTo>
                  <a:pt x="699" y="327"/>
                </a:lnTo>
                <a:lnTo>
                  <a:pt x="717" y="309"/>
                </a:lnTo>
                <a:lnTo>
                  <a:pt x="732" y="294"/>
                </a:lnTo>
                <a:lnTo>
                  <a:pt x="745" y="279"/>
                </a:lnTo>
                <a:lnTo>
                  <a:pt x="759" y="263"/>
                </a:lnTo>
                <a:lnTo>
                  <a:pt x="770" y="248"/>
                </a:lnTo>
                <a:lnTo>
                  <a:pt x="782" y="234"/>
                </a:lnTo>
                <a:lnTo>
                  <a:pt x="791" y="221"/>
                </a:lnTo>
                <a:lnTo>
                  <a:pt x="799" y="208"/>
                </a:lnTo>
                <a:lnTo>
                  <a:pt x="807" y="19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Freeform 41"/>
          <p:cNvSpPr/>
          <p:nvPr/>
        </p:nvSpPr>
        <p:spPr>
          <a:xfrm>
            <a:off x="6620040" y="3067200"/>
            <a:ext cx="452160" cy="1403280"/>
          </a:xfrm>
          <a:custGeom>
            <a:avLst/>
            <a:gdLst/>
            <a:ahLst/>
            <a:rect l="l" t="t" r="r" b="b"/>
            <a:pathLst>
              <a:path w="570" h="1767">
                <a:moveTo>
                  <a:pt x="198" y="1533"/>
                </a:moveTo>
                <a:lnTo>
                  <a:pt x="186" y="1524"/>
                </a:lnTo>
                <a:lnTo>
                  <a:pt x="176" y="1514"/>
                </a:lnTo>
                <a:lnTo>
                  <a:pt x="167" y="1506"/>
                </a:lnTo>
                <a:lnTo>
                  <a:pt x="159" y="1499"/>
                </a:lnTo>
                <a:lnTo>
                  <a:pt x="151" y="1491"/>
                </a:lnTo>
                <a:lnTo>
                  <a:pt x="144" y="1485"/>
                </a:lnTo>
                <a:lnTo>
                  <a:pt x="138" y="1480"/>
                </a:lnTo>
                <a:lnTo>
                  <a:pt x="132" y="1474"/>
                </a:lnTo>
                <a:lnTo>
                  <a:pt x="128" y="1468"/>
                </a:lnTo>
                <a:lnTo>
                  <a:pt x="125" y="1464"/>
                </a:lnTo>
                <a:lnTo>
                  <a:pt x="123" y="1458"/>
                </a:lnTo>
                <a:lnTo>
                  <a:pt x="121" y="1455"/>
                </a:lnTo>
                <a:lnTo>
                  <a:pt x="121" y="1451"/>
                </a:lnTo>
                <a:lnTo>
                  <a:pt x="121" y="1449"/>
                </a:lnTo>
                <a:lnTo>
                  <a:pt x="121" y="1445"/>
                </a:lnTo>
                <a:lnTo>
                  <a:pt x="123" y="1443"/>
                </a:lnTo>
                <a:lnTo>
                  <a:pt x="126" y="1441"/>
                </a:lnTo>
                <a:lnTo>
                  <a:pt x="128" y="1437"/>
                </a:lnTo>
                <a:lnTo>
                  <a:pt x="132" y="1437"/>
                </a:lnTo>
                <a:lnTo>
                  <a:pt x="136" y="1435"/>
                </a:lnTo>
                <a:lnTo>
                  <a:pt x="142" y="1434"/>
                </a:lnTo>
                <a:lnTo>
                  <a:pt x="148" y="1434"/>
                </a:lnTo>
                <a:lnTo>
                  <a:pt x="153" y="1434"/>
                </a:lnTo>
                <a:lnTo>
                  <a:pt x="159" y="1434"/>
                </a:lnTo>
                <a:lnTo>
                  <a:pt x="173" y="1434"/>
                </a:lnTo>
                <a:lnTo>
                  <a:pt x="188" y="1435"/>
                </a:lnTo>
                <a:lnTo>
                  <a:pt x="205" y="1437"/>
                </a:lnTo>
                <a:lnTo>
                  <a:pt x="222" y="1443"/>
                </a:lnTo>
                <a:lnTo>
                  <a:pt x="232" y="1445"/>
                </a:lnTo>
                <a:lnTo>
                  <a:pt x="240" y="1447"/>
                </a:lnTo>
                <a:lnTo>
                  <a:pt x="249" y="1447"/>
                </a:lnTo>
                <a:lnTo>
                  <a:pt x="257" y="1447"/>
                </a:lnTo>
                <a:lnTo>
                  <a:pt x="265" y="1447"/>
                </a:lnTo>
                <a:lnTo>
                  <a:pt x="272" y="1447"/>
                </a:lnTo>
                <a:lnTo>
                  <a:pt x="280" y="1445"/>
                </a:lnTo>
                <a:lnTo>
                  <a:pt x="288" y="1445"/>
                </a:lnTo>
                <a:lnTo>
                  <a:pt x="301" y="1439"/>
                </a:lnTo>
                <a:lnTo>
                  <a:pt x="313" y="1434"/>
                </a:lnTo>
                <a:lnTo>
                  <a:pt x="324" y="1426"/>
                </a:lnTo>
                <a:lnTo>
                  <a:pt x="334" y="1416"/>
                </a:lnTo>
                <a:lnTo>
                  <a:pt x="336" y="1414"/>
                </a:lnTo>
                <a:lnTo>
                  <a:pt x="336" y="1412"/>
                </a:lnTo>
                <a:lnTo>
                  <a:pt x="338" y="1409"/>
                </a:lnTo>
                <a:lnTo>
                  <a:pt x="340" y="1403"/>
                </a:lnTo>
                <a:lnTo>
                  <a:pt x="340" y="1397"/>
                </a:lnTo>
                <a:lnTo>
                  <a:pt x="342" y="1389"/>
                </a:lnTo>
                <a:lnTo>
                  <a:pt x="343" y="1380"/>
                </a:lnTo>
                <a:lnTo>
                  <a:pt x="345" y="1370"/>
                </a:lnTo>
                <a:lnTo>
                  <a:pt x="347" y="1361"/>
                </a:lnTo>
                <a:lnTo>
                  <a:pt x="349" y="1347"/>
                </a:lnTo>
                <a:lnTo>
                  <a:pt x="351" y="1336"/>
                </a:lnTo>
                <a:lnTo>
                  <a:pt x="351" y="1320"/>
                </a:lnTo>
                <a:lnTo>
                  <a:pt x="353" y="1305"/>
                </a:lnTo>
                <a:lnTo>
                  <a:pt x="355" y="1290"/>
                </a:lnTo>
                <a:lnTo>
                  <a:pt x="357" y="1272"/>
                </a:lnTo>
                <a:lnTo>
                  <a:pt x="359" y="1253"/>
                </a:lnTo>
                <a:lnTo>
                  <a:pt x="361" y="1234"/>
                </a:lnTo>
                <a:lnTo>
                  <a:pt x="363" y="1215"/>
                </a:lnTo>
                <a:lnTo>
                  <a:pt x="365" y="1192"/>
                </a:lnTo>
                <a:lnTo>
                  <a:pt x="366" y="1171"/>
                </a:lnTo>
                <a:lnTo>
                  <a:pt x="368" y="1146"/>
                </a:lnTo>
                <a:lnTo>
                  <a:pt x="368" y="1121"/>
                </a:lnTo>
                <a:lnTo>
                  <a:pt x="370" y="1096"/>
                </a:lnTo>
                <a:lnTo>
                  <a:pt x="372" y="1069"/>
                </a:lnTo>
                <a:lnTo>
                  <a:pt x="374" y="1042"/>
                </a:lnTo>
                <a:lnTo>
                  <a:pt x="376" y="1013"/>
                </a:lnTo>
                <a:lnTo>
                  <a:pt x="378" y="983"/>
                </a:lnTo>
                <a:lnTo>
                  <a:pt x="378" y="952"/>
                </a:lnTo>
                <a:lnTo>
                  <a:pt x="380" y="919"/>
                </a:lnTo>
                <a:lnTo>
                  <a:pt x="382" y="887"/>
                </a:lnTo>
                <a:lnTo>
                  <a:pt x="382" y="854"/>
                </a:lnTo>
                <a:lnTo>
                  <a:pt x="384" y="819"/>
                </a:lnTo>
                <a:lnTo>
                  <a:pt x="386" y="783"/>
                </a:lnTo>
                <a:lnTo>
                  <a:pt x="386" y="750"/>
                </a:lnTo>
                <a:lnTo>
                  <a:pt x="386" y="718"/>
                </a:lnTo>
                <a:lnTo>
                  <a:pt x="388" y="685"/>
                </a:lnTo>
                <a:lnTo>
                  <a:pt x="388" y="654"/>
                </a:lnTo>
                <a:lnTo>
                  <a:pt x="388" y="624"/>
                </a:lnTo>
                <a:lnTo>
                  <a:pt x="388" y="595"/>
                </a:lnTo>
                <a:lnTo>
                  <a:pt x="390" y="568"/>
                </a:lnTo>
                <a:lnTo>
                  <a:pt x="390" y="541"/>
                </a:lnTo>
                <a:lnTo>
                  <a:pt x="390" y="514"/>
                </a:lnTo>
                <a:lnTo>
                  <a:pt x="388" y="489"/>
                </a:lnTo>
                <a:lnTo>
                  <a:pt x="388" y="466"/>
                </a:lnTo>
                <a:lnTo>
                  <a:pt x="388" y="443"/>
                </a:lnTo>
                <a:lnTo>
                  <a:pt x="388" y="422"/>
                </a:lnTo>
                <a:lnTo>
                  <a:pt x="388" y="401"/>
                </a:lnTo>
                <a:lnTo>
                  <a:pt x="386" y="382"/>
                </a:lnTo>
                <a:lnTo>
                  <a:pt x="386" y="363"/>
                </a:lnTo>
                <a:lnTo>
                  <a:pt x="386" y="346"/>
                </a:lnTo>
                <a:lnTo>
                  <a:pt x="384" y="328"/>
                </a:lnTo>
                <a:lnTo>
                  <a:pt x="384" y="313"/>
                </a:lnTo>
                <a:lnTo>
                  <a:pt x="384" y="298"/>
                </a:lnTo>
                <a:lnTo>
                  <a:pt x="382" y="284"/>
                </a:lnTo>
                <a:lnTo>
                  <a:pt x="382" y="273"/>
                </a:lnTo>
                <a:lnTo>
                  <a:pt x="380" y="261"/>
                </a:lnTo>
                <a:lnTo>
                  <a:pt x="380" y="250"/>
                </a:lnTo>
                <a:lnTo>
                  <a:pt x="378" y="242"/>
                </a:lnTo>
                <a:lnTo>
                  <a:pt x="376" y="232"/>
                </a:lnTo>
                <a:lnTo>
                  <a:pt x="376" y="227"/>
                </a:lnTo>
                <a:lnTo>
                  <a:pt x="374" y="219"/>
                </a:lnTo>
                <a:lnTo>
                  <a:pt x="374" y="215"/>
                </a:lnTo>
                <a:lnTo>
                  <a:pt x="372" y="211"/>
                </a:lnTo>
                <a:lnTo>
                  <a:pt x="372" y="207"/>
                </a:lnTo>
                <a:lnTo>
                  <a:pt x="361" y="198"/>
                </a:lnTo>
                <a:lnTo>
                  <a:pt x="351" y="190"/>
                </a:lnTo>
                <a:lnTo>
                  <a:pt x="338" y="184"/>
                </a:lnTo>
                <a:lnTo>
                  <a:pt x="322" y="179"/>
                </a:lnTo>
                <a:lnTo>
                  <a:pt x="315" y="179"/>
                </a:lnTo>
                <a:lnTo>
                  <a:pt x="307" y="177"/>
                </a:lnTo>
                <a:lnTo>
                  <a:pt x="299" y="177"/>
                </a:lnTo>
                <a:lnTo>
                  <a:pt x="290" y="177"/>
                </a:lnTo>
                <a:lnTo>
                  <a:pt x="280" y="177"/>
                </a:lnTo>
                <a:lnTo>
                  <a:pt x="269" y="177"/>
                </a:lnTo>
                <a:lnTo>
                  <a:pt x="259" y="179"/>
                </a:lnTo>
                <a:lnTo>
                  <a:pt x="247" y="181"/>
                </a:lnTo>
                <a:lnTo>
                  <a:pt x="224" y="186"/>
                </a:lnTo>
                <a:lnTo>
                  <a:pt x="203" y="190"/>
                </a:lnTo>
                <a:lnTo>
                  <a:pt x="182" y="196"/>
                </a:lnTo>
                <a:lnTo>
                  <a:pt x="163" y="200"/>
                </a:lnTo>
                <a:lnTo>
                  <a:pt x="146" y="204"/>
                </a:lnTo>
                <a:lnTo>
                  <a:pt x="128" y="205"/>
                </a:lnTo>
                <a:lnTo>
                  <a:pt x="113" y="207"/>
                </a:lnTo>
                <a:lnTo>
                  <a:pt x="98" y="207"/>
                </a:lnTo>
                <a:lnTo>
                  <a:pt x="84" y="207"/>
                </a:lnTo>
                <a:lnTo>
                  <a:pt x="71" y="205"/>
                </a:lnTo>
                <a:lnTo>
                  <a:pt x="57" y="202"/>
                </a:lnTo>
                <a:lnTo>
                  <a:pt x="44" y="198"/>
                </a:lnTo>
                <a:lnTo>
                  <a:pt x="30" y="192"/>
                </a:lnTo>
                <a:lnTo>
                  <a:pt x="19" y="186"/>
                </a:lnTo>
                <a:lnTo>
                  <a:pt x="9" y="177"/>
                </a:lnTo>
                <a:lnTo>
                  <a:pt x="0" y="169"/>
                </a:lnTo>
                <a:lnTo>
                  <a:pt x="32" y="156"/>
                </a:lnTo>
                <a:lnTo>
                  <a:pt x="65" y="144"/>
                </a:lnTo>
                <a:lnTo>
                  <a:pt x="96" y="134"/>
                </a:lnTo>
                <a:lnTo>
                  <a:pt x="125" y="123"/>
                </a:lnTo>
                <a:lnTo>
                  <a:pt x="151" y="113"/>
                </a:lnTo>
                <a:lnTo>
                  <a:pt x="163" y="110"/>
                </a:lnTo>
                <a:lnTo>
                  <a:pt x="176" y="106"/>
                </a:lnTo>
                <a:lnTo>
                  <a:pt x="188" y="100"/>
                </a:lnTo>
                <a:lnTo>
                  <a:pt x="198" y="96"/>
                </a:lnTo>
                <a:lnTo>
                  <a:pt x="209" y="92"/>
                </a:lnTo>
                <a:lnTo>
                  <a:pt x="219" y="88"/>
                </a:lnTo>
                <a:lnTo>
                  <a:pt x="228" y="85"/>
                </a:lnTo>
                <a:lnTo>
                  <a:pt x="238" y="81"/>
                </a:lnTo>
                <a:lnTo>
                  <a:pt x="246" y="77"/>
                </a:lnTo>
                <a:lnTo>
                  <a:pt x="255" y="73"/>
                </a:lnTo>
                <a:lnTo>
                  <a:pt x="263" y="69"/>
                </a:lnTo>
                <a:lnTo>
                  <a:pt x="269" y="67"/>
                </a:lnTo>
                <a:lnTo>
                  <a:pt x="276" y="63"/>
                </a:lnTo>
                <a:lnTo>
                  <a:pt x="282" y="60"/>
                </a:lnTo>
                <a:lnTo>
                  <a:pt x="288" y="58"/>
                </a:lnTo>
                <a:lnTo>
                  <a:pt x="292" y="54"/>
                </a:lnTo>
                <a:lnTo>
                  <a:pt x="295" y="52"/>
                </a:lnTo>
                <a:lnTo>
                  <a:pt x="299" y="48"/>
                </a:lnTo>
                <a:lnTo>
                  <a:pt x="303" y="46"/>
                </a:lnTo>
                <a:lnTo>
                  <a:pt x="305" y="42"/>
                </a:lnTo>
                <a:lnTo>
                  <a:pt x="307" y="40"/>
                </a:lnTo>
                <a:lnTo>
                  <a:pt x="309" y="39"/>
                </a:lnTo>
                <a:lnTo>
                  <a:pt x="315" y="29"/>
                </a:lnTo>
                <a:lnTo>
                  <a:pt x="320" y="21"/>
                </a:lnTo>
                <a:lnTo>
                  <a:pt x="328" y="14"/>
                </a:lnTo>
                <a:lnTo>
                  <a:pt x="336" y="10"/>
                </a:lnTo>
                <a:lnTo>
                  <a:pt x="343" y="4"/>
                </a:lnTo>
                <a:lnTo>
                  <a:pt x="353" y="2"/>
                </a:lnTo>
                <a:lnTo>
                  <a:pt x="363" y="0"/>
                </a:lnTo>
                <a:lnTo>
                  <a:pt x="372" y="0"/>
                </a:lnTo>
                <a:lnTo>
                  <a:pt x="374" y="0"/>
                </a:lnTo>
                <a:lnTo>
                  <a:pt x="378" y="0"/>
                </a:lnTo>
                <a:lnTo>
                  <a:pt x="382" y="0"/>
                </a:lnTo>
                <a:lnTo>
                  <a:pt x="386" y="2"/>
                </a:lnTo>
                <a:lnTo>
                  <a:pt x="390" y="2"/>
                </a:lnTo>
                <a:lnTo>
                  <a:pt x="395" y="4"/>
                </a:lnTo>
                <a:lnTo>
                  <a:pt x="401" y="6"/>
                </a:lnTo>
                <a:lnTo>
                  <a:pt x="409" y="8"/>
                </a:lnTo>
                <a:lnTo>
                  <a:pt x="416" y="12"/>
                </a:lnTo>
                <a:lnTo>
                  <a:pt x="424" y="14"/>
                </a:lnTo>
                <a:lnTo>
                  <a:pt x="432" y="17"/>
                </a:lnTo>
                <a:lnTo>
                  <a:pt x="441" y="21"/>
                </a:lnTo>
                <a:lnTo>
                  <a:pt x="451" y="25"/>
                </a:lnTo>
                <a:lnTo>
                  <a:pt x="461" y="29"/>
                </a:lnTo>
                <a:lnTo>
                  <a:pt x="472" y="33"/>
                </a:lnTo>
                <a:lnTo>
                  <a:pt x="484" y="39"/>
                </a:lnTo>
                <a:lnTo>
                  <a:pt x="491" y="42"/>
                </a:lnTo>
                <a:lnTo>
                  <a:pt x="501" y="48"/>
                </a:lnTo>
                <a:lnTo>
                  <a:pt x="509" y="52"/>
                </a:lnTo>
                <a:lnTo>
                  <a:pt x="516" y="58"/>
                </a:lnTo>
                <a:lnTo>
                  <a:pt x="522" y="63"/>
                </a:lnTo>
                <a:lnTo>
                  <a:pt x="530" y="67"/>
                </a:lnTo>
                <a:lnTo>
                  <a:pt x="539" y="77"/>
                </a:lnTo>
                <a:lnTo>
                  <a:pt x="551" y="86"/>
                </a:lnTo>
                <a:lnTo>
                  <a:pt x="558" y="96"/>
                </a:lnTo>
                <a:lnTo>
                  <a:pt x="564" y="106"/>
                </a:lnTo>
                <a:lnTo>
                  <a:pt x="570" y="117"/>
                </a:lnTo>
                <a:lnTo>
                  <a:pt x="568" y="127"/>
                </a:lnTo>
                <a:lnTo>
                  <a:pt x="568" y="136"/>
                </a:lnTo>
                <a:lnTo>
                  <a:pt x="564" y="144"/>
                </a:lnTo>
                <a:lnTo>
                  <a:pt x="562" y="154"/>
                </a:lnTo>
                <a:lnTo>
                  <a:pt x="558" y="161"/>
                </a:lnTo>
                <a:lnTo>
                  <a:pt x="555" y="169"/>
                </a:lnTo>
                <a:lnTo>
                  <a:pt x="549" y="175"/>
                </a:lnTo>
                <a:lnTo>
                  <a:pt x="545" y="181"/>
                </a:lnTo>
                <a:lnTo>
                  <a:pt x="543" y="186"/>
                </a:lnTo>
                <a:lnTo>
                  <a:pt x="539" y="194"/>
                </a:lnTo>
                <a:lnTo>
                  <a:pt x="537" y="204"/>
                </a:lnTo>
                <a:lnTo>
                  <a:pt x="535" y="215"/>
                </a:lnTo>
                <a:lnTo>
                  <a:pt x="533" y="228"/>
                </a:lnTo>
                <a:lnTo>
                  <a:pt x="532" y="236"/>
                </a:lnTo>
                <a:lnTo>
                  <a:pt x="532" y="244"/>
                </a:lnTo>
                <a:lnTo>
                  <a:pt x="530" y="252"/>
                </a:lnTo>
                <a:lnTo>
                  <a:pt x="528" y="261"/>
                </a:lnTo>
                <a:lnTo>
                  <a:pt x="528" y="271"/>
                </a:lnTo>
                <a:lnTo>
                  <a:pt x="526" y="280"/>
                </a:lnTo>
                <a:lnTo>
                  <a:pt x="526" y="290"/>
                </a:lnTo>
                <a:lnTo>
                  <a:pt x="524" y="301"/>
                </a:lnTo>
                <a:lnTo>
                  <a:pt x="522" y="313"/>
                </a:lnTo>
                <a:lnTo>
                  <a:pt x="522" y="324"/>
                </a:lnTo>
                <a:lnTo>
                  <a:pt x="520" y="336"/>
                </a:lnTo>
                <a:lnTo>
                  <a:pt x="520" y="349"/>
                </a:lnTo>
                <a:lnTo>
                  <a:pt x="518" y="363"/>
                </a:lnTo>
                <a:lnTo>
                  <a:pt x="516" y="376"/>
                </a:lnTo>
                <a:lnTo>
                  <a:pt x="516" y="392"/>
                </a:lnTo>
                <a:lnTo>
                  <a:pt x="514" y="407"/>
                </a:lnTo>
                <a:lnTo>
                  <a:pt x="514" y="422"/>
                </a:lnTo>
                <a:lnTo>
                  <a:pt x="512" y="438"/>
                </a:lnTo>
                <a:lnTo>
                  <a:pt x="510" y="453"/>
                </a:lnTo>
                <a:lnTo>
                  <a:pt x="510" y="470"/>
                </a:lnTo>
                <a:lnTo>
                  <a:pt x="509" y="488"/>
                </a:lnTo>
                <a:lnTo>
                  <a:pt x="509" y="507"/>
                </a:lnTo>
                <a:lnTo>
                  <a:pt x="505" y="543"/>
                </a:lnTo>
                <a:lnTo>
                  <a:pt x="503" y="582"/>
                </a:lnTo>
                <a:lnTo>
                  <a:pt x="503" y="618"/>
                </a:lnTo>
                <a:lnTo>
                  <a:pt x="501" y="658"/>
                </a:lnTo>
                <a:lnTo>
                  <a:pt x="499" y="697"/>
                </a:lnTo>
                <a:lnTo>
                  <a:pt x="499" y="739"/>
                </a:lnTo>
                <a:lnTo>
                  <a:pt x="497" y="779"/>
                </a:lnTo>
                <a:lnTo>
                  <a:pt x="497" y="821"/>
                </a:lnTo>
                <a:lnTo>
                  <a:pt x="497" y="866"/>
                </a:lnTo>
                <a:lnTo>
                  <a:pt x="495" y="910"/>
                </a:lnTo>
                <a:lnTo>
                  <a:pt x="495" y="954"/>
                </a:lnTo>
                <a:lnTo>
                  <a:pt x="495" y="1000"/>
                </a:lnTo>
                <a:lnTo>
                  <a:pt x="495" y="1048"/>
                </a:lnTo>
                <a:lnTo>
                  <a:pt x="495" y="1096"/>
                </a:lnTo>
                <a:lnTo>
                  <a:pt x="495" y="1146"/>
                </a:lnTo>
                <a:lnTo>
                  <a:pt x="495" y="1196"/>
                </a:lnTo>
                <a:lnTo>
                  <a:pt x="493" y="1221"/>
                </a:lnTo>
                <a:lnTo>
                  <a:pt x="493" y="1245"/>
                </a:lnTo>
                <a:lnTo>
                  <a:pt x="491" y="1269"/>
                </a:lnTo>
                <a:lnTo>
                  <a:pt x="491" y="1293"/>
                </a:lnTo>
                <a:lnTo>
                  <a:pt x="489" y="1315"/>
                </a:lnTo>
                <a:lnTo>
                  <a:pt x="487" y="1338"/>
                </a:lnTo>
                <a:lnTo>
                  <a:pt x="487" y="1359"/>
                </a:lnTo>
                <a:lnTo>
                  <a:pt x="485" y="1378"/>
                </a:lnTo>
                <a:lnTo>
                  <a:pt x="484" y="1399"/>
                </a:lnTo>
                <a:lnTo>
                  <a:pt x="484" y="1418"/>
                </a:lnTo>
                <a:lnTo>
                  <a:pt x="482" y="1435"/>
                </a:lnTo>
                <a:lnTo>
                  <a:pt x="480" y="1455"/>
                </a:lnTo>
                <a:lnTo>
                  <a:pt x="478" y="1472"/>
                </a:lnTo>
                <a:lnTo>
                  <a:pt x="478" y="1487"/>
                </a:lnTo>
                <a:lnTo>
                  <a:pt x="476" y="1505"/>
                </a:lnTo>
                <a:lnTo>
                  <a:pt x="474" y="1520"/>
                </a:lnTo>
                <a:lnTo>
                  <a:pt x="472" y="1533"/>
                </a:lnTo>
                <a:lnTo>
                  <a:pt x="470" y="1547"/>
                </a:lnTo>
                <a:lnTo>
                  <a:pt x="468" y="1560"/>
                </a:lnTo>
                <a:lnTo>
                  <a:pt x="466" y="1574"/>
                </a:lnTo>
                <a:lnTo>
                  <a:pt x="464" y="1585"/>
                </a:lnTo>
                <a:lnTo>
                  <a:pt x="462" y="1597"/>
                </a:lnTo>
                <a:lnTo>
                  <a:pt x="459" y="1608"/>
                </a:lnTo>
                <a:lnTo>
                  <a:pt x="457" y="1618"/>
                </a:lnTo>
                <a:lnTo>
                  <a:pt x="455" y="1627"/>
                </a:lnTo>
                <a:lnTo>
                  <a:pt x="451" y="1637"/>
                </a:lnTo>
                <a:lnTo>
                  <a:pt x="449" y="1645"/>
                </a:lnTo>
                <a:lnTo>
                  <a:pt x="445" y="1652"/>
                </a:lnTo>
                <a:lnTo>
                  <a:pt x="443" y="1660"/>
                </a:lnTo>
                <a:lnTo>
                  <a:pt x="439" y="1666"/>
                </a:lnTo>
                <a:lnTo>
                  <a:pt x="437" y="1671"/>
                </a:lnTo>
                <a:lnTo>
                  <a:pt x="434" y="1677"/>
                </a:lnTo>
                <a:lnTo>
                  <a:pt x="426" y="1689"/>
                </a:lnTo>
                <a:lnTo>
                  <a:pt x="420" y="1700"/>
                </a:lnTo>
                <a:lnTo>
                  <a:pt x="414" y="1710"/>
                </a:lnTo>
                <a:lnTo>
                  <a:pt x="409" y="1718"/>
                </a:lnTo>
                <a:lnTo>
                  <a:pt x="403" y="1727"/>
                </a:lnTo>
                <a:lnTo>
                  <a:pt x="397" y="1735"/>
                </a:lnTo>
                <a:lnTo>
                  <a:pt x="391" y="1741"/>
                </a:lnTo>
                <a:lnTo>
                  <a:pt x="388" y="1746"/>
                </a:lnTo>
                <a:lnTo>
                  <a:pt x="382" y="1752"/>
                </a:lnTo>
                <a:lnTo>
                  <a:pt x="378" y="1756"/>
                </a:lnTo>
                <a:lnTo>
                  <a:pt x="374" y="1760"/>
                </a:lnTo>
                <a:lnTo>
                  <a:pt x="370" y="1762"/>
                </a:lnTo>
                <a:lnTo>
                  <a:pt x="366" y="1765"/>
                </a:lnTo>
                <a:lnTo>
                  <a:pt x="365" y="1765"/>
                </a:lnTo>
                <a:lnTo>
                  <a:pt x="361" y="1767"/>
                </a:lnTo>
                <a:lnTo>
                  <a:pt x="359" y="1767"/>
                </a:lnTo>
                <a:lnTo>
                  <a:pt x="355" y="1767"/>
                </a:lnTo>
                <a:lnTo>
                  <a:pt x="349" y="1765"/>
                </a:lnTo>
                <a:lnTo>
                  <a:pt x="345" y="1765"/>
                </a:lnTo>
                <a:lnTo>
                  <a:pt x="343" y="1762"/>
                </a:lnTo>
                <a:lnTo>
                  <a:pt x="340" y="1760"/>
                </a:lnTo>
                <a:lnTo>
                  <a:pt x="336" y="1756"/>
                </a:lnTo>
                <a:lnTo>
                  <a:pt x="334" y="1752"/>
                </a:lnTo>
                <a:lnTo>
                  <a:pt x="332" y="1746"/>
                </a:lnTo>
                <a:lnTo>
                  <a:pt x="328" y="1741"/>
                </a:lnTo>
                <a:lnTo>
                  <a:pt x="326" y="1735"/>
                </a:lnTo>
                <a:lnTo>
                  <a:pt x="326" y="1727"/>
                </a:lnTo>
                <a:lnTo>
                  <a:pt x="324" y="1718"/>
                </a:lnTo>
                <a:lnTo>
                  <a:pt x="322" y="1710"/>
                </a:lnTo>
                <a:lnTo>
                  <a:pt x="322" y="1698"/>
                </a:lnTo>
                <a:lnTo>
                  <a:pt x="322" y="1689"/>
                </a:lnTo>
                <a:lnTo>
                  <a:pt x="322" y="1677"/>
                </a:lnTo>
                <a:lnTo>
                  <a:pt x="318" y="1668"/>
                </a:lnTo>
                <a:lnTo>
                  <a:pt x="317" y="1658"/>
                </a:lnTo>
                <a:lnTo>
                  <a:pt x="313" y="1648"/>
                </a:lnTo>
                <a:lnTo>
                  <a:pt x="307" y="1639"/>
                </a:lnTo>
                <a:lnTo>
                  <a:pt x="303" y="1629"/>
                </a:lnTo>
                <a:lnTo>
                  <a:pt x="297" y="1620"/>
                </a:lnTo>
                <a:lnTo>
                  <a:pt x="290" y="1610"/>
                </a:lnTo>
                <a:lnTo>
                  <a:pt x="282" y="1600"/>
                </a:lnTo>
                <a:lnTo>
                  <a:pt x="274" y="1591"/>
                </a:lnTo>
                <a:lnTo>
                  <a:pt x="267" y="1583"/>
                </a:lnTo>
                <a:lnTo>
                  <a:pt x="257" y="1574"/>
                </a:lnTo>
                <a:lnTo>
                  <a:pt x="246" y="1566"/>
                </a:lnTo>
                <a:lnTo>
                  <a:pt x="236" y="1556"/>
                </a:lnTo>
                <a:lnTo>
                  <a:pt x="224" y="1549"/>
                </a:lnTo>
                <a:lnTo>
                  <a:pt x="211" y="1541"/>
                </a:lnTo>
                <a:lnTo>
                  <a:pt x="198" y="153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Freeform 42"/>
          <p:cNvSpPr/>
          <p:nvPr/>
        </p:nvSpPr>
        <p:spPr>
          <a:xfrm>
            <a:off x="7142040" y="3035160"/>
            <a:ext cx="433440" cy="1457640"/>
          </a:xfrm>
          <a:custGeom>
            <a:avLst/>
            <a:gdLst/>
            <a:ahLst/>
            <a:rect l="l" t="t" r="r" b="b"/>
            <a:pathLst>
              <a:path w="548" h="1836">
                <a:moveTo>
                  <a:pt x="311" y="1483"/>
                </a:moveTo>
                <a:lnTo>
                  <a:pt x="311" y="1479"/>
                </a:lnTo>
                <a:lnTo>
                  <a:pt x="313" y="1474"/>
                </a:lnTo>
                <a:lnTo>
                  <a:pt x="313" y="1470"/>
                </a:lnTo>
                <a:lnTo>
                  <a:pt x="315" y="1464"/>
                </a:lnTo>
                <a:lnTo>
                  <a:pt x="317" y="1458"/>
                </a:lnTo>
                <a:lnTo>
                  <a:pt x="317" y="1451"/>
                </a:lnTo>
                <a:lnTo>
                  <a:pt x="319" y="1443"/>
                </a:lnTo>
                <a:lnTo>
                  <a:pt x="319" y="1435"/>
                </a:lnTo>
                <a:lnTo>
                  <a:pt x="321" y="1427"/>
                </a:lnTo>
                <a:lnTo>
                  <a:pt x="323" y="1418"/>
                </a:lnTo>
                <a:lnTo>
                  <a:pt x="323" y="1408"/>
                </a:lnTo>
                <a:lnTo>
                  <a:pt x="325" y="1399"/>
                </a:lnTo>
                <a:lnTo>
                  <a:pt x="325" y="1387"/>
                </a:lnTo>
                <a:lnTo>
                  <a:pt x="327" y="1378"/>
                </a:lnTo>
                <a:lnTo>
                  <a:pt x="329" y="1364"/>
                </a:lnTo>
                <a:lnTo>
                  <a:pt x="329" y="1353"/>
                </a:lnTo>
                <a:lnTo>
                  <a:pt x="331" y="1339"/>
                </a:lnTo>
                <a:lnTo>
                  <a:pt x="331" y="1326"/>
                </a:lnTo>
                <a:lnTo>
                  <a:pt x="333" y="1310"/>
                </a:lnTo>
                <a:lnTo>
                  <a:pt x="334" y="1297"/>
                </a:lnTo>
                <a:lnTo>
                  <a:pt x="334" y="1280"/>
                </a:lnTo>
                <a:lnTo>
                  <a:pt x="336" y="1264"/>
                </a:lnTo>
                <a:lnTo>
                  <a:pt x="338" y="1247"/>
                </a:lnTo>
                <a:lnTo>
                  <a:pt x="338" y="1230"/>
                </a:lnTo>
                <a:lnTo>
                  <a:pt x="340" y="1213"/>
                </a:lnTo>
                <a:lnTo>
                  <a:pt x="340" y="1193"/>
                </a:lnTo>
                <a:lnTo>
                  <a:pt x="342" y="1174"/>
                </a:lnTo>
                <a:lnTo>
                  <a:pt x="344" y="1153"/>
                </a:lnTo>
                <a:lnTo>
                  <a:pt x="344" y="1132"/>
                </a:lnTo>
                <a:lnTo>
                  <a:pt x="346" y="1111"/>
                </a:lnTo>
                <a:lnTo>
                  <a:pt x="346" y="1090"/>
                </a:lnTo>
                <a:lnTo>
                  <a:pt x="348" y="1067"/>
                </a:lnTo>
                <a:lnTo>
                  <a:pt x="350" y="1021"/>
                </a:lnTo>
                <a:lnTo>
                  <a:pt x="352" y="977"/>
                </a:lnTo>
                <a:lnTo>
                  <a:pt x="354" y="934"/>
                </a:lnTo>
                <a:lnTo>
                  <a:pt x="356" y="892"/>
                </a:lnTo>
                <a:lnTo>
                  <a:pt x="356" y="854"/>
                </a:lnTo>
                <a:lnTo>
                  <a:pt x="357" y="815"/>
                </a:lnTo>
                <a:lnTo>
                  <a:pt x="357" y="777"/>
                </a:lnTo>
                <a:lnTo>
                  <a:pt x="359" y="741"/>
                </a:lnTo>
                <a:lnTo>
                  <a:pt x="359" y="706"/>
                </a:lnTo>
                <a:lnTo>
                  <a:pt x="359" y="673"/>
                </a:lnTo>
                <a:lnTo>
                  <a:pt x="359" y="641"/>
                </a:lnTo>
                <a:lnTo>
                  <a:pt x="359" y="610"/>
                </a:lnTo>
                <a:lnTo>
                  <a:pt x="359" y="579"/>
                </a:lnTo>
                <a:lnTo>
                  <a:pt x="359" y="551"/>
                </a:lnTo>
                <a:lnTo>
                  <a:pt x="361" y="522"/>
                </a:lnTo>
                <a:lnTo>
                  <a:pt x="361" y="495"/>
                </a:lnTo>
                <a:lnTo>
                  <a:pt x="359" y="468"/>
                </a:lnTo>
                <a:lnTo>
                  <a:pt x="359" y="443"/>
                </a:lnTo>
                <a:lnTo>
                  <a:pt x="359" y="420"/>
                </a:lnTo>
                <a:lnTo>
                  <a:pt x="357" y="397"/>
                </a:lnTo>
                <a:lnTo>
                  <a:pt x="357" y="376"/>
                </a:lnTo>
                <a:lnTo>
                  <a:pt x="356" y="355"/>
                </a:lnTo>
                <a:lnTo>
                  <a:pt x="354" y="336"/>
                </a:lnTo>
                <a:lnTo>
                  <a:pt x="352" y="318"/>
                </a:lnTo>
                <a:lnTo>
                  <a:pt x="350" y="303"/>
                </a:lnTo>
                <a:lnTo>
                  <a:pt x="348" y="288"/>
                </a:lnTo>
                <a:lnTo>
                  <a:pt x="346" y="272"/>
                </a:lnTo>
                <a:lnTo>
                  <a:pt x="344" y="261"/>
                </a:lnTo>
                <a:lnTo>
                  <a:pt x="342" y="249"/>
                </a:lnTo>
                <a:lnTo>
                  <a:pt x="340" y="238"/>
                </a:lnTo>
                <a:lnTo>
                  <a:pt x="338" y="228"/>
                </a:lnTo>
                <a:lnTo>
                  <a:pt x="336" y="221"/>
                </a:lnTo>
                <a:lnTo>
                  <a:pt x="325" y="207"/>
                </a:lnTo>
                <a:lnTo>
                  <a:pt x="315" y="194"/>
                </a:lnTo>
                <a:lnTo>
                  <a:pt x="309" y="190"/>
                </a:lnTo>
                <a:lnTo>
                  <a:pt x="304" y="184"/>
                </a:lnTo>
                <a:lnTo>
                  <a:pt x="296" y="180"/>
                </a:lnTo>
                <a:lnTo>
                  <a:pt x="290" y="174"/>
                </a:lnTo>
                <a:lnTo>
                  <a:pt x="285" y="173"/>
                </a:lnTo>
                <a:lnTo>
                  <a:pt x="277" y="169"/>
                </a:lnTo>
                <a:lnTo>
                  <a:pt x="271" y="167"/>
                </a:lnTo>
                <a:lnTo>
                  <a:pt x="263" y="167"/>
                </a:lnTo>
                <a:lnTo>
                  <a:pt x="258" y="165"/>
                </a:lnTo>
                <a:lnTo>
                  <a:pt x="250" y="167"/>
                </a:lnTo>
                <a:lnTo>
                  <a:pt x="242" y="167"/>
                </a:lnTo>
                <a:lnTo>
                  <a:pt x="237" y="169"/>
                </a:lnTo>
                <a:lnTo>
                  <a:pt x="217" y="174"/>
                </a:lnTo>
                <a:lnTo>
                  <a:pt x="202" y="178"/>
                </a:lnTo>
                <a:lnTo>
                  <a:pt x="185" y="184"/>
                </a:lnTo>
                <a:lnTo>
                  <a:pt x="169" y="188"/>
                </a:lnTo>
                <a:lnTo>
                  <a:pt x="154" y="190"/>
                </a:lnTo>
                <a:lnTo>
                  <a:pt x="141" y="194"/>
                </a:lnTo>
                <a:lnTo>
                  <a:pt x="127" y="194"/>
                </a:lnTo>
                <a:lnTo>
                  <a:pt x="112" y="196"/>
                </a:lnTo>
                <a:lnTo>
                  <a:pt x="106" y="197"/>
                </a:lnTo>
                <a:lnTo>
                  <a:pt x="98" y="197"/>
                </a:lnTo>
                <a:lnTo>
                  <a:pt x="91" y="199"/>
                </a:lnTo>
                <a:lnTo>
                  <a:pt x="85" y="197"/>
                </a:lnTo>
                <a:lnTo>
                  <a:pt x="77" y="196"/>
                </a:lnTo>
                <a:lnTo>
                  <a:pt x="69" y="194"/>
                </a:lnTo>
                <a:lnTo>
                  <a:pt x="64" y="192"/>
                </a:lnTo>
                <a:lnTo>
                  <a:pt x="56" y="188"/>
                </a:lnTo>
                <a:lnTo>
                  <a:pt x="48" y="182"/>
                </a:lnTo>
                <a:lnTo>
                  <a:pt x="43" y="176"/>
                </a:lnTo>
                <a:lnTo>
                  <a:pt x="35" y="171"/>
                </a:lnTo>
                <a:lnTo>
                  <a:pt x="29" y="165"/>
                </a:lnTo>
                <a:lnTo>
                  <a:pt x="21" y="157"/>
                </a:lnTo>
                <a:lnTo>
                  <a:pt x="14" y="148"/>
                </a:lnTo>
                <a:lnTo>
                  <a:pt x="8" y="140"/>
                </a:lnTo>
                <a:lnTo>
                  <a:pt x="0" y="130"/>
                </a:lnTo>
                <a:lnTo>
                  <a:pt x="20" y="126"/>
                </a:lnTo>
                <a:lnTo>
                  <a:pt x="37" y="123"/>
                </a:lnTo>
                <a:lnTo>
                  <a:pt x="54" y="119"/>
                </a:lnTo>
                <a:lnTo>
                  <a:pt x="71" y="115"/>
                </a:lnTo>
                <a:lnTo>
                  <a:pt x="87" y="111"/>
                </a:lnTo>
                <a:lnTo>
                  <a:pt x="102" y="107"/>
                </a:lnTo>
                <a:lnTo>
                  <a:pt x="117" y="103"/>
                </a:lnTo>
                <a:lnTo>
                  <a:pt x="133" y="100"/>
                </a:lnTo>
                <a:lnTo>
                  <a:pt x="146" y="98"/>
                </a:lnTo>
                <a:lnTo>
                  <a:pt x="160" y="94"/>
                </a:lnTo>
                <a:lnTo>
                  <a:pt x="173" y="90"/>
                </a:lnTo>
                <a:lnTo>
                  <a:pt x="187" y="86"/>
                </a:lnTo>
                <a:lnTo>
                  <a:pt x="198" y="82"/>
                </a:lnTo>
                <a:lnTo>
                  <a:pt x="210" y="80"/>
                </a:lnTo>
                <a:lnTo>
                  <a:pt x="221" y="77"/>
                </a:lnTo>
                <a:lnTo>
                  <a:pt x="231" y="73"/>
                </a:lnTo>
                <a:lnTo>
                  <a:pt x="240" y="69"/>
                </a:lnTo>
                <a:lnTo>
                  <a:pt x="250" y="67"/>
                </a:lnTo>
                <a:lnTo>
                  <a:pt x="260" y="63"/>
                </a:lnTo>
                <a:lnTo>
                  <a:pt x="267" y="59"/>
                </a:lnTo>
                <a:lnTo>
                  <a:pt x="275" y="57"/>
                </a:lnTo>
                <a:lnTo>
                  <a:pt x="283" y="54"/>
                </a:lnTo>
                <a:lnTo>
                  <a:pt x="288" y="50"/>
                </a:lnTo>
                <a:lnTo>
                  <a:pt x="296" y="48"/>
                </a:lnTo>
                <a:lnTo>
                  <a:pt x="300" y="44"/>
                </a:lnTo>
                <a:lnTo>
                  <a:pt x="306" y="42"/>
                </a:lnTo>
                <a:lnTo>
                  <a:pt x="309" y="38"/>
                </a:lnTo>
                <a:lnTo>
                  <a:pt x="313" y="36"/>
                </a:lnTo>
                <a:lnTo>
                  <a:pt x="317" y="34"/>
                </a:lnTo>
                <a:lnTo>
                  <a:pt x="319" y="31"/>
                </a:lnTo>
                <a:lnTo>
                  <a:pt x="321" y="29"/>
                </a:lnTo>
                <a:lnTo>
                  <a:pt x="323" y="27"/>
                </a:lnTo>
                <a:lnTo>
                  <a:pt x="333" y="17"/>
                </a:lnTo>
                <a:lnTo>
                  <a:pt x="338" y="11"/>
                </a:lnTo>
                <a:lnTo>
                  <a:pt x="344" y="8"/>
                </a:lnTo>
                <a:lnTo>
                  <a:pt x="350" y="6"/>
                </a:lnTo>
                <a:lnTo>
                  <a:pt x="356" y="2"/>
                </a:lnTo>
                <a:lnTo>
                  <a:pt x="363" y="0"/>
                </a:lnTo>
                <a:lnTo>
                  <a:pt x="373" y="0"/>
                </a:lnTo>
                <a:lnTo>
                  <a:pt x="375" y="2"/>
                </a:lnTo>
                <a:lnTo>
                  <a:pt x="379" y="6"/>
                </a:lnTo>
                <a:lnTo>
                  <a:pt x="382" y="8"/>
                </a:lnTo>
                <a:lnTo>
                  <a:pt x="386" y="9"/>
                </a:lnTo>
                <a:lnTo>
                  <a:pt x="392" y="13"/>
                </a:lnTo>
                <a:lnTo>
                  <a:pt x="396" y="15"/>
                </a:lnTo>
                <a:lnTo>
                  <a:pt x="409" y="23"/>
                </a:lnTo>
                <a:lnTo>
                  <a:pt x="423" y="31"/>
                </a:lnTo>
                <a:lnTo>
                  <a:pt x="438" y="40"/>
                </a:lnTo>
                <a:lnTo>
                  <a:pt x="446" y="46"/>
                </a:lnTo>
                <a:lnTo>
                  <a:pt x="453" y="52"/>
                </a:lnTo>
                <a:lnTo>
                  <a:pt x="463" y="57"/>
                </a:lnTo>
                <a:lnTo>
                  <a:pt x="473" y="65"/>
                </a:lnTo>
                <a:lnTo>
                  <a:pt x="480" y="73"/>
                </a:lnTo>
                <a:lnTo>
                  <a:pt x="490" y="80"/>
                </a:lnTo>
                <a:lnTo>
                  <a:pt x="498" y="86"/>
                </a:lnTo>
                <a:lnTo>
                  <a:pt x="503" y="94"/>
                </a:lnTo>
                <a:lnTo>
                  <a:pt x="511" y="102"/>
                </a:lnTo>
                <a:lnTo>
                  <a:pt x="517" y="107"/>
                </a:lnTo>
                <a:lnTo>
                  <a:pt x="523" y="115"/>
                </a:lnTo>
                <a:lnTo>
                  <a:pt x="528" y="121"/>
                </a:lnTo>
                <a:lnTo>
                  <a:pt x="532" y="126"/>
                </a:lnTo>
                <a:lnTo>
                  <a:pt x="536" y="132"/>
                </a:lnTo>
                <a:lnTo>
                  <a:pt x="540" y="138"/>
                </a:lnTo>
                <a:lnTo>
                  <a:pt x="542" y="142"/>
                </a:lnTo>
                <a:lnTo>
                  <a:pt x="544" y="146"/>
                </a:lnTo>
                <a:lnTo>
                  <a:pt x="546" y="150"/>
                </a:lnTo>
                <a:lnTo>
                  <a:pt x="546" y="153"/>
                </a:lnTo>
                <a:lnTo>
                  <a:pt x="548" y="157"/>
                </a:lnTo>
                <a:lnTo>
                  <a:pt x="546" y="161"/>
                </a:lnTo>
                <a:lnTo>
                  <a:pt x="544" y="169"/>
                </a:lnTo>
                <a:lnTo>
                  <a:pt x="542" y="174"/>
                </a:lnTo>
                <a:lnTo>
                  <a:pt x="538" y="182"/>
                </a:lnTo>
                <a:lnTo>
                  <a:pt x="534" y="190"/>
                </a:lnTo>
                <a:lnTo>
                  <a:pt x="530" y="196"/>
                </a:lnTo>
                <a:lnTo>
                  <a:pt x="526" y="203"/>
                </a:lnTo>
                <a:lnTo>
                  <a:pt x="523" y="209"/>
                </a:lnTo>
                <a:lnTo>
                  <a:pt x="519" y="211"/>
                </a:lnTo>
                <a:lnTo>
                  <a:pt x="517" y="215"/>
                </a:lnTo>
                <a:lnTo>
                  <a:pt x="515" y="221"/>
                </a:lnTo>
                <a:lnTo>
                  <a:pt x="513" y="228"/>
                </a:lnTo>
                <a:lnTo>
                  <a:pt x="511" y="236"/>
                </a:lnTo>
                <a:lnTo>
                  <a:pt x="509" y="245"/>
                </a:lnTo>
                <a:lnTo>
                  <a:pt x="507" y="255"/>
                </a:lnTo>
                <a:lnTo>
                  <a:pt x="505" y="267"/>
                </a:lnTo>
                <a:lnTo>
                  <a:pt x="503" y="280"/>
                </a:lnTo>
                <a:lnTo>
                  <a:pt x="501" y="293"/>
                </a:lnTo>
                <a:lnTo>
                  <a:pt x="500" y="309"/>
                </a:lnTo>
                <a:lnTo>
                  <a:pt x="500" y="326"/>
                </a:lnTo>
                <a:lnTo>
                  <a:pt x="498" y="343"/>
                </a:lnTo>
                <a:lnTo>
                  <a:pt x="498" y="363"/>
                </a:lnTo>
                <a:lnTo>
                  <a:pt x="498" y="382"/>
                </a:lnTo>
                <a:lnTo>
                  <a:pt x="498" y="403"/>
                </a:lnTo>
                <a:lnTo>
                  <a:pt x="498" y="414"/>
                </a:lnTo>
                <a:lnTo>
                  <a:pt x="498" y="426"/>
                </a:lnTo>
                <a:lnTo>
                  <a:pt x="498" y="439"/>
                </a:lnTo>
                <a:lnTo>
                  <a:pt x="498" y="453"/>
                </a:lnTo>
                <a:lnTo>
                  <a:pt x="496" y="466"/>
                </a:lnTo>
                <a:lnTo>
                  <a:pt x="496" y="481"/>
                </a:lnTo>
                <a:lnTo>
                  <a:pt x="496" y="497"/>
                </a:lnTo>
                <a:lnTo>
                  <a:pt x="496" y="512"/>
                </a:lnTo>
                <a:lnTo>
                  <a:pt x="496" y="529"/>
                </a:lnTo>
                <a:lnTo>
                  <a:pt x="496" y="547"/>
                </a:lnTo>
                <a:lnTo>
                  <a:pt x="496" y="566"/>
                </a:lnTo>
                <a:lnTo>
                  <a:pt x="496" y="585"/>
                </a:lnTo>
                <a:lnTo>
                  <a:pt x="496" y="604"/>
                </a:lnTo>
                <a:lnTo>
                  <a:pt x="496" y="623"/>
                </a:lnTo>
                <a:lnTo>
                  <a:pt x="496" y="645"/>
                </a:lnTo>
                <a:lnTo>
                  <a:pt x="496" y="668"/>
                </a:lnTo>
                <a:lnTo>
                  <a:pt x="496" y="689"/>
                </a:lnTo>
                <a:lnTo>
                  <a:pt x="494" y="712"/>
                </a:lnTo>
                <a:lnTo>
                  <a:pt x="494" y="735"/>
                </a:lnTo>
                <a:lnTo>
                  <a:pt x="494" y="760"/>
                </a:lnTo>
                <a:lnTo>
                  <a:pt x="494" y="785"/>
                </a:lnTo>
                <a:lnTo>
                  <a:pt x="492" y="812"/>
                </a:lnTo>
                <a:lnTo>
                  <a:pt x="492" y="836"/>
                </a:lnTo>
                <a:lnTo>
                  <a:pt x="492" y="863"/>
                </a:lnTo>
                <a:lnTo>
                  <a:pt x="490" y="892"/>
                </a:lnTo>
                <a:lnTo>
                  <a:pt x="490" y="921"/>
                </a:lnTo>
                <a:lnTo>
                  <a:pt x="490" y="950"/>
                </a:lnTo>
                <a:lnTo>
                  <a:pt x="488" y="980"/>
                </a:lnTo>
                <a:lnTo>
                  <a:pt x="488" y="1009"/>
                </a:lnTo>
                <a:lnTo>
                  <a:pt x="486" y="1042"/>
                </a:lnTo>
                <a:lnTo>
                  <a:pt x="486" y="1072"/>
                </a:lnTo>
                <a:lnTo>
                  <a:pt x="484" y="1105"/>
                </a:lnTo>
                <a:lnTo>
                  <a:pt x="482" y="1138"/>
                </a:lnTo>
                <a:lnTo>
                  <a:pt x="482" y="1170"/>
                </a:lnTo>
                <a:lnTo>
                  <a:pt x="480" y="1201"/>
                </a:lnTo>
                <a:lnTo>
                  <a:pt x="478" y="1230"/>
                </a:lnTo>
                <a:lnTo>
                  <a:pt x="478" y="1261"/>
                </a:lnTo>
                <a:lnTo>
                  <a:pt x="477" y="1287"/>
                </a:lnTo>
                <a:lnTo>
                  <a:pt x="475" y="1316"/>
                </a:lnTo>
                <a:lnTo>
                  <a:pt x="473" y="1343"/>
                </a:lnTo>
                <a:lnTo>
                  <a:pt x="471" y="1368"/>
                </a:lnTo>
                <a:lnTo>
                  <a:pt x="469" y="1393"/>
                </a:lnTo>
                <a:lnTo>
                  <a:pt x="467" y="1418"/>
                </a:lnTo>
                <a:lnTo>
                  <a:pt x="465" y="1441"/>
                </a:lnTo>
                <a:lnTo>
                  <a:pt x="463" y="1462"/>
                </a:lnTo>
                <a:lnTo>
                  <a:pt x="461" y="1485"/>
                </a:lnTo>
                <a:lnTo>
                  <a:pt x="459" y="1504"/>
                </a:lnTo>
                <a:lnTo>
                  <a:pt x="455" y="1525"/>
                </a:lnTo>
                <a:lnTo>
                  <a:pt x="453" y="1545"/>
                </a:lnTo>
                <a:lnTo>
                  <a:pt x="452" y="1562"/>
                </a:lnTo>
                <a:lnTo>
                  <a:pt x="450" y="1579"/>
                </a:lnTo>
                <a:lnTo>
                  <a:pt x="446" y="1596"/>
                </a:lnTo>
                <a:lnTo>
                  <a:pt x="444" y="1612"/>
                </a:lnTo>
                <a:lnTo>
                  <a:pt x="440" y="1627"/>
                </a:lnTo>
                <a:lnTo>
                  <a:pt x="438" y="1640"/>
                </a:lnTo>
                <a:lnTo>
                  <a:pt x="434" y="1654"/>
                </a:lnTo>
                <a:lnTo>
                  <a:pt x="432" y="1667"/>
                </a:lnTo>
                <a:lnTo>
                  <a:pt x="429" y="1679"/>
                </a:lnTo>
                <a:lnTo>
                  <a:pt x="427" y="1688"/>
                </a:lnTo>
                <a:lnTo>
                  <a:pt x="423" y="1698"/>
                </a:lnTo>
                <a:lnTo>
                  <a:pt x="419" y="1708"/>
                </a:lnTo>
                <a:lnTo>
                  <a:pt x="417" y="1715"/>
                </a:lnTo>
                <a:lnTo>
                  <a:pt x="413" y="1723"/>
                </a:lnTo>
                <a:lnTo>
                  <a:pt x="409" y="1731"/>
                </a:lnTo>
                <a:lnTo>
                  <a:pt x="404" y="1742"/>
                </a:lnTo>
                <a:lnTo>
                  <a:pt x="396" y="1752"/>
                </a:lnTo>
                <a:lnTo>
                  <a:pt x="390" y="1763"/>
                </a:lnTo>
                <a:lnTo>
                  <a:pt x="382" y="1771"/>
                </a:lnTo>
                <a:lnTo>
                  <a:pt x="375" y="1781"/>
                </a:lnTo>
                <a:lnTo>
                  <a:pt x="369" y="1788"/>
                </a:lnTo>
                <a:lnTo>
                  <a:pt x="363" y="1794"/>
                </a:lnTo>
                <a:lnTo>
                  <a:pt x="356" y="1802"/>
                </a:lnTo>
                <a:lnTo>
                  <a:pt x="350" y="1807"/>
                </a:lnTo>
                <a:lnTo>
                  <a:pt x="344" y="1811"/>
                </a:lnTo>
                <a:lnTo>
                  <a:pt x="336" y="1817"/>
                </a:lnTo>
                <a:lnTo>
                  <a:pt x="331" y="1821"/>
                </a:lnTo>
                <a:lnTo>
                  <a:pt x="321" y="1829"/>
                </a:lnTo>
                <a:lnTo>
                  <a:pt x="311" y="1834"/>
                </a:lnTo>
                <a:lnTo>
                  <a:pt x="304" y="1836"/>
                </a:lnTo>
                <a:lnTo>
                  <a:pt x="298" y="1836"/>
                </a:lnTo>
                <a:lnTo>
                  <a:pt x="292" y="1836"/>
                </a:lnTo>
                <a:lnTo>
                  <a:pt x="286" y="1836"/>
                </a:lnTo>
                <a:lnTo>
                  <a:pt x="283" y="1834"/>
                </a:lnTo>
                <a:lnTo>
                  <a:pt x="279" y="1832"/>
                </a:lnTo>
                <a:lnTo>
                  <a:pt x="275" y="1829"/>
                </a:lnTo>
                <a:lnTo>
                  <a:pt x="271" y="1825"/>
                </a:lnTo>
                <a:lnTo>
                  <a:pt x="267" y="1819"/>
                </a:lnTo>
                <a:lnTo>
                  <a:pt x="263" y="1813"/>
                </a:lnTo>
                <a:lnTo>
                  <a:pt x="261" y="1805"/>
                </a:lnTo>
                <a:lnTo>
                  <a:pt x="258" y="1798"/>
                </a:lnTo>
                <a:lnTo>
                  <a:pt x="256" y="1788"/>
                </a:lnTo>
                <a:lnTo>
                  <a:pt x="254" y="1779"/>
                </a:lnTo>
                <a:lnTo>
                  <a:pt x="250" y="1767"/>
                </a:lnTo>
                <a:lnTo>
                  <a:pt x="248" y="1756"/>
                </a:lnTo>
                <a:lnTo>
                  <a:pt x="244" y="1736"/>
                </a:lnTo>
                <a:lnTo>
                  <a:pt x="237" y="1717"/>
                </a:lnTo>
                <a:lnTo>
                  <a:pt x="233" y="1708"/>
                </a:lnTo>
                <a:lnTo>
                  <a:pt x="229" y="1698"/>
                </a:lnTo>
                <a:lnTo>
                  <a:pt x="223" y="1688"/>
                </a:lnTo>
                <a:lnTo>
                  <a:pt x="217" y="1677"/>
                </a:lnTo>
                <a:lnTo>
                  <a:pt x="212" y="1667"/>
                </a:lnTo>
                <a:lnTo>
                  <a:pt x="204" y="1658"/>
                </a:lnTo>
                <a:lnTo>
                  <a:pt x="198" y="1648"/>
                </a:lnTo>
                <a:lnTo>
                  <a:pt x="189" y="1639"/>
                </a:lnTo>
                <a:lnTo>
                  <a:pt x="181" y="1629"/>
                </a:lnTo>
                <a:lnTo>
                  <a:pt x="171" y="1619"/>
                </a:lnTo>
                <a:lnTo>
                  <a:pt x="162" y="1610"/>
                </a:lnTo>
                <a:lnTo>
                  <a:pt x="150" y="1600"/>
                </a:lnTo>
                <a:lnTo>
                  <a:pt x="139" y="1592"/>
                </a:lnTo>
                <a:lnTo>
                  <a:pt x="129" y="1585"/>
                </a:lnTo>
                <a:lnTo>
                  <a:pt x="119" y="1577"/>
                </a:lnTo>
                <a:lnTo>
                  <a:pt x="110" y="1571"/>
                </a:lnTo>
                <a:lnTo>
                  <a:pt x="102" y="1564"/>
                </a:lnTo>
                <a:lnTo>
                  <a:pt x="96" y="1556"/>
                </a:lnTo>
                <a:lnTo>
                  <a:pt x="89" y="1550"/>
                </a:lnTo>
                <a:lnTo>
                  <a:pt x="85" y="1545"/>
                </a:lnTo>
                <a:lnTo>
                  <a:pt x="81" y="1539"/>
                </a:lnTo>
                <a:lnTo>
                  <a:pt x="77" y="1533"/>
                </a:lnTo>
                <a:lnTo>
                  <a:pt x="75" y="1527"/>
                </a:lnTo>
                <a:lnTo>
                  <a:pt x="73" y="1523"/>
                </a:lnTo>
                <a:lnTo>
                  <a:pt x="71" y="1518"/>
                </a:lnTo>
                <a:lnTo>
                  <a:pt x="71" y="1514"/>
                </a:lnTo>
                <a:lnTo>
                  <a:pt x="73" y="1512"/>
                </a:lnTo>
                <a:lnTo>
                  <a:pt x="75" y="1508"/>
                </a:lnTo>
                <a:lnTo>
                  <a:pt x="77" y="1506"/>
                </a:lnTo>
                <a:lnTo>
                  <a:pt x="81" y="1504"/>
                </a:lnTo>
                <a:lnTo>
                  <a:pt x="85" y="1502"/>
                </a:lnTo>
                <a:lnTo>
                  <a:pt x="89" y="1500"/>
                </a:lnTo>
                <a:lnTo>
                  <a:pt x="94" y="1500"/>
                </a:lnTo>
                <a:lnTo>
                  <a:pt x="100" y="1500"/>
                </a:lnTo>
                <a:lnTo>
                  <a:pt x="106" y="1498"/>
                </a:lnTo>
                <a:lnTo>
                  <a:pt x="112" y="1498"/>
                </a:lnTo>
                <a:lnTo>
                  <a:pt x="119" y="1498"/>
                </a:lnTo>
                <a:lnTo>
                  <a:pt x="127" y="1500"/>
                </a:lnTo>
                <a:lnTo>
                  <a:pt x="137" y="1500"/>
                </a:lnTo>
                <a:lnTo>
                  <a:pt x="144" y="1500"/>
                </a:lnTo>
                <a:lnTo>
                  <a:pt x="154" y="1502"/>
                </a:lnTo>
                <a:lnTo>
                  <a:pt x="165" y="1504"/>
                </a:lnTo>
                <a:lnTo>
                  <a:pt x="175" y="1506"/>
                </a:lnTo>
                <a:lnTo>
                  <a:pt x="187" y="1508"/>
                </a:lnTo>
                <a:lnTo>
                  <a:pt x="210" y="1512"/>
                </a:lnTo>
                <a:lnTo>
                  <a:pt x="231" y="1516"/>
                </a:lnTo>
                <a:lnTo>
                  <a:pt x="240" y="1516"/>
                </a:lnTo>
                <a:lnTo>
                  <a:pt x="250" y="1516"/>
                </a:lnTo>
                <a:lnTo>
                  <a:pt x="260" y="1516"/>
                </a:lnTo>
                <a:lnTo>
                  <a:pt x="267" y="1516"/>
                </a:lnTo>
                <a:lnTo>
                  <a:pt x="275" y="1514"/>
                </a:lnTo>
                <a:lnTo>
                  <a:pt x="283" y="1512"/>
                </a:lnTo>
                <a:lnTo>
                  <a:pt x="288" y="1508"/>
                </a:lnTo>
                <a:lnTo>
                  <a:pt x="294" y="1504"/>
                </a:lnTo>
                <a:lnTo>
                  <a:pt x="300" y="1500"/>
                </a:lnTo>
                <a:lnTo>
                  <a:pt x="304" y="1495"/>
                </a:lnTo>
                <a:lnTo>
                  <a:pt x="308" y="1489"/>
                </a:lnTo>
                <a:lnTo>
                  <a:pt x="311" y="148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Freeform 43"/>
          <p:cNvSpPr/>
          <p:nvPr/>
        </p:nvSpPr>
        <p:spPr>
          <a:xfrm>
            <a:off x="7121520" y="3427560"/>
            <a:ext cx="200160" cy="196560"/>
          </a:xfrm>
          <a:custGeom>
            <a:avLst/>
            <a:gdLst/>
            <a:ahLst/>
            <a:rect l="l" t="t" r="r" b="b"/>
            <a:pathLst>
              <a:path w="252" h="247">
                <a:moveTo>
                  <a:pt x="250" y="182"/>
                </a:moveTo>
                <a:lnTo>
                  <a:pt x="244" y="196"/>
                </a:lnTo>
                <a:lnTo>
                  <a:pt x="240" y="207"/>
                </a:lnTo>
                <a:lnTo>
                  <a:pt x="235" y="219"/>
                </a:lnTo>
                <a:lnTo>
                  <a:pt x="229" y="228"/>
                </a:lnTo>
                <a:lnTo>
                  <a:pt x="225" y="232"/>
                </a:lnTo>
                <a:lnTo>
                  <a:pt x="223" y="236"/>
                </a:lnTo>
                <a:lnTo>
                  <a:pt x="219" y="240"/>
                </a:lnTo>
                <a:lnTo>
                  <a:pt x="215" y="242"/>
                </a:lnTo>
                <a:lnTo>
                  <a:pt x="212" y="244"/>
                </a:lnTo>
                <a:lnTo>
                  <a:pt x="208" y="246"/>
                </a:lnTo>
                <a:lnTo>
                  <a:pt x="204" y="246"/>
                </a:lnTo>
                <a:lnTo>
                  <a:pt x="200" y="247"/>
                </a:lnTo>
                <a:lnTo>
                  <a:pt x="194" y="246"/>
                </a:lnTo>
                <a:lnTo>
                  <a:pt x="189" y="244"/>
                </a:lnTo>
                <a:lnTo>
                  <a:pt x="181" y="238"/>
                </a:lnTo>
                <a:lnTo>
                  <a:pt x="173" y="232"/>
                </a:lnTo>
                <a:lnTo>
                  <a:pt x="169" y="228"/>
                </a:lnTo>
                <a:lnTo>
                  <a:pt x="164" y="223"/>
                </a:lnTo>
                <a:lnTo>
                  <a:pt x="160" y="219"/>
                </a:lnTo>
                <a:lnTo>
                  <a:pt x="154" y="213"/>
                </a:lnTo>
                <a:lnTo>
                  <a:pt x="150" y="207"/>
                </a:lnTo>
                <a:lnTo>
                  <a:pt x="144" y="201"/>
                </a:lnTo>
                <a:lnTo>
                  <a:pt x="139" y="194"/>
                </a:lnTo>
                <a:lnTo>
                  <a:pt x="133" y="186"/>
                </a:lnTo>
                <a:lnTo>
                  <a:pt x="125" y="178"/>
                </a:lnTo>
                <a:lnTo>
                  <a:pt x="119" y="171"/>
                </a:lnTo>
                <a:lnTo>
                  <a:pt x="112" y="161"/>
                </a:lnTo>
                <a:lnTo>
                  <a:pt x="106" y="152"/>
                </a:lnTo>
                <a:lnTo>
                  <a:pt x="98" y="142"/>
                </a:lnTo>
                <a:lnTo>
                  <a:pt x="91" y="132"/>
                </a:lnTo>
                <a:lnTo>
                  <a:pt x="83" y="121"/>
                </a:lnTo>
                <a:lnTo>
                  <a:pt x="75" y="109"/>
                </a:lnTo>
                <a:lnTo>
                  <a:pt x="66" y="98"/>
                </a:lnTo>
                <a:lnTo>
                  <a:pt x="58" y="86"/>
                </a:lnTo>
                <a:lnTo>
                  <a:pt x="48" y="73"/>
                </a:lnTo>
                <a:lnTo>
                  <a:pt x="39" y="59"/>
                </a:lnTo>
                <a:lnTo>
                  <a:pt x="31" y="44"/>
                </a:lnTo>
                <a:lnTo>
                  <a:pt x="22" y="31"/>
                </a:lnTo>
                <a:lnTo>
                  <a:pt x="10" y="15"/>
                </a:lnTo>
                <a:lnTo>
                  <a:pt x="0" y="0"/>
                </a:lnTo>
                <a:lnTo>
                  <a:pt x="33" y="0"/>
                </a:lnTo>
                <a:lnTo>
                  <a:pt x="64" y="2"/>
                </a:lnTo>
                <a:lnTo>
                  <a:pt x="77" y="4"/>
                </a:lnTo>
                <a:lnTo>
                  <a:pt x="93" y="6"/>
                </a:lnTo>
                <a:lnTo>
                  <a:pt x="106" y="8"/>
                </a:lnTo>
                <a:lnTo>
                  <a:pt x="119" y="11"/>
                </a:lnTo>
                <a:lnTo>
                  <a:pt x="131" y="13"/>
                </a:lnTo>
                <a:lnTo>
                  <a:pt x="142" y="17"/>
                </a:lnTo>
                <a:lnTo>
                  <a:pt x="154" y="21"/>
                </a:lnTo>
                <a:lnTo>
                  <a:pt x="166" y="27"/>
                </a:lnTo>
                <a:lnTo>
                  <a:pt x="175" y="33"/>
                </a:lnTo>
                <a:lnTo>
                  <a:pt x="183" y="38"/>
                </a:lnTo>
                <a:lnTo>
                  <a:pt x="192" y="44"/>
                </a:lnTo>
                <a:lnTo>
                  <a:pt x="200" y="52"/>
                </a:lnTo>
                <a:lnTo>
                  <a:pt x="212" y="65"/>
                </a:lnTo>
                <a:lnTo>
                  <a:pt x="225" y="81"/>
                </a:lnTo>
                <a:lnTo>
                  <a:pt x="229" y="88"/>
                </a:lnTo>
                <a:lnTo>
                  <a:pt x="235" y="96"/>
                </a:lnTo>
                <a:lnTo>
                  <a:pt x="238" y="104"/>
                </a:lnTo>
                <a:lnTo>
                  <a:pt x="242" y="111"/>
                </a:lnTo>
                <a:lnTo>
                  <a:pt x="246" y="119"/>
                </a:lnTo>
                <a:lnTo>
                  <a:pt x="248" y="128"/>
                </a:lnTo>
                <a:lnTo>
                  <a:pt x="250" y="136"/>
                </a:lnTo>
                <a:lnTo>
                  <a:pt x="252" y="144"/>
                </a:lnTo>
                <a:lnTo>
                  <a:pt x="252" y="153"/>
                </a:lnTo>
                <a:lnTo>
                  <a:pt x="252" y="163"/>
                </a:lnTo>
                <a:lnTo>
                  <a:pt x="250" y="171"/>
                </a:lnTo>
                <a:lnTo>
                  <a:pt x="250" y="18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44"/>
          <p:cNvSpPr/>
          <p:nvPr/>
        </p:nvSpPr>
        <p:spPr>
          <a:xfrm>
            <a:off x="7053120" y="3745080"/>
            <a:ext cx="336600" cy="345960"/>
          </a:xfrm>
          <a:custGeom>
            <a:avLst/>
            <a:gdLst/>
            <a:ahLst/>
            <a:rect l="l" t="t" r="r" b="b"/>
            <a:pathLst>
              <a:path w="424" h="436">
                <a:moveTo>
                  <a:pt x="359" y="134"/>
                </a:moveTo>
                <a:lnTo>
                  <a:pt x="346" y="157"/>
                </a:lnTo>
                <a:lnTo>
                  <a:pt x="332" y="180"/>
                </a:lnTo>
                <a:lnTo>
                  <a:pt x="319" y="202"/>
                </a:lnTo>
                <a:lnTo>
                  <a:pt x="303" y="225"/>
                </a:lnTo>
                <a:lnTo>
                  <a:pt x="290" y="246"/>
                </a:lnTo>
                <a:lnTo>
                  <a:pt x="276" y="269"/>
                </a:lnTo>
                <a:lnTo>
                  <a:pt x="261" y="292"/>
                </a:lnTo>
                <a:lnTo>
                  <a:pt x="248" y="315"/>
                </a:lnTo>
                <a:lnTo>
                  <a:pt x="240" y="328"/>
                </a:lnTo>
                <a:lnTo>
                  <a:pt x="234" y="338"/>
                </a:lnTo>
                <a:lnTo>
                  <a:pt x="227" y="349"/>
                </a:lnTo>
                <a:lnTo>
                  <a:pt x="221" y="359"/>
                </a:lnTo>
                <a:lnTo>
                  <a:pt x="213" y="368"/>
                </a:lnTo>
                <a:lnTo>
                  <a:pt x="207" y="378"/>
                </a:lnTo>
                <a:lnTo>
                  <a:pt x="200" y="386"/>
                </a:lnTo>
                <a:lnTo>
                  <a:pt x="194" y="393"/>
                </a:lnTo>
                <a:lnTo>
                  <a:pt x="188" y="401"/>
                </a:lnTo>
                <a:lnTo>
                  <a:pt x="180" y="407"/>
                </a:lnTo>
                <a:lnTo>
                  <a:pt x="175" y="413"/>
                </a:lnTo>
                <a:lnTo>
                  <a:pt x="169" y="418"/>
                </a:lnTo>
                <a:lnTo>
                  <a:pt x="163" y="422"/>
                </a:lnTo>
                <a:lnTo>
                  <a:pt x="159" y="426"/>
                </a:lnTo>
                <a:lnTo>
                  <a:pt x="154" y="430"/>
                </a:lnTo>
                <a:lnTo>
                  <a:pt x="150" y="432"/>
                </a:lnTo>
                <a:lnTo>
                  <a:pt x="144" y="434"/>
                </a:lnTo>
                <a:lnTo>
                  <a:pt x="140" y="436"/>
                </a:lnTo>
                <a:lnTo>
                  <a:pt x="134" y="436"/>
                </a:lnTo>
                <a:lnTo>
                  <a:pt x="131" y="436"/>
                </a:lnTo>
                <a:lnTo>
                  <a:pt x="125" y="434"/>
                </a:lnTo>
                <a:lnTo>
                  <a:pt x="121" y="432"/>
                </a:lnTo>
                <a:lnTo>
                  <a:pt x="115" y="430"/>
                </a:lnTo>
                <a:lnTo>
                  <a:pt x="109" y="426"/>
                </a:lnTo>
                <a:lnTo>
                  <a:pt x="104" y="422"/>
                </a:lnTo>
                <a:lnTo>
                  <a:pt x="100" y="418"/>
                </a:lnTo>
                <a:lnTo>
                  <a:pt x="94" y="413"/>
                </a:lnTo>
                <a:lnTo>
                  <a:pt x="88" y="407"/>
                </a:lnTo>
                <a:lnTo>
                  <a:pt x="75" y="395"/>
                </a:lnTo>
                <a:lnTo>
                  <a:pt x="61" y="380"/>
                </a:lnTo>
                <a:lnTo>
                  <a:pt x="48" y="367"/>
                </a:lnTo>
                <a:lnTo>
                  <a:pt x="36" y="353"/>
                </a:lnTo>
                <a:lnTo>
                  <a:pt x="27" y="342"/>
                </a:lnTo>
                <a:lnTo>
                  <a:pt x="17" y="330"/>
                </a:lnTo>
                <a:lnTo>
                  <a:pt x="10" y="319"/>
                </a:lnTo>
                <a:lnTo>
                  <a:pt x="6" y="315"/>
                </a:lnTo>
                <a:lnTo>
                  <a:pt x="4" y="309"/>
                </a:lnTo>
                <a:lnTo>
                  <a:pt x="2" y="303"/>
                </a:lnTo>
                <a:lnTo>
                  <a:pt x="0" y="299"/>
                </a:lnTo>
                <a:lnTo>
                  <a:pt x="0" y="294"/>
                </a:lnTo>
                <a:lnTo>
                  <a:pt x="0" y="290"/>
                </a:lnTo>
                <a:lnTo>
                  <a:pt x="0" y="284"/>
                </a:lnTo>
                <a:lnTo>
                  <a:pt x="2" y="280"/>
                </a:lnTo>
                <a:lnTo>
                  <a:pt x="6" y="276"/>
                </a:lnTo>
                <a:lnTo>
                  <a:pt x="10" y="271"/>
                </a:lnTo>
                <a:lnTo>
                  <a:pt x="13" y="269"/>
                </a:lnTo>
                <a:lnTo>
                  <a:pt x="21" y="265"/>
                </a:lnTo>
                <a:lnTo>
                  <a:pt x="29" y="265"/>
                </a:lnTo>
                <a:lnTo>
                  <a:pt x="36" y="263"/>
                </a:lnTo>
                <a:lnTo>
                  <a:pt x="42" y="267"/>
                </a:lnTo>
                <a:lnTo>
                  <a:pt x="48" y="271"/>
                </a:lnTo>
                <a:lnTo>
                  <a:pt x="56" y="273"/>
                </a:lnTo>
                <a:lnTo>
                  <a:pt x="63" y="273"/>
                </a:lnTo>
                <a:lnTo>
                  <a:pt x="71" y="273"/>
                </a:lnTo>
                <a:lnTo>
                  <a:pt x="81" y="271"/>
                </a:lnTo>
                <a:lnTo>
                  <a:pt x="90" y="267"/>
                </a:lnTo>
                <a:lnTo>
                  <a:pt x="100" y="263"/>
                </a:lnTo>
                <a:lnTo>
                  <a:pt x="102" y="263"/>
                </a:lnTo>
                <a:lnTo>
                  <a:pt x="106" y="261"/>
                </a:lnTo>
                <a:lnTo>
                  <a:pt x="111" y="259"/>
                </a:lnTo>
                <a:lnTo>
                  <a:pt x="117" y="253"/>
                </a:lnTo>
                <a:lnTo>
                  <a:pt x="125" y="249"/>
                </a:lnTo>
                <a:lnTo>
                  <a:pt x="134" y="242"/>
                </a:lnTo>
                <a:lnTo>
                  <a:pt x="144" y="234"/>
                </a:lnTo>
                <a:lnTo>
                  <a:pt x="154" y="226"/>
                </a:lnTo>
                <a:lnTo>
                  <a:pt x="165" y="217"/>
                </a:lnTo>
                <a:lnTo>
                  <a:pt x="179" y="205"/>
                </a:lnTo>
                <a:lnTo>
                  <a:pt x="192" y="194"/>
                </a:lnTo>
                <a:lnTo>
                  <a:pt x="205" y="182"/>
                </a:lnTo>
                <a:lnTo>
                  <a:pt x="221" y="167"/>
                </a:lnTo>
                <a:lnTo>
                  <a:pt x="238" y="154"/>
                </a:lnTo>
                <a:lnTo>
                  <a:pt x="255" y="138"/>
                </a:lnTo>
                <a:lnTo>
                  <a:pt x="273" y="121"/>
                </a:lnTo>
                <a:lnTo>
                  <a:pt x="288" y="104"/>
                </a:lnTo>
                <a:lnTo>
                  <a:pt x="303" y="88"/>
                </a:lnTo>
                <a:lnTo>
                  <a:pt x="317" y="75"/>
                </a:lnTo>
                <a:lnTo>
                  <a:pt x="330" y="61"/>
                </a:lnTo>
                <a:lnTo>
                  <a:pt x="344" y="50"/>
                </a:lnTo>
                <a:lnTo>
                  <a:pt x="355" y="40"/>
                </a:lnTo>
                <a:lnTo>
                  <a:pt x="365" y="31"/>
                </a:lnTo>
                <a:lnTo>
                  <a:pt x="374" y="23"/>
                </a:lnTo>
                <a:lnTo>
                  <a:pt x="384" y="15"/>
                </a:lnTo>
                <a:lnTo>
                  <a:pt x="392" y="10"/>
                </a:lnTo>
                <a:lnTo>
                  <a:pt x="399" y="6"/>
                </a:lnTo>
                <a:lnTo>
                  <a:pt x="405" y="4"/>
                </a:lnTo>
                <a:lnTo>
                  <a:pt x="411" y="2"/>
                </a:lnTo>
                <a:lnTo>
                  <a:pt x="415" y="0"/>
                </a:lnTo>
                <a:lnTo>
                  <a:pt x="419" y="2"/>
                </a:lnTo>
                <a:lnTo>
                  <a:pt x="422" y="4"/>
                </a:lnTo>
                <a:lnTo>
                  <a:pt x="424" y="8"/>
                </a:lnTo>
                <a:lnTo>
                  <a:pt x="424" y="13"/>
                </a:lnTo>
                <a:lnTo>
                  <a:pt x="424" y="19"/>
                </a:lnTo>
                <a:lnTo>
                  <a:pt x="424" y="25"/>
                </a:lnTo>
                <a:lnTo>
                  <a:pt x="422" y="33"/>
                </a:lnTo>
                <a:lnTo>
                  <a:pt x="420" y="38"/>
                </a:lnTo>
                <a:lnTo>
                  <a:pt x="417" y="46"/>
                </a:lnTo>
                <a:lnTo>
                  <a:pt x="413" y="54"/>
                </a:lnTo>
                <a:lnTo>
                  <a:pt x="409" y="61"/>
                </a:lnTo>
                <a:lnTo>
                  <a:pt x="403" y="71"/>
                </a:lnTo>
                <a:lnTo>
                  <a:pt x="397" y="79"/>
                </a:lnTo>
                <a:lnTo>
                  <a:pt x="392" y="88"/>
                </a:lnTo>
                <a:lnTo>
                  <a:pt x="384" y="100"/>
                </a:lnTo>
                <a:lnTo>
                  <a:pt x="376" y="109"/>
                </a:lnTo>
                <a:lnTo>
                  <a:pt x="369" y="121"/>
                </a:lnTo>
                <a:lnTo>
                  <a:pt x="359" y="13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Freeform 45"/>
          <p:cNvSpPr/>
          <p:nvPr/>
        </p:nvSpPr>
        <p:spPr>
          <a:xfrm>
            <a:off x="6620040" y="3459240"/>
            <a:ext cx="193680" cy="216000"/>
          </a:xfrm>
          <a:custGeom>
            <a:avLst/>
            <a:gdLst/>
            <a:ahLst/>
            <a:rect l="l" t="t" r="r" b="b"/>
            <a:pathLst>
              <a:path w="244" h="273">
                <a:moveTo>
                  <a:pt x="148" y="39"/>
                </a:moveTo>
                <a:lnTo>
                  <a:pt x="161" y="44"/>
                </a:lnTo>
                <a:lnTo>
                  <a:pt x="174" y="52"/>
                </a:lnTo>
                <a:lnTo>
                  <a:pt x="188" y="60"/>
                </a:lnTo>
                <a:lnTo>
                  <a:pt x="201" y="69"/>
                </a:lnTo>
                <a:lnTo>
                  <a:pt x="211" y="79"/>
                </a:lnTo>
                <a:lnTo>
                  <a:pt x="221" y="90"/>
                </a:lnTo>
                <a:lnTo>
                  <a:pt x="224" y="96"/>
                </a:lnTo>
                <a:lnTo>
                  <a:pt x="228" y="104"/>
                </a:lnTo>
                <a:lnTo>
                  <a:pt x="232" y="110"/>
                </a:lnTo>
                <a:lnTo>
                  <a:pt x="234" y="117"/>
                </a:lnTo>
                <a:lnTo>
                  <a:pt x="238" y="131"/>
                </a:lnTo>
                <a:lnTo>
                  <a:pt x="242" y="144"/>
                </a:lnTo>
                <a:lnTo>
                  <a:pt x="244" y="158"/>
                </a:lnTo>
                <a:lnTo>
                  <a:pt x="244" y="169"/>
                </a:lnTo>
                <a:lnTo>
                  <a:pt x="244" y="181"/>
                </a:lnTo>
                <a:lnTo>
                  <a:pt x="242" y="194"/>
                </a:lnTo>
                <a:lnTo>
                  <a:pt x="238" y="208"/>
                </a:lnTo>
                <a:lnTo>
                  <a:pt x="234" y="221"/>
                </a:lnTo>
                <a:lnTo>
                  <a:pt x="230" y="229"/>
                </a:lnTo>
                <a:lnTo>
                  <a:pt x="226" y="234"/>
                </a:lnTo>
                <a:lnTo>
                  <a:pt x="222" y="240"/>
                </a:lnTo>
                <a:lnTo>
                  <a:pt x="219" y="246"/>
                </a:lnTo>
                <a:lnTo>
                  <a:pt x="215" y="252"/>
                </a:lnTo>
                <a:lnTo>
                  <a:pt x="211" y="255"/>
                </a:lnTo>
                <a:lnTo>
                  <a:pt x="209" y="259"/>
                </a:lnTo>
                <a:lnTo>
                  <a:pt x="205" y="261"/>
                </a:lnTo>
                <a:lnTo>
                  <a:pt x="199" y="267"/>
                </a:lnTo>
                <a:lnTo>
                  <a:pt x="194" y="271"/>
                </a:lnTo>
                <a:lnTo>
                  <a:pt x="190" y="273"/>
                </a:lnTo>
                <a:lnTo>
                  <a:pt x="186" y="273"/>
                </a:lnTo>
                <a:lnTo>
                  <a:pt x="184" y="273"/>
                </a:lnTo>
                <a:lnTo>
                  <a:pt x="182" y="273"/>
                </a:lnTo>
                <a:lnTo>
                  <a:pt x="180" y="271"/>
                </a:lnTo>
                <a:lnTo>
                  <a:pt x="178" y="269"/>
                </a:lnTo>
                <a:lnTo>
                  <a:pt x="176" y="267"/>
                </a:lnTo>
                <a:lnTo>
                  <a:pt x="173" y="263"/>
                </a:lnTo>
                <a:lnTo>
                  <a:pt x="169" y="261"/>
                </a:lnTo>
                <a:lnTo>
                  <a:pt x="167" y="255"/>
                </a:lnTo>
                <a:lnTo>
                  <a:pt x="163" y="252"/>
                </a:lnTo>
                <a:lnTo>
                  <a:pt x="159" y="246"/>
                </a:lnTo>
                <a:lnTo>
                  <a:pt x="153" y="242"/>
                </a:lnTo>
                <a:lnTo>
                  <a:pt x="150" y="234"/>
                </a:lnTo>
                <a:lnTo>
                  <a:pt x="146" y="229"/>
                </a:lnTo>
                <a:lnTo>
                  <a:pt x="140" y="221"/>
                </a:lnTo>
                <a:lnTo>
                  <a:pt x="134" y="213"/>
                </a:lnTo>
                <a:lnTo>
                  <a:pt x="128" y="206"/>
                </a:lnTo>
                <a:lnTo>
                  <a:pt x="123" y="196"/>
                </a:lnTo>
                <a:lnTo>
                  <a:pt x="117" y="186"/>
                </a:lnTo>
                <a:lnTo>
                  <a:pt x="109" y="177"/>
                </a:lnTo>
                <a:lnTo>
                  <a:pt x="103" y="167"/>
                </a:lnTo>
                <a:lnTo>
                  <a:pt x="96" y="156"/>
                </a:lnTo>
                <a:lnTo>
                  <a:pt x="88" y="144"/>
                </a:lnTo>
                <a:lnTo>
                  <a:pt x="80" y="133"/>
                </a:lnTo>
                <a:lnTo>
                  <a:pt x="73" y="119"/>
                </a:lnTo>
                <a:lnTo>
                  <a:pt x="65" y="108"/>
                </a:lnTo>
                <a:lnTo>
                  <a:pt x="55" y="94"/>
                </a:lnTo>
                <a:lnTo>
                  <a:pt x="48" y="79"/>
                </a:lnTo>
                <a:lnTo>
                  <a:pt x="38" y="64"/>
                </a:lnTo>
                <a:lnTo>
                  <a:pt x="29" y="50"/>
                </a:lnTo>
                <a:lnTo>
                  <a:pt x="19" y="33"/>
                </a:lnTo>
                <a:lnTo>
                  <a:pt x="9" y="18"/>
                </a:lnTo>
                <a:lnTo>
                  <a:pt x="0" y="0"/>
                </a:lnTo>
                <a:lnTo>
                  <a:pt x="23" y="0"/>
                </a:lnTo>
                <a:lnTo>
                  <a:pt x="44" y="2"/>
                </a:lnTo>
                <a:lnTo>
                  <a:pt x="63" y="6"/>
                </a:lnTo>
                <a:lnTo>
                  <a:pt x="82" y="10"/>
                </a:lnTo>
                <a:lnTo>
                  <a:pt x="102" y="16"/>
                </a:lnTo>
                <a:lnTo>
                  <a:pt x="117" y="21"/>
                </a:lnTo>
                <a:lnTo>
                  <a:pt x="132" y="29"/>
                </a:lnTo>
                <a:lnTo>
                  <a:pt x="148" y="3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Freeform 46"/>
          <p:cNvSpPr/>
          <p:nvPr/>
        </p:nvSpPr>
        <p:spPr>
          <a:xfrm>
            <a:off x="6413400" y="3807000"/>
            <a:ext cx="493920" cy="425160"/>
          </a:xfrm>
          <a:custGeom>
            <a:avLst/>
            <a:gdLst/>
            <a:ahLst/>
            <a:rect l="l" t="t" r="r" b="b"/>
            <a:pathLst>
              <a:path w="622" h="535">
                <a:moveTo>
                  <a:pt x="136" y="535"/>
                </a:moveTo>
                <a:lnTo>
                  <a:pt x="126" y="535"/>
                </a:lnTo>
                <a:lnTo>
                  <a:pt x="117" y="533"/>
                </a:lnTo>
                <a:lnTo>
                  <a:pt x="107" y="529"/>
                </a:lnTo>
                <a:lnTo>
                  <a:pt x="98" y="524"/>
                </a:lnTo>
                <a:lnTo>
                  <a:pt x="92" y="522"/>
                </a:lnTo>
                <a:lnTo>
                  <a:pt x="86" y="518"/>
                </a:lnTo>
                <a:lnTo>
                  <a:pt x="80" y="514"/>
                </a:lnTo>
                <a:lnTo>
                  <a:pt x="75" y="508"/>
                </a:lnTo>
                <a:lnTo>
                  <a:pt x="69" y="502"/>
                </a:lnTo>
                <a:lnTo>
                  <a:pt x="63" y="497"/>
                </a:lnTo>
                <a:lnTo>
                  <a:pt x="55" y="491"/>
                </a:lnTo>
                <a:lnTo>
                  <a:pt x="50" y="483"/>
                </a:lnTo>
                <a:lnTo>
                  <a:pt x="42" y="476"/>
                </a:lnTo>
                <a:lnTo>
                  <a:pt x="36" y="470"/>
                </a:lnTo>
                <a:lnTo>
                  <a:pt x="30" y="462"/>
                </a:lnTo>
                <a:lnTo>
                  <a:pt x="27" y="456"/>
                </a:lnTo>
                <a:lnTo>
                  <a:pt x="21" y="451"/>
                </a:lnTo>
                <a:lnTo>
                  <a:pt x="17" y="445"/>
                </a:lnTo>
                <a:lnTo>
                  <a:pt x="11" y="433"/>
                </a:lnTo>
                <a:lnTo>
                  <a:pt x="5" y="422"/>
                </a:lnTo>
                <a:lnTo>
                  <a:pt x="2" y="412"/>
                </a:lnTo>
                <a:lnTo>
                  <a:pt x="0" y="403"/>
                </a:lnTo>
                <a:lnTo>
                  <a:pt x="0" y="393"/>
                </a:lnTo>
                <a:lnTo>
                  <a:pt x="0" y="383"/>
                </a:lnTo>
                <a:lnTo>
                  <a:pt x="2" y="376"/>
                </a:lnTo>
                <a:lnTo>
                  <a:pt x="5" y="368"/>
                </a:lnTo>
                <a:lnTo>
                  <a:pt x="11" y="362"/>
                </a:lnTo>
                <a:lnTo>
                  <a:pt x="17" y="359"/>
                </a:lnTo>
                <a:lnTo>
                  <a:pt x="21" y="357"/>
                </a:lnTo>
                <a:lnTo>
                  <a:pt x="27" y="357"/>
                </a:lnTo>
                <a:lnTo>
                  <a:pt x="30" y="355"/>
                </a:lnTo>
                <a:lnTo>
                  <a:pt x="36" y="355"/>
                </a:lnTo>
                <a:lnTo>
                  <a:pt x="42" y="353"/>
                </a:lnTo>
                <a:lnTo>
                  <a:pt x="50" y="353"/>
                </a:lnTo>
                <a:lnTo>
                  <a:pt x="59" y="359"/>
                </a:lnTo>
                <a:lnTo>
                  <a:pt x="67" y="360"/>
                </a:lnTo>
                <a:lnTo>
                  <a:pt x="76" y="362"/>
                </a:lnTo>
                <a:lnTo>
                  <a:pt x="84" y="364"/>
                </a:lnTo>
                <a:lnTo>
                  <a:pt x="92" y="362"/>
                </a:lnTo>
                <a:lnTo>
                  <a:pt x="99" y="360"/>
                </a:lnTo>
                <a:lnTo>
                  <a:pt x="105" y="359"/>
                </a:lnTo>
                <a:lnTo>
                  <a:pt x="111" y="353"/>
                </a:lnTo>
                <a:lnTo>
                  <a:pt x="117" y="353"/>
                </a:lnTo>
                <a:lnTo>
                  <a:pt x="123" y="351"/>
                </a:lnTo>
                <a:lnTo>
                  <a:pt x="130" y="347"/>
                </a:lnTo>
                <a:lnTo>
                  <a:pt x="142" y="343"/>
                </a:lnTo>
                <a:lnTo>
                  <a:pt x="146" y="339"/>
                </a:lnTo>
                <a:lnTo>
                  <a:pt x="151" y="336"/>
                </a:lnTo>
                <a:lnTo>
                  <a:pt x="159" y="332"/>
                </a:lnTo>
                <a:lnTo>
                  <a:pt x="165" y="326"/>
                </a:lnTo>
                <a:lnTo>
                  <a:pt x="172" y="320"/>
                </a:lnTo>
                <a:lnTo>
                  <a:pt x="180" y="314"/>
                </a:lnTo>
                <a:lnTo>
                  <a:pt x="190" y="309"/>
                </a:lnTo>
                <a:lnTo>
                  <a:pt x="197" y="301"/>
                </a:lnTo>
                <a:lnTo>
                  <a:pt x="207" y="293"/>
                </a:lnTo>
                <a:lnTo>
                  <a:pt x="219" y="286"/>
                </a:lnTo>
                <a:lnTo>
                  <a:pt x="228" y="276"/>
                </a:lnTo>
                <a:lnTo>
                  <a:pt x="240" y="266"/>
                </a:lnTo>
                <a:lnTo>
                  <a:pt x="253" y="257"/>
                </a:lnTo>
                <a:lnTo>
                  <a:pt x="265" y="247"/>
                </a:lnTo>
                <a:lnTo>
                  <a:pt x="278" y="236"/>
                </a:lnTo>
                <a:lnTo>
                  <a:pt x="293" y="224"/>
                </a:lnTo>
                <a:lnTo>
                  <a:pt x="307" y="211"/>
                </a:lnTo>
                <a:lnTo>
                  <a:pt x="324" y="197"/>
                </a:lnTo>
                <a:lnTo>
                  <a:pt x="339" y="184"/>
                </a:lnTo>
                <a:lnTo>
                  <a:pt x="357" y="170"/>
                </a:lnTo>
                <a:lnTo>
                  <a:pt x="374" y="155"/>
                </a:lnTo>
                <a:lnTo>
                  <a:pt x="393" y="140"/>
                </a:lnTo>
                <a:lnTo>
                  <a:pt x="412" y="123"/>
                </a:lnTo>
                <a:lnTo>
                  <a:pt x="434" y="107"/>
                </a:lnTo>
                <a:lnTo>
                  <a:pt x="455" y="90"/>
                </a:lnTo>
                <a:lnTo>
                  <a:pt x="474" y="75"/>
                </a:lnTo>
                <a:lnTo>
                  <a:pt x="491" y="61"/>
                </a:lnTo>
                <a:lnTo>
                  <a:pt x="508" y="50"/>
                </a:lnTo>
                <a:lnTo>
                  <a:pt x="524" y="38"/>
                </a:lnTo>
                <a:lnTo>
                  <a:pt x="537" y="28"/>
                </a:lnTo>
                <a:lnTo>
                  <a:pt x="551" y="21"/>
                </a:lnTo>
                <a:lnTo>
                  <a:pt x="564" y="15"/>
                </a:lnTo>
                <a:lnTo>
                  <a:pt x="576" y="9"/>
                </a:lnTo>
                <a:lnTo>
                  <a:pt x="585" y="5"/>
                </a:lnTo>
                <a:lnTo>
                  <a:pt x="593" y="2"/>
                </a:lnTo>
                <a:lnTo>
                  <a:pt x="601" y="0"/>
                </a:lnTo>
                <a:lnTo>
                  <a:pt x="608" y="0"/>
                </a:lnTo>
                <a:lnTo>
                  <a:pt x="612" y="0"/>
                </a:lnTo>
                <a:lnTo>
                  <a:pt x="618" y="0"/>
                </a:lnTo>
                <a:lnTo>
                  <a:pt x="620" y="2"/>
                </a:lnTo>
                <a:lnTo>
                  <a:pt x="620" y="5"/>
                </a:lnTo>
                <a:lnTo>
                  <a:pt x="622" y="7"/>
                </a:lnTo>
                <a:lnTo>
                  <a:pt x="622" y="11"/>
                </a:lnTo>
                <a:lnTo>
                  <a:pt x="620" y="15"/>
                </a:lnTo>
                <a:lnTo>
                  <a:pt x="620" y="19"/>
                </a:lnTo>
                <a:lnTo>
                  <a:pt x="618" y="25"/>
                </a:lnTo>
                <a:lnTo>
                  <a:pt x="616" y="28"/>
                </a:lnTo>
                <a:lnTo>
                  <a:pt x="612" y="34"/>
                </a:lnTo>
                <a:lnTo>
                  <a:pt x="610" y="40"/>
                </a:lnTo>
                <a:lnTo>
                  <a:pt x="606" y="46"/>
                </a:lnTo>
                <a:lnTo>
                  <a:pt x="603" y="52"/>
                </a:lnTo>
                <a:lnTo>
                  <a:pt x="597" y="59"/>
                </a:lnTo>
                <a:lnTo>
                  <a:pt x="587" y="75"/>
                </a:lnTo>
                <a:lnTo>
                  <a:pt x="574" y="92"/>
                </a:lnTo>
                <a:lnTo>
                  <a:pt x="560" y="109"/>
                </a:lnTo>
                <a:lnTo>
                  <a:pt x="543" y="130"/>
                </a:lnTo>
                <a:lnTo>
                  <a:pt x="526" y="151"/>
                </a:lnTo>
                <a:lnTo>
                  <a:pt x="505" y="176"/>
                </a:lnTo>
                <a:lnTo>
                  <a:pt x="483" y="201"/>
                </a:lnTo>
                <a:lnTo>
                  <a:pt x="460" y="228"/>
                </a:lnTo>
                <a:lnTo>
                  <a:pt x="435" y="257"/>
                </a:lnTo>
                <a:lnTo>
                  <a:pt x="409" y="289"/>
                </a:lnTo>
                <a:lnTo>
                  <a:pt x="395" y="305"/>
                </a:lnTo>
                <a:lnTo>
                  <a:pt x="382" y="320"/>
                </a:lnTo>
                <a:lnTo>
                  <a:pt x="368" y="334"/>
                </a:lnTo>
                <a:lnTo>
                  <a:pt x="357" y="349"/>
                </a:lnTo>
                <a:lnTo>
                  <a:pt x="343" y="362"/>
                </a:lnTo>
                <a:lnTo>
                  <a:pt x="332" y="374"/>
                </a:lnTo>
                <a:lnTo>
                  <a:pt x="320" y="387"/>
                </a:lnTo>
                <a:lnTo>
                  <a:pt x="309" y="399"/>
                </a:lnTo>
                <a:lnTo>
                  <a:pt x="299" y="410"/>
                </a:lnTo>
                <a:lnTo>
                  <a:pt x="288" y="422"/>
                </a:lnTo>
                <a:lnTo>
                  <a:pt x="278" y="431"/>
                </a:lnTo>
                <a:lnTo>
                  <a:pt x="268" y="441"/>
                </a:lnTo>
                <a:lnTo>
                  <a:pt x="259" y="451"/>
                </a:lnTo>
                <a:lnTo>
                  <a:pt x="249" y="460"/>
                </a:lnTo>
                <a:lnTo>
                  <a:pt x="240" y="468"/>
                </a:lnTo>
                <a:lnTo>
                  <a:pt x="232" y="476"/>
                </a:lnTo>
                <a:lnTo>
                  <a:pt x="222" y="483"/>
                </a:lnTo>
                <a:lnTo>
                  <a:pt x="215" y="491"/>
                </a:lnTo>
                <a:lnTo>
                  <a:pt x="207" y="497"/>
                </a:lnTo>
                <a:lnTo>
                  <a:pt x="199" y="502"/>
                </a:lnTo>
                <a:lnTo>
                  <a:pt x="194" y="508"/>
                </a:lnTo>
                <a:lnTo>
                  <a:pt x="186" y="512"/>
                </a:lnTo>
                <a:lnTo>
                  <a:pt x="180" y="518"/>
                </a:lnTo>
                <a:lnTo>
                  <a:pt x="174" y="522"/>
                </a:lnTo>
                <a:lnTo>
                  <a:pt x="163" y="527"/>
                </a:lnTo>
                <a:lnTo>
                  <a:pt x="153" y="531"/>
                </a:lnTo>
                <a:lnTo>
                  <a:pt x="144" y="535"/>
                </a:lnTo>
                <a:lnTo>
                  <a:pt x="136" y="53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Freeform 47"/>
          <p:cNvSpPr/>
          <p:nvPr/>
        </p:nvSpPr>
        <p:spPr>
          <a:xfrm>
            <a:off x="5595840" y="3892680"/>
            <a:ext cx="836640" cy="215640"/>
          </a:xfrm>
          <a:custGeom>
            <a:avLst/>
            <a:gdLst/>
            <a:ahLst/>
            <a:rect l="l" t="t" r="r" b="b"/>
            <a:pathLst>
              <a:path w="1054" h="273">
                <a:moveTo>
                  <a:pt x="0" y="207"/>
                </a:moveTo>
                <a:lnTo>
                  <a:pt x="73" y="192"/>
                </a:lnTo>
                <a:lnTo>
                  <a:pt x="145" y="175"/>
                </a:lnTo>
                <a:lnTo>
                  <a:pt x="217" y="159"/>
                </a:lnTo>
                <a:lnTo>
                  <a:pt x="286" y="140"/>
                </a:lnTo>
                <a:lnTo>
                  <a:pt x="353" y="123"/>
                </a:lnTo>
                <a:lnTo>
                  <a:pt x="387" y="113"/>
                </a:lnTo>
                <a:lnTo>
                  <a:pt x="420" y="104"/>
                </a:lnTo>
                <a:lnTo>
                  <a:pt x="451" y="94"/>
                </a:lnTo>
                <a:lnTo>
                  <a:pt x="483" y="85"/>
                </a:lnTo>
                <a:lnTo>
                  <a:pt x="514" y="75"/>
                </a:lnTo>
                <a:lnTo>
                  <a:pt x="545" y="65"/>
                </a:lnTo>
                <a:lnTo>
                  <a:pt x="574" y="58"/>
                </a:lnTo>
                <a:lnTo>
                  <a:pt x="602" y="50"/>
                </a:lnTo>
                <a:lnTo>
                  <a:pt x="629" y="44"/>
                </a:lnTo>
                <a:lnTo>
                  <a:pt x="656" y="37"/>
                </a:lnTo>
                <a:lnTo>
                  <a:pt x="681" y="31"/>
                </a:lnTo>
                <a:lnTo>
                  <a:pt x="704" y="27"/>
                </a:lnTo>
                <a:lnTo>
                  <a:pt x="727" y="21"/>
                </a:lnTo>
                <a:lnTo>
                  <a:pt x="748" y="17"/>
                </a:lnTo>
                <a:lnTo>
                  <a:pt x="769" y="14"/>
                </a:lnTo>
                <a:lnTo>
                  <a:pt x="789" y="10"/>
                </a:lnTo>
                <a:lnTo>
                  <a:pt x="806" y="6"/>
                </a:lnTo>
                <a:lnTo>
                  <a:pt x="823" y="4"/>
                </a:lnTo>
                <a:lnTo>
                  <a:pt x="839" y="2"/>
                </a:lnTo>
                <a:lnTo>
                  <a:pt x="854" y="0"/>
                </a:lnTo>
                <a:lnTo>
                  <a:pt x="867" y="0"/>
                </a:lnTo>
                <a:lnTo>
                  <a:pt x="879" y="0"/>
                </a:lnTo>
                <a:lnTo>
                  <a:pt x="898" y="0"/>
                </a:lnTo>
                <a:lnTo>
                  <a:pt x="915" y="0"/>
                </a:lnTo>
                <a:lnTo>
                  <a:pt x="931" y="0"/>
                </a:lnTo>
                <a:lnTo>
                  <a:pt x="946" y="0"/>
                </a:lnTo>
                <a:lnTo>
                  <a:pt x="961" y="2"/>
                </a:lnTo>
                <a:lnTo>
                  <a:pt x="975" y="4"/>
                </a:lnTo>
                <a:lnTo>
                  <a:pt x="990" y="8"/>
                </a:lnTo>
                <a:lnTo>
                  <a:pt x="1004" y="14"/>
                </a:lnTo>
                <a:lnTo>
                  <a:pt x="1009" y="16"/>
                </a:lnTo>
                <a:lnTo>
                  <a:pt x="1017" y="17"/>
                </a:lnTo>
                <a:lnTo>
                  <a:pt x="1023" y="21"/>
                </a:lnTo>
                <a:lnTo>
                  <a:pt x="1027" y="25"/>
                </a:lnTo>
                <a:lnTo>
                  <a:pt x="1032" y="27"/>
                </a:lnTo>
                <a:lnTo>
                  <a:pt x="1036" y="31"/>
                </a:lnTo>
                <a:lnTo>
                  <a:pt x="1042" y="39"/>
                </a:lnTo>
                <a:lnTo>
                  <a:pt x="1048" y="46"/>
                </a:lnTo>
                <a:lnTo>
                  <a:pt x="1052" y="52"/>
                </a:lnTo>
                <a:lnTo>
                  <a:pt x="1054" y="60"/>
                </a:lnTo>
                <a:lnTo>
                  <a:pt x="1054" y="65"/>
                </a:lnTo>
                <a:lnTo>
                  <a:pt x="1054" y="67"/>
                </a:lnTo>
                <a:lnTo>
                  <a:pt x="1052" y="69"/>
                </a:lnTo>
                <a:lnTo>
                  <a:pt x="1050" y="73"/>
                </a:lnTo>
                <a:lnTo>
                  <a:pt x="1046" y="77"/>
                </a:lnTo>
                <a:lnTo>
                  <a:pt x="1042" y="79"/>
                </a:lnTo>
                <a:lnTo>
                  <a:pt x="1038" y="83"/>
                </a:lnTo>
                <a:lnTo>
                  <a:pt x="1032" y="87"/>
                </a:lnTo>
                <a:lnTo>
                  <a:pt x="1025" y="90"/>
                </a:lnTo>
                <a:lnTo>
                  <a:pt x="1019" y="94"/>
                </a:lnTo>
                <a:lnTo>
                  <a:pt x="1009" y="98"/>
                </a:lnTo>
                <a:lnTo>
                  <a:pt x="1000" y="102"/>
                </a:lnTo>
                <a:lnTo>
                  <a:pt x="990" y="106"/>
                </a:lnTo>
                <a:lnTo>
                  <a:pt x="981" y="108"/>
                </a:lnTo>
                <a:lnTo>
                  <a:pt x="967" y="111"/>
                </a:lnTo>
                <a:lnTo>
                  <a:pt x="956" y="113"/>
                </a:lnTo>
                <a:lnTo>
                  <a:pt x="942" y="117"/>
                </a:lnTo>
                <a:lnTo>
                  <a:pt x="927" y="121"/>
                </a:lnTo>
                <a:lnTo>
                  <a:pt x="912" y="127"/>
                </a:lnTo>
                <a:lnTo>
                  <a:pt x="894" y="131"/>
                </a:lnTo>
                <a:lnTo>
                  <a:pt x="875" y="136"/>
                </a:lnTo>
                <a:lnTo>
                  <a:pt x="854" y="142"/>
                </a:lnTo>
                <a:lnTo>
                  <a:pt x="831" y="146"/>
                </a:lnTo>
                <a:lnTo>
                  <a:pt x="808" y="152"/>
                </a:lnTo>
                <a:lnTo>
                  <a:pt x="783" y="158"/>
                </a:lnTo>
                <a:lnTo>
                  <a:pt x="758" y="163"/>
                </a:lnTo>
                <a:lnTo>
                  <a:pt x="729" y="169"/>
                </a:lnTo>
                <a:lnTo>
                  <a:pt x="700" y="175"/>
                </a:lnTo>
                <a:lnTo>
                  <a:pt x="670" y="181"/>
                </a:lnTo>
                <a:lnTo>
                  <a:pt x="637" y="186"/>
                </a:lnTo>
                <a:lnTo>
                  <a:pt x="604" y="194"/>
                </a:lnTo>
                <a:lnTo>
                  <a:pt x="570" y="200"/>
                </a:lnTo>
                <a:lnTo>
                  <a:pt x="533" y="207"/>
                </a:lnTo>
                <a:lnTo>
                  <a:pt x="512" y="211"/>
                </a:lnTo>
                <a:lnTo>
                  <a:pt x="495" y="215"/>
                </a:lnTo>
                <a:lnTo>
                  <a:pt x="476" y="219"/>
                </a:lnTo>
                <a:lnTo>
                  <a:pt x="458" y="221"/>
                </a:lnTo>
                <a:lnTo>
                  <a:pt x="441" y="225"/>
                </a:lnTo>
                <a:lnTo>
                  <a:pt x="424" y="229"/>
                </a:lnTo>
                <a:lnTo>
                  <a:pt x="409" y="232"/>
                </a:lnTo>
                <a:lnTo>
                  <a:pt x="393" y="234"/>
                </a:lnTo>
                <a:lnTo>
                  <a:pt x="378" y="238"/>
                </a:lnTo>
                <a:lnTo>
                  <a:pt x="362" y="240"/>
                </a:lnTo>
                <a:lnTo>
                  <a:pt x="349" y="244"/>
                </a:lnTo>
                <a:lnTo>
                  <a:pt x="336" y="246"/>
                </a:lnTo>
                <a:lnTo>
                  <a:pt x="322" y="248"/>
                </a:lnTo>
                <a:lnTo>
                  <a:pt x="311" y="250"/>
                </a:lnTo>
                <a:lnTo>
                  <a:pt x="299" y="253"/>
                </a:lnTo>
                <a:lnTo>
                  <a:pt x="288" y="255"/>
                </a:lnTo>
                <a:lnTo>
                  <a:pt x="276" y="257"/>
                </a:lnTo>
                <a:lnTo>
                  <a:pt x="266" y="259"/>
                </a:lnTo>
                <a:lnTo>
                  <a:pt x="257" y="261"/>
                </a:lnTo>
                <a:lnTo>
                  <a:pt x="247" y="263"/>
                </a:lnTo>
                <a:lnTo>
                  <a:pt x="238" y="265"/>
                </a:lnTo>
                <a:lnTo>
                  <a:pt x="230" y="265"/>
                </a:lnTo>
                <a:lnTo>
                  <a:pt x="222" y="267"/>
                </a:lnTo>
                <a:lnTo>
                  <a:pt x="215" y="269"/>
                </a:lnTo>
                <a:lnTo>
                  <a:pt x="201" y="271"/>
                </a:lnTo>
                <a:lnTo>
                  <a:pt x="190" y="271"/>
                </a:lnTo>
                <a:lnTo>
                  <a:pt x="180" y="273"/>
                </a:lnTo>
                <a:lnTo>
                  <a:pt x="172" y="273"/>
                </a:lnTo>
                <a:lnTo>
                  <a:pt x="167" y="273"/>
                </a:lnTo>
                <a:lnTo>
                  <a:pt x="159" y="271"/>
                </a:lnTo>
                <a:lnTo>
                  <a:pt x="151" y="271"/>
                </a:lnTo>
                <a:lnTo>
                  <a:pt x="142" y="269"/>
                </a:lnTo>
                <a:lnTo>
                  <a:pt x="134" y="265"/>
                </a:lnTo>
                <a:lnTo>
                  <a:pt x="124" y="263"/>
                </a:lnTo>
                <a:lnTo>
                  <a:pt x="115" y="259"/>
                </a:lnTo>
                <a:lnTo>
                  <a:pt x="105" y="255"/>
                </a:lnTo>
                <a:lnTo>
                  <a:pt x="94" y="250"/>
                </a:lnTo>
                <a:lnTo>
                  <a:pt x="82" y="246"/>
                </a:lnTo>
                <a:lnTo>
                  <a:pt x="71" y="240"/>
                </a:lnTo>
                <a:lnTo>
                  <a:pt x="57" y="234"/>
                </a:lnTo>
                <a:lnTo>
                  <a:pt x="44" y="229"/>
                </a:lnTo>
                <a:lnTo>
                  <a:pt x="30" y="221"/>
                </a:lnTo>
                <a:lnTo>
                  <a:pt x="15" y="215"/>
                </a:lnTo>
                <a:lnTo>
                  <a:pt x="0" y="20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Freeform 48"/>
          <p:cNvSpPr/>
          <p:nvPr/>
        </p:nvSpPr>
        <p:spPr>
          <a:xfrm>
            <a:off x="5378400" y="4037040"/>
            <a:ext cx="611280" cy="785880"/>
          </a:xfrm>
          <a:custGeom>
            <a:avLst/>
            <a:gdLst/>
            <a:ahLst/>
            <a:rect l="l" t="t" r="r" b="b"/>
            <a:pathLst>
              <a:path w="770" h="991">
                <a:moveTo>
                  <a:pt x="522" y="638"/>
                </a:moveTo>
                <a:lnTo>
                  <a:pt x="505" y="657"/>
                </a:lnTo>
                <a:lnTo>
                  <a:pt x="488" y="676"/>
                </a:lnTo>
                <a:lnTo>
                  <a:pt x="470" y="693"/>
                </a:lnTo>
                <a:lnTo>
                  <a:pt x="453" y="712"/>
                </a:lnTo>
                <a:lnTo>
                  <a:pt x="434" y="730"/>
                </a:lnTo>
                <a:lnTo>
                  <a:pt x="415" y="747"/>
                </a:lnTo>
                <a:lnTo>
                  <a:pt x="396" y="764"/>
                </a:lnTo>
                <a:lnTo>
                  <a:pt x="374" y="781"/>
                </a:lnTo>
                <a:lnTo>
                  <a:pt x="355" y="797"/>
                </a:lnTo>
                <a:lnTo>
                  <a:pt x="334" y="814"/>
                </a:lnTo>
                <a:lnTo>
                  <a:pt x="311" y="827"/>
                </a:lnTo>
                <a:lnTo>
                  <a:pt x="290" y="843"/>
                </a:lnTo>
                <a:lnTo>
                  <a:pt x="267" y="856"/>
                </a:lnTo>
                <a:lnTo>
                  <a:pt x="246" y="872"/>
                </a:lnTo>
                <a:lnTo>
                  <a:pt x="223" y="883"/>
                </a:lnTo>
                <a:lnTo>
                  <a:pt x="200" y="897"/>
                </a:lnTo>
                <a:lnTo>
                  <a:pt x="177" y="908"/>
                </a:lnTo>
                <a:lnTo>
                  <a:pt x="156" y="920"/>
                </a:lnTo>
                <a:lnTo>
                  <a:pt x="136" y="931"/>
                </a:lnTo>
                <a:lnTo>
                  <a:pt x="117" y="941"/>
                </a:lnTo>
                <a:lnTo>
                  <a:pt x="102" y="950"/>
                </a:lnTo>
                <a:lnTo>
                  <a:pt x="86" y="958"/>
                </a:lnTo>
                <a:lnTo>
                  <a:pt x="71" y="966"/>
                </a:lnTo>
                <a:lnTo>
                  <a:pt x="58" y="971"/>
                </a:lnTo>
                <a:lnTo>
                  <a:pt x="46" y="977"/>
                </a:lnTo>
                <a:lnTo>
                  <a:pt x="37" y="983"/>
                </a:lnTo>
                <a:lnTo>
                  <a:pt x="27" y="985"/>
                </a:lnTo>
                <a:lnTo>
                  <a:pt x="19" y="989"/>
                </a:lnTo>
                <a:lnTo>
                  <a:pt x="13" y="991"/>
                </a:lnTo>
                <a:lnTo>
                  <a:pt x="8" y="991"/>
                </a:lnTo>
                <a:lnTo>
                  <a:pt x="4" y="989"/>
                </a:lnTo>
                <a:lnTo>
                  <a:pt x="2" y="989"/>
                </a:lnTo>
                <a:lnTo>
                  <a:pt x="0" y="985"/>
                </a:lnTo>
                <a:lnTo>
                  <a:pt x="0" y="981"/>
                </a:lnTo>
                <a:lnTo>
                  <a:pt x="0" y="977"/>
                </a:lnTo>
                <a:lnTo>
                  <a:pt x="4" y="973"/>
                </a:lnTo>
                <a:lnTo>
                  <a:pt x="8" y="968"/>
                </a:lnTo>
                <a:lnTo>
                  <a:pt x="13" y="962"/>
                </a:lnTo>
                <a:lnTo>
                  <a:pt x="19" y="954"/>
                </a:lnTo>
                <a:lnTo>
                  <a:pt x="27" y="946"/>
                </a:lnTo>
                <a:lnTo>
                  <a:pt x="37" y="937"/>
                </a:lnTo>
                <a:lnTo>
                  <a:pt x="48" y="927"/>
                </a:lnTo>
                <a:lnTo>
                  <a:pt x="60" y="916"/>
                </a:lnTo>
                <a:lnTo>
                  <a:pt x="73" y="904"/>
                </a:lnTo>
                <a:lnTo>
                  <a:pt x="86" y="891"/>
                </a:lnTo>
                <a:lnTo>
                  <a:pt x="104" y="877"/>
                </a:lnTo>
                <a:lnTo>
                  <a:pt x="119" y="862"/>
                </a:lnTo>
                <a:lnTo>
                  <a:pt x="138" y="845"/>
                </a:lnTo>
                <a:lnTo>
                  <a:pt x="175" y="814"/>
                </a:lnTo>
                <a:lnTo>
                  <a:pt x="209" y="783"/>
                </a:lnTo>
                <a:lnTo>
                  <a:pt x="244" y="753"/>
                </a:lnTo>
                <a:lnTo>
                  <a:pt x="278" y="720"/>
                </a:lnTo>
                <a:lnTo>
                  <a:pt x="313" y="687"/>
                </a:lnTo>
                <a:lnTo>
                  <a:pt x="346" y="653"/>
                </a:lnTo>
                <a:lnTo>
                  <a:pt x="411" y="586"/>
                </a:lnTo>
                <a:lnTo>
                  <a:pt x="438" y="549"/>
                </a:lnTo>
                <a:lnTo>
                  <a:pt x="463" y="515"/>
                </a:lnTo>
                <a:lnTo>
                  <a:pt x="488" y="478"/>
                </a:lnTo>
                <a:lnTo>
                  <a:pt x="511" y="440"/>
                </a:lnTo>
                <a:lnTo>
                  <a:pt x="532" y="401"/>
                </a:lnTo>
                <a:lnTo>
                  <a:pt x="541" y="382"/>
                </a:lnTo>
                <a:lnTo>
                  <a:pt x="551" y="363"/>
                </a:lnTo>
                <a:lnTo>
                  <a:pt x="561" y="344"/>
                </a:lnTo>
                <a:lnTo>
                  <a:pt x="568" y="325"/>
                </a:lnTo>
                <a:lnTo>
                  <a:pt x="578" y="306"/>
                </a:lnTo>
                <a:lnTo>
                  <a:pt x="584" y="286"/>
                </a:lnTo>
                <a:lnTo>
                  <a:pt x="591" y="269"/>
                </a:lnTo>
                <a:lnTo>
                  <a:pt x="597" y="250"/>
                </a:lnTo>
                <a:lnTo>
                  <a:pt x="603" y="233"/>
                </a:lnTo>
                <a:lnTo>
                  <a:pt x="607" y="215"/>
                </a:lnTo>
                <a:lnTo>
                  <a:pt x="612" y="196"/>
                </a:lnTo>
                <a:lnTo>
                  <a:pt x="616" y="179"/>
                </a:lnTo>
                <a:lnTo>
                  <a:pt x="622" y="142"/>
                </a:lnTo>
                <a:lnTo>
                  <a:pt x="628" y="106"/>
                </a:lnTo>
                <a:lnTo>
                  <a:pt x="632" y="70"/>
                </a:lnTo>
                <a:lnTo>
                  <a:pt x="634" y="35"/>
                </a:lnTo>
                <a:lnTo>
                  <a:pt x="634" y="0"/>
                </a:lnTo>
                <a:lnTo>
                  <a:pt x="649" y="16"/>
                </a:lnTo>
                <a:lnTo>
                  <a:pt x="664" y="33"/>
                </a:lnTo>
                <a:lnTo>
                  <a:pt x="678" y="48"/>
                </a:lnTo>
                <a:lnTo>
                  <a:pt x="691" y="62"/>
                </a:lnTo>
                <a:lnTo>
                  <a:pt x="703" y="77"/>
                </a:lnTo>
                <a:lnTo>
                  <a:pt x="714" y="91"/>
                </a:lnTo>
                <a:lnTo>
                  <a:pt x="726" y="102"/>
                </a:lnTo>
                <a:lnTo>
                  <a:pt x="733" y="114"/>
                </a:lnTo>
                <a:lnTo>
                  <a:pt x="743" y="123"/>
                </a:lnTo>
                <a:lnTo>
                  <a:pt x="751" y="133"/>
                </a:lnTo>
                <a:lnTo>
                  <a:pt x="756" y="142"/>
                </a:lnTo>
                <a:lnTo>
                  <a:pt x="760" y="150"/>
                </a:lnTo>
                <a:lnTo>
                  <a:pt x="766" y="156"/>
                </a:lnTo>
                <a:lnTo>
                  <a:pt x="768" y="162"/>
                </a:lnTo>
                <a:lnTo>
                  <a:pt x="770" y="165"/>
                </a:lnTo>
                <a:lnTo>
                  <a:pt x="770" y="169"/>
                </a:lnTo>
                <a:lnTo>
                  <a:pt x="770" y="173"/>
                </a:lnTo>
                <a:lnTo>
                  <a:pt x="770" y="179"/>
                </a:lnTo>
                <a:lnTo>
                  <a:pt x="768" y="187"/>
                </a:lnTo>
                <a:lnTo>
                  <a:pt x="768" y="192"/>
                </a:lnTo>
                <a:lnTo>
                  <a:pt x="766" y="200"/>
                </a:lnTo>
                <a:lnTo>
                  <a:pt x="764" y="210"/>
                </a:lnTo>
                <a:lnTo>
                  <a:pt x="762" y="219"/>
                </a:lnTo>
                <a:lnTo>
                  <a:pt x="758" y="229"/>
                </a:lnTo>
                <a:lnTo>
                  <a:pt x="756" y="238"/>
                </a:lnTo>
                <a:lnTo>
                  <a:pt x="753" y="250"/>
                </a:lnTo>
                <a:lnTo>
                  <a:pt x="749" y="263"/>
                </a:lnTo>
                <a:lnTo>
                  <a:pt x="743" y="277"/>
                </a:lnTo>
                <a:lnTo>
                  <a:pt x="739" y="290"/>
                </a:lnTo>
                <a:lnTo>
                  <a:pt x="733" y="306"/>
                </a:lnTo>
                <a:lnTo>
                  <a:pt x="728" y="321"/>
                </a:lnTo>
                <a:lnTo>
                  <a:pt x="720" y="338"/>
                </a:lnTo>
                <a:lnTo>
                  <a:pt x="714" y="355"/>
                </a:lnTo>
                <a:lnTo>
                  <a:pt x="705" y="373"/>
                </a:lnTo>
                <a:lnTo>
                  <a:pt x="697" y="390"/>
                </a:lnTo>
                <a:lnTo>
                  <a:pt x="687" y="407"/>
                </a:lnTo>
                <a:lnTo>
                  <a:pt x="678" y="426"/>
                </a:lnTo>
                <a:lnTo>
                  <a:pt x="668" y="444"/>
                </a:lnTo>
                <a:lnTo>
                  <a:pt x="657" y="463"/>
                </a:lnTo>
                <a:lnTo>
                  <a:pt x="645" y="482"/>
                </a:lnTo>
                <a:lnTo>
                  <a:pt x="632" y="501"/>
                </a:lnTo>
                <a:lnTo>
                  <a:pt x="618" y="520"/>
                </a:lnTo>
                <a:lnTo>
                  <a:pt x="605" y="540"/>
                </a:lnTo>
                <a:lnTo>
                  <a:pt x="589" y="559"/>
                </a:lnTo>
                <a:lnTo>
                  <a:pt x="574" y="578"/>
                </a:lnTo>
                <a:lnTo>
                  <a:pt x="557" y="597"/>
                </a:lnTo>
                <a:lnTo>
                  <a:pt x="540" y="616"/>
                </a:lnTo>
                <a:lnTo>
                  <a:pt x="522" y="63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Freeform 49"/>
          <p:cNvSpPr/>
          <p:nvPr/>
        </p:nvSpPr>
        <p:spPr>
          <a:xfrm>
            <a:off x="6137280" y="3975120"/>
            <a:ext cx="1692360" cy="939960"/>
          </a:xfrm>
          <a:custGeom>
            <a:avLst/>
            <a:gdLst/>
            <a:ahLst/>
            <a:rect l="l" t="t" r="r" b="b"/>
            <a:pathLst>
              <a:path w="2131" h="1184">
                <a:moveTo>
                  <a:pt x="1613" y="936"/>
                </a:moveTo>
                <a:lnTo>
                  <a:pt x="1642" y="929"/>
                </a:lnTo>
                <a:lnTo>
                  <a:pt x="1670" y="921"/>
                </a:lnTo>
                <a:lnTo>
                  <a:pt x="1695" y="915"/>
                </a:lnTo>
                <a:lnTo>
                  <a:pt x="1720" y="907"/>
                </a:lnTo>
                <a:lnTo>
                  <a:pt x="1743" y="902"/>
                </a:lnTo>
                <a:lnTo>
                  <a:pt x="1763" y="896"/>
                </a:lnTo>
                <a:lnTo>
                  <a:pt x="1782" y="890"/>
                </a:lnTo>
                <a:lnTo>
                  <a:pt x="1801" y="884"/>
                </a:lnTo>
                <a:lnTo>
                  <a:pt x="1816" y="877"/>
                </a:lnTo>
                <a:lnTo>
                  <a:pt x="1832" y="871"/>
                </a:lnTo>
                <a:lnTo>
                  <a:pt x="1843" y="865"/>
                </a:lnTo>
                <a:lnTo>
                  <a:pt x="1855" y="859"/>
                </a:lnTo>
                <a:lnTo>
                  <a:pt x="1864" y="852"/>
                </a:lnTo>
                <a:lnTo>
                  <a:pt x="1874" y="846"/>
                </a:lnTo>
                <a:lnTo>
                  <a:pt x="1880" y="838"/>
                </a:lnTo>
                <a:lnTo>
                  <a:pt x="1886" y="833"/>
                </a:lnTo>
                <a:lnTo>
                  <a:pt x="1889" y="827"/>
                </a:lnTo>
                <a:lnTo>
                  <a:pt x="1891" y="819"/>
                </a:lnTo>
                <a:lnTo>
                  <a:pt x="1895" y="811"/>
                </a:lnTo>
                <a:lnTo>
                  <a:pt x="1897" y="802"/>
                </a:lnTo>
                <a:lnTo>
                  <a:pt x="1901" y="792"/>
                </a:lnTo>
                <a:lnTo>
                  <a:pt x="1905" y="781"/>
                </a:lnTo>
                <a:lnTo>
                  <a:pt x="1909" y="767"/>
                </a:lnTo>
                <a:lnTo>
                  <a:pt x="1914" y="752"/>
                </a:lnTo>
                <a:lnTo>
                  <a:pt x="1918" y="737"/>
                </a:lnTo>
                <a:lnTo>
                  <a:pt x="1924" y="719"/>
                </a:lnTo>
                <a:lnTo>
                  <a:pt x="1930" y="700"/>
                </a:lnTo>
                <a:lnTo>
                  <a:pt x="1935" y="681"/>
                </a:lnTo>
                <a:lnTo>
                  <a:pt x="1941" y="658"/>
                </a:lnTo>
                <a:lnTo>
                  <a:pt x="1947" y="635"/>
                </a:lnTo>
                <a:lnTo>
                  <a:pt x="1953" y="610"/>
                </a:lnTo>
                <a:lnTo>
                  <a:pt x="1960" y="585"/>
                </a:lnTo>
                <a:lnTo>
                  <a:pt x="1964" y="558"/>
                </a:lnTo>
                <a:lnTo>
                  <a:pt x="1970" y="535"/>
                </a:lnTo>
                <a:lnTo>
                  <a:pt x="1974" y="512"/>
                </a:lnTo>
                <a:lnTo>
                  <a:pt x="1978" y="491"/>
                </a:lnTo>
                <a:lnTo>
                  <a:pt x="1983" y="474"/>
                </a:lnTo>
                <a:lnTo>
                  <a:pt x="1987" y="456"/>
                </a:lnTo>
                <a:lnTo>
                  <a:pt x="1991" y="441"/>
                </a:lnTo>
                <a:lnTo>
                  <a:pt x="1995" y="428"/>
                </a:lnTo>
                <a:lnTo>
                  <a:pt x="1999" y="414"/>
                </a:lnTo>
                <a:lnTo>
                  <a:pt x="2003" y="405"/>
                </a:lnTo>
                <a:lnTo>
                  <a:pt x="2006" y="395"/>
                </a:lnTo>
                <a:lnTo>
                  <a:pt x="2010" y="389"/>
                </a:lnTo>
                <a:lnTo>
                  <a:pt x="2014" y="384"/>
                </a:lnTo>
                <a:lnTo>
                  <a:pt x="2018" y="380"/>
                </a:lnTo>
                <a:lnTo>
                  <a:pt x="2020" y="378"/>
                </a:lnTo>
                <a:lnTo>
                  <a:pt x="2022" y="376"/>
                </a:lnTo>
                <a:lnTo>
                  <a:pt x="2024" y="380"/>
                </a:lnTo>
                <a:lnTo>
                  <a:pt x="2028" y="384"/>
                </a:lnTo>
                <a:lnTo>
                  <a:pt x="2029" y="389"/>
                </a:lnTo>
                <a:lnTo>
                  <a:pt x="2031" y="397"/>
                </a:lnTo>
                <a:lnTo>
                  <a:pt x="2033" y="405"/>
                </a:lnTo>
                <a:lnTo>
                  <a:pt x="2035" y="414"/>
                </a:lnTo>
                <a:lnTo>
                  <a:pt x="2039" y="426"/>
                </a:lnTo>
                <a:lnTo>
                  <a:pt x="2041" y="439"/>
                </a:lnTo>
                <a:lnTo>
                  <a:pt x="2043" y="453"/>
                </a:lnTo>
                <a:lnTo>
                  <a:pt x="2045" y="468"/>
                </a:lnTo>
                <a:lnTo>
                  <a:pt x="2049" y="485"/>
                </a:lnTo>
                <a:lnTo>
                  <a:pt x="2051" y="504"/>
                </a:lnTo>
                <a:lnTo>
                  <a:pt x="2053" y="526"/>
                </a:lnTo>
                <a:lnTo>
                  <a:pt x="2054" y="547"/>
                </a:lnTo>
                <a:lnTo>
                  <a:pt x="2056" y="572"/>
                </a:lnTo>
                <a:lnTo>
                  <a:pt x="2060" y="598"/>
                </a:lnTo>
                <a:lnTo>
                  <a:pt x="2062" y="623"/>
                </a:lnTo>
                <a:lnTo>
                  <a:pt x="2064" y="648"/>
                </a:lnTo>
                <a:lnTo>
                  <a:pt x="2066" y="673"/>
                </a:lnTo>
                <a:lnTo>
                  <a:pt x="2070" y="694"/>
                </a:lnTo>
                <a:lnTo>
                  <a:pt x="2072" y="717"/>
                </a:lnTo>
                <a:lnTo>
                  <a:pt x="2074" y="737"/>
                </a:lnTo>
                <a:lnTo>
                  <a:pt x="2077" y="756"/>
                </a:lnTo>
                <a:lnTo>
                  <a:pt x="2081" y="775"/>
                </a:lnTo>
                <a:lnTo>
                  <a:pt x="2085" y="792"/>
                </a:lnTo>
                <a:lnTo>
                  <a:pt x="2089" y="808"/>
                </a:lnTo>
                <a:lnTo>
                  <a:pt x="2093" y="823"/>
                </a:lnTo>
                <a:lnTo>
                  <a:pt x="2099" y="836"/>
                </a:lnTo>
                <a:lnTo>
                  <a:pt x="2102" y="850"/>
                </a:lnTo>
                <a:lnTo>
                  <a:pt x="2108" y="863"/>
                </a:lnTo>
                <a:lnTo>
                  <a:pt x="2114" y="873"/>
                </a:lnTo>
                <a:lnTo>
                  <a:pt x="2122" y="884"/>
                </a:lnTo>
                <a:lnTo>
                  <a:pt x="2125" y="894"/>
                </a:lnTo>
                <a:lnTo>
                  <a:pt x="2127" y="904"/>
                </a:lnTo>
                <a:lnTo>
                  <a:pt x="2129" y="913"/>
                </a:lnTo>
                <a:lnTo>
                  <a:pt x="2131" y="923"/>
                </a:lnTo>
                <a:lnTo>
                  <a:pt x="2129" y="932"/>
                </a:lnTo>
                <a:lnTo>
                  <a:pt x="2127" y="942"/>
                </a:lnTo>
                <a:lnTo>
                  <a:pt x="2124" y="952"/>
                </a:lnTo>
                <a:lnTo>
                  <a:pt x="2120" y="959"/>
                </a:lnTo>
                <a:lnTo>
                  <a:pt x="2114" y="969"/>
                </a:lnTo>
                <a:lnTo>
                  <a:pt x="2106" y="978"/>
                </a:lnTo>
                <a:lnTo>
                  <a:pt x="2099" y="986"/>
                </a:lnTo>
                <a:lnTo>
                  <a:pt x="2089" y="996"/>
                </a:lnTo>
                <a:lnTo>
                  <a:pt x="2077" y="1003"/>
                </a:lnTo>
                <a:lnTo>
                  <a:pt x="2064" y="1011"/>
                </a:lnTo>
                <a:lnTo>
                  <a:pt x="2051" y="1019"/>
                </a:lnTo>
                <a:lnTo>
                  <a:pt x="2035" y="1026"/>
                </a:lnTo>
                <a:lnTo>
                  <a:pt x="2018" y="1034"/>
                </a:lnTo>
                <a:lnTo>
                  <a:pt x="1999" y="1042"/>
                </a:lnTo>
                <a:lnTo>
                  <a:pt x="1981" y="1049"/>
                </a:lnTo>
                <a:lnTo>
                  <a:pt x="1960" y="1057"/>
                </a:lnTo>
                <a:lnTo>
                  <a:pt x="1939" y="1063"/>
                </a:lnTo>
                <a:lnTo>
                  <a:pt x="1918" y="1071"/>
                </a:lnTo>
                <a:lnTo>
                  <a:pt x="1895" y="1078"/>
                </a:lnTo>
                <a:lnTo>
                  <a:pt x="1870" y="1086"/>
                </a:lnTo>
                <a:lnTo>
                  <a:pt x="1845" y="1094"/>
                </a:lnTo>
                <a:lnTo>
                  <a:pt x="1820" y="1099"/>
                </a:lnTo>
                <a:lnTo>
                  <a:pt x="1793" y="1107"/>
                </a:lnTo>
                <a:lnTo>
                  <a:pt x="1766" y="1115"/>
                </a:lnTo>
                <a:lnTo>
                  <a:pt x="1738" y="1122"/>
                </a:lnTo>
                <a:lnTo>
                  <a:pt x="1709" y="1130"/>
                </a:lnTo>
                <a:lnTo>
                  <a:pt x="1680" y="1136"/>
                </a:lnTo>
                <a:lnTo>
                  <a:pt x="1651" y="1143"/>
                </a:lnTo>
                <a:lnTo>
                  <a:pt x="1619" y="1149"/>
                </a:lnTo>
                <a:lnTo>
                  <a:pt x="1588" y="1153"/>
                </a:lnTo>
                <a:lnTo>
                  <a:pt x="1553" y="1157"/>
                </a:lnTo>
                <a:lnTo>
                  <a:pt x="1519" y="1161"/>
                </a:lnTo>
                <a:lnTo>
                  <a:pt x="1482" y="1165"/>
                </a:lnTo>
                <a:lnTo>
                  <a:pt x="1444" y="1168"/>
                </a:lnTo>
                <a:lnTo>
                  <a:pt x="1406" y="1170"/>
                </a:lnTo>
                <a:lnTo>
                  <a:pt x="1365" y="1174"/>
                </a:lnTo>
                <a:lnTo>
                  <a:pt x="1323" y="1176"/>
                </a:lnTo>
                <a:lnTo>
                  <a:pt x="1281" y="1178"/>
                </a:lnTo>
                <a:lnTo>
                  <a:pt x="1237" y="1180"/>
                </a:lnTo>
                <a:lnTo>
                  <a:pt x="1192" y="1180"/>
                </a:lnTo>
                <a:lnTo>
                  <a:pt x="1148" y="1182"/>
                </a:lnTo>
                <a:lnTo>
                  <a:pt x="1100" y="1182"/>
                </a:lnTo>
                <a:lnTo>
                  <a:pt x="1052" y="1182"/>
                </a:lnTo>
                <a:lnTo>
                  <a:pt x="1004" y="1184"/>
                </a:lnTo>
                <a:lnTo>
                  <a:pt x="956" y="1184"/>
                </a:lnTo>
                <a:lnTo>
                  <a:pt x="910" y="1184"/>
                </a:lnTo>
                <a:lnTo>
                  <a:pt x="866" y="1182"/>
                </a:lnTo>
                <a:lnTo>
                  <a:pt x="824" y="1182"/>
                </a:lnTo>
                <a:lnTo>
                  <a:pt x="783" y="1182"/>
                </a:lnTo>
                <a:lnTo>
                  <a:pt x="743" y="1182"/>
                </a:lnTo>
                <a:lnTo>
                  <a:pt x="707" y="1182"/>
                </a:lnTo>
                <a:lnTo>
                  <a:pt x="670" y="1182"/>
                </a:lnTo>
                <a:lnTo>
                  <a:pt x="636" y="1180"/>
                </a:lnTo>
                <a:lnTo>
                  <a:pt x="603" y="1180"/>
                </a:lnTo>
                <a:lnTo>
                  <a:pt x="572" y="1178"/>
                </a:lnTo>
                <a:lnTo>
                  <a:pt x="543" y="1178"/>
                </a:lnTo>
                <a:lnTo>
                  <a:pt x="517" y="1176"/>
                </a:lnTo>
                <a:lnTo>
                  <a:pt x="492" y="1174"/>
                </a:lnTo>
                <a:lnTo>
                  <a:pt x="469" y="1172"/>
                </a:lnTo>
                <a:lnTo>
                  <a:pt x="447" y="1170"/>
                </a:lnTo>
                <a:lnTo>
                  <a:pt x="426" y="1166"/>
                </a:lnTo>
                <a:lnTo>
                  <a:pt x="405" y="1165"/>
                </a:lnTo>
                <a:lnTo>
                  <a:pt x="386" y="1161"/>
                </a:lnTo>
                <a:lnTo>
                  <a:pt x="367" y="1155"/>
                </a:lnTo>
                <a:lnTo>
                  <a:pt x="350" y="1151"/>
                </a:lnTo>
                <a:lnTo>
                  <a:pt x="332" y="1145"/>
                </a:lnTo>
                <a:lnTo>
                  <a:pt x="315" y="1140"/>
                </a:lnTo>
                <a:lnTo>
                  <a:pt x="298" y="1134"/>
                </a:lnTo>
                <a:lnTo>
                  <a:pt x="282" y="1128"/>
                </a:lnTo>
                <a:lnTo>
                  <a:pt x="267" y="1122"/>
                </a:lnTo>
                <a:lnTo>
                  <a:pt x="252" y="1115"/>
                </a:lnTo>
                <a:lnTo>
                  <a:pt x="238" y="1107"/>
                </a:lnTo>
                <a:lnTo>
                  <a:pt x="223" y="1101"/>
                </a:lnTo>
                <a:lnTo>
                  <a:pt x="211" y="1094"/>
                </a:lnTo>
                <a:lnTo>
                  <a:pt x="198" y="1086"/>
                </a:lnTo>
                <a:lnTo>
                  <a:pt x="186" y="1078"/>
                </a:lnTo>
                <a:lnTo>
                  <a:pt x="163" y="1063"/>
                </a:lnTo>
                <a:lnTo>
                  <a:pt x="142" y="1046"/>
                </a:lnTo>
                <a:lnTo>
                  <a:pt x="133" y="1038"/>
                </a:lnTo>
                <a:lnTo>
                  <a:pt x="121" y="1028"/>
                </a:lnTo>
                <a:lnTo>
                  <a:pt x="111" y="1019"/>
                </a:lnTo>
                <a:lnTo>
                  <a:pt x="102" y="1007"/>
                </a:lnTo>
                <a:lnTo>
                  <a:pt x="92" y="996"/>
                </a:lnTo>
                <a:lnTo>
                  <a:pt x="85" y="984"/>
                </a:lnTo>
                <a:lnTo>
                  <a:pt x="75" y="971"/>
                </a:lnTo>
                <a:lnTo>
                  <a:pt x="67" y="957"/>
                </a:lnTo>
                <a:lnTo>
                  <a:pt x="60" y="944"/>
                </a:lnTo>
                <a:lnTo>
                  <a:pt x="52" y="929"/>
                </a:lnTo>
                <a:lnTo>
                  <a:pt x="44" y="913"/>
                </a:lnTo>
                <a:lnTo>
                  <a:pt x="37" y="898"/>
                </a:lnTo>
                <a:lnTo>
                  <a:pt x="35" y="888"/>
                </a:lnTo>
                <a:lnTo>
                  <a:pt x="31" y="877"/>
                </a:lnTo>
                <a:lnTo>
                  <a:pt x="27" y="865"/>
                </a:lnTo>
                <a:lnTo>
                  <a:pt x="25" y="854"/>
                </a:lnTo>
                <a:lnTo>
                  <a:pt x="21" y="838"/>
                </a:lnTo>
                <a:lnTo>
                  <a:pt x="19" y="823"/>
                </a:lnTo>
                <a:lnTo>
                  <a:pt x="17" y="808"/>
                </a:lnTo>
                <a:lnTo>
                  <a:pt x="16" y="790"/>
                </a:lnTo>
                <a:lnTo>
                  <a:pt x="12" y="771"/>
                </a:lnTo>
                <a:lnTo>
                  <a:pt x="10" y="750"/>
                </a:lnTo>
                <a:lnTo>
                  <a:pt x="8" y="729"/>
                </a:lnTo>
                <a:lnTo>
                  <a:pt x="8" y="706"/>
                </a:lnTo>
                <a:lnTo>
                  <a:pt x="6" y="683"/>
                </a:lnTo>
                <a:lnTo>
                  <a:pt x="4" y="658"/>
                </a:lnTo>
                <a:lnTo>
                  <a:pt x="4" y="631"/>
                </a:lnTo>
                <a:lnTo>
                  <a:pt x="2" y="604"/>
                </a:lnTo>
                <a:lnTo>
                  <a:pt x="2" y="575"/>
                </a:lnTo>
                <a:lnTo>
                  <a:pt x="0" y="547"/>
                </a:lnTo>
                <a:lnTo>
                  <a:pt x="0" y="514"/>
                </a:lnTo>
                <a:lnTo>
                  <a:pt x="0" y="481"/>
                </a:lnTo>
                <a:lnTo>
                  <a:pt x="0" y="449"/>
                </a:lnTo>
                <a:lnTo>
                  <a:pt x="0" y="414"/>
                </a:lnTo>
                <a:lnTo>
                  <a:pt x="0" y="378"/>
                </a:lnTo>
                <a:lnTo>
                  <a:pt x="0" y="341"/>
                </a:lnTo>
                <a:lnTo>
                  <a:pt x="2" y="303"/>
                </a:lnTo>
                <a:lnTo>
                  <a:pt x="2" y="263"/>
                </a:lnTo>
                <a:lnTo>
                  <a:pt x="4" y="222"/>
                </a:lnTo>
                <a:lnTo>
                  <a:pt x="6" y="180"/>
                </a:lnTo>
                <a:lnTo>
                  <a:pt x="6" y="136"/>
                </a:lnTo>
                <a:lnTo>
                  <a:pt x="8" y="92"/>
                </a:lnTo>
                <a:lnTo>
                  <a:pt x="10" y="46"/>
                </a:lnTo>
                <a:lnTo>
                  <a:pt x="14" y="0"/>
                </a:lnTo>
                <a:lnTo>
                  <a:pt x="29" y="11"/>
                </a:lnTo>
                <a:lnTo>
                  <a:pt x="42" y="23"/>
                </a:lnTo>
                <a:lnTo>
                  <a:pt x="56" y="34"/>
                </a:lnTo>
                <a:lnTo>
                  <a:pt x="69" y="46"/>
                </a:lnTo>
                <a:lnTo>
                  <a:pt x="81" y="55"/>
                </a:lnTo>
                <a:lnTo>
                  <a:pt x="90" y="65"/>
                </a:lnTo>
                <a:lnTo>
                  <a:pt x="100" y="75"/>
                </a:lnTo>
                <a:lnTo>
                  <a:pt x="108" y="84"/>
                </a:lnTo>
                <a:lnTo>
                  <a:pt x="115" y="92"/>
                </a:lnTo>
                <a:lnTo>
                  <a:pt x="123" y="100"/>
                </a:lnTo>
                <a:lnTo>
                  <a:pt x="129" y="107"/>
                </a:lnTo>
                <a:lnTo>
                  <a:pt x="135" y="113"/>
                </a:lnTo>
                <a:lnTo>
                  <a:pt x="138" y="119"/>
                </a:lnTo>
                <a:lnTo>
                  <a:pt x="142" y="123"/>
                </a:lnTo>
                <a:lnTo>
                  <a:pt x="146" y="126"/>
                </a:lnTo>
                <a:lnTo>
                  <a:pt x="150" y="130"/>
                </a:lnTo>
                <a:lnTo>
                  <a:pt x="150" y="132"/>
                </a:lnTo>
                <a:lnTo>
                  <a:pt x="150" y="136"/>
                </a:lnTo>
                <a:lnTo>
                  <a:pt x="148" y="140"/>
                </a:lnTo>
                <a:lnTo>
                  <a:pt x="148" y="146"/>
                </a:lnTo>
                <a:lnTo>
                  <a:pt x="148" y="151"/>
                </a:lnTo>
                <a:lnTo>
                  <a:pt x="148" y="159"/>
                </a:lnTo>
                <a:lnTo>
                  <a:pt x="148" y="167"/>
                </a:lnTo>
                <a:lnTo>
                  <a:pt x="148" y="174"/>
                </a:lnTo>
                <a:lnTo>
                  <a:pt x="146" y="184"/>
                </a:lnTo>
                <a:lnTo>
                  <a:pt x="146" y="194"/>
                </a:lnTo>
                <a:lnTo>
                  <a:pt x="144" y="203"/>
                </a:lnTo>
                <a:lnTo>
                  <a:pt x="144" y="215"/>
                </a:lnTo>
                <a:lnTo>
                  <a:pt x="140" y="236"/>
                </a:lnTo>
                <a:lnTo>
                  <a:pt x="136" y="261"/>
                </a:lnTo>
                <a:lnTo>
                  <a:pt x="133" y="290"/>
                </a:lnTo>
                <a:lnTo>
                  <a:pt x="127" y="320"/>
                </a:lnTo>
                <a:lnTo>
                  <a:pt x="123" y="353"/>
                </a:lnTo>
                <a:lnTo>
                  <a:pt x="119" y="387"/>
                </a:lnTo>
                <a:lnTo>
                  <a:pt x="117" y="407"/>
                </a:lnTo>
                <a:lnTo>
                  <a:pt x="117" y="424"/>
                </a:lnTo>
                <a:lnTo>
                  <a:pt x="115" y="443"/>
                </a:lnTo>
                <a:lnTo>
                  <a:pt x="113" y="462"/>
                </a:lnTo>
                <a:lnTo>
                  <a:pt x="113" y="483"/>
                </a:lnTo>
                <a:lnTo>
                  <a:pt x="113" y="503"/>
                </a:lnTo>
                <a:lnTo>
                  <a:pt x="111" y="524"/>
                </a:lnTo>
                <a:lnTo>
                  <a:pt x="111" y="547"/>
                </a:lnTo>
                <a:lnTo>
                  <a:pt x="111" y="568"/>
                </a:lnTo>
                <a:lnTo>
                  <a:pt x="113" y="589"/>
                </a:lnTo>
                <a:lnTo>
                  <a:pt x="113" y="608"/>
                </a:lnTo>
                <a:lnTo>
                  <a:pt x="113" y="629"/>
                </a:lnTo>
                <a:lnTo>
                  <a:pt x="115" y="648"/>
                </a:lnTo>
                <a:lnTo>
                  <a:pt x="117" y="666"/>
                </a:lnTo>
                <a:lnTo>
                  <a:pt x="117" y="683"/>
                </a:lnTo>
                <a:lnTo>
                  <a:pt x="119" y="700"/>
                </a:lnTo>
                <a:lnTo>
                  <a:pt x="121" y="716"/>
                </a:lnTo>
                <a:lnTo>
                  <a:pt x="123" y="731"/>
                </a:lnTo>
                <a:lnTo>
                  <a:pt x="125" y="746"/>
                </a:lnTo>
                <a:lnTo>
                  <a:pt x="127" y="760"/>
                </a:lnTo>
                <a:lnTo>
                  <a:pt x="131" y="773"/>
                </a:lnTo>
                <a:lnTo>
                  <a:pt x="133" y="785"/>
                </a:lnTo>
                <a:lnTo>
                  <a:pt x="135" y="796"/>
                </a:lnTo>
                <a:lnTo>
                  <a:pt x="136" y="806"/>
                </a:lnTo>
                <a:lnTo>
                  <a:pt x="138" y="815"/>
                </a:lnTo>
                <a:lnTo>
                  <a:pt x="142" y="825"/>
                </a:lnTo>
                <a:lnTo>
                  <a:pt x="148" y="834"/>
                </a:lnTo>
                <a:lnTo>
                  <a:pt x="152" y="842"/>
                </a:lnTo>
                <a:lnTo>
                  <a:pt x="159" y="852"/>
                </a:lnTo>
                <a:lnTo>
                  <a:pt x="165" y="859"/>
                </a:lnTo>
                <a:lnTo>
                  <a:pt x="173" y="867"/>
                </a:lnTo>
                <a:lnTo>
                  <a:pt x="183" y="875"/>
                </a:lnTo>
                <a:lnTo>
                  <a:pt x="190" y="884"/>
                </a:lnTo>
                <a:lnTo>
                  <a:pt x="200" y="892"/>
                </a:lnTo>
                <a:lnTo>
                  <a:pt x="211" y="898"/>
                </a:lnTo>
                <a:lnTo>
                  <a:pt x="223" y="905"/>
                </a:lnTo>
                <a:lnTo>
                  <a:pt x="234" y="913"/>
                </a:lnTo>
                <a:lnTo>
                  <a:pt x="246" y="921"/>
                </a:lnTo>
                <a:lnTo>
                  <a:pt x="259" y="929"/>
                </a:lnTo>
                <a:lnTo>
                  <a:pt x="273" y="936"/>
                </a:lnTo>
                <a:lnTo>
                  <a:pt x="288" y="944"/>
                </a:lnTo>
                <a:lnTo>
                  <a:pt x="305" y="950"/>
                </a:lnTo>
                <a:lnTo>
                  <a:pt x="323" y="957"/>
                </a:lnTo>
                <a:lnTo>
                  <a:pt x="344" y="963"/>
                </a:lnTo>
                <a:lnTo>
                  <a:pt x="365" y="969"/>
                </a:lnTo>
                <a:lnTo>
                  <a:pt x="388" y="975"/>
                </a:lnTo>
                <a:lnTo>
                  <a:pt x="415" y="978"/>
                </a:lnTo>
                <a:lnTo>
                  <a:pt x="442" y="984"/>
                </a:lnTo>
                <a:lnTo>
                  <a:pt x="472" y="988"/>
                </a:lnTo>
                <a:lnTo>
                  <a:pt x="488" y="990"/>
                </a:lnTo>
                <a:lnTo>
                  <a:pt x="503" y="990"/>
                </a:lnTo>
                <a:lnTo>
                  <a:pt x="519" y="992"/>
                </a:lnTo>
                <a:lnTo>
                  <a:pt x="536" y="994"/>
                </a:lnTo>
                <a:lnTo>
                  <a:pt x="553" y="996"/>
                </a:lnTo>
                <a:lnTo>
                  <a:pt x="572" y="996"/>
                </a:lnTo>
                <a:lnTo>
                  <a:pt x="590" y="998"/>
                </a:lnTo>
                <a:lnTo>
                  <a:pt x="609" y="998"/>
                </a:lnTo>
                <a:lnTo>
                  <a:pt x="628" y="1000"/>
                </a:lnTo>
                <a:lnTo>
                  <a:pt x="647" y="1000"/>
                </a:lnTo>
                <a:lnTo>
                  <a:pt x="668" y="1000"/>
                </a:lnTo>
                <a:lnTo>
                  <a:pt x="689" y="1001"/>
                </a:lnTo>
                <a:lnTo>
                  <a:pt x="711" y="1001"/>
                </a:lnTo>
                <a:lnTo>
                  <a:pt x="732" y="1001"/>
                </a:lnTo>
                <a:lnTo>
                  <a:pt x="774" y="1001"/>
                </a:lnTo>
                <a:lnTo>
                  <a:pt x="812" y="1001"/>
                </a:lnTo>
                <a:lnTo>
                  <a:pt x="851" y="1001"/>
                </a:lnTo>
                <a:lnTo>
                  <a:pt x="889" y="1001"/>
                </a:lnTo>
                <a:lnTo>
                  <a:pt x="924" y="1001"/>
                </a:lnTo>
                <a:lnTo>
                  <a:pt x="958" y="1000"/>
                </a:lnTo>
                <a:lnTo>
                  <a:pt x="991" y="1000"/>
                </a:lnTo>
                <a:lnTo>
                  <a:pt x="1022" y="1000"/>
                </a:lnTo>
                <a:lnTo>
                  <a:pt x="1052" y="1000"/>
                </a:lnTo>
                <a:lnTo>
                  <a:pt x="1081" y="998"/>
                </a:lnTo>
                <a:lnTo>
                  <a:pt x="1108" y="996"/>
                </a:lnTo>
                <a:lnTo>
                  <a:pt x="1135" y="996"/>
                </a:lnTo>
                <a:lnTo>
                  <a:pt x="1160" y="994"/>
                </a:lnTo>
                <a:lnTo>
                  <a:pt x="1185" y="992"/>
                </a:lnTo>
                <a:lnTo>
                  <a:pt x="1208" y="990"/>
                </a:lnTo>
                <a:lnTo>
                  <a:pt x="1229" y="988"/>
                </a:lnTo>
                <a:lnTo>
                  <a:pt x="1271" y="982"/>
                </a:lnTo>
                <a:lnTo>
                  <a:pt x="1315" y="978"/>
                </a:lnTo>
                <a:lnTo>
                  <a:pt x="1359" y="973"/>
                </a:lnTo>
                <a:lnTo>
                  <a:pt x="1407" y="967"/>
                </a:lnTo>
                <a:lnTo>
                  <a:pt x="1455" y="961"/>
                </a:lnTo>
                <a:lnTo>
                  <a:pt x="1480" y="957"/>
                </a:lnTo>
                <a:lnTo>
                  <a:pt x="1505" y="953"/>
                </a:lnTo>
                <a:lnTo>
                  <a:pt x="1532" y="950"/>
                </a:lnTo>
                <a:lnTo>
                  <a:pt x="1559" y="946"/>
                </a:lnTo>
                <a:lnTo>
                  <a:pt x="1586" y="940"/>
                </a:lnTo>
                <a:lnTo>
                  <a:pt x="1613" y="93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Freeform 50"/>
          <p:cNvSpPr/>
          <p:nvPr/>
        </p:nvSpPr>
        <p:spPr>
          <a:xfrm>
            <a:off x="5749920" y="2770200"/>
            <a:ext cx="831960" cy="1069920"/>
          </a:xfrm>
          <a:custGeom>
            <a:avLst/>
            <a:gdLst/>
            <a:ahLst/>
            <a:rect l="l" t="t" r="r" b="b"/>
            <a:pathLst>
              <a:path w="1049" h="1349">
                <a:moveTo>
                  <a:pt x="985" y="1349"/>
                </a:moveTo>
                <a:lnTo>
                  <a:pt x="974" y="1349"/>
                </a:lnTo>
                <a:lnTo>
                  <a:pt x="964" y="1347"/>
                </a:lnTo>
                <a:lnTo>
                  <a:pt x="955" y="1345"/>
                </a:lnTo>
                <a:lnTo>
                  <a:pt x="943" y="1343"/>
                </a:lnTo>
                <a:lnTo>
                  <a:pt x="930" y="1341"/>
                </a:lnTo>
                <a:lnTo>
                  <a:pt x="918" y="1337"/>
                </a:lnTo>
                <a:lnTo>
                  <a:pt x="905" y="1334"/>
                </a:lnTo>
                <a:lnTo>
                  <a:pt x="891" y="1328"/>
                </a:lnTo>
                <a:lnTo>
                  <a:pt x="876" y="1322"/>
                </a:lnTo>
                <a:lnTo>
                  <a:pt x="863" y="1314"/>
                </a:lnTo>
                <a:lnTo>
                  <a:pt x="847" y="1307"/>
                </a:lnTo>
                <a:lnTo>
                  <a:pt x="830" y="1299"/>
                </a:lnTo>
                <a:lnTo>
                  <a:pt x="815" y="1289"/>
                </a:lnTo>
                <a:lnTo>
                  <a:pt x="797" y="1280"/>
                </a:lnTo>
                <a:lnTo>
                  <a:pt x="780" y="1268"/>
                </a:lnTo>
                <a:lnTo>
                  <a:pt x="761" y="1257"/>
                </a:lnTo>
                <a:lnTo>
                  <a:pt x="743" y="1245"/>
                </a:lnTo>
                <a:lnTo>
                  <a:pt x="724" y="1232"/>
                </a:lnTo>
                <a:lnTo>
                  <a:pt x="705" y="1217"/>
                </a:lnTo>
                <a:lnTo>
                  <a:pt x="686" y="1201"/>
                </a:lnTo>
                <a:lnTo>
                  <a:pt x="669" y="1184"/>
                </a:lnTo>
                <a:lnTo>
                  <a:pt x="649" y="1167"/>
                </a:lnTo>
                <a:lnTo>
                  <a:pt x="630" y="1149"/>
                </a:lnTo>
                <a:lnTo>
                  <a:pt x="611" y="1128"/>
                </a:lnTo>
                <a:lnTo>
                  <a:pt x="592" y="1109"/>
                </a:lnTo>
                <a:lnTo>
                  <a:pt x="571" y="1086"/>
                </a:lnTo>
                <a:lnTo>
                  <a:pt x="552" y="1065"/>
                </a:lnTo>
                <a:lnTo>
                  <a:pt x="532" y="1040"/>
                </a:lnTo>
                <a:lnTo>
                  <a:pt x="511" y="1015"/>
                </a:lnTo>
                <a:lnTo>
                  <a:pt x="492" y="988"/>
                </a:lnTo>
                <a:lnTo>
                  <a:pt x="471" y="961"/>
                </a:lnTo>
                <a:lnTo>
                  <a:pt x="452" y="933"/>
                </a:lnTo>
                <a:lnTo>
                  <a:pt x="431" y="902"/>
                </a:lnTo>
                <a:lnTo>
                  <a:pt x="411" y="873"/>
                </a:lnTo>
                <a:lnTo>
                  <a:pt x="390" y="842"/>
                </a:lnTo>
                <a:lnTo>
                  <a:pt x="373" y="810"/>
                </a:lnTo>
                <a:lnTo>
                  <a:pt x="354" y="779"/>
                </a:lnTo>
                <a:lnTo>
                  <a:pt x="336" y="746"/>
                </a:lnTo>
                <a:lnTo>
                  <a:pt x="319" y="714"/>
                </a:lnTo>
                <a:lnTo>
                  <a:pt x="302" y="679"/>
                </a:lnTo>
                <a:lnTo>
                  <a:pt x="287" y="647"/>
                </a:lnTo>
                <a:lnTo>
                  <a:pt x="271" y="612"/>
                </a:lnTo>
                <a:lnTo>
                  <a:pt x="256" y="578"/>
                </a:lnTo>
                <a:lnTo>
                  <a:pt x="240" y="543"/>
                </a:lnTo>
                <a:lnTo>
                  <a:pt x="227" y="507"/>
                </a:lnTo>
                <a:lnTo>
                  <a:pt x="216" y="472"/>
                </a:lnTo>
                <a:lnTo>
                  <a:pt x="202" y="436"/>
                </a:lnTo>
                <a:lnTo>
                  <a:pt x="191" y="399"/>
                </a:lnTo>
                <a:lnTo>
                  <a:pt x="177" y="363"/>
                </a:lnTo>
                <a:lnTo>
                  <a:pt x="171" y="345"/>
                </a:lnTo>
                <a:lnTo>
                  <a:pt x="164" y="330"/>
                </a:lnTo>
                <a:lnTo>
                  <a:pt x="158" y="313"/>
                </a:lnTo>
                <a:lnTo>
                  <a:pt x="152" y="297"/>
                </a:lnTo>
                <a:lnTo>
                  <a:pt x="146" y="282"/>
                </a:lnTo>
                <a:lnTo>
                  <a:pt x="141" y="267"/>
                </a:lnTo>
                <a:lnTo>
                  <a:pt x="135" y="253"/>
                </a:lnTo>
                <a:lnTo>
                  <a:pt x="129" y="240"/>
                </a:lnTo>
                <a:lnTo>
                  <a:pt x="123" y="226"/>
                </a:lnTo>
                <a:lnTo>
                  <a:pt x="118" y="213"/>
                </a:lnTo>
                <a:lnTo>
                  <a:pt x="112" y="201"/>
                </a:lnTo>
                <a:lnTo>
                  <a:pt x="108" y="190"/>
                </a:lnTo>
                <a:lnTo>
                  <a:pt x="102" y="178"/>
                </a:lnTo>
                <a:lnTo>
                  <a:pt x="98" y="169"/>
                </a:lnTo>
                <a:lnTo>
                  <a:pt x="93" y="157"/>
                </a:lnTo>
                <a:lnTo>
                  <a:pt x="89" y="148"/>
                </a:lnTo>
                <a:lnTo>
                  <a:pt x="85" y="140"/>
                </a:lnTo>
                <a:lnTo>
                  <a:pt x="81" y="130"/>
                </a:lnTo>
                <a:lnTo>
                  <a:pt x="77" y="123"/>
                </a:lnTo>
                <a:lnTo>
                  <a:pt x="72" y="115"/>
                </a:lnTo>
                <a:lnTo>
                  <a:pt x="70" y="109"/>
                </a:lnTo>
                <a:lnTo>
                  <a:pt x="66" y="104"/>
                </a:lnTo>
                <a:lnTo>
                  <a:pt x="62" y="98"/>
                </a:lnTo>
                <a:lnTo>
                  <a:pt x="58" y="92"/>
                </a:lnTo>
                <a:lnTo>
                  <a:pt x="56" y="88"/>
                </a:lnTo>
                <a:lnTo>
                  <a:pt x="52" y="84"/>
                </a:lnTo>
                <a:lnTo>
                  <a:pt x="48" y="81"/>
                </a:lnTo>
                <a:lnTo>
                  <a:pt x="47" y="77"/>
                </a:lnTo>
                <a:lnTo>
                  <a:pt x="45" y="75"/>
                </a:lnTo>
                <a:lnTo>
                  <a:pt x="43" y="75"/>
                </a:lnTo>
                <a:lnTo>
                  <a:pt x="35" y="71"/>
                </a:lnTo>
                <a:lnTo>
                  <a:pt x="29" y="69"/>
                </a:lnTo>
                <a:lnTo>
                  <a:pt x="24" y="67"/>
                </a:lnTo>
                <a:lnTo>
                  <a:pt x="18" y="63"/>
                </a:lnTo>
                <a:lnTo>
                  <a:pt x="14" y="61"/>
                </a:lnTo>
                <a:lnTo>
                  <a:pt x="10" y="58"/>
                </a:lnTo>
                <a:lnTo>
                  <a:pt x="6" y="56"/>
                </a:lnTo>
                <a:lnTo>
                  <a:pt x="4" y="52"/>
                </a:lnTo>
                <a:lnTo>
                  <a:pt x="2" y="50"/>
                </a:lnTo>
                <a:lnTo>
                  <a:pt x="0" y="46"/>
                </a:lnTo>
                <a:lnTo>
                  <a:pt x="0" y="42"/>
                </a:lnTo>
                <a:lnTo>
                  <a:pt x="0" y="38"/>
                </a:lnTo>
                <a:lnTo>
                  <a:pt x="0" y="35"/>
                </a:lnTo>
                <a:lnTo>
                  <a:pt x="0" y="31"/>
                </a:lnTo>
                <a:lnTo>
                  <a:pt x="2" y="27"/>
                </a:lnTo>
                <a:lnTo>
                  <a:pt x="4" y="23"/>
                </a:lnTo>
                <a:lnTo>
                  <a:pt x="6" y="17"/>
                </a:lnTo>
                <a:lnTo>
                  <a:pt x="10" y="13"/>
                </a:lnTo>
                <a:lnTo>
                  <a:pt x="14" y="10"/>
                </a:lnTo>
                <a:lnTo>
                  <a:pt x="18" y="8"/>
                </a:lnTo>
                <a:lnTo>
                  <a:pt x="24" y="6"/>
                </a:lnTo>
                <a:lnTo>
                  <a:pt x="29" y="4"/>
                </a:lnTo>
                <a:lnTo>
                  <a:pt x="37" y="2"/>
                </a:lnTo>
                <a:lnTo>
                  <a:pt x="43" y="0"/>
                </a:lnTo>
                <a:lnTo>
                  <a:pt x="50" y="0"/>
                </a:lnTo>
                <a:lnTo>
                  <a:pt x="60" y="0"/>
                </a:lnTo>
                <a:lnTo>
                  <a:pt x="70" y="0"/>
                </a:lnTo>
                <a:lnTo>
                  <a:pt x="79" y="2"/>
                </a:lnTo>
                <a:lnTo>
                  <a:pt x="91" y="4"/>
                </a:lnTo>
                <a:lnTo>
                  <a:pt x="102" y="4"/>
                </a:lnTo>
                <a:lnTo>
                  <a:pt x="116" y="6"/>
                </a:lnTo>
                <a:lnTo>
                  <a:pt x="129" y="10"/>
                </a:lnTo>
                <a:lnTo>
                  <a:pt x="150" y="13"/>
                </a:lnTo>
                <a:lnTo>
                  <a:pt x="171" y="19"/>
                </a:lnTo>
                <a:lnTo>
                  <a:pt x="183" y="21"/>
                </a:lnTo>
                <a:lnTo>
                  <a:pt x="192" y="23"/>
                </a:lnTo>
                <a:lnTo>
                  <a:pt x="200" y="27"/>
                </a:lnTo>
                <a:lnTo>
                  <a:pt x="210" y="29"/>
                </a:lnTo>
                <a:lnTo>
                  <a:pt x="217" y="31"/>
                </a:lnTo>
                <a:lnTo>
                  <a:pt x="225" y="33"/>
                </a:lnTo>
                <a:lnTo>
                  <a:pt x="231" y="36"/>
                </a:lnTo>
                <a:lnTo>
                  <a:pt x="237" y="38"/>
                </a:lnTo>
                <a:lnTo>
                  <a:pt x="242" y="40"/>
                </a:lnTo>
                <a:lnTo>
                  <a:pt x="246" y="42"/>
                </a:lnTo>
                <a:lnTo>
                  <a:pt x="250" y="46"/>
                </a:lnTo>
                <a:lnTo>
                  <a:pt x="252" y="48"/>
                </a:lnTo>
                <a:lnTo>
                  <a:pt x="256" y="54"/>
                </a:lnTo>
                <a:lnTo>
                  <a:pt x="260" y="58"/>
                </a:lnTo>
                <a:lnTo>
                  <a:pt x="262" y="63"/>
                </a:lnTo>
                <a:lnTo>
                  <a:pt x="262" y="69"/>
                </a:lnTo>
                <a:lnTo>
                  <a:pt x="262" y="75"/>
                </a:lnTo>
                <a:lnTo>
                  <a:pt x="260" y="82"/>
                </a:lnTo>
                <a:lnTo>
                  <a:pt x="256" y="90"/>
                </a:lnTo>
                <a:lnTo>
                  <a:pt x="252" y="100"/>
                </a:lnTo>
                <a:lnTo>
                  <a:pt x="252" y="104"/>
                </a:lnTo>
                <a:lnTo>
                  <a:pt x="250" y="106"/>
                </a:lnTo>
                <a:lnTo>
                  <a:pt x="250" y="109"/>
                </a:lnTo>
                <a:lnTo>
                  <a:pt x="250" y="115"/>
                </a:lnTo>
                <a:lnTo>
                  <a:pt x="250" y="119"/>
                </a:lnTo>
                <a:lnTo>
                  <a:pt x="250" y="125"/>
                </a:lnTo>
                <a:lnTo>
                  <a:pt x="252" y="130"/>
                </a:lnTo>
                <a:lnTo>
                  <a:pt x="252" y="136"/>
                </a:lnTo>
                <a:lnTo>
                  <a:pt x="254" y="144"/>
                </a:lnTo>
                <a:lnTo>
                  <a:pt x="256" y="152"/>
                </a:lnTo>
                <a:lnTo>
                  <a:pt x="258" y="159"/>
                </a:lnTo>
                <a:lnTo>
                  <a:pt x="260" y="167"/>
                </a:lnTo>
                <a:lnTo>
                  <a:pt x="262" y="177"/>
                </a:lnTo>
                <a:lnTo>
                  <a:pt x="264" y="186"/>
                </a:lnTo>
                <a:lnTo>
                  <a:pt x="267" y="196"/>
                </a:lnTo>
                <a:lnTo>
                  <a:pt x="271" y="205"/>
                </a:lnTo>
                <a:lnTo>
                  <a:pt x="273" y="217"/>
                </a:lnTo>
                <a:lnTo>
                  <a:pt x="277" y="228"/>
                </a:lnTo>
                <a:lnTo>
                  <a:pt x="281" y="240"/>
                </a:lnTo>
                <a:lnTo>
                  <a:pt x="285" y="251"/>
                </a:lnTo>
                <a:lnTo>
                  <a:pt x="290" y="265"/>
                </a:lnTo>
                <a:lnTo>
                  <a:pt x="294" y="278"/>
                </a:lnTo>
                <a:lnTo>
                  <a:pt x="298" y="292"/>
                </a:lnTo>
                <a:lnTo>
                  <a:pt x="304" y="307"/>
                </a:lnTo>
                <a:lnTo>
                  <a:pt x="310" y="320"/>
                </a:lnTo>
                <a:lnTo>
                  <a:pt x="315" y="336"/>
                </a:lnTo>
                <a:lnTo>
                  <a:pt x="327" y="368"/>
                </a:lnTo>
                <a:lnTo>
                  <a:pt x="338" y="403"/>
                </a:lnTo>
                <a:lnTo>
                  <a:pt x="352" y="437"/>
                </a:lnTo>
                <a:lnTo>
                  <a:pt x="365" y="474"/>
                </a:lnTo>
                <a:lnTo>
                  <a:pt x="381" y="510"/>
                </a:lnTo>
                <a:lnTo>
                  <a:pt x="394" y="543"/>
                </a:lnTo>
                <a:lnTo>
                  <a:pt x="409" y="578"/>
                </a:lnTo>
                <a:lnTo>
                  <a:pt x="425" y="610"/>
                </a:lnTo>
                <a:lnTo>
                  <a:pt x="440" y="641"/>
                </a:lnTo>
                <a:lnTo>
                  <a:pt x="457" y="672"/>
                </a:lnTo>
                <a:lnTo>
                  <a:pt x="475" y="700"/>
                </a:lnTo>
                <a:lnTo>
                  <a:pt x="492" y="729"/>
                </a:lnTo>
                <a:lnTo>
                  <a:pt x="509" y="758"/>
                </a:lnTo>
                <a:lnTo>
                  <a:pt x="527" y="785"/>
                </a:lnTo>
                <a:lnTo>
                  <a:pt x="546" y="812"/>
                </a:lnTo>
                <a:lnTo>
                  <a:pt x="565" y="837"/>
                </a:lnTo>
                <a:lnTo>
                  <a:pt x="584" y="860"/>
                </a:lnTo>
                <a:lnTo>
                  <a:pt x="603" y="885"/>
                </a:lnTo>
                <a:lnTo>
                  <a:pt x="624" y="906"/>
                </a:lnTo>
                <a:lnTo>
                  <a:pt x="642" y="929"/>
                </a:lnTo>
                <a:lnTo>
                  <a:pt x="661" y="948"/>
                </a:lnTo>
                <a:lnTo>
                  <a:pt x="678" y="969"/>
                </a:lnTo>
                <a:lnTo>
                  <a:pt x="694" y="986"/>
                </a:lnTo>
                <a:lnTo>
                  <a:pt x="709" y="1004"/>
                </a:lnTo>
                <a:lnTo>
                  <a:pt x="724" y="1021"/>
                </a:lnTo>
                <a:lnTo>
                  <a:pt x="740" y="1036"/>
                </a:lnTo>
                <a:lnTo>
                  <a:pt x="753" y="1050"/>
                </a:lnTo>
                <a:lnTo>
                  <a:pt x="767" y="1063"/>
                </a:lnTo>
                <a:lnTo>
                  <a:pt x="778" y="1075"/>
                </a:lnTo>
                <a:lnTo>
                  <a:pt x="790" y="1084"/>
                </a:lnTo>
                <a:lnTo>
                  <a:pt x="801" y="1094"/>
                </a:lnTo>
                <a:lnTo>
                  <a:pt x="811" y="1099"/>
                </a:lnTo>
                <a:lnTo>
                  <a:pt x="820" y="1107"/>
                </a:lnTo>
                <a:lnTo>
                  <a:pt x="828" y="1111"/>
                </a:lnTo>
                <a:lnTo>
                  <a:pt x="836" y="1115"/>
                </a:lnTo>
                <a:lnTo>
                  <a:pt x="843" y="1117"/>
                </a:lnTo>
                <a:lnTo>
                  <a:pt x="849" y="1117"/>
                </a:lnTo>
                <a:lnTo>
                  <a:pt x="857" y="1117"/>
                </a:lnTo>
                <a:lnTo>
                  <a:pt x="864" y="1117"/>
                </a:lnTo>
                <a:lnTo>
                  <a:pt x="870" y="1115"/>
                </a:lnTo>
                <a:lnTo>
                  <a:pt x="878" y="1111"/>
                </a:lnTo>
                <a:lnTo>
                  <a:pt x="884" y="1107"/>
                </a:lnTo>
                <a:lnTo>
                  <a:pt x="891" y="1101"/>
                </a:lnTo>
                <a:lnTo>
                  <a:pt x="899" y="1096"/>
                </a:lnTo>
                <a:lnTo>
                  <a:pt x="905" y="1086"/>
                </a:lnTo>
                <a:lnTo>
                  <a:pt x="912" y="1078"/>
                </a:lnTo>
                <a:lnTo>
                  <a:pt x="920" y="1067"/>
                </a:lnTo>
                <a:lnTo>
                  <a:pt x="926" y="1055"/>
                </a:lnTo>
                <a:lnTo>
                  <a:pt x="934" y="1042"/>
                </a:lnTo>
                <a:lnTo>
                  <a:pt x="939" y="1027"/>
                </a:lnTo>
                <a:lnTo>
                  <a:pt x="947" y="1011"/>
                </a:lnTo>
                <a:lnTo>
                  <a:pt x="955" y="994"/>
                </a:lnTo>
                <a:lnTo>
                  <a:pt x="960" y="979"/>
                </a:lnTo>
                <a:lnTo>
                  <a:pt x="966" y="965"/>
                </a:lnTo>
                <a:lnTo>
                  <a:pt x="972" y="952"/>
                </a:lnTo>
                <a:lnTo>
                  <a:pt x="978" y="940"/>
                </a:lnTo>
                <a:lnTo>
                  <a:pt x="983" y="929"/>
                </a:lnTo>
                <a:lnTo>
                  <a:pt x="989" y="919"/>
                </a:lnTo>
                <a:lnTo>
                  <a:pt x="993" y="911"/>
                </a:lnTo>
                <a:lnTo>
                  <a:pt x="997" y="904"/>
                </a:lnTo>
                <a:lnTo>
                  <a:pt x="1003" y="898"/>
                </a:lnTo>
                <a:lnTo>
                  <a:pt x="1007" y="892"/>
                </a:lnTo>
                <a:lnTo>
                  <a:pt x="1010" y="888"/>
                </a:lnTo>
                <a:lnTo>
                  <a:pt x="1014" y="885"/>
                </a:lnTo>
                <a:lnTo>
                  <a:pt x="1016" y="883"/>
                </a:lnTo>
                <a:lnTo>
                  <a:pt x="1020" y="881"/>
                </a:lnTo>
                <a:lnTo>
                  <a:pt x="1022" y="881"/>
                </a:lnTo>
                <a:lnTo>
                  <a:pt x="1024" y="881"/>
                </a:lnTo>
                <a:lnTo>
                  <a:pt x="1026" y="883"/>
                </a:lnTo>
                <a:lnTo>
                  <a:pt x="1028" y="886"/>
                </a:lnTo>
                <a:lnTo>
                  <a:pt x="1030" y="890"/>
                </a:lnTo>
                <a:lnTo>
                  <a:pt x="1030" y="896"/>
                </a:lnTo>
                <a:lnTo>
                  <a:pt x="1031" y="902"/>
                </a:lnTo>
                <a:lnTo>
                  <a:pt x="1031" y="910"/>
                </a:lnTo>
                <a:lnTo>
                  <a:pt x="1031" y="919"/>
                </a:lnTo>
                <a:lnTo>
                  <a:pt x="1033" y="929"/>
                </a:lnTo>
                <a:lnTo>
                  <a:pt x="1033" y="940"/>
                </a:lnTo>
                <a:lnTo>
                  <a:pt x="1033" y="954"/>
                </a:lnTo>
                <a:lnTo>
                  <a:pt x="1033" y="967"/>
                </a:lnTo>
                <a:lnTo>
                  <a:pt x="1033" y="982"/>
                </a:lnTo>
                <a:lnTo>
                  <a:pt x="1033" y="1000"/>
                </a:lnTo>
                <a:lnTo>
                  <a:pt x="1033" y="1017"/>
                </a:lnTo>
                <a:lnTo>
                  <a:pt x="1033" y="1036"/>
                </a:lnTo>
                <a:lnTo>
                  <a:pt x="1031" y="1057"/>
                </a:lnTo>
                <a:lnTo>
                  <a:pt x="1030" y="1078"/>
                </a:lnTo>
                <a:lnTo>
                  <a:pt x="1030" y="1098"/>
                </a:lnTo>
                <a:lnTo>
                  <a:pt x="1030" y="1117"/>
                </a:lnTo>
                <a:lnTo>
                  <a:pt x="1030" y="1134"/>
                </a:lnTo>
                <a:lnTo>
                  <a:pt x="1030" y="1151"/>
                </a:lnTo>
                <a:lnTo>
                  <a:pt x="1030" y="1167"/>
                </a:lnTo>
                <a:lnTo>
                  <a:pt x="1031" y="1182"/>
                </a:lnTo>
                <a:lnTo>
                  <a:pt x="1033" y="1197"/>
                </a:lnTo>
                <a:lnTo>
                  <a:pt x="1033" y="1211"/>
                </a:lnTo>
                <a:lnTo>
                  <a:pt x="1035" y="1222"/>
                </a:lnTo>
                <a:lnTo>
                  <a:pt x="1037" y="1234"/>
                </a:lnTo>
                <a:lnTo>
                  <a:pt x="1039" y="1243"/>
                </a:lnTo>
                <a:lnTo>
                  <a:pt x="1041" y="1253"/>
                </a:lnTo>
                <a:lnTo>
                  <a:pt x="1045" y="1263"/>
                </a:lnTo>
                <a:lnTo>
                  <a:pt x="1047" y="1270"/>
                </a:lnTo>
                <a:lnTo>
                  <a:pt x="1049" y="1278"/>
                </a:lnTo>
                <a:lnTo>
                  <a:pt x="1049" y="1284"/>
                </a:lnTo>
                <a:lnTo>
                  <a:pt x="1049" y="1291"/>
                </a:lnTo>
                <a:lnTo>
                  <a:pt x="1049" y="1297"/>
                </a:lnTo>
                <a:lnTo>
                  <a:pt x="1047" y="1303"/>
                </a:lnTo>
                <a:lnTo>
                  <a:pt x="1045" y="1309"/>
                </a:lnTo>
                <a:lnTo>
                  <a:pt x="1043" y="1314"/>
                </a:lnTo>
                <a:lnTo>
                  <a:pt x="1039" y="1318"/>
                </a:lnTo>
                <a:lnTo>
                  <a:pt x="1033" y="1324"/>
                </a:lnTo>
                <a:lnTo>
                  <a:pt x="1030" y="1328"/>
                </a:lnTo>
                <a:lnTo>
                  <a:pt x="1024" y="1332"/>
                </a:lnTo>
                <a:lnTo>
                  <a:pt x="1016" y="1335"/>
                </a:lnTo>
                <a:lnTo>
                  <a:pt x="1010" y="1339"/>
                </a:lnTo>
                <a:lnTo>
                  <a:pt x="1003" y="1343"/>
                </a:lnTo>
                <a:lnTo>
                  <a:pt x="993" y="1345"/>
                </a:lnTo>
                <a:lnTo>
                  <a:pt x="985" y="134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09"/>
                                        </p:tgtEl>
                                        <p:attrNameLst>
                                          <p:attrName>style.visibility</p:attrName>
                                        </p:attrNameLst>
                                      </p:cBhvr>
                                      <p:to>
                                        <p:strVal val="visible"/>
                                      </p:to>
                                    </p:set>
                                    <p:anim calcmode="lin" valueType="num">
                                      <p:cBhvr additive="base">
                                        <p:cTn id="74" dur="500" fill="hold"/>
                                        <p:tgtEl>
                                          <p:spTgt spid="109"/>
                                        </p:tgtEl>
                                        <p:attrNameLst>
                                          <p:attrName>ppt_x</p:attrName>
                                        </p:attrNameLst>
                                      </p:cBhvr>
                                      <p:tavLst>
                                        <p:tav tm="0">
                                          <p:val>
                                            <p:strVal val="0-#ppt_w/2"/>
                                          </p:val>
                                        </p:tav>
                                        <p:tav tm="100000">
                                          <p:val>
                                            <p:strVal val="#ppt_x"/>
                                          </p:val>
                                        </p:tav>
                                      </p:tavLst>
                                    </p:anim>
                                    <p:anim calcmode="lin" valueType="num">
                                      <p:cBhvr additive="base">
                                        <p:cTn id="75"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10"/>
                                        </p:tgtEl>
                                        <p:attrNameLst>
                                          <p:attrName>style.visibility</p:attrName>
                                        </p:attrNameLst>
                                      </p:cBhvr>
                                      <p:to>
                                        <p:strVal val="visible"/>
                                      </p:to>
                                    </p:set>
                                    <p:animEffect filter="wipe(left)" transition="in">
                                      <p:cBhvr additive="repl">
                                        <p:cTn id="80" dur="500"/>
                                        <p:tgtEl>
                                          <p:spTgt spid="110"/>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121"/>
                                        </p:tgtEl>
                                        <p:attrNameLst>
                                          <p:attrName>style.visibility</p:attrName>
                                        </p:attrNameLst>
                                      </p:cBhvr>
                                      <p:to>
                                        <p:strVal val="visible"/>
                                      </p:to>
                                    </p:set>
                                    <p:animEffect filter="wipe(up)" transition="in">
                                      <p:cBhvr additive="repl">
                                        <p:cTn id="85" dur="500"/>
                                        <p:tgtEl>
                                          <p:spTgt spid="121"/>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111"/>
                                        </p:tgtEl>
                                        <p:attrNameLst>
                                          <p:attrName>style.visibility</p:attrName>
                                        </p:attrNameLst>
                                      </p:cBhvr>
                                      <p:to>
                                        <p:strVal val="visible"/>
                                      </p:to>
                                    </p:set>
                                    <p:animEffect filter="wipe(up)" transition="in">
                                      <p:cBhvr additive="repl">
                                        <p:cTn id="90" dur="500"/>
                                        <p:tgtEl>
                                          <p:spTgt spid="111"/>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18"/>
                                        </p:tgtEl>
                                        <p:attrNameLst>
                                          <p:attrName>style.visibility</p:attrName>
                                        </p:attrNameLst>
                                      </p:cBhvr>
                                      <p:to>
                                        <p:strVal val="visible"/>
                                      </p:to>
                                    </p:set>
                                    <p:animEffect filter="wipe(left)" transition="in">
                                      <p:cBhvr additive="repl">
                                        <p:cTn id="95" dur="500"/>
                                        <p:tgtEl>
                                          <p:spTgt spid="118"/>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119"/>
                                        </p:tgtEl>
                                        <p:attrNameLst>
                                          <p:attrName>style.visibility</p:attrName>
                                        </p:attrNameLst>
                                      </p:cBhvr>
                                      <p:to>
                                        <p:strVal val="visible"/>
                                      </p:to>
                                    </p:set>
                                    <p:animEffect filter="wipe(up)" transition="in">
                                      <p:cBhvr additive="repl">
                                        <p:cTn id="100" dur="500"/>
                                        <p:tgtEl>
                                          <p:spTgt spid="119"/>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8" presetSubtype="6">
                                  <p:stCondLst>
                                    <p:cond delay="0"/>
                                  </p:stCondLst>
                                  <p:childTnLst>
                                    <p:set>
                                      <p:cBhvr>
                                        <p:cTn id="104" dur="1" fill="hold">
                                          <p:stCondLst>
                                            <p:cond delay="0"/>
                                          </p:stCondLst>
                                        </p:cTn>
                                        <p:tgtEl>
                                          <p:spTgt spid="120"/>
                                        </p:tgtEl>
                                        <p:attrNameLst>
                                          <p:attrName>style.visibility</p:attrName>
                                        </p:attrNameLst>
                                      </p:cBhvr>
                                      <p:to>
                                        <p:strVal val="visible"/>
                                      </p:to>
                                    </p:set>
                                    <p:animEffect filter="strips(downRight)" transition="in">
                                      <p:cBhvr additive="repl">
                                        <p:cTn id="105" dur="500"/>
                                        <p:tgtEl>
                                          <p:spTgt spid="120"/>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8" presetSubtype="6">
                                  <p:stCondLst>
                                    <p:cond delay="0"/>
                                  </p:stCondLst>
                                  <p:childTnLst>
                                    <p:set>
                                      <p:cBhvr>
                                        <p:cTn id="109" dur="1" fill="hold">
                                          <p:stCondLst>
                                            <p:cond delay="0"/>
                                          </p:stCondLst>
                                        </p:cTn>
                                        <p:tgtEl>
                                          <p:spTgt spid="112"/>
                                        </p:tgtEl>
                                        <p:attrNameLst>
                                          <p:attrName>style.visibility</p:attrName>
                                        </p:attrNameLst>
                                      </p:cBhvr>
                                      <p:to>
                                        <p:strVal val="visible"/>
                                      </p:to>
                                    </p:set>
                                    <p:animEffect filter="strips(downRight)" transition="in">
                                      <p:cBhvr additive="repl">
                                        <p:cTn id="110" dur="500"/>
                                        <p:tgtEl>
                                          <p:spTgt spid="11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116"/>
                                        </p:tgtEl>
                                        <p:attrNameLst>
                                          <p:attrName>style.visibility</p:attrName>
                                        </p:attrNameLst>
                                      </p:cBhvr>
                                      <p:to>
                                        <p:strVal val="visible"/>
                                      </p:to>
                                    </p:set>
                                    <p:animEffect filter="wipe(up)" transition="in">
                                      <p:cBhvr additive="repl">
                                        <p:cTn id="115" dur="500"/>
                                        <p:tgtEl>
                                          <p:spTgt spid="116"/>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17"/>
                                        </p:tgtEl>
                                        <p:attrNameLst>
                                          <p:attrName>style.visibility</p:attrName>
                                        </p:attrNameLst>
                                      </p:cBhvr>
                                      <p:to>
                                        <p:strVal val="visible"/>
                                      </p:to>
                                    </p:set>
                                    <p:animEffect filter="wipe(left)" transition="in">
                                      <p:cBhvr additive="repl">
                                        <p:cTn id="120" dur="500"/>
                                        <p:tgtEl>
                                          <p:spTgt spid="117"/>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8" presetSubtype="6">
                                  <p:stCondLst>
                                    <p:cond delay="0"/>
                                  </p:stCondLst>
                                  <p:childTnLst>
                                    <p:set>
                                      <p:cBhvr>
                                        <p:cTn id="124" dur="1" fill="hold">
                                          <p:stCondLst>
                                            <p:cond delay="0"/>
                                          </p:stCondLst>
                                        </p:cTn>
                                        <p:tgtEl>
                                          <p:spTgt spid="113"/>
                                        </p:tgtEl>
                                        <p:attrNameLst>
                                          <p:attrName>style.visibility</p:attrName>
                                        </p:attrNameLst>
                                      </p:cBhvr>
                                      <p:to>
                                        <p:strVal val="visible"/>
                                      </p:to>
                                    </p:set>
                                    <p:animEffect filter="strips(downRight)" transition="in">
                                      <p:cBhvr additive="repl">
                                        <p:cTn id="125" dur="500"/>
                                        <p:tgtEl>
                                          <p:spTgt spid="11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14"/>
                                        </p:tgtEl>
                                        <p:attrNameLst>
                                          <p:attrName>style.visibility</p:attrName>
                                        </p:attrNameLst>
                                      </p:cBhvr>
                                      <p:to>
                                        <p:strVal val="visible"/>
                                      </p:to>
                                    </p:set>
                                    <p:animEffect filter="wipe(left)" transition="in">
                                      <p:cBhvr additive="repl">
                                        <p:cTn id="130" dur="500"/>
                                        <p:tgtEl>
                                          <p:spTgt spid="114"/>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15"/>
                                        </p:tgtEl>
                                        <p:attrNameLst>
                                          <p:attrName>style.visibility</p:attrName>
                                        </p:attrNameLst>
                                      </p:cBhvr>
                                      <p:to>
                                        <p:strVal val="visible"/>
                                      </p:to>
                                    </p:set>
                                    <p:animEffect filter="wipe(left)" transition="in">
                                      <p:cBhvr additive="repl">
                                        <p:cTn id="135" dur="500"/>
                                        <p:tgtEl>
                                          <p:spTgt spid="115"/>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3" presetSubtype="16">
                                  <p:stCondLst>
                                    <p:cond delay="0"/>
                                  </p:stCondLst>
                                  <p:childTnLst>
                                    <p:set>
                                      <p:cBhvr>
                                        <p:cTn id="139" dur="1" fill="hold">
                                          <p:stCondLst>
                                            <p:cond delay="0"/>
                                          </p:stCondLst>
                                        </p:cTn>
                                        <p:tgtEl>
                                          <p:spTgt spid="106"/>
                                        </p:tgtEl>
                                        <p:attrNameLst>
                                          <p:attrName>style.visibility</p:attrName>
                                        </p:attrNameLst>
                                      </p:cBhvr>
                                      <p:to>
                                        <p:strVal val="visible"/>
                                      </p:to>
                                    </p:set>
                                    <p:anim calcmode="lin" valueType="num">
                                      <p:cBhvr additive="repl">
                                        <p:cTn id="140" dur="500" fill="hold"/>
                                        <p:tgtEl>
                                          <p:spTgt spid="106"/>
                                        </p:tgtEl>
                                        <p:attrNameLst>
                                          <p:attrName>ppt_w</p:attrName>
                                        </p:attrNameLst>
                                      </p:cBhvr>
                                      <p:tavLst>
                                        <p:tav tm="0">
                                          <p:val>
                                            <p:fltVal val="0"/>
                                          </p:val>
                                        </p:tav>
                                        <p:tav tm="100000">
                                          <p:val>
                                            <p:strVal val="#ppt_w"/>
                                          </p:val>
                                        </p:tav>
                                      </p:tavLst>
                                    </p:anim>
                                    <p:anim calcmode="lin" valueType="num">
                                      <p:cBhvr additive="repl">
                                        <p:cTn id="141" dur="500" fill="hold"/>
                                        <p:tgtEl>
                                          <p:spTgt spid="106"/>
                                        </p:tgtEl>
                                        <p:attrNameLst>
                                          <p:attrName>ppt_h</p:attrName>
                                        </p:attrNameLst>
                                      </p:cBhvr>
                                      <p:tavLst>
                                        <p:tav tm="0">
                                          <p:val>
                                            <p:fltVal val="0"/>
                                          </p:val>
                                        </p:tav>
                                        <p:tav tm="100000">
                                          <p:val>
                                            <p:strVal val="#ppt_h"/>
                                          </p:val>
                                        </p:tav>
                                      </p:tavLst>
                                    </p:anim>
                                    <p:animEffect filter="fade" transition="in">
                                      <p:cBhvr additive="repl">
                                        <p:cTn id="14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舵</a:t>
            </a:r>
            <a:endParaRPr b="0" lang="en-US" sz="8000" spc="-1" strike="noStrike">
              <a:solidFill>
                <a:srgbClr val="000000"/>
              </a:solidFill>
              <a:latin typeface="Calibri"/>
            </a:endParaRPr>
          </a:p>
        </p:txBody>
      </p:sp>
      <p:graphicFrame>
        <p:nvGraphicFramePr>
          <p:cNvPr id="123"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24" name="组合 8"/>
          <p:cNvGrpSpPr/>
          <p:nvPr/>
        </p:nvGrpSpPr>
        <p:grpSpPr>
          <a:xfrm>
            <a:off x="1320840" y="3975120"/>
            <a:ext cx="2840040" cy="1621080"/>
            <a:chOff x="1320840" y="3975120"/>
            <a:chExt cx="2840040" cy="1621080"/>
          </a:xfrm>
        </p:grpSpPr>
        <p:pic>
          <p:nvPicPr>
            <p:cNvPr id="125" name="图示 4" descr=""/>
            <p:cNvPicPr/>
            <p:nvPr/>
          </p:nvPicPr>
          <p:blipFill>
            <a:blip r:embed="rId1"/>
            <a:stretch/>
          </p:blipFill>
          <p:spPr>
            <a:xfrm>
              <a:off x="1320840" y="3975120"/>
              <a:ext cx="2840040" cy="1571760"/>
            </a:xfrm>
            <a:prstGeom prst="rect">
              <a:avLst/>
            </a:prstGeom>
            <a:ln w="0">
              <a:noFill/>
            </a:ln>
          </p:spPr>
        </p:pic>
        <p:sp>
          <p:nvSpPr>
            <p:cNvPr id="126" name="矩形 2"/>
            <p:cNvSpPr/>
            <p:nvPr/>
          </p:nvSpPr>
          <p:spPr>
            <a:xfrm>
              <a:off x="1365480" y="4587840"/>
              <a:ext cx="2766600" cy="1008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右要写紧凑。</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grpSp>
      <p:sp>
        <p:nvSpPr>
          <p:cNvPr id="127" name="矩形 3"/>
          <p:cNvSpPr/>
          <p:nvPr/>
        </p:nvSpPr>
        <p:spPr>
          <a:xfrm>
            <a:off x="2108160" y="1868400"/>
            <a:ext cx="1281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duò</a:t>
            </a:r>
            <a:endParaRPr b="0" lang="en-US" sz="4800" spc="-1" strike="noStrike">
              <a:solidFill>
                <a:srgbClr val="000000"/>
              </a:solidFill>
              <a:latin typeface="Calibri"/>
            </a:endParaRPr>
          </a:p>
        </p:txBody>
      </p:sp>
      <p:sp>
        <p:nvSpPr>
          <p:cNvPr id="128" name="Freeform 29"/>
          <p:cNvSpPr/>
          <p:nvPr/>
        </p:nvSpPr>
        <p:spPr>
          <a:xfrm>
            <a:off x="6099120" y="2811600"/>
            <a:ext cx="335160" cy="556920"/>
          </a:xfrm>
          <a:custGeom>
            <a:avLst/>
            <a:gdLst/>
            <a:ahLst/>
            <a:rect l="l" t="t" r="r" b="b"/>
            <a:pathLst>
              <a:path w="423" h="702">
                <a:moveTo>
                  <a:pt x="175" y="207"/>
                </a:moveTo>
                <a:lnTo>
                  <a:pt x="177" y="195"/>
                </a:lnTo>
                <a:lnTo>
                  <a:pt x="177" y="184"/>
                </a:lnTo>
                <a:lnTo>
                  <a:pt x="179" y="172"/>
                </a:lnTo>
                <a:lnTo>
                  <a:pt x="179" y="163"/>
                </a:lnTo>
                <a:lnTo>
                  <a:pt x="179" y="144"/>
                </a:lnTo>
                <a:lnTo>
                  <a:pt x="177" y="126"/>
                </a:lnTo>
                <a:lnTo>
                  <a:pt x="175" y="109"/>
                </a:lnTo>
                <a:lnTo>
                  <a:pt x="171" y="94"/>
                </a:lnTo>
                <a:lnTo>
                  <a:pt x="166" y="78"/>
                </a:lnTo>
                <a:lnTo>
                  <a:pt x="162" y="65"/>
                </a:lnTo>
                <a:lnTo>
                  <a:pt x="160" y="57"/>
                </a:lnTo>
                <a:lnTo>
                  <a:pt x="158" y="50"/>
                </a:lnTo>
                <a:lnTo>
                  <a:pt x="156" y="44"/>
                </a:lnTo>
                <a:lnTo>
                  <a:pt x="156" y="40"/>
                </a:lnTo>
                <a:lnTo>
                  <a:pt x="154" y="34"/>
                </a:lnTo>
                <a:lnTo>
                  <a:pt x="154" y="30"/>
                </a:lnTo>
                <a:lnTo>
                  <a:pt x="154" y="25"/>
                </a:lnTo>
                <a:lnTo>
                  <a:pt x="156" y="21"/>
                </a:lnTo>
                <a:lnTo>
                  <a:pt x="158" y="19"/>
                </a:lnTo>
                <a:lnTo>
                  <a:pt x="160" y="15"/>
                </a:lnTo>
                <a:lnTo>
                  <a:pt x="162" y="11"/>
                </a:lnTo>
                <a:lnTo>
                  <a:pt x="166" y="9"/>
                </a:lnTo>
                <a:lnTo>
                  <a:pt x="169" y="7"/>
                </a:lnTo>
                <a:lnTo>
                  <a:pt x="175" y="4"/>
                </a:lnTo>
                <a:lnTo>
                  <a:pt x="181" y="2"/>
                </a:lnTo>
                <a:lnTo>
                  <a:pt x="187" y="0"/>
                </a:lnTo>
                <a:lnTo>
                  <a:pt x="192" y="0"/>
                </a:lnTo>
                <a:lnTo>
                  <a:pt x="196" y="0"/>
                </a:lnTo>
                <a:lnTo>
                  <a:pt x="204" y="0"/>
                </a:lnTo>
                <a:lnTo>
                  <a:pt x="210" y="2"/>
                </a:lnTo>
                <a:lnTo>
                  <a:pt x="217" y="4"/>
                </a:lnTo>
                <a:lnTo>
                  <a:pt x="225" y="6"/>
                </a:lnTo>
                <a:lnTo>
                  <a:pt x="240" y="9"/>
                </a:lnTo>
                <a:lnTo>
                  <a:pt x="250" y="13"/>
                </a:lnTo>
                <a:lnTo>
                  <a:pt x="260" y="17"/>
                </a:lnTo>
                <a:lnTo>
                  <a:pt x="269" y="21"/>
                </a:lnTo>
                <a:lnTo>
                  <a:pt x="279" y="27"/>
                </a:lnTo>
                <a:lnTo>
                  <a:pt x="290" y="30"/>
                </a:lnTo>
                <a:lnTo>
                  <a:pt x="300" y="36"/>
                </a:lnTo>
                <a:lnTo>
                  <a:pt x="311" y="44"/>
                </a:lnTo>
                <a:lnTo>
                  <a:pt x="323" y="52"/>
                </a:lnTo>
                <a:lnTo>
                  <a:pt x="334" y="57"/>
                </a:lnTo>
                <a:lnTo>
                  <a:pt x="344" y="65"/>
                </a:lnTo>
                <a:lnTo>
                  <a:pt x="354" y="71"/>
                </a:lnTo>
                <a:lnTo>
                  <a:pt x="363" y="78"/>
                </a:lnTo>
                <a:lnTo>
                  <a:pt x="371" y="84"/>
                </a:lnTo>
                <a:lnTo>
                  <a:pt x="379" y="90"/>
                </a:lnTo>
                <a:lnTo>
                  <a:pt x="384" y="96"/>
                </a:lnTo>
                <a:lnTo>
                  <a:pt x="392" y="100"/>
                </a:lnTo>
                <a:lnTo>
                  <a:pt x="398" y="105"/>
                </a:lnTo>
                <a:lnTo>
                  <a:pt x="402" y="109"/>
                </a:lnTo>
                <a:lnTo>
                  <a:pt x="406" y="113"/>
                </a:lnTo>
                <a:lnTo>
                  <a:pt x="411" y="117"/>
                </a:lnTo>
                <a:lnTo>
                  <a:pt x="417" y="123"/>
                </a:lnTo>
                <a:lnTo>
                  <a:pt x="423" y="128"/>
                </a:lnTo>
                <a:lnTo>
                  <a:pt x="423" y="134"/>
                </a:lnTo>
                <a:lnTo>
                  <a:pt x="421" y="140"/>
                </a:lnTo>
                <a:lnTo>
                  <a:pt x="419" y="148"/>
                </a:lnTo>
                <a:lnTo>
                  <a:pt x="417" y="155"/>
                </a:lnTo>
                <a:lnTo>
                  <a:pt x="415" y="165"/>
                </a:lnTo>
                <a:lnTo>
                  <a:pt x="411" y="174"/>
                </a:lnTo>
                <a:lnTo>
                  <a:pt x="407" y="184"/>
                </a:lnTo>
                <a:lnTo>
                  <a:pt x="404" y="195"/>
                </a:lnTo>
                <a:lnTo>
                  <a:pt x="398" y="207"/>
                </a:lnTo>
                <a:lnTo>
                  <a:pt x="392" y="220"/>
                </a:lnTo>
                <a:lnTo>
                  <a:pt x="386" y="234"/>
                </a:lnTo>
                <a:lnTo>
                  <a:pt x="381" y="247"/>
                </a:lnTo>
                <a:lnTo>
                  <a:pt x="373" y="263"/>
                </a:lnTo>
                <a:lnTo>
                  <a:pt x="365" y="278"/>
                </a:lnTo>
                <a:lnTo>
                  <a:pt x="358" y="293"/>
                </a:lnTo>
                <a:lnTo>
                  <a:pt x="348" y="311"/>
                </a:lnTo>
                <a:lnTo>
                  <a:pt x="336" y="328"/>
                </a:lnTo>
                <a:lnTo>
                  <a:pt x="323" y="347"/>
                </a:lnTo>
                <a:lnTo>
                  <a:pt x="311" y="366"/>
                </a:lnTo>
                <a:lnTo>
                  <a:pt x="298" y="387"/>
                </a:lnTo>
                <a:lnTo>
                  <a:pt x="283" y="408"/>
                </a:lnTo>
                <a:lnTo>
                  <a:pt x="267" y="430"/>
                </a:lnTo>
                <a:lnTo>
                  <a:pt x="252" y="453"/>
                </a:lnTo>
                <a:lnTo>
                  <a:pt x="237" y="478"/>
                </a:lnTo>
                <a:lnTo>
                  <a:pt x="219" y="501"/>
                </a:lnTo>
                <a:lnTo>
                  <a:pt x="202" y="527"/>
                </a:lnTo>
                <a:lnTo>
                  <a:pt x="185" y="554"/>
                </a:lnTo>
                <a:lnTo>
                  <a:pt x="166" y="581"/>
                </a:lnTo>
                <a:lnTo>
                  <a:pt x="146" y="610"/>
                </a:lnTo>
                <a:lnTo>
                  <a:pt x="127" y="639"/>
                </a:lnTo>
                <a:lnTo>
                  <a:pt x="108" y="669"/>
                </a:lnTo>
                <a:lnTo>
                  <a:pt x="87" y="702"/>
                </a:lnTo>
                <a:lnTo>
                  <a:pt x="45" y="702"/>
                </a:lnTo>
                <a:lnTo>
                  <a:pt x="0" y="702"/>
                </a:lnTo>
                <a:lnTo>
                  <a:pt x="10" y="675"/>
                </a:lnTo>
                <a:lnTo>
                  <a:pt x="20" y="650"/>
                </a:lnTo>
                <a:lnTo>
                  <a:pt x="29" y="627"/>
                </a:lnTo>
                <a:lnTo>
                  <a:pt x="39" y="604"/>
                </a:lnTo>
                <a:lnTo>
                  <a:pt x="48" y="581"/>
                </a:lnTo>
                <a:lnTo>
                  <a:pt x="56" y="558"/>
                </a:lnTo>
                <a:lnTo>
                  <a:pt x="64" y="537"/>
                </a:lnTo>
                <a:lnTo>
                  <a:pt x="71" y="516"/>
                </a:lnTo>
                <a:lnTo>
                  <a:pt x="79" y="495"/>
                </a:lnTo>
                <a:lnTo>
                  <a:pt x="87" y="476"/>
                </a:lnTo>
                <a:lnTo>
                  <a:pt x="94" y="456"/>
                </a:lnTo>
                <a:lnTo>
                  <a:pt x="100" y="437"/>
                </a:lnTo>
                <a:lnTo>
                  <a:pt x="106" y="420"/>
                </a:lnTo>
                <a:lnTo>
                  <a:pt x="114" y="403"/>
                </a:lnTo>
                <a:lnTo>
                  <a:pt x="119" y="387"/>
                </a:lnTo>
                <a:lnTo>
                  <a:pt x="123" y="370"/>
                </a:lnTo>
                <a:lnTo>
                  <a:pt x="129" y="355"/>
                </a:lnTo>
                <a:lnTo>
                  <a:pt x="135" y="341"/>
                </a:lnTo>
                <a:lnTo>
                  <a:pt x="139" y="328"/>
                </a:lnTo>
                <a:lnTo>
                  <a:pt x="142" y="314"/>
                </a:lnTo>
                <a:lnTo>
                  <a:pt x="146" y="301"/>
                </a:lnTo>
                <a:lnTo>
                  <a:pt x="150" y="290"/>
                </a:lnTo>
                <a:lnTo>
                  <a:pt x="154" y="278"/>
                </a:lnTo>
                <a:lnTo>
                  <a:pt x="158" y="268"/>
                </a:lnTo>
                <a:lnTo>
                  <a:pt x="160" y="257"/>
                </a:lnTo>
                <a:lnTo>
                  <a:pt x="164" y="249"/>
                </a:lnTo>
                <a:lnTo>
                  <a:pt x="166" y="240"/>
                </a:lnTo>
                <a:lnTo>
                  <a:pt x="167" y="232"/>
                </a:lnTo>
                <a:lnTo>
                  <a:pt x="169" y="224"/>
                </a:lnTo>
                <a:lnTo>
                  <a:pt x="171" y="219"/>
                </a:lnTo>
                <a:lnTo>
                  <a:pt x="173" y="213"/>
                </a:lnTo>
                <a:lnTo>
                  <a:pt x="175" y="20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Freeform 30"/>
          <p:cNvSpPr/>
          <p:nvPr/>
        </p:nvSpPr>
        <p:spPr>
          <a:xfrm>
            <a:off x="5602320" y="3343320"/>
            <a:ext cx="477720" cy="1689120"/>
          </a:xfrm>
          <a:custGeom>
            <a:avLst/>
            <a:gdLst/>
            <a:ahLst/>
            <a:rect l="l" t="t" r="r" b="b"/>
            <a:pathLst>
              <a:path w="600" h="2128">
                <a:moveTo>
                  <a:pt x="403" y="98"/>
                </a:moveTo>
                <a:lnTo>
                  <a:pt x="399" y="91"/>
                </a:lnTo>
                <a:lnTo>
                  <a:pt x="395" y="83"/>
                </a:lnTo>
                <a:lnTo>
                  <a:pt x="391" y="75"/>
                </a:lnTo>
                <a:lnTo>
                  <a:pt x="387" y="68"/>
                </a:lnTo>
                <a:lnTo>
                  <a:pt x="385" y="62"/>
                </a:lnTo>
                <a:lnTo>
                  <a:pt x="384" y="54"/>
                </a:lnTo>
                <a:lnTo>
                  <a:pt x="382" y="43"/>
                </a:lnTo>
                <a:lnTo>
                  <a:pt x="382" y="31"/>
                </a:lnTo>
                <a:lnTo>
                  <a:pt x="384" y="20"/>
                </a:lnTo>
                <a:lnTo>
                  <a:pt x="384" y="16"/>
                </a:lnTo>
                <a:lnTo>
                  <a:pt x="385" y="12"/>
                </a:lnTo>
                <a:lnTo>
                  <a:pt x="387" y="8"/>
                </a:lnTo>
                <a:lnTo>
                  <a:pt x="389" y="6"/>
                </a:lnTo>
                <a:lnTo>
                  <a:pt x="393" y="4"/>
                </a:lnTo>
                <a:lnTo>
                  <a:pt x="397" y="2"/>
                </a:lnTo>
                <a:lnTo>
                  <a:pt x="403" y="2"/>
                </a:lnTo>
                <a:lnTo>
                  <a:pt x="410" y="0"/>
                </a:lnTo>
                <a:lnTo>
                  <a:pt x="420" y="0"/>
                </a:lnTo>
                <a:lnTo>
                  <a:pt x="430" y="2"/>
                </a:lnTo>
                <a:lnTo>
                  <a:pt x="441" y="2"/>
                </a:lnTo>
                <a:lnTo>
                  <a:pt x="455" y="4"/>
                </a:lnTo>
                <a:lnTo>
                  <a:pt x="468" y="6"/>
                </a:lnTo>
                <a:lnTo>
                  <a:pt x="483" y="8"/>
                </a:lnTo>
                <a:lnTo>
                  <a:pt x="499" y="12"/>
                </a:lnTo>
                <a:lnTo>
                  <a:pt x="518" y="16"/>
                </a:lnTo>
                <a:lnTo>
                  <a:pt x="537" y="20"/>
                </a:lnTo>
                <a:lnTo>
                  <a:pt x="556" y="23"/>
                </a:lnTo>
                <a:lnTo>
                  <a:pt x="577" y="27"/>
                </a:lnTo>
                <a:lnTo>
                  <a:pt x="600" y="33"/>
                </a:lnTo>
                <a:lnTo>
                  <a:pt x="600" y="54"/>
                </a:lnTo>
                <a:lnTo>
                  <a:pt x="600" y="79"/>
                </a:lnTo>
                <a:lnTo>
                  <a:pt x="600" y="104"/>
                </a:lnTo>
                <a:lnTo>
                  <a:pt x="600" y="133"/>
                </a:lnTo>
                <a:lnTo>
                  <a:pt x="600" y="162"/>
                </a:lnTo>
                <a:lnTo>
                  <a:pt x="600" y="190"/>
                </a:lnTo>
                <a:lnTo>
                  <a:pt x="600" y="223"/>
                </a:lnTo>
                <a:lnTo>
                  <a:pt x="600" y="256"/>
                </a:lnTo>
                <a:lnTo>
                  <a:pt x="600" y="292"/>
                </a:lnTo>
                <a:lnTo>
                  <a:pt x="600" y="329"/>
                </a:lnTo>
                <a:lnTo>
                  <a:pt x="600" y="365"/>
                </a:lnTo>
                <a:lnTo>
                  <a:pt x="600" y="405"/>
                </a:lnTo>
                <a:lnTo>
                  <a:pt x="600" y="446"/>
                </a:lnTo>
                <a:lnTo>
                  <a:pt x="600" y="490"/>
                </a:lnTo>
                <a:lnTo>
                  <a:pt x="600" y="532"/>
                </a:lnTo>
                <a:lnTo>
                  <a:pt x="600" y="578"/>
                </a:lnTo>
                <a:lnTo>
                  <a:pt x="600" y="626"/>
                </a:lnTo>
                <a:lnTo>
                  <a:pt x="600" y="672"/>
                </a:lnTo>
                <a:lnTo>
                  <a:pt x="600" y="718"/>
                </a:lnTo>
                <a:lnTo>
                  <a:pt x="599" y="762"/>
                </a:lnTo>
                <a:lnTo>
                  <a:pt x="597" y="803"/>
                </a:lnTo>
                <a:lnTo>
                  <a:pt x="595" y="843"/>
                </a:lnTo>
                <a:lnTo>
                  <a:pt x="593" y="883"/>
                </a:lnTo>
                <a:lnTo>
                  <a:pt x="591" y="920"/>
                </a:lnTo>
                <a:lnTo>
                  <a:pt x="589" y="956"/>
                </a:lnTo>
                <a:lnTo>
                  <a:pt x="587" y="991"/>
                </a:lnTo>
                <a:lnTo>
                  <a:pt x="583" y="1023"/>
                </a:lnTo>
                <a:lnTo>
                  <a:pt x="579" y="1054"/>
                </a:lnTo>
                <a:lnTo>
                  <a:pt x="575" y="1083"/>
                </a:lnTo>
                <a:lnTo>
                  <a:pt x="572" y="1111"/>
                </a:lnTo>
                <a:lnTo>
                  <a:pt x="568" y="1138"/>
                </a:lnTo>
                <a:lnTo>
                  <a:pt x="564" y="1163"/>
                </a:lnTo>
                <a:lnTo>
                  <a:pt x="554" y="1213"/>
                </a:lnTo>
                <a:lnTo>
                  <a:pt x="543" y="1261"/>
                </a:lnTo>
                <a:lnTo>
                  <a:pt x="529" y="1309"/>
                </a:lnTo>
                <a:lnTo>
                  <a:pt x="516" y="1359"/>
                </a:lnTo>
                <a:lnTo>
                  <a:pt x="499" y="1407"/>
                </a:lnTo>
                <a:lnTo>
                  <a:pt x="481" y="1457"/>
                </a:lnTo>
                <a:lnTo>
                  <a:pt x="472" y="1480"/>
                </a:lnTo>
                <a:lnTo>
                  <a:pt x="462" y="1505"/>
                </a:lnTo>
                <a:lnTo>
                  <a:pt x="451" y="1530"/>
                </a:lnTo>
                <a:lnTo>
                  <a:pt x="439" y="1555"/>
                </a:lnTo>
                <a:lnTo>
                  <a:pt x="416" y="1607"/>
                </a:lnTo>
                <a:lnTo>
                  <a:pt x="391" y="1658"/>
                </a:lnTo>
                <a:lnTo>
                  <a:pt x="378" y="1683"/>
                </a:lnTo>
                <a:lnTo>
                  <a:pt x="362" y="1708"/>
                </a:lnTo>
                <a:lnTo>
                  <a:pt x="349" y="1733"/>
                </a:lnTo>
                <a:lnTo>
                  <a:pt x="334" y="1758"/>
                </a:lnTo>
                <a:lnTo>
                  <a:pt x="318" y="1783"/>
                </a:lnTo>
                <a:lnTo>
                  <a:pt x="303" y="1806"/>
                </a:lnTo>
                <a:lnTo>
                  <a:pt x="286" y="1829"/>
                </a:lnTo>
                <a:lnTo>
                  <a:pt x="268" y="1854"/>
                </a:lnTo>
                <a:lnTo>
                  <a:pt x="251" y="1877"/>
                </a:lnTo>
                <a:lnTo>
                  <a:pt x="232" y="1898"/>
                </a:lnTo>
                <a:lnTo>
                  <a:pt x="213" y="1921"/>
                </a:lnTo>
                <a:lnTo>
                  <a:pt x="192" y="1944"/>
                </a:lnTo>
                <a:lnTo>
                  <a:pt x="172" y="1967"/>
                </a:lnTo>
                <a:lnTo>
                  <a:pt x="153" y="1990"/>
                </a:lnTo>
                <a:lnTo>
                  <a:pt x="134" y="2011"/>
                </a:lnTo>
                <a:lnTo>
                  <a:pt x="119" y="2029"/>
                </a:lnTo>
                <a:lnTo>
                  <a:pt x="101" y="2048"/>
                </a:lnTo>
                <a:lnTo>
                  <a:pt x="88" y="2063"/>
                </a:lnTo>
                <a:lnTo>
                  <a:pt x="74" y="2077"/>
                </a:lnTo>
                <a:lnTo>
                  <a:pt x="61" y="2088"/>
                </a:lnTo>
                <a:lnTo>
                  <a:pt x="51" y="2100"/>
                </a:lnTo>
                <a:lnTo>
                  <a:pt x="40" y="2109"/>
                </a:lnTo>
                <a:lnTo>
                  <a:pt x="32" y="2117"/>
                </a:lnTo>
                <a:lnTo>
                  <a:pt x="24" y="2121"/>
                </a:lnTo>
                <a:lnTo>
                  <a:pt x="17" y="2125"/>
                </a:lnTo>
                <a:lnTo>
                  <a:pt x="13" y="2127"/>
                </a:lnTo>
                <a:lnTo>
                  <a:pt x="9" y="2128"/>
                </a:lnTo>
                <a:lnTo>
                  <a:pt x="5" y="2127"/>
                </a:lnTo>
                <a:lnTo>
                  <a:pt x="1" y="2123"/>
                </a:lnTo>
                <a:lnTo>
                  <a:pt x="0" y="2117"/>
                </a:lnTo>
                <a:lnTo>
                  <a:pt x="0" y="2111"/>
                </a:lnTo>
                <a:lnTo>
                  <a:pt x="1" y="2102"/>
                </a:lnTo>
                <a:lnTo>
                  <a:pt x="3" y="2092"/>
                </a:lnTo>
                <a:lnTo>
                  <a:pt x="9" y="2079"/>
                </a:lnTo>
                <a:lnTo>
                  <a:pt x="15" y="2065"/>
                </a:lnTo>
                <a:lnTo>
                  <a:pt x="23" y="2048"/>
                </a:lnTo>
                <a:lnTo>
                  <a:pt x="32" y="2031"/>
                </a:lnTo>
                <a:lnTo>
                  <a:pt x="44" y="2011"/>
                </a:lnTo>
                <a:lnTo>
                  <a:pt x="57" y="1988"/>
                </a:lnTo>
                <a:lnTo>
                  <a:pt x="71" y="1965"/>
                </a:lnTo>
                <a:lnTo>
                  <a:pt x="86" y="1940"/>
                </a:lnTo>
                <a:lnTo>
                  <a:pt x="103" y="1914"/>
                </a:lnTo>
                <a:lnTo>
                  <a:pt x="122" y="1885"/>
                </a:lnTo>
                <a:lnTo>
                  <a:pt x="142" y="1854"/>
                </a:lnTo>
                <a:lnTo>
                  <a:pt x="163" y="1821"/>
                </a:lnTo>
                <a:lnTo>
                  <a:pt x="182" y="1791"/>
                </a:lnTo>
                <a:lnTo>
                  <a:pt x="201" y="1758"/>
                </a:lnTo>
                <a:lnTo>
                  <a:pt x="218" y="1727"/>
                </a:lnTo>
                <a:lnTo>
                  <a:pt x="236" y="1699"/>
                </a:lnTo>
                <a:lnTo>
                  <a:pt x="251" y="1668"/>
                </a:lnTo>
                <a:lnTo>
                  <a:pt x="266" y="1637"/>
                </a:lnTo>
                <a:lnTo>
                  <a:pt x="282" y="1608"/>
                </a:lnTo>
                <a:lnTo>
                  <a:pt x="295" y="1580"/>
                </a:lnTo>
                <a:lnTo>
                  <a:pt x="307" y="1551"/>
                </a:lnTo>
                <a:lnTo>
                  <a:pt x="320" y="1522"/>
                </a:lnTo>
                <a:lnTo>
                  <a:pt x="330" y="1493"/>
                </a:lnTo>
                <a:lnTo>
                  <a:pt x="341" y="1466"/>
                </a:lnTo>
                <a:lnTo>
                  <a:pt x="349" y="1440"/>
                </a:lnTo>
                <a:lnTo>
                  <a:pt x="359" y="1411"/>
                </a:lnTo>
                <a:lnTo>
                  <a:pt x="364" y="1384"/>
                </a:lnTo>
                <a:lnTo>
                  <a:pt x="372" y="1359"/>
                </a:lnTo>
                <a:lnTo>
                  <a:pt x="378" y="1334"/>
                </a:lnTo>
                <a:lnTo>
                  <a:pt x="385" y="1309"/>
                </a:lnTo>
                <a:lnTo>
                  <a:pt x="393" y="1282"/>
                </a:lnTo>
                <a:lnTo>
                  <a:pt x="399" y="1255"/>
                </a:lnTo>
                <a:lnTo>
                  <a:pt x="405" y="1227"/>
                </a:lnTo>
                <a:lnTo>
                  <a:pt x="412" y="1198"/>
                </a:lnTo>
                <a:lnTo>
                  <a:pt x="418" y="1169"/>
                </a:lnTo>
                <a:lnTo>
                  <a:pt x="424" y="1138"/>
                </a:lnTo>
                <a:lnTo>
                  <a:pt x="430" y="1108"/>
                </a:lnTo>
                <a:lnTo>
                  <a:pt x="433" y="1075"/>
                </a:lnTo>
                <a:lnTo>
                  <a:pt x="439" y="1042"/>
                </a:lnTo>
                <a:lnTo>
                  <a:pt x="443" y="1010"/>
                </a:lnTo>
                <a:lnTo>
                  <a:pt x="447" y="975"/>
                </a:lnTo>
                <a:lnTo>
                  <a:pt x="449" y="941"/>
                </a:lnTo>
                <a:lnTo>
                  <a:pt x="453" y="904"/>
                </a:lnTo>
                <a:lnTo>
                  <a:pt x="455" y="868"/>
                </a:lnTo>
                <a:lnTo>
                  <a:pt x="456" y="831"/>
                </a:lnTo>
                <a:lnTo>
                  <a:pt x="458" y="797"/>
                </a:lnTo>
                <a:lnTo>
                  <a:pt x="460" y="762"/>
                </a:lnTo>
                <a:lnTo>
                  <a:pt x="462" y="728"/>
                </a:lnTo>
                <a:lnTo>
                  <a:pt x="464" y="695"/>
                </a:lnTo>
                <a:lnTo>
                  <a:pt x="466" y="661"/>
                </a:lnTo>
                <a:lnTo>
                  <a:pt x="468" y="628"/>
                </a:lnTo>
                <a:lnTo>
                  <a:pt x="470" y="565"/>
                </a:lnTo>
                <a:lnTo>
                  <a:pt x="470" y="503"/>
                </a:lnTo>
                <a:lnTo>
                  <a:pt x="470" y="472"/>
                </a:lnTo>
                <a:lnTo>
                  <a:pt x="468" y="442"/>
                </a:lnTo>
                <a:lnTo>
                  <a:pt x="466" y="413"/>
                </a:lnTo>
                <a:lnTo>
                  <a:pt x="464" y="384"/>
                </a:lnTo>
                <a:lnTo>
                  <a:pt x="462" y="357"/>
                </a:lnTo>
                <a:lnTo>
                  <a:pt x="460" y="332"/>
                </a:lnTo>
                <a:lnTo>
                  <a:pt x="458" y="307"/>
                </a:lnTo>
                <a:lnTo>
                  <a:pt x="455" y="284"/>
                </a:lnTo>
                <a:lnTo>
                  <a:pt x="453" y="261"/>
                </a:lnTo>
                <a:lnTo>
                  <a:pt x="449" y="240"/>
                </a:lnTo>
                <a:lnTo>
                  <a:pt x="447" y="221"/>
                </a:lnTo>
                <a:lnTo>
                  <a:pt x="443" y="202"/>
                </a:lnTo>
                <a:lnTo>
                  <a:pt x="439" y="185"/>
                </a:lnTo>
                <a:lnTo>
                  <a:pt x="435" y="167"/>
                </a:lnTo>
                <a:lnTo>
                  <a:pt x="432" y="152"/>
                </a:lnTo>
                <a:lnTo>
                  <a:pt x="426" y="139"/>
                </a:lnTo>
                <a:lnTo>
                  <a:pt x="420" y="125"/>
                </a:lnTo>
                <a:lnTo>
                  <a:pt x="414" y="116"/>
                </a:lnTo>
                <a:lnTo>
                  <a:pt x="408" y="106"/>
                </a:lnTo>
                <a:lnTo>
                  <a:pt x="403" y="9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Freeform 31"/>
          <p:cNvSpPr/>
          <p:nvPr/>
        </p:nvSpPr>
        <p:spPr>
          <a:xfrm>
            <a:off x="5456160" y="3956040"/>
            <a:ext cx="1017720" cy="341280"/>
          </a:xfrm>
          <a:custGeom>
            <a:avLst/>
            <a:gdLst/>
            <a:ahLst/>
            <a:rect l="l" t="t" r="r" b="b"/>
            <a:pathLst>
              <a:path w="1283" h="430">
                <a:moveTo>
                  <a:pt x="1283" y="103"/>
                </a:moveTo>
                <a:lnTo>
                  <a:pt x="1265" y="105"/>
                </a:lnTo>
                <a:lnTo>
                  <a:pt x="1248" y="109"/>
                </a:lnTo>
                <a:lnTo>
                  <a:pt x="1229" y="111"/>
                </a:lnTo>
                <a:lnTo>
                  <a:pt x="1210" y="113"/>
                </a:lnTo>
                <a:lnTo>
                  <a:pt x="1191" y="117"/>
                </a:lnTo>
                <a:lnTo>
                  <a:pt x="1169" y="119"/>
                </a:lnTo>
                <a:lnTo>
                  <a:pt x="1148" y="123"/>
                </a:lnTo>
                <a:lnTo>
                  <a:pt x="1127" y="126"/>
                </a:lnTo>
                <a:lnTo>
                  <a:pt x="1104" y="130"/>
                </a:lnTo>
                <a:lnTo>
                  <a:pt x="1081" y="134"/>
                </a:lnTo>
                <a:lnTo>
                  <a:pt x="1058" y="138"/>
                </a:lnTo>
                <a:lnTo>
                  <a:pt x="1035" y="144"/>
                </a:lnTo>
                <a:lnTo>
                  <a:pt x="1010" y="149"/>
                </a:lnTo>
                <a:lnTo>
                  <a:pt x="985" y="155"/>
                </a:lnTo>
                <a:lnTo>
                  <a:pt x="960" y="161"/>
                </a:lnTo>
                <a:lnTo>
                  <a:pt x="935" y="169"/>
                </a:lnTo>
                <a:lnTo>
                  <a:pt x="908" y="176"/>
                </a:lnTo>
                <a:lnTo>
                  <a:pt x="883" y="184"/>
                </a:lnTo>
                <a:lnTo>
                  <a:pt x="856" y="192"/>
                </a:lnTo>
                <a:lnTo>
                  <a:pt x="828" y="201"/>
                </a:lnTo>
                <a:lnTo>
                  <a:pt x="772" y="218"/>
                </a:lnTo>
                <a:lnTo>
                  <a:pt x="714" y="236"/>
                </a:lnTo>
                <a:lnTo>
                  <a:pt x="655" y="257"/>
                </a:lnTo>
                <a:lnTo>
                  <a:pt x="595" y="278"/>
                </a:lnTo>
                <a:lnTo>
                  <a:pt x="536" y="301"/>
                </a:lnTo>
                <a:lnTo>
                  <a:pt x="476" y="324"/>
                </a:lnTo>
                <a:lnTo>
                  <a:pt x="444" y="337"/>
                </a:lnTo>
                <a:lnTo>
                  <a:pt x="415" y="349"/>
                </a:lnTo>
                <a:lnTo>
                  <a:pt x="386" y="359"/>
                </a:lnTo>
                <a:lnTo>
                  <a:pt x="359" y="368"/>
                </a:lnTo>
                <a:lnTo>
                  <a:pt x="334" y="378"/>
                </a:lnTo>
                <a:lnTo>
                  <a:pt x="311" y="387"/>
                </a:lnTo>
                <a:lnTo>
                  <a:pt x="290" y="395"/>
                </a:lnTo>
                <a:lnTo>
                  <a:pt x="269" y="401"/>
                </a:lnTo>
                <a:lnTo>
                  <a:pt x="252" y="408"/>
                </a:lnTo>
                <a:lnTo>
                  <a:pt x="234" y="412"/>
                </a:lnTo>
                <a:lnTo>
                  <a:pt x="219" y="418"/>
                </a:lnTo>
                <a:lnTo>
                  <a:pt x="206" y="422"/>
                </a:lnTo>
                <a:lnTo>
                  <a:pt x="194" y="424"/>
                </a:lnTo>
                <a:lnTo>
                  <a:pt x="183" y="428"/>
                </a:lnTo>
                <a:lnTo>
                  <a:pt x="173" y="428"/>
                </a:lnTo>
                <a:lnTo>
                  <a:pt x="165" y="430"/>
                </a:lnTo>
                <a:lnTo>
                  <a:pt x="152" y="428"/>
                </a:lnTo>
                <a:lnTo>
                  <a:pt x="138" y="426"/>
                </a:lnTo>
                <a:lnTo>
                  <a:pt x="125" y="422"/>
                </a:lnTo>
                <a:lnTo>
                  <a:pt x="112" y="418"/>
                </a:lnTo>
                <a:lnTo>
                  <a:pt x="106" y="414"/>
                </a:lnTo>
                <a:lnTo>
                  <a:pt x="98" y="410"/>
                </a:lnTo>
                <a:lnTo>
                  <a:pt x="92" y="407"/>
                </a:lnTo>
                <a:lnTo>
                  <a:pt x="87" y="401"/>
                </a:lnTo>
                <a:lnTo>
                  <a:pt x="81" y="397"/>
                </a:lnTo>
                <a:lnTo>
                  <a:pt x="77" y="389"/>
                </a:lnTo>
                <a:lnTo>
                  <a:pt x="71" y="384"/>
                </a:lnTo>
                <a:lnTo>
                  <a:pt x="67" y="378"/>
                </a:lnTo>
                <a:lnTo>
                  <a:pt x="60" y="370"/>
                </a:lnTo>
                <a:lnTo>
                  <a:pt x="54" y="362"/>
                </a:lnTo>
                <a:lnTo>
                  <a:pt x="48" y="357"/>
                </a:lnTo>
                <a:lnTo>
                  <a:pt x="42" y="349"/>
                </a:lnTo>
                <a:lnTo>
                  <a:pt x="35" y="337"/>
                </a:lnTo>
                <a:lnTo>
                  <a:pt x="27" y="324"/>
                </a:lnTo>
                <a:lnTo>
                  <a:pt x="19" y="313"/>
                </a:lnTo>
                <a:lnTo>
                  <a:pt x="14" y="299"/>
                </a:lnTo>
                <a:lnTo>
                  <a:pt x="10" y="288"/>
                </a:lnTo>
                <a:lnTo>
                  <a:pt x="4" y="272"/>
                </a:lnTo>
                <a:lnTo>
                  <a:pt x="2" y="266"/>
                </a:lnTo>
                <a:lnTo>
                  <a:pt x="0" y="259"/>
                </a:lnTo>
                <a:lnTo>
                  <a:pt x="0" y="251"/>
                </a:lnTo>
                <a:lnTo>
                  <a:pt x="0" y="245"/>
                </a:lnTo>
                <a:lnTo>
                  <a:pt x="0" y="240"/>
                </a:lnTo>
                <a:lnTo>
                  <a:pt x="0" y="234"/>
                </a:lnTo>
                <a:lnTo>
                  <a:pt x="2" y="224"/>
                </a:lnTo>
                <a:lnTo>
                  <a:pt x="8" y="215"/>
                </a:lnTo>
                <a:lnTo>
                  <a:pt x="14" y="207"/>
                </a:lnTo>
                <a:lnTo>
                  <a:pt x="21" y="199"/>
                </a:lnTo>
                <a:lnTo>
                  <a:pt x="29" y="195"/>
                </a:lnTo>
                <a:lnTo>
                  <a:pt x="31" y="192"/>
                </a:lnTo>
                <a:lnTo>
                  <a:pt x="35" y="192"/>
                </a:lnTo>
                <a:lnTo>
                  <a:pt x="37" y="190"/>
                </a:lnTo>
                <a:lnTo>
                  <a:pt x="41" y="190"/>
                </a:lnTo>
                <a:lnTo>
                  <a:pt x="48" y="190"/>
                </a:lnTo>
                <a:lnTo>
                  <a:pt x="58" y="192"/>
                </a:lnTo>
                <a:lnTo>
                  <a:pt x="67" y="194"/>
                </a:lnTo>
                <a:lnTo>
                  <a:pt x="79" y="197"/>
                </a:lnTo>
                <a:lnTo>
                  <a:pt x="90" y="203"/>
                </a:lnTo>
                <a:lnTo>
                  <a:pt x="104" y="207"/>
                </a:lnTo>
                <a:lnTo>
                  <a:pt x="112" y="211"/>
                </a:lnTo>
                <a:lnTo>
                  <a:pt x="119" y="213"/>
                </a:lnTo>
                <a:lnTo>
                  <a:pt x="127" y="213"/>
                </a:lnTo>
                <a:lnTo>
                  <a:pt x="137" y="215"/>
                </a:lnTo>
                <a:lnTo>
                  <a:pt x="146" y="217"/>
                </a:lnTo>
                <a:lnTo>
                  <a:pt x="156" y="217"/>
                </a:lnTo>
                <a:lnTo>
                  <a:pt x="167" y="217"/>
                </a:lnTo>
                <a:lnTo>
                  <a:pt x="179" y="218"/>
                </a:lnTo>
                <a:lnTo>
                  <a:pt x="190" y="217"/>
                </a:lnTo>
                <a:lnTo>
                  <a:pt x="202" y="217"/>
                </a:lnTo>
                <a:lnTo>
                  <a:pt x="215" y="217"/>
                </a:lnTo>
                <a:lnTo>
                  <a:pt x="229" y="215"/>
                </a:lnTo>
                <a:lnTo>
                  <a:pt x="244" y="213"/>
                </a:lnTo>
                <a:lnTo>
                  <a:pt x="257" y="213"/>
                </a:lnTo>
                <a:lnTo>
                  <a:pt x="273" y="211"/>
                </a:lnTo>
                <a:lnTo>
                  <a:pt x="290" y="207"/>
                </a:lnTo>
                <a:lnTo>
                  <a:pt x="298" y="207"/>
                </a:lnTo>
                <a:lnTo>
                  <a:pt x="307" y="205"/>
                </a:lnTo>
                <a:lnTo>
                  <a:pt x="317" y="203"/>
                </a:lnTo>
                <a:lnTo>
                  <a:pt x="327" y="201"/>
                </a:lnTo>
                <a:lnTo>
                  <a:pt x="336" y="199"/>
                </a:lnTo>
                <a:lnTo>
                  <a:pt x="348" y="197"/>
                </a:lnTo>
                <a:lnTo>
                  <a:pt x="359" y="195"/>
                </a:lnTo>
                <a:lnTo>
                  <a:pt x="371" y="194"/>
                </a:lnTo>
                <a:lnTo>
                  <a:pt x="396" y="188"/>
                </a:lnTo>
                <a:lnTo>
                  <a:pt x="423" y="182"/>
                </a:lnTo>
                <a:lnTo>
                  <a:pt x="451" y="176"/>
                </a:lnTo>
                <a:lnTo>
                  <a:pt x="482" y="169"/>
                </a:lnTo>
                <a:lnTo>
                  <a:pt x="515" y="161"/>
                </a:lnTo>
                <a:lnTo>
                  <a:pt x="549" y="153"/>
                </a:lnTo>
                <a:lnTo>
                  <a:pt x="584" y="144"/>
                </a:lnTo>
                <a:lnTo>
                  <a:pt x="622" y="134"/>
                </a:lnTo>
                <a:lnTo>
                  <a:pt x="661" y="124"/>
                </a:lnTo>
                <a:lnTo>
                  <a:pt x="701" y="115"/>
                </a:lnTo>
                <a:lnTo>
                  <a:pt x="743" y="103"/>
                </a:lnTo>
                <a:lnTo>
                  <a:pt x="785" y="90"/>
                </a:lnTo>
                <a:lnTo>
                  <a:pt x="830" y="80"/>
                </a:lnTo>
                <a:lnTo>
                  <a:pt x="872" y="73"/>
                </a:lnTo>
                <a:lnTo>
                  <a:pt x="912" y="63"/>
                </a:lnTo>
                <a:lnTo>
                  <a:pt x="951" y="55"/>
                </a:lnTo>
                <a:lnTo>
                  <a:pt x="987" y="48"/>
                </a:lnTo>
                <a:lnTo>
                  <a:pt x="1024" y="42"/>
                </a:lnTo>
                <a:lnTo>
                  <a:pt x="1058" y="36"/>
                </a:lnTo>
                <a:lnTo>
                  <a:pt x="1089" y="30"/>
                </a:lnTo>
                <a:lnTo>
                  <a:pt x="1120" y="25"/>
                </a:lnTo>
                <a:lnTo>
                  <a:pt x="1148" y="21"/>
                </a:lnTo>
                <a:lnTo>
                  <a:pt x="1175" y="15"/>
                </a:lnTo>
                <a:lnTo>
                  <a:pt x="1202" y="11"/>
                </a:lnTo>
                <a:lnTo>
                  <a:pt x="1214" y="9"/>
                </a:lnTo>
                <a:lnTo>
                  <a:pt x="1225" y="7"/>
                </a:lnTo>
                <a:lnTo>
                  <a:pt x="1235" y="7"/>
                </a:lnTo>
                <a:lnTo>
                  <a:pt x="1246" y="5"/>
                </a:lnTo>
                <a:lnTo>
                  <a:pt x="1256" y="4"/>
                </a:lnTo>
                <a:lnTo>
                  <a:pt x="1265" y="2"/>
                </a:lnTo>
                <a:lnTo>
                  <a:pt x="1273" y="0"/>
                </a:lnTo>
                <a:lnTo>
                  <a:pt x="1283" y="0"/>
                </a:lnTo>
                <a:lnTo>
                  <a:pt x="1283" y="52"/>
                </a:lnTo>
                <a:lnTo>
                  <a:pt x="1283" y="10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Freeform 32"/>
          <p:cNvSpPr/>
          <p:nvPr/>
        </p:nvSpPr>
        <p:spPr>
          <a:xfrm>
            <a:off x="6164280" y="3605040"/>
            <a:ext cx="152280" cy="228600"/>
          </a:xfrm>
          <a:custGeom>
            <a:avLst/>
            <a:gdLst/>
            <a:ahLst/>
            <a:rect l="l" t="t" r="r" b="b"/>
            <a:pathLst>
              <a:path w="190" h="288">
                <a:moveTo>
                  <a:pt x="4" y="93"/>
                </a:moveTo>
                <a:lnTo>
                  <a:pt x="2" y="83"/>
                </a:lnTo>
                <a:lnTo>
                  <a:pt x="0" y="73"/>
                </a:lnTo>
                <a:lnTo>
                  <a:pt x="0" y="66"/>
                </a:lnTo>
                <a:lnTo>
                  <a:pt x="0" y="58"/>
                </a:lnTo>
                <a:lnTo>
                  <a:pt x="0" y="50"/>
                </a:lnTo>
                <a:lnTo>
                  <a:pt x="0" y="45"/>
                </a:lnTo>
                <a:lnTo>
                  <a:pt x="0" y="37"/>
                </a:lnTo>
                <a:lnTo>
                  <a:pt x="2" y="33"/>
                </a:lnTo>
                <a:lnTo>
                  <a:pt x="4" y="22"/>
                </a:lnTo>
                <a:lnTo>
                  <a:pt x="8" y="14"/>
                </a:lnTo>
                <a:lnTo>
                  <a:pt x="11" y="6"/>
                </a:lnTo>
                <a:lnTo>
                  <a:pt x="17" y="0"/>
                </a:lnTo>
                <a:lnTo>
                  <a:pt x="19" y="0"/>
                </a:lnTo>
                <a:lnTo>
                  <a:pt x="23" y="2"/>
                </a:lnTo>
                <a:lnTo>
                  <a:pt x="27" y="2"/>
                </a:lnTo>
                <a:lnTo>
                  <a:pt x="31" y="2"/>
                </a:lnTo>
                <a:lnTo>
                  <a:pt x="35" y="4"/>
                </a:lnTo>
                <a:lnTo>
                  <a:pt x="40" y="6"/>
                </a:lnTo>
                <a:lnTo>
                  <a:pt x="52" y="10"/>
                </a:lnTo>
                <a:lnTo>
                  <a:pt x="67" y="14"/>
                </a:lnTo>
                <a:lnTo>
                  <a:pt x="81" y="18"/>
                </a:lnTo>
                <a:lnTo>
                  <a:pt x="98" y="22"/>
                </a:lnTo>
                <a:lnTo>
                  <a:pt x="117" y="27"/>
                </a:lnTo>
                <a:lnTo>
                  <a:pt x="125" y="31"/>
                </a:lnTo>
                <a:lnTo>
                  <a:pt x="134" y="35"/>
                </a:lnTo>
                <a:lnTo>
                  <a:pt x="142" y="39"/>
                </a:lnTo>
                <a:lnTo>
                  <a:pt x="148" y="45"/>
                </a:lnTo>
                <a:lnTo>
                  <a:pt x="155" y="50"/>
                </a:lnTo>
                <a:lnTo>
                  <a:pt x="161" y="58"/>
                </a:lnTo>
                <a:lnTo>
                  <a:pt x="167" y="66"/>
                </a:lnTo>
                <a:lnTo>
                  <a:pt x="173" y="75"/>
                </a:lnTo>
                <a:lnTo>
                  <a:pt x="177" y="85"/>
                </a:lnTo>
                <a:lnTo>
                  <a:pt x="180" y="95"/>
                </a:lnTo>
                <a:lnTo>
                  <a:pt x="182" y="106"/>
                </a:lnTo>
                <a:lnTo>
                  <a:pt x="186" y="118"/>
                </a:lnTo>
                <a:lnTo>
                  <a:pt x="188" y="129"/>
                </a:lnTo>
                <a:lnTo>
                  <a:pt x="190" y="142"/>
                </a:lnTo>
                <a:lnTo>
                  <a:pt x="190" y="156"/>
                </a:lnTo>
                <a:lnTo>
                  <a:pt x="190" y="171"/>
                </a:lnTo>
                <a:lnTo>
                  <a:pt x="190" y="185"/>
                </a:lnTo>
                <a:lnTo>
                  <a:pt x="190" y="198"/>
                </a:lnTo>
                <a:lnTo>
                  <a:pt x="190" y="210"/>
                </a:lnTo>
                <a:lnTo>
                  <a:pt x="188" y="221"/>
                </a:lnTo>
                <a:lnTo>
                  <a:pt x="188" y="233"/>
                </a:lnTo>
                <a:lnTo>
                  <a:pt x="186" y="242"/>
                </a:lnTo>
                <a:lnTo>
                  <a:pt x="184" y="250"/>
                </a:lnTo>
                <a:lnTo>
                  <a:pt x="182" y="258"/>
                </a:lnTo>
                <a:lnTo>
                  <a:pt x="180" y="265"/>
                </a:lnTo>
                <a:lnTo>
                  <a:pt x="179" y="271"/>
                </a:lnTo>
                <a:lnTo>
                  <a:pt x="177" y="277"/>
                </a:lnTo>
                <a:lnTo>
                  <a:pt x="175" y="281"/>
                </a:lnTo>
                <a:lnTo>
                  <a:pt x="173" y="283"/>
                </a:lnTo>
                <a:lnTo>
                  <a:pt x="171" y="286"/>
                </a:lnTo>
                <a:lnTo>
                  <a:pt x="167" y="286"/>
                </a:lnTo>
                <a:lnTo>
                  <a:pt x="165" y="288"/>
                </a:lnTo>
                <a:lnTo>
                  <a:pt x="161" y="286"/>
                </a:lnTo>
                <a:lnTo>
                  <a:pt x="155" y="286"/>
                </a:lnTo>
                <a:lnTo>
                  <a:pt x="152" y="284"/>
                </a:lnTo>
                <a:lnTo>
                  <a:pt x="146" y="283"/>
                </a:lnTo>
                <a:lnTo>
                  <a:pt x="142" y="281"/>
                </a:lnTo>
                <a:lnTo>
                  <a:pt x="136" y="277"/>
                </a:lnTo>
                <a:lnTo>
                  <a:pt x="132" y="273"/>
                </a:lnTo>
                <a:lnTo>
                  <a:pt x="127" y="269"/>
                </a:lnTo>
                <a:lnTo>
                  <a:pt x="115" y="260"/>
                </a:lnTo>
                <a:lnTo>
                  <a:pt x="104" y="250"/>
                </a:lnTo>
                <a:lnTo>
                  <a:pt x="92" y="236"/>
                </a:lnTo>
                <a:lnTo>
                  <a:pt x="79" y="223"/>
                </a:lnTo>
                <a:lnTo>
                  <a:pt x="65" y="208"/>
                </a:lnTo>
                <a:lnTo>
                  <a:pt x="54" y="190"/>
                </a:lnTo>
                <a:lnTo>
                  <a:pt x="42" y="175"/>
                </a:lnTo>
                <a:lnTo>
                  <a:pt x="33" y="158"/>
                </a:lnTo>
                <a:lnTo>
                  <a:pt x="23" y="141"/>
                </a:lnTo>
                <a:lnTo>
                  <a:pt x="15" y="123"/>
                </a:lnTo>
                <a:lnTo>
                  <a:pt x="10" y="108"/>
                </a:lnTo>
                <a:lnTo>
                  <a:pt x="4" y="9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Freeform 33"/>
          <p:cNvSpPr/>
          <p:nvPr/>
        </p:nvSpPr>
        <p:spPr>
          <a:xfrm>
            <a:off x="6126120" y="4246560"/>
            <a:ext cx="184320" cy="227160"/>
          </a:xfrm>
          <a:custGeom>
            <a:avLst/>
            <a:gdLst/>
            <a:ahLst/>
            <a:rect l="l" t="t" r="r" b="b"/>
            <a:pathLst>
              <a:path w="230" h="286">
                <a:moveTo>
                  <a:pt x="213" y="208"/>
                </a:moveTo>
                <a:lnTo>
                  <a:pt x="211" y="217"/>
                </a:lnTo>
                <a:lnTo>
                  <a:pt x="209" y="227"/>
                </a:lnTo>
                <a:lnTo>
                  <a:pt x="205" y="234"/>
                </a:lnTo>
                <a:lnTo>
                  <a:pt x="203" y="242"/>
                </a:lnTo>
                <a:lnTo>
                  <a:pt x="200" y="250"/>
                </a:lnTo>
                <a:lnTo>
                  <a:pt x="196" y="256"/>
                </a:lnTo>
                <a:lnTo>
                  <a:pt x="192" y="261"/>
                </a:lnTo>
                <a:lnTo>
                  <a:pt x="188" y="267"/>
                </a:lnTo>
                <a:lnTo>
                  <a:pt x="186" y="271"/>
                </a:lnTo>
                <a:lnTo>
                  <a:pt x="182" y="275"/>
                </a:lnTo>
                <a:lnTo>
                  <a:pt x="179" y="279"/>
                </a:lnTo>
                <a:lnTo>
                  <a:pt x="175" y="280"/>
                </a:lnTo>
                <a:lnTo>
                  <a:pt x="173" y="282"/>
                </a:lnTo>
                <a:lnTo>
                  <a:pt x="169" y="284"/>
                </a:lnTo>
                <a:lnTo>
                  <a:pt x="167" y="286"/>
                </a:lnTo>
                <a:lnTo>
                  <a:pt x="165" y="286"/>
                </a:lnTo>
                <a:lnTo>
                  <a:pt x="159" y="286"/>
                </a:lnTo>
                <a:lnTo>
                  <a:pt x="154" y="284"/>
                </a:lnTo>
                <a:lnTo>
                  <a:pt x="150" y="282"/>
                </a:lnTo>
                <a:lnTo>
                  <a:pt x="144" y="279"/>
                </a:lnTo>
                <a:lnTo>
                  <a:pt x="138" y="275"/>
                </a:lnTo>
                <a:lnTo>
                  <a:pt x="131" y="269"/>
                </a:lnTo>
                <a:lnTo>
                  <a:pt x="125" y="263"/>
                </a:lnTo>
                <a:lnTo>
                  <a:pt x="119" y="256"/>
                </a:lnTo>
                <a:lnTo>
                  <a:pt x="113" y="246"/>
                </a:lnTo>
                <a:lnTo>
                  <a:pt x="106" y="236"/>
                </a:lnTo>
                <a:lnTo>
                  <a:pt x="100" y="227"/>
                </a:lnTo>
                <a:lnTo>
                  <a:pt x="92" y="215"/>
                </a:lnTo>
                <a:lnTo>
                  <a:pt x="84" y="202"/>
                </a:lnTo>
                <a:lnTo>
                  <a:pt x="79" y="188"/>
                </a:lnTo>
                <a:lnTo>
                  <a:pt x="71" y="173"/>
                </a:lnTo>
                <a:lnTo>
                  <a:pt x="65" y="156"/>
                </a:lnTo>
                <a:lnTo>
                  <a:pt x="56" y="142"/>
                </a:lnTo>
                <a:lnTo>
                  <a:pt x="48" y="127"/>
                </a:lnTo>
                <a:lnTo>
                  <a:pt x="40" y="114"/>
                </a:lnTo>
                <a:lnTo>
                  <a:pt x="33" y="102"/>
                </a:lnTo>
                <a:lnTo>
                  <a:pt x="27" y="91"/>
                </a:lnTo>
                <a:lnTo>
                  <a:pt x="21" y="79"/>
                </a:lnTo>
                <a:lnTo>
                  <a:pt x="15" y="69"/>
                </a:lnTo>
                <a:lnTo>
                  <a:pt x="11" y="60"/>
                </a:lnTo>
                <a:lnTo>
                  <a:pt x="8" y="50"/>
                </a:lnTo>
                <a:lnTo>
                  <a:pt x="4" y="43"/>
                </a:lnTo>
                <a:lnTo>
                  <a:pt x="2" y="37"/>
                </a:lnTo>
                <a:lnTo>
                  <a:pt x="0" y="29"/>
                </a:lnTo>
                <a:lnTo>
                  <a:pt x="0" y="23"/>
                </a:lnTo>
                <a:lnTo>
                  <a:pt x="0" y="20"/>
                </a:lnTo>
                <a:lnTo>
                  <a:pt x="2" y="16"/>
                </a:lnTo>
                <a:lnTo>
                  <a:pt x="4" y="14"/>
                </a:lnTo>
                <a:lnTo>
                  <a:pt x="4" y="10"/>
                </a:lnTo>
                <a:lnTo>
                  <a:pt x="4" y="8"/>
                </a:lnTo>
                <a:lnTo>
                  <a:pt x="6" y="6"/>
                </a:lnTo>
                <a:lnTo>
                  <a:pt x="8" y="4"/>
                </a:lnTo>
                <a:lnTo>
                  <a:pt x="10" y="4"/>
                </a:lnTo>
                <a:lnTo>
                  <a:pt x="13" y="2"/>
                </a:lnTo>
                <a:lnTo>
                  <a:pt x="17" y="2"/>
                </a:lnTo>
                <a:lnTo>
                  <a:pt x="21" y="0"/>
                </a:lnTo>
                <a:lnTo>
                  <a:pt x="27" y="0"/>
                </a:lnTo>
                <a:lnTo>
                  <a:pt x="33" y="0"/>
                </a:lnTo>
                <a:lnTo>
                  <a:pt x="38" y="0"/>
                </a:lnTo>
                <a:lnTo>
                  <a:pt x="44" y="0"/>
                </a:lnTo>
                <a:lnTo>
                  <a:pt x="52" y="0"/>
                </a:lnTo>
                <a:lnTo>
                  <a:pt x="59" y="0"/>
                </a:lnTo>
                <a:lnTo>
                  <a:pt x="69" y="0"/>
                </a:lnTo>
                <a:lnTo>
                  <a:pt x="77" y="0"/>
                </a:lnTo>
                <a:lnTo>
                  <a:pt x="92" y="0"/>
                </a:lnTo>
                <a:lnTo>
                  <a:pt x="107" y="2"/>
                </a:lnTo>
                <a:lnTo>
                  <a:pt x="123" y="6"/>
                </a:lnTo>
                <a:lnTo>
                  <a:pt x="140" y="10"/>
                </a:lnTo>
                <a:lnTo>
                  <a:pt x="148" y="14"/>
                </a:lnTo>
                <a:lnTo>
                  <a:pt x="155" y="18"/>
                </a:lnTo>
                <a:lnTo>
                  <a:pt x="163" y="21"/>
                </a:lnTo>
                <a:lnTo>
                  <a:pt x="173" y="27"/>
                </a:lnTo>
                <a:lnTo>
                  <a:pt x="180" y="33"/>
                </a:lnTo>
                <a:lnTo>
                  <a:pt x="188" y="39"/>
                </a:lnTo>
                <a:lnTo>
                  <a:pt x="194" y="44"/>
                </a:lnTo>
                <a:lnTo>
                  <a:pt x="202" y="52"/>
                </a:lnTo>
                <a:lnTo>
                  <a:pt x="207" y="60"/>
                </a:lnTo>
                <a:lnTo>
                  <a:pt x="213" y="67"/>
                </a:lnTo>
                <a:lnTo>
                  <a:pt x="219" y="75"/>
                </a:lnTo>
                <a:lnTo>
                  <a:pt x="223" y="83"/>
                </a:lnTo>
                <a:lnTo>
                  <a:pt x="225" y="92"/>
                </a:lnTo>
                <a:lnTo>
                  <a:pt x="228" y="102"/>
                </a:lnTo>
                <a:lnTo>
                  <a:pt x="230" y="110"/>
                </a:lnTo>
                <a:lnTo>
                  <a:pt x="230" y="119"/>
                </a:lnTo>
                <a:lnTo>
                  <a:pt x="230" y="129"/>
                </a:lnTo>
                <a:lnTo>
                  <a:pt x="230" y="140"/>
                </a:lnTo>
                <a:lnTo>
                  <a:pt x="228" y="150"/>
                </a:lnTo>
                <a:lnTo>
                  <a:pt x="227" y="161"/>
                </a:lnTo>
                <a:lnTo>
                  <a:pt x="225" y="173"/>
                </a:lnTo>
                <a:lnTo>
                  <a:pt x="221" y="185"/>
                </a:lnTo>
                <a:lnTo>
                  <a:pt x="219" y="196"/>
                </a:lnTo>
                <a:lnTo>
                  <a:pt x="213" y="20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Freeform 34"/>
          <p:cNvSpPr/>
          <p:nvPr/>
        </p:nvSpPr>
        <p:spPr>
          <a:xfrm>
            <a:off x="6651720" y="3357720"/>
            <a:ext cx="196920" cy="506160"/>
          </a:xfrm>
          <a:custGeom>
            <a:avLst/>
            <a:gdLst/>
            <a:ahLst/>
            <a:rect l="l" t="t" r="r" b="b"/>
            <a:pathLst>
              <a:path w="248" h="637">
                <a:moveTo>
                  <a:pt x="112" y="637"/>
                </a:moveTo>
                <a:lnTo>
                  <a:pt x="102" y="635"/>
                </a:lnTo>
                <a:lnTo>
                  <a:pt x="93" y="633"/>
                </a:lnTo>
                <a:lnTo>
                  <a:pt x="83" y="631"/>
                </a:lnTo>
                <a:lnTo>
                  <a:pt x="75" y="625"/>
                </a:lnTo>
                <a:lnTo>
                  <a:pt x="70" y="621"/>
                </a:lnTo>
                <a:lnTo>
                  <a:pt x="66" y="617"/>
                </a:lnTo>
                <a:lnTo>
                  <a:pt x="60" y="614"/>
                </a:lnTo>
                <a:lnTo>
                  <a:pt x="56" y="610"/>
                </a:lnTo>
                <a:lnTo>
                  <a:pt x="50" y="604"/>
                </a:lnTo>
                <a:lnTo>
                  <a:pt x="47" y="598"/>
                </a:lnTo>
                <a:lnTo>
                  <a:pt x="43" y="591"/>
                </a:lnTo>
                <a:lnTo>
                  <a:pt x="37" y="585"/>
                </a:lnTo>
                <a:lnTo>
                  <a:pt x="29" y="575"/>
                </a:lnTo>
                <a:lnTo>
                  <a:pt x="22" y="564"/>
                </a:lnTo>
                <a:lnTo>
                  <a:pt x="16" y="554"/>
                </a:lnTo>
                <a:lnTo>
                  <a:pt x="10" y="545"/>
                </a:lnTo>
                <a:lnTo>
                  <a:pt x="6" y="533"/>
                </a:lnTo>
                <a:lnTo>
                  <a:pt x="2" y="520"/>
                </a:lnTo>
                <a:lnTo>
                  <a:pt x="0" y="508"/>
                </a:lnTo>
                <a:lnTo>
                  <a:pt x="0" y="493"/>
                </a:lnTo>
                <a:lnTo>
                  <a:pt x="0" y="489"/>
                </a:lnTo>
                <a:lnTo>
                  <a:pt x="2" y="483"/>
                </a:lnTo>
                <a:lnTo>
                  <a:pt x="2" y="475"/>
                </a:lnTo>
                <a:lnTo>
                  <a:pt x="4" y="470"/>
                </a:lnTo>
                <a:lnTo>
                  <a:pt x="8" y="462"/>
                </a:lnTo>
                <a:lnTo>
                  <a:pt x="10" y="454"/>
                </a:lnTo>
                <a:lnTo>
                  <a:pt x="14" y="445"/>
                </a:lnTo>
                <a:lnTo>
                  <a:pt x="18" y="437"/>
                </a:lnTo>
                <a:lnTo>
                  <a:pt x="27" y="418"/>
                </a:lnTo>
                <a:lnTo>
                  <a:pt x="37" y="397"/>
                </a:lnTo>
                <a:lnTo>
                  <a:pt x="48" y="374"/>
                </a:lnTo>
                <a:lnTo>
                  <a:pt x="62" y="351"/>
                </a:lnTo>
                <a:lnTo>
                  <a:pt x="75" y="326"/>
                </a:lnTo>
                <a:lnTo>
                  <a:pt x="87" y="301"/>
                </a:lnTo>
                <a:lnTo>
                  <a:pt x="98" y="276"/>
                </a:lnTo>
                <a:lnTo>
                  <a:pt x="108" y="249"/>
                </a:lnTo>
                <a:lnTo>
                  <a:pt x="118" y="222"/>
                </a:lnTo>
                <a:lnTo>
                  <a:pt x="125" y="193"/>
                </a:lnTo>
                <a:lnTo>
                  <a:pt x="129" y="178"/>
                </a:lnTo>
                <a:lnTo>
                  <a:pt x="131" y="163"/>
                </a:lnTo>
                <a:lnTo>
                  <a:pt x="135" y="145"/>
                </a:lnTo>
                <a:lnTo>
                  <a:pt x="137" y="130"/>
                </a:lnTo>
                <a:lnTo>
                  <a:pt x="139" y="115"/>
                </a:lnTo>
                <a:lnTo>
                  <a:pt x="141" y="101"/>
                </a:lnTo>
                <a:lnTo>
                  <a:pt x="144" y="90"/>
                </a:lnTo>
                <a:lnTo>
                  <a:pt x="146" y="78"/>
                </a:lnTo>
                <a:lnTo>
                  <a:pt x="148" y="67"/>
                </a:lnTo>
                <a:lnTo>
                  <a:pt x="150" y="57"/>
                </a:lnTo>
                <a:lnTo>
                  <a:pt x="152" y="48"/>
                </a:lnTo>
                <a:lnTo>
                  <a:pt x="156" y="40"/>
                </a:lnTo>
                <a:lnTo>
                  <a:pt x="158" y="32"/>
                </a:lnTo>
                <a:lnTo>
                  <a:pt x="160" y="25"/>
                </a:lnTo>
                <a:lnTo>
                  <a:pt x="162" y="19"/>
                </a:lnTo>
                <a:lnTo>
                  <a:pt x="166" y="13"/>
                </a:lnTo>
                <a:lnTo>
                  <a:pt x="167" y="9"/>
                </a:lnTo>
                <a:lnTo>
                  <a:pt x="169" y="5"/>
                </a:lnTo>
                <a:lnTo>
                  <a:pt x="171" y="2"/>
                </a:lnTo>
                <a:lnTo>
                  <a:pt x="175" y="0"/>
                </a:lnTo>
                <a:lnTo>
                  <a:pt x="179" y="0"/>
                </a:lnTo>
                <a:lnTo>
                  <a:pt x="183" y="2"/>
                </a:lnTo>
                <a:lnTo>
                  <a:pt x="189" y="5"/>
                </a:lnTo>
                <a:lnTo>
                  <a:pt x="194" y="11"/>
                </a:lnTo>
                <a:lnTo>
                  <a:pt x="198" y="13"/>
                </a:lnTo>
                <a:lnTo>
                  <a:pt x="200" y="17"/>
                </a:lnTo>
                <a:lnTo>
                  <a:pt x="204" y="23"/>
                </a:lnTo>
                <a:lnTo>
                  <a:pt x="208" y="26"/>
                </a:lnTo>
                <a:lnTo>
                  <a:pt x="212" y="32"/>
                </a:lnTo>
                <a:lnTo>
                  <a:pt x="215" y="38"/>
                </a:lnTo>
                <a:lnTo>
                  <a:pt x="219" y="44"/>
                </a:lnTo>
                <a:lnTo>
                  <a:pt x="223" y="51"/>
                </a:lnTo>
                <a:lnTo>
                  <a:pt x="229" y="67"/>
                </a:lnTo>
                <a:lnTo>
                  <a:pt x="233" y="82"/>
                </a:lnTo>
                <a:lnTo>
                  <a:pt x="237" y="101"/>
                </a:lnTo>
                <a:lnTo>
                  <a:pt x="240" y="119"/>
                </a:lnTo>
                <a:lnTo>
                  <a:pt x="244" y="140"/>
                </a:lnTo>
                <a:lnTo>
                  <a:pt x="246" y="161"/>
                </a:lnTo>
                <a:lnTo>
                  <a:pt x="248" y="184"/>
                </a:lnTo>
                <a:lnTo>
                  <a:pt x="248" y="207"/>
                </a:lnTo>
                <a:lnTo>
                  <a:pt x="248" y="220"/>
                </a:lnTo>
                <a:lnTo>
                  <a:pt x="248" y="234"/>
                </a:lnTo>
                <a:lnTo>
                  <a:pt x="246" y="247"/>
                </a:lnTo>
                <a:lnTo>
                  <a:pt x="246" y="261"/>
                </a:lnTo>
                <a:lnTo>
                  <a:pt x="244" y="276"/>
                </a:lnTo>
                <a:lnTo>
                  <a:pt x="242" y="291"/>
                </a:lnTo>
                <a:lnTo>
                  <a:pt x="240" y="307"/>
                </a:lnTo>
                <a:lnTo>
                  <a:pt x="238" y="322"/>
                </a:lnTo>
                <a:lnTo>
                  <a:pt x="233" y="357"/>
                </a:lnTo>
                <a:lnTo>
                  <a:pt x="227" y="391"/>
                </a:lnTo>
                <a:lnTo>
                  <a:pt x="219" y="429"/>
                </a:lnTo>
                <a:lnTo>
                  <a:pt x="212" y="468"/>
                </a:lnTo>
                <a:lnTo>
                  <a:pt x="204" y="489"/>
                </a:lnTo>
                <a:lnTo>
                  <a:pt x="198" y="508"/>
                </a:lnTo>
                <a:lnTo>
                  <a:pt x="192" y="527"/>
                </a:lnTo>
                <a:lnTo>
                  <a:pt x="185" y="543"/>
                </a:lnTo>
                <a:lnTo>
                  <a:pt x="179" y="558"/>
                </a:lnTo>
                <a:lnTo>
                  <a:pt x="173" y="571"/>
                </a:lnTo>
                <a:lnTo>
                  <a:pt x="167" y="585"/>
                </a:lnTo>
                <a:lnTo>
                  <a:pt x="162" y="596"/>
                </a:lnTo>
                <a:lnTo>
                  <a:pt x="156" y="606"/>
                </a:lnTo>
                <a:lnTo>
                  <a:pt x="150" y="614"/>
                </a:lnTo>
                <a:lnTo>
                  <a:pt x="144" y="621"/>
                </a:lnTo>
                <a:lnTo>
                  <a:pt x="139" y="627"/>
                </a:lnTo>
                <a:lnTo>
                  <a:pt x="131" y="631"/>
                </a:lnTo>
                <a:lnTo>
                  <a:pt x="125" y="633"/>
                </a:lnTo>
                <a:lnTo>
                  <a:pt x="119" y="635"/>
                </a:lnTo>
                <a:lnTo>
                  <a:pt x="112" y="63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Freeform 35"/>
          <p:cNvSpPr/>
          <p:nvPr/>
        </p:nvSpPr>
        <p:spPr>
          <a:xfrm>
            <a:off x="6789600" y="3284640"/>
            <a:ext cx="993960" cy="434880"/>
          </a:xfrm>
          <a:custGeom>
            <a:avLst/>
            <a:gdLst/>
            <a:ahLst/>
            <a:rect l="l" t="t" r="r" b="b"/>
            <a:pathLst>
              <a:path w="1252" h="546">
                <a:moveTo>
                  <a:pt x="818" y="546"/>
                </a:moveTo>
                <a:lnTo>
                  <a:pt x="816" y="544"/>
                </a:lnTo>
                <a:lnTo>
                  <a:pt x="814" y="541"/>
                </a:lnTo>
                <a:lnTo>
                  <a:pt x="812" y="535"/>
                </a:lnTo>
                <a:lnTo>
                  <a:pt x="810" y="529"/>
                </a:lnTo>
                <a:lnTo>
                  <a:pt x="810" y="523"/>
                </a:lnTo>
                <a:lnTo>
                  <a:pt x="810" y="516"/>
                </a:lnTo>
                <a:lnTo>
                  <a:pt x="810" y="506"/>
                </a:lnTo>
                <a:lnTo>
                  <a:pt x="812" y="497"/>
                </a:lnTo>
                <a:lnTo>
                  <a:pt x="814" y="485"/>
                </a:lnTo>
                <a:lnTo>
                  <a:pt x="816" y="473"/>
                </a:lnTo>
                <a:lnTo>
                  <a:pt x="818" y="460"/>
                </a:lnTo>
                <a:lnTo>
                  <a:pt x="822" y="447"/>
                </a:lnTo>
                <a:lnTo>
                  <a:pt x="826" y="431"/>
                </a:lnTo>
                <a:lnTo>
                  <a:pt x="831" y="414"/>
                </a:lnTo>
                <a:lnTo>
                  <a:pt x="835" y="397"/>
                </a:lnTo>
                <a:lnTo>
                  <a:pt x="843" y="378"/>
                </a:lnTo>
                <a:lnTo>
                  <a:pt x="849" y="360"/>
                </a:lnTo>
                <a:lnTo>
                  <a:pt x="854" y="345"/>
                </a:lnTo>
                <a:lnTo>
                  <a:pt x="860" y="330"/>
                </a:lnTo>
                <a:lnTo>
                  <a:pt x="866" y="314"/>
                </a:lnTo>
                <a:lnTo>
                  <a:pt x="870" y="299"/>
                </a:lnTo>
                <a:lnTo>
                  <a:pt x="874" y="285"/>
                </a:lnTo>
                <a:lnTo>
                  <a:pt x="878" y="274"/>
                </a:lnTo>
                <a:lnTo>
                  <a:pt x="879" y="262"/>
                </a:lnTo>
                <a:lnTo>
                  <a:pt x="881" y="251"/>
                </a:lnTo>
                <a:lnTo>
                  <a:pt x="883" y="239"/>
                </a:lnTo>
                <a:lnTo>
                  <a:pt x="883" y="230"/>
                </a:lnTo>
                <a:lnTo>
                  <a:pt x="885" y="222"/>
                </a:lnTo>
                <a:lnTo>
                  <a:pt x="883" y="214"/>
                </a:lnTo>
                <a:lnTo>
                  <a:pt x="883" y="207"/>
                </a:lnTo>
                <a:lnTo>
                  <a:pt x="881" y="201"/>
                </a:lnTo>
                <a:lnTo>
                  <a:pt x="879" y="195"/>
                </a:lnTo>
                <a:lnTo>
                  <a:pt x="878" y="193"/>
                </a:lnTo>
                <a:lnTo>
                  <a:pt x="874" y="193"/>
                </a:lnTo>
                <a:lnTo>
                  <a:pt x="870" y="193"/>
                </a:lnTo>
                <a:lnTo>
                  <a:pt x="862" y="193"/>
                </a:lnTo>
                <a:lnTo>
                  <a:pt x="853" y="193"/>
                </a:lnTo>
                <a:lnTo>
                  <a:pt x="843" y="195"/>
                </a:lnTo>
                <a:lnTo>
                  <a:pt x="831" y="195"/>
                </a:lnTo>
                <a:lnTo>
                  <a:pt x="818" y="197"/>
                </a:lnTo>
                <a:lnTo>
                  <a:pt x="803" y="199"/>
                </a:lnTo>
                <a:lnTo>
                  <a:pt x="785" y="203"/>
                </a:lnTo>
                <a:lnTo>
                  <a:pt x="766" y="205"/>
                </a:lnTo>
                <a:lnTo>
                  <a:pt x="747" y="209"/>
                </a:lnTo>
                <a:lnTo>
                  <a:pt x="724" y="213"/>
                </a:lnTo>
                <a:lnTo>
                  <a:pt x="701" y="216"/>
                </a:lnTo>
                <a:lnTo>
                  <a:pt x="676" y="220"/>
                </a:lnTo>
                <a:lnTo>
                  <a:pt x="649" y="226"/>
                </a:lnTo>
                <a:lnTo>
                  <a:pt x="620" y="230"/>
                </a:lnTo>
                <a:lnTo>
                  <a:pt x="590" y="236"/>
                </a:lnTo>
                <a:lnTo>
                  <a:pt x="559" y="243"/>
                </a:lnTo>
                <a:lnTo>
                  <a:pt x="524" y="249"/>
                </a:lnTo>
                <a:lnTo>
                  <a:pt x="490" y="257"/>
                </a:lnTo>
                <a:lnTo>
                  <a:pt x="453" y="264"/>
                </a:lnTo>
                <a:lnTo>
                  <a:pt x="415" y="272"/>
                </a:lnTo>
                <a:lnTo>
                  <a:pt x="375" y="280"/>
                </a:lnTo>
                <a:lnTo>
                  <a:pt x="334" y="289"/>
                </a:lnTo>
                <a:lnTo>
                  <a:pt x="290" y="299"/>
                </a:lnTo>
                <a:lnTo>
                  <a:pt x="246" y="308"/>
                </a:lnTo>
                <a:lnTo>
                  <a:pt x="200" y="318"/>
                </a:lnTo>
                <a:lnTo>
                  <a:pt x="152" y="330"/>
                </a:lnTo>
                <a:lnTo>
                  <a:pt x="104" y="341"/>
                </a:lnTo>
                <a:lnTo>
                  <a:pt x="52" y="353"/>
                </a:lnTo>
                <a:lnTo>
                  <a:pt x="0" y="364"/>
                </a:lnTo>
                <a:lnTo>
                  <a:pt x="0" y="307"/>
                </a:lnTo>
                <a:lnTo>
                  <a:pt x="0" y="247"/>
                </a:lnTo>
                <a:lnTo>
                  <a:pt x="48" y="237"/>
                </a:lnTo>
                <a:lnTo>
                  <a:pt x="94" y="228"/>
                </a:lnTo>
                <a:lnTo>
                  <a:pt x="140" y="218"/>
                </a:lnTo>
                <a:lnTo>
                  <a:pt x="184" y="211"/>
                </a:lnTo>
                <a:lnTo>
                  <a:pt x="229" y="201"/>
                </a:lnTo>
                <a:lnTo>
                  <a:pt x="271" y="193"/>
                </a:lnTo>
                <a:lnTo>
                  <a:pt x="311" y="186"/>
                </a:lnTo>
                <a:lnTo>
                  <a:pt x="351" y="178"/>
                </a:lnTo>
                <a:lnTo>
                  <a:pt x="390" y="170"/>
                </a:lnTo>
                <a:lnTo>
                  <a:pt x="426" y="163"/>
                </a:lnTo>
                <a:lnTo>
                  <a:pt x="463" y="155"/>
                </a:lnTo>
                <a:lnTo>
                  <a:pt x="495" y="147"/>
                </a:lnTo>
                <a:lnTo>
                  <a:pt x="530" y="140"/>
                </a:lnTo>
                <a:lnTo>
                  <a:pt x="561" y="132"/>
                </a:lnTo>
                <a:lnTo>
                  <a:pt x="591" y="124"/>
                </a:lnTo>
                <a:lnTo>
                  <a:pt x="620" y="117"/>
                </a:lnTo>
                <a:lnTo>
                  <a:pt x="645" y="113"/>
                </a:lnTo>
                <a:lnTo>
                  <a:pt x="668" y="107"/>
                </a:lnTo>
                <a:lnTo>
                  <a:pt x="691" y="103"/>
                </a:lnTo>
                <a:lnTo>
                  <a:pt x="712" y="97"/>
                </a:lnTo>
                <a:lnTo>
                  <a:pt x="734" y="94"/>
                </a:lnTo>
                <a:lnTo>
                  <a:pt x="753" y="88"/>
                </a:lnTo>
                <a:lnTo>
                  <a:pt x="770" y="82"/>
                </a:lnTo>
                <a:lnTo>
                  <a:pt x="787" y="78"/>
                </a:lnTo>
                <a:lnTo>
                  <a:pt x="803" y="72"/>
                </a:lnTo>
                <a:lnTo>
                  <a:pt x="818" y="69"/>
                </a:lnTo>
                <a:lnTo>
                  <a:pt x="831" y="63"/>
                </a:lnTo>
                <a:lnTo>
                  <a:pt x="843" y="59"/>
                </a:lnTo>
                <a:lnTo>
                  <a:pt x="854" y="53"/>
                </a:lnTo>
                <a:lnTo>
                  <a:pt x="864" y="49"/>
                </a:lnTo>
                <a:lnTo>
                  <a:pt x="872" y="44"/>
                </a:lnTo>
                <a:lnTo>
                  <a:pt x="879" y="40"/>
                </a:lnTo>
                <a:lnTo>
                  <a:pt x="893" y="30"/>
                </a:lnTo>
                <a:lnTo>
                  <a:pt x="906" y="23"/>
                </a:lnTo>
                <a:lnTo>
                  <a:pt x="918" y="15"/>
                </a:lnTo>
                <a:lnTo>
                  <a:pt x="927" y="9"/>
                </a:lnTo>
                <a:lnTo>
                  <a:pt x="939" y="5"/>
                </a:lnTo>
                <a:lnTo>
                  <a:pt x="949" y="3"/>
                </a:lnTo>
                <a:lnTo>
                  <a:pt x="958" y="1"/>
                </a:lnTo>
                <a:lnTo>
                  <a:pt x="968" y="0"/>
                </a:lnTo>
                <a:lnTo>
                  <a:pt x="972" y="3"/>
                </a:lnTo>
                <a:lnTo>
                  <a:pt x="977" y="5"/>
                </a:lnTo>
                <a:lnTo>
                  <a:pt x="983" y="9"/>
                </a:lnTo>
                <a:lnTo>
                  <a:pt x="991" y="13"/>
                </a:lnTo>
                <a:lnTo>
                  <a:pt x="998" y="17"/>
                </a:lnTo>
                <a:lnTo>
                  <a:pt x="1006" y="21"/>
                </a:lnTo>
                <a:lnTo>
                  <a:pt x="1014" y="26"/>
                </a:lnTo>
                <a:lnTo>
                  <a:pt x="1023" y="30"/>
                </a:lnTo>
                <a:lnTo>
                  <a:pt x="1035" y="36"/>
                </a:lnTo>
                <a:lnTo>
                  <a:pt x="1045" y="44"/>
                </a:lnTo>
                <a:lnTo>
                  <a:pt x="1058" y="49"/>
                </a:lnTo>
                <a:lnTo>
                  <a:pt x="1070" y="57"/>
                </a:lnTo>
                <a:lnTo>
                  <a:pt x="1083" y="65"/>
                </a:lnTo>
                <a:lnTo>
                  <a:pt x="1096" y="72"/>
                </a:lnTo>
                <a:lnTo>
                  <a:pt x="1112" y="82"/>
                </a:lnTo>
                <a:lnTo>
                  <a:pt x="1129" y="92"/>
                </a:lnTo>
                <a:lnTo>
                  <a:pt x="1144" y="101"/>
                </a:lnTo>
                <a:lnTo>
                  <a:pt x="1158" y="111"/>
                </a:lnTo>
                <a:lnTo>
                  <a:pt x="1171" y="118"/>
                </a:lnTo>
                <a:lnTo>
                  <a:pt x="1183" y="128"/>
                </a:lnTo>
                <a:lnTo>
                  <a:pt x="1194" y="136"/>
                </a:lnTo>
                <a:lnTo>
                  <a:pt x="1206" y="145"/>
                </a:lnTo>
                <a:lnTo>
                  <a:pt x="1214" y="153"/>
                </a:lnTo>
                <a:lnTo>
                  <a:pt x="1223" y="161"/>
                </a:lnTo>
                <a:lnTo>
                  <a:pt x="1229" y="166"/>
                </a:lnTo>
                <a:lnTo>
                  <a:pt x="1235" y="174"/>
                </a:lnTo>
                <a:lnTo>
                  <a:pt x="1240" y="180"/>
                </a:lnTo>
                <a:lnTo>
                  <a:pt x="1244" y="186"/>
                </a:lnTo>
                <a:lnTo>
                  <a:pt x="1248" y="191"/>
                </a:lnTo>
                <a:lnTo>
                  <a:pt x="1250" y="197"/>
                </a:lnTo>
                <a:lnTo>
                  <a:pt x="1252" y="203"/>
                </a:lnTo>
                <a:lnTo>
                  <a:pt x="1252" y="209"/>
                </a:lnTo>
                <a:lnTo>
                  <a:pt x="1252" y="213"/>
                </a:lnTo>
                <a:lnTo>
                  <a:pt x="1250" y="218"/>
                </a:lnTo>
                <a:lnTo>
                  <a:pt x="1250" y="222"/>
                </a:lnTo>
                <a:lnTo>
                  <a:pt x="1246" y="228"/>
                </a:lnTo>
                <a:lnTo>
                  <a:pt x="1244" y="232"/>
                </a:lnTo>
                <a:lnTo>
                  <a:pt x="1240" y="237"/>
                </a:lnTo>
                <a:lnTo>
                  <a:pt x="1237" y="241"/>
                </a:lnTo>
                <a:lnTo>
                  <a:pt x="1231" y="245"/>
                </a:lnTo>
                <a:lnTo>
                  <a:pt x="1227" y="249"/>
                </a:lnTo>
                <a:lnTo>
                  <a:pt x="1219" y="253"/>
                </a:lnTo>
                <a:lnTo>
                  <a:pt x="1214" y="259"/>
                </a:lnTo>
                <a:lnTo>
                  <a:pt x="1204" y="260"/>
                </a:lnTo>
                <a:lnTo>
                  <a:pt x="1196" y="264"/>
                </a:lnTo>
                <a:lnTo>
                  <a:pt x="1187" y="268"/>
                </a:lnTo>
                <a:lnTo>
                  <a:pt x="1177" y="270"/>
                </a:lnTo>
                <a:lnTo>
                  <a:pt x="1166" y="274"/>
                </a:lnTo>
                <a:lnTo>
                  <a:pt x="1154" y="276"/>
                </a:lnTo>
                <a:lnTo>
                  <a:pt x="1141" y="280"/>
                </a:lnTo>
                <a:lnTo>
                  <a:pt x="1129" y="285"/>
                </a:lnTo>
                <a:lnTo>
                  <a:pt x="1116" y="289"/>
                </a:lnTo>
                <a:lnTo>
                  <a:pt x="1104" y="297"/>
                </a:lnTo>
                <a:lnTo>
                  <a:pt x="1091" y="303"/>
                </a:lnTo>
                <a:lnTo>
                  <a:pt x="1079" y="312"/>
                </a:lnTo>
                <a:lnTo>
                  <a:pt x="1066" y="320"/>
                </a:lnTo>
                <a:lnTo>
                  <a:pt x="1052" y="330"/>
                </a:lnTo>
                <a:lnTo>
                  <a:pt x="1041" y="339"/>
                </a:lnTo>
                <a:lnTo>
                  <a:pt x="1027" y="351"/>
                </a:lnTo>
                <a:lnTo>
                  <a:pt x="1016" y="362"/>
                </a:lnTo>
                <a:lnTo>
                  <a:pt x="1002" y="376"/>
                </a:lnTo>
                <a:lnTo>
                  <a:pt x="991" y="389"/>
                </a:lnTo>
                <a:lnTo>
                  <a:pt x="979" y="402"/>
                </a:lnTo>
                <a:lnTo>
                  <a:pt x="968" y="416"/>
                </a:lnTo>
                <a:lnTo>
                  <a:pt x="952" y="433"/>
                </a:lnTo>
                <a:lnTo>
                  <a:pt x="941" y="449"/>
                </a:lnTo>
                <a:lnTo>
                  <a:pt x="927" y="462"/>
                </a:lnTo>
                <a:lnTo>
                  <a:pt x="916" y="475"/>
                </a:lnTo>
                <a:lnTo>
                  <a:pt x="904" y="487"/>
                </a:lnTo>
                <a:lnTo>
                  <a:pt x="893" y="498"/>
                </a:lnTo>
                <a:lnTo>
                  <a:pt x="883" y="508"/>
                </a:lnTo>
                <a:lnTo>
                  <a:pt x="874" y="516"/>
                </a:lnTo>
                <a:lnTo>
                  <a:pt x="864" y="523"/>
                </a:lnTo>
                <a:lnTo>
                  <a:pt x="856" y="529"/>
                </a:lnTo>
                <a:lnTo>
                  <a:pt x="849" y="535"/>
                </a:lnTo>
                <a:lnTo>
                  <a:pt x="841" y="539"/>
                </a:lnTo>
                <a:lnTo>
                  <a:pt x="833" y="543"/>
                </a:lnTo>
                <a:lnTo>
                  <a:pt x="828" y="544"/>
                </a:lnTo>
                <a:lnTo>
                  <a:pt x="822" y="546"/>
                </a:lnTo>
                <a:lnTo>
                  <a:pt x="818" y="54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Freeform 36"/>
          <p:cNvSpPr/>
          <p:nvPr/>
        </p:nvSpPr>
        <p:spPr>
          <a:xfrm>
            <a:off x="6935760" y="2894040"/>
            <a:ext cx="355680" cy="306360"/>
          </a:xfrm>
          <a:custGeom>
            <a:avLst/>
            <a:gdLst/>
            <a:ahLst/>
            <a:rect l="l" t="t" r="r" b="b"/>
            <a:pathLst>
              <a:path w="448" h="388">
                <a:moveTo>
                  <a:pt x="0" y="25"/>
                </a:moveTo>
                <a:lnTo>
                  <a:pt x="6" y="21"/>
                </a:lnTo>
                <a:lnTo>
                  <a:pt x="12" y="16"/>
                </a:lnTo>
                <a:lnTo>
                  <a:pt x="22" y="12"/>
                </a:lnTo>
                <a:lnTo>
                  <a:pt x="31" y="8"/>
                </a:lnTo>
                <a:lnTo>
                  <a:pt x="43" y="4"/>
                </a:lnTo>
                <a:lnTo>
                  <a:pt x="48" y="4"/>
                </a:lnTo>
                <a:lnTo>
                  <a:pt x="56" y="2"/>
                </a:lnTo>
                <a:lnTo>
                  <a:pt x="62" y="0"/>
                </a:lnTo>
                <a:lnTo>
                  <a:pt x="70" y="0"/>
                </a:lnTo>
                <a:lnTo>
                  <a:pt x="79" y="0"/>
                </a:lnTo>
                <a:lnTo>
                  <a:pt x="89" y="0"/>
                </a:lnTo>
                <a:lnTo>
                  <a:pt x="98" y="0"/>
                </a:lnTo>
                <a:lnTo>
                  <a:pt x="108" y="0"/>
                </a:lnTo>
                <a:lnTo>
                  <a:pt x="118" y="2"/>
                </a:lnTo>
                <a:lnTo>
                  <a:pt x="129" y="4"/>
                </a:lnTo>
                <a:lnTo>
                  <a:pt x="143" y="8"/>
                </a:lnTo>
                <a:lnTo>
                  <a:pt x="154" y="10"/>
                </a:lnTo>
                <a:lnTo>
                  <a:pt x="167" y="14"/>
                </a:lnTo>
                <a:lnTo>
                  <a:pt x="181" y="20"/>
                </a:lnTo>
                <a:lnTo>
                  <a:pt x="194" y="23"/>
                </a:lnTo>
                <a:lnTo>
                  <a:pt x="210" y="29"/>
                </a:lnTo>
                <a:lnTo>
                  <a:pt x="225" y="37"/>
                </a:lnTo>
                <a:lnTo>
                  <a:pt x="242" y="43"/>
                </a:lnTo>
                <a:lnTo>
                  <a:pt x="258" y="50"/>
                </a:lnTo>
                <a:lnTo>
                  <a:pt x="275" y="60"/>
                </a:lnTo>
                <a:lnTo>
                  <a:pt x="292" y="68"/>
                </a:lnTo>
                <a:lnTo>
                  <a:pt x="311" y="79"/>
                </a:lnTo>
                <a:lnTo>
                  <a:pt x="327" y="91"/>
                </a:lnTo>
                <a:lnTo>
                  <a:pt x="342" y="102"/>
                </a:lnTo>
                <a:lnTo>
                  <a:pt x="356" y="114"/>
                </a:lnTo>
                <a:lnTo>
                  <a:pt x="369" y="125"/>
                </a:lnTo>
                <a:lnTo>
                  <a:pt x="381" y="137"/>
                </a:lnTo>
                <a:lnTo>
                  <a:pt x="392" y="148"/>
                </a:lnTo>
                <a:lnTo>
                  <a:pt x="402" y="158"/>
                </a:lnTo>
                <a:lnTo>
                  <a:pt x="411" y="169"/>
                </a:lnTo>
                <a:lnTo>
                  <a:pt x="419" y="181"/>
                </a:lnTo>
                <a:lnTo>
                  <a:pt x="427" y="190"/>
                </a:lnTo>
                <a:lnTo>
                  <a:pt x="432" y="202"/>
                </a:lnTo>
                <a:lnTo>
                  <a:pt x="438" y="213"/>
                </a:lnTo>
                <a:lnTo>
                  <a:pt x="442" y="225"/>
                </a:lnTo>
                <a:lnTo>
                  <a:pt x="446" y="236"/>
                </a:lnTo>
                <a:lnTo>
                  <a:pt x="446" y="248"/>
                </a:lnTo>
                <a:lnTo>
                  <a:pt x="448" y="259"/>
                </a:lnTo>
                <a:lnTo>
                  <a:pt x="448" y="271"/>
                </a:lnTo>
                <a:lnTo>
                  <a:pt x="446" y="282"/>
                </a:lnTo>
                <a:lnTo>
                  <a:pt x="446" y="294"/>
                </a:lnTo>
                <a:lnTo>
                  <a:pt x="446" y="304"/>
                </a:lnTo>
                <a:lnTo>
                  <a:pt x="444" y="313"/>
                </a:lnTo>
                <a:lnTo>
                  <a:pt x="442" y="323"/>
                </a:lnTo>
                <a:lnTo>
                  <a:pt x="440" y="330"/>
                </a:lnTo>
                <a:lnTo>
                  <a:pt x="438" y="338"/>
                </a:lnTo>
                <a:lnTo>
                  <a:pt x="436" y="346"/>
                </a:lnTo>
                <a:lnTo>
                  <a:pt x="432" y="352"/>
                </a:lnTo>
                <a:lnTo>
                  <a:pt x="431" y="357"/>
                </a:lnTo>
                <a:lnTo>
                  <a:pt x="427" y="363"/>
                </a:lnTo>
                <a:lnTo>
                  <a:pt x="423" y="367"/>
                </a:lnTo>
                <a:lnTo>
                  <a:pt x="419" y="371"/>
                </a:lnTo>
                <a:lnTo>
                  <a:pt x="415" y="375"/>
                </a:lnTo>
                <a:lnTo>
                  <a:pt x="411" y="376"/>
                </a:lnTo>
                <a:lnTo>
                  <a:pt x="406" y="382"/>
                </a:lnTo>
                <a:lnTo>
                  <a:pt x="400" y="384"/>
                </a:lnTo>
                <a:lnTo>
                  <a:pt x="392" y="386"/>
                </a:lnTo>
                <a:lnTo>
                  <a:pt x="384" y="388"/>
                </a:lnTo>
                <a:lnTo>
                  <a:pt x="377" y="386"/>
                </a:lnTo>
                <a:lnTo>
                  <a:pt x="367" y="384"/>
                </a:lnTo>
                <a:lnTo>
                  <a:pt x="358" y="382"/>
                </a:lnTo>
                <a:lnTo>
                  <a:pt x="346" y="378"/>
                </a:lnTo>
                <a:lnTo>
                  <a:pt x="335" y="373"/>
                </a:lnTo>
                <a:lnTo>
                  <a:pt x="323" y="365"/>
                </a:lnTo>
                <a:lnTo>
                  <a:pt x="310" y="357"/>
                </a:lnTo>
                <a:lnTo>
                  <a:pt x="296" y="348"/>
                </a:lnTo>
                <a:lnTo>
                  <a:pt x="283" y="338"/>
                </a:lnTo>
                <a:lnTo>
                  <a:pt x="267" y="327"/>
                </a:lnTo>
                <a:lnTo>
                  <a:pt x="252" y="313"/>
                </a:lnTo>
                <a:lnTo>
                  <a:pt x="237" y="300"/>
                </a:lnTo>
                <a:lnTo>
                  <a:pt x="221" y="286"/>
                </a:lnTo>
                <a:lnTo>
                  <a:pt x="206" y="275"/>
                </a:lnTo>
                <a:lnTo>
                  <a:pt x="191" y="261"/>
                </a:lnTo>
                <a:lnTo>
                  <a:pt x="177" y="250"/>
                </a:lnTo>
                <a:lnTo>
                  <a:pt x="164" y="238"/>
                </a:lnTo>
                <a:lnTo>
                  <a:pt x="150" y="227"/>
                </a:lnTo>
                <a:lnTo>
                  <a:pt x="137" y="215"/>
                </a:lnTo>
                <a:lnTo>
                  <a:pt x="125" y="204"/>
                </a:lnTo>
                <a:lnTo>
                  <a:pt x="114" y="192"/>
                </a:lnTo>
                <a:lnTo>
                  <a:pt x="102" y="181"/>
                </a:lnTo>
                <a:lnTo>
                  <a:pt x="93" y="169"/>
                </a:lnTo>
                <a:lnTo>
                  <a:pt x="83" y="158"/>
                </a:lnTo>
                <a:lnTo>
                  <a:pt x="73" y="148"/>
                </a:lnTo>
                <a:lnTo>
                  <a:pt x="66" y="137"/>
                </a:lnTo>
                <a:lnTo>
                  <a:pt x="58" y="127"/>
                </a:lnTo>
                <a:lnTo>
                  <a:pt x="50" y="117"/>
                </a:lnTo>
                <a:lnTo>
                  <a:pt x="45" y="110"/>
                </a:lnTo>
                <a:lnTo>
                  <a:pt x="39" y="102"/>
                </a:lnTo>
                <a:lnTo>
                  <a:pt x="33" y="94"/>
                </a:lnTo>
                <a:lnTo>
                  <a:pt x="27" y="89"/>
                </a:lnTo>
                <a:lnTo>
                  <a:pt x="23" y="81"/>
                </a:lnTo>
                <a:lnTo>
                  <a:pt x="20" y="75"/>
                </a:lnTo>
                <a:lnTo>
                  <a:pt x="12" y="62"/>
                </a:lnTo>
                <a:lnTo>
                  <a:pt x="6" y="50"/>
                </a:lnTo>
                <a:lnTo>
                  <a:pt x="4" y="41"/>
                </a:lnTo>
                <a:lnTo>
                  <a:pt x="2" y="35"/>
                </a:lnTo>
                <a:lnTo>
                  <a:pt x="2" y="31"/>
                </a:lnTo>
                <a:lnTo>
                  <a:pt x="0" y="29"/>
                </a:lnTo>
                <a:lnTo>
                  <a:pt x="0" y="2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Freeform 37"/>
          <p:cNvSpPr/>
          <p:nvPr/>
        </p:nvSpPr>
        <p:spPr>
          <a:xfrm>
            <a:off x="6843600" y="3859200"/>
            <a:ext cx="1011240" cy="1160640"/>
          </a:xfrm>
          <a:custGeom>
            <a:avLst/>
            <a:gdLst/>
            <a:ahLst/>
            <a:rect l="l" t="t" r="r" b="b"/>
            <a:pathLst>
              <a:path w="1275" h="1462">
                <a:moveTo>
                  <a:pt x="949" y="1424"/>
                </a:moveTo>
                <a:lnTo>
                  <a:pt x="916" y="1431"/>
                </a:lnTo>
                <a:lnTo>
                  <a:pt x="882" y="1439"/>
                </a:lnTo>
                <a:lnTo>
                  <a:pt x="845" y="1447"/>
                </a:lnTo>
                <a:lnTo>
                  <a:pt x="809" y="1452"/>
                </a:lnTo>
                <a:lnTo>
                  <a:pt x="768" y="1456"/>
                </a:lnTo>
                <a:lnTo>
                  <a:pt x="749" y="1458"/>
                </a:lnTo>
                <a:lnTo>
                  <a:pt x="728" y="1460"/>
                </a:lnTo>
                <a:lnTo>
                  <a:pt x="707" y="1460"/>
                </a:lnTo>
                <a:lnTo>
                  <a:pt x="684" y="1460"/>
                </a:lnTo>
                <a:lnTo>
                  <a:pt x="663" y="1462"/>
                </a:lnTo>
                <a:lnTo>
                  <a:pt x="640" y="1462"/>
                </a:lnTo>
                <a:lnTo>
                  <a:pt x="617" y="1462"/>
                </a:lnTo>
                <a:lnTo>
                  <a:pt x="594" y="1460"/>
                </a:lnTo>
                <a:lnTo>
                  <a:pt x="572" y="1460"/>
                </a:lnTo>
                <a:lnTo>
                  <a:pt x="551" y="1460"/>
                </a:lnTo>
                <a:lnTo>
                  <a:pt x="530" y="1458"/>
                </a:lnTo>
                <a:lnTo>
                  <a:pt x="509" y="1456"/>
                </a:lnTo>
                <a:lnTo>
                  <a:pt x="490" y="1454"/>
                </a:lnTo>
                <a:lnTo>
                  <a:pt x="471" y="1452"/>
                </a:lnTo>
                <a:lnTo>
                  <a:pt x="453" y="1449"/>
                </a:lnTo>
                <a:lnTo>
                  <a:pt x="436" y="1447"/>
                </a:lnTo>
                <a:lnTo>
                  <a:pt x="419" y="1443"/>
                </a:lnTo>
                <a:lnTo>
                  <a:pt x="402" y="1439"/>
                </a:lnTo>
                <a:lnTo>
                  <a:pt x="386" y="1435"/>
                </a:lnTo>
                <a:lnTo>
                  <a:pt x="371" y="1431"/>
                </a:lnTo>
                <a:lnTo>
                  <a:pt x="356" y="1428"/>
                </a:lnTo>
                <a:lnTo>
                  <a:pt x="342" y="1424"/>
                </a:lnTo>
                <a:lnTo>
                  <a:pt x="325" y="1418"/>
                </a:lnTo>
                <a:lnTo>
                  <a:pt x="309" y="1412"/>
                </a:lnTo>
                <a:lnTo>
                  <a:pt x="296" y="1405"/>
                </a:lnTo>
                <a:lnTo>
                  <a:pt x="281" y="1399"/>
                </a:lnTo>
                <a:lnTo>
                  <a:pt x="267" y="1391"/>
                </a:lnTo>
                <a:lnTo>
                  <a:pt x="254" y="1383"/>
                </a:lnTo>
                <a:lnTo>
                  <a:pt x="240" y="1376"/>
                </a:lnTo>
                <a:lnTo>
                  <a:pt x="227" y="1366"/>
                </a:lnTo>
                <a:lnTo>
                  <a:pt x="202" y="1347"/>
                </a:lnTo>
                <a:lnTo>
                  <a:pt x="177" y="1326"/>
                </a:lnTo>
                <a:lnTo>
                  <a:pt x="154" y="1303"/>
                </a:lnTo>
                <a:lnTo>
                  <a:pt x="131" y="1280"/>
                </a:lnTo>
                <a:lnTo>
                  <a:pt x="119" y="1266"/>
                </a:lnTo>
                <a:lnTo>
                  <a:pt x="108" y="1255"/>
                </a:lnTo>
                <a:lnTo>
                  <a:pt x="98" y="1240"/>
                </a:lnTo>
                <a:lnTo>
                  <a:pt x="89" y="1226"/>
                </a:lnTo>
                <a:lnTo>
                  <a:pt x="79" y="1213"/>
                </a:lnTo>
                <a:lnTo>
                  <a:pt x="71" y="1197"/>
                </a:lnTo>
                <a:lnTo>
                  <a:pt x="64" y="1182"/>
                </a:lnTo>
                <a:lnTo>
                  <a:pt x="56" y="1167"/>
                </a:lnTo>
                <a:lnTo>
                  <a:pt x="50" y="1149"/>
                </a:lnTo>
                <a:lnTo>
                  <a:pt x="43" y="1134"/>
                </a:lnTo>
                <a:lnTo>
                  <a:pt x="39" y="1117"/>
                </a:lnTo>
                <a:lnTo>
                  <a:pt x="33" y="1101"/>
                </a:lnTo>
                <a:lnTo>
                  <a:pt x="29" y="1084"/>
                </a:lnTo>
                <a:lnTo>
                  <a:pt x="25" y="1067"/>
                </a:lnTo>
                <a:lnTo>
                  <a:pt x="21" y="1050"/>
                </a:lnTo>
                <a:lnTo>
                  <a:pt x="20" y="1032"/>
                </a:lnTo>
                <a:lnTo>
                  <a:pt x="18" y="1015"/>
                </a:lnTo>
                <a:lnTo>
                  <a:pt x="16" y="996"/>
                </a:lnTo>
                <a:lnTo>
                  <a:pt x="14" y="973"/>
                </a:lnTo>
                <a:lnTo>
                  <a:pt x="12" y="950"/>
                </a:lnTo>
                <a:lnTo>
                  <a:pt x="12" y="925"/>
                </a:lnTo>
                <a:lnTo>
                  <a:pt x="10" y="898"/>
                </a:lnTo>
                <a:lnTo>
                  <a:pt x="10" y="869"/>
                </a:lnTo>
                <a:lnTo>
                  <a:pt x="10" y="838"/>
                </a:lnTo>
                <a:lnTo>
                  <a:pt x="10" y="806"/>
                </a:lnTo>
                <a:lnTo>
                  <a:pt x="10" y="771"/>
                </a:lnTo>
                <a:lnTo>
                  <a:pt x="12" y="735"/>
                </a:lnTo>
                <a:lnTo>
                  <a:pt x="12" y="696"/>
                </a:lnTo>
                <a:lnTo>
                  <a:pt x="14" y="656"/>
                </a:lnTo>
                <a:lnTo>
                  <a:pt x="16" y="614"/>
                </a:lnTo>
                <a:lnTo>
                  <a:pt x="18" y="572"/>
                </a:lnTo>
                <a:lnTo>
                  <a:pt x="20" y="526"/>
                </a:lnTo>
                <a:lnTo>
                  <a:pt x="20" y="503"/>
                </a:lnTo>
                <a:lnTo>
                  <a:pt x="21" y="480"/>
                </a:lnTo>
                <a:lnTo>
                  <a:pt x="21" y="459"/>
                </a:lnTo>
                <a:lnTo>
                  <a:pt x="23" y="437"/>
                </a:lnTo>
                <a:lnTo>
                  <a:pt x="23" y="418"/>
                </a:lnTo>
                <a:lnTo>
                  <a:pt x="25" y="397"/>
                </a:lnTo>
                <a:lnTo>
                  <a:pt x="25" y="378"/>
                </a:lnTo>
                <a:lnTo>
                  <a:pt x="25" y="359"/>
                </a:lnTo>
                <a:lnTo>
                  <a:pt x="27" y="341"/>
                </a:lnTo>
                <a:lnTo>
                  <a:pt x="27" y="324"/>
                </a:lnTo>
                <a:lnTo>
                  <a:pt x="27" y="307"/>
                </a:lnTo>
                <a:lnTo>
                  <a:pt x="27" y="292"/>
                </a:lnTo>
                <a:lnTo>
                  <a:pt x="27" y="276"/>
                </a:lnTo>
                <a:lnTo>
                  <a:pt x="27" y="261"/>
                </a:lnTo>
                <a:lnTo>
                  <a:pt x="27" y="247"/>
                </a:lnTo>
                <a:lnTo>
                  <a:pt x="27" y="232"/>
                </a:lnTo>
                <a:lnTo>
                  <a:pt x="27" y="221"/>
                </a:lnTo>
                <a:lnTo>
                  <a:pt x="27" y="207"/>
                </a:lnTo>
                <a:lnTo>
                  <a:pt x="27" y="196"/>
                </a:lnTo>
                <a:lnTo>
                  <a:pt x="27" y="184"/>
                </a:lnTo>
                <a:lnTo>
                  <a:pt x="27" y="173"/>
                </a:lnTo>
                <a:lnTo>
                  <a:pt x="27" y="163"/>
                </a:lnTo>
                <a:lnTo>
                  <a:pt x="27" y="153"/>
                </a:lnTo>
                <a:lnTo>
                  <a:pt x="25" y="146"/>
                </a:lnTo>
                <a:lnTo>
                  <a:pt x="25" y="136"/>
                </a:lnTo>
                <a:lnTo>
                  <a:pt x="25" y="128"/>
                </a:lnTo>
                <a:lnTo>
                  <a:pt x="23" y="123"/>
                </a:lnTo>
                <a:lnTo>
                  <a:pt x="23" y="115"/>
                </a:lnTo>
                <a:lnTo>
                  <a:pt x="21" y="109"/>
                </a:lnTo>
                <a:lnTo>
                  <a:pt x="21" y="105"/>
                </a:lnTo>
                <a:lnTo>
                  <a:pt x="20" y="100"/>
                </a:lnTo>
                <a:lnTo>
                  <a:pt x="20" y="96"/>
                </a:lnTo>
                <a:lnTo>
                  <a:pt x="14" y="88"/>
                </a:lnTo>
                <a:lnTo>
                  <a:pt x="12" y="82"/>
                </a:lnTo>
                <a:lnTo>
                  <a:pt x="8" y="75"/>
                </a:lnTo>
                <a:lnTo>
                  <a:pt x="4" y="67"/>
                </a:lnTo>
                <a:lnTo>
                  <a:pt x="2" y="61"/>
                </a:lnTo>
                <a:lnTo>
                  <a:pt x="2" y="54"/>
                </a:lnTo>
                <a:lnTo>
                  <a:pt x="0" y="48"/>
                </a:lnTo>
                <a:lnTo>
                  <a:pt x="0" y="42"/>
                </a:lnTo>
                <a:lnTo>
                  <a:pt x="0" y="34"/>
                </a:lnTo>
                <a:lnTo>
                  <a:pt x="2" y="31"/>
                </a:lnTo>
                <a:lnTo>
                  <a:pt x="2" y="25"/>
                </a:lnTo>
                <a:lnTo>
                  <a:pt x="4" y="19"/>
                </a:lnTo>
                <a:lnTo>
                  <a:pt x="8" y="15"/>
                </a:lnTo>
                <a:lnTo>
                  <a:pt x="12" y="11"/>
                </a:lnTo>
                <a:lnTo>
                  <a:pt x="14" y="8"/>
                </a:lnTo>
                <a:lnTo>
                  <a:pt x="20" y="6"/>
                </a:lnTo>
                <a:lnTo>
                  <a:pt x="23" y="4"/>
                </a:lnTo>
                <a:lnTo>
                  <a:pt x="29" y="2"/>
                </a:lnTo>
                <a:lnTo>
                  <a:pt x="33" y="0"/>
                </a:lnTo>
                <a:lnTo>
                  <a:pt x="37" y="0"/>
                </a:lnTo>
                <a:lnTo>
                  <a:pt x="43" y="0"/>
                </a:lnTo>
                <a:lnTo>
                  <a:pt x="48" y="0"/>
                </a:lnTo>
                <a:lnTo>
                  <a:pt x="52" y="2"/>
                </a:lnTo>
                <a:lnTo>
                  <a:pt x="58" y="4"/>
                </a:lnTo>
                <a:lnTo>
                  <a:pt x="68" y="8"/>
                </a:lnTo>
                <a:lnTo>
                  <a:pt x="79" y="13"/>
                </a:lnTo>
                <a:lnTo>
                  <a:pt x="92" y="21"/>
                </a:lnTo>
                <a:lnTo>
                  <a:pt x="106" y="31"/>
                </a:lnTo>
                <a:lnTo>
                  <a:pt x="119" y="40"/>
                </a:lnTo>
                <a:lnTo>
                  <a:pt x="131" y="52"/>
                </a:lnTo>
                <a:lnTo>
                  <a:pt x="142" y="61"/>
                </a:lnTo>
                <a:lnTo>
                  <a:pt x="154" y="71"/>
                </a:lnTo>
                <a:lnTo>
                  <a:pt x="164" y="81"/>
                </a:lnTo>
                <a:lnTo>
                  <a:pt x="173" y="90"/>
                </a:lnTo>
                <a:lnTo>
                  <a:pt x="192" y="109"/>
                </a:lnTo>
                <a:lnTo>
                  <a:pt x="202" y="119"/>
                </a:lnTo>
                <a:lnTo>
                  <a:pt x="210" y="128"/>
                </a:lnTo>
                <a:lnTo>
                  <a:pt x="215" y="138"/>
                </a:lnTo>
                <a:lnTo>
                  <a:pt x="221" y="148"/>
                </a:lnTo>
                <a:lnTo>
                  <a:pt x="225" y="155"/>
                </a:lnTo>
                <a:lnTo>
                  <a:pt x="227" y="163"/>
                </a:lnTo>
                <a:lnTo>
                  <a:pt x="229" y="169"/>
                </a:lnTo>
                <a:lnTo>
                  <a:pt x="231" y="175"/>
                </a:lnTo>
                <a:lnTo>
                  <a:pt x="229" y="180"/>
                </a:lnTo>
                <a:lnTo>
                  <a:pt x="229" y="186"/>
                </a:lnTo>
                <a:lnTo>
                  <a:pt x="229" y="192"/>
                </a:lnTo>
                <a:lnTo>
                  <a:pt x="227" y="199"/>
                </a:lnTo>
                <a:lnTo>
                  <a:pt x="227" y="207"/>
                </a:lnTo>
                <a:lnTo>
                  <a:pt x="225" y="215"/>
                </a:lnTo>
                <a:lnTo>
                  <a:pt x="223" y="224"/>
                </a:lnTo>
                <a:lnTo>
                  <a:pt x="221" y="234"/>
                </a:lnTo>
                <a:lnTo>
                  <a:pt x="217" y="246"/>
                </a:lnTo>
                <a:lnTo>
                  <a:pt x="215" y="257"/>
                </a:lnTo>
                <a:lnTo>
                  <a:pt x="212" y="269"/>
                </a:lnTo>
                <a:lnTo>
                  <a:pt x="208" y="282"/>
                </a:lnTo>
                <a:lnTo>
                  <a:pt x="206" y="295"/>
                </a:lnTo>
                <a:lnTo>
                  <a:pt x="202" y="311"/>
                </a:lnTo>
                <a:lnTo>
                  <a:pt x="196" y="326"/>
                </a:lnTo>
                <a:lnTo>
                  <a:pt x="192" y="343"/>
                </a:lnTo>
                <a:lnTo>
                  <a:pt x="185" y="378"/>
                </a:lnTo>
                <a:lnTo>
                  <a:pt x="177" y="414"/>
                </a:lnTo>
                <a:lnTo>
                  <a:pt x="169" y="451"/>
                </a:lnTo>
                <a:lnTo>
                  <a:pt x="165" y="489"/>
                </a:lnTo>
                <a:lnTo>
                  <a:pt x="160" y="530"/>
                </a:lnTo>
                <a:lnTo>
                  <a:pt x="158" y="570"/>
                </a:lnTo>
                <a:lnTo>
                  <a:pt x="156" y="612"/>
                </a:lnTo>
                <a:lnTo>
                  <a:pt x="156" y="656"/>
                </a:lnTo>
                <a:lnTo>
                  <a:pt x="152" y="698"/>
                </a:lnTo>
                <a:lnTo>
                  <a:pt x="148" y="741"/>
                </a:lnTo>
                <a:lnTo>
                  <a:pt x="146" y="781"/>
                </a:lnTo>
                <a:lnTo>
                  <a:pt x="146" y="819"/>
                </a:lnTo>
                <a:lnTo>
                  <a:pt x="146" y="838"/>
                </a:lnTo>
                <a:lnTo>
                  <a:pt x="146" y="856"/>
                </a:lnTo>
                <a:lnTo>
                  <a:pt x="148" y="875"/>
                </a:lnTo>
                <a:lnTo>
                  <a:pt x="148" y="892"/>
                </a:lnTo>
                <a:lnTo>
                  <a:pt x="150" y="908"/>
                </a:lnTo>
                <a:lnTo>
                  <a:pt x="152" y="925"/>
                </a:lnTo>
                <a:lnTo>
                  <a:pt x="154" y="940"/>
                </a:lnTo>
                <a:lnTo>
                  <a:pt x="156" y="956"/>
                </a:lnTo>
                <a:lnTo>
                  <a:pt x="158" y="971"/>
                </a:lnTo>
                <a:lnTo>
                  <a:pt x="160" y="988"/>
                </a:lnTo>
                <a:lnTo>
                  <a:pt x="164" y="1003"/>
                </a:lnTo>
                <a:lnTo>
                  <a:pt x="167" y="1019"/>
                </a:lnTo>
                <a:lnTo>
                  <a:pt x="171" y="1032"/>
                </a:lnTo>
                <a:lnTo>
                  <a:pt x="175" y="1048"/>
                </a:lnTo>
                <a:lnTo>
                  <a:pt x="181" y="1061"/>
                </a:lnTo>
                <a:lnTo>
                  <a:pt x="187" y="1074"/>
                </a:lnTo>
                <a:lnTo>
                  <a:pt x="192" y="1088"/>
                </a:lnTo>
                <a:lnTo>
                  <a:pt x="200" y="1101"/>
                </a:lnTo>
                <a:lnTo>
                  <a:pt x="208" y="1113"/>
                </a:lnTo>
                <a:lnTo>
                  <a:pt x="215" y="1126"/>
                </a:lnTo>
                <a:lnTo>
                  <a:pt x="223" y="1138"/>
                </a:lnTo>
                <a:lnTo>
                  <a:pt x="233" y="1151"/>
                </a:lnTo>
                <a:lnTo>
                  <a:pt x="244" y="1163"/>
                </a:lnTo>
                <a:lnTo>
                  <a:pt x="256" y="1176"/>
                </a:lnTo>
                <a:lnTo>
                  <a:pt x="267" y="1188"/>
                </a:lnTo>
                <a:lnTo>
                  <a:pt x="279" y="1199"/>
                </a:lnTo>
                <a:lnTo>
                  <a:pt x="294" y="1209"/>
                </a:lnTo>
                <a:lnTo>
                  <a:pt x="308" y="1218"/>
                </a:lnTo>
                <a:lnTo>
                  <a:pt x="323" y="1226"/>
                </a:lnTo>
                <a:lnTo>
                  <a:pt x="340" y="1234"/>
                </a:lnTo>
                <a:lnTo>
                  <a:pt x="357" y="1240"/>
                </a:lnTo>
                <a:lnTo>
                  <a:pt x="375" y="1245"/>
                </a:lnTo>
                <a:lnTo>
                  <a:pt x="394" y="1251"/>
                </a:lnTo>
                <a:lnTo>
                  <a:pt x="415" y="1255"/>
                </a:lnTo>
                <a:lnTo>
                  <a:pt x="436" y="1259"/>
                </a:lnTo>
                <a:lnTo>
                  <a:pt x="457" y="1263"/>
                </a:lnTo>
                <a:lnTo>
                  <a:pt x="480" y="1264"/>
                </a:lnTo>
                <a:lnTo>
                  <a:pt x="503" y="1266"/>
                </a:lnTo>
                <a:lnTo>
                  <a:pt x="526" y="1266"/>
                </a:lnTo>
                <a:lnTo>
                  <a:pt x="553" y="1266"/>
                </a:lnTo>
                <a:lnTo>
                  <a:pt x="603" y="1266"/>
                </a:lnTo>
                <a:lnTo>
                  <a:pt x="651" y="1264"/>
                </a:lnTo>
                <a:lnTo>
                  <a:pt x="676" y="1263"/>
                </a:lnTo>
                <a:lnTo>
                  <a:pt x="699" y="1261"/>
                </a:lnTo>
                <a:lnTo>
                  <a:pt x="722" y="1259"/>
                </a:lnTo>
                <a:lnTo>
                  <a:pt x="745" y="1255"/>
                </a:lnTo>
                <a:lnTo>
                  <a:pt x="766" y="1253"/>
                </a:lnTo>
                <a:lnTo>
                  <a:pt x="787" y="1249"/>
                </a:lnTo>
                <a:lnTo>
                  <a:pt x="809" y="1245"/>
                </a:lnTo>
                <a:lnTo>
                  <a:pt x="828" y="1240"/>
                </a:lnTo>
                <a:lnTo>
                  <a:pt x="847" y="1234"/>
                </a:lnTo>
                <a:lnTo>
                  <a:pt x="866" y="1228"/>
                </a:lnTo>
                <a:lnTo>
                  <a:pt x="883" y="1222"/>
                </a:lnTo>
                <a:lnTo>
                  <a:pt x="901" y="1215"/>
                </a:lnTo>
                <a:lnTo>
                  <a:pt x="916" y="1207"/>
                </a:lnTo>
                <a:lnTo>
                  <a:pt x="931" y="1197"/>
                </a:lnTo>
                <a:lnTo>
                  <a:pt x="945" y="1188"/>
                </a:lnTo>
                <a:lnTo>
                  <a:pt x="958" y="1176"/>
                </a:lnTo>
                <a:lnTo>
                  <a:pt x="970" y="1163"/>
                </a:lnTo>
                <a:lnTo>
                  <a:pt x="983" y="1147"/>
                </a:lnTo>
                <a:lnTo>
                  <a:pt x="993" y="1132"/>
                </a:lnTo>
                <a:lnTo>
                  <a:pt x="1004" y="1115"/>
                </a:lnTo>
                <a:lnTo>
                  <a:pt x="1014" y="1098"/>
                </a:lnTo>
                <a:lnTo>
                  <a:pt x="1022" y="1076"/>
                </a:lnTo>
                <a:lnTo>
                  <a:pt x="1029" y="1055"/>
                </a:lnTo>
                <a:lnTo>
                  <a:pt x="1037" y="1034"/>
                </a:lnTo>
                <a:lnTo>
                  <a:pt x="1045" y="1009"/>
                </a:lnTo>
                <a:lnTo>
                  <a:pt x="1051" y="984"/>
                </a:lnTo>
                <a:lnTo>
                  <a:pt x="1056" y="957"/>
                </a:lnTo>
                <a:lnTo>
                  <a:pt x="1062" y="929"/>
                </a:lnTo>
                <a:lnTo>
                  <a:pt x="1066" y="900"/>
                </a:lnTo>
                <a:lnTo>
                  <a:pt x="1070" y="873"/>
                </a:lnTo>
                <a:lnTo>
                  <a:pt x="1075" y="848"/>
                </a:lnTo>
                <a:lnTo>
                  <a:pt x="1079" y="825"/>
                </a:lnTo>
                <a:lnTo>
                  <a:pt x="1083" y="804"/>
                </a:lnTo>
                <a:lnTo>
                  <a:pt x="1087" y="785"/>
                </a:lnTo>
                <a:lnTo>
                  <a:pt x="1093" y="767"/>
                </a:lnTo>
                <a:lnTo>
                  <a:pt x="1097" y="752"/>
                </a:lnTo>
                <a:lnTo>
                  <a:pt x="1100" y="737"/>
                </a:lnTo>
                <a:lnTo>
                  <a:pt x="1104" y="723"/>
                </a:lnTo>
                <a:lnTo>
                  <a:pt x="1108" y="714"/>
                </a:lnTo>
                <a:lnTo>
                  <a:pt x="1112" y="704"/>
                </a:lnTo>
                <a:lnTo>
                  <a:pt x="1114" y="696"/>
                </a:lnTo>
                <a:lnTo>
                  <a:pt x="1118" y="689"/>
                </a:lnTo>
                <a:lnTo>
                  <a:pt x="1120" y="685"/>
                </a:lnTo>
                <a:lnTo>
                  <a:pt x="1123" y="681"/>
                </a:lnTo>
                <a:lnTo>
                  <a:pt x="1125" y="683"/>
                </a:lnTo>
                <a:lnTo>
                  <a:pt x="1127" y="685"/>
                </a:lnTo>
                <a:lnTo>
                  <a:pt x="1131" y="689"/>
                </a:lnTo>
                <a:lnTo>
                  <a:pt x="1135" y="693"/>
                </a:lnTo>
                <a:lnTo>
                  <a:pt x="1137" y="700"/>
                </a:lnTo>
                <a:lnTo>
                  <a:pt x="1141" y="708"/>
                </a:lnTo>
                <a:lnTo>
                  <a:pt x="1145" y="718"/>
                </a:lnTo>
                <a:lnTo>
                  <a:pt x="1150" y="729"/>
                </a:lnTo>
                <a:lnTo>
                  <a:pt x="1154" y="741"/>
                </a:lnTo>
                <a:lnTo>
                  <a:pt x="1158" y="754"/>
                </a:lnTo>
                <a:lnTo>
                  <a:pt x="1162" y="769"/>
                </a:lnTo>
                <a:lnTo>
                  <a:pt x="1168" y="785"/>
                </a:lnTo>
                <a:lnTo>
                  <a:pt x="1171" y="804"/>
                </a:lnTo>
                <a:lnTo>
                  <a:pt x="1175" y="821"/>
                </a:lnTo>
                <a:lnTo>
                  <a:pt x="1181" y="842"/>
                </a:lnTo>
                <a:lnTo>
                  <a:pt x="1185" y="863"/>
                </a:lnTo>
                <a:lnTo>
                  <a:pt x="1187" y="885"/>
                </a:lnTo>
                <a:lnTo>
                  <a:pt x="1191" y="906"/>
                </a:lnTo>
                <a:lnTo>
                  <a:pt x="1193" y="927"/>
                </a:lnTo>
                <a:lnTo>
                  <a:pt x="1196" y="946"/>
                </a:lnTo>
                <a:lnTo>
                  <a:pt x="1200" y="965"/>
                </a:lnTo>
                <a:lnTo>
                  <a:pt x="1204" y="984"/>
                </a:lnTo>
                <a:lnTo>
                  <a:pt x="1208" y="1002"/>
                </a:lnTo>
                <a:lnTo>
                  <a:pt x="1214" y="1019"/>
                </a:lnTo>
                <a:lnTo>
                  <a:pt x="1218" y="1036"/>
                </a:lnTo>
                <a:lnTo>
                  <a:pt x="1223" y="1053"/>
                </a:lnTo>
                <a:lnTo>
                  <a:pt x="1229" y="1069"/>
                </a:lnTo>
                <a:lnTo>
                  <a:pt x="1235" y="1082"/>
                </a:lnTo>
                <a:lnTo>
                  <a:pt x="1241" y="1098"/>
                </a:lnTo>
                <a:lnTo>
                  <a:pt x="1246" y="1111"/>
                </a:lnTo>
                <a:lnTo>
                  <a:pt x="1252" y="1124"/>
                </a:lnTo>
                <a:lnTo>
                  <a:pt x="1260" y="1138"/>
                </a:lnTo>
                <a:lnTo>
                  <a:pt x="1266" y="1149"/>
                </a:lnTo>
                <a:lnTo>
                  <a:pt x="1269" y="1161"/>
                </a:lnTo>
                <a:lnTo>
                  <a:pt x="1273" y="1174"/>
                </a:lnTo>
                <a:lnTo>
                  <a:pt x="1275" y="1186"/>
                </a:lnTo>
                <a:lnTo>
                  <a:pt x="1275" y="1197"/>
                </a:lnTo>
                <a:lnTo>
                  <a:pt x="1275" y="1209"/>
                </a:lnTo>
                <a:lnTo>
                  <a:pt x="1273" y="1220"/>
                </a:lnTo>
                <a:lnTo>
                  <a:pt x="1269" y="1232"/>
                </a:lnTo>
                <a:lnTo>
                  <a:pt x="1266" y="1241"/>
                </a:lnTo>
                <a:lnTo>
                  <a:pt x="1260" y="1253"/>
                </a:lnTo>
                <a:lnTo>
                  <a:pt x="1252" y="1263"/>
                </a:lnTo>
                <a:lnTo>
                  <a:pt x="1243" y="1272"/>
                </a:lnTo>
                <a:lnTo>
                  <a:pt x="1233" y="1282"/>
                </a:lnTo>
                <a:lnTo>
                  <a:pt x="1223" y="1289"/>
                </a:lnTo>
                <a:lnTo>
                  <a:pt x="1210" y="1299"/>
                </a:lnTo>
                <a:lnTo>
                  <a:pt x="1198" y="1307"/>
                </a:lnTo>
                <a:lnTo>
                  <a:pt x="1170" y="1320"/>
                </a:lnTo>
                <a:lnTo>
                  <a:pt x="1139" y="1335"/>
                </a:lnTo>
                <a:lnTo>
                  <a:pt x="1110" y="1351"/>
                </a:lnTo>
                <a:lnTo>
                  <a:pt x="1077" y="1364"/>
                </a:lnTo>
                <a:lnTo>
                  <a:pt x="1047" y="1380"/>
                </a:lnTo>
                <a:lnTo>
                  <a:pt x="1014" y="1393"/>
                </a:lnTo>
                <a:lnTo>
                  <a:pt x="949" y="142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Freeform 38"/>
          <p:cNvSpPr/>
          <p:nvPr/>
        </p:nvSpPr>
        <p:spPr>
          <a:xfrm>
            <a:off x="6946920" y="3922560"/>
            <a:ext cx="581040" cy="436680"/>
          </a:xfrm>
          <a:custGeom>
            <a:avLst/>
            <a:gdLst/>
            <a:ahLst/>
            <a:rect l="l" t="t" r="r" b="b"/>
            <a:pathLst>
              <a:path w="731" h="548">
                <a:moveTo>
                  <a:pt x="495" y="80"/>
                </a:moveTo>
                <a:lnTo>
                  <a:pt x="497" y="67"/>
                </a:lnTo>
                <a:lnTo>
                  <a:pt x="497" y="53"/>
                </a:lnTo>
                <a:lnTo>
                  <a:pt x="501" y="42"/>
                </a:lnTo>
                <a:lnTo>
                  <a:pt x="505" y="32"/>
                </a:lnTo>
                <a:lnTo>
                  <a:pt x="511" y="23"/>
                </a:lnTo>
                <a:lnTo>
                  <a:pt x="516" y="15"/>
                </a:lnTo>
                <a:lnTo>
                  <a:pt x="524" y="7"/>
                </a:lnTo>
                <a:lnTo>
                  <a:pt x="534" y="3"/>
                </a:lnTo>
                <a:lnTo>
                  <a:pt x="536" y="0"/>
                </a:lnTo>
                <a:lnTo>
                  <a:pt x="539" y="0"/>
                </a:lnTo>
                <a:lnTo>
                  <a:pt x="543" y="0"/>
                </a:lnTo>
                <a:lnTo>
                  <a:pt x="547" y="0"/>
                </a:lnTo>
                <a:lnTo>
                  <a:pt x="551" y="1"/>
                </a:lnTo>
                <a:lnTo>
                  <a:pt x="557" y="3"/>
                </a:lnTo>
                <a:lnTo>
                  <a:pt x="562" y="5"/>
                </a:lnTo>
                <a:lnTo>
                  <a:pt x="570" y="9"/>
                </a:lnTo>
                <a:lnTo>
                  <a:pt x="578" y="13"/>
                </a:lnTo>
                <a:lnTo>
                  <a:pt x="585" y="17"/>
                </a:lnTo>
                <a:lnTo>
                  <a:pt x="593" y="23"/>
                </a:lnTo>
                <a:lnTo>
                  <a:pt x="603" y="28"/>
                </a:lnTo>
                <a:lnTo>
                  <a:pt x="612" y="34"/>
                </a:lnTo>
                <a:lnTo>
                  <a:pt x="622" y="40"/>
                </a:lnTo>
                <a:lnTo>
                  <a:pt x="633" y="47"/>
                </a:lnTo>
                <a:lnTo>
                  <a:pt x="645" y="55"/>
                </a:lnTo>
                <a:lnTo>
                  <a:pt x="653" y="61"/>
                </a:lnTo>
                <a:lnTo>
                  <a:pt x="662" y="69"/>
                </a:lnTo>
                <a:lnTo>
                  <a:pt x="670" y="76"/>
                </a:lnTo>
                <a:lnTo>
                  <a:pt x="678" y="84"/>
                </a:lnTo>
                <a:lnTo>
                  <a:pt x="683" y="92"/>
                </a:lnTo>
                <a:lnTo>
                  <a:pt x="691" y="97"/>
                </a:lnTo>
                <a:lnTo>
                  <a:pt x="703" y="111"/>
                </a:lnTo>
                <a:lnTo>
                  <a:pt x="712" y="124"/>
                </a:lnTo>
                <a:lnTo>
                  <a:pt x="720" y="138"/>
                </a:lnTo>
                <a:lnTo>
                  <a:pt x="726" y="147"/>
                </a:lnTo>
                <a:lnTo>
                  <a:pt x="731" y="159"/>
                </a:lnTo>
                <a:lnTo>
                  <a:pt x="731" y="163"/>
                </a:lnTo>
                <a:lnTo>
                  <a:pt x="729" y="166"/>
                </a:lnTo>
                <a:lnTo>
                  <a:pt x="729" y="170"/>
                </a:lnTo>
                <a:lnTo>
                  <a:pt x="728" y="174"/>
                </a:lnTo>
                <a:lnTo>
                  <a:pt x="724" y="178"/>
                </a:lnTo>
                <a:lnTo>
                  <a:pt x="722" y="184"/>
                </a:lnTo>
                <a:lnTo>
                  <a:pt x="718" y="188"/>
                </a:lnTo>
                <a:lnTo>
                  <a:pt x="712" y="193"/>
                </a:lnTo>
                <a:lnTo>
                  <a:pt x="708" y="197"/>
                </a:lnTo>
                <a:lnTo>
                  <a:pt x="703" y="203"/>
                </a:lnTo>
                <a:lnTo>
                  <a:pt x="697" y="209"/>
                </a:lnTo>
                <a:lnTo>
                  <a:pt x="689" y="214"/>
                </a:lnTo>
                <a:lnTo>
                  <a:pt x="681" y="220"/>
                </a:lnTo>
                <a:lnTo>
                  <a:pt x="674" y="226"/>
                </a:lnTo>
                <a:lnTo>
                  <a:pt x="666" y="232"/>
                </a:lnTo>
                <a:lnTo>
                  <a:pt x="656" y="239"/>
                </a:lnTo>
                <a:lnTo>
                  <a:pt x="647" y="245"/>
                </a:lnTo>
                <a:lnTo>
                  <a:pt x="637" y="253"/>
                </a:lnTo>
                <a:lnTo>
                  <a:pt x="626" y="260"/>
                </a:lnTo>
                <a:lnTo>
                  <a:pt x="614" y="268"/>
                </a:lnTo>
                <a:lnTo>
                  <a:pt x="603" y="276"/>
                </a:lnTo>
                <a:lnTo>
                  <a:pt x="589" y="284"/>
                </a:lnTo>
                <a:lnTo>
                  <a:pt x="578" y="291"/>
                </a:lnTo>
                <a:lnTo>
                  <a:pt x="562" y="301"/>
                </a:lnTo>
                <a:lnTo>
                  <a:pt x="549" y="308"/>
                </a:lnTo>
                <a:lnTo>
                  <a:pt x="534" y="318"/>
                </a:lnTo>
                <a:lnTo>
                  <a:pt x="518" y="328"/>
                </a:lnTo>
                <a:lnTo>
                  <a:pt x="503" y="337"/>
                </a:lnTo>
                <a:lnTo>
                  <a:pt x="486" y="347"/>
                </a:lnTo>
                <a:lnTo>
                  <a:pt x="468" y="358"/>
                </a:lnTo>
                <a:lnTo>
                  <a:pt x="451" y="368"/>
                </a:lnTo>
                <a:lnTo>
                  <a:pt x="434" y="379"/>
                </a:lnTo>
                <a:lnTo>
                  <a:pt x="395" y="401"/>
                </a:lnTo>
                <a:lnTo>
                  <a:pt x="359" y="422"/>
                </a:lnTo>
                <a:lnTo>
                  <a:pt x="322" y="439"/>
                </a:lnTo>
                <a:lnTo>
                  <a:pt x="290" y="456"/>
                </a:lnTo>
                <a:lnTo>
                  <a:pt x="257" y="472"/>
                </a:lnTo>
                <a:lnTo>
                  <a:pt x="226" y="485"/>
                </a:lnTo>
                <a:lnTo>
                  <a:pt x="198" y="498"/>
                </a:lnTo>
                <a:lnTo>
                  <a:pt x="171" y="508"/>
                </a:lnTo>
                <a:lnTo>
                  <a:pt x="144" y="518"/>
                </a:lnTo>
                <a:lnTo>
                  <a:pt x="119" y="527"/>
                </a:lnTo>
                <a:lnTo>
                  <a:pt x="96" y="533"/>
                </a:lnTo>
                <a:lnTo>
                  <a:pt x="75" y="539"/>
                </a:lnTo>
                <a:lnTo>
                  <a:pt x="54" y="543"/>
                </a:lnTo>
                <a:lnTo>
                  <a:pt x="34" y="546"/>
                </a:lnTo>
                <a:lnTo>
                  <a:pt x="17" y="548"/>
                </a:lnTo>
                <a:lnTo>
                  <a:pt x="0" y="548"/>
                </a:lnTo>
                <a:lnTo>
                  <a:pt x="0" y="510"/>
                </a:lnTo>
                <a:lnTo>
                  <a:pt x="31" y="487"/>
                </a:lnTo>
                <a:lnTo>
                  <a:pt x="61" y="466"/>
                </a:lnTo>
                <a:lnTo>
                  <a:pt x="92" y="447"/>
                </a:lnTo>
                <a:lnTo>
                  <a:pt x="121" y="426"/>
                </a:lnTo>
                <a:lnTo>
                  <a:pt x="148" y="406"/>
                </a:lnTo>
                <a:lnTo>
                  <a:pt x="175" y="389"/>
                </a:lnTo>
                <a:lnTo>
                  <a:pt x="200" y="370"/>
                </a:lnTo>
                <a:lnTo>
                  <a:pt x="225" y="353"/>
                </a:lnTo>
                <a:lnTo>
                  <a:pt x="248" y="337"/>
                </a:lnTo>
                <a:lnTo>
                  <a:pt x="271" y="320"/>
                </a:lnTo>
                <a:lnTo>
                  <a:pt x="292" y="305"/>
                </a:lnTo>
                <a:lnTo>
                  <a:pt x="311" y="291"/>
                </a:lnTo>
                <a:lnTo>
                  <a:pt x="332" y="276"/>
                </a:lnTo>
                <a:lnTo>
                  <a:pt x="349" y="262"/>
                </a:lnTo>
                <a:lnTo>
                  <a:pt x="367" y="249"/>
                </a:lnTo>
                <a:lnTo>
                  <a:pt x="384" y="237"/>
                </a:lnTo>
                <a:lnTo>
                  <a:pt x="399" y="224"/>
                </a:lnTo>
                <a:lnTo>
                  <a:pt x="415" y="213"/>
                </a:lnTo>
                <a:lnTo>
                  <a:pt x="428" y="201"/>
                </a:lnTo>
                <a:lnTo>
                  <a:pt x="440" y="189"/>
                </a:lnTo>
                <a:lnTo>
                  <a:pt x="451" y="180"/>
                </a:lnTo>
                <a:lnTo>
                  <a:pt x="461" y="168"/>
                </a:lnTo>
                <a:lnTo>
                  <a:pt x="470" y="159"/>
                </a:lnTo>
                <a:lnTo>
                  <a:pt x="476" y="149"/>
                </a:lnTo>
                <a:lnTo>
                  <a:pt x="484" y="140"/>
                </a:lnTo>
                <a:lnTo>
                  <a:pt x="489" y="130"/>
                </a:lnTo>
                <a:lnTo>
                  <a:pt x="493" y="120"/>
                </a:lnTo>
                <a:lnTo>
                  <a:pt x="495" y="113"/>
                </a:lnTo>
                <a:lnTo>
                  <a:pt x="497" y="103"/>
                </a:lnTo>
                <a:lnTo>
                  <a:pt x="497" y="95"/>
                </a:lnTo>
                <a:lnTo>
                  <a:pt x="497" y="88"/>
                </a:lnTo>
                <a:lnTo>
                  <a:pt x="495" y="8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Freeform 39"/>
          <p:cNvSpPr/>
          <p:nvPr/>
        </p:nvSpPr>
        <p:spPr>
          <a:xfrm>
            <a:off x="6002280" y="3254400"/>
            <a:ext cx="619200" cy="1868400"/>
          </a:xfrm>
          <a:custGeom>
            <a:avLst/>
            <a:gdLst/>
            <a:ahLst/>
            <a:rect l="l" t="t" r="r" b="b"/>
            <a:pathLst>
              <a:path w="781" h="2355">
                <a:moveTo>
                  <a:pt x="495" y="39"/>
                </a:moveTo>
                <a:lnTo>
                  <a:pt x="504" y="31"/>
                </a:lnTo>
                <a:lnTo>
                  <a:pt x="514" y="21"/>
                </a:lnTo>
                <a:lnTo>
                  <a:pt x="522" y="15"/>
                </a:lnTo>
                <a:lnTo>
                  <a:pt x="531" y="10"/>
                </a:lnTo>
                <a:lnTo>
                  <a:pt x="541" y="6"/>
                </a:lnTo>
                <a:lnTo>
                  <a:pt x="551" y="2"/>
                </a:lnTo>
                <a:lnTo>
                  <a:pt x="560" y="0"/>
                </a:lnTo>
                <a:lnTo>
                  <a:pt x="570" y="0"/>
                </a:lnTo>
                <a:lnTo>
                  <a:pt x="572" y="0"/>
                </a:lnTo>
                <a:lnTo>
                  <a:pt x="576" y="2"/>
                </a:lnTo>
                <a:lnTo>
                  <a:pt x="579" y="2"/>
                </a:lnTo>
                <a:lnTo>
                  <a:pt x="583" y="4"/>
                </a:lnTo>
                <a:lnTo>
                  <a:pt x="589" y="8"/>
                </a:lnTo>
                <a:lnTo>
                  <a:pt x="593" y="10"/>
                </a:lnTo>
                <a:lnTo>
                  <a:pt x="600" y="14"/>
                </a:lnTo>
                <a:lnTo>
                  <a:pt x="606" y="17"/>
                </a:lnTo>
                <a:lnTo>
                  <a:pt x="614" y="23"/>
                </a:lnTo>
                <a:lnTo>
                  <a:pt x="622" y="27"/>
                </a:lnTo>
                <a:lnTo>
                  <a:pt x="629" y="33"/>
                </a:lnTo>
                <a:lnTo>
                  <a:pt x="639" y="39"/>
                </a:lnTo>
                <a:lnTo>
                  <a:pt x="648" y="44"/>
                </a:lnTo>
                <a:lnTo>
                  <a:pt x="660" y="52"/>
                </a:lnTo>
                <a:lnTo>
                  <a:pt x="670" y="58"/>
                </a:lnTo>
                <a:lnTo>
                  <a:pt x="681" y="65"/>
                </a:lnTo>
                <a:lnTo>
                  <a:pt x="693" y="75"/>
                </a:lnTo>
                <a:lnTo>
                  <a:pt x="702" y="85"/>
                </a:lnTo>
                <a:lnTo>
                  <a:pt x="712" y="94"/>
                </a:lnTo>
                <a:lnTo>
                  <a:pt x="721" y="102"/>
                </a:lnTo>
                <a:lnTo>
                  <a:pt x="729" y="110"/>
                </a:lnTo>
                <a:lnTo>
                  <a:pt x="737" y="117"/>
                </a:lnTo>
                <a:lnTo>
                  <a:pt x="743" y="125"/>
                </a:lnTo>
                <a:lnTo>
                  <a:pt x="748" y="133"/>
                </a:lnTo>
                <a:lnTo>
                  <a:pt x="754" y="138"/>
                </a:lnTo>
                <a:lnTo>
                  <a:pt x="760" y="144"/>
                </a:lnTo>
                <a:lnTo>
                  <a:pt x="764" y="150"/>
                </a:lnTo>
                <a:lnTo>
                  <a:pt x="768" y="156"/>
                </a:lnTo>
                <a:lnTo>
                  <a:pt x="771" y="159"/>
                </a:lnTo>
                <a:lnTo>
                  <a:pt x="775" y="163"/>
                </a:lnTo>
                <a:lnTo>
                  <a:pt x="777" y="167"/>
                </a:lnTo>
                <a:lnTo>
                  <a:pt x="781" y="169"/>
                </a:lnTo>
                <a:lnTo>
                  <a:pt x="779" y="175"/>
                </a:lnTo>
                <a:lnTo>
                  <a:pt x="777" y="181"/>
                </a:lnTo>
                <a:lnTo>
                  <a:pt x="775" y="188"/>
                </a:lnTo>
                <a:lnTo>
                  <a:pt x="771" y="196"/>
                </a:lnTo>
                <a:lnTo>
                  <a:pt x="766" y="202"/>
                </a:lnTo>
                <a:lnTo>
                  <a:pt x="760" y="209"/>
                </a:lnTo>
                <a:lnTo>
                  <a:pt x="752" y="215"/>
                </a:lnTo>
                <a:lnTo>
                  <a:pt x="743" y="221"/>
                </a:lnTo>
                <a:lnTo>
                  <a:pt x="741" y="223"/>
                </a:lnTo>
                <a:lnTo>
                  <a:pt x="739" y="225"/>
                </a:lnTo>
                <a:lnTo>
                  <a:pt x="737" y="227"/>
                </a:lnTo>
                <a:lnTo>
                  <a:pt x="735" y="230"/>
                </a:lnTo>
                <a:lnTo>
                  <a:pt x="731" y="234"/>
                </a:lnTo>
                <a:lnTo>
                  <a:pt x="729" y="238"/>
                </a:lnTo>
                <a:lnTo>
                  <a:pt x="727" y="242"/>
                </a:lnTo>
                <a:lnTo>
                  <a:pt x="727" y="248"/>
                </a:lnTo>
                <a:lnTo>
                  <a:pt x="725" y="253"/>
                </a:lnTo>
                <a:lnTo>
                  <a:pt x="723" y="259"/>
                </a:lnTo>
                <a:lnTo>
                  <a:pt x="721" y="267"/>
                </a:lnTo>
                <a:lnTo>
                  <a:pt x="720" y="273"/>
                </a:lnTo>
                <a:lnTo>
                  <a:pt x="716" y="288"/>
                </a:lnTo>
                <a:lnTo>
                  <a:pt x="714" y="305"/>
                </a:lnTo>
                <a:lnTo>
                  <a:pt x="710" y="324"/>
                </a:lnTo>
                <a:lnTo>
                  <a:pt x="708" y="346"/>
                </a:lnTo>
                <a:lnTo>
                  <a:pt x="706" y="369"/>
                </a:lnTo>
                <a:lnTo>
                  <a:pt x="702" y="394"/>
                </a:lnTo>
                <a:lnTo>
                  <a:pt x="700" y="418"/>
                </a:lnTo>
                <a:lnTo>
                  <a:pt x="698" y="447"/>
                </a:lnTo>
                <a:lnTo>
                  <a:pt x="695" y="476"/>
                </a:lnTo>
                <a:lnTo>
                  <a:pt x="693" y="507"/>
                </a:lnTo>
                <a:lnTo>
                  <a:pt x="693" y="524"/>
                </a:lnTo>
                <a:lnTo>
                  <a:pt x="691" y="541"/>
                </a:lnTo>
                <a:lnTo>
                  <a:pt x="691" y="559"/>
                </a:lnTo>
                <a:lnTo>
                  <a:pt x="689" y="578"/>
                </a:lnTo>
                <a:lnTo>
                  <a:pt x="689" y="597"/>
                </a:lnTo>
                <a:lnTo>
                  <a:pt x="687" y="618"/>
                </a:lnTo>
                <a:lnTo>
                  <a:pt x="687" y="639"/>
                </a:lnTo>
                <a:lnTo>
                  <a:pt x="687" y="660"/>
                </a:lnTo>
                <a:lnTo>
                  <a:pt x="685" y="683"/>
                </a:lnTo>
                <a:lnTo>
                  <a:pt x="685" y="708"/>
                </a:lnTo>
                <a:lnTo>
                  <a:pt x="685" y="731"/>
                </a:lnTo>
                <a:lnTo>
                  <a:pt x="685" y="758"/>
                </a:lnTo>
                <a:lnTo>
                  <a:pt x="685" y="783"/>
                </a:lnTo>
                <a:lnTo>
                  <a:pt x="685" y="810"/>
                </a:lnTo>
                <a:lnTo>
                  <a:pt x="685" y="839"/>
                </a:lnTo>
                <a:lnTo>
                  <a:pt x="685" y="867"/>
                </a:lnTo>
                <a:lnTo>
                  <a:pt x="685" y="896"/>
                </a:lnTo>
                <a:lnTo>
                  <a:pt x="685" y="927"/>
                </a:lnTo>
                <a:lnTo>
                  <a:pt x="685" y="958"/>
                </a:lnTo>
                <a:lnTo>
                  <a:pt x="685" y="988"/>
                </a:lnTo>
                <a:lnTo>
                  <a:pt x="685" y="1021"/>
                </a:lnTo>
                <a:lnTo>
                  <a:pt x="685" y="1056"/>
                </a:lnTo>
                <a:lnTo>
                  <a:pt x="685" y="1088"/>
                </a:lnTo>
                <a:lnTo>
                  <a:pt x="687" y="1123"/>
                </a:lnTo>
                <a:lnTo>
                  <a:pt x="687" y="1159"/>
                </a:lnTo>
                <a:lnTo>
                  <a:pt x="687" y="1196"/>
                </a:lnTo>
                <a:lnTo>
                  <a:pt x="689" y="1232"/>
                </a:lnTo>
                <a:lnTo>
                  <a:pt x="689" y="1270"/>
                </a:lnTo>
                <a:lnTo>
                  <a:pt x="691" y="1309"/>
                </a:lnTo>
                <a:lnTo>
                  <a:pt x="691" y="1349"/>
                </a:lnTo>
                <a:lnTo>
                  <a:pt x="693" y="1389"/>
                </a:lnTo>
                <a:lnTo>
                  <a:pt x="693" y="1432"/>
                </a:lnTo>
                <a:lnTo>
                  <a:pt x="693" y="1472"/>
                </a:lnTo>
                <a:lnTo>
                  <a:pt x="693" y="1514"/>
                </a:lnTo>
                <a:lnTo>
                  <a:pt x="693" y="1554"/>
                </a:lnTo>
                <a:lnTo>
                  <a:pt x="693" y="1593"/>
                </a:lnTo>
                <a:lnTo>
                  <a:pt x="691" y="1629"/>
                </a:lnTo>
                <a:lnTo>
                  <a:pt x="691" y="1666"/>
                </a:lnTo>
                <a:lnTo>
                  <a:pt x="689" y="1702"/>
                </a:lnTo>
                <a:lnTo>
                  <a:pt x="689" y="1737"/>
                </a:lnTo>
                <a:lnTo>
                  <a:pt x="687" y="1769"/>
                </a:lnTo>
                <a:lnTo>
                  <a:pt x="685" y="1802"/>
                </a:lnTo>
                <a:lnTo>
                  <a:pt x="685" y="1833"/>
                </a:lnTo>
                <a:lnTo>
                  <a:pt x="683" y="1861"/>
                </a:lnTo>
                <a:lnTo>
                  <a:pt x="681" y="1890"/>
                </a:lnTo>
                <a:lnTo>
                  <a:pt x="679" y="1919"/>
                </a:lnTo>
                <a:lnTo>
                  <a:pt x="677" y="1944"/>
                </a:lnTo>
                <a:lnTo>
                  <a:pt x="673" y="1971"/>
                </a:lnTo>
                <a:lnTo>
                  <a:pt x="672" y="1994"/>
                </a:lnTo>
                <a:lnTo>
                  <a:pt x="670" y="2019"/>
                </a:lnTo>
                <a:lnTo>
                  <a:pt x="666" y="2040"/>
                </a:lnTo>
                <a:lnTo>
                  <a:pt x="664" y="2061"/>
                </a:lnTo>
                <a:lnTo>
                  <a:pt x="660" y="2082"/>
                </a:lnTo>
                <a:lnTo>
                  <a:pt x="658" y="2101"/>
                </a:lnTo>
                <a:lnTo>
                  <a:pt x="654" y="2119"/>
                </a:lnTo>
                <a:lnTo>
                  <a:pt x="650" y="2136"/>
                </a:lnTo>
                <a:lnTo>
                  <a:pt x="647" y="2153"/>
                </a:lnTo>
                <a:lnTo>
                  <a:pt x="645" y="2168"/>
                </a:lnTo>
                <a:lnTo>
                  <a:pt x="641" y="2182"/>
                </a:lnTo>
                <a:lnTo>
                  <a:pt x="637" y="2195"/>
                </a:lnTo>
                <a:lnTo>
                  <a:pt x="631" y="2207"/>
                </a:lnTo>
                <a:lnTo>
                  <a:pt x="627" y="2218"/>
                </a:lnTo>
                <a:lnTo>
                  <a:pt x="624" y="2228"/>
                </a:lnTo>
                <a:lnTo>
                  <a:pt x="620" y="2238"/>
                </a:lnTo>
                <a:lnTo>
                  <a:pt x="608" y="2251"/>
                </a:lnTo>
                <a:lnTo>
                  <a:pt x="597" y="2264"/>
                </a:lnTo>
                <a:lnTo>
                  <a:pt x="587" y="2278"/>
                </a:lnTo>
                <a:lnTo>
                  <a:pt x="577" y="2289"/>
                </a:lnTo>
                <a:lnTo>
                  <a:pt x="568" y="2299"/>
                </a:lnTo>
                <a:lnTo>
                  <a:pt x="558" y="2309"/>
                </a:lnTo>
                <a:lnTo>
                  <a:pt x="551" y="2318"/>
                </a:lnTo>
                <a:lnTo>
                  <a:pt x="543" y="2326"/>
                </a:lnTo>
                <a:lnTo>
                  <a:pt x="535" y="2332"/>
                </a:lnTo>
                <a:lnTo>
                  <a:pt x="529" y="2337"/>
                </a:lnTo>
                <a:lnTo>
                  <a:pt x="522" y="2343"/>
                </a:lnTo>
                <a:lnTo>
                  <a:pt x="516" y="2347"/>
                </a:lnTo>
                <a:lnTo>
                  <a:pt x="510" y="2351"/>
                </a:lnTo>
                <a:lnTo>
                  <a:pt x="504" y="2353"/>
                </a:lnTo>
                <a:lnTo>
                  <a:pt x="501" y="2355"/>
                </a:lnTo>
                <a:lnTo>
                  <a:pt x="495" y="2355"/>
                </a:lnTo>
                <a:lnTo>
                  <a:pt x="491" y="2355"/>
                </a:lnTo>
                <a:lnTo>
                  <a:pt x="485" y="2353"/>
                </a:lnTo>
                <a:lnTo>
                  <a:pt x="481" y="2351"/>
                </a:lnTo>
                <a:lnTo>
                  <a:pt x="478" y="2349"/>
                </a:lnTo>
                <a:lnTo>
                  <a:pt x="474" y="2347"/>
                </a:lnTo>
                <a:lnTo>
                  <a:pt x="472" y="2343"/>
                </a:lnTo>
                <a:lnTo>
                  <a:pt x="468" y="2337"/>
                </a:lnTo>
                <a:lnTo>
                  <a:pt x="464" y="2333"/>
                </a:lnTo>
                <a:lnTo>
                  <a:pt x="462" y="2328"/>
                </a:lnTo>
                <a:lnTo>
                  <a:pt x="460" y="2320"/>
                </a:lnTo>
                <a:lnTo>
                  <a:pt x="456" y="2312"/>
                </a:lnTo>
                <a:lnTo>
                  <a:pt x="455" y="2305"/>
                </a:lnTo>
                <a:lnTo>
                  <a:pt x="453" y="2295"/>
                </a:lnTo>
                <a:lnTo>
                  <a:pt x="449" y="2285"/>
                </a:lnTo>
                <a:lnTo>
                  <a:pt x="447" y="2274"/>
                </a:lnTo>
                <a:lnTo>
                  <a:pt x="445" y="2262"/>
                </a:lnTo>
                <a:lnTo>
                  <a:pt x="443" y="2251"/>
                </a:lnTo>
                <a:lnTo>
                  <a:pt x="439" y="2239"/>
                </a:lnTo>
                <a:lnTo>
                  <a:pt x="433" y="2226"/>
                </a:lnTo>
                <a:lnTo>
                  <a:pt x="430" y="2214"/>
                </a:lnTo>
                <a:lnTo>
                  <a:pt x="422" y="2201"/>
                </a:lnTo>
                <a:lnTo>
                  <a:pt x="416" y="2190"/>
                </a:lnTo>
                <a:lnTo>
                  <a:pt x="407" y="2176"/>
                </a:lnTo>
                <a:lnTo>
                  <a:pt x="399" y="2165"/>
                </a:lnTo>
                <a:lnTo>
                  <a:pt x="389" y="2151"/>
                </a:lnTo>
                <a:lnTo>
                  <a:pt x="378" y="2138"/>
                </a:lnTo>
                <a:lnTo>
                  <a:pt x="366" y="2124"/>
                </a:lnTo>
                <a:lnTo>
                  <a:pt x="355" y="2111"/>
                </a:lnTo>
                <a:lnTo>
                  <a:pt x="341" y="2097"/>
                </a:lnTo>
                <a:lnTo>
                  <a:pt x="328" y="2084"/>
                </a:lnTo>
                <a:lnTo>
                  <a:pt x="312" y="2069"/>
                </a:lnTo>
                <a:lnTo>
                  <a:pt x="297" y="2055"/>
                </a:lnTo>
                <a:lnTo>
                  <a:pt x="280" y="2040"/>
                </a:lnTo>
                <a:lnTo>
                  <a:pt x="266" y="2026"/>
                </a:lnTo>
                <a:lnTo>
                  <a:pt x="253" y="2015"/>
                </a:lnTo>
                <a:lnTo>
                  <a:pt x="241" y="2003"/>
                </a:lnTo>
                <a:lnTo>
                  <a:pt x="230" y="1992"/>
                </a:lnTo>
                <a:lnTo>
                  <a:pt x="220" y="1982"/>
                </a:lnTo>
                <a:lnTo>
                  <a:pt x="211" y="1973"/>
                </a:lnTo>
                <a:lnTo>
                  <a:pt x="203" y="1965"/>
                </a:lnTo>
                <a:lnTo>
                  <a:pt x="197" y="1957"/>
                </a:lnTo>
                <a:lnTo>
                  <a:pt x="192" y="1952"/>
                </a:lnTo>
                <a:lnTo>
                  <a:pt x="188" y="1944"/>
                </a:lnTo>
                <a:lnTo>
                  <a:pt x="184" y="1940"/>
                </a:lnTo>
                <a:lnTo>
                  <a:pt x="182" y="1934"/>
                </a:lnTo>
                <a:lnTo>
                  <a:pt x="182" y="1931"/>
                </a:lnTo>
                <a:lnTo>
                  <a:pt x="182" y="1927"/>
                </a:lnTo>
                <a:lnTo>
                  <a:pt x="184" y="1925"/>
                </a:lnTo>
                <a:lnTo>
                  <a:pt x="188" y="1923"/>
                </a:lnTo>
                <a:lnTo>
                  <a:pt x="190" y="1921"/>
                </a:lnTo>
                <a:lnTo>
                  <a:pt x="193" y="1921"/>
                </a:lnTo>
                <a:lnTo>
                  <a:pt x="199" y="1919"/>
                </a:lnTo>
                <a:lnTo>
                  <a:pt x="203" y="1919"/>
                </a:lnTo>
                <a:lnTo>
                  <a:pt x="209" y="1919"/>
                </a:lnTo>
                <a:lnTo>
                  <a:pt x="216" y="1921"/>
                </a:lnTo>
                <a:lnTo>
                  <a:pt x="224" y="1921"/>
                </a:lnTo>
                <a:lnTo>
                  <a:pt x="232" y="1923"/>
                </a:lnTo>
                <a:lnTo>
                  <a:pt x="240" y="1925"/>
                </a:lnTo>
                <a:lnTo>
                  <a:pt x="249" y="1927"/>
                </a:lnTo>
                <a:lnTo>
                  <a:pt x="259" y="1929"/>
                </a:lnTo>
                <a:lnTo>
                  <a:pt x="270" y="1931"/>
                </a:lnTo>
                <a:lnTo>
                  <a:pt x="282" y="1932"/>
                </a:lnTo>
                <a:lnTo>
                  <a:pt x="295" y="1934"/>
                </a:lnTo>
                <a:lnTo>
                  <a:pt x="309" y="1938"/>
                </a:lnTo>
                <a:lnTo>
                  <a:pt x="336" y="1948"/>
                </a:lnTo>
                <a:lnTo>
                  <a:pt x="362" y="1955"/>
                </a:lnTo>
                <a:lnTo>
                  <a:pt x="387" y="1961"/>
                </a:lnTo>
                <a:lnTo>
                  <a:pt x="408" y="1965"/>
                </a:lnTo>
                <a:lnTo>
                  <a:pt x="420" y="1967"/>
                </a:lnTo>
                <a:lnTo>
                  <a:pt x="432" y="1969"/>
                </a:lnTo>
                <a:lnTo>
                  <a:pt x="441" y="1969"/>
                </a:lnTo>
                <a:lnTo>
                  <a:pt x="451" y="1969"/>
                </a:lnTo>
                <a:lnTo>
                  <a:pt x="458" y="1969"/>
                </a:lnTo>
                <a:lnTo>
                  <a:pt x="468" y="1967"/>
                </a:lnTo>
                <a:lnTo>
                  <a:pt x="476" y="1967"/>
                </a:lnTo>
                <a:lnTo>
                  <a:pt x="483" y="1965"/>
                </a:lnTo>
                <a:lnTo>
                  <a:pt x="485" y="1963"/>
                </a:lnTo>
                <a:lnTo>
                  <a:pt x="489" y="1963"/>
                </a:lnTo>
                <a:lnTo>
                  <a:pt x="493" y="1959"/>
                </a:lnTo>
                <a:lnTo>
                  <a:pt x="495" y="1957"/>
                </a:lnTo>
                <a:lnTo>
                  <a:pt x="499" y="1954"/>
                </a:lnTo>
                <a:lnTo>
                  <a:pt x="501" y="1948"/>
                </a:lnTo>
                <a:lnTo>
                  <a:pt x="504" y="1942"/>
                </a:lnTo>
                <a:lnTo>
                  <a:pt x="506" y="1934"/>
                </a:lnTo>
                <a:lnTo>
                  <a:pt x="508" y="1927"/>
                </a:lnTo>
                <a:lnTo>
                  <a:pt x="510" y="1919"/>
                </a:lnTo>
                <a:lnTo>
                  <a:pt x="514" y="1909"/>
                </a:lnTo>
                <a:lnTo>
                  <a:pt x="516" y="1898"/>
                </a:lnTo>
                <a:lnTo>
                  <a:pt x="518" y="1886"/>
                </a:lnTo>
                <a:lnTo>
                  <a:pt x="520" y="1875"/>
                </a:lnTo>
                <a:lnTo>
                  <a:pt x="522" y="1861"/>
                </a:lnTo>
                <a:lnTo>
                  <a:pt x="524" y="1846"/>
                </a:lnTo>
                <a:lnTo>
                  <a:pt x="526" y="1833"/>
                </a:lnTo>
                <a:lnTo>
                  <a:pt x="526" y="1815"/>
                </a:lnTo>
                <a:lnTo>
                  <a:pt x="528" y="1798"/>
                </a:lnTo>
                <a:lnTo>
                  <a:pt x="529" y="1781"/>
                </a:lnTo>
                <a:lnTo>
                  <a:pt x="531" y="1762"/>
                </a:lnTo>
                <a:lnTo>
                  <a:pt x="531" y="1742"/>
                </a:lnTo>
                <a:lnTo>
                  <a:pt x="533" y="1721"/>
                </a:lnTo>
                <a:lnTo>
                  <a:pt x="535" y="1700"/>
                </a:lnTo>
                <a:lnTo>
                  <a:pt x="535" y="1677"/>
                </a:lnTo>
                <a:lnTo>
                  <a:pt x="537" y="1654"/>
                </a:lnTo>
                <a:lnTo>
                  <a:pt x="539" y="1631"/>
                </a:lnTo>
                <a:lnTo>
                  <a:pt x="539" y="1604"/>
                </a:lnTo>
                <a:lnTo>
                  <a:pt x="541" y="1579"/>
                </a:lnTo>
                <a:lnTo>
                  <a:pt x="543" y="1552"/>
                </a:lnTo>
                <a:lnTo>
                  <a:pt x="543" y="1524"/>
                </a:lnTo>
                <a:lnTo>
                  <a:pt x="545" y="1495"/>
                </a:lnTo>
                <a:lnTo>
                  <a:pt x="549" y="1384"/>
                </a:lnTo>
                <a:lnTo>
                  <a:pt x="552" y="1274"/>
                </a:lnTo>
                <a:lnTo>
                  <a:pt x="554" y="1165"/>
                </a:lnTo>
                <a:lnTo>
                  <a:pt x="554" y="1057"/>
                </a:lnTo>
                <a:lnTo>
                  <a:pt x="556" y="950"/>
                </a:lnTo>
                <a:lnTo>
                  <a:pt x="556" y="844"/>
                </a:lnTo>
                <a:lnTo>
                  <a:pt x="556" y="741"/>
                </a:lnTo>
                <a:lnTo>
                  <a:pt x="556" y="637"/>
                </a:lnTo>
                <a:lnTo>
                  <a:pt x="556" y="612"/>
                </a:lnTo>
                <a:lnTo>
                  <a:pt x="556" y="589"/>
                </a:lnTo>
                <a:lnTo>
                  <a:pt x="556" y="568"/>
                </a:lnTo>
                <a:lnTo>
                  <a:pt x="556" y="545"/>
                </a:lnTo>
                <a:lnTo>
                  <a:pt x="556" y="524"/>
                </a:lnTo>
                <a:lnTo>
                  <a:pt x="556" y="503"/>
                </a:lnTo>
                <a:lnTo>
                  <a:pt x="554" y="484"/>
                </a:lnTo>
                <a:lnTo>
                  <a:pt x="554" y="465"/>
                </a:lnTo>
                <a:lnTo>
                  <a:pt x="554" y="445"/>
                </a:lnTo>
                <a:lnTo>
                  <a:pt x="554" y="428"/>
                </a:lnTo>
                <a:lnTo>
                  <a:pt x="552" y="411"/>
                </a:lnTo>
                <a:lnTo>
                  <a:pt x="552" y="394"/>
                </a:lnTo>
                <a:lnTo>
                  <a:pt x="551" y="378"/>
                </a:lnTo>
                <a:lnTo>
                  <a:pt x="551" y="363"/>
                </a:lnTo>
                <a:lnTo>
                  <a:pt x="551" y="349"/>
                </a:lnTo>
                <a:lnTo>
                  <a:pt x="549" y="336"/>
                </a:lnTo>
                <a:lnTo>
                  <a:pt x="549" y="323"/>
                </a:lnTo>
                <a:lnTo>
                  <a:pt x="547" y="309"/>
                </a:lnTo>
                <a:lnTo>
                  <a:pt x="547" y="298"/>
                </a:lnTo>
                <a:lnTo>
                  <a:pt x="545" y="286"/>
                </a:lnTo>
                <a:lnTo>
                  <a:pt x="545" y="276"/>
                </a:lnTo>
                <a:lnTo>
                  <a:pt x="543" y="267"/>
                </a:lnTo>
                <a:lnTo>
                  <a:pt x="543" y="257"/>
                </a:lnTo>
                <a:lnTo>
                  <a:pt x="541" y="250"/>
                </a:lnTo>
                <a:lnTo>
                  <a:pt x="539" y="242"/>
                </a:lnTo>
                <a:lnTo>
                  <a:pt x="539" y="236"/>
                </a:lnTo>
                <a:lnTo>
                  <a:pt x="537" y="228"/>
                </a:lnTo>
                <a:lnTo>
                  <a:pt x="537" y="223"/>
                </a:lnTo>
                <a:lnTo>
                  <a:pt x="535" y="219"/>
                </a:lnTo>
                <a:lnTo>
                  <a:pt x="533" y="215"/>
                </a:lnTo>
                <a:lnTo>
                  <a:pt x="533" y="211"/>
                </a:lnTo>
                <a:lnTo>
                  <a:pt x="531" y="209"/>
                </a:lnTo>
                <a:lnTo>
                  <a:pt x="528" y="204"/>
                </a:lnTo>
                <a:lnTo>
                  <a:pt x="520" y="200"/>
                </a:lnTo>
                <a:lnTo>
                  <a:pt x="512" y="196"/>
                </a:lnTo>
                <a:lnTo>
                  <a:pt x="504" y="194"/>
                </a:lnTo>
                <a:lnTo>
                  <a:pt x="495" y="190"/>
                </a:lnTo>
                <a:lnTo>
                  <a:pt x="483" y="188"/>
                </a:lnTo>
                <a:lnTo>
                  <a:pt x="472" y="188"/>
                </a:lnTo>
                <a:lnTo>
                  <a:pt x="458" y="186"/>
                </a:lnTo>
                <a:lnTo>
                  <a:pt x="443" y="186"/>
                </a:lnTo>
                <a:lnTo>
                  <a:pt x="428" y="186"/>
                </a:lnTo>
                <a:lnTo>
                  <a:pt x="410" y="186"/>
                </a:lnTo>
                <a:lnTo>
                  <a:pt x="393" y="188"/>
                </a:lnTo>
                <a:lnTo>
                  <a:pt x="374" y="188"/>
                </a:lnTo>
                <a:lnTo>
                  <a:pt x="353" y="190"/>
                </a:lnTo>
                <a:lnTo>
                  <a:pt x="332" y="192"/>
                </a:lnTo>
                <a:lnTo>
                  <a:pt x="309" y="196"/>
                </a:lnTo>
                <a:lnTo>
                  <a:pt x="284" y="200"/>
                </a:lnTo>
                <a:lnTo>
                  <a:pt x="259" y="204"/>
                </a:lnTo>
                <a:lnTo>
                  <a:pt x="236" y="209"/>
                </a:lnTo>
                <a:lnTo>
                  <a:pt x="213" y="213"/>
                </a:lnTo>
                <a:lnTo>
                  <a:pt x="192" y="217"/>
                </a:lnTo>
                <a:lnTo>
                  <a:pt x="170" y="219"/>
                </a:lnTo>
                <a:lnTo>
                  <a:pt x="149" y="223"/>
                </a:lnTo>
                <a:lnTo>
                  <a:pt x="130" y="227"/>
                </a:lnTo>
                <a:lnTo>
                  <a:pt x="111" y="228"/>
                </a:lnTo>
                <a:lnTo>
                  <a:pt x="94" y="232"/>
                </a:lnTo>
                <a:lnTo>
                  <a:pt x="76" y="234"/>
                </a:lnTo>
                <a:lnTo>
                  <a:pt x="59" y="238"/>
                </a:lnTo>
                <a:lnTo>
                  <a:pt x="44" y="240"/>
                </a:lnTo>
                <a:lnTo>
                  <a:pt x="28" y="242"/>
                </a:lnTo>
                <a:lnTo>
                  <a:pt x="13" y="244"/>
                </a:lnTo>
                <a:lnTo>
                  <a:pt x="0" y="248"/>
                </a:lnTo>
                <a:lnTo>
                  <a:pt x="0" y="196"/>
                </a:lnTo>
                <a:lnTo>
                  <a:pt x="0" y="144"/>
                </a:lnTo>
                <a:lnTo>
                  <a:pt x="26" y="140"/>
                </a:lnTo>
                <a:lnTo>
                  <a:pt x="55" y="136"/>
                </a:lnTo>
                <a:lnTo>
                  <a:pt x="82" y="133"/>
                </a:lnTo>
                <a:lnTo>
                  <a:pt x="107" y="129"/>
                </a:lnTo>
                <a:lnTo>
                  <a:pt x="134" y="125"/>
                </a:lnTo>
                <a:lnTo>
                  <a:pt x="157" y="121"/>
                </a:lnTo>
                <a:lnTo>
                  <a:pt x="180" y="117"/>
                </a:lnTo>
                <a:lnTo>
                  <a:pt x="203" y="113"/>
                </a:lnTo>
                <a:lnTo>
                  <a:pt x="226" y="110"/>
                </a:lnTo>
                <a:lnTo>
                  <a:pt x="245" y="108"/>
                </a:lnTo>
                <a:lnTo>
                  <a:pt x="266" y="104"/>
                </a:lnTo>
                <a:lnTo>
                  <a:pt x="286" y="100"/>
                </a:lnTo>
                <a:lnTo>
                  <a:pt x="303" y="96"/>
                </a:lnTo>
                <a:lnTo>
                  <a:pt x="322" y="92"/>
                </a:lnTo>
                <a:lnTo>
                  <a:pt x="337" y="90"/>
                </a:lnTo>
                <a:lnTo>
                  <a:pt x="353" y="86"/>
                </a:lnTo>
                <a:lnTo>
                  <a:pt x="368" y="83"/>
                </a:lnTo>
                <a:lnTo>
                  <a:pt x="384" y="79"/>
                </a:lnTo>
                <a:lnTo>
                  <a:pt x="397" y="77"/>
                </a:lnTo>
                <a:lnTo>
                  <a:pt x="408" y="73"/>
                </a:lnTo>
                <a:lnTo>
                  <a:pt x="420" y="69"/>
                </a:lnTo>
                <a:lnTo>
                  <a:pt x="432" y="67"/>
                </a:lnTo>
                <a:lnTo>
                  <a:pt x="441" y="63"/>
                </a:lnTo>
                <a:lnTo>
                  <a:pt x="451" y="62"/>
                </a:lnTo>
                <a:lnTo>
                  <a:pt x="458" y="58"/>
                </a:lnTo>
                <a:lnTo>
                  <a:pt x="466" y="56"/>
                </a:lnTo>
                <a:lnTo>
                  <a:pt x="474" y="52"/>
                </a:lnTo>
                <a:lnTo>
                  <a:pt x="480" y="50"/>
                </a:lnTo>
                <a:lnTo>
                  <a:pt x="483" y="46"/>
                </a:lnTo>
                <a:lnTo>
                  <a:pt x="489" y="44"/>
                </a:lnTo>
                <a:lnTo>
                  <a:pt x="493" y="42"/>
                </a:lnTo>
                <a:lnTo>
                  <a:pt x="495" y="3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27"/>
                                        </p:tgtEl>
                                        <p:attrNameLst>
                                          <p:attrName>style.visibility</p:attrName>
                                        </p:attrNameLst>
                                      </p:cBhvr>
                                      <p:to>
                                        <p:strVal val="visible"/>
                                      </p:to>
                                    </p:set>
                                    <p:anim calcmode="lin" valueType="num">
                                      <p:cBhvr additive="base">
                                        <p:cTn id="149" dur="500" fill="hold"/>
                                        <p:tgtEl>
                                          <p:spTgt spid="127"/>
                                        </p:tgtEl>
                                        <p:attrNameLst>
                                          <p:attrName>ppt_x</p:attrName>
                                        </p:attrNameLst>
                                      </p:cBhvr>
                                      <p:tavLst>
                                        <p:tav tm="0">
                                          <p:val>
                                            <p:strVal val="0-#ppt_w/2"/>
                                          </p:val>
                                        </p:tav>
                                        <p:tav tm="100000">
                                          <p:val>
                                            <p:strVal val="#ppt_x"/>
                                          </p:val>
                                        </p:tav>
                                      </p:tavLst>
                                    </p:anim>
                                    <p:anim calcmode="lin" valueType="num">
                                      <p:cBhvr additive="base">
                                        <p:cTn id="150"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28"/>
                                        </p:tgtEl>
                                        <p:attrNameLst>
                                          <p:attrName>style.visibility</p:attrName>
                                        </p:attrNameLst>
                                      </p:cBhvr>
                                      <p:to>
                                        <p:strVal val="visible"/>
                                      </p:to>
                                    </p:set>
                                    <p:animEffect filter="wipe(up)" transition="in">
                                      <p:cBhvr additive="repl">
                                        <p:cTn id="155" dur="500"/>
                                        <p:tgtEl>
                                          <p:spTgt spid="128"/>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29"/>
                                        </p:tgtEl>
                                        <p:attrNameLst>
                                          <p:attrName>style.visibility</p:attrName>
                                        </p:attrNameLst>
                                      </p:cBhvr>
                                      <p:to>
                                        <p:strVal val="visible"/>
                                      </p:to>
                                    </p:set>
                                    <p:animEffect filter="wipe(up)" transition="in">
                                      <p:cBhvr additive="repl">
                                        <p:cTn id="160" dur="500"/>
                                        <p:tgtEl>
                                          <p:spTgt spid="129"/>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8" presetSubtype="6">
                                  <p:stCondLst>
                                    <p:cond delay="0"/>
                                  </p:stCondLst>
                                  <p:childTnLst>
                                    <p:set>
                                      <p:cBhvr>
                                        <p:cTn id="164" dur="1" fill="hold">
                                          <p:stCondLst>
                                            <p:cond delay="0"/>
                                          </p:stCondLst>
                                        </p:cTn>
                                        <p:tgtEl>
                                          <p:spTgt spid="138"/>
                                        </p:tgtEl>
                                        <p:attrNameLst>
                                          <p:attrName>style.visibility</p:attrName>
                                        </p:attrNameLst>
                                      </p:cBhvr>
                                      <p:to>
                                        <p:strVal val="visible"/>
                                      </p:to>
                                    </p:set>
                                    <p:animEffect filter="strips(downRight)" transition="in">
                                      <p:cBhvr additive="repl">
                                        <p:cTn id="165" dur="500"/>
                                        <p:tgtEl>
                                          <p:spTgt spid="138"/>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31"/>
                                        </p:tgtEl>
                                        <p:attrNameLst>
                                          <p:attrName>style.visibility</p:attrName>
                                        </p:attrNameLst>
                                      </p:cBhvr>
                                      <p:to>
                                        <p:strVal val="visible"/>
                                      </p:to>
                                    </p:set>
                                    <p:animEffect filter="wipe(up)" transition="in">
                                      <p:cBhvr additive="repl">
                                        <p:cTn id="170" dur="500"/>
                                        <p:tgtEl>
                                          <p:spTgt spid="131"/>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30"/>
                                        </p:tgtEl>
                                        <p:attrNameLst>
                                          <p:attrName>style.visibility</p:attrName>
                                        </p:attrNameLst>
                                      </p:cBhvr>
                                      <p:to>
                                        <p:strVal val="visible"/>
                                      </p:to>
                                    </p:set>
                                    <p:animEffect filter="wipe(left)" transition="in">
                                      <p:cBhvr additive="repl">
                                        <p:cTn id="175" dur="500"/>
                                        <p:tgtEl>
                                          <p:spTgt spid="130"/>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32"/>
                                        </p:tgtEl>
                                        <p:attrNameLst>
                                          <p:attrName>style.visibility</p:attrName>
                                        </p:attrNameLst>
                                      </p:cBhvr>
                                      <p:to>
                                        <p:strVal val="visible"/>
                                      </p:to>
                                    </p:set>
                                    <p:animEffect filter="wipe(up)" transition="in">
                                      <p:cBhvr additive="repl">
                                        <p:cTn id="180" dur="500"/>
                                        <p:tgtEl>
                                          <p:spTgt spid="132"/>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35"/>
                                        </p:tgtEl>
                                        <p:attrNameLst>
                                          <p:attrName>style.visibility</p:attrName>
                                        </p:attrNameLst>
                                      </p:cBhvr>
                                      <p:to>
                                        <p:strVal val="visible"/>
                                      </p:to>
                                    </p:set>
                                    <p:animEffect filter="wipe(up)" transition="in">
                                      <p:cBhvr additive="repl">
                                        <p:cTn id="185" dur="500"/>
                                        <p:tgtEl>
                                          <p:spTgt spid="135"/>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33"/>
                                        </p:tgtEl>
                                        <p:attrNameLst>
                                          <p:attrName>style.visibility</p:attrName>
                                        </p:attrNameLst>
                                      </p:cBhvr>
                                      <p:to>
                                        <p:strVal val="visible"/>
                                      </p:to>
                                    </p:set>
                                    <p:animEffect filter="wipe(up)" transition="in">
                                      <p:cBhvr additive="repl">
                                        <p:cTn id="190" dur="500"/>
                                        <p:tgtEl>
                                          <p:spTgt spid="133"/>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8" presetSubtype="6">
                                  <p:stCondLst>
                                    <p:cond delay="0"/>
                                  </p:stCondLst>
                                  <p:childTnLst>
                                    <p:set>
                                      <p:cBhvr>
                                        <p:cTn id="194" dur="1" fill="hold">
                                          <p:stCondLst>
                                            <p:cond delay="0"/>
                                          </p:stCondLst>
                                        </p:cTn>
                                        <p:tgtEl>
                                          <p:spTgt spid="134"/>
                                        </p:tgtEl>
                                        <p:attrNameLst>
                                          <p:attrName>style.visibility</p:attrName>
                                        </p:attrNameLst>
                                      </p:cBhvr>
                                      <p:to>
                                        <p:strVal val="visible"/>
                                      </p:to>
                                    </p:set>
                                    <p:animEffect filter="strips(downRight)" transition="in">
                                      <p:cBhvr additive="repl">
                                        <p:cTn id="195" dur="500"/>
                                        <p:tgtEl>
                                          <p:spTgt spid="134"/>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1">
                                  <p:stCondLst>
                                    <p:cond delay="0"/>
                                  </p:stCondLst>
                                  <p:childTnLst>
                                    <p:set>
                                      <p:cBhvr>
                                        <p:cTn id="199" dur="1" fill="hold">
                                          <p:stCondLst>
                                            <p:cond delay="0"/>
                                          </p:stCondLst>
                                        </p:cTn>
                                        <p:tgtEl>
                                          <p:spTgt spid="137"/>
                                        </p:tgtEl>
                                        <p:attrNameLst>
                                          <p:attrName>style.visibility</p:attrName>
                                        </p:attrNameLst>
                                      </p:cBhvr>
                                      <p:to>
                                        <p:strVal val="visible"/>
                                      </p:to>
                                    </p:set>
                                    <p:animEffect filter="wipe(up)" transition="in">
                                      <p:cBhvr additive="repl">
                                        <p:cTn id="200" dur="500"/>
                                        <p:tgtEl>
                                          <p:spTgt spid="137"/>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8" presetSubtype="6">
                                  <p:stCondLst>
                                    <p:cond delay="0"/>
                                  </p:stCondLst>
                                  <p:childTnLst>
                                    <p:set>
                                      <p:cBhvr>
                                        <p:cTn id="204" dur="1" fill="hold">
                                          <p:stCondLst>
                                            <p:cond delay="0"/>
                                          </p:stCondLst>
                                        </p:cTn>
                                        <p:tgtEl>
                                          <p:spTgt spid="136"/>
                                        </p:tgtEl>
                                        <p:attrNameLst>
                                          <p:attrName>style.visibility</p:attrName>
                                        </p:attrNameLst>
                                      </p:cBhvr>
                                      <p:to>
                                        <p:strVal val="visible"/>
                                      </p:to>
                                    </p:set>
                                    <p:animEffect filter="strips(downRight)" transition="in">
                                      <p:cBhvr additive="repl">
                                        <p:cTn id="205" dur="500"/>
                                        <p:tgtEl>
                                          <p:spTgt spid="136"/>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53" presetSubtype="16">
                                  <p:stCondLst>
                                    <p:cond delay="0"/>
                                  </p:stCondLst>
                                  <p:childTnLst>
                                    <p:set>
                                      <p:cBhvr>
                                        <p:cTn id="209" dur="1" fill="hold">
                                          <p:stCondLst>
                                            <p:cond delay="0"/>
                                          </p:stCondLst>
                                        </p:cTn>
                                        <p:tgtEl>
                                          <p:spTgt spid="124"/>
                                        </p:tgtEl>
                                        <p:attrNameLst>
                                          <p:attrName>style.visibility</p:attrName>
                                        </p:attrNameLst>
                                      </p:cBhvr>
                                      <p:to>
                                        <p:strVal val="visible"/>
                                      </p:to>
                                    </p:set>
                                    <p:anim calcmode="lin" valueType="num">
                                      <p:cBhvr additive="repl">
                                        <p:cTn id="210" dur="500" fill="hold"/>
                                        <p:tgtEl>
                                          <p:spTgt spid="124"/>
                                        </p:tgtEl>
                                        <p:attrNameLst>
                                          <p:attrName>ppt_w</p:attrName>
                                        </p:attrNameLst>
                                      </p:cBhvr>
                                      <p:tavLst>
                                        <p:tav tm="0">
                                          <p:val>
                                            <p:fltVal val="0"/>
                                          </p:val>
                                        </p:tav>
                                        <p:tav tm="100000">
                                          <p:val>
                                            <p:strVal val="#ppt_w"/>
                                          </p:val>
                                        </p:tav>
                                      </p:tavLst>
                                    </p:anim>
                                    <p:anim calcmode="lin" valueType="num">
                                      <p:cBhvr additive="repl">
                                        <p:cTn id="211" dur="500" fill="hold"/>
                                        <p:tgtEl>
                                          <p:spTgt spid="124"/>
                                        </p:tgtEl>
                                        <p:attrNameLst>
                                          <p:attrName>ppt_h</p:attrName>
                                        </p:attrNameLst>
                                      </p:cBhvr>
                                      <p:tavLst>
                                        <p:tav tm="0">
                                          <p:val>
                                            <p:fltVal val="0"/>
                                          </p:val>
                                        </p:tav>
                                        <p:tav tm="100000">
                                          <p:val>
                                            <p:strVal val="#ppt_h"/>
                                          </p:val>
                                        </p:tav>
                                      </p:tavLst>
                                    </p:anim>
                                    <p:animEffect filter="fade" transition="in">
                                      <p:cBhvr additive="repl">
                                        <p:cTn id="21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沼</a:t>
            </a:r>
            <a:endParaRPr b="0" lang="en-US" sz="8000" spc="-1" strike="noStrike">
              <a:solidFill>
                <a:srgbClr val="000000"/>
              </a:solidFill>
              <a:latin typeface="Calibri"/>
            </a:endParaRPr>
          </a:p>
        </p:txBody>
      </p:sp>
      <p:graphicFrame>
        <p:nvGraphicFramePr>
          <p:cNvPr id="140"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41" name="组合 8"/>
          <p:cNvGrpSpPr/>
          <p:nvPr/>
        </p:nvGrpSpPr>
        <p:grpSpPr>
          <a:xfrm>
            <a:off x="1274760" y="3975120"/>
            <a:ext cx="2840040" cy="1571760"/>
            <a:chOff x="1274760" y="3975120"/>
            <a:chExt cx="2840040" cy="1571760"/>
          </a:xfrm>
        </p:grpSpPr>
        <p:pic>
          <p:nvPicPr>
            <p:cNvPr id="142" name="图示 4" descr=""/>
            <p:cNvPicPr/>
            <p:nvPr/>
          </p:nvPicPr>
          <p:blipFill>
            <a:blip r:embed="rId1"/>
            <a:stretch/>
          </p:blipFill>
          <p:spPr>
            <a:xfrm>
              <a:off x="1274760" y="3975120"/>
              <a:ext cx="2840040" cy="1571760"/>
            </a:xfrm>
            <a:prstGeom prst="rect">
              <a:avLst/>
            </a:prstGeom>
            <a:ln w="0">
              <a:noFill/>
            </a:ln>
          </p:spPr>
        </p:pic>
        <p:sp>
          <p:nvSpPr>
            <p:cNvPr id="143" name="矩形 2"/>
            <p:cNvSpPr/>
            <p:nvPr/>
          </p:nvSpPr>
          <p:spPr>
            <a:xfrm>
              <a:off x="1321920" y="4587840"/>
              <a:ext cx="27666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窄右宽，右部“口”略扁宽。</a:t>
              </a:r>
              <a:endParaRPr b="0" lang="en-US" sz="2000" spc="-1" strike="noStrike">
                <a:solidFill>
                  <a:srgbClr val="000000"/>
                </a:solidFill>
                <a:latin typeface="Calibri"/>
              </a:endParaRPr>
            </a:p>
          </p:txBody>
        </p:sp>
      </p:grpSp>
      <p:sp>
        <p:nvSpPr>
          <p:cNvPr id="144" name="矩形 3"/>
          <p:cNvSpPr/>
          <p:nvPr/>
        </p:nvSpPr>
        <p:spPr>
          <a:xfrm>
            <a:off x="1982880" y="1868400"/>
            <a:ext cx="1422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zhǎo</a:t>
            </a:r>
            <a:endParaRPr b="0" lang="en-US" sz="4800" spc="-1" strike="noStrike">
              <a:solidFill>
                <a:srgbClr val="000000"/>
              </a:solidFill>
              <a:latin typeface="Calibri"/>
            </a:endParaRPr>
          </a:p>
        </p:txBody>
      </p:sp>
      <p:sp>
        <p:nvSpPr>
          <p:cNvPr id="145" name="Freeform 29"/>
          <p:cNvSpPr/>
          <p:nvPr/>
        </p:nvSpPr>
        <p:spPr>
          <a:xfrm>
            <a:off x="6480000" y="3017880"/>
            <a:ext cx="1135080" cy="1044360"/>
          </a:xfrm>
          <a:custGeom>
            <a:avLst/>
            <a:gdLst/>
            <a:ahLst/>
            <a:rect l="l" t="t" r="r" b="b"/>
            <a:pathLst>
              <a:path w="1428" h="1317">
                <a:moveTo>
                  <a:pt x="1167" y="0"/>
                </a:moveTo>
                <a:lnTo>
                  <a:pt x="1171" y="0"/>
                </a:lnTo>
                <a:lnTo>
                  <a:pt x="1177" y="2"/>
                </a:lnTo>
                <a:lnTo>
                  <a:pt x="1182" y="2"/>
                </a:lnTo>
                <a:lnTo>
                  <a:pt x="1190" y="6"/>
                </a:lnTo>
                <a:lnTo>
                  <a:pt x="1198" y="8"/>
                </a:lnTo>
                <a:lnTo>
                  <a:pt x="1205" y="12"/>
                </a:lnTo>
                <a:lnTo>
                  <a:pt x="1213" y="16"/>
                </a:lnTo>
                <a:lnTo>
                  <a:pt x="1223" y="21"/>
                </a:lnTo>
                <a:lnTo>
                  <a:pt x="1232" y="27"/>
                </a:lnTo>
                <a:lnTo>
                  <a:pt x="1242" y="33"/>
                </a:lnTo>
                <a:lnTo>
                  <a:pt x="1253" y="41"/>
                </a:lnTo>
                <a:lnTo>
                  <a:pt x="1263" y="50"/>
                </a:lnTo>
                <a:lnTo>
                  <a:pt x="1276" y="58"/>
                </a:lnTo>
                <a:lnTo>
                  <a:pt x="1288" y="69"/>
                </a:lnTo>
                <a:lnTo>
                  <a:pt x="1301" y="79"/>
                </a:lnTo>
                <a:lnTo>
                  <a:pt x="1315" y="92"/>
                </a:lnTo>
                <a:lnTo>
                  <a:pt x="1328" y="104"/>
                </a:lnTo>
                <a:lnTo>
                  <a:pt x="1342" y="115"/>
                </a:lnTo>
                <a:lnTo>
                  <a:pt x="1353" y="125"/>
                </a:lnTo>
                <a:lnTo>
                  <a:pt x="1363" y="135"/>
                </a:lnTo>
                <a:lnTo>
                  <a:pt x="1374" y="144"/>
                </a:lnTo>
                <a:lnTo>
                  <a:pt x="1382" y="154"/>
                </a:lnTo>
                <a:lnTo>
                  <a:pt x="1392" y="161"/>
                </a:lnTo>
                <a:lnTo>
                  <a:pt x="1399" y="169"/>
                </a:lnTo>
                <a:lnTo>
                  <a:pt x="1405" y="177"/>
                </a:lnTo>
                <a:lnTo>
                  <a:pt x="1411" y="183"/>
                </a:lnTo>
                <a:lnTo>
                  <a:pt x="1417" y="188"/>
                </a:lnTo>
                <a:lnTo>
                  <a:pt x="1420" y="194"/>
                </a:lnTo>
                <a:lnTo>
                  <a:pt x="1422" y="198"/>
                </a:lnTo>
                <a:lnTo>
                  <a:pt x="1426" y="202"/>
                </a:lnTo>
                <a:lnTo>
                  <a:pt x="1426" y="206"/>
                </a:lnTo>
                <a:lnTo>
                  <a:pt x="1428" y="209"/>
                </a:lnTo>
                <a:lnTo>
                  <a:pt x="1426" y="213"/>
                </a:lnTo>
                <a:lnTo>
                  <a:pt x="1424" y="219"/>
                </a:lnTo>
                <a:lnTo>
                  <a:pt x="1422" y="227"/>
                </a:lnTo>
                <a:lnTo>
                  <a:pt x="1419" y="234"/>
                </a:lnTo>
                <a:lnTo>
                  <a:pt x="1415" y="242"/>
                </a:lnTo>
                <a:lnTo>
                  <a:pt x="1411" y="248"/>
                </a:lnTo>
                <a:lnTo>
                  <a:pt x="1407" y="255"/>
                </a:lnTo>
                <a:lnTo>
                  <a:pt x="1403" y="261"/>
                </a:lnTo>
                <a:lnTo>
                  <a:pt x="1397" y="263"/>
                </a:lnTo>
                <a:lnTo>
                  <a:pt x="1394" y="269"/>
                </a:lnTo>
                <a:lnTo>
                  <a:pt x="1388" y="275"/>
                </a:lnTo>
                <a:lnTo>
                  <a:pt x="1384" y="282"/>
                </a:lnTo>
                <a:lnTo>
                  <a:pt x="1378" y="292"/>
                </a:lnTo>
                <a:lnTo>
                  <a:pt x="1374" y="303"/>
                </a:lnTo>
                <a:lnTo>
                  <a:pt x="1369" y="315"/>
                </a:lnTo>
                <a:lnTo>
                  <a:pt x="1365" y="328"/>
                </a:lnTo>
                <a:lnTo>
                  <a:pt x="1359" y="344"/>
                </a:lnTo>
                <a:lnTo>
                  <a:pt x="1355" y="361"/>
                </a:lnTo>
                <a:lnTo>
                  <a:pt x="1349" y="380"/>
                </a:lnTo>
                <a:lnTo>
                  <a:pt x="1346" y="399"/>
                </a:lnTo>
                <a:lnTo>
                  <a:pt x="1342" y="420"/>
                </a:lnTo>
                <a:lnTo>
                  <a:pt x="1336" y="443"/>
                </a:lnTo>
                <a:lnTo>
                  <a:pt x="1332" y="468"/>
                </a:lnTo>
                <a:lnTo>
                  <a:pt x="1328" y="495"/>
                </a:lnTo>
                <a:lnTo>
                  <a:pt x="1313" y="547"/>
                </a:lnTo>
                <a:lnTo>
                  <a:pt x="1300" y="599"/>
                </a:lnTo>
                <a:lnTo>
                  <a:pt x="1284" y="651"/>
                </a:lnTo>
                <a:lnTo>
                  <a:pt x="1269" y="703"/>
                </a:lnTo>
                <a:lnTo>
                  <a:pt x="1252" y="754"/>
                </a:lnTo>
                <a:lnTo>
                  <a:pt x="1232" y="804"/>
                </a:lnTo>
                <a:lnTo>
                  <a:pt x="1213" y="858"/>
                </a:lnTo>
                <a:lnTo>
                  <a:pt x="1202" y="885"/>
                </a:lnTo>
                <a:lnTo>
                  <a:pt x="1192" y="912"/>
                </a:lnTo>
                <a:lnTo>
                  <a:pt x="1179" y="937"/>
                </a:lnTo>
                <a:lnTo>
                  <a:pt x="1167" y="962"/>
                </a:lnTo>
                <a:lnTo>
                  <a:pt x="1156" y="987"/>
                </a:lnTo>
                <a:lnTo>
                  <a:pt x="1142" y="1011"/>
                </a:lnTo>
                <a:lnTo>
                  <a:pt x="1131" y="1033"/>
                </a:lnTo>
                <a:lnTo>
                  <a:pt x="1117" y="1056"/>
                </a:lnTo>
                <a:lnTo>
                  <a:pt x="1104" y="1077"/>
                </a:lnTo>
                <a:lnTo>
                  <a:pt x="1090" y="1096"/>
                </a:lnTo>
                <a:lnTo>
                  <a:pt x="1077" y="1115"/>
                </a:lnTo>
                <a:lnTo>
                  <a:pt x="1063" y="1132"/>
                </a:lnTo>
                <a:lnTo>
                  <a:pt x="1050" y="1150"/>
                </a:lnTo>
                <a:lnTo>
                  <a:pt x="1035" y="1167"/>
                </a:lnTo>
                <a:lnTo>
                  <a:pt x="1021" y="1182"/>
                </a:lnTo>
                <a:lnTo>
                  <a:pt x="1008" y="1196"/>
                </a:lnTo>
                <a:lnTo>
                  <a:pt x="994" y="1209"/>
                </a:lnTo>
                <a:lnTo>
                  <a:pt x="981" y="1223"/>
                </a:lnTo>
                <a:lnTo>
                  <a:pt x="965" y="1234"/>
                </a:lnTo>
                <a:lnTo>
                  <a:pt x="954" y="1246"/>
                </a:lnTo>
                <a:lnTo>
                  <a:pt x="940" y="1257"/>
                </a:lnTo>
                <a:lnTo>
                  <a:pt x="929" y="1267"/>
                </a:lnTo>
                <a:lnTo>
                  <a:pt x="917" y="1276"/>
                </a:lnTo>
                <a:lnTo>
                  <a:pt x="906" y="1284"/>
                </a:lnTo>
                <a:lnTo>
                  <a:pt x="896" y="1292"/>
                </a:lnTo>
                <a:lnTo>
                  <a:pt x="885" y="1297"/>
                </a:lnTo>
                <a:lnTo>
                  <a:pt x="875" y="1303"/>
                </a:lnTo>
                <a:lnTo>
                  <a:pt x="868" y="1309"/>
                </a:lnTo>
                <a:lnTo>
                  <a:pt x="858" y="1313"/>
                </a:lnTo>
                <a:lnTo>
                  <a:pt x="848" y="1315"/>
                </a:lnTo>
                <a:lnTo>
                  <a:pt x="841" y="1317"/>
                </a:lnTo>
                <a:lnTo>
                  <a:pt x="833" y="1317"/>
                </a:lnTo>
                <a:lnTo>
                  <a:pt x="825" y="1317"/>
                </a:lnTo>
                <a:lnTo>
                  <a:pt x="820" y="1315"/>
                </a:lnTo>
                <a:lnTo>
                  <a:pt x="812" y="1311"/>
                </a:lnTo>
                <a:lnTo>
                  <a:pt x="806" y="1309"/>
                </a:lnTo>
                <a:lnTo>
                  <a:pt x="802" y="1305"/>
                </a:lnTo>
                <a:lnTo>
                  <a:pt x="798" y="1301"/>
                </a:lnTo>
                <a:lnTo>
                  <a:pt x="795" y="1297"/>
                </a:lnTo>
                <a:lnTo>
                  <a:pt x="791" y="1294"/>
                </a:lnTo>
                <a:lnTo>
                  <a:pt x="789" y="1290"/>
                </a:lnTo>
                <a:lnTo>
                  <a:pt x="789" y="1284"/>
                </a:lnTo>
                <a:lnTo>
                  <a:pt x="787" y="1280"/>
                </a:lnTo>
                <a:lnTo>
                  <a:pt x="787" y="1274"/>
                </a:lnTo>
                <a:lnTo>
                  <a:pt x="787" y="1269"/>
                </a:lnTo>
                <a:lnTo>
                  <a:pt x="787" y="1263"/>
                </a:lnTo>
                <a:lnTo>
                  <a:pt x="791" y="1249"/>
                </a:lnTo>
                <a:lnTo>
                  <a:pt x="795" y="1236"/>
                </a:lnTo>
                <a:lnTo>
                  <a:pt x="795" y="1228"/>
                </a:lnTo>
                <a:lnTo>
                  <a:pt x="796" y="1221"/>
                </a:lnTo>
                <a:lnTo>
                  <a:pt x="795" y="1211"/>
                </a:lnTo>
                <a:lnTo>
                  <a:pt x="795" y="1201"/>
                </a:lnTo>
                <a:lnTo>
                  <a:pt x="791" y="1192"/>
                </a:lnTo>
                <a:lnTo>
                  <a:pt x="787" y="1182"/>
                </a:lnTo>
                <a:lnTo>
                  <a:pt x="783" y="1171"/>
                </a:lnTo>
                <a:lnTo>
                  <a:pt x="777" y="1159"/>
                </a:lnTo>
                <a:lnTo>
                  <a:pt x="770" y="1148"/>
                </a:lnTo>
                <a:lnTo>
                  <a:pt x="762" y="1136"/>
                </a:lnTo>
                <a:lnTo>
                  <a:pt x="752" y="1123"/>
                </a:lnTo>
                <a:lnTo>
                  <a:pt x="743" y="1109"/>
                </a:lnTo>
                <a:lnTo>
                  <a:pt x="733" y="1096"/>
                </a:lnTo>
                <a:lnTo>
                  <a:pt x="722" y="1082"/>
                </a:lnTo>
                <a:lnTo>
                  <a:pt x="708" y="1069"/>
                </a:lnTo>
                <a:lnTo>
                  <a:pt x="695" y="1054"/>
                </a:lnTo>
                <a:lnTo>
                  <a:pt x="681" y="1042"/>
                </a:lnTo>
                <a:lnTo>
                  <a:pt x="668" y="1029"/>
                </a:lnTo>
                <a:lnTo>
                  <a:pt x="656" y="1019"/>
                </a:lnTo>
                <a:lnTo>
                  <a:pt x="647" y="1008"/>
                </a:lnTo>
                <a:lnTo>
                  <a:pt x="637" y="996"/>
                </a:lnTo>
                <a:lnTo>
                  <a:pt x="628" y="987"/>
                </a:lnTo>
                <a:lnTo>
                  <a:pt x="620" y="977"/>
                </a:lnTo>
                <a:lnTo>
                  <a:pt x="612" y="969"/>
                </a:lnTo>
                <a:lnTo>
                  <a:pt x="606" y="960"/>
                </a:lnTo>
                <a:lnTo>
                  <a:pt x="603" y="954"/>
                </a:lnTo>
                <a:lnTo>
                  <a:pt x="599" y="946"/>
                </a:lnTo>
                <a:lnTo>
                  <a:pt x="595" y="940"/>
                </a:lnTo>
                <a:lnTo>
                  <a:pt x="595" y="935"/>
                </a:lnTo>
                <a:lnTo>
                  <a:pt x="593" y="931"/>
                </a:lnTo>
                <a:lnTo>
                  <a:pt x="595" y="927"/>
                </a:lnTo>
                <a:lnTo>
                  <a:pt x="597" y="923"/>
                </a:lnTo>
                <a:lnTo>
                  <a:pt x="597" y="921"/>
                </a:lnTo>
                <a:lnTo>
                  <a:pt x="597" y="919"/>
                </a:lnTo>
                <a:lnTo>
                  <a:pt x="601" y="919"/>
                </a:lnTo>
                <a:lnTo>
                  <a:pt x="603" y="917"/>
                </a:lnTo>
                <a:lnTo>
                  <a:pt x="606" y="919"/>
                </a:lnTo>
                <a:lnTo>
                  <a:pt x="612" y="919"/>
                </a:lnTo>
                <a:lnTo>
                  <a:pt x="618" y="919"/>
                </a:lnTo>
                <a:lnTo>
                  <a:pt x="626" y="921"/>
                </a:lnTo>
                <a:lnTo>
                  <a:pt x="633" y="923"/>
                </a:lnTo>
                <a:lnTo>
                  <a:pt x="643" y="927"/>
                </a:lnTo>
                <a:lnTo>
                  <a:pt x="653" y="929"/>
                </a:lnTo>
                <a:lnTo>
                  <a:pt x="664" y="933"/>
                </a:lnTo>
                <a:lnTo>
                  <a:pt x="676" y="937"/>
                </a:lnTo>
                <a:lnTo>
                  <a:pt x="689" y="940"/>
                </a:lnTo>
                <a:lnTo>
                  <a:pt x="704" y="944"/>
                </a:lnTo>
                <a:lnTo>
                  <a:pt x="720" y="950"/>
                </a:lnTo>
                <a:lnTo>
                  <a:pt x="733" y="958"/>
                </a:lnTo>
                <a:lnTo>
                  <a:pt x="747" y="963"/>
                </a:lnTo>
                <a:lnTo>
                  <a:pt x="758" y="969"/>
                </a:lnTo>
                <a:lnTo>
                  <a:pt x="772" y="975"/>
                </a:lnTo>
                <a:lnTo>
                  <a:pt x="781" y="979"/>
                </a:lnTo>
                <a:lnTo>
                  <a:pt x="793" y="983"/>
                </a:lnTo>
                <a:lnTo>
                  <a:pt x="802" y="987"/>
                </a:lnTo>
                <a:lnTo>
                  <a:pt x="812" y="988"/>
                </a:lnTo>
                <a:lnTo>
                  <a:pt x="821" y="990"/>
                </a:lnTo>
                <a:lnTo>
                  <a:pt x="829" y="992"/>
                </a:lnTo>
                <a:lnTo>
                  <a:pt x="839" y="994"/>
                </a:lnTo>
                <a:lnTo>
                  <a:pt x="844" y="994"/>
                </a:lnTo>
                <a:lnTo>
                  <a:pt x="852" y="994"/>
                </a:lnTo>
                <a:lnTo>
                  <a:pt x="858" y="992"/>
                </a:lnTo>
                <a:lnTo>
                  <a:pt x="864" y="990"/>
                </a:lnTo>
                <a:lnTo>
                  <a:pt x="869" y="988"/>
                </a:lnTo>
                <a:lnTo>
                  <a:pt x="873" y="988"/>
                </a:lnTo>
                <a:lnTo>
                  <a:pt x="879" y="987"/>
                </a:lnTo>
                <a:lnTo>
                  <a:pt x="885" y="983"/>
                </a:lnTo>
                <a:lnTo>
                  <a:pt x="891" y="979"/>
                </a:lnTo>
                <a:lnTo>
                  <a:pt x="896" y="973"/>
                </a:lnTo>
                <a:lnTo>
                  <a:pt x="902" y="967"/>
                </a:lnTo>
                <a:lnTo>
                  <a:pt x="910" y="958"/>
                </a:lnTo>
                <a:lnTo>
                  <a:pt x="917" y="950"/>
                </a:lnTo>
                <a:lnTo>
                  <a:pt x="925" y="939"/>
                </a:lnTo>
                <a:lnTo>
                  <a:pt x="933" y="927"/>
                </a:lnTo>
                <a:lnTo>
                  <a:pt x="942" y="916"/>
                </a:lnTo>
                <a:lnTo>
                  <a:pt x="950" y="900"/>
                </a:lnTo>
                <a:lnTo>
                  <a:pt x="960" y="885"/>
                </a:lnTo>
                <a:lnTo>
                  <a:pt x="971" y="869"/>
                </a:lnTo>
                <a:lnTo>
                  <a:pt x="981" y="850"/>
                </a:lnTo>
                <a:lnTo>
                  <a:pt x="992" y="833"/>
                </a:lnTo>
                <a:lnTo>
                  <a:pt x="1002" y="814"/>
                </a:lnTo>
                <a:lnTo>
                  <a:pt x="1010" y="797"/>
                </a:lnTo>
                <a:lnTo>
                  <a:pt x="1019" y="777"/>
                </a:lnTo>
                <a:lnTo>
                  <a:pt x="1027" y="758"/>
                </a:lnTo>
                <a:lnTo>
                  <a:pt x="1035" y="739"/>
                </a:lnTo>
                <a:lnTo>
                  <a:pt x="1044" y="720"/>
                </a:lnTo>
                <a:lnTo>
                  <a:pt x="1052" y="699"/>
                </a:lnTo>
                <a:lnTo>
                  <a:pt x="1060" y="676"/>
                </a:lnTo>
                <a:lnTo>
                  <a:pt x="1067" y="655"/>
                </a:lnTo>
                <a:lnTo>
                  <a:pt x="1073" y="632"/>
                </a:lnTo>
                <a:lnTo>
                  <a:pt x="1081" y="609"/>
                </a:lnTo>
                <a:lnTo>
                  <a:pt x="1088" y="584"/>
                </a:lnTo>
                <a:lnTo>
                  <a:pt x="1096" y="559"/>
                </a:lnTo>
                <a:lnTo>
                  <a:pt x="1102" y="534"/>
                </a:lnTo>
                <a:lnTo>
                  <a:pt x="1109" y="507"/>
                </a:lnTo>
                <a:lnTo>
                  <a:pt x="1117" y="482"/>
                </a:lnTo>
                <a:lnTo>
                  <a:pt x="1121" y="457"/>
                </a:lnTo>
                <a:lnTo>
                  <a:pt x="1125" y="434"/>
                </a:lnTo>
                <a:lnTo>
                  <a:pt x="1129" y="413"/>
                </a:lnTo>
                <a:lnTo>
                  <a:pt x="1131" y="394"/>
                </a:lnTo>
                <a:lnTo>
                  <a:pt x="1132" y="374"/>
                </a:lnTo>
                <a:lnTo>
                  <a:pt x="1134" y="357"/>
                </a:lnTo>
                <a:lnTo>
                  <a:pt x="1136" y="340"/>
                </a:lnTo>
                <a:lnTo>
                  <a:pt x="1136" y="325"/>
                </a:lnTo>
                <a:lnTo>
                  <a:pt x="1136" y="309"/>
                </a:lnTo>
                <a:lnTo>
                  <a:pt x="1136" y="296"/>
                </a:lnTo>
                <a:lnTo>
                  <a:pt x="1136" y="282"/>
                </a:lnTo>
                <a:lnTo>
                  <a:pt x="1136" y="271"/>
                </a:lnTo>
                <a:lnTo>
                  <a:pt x="1134" y="261"/>
                </a:lnTo>
                <a:lnTo>
                  <a:pt x="1132" y="252"/>
                </a:lnTo>
                <a:lnTo>
                  <a:pt x="1132" y="242"/>
                </a:lnTo>
                <a:lnTo>
                  <a:pt x="1131" y="234"/>
                </a:lnTo>
                <a:lnTo>
                  <a:pt x="1125" y="229"/>
                </a:lnTo>
                <a:lnTo>
                  <a:pt x="1119" y="225"/>
                </a:lnTo>
                <a:lnTo>
                  <a:pt x="1113" y="221"/>
                </a:lnTo>
                <a:lnTo>
                  <a:pt x="1106" y="217"/>
                </a:lnTo>
                <a:lnTo>
                  <a:pt x="1100" y="213"/>
                </a:lnTo>
                <a:lnTo>
                  <a:pt x="1092" y="209"/>
                </a:lnTo>
                <a:lnTo>
                  <a:pt x="1075" y="206"/>
                </a:lnTo>
                <a:lnTo>
                  <a:pt x="1056" y="200"/>
                </a:lnTo>
                <a:lnTo>
                  <a:pt x="1036" y="198"/>
                </a:lnTo>
                <a:lnTo>
                  <a:pt x="1015" y="196"/>
                </a:lnTo>
                <a:lnTo>
                  <a:pt x="992" y="196"/>
                </a:lnTo>
                <a:lnTo>
                  <a:pt x="969" y="200"/>
                </a:lnTo>
                <a:lnTo>
                  <a:pt x="944" y="204"/>
                </a:lnTo>
                <a:lnTo>
                  <a:pt x="919" y="206"/>
                </a:lnTo>
                <a:lnTo>
                  <a:pt x="892" y="207"/>
                </a:lnTo>
                <a:lnTo>
                  <a:pt x="868" y="211"/>
                </a:lnTo>
                <a:lnTo>
                  <a:pt x="843" y="213"/>
                </a:lnTo>
                <a:lnTo>
                  <a:pt x="818" y="217"/>
                </a:lnTo>
                <a:lnTo>
                  <a:pt x="795" y="221"/>
                </a:lnTo>
                <a:lnTo>
                  <a:pt x="781" y="223"/>
                </a:lnTo>
                <a:lnTo>
                  <a:pt x="768" y="227"/>
                </a:lnTo>
                <a:lnTo>
                  <a:pt x="754" y="230"/>
                </a:lnTo>
                <a:lnTo>
                  <a:pt x="739" y="232"/>
                </a:lnTo>
                <a:lnTo>
                  <a:pt x="722" y="236"/>
                </a:lnTo>
                <a:lnTo>
                  <a:pt x="704" y="242"/>
                </a:lnTo>
                <a:lnTo>
                  <a:pt x="685" y="246"/>
                </a:lnTo>
                <a:lnTo>
                  <a:pt x="666" y="250"/>
                </a:lnTo>
                <a:lnTo>
                  <a:pt x="645" y="255"/>
                </a:lnTo>
                <a:lnTo>
                  <a:pt x="622" y="261"/>
                </a:lnTo>
                <a:lnTo>
                  <a:pt x="599" y="267"/>
                </a:lnTo>
                <a:lnTo>
                  <a:pt x="576" y="273"/>
                </a:lnTo>
                <a:lnTo>
                  <a:pt x="551" y="278"/>
                </a:lnTo>
                <a:lnTo>
                  <a:pt x="526" y="286"/>
                </a:lnTo>
                <a:lnTo>
                  <a:pt x="499" y="292"/>
                </a:lnTo>
                <a:lnTo>
                  <a:pt x="472" y="300"/>
                </a:lnTo>
                <a:lnTo>
                  <a:pt x="457" y="303"/>
                </a:lnTo>
                <a:lnTo>
                  <a:pt x="441" y="307"/>
                </a:lnTo>
                <a:lnTo>
                  <a:pt x="428" y="309"/>
                </a:lnTo>
                <a:lnTo>
                  <a:pt x="414" y="313"/>
                </a:lnTo>
                <a:lnTo>
                  <a:pt x="403" y="317"/>
                </a:lnTo>
                <a:lnTo>
                  <a:pt x="389" y="319"/>
                </a:lnTo>
                <a:lnTo>
                  <a:pt x="366" y="325"/>
                </a:lnTo>
                <a:lnTo>
                  <a:pt x="345" y="328"/>
                </a:lnTo>
                <a:lnTo>
                  <a:pt x="326" y="334"/>
                </a:lnTo>
                <a:lnTo>
                  <a:pt x="307" y="338"/>
                </a:lnTo>
                <a:lnTo>
                  <a:pt x="292" y="340"/>
                </a:lnTo>
                <a:lnTo>
                  <a:pt x="278" y="344"/>
                </a:lnTo>
                <a:lnTo>
                  <a:pt x="265" y="346"/>
                </a:lnTo>
                <a:lnTo>
                  <a:pt x="255" y="348"/>
                </a:lnTo>
                <a:lnTo>
                  <a:pt x="245" y="349"/>
                </a:lnTo>
                <a:lnTo>
                  <a:pt x="238" y="349"/>
                </a:lnTo>
                <a:lnTo>
                  <a:pt x="232" y="351"/>
                </a:lnTo>
                <a:lnTo>
                  <a:pt x="226" y="351"/>
                </a:lnTo>
                <a:lnTo>
                  <a:pt x="224" y="351"/>
                </a:lnTo>
                <a:lnTo>
                  <a:pt x="219" y="351"/>
                </a:lnTo>
                <a:lnTo>
                  <a:pt x="211" y="351"/>
                </a:lnTo>
                <a:lnTo>
                  <a:pt x="203" y="351"/>
                </a:lnTo>
                <a:lnTo>
                  <a:pt x="196" y="349"/>
                </a:lnTo>
                <a:lnTo>
                  <a:pt x="186" y="348"/>
                </a:lnTo>
                <a:lnTo>
                  <a:pt x="174" y="346"/>
                </a:lnTo>
                <a:lnTo>
                  <a:pt x="163" y="342"/>
                </a:lnTo>
                <a:lnTo>
                  <a:pt x="149" y="338"/>
                </a:lnTo>
                <a:lnTo>
                  <a:pt x="142" y="336"/>
                </a:lnTo>
                <a:lnTo>
                  <a:pt x="134" y="332"/>
                </a:lnTo>
                <a:lnTo>
                  <a:pt x="126" y="328"/>
                </a:lnTo>
                <a:lnTo>
                  <a:pt x="119" y="325"/>
                </a:lnTo>
                <a:lnTo>
                  <a:pt x="111" y="319"/>
                </a:lnTo>
                <a:lnTo>
                  <a:pt x="101" y="313"/>
                </a:lnTo>
                <a:lnTo>
                  <a:pt x="94" y="307"/>
                </a:lnTo>
                <a:lnTo>
                  <a:pt x="84" y="300"/>
                </a:lnTo>
                <a:lnTo>
                  <a:pt x="75" y="292"/>
                </a:lnTo>
                <a:lnTo>
                  <a:pt x="65" y="284"/>
                </a:lnTo>
                <a:lnTo>
                  <a:pt x="53" y="275"/>
                </a:lnTo>
                <a:lnTo>
                  <a:pt x="44" y="265"/>
                </a:lnTo>
                <a:lnTo>
                  <a:pt x="32" y="255"/>
                </a:lnTo>
                <a:lnTo>
                  <a:pt x="23" y="244"/>
                </a:lnTo>
                <a:lnTo>
                  <a:pt x="11" y="232"/>
                </a:lnTo>
                <a:lnTo>
                  <a:pt x="0" y="221"/>
                </a:lnTo>
                <a:lnTo>
                  <a:pt x="17" y="221"/>
                </a:lnTo>
                <a:lnTo>
                  <a:pt x="36" y="219"/>
                </a:lnTo>
                <a:lnTo>
                  <a:pt x="57" y="219"/>
                </a:lnTo>
                <a:lnTo>
                  <a:pt x="78" y="217"/>
                </a:lnTo>
                <a:lnTo>
                  <a:pt x="103" y="213"/>
                </a:lnTo>
                <a:lnTo>
                  <a:pt x="128" y="211"/>
                </a:lnTo>
                <a:lnTo>
                  <a:pt x="155" y="207"/>
                </a:lnTo>
                <a:lnTo>
                  <a:pt x="184" y="204"/>
                </a:lnTo>
                <a:lnTo>
                  <a:pt x="215" y="200"/>
                </a:lnTo>
                <a:lnTo>
                  <a:pt x="247" y="194"/>
                </a:lnTo>
                <a:lnTo>
                  <a:pt x="280" y="188"/>
                </a:lnTo>
                <a:lnTo>
                  <a:pt x="317" y="183"/>
                </a:lnTo>
                <a:lnTo>
                  <a:pt x="353" y="177"/>
                </a:lnTo>
                <a:lnTo>
                  <a:pt x="391" y="171"/>
                </a:lnTo>
                <a:lnTo>
                  <a:pt x="430" y="163"/>
                </a:lnTo>
                <a:lnTo>
                  <a:pt x="472" y="158"/>
                </a:lnTo>
                <a:lnTo>
                  <a:pt x="510" y="150"/>
                </a:lnTo>
                <a:lnTo>
                  <a:pt x="549" y="142"/>
                </a:lnTo>
                <a:lnTo>
                  <a:pt x="585" y="136"/>
                </a:lnTo>
                <a:lnTo>
                  <a:pt x="620" y="129"/>
                </a:lnTo>
                <a:lnTo>
                  <a:pt x="654" y="123"/>
                </a:lnTo>
                <a:lnTo>
                  <a:pt x="687" y="117"/>
                </a:lnTo>
                <a:lnTo>
                  <a:pt x="718" y="112"/>
                </a:lnTo>
                <a:lnTo>
                  <a:pt x="749" y="108"/>
                </a:lnTo>
                <a:lnTo>
                  <a:pt x="777" y="102"/>
                </a:lnTo>
                <a:lnTo>
                  <a:pt x="806" y="98"/>
                </a:lnTo>
                <a:lnTo>
                  <a:pt x="833" y="94"/>
                </a:lnTo>
                <a:lnTo>
                  <a:pt x="858" y="90"/>
                </a:lnTo>
                <a:lnTo>
                  <a:pt x="881" y="87"/>
                </a:lnTo>
                <a:lnTo>
                  <a:pt x="904" y="83"/>
                </a:lnTo>
                <a:lnTo>
                  <a:pt x="923" y="81"/>
                </a:lnTo>
                <a:lnTo>
                  <a:pt x="944" y="79"/>
                </a:lnTo>
                <a:lnTo>
                  <a:pt x="962" y="75"/>
                </a:lnTo>
                <a:lnTo>
                  <a:pt x="979" y="73"/>
                </a:lnTo>
                <a:lnTo>
                  <a:pt x="994" y="69"/>
                </a:lnTo>
                <a:lnTo>
                  <a:pt x="1010" y="65"/>
                </a:lnTo>
                <a:lnTo>
                  <a:pt x="1025" y="64"/>
                </a:lnTo>
                <a:lnTo>
                  <a:pt x="1038" y="60"/>
                </a:lnTo>
                <a:lnTo>
                  <a:pt x="1052" y="56"/>
                </a:lnTo>
                <a:lnTo>
                  <a:pt x="1063" y="52"/>
                </a:lnTo>
                <a:lnTo>
                  <a:pt x="1073" y="48"/>
                </a:lnTo>
                <a:lnTo>
                  <a:pt x="1083" y="44"/>
                </a:lnTo>
                <a:lnTo>
                  <a:pt x="1090" y="41"/>
                </a:lnTo>
                <a:lnTo>
                  <a:pt x="1098" y="39"/>
                </a:lnTo>
                <a:lnTo>
                  <a:pt x="1104" y="35"/>
                </a:lnTo>
                <a:lnTo>
                  <a:pt x="1109" y="31"/>
                </a:lnTo>
                <a:lnTo>
                  <a:pt x="1113" y="29"/>
                </a:lnTo>
                <a:lnTo>
                  <a:pt x="1117" y="27"/>
                </a:lnTo>
                <a:lnTo>
                  <a:pt x="1125" y="18"/>
                </a:lnTo>
                <a:lnTo>
                  <a:pt x="1131" y="12"/>
                </a:lnTo>
                <a:lnTo>
                  <a:pt x="1136" y="8"/>
                </a:lnTo>
                <a:lnTo>
                  <a:pt x="1142" y="6"/>
                </a:lnTo>
                <a:lnTo>
                  <a:pt x="1150" y="2"/>
                </a:lnTo>
                <a:lnTo>
                  <a:pt x="1157" y="0"/>
                </a:lnTo>
                <a:lnTo>
                  <a:pt x="1167" y="0"/>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30"/>
          <p:cNvSpPr/>
          <p:nvPr/>
        </p:nvSpPr>
        <p:spPr>
          <a:xfrm>
            <a:off x="6253200" y="3192480"/>
            <a:ext cx="779400" cy="1014480"/>
          </a:xfrm>
          <a:custGeom>
            <a:avLst/>
            <a:gdLst/>
            <a:ahLst/>
            <a:rect l="l" t="t" r="r" b="b"/>
            <a:pathLst>
              <a:path w="981" h="1278">
                <a:moveTo>
                  <a:pt x="981" y="182"/>
                </a:moveTo>
                <a:lnTo>
                  <a:pt x="981" y="188"/>
                </a:lnTo>
                <a:lnTo>
                  <a:pt x="979" y="196"/>
                </a:lnTo>
                <a:lnTo>
                  <a:pt x="977" y="203"/>
                </a:lnTo>
                <a:lnTo>
                  <a:pt x="973" y="213"/>
                </a:lnTo>
                <a:lnTo>
                  <a:pt x="969" y="224"/>
                </a:lnTo>
                <a:lnTo>
                  <a:pt x="963" y="238"/>
                </a:lnTo>
                <a:lnTo>
                  <a:pt x="958" y="253"/>
                </a:lnTo>
                <a:lnTo>
                  <a:pt x="950" y="269"/>
                </a:lnTo>
                <a:lnTo>
                  <a:pt x="942" y="286"/>
                </a:lnTo>
                <a:lnTo>
                  <a:pt x="933" y="303"/>
                </a:lnTo>
                <a:lnTo>
                  <a:pt x="923" y="324"/>
                </a:lnTo>
                <a:lnTo>
                  <a:pt x="912" y="345"/>
                </a:lnTo>
                <a:lnTo>
                  <a:pt x="900" y="366"/>
                </a:lnTo>
                <a:lnTo>
                  <a:pt x="887" y="391"/>
                </a:lnTo>
                <a:lnTo>
                  <a:pt x="873" y="416"/>
                </a:lnTo>
                <a:lnTo>
                  <a:pt x="858" y="443"/>
                </a:lnTo>
                <a:lnTo>
                  <a:pt x="823" y="497"/>
                </a:lnTo>
                <a:lnTo>
                  <a:pt x="791" y="551"/>
                </a:lnTo>
                <a:lnTo>
                  <a:pt x="754" y="602"/>
                </a:lnTo>
                <a:lnTo>
                  <a:pt x="718" y="656"/>
                </a:lnTo>
                <a:lnTo>
                  <a:pt x="679" y="710"/>
                </a:lnTo>
                <a:lnTo>
                  <a:pt x="641" y="764"/>
                </a:lnTo>
                <a:lnTo>
                  <a:pt x="601" y="817"/>
                </a:lnTo>
                <a:lnTo>
                  <a:pt x="560" y="873"/>
                </a:lnTo>
                <a:lnTo>
                  <a:pt x="539" y="898"/>
                </a:lnTo>
                <a:lnTo>
                  <a:pt x="518" y="925"/>
                </a:lnTo>
                <a:lnTo>
                  <a:pt x="495" y="948"/>
                </a:lnTo>
                <a:lnTo>
                  <a:pt x="474" y="973"/>
                </a:lnTo>
                <a:lnTo>
                  <a:pt x="453" y="994"/>
                </a:lnTo>
                <a:lnTo>
                  <a:pt x="430" y="1017"/>
                </a:lnTo>
                <a:lnTo>
                  <a:pt x="407" y="1038"/>
                </a:lnTo>
                <a:lnTo>
                  <a:pt x="384" y="1057"/>
                </a:lnTo>
                <a:lnTo>
                  <a:pt x="361" y="1076"/>
                </a:lnTo>
                <a:lnTo>
                  <a:pt x="339" y="1094"/>
                </a:lnTo>
                <a:lnTo>
                  <a:pt x="316" y="1111"/>
                </a:lnTo>
                <a:lnTo>
                  <a:pt x="291" y="1128"/>
                </a:lnTo>
                <a:lnTo>
                  <a:pt x="268" y="1144"/>
                </a:lnTo>
                <a:lnTo>
                  <a:pt x="245" y="1157"/>
                </a:lnTo>
                <a:lnTo>
                  <a:pt x="222" y="1170"/>
                </a:lnTo>
                <a:lnTo>
                  <a:pt x="199" y="1184"/>
                </a:lnTo>
                <a:lnTo>
                  <a:pt x="176" y="1197"/>
                </a:lnTo>
                <a:lnTo>
                  <a:pt x="155" y="1211"/>
                </a:lnTo>
                <a:lnTo>
                  <a:pt x="136" y="1222"/>
                </a:lnTo>
                <a:lnTo>
                  <a:pt x="119" y="1234"/>
                </a:lnTo>
                <a:lnTo>
                  <a:pt x="101" y="1243"/>
                </a:lnTo>
                <a:lnTo>
                  <a:pt x="86" y="1251"/>
                </a:lnTo>
                <a:lnTo>
                  <a:pt x="71" y="1259"/>
                </a:lnTo>
                <a:lnTo>
                  <a:pt x="59" y="1264"/>
                </a:lnTo>
                <a:lnTo>
                  <a:pt x="48" y="1268"/>
                </a:lnTo>
                <a:lnTo>
                  <a:pt x="36" y="1272"/>
                </a:lnTo>
                <a:lnTo>
                  <a:pt x="28" y="1276"/>
                </a:lnTo>
                <a:lnTo>
                  <a:pt x="19" y="1278"/>
                </a:lnTo>
                <a:lnTo>
                  <a:pt x="13" y="1278"/>
                </a:lnTo>
                <a:lnTo>
                  <a:pt x="7" y="1278"/>
                </a:lnTo>
                <a:lnTo>
                  <a:pt x="4" y="1278"/>
                </a:lnTo>
                <a:lnTo>
                  <a:pt x="2" y="1276"/>
                </a:lnTo>
                <a:lnTo>
                  <a:pt x="0" y="1272"/>
                </a:lnTo>
                <a:lnTo>
                  <a:pt x="0" y="1268"/>
                </a:lnTo>
                <a:lnTo>
                  <a:pt x="0" y="1263"/>
                </a:lnTo>
                <a:lnTo>
                  <a:pt x="4" y="1257"/>
                </a:lnTo>
                <a:lnTo>
                  <a:pt x="7" y="1249"/>
                </a:lnTo>
                <a:lnTo>
                  <a:pt x="13" y="1239"/>
                </a:lnTo>
                <a:lnTo>
                  <a:pt x="21" y="1230"/>
                </a:lnTo>
                <a:lnTo>
                  <a:pt x="28" y="1220"/>
                </a:lnTo>
                <a:lnTo>
                  <a:pt x="40" y="1209"/>
                </a:lnTo>
                <a:lnTo>
                  <a:pt x="52" y="1195"/>
                </a:lnTo>
                <a:lnTo>
                  <a:pt x="63" y="1184"/>
                </a:lnTo>
                <a:lnTo>
                  <a:pt x="78" y="1168"/>
                </a:lnTo>
                <a:lnTo>
                  <a:pt x="94" y="1155"/>
                </a:lnTo>
                <a:lnTo>
                  <a:pt x="111" y="1138"/>
                </a:lnTo>
                <a:lnTo>
                  <a:pt x="130" y="1122"/>
                </a:lnTo>
                <a:lnTo>
                  <a:pt x="149" y="1105"/>
                </a:lnTo>
                <a:lnTo>
                  <a:pt x="171" y="1088"/>
                </a:lnTo>
                <a:lnTo>
                  <a:pt x="192" y="1069"/>
                </a:lnTo>
                <a:lnTo>
                  <a:pt x="213" y="1050"/>
                </a:lnTo>
                <a:lnTo>
                  <a:pt x="234" y="1028"/>
                </a:lnTo>
                <a:lnTo>
                  <a:pt x="255" y="1007"/>
                </a:lnTo>
                <a:lnTo>
                  <a:pt x="276" y="986"/>
                </a:lnTo>
                <a:lnTo>
                  <a:pt x="297" y="963"/>
                </a:lnTo>
                <a:lnTo>
                  <a:pt x="318" y="940"/>
                </a:lnTo>
                <a:lnTo>
                  <a:pt x="339" y="915"/>
                </a:lnTo>
                <a:lnTo>
                  <a:pt x="361" y="888"/>
                </a:lnTo>
                <a:lnTo>
                  <a:pt x="380" y="863"/>
                </a:lnTo>
                <a:lnTo>
                  <a:pt x="401" y="835"/>
                </a:lnTo>
                <a:lnTo>
                  <a:pt x="422" y="808"/>
                </a:lnTo>
                <a:lnTo>
                  <a:pt x="443" y="777"/>
                </a:lnTo>
                <a:lnTo>
                  <a:pt x="464" y="746"/>
                </a:lnTo>
                <a:lnTo>
                  <a:pt x="485" y="716"/>
                </a:lnTo>
                <a:lnTo>
                  <a:pt x="505" y="685"/>
                </a:lnTo>
                <a:lnTo>
                  <a:pt x="526" y="652"/>
                </a:lnTo>
                <a:lnTo>
                  <a:pt x="547" y="620"/>
                </a:lnTo>
                <a:lnTo>
                  <a:pt x="568" y="583"/>
                </a:lnTo>
                <a:lnTo>
                  <a:pt x="589" y="545"/>
                </a:lnTo>
                <a:lnTo>
                  <a:pt x="599" y="526"/>
                </a:lnTo>
                <a:lnTo>
                  <a:pt x="610" y="506"/>
                </a:lnTo>
                <a:lnTo>
                  <a:pt x="620" y="485"/>
                </a:lnTo>
                <a:lnTo>
                  <a:pt x="631" y="464"/>
                </a:lnTo>
                <a:lnTo>
                  <a:pt x="641" y="443"/>
                </a:lnTo>
                <a:lnTo>
                  <a:pt x="652" y="422"/>
                </a:lnTo>
                <a:lnTo>
                  <a:pt x="662" y="399"/>
                </a:lnTo>
                <a:lnTo>
                  <a:pt x="674" y="376"/>
                </a:lnTo>
                <a:lnTo>
                  <a:pt x="683" y="353"/>
                </a:lnTo>
                <a:lnTo>
                  <a:pt x="695" y="328"/>
                </a:lnTo>
                <a:lnTo>
                  <a:pt x="704" y="303"/>
                </a:lnTo>
                <a:lnTo>
                  <a:pt x="716" y="278"/>
                </a:lnTo>
                <a:lnTo>
                  <a:pt x="725" y="253"/>
                </a:lnTo>
                <a:lnTo>
                  <a:pt x="737" y="226"/>
                </a:lnTo>
                <a:lnTo>
                  <a:pt x="747" y="201"/>
                </a:lnTo>
                <a:lnTo>
                  <a:pt x="758" y="175"/>
                </a:lnTo>
                <a:lnTo>
                  <a:pt x="768" y="146"/>
                </a:lnTo>
                <a:lnTo>
                  <a:pt x="779" y="117"/>
                </a:lnTo>
                <a:lnTo>
                  <a:pt x="789" y="90"/>
                </a:lnTo>
                <a:lnTo>
                  <a:pt x="798" y="59"/>
                </a:lnTo>
                <a:lnTo>
                  <a:pt x="810" y="31"/>
                </a:lnTo>
                <a:lnTo>
                  <a:pt x="819" y="0"/>
                </a:lnTo>
                <a:lnTo>
                  <a:pt x="839" y="17"/>
                </a:lnTo>
                <a:lnTo>
                  <a:pt x="858" y="33"/>
                </a:lnTo>
                <a:lnTo>
                  <a:pt x="875" y="48"/>
                </a:lnTo>
                <a:lnTo>
                  <a:pt x="891" y="61"/>
                </a:lnTo>
                <a:lnTo>
                  <a:pt x="906" y="75"/>
                </a:lnTo>
                <a:lnTo>
                  <a:pt x="919" y="88"/>
                </a:lnTo>
                <a:lnTo>
                  <a:pt x="931" y="100"/>
                </a:lnTo>
                <a:lnTo>
                  <a:pt x="942" y="111"/>
                </a:lnTo>
                <a:lnTo>
                  <a:pt x="950" y="121"/>
                </a:lnTo>
                <a:lnTo>
                  <a:pt x="960" y="132"/>
                </a:lnTo>
                <a:lnTo>
                  <a:pt x="965" y="142"/>
                </a:lnTo>
                <a:lnTo>
                  <a:pt x="971" y="150"/>
                </a:lnTo>
                <a:lnTo>
                  <a:pt x="975" y="159"/>
                </a:lnTo>
                <a:lnTo>
                  <a:pt x="979" y="167"/>
                </a:lnTo>
                <a:lnTo>
                  <a:pt x="981" y="175"/>
                </a:lnTo>
                <a:lnTo>
                  <a:pt x="981" y="182"/>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31"/>
          <p:cNvSpPr/>
          <p:nvPr/>
        </p:nvSpPr>
        <p:spPr>
          <a:xfrm>
            <a:off x="6438960" y="4205160"/>
            <a:ext cx="249120" cy="744840"/>
          </a:xfrm>
          <a:custGeom>
            <a:avLst/>
            <a:gdLst/>
            <a:ahLst/>
            <a:rect l="l" t="t" r="r" b="b"/>
            <a:pathLst>
              <a:path w="313" h="936">
                <a:moveTo>
                  <a:pt x="52" y="155"/>
                </a:moveTo>
                <a:lnTo>
                  <a:pt x="46" y="142"/>
                </a:lnTo>
                <a:lnTo>
                  <a:pt x="38" y="130"/>
                </a:lnTo>
                <a:lnTo>
                  <a:pt x="33" y="121"/>
                </a:lnTo>
                <a:lnTo>
                  <a:pt x="27" y="111"/>
                </a:lnTo>
                <a:lnTo>
                  <a:pt x="21" y="102"/>
                </a:lnTo>
                <a:lnTo>
                  <a:pt x="17" y="92"/>
                </a:lnTo>
                <a:lnTo>
                  <a:pt x="13" y="82"/>
                </a:lnTo>
                <a:lnTo>
                  <a:pt x="9" y="75"/>
                </a:lnTo>
                <a:lnTo>
                  <a:pt x="6" y="67"/>
                </a:lnTo>
                <a:lnTo>
                  <a:pt x="4" y="59"/>
                </a:lnTo>
                <a:lnTo>
                  <a:pt x="2" y="54"/>
                </a:lnTo>
                <a:lnTo>
                  <a:pt x="0" y="46"/>
                </a:lnTo>
                <a:lnTo>
                  <a:pt x="0" y="40"/>
                </a:lnTo>
                <a:lnTo>
                  <a:pt x="0" y="34"/>
                </a:lnTo>
                <a:lnTo>
                  <a:pt x="2" y="31"/>
                </a:lnTo>
                <a:lnTo>
                  <a:pt x="4" y="25"/>
                </a:lnTo>
                <a:lnTo>
                  <a:pt x="8" y="19"/>
                </a:lnTo>
                <a:lnTo>
                  <a:pt x="15" y="15"/>
                </a:lnTo>
                <a:lnTo>
                  <a:pt x="23" y="11"/>
                </a:lnTo>
                <a:lnTo>
                  <a:pt x="31" y="8"/>
                </a:lnTo>
                <a:lnTo>
                  <a:pt x="40" y="4"/>
                </a:lnTo>
                <a:lnTo>
                  <a:pt x="52" y="2"/>
                </a:lnTo>
                <a:lnTo>
                  <a:pt x="63" y="0"/>
                </a:lnTo>
                <a:lnTo>
                  <a:pt x="77" y="0"/>
                </a:lnTo>
                <a:lnTo>
                  <a:pt x="105" y="0"/>
                </a:lnTo>
                <a:lnTo>
                  <a:pt x="119" y="0"/>
                </a:lnTo>
                <a:lnTo>
                  <a:pt x="132" y="0"/>
                </a:lnTo>
                <a:lnTo>
                  <a:pt x="148" y="2"/>
                </a:lnTo>
                <a:lnTo>
                  <a:pt x="161" y="4"/>
                </a:lnTo>
                <a:lnTo>
                  <a:pt x="175" y="8"/>
                </a:lnTo>
                <a:lnTo>
                  <a:pt x="190" y="11"/>
                </a:lnTo>
                <a:lnTo>
                  <a:pt x="192" y="13"/>
                </a:lnTo>
                <a:lnTo>
                  <a:pt x="196" y="15"/>
                </a:lnTo>
                <a:lnTo>
                  <a:pt x="200" y="17"/>
                </a:lnTo>
                <a:lnTo>
                  <a:pt x="201" y="21"/>
                </a:lnTo>
                <a:lnTo>
                  <a:pt x="205" y="25"/>
                </a:lnTo>
                <a:lnTo>
                  <a:pt x="209" y="31"/>
                </a:lnTo>
                <a:lnTo>
                  <a:pt x="211" y="34"/>
                </a:lnTo>
                <a:lnTo>
                  <a:pt x="215" y="40"/>
                </a:lnTo>
                <a:lnTo>
                  <a:pt x="217" y="48"/>
                </a:lnTo>
                <a:lnTo>
                  <a:pt x="221" y="54"/>
                </a:lnTo>
                <a:lnTo>
                  <a:pt x="223" y="61"/>
                </a:lnTo>
                <a:lnTo>
                  <a:pt x="226" y="71"/>
                </a:lnTo>
                <a:lnTo>
                  <a:pt x="228" y="79"/>
                </a:lnTo>
                <a:lnTo>
                  <a:pt x="232" y="88"/>
                </a:lnTo>
                <a:lnTo>
                  <a:pt x="234" y="98"/>
                </a:lnTo>
                <a:lnTo>
                  <a:pt x="236" y="109"/>
                </a:lnTo>
                <a:lnTo>
                  <a:pt x="240" y="121"/>
                </a:lnTo>
                <a:lnTo>
                  <a:pt x="242" y="132"/>
                </a:lnTo>
                <a:lnTo>
                  <a:pt x="244" y="146"/>
                </a:lnTo>
                <a:lnTo>
                  <a:pt x="248" y="157"/>
                </a:lnTo>
                <a:lnTo>
                  <a:pt x="249" y="173"/>
                </a:lnTo>
                <a:lnTo>
                  <a:pt x="251" y="186"/>
                </a:lnTo>
                <a:lnTo>
                  <a:pt x="255" y="201"/>
                </a:lnTo>
                <a:lnTo>
                  <a:pt x="257" y="217"/>
                </a:lnTo>
                <a:lnTo>
                  <a:pt x="259" y="232"/>
                </a:lnTo>
                <a:lnTo>
                  <a:pt x="261" y="249"/>
                </a:lnTo>
                <a:lnTo>
                  <a:pt x="265" y="267"/>
                </a:lnTo>
                <a:lnTo>
                  <a:pt x="267" y="284"/>
                </a:lnTo>
                <a:lnTo>
                  <a:pt x="269" y="303"/>
                </a:lnTo>
                <a:lnTo>
                  <a:pt x="271" y="322"/>
                </a:lnTo>
                <a:lnTo>
                  <a:pt x="273" y="341"/>
                </a:lnTo>
                <a:lnTo>
                  <a:pt x="276" y="363"/>
                </a:lnTo>
                <a:lnTo>
                  <a:pt x="278" y="384"/>
                </a:lnTo>
                <a:lnTo>
                  <a:pt x="280" y="403"/>
                </a:lnTo>
                <a:lnTo>
                  <a:pt x="282" y="422"/>
                </a:lnTo>
                <a:lnTo>
                  <a:pt x="284" y="441"/>
                </a:lnTo>
                <a:lnTo>
                  <a:pt x="286" y="460"/>
                </a:lnTo>
                <a:lnTo>
                  <a:pt x="288" y="478"/>
                </a:lnTo>
                <a:lnTo>
                  <a:pt x="290" y="495"/>
                </a:lnTo>
                <a:lnTo>
                  <a:pt x="292" y="512"/>
                </a:lnTo>
                <a:lnTo>
                  <a:pt x="294" y="528"/>
                </a:lnTo>
                <a:lnTo>
                  <a:pt x="296" y="543"/>
                </a:lnTo>
                <a:lnTo>
                  <a:pt x="296" y="558"/>
                </a:lnTo>
                <a:lnTo>
                  <a:pt x="297" y="574"/>
                </a:lnTo>
                <a:lnTo>
                  <a:pt x="299" y="587"/>
                </a:lnTo>
                <a:lnTo>
                  <a:pt x="301" y="601"/>
                </a:lnTo>
                <a:lnTo>
                  <a:pt x="301" y="614"/>
                </a:lnTo>
                <a:lnTo>
                  <a:pt x="303" y="625"/>
                </a:lnTo>
                <a:lnTo>
                  <a:pt x="305" y="639"/>
                </a:lnTo>
                <a:lnTo>
                  <a:pt x="305" y="650"/>
                </a:lnTo>
                <a:lnTo>
                  <a:pt x="307" y="660"/>
                </a:lnTo>
                <a:lnTo>
                  <a:pt x="307" y="672"/>
                </a:lnTo>
                <a:lnTo>
                  <a:pt x="309" y="681"/>
                </a:lnTo>
                <a:lnTo>
                  <a:pt x="309" y="691"/>
                </a:lnTo>
                <a:lnTo>
                  <a:pt x="309" y="698"/>
                </a:lnTo>
                <a:lnTo>
                  <a:pt x="311" y="706"/>
                </a:lnTo>
                <a:lnTo>
                  <a:pt x="311" y="714"/>
                </a:lnTo>
                <a:lnTo>
                  <a:pt x="311" y="721"/>
                </a:lnTo>
                <a:lnTo>
                  <a:pt x="313" y="727"/>
                </a:lnTo>
                <a:lnTo>
                  <a:pt x="313" y="735"/>
                </a:lnTo>
                <a:lnTo>
                  <a:pt x="313" y="741"/>
                </a:lnTo>
                <a:lnTo>
                  <a:pt x="313" y="744"/>
                </a:lnTo>
                <a:lnTo>
                  <a:pt x="313" y="748"/>
                </a:lnTo>
                <a:lnTo>
                  <a:pt x="313" y="754"/>
                </a:lnTo>
                <a:lnTo>
                  <a:pt x="313" y="771"/>
                </a:lnTo>
                <a:lnTo>
                  <a:pt x="313" y="791"/>
                </a:lnTo>
                <a:lnTo>
                  <a:pt x="313" y="806"/>
                </a:lnTo>
                <a:lnTo>
                  <a:pt x="311" y="823"/>
                </a:lnTo>
                <a:lnTo>
                  <a:pt x="309" y="838"/>
                </a:lnTo>
                <a:lnTo>
                  <a:pt x="307" y="854"/>
                </a:lnTo>
                <a:lnTo>
                  <a:pt x="305" y="867"/>
                </a:lnTo>
                <a:lnTo>
                  <a:pt x="301" y="883"/>
                </a:lnTo>
                <a:lnTo>
                  <a:pt x="297" y="890"/>
                </a:lnTo>
                <a:lnTo>
                  <a:pt x="296" y="896"/>
                </a:lnTo>
                <a:lnTo>
                  <a:pt x="294" y="902"/>
                </a:lnTo>
                <a:lnTo>
                  <a:pt x="292" y="908"/>
                </a:lnTo>
                <a:lnTo>
                  <a:pt x="288" y="911"/>
                </a:lnTo>
                <a:lnTo>
                  <a:pt x="286" y="917"/>
                </a:lnTo>
                <a:lnTo>
                  <a:pt x="284" y="921"/>
                </a:lnTo>
                <a:lnTo>
                  <a:pt x="282" y="923"/>
                </a:lnTo>
                <a:lnTo>
                  <a:pt x="276" y="929"/>
                </a:lnTo>
                <a:lnTo>
                  <a:pt x="273" y="932"/>
                </a:lnTo>
                <a:lnTo>
                  <a:pt x="267" y="934"/>
                </a:lnTo>
                <a:lnTo>
                  <a:pt x="263" y="936"/>
                </a:lnTo>
                <a:lnTo>
                  <a:pt x="257" y="934"/>
                </a:lnTo>
                <a:lnTo>
                  <a:pt x="251" y="932"/>
                </a:lnTo>
                <a:lnTo>
                  <a:pt x="246" y="931"/>
                </a:lnTo>
                <a:lnTo>
                  <a:pt x="238" y="925"/>
                </a:lnTo>
                <a:lnTo>
                  <a:pt x="230" y="919"/>
                </a:lnTo>
                <a:lnTo>
                  <a:pt x="225" y="913"/>
                </a:lnTo>
                <a:lnTo>
                  <a:pt x="219" y="906"/>
                </a:lnTo>
                <a:lnTo>
                  <a:pt x="213" y="896"/>
                </a:lnTo>
                <a:lnTo>
                  <a:pt x="211" y="894"/>
                </a:lnTo>
                <a:lnTo>
                  <a:pt x="211" y="892"/>
                </a:lnTo>
                <a:lnTo>
                  <a:pt x="209" y="890"/>
                </a:lnTo>
                <a:lnTo>
                  <a:pt x="207" y="886"/>
                </a:lnTo>
                <a:lnTo>
                  <a:pt x="207" y="883"/>
                </a:lnTo>
                <a:lnTo>
                  <a:pt x="205" y="877"/>
                </a:lnTo>
                <a:lnTo>
                  <a:pt x="203" y="873"/>
                </a:lnTo>
                <a:lnTo>
                  <a:pt x="201" y="867"/>
                </a:lnTo>
                <a:lnTo>
                  <a:pt x="200" y="860"/>
                </a:lnTo>
                <a:lnTo>
                  <a:pt x="198" y="854"/>
                </a:lnTo>
                <a:lnTo>
                  <a:pt x="198" y="846"/>
                </a:lnTo>
                <a:lnTo>
                  <a:pt x="196" y="838"/>
                </a:lnTo>
                <a:lnTo>
                  <a:pt x="194" y="829"/>
                </a:lnTo>
                <a:lnTo>
                  <a:pt x="192" y="819"/>
                </a:lnTo>
                <a:lnTo>
                  <a:pt x="190" y="810"/>
                </a:lnTo>
                <a:lnTo>
                  <a:pt x="186" y="800"/>
                </a:lnTo>
                <a:lnTo>
                  <a:pt x="184" y="789"/>
                </a:lnTo>
                <a:lnTo>
                  <a:pt x="182" y="777"/>
                </a:lnTo>
                <a:lnTo>
                  <a:pt x="180" y="766"/>
                </a:lnTo>
                <a:lnTo>
                  <a:pt x="178" y="752"/>
                </a:lnTo>
                <a:lnTo>
                  <a:pt x="177" y="739"/>
                </a:lnTo>
                <a:lnTo>
                  <a:pt x="175" y="725"/>
                </a:lnTo>
                <a:lnTo>
                  <a:pt x="173" y="712"/>
                </a:lnTo>
                <a:lnTo>
                  <a:pt x="169" y="696"/>
                </a:lnTo>
                <a:lnTo>
                  <a:pt x="167" y="681"/>
                </a:lnTo>
                <a:lnTo>
                  <a:pt x="165" y="664"/>
                </a:lnTo>
                <a:lnTo>
                  <a:pt x="163" y="649"/>
                </a:lnTo>
                <a:lnTo>
                  <a:pt x="161" y="631"/>
                </a:lnTo>
                <a:lnTo>
                  <a:pt x="159" y="614"/>
                </a:lnTo>
                <a:lnTo>
                  <a:pt x="155" y="595"/>
                </a:lnTo>
                <a:lnTo>
                  <a:pt x="153" y="578"/>
                </a:lnTo>
                <a:lnTo>
                  <a:pt x="152" y="558"/>
                </a:lnTo>
                <a:lnTo>
                  <a:pt x="148" y="520"/>
                </a:lnTo>
                <a:lnTo>
                  <a:pt x="142" y="483"/>
                </a:lnTo>
                <a:lnTo>
                  <a:pt x="136" y="449"/>
                </a:lnTo>
                <a:lnTo>
                  <a:pt x="130" y="416"/>
                </a:lnTo>
                <a:lnTo>
                  <a:pt x="125" y="386"/>
                </a:lnTo>
                <a:lnTo>
                  <a:pt x="119" y="357"/>
                </a:lnTo>
                <a:lnTo>
                  <a:pt x="113" y="328"/>
                </a:lnTo>
                <a:lnTo>
                  <a:pt x="107" y="303"/>
                </a:lnTo>
                <a:lnTo>
                  <a:pt x="100" y="278"/>
                </a:lnTo>
                <a:lnTo>
                  <a:pt x="94" y="257"/>
                </a:lnTo>
                <a:lnTo>
                  <a:pt x="86" y="236"/>
                </a:lnTo>
                <a:lnTo>
                  <a:pt x="81" y="217"/>
                </a:lnTo>
                <a:lnTo>
                  <a:pt x="73" y="198"/>
                </a:lnTo>
                <a:lnTo>
                  <a:pt x="65" y="182"/>
                </a:lnTo>
                <a:lnTo>
                  <a:pt x="59" y="167"/>
                </a:lnTo>
                <a:lnTo>
                  <a:pt x="52" y="155"/>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32"/>
          <p:cNvSpPr/>
          <p:nvPr/>
        </p:nvSpPr>
        <p:spPr>
          <a:xfrm>
            <a:off x="6559560" y="4102200"/>
            <a:ext cx="1093680" cy="662040"/>
          </a:xfrm>
          <a:custGeom>
            <a:avLst/>
            <a:gdLst/>
            <a:ahLst/>
            <a:rect l="l" t="t" r="r" b="b"/>
            <a:pathLst>
              <a:path w="1376" h="833">
                <a:moveTo>
                  <a:pt x="867" y="833"/>
                </a:moveTo>
                <a:lnTo>
                  <a:pt x="869" y="824"/>
                </a:lnTo>
                <a:lnTo>
                  <a:pt x="873" y="814"/>
                </a:lnTo>
                <a:lnTo>
                  <a:pt x="877" y="803"/>
                </a:lnTo>
                <a:lnTo>
                  <a:pt x="881" y="791"/>
                </a:lnTo>
                <a:lnTo>
                  <a:pt x="887" y="776"/>
                </a:lnTo>
                <a:lnTo>
                  <a:pt x="892" y="760"/>
                </a:lnTo>
                <a:lnTo>
                  <a:pt x="898" y="743"/>
                </a:lnTo>
                <a:lnTo>
                  <a:pt x="904" y="726"/>
                </a:lnTo>
                <a:lnTo>
                  <a:pt x="910" y="705"/>
                </a:lnTo>
                <a:lnTo>
                  <a:pt x="917" y="684"/>
                </a:lnTo>
                <a:lnTo>
                  <a:pt x="925" y="659"/>
                </a:lnTo>
                <a:lnTo>
                  <a:pt x="933" y="634"/>
                </a:lnTo>
                <a:lnTo>
                  <a:pt x="940" y="609"/>
                </a:lnTo>
                <a:lnTo>
                  <a:pt x="950" y="580"/>
                </a:lnTo>
                <a:lnTo>
                  <a:pt x="958" y="551"/>
                </a:lnTo>
                <a:lnTo>
                  <a:pt x="967" y="520"/>
                </a:lnTo>
                <a:lnTo>
                  <a:pt x="975" y="488"/>
                </a:lnTo>
                <a:lnTo>
                  <a:pt x="981" y="459"/>
                </a:lnTo>
                <a:lnTo>
                  <a:pt x="986" y="432"/>
                </a:lnTo>
                <a:lnTo>
                  <a:pt x="992" y="407"/>
                </a:lnTo>
                <a:lnTo>
                  <a:pt x="998" y="384"/>
                </a:lnTo>
                <a:lnTo>
                  <a:pt x="1002" y="361"/>
                </a:lnTo>
                <a:lnTo>
                  <a:pt x="1006" y="342"/>
                </a:lnTo>
                <a:lnTo>
                  <a:pt x="1009" y="323"/>
                </a:lnTo>
                <a:lnTo>
                  <a:pt x="1013" y="306"/>
                </a:lnTo>
                <a:lnTo>
                  <a:pt x="1015" y="290"/>
                </a:lnTo>
                <a:lnTo>
                  <a:pt x="1017" y="277"/>
                </a:lnTo>
                <a:lnTo>
                  <a:pt x="1019" y="265"/>
                </a:lnTo>
                <a:lnTo>
                  <a:pt x="1019" y="256"/>
                </a:lnTo>
                <a:lnTo>
                  <a:pt x="1019" y="246"/>
                </a:lnTo>
                <a:lnTo>
                  <a:pt x="1019" y="238"/>
                </a:lnTo>
                <a:lnTo>
                  <a:pt x="1017" y="235"/>
                </a:lnTo>
                <a:lnTo>
                  <a:pt x="1013" y="231"/>
                </a:lnTo>
                <a:lnTo>
                  <a:pt x="1009" y="229"/>
                </a:lnTo>
                <a:lnTo>
                  <a:pt x="1006" y="227"/>
                </a:lnTo>
                <a:lnTo>
                  <a:pt x="1000" y="225"/>
                </a:lnTo>
                <a:lnTo>
                  <a:pt x="994" y="223"/>
                </a:lnTo>
                <a:lnTo>
                  <a:pt x="986" y="219"/>
                </a:lnTo>
                <a:lnTo>
                  <a:pt x="979" y="217"/>
                </a:lnTo>
                <a:lnTo>
                  <a:pt x="971" y="215"/>
                </a:lnTo>
                <a:lnTo>
                  <a:pt x="961" y="213"/>
                </a:lnTo>
                <a:lnTo>
                  <a:pt x="950" y="213"/>
                </a:lnTo>
                <a:lnTo>
                  <a:pt x="938" y="212"/>
                </a:lnTo>
                <a:lnTo>
                  <a:pt x="925" y="210"/>
                </a:lnTo>
                <a:lnTo>
                  <a:pt x="913" y="210"/>
                </a:lnTo>
                <a:lnTo>
                  <a:pt x="898" y="208"/>
                </a:lnTo>
                <a:lnTo>
                  <a:pt x="883" y="208"/>
                </a:lnTo>
                <a:lnTo>
                  <a:pt x="867" y="208"/>
                </a:lnTo>
                <a:lnTo>
                  <a:pt x="858" y="208"/>
                </a:lnTo>
                <a:lnTo>
                  <a:pt x="848" y="208"/>
                </a:lnTo>
                <a:lnTo>
                  <a:pt x="837" y="210"/>
                </a:lnTo>
                <a:lnTo>
                  <a:pt x="825" y="210"/>
                </a:lnTo>
                <a:lnTo>
                  <a:pt x="812" y="210"/>
                </a:lnTo>
                <a:lnTo>
                  <a:pt x="796" y="212"/>
                </a:lnTo>
                <a:lnTo>
                  <a:pt x="781" y="213"/>
                </a:lnTo>
                <a:lnTo>
                  <a:pt x="764" y="215"/>
                </a:lnTo>
                <a:lnTo>
                  <a:pt x="744" y="217"/>
                </a:lnTo>
                <a:lnTo>
                  <a:pt x="725" y="219"/>
                </a:lnTo>
                <a:lnTo>
                  <a:pt x="704" y="221"/>
                </a:lnTo>
                <a:lnTo>
                  <a:pt x="683" y="223"/>
                </a:lnTo>
                <a:lnTo>
                  <a:pt x="660" y="225"/>
                </a:lnTo>
                <a:lnTo>
                  <a:pt x="635" y="229"/>
                </a:lnTo>
                <a:lnTo>
                  <a:pt x="610" y="231"/>
                </a:lnTo>
                <a:lnTo>
                  <a:pt x="583" y="235"/>
                </a:lnTo>
                <a:lnTo>
                  <a:pt x="554" y="238"/>
                </a:lnTo>
                <a:lnTo>
                  <a:pt x="526" y="242"/>
                </a:lnTo>
                <a:lnTo>
                  <a:pt x="495" y="246"/>
                </a:lnTo>
                <a:lnTo>
                  <a:pt x="464" y="250"/>
                </a:lnTo>
                <a:lnTo>
                  <a:pt x="432" y="254"/>
                </a:lnTo>
                <a:lnTo>
                  <a:pt x="397" y="258"/>
                </a:lnTo>
                <a:lnTo>
                  <a:pt x="362" y="263"/>
                </a:lnTo>
                <a:lnTo>
                  <a:pt x="328" y="267"/>
                </a:lnTo>
                <a:lnTo>
                  <a:pt x="289" y="273"/>
                </a:lnTo>
                <a:lnTo>
                  <a:pt x="251" y="277"/>
                </a:lnTo>
                <a:lnTo>
                  <a:pt x="213" y="283"/>
                </a:lnTo>
                <a:lnTo>
                  <a:pt x="172" y="288"/>
                </a:lnTo>
                <a:lnTo>
                  <a:pt x="130" y="294"/>
                </a:lnTo>
                <a:lnTo>
                  <a:pt x="88" y="300"/>
                </a:lnTo>
                <a:lnTo>
                  <a:pt x="44" y="306"/>
                </a:lnTo>
                <a:lnTo>
                  <a:pt x="0" y="311"/>
                </a:lnTo>
                <a:lnTo>
                  <a:pt x="0" y="240"/>
                </a:lnTo>
                <a:lnTo>
                  <a:pt x="0" y="169"/>
                </a:lnTo>
                <a:lnTo>
                  <a:pt x="21" y="167"/>
                </a:lnTo>
                <a:lnTo>
                  <a:pt x="46" y="167"/>
                </a:lnTo>
                <a:lnTo>
                  <a:pt x="71" y="165"/>
                </a:lnTo>
                <a:lnTo>
                  <a:pt x="97" y="164"/>
                </a:lnTo>
                <a:lnTo>
                  <a:pt x="126" y="162"/>
                </a:lnTo>
                <a:lnTo>
                  <a:pt x="157" y="158"/>
                </a:lnTo>
                <a:lnTo>
                  <a:pt x="188" y="156"/>
                </a:lnTo>
                <a:lnTo>
                  <a:pt x="222" y="150"/>
                </a:lnTo>
                <a:lnTo>
                  <a:pt x="259" y="146"/>
                </a:lnTo>
                <a:lnTo>
                  <a:pt x="295" y="142"/>
                </a:lnTo>
                <a:lnTo>
                  <a:pt x="336" y="137"/>
                </a:lnTo>
                <a:lnTo>
                  <a:pt x="376" y="131"/>
                </a:lnTo>
                <a:lnTo>
                  <a:pt x="418" y="125"/>
                </a:lnTo>
                <a:lnTo>
                  <a:pt x="464" y="118"/>
                </a:lnTo>
                <a:lnTo>
                  <a:pt x="510" y="112"/>
                </a:lnTo>
                <a:lnTo>
                  <a:pt x="558" y="104"/>
                </a:lnTo>
                <a:lnTo>
                  <a:pt x="581" y="100"/>
                </a:lnTo>
                <a:lnTo>
                  <a:pt x="604" y="96"/>
                </a:lnTo>
                <a:lnTo>
                  <a:pt x="627" y="93"/>
                </a:lnTo>
                <a:lnTo>
                  <a:pt x="650" y="91"/>
                </a:lnTo>
                <a:lnTo>
                  <a:pt x="672" y="87"/>
                </a:lnTo>
                <a:lnTo>
                  <a:pt x="691" y="83"/>
                </a:lnTo>
                <a:lnTo>
                  <a:pt x="712" y="79"/>
                </a:lnTo>
                <a:lnTo>
                  <a:pt x="731" y="77"/>
                </a:lnTo>
                <a:lnTo>
                  <a:pt x="748" y="73"/>
                </a:lnTo>
                <a:lnTo>
                  <a:pt x="766" y="71"/>
                </a:lnTo>
                <a:lnTo>
                  <a:pt x="783" y="68"/>
                </a:lnTo>
                <a:lnTo>
                  <a:pt x="800" y="66"/>
                </a:lnTo>
                <a:lnTo>
                  <a:pt x="816" y="62"/>
                </a:lnTo>
                <a:lnTo>
                  <a:pt x="831" y="60"/>
                </a:lnTo>
                <a:lnTo>
                  <a:pt x="844" y="58"/>
                </a:lnTo>
                <a:lnTo>
                  <a:pt x="858" y="54"/>
                </a:lnTo>
                <a:lnTo>
                  <a:pt x="871" y="52"/>
                </a:lnTo>
                <a:lnTo>
                  <a:pt x="885" y="50"/>
                </a:lnTo>
                <a:lnTo>
                  <a:pt x="896" y="48"/>
                </a:lnTo>
                <a:lnTo>
                  <a:pt x="908" y="47"/>
                </a:lnTo>
                <a:lnTo>
                  <a:pt x="917" y="43"/>
                </a:lnTo>
                <a:lnTo>
                  <a:pt x="927" y="41"/>
                </a:lnTo>
                <a:lnTo>
                  <a:pt x="936" y="39"/>
                </a:lnTo>
                <a:lnTo>
                  <a:pt x="946" y="37"/>
                </a:lnTo>
                <a:lnTo>
                  <a:pt x="954" y="35"/>
                </a:lnTo>
                <a:lnTo>
                  <a:pt x="961" y="35"/>
                </a:lnTo>
                <a:lnTo>
                  <a:pt x="967" y="33"/>
                </a:lnTo>
                <a:lnTo>
                  <a:pt x="973" y="31"/>
                </a:lnTo>
                <a:lnTo>
                  <a:pt x="979" y="29"/>
                </a:lnTo>
                <a:lnTo>
                  <a:pt x="984" y="27"/>
                </a:lnTo>
                <a:lnTo>
                  <a:pt x="988" y="27"/>
                </a:lnTo>
                <a:lnTo>
                  <a:pt x="992" y="25"/>
                </a:lnTo>
                <a:lnTo>
                  <a:pt x="1009" y="16"/>
                </a:lnTo>
                <a:lnTo>
                  <a:pt x="1019" y="12"/>
                </a:lnTo>
                <a:lnTo>
                  <a:pt x="1029" y="8"/>
                </a:lnTo>
                <a:lnTo>
                  <a:pt x="1038" y="4"/>
                </a:lnTo>
                <a:lnTo>
                  <a:pt x="1048" y="2"/>
                </a:lnTo>
                <a:lnTo>
                  <a:pt x="1057" y="0"/>
                </a:lnTo>
                <a:lnTo>
                  <a:pt x="1067" y="0"/>
                </a:lnTo>
                <a:lnTo>
                  <a:pt x="1069" y="0"/>
                </a:lnTo>
                <a:lnTo>
                  <a:pt x="1073" y="0"/>
                </a:lnTo>
                <a:lnTo>
                  <a:pt x="1077" y="0"/>
                </a:lnTo>
                <a:lnTo>
                  <a:pt x="1080" y="2"/>
                </a:lnTo>
                <a:lnTo>
                  <a:pt x="1084" y="4"/>
                </a:lnTo>
                <a:lnTo>
                  <a:pt x="1090" y="6"/>
                </a:lnTo>
                <a:lnTo>
                  <a:pt x="1096" y="8"/>
                </a:lnTo>
                <a:lnTo>
                  <a:pt x="1104" y="10"/>
                </a:lnTo>
                <a:lnTo>
                  <a:pt x="1111" y="14"/>
                </a:lnTo>
                <a:lnTo>
                  <a:pt x="1119" y="18"/>
                </a:lnTo>
                <a:lnTo>
                  <a:pt x="1127" y="22"/>
                </a:lnTo>
                <a:lnTo>
                  <a:pt x="1136" y="27"/>
                </a:lnTo>
                <a:lnTo>
                  <a:pt x="1146" y="31"/>
                </a:lnTo>
                <a:lnTo>
                  <a:pt x="1155" y="37"/>
                </a:lnTo>
                <a:lnTo>
                  <a:pt x="1167" y="45"/>
                </a:lnTo>
                <a:lnTo>
                  <a:pt x="1178" y="52"/>
                </a:lnTo>
                <a:lnTo>
                  <a:pt x="1215" y="81"/>
                </a:lnTo>
                <a:lnTo>
                  <a:pt x="1232" y="96"/>
                </a:lnTo>
                <a:lnTo>
                  <a:pt x="1251" y="110"/>
                </a:lnTo>
                <a:lnTo>
                  <a:pt x="1269" y="125"/>
                </a:lnTo>
                <a:lnTo>
                  <a:pt x="1284" y="139"/>
                </a:lnTo>
                <a:lnTo>
                  <a:pt x="1299" y="154"/>
                </a:lnTo>
                <a:lnTo>
                  <a:pt x="1315" y="169"/>
                </a:lnTo>
                <a:lnTo>
                  <a:pt x="1328" y="187"/>
                </a:lnTo>
                <a:lnTo>
                  <a:pt x="1340" y="206"/>
                </a:lnTo>
                <a:lnTo>
                  <a:pt x="1349" y="221"/>
                </a:lnTo>
                <a:lnTo>
                  <a:pt x="1359" y="235"/>
                </a:lnTo>
                <a:lnTo>
                  <a:pt x="1363" y="242"/>
                </a:lnTo>
                <a:lnTo>
                  <a:pt x="1367" y="248"/>
                </a:lnTo>
                <a:lnTo>
                  <a:pt x="1368" y="254"/>
                </a:lnTo>
                <a:lnTo>
                  <a:pt x="1372" y="258"/>
                </a:lnTo>
                <a:lnTo>
                  <a:pt x="1374" y="263"/>
                </a:lnTo>
                <a:lnTo>
                  <a:pt x="1374" y="267"/>
                </a:lnTo>
                <a:lnTo>
                  <a:pt x="1376" y="271"/>
                </a:lnTo>
                <a:lnTo>
                  <a:pt x="1376" y="273"/>
                </a:lnTo>
                <a:lnTo>
                  <a:pt x="1372" y="279"/>
                </a:lnTo>
                <a:lnTo>
                  <a:pt x="1367" y="283"/>
                </a:lnTo>
                <a:lnTo>
                  <a:pt x="1361" y="288"/>
                </a:lnTo>
                <a:lnTo>
                  <a:pt x="1355" y="292"/>
                </a:lnTo>
                <a:lnTo>
                  <a:pt x="1347" y="298"/>
                </a:lnTo>
                <a:lnTo>
                  <a:pt x="1338" y="302"/>
                </a:lnTo>
                <a:lnTo>
                  <a:pt x="1332" y="304"/>
                </a:lnTo>
                <a:lnTo>
                  <a:pt x="1328" y="307"/>
                </a:lnTo>
                <a:lnTo>
                  <a:pt x="1320" y="309"/>
                </a:lnTo>
                <a:lnTo>
                  <a:pt x="1315" y="311"/>
                </a:lnTo>
                <a:lnTo>
                  <a:pt x="1311" y="313"/>
                </a:lnTo>
                <a:lnTo>
                  <a:pt x="1307" y="315"/>
                </a:lnTo>
                <a:lnTo>
                  <a:pt x="1303" y="319"/>
                </a:lnTo>
                <a:lnTo>
                  <a:pt x="1297" y="323"/>
                </a:lnTo>
                <a:lnTo>
                  <a:pt x="1292" y="329"/>
                </a:lnTo>
                <a:lnTo>
                  <a:pt x="1288" y="336"/>
                </a:lnTo>
                <a:lnTo>
                  <a:pt x="1282" y="342"/>
                </a:lnTo>
                <a:lnTo>
                  <a:pt x="1274" y="352"/>
                </a:lnTo>
                <a:lnTo>
                  <a:pt x="1269" y="359"/>
                </a:lnTo>
                <a:lnTo>
                  <a:pt x="1261" y="369"/>
                </a:lnTo>
                <a:lnTo>
                  <a:pt x="1255" y="380"/>
                </a:lnTo>
                <a:lnTo>
                  <a:pt x="1248" y="392"/>
                </a:lnTo>
                <a:lnTo>
                  <a:pt x="1240" y="405"/>
                </a:lnTo>
                <a:lnTo>
                  <a:pt x="1232" y="419"/>
                </a:lnTo>
                <a:lnTo>
                  <a:pt x="1223" y="434"/>
                </a:lnTo>
                <a:lnTo>
                  <a:pt x="1215" y="449"/>
                </a:lnTo>
                <a:lnTo>
                  <a:pt x="1205" y="467"/>
                </a:lnTo>
                <a:lnTo>
                  <a:pt x="1196" y="484"/>
                </a:lnTo>
                <a:lnTo>
                  <a:pt x="1186" y="503"/>
                </a:lnTo>
                <a:lnTo>
                  <a:pt x="1176" y="522"/>
                </a:lnTo>
                <a:lnTo>
                  <a:pt x="1167" y="542"/>
                </a:lnTo>
                <a:lnTo>
                  <a:pt x="1157" y="565"/>
                </a:lnTo>
                <a:lnTo>
                  <a:pt x="1146" y="586"/>
                </a:lnTo>
                <a:lnTo>
                  <a:pt x="1136" y="609"/>
                </a:lnTo>
                <a:lnTo>
                  <a:pt x="1125" y="634"/>
                </a:lnTo>
                <a:lnTo>
                  <a:pt x="1113" y="659"/>
                </a:lnTo>
                <a:lnTo>
                  <a:pt x="1102" y="685"/>
                </a:lnTo>
                <a:lnTo>
                  <a:pt x="1090" y="712"/>
                </a:lnTo>
                <a:lnTo>
                  <a:pt x="1079" y="741"/>
                </a:lnTo>
                <a:lnTo>
                  <a:pt x="1065" y="770"/>
                </a:lnTo>
                <a:lnTo>
                  <a:pt x="1054" y="801"/>
                </a:lnTo>
                <a:lnTo>
                  <a:pt x="1042" y="833"/>
                </a:lnTo>
                <a:lnTo>
                  <a:pt x="954" y="833"/>
                </a:lnTo>
                <a:lnTo>
                  <a:pt x="867" y="833"/>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33"/>
          <p:cNvSpPr/>
          <p:nvPr/>
        </p:nvSpPr>
        <p:spPr>
          <a:xfrm>
            <a:off x="6638760" y="4675320"/>
            <a:ext cx="857520" cy="160200"/>
          </a:xfrm>
          <a:custGeom>
            <a:avLst/>
            <a:gdLst/>
            <a:ahLst/>
            <a:rect l="l" t="t" r="r" b="b"/>
            <a:pathLst>
              <a:path w="1079" h="201">
                <a:moveTo>
                  <a:pt x="993" y="46"/>
                </a:moveTo>
                <a:lnTo>
                  <a:pt x="1006" y="59"/>
                </a:lnTo>
                <a:lnTo>
                  <a:pt x="1020" y="73"/>
                </a:lnTo>
                <a:lnTo>
                  <a:pt x="1033" y="84"/>
                </a:lnTo>
                <a:lnTo>
                  <a:pt x="1045" y="96"/>
                </a:lnTo>
                <a:lnTo>
                  <a:pt x="1056" y="105"/>
                </a:lnTo>
                <a:lnTo>
                  <a:pt x="1066" y="117"/>
                </a:lnTo>
                <a:lnTo>
                  <a:pt x="1070" y="121"/>
                </a:lnTo>
                <a:lnTo>
                  <a:pt x="1074" y="127"/>
                </a:lnTo>
                <a:lnTo>
                  <a:pt x="1076" y="130"/>
                </a:lnTo>
                <a:lnTo>
                  <a:pt x="1079" y="136"/>
                </a:lnTo>
                <a:lnTo>
                  <a:pt x="1079" y="138"/>
                </a:lnTo>
                <a:lnTo>
                  <a:pt x="1079" y="140"/>
                </a:lnTo>
                <a:lnTo>
                  <a:pt x="1077" y="144"/>
                </a:lnTo>
                <a:lnTo>
                  <a:pt x="1074" y="146"/>
                </a:lnTo>
                <a:lnTo>
                  <a:pt x="1072" y="148"/>
                </a:lnTo>
                <a:lnTo>
                  <a:pt x="1066" y="150"/>
                </a:lnTo>
                <a:lnTo>
                  <a:pt x="1060" y="152"/>
                </a:lnTo>
                <a:lnTo>
                  <a:pt x="1053" y="153"/>
                </a:lnTo>
                <a:lnTo>
                  <a:pt x="1045" y="155"/>
                </a:lnTo>
                <a:lnTo>
                  <a:pt x="1037" y="157"/>
                </a:lnTo>
                <a:lnTo>
                  <a:pt x="1026" y="159"/>
                </a:lnTo>
                <a:lnTo>
                  <a:pt x="1016" y="161"/>
                </a:lnTo>
                <a:lnTo>
                  <a:pt x="1003" y="163"/>
                </a:lnTo>
                <a:lnTo>
                  <a:pt x="989" y="163"/>
                </a:lnTo>
                <a:lnTo>
                  <a:pt x="976" y="165"/>
                </a:lnTo>
                <a:lnTo>
                  <a:pt x="960" y="167"/>
                </a:lnTo>
                <a:lnTo>
                  <a:pt x="945" y="169"/>
                </a:lnTo>
                <a:lnTo>
                  <a:pt x="928" y="169"/>
                </a:lnTo>
                <a:lnTo>
                  <a:pt x="909" y="171"/>
                </a:lnTo>
                <a:lnTo>
                  <a:pt x="889" y="173"/>
                </a:lnTo>
                <a:lnTo>
                  <a:pt x="870" y="175"/>
                </a:lnTo>
                <a:lnTo>
                  <a:pt x="849" y="175"/>
                </a:lnTo>
                <a:lnTo>
                  <a:pt x="826" y="176"/>
                </a:lnTo>
                <a:lnTo>
                  <a:pt x="803" y="178"/>
                </a:lnTo>
                <a:lnTo>
                  <a:pt x="780" y="178"/>
                </a:lnTo>
                <a:lnTo>
                  <a:pt x="755" y="180"/>
                </a:lnTo>
                <a:lnTo>
                  <a:pt x="728" y="182"/>
                </a:lnTo>
                <a:lnTo>
                  <a:pt x="701" y="182"/>
                </a:lnTo>
                <a:lnTo>
                  <a:pt x="672" y="184"/>
                </a:lnTo>
                <a:lnTo>
                  <a:pt x="644" y="186"/>
                </a:lnTo>
                <a:lnTo>
                  <a:pt x="615" y="186"/>
                </a:lnTo>
                <a:lnTo>
                  <a:pt x="584" y="188"/>
                </a:lnTo>
                <a:lnTo>
                  <a:pt x="551" y="190"/>
                </a:lnTo>
                <a:lnTo>
                  <a:pt x="519" y="190"/>
                </a:lnTo>
                <a:lnTo>
                  <a:pt x="490" y="192"/>
                </a:lnTo>
                <a:lnTo>
                  <a:pt x="459" y="192"/>
                </a:lnTo>
                <a:lnTo>
                  <a:pt x="430" y="194"/>
                </a:lnTo>
                <a:lnTo>
                  <a:pt x="404" y="194"/>
                </a:lnTo>
                <a:lnTo>
                  <a:pt x="377" y="196"/>
                </a:lnTo>
                <a:lnTo>
                  <a:pt x="350" y="196"/>
                </a:lnTo>
                <a:lnTo>
                  <a:pt x="325" y="196"/>
                </a:lnTo>
                <a:lnTo>
                  <a:pt x="302" y="198"/>
                </a:lnTo>
                <a:lnTo>
                  <a:pt x="279" y="198"/>
                </a:lnTo>
                <a:lnTo>
                  <a:pt x="256" y="198"/>
                </a:lnTo>
                <a:lnTo>
                  <a:pt x="235" y="200"/>
                </a:lnTo>
                <a:lnTo>
                  <a:pt x="214" y="200"/>
                </a:lnTo>
                <a:lnTo>
                  <a:pt x="194" y="200"/>
                </a:lnTo>
                <a:lnTo>
                  <a:pt x="175" y="200"/>
                </a:lnTo>
                <a:lnTo>
                  <a:pt x="158" y="200"/>
                </a:lnTo>
                <a:lnTo>
                  <a:pt x="141" y="200"/>
                </a:lnTo>
                <a:lnTo>
                  <a:pt x="123" y="201"/>
                </a:lnTo>
                <a:lnTo>
                  <a:pt x="110" y="201"/>
                </a:lnTo>
                <a:lnTo>
                  <a:pt x="94" y="201"/>
                </a:lnTo>
                <a:lnTo>
                  <a:pt x="81" y="201"/>
                </a:lnTo>
                <a:lnTo>
                  <a:pt x="70" y="201"/>
                </a:lnTo>
                <a:lnTo>
                  <a:pt x="58" y="201"/>
                </a:lnTo>
                <a:lnTo>
                  <a:pt x="46" y="201"/>
                </a:lnTo>
                <a:lnTo>
                  <a:pt x="37" y="201"/>
                </a:lnTo>
                <a:lnTo>
                  <a:pt x="29" y="201"/>
                </a:lnTo>
                <a:lnTo>
                  <a:pt x="22" y="201"/>
                </a:lnTo>
                <a:lnTo>
                  <a:pt x="14" y="201"/>
                </a:lnTo>
                <a:lnTo>
                  <a:pt x="8" y="201"/>
                </a:lnTo>
                <a:lnTo>
                  <a:pt x="4" y="201"/>
                </a:lnTo>
                <a:lnTo>
                  <a:pt x="0" y="201"/>
                </a:lnTo>
                <a:lnTo>
                  <a:pt x="0" y="150"/>
                </a:lnTo>
                <a:lnTo>
                  <a:pt x="0" y="98"/>
                </a:lnTo>
                <a:lnTo>
                  <a:pt x="8" y="96"/>
                </a:lnTo>
                <a:lnTo>
                  <a:pt x="18" y="96"/>
                </a:lnTo>
                <a:lnTo>
                  <a:pt x="29" y="96"/>
                </a:lnTo>
                <a:lnTo>
                  <a:pt x="41" y="94"/>
                </a:lnTo>
                <a:lnTo>
                  <a:pt x="56" y="94"/>
                </a:lnTo>
                <a:lnTo>
                  <a:pt x="73" y="92"/>
                </a:lnTo>
                <a:lnTo>
                  <a:pt x="91" y="90"/>
                </a:lnTo>
                <a:lnTo>
                  <a:pt x="112" y="88"/>
                </a:lnTo>
                <a:lnTo>
                  <a:pt x="133" y="84"/>
                </a:lnTo>
                <a:lnTo>
                  <a:pt x="156" y="82"/>
                </a:lnTo>
                <a:lnTo>
                  <a:pt x="181" y="79"/>
                </a:lnTo>
                <a:lnTo>
                  <a:pt x="210" y="75"/>
                </a:lnTo>
                <a:lnTo>
                  <a:pt x="238" y="71"/>
                </a:lnTo>
                <a:lnTo>
                  <a:pt x="267" y="67"/>
                </a:lnTo>
                <a:lnTo>
                  <a:pt x="300" y="63"/>
                </a:lnTo>
                <a:lnTo>
                  <a:pt x="334" y="59"/>
                </a:lnTo>
                <a:lnTo>
                  <a:pt x="367" y="56"/>
                </a:lnTo>
                <a:lnTo>
                  <a:pt x="398" y="54"/>
                </a:lnTo>
                <a:lnTo>
                  <a:pt x="430" y="50"/>
                </a:lnTo>
                <a:lnTo>
                  <a:pt x="459" y="46"/>
                </a:lnTo>
                <a:lnTo>
                  <a:pt x="490" y="42"/>
                </a:lnTo>
                <a:lnTo>
                  <a:pt x="519" y="40"/>
                </a:lnTo>
                <a:lnTo>
                  <a:pt x="548" y="36"/>
                </a:lnTo>
                <a:lnTo>
                  <a:pt x="574" y="33"/>
                </a:lnTo>
                <a:lnTo>
                  <a:pt x="601" y="29"/>
                </a:lnTo>
                <a:lnTo>
                  <a:pt x="628" y="25"/>
                </a:lnTo>
                <a:lnTo>
                  <a:pt x="653" y="21"/>
                </a:lnTo>
                <a:lnTo>
                  <a:pt x="678" y="17"/>
                </a:lnTo>
                <a:lnTo>
                  <a:pt x="701" y="15"/>
                </a:lnTo>
                <a:lnTo>
                  <a:pt x="724" y="11"/>
                </a:lnTo>
                <a:lnTo>
                  <a:pt x="747" y="8"/>
                </a:lnTo>
                <a:lnTo>
                  <a:pt x="768" y="6"/>
                </a:lnTo>
                <a:lnTo>
                  <a:pt x="789" y="4"/>
                </a:lnTo>
                <a:lnTo>
                  <a:pt x="809" y="2"/>
                </a:lnTo>
                <a:lnTo>
                  <a:pt x="828" y="2"/>
                </a:lnTo>
                <a:lnTo>
                  <a:pt x="845" y="0"/>
                </a:lnTo>
                <a:lnTo>
                  <a:pt x="862" y="2"/>
                </a:lnTo>
                <a:lnTo>
                  <a:pt x="880" y="2"/>
                </a:lnTo>
                <a:lnTo>
                  <a:pt x="895" y="4"/>
                </a:lnTo>
                <a:lnTo>
                  <a:pt x="909" y="6"/>
                </a:lnTo>
                <a:lnTo>
                  <a:pt x="922" y="8"/>
                </a:lnTo>
                <a:lnTo>
                  <a:pt x="935" y="11"/>
                </a:lnTo>
                <a:lnTo>
                  <a:pt x="947" y="15"/>
                </a:lnTo>
                <a:lnTo>
                  <a:pt x="958" y="21"/>
                </a:lnTo>
                <a:lnTo>
                  <a:pt x="968" y="25"/>
                </a:lnTo>
                <a:lnTo>
                  <a:pt x="976" y="31"/>
                </a:lnTo>
                <a:lnTo>
                  <a:pt x="985" y="38"/>
                </a:lnTo>
                <a:lnTo>
                  <a:pt x="993" y="46"/>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Freeform 34"/>
          <p:cNvSpPr/>
          <p:nvPr/>
        </p:nvSpPr>
        <p:spPr>
          <a:xfrm>
            <a:off x="5719680" y="3863880"/>
            <a:ext cx="555840" cy="960480"/>
          </a:xfrm>
          <a:custGeom>
            <a:avLst/>
            <a:gdLst/>
            <a:ahLst/>
            <a:rect l="l" t="t" r="r" b="b"/>
            <a:pathLst>
              <a:path w="699" h="1211">
                <a:moveTo>
                  <a:pt x="128" y="860"/>
                </a:moveTo>
                <a:lnTo>
                  <a:pt x="128" y="858"/>
                </a:lnTo>
                <a:lnTo>
                  <a:pt x="130" y="856"/>
                </a:lnTo>
                <a:lnTo>
                  <a:pt x="132" y="852"/>
                </a:lnTo>
                <a:lnTo>
                  <a:pt x="136" y="848"/>
                </a:lnTo>
                <a:lnTo>
                  <a:pt x="140" y="843"/>
                </a:lnTo>
                <a:lnTo>
                  <a:pt x="144" y="837"/>
                </a:lnTo>
                <a:lnTo>
                  <a:pt x="148" y="831"/>
                </a:lnTo>
                <a:lnTo>
                  <a:pt x="153" y="823"/>
                </a:lnTo>
                <a:lnTo>
                  <a:pt x="159" y="816"/>
                </a:lnTo>
                <a:lnTo>
                  <a:pt x="165" y="806"/>
                </a:lnTo>
                <a:lnTo>
                  <a:pt x="171" y="797"/>
                </a:lnTo>
                <a:lnTo>
                  <a:pt x="178" y="785"/>
                </a:lnTo>
                <a:lnTo>
                  <a:pt x="184" y="773"/>
                </a:lnTo>
                <a:lnTo>
                  <a:pt x="194" y="762"/>
                </a:lnTo>
                <a:lnTo>
                  <a:pt x="201" y="749"/>
                </a:lnTo>
                <a:lnTo>
                  <a:pt x="209" y="735"/>
                </a:lnTo>
                <a:lnTo>
                  <a:pt x="219" y="720"/>
                </a:lnTo>
                <a:lnTo>
                  <a:pt x="228" y="704"/>
                </a:lnTo>
                <a:lnTo>
                  <a:pt x="240" y="689"/>
                </a:lnTo>
                <a:lnTo>
                  <a:pt x="249" y="672"/>
                </a:lnTo>
                <a:lnTo>
                  <a:pt x="261" y="655"/>
                </a:lnTo>
                <a:lnTo>
                  <a:pt x="272" y="635"/>
                </a:lnTo>
                <a:lnTo>
                  <a:pt x="284" y="616"/>
                </a:lnTo>
                <a:lnTo>
                  <a:pt x="297" y="595"/>
                </a:lnTo>
                <a:lnTo>
                  <a:pt x="311" y="574"/>
                </a:lnTo>
                <a:lnTo>
                  <a:pt x="324" y="553"/>
                </a:lnTo>
                <a:lnTo>
                  <a:pt x="338" y="530"/>
                </a:lnTo>
                <a:lnTo>
                  <a:pt x="351" y="507"/>
                </a:lnTo>
                <a:lnTo>
                  <a:pt x="366" y="482"/>
                </a:lnTo>
                <a:lnTo>
                  <a:pt x="382" y="457"/>
                </a:lnTo>
                <a:lnTo>
                  <a:pt x="397" y="432"/>
                </a:lnTo>
                <a:lnTo>
                  <a:pt x="412" y="405"/>
                </a:lnTo>
                <a:lnTo>
                  <a:pt x="428" y="378"/>
                </a:lnTo>
                <a:lnTo>
                  <a:pt x="443" y="353"/>
                </a:lnTo>
                <a:lnTo>
                  <a:pt x="459" y="328"/>
                </a:lnTo>
                <a:lnTo>
                  <a:pt x="474" y="305"/>
                </a:lnTo>
                <a:lnTo>
                  <a:pt x="487" y="282"/>
                </a:lnTo>
                <a:lnTo>
                  <a:pt x="501" y="259"/>
                </a:lnTo>
                <a:lnTo>
                  <a:pt x="514" y="238"/>
                </a:lnTo>
                <a:lnTo>
                  <a:pt x="528" y="219"/>
                </a:lnTo>
                <a:lnTo>
                  <a:pt x="539" y="200"/>
                </a:lnTo>
                <a:lnTo>
                  <a:pt x="553" y="181"/>
                </a:lnTo>
                <a:lnTo>
                  <a:pt x="564" y="163"/>
                </a:lnTo>
                <a:lnTo>
                  <a:pt x="574" y="148"/>
                </a:lnTo>
                <a:lnTo>
                  <a:pt x="585" y="133"/>
                </a:lnTo>
                <a:lnTo>
                  <a:pt x="595" y="117"/>
                </a:lnTo>
                <a:lnTo>
                  <a:pt x="604" y="104"/>
                </a:lnTo>
                <a:lnTo>
                  <a:pt x="614" y="90"/>
                </a:lnTo>
                <a:lnTo>
                  <a:pt x="624" y="79"/>
                </a:lnTo>
                <a:lnTo>
                  <a:pt x="631" y="67"/>
                </a:lnTo>
                <a:lnTo>
                  <a:pt x="639" y="58"/>
                </a:lnTo>
                <a:lnTo>
                  <a:pt x="647" y="48"/>
                </a:lnTo>
                <a:lnTo>
                  <a:pt x="654" y="39"/>
                </a:lnTo>
                <a:lnTo>
                  <a:pt x="660" y="31"/>
                </a:lnTo>
                <a:lnTo>
                  <a:pt x="666" y="25"/>
                </a:lnTo>
                <a:lnTo>
                  <a:pt x="672" y="19"/>
                </a:lnTo>
                <a:lnTo>
                  <a:pt x="677" y="14"/>
                </a:lnTo>
                <a:lnTo>
                  <a:pt x="681" y="10"/>
                </a:lnTo>
                <a:lnTo>
                  <a:pt x="685" y="6"/>
                </a:lnTo>
                <a:lnTo>
                  <a:pt x="689" y="4"/>
                </a:lnTo>
                <a:lnTo>
                  <a:pt x="691" y="2"/>
                </a:lnTo>
                <a:lnTo>
                  <a:pt x="695" y="0"/>
                </a:lnTo>
                <a:lnTo>
                  <a:pt x="697" y="0"/>
                </a:lnTo>
                <a:lnTo>
                  <a:pt x="699" y="2"/>
                </a:lnTo>
                <a:lnTo>
                  <a:pt x="699" y="6"/>
                </a:lnTo>
                <a:lnTo>
                  <a:pt x="699" y="10"/>
                </a:lnTo>
                <a:lnTo>
                  <a:pt x="699" y="16"/>
                </a:lnTo>
                <a:lnTo>
                  <a:pt x="699" y="21"/>
                </a:lnTo>
                <a:lnTo>
                  <a:pt x="697" y="29"/>
                </a:lnTo>
                <a:lnTo>
                  <a:pt x="695" y="39"/>
                </a:lnTo>
                <a:lnTo>
                  <a:pt x="693" y="48"/>
                </a:lnTo>
                <a:lnTo>
                  <a:pt x="689" y="58"/>
                </a:lnTo>
                <a:lnTo>
                  <a:pt x="687" y="71"/>
                </a:lnTo>
                <a:lnTo>
                  <a:pt x="683" y="83"/>
                </a:lnTo>
                <a:lnTo>
                  <a:pt x="679" y="98"/>
                </a:lnTo>
                <a:lnTo>
                  <a:pt x="674" y="113"/>
                </a:lnTo>
                <a:lnTo>
                  <a:pt x="670" y="129"/>
                </a:lnTo>
                <a:lnTo>
                  <a:pt x="664" y="146"/>
                </a:lnTo>
                <a:lnTo>
                  <a:pt x="658" y="165"/>
                </a:lnTo>
                <a:lnTo>
                  <a:pt x="652" y="184"/>
                </a:lnTo>
                <a:lnTo>
                  <a:pt x="645" y="206"/>
                </a:lnTo>
                <a:lnTo>
                  <a:pt x="637" y="229"/>
                </a:lnTo>
                <a:lnTo>
                  <a:pt x="629" y="252"/>
                </a:lnTo>
                <a:lnTo>
                  <a:pt x="622" y="275"/>
                </a:lnTo>
                <a:lnTo>
                  <a:pt x="612" y="300"/>
                </a:lnTo>
                <a:lnTo>
                  <a:pt x="603" y="326"/>
                </a:lnTo>
                <a:lnTo>
                  <a:pt x="593" y="353"/>
                </a:lnTo>
                <a:lnTo>
                  <a:pt x="583" y="382"/>
                </a:lnTo>
                <a:lnTo>
                  <a:pt x="574" y="413"/>
                </a:lnTo>
                <a:lnTo>
                  <a:pt x="562" y="443"/>
                </a:lnTo>
                <a:lnTo>
                  <a:pt x="551" y="474"/>
                </a:lnTo>
                <a:lnTo>
                  <a:pt x="537" y="507"/>
                </a:lnTo>
                <a:lnTo>
                  <a:pt x="526" y="541"/>
                </a:lnTo>
                <a:lnTo>
                  <a:pt x="512" y="576"/>
                </a:lnTo>
                <a:lnTo>
                  <a:pt x="499" y="612"/>
                </a:lnTo>
                <a:lnTo>
                  <a:pt x="484" y="649"/>
                </a:lnTo>
                <a:lnTo>
                  <a:pt x="470" y="685"/>
                </a:lnTo>
                <a:lnTo>
                  <a:pt x="457" y="720"/>
                </a:lnTo>
                <a:lnTo>
                  <a:pt x="443" y="754"/>
                </a:lnTo>
                <a:lnTo>
                  <a:pt x="430" y="787"/>
                </a:lnTo>
                <a:lnTo>
                  <a:pt x="416" y="818"/>
                </a:lnTo>
                <a:lnTo>
                  <a:pt x="405" y="848"/>
                </a:lnTo>
                <a:lnTo>
                  <a:pt x="393" y="877"/>
                </a:lnTo>
                <a:lnTo>
                  <a:pt x="382" y="904"/>
                </a:lnTo>
                <a:lnTo>
                  <a:pt x="370" y="931"/>
                </a:lnTo>
                <a:lnTo>
                  <a:pt x="359" y="956"/>
                </a:lnTo>
                <a:lnTo>
                  <a:pt x="349" y="979"/>
                </a:lnTo>
                <a:lnTo>
                  <a:pt x="340" y="1002"/>
                </a:lnTo>
                <a:lnTo>
                  <a:pt x="330" y="1025"/>
                </a:lnTo>
                <a:lnTo>
                  <a:pt x="320" y="1044"/>
                </a:lnTo>
                <a:lnTo>
                  <a:pt x="311" y="1063"/>
                </a:lnTo>
                <a:lnTo>
                  <a:pt x="303" y="1082"/>
                </a:lnTo>
                <a:lnTo>
                  <a:pt x="293" y="1098"/>
                </a:lnTo>
                <a:lnTo>
                  <a:pt x="286" y="1113"/>
                </a:lnTo>
                <a:lnTo>
                  <a:pt x="278" y="1128"/>
                </a:lnTo>
                <a:lnTo>
                  <a:pt x="272" y="1142"/>
                </a:lnTo>
                <a:lnTo>
                  <a:pt x="265" y="1153"/>
                </a:lnTo>
                <a:lnTo>
                  <a:pt x="259" y="1165"/>
                </a:lnTo>
                <a:lnTo>
                  <a:pt x="251" y="1175"/>
                </a:lnTo>
                <a:lnTo>
                  <a:pt x="245" y="1182"/>
                </a:lnTo>
                <a:lnTo>
                  <a:pt x="240" y="1190"/>
                </a:lnTo>
                <a:lnTo>
                  <a:pt x="236" y="1198"/>
                </a:lnTo>
                <a:lnTo>
                  <a:pt x="230" y="1201"/>
                </a:lnTo>
                <a:lnTo>
                  <a:pt x="226" y="1205"/>
                </a:lnTo>
                <a:lnTo>
                  <a:pt x="220" y="1209"/>
                </a:lnTo>
                <a:lnTo>
                  <a:pt x="217" y="1211"/>
                </a:lnTo>
                <a:lnTo>
                  <a:pt x="215" y="1211"/>
                </a:lnTo>
                <a:lnTo>
                  <a:pt x="207" y="1211"/>
                </a:lnTo>
                <a:lnTo>
                  <a:pt x="199" y="1209"/>
                </a:lnTo>
                <a:lnTo>
                  <a:pt x="192" y="1205"/>
                </a:lnTo>
                <a:lnTo>
                  <a:pt x="184" y="1201"/>
                </a:lnTo>
                <a:lnTo>
                  <a:pt x="176" y="1196"/>
                </a:lnTo>
                <a:lnTo>
                  <a:pt x="167" y="1190"/>
                </a:lnTo>
                <a:lnTo>
                  <a:pt x="159" y="1182"/>
                </a:lnTo>
                <a:lnTo>
                  <a:pt x="149" y="1175"/>
                </a:lnTo>
                <a:lnTo>
                  <a:pt x="142" y="1165"/>
                </a:lnTo>
                <a:lnTo>
                  <a:pt x="132" y="1153"/>
                </a:lnTo>
                <a:lnTo>
                  <a:pt x="123" y="1142"/>
                </a:lnTo>
                <a:lnTo>
                  <a:pt x="115" y="1128"/>
                </a:lnTo>
                <a:lnTo>
                  <a:pt x="105" y="1115"/>
                </a:lnTo>
                <a:lnTo>
                  <a:pt x="96" y="1100"/>
                </a:lnTo>
                <a:lnTo>
                  <a:pt x="86" y="1084"/>
                </a:lnTo>
                <a:lnTo>
                  <a:pt x="78" y="1069"/>
                </a:lnTo>
                <a:lnTo>
                  <a:pt x="67" y="1052"/>
                </a:lnTo>
                <a:lnTo>
                  <a:pt x="55" y="1034"/>
                </a:lnTo>
                <a:lnTo>
                  <a:pt x="48" y="1019"/>
                </a:lnTo>
                <a:lnTo>
                  <a:pt x="38" y="1004"/>
                </a:lnTo>
                <a:lnTo>
                  <a:pt x="30" y="990"/>
                </a:lnTo>
                <a:lnTo>
                  <a:pt x="25" y="977"/>
                </a:lnTo>
                <a:lnTo>
                  <a:pt x="17" y="963"/>
                </a:lnTo>
                <a:lnTo>
                  <a:pt x="13" y="950"/>
                </a:lnTo>
                <a:lnTo>
                  <a:pt x="9" y="939"/>
                </a:lnTo>
                <a:lnTo>
                  <a:pt x="5" y="927"/>
                </a:lnTo>
                <a:lnTo>
                  <a:pt x="2" y="917"/>
                </a:lnTo>
                <a:lnTo>
                  <a:pt x="2" y="908"/>
                </a:lnTo>
                <a:lnTo>
                  <a:pt x="0" y="898"/>
                </a:lnTo>
                <a:lnTo>
                  <a:pt x="0" y="889"/>
                </a:lnTo>
                <a:lnTo>
                  <a:pt x="2" y="881"/>
                </a:lnTo>
                <a:lnTo>
                  <a:pt x="4" y="873"/>
                </a:lnTo>
                <a:lnTo>
                  <a:pt x="7" y="864"/>
                </a:lnTo>
                <a:lnTo>
                  <a:pt x="13" y="856"/>
                </a:lnTo>
                <a:lnTo>
                  <a:pt x="19" y="850"/>
                </a:lnTo>
                <a:lnTo>
                  <a:pt x="25" y="844"/>
                </a:lnTo>
                <a:lnTo>
                  <a:pt x="28" y="843"/>
                </a:lnTo>
                <a:lnTo>
                  <a:pt x="32" y="843"/>
                </a:lnTo>
                <a:lnTo>
                  <a:pt x="36" y="843"/>
                </a:lnTo>
                <a:lnTo>
                  <a:pt x="42" y="841"/>
                </a:lnTo>
                <a:lnTo>
                  <a:pt x="46" y="843"/>
                </a:lnTo>
                <a:lnTo>
                  <a:pt x="52" y="843"/>
                </a:lnTo>
                <a:lnTo>
                  <a:pt x="59" y="844"/>
                </a:lnTo>
                <a:lnTo>
                  <a:pt x="65" y="846"/>
                </a:lnTo>
                <a:lnTo>
                  <a:pt x="75" y="852"/>
                </a:lnTo>
                <a:lnTo>
                  <a:pt x="84" y="856"/>
                </a:lnTo>
                <a:lnTo>
                  <a:pt x="92" y="860"/>
                </a:lnTo>
                <a:lnTo>
                  <a:pt x="101" y="864"/>
                </a:lnTo>
                <a:lnTo>
                  <a:pt x="109" y="866"/>
                </a:lnTo>
                <a:lnTo>
                  <a:pt x="117" y="866"/>
                </a:lnTo>
                <a:lnTo>
                  <a:pt x="119" y="866"/>
                </a:lnTo>
                <a:lnTo>
                  <a:pt x="123" y="864"/>
                </a:lnTo>
                <a:lnTo>
                  <a:pt x="124" y="862"/>
                </a:lnTo>
                <a:lnTo>
                  <a:pt x="128" y="860"/>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Freeform 35"/>
          <p:cNvSpPr/>
          <p:nvPr/>
        </p:nvSpPr>
        <p:spPr>
          <a:xfrm>
            <a:off x="5681520" y="3529080"/>
            <a:ext cx="314640" cy="376200"/>
          </a:xfrm>
          <a:custGeom>
            <a:avLst/>
            <a:gdLst/>
            <a:ahLst/>
            <a:rect l="l" t="t" r="r" b="b"/>
            <a:pathLst>
              <a:path w="395" h="474">
                <a:moveTo>
                  <a:pt x="386" y="278"/>
                </a:moveTo>
                <a:lnTo>
                  <a:pt x="389" y="294"/>
                </a:lnTo>
                <a:lnTo>
                  <a:pt x="393" y="309"/>
                </a:lnTo>
                <a:lnTo>
                  <a:pt x="395" y="326"/>
                </a:lnTo>
                <a:lnTo>
                  <a:pt x="395" y="343"/>
                </a:lnTo>
                <a:lnTo>
                  <a:pt x="395" y="361"/>
                </a:lnTo>
                <a:lnTo>
                  <a:pt x="393" y="378"/>
                </a:lnTo>
                <a:lnTo>
                  <a:pt x="389" y="393"/>
                </a:lnTo>
                <a:lnTo>
                  <a:pt x="386" y="409"/>
                </a:lnTo>
                <a:lnTo>
                  <a:pt x="376" y="422"/>
                </a:lnTo>
                <a:lnTo>
                  <a:pt x="366" y="436"/>
                </a:lnTo>
                <a:lnTo>
                  <a:pt x="359" y="447"/>
                </a:lnTo>
                <a:lnTo>
                  <a:pt x="349" y="457"/>
                </a:lnTo>
                <a:lnTo>
                  <a:pt x="343" y="460"/>
                </a:lnTo>
                <a:lnTo>
                  <a:pt x="340" y="464"/>
                </a:lnTo>
                <a:lnTo>
                  <a:pt x="334" y="466"/>
                </a:lnTo>
                <a:lnTo>
                  <a:pt x="330" y="470"/>
                </a:lnTo>
                <a:lnTo>
                  <a:pt x="326" y="472"/>
                </a:lnTo>
                <a:lnTo>
                  <a:pt x="320" y="472"/>
                </a:lnTo>
                <a:lnTo>
                  <a:pt x="316" y="474"/>
                </a:lnTo>
                <a:lnTo>
                  <a:pt x="313" y="474"/>
                </a:lnTo>
                <a:lnTo>
                  <a:pt x="307" y="474"/>
                </a:lnTo>
                <a:lnTo>
                  <a:pt x="301" y="470"/>
                </a:lnTo>
                <a:lnTo>
                  <a:pt x="293" y="466"/>
                </a:lnTo>
                <a:lnTo>
                  <a:pt x="286" y="460"/>
                </a:lnTo>
                <a:lnTo>
                  <a:pt x="278" y="451"/>
                </a:lnTo>
                <a:lnTo>
                  <a:pt x="268" y="441"/>
                </a:lnTo>
                <a:lnTo>
                  <a:pt x="259" y="430"/>
                </a:lnTo>
                <a:lnTo>
                  <a:pt x="247" y="416"/>
                </a:lnTo>
                <a:lnTo>
                  <a:pt x="236" y="403"/>
                </a:lnTo>
                <a:lnTo>
                  <a:pt x="224" y="386"/>
                </a:lnTo>
                <a:lnTo>
                  <a:pt x="211" y="368"/>
                </a:lnTo>
                <a:lnTo>
                  <a:pt x="197" y="347"/>
                </a:lnTo>
                <a:lnTo>
                  <a:pt x="184" y="326"/>
                </a:lnTo>
                <a:lnTo>
                  <a:pt x="169" y="303"/>
                </a:lnTo>
                <a:lnTo>
                  <a:pt x="153" y="278"/>
                </a:lnTo>
                <a:lnTo>
                  <a:pt x="138" y="253"/>
                </a:lnTo>
                <a:lnTo>
                  <a:pt x="121" y="226"/>
                </a:lnTo>
                <a:lnTo>
                  <a:pt x="103" y="201"/>
                </a:lnTo>
                <a:lnTo>
                  <a:pt x="88" y="177"/>
                </a:lnTo>
                <a:lnTo>
                  <a:pt x="73" y="155"/>
                </a:lnTo>
                <a:lnTo>
                  <a:pt x="61" y="134"/>
                </a:lnTo>
                <a:lnTo>
                  <a:pt x="48" y="115"/>
                </a:lnTo>
                <a:lnTo>
                  <a:pt x="38" y="96"/>
                </a:lnTo>
                <a:lnTo>
                  <a:pt x="28" y="81"/>
                </a:lnTo>
                <a:lnTo>
                  <a:pt x="21" y="65"/>
                </a:lnTo>
                <a:lnTo>
                  <a:pt x="13" y="52"/>
                </a:lnTo>
                <a:lnTo>
                  <a:pt x="7" y="40"/>
                </a:lnTo>
                <a:lnTo>
                  <a:pt x="4" y="29"/>
                </a:lnTo>
                <a:lnTo>
                  <a:pt x="2" y="21"/>
                </a:lnTo>
                <a:lnTo>
                  <a:pt x="0" y="13"/>
                </a:lnTo>
                <a:lnTo>
                  <a:pt x="0" y="10"/>
                </a:lnTo>
                <a:lnTo>
                  <a:pt x="2" y="6"/>
                </a:lnTo>
                <a:lnTo>
                  <a:pt x="4" y="4"/>
                </a:lnTo>
                <a:lnTo>
                  <a:pt x="7" y="2"/>
                </a:lnTo>
                <a:lnTo>
                  <a:pt x="11" y="0"/>
                </a:lnTo>
                <a:lnTo>
                  <a:pt x="15" y="0"/>
                </a:lnTo>
                <a:lnTo>
                  <a:pt x="21" y="0"/>
                </a:lnTo>
                <a:lnTo>
                  <a:pt x="27" y="0"/>
                </a:lnTo>
                <a:lnTo>
                  <a:pt x="34" y="2"/>
                </a:lnTo>
                <a:lnTo>
                  <a:pt x="42" y="2"/>
                </a:lnTo>
                <a:lnTo>
                  <a:pt x="50" y="4"/>
                </a:lnTo>
                <a:lnTo>
                  <a:pt x="59" y="6"/>
                </a:lnTo>
                <a:lnTo>
                  <a:pt x="71" y="8"/>
                </a:lnTo>
                <a:lnTo>
                  <a:pt x="82" y="10"/>
                </a:lnTo>
                <a:lnTo>
                  <a:pt x="94" y="11"/>
                </a:lnTo>
                <a:lnTo>
                  <a:pt x="107" y="13"/>
                </a:lnTo>
                <a:lnTo>
                  <a:pt x="123" y="15"/>
                </a:lnTo>
                <a:lnTo>
                  <a:pt x="138" y="19"/>
                </a:lnTo>
                <a:lnTo>
                  <a:pt x="165" y="29"/>
                </a:lnTo>
                <a:lnTo>
                  <a:pt x="192" y="40"/>
                </a:lnTo>
                <a:lnTo>
                  <a:pt x="215" y="54"/>
                </a:lnTo>
                <a:lnTo>
                  <a:pt x="238" y="65"/>
                </a:lnTo>
                <a:lnTo>
                  <a:pt x="259" y="79"/>
                </a:lnTo>
                <a:lnTo>
                  <a:pt x="270" y="86"/>
                </a:lnTo>
                <a:lnTo>
                  <a:pt x="280" y="94"/>
                </a:lnTo>
                <a:lnTo>
                  <a:pt x="288" y="102"/>
                </a:lnTo>
                <a:lnTo>
                  <a:pt x="297" y="107"/>
                </a:lnTo>
                <a:lnTo>
                  <a:pt x="305" y="115"/>
                </a:lnTo>
                <a:lnTo>
                  <a:pt x="313" y="123"/>
                </a:lnTo>
                <a:lnTo>
                  <a:pt x="324" y="142"/>
                </a:lnTo>
                <a:lnTo>
                  <a:pt x="338" y="161"/>
                </a:lnTo>
                <a:lnTo>
                  <a:pt x="347" y="180"/>
                </a:lnTo>
                <a:lnTo>
                  <a:pt x="359" y="201"/>
                </a:lnTo>
                <a:lnTo>
                  <a:pt x="366" y="221"/>
                </a:lnTo>
                <a:lnTo>
                  <a:pt x="374" y="240"/>
                </a:lnTo>
                <a:lnTo>
                  <a:pt x="380" y="259"/>
                </a:lnTo>
                <a:lnTo>
                  <a:pt x="386" y="278"/>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36"/>
          <p:cNvSpPr/>
          <p:nvPr/>
        </p:nvSpPr>
        <p:spPr>
          <a:xfrm>
            <a:off x="5948280" y="2965320"/>
            <a:ext cx="336600" cy="331920"/>
          </a:xfrm>
          <a:custGeom>
            <a:avLst/>
            <a:gdLst/>
            <a:ahLst/>
            <a:rect l="l" t="t" r="r" b="b"/>
            <a:pathLst>
              <a:path w="424" h="416">
                <a:moveTo>
                  <a:pt x="0" y="27"/>
                </a:moveTo>
                <a:lnTo>
                  <a:pt x="0" y="23"/>
                </a:lnTo>
                <a:lnTo>
                  <a:pt x="2" y="21"/>
                </a:lnTo>
                <a:lnTo>
                  <a:pt x="2" y="19"/>
                </a:lnTo>
                <a:lnTo>
                  <a:pt x="5" y="17"/>
                </a:lnTo>
                <a:lnTo>
                  <a:pt x="7" y="15"/>
                </a:lnTo>
                <a:lnTo>
                  <a:pt x="11" y="12"/>
                </a:lnTo>
                <a:lnTo>
                  <a:pt x="15" y="10"/>
                </a:lnTo>
                <a:lnTo>
                  <a:pt x="21" y="8"/>
                </a:lnTo>
                <a:lnTo>
                  <a:pt x="27" y="6"/>
                </a:lnTo>
                <a:lnTo>
                  <a:pt x="32" y="6"/>
                </a:lnTo>
                <a:lnTo>
                  <a:pt x="40" y="4"/>
                </a:lnTo>
                <a:lnTo>
                  <a:pt x="48" y="2"/>
                </a:lnTo>
                <a:lnTo>
                  <a:pt x="55" y="2"/>
                </a:lnTo>
                <a:lnTo>
                  <a:pt x="65" y="0"/>
                </a:lnTo>
                <a:lnTo>
                  <a:pt x="76" y="0"/>
                </a:lnTo>
                <a:lnTo>
                  <a:pt x="88" y="0"/>
                </a:lnTo>
                <a:lnTo>
                  <a:pt x="98" y="0"/>
                </a:lnTo>
                <a:lnTo>
                  <a:pt x="107" y="2"/>
                </a:lnTo>
                <a:lnTo>
                  <a:pt x="117" y="2"/>
                </a:lnTo>
                <a:lnTo>
                  <a:pt x="128" y="4"/>
                </a:lnTo>
                <a:lnTo>
                  <a:pt x="140" y="8"/>
                </a:lnTo>
                <a:lnTo>
                  <a:pt x="153" y="10"/>
                </a:lnTo>
                <a:lnTo>
                  <a:pt x="167" y="13"/>
                </a:lnTo>
                <a:lnTo>
                  <a:pt x="178" y="17"/>
                </a:lnTo>
                <a:lnTo>
                  <a:pt x="207" y="27"/>
                </a:lnTo>
                <a:lnTo>
                  <a:pt x="236" y="38"/>
                </a:lnTo>
                <a:lnTo>
                  <a:pt x="267" y="52"/>
                </a:lnTo>
                <a:lnTo>
                  <a:pt x="299" y="65"/>
                </a:lnTo>
                <a:lnTo>
                  <a:pt x="315" y="75"/>
                </a:lnTo>
                <a:lnTo>
                  <a:pt x="328" y="86"/>
                </a:lnTo>
                <a:lnTo>
                  <a:pt x="343" y="96"/>
                </a:lnTo>
                <a:lnTo>
                  <a:pt x="355" y="107"/>
                </a:lnTo>
                <a:lnTo>
                  <a:pt x="368" y="119"/>
                </a:lnTo>
                <a:lnTo>
                  <a:pt x="378" y="130"/>
                </a:lnTo>
                <a:lnTo>
                  <a:pt x="389" y="142"/>
                </a:lnTo>
                <a:lnTo>
                  <a:pt x="397" y="155"/>
                </a:lnTo>
                <a:lnTo>
                  <a:pt x="405" y="169"/>
                </a:lnTo>
                <a:lnTo>
                  <a:pt x="411" y="182"/>
                </a:lnTo>
                <a:lnTo>
                  <a:pt x="416" y="196"/>
                </a:lnTo>
                <a:lnTo>
                  <a:pt x="420" y="209"/>
                </a:lnTo>
                <a:lnTo>
                  <a:pt x="422" y="224"/>
                </a:lnTo>
                <a:lnTo>
                  <a:pt x="424" y="240"/>
                </a:lnTo>
                <a:lnTo>
                  <a:pt x="424" y="257"/>
                </a:lnTo>
                <a:lnTo>
                  <a:pt x="422" y="274"/>
                </a:lnTo>
                <a:lnTo>
                  <a:pt x="420" y="290"/>
                </a:lnTo>
                <a:lnTo>
                  <a:pt x="416" y="305"/>
                </a:lnTo>
                <a:lnTo>
                  <a:pt x="414" y="320"/>
                </a:lnTo>
                <a:lnTo>
                  <a:pt x="411" y="334"/>
                </a:lnTo>
                <a:lnTo>
                  <a:pt x="407" y="347"/>
                </a:lnTo>
                <a:lnTo>
                  <a:pt x="405" y="359"/>
                </a:lnTo>
                <a:lnTo>
                  <a:pt x="401" y="370"/>
                </a:lnTo>
                <a:lnTo>
                  <a:pt x="397" y="380"/>
                </a:lnTo>
                <a:lnTo>
                  <a:pt x="393" y="388"/>
                </a:lnTo>
                <a:lnTo>
                  <a:pt x="389" y="395"/>
                </a:lnTo>
                <a:lnTo>
                  <a:pt x="388" y="401"/>
                </a:lnTo>
                <a:lnTo>
                  <a:pt x="384" y="407"/>
                </a:lnTo>
                <a:lnTo>
                  <a:pt x="380" y="411"/>
                </a:lnTo>
                <a:lnTo>
                  <a:pt x="378" y="414"/>
                </a:lnTo>
                <a:lnTo>
                  <a:pt x="374" y="416"/>
                </a:lnTo>
                <a:lnTo>
                  <a:pt x="372" y="416"/>
                </a:lnTo>
                <a:lnTo>
                  <a:pt x="366" y="416"/>
                </a:lnTo>
                <a:lnTo>
                  <a:pt x="363" y="414"/>
                </a:lnTo>
                <a:lnTo>
                  <a:pt x="355" y="413"/>
                </a:lnTo>
                <a:lnTo>
                  <a:pt x="349" y="409"/>
                </a:lnTo>
                <a:lnTo>
                  <a:pt x="341" y="405"/>
                </a:lnTo>
                <a:lnTo>
                  <a:pt x="334" y="401"/>
                </a:lnTo>
                <a:lnTo>
                  <a:pt x="326" y="393"/>
                </a:lnTo>
                <a:lnTo>
                  <a:pt x="316" y="388"/>
                </a:lnTo>
                <a:lnTo>
                  <a:pt x="307" y="380"/>
                </a:lnTo>
                <a:lnTo>
                  <a:pt x="297" y="370"/>
                </a:lnTo>
                <a:lnTo>
                  <a:pt x="286" y="361"/>
                </a:lnTo>
                <a:lnTo>
                  <a:pt x="274" y="351"/>
                </a:lnTo>
                <a:lnTo>
                  <a:pt x="263" y="340"/>
                </a:lnTo>
                <a:lnTo>
                  <a:pt x="249" y="326"/>
                </a:lnTo>
                <a:lnTo>
                  <a:pt x="238" y="313"/>
                </a:lnTo>
                <a:lnTo>
                  <a:pt x="224" y="299"/>
                </a:lnTo>
                <a:lnTo>
                  <a:pt x="211" y="288"/>
                </a:lnTo>
                <a:lnTo>
                  <a:pt x="197" y="274"/>
                </a:lnTo>
                <a:lnTo>
                  <a:pt x="172" y="249"/>
                </a:lnTo>
                <a:lnTo>
                  <a:pt x="149" y="226"/>
                </a:lnTo>
                <a:lnTo>
                  <a:pt x="128" y="203"/>
                </a:lnTo>
                <a:lnTo>
                  <a:pt x="109" y="180"/>
                </a:lnTo>
                <a:lnTo>
                  <a:pt x="92" y="159"/>
                </a:lnTo>
                <a:lnTo>
                  <a:pt x="76" y="138"/>
                </a:lnTo>
                <a:lnTo>
                  <a:pt x="63" y="117"/>
                </a:lnTo>
                <a:lnTo>
                  <a:pt x="50" y="102"/>
                </a:lnTo>
                <a:lnTo>
                  <a:pt x="36" y="88"/>
                </a:lnTo>
                <a:lnTo>
                  <a:pt x="27" y="75"/>
                </a:lnTo>
                <a:lnTo>
                  <a:pt x="17" y="61"/>
                </a:lnTo>
                <a:lnTo>
                  <a:pt x="9" y="50"/>
                </a:lnTo>
                <a:lnTo>
                  <a:pt x="7" y="46"/>
                </a:lnTo>
                <a:lnTo>
                  <a:pt x="4" y="40"/>
                </a:lnTo>
                <a:lnTo>
                  <a:pt x="2" y="36"/>
                </a:lnTo>
                <a:lnTo>
                  <a:pt x="2" y="33"/>
                </a:lnTo>
                <a:lnTo>
                  <a:pt x="0" y="29"/>
                </a:lnTo>
                <a:lnTo>
                  <a:pt x="0" y="27"/>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44"/>
                                        </p:tgtEl>
                                        <p:attrNameLst>
                                          <p:attrName>style.visibility</p:attrName>
                                        </p:attrNameLst>
                                      </p:cBhvr>
                                      <p:to>
                                        <p:strVal val="visible"/>
                                      </p:to>
                                    </p:set>
                                    <p:anim calcmode="lin" valueType="num">
                                      <p:cBhvr additive="base">
                                        <p:cTn id="219" dur="500" fill="hold"/>
                                        <p:tgtEl>
                                          <p:spTgt spid="144"/>
                                        </p:tgtEl>
                                        <p:attrNameLst>
                                          <p:attrName>ppt_x</p:attrName>
                                        </p:attrNameLst>
                                      </p:cBhvr>
                                      <p:tavLst>
                                        <p:tav tm="0">
                                          <p:val>
                                            <p:strVal val="0-#ppt_w/2"/>
                                          </p:val>
                                        </p:tav>
                                        <p:tav tm="100000">
                                          <p:val>
                                            <p:strVal val="#ppt_x"/>
                                          </p:val>
                                        </p:tav>
                                      </p:tavLst>
                                    </p:anim>
                                    <p:anim calcmode="lin" valueType="num">
                                      <p:cBhvr additive="base">
                                        <p:cTn id="220"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52"/>
                                        </p:tgtEl>
                                        <p:attrNameLst>
                                          <p:attrName>style.visibility</p:attrName>
                                        </p:attrNameLst>
                                      </p:cBhvr>
                                      <p:to>
                                        <p:strVal val="visible"/>
                                      </p:to>
                                    </p:set>
                                    <p:animEffect filter="wipe(left)" transition="in">
                                      <p:cBhvr additive="repl">
                                        <p:cTn id="225" dur="500"/>
                                        <p:tgtEl>
                                          <p:spTgt spid="152"/>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51"/>
                                        </p:tgtEl>
                                        <p:attrNameLst>
                                          <p:attrName>style.visibility</p:attrName>
                                        </p:attrNameLst>
                                      </p:cBhvr>
                                      <p:to>
                                        <p:strVal val="visible"/>
                                      </p:to>
                                    </p:set>
                                    <p:animEffect filter="wipe(left)" transition="in">
                                      <p:cBhvr additive="repl">
                                        <p:cTn id="230" dur="500"/>
                                        <p:tgtEl>
                                          <p:spTgt spid="151"/>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50"/>
                                        </p:tgtEl>
                                        <p:attrNameLst>
                                          <p:attrName>style.visibility</p:attrName>
                                        </p:attrNameLst>
                                      </p:cBhvr>
                                      <p:to>
                                        <p:strVal val="visible"/>
                                      </p:to>
                                    </p:set>
                                    <p:animEffect filter="wipe(left)" transition="in">
                                      <p:cBhvr additive="repl">
                                        <p:cTn id="235" dur="500"/>
                                        <p:tgtEl>
                                          <p:spTgt spid="150"/>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8" presetSubtype="6">
                                  <p:stCondLst>
                                    <p:cond delay="0"/>
                                  </p:stCondLst>
                                  <p:childTnLst>
                                    <p:set>
                                      <p:cBhvr>
                                        <p:cTn id="239" dur="1" fill="hold">
                                          <p:stCondLst>
                                            <p:cond delay="0"/>
                                          </p:stCondLst>
                                        </p:cTn>
                                        <p:tgtEl>
                                          <p:spTgt spid="145"/>
                                        </p:tgtEl>
                                        <p:attrNameLst>
                                          <p:attrName>style.visibility</p:attrName>
                                        </p:attrNameLst>
                                      </p:cBhvr>
                                      <p:to>
                                        <p:strVal val="visible"/>
                                      </p:to>
                                    </p:set>
                                    <p:animEffect filter="strips(downRight)" transition="in">
                                      <p:cBhvr additive="repl">
                                        <p:cTn id="240" dur="500"/>
                                        <p:tgtEl>
                                          <p:spTgt spid="145"/>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46"/>
                                        </p:tgtEl>
                                        <p:attrNameLst>
                                          <p:attrName>style.visibility</p:attrName>
                                        </p:attrNameLst>
                                      </p:cBhvr>
                                      <p:to>
                                        <p:strVal val="visible"/>
                                      </p:to>
                                    </p:set>
                                    <p:animEffect filter="wipe(up)" transition="in">
                                      <p:cBhvr additive="repl">
                                        <p:cTn id="245" dur="500"/>
                                        <p:tgtEl>
                                          <p:spTgt spid="146"/>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47"/>
                                        </p:tgtEl>
                                        <p:attrNameLst>
                                          <p:attrName>style.visibility</p:attrName>
                                        </p:attrNameLst>
                                      </p:cBhvr>
                                      <p:to>
                                        <p:strVal val="visible"/>
                                      </p:to>
                                    </p:set>
                                    <p:animEffect filter="wipe(up)" transition="in">
                                      <p:cBhvr additive="repl">
                                        <p:cTn id="250" dur="500"/>
                                        <p:tgtEl>
                                          <p:spTgt spid="147"/>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8" presetSubtype="6">
                                  <p:stCondLst>
                                    <p:cond delay="0"/>
                                  </p:stCondLst>
                                  <p:childTnLst>
                                    <p:set>
                                      <p:cBhvr>
                                        <p:cTn id="254" dur="1" fill="hold">
                                          <p:stCondLst>
                                            <p:cond delay="0"/>
                                          </p:stCondLst>
                                        </p:cTn>
                                        <p:tgtEl>
                                          <p:spTgt spid="148"/>
                                        </p:tgtEl>
                                        <p:attrNameLst>
                                          <p:attrName>style.visibility</p:attrName>
                                        </p:attrNameLst>
                                      </p:cBhvr>
                                      <p:to>
                                        <p:strVal val="visible"/>
                                      </p:to>
                                    </p:set>
                                    <p:animEffect filter="strips(downRight)" transition="in">
                                      <p:cBhvr additive="repl">
                                        <p:cTn id="255" dur="500"/>
                                        <p:tgtEl>
                                          <p:spTgt spid="148"/>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49"/>
                                        </p:tgtEl>
                                        <p:attrNameLst>
                                          <p:attrName>style.visibility</p:attrName>
                                        </p:attrNameLst>
                                      </p:cBhvr>
                                      <p:to>
                                        <p:strVal val="visible"/>
                                      </p:to>
                                    </p:set>
                                    <p:animEffect filter="wipe(left)" transition="in">
                                      <p:cBhvr additive="repl">
                                        <p:cTn id="260" dur="500"/>
                                        <p:tgtEl>
                                          <p:spTgt spid="14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3" presetSubtype="16">
                                  <p:stCondLst>
                                    <p:cond delay="0"/>
                                  </p:stCondLst>
                                  <p:childTnLst>
                                    <p:set>
                                      <p:cBhvr>
                                        <p:cTn id="264" dur="1" fill="hold">
                                          <p:stCondLst>
                                            <p:cond delay="0"/>
                                          </p:stCondLst>
                                        </p:cTn>
                                        <p:tgtEl>
                                          <p:spTgt spid="141"/>
                                        </p:tgtEl>
                                        <p:attrNameLst>
                                          <p:attrName>style.visibility</p:attrName>
                                        </p:attrNameLst>
                                      </p:cBhvr>
                                      <p:to>
                                        <p:strVal val="visible"/>
                                      </p:to>
                                    </p:set>
                                    <p:anim calcmode="lin" valueType="num">
                                      <p:cBhvr additive="repl">
                                        <p:cTn id="265" dur="500" fill="hold"/>
                                        <p:tgtEl>
                                          <p:spTgt spid="141"/>
                                        </p:tgtEl>
                                        <p:attrNameLst>
                                          <p:attrName>ppt_w</p:attrName>
                                        </p:attrNameLst>
                                      </p:cBhvr>
                                      <p:tavLst>
                                        <p:tav tm="0">
                                          <p:val>
                                            <p:fltVal val="0"/>
                                          </p:val>
                                        </p:tav>
                                        <p:tav tm="100000">
                                          <p:val>
                                            <p:strVal val="#ppt_w"/>
                                          </p:val>
                                        </p:tav>
                                      </p:tavLst>
                                    </p:anim>
                                    <p:anim calcmode="lin" valueType="num">
                                      <p:cBhvr additive="repl">
                                        <p:cTn id="266" dur="500" fill="hold"/>
                                        <p:tgtEl>
                                          <p:spTgt spid="141"/>
                                        </p:tgtEl>
                                        <p:attrNameLst>
                                          <p:attrName>ppt_h</p:attrName>
                                        </p:attrNameLst>
                                      </p:cBhvr>
                                      <p:tavLst>
                                        <p:tav tm="0">
                                          <p:val>
                                            <p:fltVal val="0"/>
                                          </p:val>
                                        </p:tav>
                                        <p:tav tm="100000">
                                          <p:val>
                                            <p:strVal val="#ppt_h"/>
                                          </p:val>
                                        </p:tav>
                                      </p:tavLst>
                                    </p:anim>
                                    <p:animEffect filter="fade" transition="in">
                                      <p:cBhvr additive="repl">
                                        <p:cTn id="26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24T02:25:04Z</dcterms:modified>
  <cp:revision>45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