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ED6F-00ED-4886-964E-F72621988D9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D5F5-D0E8-44FE-BB3D-ABDA874060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508720" y="47628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七       垂线和平行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40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41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42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43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44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45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4809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画平行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1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17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矩形 12" descr=""/>
          <p:cNvPicPr/>
          <p:nvPr/>
        </p:nvPicPr>
        <p:blipFill>
          <a:blip r:embed="rId5"/>
          <a:stretch/>
        </p:blipFill>
        <p:spPr>
          <a:xfrm>
            <a:off x="1468440" y="1328760"/>
            <a:ext cx="6207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0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1449360" y="2637000"/>
            <a:ext cx="69390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正确区别平行与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三条线段之间的位置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5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36"/>
          <p:cNvSpPr/>
          <p:nvPr/>
        </p:nvSpPr>
        <p:spPr>
          <a:xfrm>
            <a:off x="819000" y="1728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一个长方形中，相邻的两条边互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相对的两条边互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车在笔直的铁路上行驶，两排铁轨之间可以看作是一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65044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3425400" y="297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653920" y="4062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行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6"/>
          <p:cNvSpPr/>
          <p:nvPr/>
        </p:nvSpPr>
        <p:spPr>
          <a:xfrm>
            <a:off x="819000" y="1728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大写正体英文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只有互相平行关系的字母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   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只有互相垂直关系的字母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既有互相平行关系，又有互相垂直关系的字母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1518120" y="2967120"/>
            <a:ext cx="20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1632960" y="3527280"/>
            <a:ext cx="13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3548880" y="4059360"/>
            <a:ext cx="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6"/>
          <p:cNvSpPr/>
          <p:nvPr/>
        </p:nvSpPr>
        <p:spPr>
          <a:xfrm>
            <a:off x="819000" y="1728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在同一个平面内摆一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第一根小棒和第二根小棒都摆成与第三根小棒互相垂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发现：第一根小棒和第二根小棒互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6932160" y="35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6"/>
          <p:cNvSpPr/>
          <p:nvPr/>
        </p:nvSpPr>
        <p:spPr>
          <a:xfrm>
            <a:off x="819000" y="172872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第一根小棒和第二根小棒都摆成与第三根小棒互相平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发现：第一根小棒和第二根小棒互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根小棒和第二根小棒互相垂直，第二根小棒和第三根小棒互相平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发现：第一根小棒和第三根小棒互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932160" y="2970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6891120" y="4622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6"/>
          <p:cNvSpPr/>
          <p:nvPr/>
        </p:nvSpPr>
        <p:spPr>
          <a:xfrm>
            <a:off x="819000" y="1728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折一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一张长方形纸向同一方向对折两次，展开后三条折痕互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一张长方形纸先上下对折，再左右对折，展开后两条折痕互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2896200" y="2976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3501000" y="4064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05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Box 36"/>
          <p:cNvSpPr/>
          <p:nvPr/>
        </p:nvSpPr>
        <p:spPr>
          <a:xfrm>
            <a:off x="819000" y="1728720"/>
            <a:ext cx="74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图形中，你能找出几组平行线？找出几组相交且互相垂直的线段？请你一一写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2"/>
          <a:stretch/>
        </p:blipFill>
        <p:spPr>
          <a:xfrm>
            <a:off x="3281400" y="3146400"/>
            <a:ext cx="30193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6"/>
          <p:cNvSpPr/>
          <p:nvPr/>
        </p:nvSpPr>
        <p:spPr>
          <a:xfrm>
            <a:off x="1200240" y="2043000"/>
            <a:ext cx="675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行线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组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交且互相垂直的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组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11-12T12:58:07Z</dcterms:modified>
  <cp:revision>3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