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3A80A-1D36-442F-89BD-B2ACC1A526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BE992-6BA2-4B74-8788-C7A3E39833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6E0FE-29EC-42ED-AD3A-4FDD6E1525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C8DD3-ED06-4486-9854-B483CEABB7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带小括号的乘除混合运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6"/>
          <p:cNvSpPr/>
          <p:nvPr/>
        </p:nvSpPr>
        <p:spPr>
          <a:xfrm>
            <a:off x="952560" y="166212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阿姨是一位做儿童服装的巧 手，一周可以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套儿童服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照这样计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可以做多少套儿童服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套儿童服装需要多 少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1074600" y="4118040"/>
            <a:ext cx="52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75×(15÷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可以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套儿童服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120÷(75÷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套儿童服装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940360" y="3525840"/>
            <a:ext cx="240660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7"/>
          <p:cNvGrpSpPr/>
          <p:nvPr/>
        </p:nvGrpSpPr>
        <p:grpSpPr>
          <a:xfrm>
            <a:off x="957240" y="994320"/>
            <a:ext cx="5545080" cy="733680"/>
            <a:chOff x="957240" y="994320"/>
            <a:chExt cx="5545080" cy="733680"/>
          </a:xfrm>
        </p:grpSpPr>
        <p:pic>
          <p:nvPicPr>
            <p:cNvPr id="176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2517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23"/>
            <p:cNvSpPr/>
            <p:nvPr/>
          </p:nvSpPr>
          <p:spPr>
            <a:xfrm>
              <a:off x="1279440" y="994320"/>
              <a:ext cx="5222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3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6"/>
          <p:cNvSpPr/>
          <p:nvPr/>
        </p:nvSpPr>
        <p:spPr>
          <a:xfrm>
            <a:off x="952560" y="119844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一辆货车运苹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照这样计算，这辆货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运多少箱苹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箱苹果运到库房，这辆货车要运多少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2087640" y="39718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5×(255÷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辆货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箱苹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680÷(255÷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辆货车要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300320" y="1708200"/>
            <a:ext cx="65228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6"/>
          <p:cNvSpPr/>
          <p:nvPr/>
        </p:nvSpPr>
        <p:spPr>
          <a:xfrm>
            <a:off x="952560" y="148428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冬冬家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米的土地上共育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。照这样计算，要 育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需要多大面积的土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400480" y="3459240"/>
            <a:ext cx="47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0÷(135÷1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米的土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36"/>
          <p:cNvSpPr/>
          <p:nvPr/>
        </p:nvSpPr>
        <p:spPr>
          <a:xfrm>
            <a:off x="952560" y="133524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头奶牛每星期要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词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照这样计算，王大爷养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奶牛，每天要吃多少千克 饲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大爷刚买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伺料，够这些奶牛吃几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1541520" y="3672000"/>
            <a:ext cx="709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4×(154÷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天要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饲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800÷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           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够这些奶牛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4156200" y="4811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6"/>
          <p:cNvSpPr/>
          <p:nvPr/>
        </p:nvSpPr>
        <p:spPr>
          <a:xfrm>
            <a:off x="952560" y="1457280"/>
            <a:ext cx="64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化工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份节约用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。照这样计算，第三季度一 共可以节约用水多少吨？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6"/>
          <p:cNvSpPr/>
          <p:nvPr/>
        </p:nvSpPr>
        <p:spPr>
          <a:xfrm>
            <a:off x="1508040" y="3873600"/>
            <a:ext cx="614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×(806÷31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9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第三季度一共可以节约用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3274920" y="2739960"/>
            <a:ext cx="48182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6"/>
          <p:cNvSpPr/>
          <p:nvPr/>
        </p:nvSpPr>
        <p:spPr>
          <a:xfrm>
            <a:off x="1084320" y="1763640"/>
            <a:ext cx="70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÷(6×10)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×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9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5"/>
          <p:cNvSpPr/>
          <p:nvPr/>
        </p:nvSpPr>
        <p:spPr>
          <a:xfrm>
            <a:off x="1704960" y="4433760"/>
            <a:ext cx="57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带小括号的算式未先算小括号里的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401760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5508720" y="2282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÷(6×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÷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6"/>
          <p:cNvSpPr/>
          <p:nvPr/>
        </p:nvSpPr>
        <p:spPr>
          <a:xfrm>
            <a:off x="1060560" y="1312920"/>
            <a:ext cx="70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8244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筑路队修一条公路，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共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照这样计算，再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就完工了。这条公路全长为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8244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华列式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÷3×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8244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认为他做对了吗？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1533600" y="4183200"/>
            <a:ext cx="61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华列式错了，他算出的是剩下的公路长度，正确列式为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6÷3×(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0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1297080" y="3546360"/>
            <a:ext cx="6532560" cy="133344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874800" y="1630440"/>
            <a:ext cx="74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刚和小明分别从书店和学校同时出发去体育馆。小刚平均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如果两个人要同时到达，小明平均每分钟要走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479520" y="1000080"/>
            <a:ext cx="7866000" cy="666720"/>
            <a:chOff x="479520" y="1000080"/>
            <a:chExt cx="7866000" cy="666720"/>
          </a:xfrm>
        </p:grpSpPr>
        <p:sp>
          <p:nvSpPr>
            <p:cNvPr id="92" name="文本框 13"/>
            <p:cNvSpPr/>
            <p:nvPr/>
          </p:nvSpPr>
          <p:spPr>
            <a:xfrm>
              <a:off x="1638000" y="1071360"/>
              <a:ext cx="670752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解决问题方法和策略的多样化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组合 3"/>
          <p:cNvGrpSpPr/>
          <p:nvPr/>
        </p:nvGrpSpPr>
        <p:grpSpPr>
          <a:xfrm>
            <a:off x="479520" y="1819440"/>
            <a:ext cx="4571280" cy="628560"/>
            <a:chOff x="479520" y="1819440"/>
            <a:chExt cx="4571280" cy="628560"/>
          </a:xfrm>
        </p:grpSpPr>
        <p:sp>
          <p:nvSpPr>
            <p:cNvPr id="95" name="TextBox 35"/>
            <p:cNvSpPr/>
            <p:nvPr/>
          </p:nvSpPr>
          <p:spPr>
            <a:xfrm>
              <a:off x="1990080" y="1902960"/>
              <a:ext cx="30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视机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天生产电视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11" descr=""/>
            <p:cNvPicPr/>
            <p:nvPr/>
          </p:nvPicPr>
          <p:blipFill>
            <a:blip r:embed="rId2"/>
            <a:stretch/>
          </p:blipFill>
          <p:spPr>
            <a:xfrm>
              <a:off x="479520" y="1819440"/>
              <a:ext cx="63324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1"/>
          <p:cNvSpPr/>
          <p:nvPr/>
        </p:nvSpPr>
        <p:spPr>
          <a:xfrm>
            <a:off x="2370600" y="2448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照这样计算，半个月能生产电视机多少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6022800" y="2617920"/>
            <a:ext cx="3054600" cy="1038240"/>
            <a:chOff x="6022800" y="2617920"/>
            <a:chExt cx="3054600" cy="1038240"/>
          </a:xfrm>
        </p:grpSpPr>
        <p:pic>
          <p:nvPicPr>
            <p:cNvPr id="99" name="Picture 12" descr=""/>
            <p:cNvPicPr/>
            <p:nvPr/>
          </p:nvPicPr>
          <p:blipFill>
            <a:blip r:embed="rId3"/>
            <a:stretch/>
          </p:blipFill>
          <p:spPr>
            <a:xfrm>
              <a:off x="8186400" y="2617920"/>
              <a:ext cx="89100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"/>
            <p:cNvPicPr/>
            <p:nvPr/>
          </p:nvPicPr>
          <p:blipFill>
            <a:blip r:embed="rId4"/>
            <a:stretch/>
          </p:blipFill>
          <p:spPr>
            <a:xfrm>
              <a:off x="6022800" y="2972520"/>
              <a:ext cx="2015280" cy="4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14" descr=""/>
          <p:cNvPicPr/>
          <p:nvPr/>
        </p:nvPicPr>
        <p:blipFill>
          <a:blip r:embed="rId5"/>
          <a:stretch/>
        </p:blipFill>
        <p:spPr>
          <a:xfrm>
            <a:off x="795240" y="3402000"/>
            <a:ext cx="2210040" cy="85716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5474520" y="4861080"/>
            <a:ext cx="17413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÷3×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×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台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672200" y="4448160"/>
            <a:ext cx="237204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÷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台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台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6"/>
          <p:cNvGrpSpPr/>
          <p:nvPr/>
        </p:nvGrpSpPr>
        <p:grpSpPr>
          <a:xfrm>
            <a:off x="5743440" y="3871800"/>
            <a:ext cx="2575080" cy="962280"/>
            <a:chOff x="5743440" y="3871800"/>
            <a:chExt cx="2575080" cy="962280"/>
          </a:xfrm>
        </p:grpSpPr>
        <p:pic>
          <p:nvPicPr>
            <p:cNvPr id="105" name="Picture 15" descr=""/>
            <p:cNvPicPr/>
            <p:nvPr/>
          </p:nvPicPr>
          <p:blipFill>
            <a:blip r:embed="rId6"/>
            <a:stretch/>
          </p:blipFill>
          <p:spPr>
            <a:xfrm>
              <a:off x="5743440" y="3871800"/>
              <a:ext cx="17809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6" descr=""/>
            <p:cNvPicPr/>
            <p:nvPr/>
          </p:nvPicPr>
          <p:blipFill>
            <a:blip r:embed="rId7"/>
            <a:stretch/>
          </p:blipFill>
          <p:spPr>
            <a:xfrm>
              <a:off x="7642440" y="3871800"/>
              <a:ext cx="676080" cy="96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493560" y="1565280"/>
            <a:ext cx="2608560" cy="1355760"/>
            <a:chOff x="493560" y="1565280"/>
            <a:chExt cx="2608560" cy="1355760"/>
          </a:xfrm>
        </p:grpSpPr>
        <p:pic>
          <p:nvPicPr>
            <p:cNvPr id="110" name="Picture 10" descr=""/>
            <p:cNvPicPr/>
            <p:nvPr/>
          </p:nvPicPr>
          <p:blipFill>
            <a:blip r:embed="rId1"/>
            <a:stretch/>
          </p:blipFill>
          <p:spPr>
            <a:xfrm>
              <a:off x="493560" y="1671840"/>
              <a:ext cx="10602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"/>
            <p:cNvPicPr/>
            <p:nvPr/>
          </p:nvPicPr>
          <p:blipFill>
            <a:blip r:embed="rId2"/>
            <a:stretch/>
          </p:blipFill>
          <p:spPr>
            <a:xfrm>
              <a:off x="1205640" y="1565280"/>
              <a:ext cx="189648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4"/>
          <p:cNvGrpSpPr/>
          <p:nvPr/>
        </p:nvGrpSpPr>
        <p:grpSpPr>
          <a:xfrm>
            <a:off x="3997440" y="1058760"/>
            <a:ext cx="4189320" cy="1862280"/>
            <a:chOff x="3997440" y="1058760"/>
            <a:chExt cx="4189320" cy="1862280"/>
          </a:xfrm>
        </p:grpSpPr>
        <p:pic>
          <p:nvPicPr>
            <p:cNvPr id="113" name="Picture 13" descr=""/>
            <p:cNvPicPr/>
            <p:nvPr/>
          </p:nvPicPr>
          <p:blipFill>
            <a:blip r:embed="rId3"/>
            <a:stretch/>
          </p:blipFill>
          <p:spPr>
            <a:xfrm>
              <a:off x="6777360" y="1058760"/>
              <a:ext cx="140940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4" descr=""/>
            <p:cNvPicPr/>
            <p:nvPr/>
          </p:nvPicPr>
          <p:blipFill>
            <a:blip r:embed="rId4"/>
            <a:stretch/>
          </p:blipFill>
          <p:spPr>
            <a:xfrm>
              <a:off x="3997440" y="1762560"/>
              <a:ext cx="2779920" cy="115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组合 5"/>
          <p:cNvGrpSpPr/>
          <p:nvPr/>
        </p:nvGrpSpPr>
        <p:grpSpPr>
          <a:xfrm>
            <a:off x="4159080" y="2770200"/>
            <a:ext cx="4158000" cy="1314360"/>
            <a:chOff x="4159080" y="2770200"/>
            <a:chExt cx="4158000" cy="1314360"/>
          </a:xfrm>
        </p:grpSpPr>
        <p:pic>
          <p:nvPicPr>
            <p:cNvPr id="116" name="Picture 15" descr=""/>
            <p:cNvPicPr/>
            <p:nvPr/>
          </p:nvPicPr>
          <p:blipFill>
            <a:blip r:embed="rId5"/>
            <a:stretch/>
          </p:blipFill>
          <p:spPr>
            <a:xfrm>
              <a:off x="4159080" y="3001680"/>
              <a:ext cx="3310560" cy="68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6" descr=""/>
            <p:cNvPicPr/>
            <p:nvPr/>
          </p:nvPicPr>
          <p:blipFill>
            <a:blip r:embed="rId6"/>
            <a:stretch/>
          </p:blipFill>
          <p:spPr>
            <a:xfrm>
              <a:off x="7604280" y="2770200"/>
              <a:ext cx="71280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6"/>
          <p:cNvGrpSpPr/>
          <p:nvPr/>
        </p:nvGrpSpPr>
        <p:grpSpPr>
          <a:xfrm>
            <a:off x="984240" y="3738600"/>
            <a:ext cx="4089240" cy="1079640"/>
            <a:chOff x="984240" y="3738600"/>
            <a:chExt cx="4089240" cy="1079640"/>
          </a:xfrm>
        </p:grpSpPr>
        <p:pic>
          <p:nvPicPr>
            <p:cNvPr id="119" name="Picture 17" descr=""/>
            <p:cNvPicPr/>
            <p:nvPr/>
          </p:nvPicPr>
          <p:blipFill>
            <a:blip r:embed="rId7"/>
            <a:stretch/>
          </p:blipFill>
          <p:spPr>
            <a:xfrm>
              <a:off x="984240" y="3738600"/>
              <a:ext cx="656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8" descr=""/>
            <p:cNvPicPr/>
            <p:nvPr/>
          </p:nvPicPr>
          <p:blipFill>
            <a:blip r:embed="rId8"/>
            <a:stretch/>
          </p:blipFill>
          <p:spPr>
            <a:xfrm>
              <a:off x="1640880" y="3738600"/>
              <a:ext cx="3432600" cy="66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19" descr=""/>
          <p:cNvPicPr/>
          <p:nvPr/>
        </p:nvPicPr>
        <p:blipFill>
          <a:blip r:embed="rId9"/>
          <a:stretch/>
        </p:blipFill>
        <p:spPr>
          <a:xfrm>
            <a:off x="3298680" y="4529160"/>
            <a:ext cx="1955880" cy="112716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075280" y="58244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半个月生产电视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2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2332440" y="1587600"/>
            <a:ext cx="52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照上面的生产情况，完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电视机的生产任务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多少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2"/>
          <p:cNvGrpSpPr/>
          <p:nvPr/>
        </p:nvGrpSpPr>
        <p:grpSpPr>
          <a:xfrm>
            <a:off x="1033560" y="3017880"/>
            <a:ext cx="1912680" cy="1017720"/>
            <a:chOff x="1033560" y="3017880"/>
            <a:chExt cx="1912680" cy="101772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33560" y="3017880"/>
              <a:ext cx="7412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"/>
            <p:cNvPicPr/>
            <p:nvPr/>
          </p:nvPicPr>
          <p:blipFill>
            <a:blip r:embed="rId4"/>
            <a:stretch/>
          </p:blipFill>
          <p:spPr>
            <a:xfrm>
              <a:off x="1898640" y="3017880"/>
              <a:ext cx="1047600" cy="43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矩形 3"/>
          <p:cNvSpPr/>
          <p:nvPr/>
        </p:nvSpPr>
        <p:spPr>
          <a:xfrm>
            <a:off x="5690160" y="5388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需要（    ）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7"/>
          <p:cNvGrpSpPr/>
          <p:nvPr/>
        </p:nvGrpSpPr>
        <p:grpSpPr>
          <a:xfrm>
            <a:off x="1333440" y="4137120"/>
            <a:ext cx="2933640" cy="1191240"/>
            <a:chOff x="1333440" y="4137120"/>
            <a:chExt cx="2933640" cy="1191240"/>
          </a:xfrm>
        </p:grpSpPr>
        <p:sp>
          <p:nvSpPr>
            <p:cNvPr id="133" name="矩形 5"/>
            <p:cNvSpPr/>
            <p:nvPr/>
          </p:nvSpPr>
          <p:spPr>
            <a:xfrm>
              <a:off x="1333440" y="4137120"/>
              <a:ext cx="293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8÷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0÷3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         （天）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6"/>
            <p:cNvSpPr/>
            <p:nvPr/>
          </p:nvSpPr>
          <p:spPr>
            <a:xfrm>
              <a:off x="2917800" y="4552920"/>
              <a:ext cx="637920" cy="323640"/>
            </a:xfrm>
            <a:prstGeom prst="rect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9"/>
          <p:cNvGrpSpPr/>
          <p:nvPr/>
        </p:nvGrpSpPr>
        <p:grpSpPr>
          <a:xfrm>
            <a:off x="5005440" y="3906720"/>
            <a:ext cx="2472840" cy="1191240"/>
            <a:chOff x="5005440" y="3906720"/>
            <a:chExt cx="2472840" cy="1191240"/>
          </a:xfrm>
        </p:grpSpPr>
        <p:sp>
          <p:nvSpPr>
            <p:cNvPr id="136" name="矩形 4"/>
            <p:cNvSpPr/>
            <p:nvPr/>
          </p:nvSpPr>
          <p:spPr>
            <a:xfrm>
              <a:off x="5005440" y="3906720"/>
              <a:ext cx="247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0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8÷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0÷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          （天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8"/>
            <p:cNvSpPr/>
            <p:nvPr/>
          </p:nvSpPr>
          <p:spPr>
            <a:xfrm>
              <a:off x="5341680" y="4708440"/>
              <a:ext cx="631800" cy="353880"/>
            </a:xfrm>
            <a:prstGeom prst="rect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合 10"/>
          <p:cNvGrpSpPr/>
          <p:nvPr/>
        </p:nvGrpSpPr>
        <p:grpSpPr>
          <a:xfrm>
            <a:off x="5259240" y="2674800"/>
            <a:ext cx="2346480" cy="997200"/>
            <a:chOff x="5259240" y="2674800"/>
            <a:chExt cx="2346480" cy="997200"/>
          </a:xfrm>
        </p:grpSpPr>
        <p:pic>
          <p:nvPicPr>
            <p:cNvPr id="139" name="Picture 14" descr=""/>
            <p:cNvPicPr/>
            <p:nvPr/>
          </p:nvPicPr>
          <p:blipFill>
            <a:blip r:embed="rId5"/>
            <a:stretch/>
          </p:blipFill>
          <p:spPr>
            <a:xfrm>
              <a:off x="5259240" y="2711160"/>
              <a:ext cx="1560240" cy="9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5" descr=""/>
            <p:cNvPicPr/>
            <p:nvPr/>
          </p:nvPicPr>
          <p:blipFill>
            <a:blip r:embed="rId6"/>
            <a:stretch/>
          </p:blipFill>
          <p:spPr>
            <a:xfrm>
              <a:off x="6950520" y="2674800"/>
              <a:ext cx="655200" cy="9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矩形 4"/>
          <p:cNvSpPr/>
          <p:nvPr/>
        </p:nvSpPr>
        <p:spPr>
          <a:xfrm>
            <a:off x="2994120" y="449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5415120" y="4656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6730920" y="53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Box 36"/>
          <p:cNvSpPr/>
          <p:nvPr/>
        </p:nvSpPr>
        <p:spPr>
          <a:xfrm>
            <a:off x="961920" y="195912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÷(8×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应先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，再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，结果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2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积，商是多少？列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商，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5068800" y="2638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7131960" y="264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301608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1601640" y="4146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0÷(15×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2880000" y="524664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×(780÷3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6"/>
          <p:cNvSpPr/>
          <p:nvPr/>
        </p:nvSpPr>
        <p:spPr>
          <a:xfrm>
            <a:off x="1003320" y="1971720"/>
            <a:ext cx="713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根据分步算式列出综合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50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÷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综合算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240÷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×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综合算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3005280" y="3197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×15÷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2841480" y="4162320"/>
            <a:ext cx="32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×(240÷3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992160" y="1306440"/>
            <a:ext cx="7148520" cy="4017240"/>
            <a:chOff x="992160" y="1306440"/>
            <a:chExt cx="7148520" cy="4017240"/>
          </a:xfrm>
        </p:grpSpPr>
        <p:grpSp>
          <p:nvGrpSpPr>
            <p:cNvPr id="157" name="组合 2"/>
            <p:cNvGrpSpPr/>
            <p:nvPr/>
          </p:nvGrpSpPr>
          <p:grpSpPr>
            <a:xfrm>
              <a:off x="992160" y="1306440"/>
              <a:ext cx="7137000" cy="642600"/>
              <a:chOff x="992160" y="1306440"/>
              <a:chExt cx="7137000" cy="642600"/>
            </a:xfrm>
          </p:grpSpPr>
          <p:sp>
            <p:nvSpPr>
              <p:cNvPr id="158" name="TextBox 36"/>
              <p:cNvSpPr/>
              <p:nvPr/>
            </p:nvSpPr>
            <p:spPr>
              <a:xfrm>
                <a:off x="992160" y="1306440"/>
                <a:ext cx="7137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0720" indent="-45072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先在       里填上得数，再列出综合算式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矩形 1"/>
              <p:cNvSpPr/>
              <p:nvPr/>
            </p:nvSpPr>
            <p:spPr>
              <a:xfrm>
                <a:off x="2257200" y="1442880"/>
                <a:ext cx="403200" cy="392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0" name="Picture 3" descr=""/>
            <p:cNvPicPr/>
            <p:nvPr/>
          </p:nvPicPr>
          <p:blipFill>
            <a:blip r:embed="rId1"/>
            <a:stretch/>
          </p:blipFill>
          <p:spPr>
            <a:xfrm>
              <a:off x="1628640" y="1977480"/>
              <a:ext cx="2063520" cy="22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"/>
            <p:cNvPicPr/>
            <p:nvPr/>
          </p:nvPicPr>
          <p:blipFill>
            <a:blip r:embed="rId2"/>
            <a:stretch/>
          </p:blipFill>
          <p:spPr>
            <a:xfrm>
              <a:off x="5073480" y="2143800"/>
              <a:ext cx="226080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36"/>
            <p:cNvSpPr/>
            <p:nvPr/>
          </p:nvSpPr>
          <p:spPr>
            <a:xfrm>
              <a:off x="1003680" y="4132440"/>
              <a:ext cx="7137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9504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综合算式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 综合算式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9504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2"/>
          <p:cNvSpPr/>
          <p:nvPr/>
        </p:nvSpPr>
        <p:spPr>
          <a:xfrm>
            <a:off x="2249640" y="288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2790720" y="358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738440" y="4805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8÷28÷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620680" y="2239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213600" y="291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022720" y="4697280"/>
            <a:ext cx="29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×(264÷1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38"/>
          <p:cNvSpPr/>
          <p:nvPr/>
        </p:nvSpPr>
        <p:spPr>
          <a:xfrm>
            <a:off x="995400" y="22683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995400" y="23986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计算乘除混合算式时，如果没有小括号，要按照从左往右的顺序计算；如果有小括号，要先算小括号里面的，再算小括号外面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同一问题从不同的角度思考会有不同的解题策略，因此解决问题时，要注意解题策略的多样化，同时还要注意列式的准确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3:28:26Z</dcterms:modified>
  <cp:revision>4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