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3FE18-9FD0-41B0-A7E0-8A099141A13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F9899-43E3-4850-A94E-5D7081768F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　带小括号的乘除混合运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4"/>
          <p:cNvSpPr/>
          <p:nvPr/>
        </p:nvSpPr>
        <p:spPr>
          <a:xfrm>
            <a:off x="6548400" y="503280"/>
            <a:ext cx="21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三    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6"/>
          <p:cNvSpPr/>
          <p:nvPr/>
        </p:nvSpPr>
        <p:spPr>
          <a:xfrm>
            <a:off x="965160" y="173988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和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去文具店买练习本，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练习本，花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钱；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要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练习本，需要多少元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2795760" y="3587760"/>
            <a:ext cx="35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×(80÷4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6"/>
          <p:cNvSpPr/>
          <p:nvPr/>
        </p:nvSpPr>
        <p:spPr>
          <a:xfrm>
            <a:off x="965160" y="202392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马虎在计算一道除法题时，误将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成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结果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正确的结果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3049560" y="3421080"/>
            <a:ext cx="30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÷15÷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正确的结果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3"/>
          <p:cNvSpPr/>
          <p:nvPr/>
        </p:nvSpPr>
        <p:spPr>
          <a:xfrm>
            <a:off x="990720" y="1994040"/>
            <a:ext cx="71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运输队要向灾区运送一批大米，每辆车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，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辆车时正好装完这批大米的一半。剩下的每辆车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，还需要几辆车才能装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108" name="圆角矩形 9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矩形 6"/>
          <p:cNvSpPr/>
          <p:nvPr/>
        </p:nvSpPr>
        <p:spPr>
          <a:xfrm>
            <a:off x="2604960" y="3836880"/>
            <a:ext cx="39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×12÷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还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辆车才能装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233360" y="213660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推理法解决归一、归总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画图法解决特殊的“植树问题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解决一般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1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6"/>
          <p:cNvSpPr/>
          <p:nvPr/>
        </p:nvSpPr>
        <p:spPr>
          <a:xfrm>
            <a:off x="1071720" y="2286000"/>
            <a:ext cx="70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台机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能加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机器零件。照这样计算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台机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能加工多少个机器零件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86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矩形 2"/>
          <p:cNvSpPr/>
          <p:nvPr/>
        </p:nvSpPr>
        <p:spPr>
          <a:xfrm>
            <a:off x="2498760" y="3421080"/>
            <a:ext cx="415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÷4÷5×6×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3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台机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时能加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机器零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6"/>
          <p:cNvSpPr/>
          <p:nvPr/>
        </p:nvSpPr>
        <p:spPr>
          <a:xfrm>
            <a:off x="965160" y="173988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辆挖土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一共可以挖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方米。照这样计算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辆挖土机要挖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方米，需要多少小时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2795760" y="3444840"/>
            <a:ext cx="35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÷3÷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立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0÷10÷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6"/>
          <p:cNvSpPr/>
          <p:nvPr/>
        </p:nvSpPr>
        <p:spPr>
          <a:xfrm>
            <a:off x="965160" y="228600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钟楼的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敲完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整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，多少秒敲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3211560" y="3429000"/>
            <a:ext cx="273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÷(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(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秒敲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6"/>
          <p:cNvSpPr/>
          <p:nvPr/>
        </p:nvSpPr>
        <p:spPr>
          <a:xfrm>
            <a:off x="965160" y="172728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位木工师傅锯一根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的木料，他先把一头损坏的部分锯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然后锯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，将这根木料锯成同样长的短木料。每根短木料长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2878200" y="3440160"/>
            <a:ext cx="33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÷(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每根短木料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6"/>
          <p:cNvSpPr/>
          <p:nvPr/>
        </p:nvSpPr>
        <p:spPr>
          <a:xfrm>
            <a:off x="965160" y="1739880"/>
            <a:ext cx="722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果园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平均每棵苹果树占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米。这个果园一共能种多少棵苹果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797200" y="342900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×30÷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个果园一共能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苹果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6"/>
          <p:cNvSpPr/>
          <p:nvPr/>
        </p:nvSpPr>
        <p:spPr>
          <a:xfrm>
            <a:off x="965160" y="173988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贝拿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钱去买练习本，他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同样的练习本后，营业员找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钱。每个练习本多少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2943360" y="3429000"/>
            <a:ext cx="327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)÷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每个练习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6"/>
          <p:cNvSpPr/>
          <p:nvPr/>
        </p:nvSpPr>
        <p:spPr>
          <a:xfrm>
            <a:off x="965160" y="229068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刘师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加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零件，照这样计算，他加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零件需要多少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2359080" y="3559320"/>
            <a:ext cx="44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85÷(90÷6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9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他加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8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零件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cp:keywords/>
  <dc:language>en-US</dc:language>
  <cp:lastModifiedBy>Administrator</cp:lastModifiedBy>
  <dcterms:modified xsi:type="dcterms:W3CDTF">2017-11-12T13:29:05Z</dcterms:modified>
  <cp:revision>4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