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applause.wav" ContentType="audio/x-wav"/>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9.gif" ContentType="image/gif"/>
  <Override PartName="/ppt/media/image24.png" ContentType="image/png"/>
  <Override PartName="/ppt/media/image1.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FE8C69-2807-49C5-8AFB-B219F74BAD8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ff0000"/>
              </a:solidFill>
              <a:latin typeface="Calibri"/>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ADFBC3-61B7-4985-9869-19C4665A8CB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ff0000"/>
              </a:solidFill>
              <a:latin typeface="Calibri"/>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F1B313-A900-4EFF-BDAC-66EF8476B48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ADEC0A-DCCC-4369-93B2-078DF2E3688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ff0000"/>
              </a:solidFill>
              <a:latin typeface="Calibri"/>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2720AD-A4DF-4086-A9D7-B7B13C95BF2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ff0000"/>
              </a:solidFill>
              <a:latin typeface="Calibri"/>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7DC07A-CC8D-4BBD-A673-692AE4A3C9F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ff0000"/>
              </a:solidFill>
              <a:latin typeface="Calibri"/>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3A2E6-996C-423B-9B39-7DE37A4ADEF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ff0000"/>
              </a:solidFill>
              <a:latin typeface="Calibri"/>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9B2C40-14B8-486F-ABE5-034E56F568C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ff0000"/>
              </a:solidFill>
              <a:latin typeface="Calibri"/>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AA52FE-820D-4978-A62C-82AC23CBE4A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ff0000"/>
              </a:solidFill>
              <a:latin typeface="Calibri"/>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57D78A-E03B-49C1-8035-CE0F76860F2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B1E89-6620-4D4F-8060-12C83C6B6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2BF68-CCC1-48BA-80F0-92BA9BCA5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99401-F030-4475-B923-3B2F7C24F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7E1D1-2633-4680-A1DE-B9837E8AE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81FC5-15C9-4084-BF00-58FF5F6CB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F50D3-36AC-4F75-8BE2-46E3417F0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1EEBE-D7C8-4D9F-9A45-E27DB0102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5BB13-E486-4F44-B77C-AA9300673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FD340-AB11-49D4-A847-E26CB101F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34738-F58D-4DA7-AD6F-585225457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E4DF1-B45D-413E-B142-D516AF97E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E6E9D-7958-449B-AE31-355E0BE4B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date/time&gt;</a:t>
            </a:r>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footer&gt;</a:t>
            </a:r>
            <a:endParaRPr b="0"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003254-2077-47B6-939C-BCEF910AEDDD}"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png"/><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图片 8" descr="小花.png"/>
          <p:cNvPicPr/>
          <p:nvPr/>
        </p:nvPicPr>
        <p:blipFill>
          <a:blip r:embed="rId1"/>
          <a:stretch/>
        </p:blipFill>
        <p:spPr>
          <a:xfrm rot="1153200">
            <a:off x="7589520" y="5304960"/>
            <a:ext cx="1139760" cy="1117800"/>
          </a:xfrm>
          <a:prstGeom prst="rect">
            <a:avLst/>
          </a:prstGeom>
          <a:ln w="0">
            <a:noFill/>
          </a:ln>
        </p:spPr>
      </p:pic>
      <p:pic>
        <p:nvPicPr>
          <p:cNvPr id="49" name="Picture 39" descr="구름"/>
          <p:cNvPicPr/>
          <p:nvPr/>
        </p:nvPicPr>
        <p:blipFill>
          <a:blip r:embed="rId2"/>
          <a:stretch/>
        </p:blipFill>
        <p:spPr>
          <a:xfrm>
            <a:off x="4768920" y="179280"/>
            <a:ext cx="682560" cy="363600"/>
          </a:xfrm>
          <a:prstGeom prst="rect">
            <a:avLst/>
          </a:prstGeom>
          <a:ln w="0">
            <a:noFill/>
          </a:ln>
        </p:spPr>
      </p:pic>
      <p:pic>
        <p:nvPicPr>
          <p:cNvPr id="50" name="Picture 40" descr="구름"/>
          <p:cNvPicPr/>
          <p:nvPr/>
        </p:nvPicPr>
        <p:blipFill>
          <a:blip r:embed="rId3"/>
          <a:stretch/>
        </p:blipFill>
        <p:spPr>
          <a:xfrm>
            <a:off x="7236000" y="503280"/>
            <a:ext cx="1042920" cy="555480"/>
          </a:xfrm>
          <a:prstGeom prst="rect">
            <a:avLst/>
          </a:prstGeom>
          <a:ln w="0">
            <a:noFill/>
          </a:ln>
        </p:spPr>
      </p:pic>
      <p:pic>
        <p:nvPicPr>
          <p:cNvPr id="51" name="图片 3" descr="趣味导入.png"/>
          <p:cNvPicPr/>
          <p:nvPr/>
        </p:nvPicPr>
        <p:blipFill>
          <a:blip r:embed="rId4"/>
          <a:stretch/>
        </p:blipFill>
        <p:spPr>
          <a:xfrm>
            <a:off x="2349360" y="492120"/>
            <a:ext cx="4445280" cy="1566720"/>
          </a:xfrm>
          <a:prstGeom prst="rect">
            <a:avLst/>
          </a:prstGeom>
          <a:ln w="0">
            <a:noFill/>
          </a:ln>
        </p:spPr>
      </p:pic>
      <p:sp>
        <p:nvSpPr>
          <p:cNvPr id="52" name="AutoShape 508"/>
          <p:cNvSpPr/>
          <p:nvPr/>
        </p:nvSpPr>
        <p:spPr>
          <a:xfrm>
            <a:off x="3224160" y="2286000"/>
            <a:ext cx="5657760" cy="4086360"/>
          </a:xfrm>
          <a:prstGeom prst="roundRect">
            <a:avLst>
              <a:gd name="adj" fmla="val 5074"/>
            </a:avLst>
          </a:prstGeom>
          <a:solidFill>
            <a:srgbClr val="ffffff"/>
          </a:solid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 name="Picture 39" descr="구름"/>
          <p:cNvPicPr/>
          <p:nvPr/>
        </p:nvPicPr>
        <p:blipFill>
          <a:blip r:embed="rId5"/>
          <a:stretch/>
        </p:blipFill>
        <p:spPr>
          <a:xfrm>
            <a:off x="1054080" y="1639800"/>
            <a:ext cx="682560" cy="363600"/>
          </a:xfrm>
          <a:prstGeom prst="rect">
            <a:avLst/>
          </a:prstGeom>
          <a:ln w="0">
            <a:noFill/>
          </a:ln>
        </p:spPr>
      </p:pic>
      <p:pic>
        <p:nvPicPr>
          <p:cNvPr id="54" name="图片 28" descr="蝴蝶.png"/>
          <p:cNvPicPr/>
          <p:nvPr/>
        </p:nvPicPr>
        <p:blipFill>
          <a:blip r:embed="rId6"/>
          <a:stretch/>
        </p:blipFill>
        <p:spPr>
          <a:xfrm flipH="1" rot="18291600">
            <a:off x="6593040" y="1128960"/>
            <a:ext cx="1019160" cy="1103400"/>
          </a:xfrm>
          <a:prstGeom prst="rect">
            <a:avLst/>
          </a:prstGeom>
          <a:ln w="0">
            <a:noFill/>
          </a:ln>
        </p:spPr>
      </p:pic>
      <p:pic>
        <p:nvPicPr>
          <p:cNvPr id="55" name="Picture 22" descr=""/>
          <p:cNvPicPr/>
          <p:nvPr/>
        </p:nvPicPr>
        <p:blipFill>
          <a:blip r:embed="rId7"/>
          <a:stretch/>
        </p:blipFill>
        <p:spPr>
          <a:xfrm>
            <a:off x="4011480" y="1951200"/>
            <a:ext cx="4267440" cy="669600"/>
          </a:xfrm>
          <a:prstGeom prst="rect">
            <a:avLst/>
          </a:prstGeom>
          <a:ln w="0">
            <a:noFill/>
          </a:ln>
        </p:spPr>
      </p:pic>
      <p:sp>
        <p:nvSpPr>
          <p:cNvPr id="56" name="Rectangle 8"/>
          <p:cNvSpPr/>
          <p:nvPr/>
        </p:nvSpPr>
        <p:spPr>
          <a:xfrm>
            <a:off x="3292560" y="3873960"/>
            <a:ext cx="5557680" cy="1099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800000"/>
                </a:solidFill>
                <a:latin typeface="宋体"/>
              </a:rPr>
              <a:t>《</a:t>
            </a:r>
            <a:r>
              <a:rPr b="1" lang="zh-CN" sz="2200" spc="-1" strike="noStrike">
                <a:solidFill>
                  <a:srgbClr val="800000"/>
                </a:solidFill>
                <a:latin typeface="宋体"/>
              </a:rPr>
              <a:t>蜘蛛</a:t>
            </a:r>
            <a:r>
              <a:rPr b="1" lang="en-US" sz="2200" spc="-1" strike="noStrike">
                <a:solidFill>
                  <a:srgbClr val="800000"/>
                </a:solidFill>
                <a:latin typeface="宋体"/>
              </a:rPr>
              <a:t>》</a:t>
            </a:r>
            <a:r>
              <a:rPr b="1" lang="zh-CN" sz="2200" spc="-1" strike="noStrike">
                <a:solidFill>
                  <a:srgbClr val="800000"/>
                </a:solidFill>
                <a:latin typeface="宋体"/>
              </a:rPr>
              <a:t>，节肢动物，身体圆形或长圆形，分头胸和腹两部，有触须，雄的触须内有精囊，有脚四对。本文是一篇集知识性、科学性、趣味性于一体的小品文。作者在文中说“在我们观察过的独居的虫类中，蜘蛛最聪明。”那么，蜘蛛哪些方面体现了它的聪明呢？作者在字里行间又渗透着怎样的感情呢？让我们走进课文，去感受一下吧！</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6"/>
                                        </p:tgtEl>
                                        <p:attrNameLst>
                                          <p:attrName>style.visibility</p:attrName>
                                        </p:attrNameLst>
                                      </p:cBhvr>
                                      <p:to>
                                        <p:strVal val="visible"/>
                                      </p:to>
                                    </p:set>
                                    <p:animEffect filter="wipe(left)" transition="in">
                                      <p:cBhvr additive="repl">
                                        <p:cTn id="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损</a:t>
            </a:r>
            <a:endParaRPr b="0" lang="en-US" sz="8000" spc="-1" strike="noStrike">
              <a:solidFill>
                <a:srgbClr val="000000"/>
              </a:solidFill>
              <a:latin typeface="Calibri"/>
            </a:endParaRPr>
          </a:p>
        </p:txBody>
      </p:sp>
      <p:graphicFrame>
        <p:nvGraphicFramePr>
          <p:cNvPr id="171"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72" name="组合 8"/>
          <p:cNvGrpSpPr/>
          <p:nvPr/>
        </p:nvGrpSpPr>
        <p:grpSpPr>
          <a:xfrm>
            <a:off x="1258920" y="3975120"/>
            <a:ext cx="2840040" cy="1571760"/>
            <a:chOff x="1258920" y="3975120"/>
            <a:chExt cx="2840040" cy="1571760"/>
          </a:xfrm>
        </p:grpSpPr>
        <p:pic>
          <p:nvPicPr>
            <p:cNvPr id="173" name="图示 4" descr=""/>
            <p:cNvPicPr/>
            <p:nvPr/>
          </p:nvPicPr>
          <p:blipFill>
            <a:blip r:embed="rId1"/>
            <a:stretch/>
          </p:blipFill>
          <p:spPr>
            <a:xfrm>
              <a:off x="1258920" y="3975120"/>
              <a:ext cx="2840040" cy="1571760"/>
            </a:xfrm>
            <a:prstGeom prst="rect">
              <a:avLst/>
            </a:prstGeom>
            <a:ln w="0">
              <a:noFill/>
            </a:ln>
          </p:spPr>
        </p:pic>
        <p:sp>
          <p:nvSpPr>
            <p:cNvPr id="174" name="矩形 2"/>
            <p:cNvSpPr/>
            <p:nvPr/>
          </p:nvSpPr>
          <p:spPr>
            <a:xfrm>
              <a:off x="1302480" y="4587840"/>
              <a:ext cx="277236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左部略窄；右部“口”要扁些，末笔为长点。</a:t>
              </a:r>
              <a:endParaRPr b="0" lang="en-US" sz="2000" spc="-1" strike="noStrike">
                <a:solidFill>
                  <a:srgbClr val="000000"/>
                </a:solidFill>
                <a:latin typeface="Calibri"/>
              </a:endParaRPr>
            </a:p>
          </p:txBody>
        </p:sp>
      </p:grpSp>
      <p:sp>
        <p:nvSpPr>
          <p:cNvPr id="175" name="矩形 3"/>
          <p:cNvSpPr/>
          <p:nvPr/>
        </p:nvSpPr>
        <p:spPr>
          <a:xfrm>
            <a:off x="2124000" y="1884240"/>
            <a:ext cx="1486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sǔn</a:t>
            </a:r>
            <a:endParaRPr b="0" lang="en-US" sz="4800" spc="-1" strike="noStrike">
              <a:solidFill>
                <a:srgbClr val="000000"/>
              </a:solidFill>
              <a:latin typeface="Calibri"/>
            </a:endParaRPr>
          </a:p>
        </p:txBody>
      </p:sp>
      <p:sp>
        <p:nvSpPr>
          <p:cNvPr id="176" name="Freeform 40"/>
          <p:cNvSpPr/>
          <p:nvPr/>
        </p:nvSpPr>
        <p:spPr>
          <a:xfrm>
            <a:off x="5991120" y="2936880"/>
            <a:ext cx="373320" cy="2087640"/>
          </a:xfrm>
          <a:custGeom>
            <a:avLst/>
            <a:gdLst/>
            <a:ahLst/>
            <a:rect l="l" t="t" r="r" b="b"/>
            <a:pathLst>
              <a:path w="470" h="2629">
                <a:moveTo>
                  <a:pt x="188" y="2543"/>
                </a:moveTo>
                <a:lnTo>
                  <a:pt x="190" y="2531"/>
                </a:lnTo>
                <a:lnTo>
                  <a:pt x="190" y="2520"/>
                </a:lnTo>
                <a:lnTo>
                  <a:pt x="190" y="2508"/>
                </a:lnTo>
                <a:lnTo>
                  <a:pt x="188" y="2497"/>
                </a:lnTo>
                <a:lnTo>
                  <a:pt x="186" y="2485"/>
                </a:lnTo>
                <a:lnTo>
                  <a:pt x="182" y="2474"/>
                </a:lnTo>
                <a:lnTo>
                  <a:pt x="176" y="2460"/>
                </a:lnTo>
                <a:lnTo>
                  <a:pt x="171" y="2449"/>
                </a:lnTo>
                <a:lnTo>
                  <a:pt x="165" y="2435"/>
                </a:lnTo>
                <a:lnTo>
                  <a:pt x="157" y="2422"/>
                </a:lnTo>
                <a:lnTo>
                  <a:pt x="149" y="2410"/>
                </a:lnTo>
                <a:lnTo>
                  <a:pt x="140" y="2395"/>
                </a:lnTo>
                <a:lnTo>
                  <a:pt x="130" y="2382"/>
                </a:lnTo>
                <a:lnTo>
                  <a:pt x="119" y="2366"/>
                </a:lnTo>
                <a:lnTo>
                  <a:pt x="107" y="2351"/>
                </a:lnTo>
                <a:lnTo>
                  <a:pt x="96" y="2336"/>
                </a:lnTo>
                <a:lnTo>
                  <a:pt x="80" y="2322"/>
                </a:lnTo>
                <a:lnTo>
                  <a:pt x="67" y="2309"/>
                </a:lnTo>
                <a:lnTo>
                  <a:pt x="55" y="2297"/>
                </a:lnTo>
                <a:lnTo>
                  <a:pt x="46" y="2286"/>
                </a:lnTo>
                <a:lnTo>
                  <a:pt x="36" y="2274"/>
                </a:lnTo>
                <a:lnTo>
                  <a:pt x="27" y="2264"/>
                </a:lnTo>
                <a:lnTo>
                  <a:pt x="21" y="2255"/>
                </a:lnTo>
                <a:lnTo>
                  <a:pt x="15" y="2245"/>
                </a:lnTo>
                <a:lnTo>
                  <a:pt x="9" y="2238"/>
                </a:lnTo>
                <a:lnTo>
                  <a:pt x="5" y="2230"/>
                </a:lnTo>
                <a:lnTo>
                  <a:pt x="4" y="2224"/>
                </a:lnTo>
                <a:lnTo>
                  <a:pt x="2" y="2217"/>
                </a:lnTo>
                <a:lnTo>
                  <a:pt x="0" y="2213"/>
                </a:lnTo>
                <a:lnTo>
                  <a:pt x="0" y="2209"/>
                </a:lnTo>
                <a:lnTo>
                  <a:pt x="0" y="2205"/>
                </a:lnTo>
                <a:lnTo>
                  <a:pt x="2" y="2201"/>
                </a:lnTo>
                <a:lnTo>
                  <a:pt x="5" y="2199"/>
                </a:lnTo>
                <a:lnTo>
                  <a:pt x="7" y="2197"/>
                </a:lnTo>
                <a:lnTo>
                  <a:pt x="11" y="2197"/>
                </a:lnTo>
                <a:lnTo>
                  <a:pt x="15" y="2197"/>
                </a:lnTo>
                <a:lnTo>
                  <a:pt x="21" y="2197"/>
                </a:lnTo>
                <a:lnTo>
                  <a:pt x="27" y="2197"/>
                </a:lnTo>
                <a:lnTo>
                  <a:pt x="32" y="2199"/>
                </a:lnTo>
                <a:lnTo>
                  <a:pt x="38" y="2199"/>
                </a:lnTo>
                <a:lnTo>
                  <a:pt x="46" y="2201"/>
                </a:lnTo>
                <a:lnTo>
                  <a:pt x="53" y="2205"/>
                </a:lnTo>
                <a:lnTo>
                  <a:pt x="63" y="2207"/>
                </a:lnTo>
                <a:lnTo>
                  <a:pt x="73" y="2211"/>
                </a:lnTo>
                <a:lnTo>
                  <a:pt x="82" y="2213"/>
                </a:lnTo>
                <a:lnTo>
                  <a:pt x="94" y="2217"/>
                </a:lnTo>
                <a:lnTo>
                  <a:pt x="105" y="2222"/>
                </a:lnTo>
                <a:lnTo>
                  <a:pt x="119" y="2226"/>
                </a:lnTo>
                <a:lnTo>
                  <a:pt x="130" y="2232"/>
                </a:lnTo>
                <a:lnTo>
                  <a:pt x="144" y="2238"/>
                </a:lnTo>
                <a:lnTo>
                  <a:pt x="155" y="2243"/>
                </a:lnTo>
                <a:lnTo>
                  <a:pt x="167" y="2247"/>
                </a:lnTo>
                <a:lnTo>
                  <a:pt x="176" y="2249"/>
                </a:lnTo>
                <a:lnTo>
                  <a:pt x="186" y="2253"/>
                </a:lnTo>
                <a:lnTo>
                  <a:pt x="195" y="2253"/>
                </a:lnTo>
                <a:lnTo>
                  <a:pt x="205" y="2253"/>
                </a:lnTo>
                <a:lnTo>
                  <a:pt x="213" y="2253"/>
                </a:lnTo>
                <a:lnTo>
                  <a:pt x="220" y="2253"/>
                </a:lnTo>
                <a:lnTo>
                  <a:pt x="228" y="2249"/>
                </a:lnTo>
                <a:lnTo>
                  <a:pt x="236" y="2247"/>
                </a:lnTo>
                <a:lnTo>
                  <a:pt x="242" y="2243"/>
                </a:lnTo>
                <a:lnTo>
                  <a:pt x="247" y="2238"/>
                </a:lnTo>
                <a:lnTo>
                  <a:pt x="253" y="2232"/>
                </a:lnTo>
                <a:lnTo>
                  <a:pt x="257" y="2226"/>
                </a:lnTo>
                <a:lnTo>
                  <a:pt x="259" y="2222"/>
                </a:lnTo>
                <a:lnTo>
                  <a:pt x="259" y="2218"/>
                </a:lnTo>
                <a:lnTo>
                  <a:pt x="261" y="2213"/>
                </a:lnTo>
                <a:lnTo>
                  <a:pt x="261" y="2207"/>
                </a:lnTo>
                <a:lnTo>
                  <a:pt x="263" y="2201"/>
                </a:lnTo>
                <a:lnTo>
                  <a:pt x="263" y="2193"/>
                </a:lnTo>
                <a:lnTo>
                  <a:pt x="265" y="2186"/>
                </a:lnTo>
                <a:lnTo>
                  <a:pt x="267" y="2178"/>
                </a:lnTo>
                <a:lnTo>
                  <a:pt x="267" y="2169"/>
                </a:lnTo>
                <a:lnTo>
                  <a:pt x="268" y="2159"/>
                </a:lnTo>
                <a:lnTo>
                  <a:pt x="268" y="2149"/>
                </a:lnTo>
                <a:lnTo>
                  <a:pt x="270" y="2138"/>
                </a:lnTo>
                <a:lnTo>
                  <a:pt x="270" y="2128"/>
                </a:lnTo>
                <a:lnTo>
                  <a:pt x="272" y="2115"/>
                </a:lnTo>
                <a:lnTo>
                  <a:pt x="274" y="2103"/>
                </a:lnTo>
                <a:lnTo>
                  <a:pt x="274" y="2090"/>
                </a:lnTo>
                <a:lnTo>
                  <a:pt x="276" y="2074"/>
                </a:lnTo>
                <a:lnTo>
                  <a:pt x="276" y="2061"/>
                </a:lnTo>
                <a:lnTo>
                  <a:pt x="278" y="2046"/>
                </a:lnTo>
                <a:lnTo>
                  <a:pt x="278" y="2028"/>
                </a:lnTo>
                <a:lnTo>
                  <a:pt x="280" y="2013"/>
                </a:lnTo>
                <a:lnTo>
                  <a:pt x="282" y="1996"/>
                </a:lnTo>
                <a:lnTo>
                  <a:pt x="282" y="1977"/>
                </a:lnTo>
                <a:lnTo>
                  <a:pt x="284" y="1959"/>
                </a:lnTo>
                <a:lnTo>
                  <a:pt x="284" y="1940"/>
                </a:lnTo>
                <a:lnTo>
                  <a:pt x="286" y="1919"/>
                </a:lnTo>
                <a:lnTo>
                  <a:pt x="286" y="1900"/>
                </a:lnTo>
                <a:lnTo>
                  <a:pt x="288" y="1879"/>
                </a:lnTo>
                <a:lnTo>
                  <a:pt x="290" y="1856"/>
                </a:lnTo>
                <a:lnTo>
                  <a:pt x="290" y="1835"/>
                </a:lnTo>
                <a:lnTo>
                  <a:pt x="291" y="1811"/>
                </a:lnTo>
                <a:lnTo>
                  <a:pt x="291" y="1787"/>
                </a:lnTo>
                <a:lnTo>
                  <a:pt x="293" y="1764"/>
                </a:lnTo>
                <a:lnTo>
                  <a:pt x="293" y="1739"/>
                </a:lnTo>
                <a:lnTo>
                  <a:pt x="295" y="1714"/>
                </a:lnTo>
                <a:lnTo>
                  <a:pt x="295" y="1687"/>
                </a:lnTo>
                <a:lnTo>
                  <a:pt x="297" y="1662"/>
                </a:lnTo>
                <a:lnTo>
                  <a:pt x="297" y="1635"/>
                </a:lnTo>
                <a:lnTo>
                  <a:pt x="297" y="1606"/>
                </a:lnTo>
                <a:lnTo>
                  <a:pt x="299" y="1579"/>
                </a:lnTo>
                <a:lnTo>
                  <a:pt x="299" y="1550"/>
                </a:lnTo>
                <a:lnTo>
                  <a:pt x="299" y="1522"/>
                </a:lnTo>
                <a:lnTo>
                  <a:pt x="299" y="1493"/>
                </a:lnTo>
                <a:lnTo>
                  <a:pt x="299" y="1464"/>
                </a:lnTo>
                <a:lnTo>
                  <a:pt x="301" y="1433"/>
                </a:lnTo>
                <a:lnTo>
                  <a:pt x="301" y="1403"/>
                </a:lnTo>
                <a:lnTo>
                  <a:pt x="301" y="1372"/>
                </a:lnTo>
                <a:lnTo>
                  <a:pt x="301" y="1339"/>
                </a:lnTo>
                <a:lnTo>
                  <a:pt x="301" y="1307"/>
                </a:lnTo>
                <a:lnTo>
                  <a:pt x="301" y="1274"/>
                </a:lnTo>
                <a:lnTo>
                  <a:pt x="301" y="1241"/>
                </a:lnTo>
                <a:lnTo>
                  <a:pt x="299" y="1207"/>
                </a:lnTo>
                <a:lnTo>
                  <a:pt x="299" y="1172"/>
                </a:lnTo>
                <a:lnTo>
                  <a:pt x="299" y="1138"/>
                </a:lnTo>
                <a:lnTo>
                  <a:pt x="299" y="1103"/>
                </a:lnTo>
                <a:lnTo>
                  <a:pt x="299" y="1067"/>
                </a:lnTo>
                <a:lnTo>
                  <a:pt x="297" y="1030"/>
                </a:lnTo>
                <a:lnTo>
                  <a:pt x="297" y="994"/>
                </a:lnTo>
                <a:lnTo>
                  <a:pt x="297" y="957"/>
                </a:lnTo>
                <a:lnTo>
                  <a:pt x="295" y="919"/>
                </a:lnTo>
                <a:lnTo>
                  <a:pt x="295" y="881"/>
                </a:lnTo>
                <a:lnTo>
                  <a:pt x="293" y="842"/>
                </a:lnTo>
                <a:lnTo>
                  <a:pt x="293" y="804"/>
                </a:lnTo>
                <a:lnTo>
                  <a:pt x="291" y="763"/>
                </a:lnTo>
                <a:lnTo>
                  <a:pt x="291" y="725"/>
                </a:lnTo>
                <a:lnTo>
                  <a:pt x="290" y="687"/>
                </a:lnTo>
                <a:lnTo>
                  <a:pt x="290" y="648"/>
                </a:lnTo>
                <a:lnTo>
                  <a:pt x="288" y="614"/>
                </a:lnTo>
                <a:lnTo>
                  <a:pt x="286" y="579"/>
                </a:lnTo>
                <a:lnTo>
                  <a:pt x="286" y="545"/>
                </a:lnTo>
                <a:lnTo>
                  <a:pt x="284" y="514"/>
                </a:lnTo>
                <a:lnTo>
                  <a:pt x="284" y="481"/>
                </a:lnTo>
                <a:lnTo>
                  <a:pt x="282" y="453"/>
                </a:lnTo>
                <a:lnTo>
                  <a:pt x="280" y="424"/>
                </a:lnTo>
                <a:lnTo>
                  <a:pt x="280" y="397"/>
                </a:lnTo>
                <a:lnTo>
                  <a:pt x="278" y="370"/>
                </a:lnTo>
                <a:lnTo>
                  <a:pt x="276" y="345"/>
                </a:lnTo>
                <a:lnTo>
                  <a:pt x="274" y="320"/>
                </a:lnTo>
                <a:lnTo>
                  <a:pt x="272" y="297"/>
                </a:lnTo>
                <a:lnTo>
                  <a:pt x="272" y="276"/>
                </a:lnTo>
                <a:lnTo>
                  <a:pt x="270" y="255"/>
                </a:lnTo>
                <a:lnTo>
                  <a:pt x="268" y="236"/>
                </a:lnTo>
                <a:lnTo>
                  <a:pt x="267" y="218"/>
                </a:lnTo>
                <a:lnTo>
                  <a:pt x="265" y="201"/>
                </a:lnTo>
                <a:lnTo>
                  <a:pt x="263" y="186"/>
                </a:lnTo>
                <a:lnTo>
                  <a:pt x="261" y="170"/>
                </a:lnTo>
                <a:lnTo>
                  <a:pt x="259" y="157"/>
                </a:lnTo>
                <a:lnTo>
                  <a:pt x="255" y="143"/>
                </a:lnTo>
                <a:lnTo>
                  <a:pt x="253" y="132"/>
                </a:lnTo>
                <a:lnTo>
                  <a:pt x="251" y="120"/>
                </a:lnTo>
                <a:lnTo>
                  <a:pt x="249" y="113"/>
                </a:lnTo>
                <a:lnTo>
                  <a:pt x="245" y="103"/>
                </a:lnTo>
                <a:lnTo>
                  <a:pt x="243" y="95"/>
                </a:lnTo>
                <a:lnTo>
                  <a:pt x="240" y="90"/>
                </a:lnTo>
                <a:lnTo>
                  <a:pt x="238" y="86"/>
                </a:lnTo>
                <a:lnTo>
                  <a:pt x="234" y="82"/>
                </a:lnTo>
                <a:lnTo>
                  <a:pt x="228" y="74"/>
                </a:lnTo>
                <a:lnTo>
                  <a:pt x="222" y="69"/>
                </a:lnTo>
                <a:lnTo>
                  <a:pt x="217" y="61"/>
                </a:lnTo>
                <a:lnTo>
                  <a:pt x="213" y="55"/>
                </a:lnTo>
                <a:lnTo>
                  <a:pt x="209" y="49"/>
                </a:lnTo>
                <a:lnTo>
                  <a:pt x="205" y="46"/>
                </a:lnTo>
                <a:lnTo>
                  <a:pt x="201" y="40"/>
                </a:lnTo>
                <a:lnTo>
                  <a:pt x="199" y="36"/>
                </a:lnTo>
                <a:lnTo>
                  <a:pt x="197" y="30"/>
                </a:lnTo>
                <a:lnTo>
                  <a:pt x="195" y="26"/>
                </a:lnTo>
                <a:lnTo>
                  <a:pt x="195" y="23"/>
                </a:lnTo>
                <a:lnTo>
                  <a:pt x="195" y="19"/>
                </a:lnTo>
                <a:lnTo>
                  <a:pt x="195" y="17"/>
                </a:lnTo>
                <a:lnTo>
                  <a:pt x="195" y="13"/>
                </a:lnTo>
                <a:lnTo>
                  <a:pt x="197" y="11"/>
                </a:lnTo>
                <a:lnTo>
                  <a:pt x="199" y="7"/>
                </a:lnTo>
                <a:lnTo>
                  <a:pt x="201" y="5"/>
                </a:lnTo>
                <a:lnTo>
                  <a:pt x="205" y="3"/>
                </a:lnTo>
                <a:lnTo>
                  <a:pt x="209" y="1"/>
                </a:lnTo>
                <a:lnTo>
                  <a:pt x="215" y="1"/>
                </a:lnTo>
                <a:lnTo>
                  <a:pt x="220" y="0"/>
                </a:lnTo>
                <a:lnTo>
                  <a:pt x="226" y="0"/>
                </a:lnTo>
                <a:lnTo>
                  <a:pt x="234" y="0"/>
                </a:lnTo>
                <a:lnTo>
                  <a:pt x="243" y="0"/>
                </a:lnTo>
                <a:lnTo>
                  <a:pt x="251" y="1"/>
                </a:lnTo>
                <a:lnTo>
                  <a:pt x="263" y="1"/>
                </a:lnTo>
                <a:lnTo>
                  <a:pt x="272" y="3"/>
                </a:lnTo>
                <a:lnTo>
                  <a:pt x="284" y="5"/>
                </a:lnTo>
                <a:lnTo>
                  <a:pt x="297" y="9"/>
                </a:lnTo>
                <a:lnTo>
                  <a:pt x="309" y="13"/>
                </a:lnTo>
                <a:lnTo>
                  <a:pt x="324" y="15"/>
                </a:lnTo>
                <a:lnTo>
                  <a:pt x="338" y="21"/>
                </a:lnTo>
                <a:lnTo>
                  <a:pt x="351" y="24"/>
                </a:lnTo>
                <a:lnTo>
                  <a:pt x="362" y="30"/>
                </a:lnTo>
                <a:lnTo>
                  <a:pt x="374" y="34"/>
                </a:lnTo>
                <a:lnTo>
                  <a:pt x="386" y="38"/>
                </a:lnTo>
                <a:lnTo>
                  <a:pt x="397" y="42"/>
                </a:lnTo>
                <a:lnTo>
                  <a:pt x="407" y="47"/>
                </a:lnTo>
                <a:lnTo>
                  <a:pt x="414" y="51"/>
                </a:lnTo>
                <a:lnTo>
                  <a:pt x="424" y="55"/>
                </a:lnTo>
                <a:lnTo>
                  <a:pt x="432" y="59"/>
                </a:lnTo>
                <a:lnTo>
                  <a:pt x="439" y="63"/>
                </a:lnTo>
                <a:lnTo>
                  <a:pt x="445" y="67"/>
                </a:lnTo>
                <a:lnTo>
                  <a:pt x="451" y="71"/>
                </a:lnTo>
                <a:lnTo>
                  <a:pt x="457" y="72"/>
                </a:lnTo>
                <a:lnTo>
                  <a:pt x="460" y="76"/>
                </a:lnTo>
                <a:lnTo>
                  <a:pt x="462" y="78"/>
                </a:lnTo>
                <a:lnTo>
                  <a:pt x="466" y="82"/>
                </a:lnTo>
                <a:lnTo>
                  <a:pt x="468" y="86"/>
                </a:lnTo>
                <a:lnTo>
                  <a:pt x="468" y="90"/>
                </a:lnTo>
                <a:lnTo>
                  <a:pt x="470" y="99"/>
                </a:lnTo>
                <a:lnTo>
                  <a:pt x="470" y="109"/>
                </a:lnTo>
                <a:lnTo>
                  <a:pt x="468" y="119"/>
                </a:lnTo>
                <a:lnTo>
                  <a:pt x="466" y="130"/>
                </a:lnTo>
                <a:lnTo>
                  <a:pt x="462" y="142"/>
                </a:lnTo>
                <a:lnTo>
                  <a:pt x="458" y="153"/>
                </a:lnTo>
                <a:lnTo>
                  <a:pt x="455" y="166"/>
                </a:lnTo>
                <a:lnTo>
                  <a:pt x="453" y="170"/>
                </a:lnTo>
                <a:lnTo>
                  <a:pt x="453" y="174"/>
                </a:lnTo>
                <a:lnTo>
                  <a:pt x="451" y="178"/>
                </a:lnTo>
                <a:lnTo>
                  <a:pt x="451" y="184"/>
                </a:lnTo>
                <a:lnTo>
                  <a:pt x="449" y="190"/>
                </a:lnTo>
                <a:lnTo>
                  <a:pt x="447" y="195"/>
                </a:lnTo>
                <a:lnTo>
                  <a:pt x="447" y="203"/>
                </a:lnTo>
                <a:lnTo>
                  <a:pt x="445" y="211"/>
                </a:lnTo>
                <a:lnTo>
                  <a:pt x="445" y="218"/>
                </a:lnTo>
                <a:lnTo>
                  <a:pt x="443" y="226"/>
                </a:lnTo>
                <a:lnTo>
                  <a:pt x="443" y="236"/>
                </a:lnTo>
                <a:lnTo>
                  <a:pt x="441" y="243"/>
                </a:lnTo>
                <a:lnTo>
                  <a:pt x="441" y="255"/>
                </a:lnTo>
                <a:lnTo>
                  <a:pt x="439" y="264"/>
                </a:lnTo>
                <a:lnTo>
                  <a:pt x="439" y="276"/>
                </a:lnTo>
                <a:lnTo>
                  <a:pt x="437" y="287"/>
                </a:lnTo>
                <a:lnTo>
                  <a:pt x="437" y="299"/>
                </a:lnTo>
                <a:lnTo>
                  <a:pt x="437" y="310"/>
                </a:lnTo>
                <a:lnTo>
                  <a:pt x="435" y="324"/>
                </a:lnTo>
                <a:lnTo>
                  <a:pt x="435" y="337"/>
                </a:lnTo>
                <a:lnTo>
                  <a:pt x="434" y="353"/>
                </a:lnTo>
                <a:lnTo>
                  <a:pt x="434" y="366"/>
                </a:lnTo>
                <a:lnTo>
                  <a:pt x="434" y="381"/>
                </a:lnTo>
                <a:lnTo>
                  <a:pt x="434" y="397"/>
                </a:lnTo>
                <a:lnTo>
                  <a:pt x="432" y="414"/>
                </a:lnTo>
                <a:lnTo>
                  <a:pt x="432" y="431"/>
                </a:lnTo>
                <a:lnTo>
                  <a:pt x="432" y="449"/>
                </a:lnTo>
                <a:lnTo>
                  <a:pt x="432" y="466"/>
                </a:lnTo>
                <a:lnTo>
                  <a:pt x="432" y="485"/>
                </a:lnTo>
                <a:lnTo>
                  <a:pt x="432" y="504"/>
                </a:lnTo>
                <a:lnTo>
                  <a:pt x="432" y="524"/>
                </a:lnTo>
                <a:lnTo>
                  <a:pt x="432" y="545"/>
                </a:lnTo>
                <a:lnTo>
                  <a:pt x="430" y="585"/>
                </a:lnTo>
                <a:lnTo>
                  <a:pt x="428" y="625"/>
                </a:lnTo>
                <a:lnTo>
                  <a:pt x="426" y="666"/>
                </a:lnTo>
                <a:lnTo>
                  <a:pt x="424" y="704"/>
                </a:lnTo>
                <a:lnTo>
                  <a:pt x="424" y="742"/>
                </a:lnTo>
                <a:lnTo>
                  <a:pt x="422" y="781"/>
                </a:lnTo>
                <a:lnTo>
                  <a:pt x="422" y="817"/>
                </a:lnTo>
                <a:lnTo>
                  <a:pt x="420" y="854"/>
                </a:lnTo>
                <a:lnTo>
                  <a:pt x="420" y="888"/>
                </a:lnTo>
                <a:lnTo>
                  <a:pt x="420" y="925"/>
                </a:lnTo>
                <a:lnTo>
                  <a:pt x="420" y="957"/>
                </a:lnTo>
                <a:lnTo>
                  <a:pt x="420" y="992"/>
                </a:lnTo>
                <a:lnTo>
                  <a:pt x="420" y="1025"/>
                </a:lnTo>
                <a:lnTo>
                  <a:pt x="420" y="1055"/>
                </a:lnTo>
                <a:lnTo>
                  <a:pt x="420" y="1086"/>
                </a:lnTo>
                <a:lnTo>
                  <a:pt x="420" y="1117"/>
                </a:lnTo>
                <a:lnTo>
                  <a:pt x="418" y="1147"/>
                </a:lnTo>
                <a:lnTo>
                  <a:pt x="416" y="1180"/>
                </a:lnTo>
                <a:lnTo>
                  <a:pt x="414" y="1215"/>
                </a:lnTo>
                <a:lnTo>
                  <a:pt x="412" y="1249"/>
                </a:lnTo>
                <a:lnTo>
                  <a:pt x="412" y="1286"/>
                </a:lnTo>
                <a:lnTo>
                  <a:pt x="410" y="1326"/>
                </a:lnTo>
                <a:lnTo>
                  <a:pt x="410" y="1366"/>
                </a:lnTo>
                <a:lnTo>
                  <a:pt x="410" y="1408"/>
                </a:lnTo>
                <a:lnTo>
                  <a:pt x="410" y="1451"/>
                </a:lnTo>
                <a:lnTo>
                  <a:pt x="410" y="1497"/>
                </a:lnTo>
                <a:lnTo>
                  <a:pt x="412" y="1543"/>
                </a:lnTo>
                <a:lnTo>
                  <a:pt x="412" y="1591"/>
                </a:lnTo>
                <a:lnTo>
                  <a:pt x="414" y="1641"/>
                </a:lnTo>
                <a:lnTo>
                  <a:pt x="416" y="1692"/>
                </a:lnTo>
                <a:lnTo>
                  <a:pt x="418" y="1746"/>
                </a:lnTo>
                <a:lnTo>
                  <a:pt x="420" y="1800"/>
                </a:lnTo>
                <a:lnTo>
                  <a:pt x="420" y="1827"/>
                </a:lnTo>
                <a:lnTo>
                  <a:pt x="422" y="1854"/>
                </a:lnTo>
                <a:lnTo>
                  <a:pt x="422" y="1879"/>
                </a:lnTo>
                <a:lnTo>
                  <a:pt x="422" y="1904"/>
                </a:lnTo>
                <a:lnTo>
                  <a:pt x="424" y="1929"/>
                </a:lnTo>
                <a:lnTo>
                  <a:pt x="424" y="1954"/>
                </a:lnTo>
                <a:lnTo>
                  <a:pt x="424" y="1977"/>
                </a:lnTo>
                <a:lnTo>
                  <a:pt x="424" y="2000"/>
                </a:lnTo>
                <a:lnTo>
                  <a:pt x="424" y="2023"/>
                </a:lnTo>
                <a:lnTo>
                  <a:pt x="424" y="2046"/>
                </a:lnTo>
                <a:lnTo>
                  <a:pt x="424" y="2067"/>
                </a:lnTo>
                <a:lnTo>
                  <a:pt x="424" y="2086"/>
                </a:lnTo>
                <a:lnTo>
                  <a:pt x="424" y="2107"/>
                </a:lnTo>
                <a:lnTo>
                  <a:pt x="424" y="2126"/>
                </a:lnTo>
                <a:lnTo>
                  <a:pt x="422" y="2145"/>
                </a:lnTo>
                <a:lnTo>
                  <a:pt x="422" y="2163"/>
                </a:lnTo>
                <a:lnTo>
                  <a:pt x="422" y="2182"/>
                </a:lnTo>
                <a:lnTo>
                  <a:pt x="420" y="2199"/>
                </a:lnTo>
                <a:lnTo>
                  <a:pt x="420" y="2215"/>
                </a:lnTo>
                <a:lnTo>
                  <a:pt x="420" y="2230"/>
                </a:lnTo>
                <a:lnTo>
                  <a:pt x="418" y="2245"/>
                </a:lnTo>
                <a:lnTo>
                  <a:pt x="418" y="2261"/>
                </a:lnTo>
                <a:lnTo>
                  <a:pt x="416" y="2274"/>
                </a:lnTo>
                <a:lnTo>
                  <a:pt x="416" y="2288"/>
                </a:lnTo>
                <a:lnTo>
                  <a:pt x="414" y="2301"/>
                </a:lnTo>
                <a:lnTo>
                  <a:pt x="414" y="2312"/>
                </a:lnTo>
                <a:lnTo>
                  <a:pt x="412" y="2324"/>
                </a:lnTo>
                <a:lnTo>
                  <a:pt x="412" y="2336"/>
                </a:lnTo>
                <a:lnTo>
                  <a:pt x="410" y="2345"/>
                </a:lnTo>
                <a:lnTo>
                  <a:pt x="410" y="2355"/>
                </a:lnTo>
                <a:lnTo>
                  <a:pt x="409" y="2364"/>
                </a:lnTo>
                <a:lnTo>
                  <a:pt x="409" y="2372"/>
                </a:lnTo>
                <a:lnTo>
                  <a:pt x="405" y="2387"/>
                </a:lnTo>
                <a:lnTo>
                  <a:pt x="403" y="2405"/>
                </a:lnTo>
                <a:lnTo>
                  <a:pt x="399" y="2418"/>
                </a:lnTo>
                <a:lnTo>
                  <a:pt x="395" y="2433"/>
                </a:lnTo>
                <a:lnTo>
                  <a:pt x="391" y="2449"/>
                </a:lnTo>
                <a:lnTo>
                  <a:pt x="386" y="2462"/>
                </a:lnTo>
                <a:lnTo>
                  <a:pt x="382" y="2476"/>
                </a:lnTo>
                <a:lnTo>
                  <a:pt x="376" y="2487"/>
                </a:lnTo>
                <a:lnTo>
                  <a:pt x="370" y="2501"/>
                </a:lnTo>
                <a:lnTo>
                  <a:pt x="364" y="2512"/>
                </a:lnTo>
                <a:lnTo>
                  <a:pt x="359" y="2524"/>
                </a:lnTo>
                <a:lnTo>
                  <a:pt x="353" y="2533"/>
                </a:lnTo>
                <a:lnTo>
                  <a:pt x="345" y="2543"/>
                </a:lnTo>
                <a:lnTo>
                  <a:pt x="339" y="2552"/>
                </a:lnTo>
                <a:lnTo>
                  <a:pt x="334" y="2560"/>
                </a:lnTo>
                <a:lnTo>
                  <a:pt x="326" y="2568"/>
                </a:lnTo>
                <a:lnTo>
                  <a:pt x="315" y="2581"/>
                </a:lnTo>
                <a:lnTo>
                  <a:pt x="301" y="2593"/>
                </a:lnTo>
                <a:lnTo>
                  <a:pt x="288" y="2602"/>
                </a:lnTo>
                <a:lnTo>
                  <a:pt x="276" y="2612"/>
                </a:lnTo>
                <a:lnTo>
                  <a:pt x="265" y="2620"/>
                </a:lnTo>
                <a:lnTo>
                  <a:pt x="259" y="2622"/>
                </a:lnTo>
                <a:lnTo>
                  <a:pt x="253" y="2623"/>
                </a:lnTo>
                <a:lnTo>
                  <a:pt x="247" y="2625"/>
                </a:lnTo>
                <a:lnTo>
                  <a:pt x="243" y="2627"/>
                </a:lnTo>
                <a:lnTo>
                  <a:pt x="238" y="2627"/>
                </a:lnTo>
                <a:lnTo>
                  <a:pt x="234" y="2629"/>
                </a:lnTo>
                <a:lnTo>
                  <a:pt x="228" y="2627"/>
                </a:lnTo>
                <a:lnTo>
                  <a:pt x="222" y="2627"/>
                </a:lnTo>
                <a:lnTo>
                  <a:pt x="217" y="2625"/>
                </a:lnTo>
                <a:lnTo>
                  <a:pt x="213" y="2623"/>
                </a:lnTo>
                <a:lnTo>
                  <a:pt x="207" y="2622"/>
                </a:lnTo>
                <a:lnTo>
                  <a:pt x="205" y="2618"/>
                </a:lnTo>
                <a:lnTo>
                  <a:pt x="201" y="2614"/>
                </a:lnTo>
                <a:lnTo>
                  <a:pt x="197" y="2608"/>
                </a:lnTo>
                <a:lnTo>
                  <a:pt x="195" y="2602"/>
                </a:lnTo>
                <a:lnTo>
                  <a:pt x="194" y="2597"/>
                </a:lnTo>
                <a:lnTo>
                  <a:pt x="192" y="2589"/>
                </a:lnTo>
                <a:lnTo>
                  <a:pt x="190" y="2581"/>
                </a:lnTo>
                <a:lnTo>
                  <a:pt x="190" y="2574"/>
                </a:lnTo>
                <a:lnTo>
                  <a:pt x="188" y="2564"/>
                </a:lnTo>
                <a:lnTo>
                  <a:pt x="188" y="2554"/>
                </a:lnTo>
                <a:lnTo>
                  <a:pt x="188" y="254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Freeform 41"/>
          <p:cNvSpPr/>
          <p:nvPr/>
        </p:nvSpPr>
        <p:spPr>
          <a:xfrm>
            <a:off x="5764320" y="3505320"/>
            <a:ext cx="780840" cy="271440"/>
          </a:xfrm>
          <a:custGeom>
            <a:avLst/>
            <a:gdLst/>
            <a:ahLst/>
            <a:rect l="l" t="t" r="r" b="b"/>
            <a:pathLst>
              <a:path w="983" h="342">
                <a:moveTo>
                  <a:pt x="57" y="292"/>
                </a:moveTo>
                <a:lnTo>
                  <a:pt x="44" y="279"/>
                </a:lnTo>
                <a:lnTo>
                  <a:pt x="32" y="267"/>
                </a:lnTo>
                <a:lnTo>
                  <a:pt x="23" y="256"/>
                </a:lnTo>
                <a:lnTo>
                  <a:pt x="15" y="246"/>
                </a:lnTo>
                <a:lnTo>
                  <a:pt x="7" y="238"/>
                </a:lnTo>
                <a:lnTo>
                  <a:pt x="3" y="231"/>
                </a:lnTo>
                <a:lnTo>
                  <a:pt x="2" y="227"/>
                </a:lnTo>
                <a:lnTo>
                  <a:pt x="0" y="225"/>
                </a:lnTo>
                <a:lnTo>
                  <a:pt x="0" y="221"/>
                </a:lnTo>
                <a:lnTo>
                  <a:pt x="0" y="219"/>
                </a:lnTo>
                <a:lnTo>
                  <a:pt x="3" y="217"/>
                </a:lnTo>
                <a:lnTo>
                  <a:pt x="9" y="217"/>
                </a:lnTo>
                <a:lnTo>
                  <a:pt x="15" y="215"/>
                </a:lnTo>
                <a:lnTo>
                  <a:pt x="21" y="214"/>
                </a:lnTo>
                <a:lnTo>
                  <a:pt x="28" y="212"/>
                </a:lnTo>
                <a:lnTo>
                  <a:pt x="36" y="210"/>
                </a:lnTo>
                <a:lnTo>
                  <a:pt x="44" y="208"/>
                </a:lnTo>
                <a:lnTo>
                  <a:pt x="53" y="206"/>
                </a:lnTo>
                <a:lnTo>
                  <a:pt x="63" y="204"/>
                </a:lnTo>
                <a:lnTo>
                  <a:pt x="73" y="200"/>
                </a:lnTo>
                <a:lnTo>
                  <a:pt x="84" y="198"/>
                </a:lnTo>
                <a:lnTo>
                  <a:pt x="96" y="194"/>
                </a:lnTo>
                <a:lnTo>
                  <a:pt x="107" y="192"/>
                </a:lnTo>
                <a:lnTo>
                  <a:pt x="119" y="189"/>
                </a:lnTo>
                <a:lnTo>
                  <a:pt x="132" y="185"/>
                </a:lnTo>
                <a:lnTo>
                  <a:pt x="147" y="181"/>
                </a:lnTo>
                <a:lnTo>
                  <a:pt x="161" y="177"/>
                </a:lnTo>
                <a:lnTo>
                  <a:pt x="176" y="173"/>
                </a:lnTo>
                <a:lnTo>
                  <a:pt x="192" y="169"/>
                </a:lnTo>
                <a:lnTo>
                  <a:pt x="209" y="166"/>
                </a:lnTo>
                <a:lnTo>
                  <a:pt x="224" y="162"/>
                </a:lnTo>
                <a:lnTo>
                  <a:pt x="242" y="156"/>
                </a:lnTo>
                <a:lnTo>
                  <a:pt x="261" y="152"/>
                </a:lnTo>
                <a:lnTo>
                  <a:pt x="280" y="146"/>
                </a:lnTo>
                <a:lnTo>
                  <a:pt x="299" y="141"/>
                </a:lnTo>
                <a:lnTo>
                  <a:pt x="318" y="135"/>
                </a:lnTo>
                <a:lnTo>
                  <a:pt x="339" y="129"/>
                </a:lnTo>
                <a:lnTo>
                  <a:pt x="361" y="123"/>
                </a:lnTo>
                <a:lnTo>
                  <a:pt x="382" y="118"/>
                </a:lnTo>
                <a:lnTo>
                  <a:pt x="405" y="112"/>
                </a:lnTo>
                <a:lnTo>
                  <a:pt x="428" y="104"/>
                </a:lnTo>
                <a:lnTo>
                  <a:pt x="451" y="98"/>
                </a:lnTo>
                <a:lnTo>
                  <a:pt x="474" y="93"/>
                </a:lnTo>
                <a:lnTo>
                  <a:pt x="497" y="87"/>
                </a:lnTo>
                <a:lnTo>
                  <a:pt x="518" y="81"/>
                </a:lnTo>
                <a:lnTo>
                  <a:pt x="541" y="75"/>
                </a:lnTo>
                <a:lnTo>
                  <a:pt x="562" y="70"/>
                </a:lnTo>
                <a:lnTo>
                  <a:pt x="581" y="66"/>
                </a:lnTo>
                <a:lnTo>
                  <a:pt x="601" y="60"/>
                </a:lnTo>
                <a:lnTo>
                  <a:pt x="620" y="56"/>
                </a:lnTo>
                <a:lnTo>
                  <a:pt x="637" y="52"/>
                </a:lnTo>
                <a:lnTo>
                  <a:pt x="654" y="47"/>
                </a:lnTo>
                <a:lnTo>
                  <a:pt x="672" y="43"/>
                </a:lnTo>
                <a:lnTo>
                  <a:pt x="689" y="39"/>
                </a:lnTo>
                <a:lnTo>
                  <a:pt x="704" y="35"/>
                </a:lnTo>
                <a:lnTo>
                  <a:pt x="718" y="31"/>
                </a:lnTo>
                <a:lnTo>
                  <a:pt x="733" y="29"/>
                </a:lnTo>
                <a:lnTo>
                  <a:pt x="746" y="25"/>
                </a:lnTo>
                <a:lnTo>
                  <a:pt x="758" y="22"/>
                </a:lnTo>
                <a:lnTo>
                  <a:pt x="769" y="20"/>
                </a:lnTo>
                <a:lnTo>
                  <a:pt x="781" y="16"/>
                </a:lnTo>
                <a:lnTo>
                  <a:pt x="792" y="14"/>
                </a:lnTo>
                <a:lnTo>
                  <a:pt x="802" y="12"/>
                </a:lnTo>
                <a:lnTo>
                  <a:pt x="812" y="10"/>
                </a:lnTo>
                <a:lnTo>
                  <a:pt x="821" y="8"/>
                </a:lnTo>
                <a:lnTo>
                  <a:pt x="829" y="6"/>
                </a:lnTo>
                <a:lnTo>
                  <a:pt x="835" y="4"/>
                </a:lnTo>
                <a:lnTo>
                  <a:pt x="842" y="2"/>
                </a:lnTo>
                <a:lnTo>
                  <a:pt x="848" y="2"/>
                </a:lnTo>
                <a:lnTo>
                  <a:pt x="854" y="0"/>
                </a:lnTo>
                <a:lnTo>
                  <a:pt x="858" y="0"/>
                </a:lnTo>
                <a:lnTo>
                  <a:pt x="862" y="0"/>
                </a:lnTo>
                <a:lnTo>
                  <a:pt x="865" y="0"/>
                </a:lnTo>
                <a:lnTo>
                  <a:pt x="867" y="0"/>
                </a:lnTo>
                <a:lnTo>
                  <a:pt x="873" y="0"/>
                </a:lnTo>
                <a:lnTo>
                  <a:pt x="879" y="0"/>
                </a:lnTo>
                <a:lnTo>
                  <a:pt x="885" y="0"/>
                </a:lnTo>
                <a:lnTo>
                  <a:pt x="894" y="0"/>
                </a:lnTo>
                <a:lnTo>
                  <a:pt x="902" y="2"/>
                </a:lnTo>
                <a:lnTo>
                  <a:pt x="913" y="4"/>
                </a:lnTo>
                <a:lnTo>
                  <a:pt x="925" y="8"/>
                </a:lnTo>
                <a:lnTo>
                  <a:pt x="936" y="12"/>
                </a:lnTo>
                <a:lnTo>
                  <a:pt x="944" y="14"/>
                </a:lnTo>
                <a:lnTo>
                  <a:pt x="948" y="18"/>
                </a:lnTo>
                <a:lnTo>
                  <a:pt x="954" y="20"/>
                </a:lnTo>
                <a:lnTo>
                  <a:pt x="959" y="24"/>
                </a:lnTo>
                <a:lnTo>
                  <a:pt x="967" y="29"/>
                </a:lnTo>
                <a:lnTo>
                  <a:pt x="973" y="37"/>
                </a:lnTo>
                <a:lnTo>
                  <a:pt x="977" y="43"/>
                </a:lnTo>
                <a:lnTo>
                  <a:pt x="981" y="50"/>
                </a:lnTo>
                <a:lnTo>
                  <a:pt x="983" y="56"/>
                </a:lnTo>
                <a:lnTo>
                  <a:pt x="983" y="60"/>
                </a:lnTo>
                <a:lnTo>
                  <a:pt x="983" y="66"/>
                </a:lnTo>
                <a:lnTo>
                  <a:pt x="981" y="70"/>
                </a:lnTo>
                <a:lnTo>
                  <a:pt x="977" y="75"/>
                </a:lnTo>
                <a:lnTo>
                  <a:pt x="973" y="81"/>
                </a:lnTo>
                <a:lnTo>
                  <a:pt x="965" y="87"/>
                </a:lnTo>
                <a:lnTo>
                  <a:pt x="958" y="93"/>
                </a:lnTo>
                <a:lnTo>
                  <a:pt x="948" y="98"/>
                </a:lnTo>
                <a:lnTo>
                  <a:pt x="938" y="104"/>
                </a:lnTo>
                <a:lnTo>
                  <a:pt x="927" y="112"/>
                </a:lnTo>
                <a:lnTo>
                  <a:pt x="911" y="118"/>
                </a:lnTo>
                <a:lnTo>
                  <a:pt x="898" y="123"/>
                </a:lnTo>
                <a:lnTo>
                  <a:pt x="881" y="131"/>
                </a:lnTo>
                <a:lnTo>
                  <a:pt x="862" y="137"/>
                </a:lnTo>
                <a:lnTo>
                  <a:pt x="842" y="144"/>
                </a:lnTo>
                <a:lnTo>
                  <a:pt x="821" y="150"/>
                </a:lnTo>
                <a:lnTo>
                  <a:pt x="798" y="158"/>
                </a:lnTo>
                <a:lnTo>
                  <a:pt x="750" y="173"/>
                </a:lnTo>
                <a:lnTo>
                  <a:pt x="702" y="187"/>
                </a:lnTo>
                <a:lnTo>
                  <a:pt x="654" y="204"/>
                </a:lnTo>
                <a:lnTo>
                  <a:pt x="606" y="219"/>
                </a:lnTo>
                <a:lnTo>
                  <a:pt x="556" y="235"/>
                </a:lnTo>
                <a:lnTo>
                  <a:pt x="506" y="250"/>
                </a:lnTo>
                <a:lnTo>
                  <a:pt x="457" y="265"/>
                </a:lnTo>
                <a:lnTo>
                  <a:pt x="405" y="281"/>
                </a:lnTo>
                <a:lnTo>
                  <a:pt x="376" y="286"/>
                </a:lnTo>
                <a:lnTo>
                  <a:pt x="351" y="294"/>
                </a:lnTo>
                <a:lnTo>
                  <a:pt x="326" y="300"/>
                </a:lnTo>
                <a:lnTo>
                  <a:pt x="305" y="306"/>
                </a:lnTo>
                <a:lnTo>
                  <a:pt x="284" y="311"/>
                </a:lnTo>
                <a:lnTo>
                  <a:pt x="263" y="315"/>
                </a:lnTo>
                <a:lnTo>
                  <a:pt x="245" y="321"/>
                </a:lnTo>
                <a:lnTo>
                  <a:pt x="228" y="325"/>
                </a:lnTo>
                <a:lnTo>
                  <a:pt x="215" y="329"/>
                </a:lnTo>
                <a:lnTo>
                  <a:pt x="201" y="333"/>
                </a:lnTo>
                <a:lnTo>
                  <a:pt x="188" y="334"/>
                </a:lnTo>
                <a:lnTo>
                  <a:pt x="178" y="336"/>
                </a:lnTo>
                <a:lnTo>
                  <a:pt x="169" y="338"/>
                </a:lnTo>
                <a:lnTo>
                  <a:pt x="161" y="340"/>
                </a:lnTo>
                <a:lnTo>
                  <a:pt x="155" y="340"/>
                </a:lnTo>
                <a:lnTo>
                  <a:pt x="149" y="342"/>
                </a:lnTo>
                <a:lnTo>
                  <a:pt x="140" y="340"/>
                </a:lnTo>
                <a:lnTo>
                  <a:pt x="130" y="338"/>
                </a:lnTo>
                <a:lnTo>
                  <a:pt x="119" y="336"/>
                </a:lnTo>
                <a:lnTo>
                  <a:pt x="107" y="331"/>
                </a:lnTo>
                <a:lnTo>
                  <a:pt x="96" y="325"/>
                </a:lnTo>
                <a:lnTo>
                  <a:pt x="90" y="319"/>
                </a:lnTo>
                <a:lnTo>
                  <a:pt x="82" y="315"/>
                </a:lnTo>
                <a:lnTo>
                  <a:pt x="76" y="311"/>
                </a:lnTo>
                <a:lnTo>
                  <a:pt x="71" y="306"/>
                </a:lnTo>
                <a:lnTo>
                  <a:pt x="63" y="298"/>
                </a:lnTo>
                <a:lnTo>
                  <a:pt x="57" y="29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Freeform 42"/>
          <p:cNvSpPr/>
          <p:nvPr/>
        </p:nvSpPr>
        <p:spPr>
          <a:xfrm>
            <a:off x="6669000" y="3139920"/>
            <a:ext cx="198360" cy="519120"/>
          </a:xfrm>
          <a:custGeom>
            <a:avLst/>
            <a:gdLst/>
            <a:ahLst/>
            <a:rect l="l" t="t" r="r" b="b"/>
            <a:pathLst>
              <a:path w="251" h="652">
                <a:moveTo>
                  <a:pt x="215" y="32"/>
                </a:moveTo>
                <a:lnTo>
                  <a:pt x="217" y="65"/>
                </a:lnTo>
                <a:lnTo>
                  <a:pt x="219" y="98"/>
                </a:lnTo>
                <a:lnTo>
                  <a:pt x="221" y="130"/>
                </a:lnTo>
                <a:lnTo>
                  <a:pt x="225" y="161"/>
                </a:lnTo>
                <a:lnTo>
                  <a:pt x="225" y="190"/>
                </a:lnTo>
                <a:lnTo>
                  <a:pt x="227" y="219"/>
                </a:lnTo>
                <a:lnTo>
                  <a:pt x="228" y="247"/>
                </a:lnTo>
                <a:lnTo>
                  <a:pt x="230" y="274"/>
                </a:lnTo>
                <a:lnTo>
                  <a:pt x="232" y="299"/>
                </a:lnTo>
                <a:lnTo>
                  <a:pt x="234" y="324"/>
                </a:lnTo>
                <a:lnTo>
                  <a:pt x="236" y="347"/>
                </a:lnTo>
                <a:lnTo>
                  <a:pt x="236" y="370"/>
                </a:lnTo>
                <a:lnTo>
                  <a:pt x="238" y="393"/>
                </a:lnTo>
                <a:lnTo>
                  <a:pt x="240" y="412"/>
                </a:lnTo>
                <a:lnTo>
                  <a:pt x="240" y="434"/>
                </a:lnTo>
                <a:lnTo>
                  <a:pt x="242" y="451"/>
                </a:lnTo>
                <a:lnTo>
                  <a:pt x="242" y="470"/>
                </a:lnTo>
                <a:lnTo>
                  <a:pt x="244" y="485"/>
                </a:lnTo>
                <a:lnTo>
                  <a:pt x="244" y="503"/>
                </a:lnTo>
                <a:lnTo>
                  <a:pt x="246" y="516"/>
                </a:lnTo>
                <a:lnTo>
                  <a:pt x="246" y="531"/>
                </a:lnTo>
                <a:lnTo>
                  <a:pt x="248" y="543"/>
                </a:lnTo>
                <a:lnTo>
                  <a:pt x="248" y="554"/>
                </a:lnTo>
                <a:lnTo>
                  <a:pt x="248" y="566"/>
                </a:lnTo>
                <a:lnTo>
                  <a:pt x="250" y="576"/>
                </a:lnTo>
                <a:lnTo>
                  <a:pt x="250" y="585"/>
                </a:lnTo>
                <a:lnTo>
                  <a:pt x="250" y="593"/>
                </a:lnTo>
                <a:lnTo>
                  <a:pt x="250" y="599"/>
                </a:lnTo>
                <a:lnTo>
                  <a:pt x="250" y="604"/>
                </a:lnTo>
                <a:lnTo>
                  <a:pt x="250" y="610"/>
                </a:lnTo>
                <a:lnTo>
                  <a:pt x="251" y="614"/>
                </a:lnTo>
                <a:lnTo>
                  <a:pt x="251" y="616"/>
                </a:lnTo>
                <a:lnTo>
                  <a:pt x="250" y="625"/>
                </a:lnTo>
                <a:lnTo>
                  <a:pt x="248" y="631"/>
                </a:lnTo>
                <a:lnTo>
                  <a:pt x="246" y="639"/>
                </a:lnTo>
                <a:lnTo>
                  <a:pt x="242" y="643"/>
                </a:lnTo>
                <a:lnTo>
                  <a:pt x="236" y="648"/>
                </a:lnTo>
                <a:lnTo>
                  <a:pt x="230" y="650"/>
                </a:lnTo>
                <a:lnTo>
                  <a:pt x="225" y="652"/>
                </a:lnTo>
                <a:lnTo>
                  <a:pt x="215" y="652"/>
                </a:lnTo>
                <a:lnTo>
                  <a:pt x="213" y="652"/>
                </a:lnTo>
                <a:lnTo>
                  <a:pt x="211" y="652"/>
                </a:lnTo>
                <a:lnTo>
                  <a:pt x="209" y="650"/>
                </a:lnTo>
                <a:lnTo>
                  <a:pt x="205" y="648"/>
                </a:lnTo>
                <a:lnTo>
                  <a:pt x="203" y="647"/>
                </a:lnTo>
                <a:lnTo>
                  <a:pt x="202" y="645"/>
                </a:lnTo>
                <a:lnTo>
                  <a:pt x="200" y="641"/>
                </a:lnTo>
                <a:lnTo>
                  <a:pt x="196" y="637"/>
                </a:lnTo>
                <a:lnTo>
                  <a:pt x="194" y="633"/>
                </a:lnTo>
                <a:lnTo>
                  <a:pt x="190" y="627"/>
                </a:lnTo>
                <a:lnTo>
                  <a:pt x="188" y="622"/>
                </a:lnTo>
                <a:lnTo>
                  <a:pt x="184" y="616"/>
                </a:lnTo>
                <a:lnTo>
                  <a:pt x="182" y="610"/>
                </a:lnTo>
                <a:lnTo>
                  <a:pt x="179" y="602"/>
                </a:lnTo>
                <a:lnTo>
                  <a:pt x="177" y="595"/>
                </a:lnTo>
                <a:lnTo>
                  <a:pt x="173" y="587"/>
                </a:lnTo>
                <a:lnTo>
                  <a:pt x="171" y="579"/>
                </a:lnTo>
                <a:lnTo>
                  <a:pt x="167" y="570"/>
                </a:lnTo>
                <a:lnTo>
                  <a:pt x="165" y="560"/>
                </a:lnTo>
                <a:lnTo>
                  <a:pt x="161" y="551"/>
                </a:lnTo>
                <a:lnTo>
                  <a:pt x="157" y="539"/>
                </a:lnTo>
                <a:lnTo>
                  <a:pt x="156" y="528"/>
                </a:lnTo>
                <a:lnTo>
                  <a:pt x="152" y="516"/>
                </a:lnTo>
                <a:lnTo>
                  <a:pt x="148" y="505"/>
                </a:lnTo>
                <a:lnTo>
                  <a:pt x="146" y="491"/>
                </a:lnTo>
                <a:lnTo>
                  <a:pt x="142" y="478"/>
                </a:lnTo>
                <a:lnTo>
                  <a:pt x="138" y="462"/>
                </a:lnTo>
                <a:lnTo>
                  <a:pt x="136" y="449"/>
                </a:lnTo>
                <a:lnTo>
                  <a:pt x="132" y="434"/>
                </a:lnTo>
                <a:lnTo>
                  <a:pt x="129" y="418"/>
                </a:lnTo>
                <a:lnTo>
                  <a:pt x="127" y="401"/>
                </a:lnTo>
                <a:lnTo>
                  <a:pt x="123" y="386"/>
                </a:lnTo>
                <a:lnTo>
                  <a:pt x="119" y="368"/>
                </a:lnTo>
                <a:lnTo>
                  <a:pt x="117" y="351"/>
                </a:lnTo>
                <a:lnTo>
                  <a:pt x="113" y="336"/>
                </a:lnTo>
                <a:lnTo>
                  <a:pt x="109" y="320"/>
                </a:lnTo>
                <a:lnTo>
                  <a:pt x="108" y="305"/>
                </a:lnTo>
                <a:lnTo>
                  <a:pt x="104" y="291"/>
                </a:lnTo>
                <a:lnTo>
                  <a:pt x="100" y="276"/>
                </a:lnTo>
                <a:lnTo>
                  <a:pt x="98" y="263"/>
                </a:lnTo>
                <a:lnTo>
                  <a:pt x="94" y="251"/>
                </a:lnTo>
                <a:lnTo>
                  <a:pt x="90" y="238"/>
                </a:lnTo>
                <a:lnTo>
                  <a:pt x="84" y="215"/>
                </a:lnTo>
                <a:lnTo>
                  <a:pt x="79" y="194"/>
                </a:lnTo>
                <a:lnTo>
                  <a:pt x="73" y="172"/>
                </a:lnTo>
                <a:lnTo>
                  <a:pt x="67" y="155"/>
                </a:lnTo>
                <a:lnTo>
                  <a:pt x="61" y="138"/>
                </a:lnTo>
                <a:lnTo>
                  <a:pt x="56" y="124"/>
                </a:lnTo>
                <a:lnTo>
                  <a:pt x="50" y="113"/>
                </a:lnTo>
                <a:lnTo>
                  <a:pt x="44" y="101"/>
                </a:lnTo>
                <a:lnTo>
                  <a:pt x="40" y="92"/>
                </a:lnTo>
                <a:lnTo>
                  <a:pt x="35" y="86"/>
                </a:lnTo>
                <a:lnTo>
                  <a:pt x="31" y="80"/>
                </a:lnTo>
                <a:lnTo>
                  <a:pt x="25" y="75"/>
                </a:lnTo>
                <a:lnTo>
                  <a:pt x="19" y="71"/>
                </a:lnTo>
                <a:lnTo>
                  <a:pt x="15" y="67"/>
                </a:lnTo>
                <a:lnTo>
                  <a:pt x="12" y="61"/>
                </a:lnTo>
                <a:lnTo>
                  <a:pt x="8" y="57"/>
                </a:lnTo>
                <a:lnTo>
                  <a:pt x="6" y="52"/>
                </a:lnTo>
                <a:lnTo>
                  <a:pt x="4" y="48"/>
                </a:lnTo>
                <a:lnTo>
                  <a:pt x="2" y="44"/>
                </a:lnTo>
                <a:lnTo>
                  <a:pt x="0" y="38"/>
                </a:lnTo>
                <a:lnTo>
                  <a:pt x="0" y="34"/>
                </a:lnTo>
                <a:lnTo>
                  <a:pt x="2" y="25"/>
                </a:lnTo>
                <a:lnTo>
                  <a:pt x="4" y="17"/>
                </a:lnTo>
                <a:lnTo>
                  <a:pt x="8" y="7"/>
                </a:lnTo>
                <a:lnTo>
                  <a:pt x="10" y="5"/>
                </a:lnTo>
                <a:lnTo>
                  <a:pt x="13" y="4"/>
                </a:lnTo>
                <a:lnTo>
                  <a:pt x="19" y="2"/>
                </a:lnTo>
                <a:lnTo>
                  <a:pt x="27" y="0"/>
                </a:lnTo>
                <a:lnTo>
                  <a:pt x="35" y="0"/>
                </a:lnTo>
                <a:lnTo>
                  <a:pt x="44" y="0"/>
                </a:lnTo>
                <a:lnTo>
                  <a:pt x="56" y="0"/>
                </a:lnTo>
                <a:lnTo>
                  <a:pt x="67" y="0"/>
                </a:lnTo>
                <a:lnTo>
                  <a:pt x="83" y="2"/>
                </a:lnTo>
                <a:lnTo>
                  <a:pt x="96" y="4"/>
                </a:lnTo>
                <a:lnTo>
                  <a:pt x="113" y="7"/>
                </a:lnTo>
                <a:lnTo>
                  <a:pt x="131" y="9"/>
                </a:lnTo>
                <a:lnTo>
                  <a:pt x="150" y="15"/>
                </a:lnTo>
                <a:lnTo>
                  <a:pt x="171" y="19"/>
                </a:lnTo>
                <a:lnTo>
                  <a:pt x="192" y="25"/>
                </a:lnTo>
                <a:lnTo>
                  <a:pt x="215" y="3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Freeform 43"/>
          <p:cNvSpPr/>
          <p:nvPr/>
        </p:nvSpPr>
        <p:spPr>
          <a:xfrm>
            <a:off x="6792840" y="3040200"/>
            <a:ext cx="782640" cy="415800"/>
          </a:xfrm>
          <a:custGeom>
            <a:avLst/>
            <a:gdLst/>
            <a:ahLst/>
            <a:rect l="l" t="t" r="r" b="b"/>
            <a:pathLst>
              <a:path w="985" h="524">
                <a:moveTo>
                  <a:pt x="985" y="182"/>
                </a:moveTo>
                <a:lnTo>
                  <a:pt x="985" y="186"/>
                </a:lnTo>
                <a:lnTo>
                  <a:pt x="983" y="192"/>
                </a:lnTo>
                <a:lnTo>
                  <a:pt x="983" y="196"/>
                </a:lnTo>
                <a:lnTo>
                  <a:pt x="981" y="198"/>
                </a:lnTo>
                <a:lnTo>
                  <a:pt x="976" y="205"/>
                </a:lnTo>
                <a:lnTo>
                  <a:pt x="970" y="211"/>
                </a:lnTo>
                <a:lnTo>
                  <a:pt x="960" y="217"/>
                </a:lnTo>
                <a:lnTo>
                  <a:pt x="951" y="223"/>
                </a:lnTo>
                <a:lnTo>
                  <a:pt x="939" y="227"/>
                </a:lnTo>
                <a:lnTo>
                  <a:pt x="928" y="232"/>
                </a:lnTo>
                <a:lnTo>
                  <a:pt x="914" y="236"/>
                </a:lnTo>
                <a:lnTo>
                  <a:pt x="901" y="244"/>
                </a:lnTo>
                <a:lnTo>
                  <a:pt x="887" y="251"/>
                </a:lnTo>
                <a:lnTo>
                  <a:pt x="876" y="261"/>
                </a:lnTo>
                <a:lnTo>
                  <a:pt x="862" y="271"/>
                </a:lnTo>
                <a:lnTo>
                  <a:pt x="855" y="278"/>
                </a:lnTo>
                <a:lnTo>
                  <a:pt x="849" y="284"/>
                </a:lnTo>
                <a:lnTo>
                  <a:pt x="843" y="292"/>
                </a:lnTo>
                <a:lnTo>
                  <a:pt x="835" y="299"/>
                </a:lnTo>
                <a:lnTo>
                  <a:pt x="830" y="307"/>
                </a:lnTo>
                <a:lnTo>
                  <a:pt x="824" y="317"/>
                </a:lnTo>
                <a:lnTo>
                  <a:pt x="811" y="336"/>
                </a:lnTo>
                <a:lnTo>
                  <a:pt x="799" y="355"/>
                </a:lnTo>
                <a:lnTo>
                  <a:pt x="787" y="378"/>
                </a:lnTo>
                <a:lnTo>
                  <a:pt x="776" y="401"/>
                </a:lnTo>
                <a:lnTo>
                  <a:pt x="766" y="426"/>
                </a:lnTo>
                <a:lnTo>
                  <a:pt x="761" y="438"/>
                </a:lnTo>
                <a:lnTo>
                  <a:pt x="755" y="451"/>
                </a:lnTo>
                <a:lnTo>
                  <a:pt x="749" y="466"/>
                </a:lnTo>
                <a:lnTo>
                  <a:pt x="743" y="480"/>
                </a:lnTo>
                <a:lnTo>
                  <a:pt x="738" y="495"/>
                </a:lnTo>
                <a:lnTo>
                  <a:pt x="730" y="513"/>
                </a:lnTo>
                <a:lnTo>
                  <a:pt x="644" y="518"/>
                </a:lnTo>
                <a:lnTo>
                  <a:pt x="557" y="524"/>
                </a:lnTo>
                <a:lnTo>
                  <a:pt x="567" y="499"/>
                </a:lnTo>
                <a:lnTo>
                  <a:pt x="576" y="476"/>
                </a:lnTo>
                <a:lnTo>
                  <a:pt x="586" y="453"/>
                </a:lnTo>
                <a:lnTo>
                  <a:pt x="596" y="432"/>
                </a:lnTo>
                <a:lnTo>
                  <a:pt x="603" y="411"/>
                </a:lnTo>
                <a:lnTo>
                  <a:pt x="611" y="394"/>
                </a:lnTo>
                <a:lnTo>
                  <a:pt x="619" y="374"/>
                </a:lnTo>
                <a:lnTo>
                  <a:pt x="624" y="357"/>
                </a:lnTo>
                <a:lnTo>
                  <a:pt x="630" y="342"/>
                </a:lnTo>
                <a:lnTo>
                  <a:pt x="636" y="326"/>
                </a:lnTo>
                <a:lnTo>
                  <a:pt x="640" y="313"/>
                </a:lnTo>
                <a:lnTo>
                  <a:pt x="644" y="299"/>
                </a:lnTo>
                <a:lnTo>
                  <a:pt x="645" y="288"/>
                </a:lnTo>
                <a:lnTo>
                  <a:pt x="647" y="276"/>
                </a:lnTo>
                <a:lnTo>
                  <a:pt x="649" y="265"/>
                </a:lnTo>
                <a:lnTo>
                  <a:pt x="649" y="255"/>
                </a:lnTo>
                <a:lnTo>
                  <a:pt x="649" y="242"/>
                </a:lnTo>
                <a:lnTo>
                  <a:pt x="649" y="228"/>
                </a:lnTo>
                <a:lnTo>
                  <a:pt x="649" y="217"/>
                </a:lnTo>
                <a:lnTo>
                  <a:pt x="647" y="203"/>
                </a:lnTo>
                <a:lnTo>
                  <a:pt x="647" y="194"/>
                </a:lnTo>
                <a:lnTo>
                  <a:pt x="644" y="184"/>
                </a:lnTo>
                <a:lnTo>
                  <a:pt x="644" y="180"/>
                </a:lnTo>
                <a:lnTo>
                  <a:pt x="642" y="177"/>
                </a:lnTo>
                <a:lnTo>
                  <a:pt x="640" y="173"/>
                </a:lnTo>
                <a:lnTo>
                  <a:pt x="638" y="171"/>
                </a:lnTo>
                <a:lnTo>
                  <a:pt x="634" y="167"/>
                </a:lnTo>
                <a:lnTo>
                  <a:pt x="628" y="163"/>
                </a:lnTo>
                <a:lnTo>
                  <a:pt x="620" y="161"/>
                </a:lnTo>
                <a:lnTo>
                  <a:pt x="615" y="159"/>
                </a:lnTo>
                <a:lnTo>
                  <a:pt x="609" y="159"/>
                </a:lnTo>
                <a:lnTo>
                  <a:pt x="601" y="159"/>
                </a:lnTo>
                <a:lnTo>
                  <a:pt x="597" y="159"/>
                </a:lnTo>
                <a:lnTo>
                  <a:pt x="592" y="159"/>
                </a:lnTo>
                <a:lnTo>
                  <a:pt x="586" y="159"/>
                </a:lnTo>
                <a:lnTo>
                  <a:pt x="580" y="159"/>
                </a:lnTo>
                <a:lnTo>
                  <a:pt x="572" y="159"/>
                </a:lnTo>
                <a:lnTo>
                  <a:pt x="563" y="161"/>
                </a:lnTo>
                <a:lnTo>
                  <a:pt x="553" y="161"/>
                </a:lnTo>
                <a:lnTo>
                  <a:pt x="542" y="163"/>
                </a:lnTo>
                <a:lnTo>
                  <a:pt x="528" y="165"/>
                </a:lnTo>
                <a:lnTo>
                  <a:pt x="515" y="167"/>
                </a:lnTo>
                <a:lnTo>
                  <a:pt x="500" y="169"/>
                </a:lnTo>
                <a:lnTo>
                  <a:pt x="482" y="173"/>
                </a:lnTo>
                <a:lnTo>
                  <a:pt x="465" y="175"/>
                </a:lnTo>
                <a:lnTo>
                  <a:pt x="446" y="179"/>
                </a:lnTo>
                <a:lnTo>
                  <a:pt x="427" y="182"/>
                </a:lnTo>
                <a:lnTo>
                  <a:pt x="405" y="186"/>
                </a:lnTo>
                <a:lnTo>
                  <a:pt x="382" y="190"/>
                </a:lnTo>
                <a:lnTo>
                  <a:pt x="359" y="196"/>
                </a:lnTo>
                <a:lnTo>
                  <a:pt x="334" y="200"/>
                </a:lnTo>
                <a:lnTo>
                  <a:pt x="309" y="203"/>
                </a:lnTo>
                <a:lnTo>
                  <a:pt x="285" y="207"/>
                </a:lnTo>
                <a:lnTo>
                  <a:pt x="260" y="211"/>
                </a:lnTo>
                <a:lnTo>
                  <a:pt x="214" y="217"/>
                </a:lnTo>
                <a:lnTo>
                  <a:pt x="167" y="223"/>
                </a:lnTo>
                <a:lnTo>
                  <a:pt x="123" y="227"/>
                </a:lnTo>
                <a:lnTo>
                  <a:pt x="81" y="228"/>
                </a:lnTo>
                <a:lnTo>
                  <a:pt x="41" y="230"/>
                </a:lnTo>
                <a:lnTo>
                  <a:pt x="0" y="232"/>
                </a:lnTo>
                <a:lnTo>
                  <a:pt x="0" y="194"/>
                </a:lnTo>
                <a:lnTo>
                  <a:pt x="0" y="159"/>
                </a:lnTo>
                <a:lnTo>
                  <a:pt x="12" y="157"/>
                </a:lnTo>
                <a:lnTo>
                  <a:pt x="25" y="157"/>
                </a:lnTo>
                <a:lnTo>
                  <a:pt x="39" y="156"/>
                </a:lnTo>
                <a:lnTo>
                  <a:pt x="54" y="154"/>
                </a:lnTo>
                <a:lnTo>
                  <a:pt x="71" y="152"/>
                </a:lnTo>
                <a:lnTo>
                  <a:pt x="91" y="150"/>
                </a:lnTo>
                <a:lnTo>
                  <a:pt x="110" y="146"/>
                </a:lnTo>
                <a:lnTo>
                  <a:pt x="129" y="142"/>
                </a:lnTo>
                <a:lnTo>
                  <a:pt x="152" y="138"/>
                </a:lnTo>
                <a:lnTo>
                  <a:pt x="175" y="132"/>
                </a:lnTo>
                <a:lnTo>
                  <a:pt x="198" y="129"/>
                </a:lnTo>
                <a:lnTo>
                  <a:pt x="223" y="123"/>
                </a:lnTo>
                <a:lnTo>
                  <a:pt x="250" y="117"/>
                </a:lnTo>
                <a:lnTo>
                  <a:pt x="279" y="109"/>
                </a:lnTo>
                <a:lnTo>
                  <a:pt x="308" y="104"/>
                </a:lnTo>
                <a:lnTo>
                  <a:pt x="336" y="98"/>
                </a:lnTo>
                <a:lnTo>
                  <a:pt x="367" y="90"/>
                </a:lnTo>
                <a:lnTo>
                  <a:pt x="394" y="84"/>
                </a:lnTo>
                <a:lnTo>
                  <a:pt x="421" y="77"/>
                </a:lnTo>
                <a:lnTo>
                  <a:pt x="446" y="71"/>
                </a:lnTo>
                <a:lnTo>
                  <a:pt x="469" y="65"/>
                </a:lnTo>
                <a:lnTo>
                  <a:pt x="490" y="61"/>
                </a:lnTo>
                <a:lnTo>
                  <a:pt x="509" y="56"/>
                </a:lnTo>
                <a:lnTo>
                  <a:pt x="526" y="52"/>
                </a:lnTo>
                <a:lnTo>
                  <a:pt x="542" y="46"/>
                </a:lnTo>
                <a:lnTo>
                  <a:pt x="557" y="42"/>
                </a:lnTo>
                <a:lnTo>
                  <a:pt x="569" y="38"/>
                </a:lnTo>
                <a:lnTo>
                  <a:pt x="580" y="35"/>
                </a:lnTo>
                <a:lnTo>
                  <a:pt x="588" y="33"/>
                </a:lnTo>
                <a:lnTo>
                  <a:pt x="596" y="29"/>
                </a:lnTo>
                <a:lnTo>
                  <a:pt x="599" y="27"/>
                </a:lnTo>
                <a:lnTo>
                  <a:pt x="603" y="25"/>
                </a:lnTo>
                <a:lnTo>
                  <a:pt x="607" y="19"/>
                </a:lnTo>
                <a:lnTo>
                  <a:pt x="613" y="15"/>
                </a:lnTo>
                <a:lnTo>
                  <a:pt x="617" y="12"/>
                </a:lnTo>
                <a:lnTo>
                  <a:pt x="622" y="8"/>
                </a:lnTo>
                <a:lnTo>
                  <a:pt x="630" y="4"/>
                </a:lnTo>
                <a:lnTo>
                  <a:pt x="640" y="2"/>
                </a:lnTo>
                <a:lnTo>
                  <a:pt x="649" y="0"/>
                </a:lnTo>
                <a:lnTo>
                  <a:pt x="655" y="0"/>
                </a:lnTo>
                <a:lnTo>
                  <a:pt x="661" y="0"/>
                </a:lnTo>
                <a:lnTo>
                  <a:pt x="668" y="0"/>
                </a:lnTo>
                <a:lnTo>
                  <a:pt x="674" y="0"/>
                </a:lnTo>
                <a:lnTo>
                  <a:pt x="684" y="2"/>
                </a:lnTo>
                <a:lnTo>
                  <a:pt x="692" y="4"/>
                </a:lnTo>
                <a:lnTo>
                  <a:pt x="701" y="6"/>
                </a:lnTo>
                <a:lnTo>
                  <a:pt x="711" y="10"/>
                </a:lnTo>
                <a:lnTo>
                  <a:pt x="720" y="13"/>
                </a:lnTo>
                <a:lnTo>
                  <a:pt x="732" y="17"/>
                </a:lnTo>
                <a:lnTo>
                  <a:pt x="743" y="23"/>
                </a:lnTo>
                <a:lnTo>
                  <a:pt x="757" y="29"/>
                </a:lnTo>
                <a:lnTo>
                  <a:pt x="770" y="35"/>
                </a:lnTo>
                <a:lnTo>
                  <a:pt x="784" y="40"/>
                </a:lnTo>
                <a:lnTo>
                  <a:pt x="797" y="48"/>
                </a:lnTo>
                <a:lnTo>
                  <a:pt x="812" y="56"/>
                </a:lnTo>
                <a:lnTo>
                  <a:pt x="830" y="63"/>
                </a:lnTo>
                <a:lnTo>
                  <a:pt x="847" y="73"/>
                </a:lnTo>
                <a:lnTo>
                  <a:pt x="862" y="83"/>
                </a:lnTo>
                <a:lnTo>
                  <a:pt x="878" y="90"/>
                </a:lnTo>
                <a:lnTo>
                  <a:pt x="893" y="100"/>
                </a:lnTo>
                <a:lnTo>
                  <a:pt x="907" y="108"/>
                </a:lnTo>
                <a:lnTo>
                  <a:pt x="920" y="115"/>
                </a:lnTo>
                <a:lnTo>
                  <a:pt x="931" y="123"/>
                </a:lnTo>
                <a:lnTo>
                  <a:pt x="941" y="131"/>
                </a:lnTo>
                <a:lnTo>
                  <a:pt x="951" y="136"/>
                </a:lnTo>
                <a:lnTo>
                  <a:pt x="958" y="144"/>
                </a:lnTo>
                <a:lnTo>
                  <a:pt x="966" y="150"/>
                </a:lnTo>
                <a:lnTo>
                  <a:pt x="972" y="156"/>
                </a:lnTo>
                <a:lnTo>
                  <a:pt x="976" y="161"/>
                </a:lnTo>
                <a:lnTo>
                  <a:pt x="979" y="167"/>
                </a:lnTo>
                <a:lnTo>
                  <a:pt x="983" y="173"/>
                </a:lnTo>
                <a:lnTo>
                  <a:pt x="985" y="179"/>
                </a:lnTo>
                <a:lnTo>
                  <a:pt x="985" y="18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Freeform 44"/>
          <p:cNvSpPr/>
          <p:nvPr/>
        </p:nvSpPr>
        <p:spPr>
          <a:xfrm>
            <a:off x="6819840" y="3389400"/>
            <a:ext cx="644760" cy="193680"/>
          </a:xfrm>
          <a:custGeom>
            <a:avLst/>
            <a:gdLst/>
            <a:ahLst/>
            <a:rect l="l" t="t" r="r" b="b"/>
            <a:pathLst>
              <a:path w="812" h="243">
                <a:moveTo>
                  <a:pt x="766" y="23"/>
                </a:moveTo>
                <a:lnTo>
                  <a:pt x="772" y="26"/>
                </a:lnTo>
                <a:lnTo>
                  <a:pt x="777" y="28"/>
                </a:lnTo>
                <a:lnTo>
                  <a:pt x="781" y="30"/>
                </a:lnTo>
                <a:lnTo>
                  <a:pt x="787" y="34"/>
                </a:lnTo>
                <a:lnTo>
                  <a:pt x="795" y="40"/>
                </a:lnTo>
                <a:lnTo>
                  <a:pt x="800" y="48"/>
                </a:lnTo>
                <a:lnTo>
                  <a:pt x="806" y="53"/>
                </a:lnTo>
                <a:lnTo>
                  <a:pt x="808" y="61"/>
                </a:lnTo>
                <a:lnTo>
                  <a:pt x="810" y="67"/>
                </a:lnTo>
                <a:lnTo>
                  <a:pt x="812" y="73"/>
                </a:lnTo>
                <a:lnTo>
                  <a:pt x="810" y="74"/>
                </a:lnTo>
                <a:lnTo>
                  <a:pt x="808" y="76"/>
                </a:lnTo>
                <a:lnTo>
                  <a:pt x="804" y="80"/>
                </a:lnTo>
                <a:lnTo>
                  <a:pt x="799" y="82"/>
                </a:lnTo>
                <a:lnTo>
                  <a:pt x="791" y="86"/>
                </a:lnTo>
                <a:lnTo>
                  <a:pt x="783" y="90"/>
                </a:lnTo>
                <a:lnTo>
                  <a:pt x="774" y="92"/>
                </a:lnTo>
                <a:lnTo>
                  <a:pt x="762" y="96"/>
                </a:lnTo>
                <a:lnTo>
                  <a:pt x="749" y="99"/>
                </a:lnTo>
                <a:lnTo>
                  <a:pt x="733" y="105"/>
                </a:lnTo>
                <a:lnTo>
                  <a:pt x="718" y="109"/>
                </a:lnTo>
                <a:lnTo>
                  <a:pt x="699" y="113"/>
                </a:lnTo>
                <a:lnTo>
                  <a:pt x="680" y="119"/>
                </a:lnTo>
                <a:lnTo>
                  <a:pt x="658" y="122"/>
                </a:lnTo>
                <a:lnTo>
                  <a:pt x="637" y="128"/>
                </a:lnTo>
                <a:lnTo>
                  <a:pt x="612" y="134"/>
                </a:lnTo>
                <a:lnTo>
                  <a:pt x="587" y="140"/>
                </a:lnTo>
                <a:lnTo>
                  <a:pt x="561" y="145"/>
                </a:lnTo>
                <a:lnTo>
                  <a:pt x="532" y="151"/>
                </a:lnTo>
                <a:lnTo>
                  <a:pt x="501" y="157"/>
                </a:lnTo>
                <a:lnTo>
                  <a:pt x="470" y="163"/>
                </a:lnTo>
                <a:lnTo>
                  <a:pt x="438" y="169"/>
                </a:lnTo>
                <a:lnTo>
                  <a:pt x="403" y="176"/>
                </a:lnTo>
                <a:lnTo>
                  <a:pt x="367" y="182"/>
                </a:lnTo>
                <a:lnTo>
                  <a:pt x="328" y="190"/>
                </a:lnTo>
                <a:lnTo>
                  <a:pt x="290" y="197"/>
                </a:lnTo>
                <a:lnTo>
                  <a:pt x="250" y="203"/>
                </a:lnTo>
                <a:lnTo>
                  <a:pt x="207" y="211"/>
                </a:lnTo>
                <a:lnTo>
                  <a:pt x="163" y="218"/>
                </a:lnTo>
                <a:lnTo>
                  <a:pt x="119" y="226"/>
                </a:lnTo>
                <a:lnTo>
                  <a:pt x="71" y="234"/>
                </a:lnTo>
                <a:lnTo>
                  <a:pt x="23" y="243"/>
                </a:lnTo>
                <a:lnTo>
                  <a:pt x="11" y="188"/>
                </a:lnTo>
                <a:lnTo>
                  <a:pt x="0" y="132"/>
                </a:lnTo>
                <a:lnTo>
                  <a:pt x="11" y="132"/>
                </a:lnTo>
                <a:lnTo>
                  <a:pt x="25" y="132"/>
                </a:lnTo>
                <a:lnTo>
                  <a:pt x="40" y="130"/>
                </a:lnTo>
                <a:lnTo>
                  <a:pt x="58" y="128"/>
                </a:lnTo>
                <a:lnTo>
                  <a:pt x="75" y="126"/>
                </a:lnTo>
                <a:lnTo>
                  <a:pt x="94" y="122"/>
                </a:lnTo>
                <a:lnTo>
                  <a:pt x="115" y="119"/>
                </a:lnTo>
                <a:lnTo>
                  <a:pt x="136" y="115"/>
                </a:lnTo>
                <a:lnTo>
                  <a:pt x="161" y="109"/>
                </a:lnTo>
                <a:lnTo>
                  <a:pt x="184" y="105"/>
                </a:lnTo>
                <a:lnTo>
                  <a:pt x="211" y="97"/>
                </a:lnTo>
                <a:lnTo>
                  <a:pt x="238" y="92"/>
                </a:lnTo>
                <a:lnTo>
                  <a:pt x="267" y="84"/>
                </a:lnTo>
                <a:lnTo>
                  <a:pt x="298" y="76"/>
                </a:lnTo>
                <a:lnTo>
                  <a:pt x="328" y="69"/>
                </a:lnTo>
                <a:lnTo>
                  <a:pt x="359" y="59"/>
                </a:lnTo>
                <a:lnTo>
                  <a:pt x="392" y="53"/>
                </a:lnTo>
                <a:lnTo>
                  <a:pt x="422" y="46"/>
                </a:lnTo>
                <a:lnTo>
                  <a:pt x="449" y="40"/>
                </a:lnTo>
                <a:lnTo>
                  <a:pt x="476" y="34"/>
                </a:lnTo>
                <a:lnTo>
                  <a:pt x="503" y="28"/>
                </a:lnTo>
                <a:lnTo>
                  <a:pt x="526" y="25"/>
                </a:lnTo>
                <a:lnTo>
                  <a:pt x="547" y="19"/>
                </a:lnTo>
                <a:lnTo>
                  <a:pt x="568" y="15"/>
                </a:lnTo>
                <a:lnTo>
                  <a:pt x="587" y="11"/>
                </a:lnTo>
                <a:lnTo>
                  <a:pt x="605" y="7"/>
                </a:lnTo>
                <a:lnTo>
                  <a:pt x="620" y="5"/>
                </a:lnTo>
                <a:lnTo>
                  <a:pt x="633" y="3"/>
                </a:lnTo>
                <a:lnTo>
                  <a:pt x="645" y="2"/>
                </a:lnTo>
                <a:lnTo>
                  <a:pt x="657" y="0"/>
                </a:lnTo>
                <a:lnTo>
                  <a:pt x="664" y="0"/>
                </a:lnTo>
                <a:lnTo>
                  <a:pt x="672" y="0"/>
                </a:lnTo>
                <a:lnTo>
                  <a:pt x="685" y="0"/>
                </a:lnTo>
                <a:lnTo>
                  <a:pt x="697" y="2"/>
                </a:lnTo>
                <a:lnTo>
                  <a:pt x="708" y="3"/>
                </a:lnTo>
                <a:lnTo>
                  <a:pt x="718" y="5"/>
                </a:lnTo>
                <a:lnTo>
                  <a:pt x="729" y="9"/>
                </a:lnTo>
                <a:lnTo>
                  <a:pt x="741" y="13"/>
                </a:lnTo>
                <a:lnTo>
                  <a:pt x="752" y="19"/>
                </a:lnTo>
                <a:lnTo>
                  <a:pt x="766" y="2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Freeform 45"/>
          <p:cNvSpPr/>
          <p:nvPr/>
        </p:nvSpPr>
        <p:spPr>
          <a:xfrm>
            <a:off x="6647040" y="3740040"/>
            <a:ext cx="145800" cy="820800"/>
          </a:xfrm>
          <a:custGeom>
            <a:avLst/>
            <a:gdLst/>
            <a:ahLst/>
            <a:rect l="l" t="t" r="r" b="b"/>
            <a:pathLst>
              <a:path w="184" h="1035">
                <a:moveTo>
                  <a:pt x="23" y="119"/>
                </a:moveTo>
                <a:lnTo>
                  <a:pt x="21" y="108"/>
                </a:lnTo>
                <a:lnTo>
                  <a:pt x="19" y="96"/>
                </a:lnTo>
                <a:lnTo>
                  <a:pt x="15" y="86"/>
                </a:lnTo>
                <a:lnTo>
                  <a:pt x="14" y="77"/>
                </a:lnTo>
                <a:lnTo>
                  <a:pt x="12" y="67"/>
                </a:lnTo>
                <a:lnTo>
                  <a:pt x="10" y="60"/>
                </a:lnTo>
                <a:lnTo>
                  <a:pt x="8" y="52"/>
                </a:lnTo>
                <a:lnTo>
                  <a:pt x="8" y="44"/>
                </a:lnTo>
                <a:lnTo>
                  <a:pt x="6" y="38"/>
                </a:lnTo>
                <a:lnTo>
                  <a:pt x="4" y="33"/>
                </a:lnTo>
                <a:lnTo>
                  <a:pt x="2" y="27"/>
                </a:lnTo>
                <a:lnTo>
                  <a:pt x="2" y="21"/>
                </a:lnTo>
                <a:lnTo>
                  <a:pt x="0" y="17"/>
                </a:lnTo>
                <a:lnTo>
                  <a:pt x="0" y="14"/>
                </a:lnTo>
                <a:lnTo>
                  <a:pt x="0" y="12"/>
                </a:lnTo>
                <a:lnTo>
                  <a:pt x="0" y="8"/>
                </a:lnTo>
                <a:lnTo>
                  <a:pt x="0" y="6"/>
                </a:lnTo>
                <a:lnTo>
                  <a:pt x="2" y="4"/>
                </a:lnTo>
                <a:lnTo>
                  <a:pt x="6" y="2"/>
                </a:lnTo>
                <a:lnTo>
                  <a:pt x="12" y="2"/>
                </a:lnTo>
                <a:lnTo>
                  <a:pt x="17" y="2"/>
                </a:lnTo>
                <a:lnTo>
                  <a:pt x="25" y="0"/>
                </a:lnTo>
                <a:lnTo>
                  <a:pt x="35" y="2"/>
                </a:lnTo>
                <a:lnTo>
                  <a:pt x="44" y="2"/>
                </a:lnTo>
                <a:lnTo>
                  <a:pt x="58" y="4"/>
                </a:lnTo>
                <a:lnTo>
                  <a:pt x="71" y="6"/>
                </a:lnTo>
                <a:lnTo>
                  <a:pt x="87" y="8"/>
                </a:lnTo>
                <a:lnTo>
                  <a:pt x="102" y="12"/>
                </a:lnTo>
                <a:lnTo>
                  <a:pt x="121" y="15"/>
                </a:lnTo>
                <a:lnTo>
                  <a:pt x="140" y="21"/>
                </a:lnTo>
                <a:lnTo>
                  <a:pt x="161" y="27"/>
                </a:lnTo>
                <a:lnTo>
                  <a:pt x="184" y="33"/>
                </a:lnTo>
                <a:lnTo>
                  <a:pt x="184" y="85"/>
                </a:lnTo>
                <a:lnTo>
                  <a:pt x="184" y="134"/>
                </a:lnTo>
                <a:lnTo>
                  <a:pt x="184" y="184"/>
                </a:lnTo>
                <a:lnTo>
                  <a:pt x="184" y="230"/>
                </a:lnTo>
                <a:lnTo>
                  <a:pt x="184" y="276"/>
                </a:lnTo>
                <a:lnTo>
                  <a:pt x="184" y="321"/>
                </a:lnTo>
                <a:lnTo>
                  <a:pt x="184" y="365"/>
                </a:lnTo>
                <a:lnTo>
                  <a:pt x="184" y="405"/>
                </a:lnTo>
                <a:lnTo>
                  <a:pt x="184" y="445"/>
                </a:lnTo>
                <a:lnTo>
                  <a:pt x="184" y="484"/>
                </a:lnTo>
                <a:lnTo>
                  <a:pt x="184" y="520"/>
                </a:lnTo>
                <a:lnTo>
                  <a:pt x="184" y="555"/>
                </a:lnTo>
                <a:lnTo>
                  <a:pt x="184" y="589"/>
                </a:lnTo>
                <a:lnTo>
                  <a:pt x="184" y="622"/>
                </a:lnTo>
                <a:lnTo>
                  <a:pt x="184" y="653"/>
                </a:lnTo>
                <a:lnTo>
                  <a:pt x="183" y="681"/>
                </a:lnTo>
                <a:lnTo>
                  <a:pt x="183" y="710"/>
                </a:lnTo>
                <a:lnTo>
                  <a:pt x="183" y="735"/>
                </a:lnTo>
                <a:lnTo>
                  <a:pt x="183" y="760"/>
                </a:lnTo>
                <a:lnTo>
                  <a:pt x="183" y="783"/>
                </a:lnTo>
                <a:lnTo>
                  <a:pt x="181" y="806"/>
                </a:lnTo>
                <a:lnTo>
                  <a:pt x="181" y="825"/>
                </a:lnTo>
                <a:lnTo>
                  <a:pt x="181" y="845"/>
                </a:lnTo>
                <a:lnTo>
                  <a:pt x="181" y="862"/>
                </a:lnTo>
                <a:lnTo>
                  <a:pt x="179" y="877"/>
                </a:lnTo>
                <a:lnTo>
                  <a:pt x="179" y="893"/>
                </a:lnTo>
                <a:lnTo>
                  <a:pt x="179" y="906"/>
                </a:lnTo>
                <a:lnTo>
                  <a:pt x="177" y="916"/>
                </a:lnTo>
                <a:lnTo>
                  <a:pt x="177" y="927"/>
                </a:lnTo>
                <a:lnTo>
                  <a:pt x="175" y="935"/>
                </a:lnTo>
                <a:lnTo>
                  <a:pt x="175" y="941"/>
                </a:lnTo>
                <a:lnTo>
                  <a:pt x="173" y="946"/>
                </a:lnTo>
                <a:lnTo>
                  <a:pt x="171" y="958"/>
                </a:lnTo>
                <a:lnTo>
                  <a:pt x="169" y="967"/>
                </a:lnTo>
                <a:lnTo>
                  <a:pt x="167" y="977"/>
                </a:lnTo>
                <a:lnTo>
                  <a:pt x="165" y="987"/>
                </a:lnTo>
                <a:lnTo>
                  <a:pt x="163" y="994"/>
                </a:lnTo>
                <a:lnTo>
                  <a:pt x="159" y="1000"/>
                </a:lnTo>
                <a:lnTo>
                  <a:pt x="158" y="1008"/>
                </a:lnTo>
                <a:lnTo>
                  <a:pt x="156" y="1012"/>
                </a:lnTo>
                <a:lnTo>
                  <a:pt x="154" y="1017"/>
                </a:lnTo>
                <a:lnTo>
                  <a:pt x="152" y="1021"/>
                </a:lnTo>
                <a:lnTo>
                  <a:pt x="150" y="1025"/>
                </a:lnTo>
                <a:lnTo>
                  <a:pt x="148" y="1027"/>
                </a:lnTo>
                <a:lnTo>
                  <a:pt x="144" y="1029"/>
                </a:lnTo>
                <a:lnTo>
                  <a:pt x="142" y="1031"/>
                </a:lnTo>
                <a:lnTo>
                  <a:pt x="140" y="1033"/>
                </a:lnTo>
                <a:lnTo>
                  <a:pt x="138" y="1033"/>
                </a:lnTo>
                <a:lnTo>
                  <a:pt x="135" y="1035"/>
                </a:lnTo>
                <a:lnTo>
                  <a:pt x="131" y="1035"/>
                </a:lnTo>
                <a:lnTo>
                  <a:pt x="125" y="1035"/>
                </a:lnTo>
                <a:lnTo>
                  <a:pt x="121" y="1033"/>
                </a:lnTo>
                <a:lnTo>
                  <a:pt x="117" y="1031"/>
                </a:lnTo>
                <a:lnTo>
                  <a:pt x="111" y="1027"/>
                </a:lnTo>
                <a:lnTo>
                  <a:pt x="108" y="1023"/>
                </a:lnTo>
                <a:lnTo>
                  <a:pt x="104" y="1017"/>
                </a:lnTo>
                <a:lnTo>
                  <a:pt x="100" y="1012"/>
                </a:lnTo>
                <a:lnTo>
                  <a:pt x="94" y="1004"/>
                </a:lnTo>
                <a:lnTo>
                  <a:pt x="90" y="996"/>
                </a:lnTo>
                <a:lnTo>
                  <a:pt x="87" y="987"/>
                </a:lnTo>
                <a:lnTo>
                  <a:pt x="83" y="979"/>
                </a:lnTo>
                <a:lnTo>
                  <a:pt x="77" y="969"/>
                </a:lnTo>
                <a:lnTo>
                  <a:pt x="73" y="958"/>
                </a:lnTo>
                <a:lnTo>
                  <a:pt x="69" y="946"/>
                </a:lnTo>
                <a:lnTo>
                  <a:pt x="65" y="935"/>
                </a:lnTo>
                <a:lnTo>
                  <a:pt x="62" y="923"/>
                </a:lnTo>
                <a:lnTo>
                  <a:pt x="58" y="910"/>
                </a:lnTo>
                <a:lnTo>
                  <a:pt x="56" y="896"/>
                </a:lnTo>
                <a:lnTo>
                  <a:pt x="54" y="881"/>
                </a:lnTo>
                <a:lnTo>
                  <a:pt x="52" y="868"/>
                </a:lnTo>
                <a:lnTo>
                  <a:pt x="52" y="850"/>
                </a:lnTo>
                <a:lnTo>
                  <a:pt x="50" y="835"/>
                </a:lnTo>
                <a:lnTo>
                  <a:pt x="50" y="816"/>
                </a:lnTo>
                <a:lnTo>
                  <a:pt x="50" y="799"/>
                </a:lnTo>
                <a:lnTo>
                  <a:pt x="50" y="779"/>
                </a:lnTo>
                <a:lnTo>
                  <a:pt x="52" y="758"/>
                </a:lnTo>
                <a:lnTo>
                  <a:pt x="52" y="737"/>
                </a:lnTo>
                <a:lnTo>
                  <a:pt x="54" y="714"/>
                </a:lnTo>
                <a:lnTo>
                  <a:pt x="56" y="691"/>
                </a:lnTo>
                <a:lnTo>
                  <a:pt x="58" y="666"/>
                </a:lnTo>
                <a:lnTo>
                  <a:pt x="62" y="622"/>
                </a:lnTo>
                <a:lnTo>
                  <a:pt x="65" y="578"/>
                </a:lnTo>
                <a:lnTo>
                  <a:pt x="69" y="534"/>
                </a:lnTo>
                <a:lnTo>
                  <a:pt x="71" y="493"/>
                </a:lnTo>
                <a:lnTo>
                  <a:pt x="73" y="453"/>
                </a:lnTo>
                <a:lnTo>
                  <a:pt x="73" y="413"/>
                </a:lnTo>
                <a:lnTo>
                  <a:pt x="71" y="374"/>
                </a:lnTo>
                <a:lnTo>
                  <a:pt x="71" y="355"/>
                </a:lnTo>
                <a:lnTo>
                  <a:pt x="69" y="338"/>
                </a:lnTo>
                <a:lnTo>
                  <a:pt x="67" y="319"/>
                </a:lnTo>
                <a:lnTo>
                  <a:pt x="63" y="301"/>
                </a:lnTo>
                <a:lnTo>
                  <a:pt x="62" y="286"/>
                </a:lnTo>
                <a:lnTo>
                  <a:pt x="58" y="269"/>
                </a:lnTo>
                <a:lnTo>
                  <a:pt x="56" y="253"/>
                </a:lnTo>
                <a:lnTo>
                  <a:pt x="52" y="238"/>
                </a:lnTo>
                <a:lnTo>
                  <a:pt x="50" y="223"/>
                </a:lnTo>
                <a:lnTo>
                  <a:pt x="46" y="209"/>
                </a:lnTo>
                <a:lnTo>
                  <a:pt x="42" y="196"/>
                </a:lnTo>
                <a:lnTo>
                  <a:pt x="39" y="182"/>
                </a:lnTo>
                <a:lnTo>
                  <a:pt x="37" y="171"/>
                </a:lnTo>
                <a:lnTo>
                  <a:pt x="33" y="159"/>
                </a:lnTo>
                <a:lnTo>
                  <a:pt x="31" y="148"/>
                </a:lnTo>
                <a:lnTo>
                  <a:pt x="27" y="138"/>
                </a:lnTo>
                <a:lnTo>
                  <a:pt x="25" y="127"/>
                </a:lnTo>
                <a:lnTo>
                  <a:pt x="23" y="11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Freeform 46"/>
          <p:cNvSpPr/>
          <p:nvPr/>
        </p:nvSpPr>
        <p:spPr>
          <a:xfrm>
            <a:off x="6719760" y="3635280"/>
            <a:ext cx="863640" cy="952560"/>
          </a:xfrm>
          <a:custGeom>
            <a:avLst/>
            <a:gdLst/>
            <a:ahLst/>
            <a:rect l="l" t="t" r="r" b="b"/>
            <a:pathLst>
              <a:path w="1089" h="1199">
                <a:moveTo>
                  <a:pt x="833" y="261"/>
                </a:moveTo>
                <a:lnTo>
                  <a:pt x="830" y="251"/>
                </a:lnTo>
                <a:lnTo>
                  <a:pt x="826" y="243"/>
                </a:lnTo>
                <a:lnTo>
                  <a:pt x="820" y="236"/>
                </a:lnTo>
                <a:lnTo>
                  <a:pt x="814" y="228"/>
                </a:lnTo>
                <a:lnTo>
                  <a:pt x="810" y="222"/>
                </a:lnTo>
                <a:lnTo>
                  <a:pt x="805" y="216"/>
                </a:lnTo>
                <a:lnTo>
                  <a:pt x="799" y="211"/>
                </a:lnTo>
                <a:lnTo>
                  <a:pt x="793" y="205"/>
                </a:lnTo>
                <a:lnTo>
                  <a:pt x="785" y="201"/>
                </a:lnTo>
                <a:lnTo>
                  <a:pt x="780" y="197"/>
                </a:lnTo>
                <a:lnTo>
                  <a:pt x="774" y="193"/>
                </a:lnTo>
                <a:lnTo>
                  <a:pt x="768" y="191"/>
                </a:lnTo>
                <a:lnTo>
                  <a:pt x="760" y="190"/>
                </a:lnTo>
                <a:lnTo>
                  <a:pt x="755" y="188"/>
                </a:lnTo>
                <a:lnTo>
                  <a:pt x="747" y="188"/>
                </a:lnTo>
                <a:lnTo>
                  <a:pt x="741" y="188"/>
                </a:lnTo>
                <a:lnTo>
                  <a:pt x="736" y="188"/>
                </a:lnTo>
                <a:lnTo>
                  <a:pt x="730" y="188"/>
                </a:lnTo>
                <a:lnTo>
                  <a:pt x="724" y="188"/>
                </a:lnTo>
                <a:lnTo>
                  <a:pt x="714" y="188"/>
                </a:lnTo>
                <a:lnTo>
                  <a:pt x="705" y="190"/>
                </a:lnTo>
                <a:lnTo>
                  <a:pt x="695" y="190"/>
                </a:lnTo>
                <a:lnTo>
                  <a:pt x="682" y="191"/>
                </a:lnTo>
                <a:lnTo>
                  <a:pt x="670" y="191"/>
                </a:lnTo>
                <a:lnTo>
                  <a:pt x="655" y="193"/>
                </a:lnTo>
                <a:lnTo>
                  <a:pt x="640" y="195"/>
                </a:lnTo>
                <a:lnTo>
                  <a:pt x="624" y="195"/>
                </a:lnTo>
                <a:lnTo>
                  <a:pt x="607" y="197"/>
                </a:lnTo>
                <a:lnTo>
                  <a:pt x="588" y="199"/>
                </a:lnTo>
                <a:lnTo>
                  <a:pt x="567" y="201"/>
                </a:lnTo>
                <a:lnTo>
                  <a:pt x="545" y="205"/>
                </a:lnTo>
                <a:lnTo>
                  <a:pt x="524" y="207"/>
                </a:lnTo>
                <a:lnTo>
                  <a:pt x="501" y="209"/>
                </a:lnTo>
                <a:lnTo>
                  <a:pt x="476" y="213"/>
                </a:lnTo>
                <a:lnTo>
                  <a:pt x="451" y="215"/>
                </a:lnTo>
                <a:lnTo>
                  <a:pt x="425" y="218"/>
                </a:lnTo>
                <a:lnTo>
                  <a:pt x="396" y="222"/>
                </a:lnTo>
                <a:lnTo>
                  <a:pt x="367" y="226"/>
                </a:lnTo>
                <a:lnTo>
                  <a:pt x="336" y="230"/>
                </a:lnTo>
                <a:lnTo>
                  <a:pt x="306" y="234"/>
                </a:lnTo>
                <a:lnTo>
                  <a:pt x="273" y="238"/>
                </a:lnTo>
                <a:lnTo>
                  <a:pt x="238" y="241"/>
                </a:lnTo>
                <a:lnTo>
                  <a:pt x="204" y="247"/>
                </a:lnTo>
                <a:lnTo>
                  <a:pt x="167" y="251"/>
                </a:lnTo>
                <a:lnTo>
                  <a:pt x="131" y="257"/>
                </a:lnTo>
                <a:lnTo>
                  <a:pt x="92" y="261"/>
                </a:lnTo>
                <a:lnTo>
                  <a:pt x="52" y="266"/>
                </a:lnTo>
                <a:lnTo>
                  <a:pt x="12" y="272"/>
                </a:lnTo>
                <a:lnTo>
                  <a:pt x="6" y="211"/>
                </a:lnTo>
                <a:lnTo>
                  <a:pt x="0" y="151"/>
                </a:lnTo>
                <a:lnTo>
                  <a:pt x="27" y="151"/>
                </a:lnTo>
                <a:lnTo>
                  <a:pt x="54" y="149"/>
                </a:lnTo>
                <a:lnTo>
                  <a:pt x="81" y="149"/>
                </a:lnTo>
                <a:lnTo>
                  <a:pt x="104" y="149"/>
                </a:lnTo>
                <a:lnTo>
                  <a:pt x="129" y="147"/>
                </a:lnTo>
                <a:lnTo>
                  <a:pt x="152" y="145"/>
                </a:lnTo>
                <a:lnTo>
                  <a:pt x="173" y="145"/>
                </a:lnTo>
                <a:lnTo>
                  <a:pt x="194" y="144"/>
                </a:lnTo>
                <a:lnTo>
                  <a:pt x="215" y="142"/>
                </a:lnTo>
                <a:lnTo>
                  <a:pt x="234" y="140"/>
                </a:lnTo>
                <a:lnTo>
                  <a:pt x="252" y="138"/>
                </a:lnTo>
                <a:lnTo>
                  <a:pt x="271" y="136"/>
                </a:lnTo>
                <a:lnTo>
                  <a:pt x="288" y="134"/>
                </a:lnTo>
                <a:lnTo>
                  <a:pt x="304" y="130"/>
                </a:lnTo>
                <a:lnTo>
                  <a:pt x="321" y="128"/>
                </a:lnTo>
                <a:lnTo>
                  <a:pt x="336" y="126"/>
                </a:lnTo>
                <a:lnTo>
                  <a:pt x="350" y="124"/>
                </a:lnTo>
                <a:lnTo>
                  <a:pt x="363" y="122"/>
                </a:lnTo>
                <a:lnTo>
                  <a:pt x="377" y="119"/>
                </a:lnTo>
                <a:lnTo>
                  <a:pt x="392" y="117"/>
                </a:lnTo>
                <a:lnTo>
                  <a:pt x="407" y="115"/>
                </a:lnTo>
                <a:lnTo>
                  <a:pt x="425" y="113"/>
                </a:lnTo>
                <a:lnTo>
                  <a:pt x="440" y="109"/>
                </a:lnTo>
                <a:lnTo>
                  <a:pt x="457" y="107"/>
                </a:lnTo>
                <a:lnTo>
                  <a:pt x="474" y="103"/>
                </a:lnTo>
                <a:lnTo>
                  <a:pt x="494" y="101"/>
                </a:lnTo>
                <a:lnTo>
                  <a:pt x="513" y="97"/>
                </a:lnTo>
                <a:lnTo>
                  <a:pt x="532" y="94"/>
                </a:lnTo>
                <a:lnTo>
                  <a:pt x="551" y="90"/>
                </a:lnTo>
                <a:lnTo>
                  <a:pt x="572" y="86"/>
                </a:lnTo>
                <a:lnTo>
                  <a:pt x="593" y="82"/>
                </a:lnTo>
                <a:lnTo>
                  <a:pt x="615" y="78"/>
                </a:lnTo>
                <a:lnTo>
                  <a:pt x="634" y="74"/>
                </a:lnTo>
                <a:lnTo>
                  <a:pt x="651" y="72"/>
                </a:lnTo>
                <a:lnTo>
                  <a:pt x="668" y="69"/>
                </a:lnTo>
                <a:lnTo>
                  <a:pt x="686" y="67"/>
                </a:lnTo>
                <a:lnTo>
                  <a:pt x="701" y="63"/>
                </a:lnTo>
                <a:lnTo>
                  <a:pt x="716" y="59"/>
                </a:lnTo>
                <a:lnTo>
                  <a:pt x="730" y="55"/>
                </a:lnTo>
                <a:lnTo>
                  <a:pt x="743" y="51"/>
                </a:lnTo>
                <a:lnTo>
                  <a:pt x="755" y="48"/>
                </a:lnTo>
                <a:lnTo>
                  <a:pt x="766" y="44"/>
                </a:lnTo>
                <a:lnTo>
                  <a:pt x="776" y="40"/>
                </a:lnTo>
                <a:lnTo>
                  <a:pt x="785" y="34"/>
                </a:lnTo>
                <a:lnTo>
                  <a:pt x="793" y="30"/>
                </a:lnTo>
                <a:lnTo>
                  <a:pt x="801" y="26"/>
                </a:lnTo>
                <a:lnTo>
                  <a:pt x="807" y="21"/>
                </a:lnTo>
                <a:lnTo>
                  <a:pt x="810" y="17"/>
                </a:lnTo>
                <a:lnTo>
                  <a:pt x="816" y="11"/>
                </a:lnTo>
                <a:lnTo>
                  <a:pt x="822" y="7"/>
                </a:lnTo>
                <a:lnTo>
                  <a:pt x="830" y="3"/>
                </a:lnTo>
                <a:lnTo>
                  <a:pt x="837" y="1"/>
                </a:lnTo>
                <a:lnTo>
                  <a:pt x="847" y="0"/>
                </a:lnTo>
                <a:lnTo>
                  <a:pt x="856" y="0"/>
                </a:lnTo>
                <a:lnTo>
                  <a:pt x="862" y="0"/>
                </a:lnTo>
                <a:lnTo>
                  <a:pt x="868" y="1"/>
                </a:lnTo>
                <a:lnTo>
                  <a:pt x="874" y="1"/>
                </a:lnTo>
                <a:lnTo>
                  <a:pt x="881" y="5"/>
                </a:lnTo>
                <a:lnTo>
                  <a:pt x="893" y="9"/>
                </a:lnTo>
                <a:lnTo>
                  <a:pt x="906" y="15"/>
                </a:lnTo>
                <a:lnTo>
                  <a:pt x="920" y="23"/>
                </a:lnTo>
                <a:lnTo>
                  <a:pt x="935" y="32"/>
                </a:lnTo>
                <a:lnTo>
                  <a:pt x="951" y="42"/>
                </a:lnTo>
                <a:lnTo>
                  <a:pt x="968" y="51"/>
                </a:lnTo>
                <a:lnTo>
                  <a:pt x="987" y="65"/>
                </a:lnTo>
                <a:lnTo>
                  <a:pt x="997" y="71"/>
                </a:lnTo>
                <a:lnTo>
                  <a:pt x="1008" y="78"/>
                </a:lnTo>
                <a:lnTo>
                  <a:pt x="1016" y="84"/>
                </a:lnTo>
                <a:lnTo>
                  <a:pt x="1023" y="90"/>
                </a:lnTo>
                <a:lnTo>
                  <a:pt x="1031" y="97"/>
                </a:lnTo>
                <a:lnTo>
                  <a:pt x="1039" y="103"/>
                </a:lnTo>
                <a:lnTo>
                  <a:pt x="1050" y="113"/>
                </a:lnTo>
                <a:lnTo>
                  <a:pt x="1062" y="122"/>
                </a:lnTo>
                <a:lnTo>
                  <a:pt x="1070" y="132"/>
                </a:lnTo>
                <a:lnTo>
                  <a:pt x="1077" y="140"/>
                </a:lnTo>
                <a:lnTo>
                  <a:pt x="1083" y="145"/>
                </a:lnTo>
                <a:lnTo>
                  <a:pt x="1089" y="151"/>
                </a:lnTo>
                <a:lnTo>
                  <a:pt x="1089" y="161"/>
                </a:lnTo>
                <a:lnTo>
                  <a:pt x="1087" y="168"/>
                </a:lnTo>
                <a:lnTo>
                  <a:pt x="1085" y="178"/>
                </a:lnTo>
                <a:lnTo>
                  <a:pt x="1081" y="186"/>
                </a:lnTo>
                <a:lnTo>
                  <a:pt x="1077" y="193"/>
                </a:lnTo>
                <a:lnTo>
                  <a:pt x="1073" y="201"/>
                </a:lnTo>
                <a:lnTo>
                  <a:pt x="1070" y="207"/>
                </a:lnTo>
                <a:lnTo>
                  <a:pt x="1066" y="213"/>
                </a:lnTo>
                <a:lnTo>
                  <a:pt x="1062" y="216"/>
                </a:lnTo>
                <a:lnTo>
                  <a:pt x="1058" y="224"/>
                </a:lnTo>
                <a:lnTo>
                  <a:pt x="1054" y="234"/>
                </a:lnTo>
                <a:lnTo>
                  <a:pt x="1050" y="243"/>
                </a:lnTo>
                <a:lnTo>
                  <a:pt x="1046" y="257"/>
                </a:lnTo>
                <a:lnTo>
                  <a:pt x="1045" y="270"/>
                </a:lnTo>
                <a:lnTo>
                  <a:pt x="1043" y="287"/>
                </a:lnTo>
                <a:lnTo>
                  <a:pt x="1039" y="305"/>
                </a:lnTo>
                <a:lnTo>
                  <a:pt x="1037" y="324"/>
                </a:lnTo>
                <a:lnTo>
                  <a:pt x="1035" y="347"/>
                </a:lnTo>
                <a:lnTo>
                  <a:pt x="1035" y="370"/>
                </a:lnTo>
                <a:lnTo>
                  <a:pt x="1033" y="382"/>
                </a:lnTo>
                <a:lnTo>
                  <a:pt x="1033" y="395"/>
                </a:lnTo>
                <a:lnTo>
                  <a:pt x="1033" y="408"/>
                </a:lnTo>
                <a:lnTo>
                  <a:pt x="1031" y="422"/>
                </a:lnTo>
                <a:lnTo>
                  <a:pt x="1031" y="437"/>
                </a:lnTo>
                <a:lnTo>
                  <a:pt x="1031" y="453"/>
                </a:lnTo>
                <a:lnTo>
                  <a:pt x="1031" y="468"/>
                </a:lnTo>
                <a:lnTo>
                  <a:pt x="1031" y="483"/>
                </a:lnTo>
                <a:lnTo>
                  <a:pt x="1031" y="499"/>
                </a:lnTo>
                <a:lnTo>
                  <a:pt x="1031" y="516"/>
                </a:lnTo>
                <a:lnTo>
                  <a:pt x="1031" y="550"/>
                </a:lnTo>
                <a:lnTo>
                  <a:pt x="1031" y="583"/>
                </a:lnTo>
                <a:lnTo>
                  <a:pt x="1031" y="614"/>
                </a:lnTo>
                <a:lnTo>
                  <a:pt x="1031" y="644"/>
                </a:lnTo>
                <a:lnTo>
                  <a:pt x="1031" y="673"/>
                </a:lnTo>
                <a:lnTo>
                  <a:pt x="1031" y="702"/>
                </a:lnTo>
                <a:lnTo>
                  <a:pt x="1031" y="729"/>
                </a:lnTo>
                <a:lnTo>
                  <a:pt x="1033" y="754"/>
                </a:lnTo>
                <a:lnTo>
                  <a:pt x="1033" y="779"/>
                </a:lnTo>
                <a:lnTo>
                  <a:pt x="1033" y="802"/>
                </a:lnTo>
                <a:lnTo>
                  <a:pt x="1035" y="825"/>
                </a:lnTo>
                <a:lnTo>
                  <a:pt x="1035" y="846"/>
                </a:lnTo>
                <a:lnTo>
                  <a:pt x="1037" y="865"/>
                </a:lnTo>
                <a:lnTo>
                  <a:pt x="1039" y="884"/>
                </a:lnTo>
                <a:lnTo>
                  <a:pt x="1041" y="902"/>
                </a:lnTo>
                <a:lnTo>
                  <a:pt x="1043" y="919"/>
                </a:lnTo>
                <a:lnTo>
                  <a:pt x="1043" y="934"/>
                </a:lnTo>
                <a:lnTo>
                  <a:pt x="1043" y="950"/>
                </a:lnTo>
                <a:lnTo>
                  <a:pt x="1041" y="963"/>
                </a:lnTo>
                <a:lnTo>
                  <a:pt x="1041" y="978"/>
                </a:lnTo>
                <a:lnTo>
                  <a:pt x="1039" y="992"/>
                </a:lnTo>
                <a:lnTo>
                  <a:pt x="1039" y="1005"/>
                </a:lnTo>
                <a:lnTo>
                  <a:pt x="1035" y="1030"/>
                </a:lnTo>
                <a:lnTo>
                  <a:pt x="1031" y="1053"/>
                </a:lnTo>
                <a:lnTo>
                  <a:pt x="1027" y="1074"/>
                </a:lnTo>
                <a:lnTo>
                  <a:pt x="1023" y="1094"/>
                </a:lnTo>
                <a:lnTo>
                  <a:pt x="1020" y="1113"/>
                </a:lnTo>
                <a:lnTo>
                  <a:pt x="1018" y="1124"/>
                </a:lnTo>
                <a:lnTo>
                  <a:pt x="1014" y="1134"/>
                </a:lnTo>
                <a:lnTo>
                  <a:pt x="1012" y="1144"/>
                </a:lnTo>
                <a:lnTo>
                  <a:pt x="1008" y="1153"/>
                </a:lnTo>
                <a:lnTo>
                  <a:pt x="1006" y="1161"/>
                </a:lnTo>
                <a:lnTo>
                  <a:pt x="1002" y="1167"/>
                </a:lnTo>
                <a:lnTo>
                  <a:pt x="1000" y="1174"/>
                </a:lnTo>
                <a:lnTo>
                  <a:pt x="997" y="1178"/>
                </a:lnTo>
                <a:lnTo>
                  <a:pt x="993" y="1184"/>
                </a:lnTo>
                <a:lnTo>
                  <a:pt x="989" y="1188"/>
                </a:lnTo>
                <a:lnTo>
                  <a:pt x="987" y="1192"/>
                </a:lnTo>
                <a:lnTo>
                  <a:pt x="983" y="1193"/>
                </a:lnTo>
                <a:lnTo>
                  <a:pt x="981" y="1195"/>
                </a:lnTo>
                <a:lnTo>
                  <a:pt x="977" y="1197"/>
                </a:lnTo>
                <a:lnTo>
                  <a:pt x="975" y="1199"/>
                </a:lnTo>
                <a:lnTo>
                  <a:pt x="974" y="1199"/>
                </a:lnTo>
                <a:lnTo>
                  <a:pt x="972" y="1199"/>
                </a:lnTo>
                <a:lnTo>
                  <a:pt x="968" y="1197"/>
                </a:lnTo>
                <a:lnTo>
                  <a:pt x="966" y="1195"/>
                </a:lnTo>
                <a:lnTo>
                  <a:pt x="962" y="1195"/>
                </a:lnTo>
                <a:lnTo>
                  <a:pt x="958" y="1192"/>
                </a:lnTo>
                <a:lnTo>
                  <a:pt x="956" y="1190"/>
                </a:lnTo>
                <a:lnTo>
                  <a:pt x="949" y="1182"/>
                </a:lnTo>
                <a:lnTo>
                  <a:pt x="941" y="1174"/>
                </a:lnTo>
                <a:lnTo>
                  <a:pt x="931" y="1163"/>
                </a:lnTo>
                <a:lnTo>
                  <a:pt x="924" y="1151"/>
                </a:lnTo>
                <a:lnTo>
                  <a:pt x="916" y="1138"/>
                </a:lnTo>
                <a:lnTo>
                  <a:pt x="912" y="1134"/>
                </a:lnTo>
                <a:lnTo>
                  <a:pt x="908" y="1130"/>
                </a:lnTo>
                <a:lnTo>
                  <a:pt x="906" y="1124"/>
                </a:lnTo>
                <a:lnTo>
                  <a:pt x="903" y="1119"/>
                </a:lnTo>
                <a:lnTo>
                  <a:pt x="901" y="1113"/>
                </a:lnTo>
                <a:lnTo>
                  <a:pt x="899" y="1105"/>
                </a:lnTo>
                <a:lnTo>
                  <a:pt x="895" y="1097"/>
                </a:lnTo>
                <a:lnTo>
                  <a:pt x="893" y="1090"/>
                </a:lnTo>
                <a:lnTo>
                  <a:pt x="891" y="1080"/>
                </a:lnTo>
                <a:lnTo>
                  <a:pt x="889" y="1071"/>
                </a:lnTo>
                <a:lnTo>
                  <a:pt x="887" y="1061"/>
                </a:lnTo>
                <a:lnTo>
                  <a:pt x="885" y="1050"/>
                </a:lnTo>
                <a:lnTo>
                  <a:pt x="883" y="1038"/>
                </a:lnTo>
                <a:lnTo>
                  <a:pt x="881" y="1026"/>
                </a:lnTo>
                <a:lnTo>
                  <a:pt x="881" y="1013"/>
                </a:lnTo>
                <a:lnTo>
                  <a:pt x="879" y="1002"/>
                </a:lnTo>
                <a:lnTo>
                  <a:pt x="878" y="986"/>
                </a:lnTo>
                <a:lnTo>
                  <a:pt x="876" y="973"/>
                </a:lnTo>
                <a:lnTo>
                  <a:pt x="876" y="957"/>
                </a:lnTo>
                <a:lnTo>
                  <a:pt x="874" y="940"/>
                </a:lnTo>
                <a:lnTo>
                  <a:pt x="874" y="925"/>
                </a:lnTo>
                <a:lnTo>
                  <a:pt x="872" y="907"/>
                </a:lnTo>
                <a:lnTo>
                  <a:pt x="872" y="888"/>
                </a:lnTo>
                <a:lnTo>
                  <a:pt x="872" y="871"/>
                </a:lnTo>
                <a:lnTo>
                  <a:pt x="870" y="852"/>
                </a:lnTo>
                <a:lnTo>
                  <a:pt x="870" y="831"/>
                </a:lnTo>
                <a:lnTo>
                  <a:pt x="870" y="811"/>
                </a:lnTo>
                <a:lnTo>
                  <a:pt x="870" y="790"/>
                </a:lnTo>
                <a:lnTo>
                  <a:pt x="870" y="767"/>
                </a:lnTo>
                <a:lnTo>
                  <a:pt x="870" y="746"/>
                </a:lnTo>
                <a:lnTo>
                  <a:pt x="870" y="723"/>
                </a:lnTo>
                <a:lnTo>
                  <a:pt x="870" y="700"/>
                </a:lnTo>
                <a:lnTo>
                  <a:pt x="870" y="675"/>
                </a:lnTo>
                <a:lnTo>
                  <a:pt x="868" y="652"/>
                </a:lnTo>
                <a:lnTo>
                  <a:pt x="868" y="629"/>
                </a:lnTo>
                <a:lnTo>
                  <a:pt x="868" y="608"/>
                </a:lnTo>
                <a:lnTo>
                  <a:pt x="868" y="587"/>
                </a:lnTo>
                <a:lnTo>
                  <a:pt x="868" y="566"/>
                </a:lnTo>
                <a:lnTo>
                  <a:pt x="868" y="547"/>
                </a:lnTo>
                <a:lnTo>
                  <a:pt x="866" y="527"/>
                </a:lnTo>
                <a:lnTo>
                  <a:pt x="866" y="510"/>
                </a:lnTo>
                <a:lnTo>
                  <a:pt x="866" y="491"/>
                </a:lnTo>
                <a:lnTo>
                  <a:pt x="864" y="474"/>
                </a:lnTo>
                <a:lnTo>
                  <a:pt x="864" y="458"/>
                </a:lnTo>
                <a:lnTo>
                  <a:pt x="862" y="441"/>
                </a:lnTo>
                <a:lnTo>
                  <a:pt x="862" y="426"/>
                </a:lnTo>
                <a:lnTo>
                  <a:pt x="860" y="412"/>
                </a:lnTo>
                <a:lnTo>
                  <a:pt x="860" y="397"/>
                </a:lnTo>
                <a:lnTo>
                  <a:pt x="858" y="383"/>
                </a:lnTo>
                <a:lnTo>
                  <a:pt x="858" y="372"/>
                </a:lnTo>
                <a:lnTo>
                  <a:pt x="856" y="358"/>
                </a:lnTo>
                <a:lnTo>
                  <a:pt x="855" y="347"/>
                </a:lnTo>
                <a:lnTo>
                  <a:pt x="855" y="337"/>
                </a:lnTo>
                <a:lnTo>
                  <a:pt x="853" y="326"/>
                </a:lnTo>
                <a:lnTo>
                  <a:pt x="851" y="316"/>
                </a:lnTo>
                <a:lnTo>
                  <a:pt x="849" y="309"/>
                </a:lnTo>
                <a:lnTo>
                  <a:pt x="847" y="301"/>
                </a:lnTo>
                <a:lnTo>
                  <a:pt x="845" y="293"/>
                </a:lnTo>
                <a:lnTo>
                  <a:pt x="843" y="286"/>
                </a:lnTo>
                <a:lnTo>
                  <a:pt x="841" y="280"/>
                </a:lnTo>
                <a:lnTo>
                  <a:pt x="839" y="274"/>
                </a:lnTo>
                <a:lnTo>
                  <a:pt x="837" y="268"/>
                </a:lnTo>
                <a:lnTo>
                  <a:pt x="835" y="264"/>
                </a:lnTo>
                <a:lnTo>
                  <a:pt x="833" y="26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Freeform 47"/>
          <p:cNvSpPr/>
          <p:nvPr/>
        </p:nvSpPr>
        <p:spPr>
          <a:xfrm>
            <a:off x="6405480" y="3925800"/>
            <a:ext cx="781200" cy="1121040"/>
          </a:xfrm>
          <a:custGeom>
            <a:avLst/>
            <a:gdLst/>
            <a:ahLst/>
            <a:rect l="l" t="t" r="r" b="b"/>
            <a:pathLst>
              <a:path w="983" h="1413">
                <a:moveTo>
                  <a:pt x="766" y="79"/>
                </a:moveTo>
                <a:lnTo>
                  <a:pt x="762" y="75"/>
                </a:lnTo>
                <a:lnTo>
                  <a:pt x="758" y="69"/>
                </a:lnTo>
                <a:lnTo>
                  <a:pt x="754" y="66"/>
                </a:lnTo>
                <a:lnTo>
                  <a:pt x="752" y="62"/>
                </a:lnTo>
                <a:lnTo>
                  <a:pt x="748" y="52"/>
                </a:lnTo>
                <a:lnTo>
                  <a:pt x="747" y="44"/>
                </a:lnTo>
                <a:lnTo>
                  <a:pt x="747" y="37"/>
                </a:lnTo>
                <a:lnTo>
                  <a:pt x="748" y="29"/>
                </a:lnTo>
                <a:lnTo>
                  <a:pt x="750" y="23"/>
                </a:lnTo>
                <a:lnTo>
                  <a:pt x="754" y="18"/>
                </a:lnTo>
                <a:lnTo>
                  <a:pt x="756" y="16"/>
                </a:lnTo>
                <a:lnTo>
                  <a:pt x="760" y="14"/>
                </a:lnTo>
                <a:lnTo>
                  <a:pt x="764" y="12"/>
                </a:lnTo>
                <a:lnTo>
                  <a:pt x="770" y="10"/>
                </a:lnTo>
                <a:lnTo>
                  <a:pt x="775" y="8"/>
                </a:lnTo>
                <a:lnTo>
                  <a:pt x="781" y="6"/>
                </a:lnTo>
                <a:lnTo>
                  <a:pt x="787" y="4"/>
                </a:lnTo>
                <a:lnTo>
                  <a:pt x="795" y="2"/>
                </a:lnTo>
                <a:lnTo>
                  <a:pt x="802" y="2"/>
                </a:lnTo>
                <a:lnTo>
                  <a:pt x="810" y="0"/>
                </a:lnTo>
                <a:lnTo>
                  <a:pt x="829" y="0"/>
                </a:lnTo>
                <a:lnTo>
                  <a:pt x="839" y="2"/>
                </a:lnTo>
                <a:lnTo>
                  <a:pt x="848" y="2"/>
                </a:lnTo>
                <a:lnTo>
                  <a:pt x="860" y="4"/>
                </a:lnTo>
                <a:lnTo>
                  <a:pt x="869" y="6"/>
                </a:lnTo>
                <a:lnTo>
                  <a:pt x="881" y="8"/>
                </a:lnTo>
                <a:lnTo>
                  <a:pt x="891" y="12"/>
                </a:lnTo>
                <a:lnTo>
                  <a:pt x="900" y="14"/>
                </a:lnTo>
                <a:lnTo>
                  <a:pt x="910" y="18"/>
                </a:lnTo>
                <a:lnTo>
                  <a:pt x="917" y="19"/>
                </a:lnTo>
                <a:lnTo>
                  <a:pt x="925" y="23"/>
                </a:lnTo>
                <a:lnTo>
                  <a:pt x="933" y="27"/>
                </a:lnTo>
                <a:lnTo>
                  <a:pt x="939" y="31"/>
                </a:lnTo>
                <a:lnTo>
                  <a:pt x="946" y="35"/>
                </a:lnTo>
                <a:lnTo>
                  <a:pt x="952" y="37"/>
                </a:lnTo>
                <a:lnTo>
                  <a:pt x="956" y="41"/>
                </a:lnTo>
                <a:lnTo>
                  <a:pt x="962" y="44"/>
                </a:lnTo>
                <a:lnTo>
                  <a:pt x="965" y="46"/>
                </a:lnTo>
                <a:lnTo>
                  <a:pt x="969" y="50"/>
                </a:lnTo>
                <a:lnTo>
                  <a:pt x="971" y="52"/>
                </a:lnTo>
                <a:lnTo>
                  <a:pt x="975" y="54"/>
                </a:lnTo>
                <a:lnTo>
                  <a:pt x="977" y="58"/>
                </a:lnTo>
                <a:lnTo>
                  <a:pt x="977" y="62"/>
                </a:lnTo>
                <a:lnTo>
                  <a:pt x="979" y="67"/>
                </a:lnTo>
                <a:lnTo>
                  <a:pt x="981" y="75"/>
                </a:lnTo>
                <a:lnTo>
                  <a:pt x="981" y="83"/>
                </a:lnTo>
                <a:lnTo>
                  <a:pt x="983" y="94"/>
                </a:lnTo>
                <a:lnTo>
                  <a:pt x="983" y="104"/>
                </a:lnTo>
                <a:lnTo>
                  <a:pt x="983" y="117"/>
                </a:lnTo>
                <a:lnTo>
                  <a:pt x="983" y="131"/>
                </a:lnTo>
                <a:lnTo>
                  <a:pt x="983" y="146"/>
                </a:lnTo>
                <a:lnTo>
                  <a:pt x="981" y="161"/>
                </a:lnTo>
                <a:lnTo>
                  <a:pt x="981" y="181"/>
                </a:lnTo>
                <a:lnTo>
                  <a:pt x="979" y="198"/>
                </a:lnTo>
                <a:lnTo>
                  <a:pt x="977" y="219"/>
                </a:lnTo>
                <a:lnTo>
                  <a:pt x="977" y="240"/>
                </a:lnTo>
                <a:lnTo>
                  <a:pt x="975" y="261"/>
                </a:lnTo>
                <a:lnTo>
                  <a:pt x="969" y="307"/>
                </a:lnTo>
                <a:lnTo>
                  <a:pt x="965" y="352"/>
                </a:lnTo>
                <a:lnTo>
                  <a:pt x="960" y="394"/>
                </a:lnTo>
                <a:lnTo>
                  <a:pt x="956" y="438"/>
                </a:lnTo>
                <a:lnTo>
                  <a:pt x="950" y="478"/>
                </a:lnTo>
                <a:lnTo>
                  <a:pt x="942" y="520"/>
                </a:lnTo>
                <a:lnTo>
                  <a:pt x="937" y="563"/>
                </a:lnTo>
                <a:lnTo>
                  <a:pt x="929" y="603"/>
                </a:lnTo>
                <a:lnTo>
                  <a:pt x="919" y="643"/>
                </a:lnTo>
                <a:lnTo>
                  <a:pt x="908" y="684"/>
                </a:lnTo>
                <a:lnTo>
                  <a:pt x="896" y="722"/>
                </a:lnTo>
                <a:lnTo>
                  <a:pt x="883" y="760"/>
                </a:lnTo>
                <a:lnTo>
                  <a:pt x="868" y="797"/>
                </a:lnTo>
                <a:lnTo>
                  <a:pt x="850" y="835"/>
                </a:lnTo>
                <a:lnTo>
                  <a:pt x="833" y="872"/>
                </a:lnTo>
                <a:lnTo>
                  <a:pt x="821" y="889"/>
                </a:lnTo>
                <a:lnTo>
                  <a:pt x="812" y="908"/>
                </a:lnTo>
                <a:lnTo>
                  <a:pt x="800" y="927"/>
                </a:lnTo>
                <a:lnTo>
                  <a:pt x="789" y="948"/>
                </a:lnTo>
                <a:lnTo>
                  <a:pt x="777" y="968"/>
                </a:lnTo>
                <a:lnTo>
                  <a:pt x="764" y="985"/>
                </a:lnTo>
                <a:lnTo>
                  <a:pt x="750" y="1004"/>
                </a:lnTo>
                <a:lnTo>
                  <a:pt x="737" y="1021"/>
                </a:lnTo>
                <a:lnTo>
                  <a:pt x="724" y="1039"/>
                </a:lnTo>
                <a:lnTo>
                  <a:pt x="708" y="1056"/>
                </a:lnTo>
                <a:lnTo>
                  <a:pt x="693" y="1071"/>
                </a:lnTo>
                <a:lnTo>
                  <a:pt x="676" y="1089"/>
                </a:lnTo>
                <a:lnTo>
                  <a:pt x="660" y="1104"/>
                </a:lnTo>
                <a:lnTo>
                  <a:pt x="643" y="1119"/>
                </a:lnTo>
                <a:lnTo>
                  <a:pt x="626" y="1133"/>
                </a:lnTo>
                <a:lnTo>
                  <a:pt x="606" y="1148"/>
                </a:lnTo>
                <a:lnTo>
                  <a:pt x="587" y="1162"/>
                </a:lnTo>
                <a:lnTo>
                  <a:pt x="570" y="1177"/>
                </a:lnTo>
                <a:lnTo>
                  <a:pt x="549" y="1192"/>
                </a:lnTo>
                <a:lnTo>
                  <a:pt x="530" y="1208"/>
                </a:lnTo>
                <a:lnTo>
                  <a:pt x="509" y="1221"/>
                </a:lnTo>
                <a:lnTo>
                  <a:pt x="487" y="1236"/>
                </a:lnTo>
                <a:lnTo>
                  <a:pt x="466" y="1250"/>
                </a:lnTo>
                <a:lnTo>
                  <a:pt x="443" y="1263"/>
                </a:lnTo>
                <a:lnTo>
                  <a:pt x="420" y="1275"/>
                </a:lnTo>
                <a:lnTo>
                  <a:pt x="399" y="1288"/>
                </a:lnTo>
                <a:lnTo>
                  <a:pt x="353" y="1311"/>
                </a:lnTo>
                <a:lnTo>
                  <a:pt x="305" y="1332"/>
                </a:lnTo>
                <a:lnTo>
                  <a:pt x="257" y="1352"/>
                </a:lnTo>
                <a:lnTo>
                  <a:pt x="211" y="1371"/>
                </a:lnTo>
                <a:lnTo>
                  <a:pt x="184" y="1378"/>
                </a:lnTo>
                <a:lnTo>
                  <a:pt x="161" y="1384"/>
                </a:lnTo>
                <a:lnTo>
                  <a:pt x="140" y="1390"/>
                </a:lnTo>
                <a:lnTo>
                  <a:pt x="119" y="1394"/>
                </a:lnTo>
                <a:lnTo>
                  <a:pt x="100" y="1398"/>
                </a:lnTo>
                <a:lnTo>
                  <a:pt x="82" y="1401"/>
                </a:lnTo>
                <a:lnTo>
                  <a:pt x="67" y="1405"/>
                </a:lnTo>
                <a:lnTo>
                  <a:pt x="54" y="1407"/>
                </a:lnTo>
                <a:lnTo>
                  <a:pt x="42" y="1409"/>
                </a:lnTo>
                <a:lnTo>
                  <a:pt x="31" y="1411"/>
                </a:lnTo>
                <a:lnTo>
                  <a:pt x="21" y="1413"/>
                </a:lnTo>
                <a:lnTo>
                  <a:pt x="15" y="1413"/>
                </a:lnTo>
                <a:lnTo>
                  <a:pt x="9" y="1411"/>
                </a:lnTo>
                <a:lnTo>
                  <a:pt x="4" y="1411"/>
                </a:lnTo>
                <a:lnTo>
                  <a:pt x="2" y="1409"/>
                </a:lnTo>
                <a:lnTo>
                  <a:pt x="2" y="1407"/>
                </a:lnTo>
                <a:lnTo>
                  <a:pt x="0" y="1403"/>
                </a:lnTo>
                <a:lnTo>
                  <a:pt x="2" y="1398"/>
                </a:lnTo>
                <a:lnTo>
                  <a:pt x="4" y="1392"/>
                </a:lnTo>
                <a:lnTo>
                  <a:pt x="8" y="1384"/>
                </a:lnTo>
                <a:lnTo>
                  <a:pt x="15" y="1378"/>
                </a:lnTo>
                <a:lnTo>
                  <a:pt x="23" y="1371"/>
                </a:lnTo>
                <a:lnTo>
                  <a:pt x="32" y="1363"/>
                </a:lnTo>
                <a:lnTo>
                  <a:pt x="44" y="1355"/>
                </a:lnTo>
                <a:lnTo>
                  <a:pt x="57" y="1346"/>
                </a:lnTo>
                <a:lnTo>
                  <a:pt x="73" y="1336"/>
                </a:lnTo>
                <a:lnTo>
                  <a:pt x="90" y="1327"/>
                </a:lnTo>
                <a:lnTo>
                  <a:pt x="107" y="1317"/>
                </a:lnTo>
                <a:lnTo>
                  <a:pt x="128" y="1307"/>
                </a:lnTo>
                <a:lnTo>
                  <a:pt x="150" y="1296"/>
                </a:lnTo>
                <a:lnTo>
                  <a:pt x="173" y="1284"/>
                </a:lnTo>
                <a:lnTo>
                  <a:pt x="199" y="1273"/>
                </a:lnTo>
                <a:lnTo>
                  <a:pt x="224" y="1259"/>
                </a:lnTo>
                <a:lnTo>
                  <a:pt x="249" y="1246"/>
                </a:lnTo>
                <a:lnTo>
                  <a:pt x="274" y="1231"/>
                </a:lnTo>
                <a:lnTo>
                  <a:pt x="297" y="1215"/>
                </a:lnTo>
                <a:lnTo>
                  <a:pt x="322" y="1202"/>
                </a:lnTo>
                <a:lnTo>
                  <a:pt x="345" y="1186"/>
                </a:lnTo>
                <a:lnTo>
                  <a:pt x="368" y="1171"/>
                </a:lnTo>
                <a:lnTo>
                  <a:pt x="390" y="1154"/>
                </a:lnTo>
                <a:lnTo>
                  <a:pt x="411" y="1138"/>
                </a:lnTo>
                <a:lnTo>
                  <a:pt x="432" y="1123"/>
                </a:lnTo>
                <a:lnTo>
                  <a:pt x="453" y="1106"/>
                </a:lnTo>
                <a:lnTo>
                  <a:pt x="472" y="1089"/>
                </a:lnTo>
                <a:lnTo>
                  <a:pt x="491" y="1071"/>
                </a:lnTo>
                <a:lnTo>
                  <a:pt x="510" y="1054"/>
                </a:lnTo>
                <a:lnTo>
                  <a:pt x="528" y="1037"/>
                </a:lnTo>
                <a:lnTo>
                  <a:pt x="545" y="1018"/>
                </a:lnTo>
                <a:lnTo>
                  <a:pt x="562" y="998"/>
                </a:lnTo>
                <a:lnTo>
                  <a:pt x="580" y="981"/>
                </a:lnTo>
                <a:lnTo>
                  <a:pt x="595" y="962"/>
                </a:lnTo>
                <a:lnTo>
                  <a:pt x="610" y="943"/>
                </a:lnTo>
                <a:lnTo>
                  <a:pt x="626" y="922"/>
                </a:lnTo>
                <a:lnTo>
                  <a:pt x="639" y="902"/>
                </a:lnTo>
                <a:lnTo>
                  <a:pt x="653" y="881"/>
                </a:lnTo>
                <a:lnTo>
                  <a:pt x="666" y="862"/>
                </a:lnTo>
                <a:lnTo>
                  <a:pt x="677" y="841"/>
                </a:lnTo>
                <a:lnTo>
                  <a:pt x="689" y="820"/>
                </a:lnTo>
                <a:lnTo>
                  <a:pt x="701" y="799"/>
                </a:lnTo>
                <a:lnTo>
                  <a:pt x="710" y="778"/>
                </a:lnTo>
                <a:lnTo>
                  <a:pt x="720" y="757"/>
                </a:lnTo>
                <a:lnTo>
                  <a:pt x="727" y="733"/>
                </a:lnTo>
                <a:lnTo>
                  <a:pt x="735" y="710"/>
                </a:lnTo>
                <a:lnTo>
                  <a:pt x="743" y="689"/>
                </a:lnTo>
                <a:lnTo>
                  <a:pt x="748" y="668"/>
                </a:lnTo>
                <a:lnTo>
                  <a:pt x="754" y="645"/>
                </a:lnTo>
                <a:lnTo>
                  <a:pt x="760" y="624"/>
                </a:lnTo>
                <a:lnTo>
                  <a:pt x="766" y="601"/>
                </a:lnTo>
                <a:lnTo>
                  <a:pt x="775" y="557"/>
                </a:lnTo>
                <a:lnTo>
                  <a:pt x="785" y="509"/>
                </a:lnTo>
                <a:lnTo>
                  <a:pt x="791" y="461"/>
                </a:lnTo>
                <a:lnTo>
                  <a:pt x="796" y="411"/>
                </a:lnTo>
                <a:lnTo>
                  <a:pt x="798" y="386"/>
                </a:lnTo>
                <a:lnTo>
                  <a:pt x="798" y="361"/>
                </a:lnTo>
                <a:lnTo>
                  <a:pt x="800" y="336"/>
                </a:lnTo>
                <a:lnTo>
                  <a:pt x="800" y="311"/>
                </a:lnTo>
                <a:lnTo>
                  <a:pt x="800" y="286"/>
                </a:lnTo>
                <a:lnTo>
                  <a:pt x="800" y="263"/>
                </a:lnTo>
                <a:lnTo>
                  <a:pt x="798" y="240"/>
                </a:lnTo>
                <a:lnTo>
                  <a:pt x="798" y="219"/>
                </a:lnTo>
                <a:lnTo>
                  <a:pt x="796" y="200"/>
                </a:lnTo>
                <a:lnTo>
                  <a:pt x="795" y="183"/>
                </a:lnTo>
                <a:lnTo>
                  <a:pt x="795" y="165"/>
                </a:lnTo>
                <a:lnTo>
                  <a:pt x="793" y="150"/>
                </a:lnTo>
                <a:lnTo>
                  <a:pt x="789" y="135"/>
                </a:lnTo>
                <a:lnTo>
                  <a:pt x="787" y="123"/>
                </a:lnTo>
                <a:lnTo>
                  <a:pt x="785" y="112"/>
                </a:lnTo>
                <a:lnTo>
                  <a:pt x="781" y="102"/>
                </a:lnTo>
                <a:lnTo>
                  <a:pt x="777" y="94"/>
                </a:lnTo>
                <a:lnTo>
                  <a:pt x="773" y="87"/>
                </a:lnTo>
                <a:lnTo>
                  <a:pt x="770" y="83"/>
                </a:lnTo>
                <a:lnTo>
                  <a:pt x="766" y="7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Freeform 48"/>
          <p:cNvSpPr/>
          <p:nvPr/>
        </p:nvSpPr>
        <p:spPr>
          <a:xfrm>
            <a:off x="7165800" y="4587840"/>
            <a:ext cx="505080" cy="459000"/>
          </a:xfrm>
          <a:custGeom>
            <a:avLst/>
            <a:gdLst/>
            <a:ahLst/>
            <a:rect l="l" t="t" r="r" b="b"/>
            <a:pathLst>
              <a:path w="635" h="578">
                <a:moveTo>
                  <a:pt x="224" y="73"/>
                </a:moveTo>
                <a:lnTo>
                  <a:pt x="244" y="81"/>
                </a:lnTo>
                <a:lnTo>
                  <a:pt x="263" y="89"/>
                </a:lnTo>
                <a:lnTo>
                  <a:pt x="282" y="96"/>
                </a:lnTo>
                <a:lnTo>
                  <a:pt x="299" y="104"/>
                </a:lnTo>
                <a:lnTo>
                  <a:pt x="334" y="123"/>
                </a:lnTo>
                <a:lnTo>
                  <a:pt x="366" y="144"/>
                </a:lnTo>
                <a:lnTo>
                  <a:pt x="399" y="167"/>
                </a:lnTo>
                <a:lnTo>
                  <a:pt x="430" y="190"/>
                </a:lnTo>
                <a:lnTo>
                  <a:pt x="460" y="217"/>
                </a:lnTo>
                <a:lnTo>
                  <a:pt x="491" y="244"/>
                </a:lnTo>
                <a:lnTo>
                  <a:pt x="505" y="257"/>
                </a:lnTo>
                <a:lnTo>
                  <a:pt x="520" y="271"/>
                </a:lnTo>
                <a:lnTo>
                  <a:pt x="533" y="284"/>
                </a:lnTo>
                <a:lnTo>
                  <a:pt x="545" y="296"/>
                </a:lnTo>
                <a:lnTo>
                  <a:pt x="556" y="309"/>
                </a:lnTo>
                <a:lnTo>
                  <a:pt x="568" y="321"/>
                </a:lnTo>
                <a:lnTo>
                  <a:pt x="578" y="332"/>
                </a:lnTo>
                <a:lnTo>
                  <a:pt x="587" y="344"/>
                </a:lnTo>
                <a:lnTo>
                  <a:pt x="595" y="355"/>
                </a:lnTo>
                <a:lnTo>
                  <a:pt x="603" y="367"/>
                </a:lnTo>
                <a:lnTo>
                  <a:pt x="608" y="376"/>
                </a:lnTo>
                <a:lnTo>
                  <a:pt x="614" y="388"/>
                </a:lnTo>
                <a:lnTo>
                  <a:pt x="620" y="398"/>
                </a:lnTo>
                <a:lnTo>
                  <a:pt x="624" y="407"/>
                </a:lnTo>
                <a:lnTo>
                  <a:pt x="627" y="417"/>
                </a:lnTo>
                <a:lnTo>
                  <a:pt x="629" y="426"/>
                </a:lnTo>
                <a:lnTo>
                  <a:pt x="631" y="434"/>
                </a:lnTo>
                <a:lnTo>
                  <a:pt x="633" y="440"/>
                </a:lnTo>
                <a:lnTo>
                  <a:pt x="635" y="453"/>
                </a:lnTo>
                <a:lnTo>
                  <a:pt x="635" y="467"/>
                </a:lnTo>
                <a:lnTo>
                  <a:pt x="633" y="482"/>
                </a:lnTo>
                <a:lnTo>
                  <a:pt x="629" y="495"/>
                </a:lnTo>
                <a:lnTo>
                  <a:pt x="627" y="509"/>
                </a:lnTo>
                <a:lnTo>
                  <a:pt x="622" y="522"/>
                </a:lnTo>
                <a:lnTo>
                  <a:pt x="618" y="536"/>
                </a:lnTo>
                <a:lnTo>
                  <a:pt x="614" y="543"/>
                </a:lnTo>
                <a:lnTo>
                  <a:pt x="610" y="549"/>
                </a:lnTo>
                <a:lnTo>
                  <a:pt x="604" y="555"/>
                </a:lnTo>
                <a:lnTo>
                  <a:pt x="601" y="559"/>
                </a:lnTo>
                <a:lnTo>
                  <a:pt x="597" y="563"/>
                </a:lnTo>
                <a:lnTo>
                  <a:pt x="591" y="566"/>
                </a:lnTo>
                <a:lnTo>
                  <a:pt x="587" y="570"/>
                </a:lnTo>
                <a:lnTo>
                  <a:pt x="581" y="572"/>
                </a:lnTo>
                <a:lnTo>
                  <a:pt x="578" y="574"/>
                </a:lnTo>
                <a:lnTo>
                  <a:pt x="572" y="576"/>
                </a:lnTo>
                <a:lnTo>
                  <a:pt x="566" y="578"/>
                </a:lnTo>
                <a:lnTo>
                  <a:pt x="562" y="578"/>
                </a:lnTo>
                <a:lnTo>
                  <a:pt x="556" y="578"/>
                </a:lnTo>
                <a:lnTo>
                  <a:pt x="551" y="576"/>
                </a:lnTo>
                <a:lnTo>
                  <a:pt x="543" y="574"/>
                </a:lnTo>
                <a:lnTo>
                  <a:pt x="537" y="572"/>
                </a:lnTo>
                <a:lnTo>
                  <a:pt x="533" y="572"/>
                </a:lnTo>
                <a:lnTo>
                  <a:pt x="530" y="570"/>
                </a:lnTo>
                <a:lnTo>
                  <a:pt x="522" y="565"/>
                </a:lnTo>
                <a:lnTo>
                  <a:pt x="512" y="557"/>
                </a:lnTo>
                <a:lnTo>
                  <a:pt x="501" y="547"/>
                </a:lnTo>
                <a:lnTo>
                  <a:pt x="487" y="538"/>
                </a:lnTo>
                <a:lnTo>
                  <a:pt x="472" y="524"/>
                </a:lnTo>
                <a:lnTo>
                  <a:pt x="457" y="511"/>
                </a:lnTo>
                <a:lnTo>
                  <a:pt x="439" y="494"/>
                </a:lnTo>
                <a:lnTo>
                  <a:pt x="420" y="476"/>
                </a:lnTo>
                <a:lnTo>
                  <a:pt x="401" y="457"/>
                </a:lnTo>
                <a:lnTo>
                  <a:pt x="380" y="436"/>
                </a:lnTo>
                <a:lnTo>
                  <a:pt x="357" y="413"/>
                </a:lnTo>
                <a:lnTo>
                  <a:pt x="332" y="388"/>
                </a:lnTo>
                <a:lnTo>
                  <a:pt x="305" y="361"/>
                </a:lnTo>
                <a:lnTo>
                  <a:pt x="278" y="334"/>
                </a:lnTo>
                <a:lnTo>
                  <a:pt x="247" y="305"/>
                </a:lnTo>
                <a:lnTo>
                  <a:pt x="219" y="275"/>
                </a:lnTo>
                <a:lnTo>
                  <a:pt x="192" y="248"/>
                </a:lnTo>
                <a:lnTo>
                  <a:pt x="165" y="221"/>
                </a:lnTo>
                <a:lnTo>
                  <a:pt x="142" y="196"/>
                </a:lnTo>
                <a:lnTo>
                  <a:pt x="121" y="173"/>
                </a:lnTo>
                <a:lnTo>
                  <a:pt x="100" y="152"/>
                </a:lnTo>
                <a:lnTo>
                  <a:pt x="82" y="133"/>
                </a:lnTo>
                <a:lnTo>
                  <a:pt x="65" y="113"/>
                </a:lnTo>
                <a:lnTo>
                  <a:pt x="52" y="96"/>
                </a:lnTo>
                <a:lnTo>
                  <a:pt x="40" y="81"/>
                </a:lnTo>
                <a:lnTo>
                  <a:pt x="29" y="67"/>
                </a:lnTo>
                <a:lnTo>
                  <a:pt x="21" y="56"/>
                </a:lnTo>
                <a:lnTo>
                  <a:pt x="13" y="46"/>
                </a:lnTo>
                <a:lnTo>
                  <a:pt x="11" y="41"/>
                </a:lnTo>
                <a:lnTo>
                  <a:pt x="9" y="37"/>
                </a:lnTo>
                <a:lnTo>
                  <a:pt x="7" y="33"/>
                </a:lnTo>
                <a:lnTo>
                  <a:pt x="5" y="29"/>
                </a:lnTo>
                <a:lnTo>
                  <a:pt x="5" y="27"/>
                </a:lnTo>
                <a:lnTo>
                  <a:pt x="5" y="25"/>
                </a:lnTo>
                <a:lnTo>
                  <a:pt x="4" y="21"/>
                </a:lnTo>
                <a:lnTo>
                  <a:pt x="2" y="19"/>
                </a:lnTo>
                <a:lnTo>
                  <a:pt x="0" y="17"/>
                </a:lnTo>
                <a:lnTo>
                  <a:pt x="0" y="16"/>
                </a:lnTo>
                <a:lnTo>
                  <a:pt x="0" y="14"/>
                </a:lnTo>
                <a:lnTo>
                  <a:pt x="2" y="12"/>
                </a:lnTo>
                <a:lnTo>
                  <a:pt x="4" y="10"/>
                </a:lnTo>
                <a:lnTo>
                  <a:pt x="5" y="8"/>
                </a:lnTo>
                <a:lnTo>
                  <a:pt x="7" y="6"/>
                </a:lnTo>
                <a:lnTo>
                  <a:pt x="9" y="4"/>
                </a:lnTo>
                <a:lnTo>
                  <a:pt x="13" y="2"/>
                </a:lnTo>
                <a:lnTo>
                  <a:pt x="17" y="2"/>
                </a:lnTo>
                <a:lnTo>
                  <a:pt x="23" y="0"/>
                </a:lnTo>
                <a:lnTo>
                  <a:pt x="29" y="0"/>
                </a:lnTo>
                <a:lnTo>
                  <a:pt x="32" y="0"/>
                </a:lnTo>
                <a:lnTo>
                  <a:pt x="40" y="0"/>
                </a:lnTo>
                <a:lnTo>
                  <a:pt x="46" y="0"/>
                </a:lnTo>
                <a:lnTo>
                  <a:pt x="53" y="0"/>
                </a:lnTo>
                <a:lnTo>
                  <a:pt x="61" y="2"/>
                </a:lnTo>
                <a:lnTo>
                  <a:pt x="71" y="4"/>
                </a:lnTo>
                <a:lnTo>
                  <a:pt x="78" y="6"/>
                </a:lnTo>
                <a:lnTo>
                  <a:pt x="88" y="10"/>
                </a:lnTo>
                <a:lnTo>
                  <a:pt x="100" y="14"/>
                </a:lnTo>
                <a:lnTo>
                  <a:pt x="111" y="17"/>
                </a:lnTo>
                <a:lnTo>
                  <a:pt x="123" y="23"/>
                </a:lnTo>
                <a:lnTo>
                  <a:pt x="134" y="27"/>
                </a:lnTo>
                <a:lnTo>
                  <a:pt x="148" y="35"/>
                </a:lnTo>
                <a:lnTo>
                  <a:pt x="161" y="41"/>
                </a:lnTo>
                <a:lnTo>
                  <a:pt x="176" y="48"/>
                </a:lnTo>
                <a:lnTo>
                  <a:pt x="192" y="56"/>
                </a:lnTo>
                <a:lnTo>
                  <a:pt x="207" y="64"/>
                </a:lnTo>
                <a:lnTo>
                  <a:pt x="224" y="7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Freeform 49"/>
          <p:cNvSpPr/>
          <p:nvPr/>
        </p:nvSpPr>
        <p:spPr>
          <a:xfrm>
            <a:off x="5587920" y="3859200"/>
            <a:ext cx="930240" cy="701640"/>
          </a:xfrm>
          <a:custGeom>
            <a:avLst/>
            <a:gdLst/>
            <a:ahLst/>
            <a:rect l="l" t="t" r="r" b="b"/>
            <a:pathLst>
              <a:path w="1173" h="883">
                <a:moveTo>
                  <a:pt x="1056" y="136"/>
                </a:moveTo>
                <a:lnTo>
                  <a:pt x="1040" y="149"/>
                </a:lnTo>
                <a:lnTo>
                  <a:pt x="1021" y="163"/>
                </a:lnTo>
                <a:lnTo>
                  <a:pt x="1002" y="180"/>
                </a:lnTo>
                <a:lnTo>
                  <a:pt x="981" y="197"/>
                </a:lnTo>
                <a:lnTo>
                  <a:pt x="960" y="219"/>
                </a:lnTo>
                <a:lnTo>
                  <a:pt x="935" y="240"/>
                </a:lnTo>
                <a:lnTo>
                  <a:pt x="908" y="263"/>
                </a:lnTo>
                <a:lnTo>
                  <a:pt x="879" y="288"/>
                </a:lnTo>
                <a:lnTo>
                  <a:pt x="850" y="316"/>
                </a:lnTo>
                <a:lnTo>
                  <a:pt x="818" y="345"/>
                </a:lnTo>
                <a:lnTo>
                  <a:pt x="785" y="374"/>
                </a:lnTo>
                <a:lnTo>
                  <a:pt x="751" y="407"/>
                </a:lnTo>
                <a:lnTo>
                  <a:pt x="714" y="441"/>
                </a:lnTo>
                <a:lnTo>
                  <a:pt x="676" y="476"/>
                </a:lnTo>
                <a:lnTo>
                  <a:pt x="635" y="512"/>
                </a:lnTo>
                <a:lnTo>
                  <a:pt x="593" y="551"/>
                </a:lnTo>
                <a:lnTo>
                  <a:pt x="570" y="572"/>
                </a:lnTo>
                <a:lnTo>
                  <a:pt x="551" y="591"/>
                </a:lnTo>
                <a:lnTo>
                  <a:pt x="530" y="610"/>
                </a:lnTo>
                <a:lnTo>
                  <a:pt x="511" y="629"/>
                </a:lnTo>
                <a:lnTo>
                  <a:pt x="491" y="647"/>
                </a:lnTo>
                <a:lnTo>
                  <a:pt x="474" y="664"/>
                </a:lnTo>
                <a:lnTo>
                  <a:pt x="457" y="681"/>
                </a:lnTo>
                <a:lnTo>
                  <a:pt x="440" y="696"/>
                </a:lnTo>
                <a:lnTo>
                  <a:pt x="422" y="712"/>
                </a:lnTo>
                <a:lnTo>
                  <a:pt x="407" y="725"/>
                </a:lnTo>
                <a:lnTo>
                  <a:pt x="392" y="739"/>
                </a:lnTo>
                <a:lnTo>
                  <a:pt x="376" y="752"/>
                </a:lnTo>
                <a:lnTo>
                  <a:pt x="361" y="766"/>
                </a:lnTo>
                <a:lnTo>
                  <a:pt x="347" y="777"/>
                </a:lnTo>
                <a:lnTo>
                  <a:pt x="334" y="789"/>
                </a:lnTo>
                <a:lnTo>
                  <a:pt x="322" y="798"/>
                </a:lnTo>
                <a:lnTo>
                  <a:pt x="311" y="808"/>
                </a:lnTo>
                <a:lnTo>
                  <a:pt x="299" y="817"/>
                </a:lnTo>
                <a:lnTo>
                  <a:pt x="288" y="827"/>
                </a:lnTo>
                <a:lnTo>
                  <a:pt x="278" y="835"/>
                </a:lnTo>
                <a:lnTo>
                  <a:pt x="269" y="842"/>
                </a:lnTo>
                <a:lnTo>
                  <a:pt x="259" y="848"/>
                </a:lnTo>
                <a:lnTo>
                  <a:pt x="251" y="854"/>
                </a:lnTo>
                <a:lnTo>
                  <a:pt x="242" y="860"/>
                </a:lnTo>
                <a:lnTo>
                  <a:pt x="234" y="865"/>
                </a:lnTo>
                <a:lnTo>
                  <a:pt x="228" y="869"/>
                </a:lnTo>
                <a:lnTo>
                  <a:pt x="223" y="873"/>
                </a:lnTo>
                <a:lnTo>
                  <a:pt x="217" y="875"/>
                </a:lnTo>
                <a:lnTo>
                  <a:pt x="211" y="877"/>
                </a:lnTo>
                <a:lnTo>
                  <a:pt x="205" y="879"/>
                </a:lnTo>
                <a:lnTo>
                  <a:pt x="202" y="881"/>
                </a:lnTo>
                <a:lnTo>
                  <a:pt x="200" y="881"/>
                </a:lnTo>
                <a:lnTo>
                  <a:pt x="192" y="883"/>
                </a:lnTo>
                <a:lnTo>
                  <a:pt x="186" y="883"/>
                </a:lnTo>
                <a:lnTo>
                  <a:pt x="178" y="883"/>
                </a:lnTo>
                <a:lnTo>
                  <a:pt x="173" y="883"/>
                </a:lnTo>
                <a:lnTo>
                  <a:pt x="165" y="881"/>
                </a:lnTo>
                <a:lnTo>
                  <a:pt x="157" y="879"/>
                </a:lnTo>
                <a:lnTo>
                  <a:pt x="152" y="875"/>
                </a:lnTo>
                <a:lnTo>
                  <a:pt x="144" y="871"/>
                </a:lnTo>
                <a:lnTo>
                  <a:pt x="136" y="867"/>
                </a:lnTo>
                <a:lnTo>
                  <a:pt x="129" y="862"/>
                </a:lnTo>
                <a:lnTo>
                  <a:pt x="119" y="854"/>
                </a:lnTo>
                <a:lnTo>
                  <a:pt x="111" y="846"/>
                </a:lnTo>
                <a:lnTo>
                  <a:pt x="102" y="839"/>
                </a:lnTo>
                <a:lnTo>
                  <a:pt x="92" y="829"/>
                </a:lnTo>
                <a:lnTo>
                  <a:pt x="83" y="817"/>
                </a:lnTo>
                <a:lnTo>
                  <a:pt x="71" y="808"/>
                </a:lnTo>
                <a:lnTo>
                  <a:pt x="61" y="796"/>
                </a:lnTo>
                <a:lnTo>
                  <a:pt x="52" y="785"/>
                </a:lnTo>
                <a:lnTo>
                  <a:pt x="42" y="775"/>
                </a:lnTo>
                <a:lnTo>
                  <a:pt x="35" y="766"/>
                </a:lnTo>
                <a:lnTo>
                  <a:pt x="27" y="756"/>
                </a:lnTo>
                <a:lnTo>
                  <a:pt x="21" y="746"/>
                </a:lnTo>
                <a:lnTo>
                  <a:pt x="15" y="739"/>
                </a:lnTo>
                <a:lnTo>
                  <a:pt x="11" y="731"/>
                </a:lnTo>
                <a:lnTo>
                  <a:pt x="8" y="723"/>
                </a:lnTo>
                <a:lnTo>
                  <a:pt x="4" y="716"/>
                </a:lnTo>
                <a:lnTo>
                  <a:pt x="2" y="708"/>
                </a:lnTo>
                <a:lnTo>
                  <a:pt x="0" y="700"/>
                </a:lnTo>
                <a:lnTo>
                  <a:pt x="0" y="695"/>
                </a:lnTo>
                <a:lnTo>
                  <a:pt x="0" y="687"/>
                </a:lnTo>
                <a:lnTo>
                  <a:pt x="0" y="679"/>
                </a:lnTo>
                <a:lnTo>
                  <a:pt x="2" y="673"/>
                </a:lnTo>
                <a:lnTo>
                  <a:pt x="4" y="666"/>
                </a:lnTo>
                <a:lnTo>
                  <a:pt x="6" y="662"/>
                </a:lnTo>
                <a:lnTo>
                  <a:pt x="8" y="656"/>
                </a:lnTo>
                <a:lnTo>
                  <a:pt x="11" y="652"/>
                </a:lnTo>
                <a:lnTo>
                  <a:pt x="13" y="648"/>
                </a:lnTo>
                <a:lnTo>
                  <a:pt x="15" y="647"/>
                </a:lnTo>
                <a:lnTo>
                  <a:pt x="19" y="645"/>
                </a:lnTo>
                <a:lnTo>
                  <a:pt x="23" y="643"/>
                </a:lnTo>
                <a:lnTo>
                  <a:pt x="25" y="641"/>
                </a:lnTo>
                <a:lnTo>
                  <a:pt x="29" y="641"/>
                </a:lnTo>
                <a:lnTo>
                  <a:pt x="33" y="641"/>
                </a:lnTo>
                <a:lnTo>
                  <a:pt x="38" y="643"/>
                </a:lnTo>
                <a:lnTo>
                  <a:pt x="42" y="643"/>
                </a:lnTo>
                <a:lnTo>
                  <a:pt x="48" y="645"/>
                </a:lnTo>
                <a:lnTo>
                  <a:pt x="54" y="647"/>
                </a:lnTo>
                <a:lnTo>
                  <a:pt x="59" y="648"/>
                </a:lnTo>
                <a:lnTo>
                  <a:pt x="73" y="658"/>
                </a:lnTo>
                <a:lnTo>
                  <a:pt x="84" y="664"/>
                </a:lnTo>
                <a:lnTo>
                  <a:pt x="94" y="670"/>
                </a:lnTo>
                <a:lnTo>
                  <a:pt x="104" y="675"/>
                </a:lnTo>
                <a:lnTo>
                  <a:pt x="113" y="677"/>
                </a:lnTo>
                <a:lnTo>
                  <a:pt x="119" y="677"/>
                </a:lnTo>
                <a:lnTo>
                  <a:pt x="123" y="677"/>
                </a:lnTo>
                <a:lnTo>
                  <a:pt x="129" y="677"/>
                </a:lnTo>
                <a:lnTo>
                  <a:pt x="132" y="677"/>
                </a:lnTo>
                <a:lnTo>
                  <a:pt x="136" y="675"/>
                </a:lnTo>
                <a:lnTo>
                  <a:pt x="142" y="673"/>
                </a:lnTo>
                <a:lnTo>
                  <a:pt x="142" y="672"/>
                </a:lnTo>
                <a:lnTo>
                  <a:pt x="146" y="670"/>
                </a:lnTo>
                <a:lnTo>
                  <a:pt x="148" y="666"/>
                </a:lnTo>
                <a:lnTo>
                  <a:pt x="154" y="664"/>
                </a:lnTo>
                <a:lnTo>
                  <a:pt x="157" y="660"/>
                </a:lnTo>
                <a:lnTo>
                  <a:pt x="165" y="654"/>
                </a:lnTo>
                <a:lnTo>
                  <a:pt x="173" y="650"/>
                </a:lnTo>
                <a:lnTo>
                  <a:pt x="180" y="643"/>
                </a:lnTo>
                <a:lnTo>
                  <a:pt x="190" y="637"/>
                </a:lnTo>
                <a:lnTo>
                  <a:pt x="200" y="629"/>
                </a:lnTo>
                <a:lnTo>
                  <a:pt x="211" y="622"/>
                </a:lnTo>
                <a:lnTo>
                  <a:pt x="223" y="614"/>
                </a:lnTo>
                <a:lnTo>
                  <a:pt x="236" y="604"/>
                </a:lnTo>
                <a:lnTo>
                  <a:pt x="250" y="595"/>
                </a:lnTo>
                <a:lnTo>
                  <a:pt x="265" y="585"/>
                </a:lnTo>
                <a:lnTo>
                  <a:pt x="280" y="574"/>
                </a:lnTo>
                <a:lnTo>
                  <a:pt x="298" y="562"/>
                </a:lnTo>
                <a:lnTo>
                  <a:pt x="315" y="549"/>
                </a:lnTo>
                <a:lnTo>
                  <a:pt x="334" y="537"/>
                </a:lnTo>
                <a:lnTo>
                  <a:pt x="353" y="524"/>
                </a:lnTo>
                <a:lnTo>
                  <a:pt x="374" y="508"/>
                </a:lnTo>
                <a:lnTo>
                  <a:pt x="395" y="493"/>
                </a:lnTo>
                <a:lnTo>
                  <a:pt x="418" y="478"/>
                </a:lnTo>
                <a:lnTo>
                  <a:pt x="441" y="462"/>
                </a:lnTo>
                <a:lnTo>
                  <a:pt x="466" y="445"/>
                </a:lnTo>
                <a:lnTo>
                  <a:pt x="491" y="428"/>
                </a:lnTo>
                <a:lnTo>
                  <a:pt x="516" y="409"/>
                </a:lnTo>
                <a:lnTo>
                  <a:pt x="543" y="389"/>
                </a:lnTo>
                <a:lnTo>
                  <a:pt x="572" y="370"/>
                </a:lnTo>
                <a:lnTo>
                  <a:pt x="601" y="349"/>
                </a:lnTo>
                <a:lnTo>
                  <a:pt x="632" y="330"/>
                </a:lnTo>
                <a:lnTo>
                  <a:pt x="662" y="307"/>
                </a:lnTo>
                <a:lnTo>
                  <a:pt x="693" y="286"/>
                </a:lnTo>
                <a:lnTo>
                  <a:pt x="722" y="265"/>
                </a:lnTo>
                <a:lnTo>
                  <a:pt x="751" y="245"/>
                </a:lnTo>
                <a:lnTo>
                  <a:pt x="779" y="226"/>
                </a:lnTo>
                <a:lnTo>
                  <a:pt x="806" y="207"/>
                </a:lnTo>
                <a:lnTo>
                  <a:pt x="831" y="190"/>
                </a:lnTo>
                <a:lnTo>
                  <a:pt x="856" y="172"/>
                </a:lnTo>
                <a:lnTo>
                  <a:pt x="881" y="157"/>
                </a:lnTo>
                <a:lnTo>
                  <a:pt x="904" y="142"/>
                </a:lnTo>
                <a:lnTo>
                  <a:pt x="925" y="128"/>
                </a:lnTo>
                <a:lnTo>
                  <a:pt x="946" y="115"/>
                </a:lnTo>
                <a:lnTo>
                  <a:pt x="967" y="101"/>
                </a:lnTo>
                <a:lnTo>
                  <a:pt x="987" y="90"/>
                </a:lnTo>
                <a:lnTo>
                  <a:pt x="1004" y="78"/>
                </a:lnTo>
                <a:lnTo>
                  <a:pt x="1021" y="67"/>
                </a:lnTo>
                <a:lnTo>
                  <a:pt x="1037" y="57"/>
                </a:lnTo>
                <a:lnTo>
                  <a:pt x="1052" y="50"/>
                </a:lnTo>
                <a:lnTo>
                  <a:pt x="1067" y="40"/>
                </a:lnTo>
                <a:lnTo>
                  <a:pt x="1081" y="32"/>
                </a:lnTo>
                <a:lnTo>
                  <a:pt x="1092" y="27"/>
                </a:lnTo>
                <a:lnTo>
                  <a:pt x="1104" y="21"/>
                </a:lnTo>
                <a:lnTo>
                  <a:pt x="1115" y="15"/>
                </a:lnTo>
                <a:lnTo>
                  <a:pt x="1125" y="11"/>
                </a:lnTo>
                <a:lnTo>
                  <a:pt x="1134" y="7"/>
                </a:lnTo>
                <a:lnTo>
                  <a:pt x="1142" y="4"/>
                </a:lnTo>
                <a:lnTo>
                  <a:pt x="1148" y="2"/>
                </a:lnTo>
                <a:lnTo>
                  <a:pt x="1156" y="0"/>
                </a:lnTo>
                <a:lnTo>
                  <a:pt x="1159" y="0"/>
                </a:lnTo>
                <a:lnTo>
                  <a:pt x="1163" y="0"/>
                </a:lnTo>
                <a:lnTo>
                  <a:pt x="1167" y="0"/>
                </a:lnTo>
                <a:lnTo>
                  <a:pt x="1169" y="2"/>
                </a:lnTo>
                <a:lnTo>
                  <a:pt x="1171" y="4"/>
                </a:lnTo>
                <a:lnTo>
                  <a:pt x="1173" y="7"/>
                </a:lnTo>
                <a:lnTo>
                  <a:pt x="1173" y="13"/>
                </a:lnTo>
                <a:lnTo>
                  <a:pt x="1173" y="19"/>
                </a:lnTo>
                <a:lnTo>
                  <a:pt x="1169" y="25"/>
                </a:lnTo>
                <a:lnTo>
                  <a:pt x="1165" y="32"/>
                </a:lnTo>
                <a:lnTo>
                  <a:pt x="1161" y="40"/>
                </a:lnTo>
                <a:lnTo>
                  <a:pt x="1156" y="48"/>
                </a:lnTo>
                <a:lnTo>
                  <a:pt x="1148" y="55"/>
                </a:lnTo>
                <a:lnTo>
                  <a:pt x="1140" y="65"/>
                </a:lnTo>
                <a:lnTo>
                  <a:pt x="1131" y="75"/>
                </a:lnTo>
                <a:lnTo>
                  <a:pt x="1121" y="82"/>
                </a:lnTo>
                <a:lnTo>
                  <a:pt x="1110" y="94"/>
                </a:lnTo>
                <a:lnTo>
                  <a:pt x="1098" y="103"/>
                </a:lnTo>
                <a:lnTo>
                  <a:pt x="1085" y="115"/>
                </a:lnTo>
                <a:lnTo>
                  <a:pt x="1071" y="124"/>
                </a:lnTo>
                <a:lnTo>
                  <a:pt x="1056" y="13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75"/>
                                        </p:tgtEl>
                                        <p:attrNameLst>
                                          <p:attrName>style.visibility</p:attrName>
                                        </p:attrNameLst>
                                      </p:cBhvr>
                                      <p:to>
                                        <p:strVal val="visible"/>
                                      </p:to>
                                    </p:set>
                                    <p:anim calcmode="lin" valueType="num">
                                      <p:cBhvr additive="base">
                                        <p:cTn id="389" dur="500" fill="hold"/>
                                        <p:tgtEl>
                                          <p:spTgt spid="175"/>
                                        </p:tgtEl>
                                        <p:attrNameLst>
                                          <p:attrName>ppt_x</p:attrName>
                                        </p:attrNameLst>
                                      </p:cBhvr>
                                      <p:tavLst>
                                        <p:tav tm="0">
                                          <p:val>
                                            <p:strVal val="0-#ppt_w/2"/>
                                          </p:val>
                                        </p:tav>
                                        <p:tav tm="100000">
                                          <p:val>
                                            <p:strVal val="#ppt_x"/>
                                          </p:val>
                                        </p:tav>
                                      </p:tavLst>
                                    </p:anim>
                                    <p:anim calcmode="lin" valueType="num">
                                      <p:cBhvr additive="base">
                                        <p:cTn id="390"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177"/>
                                        </p:tgtEl>
                                        <p:attrNameLst>
                                          <p:attrName>style.visibility</p:attrName>
                                        </p:attrNameLst>
                                      </p:cBhvr>
                                      <p:to>
                                        <p:strVal val="visible"/>
                                      </p:to>
                                    </p:set>
                                    <p:animEffect filter="wipe(left)" transition="in">
                                      <p:cBhvr additive="repl">
                                        <p:cTn id="395" dur="500"/>
                                        <p:tgtEl>
                                          <p:spTgt spid="177"/>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76"/>
                                        </p:tgtEl>
                                        <p:attrNameLst>
                                          <p:attrName>style.visibility</p:attrName>
                                        </p:attrNameLst>
                                      </p:cBhvr>
                                      <p:to>
                                        <p:strVal val="visible"/>
                                      </p:to>
                                    </p:set>
                                    <p:animEffect filter="wipe(up)" transition="in">
                                      <p:cBhvr additive="repl">
                                        <p:cTn id="400" dur="500"/>
                                        <p:tgtEl>
                                          <p:spTgt spid="176"/>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185"/>
                                        </p:tgtEl>
                                        <p:attrNameLst>
                                          <p:attrName>style.visibility</p:attrName>
                                        </p:attrNameLst>
                                      </p:cBhvr>
                                      <p:to>
                                        <p:strVal val="visible"/>
                                      </p:to>
                                    </p:set>
                                    <p:animEffect filter="wipe(left)" transition="in">
                                      <p:cBhvr additive="repl">
                                        <p:cTn id="405" dur="500"/>
                                        <p:tgtEl>
                                          <p:spTgt spid="185"/>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2" presetSubtype="1">
                                  <p:stCondLst>
                                    <p:cond delay="0"/>
                                  </p:stCondLst>
                                  <p:childTnLst>
                                    <p:set>
                                      <p:cBhvr>
                                        <p:cTn id="409" dur="1" fill="hold">
                                          <p:stCondLst>
                                            <p:cond delay="0"/>
                                          </p:stCondLst>
                                        </p:cTn>
                                        <p:tgtEl>
                                          <p:spTgt spid="178"/>
                                        </p:tgtEl>
                                        <p:attrNameLst>
                                          <p:attrName>style.visibility</p:attrName>
                                        </p:attrNameLst>
                                      </p:cBhvr>
                                      <p:to>
                                        <p:strVal val="visible"/>
                                      </p:to>
                                    </p:set>
                                    <p:animEffect filter="wipe(up)" transition="in">
                                      <p:cBhvr additive="repl">
                                        <p:cTn id="410" dur="500"/>
                                        <p:tgtEl>
                                          <p:spTgt spid="178"/>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8" presetSubtype="6">
                                  <p:stCondLst>
                                    <p:cond delay="0"/>
                                  </p:stCondLst>
                                  <p:childTnLst>
                                    <p:set>
                                      <p:cBhvr>
                                        <p:cTn id="414" dur="1" fill="hold">
                                          <p:stCondLst>
                                            <p:cond delay="0"/>
                                          </p:stCondLst>
                                        </p:cTn>
                                        <p:tgtEl>
                                          <p:spTgt spid="179"/>
                                        </p:tgtEl>
                                        <p:attrNameLst>
                                          <p:attrName>style.visibility</p:attrName>
                                        </p:attrNameLst>
                                      </p:cBhvr>
                                      <p:to>
                                        <p:strVal val="visible"/>
                                      </p:to>
                                    </p:set>
                                    <p:animEffect filter="strips(downRight)" transition="in">
                                      <p:cBhvr additive="repl">
                                        <p:cTn id="415" dur="500"/>
                                        <p:tgtEl>
                                          <p:spTgt spid="179"/>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180"/>
                                        </p:tgtEl>
                                        <p:attrNameLst>
                                          <p:attrName>style.visibility</p:attrName>
                                        </p:attrNameLst>
                                      </p:cBhvr>
                                      <p:to>
                                        <p:strVal val="visible"/>
                                      </p:to>
                                    </p:set>
                                    <p:animEffect filter="wipe(left)" transition="in">
                                      <p:cBhvr additive="repl">
                                        <p:cTn id="420" dur="500"/>
                                        <p:tgtEl>
                                          <p:spTgt spid="180"/>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2" presetSubtype="1">
                                  <p:stCondLst>
                                    <p:cond delay="0"/>
                                  </p:stCondLst>
                                  <p:childTnLst>
                                    <p:set>
                                      <p:cBhvr>
                                        <p:cTn id="424" dur="1" fill="hold">
                                          <p:stCondLst>
                                            <p:cond delay="0"/>
                                          </p:stCondLst>
                                        </p:cTn>
                                        <p:tgtEl>
                                          <p:spTgt spid="181"/>
                                        </p:tgtEl>
                                        <p:attrNameLst>
                                          <p:attrName>style.visibility</p:attrName>
                                        </p:attrNameLst>
                                      </p:cBhvr>
                                      <p:to>
                                        <p:strVal val="visible"/>
                                      </p:to>
                                    </p:set>
                                    <p:animEffect filter="wipe(up)" transition="in">
                                      <p:cBhvr additive="repl">
                                        <p:cTn id="425" dur="500"/>
                                        <p:tgtEl>
                                          <p:spTgt spid="181"/>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8" presetSubtype="6">
                                  <p:stCondLst>
                                    <p:cond delay="0"/>
                                  </p:stCondLst>
                                  <p:childTnLst>
                                    <p:set>
                                      <p:cBhvr>
                                        <p:cTn id="429" dur="1" fill="hold">
                                          <p:stCondLst>
                                            <p:cond delay="0"/>
                                          </p:stCondLst>
                                        </p:cTn>
                                        <p:tgtEl>
                                          <p:spTgt spid="182"/>
                                        </p:tgtEl>
                                        <p:attrNameLst>
                                          <p:attrName>style.visibility</p:attrName>
                                        </p:attrNameLst>
                                      </p:cBhvr>
                                      <p:to>
                                        <p:strVal val="visible"/>
                                      </p:to>
                                    </p:set>
                                    <p:animEffect filter="strips(downRight)" transition="in">
                                      <p:cBhvr additive="repl">
                                        <p:cTn id="430" dur="500"/>
                                        <p:tgtEl>
                                          <p:spTgt spid="182"/>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2" presetSubtype="1">
                                  <p:stCondLst>
                                    <p:cond delay="0"/>
                                  </p:stCondLst>
                                  <p:childTnLst>
                                    <p:set>
                                      <p:cBhvr>
                                        <p:cTn id="434" dur="1" fill="hold">
                                          <p:stCondLst>
                                            <p:cond delay="0"/>
                                          </p:stCondLst>
                                        </p:cTn>
                                        <p:tgtEl>
                                          <p:spTgt spid="183"/>
                                        </p:tgtEl>
                                        <p:attrNameLst>
                                          <p:attrName>style.visibility</p:attrName>
                                        </p:attrNameLst>
                                      </p:cBhvr>
                                      <p:to>
                                        <p:strVal val="visible"/>
                                      </p:to>
                                    </p:set>
                                    <p:animEffect filter="wipe(up)" transition="in">
                                      <p:cBhvr additive="repl">
                                        <p:cTn id="435" dur="500"/>
                                        <p:tgtEl>
                                          <p:spTgt spid="183"/>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2" presetSubtype="1">
                                  <p:stCondLst>
                                    <p:cond delay="0"/>
                                  </p:stCondLst>
                                  <p:childTnLst>
                                    <p:set>
                                      <p:cBhvr>
                                        <p:cTn id="439" dur="1" fill="hold">
                                          <p:stCondLst>
                                            <p:cond delay="0"/>
                                          </p:stCondLst>
                                        </p:cTn>
                                        <p:tgtEl>
                                          <p:spTgt spid="184"/>
                                        </p:tgtEl>
                                        <p:attrNameLst>
                                          <p:attrName>style.visibility</p:attrName>
                                        </p:attrNameLst>
                                      </p:cBhvr>
                                      <p:to>
                                        <p:strVal val="visible"/>
                                      </p:to>
                                    </p:set>
                                    <p:animEffect filter="wipe(up)" transition="in">
                                      <p:cBhvr additive="repl">
                                        <p:cTn id="440" dur="500"/>
                                        <p:tgtEl>
                                          <p:spTgt spid="184"/>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53" presetSubtype="16">
                                  <p:stCondLst>
                                    <p:cond delay="0"/>
                                  </p:stCondLst>
                                  <p:childTnLst>
                                    <p:set>
                                      <p:cBhvr>
                                        <p:cTn id="444" dur="1" fill="hold">
                                          <p:stCondLst>
                                            <p:cond delay="0"/>
                                          </p:stCondLst>
                                        </p:cTn>
                                        <p:tgtEl>
                                          <p:spTgt spid="172"/>
                                        </p:tgtEl>
                                        <p:attrNameLst>
                                          <p:attrName>style.visibility</p:attrName>
                                        </p:attrNameLst>
                                      </p:cBhvr>
                                      <p:to>
                                        <p:strVal val="visible"/>
                                      </p:to>
                                    </p:set>
                                    <p:anim calcmode="lin" valueType="num">
                                      <p:cBhvr additive="repl">
                                        <p:cTn id="445" dur="500" fill="hold"/>
                                        <p:tgtEl>
                                          <p:spTgt spid="172"/>
                                        </p:tgtEl>
                                        <p:attrNameLst>
                                          <p:attrName>ppt_w</p:attrName>
                                        </p:attrNameLst>
                                      </p:cBhvr>
                                      <p:tavLst>
                                        <p:tav tm="0">
                                          <p:val>
                                            <p:fltVal val="0"/>
                                          </p:val>
                                        </p:tav>
                                        <p:tav tm="100000">
                                          <p:val>
                                            <p:strVal val="#ppt_w"/>
                                          </p:val>
                                        </p:tav>
                                      </p:tavLst>
                                    </p:anim>
                                    <p:anim calcmode="lin" valueType="num">
                                      <p:cBhvr additive="repl">
                                        <p:cTn id="446" dur="500" fill="hold"/>
                                        <p:tgtEl>
                                          <p:spTgt spid="172"/>
                                        </p:tgtEl>
                                        <p:attrNameLst>
                                          <p:attrName>ppt_h</p:attrName>
                                        </p:attrNameLst>
                                      </p:cBhvr>
                                      <p:tavLst>
                                        <p:tav tm="0">
                                          <p:val>
                                            <p:fltVal val="0"/>
                                          </p:val>
                                        </p:tav>
                                        <p:tav tm="100000">
                                          <p:val>
                                            <p:strVal val="#ppt_h"/>
                                          </p:val>
                                        </p:tav>
                                      </p:tavLst>
                                    </p:anim>
                                    <p:animEffect filter="fade" transition="in">
                                      <p:cBhvr additive="repl">
                                        <p:cTn id="44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伏</a:t>
            </a:r>
            <a:endParaRPr b="0" lang="en-US" sz="8000" spc="-1" strike="noStrike">
              <a:solidFill>
                <a:srgbClr val="000000"/>
              </a:solidFill>
              <a:latin typeface="Calibri"/>
            </a:endParaRPr>
          </a:p>
        </p:txBody>
      </p:sp>
      <p:graphicFrame>
        <p:nvGraphicFramePr>
          <p:cNvPr id="187"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88" name="组合 8"/>
          <p:cNvGrpSpPr/>
          <p:nvPr/>
        </p:nvGrpSpPr>
        <p:grpSpPr>
          <a:xfrm>
            <a:off x="1243080" y="3975120"/>
            <a:ext cx="2840040" cy="1571760"/>
            <a:chOff x="1243080" y="3975120"/>
            <a:chExt cx="2840040" cy="1571760"/>
          </a:xfrm>
        </p:grpSpPr>
        <p:pic>
          <p:nvPicPr>
            <p:cNvPr id="189" name="图示 4" descr=""/>
            <p:cNvPicPr/>
            <p:nvPr/>
          </p:nvPicPr>
          <p:blipFill>
            <a:blip r:embed="rId1"/>
            <a:stretch/>
          </p:blipFill>
          <p:spPr>
            <a:xfrm>
              <a:off x="1243080" y="3975120"/>
              <a:ext cx="2840040" cy="1571760"/>
            </a:xfrm>
            <a:prstGeom prst="rect">
              <a:avLst/>
            </a:prstGeom>
            <a:ln w="0">
              <a:noFill/>
            </a:ln>
          </p:spPr>
        </p:pic>
        <p:sp>
          <p:nvSpPr>
            <p:cNvPr id="190" name="矩形 2"/>
            <p:cNvSpPr/>
            <p:nvPr/>
          </p:nvSpPr>
          <p:spPr>
            <a:xfrm>
              <a:off x="1289160" y="4587840"/>
              <a:ext cx="27666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左窄右宽，“犬”的撇、捺要舒展。</a:t>
              </a:r>
              <a:endParaRPr b="0" lang="en-US" sz="2000" spc="-1" strike="noStrike">
                <a:solidFill>
                  <a:srgbClr val="000000"/>
                </a:solidFill>
                <a:latin typeface="Calibri"/>
              </a:endParaRPr>
            </a:p>
          </p:txBody>
        </p:sp>
      </p:grpSp>
      <p:sp>
        <p:nvSpPr>
          <p:cNvPr id="191" name="矩形 3"/>
          <p:cNvSpPr/>
          <p:nvPr/>
        </p:nvSpPr>
        <p:spPr>
          <a:xfrm>
            <a:off x="2266920" y="1868400"/>
            <a:ext cx="917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fú</a:t>
            </a:r>
            <a:endParaRPr b="0" lang="en-US" sz="4800" spc="-1" strike="noStrike">
              <a:solidFill>
                <a:srgbClr val="000000"/>
              </a:solidFill>
              <a:latin typeface="Calibri"/>
            </a:endParaRPr>
          </a:p>
        </p:txBody>
      </p:sp>
      <p:sp>
        <p:nvSpPr>
          <p:cNvPr id="192" name="Freeform 29"/>
          <p:cNvSpPr/>
          <p:nvPr/>
        </p:nvSpPr>
        <p:spPr>
          <a:xfrm>
            <a:off x="5557680" y="3051000"/>
            <a:ext cx="790560" cy="1055880"/>
          </a:xfrm>
          <a:custGeom>
            <a:avLst/>
            <a:gdLst/>
            <a:ahLst/>
            <a:rect l="l" t="t" r="r" b="b"/>
            <a:pathLst>
              <a:path w="997" h="1331">
                <a:moveTo>
                  <a:pt x="546" y="634"/>
                </a:moveTo>
                <a:lnTo>
                  <a:pt x="567" y="599"/>
                </a:lnTo>
                <a:lnTo>
                  <a:pt x="586" y="567"/>
                </a:lnTo>
                <a:lnTo>
                  <a:pt x="605" y="536"/>
                </a:lnTo>
                <a:lnTo>
                  <a:pt x="624" y="507"/>
                </a:lnTo>
                <a:lnTo>
                  <a:pt x="640" y="478"/>
                </a:lnTo>
                <a:lnTo>
                  <a:pt x="657" y="451"/>
                </a:lnTo>
                <a:lnTo>
                  <a:pt x="672" y="427"/>
                </a:lnTo>
                <a:lnTo>
                  <a:pt x="686" y="402"/>
                </a:lnTo>
                <a:lnTo>
                  <a:pt x="699" y="379"/>
                </a:lnTo>
                <a:lnTo>
                  <a:pt x="711" y="355"/>
                </a:lnTo>
                <a:lnTo>
                  <a:pt x="722" y="334"/>
                </a:lnTo>
                <a:lnTo>
                  <a:pt x="734" y="315"/>
                </a:lnTo>
                <a:lnTo>
                  <a:pt x="741" y="296"/>
                </a:lnTo>
                <a:lnTo>
                  <a:pt x="751" y="277"/>
                </a:lnTo>
                <a:lnTo>
                  <a:pt x="759" y="260"/>
                </a:lnTo>
                <a:lnTo>
                  <a:pt x="766" y="244"/>
                </a:lnTo>
                <a:lnTo>
                  <a:pt x="770" y="229"/>
                </a:lnTo>
                <a:lnTo>
                  <a:pt x="772" y="213"/>
                </a:lnTo>
                <a:lnTo>
                  <a:pt x="776" y="198"/>
                </a:lnTo>
                <a:lnTo>
                  <a:pt x="778" y="185"/>
                </a:lnTo>
                <a:lnTo>
                  <a:pt x="780" y="171"/>
                </a:lnTo>
                <a:lnTo>
                  <a:pt x="782" y="158"/>
                </a:lnTo>
                <a:lnTo>
                  <a:pt x="784" y="146"/>
                </a:lnTo>
                <a:lnTo>
                  <a:pt x="784" y="135"/>
                </a:lnTo>
                <a:lnTo>
                  <a:pt x="784" y="123"/>
                </a:lnTo>
                <a:lnTo>
                  <a:pt x="784" y="112"/>
                </a:lnTo>
                <a:lnTo>
                  <a:pt x="784" y="102"/>
                </a:lnTo>
                <a:lnTo>
                  <a:pt x="784" y="93"/>
                </a:lnTo>
                <a:lnTo>
                  <a:pt x="782" y="85"/>
                </a:lnTo>
                <a:lnTo>
                  <a:pt x="782" y="75"/>
                </a:lnTo>
                <a:lnTo>
                  <a:pt x="780" y="68"/>
                </a:lnTo>
                <a:lnTo>
                  <a:pt x="778" y="62"/>
                </a:lnTo>
                <a:lnTo>
                  <a:pt x="776" y="54"/>
                </a:lnTo>
                <a:lnTo>
                  <a:pt x="774" y="48"/>
                </a:lnTo>
                <a:lnTo>
                  <a:pt x="772" y="43"/>
                </a:lnTo>
                <a:lnTo>
                  <a:pt x="772" y="37"/>
                </a:lnTo>
                <a:lnTo>
                  <a:pt x="770" y="29"/>
                </a:lnTo>
                <a:lnTo>
                  <a:pt x="770" y="25"/>
                </a:lnTo>
                <a:lnTo>
                  <a:pt x="772" y="22"/>
                </a:lnTo>
                <a:lnTo>
                  <a:pt x="772" y="18"/>
                </a:lnTo>
                <a:lnTo>
                  <a:pt x="774" y="16"/>
                </a:lnTo>
                <a:lnTo>
                  <a:pt x="778" y="12"/>
                </a:lnTo>
                <a:lnTo>
                  <a:pt x="780" y="10"/>
                </a:lnTo>
                <a:lnTo>
                  <a:pt x="784" y="6"/>
                </a:lnTo>
                <a:lnTo>
                  <a:pt x="789" y="4"/>
                </a:lnTo>
                <a:lnTo>
                  <a:pt x="795" y="2"/>
                </a:lnTo>
                <a:lnTo>
                  <a:pt x="801" y="0"/>
                </a:lnTo>
                <a:lnTo>
                  <a:pt x="807" y="0"/>
                </a:lnTo>
                <a:lnTo>
                  <a:pt x="814" y="0"/>
                </a:lnTo>
                <a:lnTo>
                  <a:pt x="820" y="2"/>
                </a:lnTo>
                <a:lnTo>
                  <a:pt x="828" y="4"/>
                </a:lnTo>
                <a:lnTo>
                  <a:pt x="834" y="6"/>
                </a:lnTo>
                <a:lnTo>
                  <a:pt x="841" y="10"/>
                </a:lnTo>
                <a:lnTo>
                  <a:pt x="849" y="14"/>
                </a:lnTo>
                <a:lnTo>
                  <a:pt x="855" y="18"/>
                </a:lnTo>
                <a:lnTo>
                  <a:pt x="864" y="23"/>
                </a:lnTo>
                <a:lnTo>
                  <a:pt x="872" y="27"/>
                </a:lnTo>
                <a:lnTo>
                  <a:pt x="880" y="35"/>
                </a:lnTo>
                <a:lnTo>
                  <a:pt x="889" y="41"/>
                </a:lnTo>
                <a:lnTo>
                  <a:pt x="897" y="48"/>
                </a:lnTo>
                <a:lnTo>
                  <a:pt x="907" y="56"/>
                </a:lnTo>
                <a:lnTo>
                  <a:pt x="918" y="64"/>
                </a:lnTo>
                <a:lnTo>
                  <a:pt x="928" y="73"/>
                </a:lnTo>
                <a:lnTo>
                  <a:pt x="935" y="85"/>
                </a:lnTo>
                <a:lnTo>
                  <a:pt x="943" y="94"/>
                </a:lnTo>
                <a:lnTo>
                  <a:pt x="951" y="104"/>
                </a:lnTo>
                <a:lnTo>
                  <a:pt x="958" y="114"/>
                </a:lnTo>
                <a:lnTo>
                  <a:pt x="964" y="123"/>
                </a:lnTo>
                <a:lnTo>
                  <a:pt x="970" y="133"/>
                </a:lnTo>
                <a:lnTo>
                  <a:pt x="976" y="141"/>
                </a:lnTo>
                <a:lnTo>
                  <a:pt x="980" y="150"/>
                </a:lnTo>
                <a:lnTo>
                  <a:pt x="983" y="158"/>
                </a:lnTo>
                <a:lnTo>
                  <a:pt x="987" y="165"/>
                </a:lnTo>
                <a:lnTo>
                  <a:pt x="991" y="171"/>
                </a:lnTo>
                <a:lnTo>
                  <a:pt x="993" y="179"/>
                </a:lnTo>
                <a:lnTo>
                  <a:pt x="995" y="187"/>
                </a:lnTo>
                <a:lnTo>
                  <a:pt x="997" y="192"/>
                </a:lnTo>
                <a:lnTo>
                  <a:pt x="997" y="200"/>
                </a:lnTo>
                <a:lnTo>
                  <a:pt x="997" y="208"/>
                </a:lnTo>
                <a:lnTo>
                  <a:pt x="997" y="210"/>
                </a:lnTo>
                <a:lnTo>
                  <a:pt x="997" y="215"/>
                </a:lnTo>
                <a:lnTo>
                  <a:pt x="995" y="219"/>
                </a:lnTo>
                <a:lnTo>
                  <a:pt x="993" y="225"/>
                </a:lnTo>
                <a:lnTo>
                  <a:pt x="991" y="233"/>
                </a:lnTo>
                <a:lnTo>
                  <a:pt x="987" y="238"/>
                </a:lnTo>
                <a:lnTo>
                  <a:pt x="983" y="246"/>
                </a:lnTo>
                <a:lnTo>
                  <a:pt x="980" y="256"/>
                </a:lnTo>
                <a:lnTo>
                  <a:pt x="976" y="263"/>
                </a:lnTo>
                <a:lnTo>
                  <a:pt x="970" y="273"/>
                </a:lnTo>
                <a:lnTo>
                  <a:pt x="964" y="283"/>
                </a:lnTo>
                <a:lnTo>
                  <a:pt x="958" y="294"/>
                </a:lnTo>
                <a:lnTo>
                  <a:pt x="951" y="306"/>
                </a:lnTo>
                <a:lnTo>
                  <a:pt x="943" y="317"/>
                </a:lnTo>
                <a:lnTo>
                  <a:pt x="935" y="331"/>
                </a:lnTo>
                <a:lnTo>
                  <a:pt x="928" y="344"/>
                </a:lnTo>
                <a:lnTo>
                  <a:pt x="918" y="357"/>
                </a:lnTo>
                <a:lnTo>
                  <a:pt x="908" y="373"/>
                </a:lnTo>
                <a:lnTo>
                  <a:pt x="899" y="388"/>
                </a:lnTo>
                <a:lnTo>
                  <a:pt x="887" y="403"/>
                </a:lnTo>
                <a:lnTo>
                  <a:pt x="876" y="421"/>
                </a:lnTo>
                <a:lnTo>
                  <a:pt x="864" y="438"/>
                </a:lnTo>
                <a:lnTo>
                  <a:pt x="853" y="455"/>
                </a:lnTo>
                <a:lnTo>
                  <a:pt x="839" y="475"/>
                </a:lnTo>
                <a:lnTo>
                  <a:pt x="826" y="494"/>
                </a:lnTo>
                <a:lnTo>
                  <a:pt x="812" y="513"/>
                </a:lnTo>
                <a:lnTo>
                  <a:pt x="799" y="534"/>
                </a:lnTo>
                <a:lnTo>
                  <a:pt x="784" y="555"/>
                </a:lnTo>
                <a:lnTo>
                  <a:pt x="768" y="576"/>
                </a:lnTo>
                <a:lnTo>
                  <a:pt x="753" y="599"/>
                </a:lnTo>
                <a:lnTo>
                  <a:pt x="736" y="622"/>
                </a:lnTo>
                <a:lnTo>
                  <a:pt x="720" y="645"/>
                </a:lnTo>
                <a:lnTo>
                  <a:pt x="686" y="693"/>
                </a:lnTo>
                <a:lnTo>
                  <a:pt x="651" y="739"/>
                </a:lnTo>
                <a:lnTo>
                  <a:pt x="619" y="782"/>
                </a:lnTo>
                <a:lnTo>
                  <a:pt x="586" y="824"/>
                </a:lnTo>
                <a:lnTo>
                  <a:pt x="553" y="864"/>
                </a:lnTo>
                <a:lnTo>
                  <a:pt x="521" y="903"/>
                </a:lnTo>
                <a:lnTo>
                  <a:pt x="490" y="939"/>
                </a:lnTo>
                <a:lnTo>
                  <a:pt x="459" y="974"/>
                </a:lnTo>
                <a:lnTo>
                  <a:pt x="429" y="1006"/>
                </a:lnTo>
                <a:lnTo>
                  <a:pt x="400" y="1037"/>
                </a:lnTo>
                <a:lnTo>
                  <a:pt x="371" y="1066"/>
                </a:lnTo>
                <a:lnTo>
                  <a:pt x="342" y="1093"/>
                </a:lnTo>
                <a:lnTo>
                  <a:pt x="313" y="1118"/>
                </a:lnTo>
                <a:lnTo>
                  <a:pt x="287" y="1141"/>
                </a:lnTo>
                <a:lnTo>
                  <a:pt x="260" y="1162"/>
                </a:lnTo>
                <a:lnTo>
                  <a:pt x="233" y="1183"/>
                </a:lnTo>
                <a:lnTo>
                  <a:pt x="208" y="1202"/>
                </a:lnTo>
                <a:lnTo>
                  <a:pt x="185" y="1221"/>
                </a:lnTo>
                <a:lnTo>
                  <a:pt x="162" y="1238"/>
                </a:lnTo>
                <a:lnTo>
                  <a:pt x="141" y="1254"/>
                </a:lnTo>
                <a:lnTo>
                  <a:pt x="121" y="1267"/>
                </a:lnTo>
                <a:lnTo>
                  <a:pt x="102" y="1281"/>
                </a:lnTo>
                <a:lnTo>
                  <a:pt x="85" y="1292"/>
                </a:lnTo>
                <a:lnTo>
                  <a:pt x="70" y="1302"/>
                </a:lnTo>
                <a:lnTo>
                  <a:pt x="56" y="1309"/>
                </a:lnTo>
                <a:lnTo>
                  <a:pt x="43" y="1317"/>
                </a:lnTo>
                <a:lnTo>
                  <a:pt x="33" y="1323"/>
                </a:lnTo>
                <a:lnTo>
                  <a:pt x="24" y="1327"/>
                </a:lnTo>
                <a:lnTo>
                  <a:pt x="16" y="1329"/>
                </a:lnTo>
                <a:lnTo>
                  <a:pt x="8" y="1331"/>
                </a:lnTo>
                <a:lnTo>
                  <a:pt x="4" y="1331"/>
                </a:lnTo>
                <a:lnTo>
                  <a:pt x="2" y="1329"/>
                </a:lnTo>
                <a:lnTo>
                  <a:pt x="0" y="1327"/>
                </a:lnTo>
                <a:lnTo>
                  <a:pt x="0" y="1325"/>
                </a:lnTo>
                <a:lnTo>
                  <a:pt x="2" y="1321"/>
                </a:lnTo>
                <a:lnTo>
                  <a:pt x="6" y="1315"/>
                </a:lnTo>
                <a:lnTo>
                  <a:pt x="12" y="1308"/>
                </a:lnTo>
                <a:lnTo>
                  <a:pt x="20" y="1298"/>
                </a:lnTo>
                <a:lnTo>
                  <a:pt x="27" y="1286"/>
                </a:lnTo>
                <a:lnTo>
                  <a:pt x="39" y="1275"/>
                </a:lnTo>
                <a:lnTo>
                  <a:pt x="50" y="1260"/>
                </a:lnTo>
                <a:lnTo>
                  <a:pt x="64" y="1244"/>
                </a:lnTo>
                <a:lnTo>
                  <a:pt x="81" y="1225"/>
                </a:lnTo>
                <a:lnTo>
                  <a:pt x="98" y="1206"/>
                </a:lnTo>
                <a:lnTo>
                  <a:pt x="118" y="1185"/>
                </a:lnTo>
                <a:lnTo>
                  <a:pt x="139" y="1162"/>
                </a:lnTo>
                <a:lnTo>
                  <a:pt x="162" y="1135"/>
                </a:lnTo>
                <a:lnTo>
                  <a:pt x="187" y="1110"/>
                </a:lnTo>
                <a:lnTo>
                  <a:pt x="210" y="1083"/>
                </a:lnTo>
                <a:lnTo>
                  <a:pt x="235" y="1058"/>
                </a:lnTo>
                <a:lnTo>
                  <a:pt x="258" y="1031"/>
                </a:lnTo>
                <a:lnTo>
                  <a:pt x="281" y="1004"/>
                </a:lnTo>
                <a:lnTo>
                  <a:pt x="306" y="975"/>
                </a:lnTo>
                <a:lnTo>
                  <a:pt x="329" y="947"/>
                </a:lnTo>
                <a:lnTo>
                  <a:pt x="352" y="918"/>
                </a:lnTo>
                <a:lnTo>
                  <a:pt x="375" y="889"/>
                </a:lnTo>
                <a:lnTo>
                  <a:pt x="398" y="860"/>
                </a:lnTo>
                <a:lnTo>
                  <a:pt x="421" y="830"/>
                </a:lnTo>
                <a:lnTo>
                  <a:pt x="442" y="797"/>
                </a:lnTo>
                <a:lnTo>
                  <a:pt x="463" y="766"/>
                </a:lnTo>
                <a:lnTo>
                  <a:pt x="486" y="734"/>
                </a:lnTo>
                <a:lnTo>
                  <a:pt x="505" y="701"/>
                </a:lnTo>
                <a:lnTo>
                  <a:pt x="526" y="668"/>
                </a:lnTo>
                <a:lnTo>
                  <a:pt x="546" y="63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Freeform 30"/>
          <p:cNvSpPr/>
          <p:nvPr/>
        </p:nvSpPr>
        <p:spPr>
          <a:xfrm>
            <a:off x="5935680" y="3621240"/>
            <a:ext cx="165240" cy="1287360"/>
          </a:xfrm>
          <a:custGeom>
            <a:avLst/>
            <a:gdLst/>
            <a:ahLst/>
            <a:rect l="l" t="t" r="r" b="b"/>
            <a:pathLst>
              <a:path w="207" h="1622">
                <a:moveTo>
                  <a:pt x="23" y="1256"/>
                </a:moveTo>
                <a:lnTo>
                  <a:pt x="25" y="1240"/>
                </a:lnTo>
                <a:lnTo>
                  <a:pt x="26" y="1221"/>
                </a:lnTo>
                <a:lnTo>
                  <a:pt x="30" y="1202"/>
                </a:lnTo>
                <a:lnTo>
                  <a:pt x="32" y="1181"/>
                </a:lnTo>
                <a:lnTo>
                  <a:pt x="36" y="1158"/>
                </a:lnTo>
                <a:lnTo>
                  <a:pt x="38" y="1135"/>
                </a:lnTo>
                <a:lnTo>
                  <a:pt x="42" y="1110"/>
                </a:lnTo>
                <a:lnTo>
                  <a:pt x="46" y="1083"/>
                </a:lnTo>
                <a:lnTo>
                  <a:pt x="49" y="1054"/>
                </a:lnTo>
                <a:lnTo>
                  <a:pt x="51" y="1025"/>
                </a:lnTo>
                <a:lnTo>
                  <a:pt x="55" y="995"/>
                </a:lnTo>
                <a:lnTo>
                  <a:pt x="59" y="962"/>
                </a:lnTo>
                <a:lnTo>
                  <a:pt x="61" y="927"/>
                </a:lnTo>
                <a:lnTo>
                  <a:pt x="65" y="893"/>
                </a:lnTo>
                <a:lnTo>
                  <a:pt x="67" y="856"/>
                </a:lnTo>
                <a:lnTo>
                  <a:pt x="69" y="818"/>
                </a:lnTo>
                <a:lnTo>
                  <a:pt x="71" y="780"/>
                </a:lnTo>
                <a:lnTo>
                  <a:pt x="73" y="741"/>
                </a:lnTo>
                <a:lnTo>
                  <a:pt x="74" y="701"/>
                </a:lnTo>
                <a:lnTo>
                  <a:pt x="74" y="659"/>
                </a:lnTo>
                <a:lnTo>
                  <a:pt x="76" y="616"/>
                </a:lnTo>
                <a:lnTo>
                  <a:pt x="76" y="572"/>
                </a:lnTo>
                <a:lnTo>
                  <a:pt x="76" y="526"/>
                </a:lnTo>
                <a:lnTo>
                  <a:pt x="76" y="478"/>
                </a:lnTo>
                <a:lnTo>
                  <a:pt x="74" y="428"/>
                </a:lnTo>
                <a:lnTo>
                  <a:pt x="74" y="376"/>
                </a:lnTo>
                <a:lnTo>
                  <a:pt x="73" y="325"/>
                </a:lnTo>
                <a:lnTo>
                  <a:pt x="71" y="271"/>
                </a:lnTo>
                <a:lnTo>
                  <a:pt x="67" y="215"/>
                </a:lnTo>
                <a:lnTo>
                  <a:pt x="65" y="158"/>
                </a:lnTo>
                <a:lnTo>
                  <a:pt x="61" y="98"/>
                </a:lnTo>
                <a:lnTo>
                  <a:pt x="57" y="37"/>
                </a:lnTo>
                <a:lnTo>
                  <a:pt x="86" y="19"/>
                </a:lnTo>
                <a:lnTo>
                  <a:pt x="115" y="0"/>
                </a:lnTo>
                <a:lnTo>
                  <a:pt x="124" y="29"/>
                </a:lnTo>
                <a:lnTo>
                  <a:pt x="136" y="58"/>
                </a:lnTo>
                <a:lnTo>
                  <a:pt x="145" y="85"/>
                </a:lnTo>
                <a:lnTo>
                  <a:pt x="153" y="112"/>
                </a:lnTo>
                <a:lnTo>
                  <a:pt x="161" y="135"/>
                </a:lnTo>
                <a:lnTo>
                  <a:pt x="168" y="160"/>
                </a:lnTo>
                <a:lnTo>
                  <a:pt x="176" y="181"/>
                </a:lnTo>
                <a:lnTo>
                  <a:pt x="182" y="202"/>
                </a:lnTo>
                <a:lnTo>
                  <a:pt x="188" y="223"/>
                </a:lnTo>
                <a:lnTo>
                  <a:pt x="193" y="240"/>
                </a:lnTo>
                <a:lnTo>
                  <a:pt x="197" y="259"/>
                </a:lnTo>
                <a:lnTo>
                  <a:pt x="201" y="275"/>
                </a:lnTo>
                <a:lnTo>
                  <a:pt x="203" y="290"/>
                </a:lnTo>
                <a:lnTo>
                  <a:pt x="205" y="305"/>
                </a:lnTo>
                <a:lnTo>
                  <a:pt x="207" y="319"/>
                </a:lnTo>
                <a:lnTo>
                  <a:pt x="207" y="330"/>
                </a:lnTo>
                <a:lnTo>
                  <a:pt x="207" y="336"/>
                </a:lnTo>
                <a:lnTo>
                  <a:pt x="207" y="342"/>
                </a:lnTo>
                <a:lnTo>
                  <a:pt x="207" y="350"/>
                </a:lnTo>
                <a:lnTo>
                  <a:pt x="207" y="357"/>
                </a:lnTo>
                <a:lnTo>
                  <a:pt x="207" y="365"/>
                </a:lnTo>
                <a:lnTo>
                  <a:pt x="207" y="375"/>
                </a:lnTo>
                <a:lnTo>
                  <a:pt x="207" y="384"/>
                </a:lnTo>
                <a:lnTo>
                  <a:pt x="207" y="394"/>
                </a:lnTo>
                <a:lnTo>
                  <a:pt x="207" y="403"/>
                </a:lnTo>
                <a:lnTo>
                  <a:pt x="207" y="415"/>
                </a:lnTo>
                <a:lnTo>
                  <a:pt x="207" y="426"/>
                </a:lnTo>
                <a:lnTo>
                  <a:pt x="207" y="438"/>
                </a:lnTo>
                <a:lnTo>
                  <a:pt x="207" y="451"/>
                </a:lnTo>
                <a:lnTo>
                  <a:pt x="207" y="465"/>
                </a:lnTo>
                <a:lnTo>
                  <a:pt x="207" y="478"/>
                </a:lnTo>
                <a:lnTo>
                  <a:pt x="207" y="492"/>
                </a:lnTo>
                <a:lnTo>
                  <a:pt x="207" y="505"/>
                </a:lnTo>
                <a:lnTo>
                  <a:pt x="207" y="520"/>
                </a:lnTo>
                <a:lnTo>
                  <a:pt x="207" y="536"/>
                </a:lnTo>
                <a:lnTo>
                  <a:pt x="207" y="553"/>
                </a:lnTo>
                <a:lnTo>
                  <a:pt x="207" y="568"/>
                </a:lnTo>
                <a:lnTo>
                  <a:pt x="207" y="586"/>
                </a:lnTo>
                <a:lnTo>
                  <a:pt x="207" y="622"/>
                </a:lnTo>
                <a:lnTo>
                  <a:pt x="207" y="659"/>
                </a:lnTo>
                <a:lnTo>
                  <a:pt x="207" y="697"/>
                </a:lnTo>
                <a:lnTo>
                  <a:pt x="207" y="739"/>
                </a:lnTo>
                <a:lnTo>
                  <a:pt x="207" y="782"/>
                </a:lnTo>
                <a:lnTo>
                  <a:pt x="205" y="824"/>
                </a:lnTo>
                <a:lnTo>
                  <a:pt x="203" y="866"/>
                </a:lnTo>
                <a:lnTo>
                  <a:pt x="201" y="908"/>
                </a:lnTo>
                <a:lnTo>
                  <a:pt x="199" y="950"/>
                </a:lnTo>
                <a:lnTo>
                  <a:pt x="197" y="991"/>
                </a:lnTo>
                <a:lnTo>
                  <a:pt x="195" y="1029"/>
                </a:lnTo>
                <a:lnTo>
                  <a:pt x="192" y="1069"/>
                </a:lnTo>
                <a:lnTo>
                  <a:pt x="190" y="1108"/>
                </a:lnTo>
                <a:lnTo>
                  <a:pt x="188" y="1144"/>
                </a:lnTo>
                <a:lnTo>
                  <a:pt x="186" y="1181"/>
                </a:lnTo>
                <a:lnTo>
                  <a:pt x="184" y="1215"/>
                </a:lnTo>
                <a:lnTo>
                  <a:pt x="182" y="1250"/>
                </a:lnTo>
                <a:lnTo>
                  <a:pt x="180" y="1284"/>
                </a:lnTo>
                <a:lnTo>
                  <a:pt x="178" y="1317"/>
                </a:lnTo>
                <a:lnTo>
                  <a:pt x="174" y="1348"/>
                </a:lnTo>
                <a:lnTo>
                  <a:pt x="172" y="1378"/>
                </a:lnTo>
                <a:lnTo>
                  <a:pt x="168" y="1407"/>
                </a:lnTo>
                <a:lnTo>
                  <a:pt x="165" y="1434"/>
                </a:lnTo>
                <a:lnTo>
                  <a:pt x="161" y="1459"/>
                </a:lnTo>
                <a:lnTo>
                  <a:pt x="155" y="1482"/>
                </a:lnTo>
                <a:lnTo>
                  <a:pt x="151" y="1505"/>
                </a:lnTo>
                <a:lnTo>
                  <a:pt x="147" y="1524"/>
                </a:lnTo>
                <a:lnTo>
                  <a:pt x="144" y="1544"/>
                </a:lnTo>
                <a:lnTo>
                  <a:pt x="140" y="1559"/>
                </a:lnTo>
                <a:lnTo>
                  <a:pt x="136" y="1574"/>
                </a:lnTo>
                <a:lnTo>
                  <a:pt x="132" y="1586"/>
                </a:lnTo>
                <a:lnTo>
                  <a:pt x="128" y="1597"/>
                </a:lnTo>
                <a:lnTo>
                  <a:pt x="128" y="1601"/>
                </a:lnTo>
                <a:lnTo>
                  <a:pt x="126" y="1607"/>
                </a:lnTo>
                <a:lnTo>
                  <a:pt x="124" y="1609"/>
                </a:lnTo>
                <a:lnTo>
                  <a:pt x="122" y="1613"/>
                </a:lnTo>
                <a:lnTo>
                  <a:pt x="120" y="1616"/>
                </a:lnTo>
                <a:lnTo>
                  <a:pt x="120" y="1618"/>
                </a:lnTo>
                <a:lnTo>
                  <a:pt x="119" y="1620"/>
                </a:lnTo>
                <a:lnTo>
                  <a:pt x="117" y="1620"/>
                </a:lnTo>
                <a:lnTo>
                  <a:pt x="117" y="1622"/>
                </a:lnTo>
                <a:lnTo>
                  <a:pt x="115" y="1622"/>
                </a:lnTo>
                <a:lnTo>
                  <a:pt x="111" y="1622"/>
                </a:lnTo>
                <a:lnTo>
                  <a:pt x="107" y="1620"/>
                </a:lnTo>
                <a:lnTo>
                  <a:pt x="101" y="1618"/>
                </a:lnTo>
                <a:lnTo>
                  <a:pt x="97" y="1616"/>
                </a:lnTo>
                <a:lnTo>
                  <a:pt x="94" y="1615"/>
                </a:lnTo>
                <a:lnTo>
                  <a:pt x="88" y="1611"/>
                </a:lnTo>
                <a:lnTo>
                  <a:pt x="84" y="1607"/>
                </a:lnTo>
                <a:lnTo>
                  <a:pt x="80" y="1603"/>
                </a:lnTo>
                <a:lnTo>
                  <a:pt x="76" y="1597"/>
                </a:lnTo>
                <a:lnTo>
                  <a:pt x="71" y="1590"/>
                </a:lnTo>
                <a:lnTo>
                  <a:pt x="67" y="1584"/>
                </a:lnTo>
                <a:lnTo>
                  <a:pt x="63" y="1576"/>
                </a:lnTo>
                <a:lnTo>
                  <a:pt x="59" y="1567"/>
                </a:lnTo>
                <a:lnTo>
                  <a:pt x="53" y="1557"/>
                </a:lnTo>
                <a:lnTo>
                  <a:pt x="49" y="1547"/>
                </a:lnTo>
                <a:lnTo>
                  <a:pt x="46" y="1536"/>
                </a:lnTo>
                <a:lnTo>
                  <a:pt x="40" y="1524"/>
                </a:lnTo>
                <a:lnTo>
                  <a:pt x="34" y="1515"/>
                </a:lnTo>
                <a:lnTo>
                  <a:pt x="28" y="1505"/>
                </a:lnTo>
                <a:lnTo>
                  <a:pt x="25" y="1496"/>
                </a:lnTo>
                <a:lnTo>
                  <a:pt x="19" y="1486"/>
                </a:lnTo>
                <a:lnTo>
                  <a:pt x="15" y="1478"/>
                </a:lnTo>
                <a:lnTo>
                  <a:pt x="9" y="1461"/>
                </a:lnTo>
                <a:lnTo>
                  <a:pt x="5" y="1448"/>
                </a:lnTo>
                <a:lnTo>
                  <a:pt x="1" y="1436"/>
                </a:lnTo>
                <a:lnTo>
                  <a:pt x="0" y="1425"/>
                </a:lnTo>
                <a:lnTo>
                  <a:pt x="0" y="1415"/>
                </a:lnTo>
                <a:lnTo>
                  <a:pt x="0" y="1409"/>
                </a:lnTo>
                <a:lnTo>
                  <a:pt x="0" y="1403"/>
                </a:lnTo>
                <a:lnTo>
                  <a:pt x="0" y="1398"/>
                </a:lnTo>
                <a:lnTo>
                  <a:pt x="1" y="1392"/>
                </a:lnTo>
                <a:lnTo>
                  <a:pt x="1" y="1384"/>
                </a:lnTo>
                <a:lnTo>
                  <a:pt x="3" y="1377"/>
                </a:lnTo>
                <a:lnTo>
                  <a:pt x="5" y="1367"/>
                </a:lnTo>
                <a:lnTo>
                  <a:pt x="7" y="1359"/>
                </a:lnTo>
                <a:lnTo>
                  <a:pt x="9" y="1348"/>
                </a:lnTo>
                <a:lnTo>
                  <a:pt x="9" y="1338"/>
                </a:lnTo>
                <a:lnTo>
                  <a:pt x="11" y="1327"/>
                </a:lnTo>
                <a:lnTo>
                  <a:pt x="13" y="1313"/>
                </a:lnTo>
                <a:lnTo>
                  <a:pt x="17" y="1300"/>
                </a:lnTo>
                <a:lnTo>
                  <a:pt x="19" y="1286"/>
                </a:lnTo>
                <a:lnTo>
                  <a:pt x="21" y="1271"/>
                </a:lnTo>
                <a:lnTo>
                  <a:pt x="23" y="125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31"/>
          <p:cNvSpPr/>
          <p:nvPr/>
        </p:nvSpPr>
        <p:spPr>
          <a:xfrm>
            <a:off x="6227640" y="3621240"/>
            <a:ext cx="1206720" cy="299880"/>
          </a:xfrm>
          <a:custGeom>
            <a:avLst/>
            <a:gdLst/>
            <a:ahLst/>
            <a:rect l="l" t="t" r="r" b="b"/>
            <a:pathLst>
              <a:path w="1521" h="378">
                <a:moveTo>
                  <a:pt x="50" y="269"/>
                </a:moveTo>
                <a:lnTo>
                  <a:pt x="54" y="267"/>
                </a:lnTo>
                <a:lnTo>
                  <a:pt x="58" y="267"/>
                </a:lnTo>
                <a:lnTo>
                  <a:pt x="64" y="265"/>
                </a:lnTo>
                <a:lnTo>
                  <a:pt x="71" y="263"/>
                </a:lnTo>
                <a:lnTo>
                  <a:pt x="79" y="261"/>
                </a:lnTo>
                <a:lnTo>
                  <a:pt x="89" y="257"/>
                </a:lnTo>
                <a:lnTo>
                  <a:pt x="98" y="256"/>
                </a:lnTo>
                <a:lnTo>
                  <a:pt x="110" y="254"/>
                </a:lnTo>
                <a:lnTo>
                  <a:pt x="121" y="250"/>
                </a:lnTo>
                <a:lnTo>
                  <a:pt x="135" y="248"/>
                </a:lnTo>
                <a:lnTo>
                  <a:pt x="148" y="244"/>
                </a:lnTo>
                <a:lnTo>
                  <a:pt x="163" y="240"/>
                </a:lnTo>
                <a:lnTo>
                  <a:pt x="181" y="236"/>
                </a:lnTo>
                <a:lnTo>
                  <a:pt x="198" y="233"/>
                </a:lnTo>
                <a:lnTo>
                  <a:pt x="215" y="229"/>
                </a:lnTo>
                <a:lnTo>
                  <a:pt x="236" y="225"/>
                </a:lnTo>
                <a:lnTo>
                  <a:pt x="256" y="219"/>
                </a:lnTo>
                <a:lnTo>
                  <a:pt x="279" y="215"/>
                </a:lnTo>
                <a:lnTo>
                  <a:pt x="300" y="210"/>
                </a:lnTo>
                <a:lnTo>
                  <a:pt x="325" y="204"/>
                </a:lnTo>
                <a:lnTo>
                  <a:pt x="350" y="198"/>
                </a:lnTo>
                <a:lnTo>
                  <a:pt x="376" y="192"/>
                </a:lnTo>
                <a:lnTo>
                  <a:pt x="403" y="186"/>
                </a:lnTo>
                <a:lnTo>
                  <a:pt x="432" y="181"/>
                </a:lnTo>
                <a:lnTo>
                  <a:pt x="461" y="175"/>
                </a:lnTo>
                <a:lnTo>
                  <a:pt x="492" y="167"/>
                </a:lnTo>
                <a:lnTo>
                  <a:pt x="522" y="162"/>
                </a:lnTo>
                <a:lnTo>
                  <a:pt x="555" y="154"/>
                </a:lnTo>
                <a:lnTo>
                  <a:pt x="590" y="146"/>
                </a:lnTo>
                <a:lnTo>
                  <a:pt x="624" y="138"/>
                </a:lnTo>
                <a:lnTo>
                  <a:pt x="661" y="131"/>
                </a:lnTo>
                <a:lnTo>
                  <a:pt x="699" y="123"/>
                </a:lnTo>
                <a:lnTo>
                  <a:pt x="735" y="115"/>
                </a:lnTo>
                <a:lnTo>
                  <a:pt x="772" y="108"/>
                </a:lnTo>
                <a:lnTo>
                  <a:pt x="806" y="100"/>
                </a:lnTo>
                <a:lnTo>
                  <a:pt x="841" y="92"/>
                </a:lnTo>
                <a:lnTo>
                  <a:pt x="874" y="87"/>
                </a:lnTo>
                <a:lnTo>
                  <a:pt x="906" y="79"/>
                </a:lnTo>
                <a:lnTo>
                  <a:pt x="937" y="73"/>
                </a:lnTo>
                <a:lnTo>
                  <a:pt x="966" y="67"/>
                </a:lnTo>
                <a:lnTo>
                  <a:pt x="995" y="62"/>
                </a:lnTo>
                <a:lnTo>
                  <a:pt x="1021" y="56"/>
                </a:lnTo>
                <a:lnTo>
                  <a:pt x="1048" y="50"/>
                </a:lnTo>
                <a:lnTo>
                  <a:pt x="1073" y="46"/>
                </a:lnTo>
                <a:lnTo>
                  <a:pt x="1096" y="41"/>
                </a:lnTo>
                <a:lnTo>
                  <a:pt x="1119" y="37"/>
                </a:lnTo>
                <a:lnTo>
                  <a:pt x="1140" y="33"/>
                </a:lnTo>
                <a:lnTo>
                  <a:pt x="1162" y="29"/>
                </a:lnTo>
                <a:lnTo>
                  <a:pt x="1181" y="25"/>
                </a:lnTo>
                <a:lnTo>
                  <a:pt x="1200" y="21"/>
                </a:lnTo>
                <a:lnTo>
                  <a:pt x="1217" y="19"/>
                </a:lnTo>
                <a:lnTo>
                  <a:pt x="1233" y="16"/>
                </a:lnTo>
                <a:lnTo>
                  <a:pt x="1248" y="14"/>
                </a:lnTo>
                <a:lnTo>
                  <a:pt x="1263" y="12"/>
                </a:lnTo>
                <a:lnTo>
                  <a:pt x="1277" y="10"/>
                </a:lnTo>
                <a:lnTo>
                  <a:pt x="1288" y="8"/>
                </a:lnTo>
                <a:lnTo>
                  <a:pt x="1300" y="6"/>
                </a:lnTo>
                <a:lnTo>
                  <a:pt x="1309" y="4"/>
                </a:lnTo>
                <a:lnTo>
                  <a:pt x="1317" y="4"/>
                </a:lnTo>
                <a:lnTo>
                  <a:pt x="1325" y="2"/>
                </a:lnTo>
                <a:lnTo>
                  <a:pt x="1332" y="2"/>
                </a:lnTo>
                <a:lnTo>
                  <a:pt x="1338" y="0"/>
                </a:lnTo>
                <a:lnTo>
                  <a:pt x="1344" y="0"/>
                </a:lnTo>
                <a:lnTo>
                  <a:pt x="1348" y="0"/>
                </a:lnTo>
                <a:lnTo>
                  <a:pt x="1359" y="2"/>
                </a:lnTo>
                <a:lnTo>
                  <a:pt x="1373" y="2"/>
                </a:lnTo>
                <a:lnTo>
                  <a:pt x="1386" y="6"/>
                </a:lnTo>
                <a:lnTo>
                  <a:pt x="1402" y="8"/>
                </a:lnTo>
                <a:lnTo>
                  <a:pt x="1415" y="12"/>
                </a:lnTo>
                <a:lnTo>
                  <a:pt x="1430" y="16"/>
                </a:lnTo>
                <a:lnTo>
                  <a:pt x="1446" y="21"/>
                </a:lnTo>
                <a:lnTo>
                  <a:pt x="1463" y="25"/>
                </a:lnTo>
                <a:lnTo>
                  <a:pt x="1475" y="35"/>
                </a:lnTo>
                <a:lnTo>
                  <a:pt x="1486" y="41"/>
                </a:lnTo>
                <a:lnTo>
                  <a:pt x="1496" y="48"/>
                </a:lnTo>
                <a:lnTo>
                  <a:pt x="1505" y="54"/>
                </a:lnTo>
                <a:lnTo>
                  <a:pt x="1511" y="60"/>
                </a:lnTo>
                <a:lnTo>
                  <a:pt x="1517" y="66"/>
                </a:lnTo>
                <a:lnTo>
                  <a:pt x="1519" y="67"/>
                </a:lnTo>
                <a:lnTo>
                  <a:pt x="1519" y="69"/>
                </a:lnTo>
                <a:lnTo>
                  <a:pt x="1521" y="71"/>
                </a:lnTo>
                <a:lnTo>
                  <a:pt x="1521" y="75"/>
                </a:lnTo>
                <a:lnTo>
                  <a:pt x="1521" y="79"/>
                </a:lnTo>
                <a:lnTo>
                  <a:pt x="1519" y="85"/>
                </a:lnTo>
                <a:lnTo>
                  <a:pt x="1515" y="92"/>
                </a:lnTo>
                <a:lnTo>
                  <a:pt x="1511" y="98"/>
                </a:lnTo>
                <a:lnTo>
                  <a:pt x="1505" y="106"/>
                </a:lnTo>
                <a:lnTo>
                  <a:pt x="1496" y="112"/>
                </a:lnTo>
                <a:lnTo>
                  <a:pt x="1492" y="115"/>
                </a:lnTo>
                <a:lnTo>
                  <a:pt x="1486" y="117"/>
                </a:lnTo>
                <a:lnTo>
                  <a:pt x="1480" y="119"/>
                </a:lnTo>
                <a:lnTo>
                  <a:pt x="1475" y="123"/>
                </a:lnTo>
                <a:lnTo>
                  <a:pt x="1463" y="131"/>
                </a:lnTo>
                <a:lnTo>
                  <a:pt x="1450" y="138"/>
                </a:lnTo>
                <a:lnTo>
                  <a:pt x="1440" y="144"/>
                </a:lnTo>
                <a:lnTo>
                  <a:pt x="1428" y="150"/>
                </a:lnTo>
                <a:lnTo>
                  <a:pt x="1417" y="154"/>
                </a:lnTo>
                <a:lnTo>
                  <a:pt x="1405" y="158"/>
                </a:lnTo>
                <a:lnTo>
                  <a:pt x="1394" y="158"/>
                </a:lnTo>
                <a:lnTo>
                  <a:pt x="1382" y="160"/>
                </a:lnTo>
                <a:lnTo>
                  <a:pt x="1379" y="160"/>
                </a:lnTo>
                <a:lnTo>
                  <a:pt x="1373" y="160"/>
                </a:lnTo>
                <a:lnTo>
                  <a:pt x="1367" y="160"/>
                </a:lnTo>
                <a:lnTo>
                  <a:pt x="1361" y="162"/>
                </a:lnTo>
                <a:lnTo>
                  <a:pt x="1354" y="162"/>
                </a:lnTo>
                <a:lnTo>
                  <a:pt x="1346" y="163"/>
                </a:lnTo>
                <a:lnTo>
                  <a:pt x="1336" y="163"/>
                </a:lnTo>
                <a:lnTo>
                  <a:pt x="1325" y="165"/>
                </a:lnTo>
                <a:lnTo>
                  <a:pt x="1313" y="167"/>
                </a:lnTo>
                <a:lnTo>
                  <a:pt x="1302" y="169"/>
                </a:lnTo>
                <a:lnTo>
                  <a:pt x="1288" y="171"/>
                </a:lnTo>
                <a:lnTo>
                  <a:pt x="1273" y="175"/>
                </a:lnTo>
                <a:lnTo>
                  <a:pt x="1258" y="177"/>
                </a:lnTo>
                <a:lnTo>
                  <a:pt x="1240" y="181"/>
                </a:lnTo>
                <a:lnTo>
                  <a:pt x="1223" y="183"/>
                </a:lnTo>
                <a:lnTo>
                  <a:pt x="1206" y="186"/>
                </a:lnTo>
                <a:lnTo>
                  <a:pt x="1187" y="190"/>
                </a:lnTo>
                <a:lnTo>
                  <a:pt x="1165" y="194"/>
                </a:lnTo>
                <a:lnTo>
                  <a:pt x="1144" y="198"/>
                </a:lnTo>
                <a:lnTo>
                  <a:pt x="1121" y="202"/>
                </a:lnTo>
                <a:lnTo>
                  <a:pt x="1098" y="206"/>
                </a:lnTo>
                <a:lnTo>
                  <a:pt x="1073" y="211"/>
                </a:lnTo>
                <a:lnTo>
                  <a:pt x="1046" y="215"/>
                </a:lnTo>
                <a:lnTo>
                  <a:pt x="1020" y="221"/>
                </a:lnTo>
                <a:lnTo>
                  <a:pt x="993" y="225"/>
                </a:lnTo>
                <a:lnTo>
                  <a:pt x="964" y="231"/>
                </a:lnTo>
                <a:lnTo>
                  <a:pt x="933" y="236"/>
                </a:lnTo>
                <a:lnTo>
                  <a:pt x="902" y="242"/>
                </a:lnTo>
                <a:lnTo>
                  <a:pt x="870" y="250"/>
                </a:lnTo>
                <a:lnTo>
                  <a:pt x="837" y="256"/>
                </a:lnTo>
                <a:lnTo>
                  <a:pt x="803" y="261"/>
                </a:lnTo>
                <a:lnTo>
                  <a:pt x="768" y="269"/>
                </a:lnTo>
                <a:lnTo>
                  <a:pt x="734" y="277"/>
                </a:lnTo>
                <a:lnTo>
                  <a:pt x="699" y="282"/>
                </a:lnTo>
                <a:lnTo>
                  <a:pt x="666" y="288"/>
                </a:lnTo>
                <a:lnTo>
                  <a:pt x="634" y="296"/>
                </a:lnTo>
                <a:lnTo>
                  <a:pt x="603" y="302"/>
                </a:lnTo>
                <a:lnTo>
                  <a:pt x="572" y="307"/>
                </a:lnTo>
                <a:lnTo>
                  <a:pt x="543" y="313"/>
                </a:lnTo>
                <a:lnTo>
                  <a:pt x="517" y="317"/>
                </a:lnTo>
                <a:lnTo>
                  <a:pt x="490" y="323"/>
                </a:lnTo>
                <a:lnTo>
                  <a:pt x="463" y="327"/>
                </a:lnTo>
                <a:lnTo>
                  <a:pt x="438" y="332"/>
                </a:lnTo>
                <a:lnTo>
                  <a:pt x="415" y="336"/>
                </a:lnTo>
                <a:lnTo>
                  <a:pt x="392" y="340"/>
                </a:lnTo>
                <a:lnTo>
                  <a:pt x="371" y="344"/>
                </a:lnTo>
                <a:lnTo>
                  <a:pt x="350" y="348"/>
                </a:lnTo>
                <a:lnTo>
                  <a:pt x="330" y="352"/>
                </a:lnTo>
                <a:lnTo>
                  <a:pt x="313" y="355"/>
                </a:lnTo>
                <a:lnTo>
                  <a:pt x="296" y="357"/>
                </a:lnTo>
                <a:lnTo>
                  <a:pt x="279" y="361"/>
                </a:lnTo>
                <a:lnTo>
                  <a:pt x="263" y="363"/>
                </a:lnTo>
                <a:lnTo>
                  <a:pt x="248" y="365"/>
                </a:lnTo>
                <a:lnTo>
                  <a:pt x="234" y="369"/>
                </a:lnTo>
                <a:lnTo>
                  <a:pt x="223" y="371"/>
                </a:lnTo>
                <a:lnTo>
                  <a:pt x="211" y="373"/>
                </a:lnTo>
                <a:lnTo>
                  <a:pt x="200" y="373"/>
                </a:lnTo>
                <a:lnTo>
                  <a:pt x="190" y="375"/>
                </a:lnTo>
                <a:lnTo>
                  <a:pt x="183" y="376"/>
                </a:lnTo>
                <a:lnTo>
                  <a:pt x="175" y="376"/>
                </a:lnTo>
                <a:lnTo>
                  <a:pt x="169" y="378"/>
                </a:lnTo>
                <a:lnTo>
                  <a:pt x="163" y="378"/>
                </a:lnTo>
                <a:lnTo>
                  <a:pt x="158" y="378"/>
                </a:lnTo>
                <a:lnTo>
                  <a:pt x="154" y="378"/>
                </a:lnTo>
                <a:lnTo>
                  <a:pt x="142" y="378"/>
                </a:lnTo>
                <a:lnTo>
                  <a:pt x="129" y="376"/>
                </a:lnTo>
                <a:lnTo>
                  <a:pt x="115" y="373"/>
                </a:lnTo>
                <a:lnTo>
                  <a:pt x="102" y="369"/>
                </a:lnTo>
                <a:lnTo>
                  <a:pt x="89" y="365"/>
                </a:lnTo>
                <a:lnTo>
                  <a:pt x="77" y="357"/>
                </a:lnTo>
                <a:lnTo>
                  <a:pt x="64" y="352"/>
                </a:lnTo>
                <a:lnTo>
                  <a:pt x="50" y="342"/>
                </a:lnTo>
                <a:lnTo>
                  <a:pt x="39" y="336"/>
                </a:lnTo>
                <a:lnTo>
                  <a:pt x="27" y="330"/>
                </a:lnTo>
                <a:lnTo>
                  <a:pt x="17" y="325"/>
                </a:lnTo>
                <a:lnTo>
                  <a:pt x="14" y="321"/>
                </a:lnTo>
                <a:lnTo>
                  <a:pt x="10" y="317"/>
                </a:lnTo>
                <a:lnTo>
                  <a:pt x="6" y="315"/>
                </a:lnTo>
                <a:lnTo>
                  <a:pt x="4" y="311"/>
                </a:lnTo>
                <a:lnTo>
                  <a:pt x="2" y="307"/>
                </a:lnTo>
                <a:lnTo>
                  <a:pt x="2" y="304"/>
                </a:lnTo>
                <a:lnTo>
                  <a:pt x="0" y="302"/>
                </a:lnTo>
                <a:lnTo>
                  <a:pt x="0" y="298"/>
                </a:lnTo>
                <a:lnTo>
                  <a:pt x="2" y="296"/>
                </a:lnTo>
                <a:lnTo>
                  <a:pt x="4" y="294"/>
                </a:lnTo>
                <a:lnTo>
                  <a:pt x="4" y="290"/>
                </a:lnTo>
                <a:lnTo>
                  <a:pt x="6" y="286"/>
                </a:lnTo>
                <a:lnTo>
                  <a:pt x="10" y="284"/>
                </a:lnTo>
                <a:lnTo>
                  <a:pt x="14" y="281"/>
                </a:lnTo>
                <a:lnTo>
                  <a:pt x="19" y="279"/>
                </a:lnTo>
                <a:lnTo>
                  <a:pt x="29" y="277"/>
                </a:lnTo>
                <a:lnTo>
                  <a:pt x="33" y="275"/>
                </a:lnTo>
                <a:lnTo>
                  <a:pt x="39" y="273"/>
                </a:lnTo>
                <a:lnTo>
                  <a:pt x="44" y="271"/>
                </a:lnTo>
                <a:lnTo>
                  <a:pt x="50" y="26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32"/>
          <p:cNvSpPr/>
          <p:nvPr/>
        </p:nvSpPr>
        <p:spPr>
          <a:xfrm>
            <a:off x="7039080" y="3168720"/>
            <a:ext cx="318960" cy="263520"/>
          </a:xfrm>
          <a:custGeom>
            <a:avLst/>
            <a:gdLst/>
            <a:ahLst/>
            <a:rect l="l" t="t" r="r" b="b"/>
            <a:pathLst>
              <a:path w="402" h="332">
                <a:moveTo>
                  <a:pt x="58" y="158"/>
                </a:moveTo>
                <a:lnTo>
                  <a:pt x="45" y="135"/>
                </a:lnTo>
                <a:lnTo>
                  <a:pt x="35" y="113"/>
                </a:lnTo>
                <a:lnTo>
                  <a:pt x="29" y="104"/>
                </a:lnTo>
                <a:lnTo>
                  <a:pt x="23" y="94"/>
                </a:lnTo>
                <a:lnTo>
                  <a:pt x="20" y="85"/>
                </a:lnTo>
                <a:lnTo>
                  <a:pt x="16" y="77"/>
                </a:lnTo>
                <a:lnTo>
                  <a:pt x="12" y="69"/>
                </a:lnTo>
                <a:lnTo>
                  <a:pt x="10" y="62"/>
                </a:lnTo>
                <a:lnTo>
                  <a:pt x="6" y="56"/>
                </a:lnTo>
                <a:lnTo>
                  <a:pt x="4" y="50"/>
                </a:lnTo>
                <a:lnTo>
                  <a:pt x="2" y="44"/>
                </a:lnTo>
                <a:lnTo>
                  <a:pt x="0" y="41"/>
                </a:lnTo>
                <a:lnTo>
                  <a:pt x="0" y="37"/>
                </a:lnTo>
                <a:lnTo>
                  <a:pt x="0" y="35"/>
                </a:lnTo>
                <a:lnTo>
                  <a:pt x="0" y="31"/>
                </a:lnTo>
                <a:lnTo>
                  <a:pt x="0" y="27"/>
                </a:lnTo>
                <a:lnTo>
                  <a:pt x="0" y="25"/>
                </a:lnTo>
                <a:lnTo>
                  <a:pt x="2" y="23"/>
                </a:lnTo>
                <a:lnTo>
                  <a:pt x="2" y="19"/>
                </a:lnTo>
                <a:lnTo>
                  <a:pt x="4" y="17"/>
                </a:lnTo>
                <a:lnTo>
                  <a:pt x="8" y="14"/>
                </a:lnTo>
                <a:lnTo>
                  <a:pt x="12" y="10"/>
                </a:lnTo>
                <a:lnTo>
                  <a:pt x="12" y="8"/>
                </a:lnTo>
                <a:lnTo>
                  <a:pt x="14" y="6"/>
                </a:lnTo>
                <a:lnTo>
                  <a:pt x="16" y="4"/>
                </a:lnTo>
                <a:lnTo>
                  <a:pt x="18" y="4"/>
                </a:lnTo>
                <a:lnTo>
                  <a:pt x="22" y="2"/>
                </a:lnTo>
                <a:lnTo>
                  <a:pt x="25" y="2"/>
                </a:lnTo>
                <a:lnTo>
                  <a:pt x="31" y="0"/>
                </a:lnTo>
                <a:lnTo>
                  <a:pt x="37" y="0"/>
                </a:lnTo>
                <a:lnTo>
                  <a:pt x="45" y="0"/>
                </a:lnTo>
                <a:lnTo>
                  <a:pt x="52" y="2"/>
                </a:lnTo>
                <a:lnTo>
                  <a:pt x="60" y="2"/>
                </a:lnTo>
                <a:lnTo>
                  <a:pt x="70" y="4"/>
                </a:lnTo>
                <a:lnTo>
                  <a:pt x="81" y="4"/>
                </a:lnTo>
                <a:lnTo>
                  <a:pt x="91" y="6"/>
                </a:lnTo>
                <a:lnTo>
                  <a:pt x="102" y="8"/>
                </a:lnTo>
                <a:lnTo>
                  <a:pt x="116" y="10"/>
                </a:lnTo>
                <a:lnTo>
                  <a:pt x="141" y="16"/>
                </a:lnTo>
                <a:lnTo>
                  <a:pt x="165" y="21"/>
                </a:lnTo>
                <a:lnTo>
                  <a:pt x="190" y="29"/>
                </a:lnTo>
                <a:lnTo>
                  <a:pt x="213" y="37"/>
                </a:lnTo>
                <a:lnTo>
                  <a:pt x="235" y="48"/>
                </a:lnTo>
                <a:lnTo>
                  <a:pt x="258" y="58"/>
                </a:lnTo>
                <a:lnTo>
                  <a:pt x="279" y="69"/>
                </a:lnTo>
                <a:lnTo>
                  <a:pt x="302" y="83"/>
                </a:lnTo>
                <a:lnTo>
                  <a:pt x="317" y="102"/>
                </a:lnTo>
                <a:lnTo>
                  <a:pt x="333" y="119"/>
                </a:lnTo>
                <a:lnTo>
                  <a:pt x="348" y="138"/>
                </a:lnTo>
                <a:lnTo>
                  <a:pt x="359" y="156"/>
                </a:lnTo>
                <a:lnTo>
                  <a:pt x="371" y="175"/>
                </a:lnTo>
                <a:lnTo>
                  <a:pt x="377" y="184"/>
                </a:lnTo>
                <a:lnTo>
                  <a:pt x="380" y="192"/>
                </a:lnTo>
                <a:lnTo>
                  <a:pt x="384" y="202"/>
                </a:lnTo>
                <a:lnTo>
                  <a:pt x="388" y="211"/>
                </a:lnTo>
                <a:lnTo>
                  <a:pt x="392" y="221"/>
                </a:lnTo>
                <a:lnTo>
                  <a:pt x="394" y="231"/>
                </a:lnTo>
                <a:lnTo>
                  <a:pt x="396" y="240"/>
                </a:lnTo>
                <a:lnTo>
                  <a:pt x="398" y="252"/>
                </a:lnTo>
                <a:lnTo>
                  <a:pt x="400" y="259"/>
                </a:lnTo>
                <a:lnTo>
                  <a:pt x="400" y="269"/>
                </a:lnTo>
                <a:lnTo>
                  <a:pt x="402" y="277"/>
                </a:lnTo>
                <a:lnTo>
                  <a:pt x="402" y="284"/>
                </a:lnTo>
                <a:lnTo>
                  <a:pt x="402" y="290"/>
                </a:lnTo>
                <a:lnTo>
                  <a:pt x="402" y="296"/>
                </a:lnTo>
                <a:lnTo>
                  <a:pt x="402" y="302"/>
                </a:lnTo>
                <a:lnTo>
                  <a:pt x="402" y="307"/>
                </a:lnTo>
                <a:lnTo>
                  <a:pt x="402" y="311"/>
                </a:lnTo>
                <a:lnTo>
                  <a:pt x="400" y="315"/>
                </a:lnTo>
                <a:lnTo>
                  <a:pt x="398" y="323"/>
                </a:lnTo>
                <a:lnTo>
                  <a:pt x="394" y="327"/>
                </a:lnTo>
                <a:lnTo>
                  <a:pt x="390" y="328"/>
                </a:lnTo>
                <a:lnTo>
                  <a:pt x="388" y="330"/>
                </a:lnTo>
                <a:lnTo>
                  <a:pt x="382" y="332"/>
                </a:lnTo>
                <a:lnTo>
                  <a:pt x="379" y="332"/>
                </a:lnTo>
                <a:lnTo>
                  <a:pt x="373" y="332"/>
                </a:lnTo>
                <a:lnTo>
                  <a:pt x="365" y="330"/>
                </a:lnTo>
                <a:lnTo>
                  <a:pt x="357" y="328"/>
                </a:lnTo>
                <a:lnTo>
                  <a:pt x="350" y="327"/>
                </a:lnTo>
                <a:lnTo>
                  <a:pt x="340" y="325"/>
                </a:lnTo>
                <a:lnTo>
                  <a:pt x="331" y="321"/>
                </a:lnTo>
                <a:lnTo>
                  <a:pt x="321" y="319"/>
                </a:lnTo>
                <a:lnTo>
                  <a:pt x="309" y="313"/>
                </a:lnTo>
                <a:lnTo>
                  <a:pt x="296" y="309"/>
                </a:lnTo>
                <a:lnTo>
                  <a:pt x="283" y="303"/>
                </a:lnTo>
                <a:lnTo>
                  <a:pt x="269" y="298"/>
                </a:lnTo>
                <a:lnTo>
                  <a:pt x="256" y="290"/>
                </a:lnTo>
                <a:lnTo>
                  <a:pt x="225" y="277"/>
                </a:lnTo>
                <a:lnTo>
                  <a:pt x="196" y="263"/>
                </a:lnTo>
                <a:lnTo>
                  <a:pt x="169" y="248"/>
                </a:lnTo>
                <a:lnTo>
                  <a:pt x="142" y="232"/>
                </a:lnTo>
                <a:lnTo>
                  <a:pt x="119" y="217"/>
                </a:lnTo>
                <a:lnTo>
                  <a:pt x="108" y="207"/>
                </a:lnTo>
                <a:lnTo>
                  <a:pt x="96" y="198"/>
                </a:lnTo>
                <a:lnTo>
                  <a:pt x="87" y="188"/>
                </a:lnTo>
                <a:lnTo>
                  <a:pt x="75" y="179"/>
                </a:lnTo>
                <a:lnTo>
                  <a:pt x="66" y="167"/>
                </a:lnTo>
                <a:lnTo>
                  <a:pt x="58" y="15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33"/>
          <p:cNvSpPr/>
          <p:nvPr/>
        </p:nvSpPr>
        <p:spPr>
          <a:xfrm>
            <a:off x="6172200" y="2936880"/>
            <a:ext cx="695160" cy="1916280"/>
          </a:xfrm>
          <a:custGeom>
            <a:avLst/>
            <a:gdLst/>
            <a:ahLst/>
            <a:rect l="l" t="t" r="r" b="b"/>
            <a:pathLst>
              <a:path w="875" h="2413">
                <a:moveTo>
                  <a:pt x="687" y="1667"/>
                </a:moveTo>
                <a:lnTo>
                  <a:pt x="676" y="1693"/>
                </a:lnTo>
                <a:lnTo>
                  <a:pt x="664" y="1720"/>
                </a:lnTo>
                <a:lnTo>
                  <a:pt x="653" y="1747"/>
                </a:lnTo>
                <a:lnTo>
                  <a:pt x="639" y="1772"/>
                </a:lnTo>
                <a:lnTo>
                  <a:pt x="626" y="1797"/>
                </a:lnTo>
                <a:lnTo>
                  <a:pt x="612" y="1822"/>
                </a:lnTo>
                <a:lnTo>
                  <a:pt x="586" y="1870"/>
                </a:lnTo>
                <a:lnTo>
                  <a:pt x="557" y="1916"/>
                </a:lnTo>
                <a:lnTo>
                  <a:pt x="526" y="1960"/>
                </a:lnTo>
                <a:lnTo>
                  <a:pt x="497" y="2002"/>
                </a:lnTo>
                <a:lnTo>
                  <a:pt x="467" y="2045"/>
                </a:lnTo>
                <a:lnTo>
                  <a:pt x="451" y="2066"/>
                </a:lnTo>
                <a:lnTo>
                  <a:pt x="436" y="2085"/>
                </a:lnTo>
                <a:lnTo>
                  <a:pt x="419" y="2106"/>
                </a:lnTo>
                <a:lnTo>
                  <a:pt x="401" y="2125"/>
                </a:lnTo>
                <a:lnTo>
                  <a:pt x="367" y="2164"/>
                </a:lnTo>
                <a:lnTo>
                  <a:pt x="330" y="2198"/>
                </a:lnTo>
                <a:lnTo>
                  <a:pt x="294" y="2233"/>
                </a:lnTo>
                <a:lnTo>
                  <a:pt x="255" y="2265"/>
                </a:lnTo>
                <a:lnTo>
                  <a:pt x="215" y="2296"/>
                </a:lnTo>
                <a:lnTo>
                  <a:pt x="196" y="2311"/>
                </a:lnTo>
                <a:lnTo>
                  <a:pt x="177" y="2325"/>
                </a:lnTo>
                <a:lnTo>
                  <a:pt x="158" y="2338"/>
                </a:lnTo>
                <a:lnTo>
                  <a:pt x="140" y="2350"/>
                </a:lnTo>
                <a:lnTo>
                  <a:pt x="123" y="2361"/>
                </a:lnTo>
                <a:lnTo>
                  <a:pt x="108" y="2371"/>
                </a:lnTo>
                <a:lnTo>
                  <a:pt x="94" y="2381"/>
                </a:lnTo>
                <a:lnTo>
                  <a:pt x="79" y="2388"/>
                </a:lnTo>
                <a:lnTo>
                  <a:pt x="67" y="2394"/>
                </a:lnTo>
                <a:lnTo>
                  <a:pt x="56" y="2400"/>
                </a:lnTo>
                <a:lnTo>
                  <a:pt x="46" y="2406"/>
                </a:lnTo>
                <a:lnTo>
                  <a:pt x="37" y="2409"/>
                </a:lnTo>
                <a:lnTo>
                  <a:pt x="27" y="2411"/>
                </a:lnTo>
                <a:lnTo>
                  <a:pt x="21" y="2413"/>
                </a:lnTo>
                <a:lnTo>
                  <a:pt x="15" y="2413"/>
                </a:lnTo>
                <a:lnTo>
                  <a:pt x="10" y="2413"/>
                </a:lnTo>
                <a:lnTo>
                  <a:pt x="6" y="2413"/>
                </a:lnTo>
                <a:lnTo>
                  <a:pt x="4" y="2411"/>
                </a:lnTo>
                <a:lnTo>
                  <a:pt x="2" y="2407"/>
                </a:lnTo>
                <a:lnTo>
                  <a:pt x="0" y="2404"/>
                </a:lnTo>
                <a:lnTo>
                  <a:pt x="0" y="2400"/>
                </a:lnTo>
                <a:lnTo>
                  <a:pt x="2" y="2396"/>
                </a:lnTo>
                <a:lnTo>
                  <a:pt x="4" y="2390"/>
                </a:lnTo>
                <a:lnTo>
                  <a:pt x="6" y="2383"/>
                </a:lnTo>
                <a:lnTo>
                  <a:pt x="10" y="2377"/>
                </a:lnTo>
                <a:lnTo>
                  <a:pt x="15" y="2369"/>
                </a:lnTo>
                <a:lnTo>
                  <a:pt x="21" y="2359"/>
                </a:lnTo>
                <a:lnTo>
                  <a:pt x="29" y="2352"/>
                </a:lnTo>
                <a:lnTo>
                  <a:pt x="37" y="2342"/>
                </a:lnTo>
                <a:lnTo>
                  <a:pt x="46" y="2333"/>
                </a:lnTo>
                <a:lnTo>
                  <a:pt x="56" y="2321"/>
                </a:lnTo>
                <a:lnTo>
                  <a:pt x="69" y="2311"/>
                </a:lnTo>
                <a:lnTo>
                  <a:pt x="81" y="2300"/>
                </a:lnTo>
                <a:lnTo>
                  <a:pt x="96" y="2288"/>
                </a:lnTo>
                <a:lnTo>
                  <a:pt x="110" y="2277"/>
                </a:lnTo>
                <a:lnTo>
                  <a:pt x="123" y="2263"/>
                </a:lnTo>
                <a:lnTo>
                  <a:pt x="136" y="2250"/>
                </a:lnTo>
                <a:lnTo>
                  <a:pt x="150" y="2237"/>
                </a:lnTo>
                <a:lnTo>
                  <a:pt x="165" y="2221"/>
                </a:lnTo>
                <a:lnTo>
                  <a:pt x="179" y="2204"/>
                </a:lnTo>
                <a:lnTo>
                  <a:pt x="194" y="2189"/>
                </a:lnTo>
                <a:lnTo>
                  <a:pt x="209" y="2169"/>
                </a:lnTo>
                <a:lnTo>
                  <a:pt x="225" y="2152"/>
                </a:lnTo>
                <a:lnTo>
                  <a:pt x="240" y="2131"/>
                </a:lnTo>
                <a:lnTo>
                  <a:pt x="255" y="2112"/>
                </a:lnTo>
                <a:lnTo>
                  <a:pt x="273" y="2091"/>
                </a:lnTo>
                <a:lnTo>
                  <a:pt x="288" y="2068"/>
                </a:lnTo>
                <a:lnTo>
                  <a:pt x="305" y="2045"/>
                </a:lnTo>
                <a:lnTo>
                  <a:pt x="323" y="2022"/>
                </a:lnTo>
                <a:lnTo>
                  <a:pt x="340" y="1997"/>
                </a:lnTo>
                <a:lnTo>
                  <a:pt x="373" y="1951"/>
                </a:lnTo>
                <a:lnTo>
                  <a:pt x="403" y="1903"/>
                </a:lnTo>
                <a:lnTo>
                  <a:pt x="434" y="1855"/>
                </a:lnTo>
                <a:lnTo>
                  <a:pt x="463" y="1805"/>
                </a:lnTo>
                <a:lnTo>
                  <a:pt x="488" y="1753"/>
                </a:lnTo>
                <a:lnTo>
                  <a:pt x="515" y="1701"/>
                </a:lnTo>
                <a:lnTo>
                  <a:pt x="538" y="1649"/>
                </a:lnTo>
                <a:lnTo>
                  <a:pt x="559" y="1594"/>
                </a:lnTo>
                <a:lnTo>
                  <a:pt x="570" y="1567"/>
                </a:lnTo>
                <a:lnTo>
                  <a:pt x="580" y="1536"/>
                </a:lnTo>
                <a:lnTo>
                  <a:pt x="589" y="1507"/>
                </a:lnTo>
                <a:lnTo>
                  <a:pt x="597" y="1475"/>
                </a:lnTo>
                <a:lnTo>
                  <a:pt x="607" y="1442"/>
                </a:lnTo>
                <a:lnTo>
                  <a:pt x="614" y="1409"/>
                </a:lnTo>
                <a:lnTo>
                  <a:pt x="622" y="1375"/>
                </a:lnTo>
                <a:lnTo>
                  <a:pt x="628" y="1338"/>
                </a:lnTo>
                <a:lnTo>
                  <a:pt x="634" y="1302"/>
                </a:lnTo>
                <a:lnTo>
                  <a:pt x="639" y="1263"/>
                </a:lnTo>
                <a:lnTo>
                  <a:pt x="645" y="1223"/>
                </a:lnTo>
                <a:lnTo>
                  <a:pt x="651" y="1183"/>
                </a:lnTo>
                <a:lnTo>
                  <a:pt x="655" y="1141"/>
                </a:lnTo>
                <a:lnTo>
                  <a:pt x="659" y="1098"/>
                </a:lnTo>
                <a:lnTo>
                  <a:pt x="660" y="1054"/>
                </a:lnTo>
                <a:lnTo>
                  <a:pt x="664" y="1010"/>
                </a:lnTo>
                <a:lnTo>
                  <a:pt x="666" y="966"/>
                </a:lnTo>
                <a:lnTo>
                  <a:pt x="668" y="924"/>
                </a:lnTo>
                <a:lnTo>
                  <a:pt x="670" y="881"/>
                </a:lnTo>
                <a:lnTo>
                  <a:pt x="672" y="839"/>
                </a:lnTo>
                <a:lnTo>
                  <a:pt x="674" y="799"/>
                </a:lnTo>
                <a:lnTo>
                  <a:pt x="676" y="759"/>
                </a:lnTo>
                <a:lnTo>
                  <a:pt x="678" y="720"/>
                </a:lnTo>
                <a:lnTo>
                  <a:pt x="680" y="682"/>
                </a:lnTo>
                <a:lnTo>
                  <a:pt x="682" y="643"/>
                </a:lnTo>
                <a:lnTo>
                  <a:pt x="682" y="607"/>
                </a:lnTo>
                <a:lnTo>
                  <a:pt x="684" y="571"/>
                </a:lnTo>
                <a:lnTo>
                  <a:pt x="684" y="534"/>
                </a:lnTo>
                <a:lnTo>
                  <a:pt x="685" y="499"/>
                </a:lnTo>
                <a:lnTo>
                  <a:pt x="685" y="465"/>
                </a:lnTo>
                <a:lnTo>
                  <a:pt x="685" y="432"/>
                </a:lnTo>
                <a:lnTo>
                  <a:pt x="687" y="400"/>
                </a:lnTo>
                <a:lnTo>
                  <a:pt x="684" y="371"/>
                </a:lnTo>
                <a:lnTo>
                  <a:pt x="682" y="342"/>
                </a:lnTo>
                <a:lnTo>
                  <a:pt x="680" y="315"/>
                </a:lnTo>
                <a:lnTo>
                  <a:pt x="678" y="290"/>
                </a:lnTo>
                <a:lnTo>
                  <a:pt x="676" y="267"/>
                </a:lnTo>
                <a:lnTo>
                  <a:pt x="672" y="244"/>
                </a:lnTo>
                <a:lnTo>
                  <a:pt x="670" y="221"/>
                </a:lnTo>
                <a:lnTo>
                  <a:pt x="666" y="202"/>
                </a:lnTo>
                <a:lnTo>
                  <a:pt x="662" y="183"/>
                </a:lnTo>
                <a:lnTo>
                  <a:pt x="659" y="166"/>
                </a:lnTo>
                <a:lnTo>
                  <a:pt x="655" y="150"/>
                </a:lnTo>
                <a:lnTo>
                  <a:pt x="651" y="137"/>
                </a:lnTo>
                <a:lnTo>
                  <a:pt x="645" y="123"/>
                </a:lnTo>
                <a:lnTo>
                  <a:pt x="641" y="112"/>
                </a:lnTo>
                <a:lnTo>
                  <a:pt x="636" y="102"/>
                </a:lnTo>
                <a:lnTo>
                  <a:pt x="630" y="94"/>
                </a:lnTo>
                <a:lnTo>
                  <a:pt x="616" y="81"/>
                </a:lnTo>
                <a:lnTo>
                  <a:pt x="605" y="70"/>
                </a:lnTo>
                <a:lnTo>
                  <a:pt x="595" y="58"/>
                </a:lnTo>
                <a:lnTo>
                  <a:pt x="591" y="52"/>
                </a:lnTo>
                <a:lnTo>
                  <a:pt x="588" y="48"/>
                </a:lnTo>
                <a:lnTo>
                  <a:pt x="586" y="43"/>
                </a:lnTo>
                <a:lnTo>
                  <a:pt x="584" y="37"/>
                </a:lnTo>
                <a:lnTo>
                  <a:pt x="582" y="33"/>
                </a:lnTo>
                <a:lnTo>
                  <a:pt x="580" y="27"/>
                </a:lnTo>
                <a:lnTo>
                  <a:pt x="580" y="23"/>
                </a:lnTo>
                <a:lnTo>
                  <a:pt x="580" y="20"/>
                </a:lnTo>
                <a:lnTo>
                  <a:pt x="580" y="14"/>
                </a:lnTo>
                <a:lnTo>
                  <a:pt x="582" y="10"/>
                </a:lnTo>
                <a:lnTo>
                  <a:pt x="586" y="8"/>
                </a:lnTo>
                <a:lnTo>
                  <a:pt x="588" y="6"/>
                </a:lnTo>
                <a:lnTo>
                  <a:pt x="591" y="4"/>
                </a:lnTo>
                <a:lnTo>
                  <a:pt x="595" y="2"/>
                </a:lnTo>
                <a:lnTo>
                  <a:pt x="601" y="2"/>
                </a:lnTo>
                <a:lnTo>
                  <a:pt x="607" y="0"/>
                </a:lnTo>
                <a:lnTo>
                  <a:pt x="612" y="0"/>
                </a:lnTo>
                <a:lnTo>
                  <a:pt x="620" y="0"/>
                </a:lnTo>
                <a:lnTo>
                  <a:pt x="628" y="0"/>
                </a:lnTo>
                <a:lnTo>
                  <a:pt x="637" y="0"/>
                </a:lnTo>
                <a:lnTo>
                  <a:pt x="647" y="2"/>
                </a:lnTo>
                <a:lnTo>
                  <a:pt x="657" y="2"/>
                </a:lnTo>
                <a:lnTo>
                  <a:pt x="668" y="4"/>
                </a:lnTo>
                <a:lnTo>
                  <a:pt x="682" y="6"/>
                </a:lnTo>
                <a:lnTo>
                  <a:pt x="695" y="8"/>
                </a:lnTo>
                <a:lnTo>
                  <a:pt x="710" y="10"/>
                </a:lnTo>
                <a:lnTo>
                  <a:pt x="724" y="12"/>
                </a:lnTo>
                <a:lnTo>
                  <a:pt x="739" y="14"/>
                </a:lnTo>
                <a:lnTo>
                  <a:pt x="751" y="18"/>
                </a:lnTo>
                <a:lnTo>
                  <a:pt x="764" y="22"/>
                </a:lnTo>
                <a:lnTo>
                  <a:pt x="776" y="23"/>
                </a:lnTo>
                <a:lnTo>
                  <a:pt x="787" y="27"/>
                </a:lnTo>
                <a:lnTo>
                  <a:pt x="797" y="31"/>
                </a:lnTo>
                <a:lnTo>
                  <a:pt x="806" y="35"/>
                </a:lnTo>
                <a:lnTo>
                  <a:pt x="816" y="37"/>
                </a:lnTo>
                <a:lnTo>
                  <a:pt x="824" y="41"/>
                </a:lnTo>
                <a:lnTo>
                  <a:pt x="831" y="45"/>
                </a:lnTo>
                <a:lnTo>
                  <a:pt x="839" y="46"/>
                </a:lnTo>
                <a:lnTo>
                  <a:pt x="845" y="50"/>
                </a:lnTo>
                <a:lnTo>
                  <a:pt x="851" y="54"/>
                </a:lnTo>
                <a:lnTo>
                  <a:pt x="856" y="56"/>
                </a:lnTo>
                <a:lnTo>
                  <a:pt x="860" y="58"/>
                </a:lnTo>
                <a:lnTo>
                  <a:pt x="864" y="68"/>
                </a:lnTo>
                <a:lnTo>
                  <a:pt x="868" y="79"/>
                </a:lnTo>
                <a:lnTo>
                  <a:pt x="872" y="91"/>
                </a:lnTo>
                <a:lnTo>
                  <a:pt x="875" y="102"/>
                </a:lnTo>
                <a:lnTo>
                  <a:pt x="875" y="116"/>
                </a:lnTo>
                <a:lnTo>
                  <a:pt x="875" y="129"/>
                </a:lnTo>
                <a:lnTo>
                  <a:pt x="875" y="142"/>
                </a:lnTo>
                <a:lnTo>
                  <a:pt x="874" y="148"/>
                </a:lnTo>
                <a:lnTo>
                  <a:pt x="872" y="156"/>
                </a:lnTo>
                <a:lnTo>
                  <a:pt x="870" y="164"/>
                </a:lnTo>
                <a:lnTo>
                  <a:pt x="868" y="173"/>
                </a:lnTo>
                <a:lnTo>
                  <a:pt x="866" y="183"/>
                </a:lnTo>
                <a:lnTo>
                  <a:pt x="864" y="194"/>
                </a:lnTo>
                <a:lnTo>
                  <a:pt x="862" y="208"/>
                </a:lnTo>
                <a:lnTo>
                  <a:pt x="860" y="221"/>
                </a:lnTo>
                <a:lnTo>
                  <a:pt x="858" y="237"/>
                </a:lnTo>
                <a:lnTo>
                  <a:pt x="856" y="254"/>
                </a:lnTo>
                <a:lnTo>
                  <a:pt x="854" y="271"/>
                </a:lnTo>
                <a:lnTo>
                  <a:pt x="852" y="290"/>
                </a:lnTo>
                <a:lnTo>
                  <a:pt x="852" y="309"/>
                </a:lnTo>
                <a:lnTo>
                  <a:pt x="851" y="331"/>
                </a:lnTo>
                <a:lnTo>
                  <a:pt x="851" y="354"/>
                </a:lnTo>
                <a:lnTo>
                  <a:pt x="849" y="375"/>
                </a:lnTo>
                <a:lnTo>
                  <a:pt x="849" y="400"/>
                </a:lnTo>
                <a:lnTo>
                  <a:pt x="849" y="425"/>
                </a:lnTo>
                <a:lnTo>
                  <a:pt x="849" y="450"/>
                </a:lnTo>
                <a:lnTo>
                  <a:pt x="849" y="478"/>
                </a:lnTo>
                <a:lnTo>
                  <a:pt x="847" y="507"/>
                </a:lnTo>
                <a:lnTo>
                  <a:pt x="847" y="538"/>
                </a:lnTo>
                <a:lnTo>
                  <a:pt x="845" y="571"/>
                </a:lnTo>
                <a:lnTo>
                  <a:pt x="845" y="605"/>
                </a:lnTo>
                <a:lnTo>
                  <a:pt x="843" y="642"/>
                </a:lnTo>
                <a:lnTo>
                  <a:pt x="841" y="678"/>
                </a:lnTo>
                <a:lnTo>
                  <a:pt x="839" y="718"/>
                </a:lnTo>
                <a:lnTo>
                  <a:pt x="837" y="759"/>
                </a:lnTo>
                <a:lnTo>
                  <a:pt x="835" y="801"/>
                </a:lnTo>
                <a:lnTo>
                  <a:pt x="833" y="845"/>
                </a:lnTo>
                <a:lnTo>
                  <a:pt x="831" y="889"/>
                </a:lnTo>
                <a:lnTo>
                  <a:pt x="829" y="935"/>
                </a:lnTo>
                <a:lnTo>
                  <a:pt x="827" y="983"/>
                </a:lnTo>
                <a:lnTo>
                  <a:pt x="826" y="1033"/>
                </a:lnTo>
                <a:lnTo>
                  <a:pt x="822" y="1085"/>
                </a:lnTo>
                <a:lnTo>
                  <a:pt x="816" y="1135"/>
                </a:lnTo>
                <a:lnTo>
                  <a:pt x="810" y="1183"/>
                </a:lnTo>
                <a:lnTo>
                  <a:pt x="804" y="1231"/>
                </a:lnTo>
                <a:lnTo>
                  <a:pt x="797" y="1275"/>
                </a:lnTo>
                <a:lnTo>
                  <a:pt x="789" y="1319"/>
                </a:lnTo>
                <a:lnTo>
                  <a:pt x="781" y="1359"/>
                </a:lnTo>
                <a:lnTo>
                  <a:pt x="774" y="1400"/>
                </a:lnTo>
                <a:lnTo>
                  <a:pt x="764" y="1440"/>
                </a:lnTo>
                <a:lnTo>
                  <a:pt x="755" y="1477"/>
                </a:lnTo>
                <a:lnTo>
                  <a:pt x="745" y="1511"/>
                </a:lnTo>
                <a:lnTo>
                  <a:pt x="733" y="1546"/>
                </a:lnTo>
                <a:lnTo>
                  <a:pt x="722" y="1578"/>
                </a:lnTo>
                <a:lnTo>
                  <a:pt x="710" y="1609"/>
                </a:lnTo>
                <a:lnTo>
                  <a:pt x="699" y="1640"/>
                </a:lnTo>
                <a:lnTo>
                  <a:pt x="687" y="166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34"/>
          <p:cNvSpPr/>
          <p:nvPr/>
        </p:nvSpPr>
        <p:spPr>
          <a:xfrm>
            <a:off x="6726240" y="3863880"/>
            <a:ext cx="1020600" cy="938160"/>
          </a:xfrm>
          <a:custGeom>
            <a:avLst/>
            <a:gdLst/>
            <a:ahLst/>
            <a:rect l="l" t="t" r="r" b="b"/>
            <a:pathLst>
              <a:path w="1284" h="1183">
                <a:moveTo>
                  <a:pt x="46" y="0"/>
                </a:moveTo>
                <a:lnTo>
                  <a:pt x="61" y="31"/>
                </a:lnTo>
                <a:lnTo>
                  <a:pt x="79" y="60"/>
                </a:lnTo>
                <a:lnTo>
                  <a:pt x="96" y="91"/>
                </a:lnTo>
                <a:lnTo>
                  <a:pt x="115" y="121"/>
                </a:lnTo>
                <a:lnTo>
                  <a:pt x="134" y="152"/>
                </a:lnTo>
                <a:lnTo>
                  <a:pt x="155" y="185"/>
                </a:lnTo>
                <a:lnTo>
                  <a:pt x="176" y="215"/>
                </a:lnTo>
                <a:lnTo>
                  <a:pt x="200" y="248"/>
                </a:lnTo>
                <a:lnTo>
                  <a:pt x="223" y="279"/>
                </a:lnTo>
                <a:lnTo>
                  <a:pt x="246" y="311"/>
                </a:lnTo>
                <a:lnTo>
                  <a:pt x="271" y="344"/>
                </a:lnTo>
                <a:lnTo>
                  <a:pt x="297" y="377"/>
                </a:lnTo>
                <a:lnTo>
                  <a:pt x="322" y="411"/>
                </a:lnTo>
                <a:lnTo>
                  <a:pt x="349" y="444"/>
                </a:lnTo>
                <a:lnTo>
                  <a:pt x="376" y="478"/>
                </a:lnTo>
                <a:lnTo>
                  <a:pt x="405" y="513"/>
                </a:lnTo>
                <a:lnTo>
                  <a:pt x="434" y="548"/>
                </a:lnTo>
                <a:lnTo>
                  <a:pt x="463" y="580"/>
                </a:lnTo>
                <a:lnTo>
                  <a:pt x="491" y="613"/>
                </a:lnTo>
                <a:lnTo>
                  <a:pt x="524" y="644"/>
                </a:lnTo>
                <a:lnTo>
                  <a:pt x="555" y="674"/>
                </a:lnTo>
                <a:lnTo>
                  <a:pt x="587" y="703"/>
                </a:lnTo>
                <a:lnTo>
                  <a:pt x="622" y="732"/>
                </a:lnTo>
                <a:lnTo>
                  <a:pt x="656" y="759"/>
                </a:lnTo>
                <a:lnTo>
                  <a:pt x="691" y="786"/>
                </a:lnTo>
                <a:lnTo>
                  <a:pt x="727" y="812"/>
                </a:lnTo>
                <a:lnTo>
                  <a:pt x="764" y="837"/>
                </a:lnTo>
                <a:lnTo>
                  <a:pt x="802" y="862"/>
                </a:lnTo>
                <a:lnTo>
                  <a:pt x="841" y="885"/>
                </a:lnTo>
                <a:lnTo>
                  <a:pt x="879" y="908"/>
                </a:lnTo>
                <a:lnTo>
                  <a:pt x="919" y="930"/>
                </a:lnTo>
                <a:lnTo>
                  <a:pt x="960" y="951"/>
                </a:lnTo>
                <a:lnTo>
                  <a:pt x="981" y="962"/>
                </a:lnTo>
                <a:lnTo>
                  <a:pt x="1000" y="972"/>
                </a:lnTo>
                <a:lnTo>
                  <a:pt x="1019" y="981"/>
                </a:lnTo>
                <a:lnTo>
                  <a:pt x="1036" y="991"/>
                </a:lnTo>
                <a:lnTo>
                  <a:pt x="1054" y="1001"/>
                </a:lnTo>
                <a:lnTo>
                  <a:pt x="1071" y="1008"/>
                </a:lnTo>
                <a:lnTo>
                  <a:pt x="1088" y="1018"/>
                </a:lnTo>
                <a:lnTo>
                  <a:pt x="1104" y="1025"/>
                </a:lnTo>
                <a:lnTo>
                  <a:pt x="1119" y="1033"/>
                </a:lnTo>
                <a:lnTo>
                  <a:pt x="1132" y="1041"/>
                </a:lnTo>
                <a:lnTo>
                  <a:pt x="1146" y="1049"/>
                </a:lnTo>
                <a:lnTo>
                  <a:pt x="1159" y="1054"/>
                </a:lnTo>
                <a:lnTo>
                  <a:pt x="1171" y="1062"/>
                </a:lnTo>
                <a:lnTo>
                  <a:pt x="1182" y="1068"/>
                </a:lnTo>
                <a:lnTo>
                  <a:pt x="1194" y="1073"/>
                </a:lnTo>
                <a:lnTo>
                  <a:pt x="1205" y="1079"/>
                </a:lnTo>
                <a:lnTo>
                  <a:pt x="1215" y="1085"/>
                </a:lnTo>
                <a:lnTo>
                  <a:pt x="1223" y="1091"/>
                </a:lnTo>
                <a:lnTo>
                  <a:pt x="1232" y="1096"/>
                </a:lnTo>
                <a:lnTo>
                  <a:pt x="1240" y="1100"/>
                </a:lnTo>
                <a:lnTo>
                  <a:pt x="1248" y="1104"/>
                </a:lnTo>
                <a:lnTo>
                  <a:pt x="1253" y="1108"/>
                </a:lnTo>
                <a:lnTo>
                  <a:pt x="1259" y="1112"/>
                </a:lnTo>
                <a:lnTo>
                  <a:pt x="1265" y="1116"/>
                </a:lnTo>
                <a:lnTo>
                  <a:pt x="1269" y="1120"/>
                </a:lnTo>
                <a:lnTo>
                  <a:pt x="1273" y="1121"/>
                </a:lnTo>
                <a:lnTo>
                  <a:pt x="1276" y="1125"/>
                </a:lnTo>
                <a:lnTo>
                  <a:pt x="1280" y="1127"/>
                </a:lnTo>
                <a:lnTo>
                  <a:pt x="1282" y="1129"/>
                </a:lnTo>
                <a:lnTo>
                  <a:pt x="1284" y="1131"/>
                </a:lnTo>
                <a:lnTo>
                  <a:pt x="1284" y="1133"/>
                </a:lnTo>
                <a:lnTo>
                  <a:pt x="1284" y="1135"/>
                </a:lnTo>
                <a:lnTo>
                  <a:pt x="1284" y="1137"/>
                </a:lnTo>
                <a:lnTo>
                  <a:pt x="1282" y="1139"/>
                </a:lnTo>
                <a:lnTo>
                  <a:pt x="1280" y="1141"/>
                </a:lnTo>
                <a:lnTo>
                  <a:pt x="1276" y="1143"/>
                </a:lnTo>
                <a:lnTo>
                  <a:pt x="1271" y="1144"/>
                </a:lnTo>
                <a:lnTo>
                  <a:pt x="1265" y="1148"/>
                </a:lnTo>
                <a:lnTo>
                  <a:pt x="1259" y="1150"/>
                </a:lnTo>
                <a:lnTo>
                  <a:pt x="1251" y="1152"/>
                </a:lnTo>
                <a:lnTo>
                  <a:pt x="1242" y="1154"/>
                </a:lnTo>
                <a:lnTo>
                  <a:pt x="1232" y="1156"/>
                </a:lnTo>
                <a:lnTo>
                  <a:pt x="1223" y="1160"/>
                </a:lnTo>
                <a:lnTo>
                  <a:pt x="1211" y="1162"/>
                </a:lnTo>
                <a:lnTo>
                  <a:pt x="1200" y="1164"/>
                </a:lnTo>
                <a:lnTo>
                  <a:pt x="1186" y="1166"/>
                </a:lnTo>
                <a:lnTo>
                  <a:pt x="1171" y="1168"/>
                </a:lnTo>
                <a:lnTo>
                  <a:pt x="1157" y="1171"/>
                </a:lnTo>
                <a:lnTo>
                  <a:pt x="1127" y="1175"/>
                </a:lnTo>
                <a:lnTo>
                  <a:pt x="1094" y="1177"/>
                </a:lnTo>
                <a:lnTo>
                  <a:pt x="1061" y="1179"/>
                </a:lnTo>
                <a:lnTo>
                  <a:pt x="1027" y="1181"/>
                </a:lnTo>
                <a:lnTo>
                  <a:pt x="992" y="1183"/>
                </a:lnTo>
                <a:lnTo>
                  <a:pt x="956" y="1183"/>
                </a:lnTo>
                <a:lnTo>
                  <a:pt x="917" y="1183"/>
                </a:lnTo>
                <a:lnTo>
                  <a:pt x="879" y="1183"/>
                </a:lnTo>
                <a:lnTo>
                  <a:pt x="860" y="1183"/>
                </a:lnTo>
                <a:lnTo>
                  <a:pt x="843" y="1183"/>
                </a:lnTo>
                <a:lnTo>
                  <a:pt x="823" y="1181"/>
                </a:lnTo>
                <a:lnTo>
                  <a:pt x="808" y="1181"/>
                </a:lnTo>
                <a:lnTo>
                  <a:pt x="791" y="1179"/>
                </a:lnTo>
                <a:lnTo>
                  <a:pt x="777" y="1177"/>
                </a:lnTo>
                <a:lnTo>
                  <a:pt x="762" y="1175"/>
                </a:lnTo>
                <a:lnTo>
                  <a:pt x="749" y="1171"/>
                </a:lnTo>
                <a:lnTo>
                  <a:pt x="737" y="1169"/>
                </a:lnTo>
                <a:lnTo>
                  <a:pt x="724" y="1166"/>
                </a:lnTo>
                <a:lnTo>
                  <a:pt x="714" y="1162"/>
                </a:lnTo>
                <a:lnTo>
                  <a:pt x="702" y="1158"/>
                </a:lnTo>
                <a:lnTo>
                  <a:pt x="695" y="1152"/>
                </a:lnTo>
                <a:lnTo>
                  <a:pt x="685" y="1146"/>
                </a:lnTo>
                <a:lnTo>
                  <a:pt x="678" y="1141"/>
                </a:lnTo>
                <a:lnTo>
                  <a:pt x="672" y="1135"/>
                </a:lnTo>
                <a:lnTo>
                  <a:pt x="668" y="1131"/>
                </a:lnTo>
                <a:lnTo>
                  <a:pt x="664" y="1125"/>
                </a:lnTo>
                <a:lnTo>
                  <a:pt x="658" y="1121"/>
                </a:lnTo>
                <a:lnTo>
                  <a:pt x="654" y="1116"/>
                </a:lnTo>
                <a:lnTo>
                  <a:pt x="649" y="1110"/>
                </a:lnTo>
                <a:lnTo>
                  <a:pt x="645" y="1102"/>
                </a:lnTo>
                <a:lnTo>
                  <a:pt x="637" y="1096"/>
                </a:lnTo>
                <a:lnTo>
                  <a:pt x="631" y="1089"/>
                </a:lnTo>
                <a:lnTo>
                  <a:pt x="626" y="1079"/>
                </a:lnTo>
                <a:lnTo>
                  <a:pt x="618" y="1072"/>
                </a:lnTo>
                <a:lnTo>
                  <a:pt x="610" y="1062"/>
                </a:lnTo>
                <a:lnTo>
                  <a:pt x="603" y="1052"/>
                </a:lnTo>
                <a:lnTo>
                  <a:pt x="595" y="1041"/>
                </a:lnTo>
                <a:lnTo>
                  <a:pt x="587" y="1031"/>
                </a:lnTo>
                <a:lnTo>
                  <a:pt x="578" y="1018"/>
                </a:lnTo>
                <a:lnTo>
                  <a:pt x="568" y="1006"/>
                </a:lnTo>
                <a:lnTo>
                  <a:pt x="558" y="993"/>
                </a:lnTo>
                <a:lnTo>
                  <a:pt x="549" y="979"/>
                </a:lnTo>
                <a:lnTo>
                  <a:pt x="539" y="966"/>
                </a:lnTo>
                <a:lnTo>
                  <a:pt x="530" y="953"/>
                </a:lnTo>
                <a:lnTo>
                  <a:pt x="518" y="937"/>
                </a:lnTo>
                <a:lnTo>
                  <a:pt x="507" y="922"/>
                </a:lnTo>
                <a:lnTo>
                  <a:pt x="495" y="905"/>
                </a:lnTo>
                <a:lnTo>
                  <a:pt x="484" y="887"/>
                </a:lnTo>
                <a:lnTo>
                  <a:pt x="472" y="870"/>
                </a:lnTo>
                <a:lnTo>
                  <a:pt x="461" y="853"/>
                </a:lnTo>
                <a:lnTo>
                  <a:pt x="447" y="834"/>
                </a:lnTo>
                <a:lnTo>
                  <a:pt x="436" y="814"/>
                </a:lnTo>
                <a:lnTo>
                  <a:pt x="422" y="795"/>
                </a:lnTo>
                <a:lnTo>
                  <a:pt x="409" y="774"/>
                </a:lnTo>
                <a:lnTo>
                  <a:pt x="395" y="753"/>
                </a:lnTo>
                <a:lnTo>
                  <a:pt x="382" y="732"/>
                </a:lnTo>
                <a:lnTo>
                  <a:pt x="326" y="645"/>
                </a:lnTo>
                <a:lnTo>
                  <a:pt x="274" y="561"/>
                </a:lnTo>
                <a:lnTo>
                  <a:pt x="248" y="519"/>
                </a:lnTo>
                <a:lnTo>
                  <a:pt x="223" y="477"/>
                </a:lnTo>
                <a:lnTo>
                  <a:pt x="198" y="434"/>
                </a:lnTo>
                <a:lnTo>
                  <a:pt x="173" y="394"/>
                </a:lnTo>
                <a:lnTo>
                  <a:pt x="150" y="352"/>
                </a:lnTo>
                <a:lnTo>
                  <a:pt x="127" y="311"/>
                </a:lnTo>
                <a:lnTo>
                  <a:pt x="104" y="271"/>
                </a:lnTo>
                <a:lnTo>
                  <a:pt x="80" y="231"/>
                </a:lnTo>
                <a:lnTo>
                  <a:pt x="59" y="192"/>
                </a:lnTo>
                <a:lnTo>
                  <a:pt x="38" y="152"/>
                </a:lnTo>
                <a:lnTo>
                  <a:pt x="19" y="112"/>
                </a:lnTo>
                <a:lnTo>
                  <a:pt x="0" y="73"/>
                </a:lnTo>
                <a:lnTo>
                  <a:pt x="23" y="37"/>
                </a:lnTo>
                <a:lnTo>
                  <a:pt x="46" y="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191"/>
                                        </p:tgtEl>
                                        <p:attrNameLst>
                                          <p:attrName>style.visibility</p:attrName>
                                        </p:attrNameLst>
                                      </p:cBhvr>
                                      <p:to>
                                        <p:strVal val="visible"/>
                                      </p:to>
                                    </p:set>
                                    <p:anim calcmode="lin" valueType="num">
                                      <p:cBhvr additive="base">
                                        <p:cTn id="454" dur="500" fill="hold"/>
                                        <p:tgtEl>
                                          <p:spTgt spid="191"/>
                                        </p:tgtEl>
                                        <p:attrNameLst>
                                          <p:attrName>ppt_x</p:attrName>
                                        </p:attrNameLst>
                                      </p:cBhvr>
                                      <p:tavLst>
                                        <p:tav tm="0">
                                          <p:val>
                                            <p:strVal val="0-#ppt_w/2"/>
                                          </p:val>
                                        </p:tav>
                                        <p:tav tm="100000">
                                          <p:val>
                                            <p:strVal val="#ppt_x"/>
                                          </p:val>
                                        </p:tav>
                                      </p:tavLst>
                                    </p:anim>
                                    <p:anim calcmode="lin" valueType="num">
                                      <p:cBhvr additive="base">
                                        <p:cTn id="455"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1">
                                  <p:stCondLst>
                                    <p:cond delay="0"/>
                                  </p:stCondLst>
                                  <p:childTnLst>
                                    <p:set>
                                      <p:cBhvr>
                                        <p:cTn id="459" dur="1" fill="hold">
                                          <p:stCondLst>
                                            <p:cond delay="0"/>
                                          </p:stCondLst>
                                        </p:cTn>
                                        <p:tgtEl>
                                          <p:spTgt spid="192"/>
                                        </p:tgtEl>
                                        <p:attrNameLst>
                                          <p:attrName>style.visibility</p:attrName>
                                        </p:attrNameLst>
                                      </p:cBhvr>
                                      <p:to>
                                        <p:strVal val="visible"/>
                                      </p:to>
                                    </p:set>
                                    <p:animEffect filter="wipe(up)" transition="in">
                                      <p:cBhvr additive="repl">
                                        <p:cTn id="460" dur="500"/>
                                        <p:tgtEl>
                                          <p:spTgt spid="192"/>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1">
                                  <p:stCondLst>
                                    <p:cond delay="0"/>
                                  </p:stCondLst>
                                  <p:childTnLst>
                                    <p:set>
                                      <p:cBhvr>
                                        <p:cTn id="464" dur="1" fill="hold">
                                          <p:stCondLst>
                                            <p:cond delay="0"/>
                                          </p:stCondLst>
                                        </p:cTn>
                                        <p:tgtEl>
                                          <p:spTgt spid="193"/>
                                        </p:tgtEl>
                                        <p:attrNameLst>
                                          <p:attrName>style.visibility</p:attrName>
                                        </p:attrNameLst>
                                      </p:cBhvr>
                                      <p:to>
                                        <p:strVal val="visible"/>
                                      </p:to>
                                    </p:set>
                                    <p:animEffect filter="wipe(up)" transition="in">
                                      <p:cBhvr additive="repl">
                                        <p:cTn id="465" dur="500"/>
                                        <p:tgtEl>
                                          <p:spTgt spid="193"/>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194"/>
                                        </p:tgtEl>
                                        <p:attrNameLst>
                                          <p:attrName>style.visibility</p:attrName>
                                        </p:attrNameLst>
                                      </p:cBhvr>
                                      <p:to>
                                        <p:strVal val="visible"/>
                                      </p:to>
                                    </p:set>
                                    <p:animEffect filter="wipe(left)" transition="in">
                                      <p:cBhvr additive="repl">
                                        <p:cTn id="470" dur="500"/>
                                        <p:tgtEl>
                                          <p:spTgt spid="194"/>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2" presetSubtype="1">
                                  <p:stCondLst>
                                    <p:cond delay="0"/>
                                  </p:stCondLst>
                                  <p:childTnLst>
                                    <p:set>
                                      <p:cBhvr>
                                        <p:cTn id="474" dur="1" fill="hold">
                                          <p:stCondLst>
                                            <p:cond delay="0"/>
                                          </p:stCondLst>
                                        </p:cTn>
                                        <p:tgtEl>
                                          <p:spTgt spid="196"/>
                                        </p:tgtEl>
                                        <p:attrNameLst>
                                          <p:attrName>style.visibility</p:attrName>
                                        </p:attrNameLst>
                                      </p:cBhvr>
                                      <p:to>
                                        <p:strVal val="visible"/>
                                      </p:to>
                                    </p:set>
                                    <p:animEffect filter="wipe(up)" transition="in">
                                      <p:cBhvr additive="repl">
                                        <p:cTn id="475" dur="500"/>
                                        <p:tgtEl>
                                          <p:spTgt spid="196"/>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2" presetSubtype="1">
                                  <p:stCondLst>
                                    <p:cond delay="0"/>
                                  </p:stCondLst>
                                  <p:childTnLst>
                                    <p:set>
                                      <p:cBhvr>
                                        <p:cTn id="479" dur="1" fill="hold">
                                          <p:stCondLst>
                                            <p:cond delay="0"/>
                                          </p:stCondLst>
                                        </p:cTn>
                                        <p:tgtEl>
                                          <p:spTgt spid="197"/>
                                        </p:tgtEl>
                                        <p:attrNameLst>
                                          <p:attrName>style.visibility</p:attrName>
                                        </p:attrNameLst>
                                      </p:cBhvr>
                                      <p:to>
                                        <p:strVal val="visible"/>
                                      </p:to>
                                    </p:set>
                                    <p:animEffect filter="wipe(up)" transition="in">
                                      <p:cBhvr additive="repl">
                                        <p:cTn id="480" dur="500"/>
                                        <p:tgtEl>
                                          <p:spTgt spid="197"/>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2" presetSubtype="1">
                                  <p:stCondLst>
                                    <p:cond delay="0"/>
                                  </p:stCondLst>
                                  <p:childTnLst>
                                    <p:set>
                                      <p:cBhvr>
                                        <p:cTn id="484" dur="1" fill="hold">
                                          <p:stCondLst>
                                            <p:cond delay="0"/>
                                          </p:stCondLst>
                                        </p:cTn>
                                        <p:tgtEl>
                                          <p:spTgt spid="195"/>
                                        </p:tgtEl>
                                        <p:attrNameLst>
                                          <p:attrName>style.visibility</p:attrName>
                                        </p:attrNameLst>
                                      </p:cBhvr>
                                      <p:to>
                                        <p:strVal val="visible"/>
                                      </p:to>
                                    </p:set>
                                    <p:animEffect filter="wipe(up)" transition="in">
                                      <p:cBhvr additive="repl">
                                        <p:cTn id="485" dur="500"/>
                                        <p:tgtEl>
                                          <p:spTgt spid="195"/>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53" presetSubtype="16">
                                  <p:stCondLst>
                                    <p:cond delay="0"/>
                                  </p:stCondLst>
                                  <p:childTnLst>
                                    <p:set>
                                      <p:cBhvr>
                                        <p:cTn id="489" dur="1" fill="hold">
                                          <p:stCondLst>
                                            <p:cond delay="0"/>
                                          </p:stCondLst>
                                        </p:cTn>
                                        <p:tgtEl>
                                          <p:spTgt spid="188"/>
                                        </p:tgtEl>
                                        <p:attrNameLst>
                                          <p:attrName>style.visibility</p:attrName>
                                        </p:attrNameLst>
                                      </p:cBhvr>
                                      <p:to>
                                        <p:strVal val="visible"/>
                                      </p:to>
                                    </p:set>
                                    <p:anim calcmode="lin" valueType="num">
                                      <p:cBhvr additive="repl">
                                        <p:cTn id="490" dur="500" fill="hold"/>
                                        <p:tgtEl>
                                          <p:spTgt spid="188"/>
                                        </p:tgtEl>
                                        <p:attrNameLst>
                                          <p:attrName>ppt_w</p:attrName>
                                        </p:attrNameLst>
                                      </p:cBhvr>
                                      <p:tavLst>
                                        <p:tav tm="0">
                                          <p:val>
                                            <p:fltVal val="0"/>
                                          </p:val>
                                        </p:tav>
                                        <p:tav tm="100000">
                                          <p:val>
                                            <p:strVal val="#ppt_w"/>
                                          </p:val>
                                        </p:tav>
                                      </p:tavLst>
                                    </p:anim>
                                    <p:anim calcmode="lin" valueType="num">
                                      <p:cBhvr additive="repl">
                                        <p:cTn id="491" dur="500" fill="hold"/>
                                        <p:tgtEl>
                                          <p:spTgt spid="188"/>
                                        </p:tgtEl>
                                        <p:attrNameLst>
                                          <p:attrName>ppt_h</p:attrName>
                                        </p:attrNameLst>
                                      </p:cBhvr>
                                      <p:tavLst>
                                        <p:tav tm="0">
                                          <p:val>
                                            <p:fltVal val="0"/>
                                          </p:val>
                                        </p:tav>
                                        <p:tav tm="100000">
                                          <p:val>
                                            <p:strVal val="#ppt_h"/>
                                          </p:val>
                                        </p:tav>
                                      </p:tavLst>
                                    </p:anim>
                                    <p:animEffect filter="fade" transition="in">
                                      <p:cBhvr additive="repl">
                                        <p:cTn id="492"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任意多边形 8"/>
          <p:cNvSpPr/>
          <p:nvPr/>
        </p:nvSpPr>
        <p:spPr>
          <a:xfrm>
            <a:off x="1706400" y="2568600"/>
            <a:ext cx="6337440" cy="3166920"/>
          </a:xfrm>
          <a:prstGeom prst="pie">
            <a:avLst/>
          </a:prstGeom>
          <a:noFill/>
          <a:ln w="0">
            <a:noFill/>
          </a:ln>
        </p:spPr>
        <p:style>
          <a:lnRef idx="0"/>
          <a:fillRef idx="0"/>
          <a:effectRef idx="0"/>
          <a:fontRef idx="minor"/>
        </p:style>
        <p:txBody>
          <a:bodyPr lIns="90000" rIns="90000" tIns="91440" bIns="91440" anchor="t">
            <a:noAutofit/>
          </a:bodyPr>
          <a:p>
            <a:pPr>
              <a:lnSpc>
                <a:spcPct val="150000"/>
              </a:lnSpc>
              <a:spcAft>
                <a:spcPts val="2100"/>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4800" spc="-1" strike="noStrike">
                <a:solidFill>
                  <a:srgbClr val="000000"/>
                </a:solidFill>
                <a:latin typeface="楷体"/>
                <a:ea typeface="楷体"/>
              </a:rPr>
              <a:t>睫      御      钳</a:t>
            </a:r>
            <a:endParaRPr b="0" lang="en-US" sz="4800" spc="-1" strike="noStrike">
              <a:solidFill>
                <a:srgbClr val="000000"/>
              </a:solidFill>
              <a:latin typeface="Calibri"/>
            </a:endParaRPr>
          </a:p>
          <a:p>
            <a:pPr>
              <a:lnSpc>
                <a:spcPct val="150000"/>
              </a:lnSpc>
              <a:spcAft>
                <a:spcPts val="2100"/>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4800" spc="-1" strike="noStrike">
                <a:solidFill>
                  <a:srgbClr val="000000"/>
                </a:solidFill>
                <a:latin typeface="楷体"/>
                <a:ea typeface="楷体"/>
              </a:rPr>
              <a:t>阱      缚      虏</a:t>
            </a:r>
            <a:endParaRPr b="0" lang="en-US" sz="4800" spc="-1" strike="noStrike">
              <a:solidFill>
                <a:srgbClr val="000000"/>
              </a:solidFill>
              <a:latin typeface="Calibri"/>
            </a:endParaRPr>
          </a:p>
        </p:txBody>
      </p:sp>
      <p:sp>
        <p:nvSpPr>
          <p:cNvPr id="199" name="矩形 1"/>
          <p:cNvSpPr/>
          <p:nvPr/>
        </p:nvSpPr>
        <p:spPr>
          <a:xfrm>
            <a:off x="6770520" y="3689280"/>
            <a:ext cx="106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lǔ</a:t>
            </a:r>
            <a:endParaRPr b="0" lang="en-US" sz="3600" spc="-1" strike="noStrike">
              <a:solidFill>
                <a:srgbClr val="000000"/>
              </a:solidFill>
              <a:latin typeface="Calibri"/>
            </a:endParaRPr>
          </a:p>
        </p:txBody>
      </p:sp>
      <p:sp>
        <p:nvSpPr>
          <p:cNvPr id="200" name="矩形 3"/>
          <p:cNvSpPr/>
          <p:nvPr/>
        </p:nvSpPr>
        <p:spPr>
          <a:xfrm>
            <a:off x="1712880" y="2270160"/>
            <a:ext cx="73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jié</a:t>
            </a:r>
            <a:endParaRPr b="0" lang="en-US" sz="3600" spc="-1" strike="noStrike">
              <a:solidFill>
                <a:srgbClr val="000000"/>
              </a:solidFill>
              <a:latin typeface="Calibri"/>
            </a:endParaRPr>
          </a:p>
        </p:txBody>
      </p:sp>
      <p:sp>
        <p:nvSpPr>
          <p:cNvPr id="201" name="矩形 9"/>
          <p:cNvSpPr/>
          <p:nvPr/>
        </p:nvSpPr>
        <p:spPr>
          <a:xfrm>
            <a:off x="4209120" y="2316240"/>
            <a:ext cx="741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yù</a:t>
            </a:r>
            <a:endParaRPr b="0" lang="en-US" sz="3600" spc="-1" strike="noStrike">
              <a:solidFill>
                <a:srgbClr val="000000"/>
              </a:solidFill>
              <a:latin typeface="Calibri"/>
            </a:endParaRPr>
          </a:p>
        </p:txBody>
      </p:sp>
      <p:sp>
        <p:nvSpPr>
          <p:cNvPr id="202" name="矩形 11"/>
          <p:cNvSpPr/>
          <p:nvPr/>
        </p:nvSpPr>
        <p:spPr>
          <a:xfrm>
            <a:off x="6350400" y="2341440"/>
            <a:ext cx="1186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qián</a:t>
            </a:r>
            <a:endParaRPr b="0" lang="en-US" sz="3600" spc="-1" strike="noStrike">
              <a:solidFill>
                <a:srgbClr val="000000"/>
              </a:solidFill>
              <a:latin typeface="Calibri"/>
            </a:endParaRPr>
          </a:p>
        </p:txBody>
      </p:sp>
      <p:sp>
        <p:nvSpPr>
          <p:cNvPr id="203" name="矩形 12"/>
          <p:cNvSpPr/>
          <p:nvPr/>
        </p:nvSpPr>
        <p:spPr>
          <a:xfrm>
            <a:off x="1562400" y="3675240"/>
            <a:ext cx="105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jǐng</a:t>
            </a:r>
            <a:endParaRPr b="0" lang="en-US" sz="3600" spc="-1" strike="noStrike">
              <a:solidFill>
                <a:srgbClr val="000000"/>
              </a:solidFill>
              <a:latin typeface="Calibri"/>
            </a:endParaRPr>
          </a:p>
        </p:txBody>
      </p:sp>
      <p:sp>
        <p:nvSpPr>
          <p:cNvPr id="204" name="矩形 14"/>
          <p:cNvSpPr/>
          <p:nvPr/>
        </p:nvSpPr>
        <p:spPr>
          <a:xfrm>
            <a:off x="4223520" y="3678120"/>
            <a:ext cx="657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fù</a:t>
            </a:r>
            <a:endParaRPr b="0" lang="en-US" sz="3600" spc="-1" strike="noStrike">
              <a:solidFill>
                <a:srgbClr val="000000"/>
              </a:solidFill>
              <a:latin typeface="Calibri"/>
            </a:endParaRPr>
          </a:p>
        </p:txBody>
      </p:sp>
      <p:grpSp>
        <p:nvGrpSpPr>
          <p:cNvPr id="205" name="组合 2"/>
          <p:cNvGrpSpPr/>
          <p:nvPr/>
        </p:nvGrpSpPr>
        <p:grpSpPr>
          <a:xfrm>
            <a:off x="730080" y="1200240"/>
            <a:ext cx="2905200" cy="666720"/>
            <a:chOff x="730080" y="1200240"/>
            <a:chExt cx="2905200" cy="666720"/>
          </a:xfrm>
        </p:grpSpPr>
        <p:sp>
          <p:nvSpPr>
            <p:cNvPr id="206" name="圆角矩形 27"/>
            <p:cNvSpPr/>
            <p:nvPr/>
          </p:nvSpPr>
          <p:spPr>
            <a:xfrm>
              <a:off x="1545840" y="133812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07" name="图片 9" descr="book.gif"/>
            <p:cNvPicPr/>
            <p:nvPr/>
          </p:nvPicPr>
          <p:blipFill>
            <a:blip r:embed="rId1"/>
            <a:stretch/>
          </p:blipFill>
          <p:spPr>
            <a:xfrm>
              <a:off x="730080" y="1200240"/>
              <a:ext cx="1087200" cy="666720"/>
            </a:xfrm>
            <a:prstGeom prst="rect">
              <a:avLst/>
            </a:prstGeom>
            <a:ln w="0">
              <a:noFill/>
            </a:ln>
          </p:spPr>
        </p:pic>
        <p:sp>
          <p:nvSpPr>
            <p:cNvPr id="208" name="文本框 16"/>
            <p:cNvSpPr/>
            <p:nvPr/>
          </p:nvSpPr>
          <p:spPr>
            <a:xfrm>
              <a:off x="1805400" y="135720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我会认</a:t>
              </a:r>
              <a:endParaRPr b="0" lang="en-US" sz="2400" spc="-1" strike="noStrike">
                <a:solidFill>
                  <a:srgbClr val="000000"/>
                </a:solidFill>
                <a:latin typeface="Calibri"/>
              </a:endParaRPr>
            </a:p>
          </p:txBody>
        </p:sp>
      </p:grpSp>
      <p:pic>
        <p:nvPicPr>
          <p:cNvPr id="209" name="Picture 2" descr="C:\Users\Administrator\Desktop\赞扬.jpg"/>
          <p:cNvPicPr/>
          <p:nvPr/>
        </p:nvPicPr>
        <p:blipFill>
          <a:blip r:embed="rId2"/>
          <a:stretch/>
        </p:blipFill>
        <p:spPr>
          <a:xfrm>
            <a:off x="6853320" y="4807080"/>
            <a:ext cx="1752480" cy="14778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53" presetSubtype="16">
                                  <p:stCondLst>
                                    <p:cond delay="0"/>
                                  </p:stCondLst>
                                  <p:childTnLst>
                                    <p:set>
                                      <p:cBhvr>
                                        <p:cTn id="498" dur="1" fill="hold">
                                          <p:stCondLst>
                                            <p:cond delay="0"/>
                                          </p:stCondLst>
                                        </p:cTn>
                                        <p:tgtEl>
                                          <p:spTgt spid="200"/>
                                        </p:tgtEl>
                                        <p:attrNameLst>
                                          <p:attrName>style.visibility</p:attrName>
                                        </p:attrNameLst>
                                      </p:cBhvr>
                                      <p:to>
                                        <p:strVal val="visible"/>
                                      </p:to>
                                    </p:set>
                                    <p:anim calcmode="lin" valueType="num">
                                      <p:cBhvr additive="repl">
                                        <p:cTn id="499" dur="500" fill="hold"/>
                                        <p:tgtEl>
                                          <p:spTgt spid="200"/>
                                        </p:tgtEl>
                                        <p:attrNameLst>
                                          <p:attrName>ppt_w</p:attrName>
                                        </p:attrNameLst>
                                      </p:cBhvr>
                                      <p:tavLst>
                                        <p:tav tm="0">
                                          <p:val>
                                            <p:fltVal val="0"/>
                                          </p:val>
                                        </p:tav>
                                        <p:tav tm="100000">
                                          <p:val>
                                            <p:strVal val="#ppt_w"/>
                                          </p:val>
                                        </p:tav>
                                      </p:tavLst>
                                    </p:anim>
                                    <p:anim calcmode="lin" valueType="num">
                                      <p:cBhvr additive="repl">
                                        <p:cTn id="500" dur="500" fill="hold"/>
                                        <p:tgtEl>
                                          <p:spTgt spid="200"/>
                                        </p:tgtEl>
                                        <p:attrNameLst>
                                          <p:attrName>ppt_h</p:attrName>
                                        </p:attrNameLst>
                                      </p:cBhvr>
                                      <p:tavLst>
                                        <p:tav tm="0">
                                          <p:val>
                                            <p:fltVal val="0"/>
                                          </p:val>
                                        </p:tav>
                                        <p:tav tm="100000">
                                          <p:val>
                                            <p:strVal val="#ppt_h"/>
                                          </p:val>
                                        </p:tav>
                                      </p:tavLst>
                                    </p:anim>
                                    <p:animEffect filter="fade" transition="in">
                                      <p:cBhvr additive="repl">
                                        <p:cTn id="501" dur="500"/>
                                        <p:tgtEl>
                                          <p:spTgt spid="200"/>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53" presetSubtype="16">
                                  <p:stCondLst>
                                    <p:cond delay="0"/>
                                  </p:stCondLst>
                                  <p:childTnLst>
                                    <p:set>
                                      <p:cBhvr>
                                        <p:cTn id="505" dur="1" fill="hold">
                                          <p:stCondLst>
                                            <p:cond delay="0"/>
                                          </p:stCondLst>
                                        </p:cTn>
                                        <p:tgtEl>
                                          <p:spTgt spid="201"/>
                                        </p:tgtEl>
                                        <p:attrNameLst>
                                          <p:attrName>style.visibility</p:attrName>
                                        </p:attrNameLst>
                                      </p:cBhvr>
                                      <p:to>
                                        <p:strVal val="visible"/>
                                      </p:to>
                                    </p:set>
                                    <p:anim calcmode="lin" valueType="num">
                                      <p:cBhvr additive="repl">
                                        <p:cTn id="506" dur="500" fill="hold"/>
                                        <p:tgtEl>
                                          <p:spTgt spid="201"/>
                                        </p:tgtEl>
                                        <p:attrNameLst>
                                          <p:attrName>ppt_w</p:attrName>
                                        </p:attrNameLst>
                                      </p:cBhvr>
                                      <p:tavLst>
                                        <p:tav tm="0">
                                          <p:val>
                                            <p:fltVal val="0"/>
                                          </p:val>
                                        </p:tav>
                                        <p:tav tm="100000">
                                          <p:val>
                                            <p:strVal val="#ppt_w"/>
                                          </p:val>
                                        </p:tav>
                                      </p:tavLst>
                                    </p:anim>
                                    <p:anim calcmode="lin" valueType="num">
                                      <p:cBhvr additive="repl">
                                        <p:cTn id="507" dur="500" fill="hold"/>
                                        <p:tgtEl>
                                          <p:spTgt spid="201"/>
                                        </p:tgtEl>
                                        <p:attrNameLst>
                                          <p:attrName>ppt_h</p:attrName>
                                        </p:attrNameLst>
                                      </p:cBhvr>
                                      <p:tavLst>
                                        <p:tav tm="0">
                                          <p:val>
                                            <p:fltVal val="0"/>
                                          </p:val>
                                        </p:tav>
                                        <p:tav tm="100000">
                                          <p:val>
                                            <p:strVal val="#ppt_h"/>
                                          </p:val>
                                        </p:tav>
                                      </p:tavLst>
                                    </p:anim>
                                    <p:animEffect filter="fade" transition="in">
                                      <p:cBhvr additive="repl">
                                        <p:cTn id="508" dur="500"/>
                                        <p:tgtEl>
                                          <p:spTgt spid="201"/>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53" presetSubtype="16">
                                  <p:stCondLst>
                                    <p:cond delay="0"/>
                                  </p:stCondLst>
                                  <p:childTnLst>
                                    <p:set>
                                      <p:cBhvr>
                                        <p:cTn id="512" dur="1" fill="hold">
                                          <p:stCondLst>
                                            <p:cond delay="0"/>
                                          </p:stCondLst>
                                        </p:cTn>
                                        <p:tgtEl>
                                          <p:spTgt spid="202"/>
                                        </p:tgtEl>
                                        <p:attrNameLst>
                                          <p:attrName>style.visibility</p:attrName>
                                        </p:attrNameLst>
                                      </p:cBhvr>
                                      <p:to>
                                        <p:strVal val="visible"/>
                                      </p:to>
                                    </p:set>
                                    <p:anim calcmode="lin" valueType="num">
                                      <p:cBhvr additive="repl">
                                        <p:cTn id="513" dur="500" fill="hold"/>
                                        <p:tgtEl>
                                          <p:spTgt spid="202"/>
                                        </p:tgtEl>
                                        <p:attrNameLst>
                                          <p:attrName>ppt_w</p:attrName>
                                        </p:attrNameLst>
                                      </p:cBhvr>
                                      <p:tavLst>
                                        <p:tav tm="0">
                                          <p:val>
                                            <p:fltVal val="0"/>
                                          </p:val>
                                        </p:tav>
                                        <p:tav tm="100000">
                                          <p:val>
                                            <p:strVal val="#ppt_w"/>
                                          </p:val>
                                        </p:tav>
                                      </p:tavLst>
                                    </p:anim>
                                    <p:anim calcmode="lin" valueType="num">
                                      <p:cBhvr additive="repl">
                                        <p:cTn id="514" dur="500" fill="hold"/>
                                        <p:tgtEl>
                                          <p:spTgt spid="202"/>
                                        </p:tgtEl>
                                        <p:attrNameLst>
                                          <p:attrName>ppt_h</p:attrName>
                                        </p:attrNameLst>
                                      </p:cBhvr>
                                      <p:tavLst>
                                        <p:tav tm="0">
                                          <p:val>
                                            <p:fltVal val="0"/>
                                          </p:val>
                                        </p:tav>
                                        <p:tav tm="100000">
                                          <p:val>
                                            <p:strVal val="#ppt_h"/>
                                          </p:val>
                                        </p:tav>
                                      </p:tavLst>
                                    </p:anim>
                                    <p:animEffect filter="fade" transition="in">
                                      <p:cBhvr additive="repl">
                                        <p:cTn id="515" dur="500"/>
                                        <p:tgtEl>
                                          <p:spTgt spid="202"/>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53" presetSubtype="16">
                                  <p:stCondLst>
                                    <p:cond delay="0"/>
                                  </p:stCondLst>
                                  <p:childTnLst>
                                    <p:set>
                                      <p:cBhvr>
                                        <p:cTn id="519" dur="1" fill="hold">
                                          <p:stCondLst>
                                            <p:cond delay="0"/>
                                          </p:stCondLst>
                                        </p:cTn>
                                        <p:tgtEl>
                                          <p:spTgt spid="203"/>
                                        </p:tgtEl>
                                        <p:attrNameLst>
                                          <p:attrName>style.visibility</p:attrName>
                                        </p:attrNameLst>
                                      </p:cBhvr>
                                      <p:to>
                                        <p:strVal val="visible"/>
                                      </p:to>
                                    </p:set>
                                    <p:anim calcmode="lin" valueType="num">
                                      <p:cBhvr additive="repl">
                                        <p:cTn id="520" dur="500" fill="hold"/>
                                        <p:tgtEl>
                                          <p:spTgt spid="203"/>
                                        </p:tgtEl>
                                        <p:attrNameLst>
                                          <p:attrName>ppt_w</p:attrName>
                                        </p:attrNameLst>
                                      </p:cBhvr>
                                      <p:tavLst>
                                        <p:tav tm="0">
                                          <p:val>
                                            <p:fltVal val="0"/>
                                          </p:val>
                                        </p:tav>
                                        <p:tav tm="100000">
                                          <p:val>
                                            <p:strVal val="#ppt_w"/>
                                          </p:val>
                                        </p:tav>
                                      </p:tavLst>
                                    </p:anim>
                                    <p:anim calcmode="lin" valueType="num">
                                      <p:cBhvr additive="repl">
                                        <p:cTn id="521" dur="500" fill="hold"/>
                                        <p:tgtEl>
                                          <p:spTgt spid="203"/>
                                        </p:tgtEl>
                                        <p:attrNameLst>
                                          <p:attrName>ppt_h</p:attrName>
                                        </p:attrNameLst>
                                      </p:cBhvr>
                                      <p:tavLst>
                                        <p:tav tm="0">
                                          <p:val>
                                            <p:fltVal val="0"/>
                                          </p:val>
                                        </p:tav>
                                        <p:tav tm="100000">
                                          <p:val>
                                            <p:strVal val="#ppt_h"/>
                                          </p:val>
                                        </p:tav>
                                      </p:tavLst>
                                    </p:anim>
                                    <p:animEffect filter="fade" transition="in">
                                      <p:cBhvr additive="repl">
                                        <p:cTn id="522" dur="500"/>
                                        <p:tgtEl>
                                          <p:spTgt spid="203"/>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53" presetSubtype="16">
                                  <p:stCondLst>
                                    <p:cond delay="0"/>
                                  </p:stCondLst>
                                  <p:childTnLst>
                                    <p:set>
                                      <p:cBhvr>
                                        <p:cTn id="526" dur="1" fill="hold">
                                          <p:stCondLst>
                                            <p:cond delay="0"/>
                                          </p:stCondLst>
                                        </p:cTn>
                                        <p:tgtEl>
                                          <p:spTgt spid="204"/>
                                        </p:tgtEl>
                                        <p:attrNameLst>
                                          <p:attrName>style.visibility</p:attrName>
                                        </p:attrNameLst>
                                      </p:cBhvr>
                                      <p:to>
                                        <p:strVal val="visible"/>
                                      </p:to>
                                    </p:set>
                                    <p:anim calcmode="lin" valueType="num">
                                      <p:cBhvr additive="repl">
                                        <p:cTn id="527" dur="500" fill="hold"/>
                                        <p:tgtEl>
                                          <p:spTgt spid="204"/>
                                        </p:tgtEl>
                                        <p:attrNameLst>
                                          <p:attrName>ppt_w</p:attrName>
                                        </p:attrNameLst>
                                      </p:cBhvr>
                                      <p:tavLst>
                                        <p:tav tm="0">
                                          <p:val>
                                            <p:fltVal val="0"/>
                                          </p:val>
                                        </p:tav>
                                        <p:tav tm="100000">
                                          <p:val>
                                            <p:strVal val="#ppt_w"/>
                                          </p:val>
                                        </p:tav>
                                      </p:tavLst>
                                    </p:anim>
                                    <p:anim calcmode="lin" valueType="num">
                                      <p:cBhvr additive="repl">
                                        <p:cTn id="528" dur="500" fill="hold"/>
                                        <p:tgtEl>
                                          <p:spTgt spid="204"/>
                                        </p:tgtEl>
                                        <p:attrNameLst>
                                          <p:attrName>ppt_h</p:attrName>
                                        </p:attrNameLst>
                                      </p:cBhvr>
                                      <p:tavLst>
                                        <p:tav tm="0">
                                          <p:val>
                                            <p:fltVal val="0"/>
                                          </p:val>
                                        </p:tav>
                                        <p:tav tm="100000">
                                          <p:val>
                                            <p:strVal val="#ppt_h"/>
                                          </p:val>
                                        </p:tav>
                                      </p:tavLst>
                                    </p:anim>
                                    <p:animEffect filter="fade" transition="in">
                                      <p:cBhvr additive="repl">
                                        <p:cTn id="529" dur="500"/>
                                        <p:tgtEl>
                                          <p:spTgt spid="204"/>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53" presetSubtype="16">
                                  <p:stCondLst>
                                    <p:cond delay="0"/>
                                  </p:stCondLst>
                                  <p:childTnLst>
                                    <p:set>
                                      <p:cBhvr>
                                        <p:cTn id="533" dur="1" fill="hold">
                                          <p:stCondLst>
                                            <p:cond delay="0"/>
                                          </p:stCondLst>
                                        </p:cTn>
                                        <p:tgtEl>
                                          <p:spTgt spid="199"/>
                                        </p:tgtEl>
                                        <p:attrNameLst>
                                          <p:attrName>style.visibility</p:attrName>
                                        </p:attrNameLst>
                                      </p:cBhvr>
                                      <p:to>
                                        <p:strVal val="visible"/>
                                      </p:to>
                                    </p:set>
                                    <p:anim calcmode="lin" valueType="num">
                                      <p:cBhvr additive="repl">
                                        <p:cTn id="534" dur="500" fill="hold"/>
                                        <p:tgtEl>
                                          <p:spTgt spid="199"/>
                                        </p:tgtEl>
                                        <p:attrNameLst>
                                          <p:attrName>ppt_w</p:attrName>
                                        </p:attrNameLst>
                                      </p:cBhvr>
                                      <p:tavLst>
                                        <p:tav tm="0">
                                          <p:val>
                                            <p:fltVal val="0"/>
                                          </p:val>
                                        </p:tav>
                                        <p:tav tm="100000">
                                          <p:val>
                                            <p:strVal val="#ppt_w"/>
                                          </p:val>
                                        </p:tav>
                                      </p:tavLst>
                                    </p:anim>
                                    <p:anim calcmode="lin" valueType="num">
                                      <p:cBhvr additive="repl">
                                        <p:cTn id="535" dur="500" fill="hold"/>
                                        <p:tgtEl>
                                          <p:spTgt spid="199"/>
                                        </p:tgtEl>
                                        <p:attrNameLst>
                                          <p:attrName>ppt_h</p:attrName>
                                        </p:attrNameLst>
                                      </p:cBhvr>
                                      <p:tavLst>
                                        <p:tav tm="0">
                                          <p:val>
                                            <p:fltVal val="0"/>
                                          </p:val>
                                        </p:tav>
                                        <p:tav tm="100000">
                                          <p:val>
                                            <p:strVal val="#ppt_h"/>
                                          </p:val>
                                        </p:tav>
                                      </p:tavLst>
                                    </p:anim>
                                    <p:animEffect filter="fade" transition="in">
                                      <p:cBhvr additive="repl">
                                        <p:cTn id="536" dur="500"/>
                                        <p:tgtEl>
                                          <p:spTgt spid="199"/>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audio isNarration="0">
                                      <p:cMediaNode showWhenStopped="1">
                                        <p:cTn/>
                                        <p:tgtEl>
                                          <p:sndTgt r:embed="rId3" name="applause.wav"/>
                                        </p:tgtEl>
                                      </p:cMediaNode>
                                    </p:audio>
                                    <p:set>
                                      <p:cBhvr>
                                        <p:cTn id="540" dur="1" fill="hold">
                                          <p:stCondLst>
                                            <p:cond delay="0"/>
                                          </p:stCondLst>
                                        </p:cTn>
                                        <p:tgtEl>
                                          <p:spTgt spid="209"/>
                                        </p:tgtEl>
                                        <p:attrNameLst>
                                          <p:attrName>style.visibility</p:attrName>
                                        </p:attrNameLst>
                                      </p:cBhvr>
                                      <p:to>
                                        <p:strVal val="visible"/>
                                      </p:to>
                                    </p:set>
                                    <p:anim calcmode="lin" valueType="num">
                                      <p:cBhvr additive="base">
                                        <p:cTn id="541" dur="500" fill="hold"/>
                                        <p:tgtEl>
                                          <p:spTgt spid="209"/>
                                        </p:tgtEl>
                                        <p:attrNameLst>
                                          <p:attrName>ppt_x</p:attrName>
                                        </p:attrNameLst>
                                      </p:cBhvr>
                                      <p:tavLst>
                                        <p:tav tm="0">
                                          <p:val>
                                            <p:strVal val="#ppt_x"/>
                                          </p:val>
                                        </p:tav>
                                        <p:tav tm="100000">
                                          <p:val>
                                            <p:strVal val="#ppt_x"/>
                                          </p:val>
                                        </p:tav>
                                      </p:tavLst>
                                    </p:anim>
                                    <p:anim calcmode="lin" valueType="num">
                                      <p:cBhvr additive="base">
                                        <p:cTn id="542"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组合 2"/>
          <p:cNvGrpSpPr/>
          <p:nvPr/>
        </p:nvGrpSpPr>
        <p:grpSpPr>
          <a:xfrm>
            <a:off x="882720" y="1352520"/>
            <a:ext cx="2905200" cy="666720"/>
            <a:chOff x="882720" y="1352520"/>
            <a:chExt cx="2905200" cy="666720"/>
          </a:xfrm>
        </p:grpSpPr>
        <p:sp>
          <p:nvSpPr>
            <p:cNvPr id="211" name="圆角矩形 11"/>
            <p:cNvSpPr/>
            <p:nvPr/>
          </p:nvSpPr>
          <p:spPr>
            <a:xfrm>
              <a:off x="1698480" y="149040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12" name="图片 9" descr="book.gif"/>
            <p:cNvPicPr/>
            <p:nvPr/>
          </p:nvPicPr>
          <p:blipFill>
            <a:blip r:embed="rId1"/>
            <a:stretch/>
          </p:blipFill>
          <p:spPr>
            <a:xfrm>
              <a:off x="882720" y="1352520"/>
              <a:ext cx="1087200" cy="666720"/>
            </a:xfrm>
            <a:prstGeom prst="rect">
              <a:avLst/>
            </a:prstGeom>
            <a:ln w="0">
              <a:noFill/>
            </a:ln>
          </p:spPr>
        </p:pic>
        <p:sp>
          <p:nvSpPr>
            <p:cNvPr id="213" name="文本框 16"/>
            <p:cNvSpPr/>
            <p:nvPr/>
          </p:nvSpPr>
          <p:spPr>
            <a:xfrm>
              <a:off x="1958040" y="150948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易读错字</a:t>
              </a:r>
              <a:endParaRPr b="0" lang="en-US" sz="2400" spc="-1" strike="noStrike">
                <a:solidFill>
                  <a:srgbClr val="000000"/>
                </a:solidFill>
                <a:latin typeface="Calibri"/>
              </a:endParaRPr>
            </a:p>
          </p:txBody>
        </p:sp>
      </p:grpSp>
      <p:sp>
        <p:nvSpPr>
          <p:cNvPr id="214" name="TextBox 1"/>
          <p:cNvSpPr/>
          <p:nvPr/>
        </p:nvSpPr>
        <p:spPr>
          <a:xfrm>
            <a:off x="2166840" y="3124080"/>
            <a:ext cx="5783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ff"/>
                </a:solidFill>
                <a:latin typeface="楷体"/>
                <a:ea typeface="楷体"/>
              </a:rPr>
              <a:t>侵</a:t>
            </a:r>
            <a:r>
              <a:rPr b="1" lang="zh-CN" sz="4400" spc="-1" strike="noStrike">
                <a:solidFill>
                  <a:srgbClr val="000000"/>
                </a:solidFill>
                <a:latin typeface="楷体"/>
                <a:ea typeface="楷体"/>
              </a:rPr>
              <a:t>犯</a:t>
            </a:r>
            <a:r>
              <a:rPr b="1" lang="zh-CN" sz="4400" spc="-1" strike="noStrike">
                <a:solidFill>
                  <a:srgbClr val="0000ff"/>
                </a:solidFill>
                <a:latin typeface="楷体"/>
                <a:ea typeface="楷体"/>
              </a:rPr>
              <a:t>    </a:t>
            </a:r>
            <a:r>
              <a:rPr b="1" lang="zh-CN" sz="4400" spc="-1" strike="noStrike">
                <a:solidFill>
                  <a:srgbClr val="000000"/>
                </a:solidFill>
                <a:latin typeface="楷体"/>
                <a:ea typeface="楷体"/>
              </a:rPr>
              <a:t>俘</a:t>
            </a:r>
            <a:r>
              <a:rPr b="1" lang="zh-CN" sz="4400" spc="-1" strike="noStrike">
                <a:solidFill>
                  <a:srgbClr val="0000ff"/>
                </a:solidFill>
                <a:latin typeface="楷体"/>
                <a:ea typeface="楷体"/>
              </a:rPr>
              <a:t>虏</a:t>
            </a:r>
            <a:endParaRPr b="0" lang="en-US" sz="4400" spc="-1" strike="noStrike">
              <a:solidFill>
                <a:srgbClr val="000000"/>
              </a:solidFill>
              <a:latin typeface="Calibri"/>
            </a:endParaRPr>
          </a:p>
        </p:txBody>
      </p:sp>
      <p:sp>
        <p:nvSpPr>
          <p:cNvPr id="215" name="矩形 10"/>
          <p:cNvSpPr/>
          <p:nvPr/>
        </p:nvSpPr>
        <p:spPr>
          <a:xfrm>
            <a:off x="2055960" y="2592360"/>
            <a:ext cx="91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qīn</a:t>
            </a:r>
            <a:endParaRPr b="0" lang="en-US" sz="3600" spc="-1" strike="noStrike">
              <a:solidFill>
                <a:srgbClr val="000000"/>
              </a:solidFill>
              <a:latin typeface="Calibri"/>
            </a:endParaRPr>
          </a:p>
        </p:txBody>
      </p:sp>
      <p:sp>
        <p:nvSpPr>
          <p:cNvPr id="216" name="矩形 12"/>
          <p:cNvSpPr/>
          <p:nvPr/>
        </p:nvSpPr>
        <p:spPr>
          <a:xfrm>
            <a:off x="5052240" y="2592360"/>
            <a:ext cx="62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lǔ</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215"/>
                                        </p:tgtEl>
                                        <p:attrNameLst>
                                          <p:attrName>style.visibility</p:attrName>
                                        </p:attrNameLst>
                                      </p:cBhvr>
                                      <p:to>
                                        <p:strVal val="visible"/>
                                      </p:to>
                                    </p:set>
                                    <p:anim calcmode="lin" valueType="num">
                                      <p:cBhvr additive="base">
                                        <p:cTn id="549" dur="500" fill="hold"/>
                                        <p:tgtEl>
                                          <p:spTgt spid="215"/>
                                        </p:tgtEl>
                                        <p:attrNameLst>
                                          <p:attrName>ppt_x</p:attrName>
                                        </p:attrNameLst>
                                      </p:cBhvr>
                                      <p:tavLst>
                                        <p:tav tm="0">
                                          <p:val>
                                            <p:strVal val="#ppt_x"/>
                                          </p:val>
                                        </p:tav>
                                        <p:tav tm="100000">
                                          <p:val>
                                            <p:strVal val="#ppt_x"/>
                                          </p:val>
                                        </p:tav>
                                      </p:tavLst>
                                    </p:anim>
                                    <p:anim calcmode="lin" valueType="num">
                                      <p:cBhvr additive="base">
                                        <p:cTn id="550"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216"/>
                                        </p:tgtEl>
                                        <p:attrNameLst>
                                          <p:attrName>style.visibility</p:attrName>
                                        </p:attrNameLst>
                                      </p:cBhvr>
                                      <p:to>
                                        <p:strVal val="visible"/>
                                      </p:to>
                                    </p:set>
                                    <p:anim calcmode="lin" valueType="num">
                                      <p:cBhvr additive="base">
                                        <p:cTn id="555" dur="500" fill="hold"/>
                                        <p:tgtEl>
                                          <p:spTgt spid="216"/>
                                        </p:tgtEl>
                                        <p:attrNameLst>
                                          <p:attrName>ppt_x</p:attrName>
                                        </p:attrNameLst>
                                      </p:cBhvr>
                                      <p:tavLst>
                                        <p:tav tm="0">
                                          <p:val>
                                            <p:strVal val="#ppt_x"/>
                                          </p:val>
                                        </p:tav>
                                        <p:tav tm="100000">
                                          <p:val>
                                            <p:strVal val="#ppt_x"/>
                                          </p:val>
                                        </p:tav>
                                      </p:tavLst>
                                    </p:anim>
                                    <p:anim calcmode="lin" valueType="num">
                                      <p:cBhvr additive="base">
                                        <p:cTn id="556"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组合 2"/>
          <p:cNvGrpSpPr/>
          <p:nvPr/>
        </p:nvGrpSpPr>
        <p:grpSpPr>
          <a:xfrm>
            <a:off x="520560" y="1352520"/>
            <a:ext cx="2905200" cy="666720"/>
            <a:chOff x="520560" y="1352520"/>
            <a:chExt cx="2905200" cy="666720"/>
          </a:xfrm>
        </p:grpSpPr>
        <p:sp>
          <p:nvSpPr>
            <p:cNvPr id="218" name="圆角矩形 17"/>
            <p:cNvSpPr/>
            <p:nvPr/>
          </p:nvSpPr>
          <p:spPr>
            <a:xfrm>
              <a:off x="1336320" y="149040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19" name="图片 9" descr="book.gif"/>
            <p:cNvPicPr/>
            <p:nvPr/>
          </p:nvPicPr>
          <p:blipFill>
            <a:blip r:embed="rId1"/>
            <a:stretch/>
          </p:blipFill>
          <p:spPr>
            <a:xfrm>
              <a:off x="520560" y="1352520"/>
              <a:ext cx="1087200" cy="666720"/>
            </a:xfrm>
            <a:prstGeom prst="rect">
              <a:avLst/>
            </a:prstGeom>
            <a:ln w="0">
              <a:noFill/>
            </a:ln>
          </p:spPr>
        </p:pic>
        <p:sp>
          <p:nvSpPr>
            <p:cNvPr id="220" name="文本框 16"/>
            <p:cNvSpPr/>
            <p:nvPr/>
          </p:nvSpPr>
          <p:spPr>
            <a:xfrm>
              <a:off x="1595880" y="150948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多音字</a:t>
              </a:r>
              <a:endParaRPr b="0" lang="en-US" sz="2400" spc="-1" strike="noStrike">
                <a:solidFill>
                  <a:srgbClr val="000000"/>
                </a:solidFill>
                <a:latin typeface="Calibri"/>
              </a:endParaRPr>
            </a:p>
          </p:txBody>
        </p:sp>
      </p:grpSp>
      <p:sp>
        <p:nvSpPr>
          <p:cNvPr id="221" name="TextBox 1"/>
          <p:cNvSpPr/>
          <p:nvPr/>
        </p:nvSpPr>
        <p:spPr>
          <a:xfrm>
            <a:off x="1278000" y="2886120"/>
            <a:ext cx="569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rPr>
              <a:t>禁</a:t>
            </a:r>
            <a:endParaRPr b="0" lang="en-US" sz="2800" spc="-1" strike="noStrike">
              <a:solidFill>
                <a:srgbClr val="000000"/>
              </a:solidFill>
              <a:latin typeface="Calibri"/>
            </a:endParaRPr>
          </a:p>
        </p:txBody>
      </p:sp>
      <p:grpSp>
        <p:nvGrpSpPr>
          <p:cNvPr id="222" name="组合 26"/>
          <p:cNvGrpSpPr/>
          <p:nvPr/>
        </p:nvGrpSpPr>
        <p:grpSpPr>
          <a:xfrm>
            <a:off x="1760400" y="2471760"/>
            <a:ext cx="4270680" cy="1373400"/>
            <a:chOff x="1760400" y="2471760"/>
            <a:chExt cx="4270680" cy="1373400"/>
          </a:xfrm>
        </p:grpSpPr>
        <p:sp>
          <p:nvSpPr>
            <p:cNvPr id="223" name="左大括号 27"/>
            <p:cNvSpPr/>
            <p:nvPr/>
          </p:nvSpPr>
          <p:spPr>
            <a:xfrm>
              <a:off x="1760400" y="2714400"/>
              <a:ext cx="335880" cy="928800"/>
            </a:xfrm>
            <a:custGeom>
              <a:avLst/>
              <a:gdLst>
                <a:gd name="textAreaLeft" fmla="*/ 214560 w 335880"/>
                <a:gd name="textAreaRight" fmla="*/ 336240 w 335880"/>
                <a:gd name="textAreaTop" fmla="*/ 5400 h 928800"/>
                <a:gd name="textAreaBottom" fmla="*/ 923400 h 928800"/>
              </a:gdLst>
              <a:ahLst/>
              <a:rect l="textAreaLeft" t="textAreaTop" r="textAreaRight" b="textAreaBottom"/>
              <a:pathLst>
                <a:path w="21600" h="21600">
                  <a:moveTo>
                    <a:pt x="21600" y="0"/>
                  </a:moveTo>
                  <a:cubicBezTo>
                    <a:pt x="16200" y="0"/>
                    <a:pt x="10800" y="213"/>
                    <a:pt x="10800" y="425"/>
                  </a:cubicBezTo>
                  <a:lnTo>
                    <a:pt x="10800" y="10375"/>
                  </a:lnTo>
                  <a:cubicBezTo>
                    <a:pt x="10800" y="10588"/>
                    <a:pt x="5400" y="10800"/>
                    <a:pt x="0" y="10800"/>
                  </a:cubicBezTo>
                  <a:cubicBezTo>
                    <a:pt x="5400" y="10800"/>
                    <a:pt x="10800" y="11013"/>
                    <a:pt x="10800" y="11225"/>
                  </a:cubicBezTo>
                  <a:lnTo>
                    <a:pt x="10800" y="21175"/>
                  </a:lnTo>
                  <a:cubicBezTo>
                    <a:pt x="10800" y="21388"/>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TextBox 28"/>
            <p:cNvSpPr/>
            <p:nvPr/>
          </p:nvSpPr>
          <p:spPr>
            <a:xfrm>
              <a:off x="2028600" y="2471760"/>
              <a:ext cx="400248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方正姚体"/>
                  <a:ea typeface="方正姚体"/>
                </a:rPr>
                <a:t>jīn</a:t>
              </a:r>
              <a:r>
                <a:rPr b="1" lang="zh-CN" sz="2800" spc="-1" strike="noStrike">
                  <a:solidFill>
                    <a:srgbClr val="ff0000"/>
                  </a:solidFill>
                  <a:latin typeface="宋体"/>
                </a:rPr>
                <a:t>（禁受　情不自禁）</a:t>
              </a:r>
              <a:r>
                <a:rPr b="1" lang="en-US" sz="2800" spc="-1" strike="noStrike">
                  <a:solidFill>
                    <a:srgbClr val="ff0000"/>
                  </a:solidFill>
                  <a:latin typeface="方正姚体"/>
                  <a:ea typeface="方正姚体"/>
                </a:rPr>
                <a:t>jìn</a:t>
              </a:r>
              <a:r>
                <a:rPr b="1" lang="zh-CN" sz="2800" spc="-1" strike="noStrike">
                  <a:solidFill>
                    <a:srgbClr val="ff0000"/>
                  </a:solidFill>
                  <a:latin typeface="宋体"/>
                </a:rPr>
                <a:t>（禁闭　禁止）</a:t>
              </a:r>
              <a:endParaRPr b="0" lang="en-US" sz="2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22"/>
                                        </p:tgtEl>
                                        <p:attrNameLst>
                                          <p:attrName>style.visibility</p:attrName>
                                        </p:attrNameLst>
                                      </p:cBhvr>
                                      <p:to>
                                        <p:strVal val="visible"/>
                                      </p:to>
                                    </p:set>
                                    <p:animEffect filter="wipe(left)" transition="in">
                                      <p:cBhvr additive="repl">
                                        <p:cTn id="563"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矩形 1"/>
          <p:cNvSpPr/>
          <p:nvPr/>
        </p:nvSpPr>
        <p:spPr>
          <a:xfrm>
            <a:off x="1274760" y="2013120"/>
            <a:ext cx="7456320" cy="3109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甲胄：</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防御：</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俘虏：</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制伏：</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尽心竭力：</a:t>
            </a:r>
            <a:endParaRPr b="0" lang="en-US" sz="2200" spc="-1" strike="noStrike">
              <a:solidFill>
                <a:srgbClr val="000000"/>
              </a:solidFill>
              <a:latin typeface="Calibri"/>
            </a:endParaRPr>
          </a:p>
        </p:txBody>
      </p:sp>
      <p:grpSp>
        <p:nvGrpSpPr>
          <p:cNvPr id="226" name="组合 1"/>
          <p:cNvGrpSpPr/>
          <p:nvPr/>
        </p:nvGrpSpPr>
        <p:grpSpPr>
          <a:xfrm>
            <a:off x="479520" y="1143000"/>
            <a:ext cx="2593800" cy="666720"/>
            <a:chOff x="479520" y="1143000"/>
            <a:chExt cx="2593800" cy="666720"/>
          </a:xfrm>
        </p:grpSpPr>
        <p:sp>
          <p:nvSpPr>
            <p:cNvPr id="227" name="圆角矩形 5"/>
            <p:cNvSpPr/>
            <p:nvPr/>
          </p:nvSpPr>
          <p:spPr>
            <a:xfrm>
              <a:off x="1295280" y="128088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28" name="图片 9" descr="book.gif"/>
            <p:cNvPicPr/>
            <p:nvPr/>
          </p:nvPicPr>
          <p:blipFill>
            <a:blip r:embed="rId1"/>
            <a:stretch/>
          </p:blipFill>
          <p:spPr>
            <a:xfrm>
              <a:off x="479520" y="1143000"/>
              <a:ext cx="1087200" cy="666720"/>
            </a:xfrm>
            <a:prstGeom prst="rect">
              <a:avLst/>
            </a:prstGeom>
            <a:ln w="0">
              <a:noFill/>
            </a:ln>
          </p:spPr>
        </p:pic>
        <p:sp>
          <p:nvSpPr>
            <p:cNvPr id="229" name="文本框 16"/>
            <p:cNvSpPr/>
            <p:nvPr/>
          </p:nvSpPr>
          <p:spPr>
            <a:xfrm>
              <a:off x="1554840" y="1299960"/>
              <a:ext cx="151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理解词语</a:t>
              </a:r>
              <a:endParaRPr b="0" lang="en-US" sz="2400" spc="-1" strike="noStrike">
                <a:solidFill>
                  <a:srgbClr val="000000"/>
                </a:solidFill>
                <a:latin typeface="Calibri"/>
              </a:endParaRPr>
            </a:p>
          </p:txBody>
        </p:sp>
      </p:grpSp>
      <p:sp>
        <p:nvSpPr>
          <p:cNvPr id="230" name="矩形 1"/>
          <p:cNvSpPr/>
          <p:nvPr/>
        </p:nvSpPr>
        <p:spPr>
          <a:xfrm>
            <a:off x="2022480" y="2003400"/>
            <a:ext cx="6645240" cy="411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胄：盔，古代作战时戴的帽子。盔甲。</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抗击敌人的进攻。</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Calibri"/>
              </a:rPr>
              <a:t>造句：面对洪涝灾害，做好</a:t>
            </a:r>
            <a:r>
              <a:rPr b="1" lang="zh-CN" sz="2200" spc="-1" strike="noStrike" u="sng">
                <a:solidFill>
                  <a:srgbClr val="000000"/>
                </a:solidFill>
                <a:uFillTx/>
                <a:latin typeface="Calibri"/>
              </a:rPr>
              <a:t>防御</a:t>
            </a:r>
            <a:r>
              <a:rPr b="1" lang="zh-CN" sz="2200" spc="-1" strike="noStrike">
                <a:solidFill>
                  <a:srgbClr val="000000"/>
                </a:solidFill>
                <a:latin typeface="Calibri"/>
              </a:rPr>
              <a:t>是关键。</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打仗时捉住的敌人。</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用强力压制使屈服或驯服。</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          </a:t>
            </a:r>
            <a:r>
              <a:rPr b="1" lang="zh-CN" sz="2200" spc="-1" strike="noStrike">
                <a:solidFill>
                  <a:srgbClr val="ff0000"/>
                </a:solidFill>
                <a:latin typeface="Calibri"/>
              </a:rPr>
              <a:t>尽心：用尽心力。竭：尽，用尽。形容做事</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Calibri"/>
              </a:rPr>
              <a:t>          </a:t>
            </a:r>
            <a:r>
              <a:rPr b="1" lang="zh-CN" sz="2200" spc="-1" strike="noStrike">
                <a:solidFill>
                  <a:srgbClr val="ff0000"/>
                </a:solidFill>
                <a:latin typeface="Calibri"/>
              </a:rPr>
              <a:t>十分负责，使出全部力量。　</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Calibri"/>
              </a:rPr>
              <a:t>          </a:t>
            </a:r>
            <a:r>
              <a:rPr b="1" lang="zh-CN" sz="2200" spc="-1" strike="noStrike">
                <a:solidFill>
                  <a:srgbClr val="000000"/>
                </a:solidFill>
                <a:latin typeface="Calibri"/>
              </a:rPr>
              <a:t>造句：对待朋友拜托的事情，他总是</a:t>
            </a:r>
            <a:r>
              <a:rPr b="1" lang="zh-CN" sz="2200" spc="-1" strike="noStrike" u="sng">
                <a:solidFill>
                  <a:srgbClr val="000000"/>
                </a:solidFill>
                <a:uFillTx/>
                <a:latin typeface="Calibri"/>
              </a:rPr>
              <a:t>尽心竭力</a:t>
            </a:r>
            <a:r>
              <a:rPr b="1" lang="zh-CN" sz="2200" spc="-1" strike="noStrike">
                <a:solidFill>
                  <a:srgbClr val="000000"/>
                </a:solidFill>
                <a:latin typeface="Calibri"/>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indefinite"/>
                      </p:stCondLst>
                      <p:childTnLst>
                        <p:par>
                          <p:cTn id="567" nodeType="withEffect"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230">
                                            <p:txEl>
                                              <p:pRg st="0" end="0"/>
                                            </p:txEl>
                                          </p:spTgt>
                                        </p:tgtEl>
                                        <p:attrNameLst>
                                          <p:attrName>style.visibility</p:attrName>
                                        </p:attrNameLst>
                                      </p:cBhvr>
                                      <p:to>
                                        <p:strVal val="visible"/>
                                      </p:to>
                                    </p:set>
                                    <p:animEffect filter="wipe(left)" transition="in">
                                      <p:cBhvr additive="repl">
                                        <p:cTn id="570" dur="500"/>
                                        <p:tgtEl>
                                          <p:spTgt spid="230">
                                            <p:txEl>
                                              <p:pRg st="0" end="0"/>
                                            </p:txEl>
                                          </p:spTgt>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30">
                                            <p:txEl>
                                              <p:pRg st="1" end="1"/>
                                            </p:txEl>
                                          </p:spTgt>
                                        </p:tgtEl>
                                        <p:attrNameLst>
                                          <p:attrName>style.visibility</p:attrName>
                                        </p:attrNameLst>
                                      </p:cBhvr>
                                      <p:to>
                                        <p:strVal val="visible"/>
                                      </p:to>
                                    </p:set>
                                    <p:animEffect filter="wipe(left)" transition="in">
                                      <p:cBhvr additive="repl">
                                        <p:cTn id="575" dur="500"/>
                                        <p:tgtEl>
                                          <p:spTgt spid="230">
                                            <p:txEl>
                                              <p:pRg st="1" end="1"/>
                                            </p:txEl>
                                          </p:spTgt>
                                        </p:tgtEl>
                                      </p:cBhvr>
                                    </p:animEffec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230">
                                            <p:txEl>
                                              <p:pRg st="2" end="2"/>
                                            </p:txEl>
                                          </p:spTgt>
                                        </p:tgtEl>
                                        <p:attrNameLst>
                                          <p:attrName>style.visibility</p:attrName>
                                        </p:attrNameLst>
                                      </p:cBhvr>
                                      <p:to>
                                        <p:strVal val="visible"/>
                                      </p:to>
                                    </p:set>
                                    <p:animEffect filter="wipe(left)" transition="in">
                                      <p:cBhvr additive="repl">
                                        <p:cTn id="580" dur="500"/>
                                        <p:tgtEl>
                                          <p:spTgt spid="230">
                                            <p:txEl>
                                              <p:pRg st="2" end="2"/>
                                            </p:txEl>
                                          </p:spTgt>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230">
                                            <p:txEl>
                                              <p:pRg st="3" end="3"/>
                                            </p:txEl>
                                          </p:spTgt>
                                        </p:tgtEl>
                                        <p:attrNameLst>
                                          <p:attrName>style.visibility</p:attrName>
                                        </p:attrNameLst>
                                      </p:cBhvr>
                                      <p:to>
                                        <p:strVal val="visible"/>
                                      </p:to>
                                    </p:set>
                                    <p:animEffect filter="wipe(left)" transition="in">
                                      <p:cBhvr additive="repl">
                                        <p:cTn id="585" dur="500"/>
                                        <p:tgtEl>
                                          <p:spTgt spid="230">
                                            <p:txEl>
                                              <p:pRg st="3" end="3"/>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2" presetSubtype="8">
                                  <p:stCondLst>
                                    <p:cond delay="0"/>
                                  </p:stCondLst>
                                  <p:childTnLst>
                                    <p:set>
                                      <p:cBhvr>
                                        <p:cTn id="589" dur="1" fill="hold">
                                          <p:stCondLst>
                                            <p:cond delay="0"/>
                                          </p:stCondLst>
                                        </p:cTn>
                                        <p:tgtEl>
                                          <p:spTgt spid="230">
                                            <p:txEl>
                                              <p:pRg st="4" end="4"/>
                                            </p:txEl>
                                          </p:spTgt>
                                        </p:tgtEl>
                                        <p:attrNameLst>
                                          <p:attrName>style.visibility</p:attrName>
                                        </p:attrNameLst>
                                      </p:cBhvr>
                                      <p:to>
                                        <p:strVal val="visible"/>
                                      </p:to>
                                    </p:set>
                                    <p:animEffect filter="wipe(left)" transition="in">
                                      <p:cBhvr additive="repl">
                                        <p:cTn id="590" dur="500"/>
                                        <p:tgtEl>
                                          <p:spTgt spid="230">
                                            <p:txEl>
                                              <p:pRg st="4" end="4"/>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2" presetSubtype="8">
                                  <p:stCondLst>
                                    <p:cond delay="0"/>
                                  </p:stCondLst>
                                  <p:childTnLst>
                                    <p:set>
                                      <p:cBhvr>
                                        <p:cTn id="594" dur="1" fill="hold">
                                          <p:stCondLst>
                                            <p:cond delay="0"/>
                                          </p:stCondLst>
                                        </p:cTn>
                                        <p:tgtEl>
                                          <p:spTgt spid="230">
                                            <p:txEl>
                                              <p:pRg st="5" end="5"/>
                                            </p:txEl>
                                          </p:spTgt>
                                        </p:tgtEl>
                                        <p:attrNameLst>
                                          <p:attrName>style.visibility</p:attrName>
                                        </p:attrNameLst>
                                      </p:cBhvr>
                                      <p:to>
                                        <p:strVal val="visible"/>
                                      </p:to>
                                    </p:set>
                                    <p:animEffect filter="wipe(left)" transition="in">
                                      <p:cBhvr additive="repl">
                                        <p:cTn id="595" dur="500"/>
                                        <p:tgtEl>
                                          <p:spTgt spid="230">
                                            <p:txEl>
                                              <p:pRg st="5" end="5"/>
                                            </p:txEl>
                                          </p:spTgt>
                                        </p:tgtEl>
                                      </p:cBhvr>
                                    </p:animEffect>
                                  </p:childTnLst>
                                </p:cTn>
                              </p:par>
                              <p:par>
                                <p:cTn id="596" nodeType="withEffect" fill="hold" presetClass="entr" presetID="22" presetSubtype="8">
                                  <p:stCondLst>
                                    <p:cond delay="0"/>
                                  </p:stCondLst>
                                  <p:childTnLst>
                                    <p:set>
                                      <p:cBhvr>
                                        <p:cTn id="597" dur="1" fill="hold">
                                          <p:stCondLst>
                                            <p:cond delay="0"/>
                                          </p:stCondLst>
                                        </p:cTn>
                                        <p:tgtEl>
                                          <p:spTgt spid="230">
                                            <p:txEl>
                                              <p:pRg st="6" end="6"/>
                                            </p:txEl>
                                          </p:spTgt>
                                        </p:tgtEl>
                                        <p:attrNameLst>
                                          <p:attrName>style.visibility</p:attrName>
                                        </p:attrNameLst>
                                      </p:cBhvr>
                                      <p:to>
                                        <p:strVal val="visible"/>
                                      </p:to>
                                    </p:set>
                                    <p:animEffect filter="wipe(left)" transition="in">
                                      <p:cBhvr additive="repl">
                                        <p:cTn id="598" dur="500"/>
                                        <p:tgtEl>
                                          <p:spTgt spid="230">
                                            <p:txEl>
                                              <p:pRg st="6" end="6"/>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30">
                                            <p:txEl>
                                              <p:pRg st="7" end="7"/>
                                            </p:txEl>
                                          </p:spTgt>
                                        </p:tgtEl>
                                        <p:attrNameLst>
                                          <p:attrName>style.visibility</p:attrName>
                                        </p:attrNameLst>
                                      </p:cBhvr>
                                      <p:to>
                                        <p:strVal val="visible"/>
                                      </p:to>
                                    </p:set>
                                    <p:animEffect filter="wipe(left)" transition="in">
                                      <p:cBhvr additive="repl">
                                        <p:cTn id="603" dur="500"/>
                                        <p:tgtEl>
                                          <p:spTgt spid="2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矩形 1"/>
          <p:cNvSpPr/>
          <p:nvPr/>
        </p:nvSpPr>
        <p:spPr>
          <a:xfrm>
            <a:off x="942840" y="1824120"/>
            <a:ext cx="7456680" cy="3611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尽善尽美：</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小心翼翼：</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反败为胜：</a:t>
            </a:r>
            <a:endParaRPr b="0" lang="en-US" sz="2200" spc="-1" strike="noStrike">
              <a:solidFill>
                <a:srgbClr val="000000"/>
              </a:solidFill>
              <a:latin typeface="Calibri"/>
            </a:endParaRPr>
          </a:p>
        </p:txBody>
      </p:sp>
      <p:grpSp>
        <p:nvGrpSpPr>
          <p:cNvPr id="232" name="组合 1"/>
          <p:cNvGrpSpPr/>
          <p:nvPr/>
        </p:nvGrpSpPr>
        <p:grpSpPr>
          <a:xfrm>
            <a:off x="227160" y="1190520"/>
            <a:ext cx="2593800" cy="666720"/>
            <a:chOff x="227160" y="1190520"/>
            <a:chExt cx="2593800" cy="666720"/>
          </a:xfrm>
        </p:grpSpPr>
        <p:sp>
          <p:nvSpPr>
            <p:cNvPr id="233" name="圆角矩形 5"/>
            <p:cNvSpPr/>
            <p:nvPr/>
          </p:nvSpPr>
          <p:spPr>
            <a:xfrm>
              <a:off x="104292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34" name="图片 9" descr="book.gif"/>
            <p:cNvPicPr/>
            <p:nvPr/>
          </p:nvPicPr>
          <p:blipFill>
            <a:blip r:embed="rId1"/>
            <a:stretch/>
          </p:blipFill>
          <p:spPr>
            <a:xfrm>
              <a:off x="227160" y="1190520"/>
              <a:ext cx="1087200" cy="666720"/>
            </a:xfrm>
            <a:prstGeom prst="rect">
              <a:avLst/>
            </a:prstGeom>
            <a:ln w="0">
              <a:noFill/>
            </a:ln>
          </p:spPr>
        </p:pic>
        <p:sp>
          <p:nvSpPr>
            <p:cNvPr id="235" name="文本框 16"/>
            <p:cNvSpPr/>
            <p:nvPr/>
          </p:nvSpPr>
          <p:spPr>
            <a:xfrm>
              <a:off x="1302480" y="1347480"/>
              <a:ext cx="151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理解词语</a:t>
              </a:r>
              <a:endParaRPr b="0" lang="en-US" sz="2400" spc="-1" strike="noStrike">
                <a:solidFill>
                  <a:srgbClr val="000000"/>
                </a:solidFill>
                <a:latin typeface="Calibri"/>
              </a:endParaRPr>
            </a:p>
          </p:txBody>
        </p:sp>
      </p:grpSp>
      <p:sp>
        <p:nvSpPr>
          <p:cNvPr id="236" name="矩形 1"/>
          <p:cNvSpPr/>
          <p:nvPr/>
        </p:nvSpPr>
        <p:spPr>
          <a:xfrm>
            <a:off x="2259000" y="1830240"/>
            <a:ext cx="6645240" cy="3611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尽：达到极限。极其完善，极其美好。形容事物完美无缺。　</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Calibri"/>
              </a:rPr>
              <a:t>造句：我们总想万事</a:t>
            </a:r>
            <a:r>
              <a:rPr b="1" lang="zh-CN" sz="2200" spc="-1" strike="noStrike" u="sng">
                <a:solidFill>
                  <a:srgbClr val="000000"/>
                </a:solidFill>
                <a:uFillTx/>
                <a:latin typeface="Calibri"/>
              </a:rPr>
              <a:t>尽善尽美</a:t>
            </a:r>
            <a:r>
              <a:rPr b="1" lang="zh-CN" sz="2200" spc="-1" strike="noStrike">
                <a:solidFill>
                  <a:srgbClr val="000000"/>
                </a:solidFill>
                <a:latin typeface="Calibri"/>
              </a:rPr>
              <a:t>。</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翼翼：恭敬慎重的样子。原形容严肃虔敬的样子，现用来形容举动十分谨慎，丝毫不敢疏忽。　</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Calibri"/>
              </a:rPr>
              <a:t>造句：我</a:t>
            </a:r>
            <a:r>
              <a:rPr b="1" lang="zh-CN" sz="2200" spc="-1" strike="noStrike" u="sng">
                <a:solidFill>
                  <a:srgbClr val="000000"/>
                </a:solidFill>
                <a:uFillTx/>
                <a:latin typeface="Calibri"/>
              </a:rPr>
              <a:t>小心翼翼</a:t>
            </a:r>
            <a:r>
              <a:rPr b="1" lang="zh-CN" sz="2200" spc="-1" strike="noStrike">
                <a:solidFill>
                  <a:srgbClr val="000000"/>
                </a:solidFill>
                <a:latin typeface="Calibri"/>
              </a:rPr>
              <a:t>把鸡宝宝抱回家。</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变失败为胜利。</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Calibri"/>
              </a:rPr>
              <a:t>造句：在一次足球比赛中，我们队</a:t>
            </a:r>
            <a:r>
              <a:rPr b="1" lang="zh-CN" sz="2200" spc="-1" strike="noStrike" u="sng">
                <a:solidFill>
                  <a:srgbClr val="000000"/>
                </a:solidFill>
                <a:uFillTx/>
                <a:latin typeface="Calibri"/>
              </a:rPr>
              <a:t>反败为胜</a:t>
            </a:r>
            <a:r>
              <a:rPr b="1" lang="zh-CN" sz="2200" spc="-1" strike="noStrike">
                <a:solidFill>
                  <a:srgbClr val="000000"/>
                </a:solidFill>
                <a:latin typeface="Calibri"/>
              </a:rPr>
              <a:t>，观众</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              </a:t>
            </a:r>
            <a:r>
              <a:rPr b="1" lang="zh-CN" sz="2200" spc="-1" strike="noStrike">
                <a:solidFill>
                  <a:srgbClr val="000000"/>
                </a:solidFill>
                <a:latin typeface="Calibri"/>
              </a:rPr>
              <a:t>们都齐声喝彩。</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22" presetSubtype="8">
                                  <p:stCondLst>
                                    <p:cond delay="0"/>
                                  </p:stCondLst>
                                  <p:childTnLst>
                                    <p:set>
                                      <p:cBhvr>
                                        <p:cTn id="609" dur="1" fill="hold">
                                          <p:stCondLst>
                                            <p:cond delay="0"/>
                                          </p:stCondLst>
                                        </p:cTn>
                                        <p:tgtEl>
                                          <p:spTgt spid="236">
                                            <p:txEl>
                                              <p:pRg st="0" end="0"/>
                                            </p:txEl>
                                          </p:spTgt>
                                        </p:tgtEl>
                                        <p:attrNameLst>
                                          <p:attrName>style.visibility</p:attrName>
                                        </p:attrNameLst>
                                      </p:cBhvr>
                                      <p:to>
                                        <p:strVal val="visible"/>
                                      </p:to>
                                    </p:set>
                                    <p:animEffect filter="wipe(left)" transition="in">
                                      <p:cBhvr additive="repl">
                                        <p:cTn id="610" dur="500"/>
                                        <p:tgtEl>
                                          <p:spTgt spid="236">
                                            <p:txEl>
                                              <p:pRg st="0" end="0"/>
                                            </p:txEl>
                                          </p:spTgt>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236">
                                            <p:txEl>
                                              <p:pRg st="1" end="1"/>
                                            </p:txEl>
                                          </p:spTgt>
                                        </p:tgtEl>
                                        <p:attrNameLst>
                                          <p:attrName>style.visibility</p:attrName>
                                        </p:attrNameLst>
                                      </p:cBhvr>
                                      <p:to>
                                        <p:strVal val="visible"/>
                                      </p:to>
                                    </p:set>
                                    <p:animEffect filter="wipe(left)" transition="in">
                                      <p:cBhvr additive="repl">
                                        <p:cTn id="615" dur="500"/>
                                        <p:tgtEl>
                                          <p:spTgt spid="236">
                                            <p:txEl>
                                              <p:pRg st="1" end="1"/>
                                            </p:txEl>
                                          </p:spTgt>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36">
                                            <p:txEl>
                                              <p:pRg st="2" end="2"/>
                                            </p:txEl>
                                          </p:spTgt>
                                        </p:tgtEl>
                                        <p:attrNameLst>
                                          <p:attrName>style.visibility</p:attrName>
                                        </p:attrNameLst>
                                      </p:cBhvr>
                                      <p:to>
                                        <p:strVal val="visible"/>
                                      </p:to>
                                    </p:set>
                                    <p:animEffect filter="wipe(left)" transition="in">
                                      <p:cBhvr additive="repl">
                                        <p:cTn id="620" dur="500"/>
                                        <p:tgtEl>
                                          <p:spTgt spid="236">
                                            <p:txEl>
                                              <p:pRg st="2" end="2"/>
                                            </p:txEl>
                                          </p:spTgt>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36">
                                            <p:txEl>
                                              <p:pRg st="3" end="3"/>
                                            </p:txEl>
                                          </p:spTgt>
                                        </p:tgtEl>
                                        <p:attrNameLst>
                                          <p:attrName>style.visibility</p:attrName>
                                        </p:attrNameLst>
                                      </p:cBhvr>
                                      <p:to>
                                        <p:strVal val="visible"/>
                                      </p:to>
                                    </p:set>
                                    <p:animEffect filter="wipe(left)" transition="in">
                                      <p:cBhvr additive="repl">
                                        <p:cTn id="625" dur="500"/>
                                        <p:tgtEl>
                                          <p:spTgt spid="236">
                                            <p:txEl>
                                              <p:pRg st="3" end="3"/>
                                            </p:txEl>
                                          </p:spTgt>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36">
                                            <p:txEl>
                                              <p:pRg st="4" end="4"/>
                                            </p:txEl>
                                          </p:spTgt>
                                        </p:tgtEl>
                                        <p:attrNameLst>
                                          <p:attrName>style.visibility</p:attrName>
                                        </p:attrNameLst>
                                      </p:cBhvr>
                                      <p:to>
                                        <p:strVal val="visible"/>
                                      </p:to>
                                    </p:set>
                                    <p:animEffect filter="wipe(left)" transition="in">
                                      <p:cBhvr additive="repl">
                                        <p:cTn id="630" dur="500"/>
                                        <p:tgtEl>
                                          <p:spTgt spid="236">
                                            <p:txEl>
                                              <p:pRg st="4" end="4"/>
                                            </p:txEl>
                                          </p:spTgt>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236">
                                            <p:txEl>
                                              <p:pRg st="5" end="5"/>
                                            </p:txEl>
                                          </p:spTgt>
                                        </p:tgtEl>
                                        <p:attrNameLst>
                                          <p:attrName>style.visibility</p:attrName>
                                        </p:attrNameLst>
                                      </p:cBhvr>
                                      <p:to>
                                        <p:strVal val="visible"/>
                                      </p:to>
                                    </p:set>
                                    <p:animEffect filter="wipe(left)" transition="in">
                                      <p:cBhvr additive="repl">
                                        <p:cTn id="635" dur="500"/>
                                        <p:tgtEl>
                                          <p:spTgt spid="236">
                                            <p:txEl>
                                              <p:pRg st="5" end="5"/>
                                            </p:txEl>
                                          </p:spTgt>
                                        </p:tgtEl>
                                      </p:cBhvr>
                                    </p:animEffect>
                                  </p:childTnLst>
                                </p:cTn>
                              </p:par>
                              <p:par>
                                <p:cTn id="636" nodeType="withEffect" fill="hold" presetClass="entr" presetID="22" presetSubtype="8">
                                  <p:stCondLst>
                                    <p:cond delay="0"/>
                                  </p:stCondLst>
                                  <p:childTnLst>
                                    <p:set>
                                      <p:cBhvr>
                                        <p:cTn id="637" dur="1" fill="hold">
                                          <p:stCondLst>
                                            <p:cond delay="0"/>
                                          </p:stCondLst>
                                        </p:cTn>
                                        <p:tgtEl>
                                          <p:spTgt spid="236">
                                            <p:txEl>
                                              <p:pRg st="6" end="6"/>
                                            </p:txEl>
                                          </p:spTgt>
                                        </p:tgtEl>
                                        <p:attrNameLst>
                                          <p:attrName>style.visibility</p:attrName>
                                        </p:attrNameLst>
                                      </p:cBhvr>
                                      <p:to>
                                        <p:strVal val="visible"/>
                                      </p:to>
                                    </p:set>
                                    <p:animEffect filter="wipe(left)" transition="in">
                                      <p:cBhvr additive="repl">
                                        <p:cTn id="638" dur="500"/>
                                        <p:tgtEl>
                                          <p:spTgt spid="2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矩形 1"/>
          <p:cNvSpPr/>
          <p:nvPr/>
        </p:nvSpPr>
        <p:spPr>
          <a:xfrm>
            <a:off x="3901680" y="1982880"/>
            <a:ext cx="194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小心翼翼　谨小慎微</a:t>
            </a:r>
            <a:endParaRPr b="0" lang="en-US" sz="2400" spc="-1" strike="noStrike">
              <a:solidFill>
                <a:srgbClr val="000000"/>
              </a:solidFill>
              <a:latin typeface="Calibri"/>
            </a:endParaRPr>
          </a:p>
        </p:txBody>
      </p:sp>
      <p:sp>
        <p:nvSpPr>
          <p:cNvPr id="238" name="矩形 2"/>
          <p:cNvSpPr/>
          <p:nvPr/>
        </p:nvSpPr>
        <p:spPr>
          <a:xfrm>
            <a:off x="2162160" y="2522520"/>
            <a:ext cx="6257880" cy="242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都指小心谨慎。</a:t>
            </a:r>
            <a:endParaRPr b="0" lang="en-US" sz="23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a:t>
            </a:r>
            <a:r>
              <a:rPr b="1" lang="zh-CN" sz="2300" spc="-1" strike="noStrike">
                <a:solidFill>
                  <a:srgbClr val="000000"/>
                </a:solidFill>
                <a:latin typeface="宋体"/>
              </a:rPr>
              <a:t>小心翼翼”形容谨慎小心，一点儿不敢疏忽；“谨小慎微”是过分小心谨慎，缩手缩脚，不敢放手去做。</a:t>
            </a:r>
            <a:endParaRPr b="0" lang="en-US" sz="23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宋体"/>
              </a:rPr>
              <a:t>1.</a:t>
            </a:r>
            <a:r>
              <a:rPr b="1" lang="zh-CN" sz="2300" spc="-1" strike="noStrike">
                <a:solidFill>
                  <a:srgbClr val="000000"/>
                </a:solidFill>
                <a:latin typeface="宋体"/>
              </a:rPr>
              <a:t>他说话总是</a:t>
            </a:r>
            <a:r>
              <a:rPr b="1" lang="zh-CN" sz="2300" spc="-1" strike="noStrike">
                <a:solidFill>
                  <a:srgbClr val="ff33cc"/>
                </a:solidFill>
                <a:latin typeface="宋体"/>
              </a:rPr>
              <a:t>小心翼翼</a:t>
            </a:r>
            <a:r>
              <a:rPr b="1" lang="zh-CN" sz="2300" spc="-1" strike="noStrike">
                <a:solidFill>
                  <a:srgbClr val="000000"/>
                </a:solidFill>
                <a:latin typeface="宋体"/>
              </a:rPr>
              <a:t>的，生怕出错。</a:t>
            </a:r>
            <a:endParaRPr b="0" lang="en-US" sz="23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宋体"/>
              </a:rPr>
              <a:t>2.</a:t>
            </a:r>
            <a:r>
              <a:rPr b="1" lang="zh-CN" sz="2300" spc="-1" strike="noStrike">
                <a:solidFill>
                  <a:srgbClr val="000000"/>
                </a:solidFill>
                <a:latin typeface="宋体"/>
              </a:rPr>
              <a:t>他做事向来</a:t>
            </a:r>
            <a:r>
              <a:rPr b="1" lang="zh-CN" sz="2300" spc="-1" strike="noStrike">
                <a:solidFill>
                  <a:srgbClr val="ff33cc"/>
                </a:solidFill>
                <a:latin typeface="宋体"/>
              </a:rPr>
              <a:t>谨小慎微</a:t>
            </a:r>
            <a:r>
              <a:rPr b="1" lang="zh-CN" sz="2300" spc="-1" strike="noStrike">
                <a:solidFill>
                  <a:srgbClr val="000000"/>
                </a:solidFill>
                <a:latin typeface="宋体"/>
              </a:rPr>
              <a:t>。</a:t>
            </a:r>
            <a:endParaRPr b="0" lang="en-US" sz="2300" spc="-1" strike="noStrike">
              <a:solidFill>
                <a:srgbClr val="000000"/>
              </a:solidFill>
              <a:latin typeface="Calibri"/>
            </a:endParaRPr>
          </a:p>
        </p:txBody>
      </p:sp>
      <p:grpSp>
        <p:nvGrpSpPr>
          <p:cNvPr id="239" name="组合 13"/>
          <p:cNvGrpSpPr/>
          <p:nvPr/>
        </p:nvGrpSpPr>
        <p:grpSpPr>
          <a:xfrm>
            <a:off x="558720" y="1190520"/>
            <a:ext cx="2594160" cy="666720"/>
            <a:chOff x="558720" y="1190520"/>
            <a:chExt cx="2594160" cy="666720"/>
          </a:xfrm>
        </p:grpSpPr>
        <p:sp>
          <p:nvSpPr>
            <p:cNvPr id="240" name="圆角矩形 1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41" name="图片 9" descr="book.gif"/>
            <p:cNvPicPr/>
            <p:nvPr/>
          </p:nvPicPr>
          <p:blipFill>
            <a:blip r:embed="rId1"/>
            <a:stretch/>
          </p:blipFill>
          <p:spPr>
            <a:xfrm>
              <a:off x="558720" y="1190520"/>
              <a:ext cx="1087560" cy="666720"/>
            </a:xfrm>
            <a:prstGeom prst="rect">
              <a:avLst/>
            </a:prstGeom>
            <a:ln w="0">
              <a:noFill/>
            </a:ln>
          </p:spPr>
        </p:pic>
        <p:sp>
          <p:nvSpPr>
            <p:cNvPr id="242"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辨析词语</a:t>
              </a:r>
              <a:endParaRPr b="0" lang="en-US" sz="2400" spc="-1" strike="noStrike">
                <a:solidFill>
                  <a:srgbClr val="000000"/>
                </a:solidFill>
                <a:latin typeface="Calibri"/>
              </a:endParaRPr>
            </a:p>
          </p:txBody>
        </p:sp>
      </p:grpSp>
      <p:grpSp>
        <p:nvGrpSpPr>
          <p:cNvPr id="243" name="组合 4"/>
          <p:cNvGrpSpPr/>
          <p:nvPr/>
        </p:nvGrpSpPr>
        <p:grpSpPr>
          <a:xfrm>
            <a:off x="681120" y="2587680"/>
            <a:ext cx="1670040" cy="459720"/>
            <a:chOff x="681120" y="2587680"/>
            <a:chExt cx="1670040" cy="459720"/>
          </a:xfrm>
        </p:grpSpPr>
        <p:pic>
          <p:nvPicPr>
            <p:cNvPr id="244" name="Picture 9" descr="E:\各版本共用文件\0未分类文件\图片\课件制作所需图片\星星.jpg"/>
            <p:cNvPicPr/>
            <p:nvPr/>
          </p:nvPicPr>
          <p:blipFill>
            <a:blip r:embed="rId2"/>
            <a:stretch/>
          </p:blipFill>
          <p:spPr>
            <a:xfrm>
              <a:off x="681120" y="2642040"/>
              <a:ext cx="366120" cy="348480"/>
            </a:xfrm>
            <a:prstGeom prst="rect">
              <a:avLst/>
            </a:prstGeom>
            <a:ln w="0">
              <a:noFill/>
            </a:ln>
          </p:spPr>
        </p:pic>
        <p:sp>
          <p:nvSpPr>
            <p:cNvPr id="245" name="TextBox 3"/>
            <p:cNvSpPr/>
            <p:nvPr/>
          </p:nvSpPr>
          <p:spPr>
            <a:xfrm>
              <a:off x="1024200" y="2587680"/>
              <a:ext cx="132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相同点：</a:t>
              </a:r>
              <a:endParaRPr b="0" lang="en-US" sz="2400" spc="-1" strike="noStrike">
                <a:solidFill>
                  <a:srgbClr val="000000"/>
                </a:solidFill>
                <a:latin typeface="Calibri"/>
              </a:endParaRPr>
            </a:p>
          </p:txBody>
        </p:sp>
      </p:grpSp>
      <p:grpSp>
        <p:nvGrpSpPr>
          <p:cNvPr id="246" name="组合 20"/>
          <p:cNvGrpSpPr/>
          <p:nvPr/>
        </p:nvGrpSpPr>
        <p:grpSpPr>
          <a:xfrm>
            <a:off x="681120" y="3218040"/>
            <a:ext cx="1670040" cy="459720"/>
            <a:chOff x="681120" y="3218040"/>
            <a:chExt cx="1670040" cy="459720"/>
          </a:xfrm>
        </p:grpSpPr>
        <p:pic>
          <p:nvPicPr>
            <p:cNvPr id="247" name="Picture 9" descr="E:\各版本共用文件\0未分类文件\图片\课件制作所需图片\星星.jpg"/>
            <p:cNvPicPr/>
            <p:nvPr/>
          </p:nvPicPr>
          <p:blipFill>
            <a:blip r:embed="rId3"/>
            <a:stretch/>
          </p:blipFill>
          <p:spPr>
            <a:xfrm>
              <a:off x="681120" y="3272400"/>
              <a:ext cx="366120" cy="348480"/>
            </a:xfrm>
            <a:prstGeom prst="rect">
              <a:avLst/>
            </a:prstGeom>
            <a:ln w="0">
              <a:noFill/>
            </a:ln>
          </p:spPr>
        </p:pic>
        <p:sp>
          <p:nvSpPr>
            <p:cNvPr id="248" name="TextBox 22"/>
            <p:cNvSpPr/>
            <p:nvPr/>
          </p:nvSpPr>
          <p:spPr>
            <a:xfrm>
              <a:off x="1024200" y="3218040"/>
              <a:ext cx="132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不同点：</a:t>
              </a:r>
              <a:endParaRPr b="0" lang="en-US" sz="2400" spc="-1" strike="noStrike">
                <a:solidFill>
                  <a:srgbClr val="000000"/>
                </a:solidFill>
                <a:latin typeface="Calibri"/>
              </a:endParaRPr>
            </a:p>
          </p:txBody>
        </p:sp>
      </p:grpSp>
      <p:grpSp>
        <p:nvGrpSpPr>
          <p:cNvPr id="249" name="组合 23"/>
          <p:cNvGrpSpPr/>
          <p:nvPr/>
        </p:nvGrpSpPr>
        <p:grpSpPr>
          <a:xfrm>
            <a:off x="681120" y="4859280"/>
            <a:ext cx="1670040" cy="459720"/>
            <a:chOff x="681120" y="4859280"/>
            <a:chExt cx="1670040" cy="459720"/>
          </a:xfrm>
        </p:grpSpPr>
        <p:pic>
          <p:nvPicPr>
            <p:cNvPr id="250" name="Picture 9" descr="E:\各版本共用文件\0未分类文件\图片\课件制作所需图片\星星.jpg"/>
            <p:cNvPicPr/>
            <p:nvPr/>
          </p:nvPicPr>
          <p:blipFill>
            <a:blip r:embed="rId4"/>
            <a:stretch/>
          </p:blipFill>
          <p:spPr>
            <a:xfrm>
              <a:off x="681120" y="4913640"/>
              <a:ext cx="366120" cy="348480"/>
            </a:xfrm>
            <a:prstGeom prst="rect">
              <a:avLst/>
            </a:prstGeom>
            <a:ln w="0">
              <a:noFill/>
            </a:ln>
          </p:spPr>
        </p:pic>
        <p:sp>
          <p:nvSpPr>
            <p:cNvPr id="251" name="TextBox 25"/>
            <p:cNvSpPr/>
            <p:nvPr/>
          </p:nvSpPr>
          <p:spPr>
            <a:xfrm>
              <a:off x="1024200" y="4859280"/>
              <a:ext cx="132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造  句：</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nodeType="clickEffect" fill="hold">
                      <p:stCondLst>
                        <p:cond delay="indefinite"/>
                      </p:stCondLst>
                      <p:childTnLst>
                        <p:par>
                          <p:cTn id="642" nodeType="withEffect"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645" dur="500"/>
                                        <p:tgtEl>
                                          <p:spTgt spid="238">
                                            <p:txEl>
                                              <p:pRg st="0" end="0"/>
                                            </p:txEl>
                                          </p:spTgt>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238">
                                            <p:txEl>
                                              <p:pRg st="1" end="1"/>
                                            </p:txEl>
                                          </p:spTgt>
                                        </p:tgtEl>
                                        <p:attrNameLst>
                                          <p:attrName>style.visibility</p:attrName>
                                        </p:attrNameLst>
                                      </p:cBhvr>
                                      <p:to>
                                        <p:strVal val="visible"/>
                                      </p:to>
                                    </p:set>
                                    <p:animEffect filter="wipe(left)" transition="in">
                                      <p:cBhvr additive="repl">
                                        <p:cTn id="650" dur="500"/>
                                        <p:tgtEl>
                                          <p:spTgt spid="238">
                                            <p:txEl>
                                              <p:pRg st="1" end="1"/>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238">
                                            <p:txEl>
                                              <p:pRg st="2" end="2"/>
                                            </p:txEl>
                                          </p:spTgt>
                                        </p:tgtEl>
                                        <p:attrNameLst>
                                          <p:attrName>style.visibility</p:attrName>
                                        </p:attrNameLst>
                                      </p:cBhvr>
                                      <p:to>
                                        <p:strVal val="visible"/>
                                      </p:to>
                                    </p:set>
                                    <p:animEffect filter="wipe(left)" transition="in">
                                      <p:cBhvr additive="repl">
                                        <p:cTn id="655" dur="500"/>
                                        <p:tgtEl>
                                          <p:spTgt spid="238">
                                            <p:txEl>
                                              <p:pRg st="2" end="2"/>
                                            </p:txEl>
                                          </p:spTgt>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238">
                                            <p:txEl>
                                              <p:pRg st="3" end="3"/>
                                            </p:txEl>
                                          </p:spTgt>
                                        </p:tgtEl>
                                        <p:attrNameLst>
                                          <p:attrName>style.visibility</p:attrName>
                                        </p:attrNameLst>
                                      </p:cBhvr>
                                      <p:to>
                                        <p:strVal val="visible"/>
                                      </p:to>
                                    </p:set>
                                    <p:animEffect filter="wipe(left)" transition="in">
                                      <p:cBhvr additive="repl">
                                        <p:cTn id="660" dur="500"/>
                                        <p:tgtEl>
                                          <p:spTgt spid="2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矩形 1"/>
          <p:cNvSpPr/>
          <p:nvPr/>
        </p:nvSpPr>
        <p:spPr>
          <a:xfrm>
            <a:off x="887400" y="1992240"/>
            <a:ext cx="74376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b0f0"/>
                </a:solidFill>
                <a:latin typeface="黑体"/>
                <a:ea typeface="黑体"/>
              </a:rPr>
              <a:t>第一部分</a:t>
            </a:r>
            <a:r>
              <a:rPr b="1" lang="en-US" sz="2400" spc="-1" strike="noStrike">
                <a:solidFill>
                  <a:srgbClr val="00b0f0"/>
                </a:solidFill>
                <a:latin typeface="黑体"/>
                <a:ea typeface="黑体"/>
              </a:rPr>
              <a:t>(</a:t>
            </a:r>
            <a:r>
              <a:rPr b="1" lang="zh-CN" sz="2400" spc="-1" strike="noStrike">
                <a:solidFill>
                  <a:srgbClr val="00b0f0"/>
                </a:solidFill>
                <a:latin typeface="黑体"/>
                <a:ea typeface="黑体"/>
              </a:rPr>
              <a:t>第</a:t>
            </a:r>
            <a:r>
              <a:rPr b="1" lang="en-US" sz="2400" spc="-1" strike="noStrike">
                <a:solidFill>
                  <a:srgbClr val="00b0f0"/>
                </a:solidFill>
                <a:latin typeface="黑体"/>
                <a:ea typeface="黑体"/>
              </a:rPr>
              <a:t>1</a:t>
            </a:r>
            <a:r>
              <a:rPr b="1" lang="zh-CN" sz="2400" spc="-1" strike="noStrike">
                <a:solidFill>
                  <a:srgbClr val="00b0f0"/>
                </a:solidFill>
                <a:latin typeface="黑体"/>
                <a:ea typeface="黑体"/>
              </a:rPr>
              <a:t>自然段</a:t>
            </a:r>
            <a:r>
              <a:rPr b="1" lang="en-US" sz="2400" spc="-1" strike="noStrike">
                <a:solidFill>
                  <a:srgbClr val="00b0f0"/>
                </a:solidFill>
                <a:latin typeface="黑体"/>
                <a:ea typeface="黑体"/>
              </a:rPr>
              <a:t>)</a:t>
            </a:r>
            <a:r>
              <a:rPr b="1" lang="zh-CN" sz="2400" spc="-1" strike="noStrike">
                <a:solidFill>
                  <a:srgbClr val="c00000"/>
                </a:solidFill>
                <a:latin typeface="Calibri"/>
              </a:rPr>
              <a:t>蜘蛛最聪明。</a:t>
            </a:r>
            <a:r>
              <a:rPr b="1" lang="zh-CN" sz="2400" spc="-1" strike="noStrike">
                <a:solidFill>
                  <a:srgbClr val="000000"/>
                </a:solidFill>
                <a:latin typeface="Calibri"/>
              </a:rPr>
              <a:t>写蜘蛛最聪明的特点。</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b0f0"/>
                </a:solidFill>
                <a:latin typeface="黑体"/>
                <a:ea typeface="黑体"/>
              </a:rPr>
              <a:t>第二部分</a:t>
            </a:r>
            <a:r>
              <a:rPr b="1" lang="en-US" sz="2400" spc="-1" strike="noStrike">
                <a:solidFill>
                  <a:srgbClr val="00b0f0"/>
                </a:solidFill>
                <a:latin typeface="黑体"/>
                <a:ea typeface="黑体"/>
              </a:rPr>
              <a:t>(</a:t>
            </a:r>
            <a:r>
              <a:rPr b="1" lang="zh-CN" sz="2400" spc="-1" strike="noStrike">
                <a:solidFill>
                  <a:srgbClr val="00b0f0"/>
                </a:solidFill>
                <a:latin typeface="黑体"/>
                <a:ea typeface="黑体"/>
              </a:rPr>
              <a:t>第</a:t>
            </a:r>
            <a:r>
              <a:rPr b="1" lang="en-US" sz="2400" spc="-1" strike="noStrike">
                <a:solidFill>
                  <a:srgbClr val="00b0f0"/>
                </a:solidFill>
                <a:latin typeface="黑体"/>
                <a:ea typeface="黑体"/>
              </a:rPr>
              <a:t>2</a:t>
            </a:r>
            <a:r>
              <a:rPr b="1" lang="zh-CN" sz="2400" spc="-1" strike="noStrike">
                <a:solidFill>
                  <a:srgbClr val="00b0f0"/>
                </a:solidFill>
                <a:latin typeface="黑体"/>
                <a:ea typeface="黑体"/>
              </a:rPr>
              <a:t>、</a:t>
            </a:r>
            <a:r>
              <a:rPr b="1" lang="en-US" sz="2400" spc="-1" strike="noStrike">
                <a:solidFill>
                  <a:srgbClr val="00b0f0"/>
                </a:solidFill>
                <a:latin typeface="黑体"/>
                <a:ea typeface="黑体"/>
              </a:rPr>
              <a:t>3</a:t>
            </a:r>
            <a:r>
              <a:rPr b="1" lang="zh-CN" sz="2400" spc="-1" strike="noStrike">
                <a:solidFill>
                  <a:srgbClr val="00b0f0"/>
                </a:solidFill>
                <a:latin typeface="黑体"/>
                <a:ea typeface="黑体"/>
              </a:rPr>
              <a:t>自然段</a:t>
            </a:r>
            <a:r>
              <a:rPr b="1" lang="en-US" sz="2400" spc="-1" strike="noStrike">
                <a:solidFill>
                  <a:srgbClr val="00b0f0"/>
                </a:solidFill>
                <a:latin typeface="黑体"/>
                <a:ea typeface="黑体"/>
              </a:rPr>
              <a:t>)</a:t>
            </a:r>
            <a:r>
              <a:rPr b="1" lang="zh-CN" sz="2400" spc="-1" strike="noStrike">
                <a:solidFill>
                  <a:srgbClr val="c00000"/>
                </a:solidFill>
                <a:latin typeface="Calibri"/>
              </a:rPr>
              <a:t>外形特点。</a:t>
            </a:r>
            <a:r>
              <a:rPr b="1" lang="zh-CN" sz="2400" spc="-1" strike="noStrike">
                <a:solidFill>
                  <a:srgbClr val="000000"/>
                </a:solidFill>
                <a:latin typeface="Calibri"/>
              </a:rPr>
              <a:t>介绍了蜘蛛的外形特点，这样的外形是为适应生活而进化成的。</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b0f0"/>
                </a:solidFill>
                <a:latin typeface="黑体"/>
                <a:ea typeface="黑体"/>
              </a:rPr>
              <a:t>第三部分</a:t>
            </a:r>
            <a:r>
              <a:rPr b="1" lang="en-US" sz="2400" spc="-1" strike="noStrike">
                <a:solidFill>
                  <a:srgbClr val="00b0f0"/>
                </a:solidFill>
                <a:latin typeface="黑体"/>
                <a:ea typeface="黑体"/>
              </a:rPr>
              <a:t>(</a:t>
            </a:r>
            <a:r>
              <a:rPr b="1" lang="zh-CN" sz="2400" spc="-1" strike="noStrike">
                <a:solidFill>
                  <a:srgbClr val="00b0f0"/>
                </a:solidFill>
                <a:latin typeface="黑体"/>
                <a:ea typeface="黑体"/>
              </a:rPr>
              <a:t>第</a:t>
            </a:r>
            <a:r>
              <a:rPr b="1" lang="en-US" sz="2400" spc="-1" strike="noStrike">
                <a:solidFill>
                  <a:srgbClr val="00b0f0"/>
                </a:solidFill>
                <a:latin typeface="黑体"/>
                <a:ea typeface="黑体"/>
              </a:rPr>
              <a:t>4</a:t>
            </a:r>
            <a:r>
              <a:rPr b="1" lang="zh-CN" sz="2400" spc="-1" strike="noStrike">
                <a:solidFill>
                  <a:srgbClr val="00b0f0"/>
                </a:solidFill>
                <a:latin typeface="黑体"/>
                <a:ea typeface="黑体"/>
              </a:rPr>
              <a:t>、</a:t>
            </a:r>
            <a:r>
              <a:rPr b="1" lang="en-US" sz="2400" spc="-1" strike="noStrike">
                <a:solidFill>
                  <a:srgbClr val="00b0f0"/>
                </a:solidFill>
                <a:latin typeface="黑体"/>
                <a:ea typeface="黑体"/>
              </a:rPr>
              <a:t>5</a:t>
            </a:r>
            <a:r>
              <a:rPr b="1" lang="zh-CN" sz="2400" spc="-1" strike="noStrike">
                <a:solidFill>
                  <a:srgbClr val="00b0f0"/>
                </a:solidFill>
                <a:latin typeface="黑体"/>
                <a:ea typeface="黑体"/>
              </a:rPr>
              <a:t>自然段</a:t>
            </a:r>
            <a:r>
              <a:rPr b="1" lang="en-US" sz="2400" spc="-1" strike="noStrike">
                <a:solidFill>
                  <a:srgbClr val="00b0f0"/>
                </a:solidFill>
                <a:latin typeface="黑体"/>
                <a:ea typeface="黑体"/>
              </a:rPr>
              <a:t>)</a:t>
            </a:r>
            <a:r>
              <a:rPr b="1" lang="zh-CN" sz="2400" spc="-1" strike="noStrike">
                <a:solidFill>
                  <a:srgbClr val="c00000"/>
                </a:solidFill>
                <a:latin typeface="Calibri"/>
              </a:rPr>
              <a:t>蜘蛛结网。</a:t>
            </a:r>
            <a:r>
              <a:rPr b="1" lang="zh-CN" sz="2400" spc="-1" strike="noStrike">
                <a:solidFill>
                  <a:srgbClr val="000000"/>
                </a:solidFill>
                <a:latin typeface="Calibri"/>
              </a:rPr>
              <a:t>写蜘蛛高超的结网技能，足见它的聪明。</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b0f0"/>
                </a:solidFill>
                <a:latin typeface="黑体"/>
                <a:ea typeface="黑体"/>
              </a:rPr>
              <a:t>第四部分</a:t>
            </a:r>
            <a:r>
              <a:rPr b="1" lang="en-US" sz="2400" spc="-1" strike="noStrike">
                <a:solidFill>
                  <a:srgbClr val="00b0f0"/>
                </a:solidFill>
                <a:latin typeface="黑体"/>
                <a:ea typeface="黑体"/>
              </a:rPr>
              <a:t>(</a:t>
            </a:r>
            <a:r>
              <a:rPr b="1" lang="zh-CN" sz="2400" spc="-1" strike="noStrike">
                <a:solidFill>
                  <a:srgbClr val="00b0f0"/>
                </a:solidFill>
                <a:latin typeface="黑体"/>
                <a:ea typeface="黑体"/>
              </a:rPr>
              <a:t>第</a:t>
            </a:r>
            <a:r>
              <a:rPr b="1" lang="en-US" sz="2400" spc="-1" strike="noStrike">
                <a:solidFill>
                  <a:srgbClr val="00b0f0"/>
                </a:solidFill>
                <a:latin typeface="黑体"/>
                <a:ea typeface="黑体"/>
              </a:rPr>
              <a:t>6</a:t>
            </a:r>
            <a:r>
              <a:rPr b="1" lang="zh-CN" sz="2400" spc="-1" strike="noStrike">
                <a:solidFill>
                  <a:srgbClr val="00b0f0"/>
                </a:solidFill>
                <a:latin typeface="黑体"/>
                <a:ea typeface="黑体"/>
              </a:rPr>
              <a:t>－</a:t>
            </a:r>
            <a:r>
              <a:rPr b="1" lang="en-US" sz="2400" spc="-1" strike="noStrike">
                <a:solidFill>
                  <a:srgbClr val="00b0f0"/>
                </a:solidFill>
                <a:latin typeface="黑体"/>
                <a:ea typeface="黑体"/>
              </a:rPr>
              <a:t>8</a:t>
            </a:r>
            <a:r>
              <a:rPr b="1" lang="zh-CN" sz="2400" spc="-1" strike="noStrike">
                <a:solidFill>
                  <a:srgbClr val="00b0f0"/>
                </a:solidFill>
                <a:latin typeface="黑体"/>
                <a:ea typeface="黑体"/>
              </a:rPr>
              <a:t>自然段</a:t>
            </a:r>
            <a:r>
              <a:rPr b="1" lang="en-US" sz="2400" spc="-1" strike="noStrike">
                <a:solidFill>
                  <a:srgbClr val="00b0f0"/>
                </a:solidFill>
                <a:latin typeface="黑体"/>
                <a:ea typeface="黑体"/>
              </a:rPr>
              <a:t>)</a:t>
            </a:r>
            <a:r>
              <a:rPr b="1" lang="zh-CN" sz="2400" spc="-1" strike="noStrike">
                <a:solidFill>
                  <a:srgbClr val="c00000"/>
                </a:solidFill>
                <a:latin typeface="Calibri"/>
              </a:rPr>
              <a:t>蜘蛛斗敌。</a:t>
            </a:r>
            <a:r>
              <a:rPr b="1" lang="zh-CN" sz="2400" spc="-1" strike="noStrike">
                <a:solidFill>
                  <a:srgbClr val="000000"/>
                </a:solidFill>
                <a:latin typeface="Calibri"/>
              </a:rPr>
              <a:t>介绍蜘蛛斗敌的三种方式。</a:t>
            </a:r>
            <a:endParaRPr b="0" lang="en-US" sz="2400" spc="-1" strike="noStrike">
              <a:solidFill>
                <a:srgbClr val="000000"/>
              </a:solidFill>
              <a:latin typeface="Calibri"/>
            </a:endParaRPr>
          </a:p>
        </p:txBody>
      </p:sp>
      <p:grpSp>
        <p:nvGrpSpPr>
          <p:cNvPr id="253" name="组合 11"/>
          <p:cNvGrpSpPr/>
          <p:nvPr/>
        </p:nvGrpSpPr>
        <p:grpSpPr>
          <a:xfrm>
            <a:off x="804960" y="1104840"/>
            <a:ext cx="3792600" cy="717480"/>
            <a:chOff x="804960" y="1104840"/>
            <a:chExt cx="3792600" cy="717480"/>
          </a:xfrm>
        </p:grpSpPr>
        <p:grpSp>
          <p:nvGrpSpPr>
            <p:cNvPr id="254" name="圆角矩形 4"/>
            <p:cNvGrpSpPr/>
            <p:nvPr/>
          </p:nvGrpSpPr>
          <p:grpSpPr>
            <a:xfrm>
              <a:off x="804960" y="1109160"/>
              <a:ext cx="1032120" cy="533880"/>
              <a:chOff x="804960" y="1109160"/>
              <a:chExt cx="1032120" cy="533880"/>
            </a:xfrm>
          </p:grpSpPr>
          <p:pic>
            <p:nvPicPr>
              <p:cNvPr id="255" name="圆角矩形 4" descr=""/>
              <p:cNvPicPr/>
              <p:nvPr/>
            </p:nvPicPr>
            <p:blipFill>
              <a:blip r:embed="rId1"/>
              <a:stretch/>
            </p:blipFill>
            <p:spPr>
              <a:xfrm>
                <a:off x="804960" y="1109160"/>
                <a:ext cx="1032120" cy="533880"/>
              </a:xfrm>
              <a:prstGeom prst="rect">
                <a:avLst/>
              </a:prstGeom>
              <a:ln w="0">
                <a:noFill/>
              </a:ln>
            </p:spPr>
          </p:pic>
          <p:sp>
            <p:nvSpPr>
              <p:cNvPr id="256" name=""/>
              <p:cNvSpPr/>
              <p:nvPr/>
            </p:nvSpPr>
            <p:spPr>
              <a:xfrm>
                <a:off x="850680" y="1144080"/>
                <a:ext cx="940680" cy="46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257" name="任意多边形 5" descr=""/>
            <p:cNvPicPr/>
            <p:nvPr/>
          </p:nvPicPr>
          <p:blipFill>
            <a:blip r:embed="rId2"/>
            <a:stretch/>
          </p:blipFill>
          <p:spPr>
            <a:xfrm>
              <a:off x="1612800" y="1104840"/>
              <a:ext cx="2984760" cy="717480"/>
            </a:xfrm>
            <a:prstGeom prst="rect">
              <a:avLst/>
            </a:prstGeom>
            <a:ln w="0">
              <a:noFill/>
            </a:ln>
          </p:spPr>
        </p:pic>
      </p:gr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nodeType="clickEffect" fill="hold">
                      <p:stCondLst>
                        <p:cond delay="indefinite"/>
                      </p:stCondLst>
                      <p:childTnLst>
                        <p:par>
                          <p:cTn id="664" nodeType="withEffect" fill="hold">
                            <p:stCondLst>
                              <p:cond delay="0"/>
                            </p:stCondLst>
                            <p:childTnLst>
                              <p:par>
                                <p:cTn id="665" nodeType="clickEffect" fill="hold" presetClass="entr" presetID="22" presetSubtype="8">
                                  <p:stCondLst>
                                    <p:cond delay="0"/>
                                  </p:stCondLst>
                                  <p:childTnLst>
                                    <p:set>
                                      <p:cBhvr>
                                        <p:cTn id="666" dur="1" fill="hold">
                                          <p:stCondLst>
                                            <p:cond delay="0"/>
                                          </p:stCondLst>
                                        </p:cTn>
                                        <p:tgtEl>
                                          <p:spTgt spid="252">
                                            <p:txEl>
                                              <p:pRg st="0" end="0"/>
                                            </p:txEl>
                                          </p:spTgt>
                                        </p:tgtEl>
                                        <p:attrNameLst>
                                          <p:attrName>style.visibility</p:attrName>
                                        </p:attrNameLst>
                                      </p:cBhvr>
                                      <p:to>
                                        <p:strVal val="visible"/>
                                      </p:to>
                                    </p:set>
                                    <p:animEffect filter="wipe(left)" transition="in">
                                      <p:cBhvr additive="repl">
                                        <p:cTn id="667" dur="500"/>
                                        <p:tgtEl>
                                          <p:spTgt spid="252">
                                            <p:txEl>
                                              <p:pRg st="0" end="0"/>
                                            </p:txEl>
                                          </p:spTgt>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2" presetSubtype="8">
                                  <p:stCondLst>
                                    <p:cond delay="0"/>
                                  </p:stCondLst>
                                  <p:childTnLst>
                                    <p:set>
                                      <p:cBhvr>
                                        <p:cTn id="671" dur="1" fill="hold">
                                          <p:stCondLst>
                                            <p:cond delay="0"/>
                                          </p:stCondLst>
                                        </p:cTn>
                                        <p:tgtEl>
                                          <p:spTgt spid="252">
                                            <p:txEl>
                                              <p:pRg st="1" end="1"/>
                                            </p:txEl>
                                          </p:spTgt>
                                        </p:tgtEl>
                                        <p:attrNameLst>
                                          <p:attrName>style.visibility</p:attrName>
                                        </p:attrNameLst>
                                      </p:cBhvr>
                                      <p:to>
                                        <p:strVal val="visible"/>
                                      </p:to>
                                    </p:set>
                                    <p:animEffect filter="wipe(left)" transition="in">
                                      <p:cBhvr additive="repl">
                                        <p:cTn id="672" dur="500"/>
                                        <p:tgtEl>
                                          <p:spTgt spid="252">
                                            <p:txEl>
                                              <p:pRg st="1" end="1"/>
                                            </p:txEl>
                                          </p:spTgt>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252">
                                            <p:txEl>
                                              <p:pRg st="2" end="2"/>
                                            </p:txEl>
                                          </p:spTgt>
                                        </p:tgtEl>
                                        <p:attrNameLst>
                                          <p:attrName>style.visibility</p:attrName>
                                        </p:attrNameLst>
                                      </p:cBhvr>
                                      <p:to>
                                        <p:strVal val="visible"/>
                                      </p:to>
                                    </p:set>
                                    <p:animEffect filter="wipe(left)" transition="in">
                                      <p:cBhvr additive="repl">
                                        <p:cTn id="677" dur="500"/>
                                        <p:tgtEl>
                                          <p:spTgt spid="252">
                                            <p:txEl>
                                              <p:pRg st="2" end="2"/>
                                            </p:txEl>
                                          </p:spTgt>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22" presetSubtype="8">
                                  <p:stCondLst>
                                    <p:cond delay="0"/>
                                  </p:stCondLst>
                                  <p:childTnLst>
                                    <p:set>
                                      <p:cBhvr>
                                        <p:cTn id="681" dur="1" fill="hold">
                                          <p:stCondLst>
                                            <p:cond delay="0"/>
                                          </p:stCondLst>
                                        </p:cTn>
                                        <p:tgtEl>
                                          <p:spTgt spid="252">
                                            <p:txEl>
                                              <p:pRg st="3" end="3"/>
                                            </p:txEl>
                                          </p:spTgt>
                                        </p:tgtEl>
                                        <p:attrNameLst>
                                          <p:attrName>style.visibility</p:attrName>
                                        </p:attrNameLst>
                                      </p:cBhvr>
                                      <p:to>
                                        <p:strVal val="visible"/>
                                      </p:to>
                                    </p:set>
                                    <p:animEffect filter="wipe(left)" transition="in">
                                      <p:cBhvr additive="repl">
                                        <p:cTn id="682" dur="500"/>
                                        <p:tgtEl>
                                          <p:spTgt spid="2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Box 17"/>
          <p:cNvSpPr/>
          <p:nvPr/>
        </p:nvSpPr>
        <p:spPr>
          <a:xfrm>
            <a:off x="1660680" y="3500280"/>
            <a:ext cx="63957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宋体"/>
              </a:rPr>
              <a:t>结网和捕虫两个方面</a:t>
            </a:r>
            <a:endParaRPr b="0" lang="en-US" sz="2800" spc="-1" strike="noStrike">
              <a:solidFill>
                <a:srgbClr val="000000"/>
              </a:solidFill>
              <a:latin typeface="Calibri"/>
            </a:endParaRPr>
          </a:p>
        </p:txBody>
      </p:sp>
      <p:sp>
        <p:nvSpPr>
          <p:cNvPr id="259" name="矩形 5"/>
          <p:cNvSpPr/>
          <p:nvPr/>
        </p:nvSpPr>
        <p:spPr>
          <a:xfrm>
            <a:off x="914400" y="2181240"/>
            <a:ext cx="73119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黑体"/>
                <a:ea typeface="黑体"/>
              </a:rPr>
              <a:t>为什么说蜘蛛是最聪明的，作者从哪几个方面具体写出了它的聪明。</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4" presetSubtype="10">
                                  <p:stCondLst>
                                    <p:cond delay="0"/>
                                  </p:stCondLst>
                                  <p:childTnLst>
                                    <p:set>
                                      <p:cBhvr>
                                        <p:cTn id="688" dur="1" fill="hold">
                                          <p:stCondLst>
                                            <p:cond delay="0"/>
                                          </p:stCondLst>
                                        </p:cTn>
                                        <p:tgtEl>
                                          <p:spTgt spid="258"/>
                                        </p:tgtEl>
                                        <p:attrNameLst>
                                          <p:attrName>style.visibility</p:attrName>
                                        </p:attrNameLst>
                                      </p:cBhvr>
                                      <p:to>
                                        <p:strVal val="visible"/>
                                      </p:to>
                                    </p:set>
                                    <p:animEffect filter="randombar(horizontal)" transition="in">
                                      <p:cBhvr additive="repl">
                                        <p:cTn id="689"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8" name="图片 2" descr="屏幕剪辑"/>
          <p:cNvPicPr/>
          <p:nvPr/>
        </p:nvPicPr>
        <p:blipFill>
          <a:blip r:embed="rId1"/>
          <a:stretch/>
        </p:blipFill>
        <p:spPr>
          <a:xfrm>
            <a:off x="1652760" y="2030400"/>
            <a:ext cx="5918040" cy="3754440"/>
          </a:xfrm>
          <a:prstGeom prst="rect">
            <a:avLst/>
          </a:prstGeom>
          <a:ln w="0">
            <a:noFill/>
          </a:ln>
        </p:spPr>
      </p:pic>
      <p:pic>
        <p:nvPicPr>
          <p:cNvPr id="59" name="Picture 39" descr="구름"/>
          <p:cNvPicPr/>
          <p:nvPr/>
        </p:nvPicPr>
        <p:blipFill>
          <a:blip r:embed="rId2"/>
          <a:stretch/>
        </p:blipFill>
        <p:spPr>
          <a:xfrm>
            <a:off x="4795920" y="179280"/>
            <a:ext cx="682560" cy="363600"/>
          </a:xfrm>
          <a:prstGeom prst="rect">
            <a:avLst/>
          </a:prstGeom>
          <a:ln w="0">
            <a:noFill/>
          </a:ln>
        </p:spPr>
      </p:pic>
      <p:pic>
        <p:nvPicPr>
          <p:cNvPr id="60" name="Picture 40" descr="구름"/>
          <p:cNvPicPr/>
          <p:nvPr/>
        </p:nvPicPr>
        <p:blipFill>
          <a:blip r:embed="rId3"/>
          <a:stretch/>
        </p:blipFill>
        <p:spPr>
          <a:xfrm>
            <a:off x="7236000" y="503280"/>
            <a:ext cx="1042920" cy="555480"/>
          </a:xfrm>
          <a:prstGeom prst="rect">
            <a:avLst/>
          </a:prstGeom>
          <a:ln w="0">
            <a:noFill/>
          </a:ln>
        </p:spPr>
      </p:pic>
      <p:grpSp>
        <p:nvGrpSpPr>
          <p:cNvPr id="61" name="组合 13336"/>
          <p:cNvGrpSpPr/>
          <p:nvPr/>
        </p:nvGrpSpPr>
        <p:grpSpPr>
          <a:xfrm>
            <a:off x="3086280" y="3159000"/>
            <a:ext cx="3186000" cy="1150920"/>
            <a:chOff x="3086280" y="3159000"/>
            <a:chExt cx="3186000" cy="1150920"/>
          </a:xfrm>
        </p:grpSpPr>
        <p:sp>
          <p:nvSpPr>
            <p:cNvPr id="62" name="矩形 13324"/>
            <p:cNvSpPr/>
            <p:nvPr/>
          </p:nvSpPr>
          <p:spPr>
            <a:xfrm>
              <a:off x="3307680" y="3159000"/>
              <a:ext cx="2729520" cy="110448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3" name="图片 46" descr="枫叶副本"/>
            <p:cNvPicPr/>
            <p:nvPr/>
          </p:nvPicPr>
          <p:blipFill>
            <a:blip r:embed="rId4"/>
            <a:stretch/>
          </p:blipFill>
          <p:spPr>
            <a:xfrm>
              <a:off x="3989160" y="3244320"/>
              <a:ext cx="911160" cy="973440"/>
            </a:xfrm>
            <a:prstGeom prst="rect">
              <a:avLst/>
            </a:prstGeom>
            <a:ln w="0">
              <a:noFill/>
            </a:ln>
          </p:spPr>
        </p:pic>
        <p:pic>
          <p:nvPicPr>
            <p:cNvPr id="64" name="矩形 47" descr=""/>
            <p:cNvPicPr/>
            <p:nvPr/>
          </p:nvPicPr>
          <p:blipFill>
            <a:blip r:embed="rId5"/>
            <a:stretch/>
          </p:blipFill>
          <p:spPr>
            <a:xfrm>
              <a:off x="3086280" y="3204360"/>
              <a:ext cx="3186000" cy="1105560"/>
            </a:xfrm>
            <a:prstGeom prst="rect">
              <a:avLst/>
            </a:prstGeom>
            <a:ln w="0">
              <a:noFill/>
            </a:ln>
          </p:spPr>
        </p:pic>
      </p:grpSp>
      <p:grpSp>
        <p:nvGrpSpPr>
          <p:cNvPr id="65" name="组合 13338"/>
          <p:cNvGrpSpPr/>
          <p:nvPr/>
        </p:nvGrpSpPr>
        <p:grpSpPr>
          <a:xfrm>
            <a:off x="2162160" y="905040"/>
            <a:ext cx="4819680" cy="1180800"/>
            <a:chOff x="2162160" y="905040"/>
            <a:chExt cx="4819680" cy="1180800"/>
          </a:xfrm>
        </p:grpSpPr>
        <p:sp>
          <p:nvSpPr>
            <p:cNvPr id="66" name="Text Box 2"/>
            <p:cNvSpPr/>
            <p:nvPr/>
          </p:nvSpPr>
          <p:spPr>
            <a:xfrm>
              <a:off x="3421080" y="1011240"/>
              <a:ext cx="3560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  </a:t>
              </a:r>
              <a:r>
                <a:rPr b="1" lang="zh-CN" sz="6000" spc="-1" strike="noStrike">
                  <a:solidFill>
                    <a:srgbClr val="cc0000"/>
                  </a:solidFill>
                  <a:latin typeface="Calibri"/>
                  <a:ea typeface="黑体"/>
                </a:rPr>
                <a:t>蜘　蛛</a:t>
              </a:r>
              <a:endParaRPr b="0" lang="en-US" sz="6000" spc="-1" strike="noStrike">
                <a:solidFill>
                  <a:srgbClr val="000000"/>
                </a:solidFill>
                <a:latin typeface="Calibri"/>
              </a:endParaRPr>
            </a:p>
          </p:txBody>
        </p:sp>
        <p:grpSp>
          <p:nvGrpSpPr>
            <p:cNvPr id="67" name="组合 13337"/>
            <p:cNvGrpSpPr/>
            <p:nvPr/>
          </p:nvGrpSpPr>
          <p:grpSpPr>
            <a:xfrm>
              <a:off x="2162160" y="905040"/>
              <a:ext cx="1180800" cy="1180800"/>
              <a:chOff x="2162160" y="905040"/>
              <a:chExt cx="1180800" cy="1180800"/>
            </a:xfrm>
          </p:grpSpPr>
          <p:sp>
            <p:nvSpPr>
              <p:cNvPr id="68" name="AutoShape 11"/>
              <p:cNvSpPr/>
              <p:nvPr/>
            </p:nvSpPr>
            <p:spPr>
              <a:xfrm>
                <a:off x="2162160" y="905040"/>
                <a:ext cx="1180800" cy="118080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 name="文本框 13"/>
              <p:cNvSpPr/>
              <p:nvPr/>
            </p:nvSpPr>
            <p:spPr>
              <a:xfrm>
                <a:off x="2405880" y="984960"/>
                <a:ext cx="63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7</a:t>
                </a:r>
                <a:endParaRPr b="0" lang="en-US" sz="6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图示 7" descr=""/>
          <p:cNvPicPr/>
          <p:nvPr/>
        </p:nvPicPr>
        <p:blipFill>
          <a:blip r:embed="rId1"/>
          <a:stretch/>
        </p:blipFill>
        <p:spPr>
          <a:xfrm>
            <a:off x="878040" y="1090440"/>
            <a:ext cx="3090600" cy="1470240"/>
          </a:xfrm>
          <a:prstGeom prst="rect">
            <a:avLst/>
          </a:prstGeom>
          <a:ln w="0">
            <a:noFill/>
          </a:ln>
        </p:spPr>
      </p:pic>
      <p:sp>
        <p:nvSpPr>
          <p:cNvPr id="261" name="矩形 11"/>
          <p:cNvSpPr/>
          <p:nvPr/>
        </p:nvSpPr>
        <p:spPr>
          <a:xfrm>
            <a:off x="1017720" y="2452680"/>
            <a:ext cx="7380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文章的主要介绍了蜘蛛的外形特点以及蜘蛛是怎样利用网抗御敌人及进行捕食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nodeType="clickEffect" fill="hold">
                      <p:stCondLst>
                        <p:cond delay="indefinite"/>
                      </p:stCondLst>
                      <p:childTnLst>
                        <p:par>
                          <p:cTn id="693" nodeType="withEffect" fill="hold">
                            <p:stCondLst>
                              <p:cond delay="0"/>
                            </p:stCondLst>
                            <p:childTnLst>
                              <p:par>
                                <p:cTn id="694" nodeType="clickEffect" fill="hold" presetClass="entr" presetID="53" presetSubtype="16">
                                  <p:stCondLst>
                                    <p:cond delay="0"/>
                                  </p:stCondLst>
                                  <p:childTnLst>
                                    <p:set>
                                      <p:cBhvr>
                                        <p:cTn id="695" dur="1" fill="hold">
                                          <p:stCondLst>
                                            <p:cond delay="0"/>
                                          </p:stCondLst>
                                        </p:cTn>
                                        <p:tgtEl>
                                          <p:spTgt spid="261"/>
                                        </p:tgtEl>
                                        <p:attrNameLst>
                                          <p:attrName>style.visibility</p:attrName>
                                        </p:attrNameLst>
                                      </p:cBhvr>
                                      <p:to>
                                        <p:strVal val="visible"/>
                                      </p:to>
                                    </p:set>
                                    <p:anim calcmode="lin" valueType="num">
                                      <p:cBhvr additive="repl">
                                        <p:cTn id="696" dur="500" fill="hold"/>
                                        <p:tgtEl>
                                          <p:spTgt spid="261"/>
                                        </p:tgtEl>
                                        <p:attrNameLst>
                                          <p:attrName>ppt_w</p:attrName>
                                        </p:attrNameLst>
                                      </p:cBhvr>
                                      <p:tavLst>
                                        <p:tav tm="0">
                                          <p:val>
                                            <p:fltVal val="0"/>
                                          </p:val>
                                        </p:tav>
                                        <p:tav tm="100000">
                                          <p:val>
                                            <p:strVal val="#ppt_w"/>
                                          </p:val>
                                        </p:tav>
                                      </p:tavLst>
                                    </p:anim>
                                    <p:anim calcmode="lin" valueType="num">
                                      <p:cBhvr additive="repl">
                                        <p:cTn id="697" dur="500" fill="hold"/>
                                        <p:tgtEl>
                                          <p:spTgt spid="261"/>
                                        </p:tgtEl>
                                        <p:attrNameLst>
                                          <p:attrName>ppt_h</p:attrName>
                                        </p:attrNameLst>
                                      </p:cBhvr>
                                      <p:tavLst>
                                        <p:tav tm="0">
                                          <p:val>
                                            <p:fltVal val="0"/>
                                          </p:val>
                                        </p:tav>
                                        <p:tav tm="100000">
                                          <p:val>
                                            <p:strVal val="#ppt_h"/>
                                          </p:val>
                                        </p:tav>
                                      </p:tavLst>
                                    </p:anim>
                                    <p:animEffect filter="fade" transition="in">
                                      <p:cBhvr additive="repl">
                                        <p:cTn id="698"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矩形 21"/>
          <p:cNvSpPr/>
          <p:nvPr/>
        </p:nvSpPr>
        <p:spPr>
          <a:xfrm>
            <a:off x="542880" y="2674800"/>
            <a:ext cx="79963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fáng   ài           shēn</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qū            qīn     fàn</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wěi</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zhuāng         jì    móu           pò</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sǔn          zhì</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fú</a:t>
            </a:r>
            <a:endParaRPr b="0" lang="en-US" sz="2400" spc="-1" strike="noStrike">
              <a:solidFill>
                <a:srgbClr val="000000"/>
              </a:solidFill>
              <a:latin typeface="Calibri"/>
            </a:endParaRPr>
          </a:p>
        </p:txBody>
      </p:sp>
      <p:pic>
        <p:nvPicPr>
          <p:cNvPr id="263"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graphicFrame>
        <p:nvGraphicFramePr>
          <p:cNvPr id="264" name=""/>
          <p:cNvGraphicFramePr/>
          <p:nvPr/>
        </p:nvGraphicFramePr>
        <p:xfrm>
          <a:off x="5505480" y="3225960"/>
          <a:ext cx="1440000" cy="73152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5" name="矩形 20"/>
          <p:cNvSpPr/>
          <p:nvPr/>
        </p:nvSpPr>
        <p:spPr>
          <a:xfrm>
            <a:off x="5731200" y="32529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侵 犯</a:t>
            </a:r>
            <a:endParaRPr b="0" lang="en-US" sz="3600" spc="-1" strike="noStrike">
              <a:solidFill>
                <a:srgbClr val="000000"/>
              </a:solidFill>
              <a:latin typeface="Calibri"/>
            </a:endParaRPr>
          </a:p>
        </p:txBody>
      </p:sp>
      <p:sp>
        <p:nvSpPr>
          <p:cNvPr id="266" name="矩形 17"/>
          <p:cNvSpPr/>
          <p:nvPr/>
        </p:nvSpPr>
        <p:spPr>
          <a:xfrm>
            <a:off x="758880" y="1855800"/>
            <a:ext cx="7986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根据拼音写出词语。</a:t>
            </a:r>
            <a:endParaRPr b="0" lang="en-US" sz="2400" spc="-1" strike="noStrike">
              <a:solidFill>
                <a:srgbClr val="000000"/>
              </a:solidFill>
              <a:latin typeface="Calibri"/>
            </a:endParaRPr>
          </a:p>
        </p:txBody>
      </p:sp>
      <p:graphicFrame>
        <p:nvGraphicFramePr>
          <p:cNvPr id="267" name=""/>
          <p:cNvGraphicFramePr/>
          <p:nvPr/>
        </p:nvGraphicFramePr>
        <p:xfrm>
          <a:off x="1619280" y="321480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8" name="矩形 23"/>
          <p:cNvSpPr/>
          <p:nvPr/>
        </p:nvSpPr>
        <p:spPr>
          <a:xfrm>
            <a:off x="1837080" y="3257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妨 碍</a:t>
            </a:r>
            <a:endParaRPr b="0" lang="en-US" sz="3600" spc="-1" strike="noStrike">
              <a:solidFill>
                <a:srgbClr val="000000"/>
              </a:solidFill>
              <a:latin typeface="Calibri"/>
            </a:endParaRPr>
          </a:p>
        </p:txBody>
      </p:sp>
      <p:graphicFrame>
        <p:nvGraphicFramePr>
          <p:cNvPr id="269" name=""/>
          <p:cNvGraphicFramePr/>
          <p:nvPr/>
        </p:nvGraphicFramePr>
        <p:xfrm>
          <a:off x="4987800" y="432576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70" name=""/>
          <p:cNvGraphicFramePr/>
          <p:nvPr/>
        </p:nvGraphicFramePr>
        <p:xfrm>
          <a:off x="3040200" y="4325760"/>
          <a:ext cx="1439640" cy="731880"/>
        </p:xfrm>
        <a:graphic>
          <a:graphicData uri="http://schemas.openxmlformats.org/drawingml/2006/table">
            <a:tbl>
              <a:tblPr/>
              <a:tblGrid>
                <a:gridCol w="360360"/>
                <a:gridCol w="360360"/>
                <a:gridCol w="35856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1" name="矩形 26"/>
          <p:cNvSpPr/>
          <p:nvPr/>
        </p:nvSpPr>
        <p:spPr>
          <a:xfrm>
            <a:off x="3258000" y="43689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计 谋</a:t>
            </a:r>
            <a:endParaRPr b="0" lang="en-US" sz="3600" spc="-1" strike="noStrike">
              <a:solidFill>
                <a:srgbClr val="000000"/>
              </a:solidFill>
              <a:latin typeface="Calibri"/>
            </a:endParaRPr>
          </a:p>
        </p:txBody>
      </p:sp>
      <p:sp>
        <p:nvSpPr>
          <p:cNvPr id="272" name="矩形 27"/>
          <p:cNvSpPr/>
          <p:nvPr/>
        </p:nvSpPr>
        <p:spPr>
          <a:xfrm>
            <a:off x="5213160" y="43527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破 损</a:t>
            </a:r>
            <a:endParaRPr b="0" lang="en-US" sz="3600" spc="-1" strike="noStrike">
              <a:solidFill>
                <a:srgbClr val="000000"/>
              </a:solidFill>
              <a:latin typeface="Calibri"/>
            </a:endParaRPr>
          </a:p>
        </p:txBody>
      </p:sp>
      <p:graphicFrame>
        <p:nvGraphicFramePr>
          <p:cNvPr id="273" name=""/>
          <p:cNvGraphicFramePr/>
          <p:nvPr/>
        </p:nvGraphicFramePr>
        <p:xfrm>
          <a:off x="1103400" y="4314960"/>
          <a:ext cx="1439640" cy="731880"/>
        </p:xfrm>
        <a:graphic>
          <a:graphicData uri="http://schemas.openxmlformats.org/drawingml/2006/table">
            <a:tbl>
              <a:tblPr/>
              <a:tblGrid>
                <a:gridCol w="360360"/>
                <a:gridCol w="360360"/>
                <a:gridCol w="35856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4" name="矩形 29"/>
          <p:cNvSpPr/>
          <p:nvPr/>
        </p:nvSpPr>
        <p:spPr>
          <a:xfrm>
            <a:off x="1321200" y="43578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伪 装</a:t>
            </a:r>
            <a:endParaRPr b="0" lang="en-US" sz="3600" spc="-1" strike="noStrike">
              <a:solidFill>
                <a:srgbClr val="000000"/>
              </a:solidFill>
              <a:latin typeface="Calibri"/>
            </a:endParaRPr>
          </a:p>
        </p:txBody>
      </p:sp>
      <p:graphicFrame>
        <p:nvGraphicFramePr>
          <p:cNvPr id="275" name=""/>
          <p:cNvGraphicFramePr/>
          <p:nvPr/>
        </p:nvGraphicFramePr>
        <p:xfrm>
          <a:off x="3567240" y="3220920"/>
          <a:ext cx="1439640" cy="731880"/>
        </p:xfrm>
        <a:graphic>
          <a:graphicData uri="http://schemas.openxmlformats.org/drawingml/2006/table">
            <a:tbl>
              <a:tblPr/>
              <a:tblGrid>
                <a:gridCol w="360360"/>
                <a:gridCol w="360360"/>
                <a:gridCol w="35856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6" name="矩形 21"/>
          <p:cNvSpPr/>
          <p:nvPr/>
        </p:nvSpPr>
        <p:spPr>
          <a:xfrm>
            <a:off x="3785040" y="32637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身 躯</a:t>
            </a:r>
            <a:endParaRPr b="0" lang="en-US" sz="3600" spc="-1" strike="noStrike">
              <a:solidFill>
                <a:srgbClr val="000000"/>
              </a:solidFill>
              <a:latin typeface="Calibri"/>
            </a:endParaRPr>
          </a:p>
        </p:txBody>
      </p:sp>
      <p:graphicFrame>
        <p:nvGraphicFramePr>
          <p:cNvPr id="277" name=""/>
          <p:cNvGraphicFramePr/>
          <p:nvPr/>
        </p:nvGraphicFramePr>
        <p:xfrm>
          <a:off x="6854760" y="433224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8" name="矩形 32"/>
          <p:cNvSpPr/>
          <p:nvPr/>
        </p:nvSpPr>
        <p:spPr>
          <a:xfrm>
            <a:off x="7080120" y="43592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制 伏</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268"/>
                                        </p:tgtEl>
                                        <p:attrNameLst>
                                          <p:attrName>style.visibility</p:attrName>
                                        </p:attrNameLst>
                                      </p:cBhvr>
                                      <p:to>
                                        <p:strVal val="visible"/>
                                      </p:to>
                                    </p:set>
                                    <p:animEffect filter="wipe(left)" transition="in">
                                      <p:cBhvr additive="repl">
                                        <p:cTn id="705" dur="500"/>
                                        <p:tgtEl>
                                          <p:spTgt spid="268"/>
                                        </p:tgtEl>
                                      </p:cBhvr>
                                    </p:animEffec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76"/>
                                        </p:tgtEl>
                                        <p:attrNameLst>
                                          <p:attrName>style.visibility</p:attrName>
                                        </p:attrNameLst>
                                      </p:cBhvr>
                                      <p:to>
                                        <p:strVal val="visible"/>
                                      </p:to>
                                    </p:set>
                                    <p:animEffect filter="wipe(left)" transition="in">
                                      <p:cBhvr additive="repl">
                                        <p:cTn id="710" dur="500"/>
                                        <p:tgtEl>
                                          <p:spTgt spid="276"/>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65"/>
                                        </p:tgtEl>
                                        <p:attrNameLst>
                                          <p:attrName>style.visibility</p:attrName>
                                        </p:attrNameLst>
                                      </p:cBhvr>
                                      <p:to>
                                        <p:strVal val="visible"/>
                                      </p:to>
                                    </p:set>
                                    <p:animEffect filter="wipe(left)" transition="in">
                                      <p:cBhvr additive="repl">
                                        <p:cTn id="715" dur="500"/>
                                        <p:tgtEl>
                                          <p:spTgt spid="265"/>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74"/>
                                        </p:tgtEl>
                                        <p:attrNameLst>
                                          <p:attrName>style.visibility</p:attrName>
                                        </p:attrNameLst>
                                      </p:cBhvr>
                                      <p:to>
                                        <p:strVal val="visible"/>
                                      </p:to>
                                    </p:set>
                                    <p:animEffect filter="wipe(left)" transition="in">
                                      <p:cBhvr additive="repl">
                                        <p:cTn id="720" dur="500"/>
                                        <p:tgtEl>
                                          <p:spTgt spid="274"/>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271"/>
                                        </p:tgtEl>
                                        <p:attrNameLst>
                                          <p:attrName>style.visibility</p:attrName>
                                        </p:attrNameLst>
                                      </p:cBhvr>
                                      <p:to>
                                        <p:strVal val="visible"/>
                                      </p:to>
                                    </p:set>
                                    <p:animEffect filter="wipe(left)" transition="in">
                                      <p:cBhvr additive="repl">
                                        <p:cTn id="725" dur="500"/>
                                        <p:tgtEl>
                                          <p:spTgt spid="271"/>
                                        </p:tgtEl>
                                      </p:cBhvr>
                                    </p:animEffect>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2" presetSubtype="8">
                                  <p:stCondLst>
                                    <p:cond delay="0"/>
                                  </p:stCondLst>
                                  <p:childTnLst>
                                    <p:set>
                                      <p:cBhvr>
                                        <p:cTn id="729" dur="1" fill="hold">
                                          <p:stCondLst>
                                            <p:cond delay="0"/>
                                          </p:stCondLst>
                                        </p:cTn>
                                        <p:tgtEl>
                                          <p:spTgt spid="272"/>
                                        </p:tgtEl>
                                        <p:attrNameLst>
                                          <p:attrName>style.visibility</p:attrName>
                                        </p:attrNameLst>
                                      </p:cBhvr>
                                      <p:to>
                                        <p:strVal val="visible"/>
                                      </p:to>
                                    </p:set>
                                    <p:animEffect filter="wipe(left)" transition="in">
                                      <p:cBhvr additive="repl">
                                        <p:cTn id="730" dur="500"/>
                                        <p:tgtEl>
                                          <p:spTgt spid="272"/>
                                        </p:tgtEl>
                                      </p:cBhvr>
                                    </p:animEffec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278"/>
                                        </p:tgtEl>
                                        <p:attrNameLst>
                                          <p:attrName>style.visibility</p:attrName>
                                        </p:attrNameLst>
                                      </p:cBhvr>
                                      <p:to>
                                        <p:strVal val="visible"/>
                                      </p:to>
                                    </p:set>
                                    <p:animEffect filter="wipe(left)" transition="in">
                                      <p:cBhvr additive="repl">
                                        <p:cTn id="73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矩形 17"/>
          <p:cNvSpPr/>
          <p:nvPr/>
        </p:nvSpPr>
        <p:spPr>
          <a:xfrm>
            <a:off x="758880" y="1305000"/>
            <a:ext cx="7986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给下列多音字注音并组词。</a:t>
            </a:r>
            <a:endParaRPr b="0" lang="en-US" sz="2400" spc="-1" strike="noStrike">
              <a:solidFill>
                <a:srgbClr val="000000"/>
              </a:solidFill>
              <a:latin typeface="Calibri"/>
            </a:endParaRPr>
          </a:p>
        </p:txBody>
      </p:sp>
      <p:sp>
        <p:nvSpPr>
          <p:cNvPr id="280" name="矩形 23"/>
          <p:cNvSpPr/>
          <p:nvPr/>
        </p:nvSpPr>
        <p:spPr>
          <a:xfrm>
            <a:off x="2133720" y="2104920"/>
            <a:ext cx="5148000" cy="30200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　　　　） </a:t>
            </a:r>
            <a:endParaRPr b="0" lang="en-US" sz="2400" spc="-1" strike="noStrike">
              <a:solidFill>
                <a:srgbClr val="000000"/>
              </a:solidFill>
              <a:latin typeface="Calibri"/>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　　　　） </a:t>
            </a:r>
            <a:endParaRPr b="0" lang="en-US" sz="2400" spc="-1" strike="noStrike">
              <a:solidFill>
                <a:srgbClr val="000000"/>
              </a:solidFill>
              <a:latin typeface="Calibri"/>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　　　　） </a:t>
            </a:r>
            <a:endParaRPr b="0" lang="en-US" sz="2400" spc="-1" strike="noStrike">
              <a:solidFill>
                <a:srgbClr val="000000"/>
              </a:solidFill>
              <a:latin typeface="Calibri"/>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　　　　）</a:t>
            </a:r>
            <a:endParaRPr b="0" lang="en-US" sz="2400" spc="-1" strike="noStrike">
              <a:solidFill>
                <a:srgbClr val="000000"/>
              </a:solidFill>
              <a:latin typeface="Calibri"/>
            </a:endParaRPr>
          </a:p>
        </p:txBody>
      </p:sp>
      <p:sp>
        <p:nvSpPr>
          <p:cNvPr id="281" name="左大括号 25"/>
          <p:cNvSpPr/>
          <p:nvPr/>
        </p:nvSpPr>
        <p:spPr>
          <a:xfrm>
            <a:off x="2028960" y="2457360"/>
            <a:ext cx="198360" cy="978120"/>
          </a:xfrm>
          <a:custGeom>
            <a:avLst/>
            <a:gdLst>
              <a:gd name="textAreaLeft" fmla="*/ 126720 w 198360"/>
              <a:gd name="textAreaRight" fmla="*/ 198720 w 198360"/>
              <a:gd name="textAreaTop" fmla="*/ 5040 h 978120"/>
              <a:gd name="textAreaBottom" fmla="*/ 973080 h 978120"/>
            </a:gdLst>
            <a:ahLst/>
            <a:rect l="textAreaLeft" t="textAreaTop" r="textAreaRight" b="textAreaBottom"/>
            <a:pathLst>
              <a:path w="21600" h="21600">
                <a:moveTo>
                  <a:pt x="21600" y="0"/>
                </a:moveTo>
                <a:cubicBezTo>
                  <a:pt x="16200" y="0"/>
                  <a:pt x="10800" y="183"/>
                  <a:pt x="10800" y="365"/>
                </a:cubicBezTo>
                <a:lnTo>
                  <a:pt x="10800" y="10435"/>
                </a:lnTo>
                <a:cubicBezTo>
                  <a:pt x="10800" y="10618"/>
                  <a:pt x="5400" y="10800"/>
                  <a:pt x="0" y="10800"/>
                </a:cubicBezTo>
                <a:cubicBezTo>
                  <a:pt x="5400" y="10800"/>
                  <a:pt x="10800" y="10983"/>
                  <a:pt x="10800" y="11165"/>
                </a:cubicBezTo>
                <a:lnTo>
                  <a:pt x="10800" y="21235"/>
                </a:lnTo>
                <a:cubicBezTo>
                  <a:pt x="10800" y="21418"/>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2" name="矩形 1"/>
          <p:cNvSpPr/>
          <p:nvPr/>
        </p:nvSpPr>
        <p:spPr>
          <a:xfrm>
            <a:off x="1581120" y="27147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尽</a:t>
            </a:r>
            <a:endParaRPr b="0" lang="en-US" sz="2400" spc="-1" strike="noStrike">
              <a:solidFill>
                <a:srgbClr val="000000"/>
              </a:solidFill>
              <a:latin typeface="Calibri"/>
            </a:endParaRPr>
          </a:p>
        </p:txBody>
      </p:sp>
      <p:sp>
        <p:nvSpPr>
          <p:cNvPr id="283" name="左大括号 36"/>
          <p:cNvSpPr/>
          <p:nvPr/>
        </p:nvSpPr>
        <p:spPr>
          <a:xfrm>
            <a:off x="2017800" y="3916440"/>
            <a:ext cx="198360" cy="977760"/>
          </a:xfrm>
          <a:custGeom>
            <a:avLst/>
            <a:gdLst>
              <a:gd name="textAreaLeft" fmla="*/ 126720 w 198360"/>
              <a:gd name="textAreaRight" fmla="*/ 198720 w 198360"/>
              <a:gd name="textAreaTop" fmla="*/ 5040 h 977760"/>
              <a:gd name="textAreaBottom" fmla="*/ 972720 h 977760"/>
            </a:gdLst>
            <a:ahLst/>
            <a:rect l="textAreaLeft" t="textAreaTop" r="textAreaRight" b="textAreaBottom"/>
            <a:pathLst>
              <a:path w="21600" h="21600">
                <a:moveTo>
                  <a:pt x="21600" y="0"/>
                </a:moveTo>
                <a:cubicBezTo>
                  <a:pt x="16200" y="0"/>
                  <a:pt x="10800" y="183"/>
                  <a:pt x="10800" y="365"/>
                </a:cubicBezTo>
                <a:lnTo>
                  <a:pt x="10800" y="10435"/>
                </a:lnTo>
                <a:cubicBezTo>
                  <a:pt x="10800" y="10618"/>
                  <a:pt x="5400" y="10800"/>
                  <a:pt x="0" y="10800"/>
                </a:cubicBezTo>
                <a:cubicBezTo>
                  <a:pt x="5400" y="10800"/>
                  <a:pt x="10800" y="10983"/>
                  <a:pt x="10800" y="11165"/>
                </a:cubicBezTo>
                <a:lnTo>
                  <a:pt x="10800" y="21235"/>
                </a:lnTo>
                <a:cubicBezTo>
                  <a:pt x="10800" y="21418"/>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4" name="矩形 37"/>
          <p:cNvSpPr/>
          <p:nvPr/>
        </p:nvSpPr>
        <p:spPr>
          <a:xfrm>
            <a:off x="1587240" y="410832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禁</a:t>
            </a:r>
            <a:endParaRPr b="0" lang="en-US" sz="2400" spc="-1" strike="noStrike">
              <a:solidFill>
                <a:srgbClr val="000000"/>
              </a:solidFill>
              <a:latin typeface="Calibri"/>
            </a:endParaRPr>
          </a:p>
        </p:txBody>
      </p:sp>
      <p:sp>
        <p:nvSpPr>
          <p:cNvPr id="285" name="矩形 2"/>
          <p:cNvSpPr/>
          <p:nvPr/>
        </p:nvSpPr>
        <p:spPr>
          <a:xfrm>
            <a:off x="2594160" y="2319480"/>
            <a:ext cx="56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jìn</a:t>
            </a:r>
            <a:endParaRPr b="0" lang="en-US" sz="2400" spc="-1" strike="noStrike">
              <a:solidFill>
                <a:srgbClr val="000000"/>
              </a:solidFill>
              <a:latin typeface="Calibri"/>
            </a:endParaRPr>
          </a:p>
        </p:txBody>
      </p:sp>
      <p:sp>
        <p:nvSpPr>
          <p:cNvPr id="286" name="矩形 3"/>
          <p:cNvSpPr/>
          <p:nvPr/>
        </p:nvSpPr>
        <p:spPr>
          <a:xfrm>
            <a:off x="4262040" y="2319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尽力</a:t>
            </a:r>
            <a:endParaRPr b="0" lang="en-US" sz="2400" spc="-1" strike="noStrike">
              <a:solidFill>
                <a:srgbClr val="000000"/>
              </a:solidFill>
              <a:latin typeface="Calibri"/>
            </a:endParaRPr>
          </a:p>
        </p:txBody>
      </p:sp>
      <p:sp>
        <p:nvSpPr>
          <p:cNvPr id="287" name="矩形 4"/>
          <p:cNvSpPr/>
          <p:nvPr/>
        </p:nvSpPr>
        <p:spPr>
          <a:xfrm>
            <a:off x="2594160" y="3078000"/>
            <a:ext cx="56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jǐn</a:t>
            </a:r>
            <a:endParaRPr b="0" lang="en-US" sz="2400" spc="-1" strike="noStrike">
              <a:solidFill>
                <a:srgbClr val="000000"/>
              </a:solidFill>
              <a:latin typeface="Calibri"/>
            </a:endParaRPr>
          </a:p>
        </p:txBody>
      </p:sp>
      <p:sp>
        <p:nvSpPr>
          <p:cNvPr id="288" name="矩形 5"/>
          <p:cNvSpPr/>
          <p:nvPr/>
        </p:nvSpPr>
        <p:spPr>
          <a:xfrm>
            <a:off x="4301640" y="3078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尽管</a:t>
            </a:r>
            <a:endParaRPr b="0" lang="en-US" sz="2400" spc="-1" strike="noStrike">
              <a:solidFill>
                <a:srgbClr val="000000"/>
              </a:solidFill>
              <a:latin typeface="Calibri"/>
            </a:endParaRPr>
          </a:p>
        </p:txBody>
      </p:sp>
      <p:sp>
        <p:nvSpPr>
          <p:cNvPr id="289" name="矩形 6"/>
          <p:cNvSpPr/>
          <p:nvPr/>
        </p:nvSpPr>
        <p:spPr>
          <a:xfrm>
            <a:off x="2534040" y="3803760"/>
            <a:ext cx="56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jìn</a:t>
            </a:r>
            <a:endParaRPr b="0" lang="en-US" sz="2400" spc="-1" strike="noStrike">
              <a:solidFill>
                <a:srgbClr val="000000"/>
              </a:solidFill>
              <a:latin typeface="Calibri"/>
            </a:endParaRPr>
          </a:p>
        </p:txBody>
      </p:sp>
      <p:sp>
        <p:nvSpPr>
          <p:cNvPr id="290" name="矩形 7"/>
          <p:cNvSpPr/>
          <p:nvPr/>
        </p:nvSpPr>
        <p:spPr>
          <a:xfrm>
            <a:off x="4277160" y="3822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禁止</a:t>
            </a:r>
            <a:endParaRPr b="0" lang="en-US" sz="2400" spc="-1" strike="noStrike">
              <a:solidFill>
                <a:srgbClr val="000000"/>
              </a:solidFill>
              <a:latin typeface="Calibri"/>
            </a:endParaRPr>
          </a:p>
        </p:txBody>
      </p:sp>
      <p:sp>
        <p:nvSpPr>
          <p:cNvPr id="291" name="矩形 8"/>
          <p:cNvSpPr/>
          <p:nvPr/>
        </p:nvSpPr>
        <p:spPr>
          <a:xfrm>
            <a:off x="2519640" y="4519440"/>
            <a:ext cx="56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jīn</a:t>
            </a:r>
            <a:endParaRPr b="0" lang="en-US" sz="2400" spc="-1" strike="noStrike">
              <a:solidFill>
                <a:srgbClr val="000000"/>
              </a:solidFill>
              <a:latin typeface="Calibri"/>
            </a:endParaRPr>
          </a:p>
        </p:txBody>
      </p:sp>
      <p:sp>
        <p:nvSpPr>
          <p:cNvPr id="292" name="矩形 9"/>
          <p:cNvSpPr/>
          <p:nvPr/>
        </p:nvSpPr>
        <p:spPr>
          <a:xfrm>
            <a:off x="4208040" y="45561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禁不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nodeType="clickEffect" fill="hold">
                      <p:stCondLst>
                        <p:cond delay="indefinite"/>
                      </p:stCondLst>
                      <p:childTnLst>
                        <p:par>
                          <p:cTn id="739" nodeType="withEffect"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85"/>
                                        </p:tgtEl>
                                        <p:attrNameLst>
                                          <p:attrName>style.visibility</p:attrName>
                                        </p:attrNameLst>
                                      </p:cBhvr>
                                      <p:to>
                                        <p:strVal val="visible"/>
                                      </p:to>
                                    </p:set>
                                    <p:animEffect filter="wipe(left)" transition="in">
                                      <p:cBhvr additive="repl">
                                        <p:cTn id="742" dur="500"/>
                                        <p:tgtEl>
                                          <p:spTgt spid="285"/>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86"/>
                                        </p:tgtEl>
                                        <p:attrNameLst>
                                          <p:attrName>style.visibility</p:attrName>
                                        </p:attrNameLst>
                                      </p:cBhvr>
                                      <p:to>
                                        <p:strVal val="visible"/>
                                      </p:to>
                                    </p:set>
                                    <p:animEffect filter="wipe(left)" transition="in">
                                      <p:cBhvr additive="repl">
                                        <p:cTn id="747" dur="500"/>
                                        <p:tgtEl>
                                          <p:spTgt spid="286"/>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87"/>
                                        </p:tgtEl>
                                        <p:attrNameLst>
                                          <p:attrName>style.visibility</p:attrName>
                                        </p:attrNameLst>
                                      </p:cBhvr>
                                      <p:to>
                                        <p:strVal val="visible"/>
                                      </p:to>
                                    </p:set>
                                    <p:animEffect filter="wipe(left)" transition="in">
                                      <p:cBhvr additive="repl">
                                        <p:cTn id="752" dur="500"/>
                                        <p:tgtEl>
                                          <p:spTgt spid="287"/>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88"/>
                                        </p:tgtEl>
                                        <p:attrNameLst>
                                          <p:attrName>style.visibility</p:attrName>
                                        </p:attrNameLst>
                                      </p:cBhvr>
                                      <p:to>
                                        <p:strVal val="visible"/>
                                      </p:to>
                                    </p:set>
                                    <p:animEffect filter="wipe(left)" transition="in">
                                      <p:cBhvr additive="repl">
                                        <p:cTn id="757" dur="500"/>
                                        <p:tgtEl>
                                          <p:spTgt spid="288"/>
                                        </p:tgtEl>
                                      </p:cBhvr>
                                    </p:animEffec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289"/>
                                        </p:tgtEl>
                                        <p:attrNameLst>
                                          <p:attrName>style.visibility</p:attrName>
                                        </p:attrNameLst>
                                      </p:cBhvr>
                                      <p:to>
                                        <p:strVal val="visible"/>
                                      </p:to>
                                    </p:set>
                                    <p:animEffect filter="wipe(left)" transition="in">
                                      <p:cBhvr additive="repl">
                                        <p:cTn id="762" dur="500"/>
                                        <p:tgtEl>
                                          <p:spTgt spid="289"/>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290"/>
                                        </p:tgtEl>
                                        <p:attrNameLst>
                                          <p:attrName>style.visibility</p:attrName>
                                        </p:attrNameLst>
                                      </p:cBhvr>
                                      <p:to>
                                        <p:strVal val="visible"/>
                                      </p:to>
                                    </p:set>
                                    <p:animEffect filter="wipe(left)" transition="in">
                                      <p:cBhvr additive="repl">
                                        <p:cTn id="767" dur="500"/>
                                        <p:tgtEl>
                                          <p:spTgt spid="290"/>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291"/>
                                        </p:tgtEl>
                                        <p:attrNameLst>
                                          <p:attrName>style.visibility</p:attrName>
                                        </p:attrNameLst>
                                      </p:cBhvr>
                                      <p:to>
                                        <p:strVal val="visible"/>
                                      </p:to>
                                    </p:set>
                                    <p:animEffect filter="wipe(left)" transition="in">
                                      <p:cBhvr additive="repl">
                                        <p:cTn id="772" dur="500"/>
                                        <p:tgtEl>
                                          <p:spTgt spid="291"/>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292"/>
                                        </p:tgtEl>
                                        <p:attrNameLst>
                                          <p:attrName>style.visibility</p:attrName>
                                        </p:attrNameLst>
                                      </p:cBhvr>
                                      <p:to>
                                        <p:strVal val="visible"/>
                                      </p:to>
                                    </p:set>
                                    <p:animEffect filter="wipe(left)" transition="in">
                                      <p:cBhvr additive="repl">
                                        <p:cTn id="777"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矩形 7"/>
          <p:cNvSpPr/>
          <p:nvPr/>
        </p:nvSpPr>
        <p:spPr>
          <a:xfrm>
            <a:off x="884160" y="1411200"/>
            <a:ext cx="7569360" cy="642600"/>
          </a:xfrm>
          <a:prstGeom prst="rect">
            <a:avLst/>
          </a:prstGeom>
          <a:noFill/>
          <a:ln w="0">
            <a:noFill/>
          </a:ln>
        </p:spPr>
        <p:style>
          <a:lnRef idx="0"/>
          <a:fillRef idx="0"/>
          <a:effectRef idx="0"/>
          <a:fontRef idx="minor"/>
        </p:style>
        <p:txBody>
          <a:bodyPr lIns="90000" rIns="90000" tIns="46800" bIns="46800" anchor="t">
            <a:spAutoFit/>
          </a:bodyPr>
          <a:p>
            <a:pPr marL="622440" indent="-62244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3</a:t>
            </a:r>
            <a:r>
              <a:rPr b="1" lang="zh-CN" sz="2400" spc="-1" strike="noStrike">
                <a:solidFill>
                  <a:srgbClr val="000000"/>
                </a:solidFill>
                <a:latin typeface="宋体"/>
              </a:rPr>
              <a:t>．辨字组词。</a:t>
            </a:r>
            <a:endParaRPr b="0" lang="en-US" sz="2400" spc="-1" strike="noStrike">
              <a:solidFill>
                <a:srgbClr val="000000"/>
              </a:solidFill>
              <a:latin typeface="Calibri"/>
            </a:endParaRPr>
          </a:p>
        </p:txBody>
      </p:sp>
      <p:sp>
        <p:nvSpPr>
          <p:cNvPr id="294" name="矩形 1"/>
          <p:cNvSpPr/>
          <p:nvPr/>
        </p:nvSpPr>
        <p:spPr>
          <a:xfrm>
            <a:off x="1725480" y="2170080"/>
            <a:ext cx="5226120" cy="30200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躯（　　　　）  侵（　　　　）</a:t>
            </a:r>
            <a:endParaRPr b="0" lang="en-US" sz="2400" spc="-1" strike="noStrike">
              <a:solidFill>
                <a:srgbClr val="000000"/>
              </a:solidFill>
              <a:latin typeface="Calibri"/>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驱（　　　　）  浸（　　　　）</a:t>
            </a:r>
            <a:endParaRPr b="0" lang="en-US" sz="2400" spc="-1" strike="noStrike">
              <a:solidFill>
                <a:srgbClr val="000000"/>
              </a:solidFill>
              <a:latin typeface="Calibri"/>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损（　　　　）  </a:t>
            </a:r>
            <a:endParaRPr b="0" lang="en-US" sz="2400" spc="-1" strike="noStrike">
              <a:solidFill>
                <a:srgbClr val="000000"/>
              </a:solidFill>
              <a:latin typeface="Calibri"/>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陨（　　　　）</a:t>
            </a:r>
            <a:endParaRPr b="0" lang="en-US" sz="2400" spc="-1" strike="noStrike">
              <a:solidFill>
                <a:srgbClr val="000000"/>
              </a:solidFill>
              <a:latin typeface="Calibri"/>
            </a:endParaRPr>
          </a:p>
        </p:txBody>
      </p:sp>
      <p:sp>
        <p:nvSpPr>
          <p:cNvPr id="295" name="左大括号 2"/>
          <p:cNvSpPr/>
          <p:nvPr/>
        </p:nvSpPr>
        <p:spPr>
          <a:xfrm>
            <a:off x="1620720" y="2522520"/>
            <a:ext cx="198720" cy="977760"/>
          </a:xfrm>
          <a:custGeom>
            <a:avLst/>
            <a:gdLst>
              <a:gd name="textAreaLeft" fmla="*/ 127080 w 198720"/>
              <a:gd name="textAreaRight" fmla="*/ 199080 w 198720"/>
              <a:gd name="textAreaTop" fmla="*/ 5040 h 977760"/>
              <a:gd name="textAreaBottom" fmla="*/ 972720 h 977760"/>
            </a:gdLst>
            <a:ahLst/>
            <a:rect l="textAreaLeft" t="textAreaTop" r="textAreaRight" b="textAreaBottom"/>
            <a:pathLst>
              <a:path w="21600" h="21600">
                <a:moveTo>
                  <a:pt x="21600" y="0"/>
                </a:moveTo>
                <a:cubicBezTo>
                  <a:pt x="16200" y="0"/>
                  <a:pt x="10800" y="183"/>
                  <a:pt x="10800" y="365"/>
                </a:cubicBezTo>
                <a:lnTo>
                  <a:pt x="10800" y="10435"/>
                </a:lnTo>
                <a:cubicBezTo>
                  <a:pt x="10800" y="10618"/>
                  <a:pt x="5400" y="10800"/>
                  <a:pt x="0" y="10800"/>
                </a:cubicBezTo>
                <a:cubicBezTo>
                  <a:pt x="5400" y="10800"/>
                  <a:pt x="10800" y="10983"/>
                  <a:pt x="10800" y="11165"/>
                </a:cubicBezTo>
                <a:lnTo>
                  <a:pt x="10800" y="21235"/>
                </a:lnTo>
                <a:cubicBezTo>
                  <a:pt x="10800" y="21418"/>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6" name="左大括号 17"/>
          <p:cNvSpPr/>
          <p:nvPr/>
        </p:nvSpPr>
        <p:spPr>
          <a:xfrm>
            <a:off x="4043520" y="2533680"/>
            <a:ext cx="198360" cy="977760"/>
          </a:xfrm>
          <a:custGeom>
            <a:avLst/>
            <a:gdLst>
              <a:gd name="textAreaLeft" fmla="*/ 126720 w 198360"/>
              <a:gd name="textAreaRight" fmla="*/ 198720 w 198360"/>
              <a:gd name="textAreaTop" fmla="*/ 5040 h 977760"/>
              <a:gd name="textAreaBottom" fmla="*/ 972720 h 977760"/>
            </a:gdLst>
            <a:ahLst/>
            <a:rect l="textAreaLeft" t="textAreaTop" r="textAreaRight" b="textAreaBottom"/>
            <a:pathLst>
              <a:path w="21600" h="21600">
                <a:moveTo>
                  <a:pt x="21600" y="0"/>
                </a:moveTo>
                <a:cubicBezTo>
                  <a:pt x="16200" y="0"/>
                  <a:pt x="10800" y="183"/>
                  <a:pt x="10800" y="365"/>
                </a:cubicBezTo>
                <a:lnTo>
                  <a:pt x="10800" y="10435"/>
                </a:lnTo>
                <a:cubicBezTo>
                  <a:pt x="10800" y="10618"/>
                  <a:pt x="5400" y="10800"/>
                  <a:pt x="0" y="10800"/>
                </a:cubicBezTo>
                <a:cubicBezTo>
                  <a:pt x="5400" y="10800"/>
                  <a:pt x="10800" y="10983"/>
                  <a:pt x="10800" y="11165"/>
                </a:cubicBezTo>
                <a:lnTo>
                  <a:pt x="10800" y="21235"/>
                </a:lnTo>
                <a:cubicBezTo>
                  <a:pt x="10800" y="21418"/>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7" name="矩形 3"/>
          <p:cNvSpPr/>
          <p:nvPr/>
        </p:nvSpPr>
        <p:spPr>
          <a:xfrm>
            <a:off x="2744640" y="24271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身躯</a:t>
            </a:r>
            <a:endParaRPr b="0" lang="en-US" sz="2400" spc="-1" strike="noStrike">
              <a:solidFill>
                <a:srgbClr val="000000"/>
              </a:solidFill>
              <a:latin typeface="Calibri"/>
            </a:endParaRPr>
          </a:p>
        </p:txBody>
      </p:sp>
      <p:sp>
        <p:nvSpPr>
          <p:cNvPr id="298" name="矩形 4"/>
          <p:cNvSpPr/>
          <p:nvPr/>
        </p:nvSpPr>
        <p:spPr>
          <a:xfrm>
            <a:off x="2744640" y="31561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驱赶</a:t>
            </a:r>
            <a:endParaRPr b="0" lang="en-US" sz="2400" spc="-1" strike="noStrike">
              <a:solidFill>
                <a:srgbClr val="000000"/>
              </a:solidFill>
              <a:latin typeface="Calibri"/>
            </a:endParaRPr>
          </a:p>
        </p:txBody>
      </p:sp>
      <p:sp>
        <p:nvSpPr>
          <p:cNvPr id="299" name="矩形 5"/>
          <p:cNvSpPr/>
          <p:nvPr/>
        </p:nvSpPr>
        <p:spPr>
          <a:xfrm>
            <a:off x="5262120" y="2433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侵入</a:t>
            </a:r>
            <a:endParaRPr b="0" lang="en-US" sz="2400" spc="-1" strike="noStrike">
              <a:solidFill>
                <a:srgbClr val="000000"/>
              </a:solidFill>
              <a:latin typeface="Calibri"/>
            </a:endParaRPr>
          </a:p>
        </p:txBody>
      </p:sp>
      <p:sp>
        <p:nvSpPr>
          <p:cNvPr id="300" name="矩形 6"/>
          <p:cNvSpPr/>
          <p:nvPr/>
        </p:nvSpPr>
        <p:spPr>
          <a:xfrm>
            <a:off x="5240160" y="3147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浸湿</a:t>
            </a:r>
            <a:endParaRPr b="0" lang="en-US" sz="2400" spc="-1" strike="noStrike">
              <a:solidFill>
                <a:srgbClr val="000000"/>
              </a:solidFill>
              <a:latin typeface="Calibri"/>
            </a:endParaRPr>
          </a:p>
        </p:txBody>
      </p:sp>
      <p:sp>
        <p:nvSpPr>
          <p:cNvPr id="301" name="左大括号 13"/>
          <p:cNvSpPr/>
          <p:nvPr/>
        </p:nvSpPr>
        <p:spPr>
          <a:xfrm>
            <a:off x="1616040" y="3998880"/>
            <a:ext cx="198360" cy="977760"/>
          </a:xfrm>
          <a:custGeom>
            <a:avLst/>
            <a:gdLst>
              <a:gd name="textAreaLeft" fmla="*/ 126720 w 198360"/>
              <a:gd name="textAreaRight" fmla="*/ 198720 w 198360"/>
              <a:gd name="textAreaTop" fmla="*/ 5040 h 977760"/>
              <a:gd name="textAreaBottom" fmla="*/ 972720 h 977760"/>
            </a:gdLst>
            <a:ahLst/>
            <a:rect l="textAreaLeft" t="textAreaTop" r="textAreaRight" b="textAreaBottom"/>
            <a:pathLst>
              <a:path w="21600" h="21600">
                <a:moveTo>
                  <a:pt x="21600" y="0"/>
                </a:moveTo>
                <a:cubicBezTo>
                  <a:pt x="16200" y="0"/>
                  <a:pt x="10800" y="183"/>
                  <a:pt x="10800" y="365"/>
                </a:cubicBezTo>
                <a:lnTo>
                  <a:pt x="10800" y="10435"/>
                </a:lnTo>
                <a:cubicBezTo>
                  <a:pt x="10800" y="10618"/>
                  <a:pt x="5400" y="10800"/>
                  <a:pt x="0" y="10800"/>
                </a:cubicBezTo>
                <a:cubicBezTo>
                  <a:pt x="5400" y="10800"/>
                  <a:pt x="10800" y="10983"/>
                  <a:pt x="10800" y="11165"/>
                </a:cubicBezTo>
                <a:lnTo>
                  <a:pt x="10800" y="21235"/>
                </a:lnTo>
                <a:cubicBezTo>
                  <a:pt x="10800" y="21418"/>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2" name="矩形 15"/>
          <p:cNvSpPr/>
          <p:nvPr/>
        </p:nvSpPr>
        <p:spPr>
          <a:xfrm>
            <a:off x="2739600" y="3859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损毁</a:t>
            </a:r>
            <a:endParaRPr b="0" lang="en-US" sz="2400" spc="-1" strike="noStrike">
              <a:solidFill>
                <a:srgbClr val="000000"/>
              </a:solidFill>
              <a:latin typeface="Calibri"/>
            </a:endParaRPr>
          </a:p>
        </p:txBody>
      </p:sp>
      <p:sp>
        <p:nvSpPr>
          <p:cNvPr id="303" name="矩形 16"/>
          <p:cNvSpPr/>
          <p:nvPr/>
        </p:nvSpPr>
        <p:spPr>
          <a:xfrm>
            <a:off x="2739600" y="4589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陨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nodeType="clickEffect" fill="hold">
                      <p:stCondLst>
                        <p:cond delay="indefinite"/>
                      </p:stCondLst>
                      <p:childTnLst>
                        <p:par>
                          <p:cTn id="781" nodeType="withEffect" fill="hold">
                            <p:stCondLst>
                              <p:cond delay="0"/>
                            </p:stCondLst>
                            <p:childTnLst>
                              <p:par>
                                <p:cTn id="782" nodeType="clickEffect" fill="hold" presetClass="entr" presetID="22" presetSubtype="8">
                                  <p:stCondLst>
                                    <p:cond delay="0"/>
                                  </p:stCondLst>
                                  <p:childTnLst>
                                    <p:set>
                                      <p:cBhvr>
                                        <p:cTn id="783" dur="1" fill="hold">
                                          <p:stCondLst>
                                            <p:cond delay="0"/>
                                          </p:stCondLst>
                                        </p:cTn>
                                        <p:tgtEl>
                                          <p:spTgt spid="297"/>
                                        </p:tgtEl>
                                        <p:attrNameLst>
                                          <p:attrName>style.visibility</p:attrName>
                                        </p:attrNameLst>
                                      </p:cBhvr>
                                      <p:to>
                                        <p:strVal val="visible"/>
                                      </p:to>
                                    </p:set>
                                    <p:animEffect filter="wipe(left)" transition="in">
                                      <p:cBhvr additive="repl">
                                        <p:cTn id="784" dur="500"/>
                                        <p:tgtEl>
                                          <p:spTgt spid="297"/>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298"/>
                                        </p:tgtEl>
                                        <p:attrNameLst>
                                          <p:attrName>style.visibility</p:attrName>
                                        </p:attrNameLst>
                                      </p:cBhvr>
                                      <p:to>
                                        <p:strVal val="visible"/>
                                      </p:to>
                                    </p:set>
                                    <p:animEffect filter="wipe(left)" transition="in">
                                      <p:cBhvr additive="repl">
                                        <p:cTn id="789" dur="500"/>
                                        <p:tgtEl>
                                          <p:spTgt spid="298"/>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299"/>
                                        </p:tgtEl>
                                        <p:attrNameLst>
                                          <p:attrName>style.visibility</p:attrName>
                                        </p:attrNameLst>
                                      </p:cBhvr>
                                      <p:to>
                                        <p:strVal val="visible"/>
                                      </p:to>
                                    </p:set>
                                    <p:animEffect filter="wipe(left)" transition="in">
                                      <p:cBhvr additive="repl">
                                        <p:cTn id="794" dur="500"/>
                                        <p:tgtEl>
                                          <p:spTgt spid="299"/>
                                        </p:tgtEl>
                                      </p:cBhvr>
                                    </p:animEffec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00"/>
                                        </p:tgtEl>
                                        <p:attrNameLst>
                                          <p:attrName>style.visibility</p:attrName>
                                        </p:attrNameLst>
                                      </p:cBhvr>
                                      <p:to>
                                        <p:strVal val="visible"/>
                                      </p:to>
                                    </p:set>
                                    <p:animEffect filter="wipe(left)" transition="in">
                                      <p:cBhvr additive="repl">
                                        <p:cTn id="799" dur="500"/>
                                        <p:tgtEl>
                                          <p:spTgt spid="300"/>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02"/>
                                        </p:tgtEl>
                                        <p:attrNameLst>
                                          <p:attrName>style.visibility</p:attrName>
                                        </p:attrNameLst>
                                      </p:cBhvr>
                                      <p:to>
                                        <p:strVal val="visible"/>
                                      </p:to>
                                    </p:set>
                                    <p:animEffect filter="wipe(left)" transition="in">
                                      <p:cBhvr additive="repl">
                                        <p:cTn id="804" dur="500"/>
                                        <p:tgtEl>
                                          <p:spTgt spid="302"/>
                                        </p:tgtEl>
                                      </p:cBhvr>
                                    </p:animEffec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2" presetSubtype="8">
                                  <p:stCondLst>
                                    <p:cond delay="0"/>
                                  </p:stCondLst>
                                  <p:childTnLst>
                                    <p:set>
                                      <p:cBhvr>
                                        <p:cTn id="808" dur="1" fill="hold">
                                          <p:stCondLst>
                                            <p:cond delay="0"/>
                                          </p:stCondLst>
                                        </p:cTn>
                                        <p:tgtEl>
                                          <p:spTgt spid="303"/>
                                        </p:tgtEl>
                                        <p:attrNameLst>
                                          <p:attrName>style.visibility</p:attrName>
                                        </p:attrNameLst>
                                      </p:cBhvr>
                                      <p:to>
                                        <p:strVal val="visible"/>
                                      </p:to>
                                    </p:set>
                                    <p:animEffect filter="wipe(left)" transition="in">
                                      <p:cBhvr additive="repl">
                                        <p:cTn id="809"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矩形 1"/>
          <p:cNvSpPr/>
          <p:nvPr/>
        </p:nvSpPr>
        <p:spPr>
          <a:xfrm>
            <a:off x="1157400" y="1587600"/>
            <a:ext cx="7399080" cy="2288520"/>
          </a:xfrm>
          <a:prstGeom prst="rect">
            <a:avLst/>
          </a:prstGeom>
          <a:noFill/>
          <a:ln w="0">
            <a:noFill/>
          </a:ln>
        </p:spPr>
        <p:style>
          <a:lnRef idx="0"/>
          <a:fillRef idx="0"/>
          <a:effectRef idx="0"/>
          <a:fontRef idx="minor"/>
        </p:style>
        <p:txBody>
          <a:bodyPr lIns="90000" rIns="90000" tIns="46800" bIns="46800" anchor="t">
            <a:spAutoFit/>
          </a:bodyPr>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4</a:t>
            </a:r>
            <a:r>
              <a:rPr b="1" lang="zh-CN" sz="2400" spc="-1" strike="noStrike">
                <a:solidFill>
                  <a:srgbClr val="000000"/>
                </a:solidFill>
                <a:latin typeface="宋体"/>
              </a:rPr>
              <a:t>．填上恰当的词语。</a:t>
            </a:r>
            <a:endParaRPr b="0" lang="en-US" sz="2400" spc="-1" strike="noStrike">
              <a:solidFill>
                <a:srgbClr val="000000"/>
              </a:solidFill>
              <a:latin typeface="Calibri"/>
            </a:endParaRPr>
          </a:p>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甲胄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地翘尾巴</a:t>
            </a:r>
            <a:endParaRPr b="0" lang="en-US" sz="2400" spc="-1" strike="noStrike">
              <a:solidFill>
                <a:srgbClr val="000000"/>
              </a:solidFill>
              <a:latin typeface="Calibri"/>
            </a:endParaRPr>
          </a:p>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蜘蛛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地毁坏</a:t>
            </a:r>
            <a:endParaRPr b="0" lang="en-US" sz="2400" spc="-1" strike="noStrike">
              <a:solidFill>
                <a:srgbClr val="000000"/>
              </a:solidFill>
              <a:latin typeface="Calibri"/>
            </a:endParaRPr>
          </a:p>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装备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地织网</a:t>
            </a:r>
            <a:endParaRPr b="0" lang="en-US" sz="2400" spc="-1" strike="noStrike">
              <a:solidFill>
                <a:srgbClr val="000000"/>
              </a:solidFill>
              <a:latin typeface="Calibri"/>
            </a:endParaRPr>
          </a:p>
        </p:txBody>
      </p:sp>
      <p:sp>
        <p:nvSpPr>
          <p:cNvPr id="305" name="矩形 3"/>
          <p:cNvSpPr/>
          <p:nvPr/>
        </p:nvSpPr>
        <p:spPr>
          <a:xfrm>
            <a:off x="1950840" y="2217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坚硬</a:t>
            </a:r>
            <a:endParaRPr b="0" lang="en-US" sz="2400" spc="-1" strike="noStrike">
              <a:solidFill>
                <a:srgbClr val="000000"/>
              </a:solidFill>
              <a:latin typeface="Calibri"/>
            </a:endParaRPr>
          </a:p>
        </p:txBody>
      </p:sp>
      <p:sp>
        <p:nvSpPr>
          <p:cNvPr id="306" name="矩形 5"/>
          <p:cNvSpPr/>
          <p:nvPr/>
        </p:nvSpPr>
        <p:spPr>
          <a:xfrm>
            <a:off x="5112720" y="2225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小心翼翼</a:t>
            </a:r>
            <a:endParaRPr b="0" lang="en-US" sz="2400" spc="-1" strike="noStrike">
              <a:solidFill>
                <a:srgbClr val="000000"/>
              </a:solidFill>
              <a:latin typeface="Calibri"/>
            </a:endParaRPr>
          </a:p>
        </p:txBody>
      </p:sp>
      <p:sp>
        <p:nvSpPr>
          <p:cNvPr id="307" name="矩形 9"/>
          <p:cNvSpPr/>
          <p:nvPr/>
        </p:nvSpPr>
        <p:spPr>
          <a:xfrm>
            <a:off x="1950840" y="27496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辛勤</a:t>
            </a:r>
            <a:endParaRPr b="0" lang="en-US" sz="2400" spc="-1" strike="noStrike">
              <a:solidFill>
                <a:srgbClr val="000000"/>
              </a:solidFill>
              <a:latin typeface="Calibri"/>
            </a:endParaRPr>
          </a:p>
        </p:txBody>
      </p:sp>
      <p:sp>
        <p:nvSpPr>
          <p:cNvPr id="308" name="矩形 12"/>
          <p:cNvSpPr/>
          <p:nvPr/>
        </p:nvSpPr>
        <p:spPr>
          <a:xfrm>
            <a:off x="5142960" y="27417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毫不怜惜</a:t>
            </a:r>
            <a:endParaRPr b="0" lang="en-US" sz="2400" spc="-1" strike="noStrike">
              <a:solidFill>
                <a:srgbClr val="000000"/>
              </a:solidFill>
              <a:latin typeface="Calibri"/>
            </a:endParaRPr>
          </a:p>
        </p:txBody>
      </p:sp>
      <p:sp>
        <p:nvSpPr>
          <p:cNvPr id="309" name="矩形 13"/>
          <p:cNvSpPr/>
          <p:nvPr/>
        </p:nvSpPr>
        <p:spPr>
          <a:xfrm>
            <a:off x="1950840" y="33498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良好</a:t>
            </a:r>
            <a:endParaRPr b="0" lang="en-US" sz="2400" spc="-1" strike="noStrike">
              <a:solidFill>
                <a:srgbClr val="000000"/>
              </a:solidFill>
              <a:latin typeface="Calibri"/>
            </a:endParaRPr>
          </a:p>
        </p:txBody>
      </p:sp>
      <p:sp>
        <p:nvSpPr>
          <p:cNvPr id="310" name="矩形 14"/>
          <p:cNvSpPr/>
          <p:nvPr/>
        </p:nvSpPr>
        <p:spPr>
          <a:xfrm>
            <a:off x="5142960" y="3319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尽心竭力</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nodeType="clickEffect" fill="hold">
                      <p:stCondLst>
                        <p:cond delay="indefinite"/>
                      </p:stCondLst>
                      <p:childTnLst>
                        <p:par>
                          <p:cTn id="813" nodeType="withEffect"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05"/>
                                        </p:tgtEl>
                                        <p:attrNameLst>
                                          <p:attrName>style.visibility</p:attrName>
                                        </p:attrNameLst>
                                      </p:cBhvr>
                                      <p:to>
                                        <p:strVal val="visible"/>
                                      </p:to>
                                    </p:set>
                                    <p:animEffect filter="wipe(left)" transition="in">
                                      <p:cBhvr additive="repl">
                                        <p:cTn id="816" dur="500"/>
                                        <p:tgtEl>
                                          <p:spTgt spid="305"/>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06"/>
                                        </p:tgtEl>
                                        <p:attrNameLst>
                                          <p:attrName>style.visibility</p:attrName>
                                        </p:attrNameLst>
                                      </p:cBhvr>
                                      <p:to>
                                        <p:strVal val="visible"/>
                                      </p:to>
                                    </p:set>
                                    <p:animEffect filter="wipe(left)" transition="in">
                                      <p:cBhvr additive="repl">
                                        <p:cTn id="821" dur="500"/>
                                        <p:tgtEl>
                                          <p:spTgt spid="306"/>
                                        </p:tgtEl>
                                      </p:cBhvr>
                                    </p:animEffect>
                                  </p:childTnLst>
                                </p:cTn>
                              </p:par>
                            </p:childTnLst>
                          </p:cTn>
                        </p:par>
                      </p:childTnLst>
                    </p:cTn>
                  </p:par>
                  <p:par>
                    <p:cTn id="822" nodeType="clickEffect" fill="hold">
                      <p:stCondLst>
                        <p:cond delay="indefinite"/>
                      </p:stCondLst>
                      <p:childTnLst>
                        <p:par>
                          <p:cTn id="823" nodeType="withEffect"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07"/>
                                        </p:tgtEl>
                                        <p:attrNameLst>
                                          <p:attrName>style.visibility</p:attrName>
                                        </p:attrNameLst>
                                      </p:cBhvr>
                                      <p:to>
                                        <p:strVal val="visible"/>
                                      </p:to>
                                    </p:set>
                                    <p:animEffect filter="wipe(left)" transition="in">
                                      <p:cBhvr additive="repl">
                                        <p:cTn id="826" dur="500"/>
                                        <p:tgtEl>
                                          <p:spTgt spid="307"/>
                                        </p:tgtEl>
                                      </p:cBhvr>
                                    </p:animEffec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308"/>
                                        </p:tgtEl>
                                        <p:attrNameLst>
                                          <p:attrName>style.visibility</p:attrName>
                                        </p:attrNameLst>
                                      </p:cBhvr>
                                      <p:to>
                                        <p:strVal val="visible"/>
                                      </p:to>
                                    </p:set>
                                    <p:animEffect filter="wipe(left)" transition="in">
                                      <p:cBhvr additive="repl">
                                        <p:cTn id="831" dur="500"/>
                                        <p:tgtEl>
                                          <p:spTgt spid="308"/>
                                        </p:tgtEl>
                                      </p:cBhvr>
                                    </p:animEffec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309"/>
                                        </p:tgtEl>
                                        <p:attrNameLst>
                                          <p:attrName>style.visibility</p:attrName>
                                        </p:attrNameLst>
                                      </p:cBhvr>
                                      <p:to>
                                        <p:strVal val="visible"/>
                                      </p:to>
                                    </p:set>
                                    <p:animEffect filter="wipe(left)" transition="in">
                                      <p:cBhvr additive="repl">
                                        <p:cTn id="836" dur="500"/>
                                        <p:tgtEl>
                                          <p:spTgt spid="309"/>
                                        </p:tgtEl>
                                      </p:cBhvr>
                                    </p:animEffec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310"/>
                                        </p:tgtEl>
                                        <p:attrNameLst>
                                          <p:attrName>style.visibility</p:attrName>
                                        </p:attrNameLst>
                                      </p:cBhvr>
                                      <p:to>
                                        <p:strVal val="visible"/>
                                      </p:to>
                                    </p:set>
                                    <p:animEffect filter="wipe(left)" transition="in">
                                      <p:cBhvr additive="repl">
                                        <p:cTn id="841"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矩形 1"/>
          <p:cNvSpPr/>
          <p:nvPr/>
        </p:nvSpPr>
        <p:spPr>
          <a:xfrm>
            <a:off x="560520" y="885960"/>
            <a:ext cx="7713360" cy="4483080"/>
          </a:xfrm>
          <a:prstGeom prst="rect">
            <a:avLst/>
          </a:prstGeom>
          <a:noFill/>
          <a:ln w="0">
            <a:noFill/>
          </a:ln>
        </p:spPr>
        <p:style>
          <a:lnRef idx="0"/>
          <a:fillRef idx="0"/>
          <a:effectRef idx="0"/>
          <a:fontRef idx="minor"/>
        </p:style>
        <p:txBody>
          <a:bodyPr lIns="90000" rIns="90000" tIns="46800" bIns="46800" anchor="t">
            <a:spAutoFit/>
          </a:bodyPr>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5</a:t>
            </a:r>
            <a:r>
              <a:rPr b="1" lang="zh-CN" sz="2400" spc="-1" strike="noStrike">
                <a:solidFill>
                  <a:srgbClr val="000000"/>
                </a:solidFill>
                <a:latin typeface="宋体"/>
              </a:rPr>
              <a:t>．按要求改写句子。</a:t>
            </a:r>
            <a:endParaRPr b="0" lang="en-US" sz="2400" spc="-1" strike="noStrike">
              <a:solidFill>
                <a:srgbClr val="000000"/>
              </a:solidFill>
              <a:latin typeface="Calibri"/>
            </a:endParaRPr>
          </a:p>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1)</a:t>
            </a:r>
            <a:r>
              <a:rPr b="1" lang="zh-CN" sz="2400" spc="-1" strike="noStrike">
                <a:solidFill>
                  <a:srgbClr val="000000"/>
                </a:solidFill>
                <a:latin typeface="宋体"/>
              </a:rPr>
              <a:t>可是蜘蛛最终怎能缚住这只强而有力的苍蝇呢？</a:t>
            </a:r>
            <a:r>
              <a:rPr b="1" lang="en-US" sz="2400" spc="-1" strike="noStrike">
                <a:solidFill>
                  <a:srgbClr val="000000"/>
                </a:solidFill>
                <a:latin typeface="宋体"/>
              </a:rPr>
              <a:t>(</a:t>
            </a:r>
            <a:r>
              <a:rPr b="1" lang="zh-CN" sz="2400" spc="-1" strike="noStrike">
                <a:solidFill>
                  <a:srgbClr val="000000"/>
                </a:solidFill>
                <a:latin typeface="宋体"/>
              </a:rPr>
              <a:t>改为陈述句</a:t>
            </a:r>
            <a:r>
              <a:rPr b="1" lang="en-US" sz="2400" spc="-1" strike="noStrike">
                <a:solidFill>
                  <a:srgbClr val="000000"/>
                </a:solidFill>
                <a:latin typeface="宋体"/>
              </a:rPr>
              <a:t>)</a:t>
            </a:r>
            <a:endParaRPr b="0" lang="en-US" sz="2400" spc="-1" strike="noStrike">
              <a:solidFill>
                <a:srgbClr val="000000"/>
              </a:solidFill>
              <a:latin typeface="Calibri"/>
            </a:endParaRPr>
          </a:p>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_</a:t>
            </a:r>
            <a:endParaRPr b="0" lang="en-US" sz="2400" spc="-1" strike="noStrike">
              <a:solidFill>
                <a:srgbClr val="000000"/>
              </a:solidFill>
              <a:latin typeface="Calibri"/>
            </a:endParaRPr>
          </a:p>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a:t>
            </a:r>
            <a:r>
              <a:rPr b="1" lang="zh-CN" sz="2400" spc="-1" strike="noStrike">
                <a:solidFill>
                  <a:srgbClr val="000000"/>
                </a:solidFill>
                <a:latin typeface="宋体"/>
              </a:rPr>
              <a:t>更大的蜘蛛没有自己的网。更大的蜘蛛不得不跑来侵犯它的邻居。</a:t>
            </a:r>
            <a:r>
              <a:rPr b="1" lang="en-US" sz="2400" spc="-1" strike="noStrike">
                <a:solidFill>
                  <a:srgbClr val="000000"/>
                </a:solidFill>
                <a:latin typeface="宋体"/>
              </a:rPr>
              <a:t>(</a:t>
            </a:r>
            <a:r>
              <a:rPr b="1" lang="zh-CN" sz="2400" spc="-1" strike="noStrike">
                <a:solidFill>
                  <a:srgbClr val="000000"/>
                </a:solidFill>
                <a:latin typeface="宋体"/>
              </a:rPr>
              <a:t>用关联词语联成一句话</a:t>
            </a:r>
            <a:r>
              <a:rPr b="1" lang="en-US" sz="2400" spc="-1" strike="noStrike">
                <a:solidFill>
                  <a:srgbClr val="000000"/>
                </a:solidFill>
                <a:latin typeface="宋体"/>
              </a:rPr>
              <a:t>)</a:t>
            </a:r>
            <a:endParaRPr b="0" lang="en-US" sz="2400" spc="-1" strike="noStrike">
              <a:solidFill>
                <a:srgbClr val="000000"/>
              </a:solidFill>
              <a:latin typeface="Calibri"/>
            </a:endParaRPr>
          </a:p>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______________________________________________</a:t>
            </a:r>
            <a:endParaRPr b="0" lang="en-US" sz="2400" spc="-1" strike="noStrike">
              <a:solidFill>
                <a:srgbClr val="000000"/>
              </a:solidFill>
              <a:latin typeface="Calibri"/>
            </a:endParaRPr>
          </a:p>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3)</a:t>
            </a:r>
            <a:r>
              <a:rPr b="1" lang="zh-CN" sz="2400" spc="-1" strike="noStrike">
                <a:solidFill>
                  <a:srgbClr val="000000"/>
                </a:solidFill>
                <a:latin typeface="宋体"/>
              </a:rPr>
              <a:t>我把一只黄蜂放进它的蛛网中。</a:t>
            </a:r>
            <a:r>
              <a:rPr b="1" lang="en-US" sz="2400" spc="-1" strike="noStrike">
                <a:solidFill>
                  <a:srgbClr val="000000"/>
                </a:solidFill>
                <a:latin typeface="宋体"/>
              </a:rPr>
              <a:t>(</a:t>
            </a:r>
            <a:r>
              <a:rPr b="1" lang="zh-CN" sz="2400" spc="-1" strike="noStrike">
                <a:solidFill>
                  <a:srgbClr val="000000"/>
                </a:solidFill>
                <a:latin typeface="宋体"/>
              </a:rPr>
              <a:t>改成“被”字句</a:t>
            </a:r>
            <a:r>
              <a:rPr b="1" lang="en-US" sz="2400" spc="-1" strike="noStrike">
                <a:solidFill>
                  <a:srgbClr val="000000"/>
                </a:solidFill>
                <a:latin typeface="宋体"/>
              </a:rPr>
              <a:t>)</a:t>
            </a:r>
            <a:endParaRPr b="0" lang="en-US" sz="2400" spc="-1" strike="noStrike">
              <a:solidFill>
                <a:srgbClr val="000000"/>
              </a:solidFill>
              <a:latin typeface="Calibri"/>
            </a:endParaRPr>
          </a:p>
          <a:p>
            <a:pPr marL="538200" indent="-538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_</a:t>
            </a:r>
            <a:endParaRPr b="0" lang="en-US" sz="2400" spc="-1" strike="noStrike">
              <a:solidFill>
                <a:srgbClr val="000000"/>
              </a:solidFill>
              <a:latin typeface="Calibri"/>
            </a:endParaRPr>
          </a:p>
        </p:txBody>
      </p:sp>
      <p:sp>
        <p:nvSpPr>
          <p:cNvPr id="312" name="矩形 7"/>
          <p:cNvSpPr/>
          <p:nvPr/>
        </p:nvSpPr>
        <p:spPr>
          <a:xfrm>
            <a:off x="1111320" y="58816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一只黄蜂被我放进它的蛛网中。</a:t>
            </a:r>
            <a:endParaRPr b="0" lang="en-US" sz="2400" spc="-1" strike="noStrike">
              <a:solidFill>
                <a:srgbClr val="000000"/>
              </a:solidFill>
              <a:latin typeface="Calibri"/>
            </a:endParaRPr>
          </a:p>
        </p:txBody>
      </p:sp>
      <p:sp>
        <p:nvSpPr>
          <p:cNvPr id="313" name="矩形 4"/>
          <p:cNvSpPr/>
          <p:nvPr/>
        </p:nvSpPr>
        <p:spPr>
          <a:xfrm>
            <a:off x="1225440" y="2610000"/>
            <a:ext cx="647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可是蜘蛛最终不能缚住这只强而有力的苍蝇。</a:t>
            </a:r>
            <a:endParaRPr b="0" lang="en-US" sz="2400" spc="-1" strike="noStrike">
              <a:solidFill>
                <a:srgbClr val="000000"/>
              </a:solidFill>
              <a:latin typeface="Calibri"/>
            </a:endParaRPr>
          </a:p>
        </p:txBody>
      </p:sp>
      <p:sp>
        <p:nvSpPr>
          <p:cNvPr id="314" name="矩形 5"/>
          <p:cNvSpPr/>
          <p:nvPr/>
        </p:nvSpPr>
        <p:spPr>
          <a:xfrm>
            <a:off x="1092240" y="4149720"/>
            <a:ext cx="7210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因为更大的蜘蛛没有自己的网，所以不得不跑来侵犯它的邻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nodeType="clickEffect" fill="hold">
                      <p:stCondLst>
                        <p:cond delay="indefinite"/>
                      </p:stCondLst>
                      <p:childTnLst>
                        <p:par>
                          <p:cTn id="845" nodeType="withEffect" fill="hold">
                            <p:stCondLst>
                              <p:cond delay="0"/>
                            </p:stCondLst>
                            <p:childTnLst>
                              <p:par>
                                <p:cTn id="846" nodeType="clickEffect" fill="hold" presetClass="entr" presetID="22" presetSubtype="8">
                                  <p:stCondLst>
                                    <p:cond delay="0"/>
                                  </p:stCondLst>
                                  <p:childTnLst>
                                    <p:set>
                                      <p:cBhvr>
                                        <p:cTn id="847" dur="1" fill="hold">
                                          <p:stCondLst>
                                            <p:cond delay="0"/>
                                          </p:stCondLst>
                                        </p:cTn>
                                        <p:tgtEl>
                                          <p:spTgt spid="313"/>
                                        </p:tgtEl>
                                        <p:attrNameLst>
                                          <p:attrName>style.visibility</p:attrName>
                                        </p:attrNameLst>
                                      </p:cBhvr>
                                      <p:to>
                                        <p:strVal val="visible"/>
                                      </p:to>
                                    </p:set>
                                    <p:animEffect filter="wipe(left)" transition="in">
                                      <p:cBhvr additive="repl">
                                        <p:cTn id="848" dur="500"/>
                                        <p:tgtEl>
                                          <p:spTgt spid="313"/>
                                        </p:tgtEl>
                                      </p:cBhvr>
                                    </p:animEffec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22" presetSubtype="8">
                                  <p:stCondLst>
                                    <p:cond delay="0"/>
                                  </p:stCondLst>
                                  <p:childTnLst>
                                    <p:set>
                                      <p:cBhvr>
                                        <p:cTn id="852" dur="1" fill="hold">
                                          <p:stCondLst>
                                            <p:cond delay="0"/>
                                          </p:stCondLst>
                                        </p:cTn>
                                        <p:tgtEl>
                                          <p:spTgt spid="314"/>
                                        </p:tgtEl>
                                        <p:attrNameLst>
                                          <p:attrName>style.visibility</p:attrName>
                                        </p:attrNameLst>
                                      </p:cBhvr>
                                      <p:to>
                                        <p:strVal val="visible"/>
                                      </p:to>
                                    </p:set>
                                    <p:animEffect filter="wipe(left)" transition="in">
                                      <p:cBhvr additive="repl">
                                        <p:cTn id="853" dur="500"/>
                                        <p:tgtEl>
                                          <p:spTgt spid="314"/>
                                        </p:tgtEl>
                                      </p:cBhvr>
                                    </p:animEffec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2" presetSubtype="8">
                                  <p:stCondLst>
                                    <p:cond delay="0"/>
                                  </p:stCondLst>
                                  <p:childTnLst>
                                    <p:set>
                                      <p:cBhvr>
                                        <p:cTn id="857" dur="1" fill="hold">
                                          <p:stCondLst>
                                            <p:cond delay="0"/>
                                          </p:stCondLst>
                                        </p:cTn>
                                        <p:tgtEl>
                                          <p:spTgt spid="312"/>
                                        </p:tgtEl>
                                        <p:attrNameLst>
                                          <p:attrName>style.visibility</p:attrName>
                                        </p:attrNameLst>
                                      </p:cBhvr>
                                      <p:to>
                                        <p:strVal val="visible"/>
                                      </p:to>
                                    </p:set>
                                    <p:animEffect filter="wipe(left)" transition="in">
                                      <p:cBhvr additive="repl">
                                        <p:cTn id="858"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矩形 6"/>
          <p:cNvSpPr/>
          <p:nvPr/>
        </p:nvSpPr>
        <p:spPr>
          <a:xfrm>
            <a:off x="866880" y="2381400"/>
            <a:ext cx="7491240" cy="1191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认识</a:t>
            </a:r>
            <a:r>
              <a:rPr b="1" lang="en-US" sz="2400" spc="-1" strike="noStrike">
                <a:solidFill>
                  <a:srgbClr val="000000"/>
                </a:solidFill>
                <a:latin typeface="宋体"/>
              </a:rPr>
              <a:t>10</a:t>
            </a:r>
            <a:r>
              <a:rPr b="1" lang="zh-CN" sz="2400" spc="-1" strike="noStrike">
                <a:solidFill>
                  <a:srgbClr val="000000"/>
                </a:solidFill>
                <a:latin typeface="宋体"/>
              </a:rPr>
              <a:t>个生字，会写</a:t>
            </a:r>
            <a:r>
              <a:rPr b="1" lang="en-US" sz="2400" spc="-1" strike="noStrike">
                <a:solidFill>
                  <a:srgbClr val="000000"/>
                </a:solidFill>
                <a:latin typeface="宋体"/>
              </a:rPr>
              <a:t>8</a:t>
            </a:r>
            <a:r>
              <a:rPr b="1" lang="zh-CN" sz="2400" spc="-1" strike="noStrike">
                <a:solidFill>
                  <a:srgbClr val="000000"/>
                </a:solidFill>
                <a:latin typeface="宋体"/>
              </a:rPr>
              <a:t>个生字；理解“侵犯、伪装、计谋”等词语。</a:t>
            </a:r>
            <a:r>
              <a:rPr b="1" lang="zh-CN" sz="2400" spc="-1" strike="noStrike">
                <a:solidFill>
                  <a:srgbClr val="ff0000"/>
                </a:solidFill>
                <a:latin typeface="宋体"/>
              </a:rPr>
              <a:t>（重点）</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正确、流利、有感情地朗读课文。</a:t>
            </a:r>
            <a:endParaRPr b="0" lang="en-US" sz="2400" spc="-1" strike="noStrike">
              <a:solidFill>
                <a:srgbClr val="000000"/>
              </a:solidFill>
              <a:latin typeface="Calibri"/>
            </a:endParaRPr>
          </a:p>
        </p:txBody>
      </p:sp>
      <p:pic>
        <p:nvPicPr>
          <p:cNvPr id="71" name="图示 4" descr=""/>
          <p:cNvPicPr/>
          <p:nvPr/>
        </p:nvPicPr>
        <p:blipFill>
          <a:blip r:embed="rId1"/>
          <a:stretch/>
        </p:blipFill>
        <p:spPr>
          <a:xfrm>
            <a:off x="878040" y="1090440"/>
            <a:ext cx="3090600" cy="1470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躯</a:t>
            </a:r>
            <a:endParaRPr b="0" lang="en-US" sz="8000" spc="-1" strike="noStrike">
              <a:solidFill>
                <a:srgbClr val="000000"/>
              </a:solidFill>
              <a:latin typeface="Calibri"/>
            </a:endParaRPr>
          </a:p>
        </p:txBody>
      </p:sp>
      <p:graphicFrame>
        <p:nvGraphicFramePr>
          <p:cNvPr id="73"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4" name="图片 10" descr=""/>
          <p:cNvPicPr/>
          <p:nvPr/>
        </p:nvPicPr>
        <p:blipFill>
          <a:blip r:embed="rId1"/>
          <a:stretch/>
        </p:blipFill>
        <p:spPr>
          <a:xfrm>
            <a:off x="3284640" y="322200"/>
            <a:ext cx="2585880" cy="601560"/>
          </a:xfrm>
          <a:prstGeom prst="rect">
            <a:avLst/>
          </a:prstGeom>
          <a:ln w="0">
            <a:noFill/>
          </a:ln>
          <a:effectLst>
            <a:outerShdw dist="153753" dir="2700000" blurRad="0" rotWithShape="0">
              <a:srgbClr val="000000">
                <a:alpha val="40000"/>
              </a:srgbClr>
            </a:outerShdw>
          </a:effectLst>
        </p:spPr>
      </p:pic>
      <p:grpSp>
        <p:nvGrpSpPr>
          <p:cNvPr id="75" name="组合 2"/>
          <p:cNvGrpSpPr/>
          <p:nvPr/>
        </p:nvGrpSpPr>
        <p:grpSpPr>
          <a:xfrm>
            <a:off x="730080" y="1200240"/>
            <a:ext cx="2905200" cy="666720"/>
            <a:chOff x="730080" y="1200240"/>
            <a:chExt cx="2905200" cy="666720"/>
          </a:xfrm>
        </p:grpSpPr>
        <p:sp>
          <p:nvSpPr>
            <p:cNvPr id="76" name="圆角矩形 17"/>
            <p:cNvSpPr/>
            <p:nvPr/>
          </p:nvSpPr>
          <p:spPr>
            <a:xfrm>
              <a:off x="1545840" y="133812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7" name="图片 9" descr="book.gif"/>
            <p:cNvPicPr/>
            <p:nvPr/>
          </p:nvPicPr>
          <p:blipFill>
            <a:blip r:embed="rId2"/>
            <a:stretch/>
          </p:blipFill>
          <p:spPr>
            <a:xfrm>
              <a:off x="730080" y="1200240"/>
              <a:ext cx="1087200" cy="666720"/>
            </a:xfrm>
            <a:prstGeom prst="rect">
              <a:avLst/>
            </a:prstGeom>
            <a:ln w="0">
              <a:noFill/>
            </a:ln>
          </p:spPr>
        </p:pic>
        <p:sp>
          <p:nvSpPr>
            <p:cNvPr id="78" name="文本框 16"/>
            <p:cNvSpPr/>
            <p:nvPr/>
          </p:nvSpPr>
          <p:spPr>
            <a:xfrm>
              <a:off x="1805400" y="135720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我会写</a:t>
              </a:r>
              <a:endParaRPr b="0" lang="en-US" sz="2400" spc="-1" strike="noStrike">
                <a:solidFill>
                  <a:srgbClr val="000000"/>
                </a:solidFill>
                <a:latin typeface="Calibri"/>
              </a:endParaRPr>
            </a:p>
          </p:txBody>
        </p:sp>
      </p:grpSp>
      <p:grpSp>
        <p:nvGrpSpPr>
          <p:cNvPr id="79" name="组合 8"/>
          <p:cNvGrpSpPr/>
          <p:nvPr/>
        </p:nvGrpSpPr>
        <p:grpSpPr>
          <a:xfrm>
            <a:off x="1305000" y="3975120"/>
            <a:ext cx="2840040" cy="1572480"/>
            <a:chOff x="1305000" y="3975120"/>
            <a:chExt cx="2840040" cy="1572480"/>
          </a:xfrm>
        </p:grpSpPr>
        <p:pic>
          <p:nvPicPr>
            <p:cNvPr id="80" name="图示 4" descr=""/>
            <p:cNvPicPr/>
            <p:nvPr/>
          </p:nvPicPr>
          <p:blipFill>
            <a:blip r:embed="rId3"/>
            <a:stretch/>
          </p:blipFill>
          <p:spPr>
            <a:xfrm>
              <a:off x="1305000" y="3975120"/>
              <a:ext cx="2840040" cy="1572480"/>
            </a:xfrm>
            <a:prstGeom prst="rect">
              <a:avLst/>
            </a:prstGeom>
            <a:ln w="0">
              <a:noFill/>
            </a:ln>
          </p:spPr>
        </p:pic>
        <p:sp>
          <p:nvSpPr>
            <p:cNvPr id="81" name="矩形 2"/>
            <p:cNvSpPr/>
            <p:nvPr/>
          </p:nvSpPr>
          <p:spPr>
            <a:xfrm>
              <a:off x="1351800" y="4588200"/>
              <a:ext cx="27666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a:t>
              </a:r>
              <a:r>
                <a:rPr b="1" lang="zh-CN" sz="2000" spc="-1" strike="noStrike">
                  <a:solidFill>
                    <a:srgbClr val="000000"/>
                  </a:solidFill>
                  <a:latin typeface="仿宋"/>
                  <a:ea typeface="仿宋"/>
                </a:rPr>
                <a:t>身”的最后一撇不要穿过横折钩；右部笔画粗壮。</a:t>
              </a:r>
              <a:endParaRPr b="0" lang="en-US" sz="2000" spc="-1" strike="noStrike">
                <a:solidFill>
                  <a:srgbClr val="000000"/>
                </a:solidFill>
                <a:latin typeface="Calibri"/>
              </a:endParaRPr>
            </a:p>
          </p:txBody>
        </p:sp>
      </p:grpSp>
      <p:sp>
        <p:nvSpPr>
          <p:cNvPr id="82" name="矩形 3"/>
          <p:cNvSpPr/>
          <p:nvPr/>
        </p:nvSpPr>
        <p:spPr>
          <a:xfrm>
            <a:off x="2171880" y="1868400"/>
            <a:ext cx="917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qū</a:t>
            </a:r>
            <a:endParaRPr b="0" lang="en-US" sz="4800" spc="-1" strike="noStrike">
              <a:solidFill>
                <a:srgbClr val="000000"/>
              </a:solidFill>
              <a:latin typeface="Calibri"/>
            </a:endParaRPr>
          </a:p>
        </p:txBody>
      </p:sp>
      <p:sp>
        <p:nvSpPr>
          <p:cNvPr id="83" name="Freeform 89"/>
          <p:cNvSpPr/>
          <p:nvPr/>
        </p:nvSpPr>
        <p:spPr>
          <a:xfrm>
            <a:off x="5983200" y="2700360"/>
            <a:ext cx="420840" cy="533520"/>
          </a:xfrm>
          <a:custGeom>
            <a:avLst/>
            <a:gdLst/>
            <a:ahLst/>
            <a:rect l="l" t="t" r="r" b="b"/>
            <a:pathLst>
              <a:path w="530" h="672">
                <a:moveTo>
                  <a:pt x="277" y="68"/>
                </a:moveTo>
                <a:lnTo>
                  <a:pt x="271" y="62"/>
                </a:lnTo>
                <a:lnTo>
                  <a:pt x="265" y="54"/>
                </a:lnTo>
                <a:lnTo>
                  <a:pt x="261" y="48"/>
                </a:lnTo>
                <a:lnTo>
                  <a:pt x="257" y="45"/>
                </a:lnTo>
                <a:lnTo>
                  <a:pt x="254" y="39"/>
                </a:lnTo>
                <a:lnTo>
                  <a:pt x="252" y="35"/>
                </a:lnTo>
                <a:lnTo>
                  <a:pt x="252" y="31"/>
                </a:lnTo>
                <a:lnTo>
                  <a:pt x="250" y="27"/>
                </a:lnTo>
                <a:lnTo>
                  <a:pt x="252" y="23"/>
                </a:lnTo>
                <a:lnTo>
                  <a:pt x="252" y="22"/>
                </a:lnTo>
                <a:lnTo>
                  <a:pt x="254" y="18"/>
                </a:lnTo>
                <a:lnTo>
                  <a:pt x="257" y="16"/>
                </a:lnTo>
                <a:lnTo>
                  <a:pt x="261" y="14"/>
                </a:lnTo>
                <a:lnTo>
                  <a:pt x="265" y="10"/>
                </a:lnTo>
                <a:lnTo>
                  <a:pt x="271" y="8"/>
                </a:lnTo>
                <a:lnTo>
                  <a:pt x="277" y="6"/>
                </a:lnTo>
                <a:lnTo>
                  <a:pt x="282" y="4"/>
                </a:lnTo>
                <a:lnTo>
                  <a:pt x="288" y="2"/>
                </a:lnTo>
                <a:lnTo>
                  <a:pt x="294" y="2"/>
                </a:lnTo>
                <a:lnTo>
                  <a:pt x="300" y="0"/>
                </a:lnTo>
                <a:lnTo>
                  <a:pt x="307" y="2"/>
                </a:lnTo>
                <a:lnTo>
                  <a:pt x="315" y="2"/>
                </a:lnTo>
                <a:lnTo>
                  <a:pt x="323" y="4"/>
                </a:lnTo>
                <a:lnTo>
                  <a:pt x="332" y="6"/>
                </a:lnTo>
                <a:lnTo>
                  <a:pt x="340" y="8"/>
                </a:lnTo>
                <a:lnTo>
                  <a:pt x="351" y="12"/>
                </a:lnTo>
                <a:lnTo>
                  <a:pt x="361" y="16"/>
                </a:lnTo>
                <a:lnTo>
                  <a:pt x="373" y="20"/>
                </a:lnTo>
                <a:lnTo>
                  <a:pt x="384" y="25"/>
                </a:lnTo>
                <a:lnTo>
                  <a:pt x="396" y="29"/>
                </a:lnTo>
                <a:lnTo>
                  <a:pt x="409" y="37"/>
                </a:lnTo>
                <a:lnTo>
                  <a:pt x="422" y="43"/>
                </a:lnTo>
                <a:lnTo>
                  <a:pt x="434" y="50"/>
                </a:lnTo>
                <a:lnTo>
                  <a:pt x="447" y="56"/>
                </a:lnTo>
                <a:lnTo>
                  <a:pt x="459" y="64"/>
                </a:lnTo>
                <a:lnTo>
                  <a:pt x="469" y="71"/>
                </a:lnTo>
                <a:lnTo>
                  <a:pt x="478" y="77"/>
                </a:lnTo>
                <a:lnTo>
                  <a:pt x="488" y="85"/>
                </a:lnTo>
                <a:lnTo>
                  <a:pt x="495" y="93"/>
                </a:lnTo>
                <a:lnTo>
                  <a:pt x="503" y="98"/>
                </a:lnTo>
                <a:lnTo>
                  <a:pt x="509" y="106"/>
                </a:lnTo>
                <a:lnTo>
                  <a:pt x="515" y="112"/>
                </a:lnTo>
                <a:lnTo>
                  <a:pt x="518" y="119"/>
                </a:lnTo>
                <a:lnTo>
                  <a:pt x="522" y="127"/>
                </a:lnTo>
                <a:lnTo>
                  <a:pt x="526" y="133"/>
                </a:lnTo>
                <a:lnTo>
                  <a:pt x="528" y="141"/>
                </a:lnTo>
                <a:lnTo>
                  <a:pt x="530" y="146"/>
                </a:lnTo>
                <a:lnTo>
                  <a:pt x="530" y="154"/>
                </a:lnTo>
                <a:lnTo>
                  <a:pt x="524" y="167"/>
                </a:lnTo>
                <a:lnTo>
                  <a:pt x="518" y="183"/>
                </a:lnTo>
                <a:lnTo>
                  <a:pt x="511" y="196"/>
                </a:lnTo>
                <a:lnTo>
                  <a:pt x="503" y="212"/>
                </a:lnTo>
                <a:lnTo>
                  <a:pt x="494" y="227"/>
                </a:lnTo>
                <a:lnTo>
                  <a:pt x="482" y="242"/>
                </a:lnTo>
                <a:lnTo>
                  <a:pt x="470" y="260"/>
                </a:lnTo>
                <a:lnTo>
                  <a:pt x="457" y="277"/>
                </a:lnTo>
                <a:lnTo>
                  <a:pt x="453" y="283"/>
                </a:lnTo>
                <a:lnTo>
                  <a:pt x="447" y="288"/>
                </a:lnTo>
                <a:lnTo>
                  <a:pt x="442" y="294"/>
                </a:lnTo>
                <a:lnTo>
                  <a:pt x="436" y="300"/>
                </a:lnTo>
                <a:lnTo>
                  <a:pt x="430" y="307"/>
                </a:lnTo>
                <a:lnTo>
                  <a:pt x="422" y="313"/>
                </a:lnTo>
                <a:lnTo>
                  <a:pt x="415" y="321"/>
                </a:lnTo>
                <a:lnTo>
                  <a:pt x="407" y="331"/>
                </a:lnTo>
                <a:lnTo>
                  <a:pt x="399" y="338"/>
                </a:lnTo>
                <a:lnTo>
                  <a:pt x="390" y="348"/>
                </a:lnTo>
                <a:lnTo>
                  <a:pt x="373" y="369"/>
                </a:lnTo>
                <a:lnTo>
                  <a:pt x="351" y="390"/>
                </a:lnTo>
                <a:lnTo>
                  <a:pt x="328" y="413"/>
                </a:lnTo>
                <a:lnTo>
                  <a:pt x="305" y="440"/>
                </a:lnTo>
                <a:lnTo>
                  <a:pt x="279" y="467"/>
                </a:lnTo>
                <a:lnTo>
                  <a:pt x="252" y="496"/>
                </a:lnTo>
                <a:lnTo>
                  <a:pt x="221" y="528"/>
                </a:lnTo>
                <a:lnTo>
                  <a:pt x="190" y="561"/>
                </a:lnTo>
                <a:lnTo>
                  <a:pt x="158" y="595"/>
                </a:lnTo>
                <a:lnTo>
                  <a:pt x="121" y="632"/>
                </a:lnTo>
                <a:lnTo>
                  <a:pt x="85" y="672"/>
                </a:lnTo>
                <a:lnTo>
                  <a:pt x="0" y="659"/>
                </a:lnTo>
                <a:lnTo>
                  <a:pt x="27" y="620"/>
                </a:lnTo>
                <a:lnTo>
                  <a:pt x="52" y="584"/>
                </a:lnTo>
                <a:lnTo>
                  <a:pt x="77" y="549"/>
                </a:lnTo>
                <a:lnTo>
                  <a:pt x="98" y="515"/>
                </a:lnTo>
                <a:lnTo>
                  <a:pt x="121" y="484"/>
                </a:lnTo>
                <a:lnTo>
                  <a:pt x="142" y="453"/>
                </a:lnTo>
                <a:lnTo>
                  <a:pt x="161" y="425"/>
                </a:lnTo>
                <a:lnTo>
                  <a:pt x="179" y="398"/>
                </a:lnTo>
                <a:lnTo>
                  <a:pt x="196" y="371"/>
                </a:lnTo>
                <a:lnTo>
                  <a:pt x="211" y="346"/>
                </a:lnTo>
                <a:lnTo>
                  <a:pt x="227" y="325"/>
                </a:lnTo>
                <a:lnTo>
                  <a:pt x="238" y="302"/>
                </a:lnTo>
                <a:lnTo>
                  <a:pt x="252" y="283"/>
                </a:lnTo>
                <a:lnTo>
                  <a:pt x="261" y="263"/>
                </a:lnTo>
                <a:lnTo>
                  <a:pt x="271" y="244"/>
                </a:lnTo>
                <a:lnTo>
                  <a:pt x="277" y="229"/>
                </a:lnTo>
                <a:lnTo>
                  <a:pt x="284" y="213"/>
                </a:lnTo>
                <a:lnTo>
                  <a:pt x="288" y="202"/>
                </a:lnTo>
                <a:lnTo>
                  <a:pt x="294" y="189"/>
                </a:lnTo>
                <a:lnTo>
                  <a:pt x="298" y="177"/>
                </a:lnTo>
                <a:lnTo>
                  <a:pt x="300" y="165"/>
                </a:lnTo>
                <a:lnTo>
                  <a:pt x="302" y="154"/>
                </a:lnTo>
                <a:lnTo>
                  <a:pt x="303" y="144"/>
                </a:lnTo>
                <a:lnTo>
                  <a:pt x="303" y="135"/>
                </a:lnTo>
                <a:lnTo>
                  <a:pt x="303" y="125"/>
                </a:lnTo>
                <a:lnTo>
                  <a:pt x="302" y="116"/>
                </a:lnTo>
                <a:lnTo>
                  <a:pt x="300" y="106"/>
                </a:lnTo>
                <a:lnTo>
                  <a:pt x="298" y="98"/>
                </a:lnTo>
                <a:lnTo>
                  <a:pt x="294" y="91"/>
                </a:lnTo>
                <a:lnTo>
                  <a:pt x="288" y="83"/>
                </a:lnTo>
                <a:lnTo>
                  <a:pt x="284" y="75"/>
                </a:lnTo>
                <a:lnTo>
                  <a:pt x="277" y="6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Freeform 90"/>
          <p:cNvSpPr/>
          <p:nvPr/>
        </p:nvSpPr>
        <p:spPr>
          <a:xfrm>
            <a:off x="5815080" y="3179880"/>
            <a:ext cx="158760" cy="952560"/>
          </a:xfrm>
          <a:custGeom>
            <a:avLst/>
            <a:gdLst/>
            <a:ahLst/>
            <a:rect l="l" t="t" r="r" b="b"/>
            <a:pathLst>
              <a:path w="202" h="1199">
                <a:moveTo>
                  <a:pt x="177" y="29"/>
                </a:moveTo>
                <a:lnTo>
                  <a:pt x="179" y="75"/>
                </a:lnTo>
                <a:lnTo>
                  <a:pt x="181" y="119"/>
                </a:lnTo>
                <a:lnTo>
                  <a:pt x="181" y="161"/>
                </a:lnTo>
                <a:lnTo>
                  <a:pt x="182" y="205"/>
                </a:lnTo>
                <a:lnTo>
                  <a:pt x="182" y="248"/>
                </a:lnTo>
                <a:lnTo>
                  <a:pt x="184" y="290"/>
                </a:lnTo>
                <a:lnTo>
                  <a:pt x="184" y="330"/>
                </a:lnTo>
                <a:lnTo>
                  <a:pt x="186" y="372"/>
                </a:lnTo>
                <a:lnTo>
                  <a:pt x="186" y="413"/>
                </a:lnTo>
                <a:lnTo>
                  <a:pt x="188" y="451"/>
                </a:lnTo>
                <a:lnTo>
                  <a:pt x="190" y="491"/>
                </a:lnTo>
                <a:lnTo>
                  <a:pt x="190" y="530"/>
                </a:lnTo>
                <a:lnTo>
                  <a:pt x="192" y="568"/>
                </a:lnTo>
                <a:lnTo>
                  <a:pt x="192" y="604"/>
                </a:lnTo>
                <a:lnTo>
                  <a:pt x="192" y="641"/>
                </a:lnTo>
                <a:lnTo>
                  <a:pt x="194" y="677"/>
                </a:lnTo>
                <a:lnTo>
                  <a:pt x="194" y="714"/>
                </a:lnTo>
                <a:lnTo>
                  <a:pt x="196" y="748"/>
                </a:lnTo>
                <a:lnTo>
                  <a:pt x="196" y="783"/>
                </a:lnTo>
                <a:lnTo>
                  <a:pt x="198" y="818"/>
                </a:lnTo>
                <a:lnTo>
                  <a:pt x="198" y="852"/>
                </a:lnTo>
                <a:lnTo>
                  <a:pt x="198" y="885"/>
                </a:lnTo>
                <a:lnTo>
                  <a:pt x="200" y="917"/>
                </a:lnTo>
                <a:lnTo>
                  <a:pt x="200" y="950"/>
                </a:lnTo>
                <a:lnTo>
                  <a:pt x="200" y="981"/>
                </a:lnTo>
                <a:lnTo>
                  <a:pt x="200" y="1011"/>
                </a:lnTo>
                <a:lnTo>
                  <a:pt x="200" y="1042"/>
                </a:lnTo>
                <a:lnTo>
                  <a:pt x="202" y="1073"/>
                </a:lnTo>
                <a:lnTo>
                  <a:pt x="202" y="1102"/>
                </a:lnTo>
                <a:lnTo>
                  <a:pt x="202" y="1130"/>
                </a:lnTo>
                <a:lnTo>
                  <a:pt x="202" y="1159"/>
                </a:lnTo>
                <a:lnTo>
                  <a:pt x="202" y="1188"/>
                </a:lnTo>
                <a:lnTo>
                  <a:pt x="142" y="1194"/>
                </a:lnTo>
                <a:lnTo>
                  <a:pt x="81" y="1199"/>
                </a:lnTo>
                <a:lnTo>
                  <a:pt x="81" y="1157"/>
                </a:lnTo>
                <a:lnTo>
                  <a:pt x="81" y="1117"/>
                </a:lnTo>
                <a:lnTo>
                  <a:pt x="81" y="1077"/>
                </a:lnTo>
                <a:lnTo>
                  <a:pt x="81" y="1036"/>
                </a:lnTo>
                <a:lnTo>
                  <a:pt x="81" y="998"/>
                </a:lnTo>
                <a:lnTo>
                  <a:pt x="81" y="960"/>
                </a:lnTo>
                <a:lnTo>
                  <a:pt x="79" y="923"/>
                </a:lnTo>
                <a:lnTo>
                  <a:pt x="79" y="889"/>
                </a:lnTo>
                <a:lnTo>
                  <a:pt x="79" y="854"/>
                </a:lnTo>
                <a:lnTo>
                  <a:pt x="79" y="819"/>
                </a:lnTo>
                <a:lnTo>
                  <a:pt x="77" y="787"/>
                </a:lnTo>
                <a:lnTo>
                  <a:pt x="77" y="756"/>
                </a:lnTo>
                <a:lnTo>
                  <a:pt x="77" y="723"/>
                </a:lnTo>
                <a:lnTo>
                  <a:pt x="75" y="695"/>
                </a:lnTo>
                <a:lnTo>
                  <a:pt x="75" y="666"/>
                </a:lnTo>
                <a:lnTo>
                  <a:pt x="73" y="637"/>
                </a:lnTo>
                <a:lnTo>
                  <a:pt x="73" y="610"/>
                </a:lnTo>
                <a:lnTo>
                  <a:pt x="71" y="585"/>
                </a:lnTo>
                <a:lnTo>
                  <a:pt x="71" y="560"/>
                </a:lnTo>
                <a:lnTo>
                  <a:pt x="69" y="535"/>
                </a:lnTo>
                <a:lnTo>
                  <a:pt x="69" y="512"/>
                </a:lnTo>
                <a:lnTo>
                  <a:pt x="67" y="491"/>
                </a:lnTo>
                <a:lnTo>
                  <a:pt x="67" y="470"/>
                </a:lnTo>
                <a:lnTo>
                  <a:pt x="65" y="449"/>
                </a:lnTo>
                <a:lnTo>
                  <a:pt x="65" y="430"/>
                </a:lnTo>
                <a:lnTo>
                  <a:pt x="63" y="413"/>
                </a:lnTo>
                <a:lnTo>
                  <a:pt x="63" y="395"/>
                </a:lnTo>
                <a:lnTo>
                  <a:pt x="61" y="380"/>
                </a:lnTo>
                <a:lnTo>
                  <a:pt x="60" y="365"/>
                </a:lnTo>
                <a:lnTo>
                  <a:pt x="60" y="349"/>
                </a:lnTo>
                <a:lnTo>
                  <a:pt x="58" y="338"/>
                </a:lnTo>
                <a:lnTo>
                  <a:pt x="58" y="324"/>
                </a:lnTo>
                <a:lnTo>
                  <a:pt x="56" y="303"/>
                </a:lnTo>
                <a:lnTo>
                  <a:pt x="52" y="280"/>
                </a:lnTo>
                <a:lnTo>
                  <a:pt x="50" y="259"/>
                </a:lnTo>
                <a:lnTo>
                  <a:pt x="46" y="240"/>
                </a:lnTo>
                <a:lnTo>
                  <a:pt x="42" y="221"/>
                </a:lnTo>
                <a:lnTo>
                  <a:pt x="40" y="203"/>
                </a:lnTo>
                <a:lnTo>
                  <a:pt x="37" y="186"/>
                </a:lnTo>
                <a:lnTo>
                  <a:pt x="33" y="169"/>
                </a:lnTo>
                <a:lnTo>
                  <a:pt x="29" y="153"/>
                </a:lnTo>
                <a:lnTo>
                  <a:pt x="27" y="140"/>
                </a:lnTo>
                <a:lnTo>
                  <a:pt x="23" y="127"/>
                </a:lnTo>
                <a:lnTo>
                  <a:pt x="19" y="115"/>
                </a:lnTo>
                <a:lnTo>
                  <a:pt x="17" y="106"/>
                </a:lnTo>
                <a:lnTo>
                  <a:pt x="13" y="94"/>
                </a:lnTo>
                <a:lnTo>
                  <a:pt x="12" y="86"/>
                </a:lnTo>
                <a:lnTo>
                  <a:pt x="10" y="79"/>
                </a:lnTo>
                <a:lnTo>
                  <a:pt x="6" y="65"/>
                </a:lnTo>
                <a:lnTo>
                  <a:pt x="2" y="54"/>
                </a:lnTo>
                <a:lnTo>
                  <a:pt x="0" y="42"/>
                </a:lnTo>
                <a:lnTo>
                  <a:pt x="0" y="33"/>
                </a:lnTo>
                <a:lnTo>
                  <a:pt x="0" y="23"/>
                </a:lnTo>
                <a:lnTo>
                  <a:pt x="2" y="17"/>
                </a:lnTo>
                <a:lnTo>
                  <a:pt x="6" y="10"/>
                </a:lnTo>
                <a:lnTo>
                  <a:pt x="10" y="6"/>
                </a:lnTo>
                <a:lnTo>
                  <a:pt x="12" y="2"/>
                </a:lnTo>
                <a:lnTo>
                  <a:pt x="15" y="2"/>
                </a:lnTo>
                <a:lnTo>
                  <a:pt x="21" y="0"/>
                </a:lnTo>
                <a:lnTo>
                  <a:pt x="27" y="0"/>
                </a:lnTo>
                <a:lnTo>
                  <a:pt x="35" y="0"/>
                </a:lnTo>
                <a:lnTo>
                  <a:pt x="42" y="0"/>
                </a:lnTo>
                <a:lnTo>
                  <a:pt x="52" y="2"/>
                </a:lnTo>
                <a:lnTo>
                  <a:pt x="61" y="4"/>
                </a:lnTo>
                <a:lnTo>
                  <a:pt x="73" y="6"/>
                </a:lnTo>
                <a:lnTo>
                  <a:pt x="85" y="8"/>
                </a:lnTo>
                <a:lnTo>
                  <a:pt x="98" y="10"/>
                </a:lnTo>
                <a:lnTo>
                  <a:pt x="111" y="13"/>
                </a:lnTo>
                <a:lnTo>
                  <a:pt x="127" y="17"/>
                </a:lnTo>
                <a:lnTo>
                  <a:pt x="144" y="21"/>
                </a:lnTo>
                <a:lnTo>
                  <a:pt x="159" y="25"/>
                </a:lnTo>
                <a:lnTo>
                  <a:pt x="177" y="2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Freeform 91"/>
          <p:cNvSpPr/>
          <p:nvPr/>
        </p:nvSpPr>
        <p:spPr>
          <a:xfrm>
            <a:off x="5889600" y="3105000"/>
            <a:ext cx="647640" cy="1976760"/>
          </a:xfrm>
          <a:custGeom>
            <a:avLst/>
            <a:gdLst/>
            <a:ahLst/>
            <a:rect l="l" t="t" r="r" b="b"/>
            <a:pathLst>
              <a:path w="818" h="2489">
                <a:moveTo>
                  <a:pt x="384" y="2218"/>
                </a:moveTo>
                <a:lnTo>
                  <a:pt x="369" y="2207"/>
                </a:lnTo>
                <a:lnTo>
                  <a:pt x="355" y="2195"/>
                </a:lnTo>
                <a:lnTo>
                  <a:pt x="344" y="2184"/>
                </a:lnTo>
                <a:lnTo>
                  <a:pt x="332" y="2174"/>
                </a:lnTo>
                <a:lnTo>
                  <a:pt x="323" y="2165"/>
                </a:lnTo>
                <a:lnTo>
                  <a:pt x="313" y="2155"/>
                </a:lnTo>
                <a:lnTo>
                  <a:pt x="307" y="2146"/>
                </a:lnTo>
                <a:lnTo>
                  <a:pt x="300" y="2138"/>
                </a:lnTo>
                <a:lnTo>
                  <a:pt x="296" y="2130"/>
                </a:lnTo>
                <a:lnTo>
                  <a:pt x="292" y="2122"/>
                </a:lnTo>
                <a:lnTo>
                  <a:pt x="288" y="2117"/>
                </a:lnTo>
                <a:lnTo>
                  <a:pt x="286" y="2111"/>
                </a:lnTo>
                <a:lnTo>
                  <a:pt x="286" y="2105"/>
                </a:lnTo>
                <a:lnTo>
                  <a:pt x="286" y="2101"/>
                </a:lnTo>
                <a:lnTo>
                  <a:pt x="286" y="2098"/>
                </a:lnTo>
                <a:lnTo>
                  <a:pt x="288" y="2096"/>
                </a:lnTo>
                <a:lnTo>
                  <a:pt x="290" y="2092"/>
                </a:lnTo>
                <a:lnTo>
                  <a:pt x="294" y="2092"/>
                </a:lnTo>
                <a:lnTo>
                  <a:pt x="298" y="2090"/>
                </a:lnTo>
                <a:lnTo>
                  <a:pt x="303" y="2090"/>
                </a:lnTo>
                <a:lnTo>
                  <a:pt x="309" y="2090"/>
                </a:lnTo>
                <a:lnTo>
                  <a:pt x="315" y="2090"/>
                </a:lnTo>
                <a:lnTo>
                  <a:pt x="323" y="2090"/>
                </a:lnTo>
                <a:lnTo>
                  <a:pt x="330" y="2092"/>
                </a:lnTo>
                <a:lnTo>
                  <a:pt x="338" y="2094"/>
                </a:lnTo>
                <a:lnTo>
                  <a:pt x="348" y="2094"/>
                </a:lnTo>
                <a:lnTo>
                  <a:pt x="355" y="2096"/>
                </a:lnTo>
                <a:lnTo>
                  <a:pt x="365" y="2098"/>
                </a:lnTo>
                <a:lnTo>
                  <a:pt x="386" y="2103"/>
                </a:lnTo>
                <a:lnTo>
                  <a:pt x="409" y="2107"/>
                </a:lnTo>
                <a:lnTo>
                  <a:pt x="419" y="2111"/>
                </a:lnTo>
                <a:lnTo>
                  <a:pt x="430" y="2117"/>
                </a:lnTo>
                <a:lnTo>
                  <a:pt x="449" y="2122"/>
                </a:lnTo>
                <a:lnTo>
                  <a:pt x="467" y="2130"/>
                </a:lnTo>
                <a:lnTo>
                  <a:pt x="484" y="2134"/>
                </a:lnTo>
                <a:lnTo>
                  <a:pt x="499" y="2136"/>
                </a:lnTo>
                <a:lnTo>
                  <a:pt x="507" y="2136"/>
                </a:lnTo>
                <a:lnTo>
                  <a:pt x="513" y="2136"/>
                </a:lnTo>
                <a:lnTo>
                  <a:pt x="520" y="2136"/>
                </a:lnTo>
                <a:lnTo>
                  <a:pt x="526" y="2136"/>
                </a:lnTo>
                <a:lnTo>
                  <a:pt x="534" y="2134"/>
                </a:lnTo>
                <a:lnTo>
                  <a:pt x="541" y="2132"/>
                </a:lnTo>
                <a:lnTo>
                  <a:pt x="545" y="2128"/>
                </a:lnTo>
                <a:lnTo>
                  <a:pt x="549" y="2124"/>
                </a:lnTo>
                <a:lnTo>
                  <a:pt x="553" y="2119"/>
                </a:lnTo>
                <a:lnTo>
                  <a:pt x="557" y="2111"/>
                </a:lnTo>
                <a:lnTo>
                  <a:pt x="561" y="2101"/>
                </a:lnTo>
                <a:lnTo>
                  <a:pt x="563" y="2090"/>
                </a:lnTo>
                <a:lnTo>
                  <a:pt x="566" y="2078"/>
                </a:lnTo>
                <a:lnTo>
                  <a:pt x="568" y="2063"/>
                </a:lnTo>
                <a:lnTo>
                  <a:pt x="572" y="2048"/>
                </a:lnTo>
                <a:lnTo>
                  <a:pt x="574" y="2030"/>
                </a:lnTo>
                <a:lnTo>
                  <a:pt x="578" y="2011"/>
                </a:lnTo>
                <a:lnTo>
                  <a:pt x="580" y="1990"/>
                </a:lnTo>
                <a:lnTo>
                  <a:pt x="582" y="1967"/>
                </a:lnTo>
                <a:lnTo>
                  <a:pt x="584" y="1954"/>
                </a:lnTo>
                <a:lnTo>
                  <a:pt x="584" y="1942"/>
                </a:lnTo>
                <a:lnTo>
                  <a:pt x="586" y="1929"/>
                </a:lnTo>
                <a:lnTo>
                  <a:pt x="586" y="1915"/>
                </a:lnTo>
                <a:lnTo>
                  <a:pt x="588" y="1900"/>
                </a:lnTo>
                <a:lnTo>
                  <a:pt x="589" y="1886"/>
                </a:lnTo>
                <a:lnTo>
                  <a:pt x="591" y="1858"/>
                </a:lnTo>
                <a:lnTo>
                  <a:pt x="593" y="1829"/>
                </a:lnTo>
                <a:lnTo>
                  <a:pt x="593" y="1800"/>
                </a:lnTo>
                <a:lnTo>
                  <a:pt x="595" y="1769"/>
                </a:lnTo>
                <a:lnTo>
                  <a:pt x="597" y="1739"/>
                </a:lnTo>
                <a:lnTo>
                  <a:pt x="599" y="1708"/>
                </a:lnTo>
                <a:lnTo>
                  <a:pt x="599" y="1675"/>
                </a:lnTo>
                <a:lnTo>
                  <a:pt x="601" y="1643"/>
                </a:lnTo>
                <a:lnTo>
                  <a:pt x="601" y="1610"/>
                </a:lnTo>
                <a:lnTo>
                  <a:pt x="603" y="1576"/>
                </a:lnTo>
                <a:lnTo>
                  <a:pt x="605" y="1541"/>
                </a:lnTo>
                <a:lnTo>
                  <a:pt x="605" y="1506"/>
                </a:lnTo>
                <a:lnTo>
                  <a:pt x="607" y="1470"/>
                </a:lnTo>
                <a:lnTo>
                  <a:pt x="609" y="1432"/>
                </a:lnTo>
                <a:lnTo>
                  <a:pt x="611" y="1395"/>
                </a:lnTo>
                <a:lnTo>
                  <a:pt x="613" y="1355"/>
                </a:lnTo>
                <a:lnTo>
                  <a:pt x="613" y="1282"/>
                </a:lnTo>
                <a:lnTo>
                  <a:pt x="613" y="1211"/>
                </a:lnTo>
                <a:lnTo>
                  <a:pt x="613" y="1140"/>
                </a:lnTo>
                <a:lnTo>
                  <a:pt x="613" y="1071"/>
                </a:lnTo>
                <a:lnTo>
                  <a:pt x="613" y="1004"/>
                </a:lnTo>
                <a:lnTo>
                  <a:pt x="613" y="971"/>
                </a:lnTo>
                <a:lnTo>
                  <a:pt x="613" y="938"/>
                </a:lnTo>
                <a:lnTo>
                  <a:pt x="613" y="906"/>
                </a:lnTo>
                <a:lnTo>
                  <a:pt x="613" y="875"/>
                </a:lnTo>
                <a:lnTo>
                  <a:pt x="613" y="844"/>
                </a:lnTo>
                <a:lnTo>
                  <a:pt x="613" y="814"/>
                </a:lnTo>
                <a:lnTo>
                  <a:pt x="613" y="783"/>
                </a:lnTo>
                <a:lnTo>
                  <a:pt x="613" y="754"/>
                </a:lnTo>
                <a:lnTo>
                  <a:pt x="613" y="725"/>
                </a:lnTo>
                <a:lnTo>
                  <a:pt x="613" y="698"/>
                </a:lnTo>
                <a:lnTo>
                  <a:pt x="613" y="670"/>
                </a:lnTo>
                <a:lnTo>
                  <a:pt x="613" y="643"/>
                </a:lnTo>
                <a:lnTo>
                  <a:pt x="613" y="589"/>
                </a:lnTo>
                <a:lnTo>
                  <a:pt x="613" y="539"/>
                </a:lnTo>
                <a:lnTo>
                  <a:pt x="613" y="489"/>
                </a:lnTo>
                <a:lnTo>
                  <a:pt x="613" y="441"/>
                </a:lnTo>
                <a:lnTo>
                  <a:pt x="613" y="395"/>
                </a:lnTo>
                <a:lnTo>
                  <a:pt x="613" y="372"/>
                </a:lnTo>
                <a:lnTo>
                  <a:pt x="613" y="351"/>
                </a:lnTo>
                <a:lnTo>
                  <a:pt x="611" y="330"/>
                </a:lnTo>
                <a:lnTo>
                  <a:pt x="611" y="311"/>
                </a:lnTo>
                <a:lnTo>
                  <a:pt x="609" y="294"/>
                </a:lnTo>
                <a:lnTo>
                  <a:pt x="607" y="276"/>
                </a:lnTo>
                <a:lnTo>
                  <a:pt x="605" y="261"/>
                </a:lnTo>
                <a:lnTo>
                  <a:pt x="603" y="247"/>
                </a:lnTo>
                <a:lnTo>
                  <a:pt x="601" y="234"/>
                </a:lnTo>
                <a:lnTo>
                  <a:pt x="599" y="221"/>
                </a:lnTo>
                <a:lnTo>
                  <a:pt x="595" y="211"/>
                </a:lnTo>
                <a:lnTo>
                  <a:pt x="591" y="200"/>
                </a:lnTo>
                <a:lnTo>
                  <a:pt x="589" y="192"/>
                </a:lnTo>
                <a:lnTo>
                  <a:pt x="586" y="184"/>
                </a:lnTo>
                <a:lnTo>
                  <a:pt x="582" y="178"/>
                </a:lnTo>
                <a:lnTo>
                  <a:pt x="576" y="173"/>
                </a:lnTo>
                <a:lnTo>
                  <a:pt x="572" y="171"/>
                </a:lnTo>
                <a:lnTo>
                  <a:pt x="565" y="169"/>
                </a:lnTo>
                <a:lnTo>
                  <a:pt x="557" y="167"/>
                </a:lnTo>
                <a:lnTo>
                  <a:pt x="547" y="165"/>
                </a:lnTo>
                <a:lnTo>
                  <a:pt x="538" y="165"/>
                </a:lnTo>
                <a:lnTo>
                  <a:pt x="524" y="165"/>
                </a:lnTo>
                <a:lnTo>
                  <a:pt x="511" y="165"/>
                </a:lnTo>
                <a:lnTo>
                  <a:pt x="497" y="165"/>
                </a:lnTo>
                <a:lnTo>
                  <a:pt x="482" y="165"/>
                </a:lnTo>
                <a:lnTo>
                  <a:pt x="465" y="167"/>
                </a:lnTo>
                <a:lnTo>
                  <a:pt x="446" y="169"/>
                </a:lnTo>
                <a:lnTo>
                  <a:pt x="426" y="171"/>
                </a:lnTo>
                <a:lnTo>
                  <a:pt x="405" y="173"/>
                </a:lnTo>
                <a:lnTo>
                  <a:pt x="384" y="176"/>
                </a:lnTo>
                <a:lnTo>
                  <a:pt x="361" y="180"/>
                </a:lnTo>
                <a:lnTo>
                  <a:pt x="336" y="186"/>
                </a:lnTo>
                <a:lnTo>
                  <a:pt x="288" y="194"/>
                </a:lnTo>
                <a:lnTo>
                  <a:pt x="240" y="201"/>
                </a:lnTo>
                <a:lnTo>
                  <a:pt x="217" y="205"/>
                </a:lnTo>
                <a:lnTo>
                  <a:pt x="194" y="207"/>
                </a:lnTo>
                <a:lnTo>
                  <a:pt x="171" y="211"/>
                </a:lnTo>
                <a:lnTo>
                  <a:pt x="150" y="213"/>
                </a:lnTo>
                <a:lnTo>
                  <a:pt x="129" y="215"/>
                </a:lnTo>
                <a:lnTo>
                  <a:pt x="108" y="217"/>
                </a:lnTo>
                <a:lnTo>
                  <a:pt x="88" y="219"/>
                </a:lnTo>
                <a:lnTo>
                  <a:pt x="69" y="219"/>
                </a:lnTo>
                <a:lnTo>
                  <a:pt x="50" y="221"/>
                </a:lnTo>
                <a:lnTo>
                  <a:pt x="33" y="221"/>
                </a:lnTo>
                <a:lnTo>
                  <a:pt x="15" y="223"/>
                </a:lnTo>
                <a:lnTo>
                  <a:pt x="0" y="223"/>
                </a:lnTo>
                <a:lnTo>
                  <a:pt x="0" y="123"/>
                </a:lnTo>
                <a:lnTo>
                  <a:pt x="31" y="123"/>
                </a:lnTo>
                <a:lnTo>
                  <a:pt x="62" y="123"/>
                </a:lnTo>
                <a:lnTo>
                  <a:pt x="90" y="123"/>
                </a:lnTo>
                <a:lnTo>
                  <a:pt x="119" y="121"/>
                </a:lnTo>
                <a:lnTo>
                  <a:pt x="146" y="119"/>
                </a:lnTo>
                <a:lnTo>
                  <a:pt x="173" y="119"/>
                </a:lnTo>
                <a:lnTo>
                  <a:pt x="200" y="117"/>
                </a:lnTo>
                <a:lnTo>
                  <a:pt x="225" y="115"/>
                </a:lnTo>
                <a:lnTo>
                  <a:pt x="250" y="111"/>
                </a:lnTo>
                <a:lnTo>
                  <a:pt x="273" y="109"/>
                </a:lnTo>
                <a:lnTo>
                  <a:pt x="296" y="105"/>
                </a:lnTo>
                <a:lnTo>
                  <a:pt x="317" y="104"/>
                </a:lnTo>
                <a:lnTo>
                  <a:pt x="338" y="100"/>
                </a:lnTo>
                <a:lnTo>
                  <a:pt x="359" y="96"/>
                </a:lnTo>
                <a:lnTo>
                  <a:pt x="378" y="92"/>
                </a:lnTo>
                <a:lnTo>
                  <a:pt x="396" y="86"/>
                </a:lnTo>
                <a:lnTo>
                  <a:pt x="411" y="84"/>
                </a:lnTo>
                <a:lnTo>
                  <a:pt x="426" y="81"/>
                </a:lnTo>
                <a:lnTo>
                  <a:pt x="442" y="79"/>
                </a:lnTo>
                <a:lnTo>
                  <a:pt x="455" y="75"/>
                </a:lnTo>
                <a:lnTo>
                  <a:pt x="467" y="71"/>
                </a:lnTo>
                <a:lnTo>
                  <a:pt x="480" y="67"/>
                </a:lnTo>
                <a:lnTo>
                  <a:pt x="492" y="63"/>
                </a:lnTo>
                <a:lnTo>
                  <a:pt x="501" y="59"/>
                </a:lnTo>
                <a:lnTo>
                  <a:pt x="511" y="56"/>
                </a:lnTo>
                <a:lnTo>
                  <a:pt x="520" y="52"/>
                </a:lnTo>
                <a:lnTo>
                  <a:pt x="528" y="48"/>
                </a:lnTo>
                <a:lnTo>
                  <a:pt x="536" y="42"/>
                </a:lnTo>
                <a:lnTo>
                  <a:pt x="541" y="38"/>
                </a:lnTo>
                <a:lnTo>
                  <a:pt x="545" y="34"/>
                </a:lnTo>
                <a:lnTo>
                  <a:pt x="549" y="29"/>
                </a:lnTo>
                <a:lnTo>
                  <a:pt x="553" y="25"/>
                </a:lnTo>
                <a:lnTo>
                  <a:pt x="557" y="21"/>
                </a:lnTo>
                <a:lnTo>
                  <a:pt x="565" y="15"/>
                </a:lnTo>
                <a:lnTo>
                  <a:pt x="570" y="11"/>
                </a:lnTo>
                <a:lnTo>
                  <a:pt x="578" y="8"/>
                </a:lnTo>
                <a:lnTo>
                  <a:pt x="586" y="4"/>
                </a:lnTo>
                <a:lnTo>
                  <a:pt x="595" y="2"/>
                </a:lnTo>
                <a:lnTo>
                  <a:pt x="603" y="0"/>
                </a:lnTo>
                <a:lnTo>
                  <a:pt x="613" y="0"/>
                </a:lnTo>
                <a:lnTo>
                  <a:pt x="614" y="0"/>
                </a:lnTo>
                <a:lnTo>
                  <a:pt x="618" y="2"/>
                </a:lnTo>
                <a:lnTo>
                  <a:pt x="622" y="2"/>
                </a:lnTo>
                <a:lnTo>
                  <a:pt x="626" y="4"/>
                </a:lnTo>
                <a:lnTo>
                  <a:pt x="632" y="8"/>
                </a:lnTo>
                <a:lnTo>
                  <a:pt x="637" y="10"/>
                </a:lnTo>
                <a:lnTo>
                  <a:pt x="643" y="13"/>
                </a:lnTo>
                <a:lnTo>
                  <a:pt x="649" y="17"/>
                </a:lnTo>
                <a:lnTo>
                  <a:pt x="657" y="21"/>
                </a:lnTo>
                <a:lnTo>
                  <a:pt x="664" y="27"/>
                </a:lnTo>
                <a:lnTo>
                  <a:pt x="672" y="31"/>
                </a:lnTo>
                <a:lnTo>
                  <a:pt x="680" y="36"/>
                </a:lnTo>
                <a:lnTo>
                  <a:pt x="689" y="42"/>
                </a:lnTo>
                <a:lnTo>
                  <a:pt x="699" y="48"/>
                </a:lnTo>
                <a:lnTo>
                  <a:pt x="710" y="56"/>
                </a:lnTo>
                <a:lnTo>
                  <a:pt x="722" y="61"/>
                </a:lnTo>
                <a:lnTo>
                  <a:pt x="732" y="69"/>
                </a:lnTo>
                <a:lnTo>
                  <a:pt x="741" y="77"/>
                </a:lnTo>
                <a:lnTo>
                  <a:pt x="751" y="82"/>
                </a:lnTo>
                <a:lnTo>
                  <a:pt x="760" y="90"/>
                </a:lnTo>
                <a:lnTo>
                  <a:pt x="768" y="96"/>
                </a:lnTo>
                <a:lnTo>
                  <a:pt x="774" y="102"/>
                </a:lnTo>
                <a:lnTo>
                  <a:pt x="781" y="109"/>
                </a:lnTo>
                <a:lnTo>
                  <a:pt x="787" y="115"/>
                </a:lnTo>
                <a:lnTo>
                  <a:pt x="793" y="121"/>
                </a:lnTo>
                <a:lnTo>
                  <a:pt x="797" y="125"/>
                </a:lnTo>
                <a:lnTo>
                  <a:pt x="803" y="130"/>
                </a:lnTo>
                <a:lnTo>
                  <a:pt x="806" y="134"/>
                </a:lnTo>
                <a:lnTo>
                  <a:pt x="808" y="138"/>
                </a:lnTo>
                <a:lnTo>
                  <a:pt x="812" y="142"/>
                </a:lnTo>
                <a:lnTo>
                  <a:pt x="814" y="146"/>
                </a:lnTo>
                <a:lnTo>
                  <a:pt x="818" y="148"/>
                </a:lnTo>
                <a:lnTo>
                  <a:pt x="816" y="157"/>
                </a:lnTo>
                <a:lnTo>
                  <a:pt x="816" y="167"/>
                </a:lnTo>
                <a:lnTo>
                  <a:pt x="812" y="175"/>
                </a:lnTo>
                <a:lnTo>
                  <a:pt x="810" y="184"/>
                </a:lnTo>
                <a:lnTo>
                  <a:pt x="806" y="192"/>
                </a:lnTo>
                <a:lnTo>
                  <a:pt x="803" y="198"/>
                </a:lnTo>
                <a:lnTo>
                  <a:pt x="797" y="205"/>
                </a:lnTo>
                <a:lnTo>
                  <a:pt x="793" y="209"/>
                </a:lnTo>
                <a:lnTo>
                  <a:pt x="789" y="213"/>
                </a:lnTo>
                <a:lnTo>
                  <a:pt x="785" y="217"/>
                </a:lnTo>
                <a:lnTo>
                  <a:pt x="781" y="223"/>
                </a:lnTo>
                <a:lnTo>
                  <a:pt x="778" y="230"/>
                </a:lnTo>
                <a:lnTo>
                  <a:pt x="774" y="240"/>
                </a:lnTo>
                <a:lnTo>
                  <a:pt x="770" y="249"/>
                </a:lnTo>
                <a:lnTo>
                  <a:pt x="768" y="261"/>
                </a:lnTo>
                <a:lnTo>
                  <a:pt x="764" y="272"/>
                </a:lnTo>
                <a:lnTo>
                  <a:pt x="762" y="286"/>
                </a:lnTo>
                <a:lnTo>
                  <a:pt x="758" y="301"/>
                </a:lnTo>
                <a:lnTo>
                  <a:pt x="757" y="319"/>
                </a:lnTo>
                <a:lnTo>
                  <a:pt x="755" y="336"/>
                </a:lnTo>
                <a:lnTo>
                  <a:pt x="753" y="355"/>
                </a:lnTo>
                <a:lnTo>
                  <a:pt x="749" y="376"/>
                </a:lnTo>
                <a:lnTo>
                  <a:pt x="747" y="397"/>
                </a:lnTo>
                <a:lnTo>
                  <a:pt x="745" y="418"/>
                </a:lnTo>
                <a:lnTo>
                  <a:pt x="743" y="432"/>
                </a:lnTo>
                <a:lnTo>
                  <a:pt x="743" y="447"/>
                </a:lnTo>
                <a:lnTo>
                  <a:pt x="741" y="462"/>
                </a:lnTo>
                <a:lnTo>
                  <a:pt x="741" y="480"/>
                </a:lnTo>
                <a:lnTo>
                  <a:pt x="741" y="497"/>
                </a:lnTo>
                <a:lnTo>
                  <a:pt x="739" y="516"/>
                </a:lnTo>
                <a:lnTo>
                  <a:pt x="739" y="537"/>
                </a:lnTo>
                <a:lnTo>
                  <a:pt x="739" y="558"/>
                </a:lnTo>
                <a:lnTo>
                  <a:pt x="737" y="581"/>
                </a:lnTo>
                <a:lnTo>
                  <a:pt x="737" y="604"/>
                </a:lnTo>
                <a:lnTo>
                  <a:pt x="737" y="629"/>
                </a:lnTo>
                <a:lnTo>
                  <a:pt x="737" y="656"/>
                </a:lnTo>
                <a:lnTo>
                  <a:pt x="737" y="683"/>
                </a:lnTo>
                <a:lnTo>
                  <a:pt x="735" y="712"/>
                </a:lnTo>
                <a:lnTo>
                  <a:pt x="735" y="743"/>
                </a:lnTo>
                <a:lnTo>
                  <a:pt x="735" y="773"/>
                </a:lnTo>
                <a:lnTo>
                  <a:pt x="735" y="806"/>
                </a:lnTo>
                <a:lnTo>
                  <a:pt x="735" y="839"/>
                </a:lnTo>
                <a:lnTo>
                  <a:pt x="737" y="875"/>
                </a:lnTo>
                <a:lnTo>
                  <a:pt x="737" y="910"/>
                </a:lnTo>
                <a:lnTo>
                  <a:pt x="737" y="948"/>
                </a:lnTo>
                <a:lnTo>
                  <a:pt x="737" y="986"/>
                </a:lnTo>
                <a:lnTo>
                  <a:pt x="737" y="1027"/>
                </a:lnTo>
                <a:lnTo>
                  <a:pt x="739" y="1067"/>
                </a:lnTo>
                <a:lnTo>
                  <a:pt x="739" y="1109"/>
                </a:lnTo>
                <a:lnTo>
                  <a:pt x="739" y="1153"/>
                </a:lnTo>
                <a:lnTo>
                  <a:pt x="741" y="1197"/>
                </a:lnTo>
                <a:lnTo>
                  <a:pt x="741" y="1244"/>
                </a:lnTo>
                <a:lnTo>
                  <a:pt x="741" y="1292"/>
                </a:lnTo>
                <a:lnTo>
                  <a:pt x="743" y="1341"/>
                </a:lnTo>
                <a:lnTo>
                  <a:pt x="743" y="1391"/>
                </a:lnTo>
                <a:lnTo>
                  <a:pt x="745" y="1441"/>
                </a:lnTo>
                <a:lnTo>
                  <a:pt x="745" y="1493"/>
                </a:lnTo>
                <a:lnTo>
                  <a:pt x="745" y="1543"/>
                </a:lnTo>
                <a:lnTo>
                  <a:pt x="745" y="1591"/>
                </a:lnTo>
                <a:lnTo>
                  <a:pt x="743" y="1639"/>
                </a:lnTo>
                <a:lnTo>
                  <a:pt x="743" y="1685"/>
                </a:lnTo>
                <a:lnTo>
                  <a:pt x="743" y="1729"/>
                </a:lnTo>
                <a:lnTo>
                  <a:pt x="741" y="1771"/>
                </a:lnTo>
                <a:lnTo>
                  <a:pt x="741" y="1814"/>
                </a:lnTo>
                <a:lnTo>
                  <a:pt x="739" y="1854"/>
                </a:lnTo>
                <a:lnTo>
                  <a:pt x="737" y="1892"/>
                </a:lnTo>
                <a:lnTo>
                  <a:pt x="737" y="1931"/>
                </a:lnTo>
                <a:lnTo>
                  <a:pt x="735" y="1965"/>
                </a:lnTo>
                <a:lnTo>
                  <a:pt x="733" y="2002"/>
                </a:lnTo>
                <a:lnTo>
                  <a:pt x="732" y="2034"/>
                </a:lnTo>
                <a:lnTo>
                  <a:pt x="730" y="2065"/>
                </a:lnTo>
                <a:lnTo>
                  <a:pt x="728" y="2096"/>
                </a:lnTo>
                <a:lnTo>
                  <a:pt x="724" y="2124"/>
                </a:lnTo>
                <a:lnTo>
                  <a:pt x="722" y="2153"/>
                </a:lnTo>
                <a:lnTo>
                  <a:pt x="720" y="2178"/>
                </a:lnTo>
                <a:lnTo>
                  <a:pt x="716" y="2203"/>
                </a:lnTo>
                <a:lnTo>
                  <a:pt x="714" y="2228"/>
                </a:lnTo>
                <a:lnTo>
                  <a:pt x="710" y="2249"/>
                </a:lnTo>
                <a:lnTo>
                  <a:pt x="707" y="2270"/>
                </a:lnTo>
                <a:lnTo>
                  <a:pt x="705" y="2289"/>
                </a:lnTo>
                <a:lnTo>
                  <a:pt x="701" y="2307"/>
                </a:lnTo>
                <a:lnTo>
                  <a:pt x="697" y="2322"/>
                </a:lnTo>
                <a:lnTo>
                  <a:pt x="693" y="2337"/>
                </a:lnTo>
                <a:lnTo>
                  <a:pt x="689" y="2351"/>
                </a:lnTo>
                <a:lnTo>
                  <a:pt x="685" y="2362"/>
                </a:lnTo>
                <a:lnTo>
                  <a:pt x="682" y="2374"/>
                </a:lnTo>
                <a:lnTo>
                  <a:pt x="678" y="2383"/>
                </a:lnTo>
                <a:lnTo>
                  <a:pt x="674" y="2391"/>
                </a:lnTo>
                <a:lnTo>
                  <a:pt x="664" y="2403"/>
                </a:lnTo>
                <a:lnTo>
                  <a:pt x="655" y="2412"/>
                </a:lnTo>
                <a:lnTo>
                  <a:pt x="647" y="2422"/>
                </a:lnTo>
                <a:lnTo>
                  <a:pt x="639" y="2431"/>
                </a:lnTo>
                <a:lnTo>
                  <a:pt x="632" y="2441"/>
                </a:lnTo>
                <a:lnTo>
                  <a:pt x="624" y="2449"/>
                </a:lnTo>
                <a:lnTo>
                  <a:pt x="616" y="2456"/>
                </a:lnTo>
                <a:lnTo>
                  <a:pt x="609" y="2462"/>
                </a:lnTo>
                <a:lnTo>
                  <a:pt x="601" y="2470"/>
                </a:lnTo>
                <a:lnTo>
                  <a:pt x="593" y="2474"/>
                </a:lnTo>
                <a:lnTo>
                  <a:pt x="588" y="2479"/>
                </a:lnTo>
                <a:lnTo>
                  <a:pt x="580" y="2483"/>
                </a:lnTo>
                <a:lnTo>
                  <a:pt x="572" y="2485"/>
                </a:lnTo>
                <a:lnTo>
                  <a:pt x="566" y="2487"/>
                </a:lnTo>
                <a:lnTo>
                  <a:pt x="559" y="2489"/>
                </a:lnTo>
                <a:lnTo>
                  <a:pt x="553" y="2489"/>
                </a:lnTo>
                <a:lnTo>
                  <a:pt x="547" y="2489"/>
                </a:lnTo>
                <a:lnTo>
                  <a:pt x="540" y="2487"/>
                </a:lnTo>
                <a:lnTo>
                  <a:pt x="536" y="2487"/>
                </a:lnTo>
                <a:lnTo>
                  <a:pt x="530" y="2485"/>
                </a:lnTo>
                <a:lnTo>
                  <a:pt x="526" y="2481"/>
                </a:lnTo>
                <a:lnTo>
                  <a:pt x="522" y="2478"/>
                </a:lnTo>
                <a:lnTo>
                  <a:pt x="518" y="2474"/>
                </a:lnTo>
                <a:lnTo>
                  <a:pt x="515" y="2470"/>
                </a:lnTo>
                <a:lnTo>
                  <a:pt x="513" y="2464"/>
                </a:lnTo>
                <a:lnTo>
                  <a:pt x="511" y="2456"/>
                </a:lnTo>
                <a:lnTo>
                  <a:pt x="509" y="2451"/>
                </a:lnTo>
                <a:lnTo>
                  <a:pt x="507" y="2443"/>
                </a:lnTo>
                <a:lnTo>
                  <a:pt x="505" y="2433"/>
                </a:lnTo>
                <a:lnTo>
                  <a:pt x="505" y="2424"/>
                </a:lnTo>
                <a:lnTo>
                  <a:pt x="505" y="2414"/>
                </a:lnTo>
                <a:lnTo>
                  <a:pt x="505" y="2403"/>
                </a:lnTo>
                <a:lnTo>
                  <a:pt x="505" y="2391"/>
                </a:lnTo>
                <a:lnTo>
                  <a:pt x="503" y="2380"/>
                </a:lnTo>
                <a:lnTo>
                  <a:pt x="501" y="2368"/>
                </a:lnTo>
                <a:lnTo>
                  <a:pt x="497" y="2357"/>
                </a:lnTo>
                <a:lnTo>
                  <a:pt x="493" y="2345"/>
                </a:lnTo>
                <a:lnTo>
                  <a:pt x="488" y="2334"/>
                </a:lnTo>
                <a:lnTo>
                  <a:pt x="482" y="2322"/>
                </a:lnTo>
                <a:lnTo>
                  <a:pt x="476" y="2311"/>
                </a:lnTo>
                <a:lnTo>
                  <a:pt x="469" y="2299"/>
                </a:lnTo>
                <a:lnTo>
                  <a:pt x="459" y="2288"/>
                </a:lnTo>
                <a:lnTo>
                  <a:pt x="449" y="2276"/>
                </a:lnTo>
                <a:lnTo>
                  <a:pt x="438" y="2265"/>
                </a:lnTo>
                <a:lnTo>
                  <a:pt x="426" y="2253"/>
                </a:lnTo>
                <a:lnTo>
                  <a:pt x="413" y="2241"/>
                </a:lnTo>
                <a:lnTo>
                  <a:pt x="399" y="2230"/>
                </a:lnTo>
                <a:lnTo>
                  <a:pt x="384" y="221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Freeform 92"/>
          <p:cNvSpPr/>
          <p:nvPr/>
        </p:nvSpPr>
        <p:spPr>
          <a:xfrm>
            <a:off x="5907240" y="3440160"/>
            <a:ext cx="353880" cy="125280"/>
          </a:xfrm>
          <a:custGeom>
            <a:avLst/>
            <a:gdLst/>
            <a:ahLst/>
            <a:rect l="l" t="t" r="r" b="b"/>
            <a:pathLst>
              <a:path w="446" h="158">
                <a:moveTo>
                  <a:pt x="0" y="83"/>
                </a:moveTo>
                <a:lnTo>
                  <a:pt x="12" y="81"/>
                </a:lnTo>
                <a:lnTo>
                  <a:pt x="23" y="79"/>
                </a:lnTo>
                <a:lnTo>
                  <a:pt x="37" y="75"/>
                </a:lnTo>
                <a:lnTo>
                  <a:pt x="50" y="71"/>
                </a:lnTo>
                <a:lnTo>
                  <a:pt x="77" y="65"/>
                </a:lnTo>
                <a:lnTo>
                  <a:pt x="106" y="58"/>
                </a:lnTo>
                <a:lnTo>
                  <a:pt x="135" y="48"/>
                </a:lnTo>
                <a:lnTo>
                  <a:pt x="165" y="40"/>
                </a:lnTo>
                <a:lnTo>
                  <a:pt x="198" y="31"/>
                </a:lnTo>
                <a:lnTo>
                  <a:pt x="229" y="21"/>
                </a:lnTo>
                <a:lnTo>
                  <a:pt x="244" y="17"/>
                </a:lnTo>
                <a:lnTo>
                  <a:pt x="259" y="14"/>
                </a:lnTo>
                <a:lnTo>
                  <a:pt x="273" y="10"/>
                </a:lnTo>
                <a:lnTo>
                  <a:pt x="286" y="8"/>
                </a:lnTo>
                <a:lnTo>
                  <a:pt x="298" y="6"/>
                </a:lnTo>
                <a:lnTo>
                  <a:pt x="309" y="4"/>
                </a:lnTo>
                <a:lnTo>
                  <a:pt x="321" y="2"/>
                </a:lnTo>
                <a:lnTo>
                  <a:pt x="330" y="2"/>
                </a:lnTo>
                <a:lnTo>
                  <a:pt x="342" y="0"/>
                </a:lnTo>
                <a:lnTo>
                  <a:pt x="350" y="2"/>
                </a:lnTo>
                <a:lnTo>
                  <a:pt x="359" y="2"/>
                </a:lnTo>
                <a:lnTo>
                  <a:pt x="367" y="2"/>
                </a:lnTo>
                <a:lnTo>
                  <a:pt x="384" y="6"/>
                </a:lnTo>
                <a:lnTo>
                  <a:pt x="398" y="10"/>
                </a:lnTo>
                <a:lnTo>
                  <a:pt x="403" y="14"/>
                </a:lnTo>
                <a:lnTo>
                  <a:pt x="409" y="19"/>
                </a:lnTo>
                <a:lnTo>
                  <a:pt x="415" y="23"/>
                </a:lnTo>
                <a:lnTo>
                  <a:pt x="421" y="27"/>
                </a:lnTo>
                <a:lnTo>
                  <a:pt x="424" y="33"/>
                </a:lnTo>
                <a:lnTo>
                  <a:pt x="428" y="37"/>
                </a:lnTo>
                <a:lnTo>
                  <a:pt x="434" y="44"/>
                </a:lnTo>
                <a:lnTo>
                  <a:pt x="440" y="52"/>
                </a:lnTo>
                <a:lnTo>
                  <a:pt x="444" y="60"/>
                </a:lnTo>
                <a:lnTo>
                  <a:pt x="446" y="65"/>
                </a:lnTo>
                <a:lnTo>
                  <a:pt x="446" y="71"/>
                </a:lnTo>
                <a:lnTo>
                  <a:pt x="446" y="73"/>
                </a:lnTo>
                <a:lnTo>
                  <a:pt x="444" y="77"/>
                </a:lnTo>
                <a:lnTo>
                  <a:pt x="442" y="79"/>
                </a:lnTo>
                <a:lnTo>
                  <a:pt x="438" y="83"/>
                </a:lnTo>
                <a:lnTo>
                  <a:pt x="434" y="85"/>
                </a:lnTo>
                <a:lnTo>
                  <a:pt x="430" y="88"/>
                </a:lnTo>
                <a:lnTo>
                  <a:pt x="424" y="92"/>
                </a:lnTo>
                <a:lnTo>
                  <a:pt x="417" y="96"/>
                </a:lnTo>
                <a:lnTo>
                  <a:pt x="409" y="100"/>
                </a:lnTo>
                <a:lnTo>
                  <a:pt x="399" y="102"/>
                </a:lnTo>
                <a:lnTo>
                  <a:pt x="390" y="106"/>
                </a:lnTo>
                <a:lnTo>
                  <a:pt x="380" y="110"/>
                </a:lnTo>
                <a:lnTo>
                  <a:pt x="367" y="111"/>
                </a:lnTo>
                <a:lnTo>
                  <a:pt x="355" y="115"/>
                </a:lnTo>
                <a:lnTo>
                  <a:pt x="340" y="117"/>
                </a:lnTo>
                <a:lnTo>
                  <a:pt x="325" y="121"/>
                </a:lnTo>
                <a:lnTo>
                  <a:pt x="309" y="125"/>
                </a:lnTo>
                <a:lnTo>
                  <a:pt x="292" y="129"/>
                </a:lnTo>
                <a:lnTo>
                  <a:pt x="275" y="133"/>
                </a:lnTo>
                <a:lnTo>
                  <a:pt x="257" y="136"/>
                </a:lnTo>
                <a:lnTo>
                  <a:pt x="240" y="140"/>
                </a:lnTo>
                <a:lnTo>
                  <a:pt x="221" y="142"/>
                </a:lnTo>
                <a:lnTo>
                  <a:pt x="202" y="146"/>
                </a:lnTo>
                <a:lnTo>
                  <a:pt x="181" y="148"/>
                </a:lnTo>
                <a:lnTo>
                  <a:pt x="159" y="150"/>
                </a:lnTo>
                <a:lnTo>
                  <a:pt x="138" y="152"/>
                </a:lnTo>
                <a:lnTo>
                  <a:pt x="117" y="154"/>
                </a:lnTo>
                <a:lnTo>
                  <a:pt x="94" y="156"/>
                </a:lnTo>
                <a:lnTo>
                  <a:pt x="71" y="156"/>
                </a:lnTo>
                <a:lnTo>
                  <a:pt x="48" y="158"/>
                </a:lnTo>
                <a:lnTo>
                  <a:pt x="25" y="158"/>
                </a:lnTo>
                <a:lnTo>
                  <a:pt x="0" y="158"/>
                </a:lnTo>
                <a:lnTo>
                  <a:pt x="0" y="8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Freeform 93"/>
          <p:cNvSpPr/>
          <p:nvPr/>
        </p:nvSpPr>
        <p:spPr>
          <a:xfrm>
            <a:off x="5907240" y="3722760"/>
            <a:ext cx="353880" cy="115920"/>
          </a:xfrm>
          <a:custGeom>
            <a:avLst/>
            <a:gdLst/>
            <a:ahLst/>
            <a:rect l="l" t="t" r="r" b="b"/>
            <a:pathLst>
              <a:path w="446" h="148">
                <a:moveTo>
                  <a:pt x="302" y="135"/>
                </a:moveTo>
                <a:lnTo>
                  <a:pt x="265" y="138"/>
                </a:lnTo>
                <a:lnTo>
                  <a:pt x="229" y="142"/>
                </a:lnTo>
                <a:lnTo>
                  <a:pt x="192" y="144"/>
                </a:lnTo>
                <a:lnTo>
                  <a:pt x="156" y="146"/>
                </a:lnTo>
                <a:lnTo>
                  <a:pt x="117" y="146"/>
                </a:lnTo>
                <a:lnTo>
                  <a:pt x="79" y="148"/>
                </a:lnTo>
                <a:lnTo>
                  <a:pt x="40" y="148"/>
                </a:lnTo>
                <a:lnTo>
                  <a:pt x="0" y="148"/>
                </a:lnTo>
                <a:lnTo>
                  <a:pt x="0" y="62"/>
                </a:lnTo>
                <a:lnTo>
                  <a:pt x="27" y="56"/>
                </a:lnTo>
                <a:lnTo>
                  <a:pt x="52" y="52"/>
                </a:lnTo>
                <a:lnTo>
                  <a:pt x="75" y="48"/>
                </a:lnTo>
                <a:lnTo>
                  <a:pt x="98" y="42"/>
                </a:lnTo>
                <a:lnTo>
                  <a:pt x="119" y="39"/>
                </a:lnTo>
                <a:lnTo>
                  <a:pt x="129" y="37"/>
                </a:lnTo>
                <a:lnTo>
                  <a:pt x="136" y="33"/>
                </a:lnTo>
                <a:lnTo>
                  <a:pt x="146" y="31"/>
                </a:lnTo>
                <a:lnTo>
                  <a:pt x="154" y="29"/>
                </a:lnTo>
                <a:lnTo>
                  <a:pt x="161" y="27"/>
                </a:lnTo>
                <a:lnTo>
                  <a:pt x="169" y="25"/>
                </a:lnTo>
                <a:lnTo>
                  <a:pt x="183" y="19"/>
                </a:lnTo>
                <a:lnTo>
                  <a:pt x="198" y="16"/>
                </a:lnTo>
                <a:lnTo>
                  <a:pt x="213" y="12"/>
                </a:lnTo>
                <a:lnTo>
                  <a:pt x="229" y="8"/>
                </a:lnTo>
                <a:lnTo>
                  <a:pt x="244" y="4"/>
                </a:lnTo>
                <a:lnTo>
                  <a:pt x="259" y="2"/>
                </a:lnTo>
                <a:lnTo>
                  <a:pt x="275" y="0"/>
                </a:lnTo>
                <a:lnTo>
                  <a:pt x="288" y="0"/>
                </a:lnTo>
                <a:lnTo>
                  <a:pt x="317" y="0"/>
                </a:lnTo>
                <a:lnTo>
                  <a:pt x="330" y="0"/>
                </a:lnTo>
                <a:lnTo>
                  <a:pt x="344" y="0"/>
                </a:lnTo>
                <a:lnTo>
                  <a:pt x="357" y="2"/>
                </a:lnTo>
                <a:lnTo>
                  <a:pt x="371" y="4"/>
                </a:lnTo>
                <a:lnTo>
                  <a:pt x="384" y="8"/>
                </a:lnTo>
                <a:lnTo>
                  <a:pt x="398" y="12"/>
                </a:lnTo>
                <a:lnTo>
                  <a:pt x="403" y="14"/>
                </a:lnTo>
                <a:lnTo>
                  <a:pt x="409" y="17"/>
                </a:lnTo>
                <a:lnTo>
                  <a:pt x="415" y="19"/>
                </a:lnTo>
                <a:lnTo>
                  <a:pt x="421" y="23"/>
                </a:lnTo>
                <a:lnTo>
                  <a:pt x="424" y="27"/>
                </a:lnTo>
                <a:lnTo>
                  <a:pt x="428" y="31"/>
                </a:lnTo>
                <a:lnTo>
                  <a:pt x="434" y="39"/>
                </a:lnTo>
                <a:lnTo>
                  <a:pt x="440" y="46"/>
                </a:lnTo>
                <a:lnTo>
                  <a:pt x="444" y="56"/>
                </a:lnTo>
                <a:lnTo>
                  <a:pt x="446" y="64"/>
                </a:lnTo>
                <a:lnTo>
                  <a:pt x="446" y="73"/>
                </a:lnTo>
                <a:lnTo>
                  <a:pt x="446" y="79"/>
                </a:lnTo>
                <a:lnTo>
                  <a:pt x="444" y="83"/>
                </a:lnTo>
                <a:lnTo>
                  <a:pt x="440" y="87"/>
                </a:lnTo>
                <a:lnTo>
                  <a:pt x="436" y="92"/>
                </a:lnTo>
                <a:lnTo>
                  <a:pt x="432" y="96"/>
                </a:lnTo>
                <a:lnTo>
                  <a:pt x="424" y="100"/>
                </a:lnTo>
                <a:lnTo>
                  <a:pt x="419" y="104"/>
                </a:lnTo>
                <a:lnTo>
                  <a:pt x="409" y="110"/>
                </a:lnTo>
                <a:lnTo>
                  <a:pt x="399" y="113"/>
                </a:lnTo>
                <a:lnTo>
                  <a:pt x="390" y="117"/>
                </a:lnTo>
                <a:lnTo>
                  <a:pt x="376" y="121"/>
                </a:lnTo>
                <a:lnTo>
                  <a:pt x="365" y="123"/>
                </a:lnTo>
                <a:lnTo>
                  <a:pt x="350" y="127"/>
                </a:lnTo>
                <a:lnTo>
                  <a:pt x="334" y="131"/>
                </a:lnTo>
                <a:lnTo>
                  <a:pt x="319" y="133"/>
                </a:lnTo>
                <a:lnTo>
                  <a:pt x="302" y="13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Freeform 94"/>
          <p:cNvSpPr/>
          <p:nvPr/>
        </p:nvSpPr>
        <p:spPr>
          <a:xfrm>
            <a:off x="5459400" y="4005360"/>
            <a:ext cx="934920" cy="295200"/>
          </a:xfrm>
          <a:custGeom>
            <a:avLst/>
            <a:gdLst/>
            <a:ahLst/>
            <a:rect l="l" t="t" r="r" b="b"/>
            <a:pathLst>
              <a:path w="1178" h="372">
                <a:moveTo>
                  <a:pt x="1178" y="0"/>
                </a:moveTo>
                <a:lnTo>
                  <a:pt x="1178" y="73"/>
                </a:lnTo>
                <a:lnTo>
                  <a:pt x="1142" y="83"/>
                </a:lnTo>
                <a:lnTo>
                  <a:pt x="1106" y="92"/>
                </a:lnTo>
                <a:lnTo>
                  <a:pt x="1067" y="104"/>
                </a:lnTo>
                <a:lnTo>
                  <a:pt x="1029" y="113"/>
                </a:lnTo>
                <a:lnTo>
                  <a:pt x="990" y="123"/>
                </a:lnTo>
                <a:lnTo>
                  <a:pt x="952" y="134"/>
                </a:lnTo>
                <a:lnTo>
                  <a:pt x="873" y="158"/>
                </a:lnTo>
                <a:lnTo>
                  <a:pt x="791" y="181"/>
                </a:lnTo>
                <a:lnTo>
                  <a:pt x="708" y="205"/>
                </a:lnTo>
                <a:lnTo>
                  <a:pt x="626" y="230"/>
                </a:lnTo>
                <a:lnTo>
                  <a:pt x="541" y="259"/>
                </a:lnTo>
                <a:lnTo>
                  <a:pt x="518" y="267"/>
                </a:lnTo>
                <a:lnTo>
                  <a:pt x="497" y="275"/>
                </a:lnTo>
                <a:lnTo>
                  <a:pt x="476" y="282"/>
                </a:lnTo>
                <a:lnTo>
                  <a:pt x="455" y="290"/>
                </a:lnTo>
                <a:lnTo>
                  <a:pt x="436" y="296"/>
                </a:lnTo>
                <a:lnTo>
                  <a:pt x="416" y="303"/>
                </a:lnTo>
                <a:lnTo>
                  <a:pt x="397" y="309"/>
                </a:lnTo>
                <a:lnTo>
                  <a:pt x="380" y="315"/>
                </a:lnTo>
                <a:lnTo>
                  <a:pt x="363" y="321"/>
                </a:lnTo>
                <a:lnTo>
                  <a:pt x="345" y="326"/>
                </a:lnTo>
                <a:lnTo>
                  <a:pt x="330" y="330"/>
                </a:lnTo>
                <a:lnTo>
                  <a:pt x="315" y="336"/>
                </a:lnTo>
                <a:lnTo>
                  <a:pt x="299" y="340"/>
                </a:lnTo>
                <a:lnTo>
                  <a:pt x="286" y="344"/>
                </a:lnTo>
                <a:lnTo>
                  <a:pt x="272" y="348"/>
                </a:lnTo>
                <a:lnTo>
                  <a:pt x="259" y="351"/>
                </a:lnTo>
                <a:lnTo>
                  <a:pt x="247" y="355"/>
                </a:lnTo>
                <a:lnTo>
                  <a:pt x="234" y="357"/>
                </a:lnTo>
                <a:lnTo>
                  <a:pt x="224" y="361"/>
                </a:lnTo>
                <a:lnTo>
                  <a:pt x="213" y="363"/>
                </a:lnTo>
                <a:lnTo>
                  <a:pt x="203" y="365"/>
                </a:lnTo>
                <a:lnTo>
                  <a:pt x="194" y="367"/>
                </a:lnTo>
                <a:lnTo>
                  <a:pt x="184" y="369"/>
                </a:lnTo>
                <a:lnTo>
                  <a:pt x="176" y="371"/>
                </a:lnTo>
                <a:lnTo>
                  <a:pt x="169" y="371"/>
                </a:lnTo>
                <a:lnTo>
                  <a:pt x="161" y="371"/>
                </a:lnTo>
                <a:lnTo>
                  <a:pt x="155" y="372"/>
                </a:lnTo>
                <a:lnTo>
                  <a:pt x="149" y="372"/>
                </a:lnTo>
                <a:lnTo>
                  <a:pt x="144" y="372"/>
                </a:lnTo>
                <a:lnTo>
                  <a:pt x="140" y="371"/>
                </a:lnTo>
                <a:lnTo>
                  <a:pt x="134" y="371"/>
                </a:lnTo>
                <a:lnTo>
                  <a:pt x="132" y="369"/>
                </a:lnTo>
                <a:lnTo>
                  <a:pt x="119" y="369"/>
                </a:lnTo>
                <a:lnTo>
                  <a:pt x="105" y="367"/>
                </a:lnTo>
                <a:lnTo>
                  <a:pt x="96" y="363"/>
                </a:lnTo>
                <a:lnTo>
                  <a:pt x="84" y="359"/>
                </a:lnTo>
                <a:lnTo>
                  <a:pt x="75" y="351"/>
                </a:lnTo>
                <a:lnTo>
                  <a:pt x="69" y="348"/>
                </a:lnTo>
                <a:lnTo>
                  <a:pt x="65" y="344"/>
                </a:lnTo>
                <a:lnTo>
                  <a:pt x="61" y="338"/>
                </a:lnTo>
                <a:lnTo>
                  <a:pt x="55" y="332"/>
                </a:lnTo>
                <a:lnTo>
                  <a:pt x="52" y="326"/>
                </a:lnTo>
                <a:lnTo>
                  <a:pt x="48" y="321"/>
                </a:lnTo>
                <a:lnTo>
                  <a:pt x="40" y="315"/>
                </a:lnTo>
                <a:lnTo>
                  <a:pt x="34" y="311"/>
                </a:lnTo>
                <a:lnTo>
                  <a:pt x="29" y="305"/>
                </a:lnTo>
                <a:lnTo>
                  <a:pt x="25" y="301"/>
                </a:lnTo>
                <a:lnTo>
                  <a:pt x="19" y="296"/>
                </a:lnTo>
                <a:lnTo>
                  <a:pt x="15" y="292"/>
                </a:lnTo>
                <a:lnTo>
                  <a:pt x="9" y="282"/>
                </a:lnTo>
                <a:lnTo>
                  <a:pt x="6" y="271"/>
                </a:lnTo>
                <a:lnTo>
                  <a:pt x="2" y="259"/>
                </a:lnTo>
                <a:lnTo>
                  <a:pt x="0" y="248"/>
                </a:lnTo>
                <a:lnTo>
                  <a:pt x="0" y="234"/>
                </a:lnTo>
                <a:lnTo>
                  <a:pt x="0" y="227"/>
                </a:lnTo>
                <a:lnTo>
                  <a:pt x="0" y="221"/>
                </a:lnTo>
                <a:lnTo>
                  <a:pt x="2" y="215"/>
                </a:lnTo>
                <a:lnTo>
                  <a:pt x="4" y="211"/>
                </a:lnTo>
                <a:lnTo>
                  <a:pt x="6" y="205"/>
                </a:lnTo>
                <a:lnTo>
                  <a:pt x="7" y="204"/>
                </a:lnTo>
                <a:lnTo>
                  <a:pt x="11" y="200"/>
                </a:lnTo>
                <a:lnTo>
                  <a:pt x="15" y="196"/>
                </a:lnTo>
                <a:lnTo>
                  <a:pt x="19" y="194"/>
                </a:lnTo>
                <a:lnTo>
                  <a:pt x="25" y="194"/>
                </a:lnTo>
                <a:lnTo>
                  <a:pt x="29" y="192"/>
                </a:lnTo>
                <a:lnTo>
                  <a:pt x="34" y="192"/>
                </a:lnTo>
                <a:lnTo>
                  <a:pt x="40" y="192"/>
                </a:lnTo>
                <a:lnTo>
                  <a:pt x="46" y="194"/>
                </a:lnTo>
                <a:lnTo>
                  <a:pt x="52" y="194"/>
                </a:lnTo>
                <a:lnTo>
                  <a:pt x="59" y="198"/>
                </a:lnTo>
                <a:lnTo>
                  <a:pt x="73" y="202"/>
                </a:lnTo>
                <a:lnTo>
                  <a:pt x="86" y="204"/>
                </a:lnTo>
                <a:lnTo>
                  <a:pt x="100" y="205"/>
                </a:lnTo>
                <a:lnTo>
                  <a:pt x="111" y="207"/>
                </a:lnTo>
                <a:lnTo>
                  <a:pt x="125" y="209"/>
                </a:lnTo>
                <a:lnTo>
                  <a:pt x="134" y="209"/>
                </a:lnTo>
                <a:lnTo>
                  <a:pt x="146" y="209"/>
                </a:lnTo>
                <a:lnTo>
                  <a:pt x="155" y="209"/>
                </a:lnTo>
                <a:lnTo>
                  <a:pt x="159" y="209"/>
                </a:lnTo>
                <a:lnTo>
                  <a:pt x="163" y="207"/>
                </a:lnTo>
                <a:lnTo>
                  <a:pt x="169" y="207"/>
                </a:lnTo>
                <a:lnTo>
                  <a:pt x="178" y="205"/>
                </a:lnTo>
                <a:lnTo>
                  <a:pt x="188" y="204"/>
                </a:lnTo>
                <a:lnTo>
                  <a:pt x="199" y="200"/>
                </a:lnTo>
                <a:lnTo>
                  <a:pt x="213" y="196"/>
                </a:lnTo>
                <a:lnTo>
                  <a:pt x="228" y="192"/>
                </a:lnTo>
                <a:lnTo>
                  <a:pt x="244" y="188"/>
                </a:lnTo>
                <a:lnTo>
                  <a:pt x="263" y="184"/>
                </a:lnTo>
                <a:lnTo>
                  <a:pt x="282" y="179"/>
                </a:lnTo>
                <a:lnTo>
                  <a:pt x="305" y="173"/>
                </a:lnTo>
                <a:lnTo>
                  <a:pt x="328" y="167"/>
                </a:lnTo>
                <a:lnTo>
                  <a:pt x="353" y="161"/>
                </a:lnTo>
                <a:lnTo>
                  <a:pt x="380" y="154"/>
                </a:lnTo>
                <a:lnTo>
                  <a:pt x="409" y="148"/>
                </a:lnTo>
                <a:lnTo>
                  <a:pt x="436" y="140"/>
                </a:lnTo>
                <a:lnTo>
                  <a:pt x="460" y="134"/>
                </a:lnTo>
                <a:lnTo>
                  <a:pt x="487" y="129"/>
                </a:lnTo>
                <a:lnTo>
                  <a:pt x="512" y="121"/>
                </a:lnTo>
                <a:lnTo>
                  <a:pt x="535" y="115"/>
                </a:lnTo>
                <a:lnTo>
                  <a:pt x="560" y="110"/>
                </a:lnTo>
                <a:lnTo>
                  <a:pt x="583" y="106"/>
                </a:lnTo>
                <a:lnTo>
                  <a:pt x="606" y="100"/>
                </a:lnTo>
                <a:lnTo>
                  <a:pt x="629" y="94"/>
                </a:lnTo>
                <a:lnTo>
                  <a:pt x="651" y="90"/>
                </a:lnTo>
                <a:lnTo>
                  <a:pt x="672" y="85"/>
                </a:lnTo>
                <a:lnTo>
                  <a:pt x="693" y="81"/>
                </a:lnTo>
                <a:lnTo>
                  <a:pt x="712" y="75"/>
                </a:lnTo>
                <a:lnTo>
                  <a:pt x="731" y="71"/>
                </a:lnTo>
                <a:lnTo>
                  <a:pt x="750" y="65"/>
                </a:lnTo>
                <a:lnTo>
                  <a:pt x="770" y="62"/>
                </a:lnTo>
                <a:lnTo>
                  <a:pt x="787" y="60"/>
                </a:lnTo>
                <a:lnTo>
                  <a:pt x="806" y="56"/>
                </a:lnTo>
                <a:lnTo>
                  <a:pt x="827" y="54"/>
                </a:lnTo>
                <a:lnTo>
                  <a:pt x="848" y="50"/>
                </a:lnTo>
                <a:lnTo>
                  <a:pt x="869" y="46"/>
                </a:lnTo>
                <a:lnTo>
                  <a:pt x="892" y="42"/>
                </a:lnTo>
                <a:lnTo>
                  <a:pt x="917" y="39"/>
                </a:lnTo>
                <a:lnTo>
                  <a:pt x="942" y="35"/>
                </a:lnTo>
                <a:lnTo>
                  <a:pt x="967" y="31"/>
                </a:lnTo>
                <a:lnTo>
                  <a:pt x="994" y="27"/>
                </a:lnTo>
                <a:lnTo>
                  <a:pt x="1023" y="23"/>
                </a:lnTo>
                <a:lnTo>
                  <a:pt x="1052" y="17"/>
                </a:lnTo>
                <a:lnTo>
                  <a:pt x="1081" y="14"/>
                </a:lnTo>
                <a:lnTo>
                  <a:pt x="1113" y="10"/>
                </a:lnTo>
                <a:lnTo>
                  <a:pt x="1144" y="4"/>
                </a:lnTo>
                <a:lnTo>
                  <a:pt x="1178" y="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Freeform 95"/>
          <p:cNvSpPr/>
          <p:nvPr/>
        </p:nvSpPr>
        <p:spPr>
          <a:xfrm>
            <a:off x="5524560" y="4033800"/>
            <a:ext cx="869760" cy="784440"/>
          </a:xfrm>
          <a:custGeom>
            <a:avLst/>
            <a:gdLst/>
            <a:ahLst/>
            <a:rect l="l" t="t" r="r" b="b"/>
            <a:pathLst>
              <a:path w="1096" h="988">
                <a:moveTo>
                  <a:pt x="891" y="25"/>
                </a:moveTo>
                <a:lnTo>
                  <a:pt x="993" y="11"/>
                </a:lnTo>
                <a:lnTo>
                  <a:pt x="1096" y="0"/>
                </a:lnTo>
                <a:lnTo>
                  <a:pt x="1066" y="48"/>
                </a:lnTo>
                <a:lnTo>
                  <a:pt x="1035" y="94"/>
                </a:lnTo>
                <a:lnTo>
                  <a:pt x="1006" y="138"/>
                </a:lnTo>
                <a:lnTo>
                  <a:pt x="977" y="180"/>
                </a:lnTo>
                <a:lnTo>
                  <a:pt x="949" y="220"/>
                </a:lnTo>
                <a:lnTo>
                  <a:pt x="922" y="259"/>
                </a:lnTo>
                <a:lnTo>
                  <a:pt x="895" y="297"/>
                </a:lnTo>
                <a:lnTo>
                  <a:pt x="870" y="332"/>
                </a:lnTo>
                <a:lnTo>
                  <a:pt x="843" y="364"/>
                </a:lnTo>
                <a:lnTo>
                  <a:pt x="820" y="395"/>
                </a:lnTo>
                <a:lnTo>
                  <a:pt x="795" y="424"/>
                </a:lnTo>
                <a:lnTo>
                  <a:pt x="772" y="453"/>
                </a:lnTo>
                <a:lnTo>
                  <a:pt x="751" y="477"/>
                </a:lnTo>
                <a:lnTo>
                  <a:pt x="728" y="500"/>
                </a:lnTo>
                <a:lnTo>
                  <a:pt x="718" y="512"/>
                </a:lnTo>
                <a:lnTo>
                  <a:pt x="707" y="522"/>
                </a:lnTo>
                <a:lnTo>
                  <a:pt x="697" y="533"/>
                </a:lnTo>
                <a:lnTo>
                  <a:pt x="688" y="543"/>
                </a:lnTo>
                <a:lnTo>
                  <a:pt x="666" y="560"/>
                </a:lnTo>
                <a:lnTo>
                  <a:pt x="645" y="579"/>
                </a:lnTo>
                <a:lnTo>
                  <a:pt x="622" y="598"/>
                </a:lnTo>
                <a:lnTo>
                  <a:pt x="599" y="616"/>
                </a:lnTo>
                <a:lnTo>
                  <a:pt x="576" y="635"/>
                </a:lnTo>
                <a:lnTo>
                  <a:pt x="551" y="654"/>
                </a:lnTo>
                <a:lnTo>
                  <a:pt x="524" y="671"/>
                </a:lnTo>
                <a:lnTo>
                  <a:pt x="499" y="690"/>
                </a:lnTo>
                <a:lnTo>
                  <a:pt x="473" y="710"/>
                </a:lnTo>
                <a:lnTo>
                  <a:pt x="444" y="729"/>
                </a:lnTo>
                <a:lnTo>
                  <a:pt x="417" y="748"/>
                </a:lnTo>
                <a:lnTo>
                  <a:pt x="386" y="769"/>
                </a:lnTo>
                <a:lnTo>
                  <a:pt x="357" y="788"/>
                </a:lnTo>
                <a:lnTo>
                  <a:pt x="327" y="808"/>
                </a:lnTo>
                <a:lnTo>
                  <a:pt x="296" y="829"/>
                </a:lnTo>
                <a:lnTo>
                  <a:pt x="265" y="850"/>
                </a:lnTo>
                <a:lnTo>
                  <a:pt x="250" y="859"/>
                </a:lnTo>
                <a:lnTo>
                  <a:pt x="235" y="871"/>
                </a:lnTo>
                <a:lnTo>
                  <a:pt x="208" y="888"/>
                </a:lnTo>
                <a:lnTo>
                  <a:pt x="181" y="905"/>
                </a:lnTo>
                <a:lnTo>
                  <a:pt x="156" y="921"/>
                </a:lnTo>
                <a:lnTo>
                  <a:pt x="133" y="934"/>
                </a:lnTo>
                <a:lnTo>
                  <a:pt x="112" y="946"/>
                </a:lnTo>
                <a:lnTo>
                  <a:pt x="92" y="955"/>
                </a:lnTo>
                <a:lnTo>
                  <a:pt x="75" y="965"/>
                </a:lnTo>
                <a:lnTo>
                  <a:pt x="60" y="973"/>
                </a:lnTo>
                <a:lnTo>
                  <a:pt x="46" y="978"/>
                </a:lnTo>
                <a:lnTo>
                  <a:pt x="35" y="982"/>
                </a:lnTo>
                <a:lnTo>
                  <a:pt x="23" y="986"/>
                </a:lnTo>
                <a:lnTo>
                  <a:pt x="16" y="988"/>
                </a:lnTo>
                <a:lnTo>
                  <a:pt x="10" y="988"/>
                </a:lnTo>
                <a:lnTo>
                  <a:pt x="4" y="988"/>
                </a:lnTo>
                <a:lnTo>
                  <a:pt x="0" y="986"/>
                </a:lnTo>
                <a:lnTo>
                  <a:pt x="0" y="982"/>
                </a:lnTo>
                <a:lnTo>
                  <a:pt x="0" y="980"/>
                </a:lnTo>
                <a:lnTo>
                  <a:pt x="0" y="976"/>
                </a:lnTo>
                <a:lnTo>
                  <a:pt x="0" y="975"/>
                </a:lnTo>
                <a:lnTo>
                  <a:pt x="2" y="971"/>
                </a:lnTo>
                <a:lnTo>
                  <a:pt x="4" y="967"/>
                </a:lnTo>
                <a:lnTo>
                  <a:pt x="6" y="963"/>
                </a:lnTo>
                <a:lnTo>
                  <a:pt x="8" y="957"/>
                </a:lnTo>
                <a:lnTo>
                  <a:pt x="12" y="953"/>
                </a:lnTo>
                <a:lnTo>
                  <a:pt x="16" y="948"/>
                </a:lnTo>
                <a:lnTo>
                  <a:pt x="20" y="944"/>
                </a:lnTo>
                <a:lnTo>
                  <a:pt x="23" y="938"/>
                </a:lnTo>
                <a:lnTo>
                  <a:pt x="29" y="932"/>
                </a:lnTo>
                <a:lnTo>
                  <a:pt x="35" y="925"/>
                </a:lnTo>
                <a:lnTo>
                  <a:pt x="41" y="919"/>
                </a:lnTo>
                <a:lnTo>
                  <a:pt x="48" y="911"/>
                </a:lnTo>
                <a:lnTo>
                  <a:pt x="56" y="905"/>
                </a:lnTo>
                <a:lnTo>
                  <a:pt x="64" y="898"/>
                </a:lnTo>
                <a:lnTo>
                  <a:pt x="71" y="890"/>
                </a:lnTo>
                <a:lnTo>
                  <a:pt x="81" y="882"/>
                </a:lnTo>
                <a:lnTo>
                  <a:pt x="91" y="875"/>
                </a:lnTo>
                <a:lnTo>
                  <a:pt x="100" y="865"/>
                </a:lnTo>
                <a:lnTo>
                  <a:pt x="110" y="857"/>
                </a:lnTo>
                <a:lnTo>
                  <a:pt x="121" y="848"/>
                </a:lnTo>
                <a:lnTo>
                  <a:pt x="133" y="838"/>
                </a:lnTo>
                <a:lnTo>
                  <a:pt x="146" y="829"/>
                </a:lnTo>
                <a:lnTo>
                  <a:pt x="158" y="819"/>
                </a:lnTo>
                <a:lnTo>
                  <a:pt x="171" y="808"/>
                </a:lnTo>
                <a:lnTo>
                  <a:pt x="185" y="798"/>
                </a:lnTo>
                <a:lnTo>
                  <a:pt x="200" y="786"/>
                </a:lnTo>
                <a:lnTo>
                  <a:pt x="213" y="775"/>
                </a:lnTo>
                <a:lnTo>
                  <a:pt x="229" y="763"/>
                </a:lnTo>
                <a:lnTo>
                  <a:pt x="258" y="740"/>
                </a:lnTo>
                <a:lnTo>
                  <a:pt x="286" y="717"/>
                </a:lnTo>
                <a:lnTo>
                  <a:pt x="315" y="694"/>
                </a:lnTo>
                <a:lnTo>
                  <a:pt x="342" y="673"/>
                </a:lnTo>
                <a:lnTo>
                  <a:pt x="369" y="652"/>
                </a:lnTo>
                <a:lnTo>
                  <a:pt x="394" y="631"/>
                </a:lnTo>
                <a:lnTo>
                  <a:pt x="419" y="610"/>
                </a:lnTo>
                <a:lnTo>
                  <a:pt x="444" y="589"/>
                </a:lnTo>
                <a:lnTo>
                  <a:pt x="467" y="570"/>
                </a:lnTo>
                <a:lnTo>
                  <a:pt x="488" y="550"/>
                </a:lnTo>
                <a:lnTo>
                  <a:pt x="511" y="531"/>
                </a:lnTo>
                <a:lnTo>
                  <a:pt x="530" y="512"/>
                </a:lnTo>
                <a:lnTo>
                  <a:pt x="551" y="495"/>
                </a:lnTo>
                <a:lnTo>
                  <a:pt x="569" y="477"/>
                </a:lnTo>
                <a:lnTo>
                  <a:pt x="586" y="460"/>
                </a:lnTo>
                <a:lnTo>
                  <a:pt x="603" y="443"/>
                </a:lnTo>
                <a:lnTo>
                  <a:pt x="618" y="426"/>
                </a:lnTo>
                <a:lnTo>
                  <a:pt x="634" y="408"/>
                </a:lnTo>
                <a:lnTo>
                  <a:pt x="651" y="389"/>
                </a:lnTo>
                <a:lnTo>
                  <a:pt x="668" y="368"/>
                </a:lnTo>
                <a:lnTo>
                  <a:pt x="686" y="345"/>
                </a:lnTo>
                <a:lnTo>
                  <a:pt x="703" y="322"/>
                </a:lnTo>
                <a:lnTo>
                  <a:pt x="720" y="297"/>
                </a:lnTo>
                <a:lnTo>
                  <a:pt x="737" y="270"/>
                </a:lnTo>
                <a:lnTo>
                  <a:pt x="757" y="243"/>
                </a:lnTo>
                <a:lnTo>
                  <a:pt x="776" y="216"/>
                </a:lnTo>
                <a:lnTo>
                  <a:pt x="793" y="186"/>
                </a:lnTo>
                <a:lnTo>
                  <a:pt x="812" y="155"/>
                </a:lnTo>
                <a:lnTo>
                  <a:pt x="832" y="124"/>
                </a:lnTo>
                <a:lnTo>
                  <a:pt x="851" y="92"/>
                </a:lnTo>
                <a:lnTo>
                  <a:pt x="872" y="59"/>
                </a:lnTo>
                <a:lnTo>
                  <a:pt x="891" y="2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Freeform 96"/>
          <p:cNvSpPr/>
          <p:nvPr/>
        </p:nvSpPr>
        <p:spPr>
          <a:xfrm>
            <a:off x="6748560" y="3065400"/>
            <a:ext cx="944640" cy="206280"/>
          </a:xfrm>
          <a:custGeom>
            <a:avLst/>
            <a:gdLst/>
            <a:ahLst/>
            <a:rect l="l" t="t" r="r" b="b"/>
            <a:pathLst>
              <a:path w="1190" h="259">
                <a:moveTo>
                  <a:pt x="0" y="186"/>
                </a:moveTo>
                <a:lnTo>
                  <a:pt x="54" y="175"/>
                </a:lnTo>
                <a:lnTo>
                  <a:pt x="109" y="163"/>
                </a:lnTo>
                <a:lnTo>
                  <a:pt x="161" y="152"/>
                </a:lnTo>
                <a:lnTo>
                  <a:pt x="211" y="142"/>
                </a:lnTo>
                <a:lnTo>
                  <a:pt x="261" y="132"/>
                </a:lnTo>
                <a:lnTo>
                  <a:pt x="307" y="123"/>
                </a:lnTo>
                <a:lnTo>
                  <a:pt x="353" y="113"/>
                </a:lnTo>
                <a:lnTo>
                  <a:pt x="397" y="104"/>
                </a:lnTo>
                <a:lnTo>
                  <a:pt x="441" y="96"/>
                </a:lnTo>
                <a:lnTo>
                  <a:pt x="482" y="86"/>
                </a:lnTo>
                <a:lnTo>
                  <a:pt x="522" y="79"/>
                </a:lnTo>
                <a:lnTo>
                  <a:pt x="558" y="71"/>
                </a:lnTo>
                <a:lnTo>
                  <a:pt x="595" y="65"/>
                </a:lnTo>
                <a:lnTo>
                  <a:pt x="630" y="58"/>
                </a:lnTo>
                <a:lnTo>
                  <a:pt x="664" y="52"/>
                </a:lnTo>
                <a:lnTo>
                  <a:pt x="695" y="46"/>
                </a:lnTo>
                <a:lnTo>
                  <a:pt x="726" y="40"/>
                </a:lnTo>
                <a:lnTo>
                  <a:pt x="752" y="35"/>
                </a:lnTo>
                <a:lnTo>
                  <a:pt x="779" y="31"/>
                </a:lnTo>
                <a:lnTo>
                  <a:pt x="806" y="27"/>
                </a:lnTo>
                <a:lnTo>
                  <a:pt x="829" y="21"/>
                </a:lnTo>
                <a:lnTo>
                  <a:pt x="850" y="19"/>
                </a:lnTo>
                <a:lnTo>
                  <a:pt x="871" y="15"/>
                </a:lnTo>
                <a:lnTo>
                  <a:pt x="891" y="12"/>
                </a:lnTo>
                <a:lnTo>
                  <a:pt x="908" y="10"/>
                </a:lnTo>
                <a:lnTo>
                  <a:pt x="923" y="8"/>
                </a:lnTo>
                <a:lnTo>
                  <a:pt x="939" y="6"/>
                </a:lnTo>
                <a:lnTo>
                  <a:pt x="950" y="4"/>
                </a:lnTo>
                <a:lnTo>
                  <a:pt x="962" y="2"/>
                </a:lnTo>
                <a:lnTo>
                  <a:pt x="971" y="2"/>
                </a:lnTo>
                <a:lnTo>
                  <a:pt x="979" y="0"/>
                </a:lnTo>
                <a:lnTo>
                  <a:pt x="985" y="0"/>
                </a:lnTo>
                <a:lnTo>
                  <a:pt x="1004" y="2"/>
                </a:lnTo>
                <a:lnTo>
                  <a:pt x="1021" y="2"/>
                </a:lnTo>
                <a:lnTo>
                  <a:pt x="1040" y="6"/>
                </a:lnTo>
                <a:lnTo>
                  <a:pt x="1058" y="8"/>
                </a:lnTo>
                <a:lnTo>
                  <a:pt x="1075" y="12"/>
                </a:lnTo>
                <a:lnTo>
                  <a:pt x="1094" y="17"/>
                </a:lnTo>
                <a:lnTo>
                  <a:pt x="1131" y="25"/>
                </a:lnTo>
                <a:lnTo>
                  <a:pt x="1142" y="35"/>
                </a:lnTo>
                <a:lnTo>
                  <a:pt x="1154" y="42"/>
                </a:lnTo>
                <a:lnTo>
                  <a:pt x="1165" y="48"/>
                </a:lnTo>
                <a:lnTo>
                  <a:pt x="1173" y="56"/>
                </a:lnTo>
                <a:lnTo>
                  <a:pt x="1180" y="61"/>
                </a:lnTo>
                <a:lnTo>
                  <a:pt x="1182" y="63"/>
                </a:lnTo>
                <a:lnTo>
                  <a:pt x="1186" y="65"/>
                </a:lnTo>
                <a:lnTo>
                  <a:pt x="1188" y="67"/>
                </a:lnTo>
                <a:lnTo>
                  <a:pt x="1188" y="71"/>
                </a:lnTo>
                <a:lnTo>
                  <a:pt x="1190" y="73"/>
                </a:lnTo>
                <a:lnTo>
                  <a:pt x="1190" y="75"/>
                </a:lnTo>
                <a:lnTo>
                  <a:pt x="1190" y="81"/>
                </a:lnTo>
                <a:lnTo>
                  <a:pt x="1188" y="86"/>
                </a:lnTo>
                <a:lnTo>
                  <a:pt x="1184" y="92"/>
                </a:lnTo>
                <a:lnTo>
                  <a:pt x="1180" y="100"/>
                </a:lnTo>
                <a:lnTo>
                  <a:pt x="1175" y="106"/>
                </a:lnTo>
                <a:lnTo>
                  <a:pt x="1169" y="113"/>
                </a:lnTo>
                <a:lnTo>
                  <a:pt x="1161" y="119"/>
                </a:lnTo>
                <a:lnTo>
                  <a:pt x="1154" y="125"/>
                </a:lnTo>
                <a:lnTo>
                  <a:pt x="1152" y="127"/>
                </a:lnTo>
                <a:lnTo>
                  <a:pt x="1148" y="129"/>
                </a:lnTo>
                <a:lnTo>
                  <a:pt x="1144" y="131"/>
                </a:lnTo>
                <a:lnTo>
                  <a:pt x="1138" y="134"/>
                </a:lnTo>
                <a:lnTo>
                  <a:pt x="1132" y="136"/>
                </a:lnTo>
                <a:lnTo>
                  <a:pt x="1125" y="138"/>
                </a:lnTo>
                <a:lnTo>
                  <a:pt x="1117" y="140"/>
                </a:lnTo>
                <a:lnTo>
                  <a:pt x="1109" y="142"/>
                </a:lnTo>
                <a:lnTo>
                  <a:pt x="1100" y="146"/>
                </a:lnTo>
                <a:lnTo>
                  <a:pt x="1090" y="148"/>
                </a:lnTo>
                <a:lnTo>
                  <a:pt x="1079" y="150"/>
                </a:lnTo>
                <a:lnTo>
                  <a:pt x="1067" y="152"/>
                </a:lnTo>
                <a:lnTo>
                  <a:pt x="1054" y="155"/>
                </a:lnTo>
                <a:lnTo>
                  <a:pt x="1040" y="157"/>
                </a:lnTo>
                <a:lnTo>
                  <a:pt x="1027" y="159"/>
                </a:lnTo>
                <a:lnTo>
                  <a:pt x="1012" y="163"/>
                </a:lnTo>
                <a:lnTo>
                  <a:pt x="994" y="165"/>
                </a:lnTo>
                <a:lnTo>
                  <a:pt x="979" y="167"/>
                </a:lnTo>
                <a:lnTo>
                  <a:pt x="962" y="171"/>
                </a:lnTo>
                <a:lnTo>
                  <a:pt x="942" y="173"/>
                </a:lnTo>
                <a:lnTo>
                  <a:pt x="923" y="177"/>
                </a:lnTo>
                <a:lnTo>
                  <a:pt x="904" y="179"/>
                </a:lnTo>
                <a:lnTo>
                  <a:pt x="883" y="182"/>
                </a:lnTo>
                <a:lnTo>
                  <a:pt x="862" y="184"/>
                </a:lnTo>
                <a:lnTo>
                  <a:pt x="839" y="188"/>
                </a:lnTo>
                <a:lnTo>
                  <a:pt x="816" y="190"/>
                </a:lnTo>
                <a:lnTo>
                  <a:pt x="793" y="194"/>
                </a:lnTo>
                <a:lnTo>
                  <a:pt x="768" y="198"/>
                </a:lnTo>
                <a:lnTo>
                  <a:pt x="741" y="200"/>
                </a:lnTo>
                <a:lnTo>
                  <a:pt x="716" y="203"/>
                </a:lnTo>
                <a:lnTo>
                  <a:pt x="689" y="207"/>
                </a:lnTo>
                <a:lnTo>
                  <a:pt x="660" y="211"/>
                </a:lnTo>
                <a:lnTo>
                  <a:pt x="631" y="213"/>
                </a:lnTo>
                <a:lnTo>
                  <a:pt x="603" y="217"/>
                </a:lnTo>
                <a:lnTo>
                  <a:pt x="576" y="221"/>
                </a:lnTo>
                <a:lnTo>
                  <a:pt x="547" y="223"/>
                </a:lnTo>
                <a:lnTo>
                  <a:pt x="520" y="226"/>
                </a:lnTo>
                <a:lnTo>
                  <a:pt x="495" y="228"/>
                </a:lnTo>
                <a:lnTo>
                  <a:pt x="468" y="232"/>
                </a:lnTo>
                <a:lnTo>
                  <a:pt x="443" y="234"/>
                </a:lnTo>
                <a:lnTo>
                  <a:pt x="418" y="236"/>
                </a:lnTo>
                <a:lnTo>
                  <a:pt x="395" y="238"/>
                </a:lnTo>
                <a:lnTo>
                  <a:pt x="372" y="240"/>
                </a:lnTo>
                <a:lnTo>
                  <a:pt x="349" y="242"/>
                </a:lnTo>
                <a:lnTo>
                  <a:pt x="326" y="244"/>
                </a:lnTo>
                <a:lnTo>
                  <a:pt x="305" y="246"/>
                </a:lnTo>
                <a:lnTo>
                  <a:pt x="282" y="248"/>
                </a:lnTo>
                <a:lnTo>
                  <a:pt x="263" y="250"/>
                </a:lnTo>
                <a:lnTo>
                  <a:pt x="242" y="251"/>
                </a:lnTo>
                <a:lnTo>
                  <a:pt x="223" y="251"/>
                </a:lnTo>
                <a:lnTo>
                  <a:pt x="203" y="253"/>
                </a:lnTo>
                <a:lnTo>
                  <a:pt x="184" y="253"/>
                </a:lnTo>
                <a:lnTo>
                  <a:pt x="165" y="255"/>
                </a:lnTo>
                <a:lnTo>
                  <a:pt x="148" y="255"/>
                </a:lnTo>
                <a:lnTo>
                  <a:pt x="130" y="257"/>
                </a:lnTo>
                <a:lnTo>
                  <a:pt x="115" y="257"/>
                </a:lnTo>
                <a:lnTo>
                  <a:pt x="98" y="257"/>
                </a:lnTo>
                <a:lnTo>
                  <a:pt x="82" y="259"/>
                </a:lnTo>
                <a:lnTo>
                  <a:pt x="67" y="259"/>
                </a:lnTo>
                <a:lnTo>
                  <a:pt x="52" y="259"/>
                </a:lnTo>
                <a:lnTo>
                  <a:pt x="38" y="259"/>
                </a:lnTo>
                <a:lnTo>
                  <a:pt x="25" y="259"/>
                </a:lnTo>
                <a:lnTo>
                  <a:pt x="11" y="259"/>
                </a:lnTo>
                <a:lnTo>
                  <a:pt x="0" y="259"/>
                </a:lnTo>
                <a:lnTo>
                  <a:pt x="0" y="18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Freeform 97"/>
          <p:cNvSpPr/>
          <p:nvPr/>
        </p:nvSpPr>
        <p:spPr>
          <a:xfrm>
            <a:off x="6824520" y="3336840"/>
            <a:ext cx="658800" cy="1201680"/>
          </a:xfrm>
          <a:custGeom>
            <a:avLst/>
            <a:gdLst/>
            <a:ahLst/>
            <a:rect l="l" t="t" r="r" b="b"/>
            <a:pathLst>
              <a:path w="829" h="1514">
                <a:moveTo>
                  <a:pt x="180" y="1397"/>
                </a:moveTo>
                <a:lnTo>
                  <a:pt x="163" y="1414"/>
                </a:lnTo>
                <a:lnTo>
                  <a:pt x="146" y="1431"/>
                </a:lnTo>
                <a:lnTo>
                  <a:pt x="130" y="1445"/>
                </a:lnTo>
                <a:lnTo>
                  <a:pt x="115" y="1458"/>
                </a:lnTo>
                <a:lnTo>
                  <a:pt x="100" y="1472"/>
                </a:lnTo>
                <a:lnTo>
                  <a:pt x="86" y="1481"/>
                </a:lnTo>
                <a:lnTo>
                  <a:pt x="75" y="1491"/>
                </a:lnTo>
                <a:lnTo>
                  <a:pt x="63" y="1498"/>
                </a:lnTo>
                <a:lnTo>
                  <a:pt x="52" y="1504"/>
                </a:lnTo>
                <a:lnTo>
                  <a:pt x="42" y="1510"/>
                </a:lnTo>
                <a:lnTo>
                  <a:pt x="32" y="1512"/>
                </a:lnTo>
                <a:lnTo>
                  <a:pt x="25" y="1514"/>
                </a:lnTo>
                <a:lnTo>
                  <a:pt x="17" y="1514"/>
                </a:lnTo>
                <a:lnTo>
                  <a:pt x="9" y="1514"/>
                </a:lnTo>
                <a:lnTo>
                  <a:pt x="4" y="1512"/>
                </a:lnTo>
                <a:lnTo>
                  <a:pt x="0" y="1508"/>
                </a:lnTo>
                <a:lnTo>
                  <a:pt x="36" y="1451"/>
                </a:lnTo>
                <a:lnTo>
                  <a:pt x="73" y="1395"/>
                </a:lnTo>
                <a:lnTo>
                  <a:pt x="107" y="1341"/>
                </a:lnTo>
                <a:lnTo>
                  <a:pt x="140" y="1289"/>
                </a:lnTo>
                <a:lnTo>
                  <a:pt x="173" y="1239"/>
                </a:lnTo>
                <a:lnTo>
                  <a:pt x="203" y="1191"/>
                </a:lnTo>
                <a:lnTo>
                  <a:pt x="232" y="1143"/>
                </a:lnTo>
                <a:lnTo>
                  <a:pt x="261" y="1099"/>
                </a:lnTo>
                <a:lnTo>
                  <a:pt x="286" y="1055"/>
                </a:lnTo>
                <a:lnTo>
                  <a:pt x="313" y="1013"/>
                </a:lnTo>
                <a:lnTo>
                  <a:pt x="336" y="973"/>
                </a:lnTo>
                <a:lnTo>
                  <a:pt x="359" y="934"/>
                </a:lnTo>
                <a:lnTo>
                  <a:pt x="378" y="896"/>
                </a:lnTo>
                <a:lnTo>
                  <a:pt x="397" y="859"/>
                </a:lnTo>
                <a:lnTo>
                  <a:pt x="416" y="825"/>
                </a:lnTo>
                <a:lnTo>
                  <a:pt x="432" y="792"/>
                </a:lnTo>
                <a:lnTo>
                  <a:pt x="445" y="760"/>
                </a:lnTo>
                <a:lnTo>
                  <a:pt x="459" y="729"/>
                </a:lnTo>
                <a:lnTo>
                  <a:pt x="482" y="666"/>
                </a:lnTo>
                <a:lnTo>
                  <a:pt x="503" y="604"/>
                </a:lnTo>
                <a:lnTo>
                  <a:pt x="524" y="543"/>
                </a:lnTo>
                <a:lnTo>
                  <a:pt x="543" y="483"/>
                </a:lnTo>
                <a:lnTo>
                  <a:pt x="558" y="426"/>
                </a:lnTo>
                <a:lnTo>
                  <a:pt x="574" y="368"/>
                </a:lnTo>
                <a:lnTo>
                  <a:pt x="589" y="312"/>
                </a:lnTo>
                <a:lnTo>
                  <a:pt x="595" y="288"/>
                </a:lnTo>
                <a:lnTo>
                  <a:pt x="601" y="264"/>
                </a:lnTo>
                <a:lnTo>
                  <a:pt x="605" y="241"/>
                </a:lnTo>
                <a:lnTo>
                  <a:pt x="608" y="220"/>
                </a:lnTo>
                <a:lnTo>
                  <a:pt x="612" y="199"/>
                </a:lnTo>
                <a:lnTo>
                  <a:pt x="614" y="180"/>
                </a:lnTo>
                <a:lnTo>
                  <a:pt x="618" y="163"/>
                </a:lnTo>
                <a:lnTo>
                  <a:pt x="618" y="147"/>
                </a:lnTo>
                <a:lnTo>
                  <a:pt x="620" y="132"/>
                </a:lnTo>
                <a:lnTo>
                  <a:pt x="620" y="119"/>
                </a:lnTo>
                <a:lnTo>
                  <a:pt x="620" y="107"/>
                </a:lnTo>
                <a:lnTo>
                  <a:pt x="620" y="96"/>
                </a:lnTo>
                <a:lnTo>
                  <a:pt x="618" y="86"/>
                </a:lnTo>
                <a:lnTo>
                  <a:pt x="616" y="78"/>
                </a:lnTo>
                <a:lnTo>
                  <a:pt x="614" y="71"/>
                </a:lnTo>
                <a:lnTo>
                  <a:pt x="612" y="65"/>
                </a:lnTo>
                <a:lnTo>
                  <a:pt x="608" y="63"/>
                </a:lnTo>
                <a:lnTo>
                  <a:pt x="605" y="61"/>
                </a:lnTo>
                <a:lnTo>
                  <a:pt x="603" y="57"/>
                </a:lnTo>
                <a:lnTo>
                  <a:pt x="599" y="55"/>
                </a:lnTo>
                <a:lnTo>
                  <a:pt x="597" y="51"/>
                </a:lnTo>
                <a:lnTo>
                  <a:pt x="595" y="48"/>
                </a:lnTo>
                <a:lnTo>
                  <a:pt x="593" y="42"/>
                </a:lnTo>
                <a:lnTo>
                  <a:pt x="593" y="34"/>
                </a:lnTo>
                <a:lnTo>
                  <a:pt x="595" y="27"/>
                </a:lnTo>
                <a:lnTo>
                  <a:pt x="597" y="21"/>
                </a:lnTo>
                <a:lnTo>
                  <a:pt x="601" y="17"/>
                </a:lnTo>
                <a:lnTo>
                  <a:pt x="606" y="11"/>
                </a:lnTo>
                <a:lnTo>
                  <a:pt x="612" y="7"/>
                </a:lnTo>
                <a:lnTo>
                  <a:pt x="620" y="3"/>
                </a:lnTo>
                <a:lnTo>
                  <a:pt x="628" y="2"/>
                </a:lnTo>
                <a:lnTo>
                  <a:pt x="637" y="0"/>
                </a:lnTo>
                <a:lnTo>
                  <a:pt x="649" y="0"/>
                </a:lnTo>
                <a:lnTo>
                  <a:pt x="654" y="0"/>
                </a:lnTo>
                <a:lnTo>
                  <a:pt x="660" y="0"/>
                </a:lnTo>
                <a:lnTo>
                  <a:pt x="666" y="2"/>
                </a:lnTo>
                <a:lnTo>
                  <a:pt x="674" y="3"/>
                </a:lnTo>
                <a:lnTo>
                  <a:pt x="687" y="9"/>
                </a:lnTo>
                <a:lnTo>
                  <a:pt x="701" y="15"/>
                </a:lnTo>
                <a:lnTo>
                  <a:pt x="714" y="23"/>
                </a:lnTo>
                <a:lnTo>
                  <a:pt x="727" y="32"/>
                </a:lnTo>
                <a:lnTo>
                  <a:pt x="741" y="42"/>
                </a:lnTo>
                <a:lnTo>
                  <a:pt x="754" y="51"/>
                </a:lnTo>
                <a:lnTo>
                  <a:pt x="768" y="65"/>
                </a:lnTo>
                <a:lnTo>
                  <a:pt x="781" y="78"/>
                </a:lnTo>
                <a:lnTo>
                  <a:pt x="787" y="84"/>
                </a:lnTo>
                <a:lnTo>
                  <a:pt x="793" y="92"/>
                </a:lnTo>
                <a:lnTo>
                  <a:pt x="798" y="98"/>
                </a:lnTo>
                <a:lnTo>
                  <a:pt x="804" y="103"/>
                </a:lnTo>
                <a:lnTo>
                  <a:pt x="808" y="109"/>
                </a:lnTo>
                <a:lnTo>
                  <a:pt x="812" y="115"/>
                </a:lnTo>
                <a:lnTo>
                  <a:pt x="818" y="124"/>
                </a:lnTo>
                <a:lnTo>
                  <a:pt x="823" y="132"/>
                </a:lnTo>
                <a:lnTo>
                  <a:pt x="827" y="140"/>
                </a:lnTo>
                <a:lnTo>
                  <a:pt x="829" y="147"/>
                </a:lnTo>
                <a:lnTo>
                  <a:pt x="829" y="151"/>
                </a:lnTo>
                <a:lnTo>
                  <a:pt x="829" y="157"/>
                </a:lnTo>
                <a:lnTo>
                  <a:pt x="827" y="165"/>
                </a:lnTo>
                <a:lnTo>
                  <a:pt x="827" y="172"/>
                </a:lnTo>
                <a:lnTo>
                  <a:pt x="825" y="182"/>
                </a:lnTo>
                <a:lnTo>
                  <a:pt x="821" y="193"/>
                </a:lnTo>
                <a:lnTo>
                  <a:pt x="820" y="205"/>
                </a:lnTo>
                <a:lnTo>
                  <a:pt x="816" y="220"/>
                </a:lnTo>
                <a:lnTo>
                  <a:pt x="810" y="236"/>
                </a:lnTo>
                <a:lnTo>
                  <a:pt x="806" y="251"/>
                </a:lnTo>
                <a:lnTo>
                  <a:pt x="800" y="270"/>
                </a:lnTo>
                <a:lnTo>
                  <a:pt x="795" y="289"/>
                </a:lnTo>
                <a:lnTo>
                  <a:pt x="789" y="311"/>
                </a:lnTo>
                <a:lnTo>
                  <a:pt x="781" y="334"/>
                </a:lnTo>
                <a:lnTo>
                  <a:pt x="773" y="359"/>
                </a:lnTo>
                <a:lnTo>
                  <a:pt x="766" y="383"/>
                </a:lnTo>
                <a:lnTo>
                  <a:pt x="758" y="410"/>
                </a:lnTo>
                <a:lnTo>
                  <a:pt x="747" y="441"/>
                </a:lnTo>
                <a:lnTo>
                  <a:pt x="733" y="472"/>
                </a:lnTo>
                <a:lnTo>
                  <a:pt x="722" y="502"/>
                </a:lnTo>
                <a:lnTo>
                  <a:pt x="708" y="533"/>
                </a:lnTo>
                <a:lnTo>
                  <a:pt x="693" y="564"/>
                </a:lnTo>
                <a:lnTo>
                  <a:pt x="679" y="596"/>
                </a:lnTo>
                <a:lnTo>
                  <a:pt x="664" y="629"/>
                </a:lnTo>
                <a:lnTo>
                  <a:pt x="649" y="662"/>
                </a:lnTo>
                <a:lnTo>
                  <a:pt x="631" y="694"/>
                </a:lnTo>
                <a:lnTo>
                  <a:pt x="616" y="727"/>
                </a:lnTo>
                <a:lnTo>
                  <a:pt x="599" y="762"/>
                </a:lnTo>
                <a:lnTo>
                  <a:pt x="580" y="796"/>
                </a:lnTo>
                <a:lnTo>
                  <a:pt x="562" y="833"/>
                </a:lnTo>
                <a:lnTo>
                  <a:pt x="543" y="867"/>
                </a:lnTo>
                <a:lnTo>
                  <a:pt x="524" y="904"/>
                </a:lnTo>
                <a:lnTo>
                  <a:pt x="505" y="940"/>
                </a:lnTo>
                <a:lnTo>
                  <a:pt x="484" y="976"/>
                </a:lnTo>
                <a:lnTo>
                  <a:pt x="464" y="1013"/>
                </a:lnTo>
                <a:lnTo>
                  <a:pt x="443" y="1046"/>
                </a:lnTo>
                <a:lnTo>
                  <a:pt x="424" y="1080"/>
                </a:lnTo>
                <a:lnTo>
                  <a:pt x="403" y="1111"/>
                </a:lnTo>
                <a:lnTo>
                  <a:pt x="384" y="1142"/>
                </a:lnTo>
                <a:lnTo>
                  <a:pt x="363" y="1172"/>
                </a:lnTo>
                <a:lnTo>
                  <a:pt x="342" y="1201"/>
                </a:lnTo>
                <a:lnTo>
                  <a:pt x="322" y="1228"/>
                </a:lnTo>
                <a:lnTo>
                  <a:pt x="301" y="1255"/>
                </a:lnTo>
                <a:lnTo>
                  <a:pt x="280" y="1282"/>
                </a:lnTo>
                <a:lnTo>
                  <a:pt x="261" y="1307"/>
                </a:lnTo>
                <a:lnTo>
                  <a:pt x="240" y="1330"/>
                </a:lnTo>
                <a:lnTo>
                  <a:pt x="221" y="1353"/>
                </a:lnTo>
                <a:lnTo>
                  <a:pt x="199" y="1376"/>
                </a:lnTo>
                <a:lnTo>
                  <a:pt x="180" y="139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Freeform 98"/>
          <p:cNvSpPr/>
          <p:nvPr/>
        </p:nvSpPr>
        <p:spPr>
          <a:xfrm>
            <a:off x="6900840" y="3457440"/>
            <a:ext cx="639720" cy="1033560"/>
          </a:xfrm>
          <a:custGeom>
            <a:avLst/>
            <a:gdLst/>
            <a:ahLst/>
            <a:rect l="l" t="t" r="r" b="b"/>
            <a:pathLst>
              <a:path w="806" h="1303">
                <a:moveTo>
                  <a:pt x="601" y="753"/>
                </a:moveTo>
                <a:lnTo>
                  <a:pt x="612" y="774"/>
                </a:lnTo>
                <a:lnTo>
                  <a:pt x="626" y="795"/>
                </a:lnTo>
                <a:lnTo>
                  <a:pt x="635" y="816"/>
                </a:lnTo>
                <a:lnTo>
                  <a:pt x="647" y="835"/>
                </a:lnTo>
                <a:lnTo>
                  <a:pt x="658" y="856"/>
                </a:lnTo>
                <a:lnTo>
                  <a:pt x="668" y="873"/>
                </a:lnTo>
                <a:lnTo>
                  <a:pt x="677" y="893"/>
                </a:lnTo>
                <a:lnTo>
                  <a:pt x="687" y="910"/>
                </a:lnTo>
                <a:lnTo>
                  <a:pt x="697" y="927"/>
                </a:lnTo>
                <a:lnTo>
                  <a:pt x="706" y="944"/>
                </a:lnTo>
                <a:lnTo>
                  <a:pt x="714" y="960"/>
                </a:lnTo>
                <a:lnTo>
                  <a:pt x="724" y="975"/>
                </a:lnTo>
                <a:lnTo>
                  <a:pt x="731" y="991"/>
                </a:lnTo>
                <a:lnTo>
                  <a:pt x="739" y="1004"/>
                </a:lnTo>
                <a:lnTo>
                  <a:pt x="745" y="1019"/>
                </a:lnTo>
                <a:lnTo>
                  <a:pt x="752" y="1031"/>
                </a:lnTo>
                <a:lnTo>
                  <a:pt x="758" y="1044"/>
                </a:lnTo>
                <a:lnTo>
                  <a:pt x="764" y="1056"/>
                </a:lnTo>
                <a:lnTo>
                  <a:pt x="770" y="1067"/>
                </a:lnTo>
                <a:lnTo>
                  <a:pt x="775" y="1079"/>
                </a:lnTo>
                <a:lnTo>
                  <a:pt x="779" y="1090"/>
                </a:lnTo>
                <a:lnTo>
                  <a:pt x="785" y="1100"/>
                </a:lnTo>
                <a:lnTo>
                  <a:pt x="789" y="1110"/>
                </a:lnTo>
                <a:lnTo>
                  <a:pt x="793" y="1119"/>
                </a:lnTo>
                <a:lnTo>
                  <a:pt x="795" y="1127"/>
                </a:lnTo>
                <a:lnTo>
                  <a:pt x="798" y="1134"/>
                </a:lnTo>
                <a:lnTo>
                  <a:pt x="800" y="1142"/>
                </a:lnTo>
                <a:lnTo>
                  <a:pt x="802" y="1150"/>
                </a:lnTo>
                <a:lnTo>
                  <a:pt x="804" y="1156"/>
                </a:lnTo>
                <a:lnTo>
                  <a:pt x="804" y="1161"/>
                </a:lnTo>
                <a:lnTo>
                  <a:pt x="806" y="1167"/>
                </a:lnTo>
                <a:lnTo>
                  <a:pt x="806" y="1171"/>
                </a:lnTo>
                <a:lnTo>
                  <a:pt x="806" y="1182"/>
                </a:lnTo>
                <a:lnTo>
                  <a:pt x="804" y="1194"/>
                </a:lnTo>
                <a:lnTo>
                  <a:pt x="804" y="1204"/>
                </a:lnTo>
                <a:lnTo>
                  <a:pt x="802" y="1213"/>
                </a:lnTo>
                <a:lnTo>
                  <a:pt x="802" y="1223"/>
                </a:lnTo>
                <a:lnTo>
                  <a:pt x="800" y="1230"/>
                </a:lnTo>
                <a:lnTo>
                  <a:pt x="798" y="1238"/>
                </a:lnTo>
                <a:lnTo>
                  <a:pt x="797" y="1246"/>
                </a:lnTo>
                <a:lnTo>
                  <a:pt x="795" y="1252"/>
                </a:lnTo>
                <a:lnTo>
                  <a:pt x="791" y="1257"/>
                </a:lnTo>
                <a:lnTo>
                  <a:pt x="789" y="1263"/>
                </a:lnTo>
                <a:lnTo>
                  <a:pt x="785" y="1269"/>
                </a:lnTo>
                <a:lnTo>
                  <a:pt x="781" y="1273"/>
                </a:lnTo>
                <a:lnTo>
                  <a:pt x="777" y="1276"/>
                </a:lnTo>
                <a:lnTo>
                  <a:pt x="773" y="1280"/>
                </a:lnTo>
                <a:lnTo>
                  <a:pt x="770" y="1282"/>
                </a:lnTo>
                <a:lnTo>
                  <a:pt x="766" y="1286"/>
                </a:lnTo>
                <a:lnTo>
                  <a:pt x="760" y="1290"/>
                </a:lnTo>
                <a:lnTo>
                  <a:pt x="756" y="1294"/>
                </a:lnTo>
                <a:lnTo>
                  <a:pt x="754" y="1296"/>
                </a:lnTo>
                <a:lnTo>
                  <a:pt x="750" y="1298"/>
                </a:lnTo>
                <a:lnTo>
                  <a:pt x="747" y="1300"/>
                </a:lnTo>
                <a:lnTo>
                  <a:pt x="741" y="1301"/>
                </a:lnTo>
                <a:lnTo>
                  <a:pt x="735" y="1303"/>
                </a:lnTo>
                <a:lnTo>
                  <a:pt x="731" y="1301"/>
                </a:lnTo>
                <a:lnTo>
                  <a:pt x="725" y="1300"/>
                </a:lnTo>
                <a:lnTo>
                  <a:pt x="722" y="1294"/>
                </a:lnTo>
                <a:lnTo>
                  <a:pt x="720" y="1294"/>
                </a:lnTo>
                <a:lnTo>
                  <a:pt x="718" y="1292"/>
                </a:lnTo>
                <a:lnTo>
                  <a:pt x="716" y="1288"/>
                </a:lnTo>
                <a:lnTo>
                  <a:pt x="714" y="1284"/>
                </a:lnTo>
                <a:lnTo>
                  <a:pt x="712" y="1280"/>
                </a:lnTo>
                <a:lnTo>
                  <a:pt x="708" y="1276"/>
                </a:lnTo>
                <a:lnTo>
                  <a:pt x="704" y="1271"/>
                </a:lnTo>
                <a:lnTo>
                  <a:pt x="701" y="1265"/>
                </a:lnTo>
                <a:lnTo>
                  <a:pt x="697" y="1257"/>
                </a:lnTo>
                <a:lnTo>
                  <a:pt x="693" y="1250"/>
                </a:lnTo>
                <a:lnTo>
                  <a:pt x="687" y="1242"/>
                </a:lnTo>
                <a:lnTo>
                  <a:pt x="683" y="1234"/>
                </a:lnTo>
                <a:lnTo>
                  <a:pt x="677" y="1225"/>
                </a:lnTo>
                <a:lnTo>
                  <a:pt x="672" y="1213"/>
                </a:lnTo>
                <a:lnTo>
                  <a:pt x="666" y="1204"/>
                </a:lnTo>
                <a:lnTo>
                  <a:pt x="658" y="1192"/>
                </a:lnTo>
                <a:lnTo>
                  <a:pt x="653" y="1179"/>
                </a:lnTo>
                <a:lnTo>
                  <a:pt x="645" y="1167"/>
                </a:lnTo>
                <a:lnTo>
                  <a:pt x="637" y="1154"/>
                </a:lnTo>
                <a:lnTo>
                  <a:pt x="630" y="1138"/>
                </a:lnTo>
                <a:lnTo>
                  <a:pt x="622" y="1123"/>
                </a:lnTo>
                <a:lnTo>
                  <a:pt x="614" y="1108"/>
                </a:lnTo>
                <a:lnTo>
                  <a:pt x="606" y="1092"/>
                </a:lnTo>
                <a:lnTo>
                  <a:pt x="597" y="1075"/>
                </a:lnTo>
                <a:lnTo>
                  <a:pt x="587" y="1058"/>
                </a:lnTo>
                <a:lnTo>
                  <a:pt x="578" y="1039"/>
                </a:lnTo>
                <a:lnTo>
                  <a:pt x="568" y="1019"/>
                </a:lnTo>
                <a:lnTo>
                  <a:pt x="558" y="1000"/>
                </a:lnTo>
                <a:lnTo>
                  <a:pt x="549" y="979"/>
                </a:lnTo>
                <a:lnTo>
                  <a:pt x="539" y="958"/>
                </a:lnTo>
                <a:lnTo>
                  <a:pt x="528" y="935"/>
                </a:lnTo>
                <a:lnTo>
                  <a:pt x="516" y="912"/>
                </a:lnTo>
                <a:lnTo>
                  <a:pt x="493" y="870"/>
                </a:lnTo>
                <a:lnTo>
                  <a:pt x="468" y="825"/>
                </a:lnTo>
                <a:lnTo>
                  <a:pt x="445" y="783"/>
                </a:lnTo>
                <a:lnTo>
                  <a:pt x="422" y="741"/>
                </a:lnTo>
                <a:lnTo>
                  <a:pt x="399" y="701"/>
                </a:lnTo>
                <a:lnTo>
                  <a:pt x="378" y="660"/>
                </a:lnTo>
                <a:lnTo>
                  <a:pt x="355" y="622"/>
                </a:lnTo>
                <a:lnTo>
                  <a:pt x="334" y="584"/>
                </a:lnTo>
                <a:lnTo>
                  <a:pt x="313" y="545"/>
                </a:lnTo>
                <a:lnTo>
                  <a:pt x="292" y="509"/>
                </a:lnTo>
                <a:lnTo>
                  <a:pt x="271" y="472"/>
                </a:lnTo>
                <a:lnTo>
                  <a:pt x="249" y="438"/>
                </a:lnTo>
                <a:lnTo>
                  <a:pt x="228" y="403"/>
                </a:lnTo>
                <a:lnTo>
                  <a:pt x="209" y="371"/>
                </a:lnTo>
                <a:lnTo>
                  <a:pt x="188" y="340"/>
                </a:lnTo>
                <a:lnTo>
                  <a:pt x="169" y="309"/>
                </a:lnTo>
                <a:lnTo>
                  <a:pt x="148" y="279"/>
                </a:lnTo>
                <a:lnTo>
                  <a:pt x="130" y="252"/>
                </a:lnTo>
                <a:lnTo>
                  <a:pt x="113" y="225"/>
                </a:lnTo>
                <a:lnTo>
                  <a:pt x="96" y="200"/>
                </a:lnTo>
                <a:lnTo>
                  <a:pt x="82" y="177"/>
                </a:lnTo>
                <a:lnTo>
                  <a:pt x="67" y="156"/>
                </a:lnTo>
                <a:lnTo>
                  <a:pt x="56" y="135"/>
                </a:lnTo>
                <a:lnTo>
                  <a:pt x="44" y="115"/>
                </a:lnTo>
                <a:lnTo>
                  <a:pt x="32" y="98"/>
                </a:lnTo>
                <a:lnTo>
                  <a:pt x="25" y="83"/>
                </a:lnTo>
                <a:lnTo>
                  <a:pt x="17" y="69"/>
                </a:lnTo>
                <a:lnTo>
                  <a:pt x="11" y="58"/>
                </a:lnTo>
                <a:lnTo>
                  <a:pt x="6" y="46"/>
                </a:lnTo>
                <a:lnTo>
                  <a:pt x="2" y="39"/>
                </a:lnTo>
                <a:lnTo>
                  <a:pt x="0" y="31"/>
                </a:lnTo>
                <a:lnTo>
                  <a:pt x="0" y="25"/>
                </a:lnTo>
                <a:lnTo>
                  <a:pt x="0" y="21"/>
                </a:lnTo>
                <a:lnTo>
                  <a:pt x="2" y="16"/>
                </a:lnTo>
                <a:lnTo>
                  <a:pt x="4" y="12"/>
                </a:lnTo>
                <a:lnTo>
                  <a:pt x="8" y="8"/>
                </a:lnTo>
                <a:lnTo>
                  <a:pt x="11" y="6"/>
                </a:lnTo>
                <a:lnTo>
                  <a:pt x="15" y="2"/>
                </a:lnTo>
                <a:lnTo>
                  <a:pt x="19" y="2"/>
                </a:lnTo>
                <a:lnTo>
                  <a:pt x="23" y="0"/>
                </a:lnTo>
                <a:lnTo>
                  <a:pt x="27" y="2"/>
                </a:lnTo>
                <a:lnTo>
                  <a:pt x="31" y="4"/>
                </a:lnTo>
                <a:lnTo>
                  <a:pt x="36" y="8"/>
                </a:lnTo>
                <a:lnTo>
                  <a:pt x="42" y="12"/>
                </a:lnTo>
                <a:lnTo>
                  <a:pt x="50" y="19"/>
                </a:lnTo>
                <a:lnTo>
                  <a:pt x="57" y="27"/>
                </a:lnTo>
                <a:lnTo>
                  <a:pt x="69" y="37"/>
                </a:lnTo>
                <a:lnTo>
                  <a:pt x="80" y="48"/>
                </a:lnTo>
                <a:lnTo>
                  <a:pt x="92" y="62"/>
                </a:lnTo>
                <a:lnTo>
                  <a:pt x="105" y="75"/>
                </a:lnTo>
                <a:lnTo>
                  <a:pt x="121" y="92"/>
                </a:lnTo>
                <a:lnTo>
                  <a:pt x="138" y="110"/>
                </a:lnTo>
                <a:lnTo>
                  <a:pt x="155" y="129"/>
                </a:lnTo>
                <a:lnTo>
                  <a:pt x="175" y="150"/>
                </a:lnTo>
                <a:lnTo>
                  <a:pt x="194" y="173"/>
                </a:lnTo>
                <a:lnTo>
                  <a:pt x="217" y="198"/>
                </a:lnTo>
                <a:lnTo>
                  <a:pt x="238" y="225"/>
                </a:lnTo>
                <a:lnTo>
                  <a:pt x="261" y="252"/>
                </a:lnTo>
                <a:lnTo>
                  <a:pt x="284" y="280"/>
                </a:lnTo>
                <a:lnTo>
                  <a:pt x="309" y="309"/>
                </a:lnTo>
                <a:lnTo>
                  <a:pt x="332" y="340"/>
                </a:lnTo>
                <a:lnTo>
                  <a:pt x="355" y="371"/>
                </a:lnTo>
                <a:lnTo>
                  <a:pt x="380" y="403"/>
                </a:lnTo>
                <a:lnTo>
                  <a:pt x="405" y="438"/>
                </a:lnTo>
                <a:lnTo>
                  <a:pt x="428" y="472"/>
                </a:lnTo>
                <a:lnTo>
                  <a:pt x="453" y="509"/>
                </a:lnTo>
                <a:lnTo>
                  <a:pt x="478" y="547"/>
                </a:lnTo>
                <a:lnTo>
                  <a:pt x="503" y="586"/>
                </a:lnTo>
                <a:lnTo>
                  <a:pt x="528" y="626"/>
                </a:lnTo>
                <a:lnTo>
                  <a:pt x="553" y="666"/>
                </a:lnTo>
                <a:lnTo>
                  <a:pt x="576" y="708"/>
                </a:lnTo>
                <a:lnTo>
                  <a:pt x="601" y="75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Freeform 99"/>
          <p:cNvSpPr/>
          <p:nvPr/>
        </p:nvSpPr>
        <p:spPr>
          <a:xfrm>
            <a:off x="6602400" y="3170160"/>
            <a:ext cx="1187640" cy="1754280"/>
          </a:xfrm>
          <a:custGeom>
            <a:avLst/>
            <a:gdLst/>
            <a:ahLst/>
            <a:rect l="l" t="t" r="r" b="b"/>
            <a:pathLst>
              <a:path w="1495" h="2209">
                <a:moveTo>
                  <a:pt x="159" y="2148"/>
                </a:moveTo>
                <a:lnTo>
                  <a:pt x="145" y="2161"/>
                </a:lnTo>
                <a:lnTo>
                  <a:pt x="134" y="2173"/>
                </a:lnTo>
                <a:lnTo>
                  <a:pt x="124" y="2184"/>
                </a:lnTo>
                <a:lnTo>
                  <a:pt x="115" y="2194"/>
                </a:lnTo>
                <a:lnTo>
                  <a:pt x="105" y="2200"/>
                </a:lnTo>
                <a:lnTo>
                  <a:pt x="101" y="2204"/>
                </a:lnTo>
                <a:lnTo>
                  <a:pt x="97" y="2206"/>
                </a:lnTo>
                <a:lnTo>
                  <a:pt x="96" y="2207"/>
                </a:lnTo>
                <a:lnTo>
                  <a:pt x="92" y="2209"/>
                </a:lnTo>
                <a:lnTo>
                  <a:pt x="90" y="2209"/>
                </a:lnTo>
                <a:lnTo>
                  <a:pt x="86" y="2209"/>
                </a:lnTo>
                <a:lnTo>
                  <a:pt x="82" y="2206"/>
                </a:lnTo>
                <a:lnTo>
                  <a:pt x="76" y="2198"/>
                </a:lnTo>
                <a:lnTo>
                  <a:pt x="69" y="2190"/>
                </a:lnTo>
                <a:lnTo>
                  <a:pt x="63" y="2183"/>
                </a:lnTo>
                <a:lnTo>
                  <a:pt x="55" y="2173"/>
                </a:lnTo>
                <a:lnTo>
                  <a:pt x="49" y="2161"/>
                </a:lnTo>
                <a:lnTo>
                  <a:pt x="44" y="2150"/>
                </a:lnTo>
                <a:lnTo>
                  <a:pt x="38" y="2136"/>
                </a:lnTo>
                <a:lnTo>
                  <a:pt x="30" y="2123"/>
                </a:lnTo>
                <a:lnTo>
                  <a:pt x="23" y="2108"/>
                </a:lnTo>
                <a:lnTo>
                  <a:pt x="17" y="2094"/>
                </a:lnTo>
                <a:lnTo>
                  <a:pt x="11" y="2083"/>
                </a:lnTo>
                <a:lnTo>
                  <a:pt x="7" y="2069"/>
                </a:lnTo>
                <a:lnTo>
                  <a:pt x="5" y="2058"/>
                </a:lnTo>
                <a:lnTo>
                  <a:pt x="3" y="2048"/>
                </a:lnTo>
                <a:lnTo>
                  <a:pt x="3" y="2037"/>
                </a:lnTo>
                <a:lnTo>
                  <a:pt x="1" y="2035"/>
                </a:lnTo>
                <a:lnTo>
                  <a:pt x="0" y="2031"/>
                </a:lnTo>
                <a:lnTo>
                  <a:pt x="0" y="2027"/>
                </a:lnTo>
                <a:lnTo>
                  <a:pt x="0" y="2023"/>
                </a:lnTo>
                <a:lnTo>
                  <a:pt x="1" y="2019"/>
                </a:lnTo>
                <a:lnTo>
                  <a:pt x="3" y="2014"/>
                </a:lnTo>
                <a:lnTo>
                  <a:pt x="5" y="2008"/>
                </a:lnTo>
                <a:lnTo>
                  <a:pt x="9" y="2002"/>
                </a:lnTo>
                <a:lnTo>
                  <a:pt x="13" y="1996"/>
                </a:lnTo>
                <a:lnTo>
                  <a:pt x="17" y="1989"/>
                </a:lnTo>
                <a:lnTo>
                  <a:pt x="21" y="1981"/>
                </a:lnTo>
                <a:lnTo>
                  <a:pt x="26" y="1973"/>
                </a:lnTo>
                <a:lnTo>
                  <a:pt x="38" y="1956"/>
                </a:lnTo>
                <a:lnTo>
                  <a:pt x="51" y="1939"/>
                </a:lnTo>
                <a:lnTo>
                  <a:pt x="53" y="1935"/>
                </a:lnTo>
                <a:lnTo>
                  <a:pt x="57" y="1929"/>
                </a:lnTo>
                <a:lnTo>
                  <a:pt x="61" y="1922"/>
                </a:lnTo>
                <a:lnTo>
                  <a:pt x="63" y="1912"/>
                </a:lnTo>
                <a:lnTo>
                  <a:pt x="65" y="1902"/>
                </a:lnTo>
                <a:lnTo>
                  <a:pt x="69" y="1891"/>
                </a:lnTo>
                <a:lnTo>
                  <a:pt x="71" y="1877"/>
                </a:lnTo>
                <a:lnTo>
                  <a:pt x="73" y="1862"/>
                </a:lnTo>
                <a:lnTo>
                  <a:pt x="76" y="1847"/>
                </a:lnTo>
                <a:lnTo>
                  <a:pt x="78" y="1829"/>
                </a:lnTo>
                <a:lnTo>
                  <a:pt x="80" y="1810"/>
                </a:lnTo>
                <a:lnTo>
                  <a:pt x="82" y="1789"/>
                </a:lnTo>
                <a:lnTo>
                  <a:pt x="84" y="1766"/>
                </a:lnTo>
                <a:lnTo>
                  <a:pt x="86" y="1743"/>
                </a:lnTo>
                <a:lnTo>
                  <a:pt x="88" y="1718"/>
                </a:lnTo>
                <a:lnTo>
                  <a:pt x="90" y="1691"/>
                </a:lnTo>
                <a:lnTo>
                  <a:pt x="92" y="1662"/>
                </a:lnTo>
                <a:lnTo>
                  <a:pt x="94" y="1634"/>
                </a:lnTo>
                <a:lnTo>
                  <a:pt x="94" y="1601"/>
                </a:lnTo>
                <a:lnTo>
                  <a:pt x="96" y="1570"/>
                </a:lnTo>
                <a:lnTo>
                  <a:pt x="97" y="1536"/>
                </a:lnTo>
                <a:lnTo>
                  <a:pt x="99" y="1499"/>
                </a:lnTo>
                <a:lnTo>
                  <a:pt x="99" y="1463"/>
                </a:lnTo>
                <a:lnTo>
                  <a:pt x="101" y="1424"/>
                </a:lnTo>
                <a:lnTo>
                  <a:pt x="103" y="1384"/>
                </a:lnTo>
                <a:lnTo>
                  <a:pt x="103" y="1344"/>
                </a:lnTo>
                <a:lnTo>
                  <a:pt x="105" y="1300"/>
                </a:lnTo>
                <a:lnTo>
                  <a:pt x="107" y="1256"/>
                </a:lnTo>
                <a:lnTo>
                  <a:pt x="107" y="1210"/>
                </a:lnTo>
                <a:lnTo>
                  <a:pt x="109" y="1163"/>
                </a:lnTo>
                <a:lnTo>
                  <a:pt x="109" y="1114"/>
                </a:lnTo>
                <a:lnTo>
                  <a:pt x="111" y="1064"/>
                </a:lnTo>
                <a:lnTo>
                  <a:pt x="111" y="1014"/>
                </a:lnTo>
                <a:lnTo>
                  <a:pt x="113" y="966"/>
                </a:lnTo>
                <a:lnTo>
                  <a:pt x="113" y="918"/>
                </a:lnTo>
                <a:lnTo>
                  <a:pt x="115" y="872"/>
                </a:lnTo>
                <a:lnTo>
                  <a:pt x="115" y="828"/>
                </a:lnTo>
                <a:lnTo>
                  <a:pt x="115" y="783"/>
                </a:lnTo>
                <a:lnTo>
                  <a:pt x="115" y="741"/>
                </a:lnTo>
                <a:lnTo>
                  <a:pt x="115" y="701"/>
                </a:lnTo>
                <a:lnTo>
                  <a:pt x="115" y="663"/>
                </a:lnTo>
                <a:lnTo>
                  <a:pt x="115" y="624"/>
                </a:lnTo>
                <a:lnTo>
                  <a:pt x="115" y="588"/>
                </a:lnTo>
                <a:lnTo>
                  <a:pt x="115" y="553"/>
                </a:lnTo>
                <a:lnTo>
                  <a:pt x="115" y="519"/>
                </a:lnTo>
                <a:lnTo>
                  <a:pt x="113" y="486"/>
                </a:lnTo>
                <a:lnTo>
                  <a:pt x="113" y="455"/>
                </a:lnTo>
                <a:lnTo>
                  <a:pt x="113" y="425"/>
                </a:lnTo>
                <a:lnTo>
                  <a:pt x="111" y="396"/>
                </a:lnTo>
                <a:lnTo>
                  <a:pt x="111" y="369"/>
                </a:lnTo>
                <a:lnTo>
                  <a:pt x="109" y="344"/>
                </a:lnTo>
                <a:lnTo>
                  <a:pt x="107" y="319"/>
                </a:lnTo>
                <a:lnTo>
                  <a:pt x="107" y="296"/>
                </a:lnTo>
                <a:lnTo>
                  <a:pt x="105" y="273"/>
                </a:lnTo>
                <a:lnTo>
                  <a:pt x="103" y="254"/>
                </a:lnTo>
                <a:lnTo>
                  <a:pt x="101" y="235"/>
                </a:lnTo>
                <a:lnTo>
                  <a:pt x="99" y="215"/>
                </a:lnTo>
                <a:lnTo>
                  <a:pt x="99" y="200"/>
                </a:lnTo>
                <a:lnTo>
                  <a:pt x="97" y="185"/>
                </a:lnTo>
                <a:lnTo>
                  <a:pt x="96" y="171"/>
                </a:lnTo>
                <a:lnTo>
                  <a:pt x="94" y="158"/>
                </a:lnTo>
                <a:lnTo>
                  <a:pt x="92" y="146"/>
                </a:lnTo>
                <a:lnTo>
                  <a:pt x="88" y="137"/>
                </a:lnTo>
                <a:lnTo>
                  <a:pt x="86" y="127"/>
                </a:lnTo>
                <a:lnTo>
                  <a:pt x="80" y="114"/>
                </a:lnTo>
                <a:lnTo>
                  <a:pt x="74" y="102"/>
                </a:lnTo>
                <a:lnTo>
                  <a:pt x="71" y="91"/>
                </a:lnTo>
                <a:lnTo>
                  <a:pt x="67" y="79"/>
                </a:lnTo>
                <a:lnTo>
                  <a:pt x="63" y="70"/>
                </a:lnTo>
                <a:lnTo>
                  <a:pt x="61" y="60"/>
                </a:lnTo>
                <a:lnTo>
                  <a:pt x="59" y="50"/>
                </a:lnTo>
                <a:lnTo>
                  <a:pt x="57" y="43"/>
                </a:lnTo>
                <a:lnTo>
                  <a:pt x="55" y="35"/>
                </a:lnTo>
                <a:lnTo>
                  <a:pt x="55" y="29"/>
                </a:lnTo>
                <a:lnTo>
                  <a:pt x="55" y="23"/>
                </a:lnTo>
                <a:lnTo>
                  <a:pt x="57" y="18"/>
                </a:lnTo>
                <a:lnTo>
                  <a:pt x="57" y="14"/>
                </a:lnTo>
                <a:lnTo>
                  <a:pt x="59" y="10"/>
                </a:lnTo>
                <a:lnTo>
                  <a:pt x="61" y="8"/>
                </a:lnTo>
                <a:lnTo>
                  <a:pt x="63" y="4"/>
                </a:lnTo>
                <a:lnTo>
                  <a:pt x="65" y="2"/>
                </a:lnTo>
                <a:lnTo>
                  <a:pt x="69" y="2"/>
                </a:lnTo>
                <a:lnTo>
                  <a:pt x="74" y="0"/>
                </a:lnTo>
                <a:lnTo>
                  <a:pt x="80" y="2"/>
                </a:lnTo>
                <a:lnTo>
                  <a:pt x="88" y="2"/>
                </a:lnTo>
                <a:lnTo>
                  <a:pt x="97" y="4"/>
                </a:lnTo>
                <a:lnTo>
                  <a:pt x="107" y="8"/>
                </a:lnTo>
                <a:lnTo>
                  <a:pt x="117" y="10"/>
                </a:lnTo>
                <a:lnTo>
                  <a:pt x="128" y="14"/>
                </a:lnTo>
                <a:lnTo>
                  <a:pt x="142" y="18"/>
                </a:lnTo>
                <a:lnTo>
                  <a:pt x="155" y="23"/>
                </a:lnTo>
                <a:lnTo>
                  <a:pt x="170" y="29"/>
                </a:lnTo>
                <a:lnTo>
                  <a:pt x="188" y="35"/>
                </a:lnTo>
                <a:lnTo>
                  <a:pt x="205" y="41"/>
                </a:lnTo>
                <a:lnTo>
                  <a:pt x="224" y="47"/>
                </a:lnTo>
                <a:lnTo>
                  <a:pt x="243" y="54"/>
                </a:lnTo>
                <a:lnTo>
                  <a:pt x="243" y="66"/>
                </a:lnTo>
                <a:lnTo>
                  <a:pt x="243" y="77"/>
                </a:lnTo>
                <a:lnTo>
                  <a:pt x="243" y="91"/>
                </a:lnTo>
                <a:lnTo>
                  <a:pt x="243" y="106"/>
                </a:lnTo>
                <a:lnTo>
                  <a:pt x="243" y="123"/>
                </a:lnTo>
                <a:lnTo>
                  <a:pt x="243" y="141"/>
                </a:lnTo>
                <a:lnTo>
                  <a:pt x="243" y="160"/>
                </a:lnTo>
                <a:lnTo>
                  <a:pt x="243" y="181"/>
                </a:lnTo>
                <a:lnTo>
                  <a:pt x="243" y="202"/>
                </a:lnTo>
                <a:lnTo>
                  <a:pt x="243" y="225"/>
                </a:lnTo>
                <a:lnTo>
                  <a:pt x="241" y="250"/>
                </a:lnTo>
                <a:lnTo>
                  <a:pt x="241" y="277"/>
                </a:lnTo>
                <a:lnTo>
                  <a:pt x="241" y="304"/>
                </a:lnTo>
                <a:lnTo>
                  <a:pt x="241" y="332"/>
                </a:lnTo>
                <a:lnTo>
                  <a:pt x="241" y="361"/>
                </a:lnTo>
                <a:lnTo>
                  <a:pt x="241" y="392"/>
                </a:lnTo>
                <a:lnTo>
                  <a:pt x="241" y="425"/>
                </a:lnTo>
                <a:lnTo>
                  <a:pt x="241" y="459"/>
                </a:lnTo>
                <a:lnTo>
                  <a:pt x="240" y="494"/>
                </a:lnTo>
                <a:lnTo>
                  <a:pt x="240" y="530"/>
                </a:lnTo>
                <a:lnTo>
                  <a:pt x="240" y="567"/>
                </a:lnTo>
                <a:lnTo>
                  <a:pt x="240" y="607"/>
                </a:lnTo>
                <a:lnTo>
                  <a:pt x="238" y="647"/>
                </a:lnTo>
                <a:lnTo>
                  <a:pt x="238" y="688"/>
                </a:lnTo>
                <a:lnTo>
                  <a:pt x="238" y="730"/>
                </a:lnTo>
                <a:lnTo>
                  <a:pt x="236" y="774"/>
                </a:lnTo>
                <a:lnTo>
                  <a:pt x="236" y="820"/>
                </a:lnTo>
                <a:lnTo>
                  <a:pt x="236" y="866"/>
                </a:lnTo>
                <a:lnTo>
                  <a:pt x="234" y="914"/>
                </a:lnTo>
                <a:lnTo>
                  <a:pt x="234" y="962"/>
                </a:lnTo>
                <a:lnTo>
                  <a:pt x="232" y="1012"/>
                </a:lnTo>
                <a:lnTo>
                  <a:pt x="232" y="1064"/>
                </a:lnTo>
                <a:lnTo>
                  <a:pt x="230" y="1115"/>
                </a:lnTo>
                <a:lnTo>
                  <a:pt x="228" y="1165"/>
                </a:lnTo>
                <a:lnTo>
                  <a:pt x="228" y="1213"/>
                </a:lnTo>
                <a:lnTo>
                  <a:pt x="228" y="1259"/>
                </a:lnTo>
                <a:lnTo>
                  <a:pt x="226" y="1304"/>
                </a:lnTo>
                <a:lnTo>
                  <a:pt x="226" y="1348"/>
                </a:lnTo>
                <a:lnTo>
                  <a:pt x="224" y="1390"/>
                </a:lnTo>
                <a:lnTo>
                  <a:pt x="224" y="1428"/>
                </a:lnTo>
                <a:lnTo>
                  <a:pt x="224" y="1467"/>
                </a:lnTo>
                <a:lnTo>
                  <a:pt x="224" y="1505"/>
                </a:lnTo>
                <a:lnTo>
                  <a:pt x="222" y="1540"/>
                </a:lnTo>
                <a:lnTo>
                  <a:pt x="222" y="1574"/>
                </a:lnTo>
                <a:lnTo>
                  <a:pt x="222" y="1605"/>
                </a:lnTo>
                <a:lnTo>
                  <a:pt x="222" y="1636"/>
                </a:lnTo>
                <a:lnTo>
                  <a:pt x="222" y="1664"/>
                </a:lnTo>
                <a:lnTo>
                  <a:pt x="222" y="1693"/>
                </a:lnTo>
                <a:lnTo>
                  <a:pt x="222" y="1718"/>
                </a:lnTo>
                <a:lnTo>
                  <a:pt x="222" y="1743"/>
                </a:lnTo>
                <a:lnTo>
                  <a:pt x="222" y="1764"/>
                </a:lnTo>
                <a:lnTo>
                  <a:pt x="222" y="1785"/>
                </a:lnTo>
                <a:lnTo>
                  <a:pt x="222" y="1804"/>
                </a:lnTo>
                <a:lnTo>
                  <a:pt x="224" y="1824"/>
                </a:lnTo>
                <a:lnTo>
                  <a:pt x="224" y="1839"/>
                </a:lnTo>
                <a:lnTo>
                  <a:pt x="224" y="1854"/>
                </a:lnTo>
                <a:lnTo>
                  <a:pt x="224" y="1868"/>
                </a:lnTo>
                <a:lnTo>
                  <a:pt x="226" y="1879"/>
                </a:lnTo>
                <a:lnTo>
                  <a:pt x="226" y="1889"/>
                </a:lnTo>
                <a:lnTo>
                  <a:pt x="226" y="1897"/>
                </a:lnTo>
                <a:lnTo>
                  <a:pt x="228" y="1904"/>
                </a:lnTo>
                <a:lnTo>
                  <a:pt x="228" y="1908"/>
                </a:lnTo>
                <a:lnTo>
                  <a:pt x="230" y="1912"/>
                </a:lnTo>
                <a:lnTo>
                  <a:pt x="232" y="1914"/>
                </a:lnTo>
                <a:lnTo>
                  <a:pt x="234" y="1916"/>
                </a:lnTo>
                <a:lnTo>
                  <a:pt x="238" y="1918"/>
                </a:lnTo>
                <a:lnTo>
                  <a:pt x="241" y="1920"/>
                </a:lnTo>
                <a:lnTo>
                  <a:pt x="247" y="1922"/>
                </a:lnTo>
                <a:lnTo>
                  <a:pt x="253" y="1922"/>
                </a:lnTo>
                <a:lnTo>
                  <a:pt x="261" y="1923"/>
                </a:lnTo>
                <a:lnTo>
                  <a:pt x="268" y="1923"/>
                </a:lnTo>
                <a:lnTo>
                  <a:pt x="278" y="1923"/>
                </a:lnTo>
                <a:lnTo>
                  <a:pt x="288" y="1923"/>
                </a:lnTo>
                <a:lnTo>
                  <a:pt x="299" y="1923"/>
                </a:lnTo>
                <a:lnTo>
                  <a:pt x="311" y="1922"/>
                </a:lnTo>
                <a:lnTo>
                  <a:pt x="324" y="1922"/>
                </a:lnTo>
                <a:lnTo>
                  <a:pt x="337" y="1920"/>
                </a:lnTo>
                <a:lnTo>
                  <a:pt x="353" y="1918"/>
                </a:lnTo>
                <a:lnTo>
                  <a:pt x="370" y="1916"/>
                </a:lnTo>
                <a:lnTo>
                  <a:pt x="387" y="1914"/>
                </a:lnTo>
                <a:lnTo>
                  <a:pt x="407" y="1912"/>
                </a:lnTo>
                <a:lnTo>
                  <a:pt x="426" y="1910"/>
                </a:lnTo>
                <a:lnTo>
                  <a:pt x="449" y="1908"/>
                </a:lnTo>
                <a:lnTo>
                  <a:pt x="472" y="1904"/>
                </a:lnTo>
                <a:lnTo>
                  <a:pt x="495" y="1902"/>
                </a:lnTo>
                <a:lnTo>
                  <a:pt x="522" y="1900"/>
                </a:lnTo>
                <a:lnTo>
                  <a:pt x="549" y="1897"/>
                </a:lnTo>
                <a:lnTo>
                  <a:pt x="579" y="1895"/>
                </a:lnTo>
                <a:lnTo>
                  <a:pt x="610" y="1891"/>
                </a:lnTo>
                <a:lnTo>
                  <a:pt x="641" y="1889"/>
                </a:lnTo>
                <a:lnTo>
                  <a:pt x="675" y="1885"/>
                </a:lnTo>
                <a:lnTo>
                  <a:pt x="710" y="1881"/>
                </a:lnTo>
                <a:lnTo>
                  <a:pt x="748" y="1877"/>
                </a:lnTo>
                <a:lnTo>
                  <a:pt x="787" y="1874"/>
                </a:lnTo>
                <a:lnTo>
                  <a:pt x="827" y="1870"/>
                </a:lnTo>
                <a:lnTo>
                  <a:pt x="869" y="1866"/>
                </a:lnTo>
                <a:lnTo>
                  <a:pt x="890" y="1864"/>
                </a:lnTo>
                <a:lnTo>
                  <a:pt x="910" y="1862"/>
                </a:lnTo>
                <a:lnTo>
                  <a:pt x="931" y="1862"/>
                </a:lnTo>
                <a:lnTo>
                  <a:pt x="950" y="1860"/>
                </a:lnTo>
                <a:lnTo>
                  <a:pt x="969" y="1860"/>
                </a:lnTo>
                <a:lnTo>
                  <a:pt x="986" y="1858"/>
                </a:lnTo>
                <a:lnTo>
                  <a:pt x="1006" y="1856"/>
                </a:lnTo>
                <a:lnTo>
                  <a:pt x="1023" y="1856"/>
                </a:lnTo>
                <a:lnTo>
                  <a:pt x="1038" y="1854"/>
                </a:lnTo>
                <a:lnTo>
                  <a:pt x="1055" y="1854"/>
                </a:lnTo>
                <a:lnTo>
                  <a:pt x="1071" y="1852"/>
                </a:lnTo>
                <a:lnTo>
                  <a:pt x="1086" y="1852"/>
                </a:lnTo>
                <a:lnTo>
                  <a:pt x="1100" y="1851"/>
                </a:lnTo>
                <a:lnTo>
                  <a:pt x="1115" y="1851"/>
                </a:lnTo>
                <a:lnTo>
                  <a:pt x="1128" y="1849"/>
                </a:lnTo>
                <a:lnTo>
                  <a:pt x="1140" y="1849"/>
                </a:lnTo>
                <a:lnTo>
                  <a:pt x="1153" y="1847"/>
                </a:lnTo>
                <a:lnTo>
                  <a:pt x="1165" y="1847"/>
                </a:lnTo>
                <a:lnTo>
                  <a:pt x="1176" y="1845"/>
                </a:lnTo>
                <a:lnTo>
                  <a:pt x="1188" y="1845"/>
                </a:lnTo>
                <a:lnTo>
                  <a:pt x="1197" y="1845"/>
                </a:lnTo>
                <a:lnTo>
                  <a:pt x="1207" y="1843"/>
                </a:lnTo>
                <a:lnTo>
                  <a:pt x="1217" y="1843"/>
                </a:lnTo>
                <a:lnTo>
                  <a:pt x="1226" y="1843"/>
                </a:lnTo>
                <a:lnTo>
                  <a:pt x="1234" y="1841"/>
                </a:lnTo>
                <a:lnTo>
                  <a:pt x="1242" y="1841"/>
                </a:lnTo>
                <a:lnTo>
                  <a:pt x="1249" y="1841"/>
                </a:lnTo>
                <a:lnTo>
                  <a:pt x="1255" y="1841"/>
                </a:lnTo>
                <a:lnTo>
                  <a:pt x="1263" y="1841"/>
                </a:lnTo>
                <a:lnTo>
                  <a:pt x="1269" y="1841"/>
                </a:lnTo>
                <a:lnTo>
                  <a:pt x="1272" y="1841"/>
                </a:lnTo>
                <a:lnTo>
                  <a:pt x="1278" y="1841"/>
                </a:lnTo>
                <a:lnTo>
                  <a:pt x="1284" y="1841"/>
                </a:lnTo>
                <a:lnTo>
                  <a:pt x="1292" y="1841"/>
                </a:lnTo>
                <a:lnTo>
                  <a:pt x="1299" y="1843"/>
                </a:lnTo>
                <a:lnTo>
                  <a:pt x="1307" y="1845"/>
                </a:lnTo>
                <a:lnTo>
                  <a:pt x="1315" y="1847"/>
                </a:lnTo>
                <a:lnTo>
                  <a:pt x="1324" y="1851"/>
                </a:lnTo>
                <a:lnTo>
                  <a:pt x="1341" y="1856"/>
                </a:lnTo>
                <a:lnTo>
                  <a:pt x="1359" y="1866"/>
                </a:lnTo>
                <a:lnTo>
                  <a:pt x="1380" y="1877"/>
                </a:lnTo>
                <a:lnTo>
                  <a:pt x="1401" y="1889"/>
                </a:lnTo>
                <a:lnTo>
                  <a:pt x="1422" y="1902"/>
                </a:lnTo>
                <a:lnTo>
                  <a:pt x="1432" y="1912"/>
                </a:lnTo>
                <a:lnTo>
                  <a:pt x="1439" y="1920"/>
                </a:lnTo>
                <a:lnTo>
                  <a:pt x="1447" y="1929"/>
                </a:lnTo>
                <a:lnTo>
                  <a:pt x="1453" y="1937"/>
                </a:lnTo>
                <a:lnTo>
                  <a:pt x="1460" y="1945"/>
                </a:lnTo>
                <a:lnTo>
                  <a:pt x="1466" y="1952"/>
                </a:lnTo>
                <a:lnTo>
                  <a:pt x="1472" y="1958"/>
                </a:lnTo>
                <a:lnTo>
                  <a:pt x="1476" y="1966"/>
                </a:lnTo>
                <a:lnTo>
                  <a:pt x="1480" y="1971"/>
                </a:lnTo>
                <a:lnTo>
                  <a:pt x="1484" y="1977"/>
                </a:lnTo>
                <a:lnTo>
                  <a:pt x="1487" y="1983"/>
                </a:lnTo>
                <a:lnTo>
                  <a:pt x="1489" y="1987"/>
                </a:lnTo>
                <a:lnTo>
                  <a:pt x="1491" y="1991"/>
                </a:lnTo>
                <a:lnTo>
                  <a:pt x="1493" y="1994"/>
                </a:lnTo>
                <a:lnTo>
                  <a:pt x="1493" y="1998"/>
                </a:lnTo>
                <a:lnTo>
                  <a:pt x="1495" y="2000"/>
                </a:lnTo>
                <a:lnTo>
                  <a:pt x="1493" y="2002"/>
                </a:lnTo>
                <a:lnTo>
                  <a:pt x="1493" y="2004"/>
                </a:lnTo>
                <a:lnTo>
                  <a:pt x="1491" y="2006"/>
                </a:lnTo>
                <a:lnTo>
                  <a:pt x="1489" y="2008"/>
                </a:lnTo>
                <a:lnTo>
                  <a:pt x="1487" y="2010"/>
                </a:lnTo>
                <a:lnTo>
                  <a:pt x="1485" y="2012"/>
                </a:lnTo>
                <a:lnTo>
                  <a:pt x="1478" y="2016"/>
                </a:lnTo>
                <a:lnTo>
                  <a:pt x="1470" y="2017"/>
                </a:lnTo>
                <a:lnTo>
                  <a:pt x="1459" y="2019"/>
                </a:lnTo>
                <a:lnTo>
                  <a:pt x="1447" y="2019"/>
                </a:lnTo>
                <a:lnTo>
                  <a:pt x="1432" y="2021"/>
                </a:lnTo>
                <a:lnTo>
                  <a:pt x="1416" y="2021"/>
                </a:lnTo>
                <a:lnTo>
                  <a:pt x="1399" y="2021"/>
                </a:lnTo>
                <a:lnTo>
                  <a:pt x="1378" y="2021"/>
                </a:lnTo>
                <a:lnTo>
                  <a:pt x="1357" y="2019"/>
                </a:lnTo>
                <a:lnTo>
                  <a:pt x="1334" y="2017"/>
                </a:lnTo>
                <a:lnTo>
                  <a:pt x="1309" y="2017"/>
                </a:lnTo>
                <a:lnTo>
                  <a:pt x="1282" y="2016"/>
                </a:lnTo>
                <a:lnTo>
                  <a:pt x="1253" y="2014"/>
                </a:lnTo>
                <a:lnTo>
                  <a:pt x="1192" y="2008"/>
                </a:lnTo>
                <a:lnTo>
                  <a:pt x="1130" y="2006"/>
                </a:lnTo>
                <a:lnTo>
                  <a:pt x="1069" y="2004"/>
                </a:lnTo>
                <a:lnTo>
                  <a:pt x="1009" y="2004"/>
                </a:lnTo>
                <a:lnTo>
                  <a:pt x="952" y="2004"/>
                </a:lnTo>
                <a:lnTo>
                  <a:pt x="894" y="2006"/>
                </a:lnTo>
                <a:lnTo>
                  <a:pt x="838" y="2008"/>
                </a:lnTo>
                <a:lnTo>
                  <a:pt x="785" y="2014"/>
                </a:lnTo>
                <a:lnTo>
                  <a:pt x="731" y="2017"/>
                </a:lnTo>
                <a:lnTo>
                  <a:pt x="679" y="2023"/>
                </a:lnTo>
                <a:lnTo>
                  <a:pt x="627" y="2031"/>
                </a:lnTo>
                <a:lnTo>
                  <a:pt x="577" y="2037"/>
                </a:lnTo>
                <a:lnTo>
                  <a:pt x="527" y="2044"/>
                </a:lnTo>
                <a:lnTo>
                  <a:pt x="479" y="2050"/>
                </a:lnTo>
                <a:lnTo>
                  <a:pt x="433" y="2058"/>
                </a:lnTo>
                <a:lnTo>
                  <a:pt x="387" y="2062"/>
                </a:lnTo>
                <a:lnTo>
                  <a:pt x="366" y="2065"/>
                </a:lnTo>
                <a:lnTo>
                  <a:pt x="345" y="2067"/>
                </a:lnTo>
                <a:lnTo>
                  <a:pt x="324" y="2071"/>
                </a:lnTo>
                <a:lnTo>
                  <a:pt x="307" y="2075"/>
                </a:lnTo>
                <a:lnTo>
                  <a:pt x="288" y="2081"/>
                </a:lnTo>
                <a:lnTo>
                  <a:pt x="272" y="2085"/>
                </a:lnTo>
                <a:lnTo>
                  <a:pt x="257" y="2090"/>
                </a:lnTo>
                <a:lnTo>
                  <a:pt x="241" y="2096"/>
                </a:lnTo>
                <a:lnTo>
                  <a:pt x="228" y="2102"/>
                </a:lnTo>
                <a:lnTo>
                  <a:pt x="215" y="2108"/>
                </a:lnTo>
                <a:lnTo>
                  <a:pt x="203" y="2115"/>
                </a:lnTo>
                <a:lnTo>
                  <a:pt x="193" y="2121"/>
                </a:lnTo>
                <a:lnTo>
                  <a:pt x="184" y="2127"/>
                </a:lnTo>
                <a:lnTo>
                  <a:pt x="174" y="2135"/>
                </a:lnTo>
                <a:lnTo>
                  <a:pt x="167" y="2142"/>
                </a:lnTo>
                <a:lnTo>
                  <a:pt x="159" y="214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82"/>
                                        </p:tgtEl>
                                        <p:attrNameLst>
                                          <p:attrName>style.visibility</p:attrName>
                                        </p:attrNameLst>
                                      </p:cBhvr>
                                      <p:to>
                                        <p:strVal val="visible"/>
                                      </p:to>
                                    </p:set>
                                    <p:anim calcmode="lin" valueType="num">
                                      <p:cBhvr additive="base">
                                        <p:cTn id="14" dur="500" fill="hold"/>
                                        <p:tgtEl>
                                          <p:spTgt spid="82"/>
                                        </p:tgtEl>
                                        <p:attrNameLst>
                                          <p:attrName>ppt_x</p:attrName>
                                        </p:attrNameLst>
                                      </p:cBhvr>
                                      <p:tavLst>
                                        <p:tav tm="0">
                                          <p:val>
                                            <p:strVal val="0-#ppt_w/2"/>
                                          </p:val>
                                        </p:tav>
                                        <p:tav tm="100000">
                                          <p:val>
                                            <p:strVal val="#ppt_x"/>
                                          </p:val>
                                        </p:tav>
                                      </p:tavLst>
                                    </p:anim>
                                    <p:anim calcmode="lin" valueType="num">
                                      <p:cBhvr additive="base">
                                        <p:cTn id="15"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83"/>
                                        </p:tgtEl>
                                        <p:attrNameLst>
                                          <p:attrName>style.visibility</p:attrName>
                                        </p:attrNameLst>
                                      </p:cBhvr>
                                      <p:to>
                                        <p:strVal val="visible"/>
                                      </p:to>
                                    </p:set>
                                    <p:animEffect filter="wipe(up)" transition="in">
                                      <p:cBhvr additive="repl">
                                        <p:cTn id="20" dur="500"/>
                                        <p:tgtEl>
                                          <p:spTgt spid="83"/>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84"/>
                                        </p:tgtEl>
                                        <p:attrNameLst>
                                          <p:attrName>style.visibility</p:attrName>
                                        </p:attrNameLst>
                                      </p:cBhvr>
                                      <p:to>
                                        <p:strVal val="visible"/>
                                      </p:to>
                                    </p:set>
                                    <p:animEffect filter="wipe(up)" transition="in">
                                      <p:cBhvr additive="repl">
                                        <p:cTn id="25" dur="500"/>
                                        <p:tgtEl>
                                          <p:spTgt spid="84"/>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8" presetSubtype="6">
                                  <p:stCondLst>
                                    <p:cond delay="0"/>
                                  </p:stCondLst>
                                  <p:childTnLst>
                                    <p:set>
                                      <p:cBhvr>
                                        <p:cTn id="29" dur="1" fill="hold">
                                          <p:stCondLst>
                                            <p:cond delay="0"/>
                                          </p:stCondLst>
                                        </p:cTn>
                                        <p:tgtEl>
                                          <p:spTgt spid="85"/>
                                        </p:tgtEl>
                                        <p:attrNameLst>
                                          <p:attrName>style.visibility</p:attrName>
                                        </p:attrNameLst>
                                      </p:cBhvr>
                                      <p:to>
                                        <p:strVal val="visible"/>
                                      </p:to>
                                    </p:set>
                                    <p:animEffect filter="strips(downRight)" transition="in">
                                      <p:cBhvr additive="repl">
                                        <p:cTn id="30" dur="500"/>
                                        <p:tgtEl>
                                          <p:spTgt spid="85"/>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86"/>
                                        </p:tgtEl>
                                        <p:attrNameLst>
                                          <p:attrName>style.visibility</p:attrName>
                                        </p:attrNameLst>
                                      </p:cBhvr>
                                      <p:to>
                                        <p:strVal val="visible"/>
                                      </p:to>
                                    </p:set>
                                    <p:animEffect filter="wipe(left)" transition="in">
                                      <p:cBhvr additive="repl">
                                        <p:cTn id="35" dur="500"/>
                                        <p:tgtEl>
                                          <p:spTgt spid="86"/>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87"/>
                                        </p:tgtEl>
                                        <p:attrNameLst>
                                          <p:attrName>style.visibility</p:attrName>
                                        </p:attrNameLst>
                                      </p:cBhvr>
                                      <p:to>
                                        <p:strVal val="visible"/>
                                      </p:to>
                                    </p:set>
                                    <p:animEffect filter="wipe(left)" transition="in">
                                      <p:cBhvr additive="repl">
                                        <p:cTn id="40" dur="500"/>
                                        <p:tgtEl>
                                          <p:spTgt spid="87"/>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88"/>
                                        </p:tgtEl>
                                        <p:attrNameLst>
                                          <p:attrName>style.visibility</p:attrName>
                                        </p:attrNameLst>
                                      </p:cBhvr>
                                      <p:to>
                                        <p:strVal val="visible"/>
                                      </p:to>
                                    </p:set>
                                    <p:animEffect filter="wipe(left)" transition="in">
                                      <p:cBhvr additive="repl">
                                        <p:cTn id="45" dur="500"/>
                                        <p:tgtEl>
                                          <p:spTgt spid="88"/>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89"/>
                                        </p:tgtEl>
                                        <p:attrNameLst>
                                          <p:attrName>style.visibility</p:attrName>
                                        </p:attrNameLst>
                                      </p:cBhvr>
                                      <p:to>
                                        <p:strVal val="visible"/>
                                      </p:to>
                                    </p:set>
                                    <p:animEffect filter="wipe(up)" transition="in">
                                      <p:cBhvr additive="repl">
                                        <p:cTn id="50" dur="500"/>
                                        <p:tgtEl>
                                          <p:spTgt spid="89"/>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90"/>
                                        </p:tgtEl>
                                        <p:attrNameLst>
                                          <p:attrName>style.visibility</p:attrName>
                                        </p:attrNameLst>
                                      </p:cBhvr>
                                      <p:to>
                                        <p:strVal val="visible"/>
                                      </p:to>
                                    </p:set>
                                    <p:animEffect filter="wipe(left)" transition="in">
                                      <p:cBhvr additive="repl">
                                        <p:cTn id="55" dur="500"/>
                                        <p:tgtEl>
                                          <p:spTgt spid="90"/>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91"/>
                                        </p:tgtEl>
                                        <p:attrNameLst>
                                          <p:attrName>style.visibility</p:attrName>
                                        </p:attrNameLst>
                                      </p:cBhvr>
                                      <p:to>
                                        <p:strVal val="visible"/>
                                      </p:to>
                                    </p:set>
                                    <p:animEffect filter="wipe(up)" transition="in">
                                      <p:cBhvr additive="repl">
                                        <p:cTn id="60" dur="500"/>
                                        <p:tgtEl>
                                          <p:spTgt spid="91"/>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92"/>
                                        </p:tgtEl>
                                        <p:attrNameLst>
                                          <p:attrName>style.visibility</p:attrName>
                                        </p:attrNameLst>
                                      </p:cBhvr>
                                      <p:to>
                                        <p:strVal val="visible"/>
                                      </p:to>
                                    </p:set>
                                    <p:animEffect filter="wipe(up)" transition="in">
                                      <p:cBhvr additive="repl">
                                        <p:cTn id="65" dur="500"/>
                                        <p:tgtEl>
                                          <p:spTgt spid="92"/>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8" presetSubtype="6">
                                  <p:stCondLst>
                                    <p:cond delay="0"/>
                                  </p:stCondLst>
                                  <p:childTnLst>
                                    <p:set>
                                      <p:cBhvr>
                                        <p:cTn id="69" dur="1" fill="hold">
                                          <p:stCondLst>
                                            <p:cond delay="0"/>
                                          </p:stCondLst>
                                        </p:cTn>
                                        <p:tgtEl>
                                          <p:spTgt spid="93"/>
                                        </p:tgtEl>
                                        <p:attrNameLst>
                                          <p:attrName>style.visibility</p:attrName>
                                        </p:attrNameLst>
                                      </p:cBhvr>
                                      <p:to>
                                        <p:strVal val="visible"/>
                                      </p:to>
                                    </p:set>
                                    <p:animEffect filter="strips(downRight)" transition="in">
                                      <p:cBhvr additive="repl">
                                        <p:cTn id="70" dur="500"/>
                                        <p:tgtEl>
                                          <p:spTgt spid="93"/>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53" presetSubtype="16">
                                  <p:stCondLst>
                                    <p:cond delay="0"/>
                                  </p:stCondLst>
                                  <p:childTnLst>
                                    <p:set>
                                      <p:cBhvr>
                                        <p:cTn id="74" dur="1" fill="hold">
                                          <p:stCondLst>
                                            <p:cond delay="0"/>
                                          </p:stCondLst>
                                        </p:cTn>
                                        <p:tgtEl>
                                          <p:spTgt spid="79"/>
                                        </p:tgtEl>
                                        <p:attrNameLst>
                                          <p:attrName>style.visibility</p:attrName>
                                        </p:attrNameLst>
                                      </p:cBhvr>
                                      <p:to>
                                        <p:strVal val="visible"/>
                                      </p:to>
                                    </p:set>
                                    <p:anim calcmode="lin" valueType="num">
                                      <p:cBhvr additive="repl">
                                        <p:cTn id="75" dur="500" fill="hold"/>
                                        <p:tgtEl>
                                          <p:spTgt spid="79"/>
                                        </p:tgtEl>
                                        <p:attrNameLst>
                                          <p:attrName>ppt_w</p:attrName>
                                        </p:attrNameLst>
                                      </p:cBhvr>
                                      <p:tavLst>
                                        <p:tav tm="0">
                                          <p:val>
                                            <p:fltVal val="0"/>
                                          </p:val>
                                        </p:tav>
                                        <p:tav tm="100000">
                                          <p:val>
                                            <p:strVal val="#ppt_w"/>
                                          </p:val>
                                        </p:tav>
                                      </p:tavLst>
                                    </p:anim>
                                    <p:anim calcmode="lin" valueType="num">
                                      <p:cBhvr additive="repl">
                                        <p:cTn id="76" dur="500" fill="hold"/>
                                        <p:tgtEl>
                                          <p:spTgt spid="79"/>
                                        </p:tgtEl>
                                        <p:attrNameLst>
                                          <p:attrName>ppt_h</p:attrName>
                                        </p:attrNameLst>
                                      </p:cBhvr>
                                      <p:tavLst>
                                        <p:tav tm="0">
                                          <p:val>
                                            <p:fltVal val="0"/>
                                          </p:val>
                                        </p:tav>
                                        <p:tav tm="100000">
                                          <p:val>
                                            <p:strVal val="#ppt_h"/>
                                          </p:val>
                                        </p:tav>
                                      </p:tavLst>
                                    </p:anim>
                                    <p:animEffect filter="fade" transition="in">
                                      <p:cBhvr additive="repl">
                                        <p:cTn id="77"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妨</a:t>
            </a:r>
            <a:endParaRPr b="0" lang="en-US" sz="8000" spc="-1" strike="noStrike">
              <a:solidFill>
                <a:srgbClr val="000000"/>
              </a:solidFill>
              <a:latin typeface="Calibri"/>
            </a:endParaRPr>
          </a:p>
        </p:txBody>
      </p:sp>
      <p:graphicFrame>
        <p:nvGraphicFramePr>
          <p:cNvPr id="95"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96" name="组合 8"/>
          <p:cNvGrpSpPr/>
          <p:nvPr/>
        </p:nvGrpSpPr>
        <p:grpSpPr>
          <a:xfrm>
            <a:off x="1227240" y="3975120"/>
            <a:ext cx="2840040" cy="1621080"/>
            <a:chOff x="1227240" y="3975120"/>
            <a:chExt cx="2840040" cy="1621080"/>
          </a:xfrm>
        </p:grpSpPr>
        <p:pic>
          <p:nvPicPr>
            <p:cNvPr id="97" name="图示 4" descr=""/>
            <p:cNvPicPr/>
            <p:nvPr/>
          </p:nvPicPr>
          <p:blipFill>
            <a:blip r:embed="rId1"/>
            <a:stretch/>
          </p:blipFill>
          <p:spPr>
            <a:xfrm>
              <a:off x="1227240" y="3975120"/>
              <a:ext cx="2840040" cy="1571760"/>
            </a:xfrm>
            <a:prstGeom prst="rect">
              <a:avLst/>
            </a:prstGeom>
            <a:ln w="0">
              <a:noFill/>
            </a:ln>
          </p:spPr>
        </p:pic>
        <p:sp>
          <p:nvSpPr>
            <p:cNvPr id="98" name="矩形 2"/>
            <p:cNvSpPr/>
            <p:nvPr/>
          </p:nvSpPr>
          <p:spPr>
            <a:xfrm>
              <a:off x="1275480" y="4587840"/>
              <a:ext cx="2766600" cy="1008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a:t>
              </a:r>
              <a:r>
                <a:rPr b="1" lang="zh-CN" sz="2000" spc="-1" strike="noStrike">
                  <a:solidFill>
                    <a:srgbClr val="000000"/>
                  </a:solidFill>
                  <a:latin typeface="仿宋"/>
                  <a:ea typeface="仿宋"/>
                </a:rPr>
                <a:t>女”撇点与撇要协调，“方”横不宜太长。</a:t>
              </a:r>
              <a:endParaRPr b="0" lang="en-US" sz="2000" spc="-1" strike="noStrike">
                <a:solidFill>
                  <a:srgbClr val="000000"/>
                </a:solidFill>
                <a:latin typeface="Calibri"/>
              </a:endParaRPr>
            </a:p>
          </p:txBody>
        </p:sp>
      </p:grpSp>
      <p:sp>
        <p:nvSpPr>
          <p:cNvPr id="99" name="矩形 3"/>
          <p:cNvSpPr/>
          <p:nvPr/>
        </p:nvSpPr>
        <p:spPr>
          <a:xfrm>
            <a:off x="2030400" y="1868400"/>
            <a:ext cx="1390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fáng</a:t>
            </a:r>
            <a:endParaRPr b="0" lang="en-US" sz="4800" spc="-1" strike="noStrike">
              <a:solidFill>
                <a:srgbClr val="000000"/>
              </a:solidFill>
              <a:latin typeface="Calibri"/>
            </a:endParaRPr>
          </a:p>
        </p:txBody>
      </p:sp>
      <p:sp>
        <p:nvSpPr>
          <p:cNvPr id="100" name="Freeform 41"/>
          <p:cNvSpPr/>
          <p:nvPr/>
        </p:nvSpPr>
        <p:spPr>
          <a:xfrm>
            <a:off x="5913360" y="2838600"/>
            <a:ext cx="498600" cy="1782720"/>
          </a:xfrm>
          <a:custGeom>
            <a:avLst/>
            <a:gdLst/>
            <a:ahLst/>
            <a:rect l="l" t="t" r="r" b="b"/>
            <a:pathLst>
              <a:path w="628" h="2247">
                <a:moveTo>
                  <a:pt x="230" y="1126"/>
                </a:moveTo>
                <a:lnTo>
                  <a:pt x="225" y="1147"/>
                </a:lnTo>
                <a:lnTo>
                  <a:pt x="219" y="1168"/>
                </a:lnTo>
                <a:lnTo>
                  <a:pt x="213" y="1189"/>
                </a:lnTo>
                <a:lnTo>
                  <a:pt x="209" y="1209"/>
                </a:lnTo>
                <a:lnTo>
                  <a:pt x="203" y="1228"/>
                </a:lnTo>
                <a:lnTo>
                  <a:pt x="200" y="1247"/>
                </a:lnTo>
                <a:lnTo>
                  <a:pt x="194" y="1264"/>
                </a:lnTo>
                <a:lnTo>
                  <a:pt x="190" y="1282"/>
                </a:lnTo>
                <a:lnTo>
                  <a:pt x="186" y="1299"/>
                </a:lnTo>
                <a:lnTo>
                  <a:pt x="180" y="1316"/>
                </a:lnTo>
                <a:lnTo>
                  <a:pt x="177" y="1331"/>
                </a:lnTo>
                <a:lnTo>
                  <a:pt x="173" y="1347"/>
                </a:lnTo>
                <a:lnTo>
                  <a:pt x="169" y="1360"/>
                </a:lnTo>
                <a:lnTo>
                  <a:pt x="167" y="1376"/>
                </a:lnTo>
                <a:lnTo>
                  <a:pt x="163" y="1389"/>
                </a:lnTo>
                <a:lnTo>
                  <a:pt x="159" y="1401"/>
                </a:lnTo>
                <a:lnTo>
                  <a:pt x="157" y="1414"/>
                </a:lnTo>
                <a:lnTo>
                  <a:pt x="154" y="1426"/>
                </a:lnTo>
                <a:lnTo>
                  <a:pt x="152" y="1435"/>
                </a:lnTo>
                <a:lnTo>
                  <a:pt x="148" y="1447"/>
                </a:lnTo>
                <a:lnTo>
                  <a:pt x="146" y="1456"/>
                </a:lnTo>
                <a:lnTo>
                  <a:pt x="144" y="1464"/>
                </a:lnTo>
                <a:lnTo>
                  <a:pt x="142" y="1473"/>
                </a:lnTo>
                <a:lnTo>
                  <a:pt x="140" y="1481"/>
                </a:lnTo>
                <a:lnTo>
                  <a:pt x="138" y="1487"/>
                </a:lnTo>
                <a:lnTo>
                  <a:pt x="138" y="1495"/>
                </a:lnTo>
                <a:lnTo>
                  <a:pt x="136" y="1500"/>
                </a:lnTo>
                <a:lnTo>
                  <a:pt x="134" y="1506"/>
                </a:lnTo>
                <a:lnTo>
                  <a:pt x="134" y="1510"/>
                </a:lnTo>
                <a:lnTo>
                  <a:pt x="134" y="1514"/>
                </a:lnTo>
                <a:lnTo>
                  <a:pt x="134" y="1518"/>
                </a:lnTo>
                <a:lnTo>
                  <a:pt x="134" y="1520"/>
                </a:lnTo>
                <a:lnTo>
                  <a:pt x="132" y="1525"/>
                </a:lnTo>
                <a:lnTo>
                  <a:pt x="132" y="1529"/>
                </a:lnTo>
                <a:lnTo>
                  <a:pt x="132" y="1537"/>
                </a:lnTo>
                <a:lnTo>
                  <a:pt x="136" y="1543"/>
                </a:lnTo>
                <a:lnTo>
                  <a:pt x="140" y="1550"/>
                </a:lnTo>
                <a:lnTo>
                  <a:pt x="144" y="1558"/>
                </a:lnTo>
                <a:lnTo>
                  <a:pt x="152" y="1566"/>
                </a:lnTo>
                <a:lnTo>
                  <a:pt x="159" y="1575"/>
                </a:lnTo>
                <a:lnTo>
                  <a:pt x="169" y="1585"/>
                </a:lnTo>
                <a:lnTo>
                  <a:pt x="178" y="1594"/>
                </a:lnTo>
                <a:lnTo>
                  <a:pt x="190" y="1604"/>
                </a:lnTo>
                <a:lnTo>
                  <a:pt x="203" y="1616"/>
                </a:lnTo>
                <a:lnTo>
                  <a:pt x="217" y="1629"/>
                </a:lnTo>
                <a:lnTo>
                  <a:pt x="232" y="1640"/>
                </a:lnTo>
                <a:lnTo>
                  <a:pt x="248" y="1654"/>
                </a:lnTo>
                <a:lnTo>
                  <a:pt x="267" y="1667"/>
                </a:lnTo>
                <a:lnTo>
                  <a:pt x="284" y="1683"/>
                </a:lnTo>
                <a:lnTo>
                  <a:pt x="301" y="1698"/>
                </a:lnTo>
                <a:lnTo>
                  <a:pt x="319" y="1713"/>
                </a:lnTo>
                <a:lnTo>
                  <a:pt x="336" y="1729"/>
                </a:lnTo>
                <a:lnTo>
                  <a:pt x="369" y="1756"/>
                </a:lnTo>
                <a:lnTo>
                  <a:pt x="401" y="1781"/>
                </a:lnTo>
                <a:lnTo>
                  <a:pt x="432" y="1806"/>
                </a:lnTo>
                <a:lnTo>
                  <a:pt x="463" y="1830"/>
                </a:lnTo>
                <a:lnTo>
                  <a:pt x="491" y="1853"/>
                </a:lnTo>
                <a:lnTo>
                  <a:pt x="518" y="1877"/>
                </a:lnTo>
                <a:lnTo>
                  <a:pt x="532" y="1888"/>
                </a:lnTo>
                <a:lnTo>
                  <a:pt x="543" y="1900"/>
                </a:lnTo>
                <a:lnTo>
                  <a:pt x="555" y="1911"/>
                </a:lnTo>
                <a:lnTo>
                  <a:pt x="566" y="1924"/>
                </a:lnTo>
                <a:lnTo>
                  <a:pt x="576" y="1936"/>
                </a:lnTo>
                <a:lnTo>
                  <a:pt x="584" y="1948"/>
                </a:lnTo>
                <a:lnTo>
                  <a:pt x="591" y="1961"/>
                </a:lnTo>
                <a:lnTo>
                  <a:pt x="599" y="1972"/>
                </a:lnTo>
                <a:lnTo>
                  <a:pt x="607" y="1986"/>
                </a:lnTo>
                <a:lnTo>
                  <a:pt x="610" y="1999"/>
                </a:lnTo>
                <a:lnTo>
                  <a:pt x="616" y="2013"/>
                </a:lnTo>
                <a:lnTo>
                  <a:pt x="620" y="2026"/>
                </a:lnTo>
                <a:lnTo>
                  <a:pt x="622" y="2040"/>
                </a:lnTo>
                <a:lnTo>
                  <a:pt x="626" y="2055"/>
                </a:lnTo>
                <a:lnTo>
                  <a:pt x="626" y="2070"/>
                </a:lnTo>
                <a:lnTo>
                  <a:pt x="628" y="2086"/>
                </a:lnTo>
                <a:lnTo>
                  <a:pt x="628" y="2101"/>
                </a:lnTo>
                <a:lnTo>
                  <a:pt x="626" y="2116"/>
                </a:lnTo>
                <a:lnTo>
                  <a:pt x="626" y="2132"/>
                </a:lnTo>
                <a:lnTo>
                  <a:pt x="626" y="2143"/>
                </a:lnTo>
                <a:lnTo>
                  <a:pt x="626" y="2157"/>
                </a:lnTo>
                <a:lnTo>
                  <a:pt x="626" y="2168"/>
                </a:lnTo>
                <a:lnTo>
                  <a:pt x="626" y="2178"/>
                </a:lnTo>
                <a:lnTo>
                  <a:pt x="626" y="2187"/>
                </a:lnTo>
                <a:lnTo>
                  <a:pt x="624" y="2197"/>
                </a:lnTo>
                <a:lnTo>
                  <a:pt x="624" y="2205"/>
                </a:lnTo>
                <a:lnTo>
                  <a:pt x="622" y="2212"/>
                </a:lnTo>
                <a:lnTo>
                  <a:pt x="622" y="2218"/>
                </a:lnTo>
                <a:lnTo>
                  <a:pt x="620" y="2224"/>
                </a:lnTo>
                <a:lnTo>
                  <a:pt x="618" y="2228"/>
                </a:lnTo>
                <a:lnTo>
                  <a:pt x="616" y="2232"/>
                </a:lnTo>
                <a:lnTo>
                  <a:pt x="614" y="2233"/>
                </a:lnTo>
                <a:lnTo>
                  <a:pt x="610" y="2237"/>
                </a:lnTo>
                <a:lnTo>
                  <a:pt x="608" y="2241"/>
                </a:lnTo>
                <a:lnTo>
                  <a:pt x="605" y="2243"/>
                </a:lnTo>
                <a:lnTo>
                  <a:pt x="603" y="2245"/>
                </a:lnTo>
                <a:lnTo>
                  <a:pt x="601" y="2245"/>
                </a:lnTo>
                <a:lnTo>
                  <a:pt x="597" y="2247"/>
                </a:lnTo>
                <a:lnTo>
                  <a:pt x="595" y="2247"/>
                </a:lnTo>
                <a:lnTo>
                  <a:pt x="591" y="2247"/>
                </a:lnTo>
                <a:lnTo>
                  <a:pt x="587" y="2245"/>
                </a:lnTo>
                <a:lnTo>
                  <a:pt x="585" y="2243"/>
                </a:lnTo>
                <a:lnTo>
                  <a:pt x="580" y="2239"/>
                </a:lnTo>
                <a:lnTo>
                  <a:pt x="574" y="2235"/>
                </a:lnTo>
                <a:lnTo>
                  <a:pt x="568" y="2228"/>
                </a:lnTo>
                <a:lnTo>
                  <a:pt x="562" y="2220"/>
                </a:lnTo>
                <a:lnTo>
                  <a:pt x="555" y="2210"/>
                </a:lnTo>
                <a:lnTo>
                  <a:pt x="545" y="2201"/>
                </a:lnTo>
                <a:lnTo>
                  <a:pt x="536" y="2187"/>
                </a:lnTo>
                <a:lnTo>
                  <a:pt x="526" y="2174"/>
                </a:lnTo>
                <a:lnTo>
                  <a:pt x="514" y="2159"/>
                </a:lnTo>
                <a:lnTo>
                  <a:pt x="503" y="2143"/>
                </a:lnTo>
                <a:lnTo>
                  <a:pt x="489" y="2124"/>
                </a:lnTo>
                <a:lnTo>
                  <a:pt x="476" y="2105"/>
                </a:lnTo>
                <a:lnTo>
                  <a:pt x="461" y="2084"/>
                </a:lnTo>
                <a:lnTo>
                  <a:pt x="447" y="2063"/>
                </a:lnTo>
                <a:lnTo>
                  <a:pt x="415" y="2020"/>
                </a:lnTo>
                <a:lnTo>
                  <a:pt x="382" y="1978"/>
                </a:lnTo>
                <a:lnTo>
                  <a:pt x="347" y="1938"/>
                </a:lnTo>
                <a:lnTo>
                  <a:pt x="311" y="1898"/>
                </a:lnTo>
                <a:lnTo>
                  <a:pt x="274" y="1857"/>
                </a:lnTo>
                <a:lnTo>
                  <a:pt x="236" y="1817"/>
                </a:lnTo>
                <a:lnTo>
                  <a:pt x="198" y="1779"/>
                </a:lnTo>
                <a:lnTo>
                  <a:pt x="157" y="1742"/>
                </a:lnTo>
                <a:lnTo>
                  <a:pt x="138" y="1725"/>
                </a:lnTo>
                <a:lnTo>
                  <a:pt x="119" y="1710"/>
                </a:lnTo>
                <a:lnTo>
                  <a:pt x="102" y="1694"/>
                </a:lnTo>
                <a:lnTo>
                  <a:pt x="86" y="1681"/>
                </a:lnTo>
                <a:lnTo>
                  <a:pt x="71" y="1667"/>
                </a:lnTo>
                <a:lnTo>
                  <a:pt x="58" y="1654"/>
                </a:lnTo>
                <a:lnTo>
                  <a:pt x="46" y="1642"/>
                </a:lnTo>
                <a:lnTo>
                  <a:pt x="34" y="1631"/>
                </a:lnTo>
                <a:lnTo>
                  <a:pt x="25" y="1621"/>
                </a:lnTo>
                <a:lnTo>
                  <a:pt x="17" y="1612"/>
                </a:lnTo>
                <a:lnTo>
                  <a:pt x="10" y="1602"/>
                </a:lnTo>
                <a:lnTo>
                  <a:pt x="6" y="1594"/>
                </a:lnTo>
                <a:lnTo>
                  <a:pt x="2" y="1587"/>
                </a:lnTo>
                <a:lnTo>
                  <a:pt x="0" y="1579"/>
                </a:lnTo>
                <a:lnTo>
                  <a:pt x="0" y="1573"/>
                </a:lnTo>
                <a:lnTo>
                  <a:pt x="2" y="1569"/>
                </a:lnTo>
                <a:lnTo>
                  <a:pt x="2" y="1564"/>
                </a:lnTo>
                <a:lnTo>
                  <a:pt x="2" y="1556"/>
                </a:lnTo>
                <a:lnTo>
                  <a:pt x="4" y="1546"/>
                </a:lnTo>
                <a:lnTo>
                  <a:pt x="6" y="1537"/>
                </a:lnTo>
                <a:lnTo>
                  <a:pt x="8" y="1525"/>
                </a:lnTo>
                <a:lnTo>
                  <a:pt x="11" y="1510"/>
                </a:lnTo>
                <a:lnTo>
                  <a:pt x="15" y="1495"/>
                </a:lnTo>
                <a:lnTo>
                  <a:pt x="19" y="1477"/>
                </a:lnTo>
                <a:lnTo>
                  <a:pt x="25" y="1460"/>
                </a:lnTo>
                <a:lnTo>
                  <a:pt x="31" y="1439"/>
                </a:lnTo>
                <a:lnTo>
                  <a:pt x="36" y="1418"/>
                </a:lnTo>
                <a:lnTo>
                  <a:pt x="42" y="1395"/>
                </a:lnTo>
                <a:lnTo>
                  <a:pt x="50" y="1370"/>
                </a:lnTo>
                <a:lnTo>
                  <a:pt x="58" y="1343"/>
                </a:lnTo>
                <a:lnTo>
                  <a:pt x="65" y="1314"/>
                </a:lnTo>
                <a:lnTo>
                  <a:pt x="73" y="1285"/>
                </a:lnTo>
                <a:lnTo>
                  <a:pt x="82" y="1255"/>
                </a:lnTo>
                <a:lnTo>
                  <a:pt x="90" y="1224"/>
                </a:lnTo>
                <a:lnTo>
                  <a:pt x="100" y="1193"/>
                </a:lnTo>
                <a:lnTo>
                  <a:pt x="107" y="1161"/>
                </a:lnTo>
                <a:lnTo>
                  <a:pt x="115" y="1128"/>
                </a:lnTo>
                <a:lnTo>
                  <a:pt x="123" y="1095"/>
                </a:lnTo>
                <a:lnTo>
                  <a:pt x="138" y="1028"/>
                </a:lnTo>
                <a:lnTo>
                  <a:pt x="152" y="959"/>
                </a:lnTo>
                <a:lnTo>
                  <a:pt x="167" y="888"/>
                </a:lnTo>
                <a:lnTo>
                  <a:pt x="180" y="817"/>
                </a:lnTo>
                <a:lnTo>
                  <a:pt x="194" y="744"/>
                </a:lnTo>
                <a:lnTo>
                  <a:pt x="198" y="708"/>
                </a:lnTo>
                <a:lnTo>
                  <a:pt x="202" y="671"/>
                </a:lnTo>
                <a:lnTo>
                  <a:pt x="205" y="637"/>
                </a:lnTo>
                <a:lnTo>
                  <a:pt x="209" y="604"/>
                </a:lnTo>
                <a:lnTo>
                  <a:pt x="213" y="573"/>
                </a:lnTo>
                <a:lnTo>
                  <a:pt x="217" y="541"/>
                </a:lnTo>
                <a:lnTo>
                  <a:pt x="219" y="512"/>
                </a:lnTo>
                <a:lnTo>
                  <a:pt x="223" y="483"/>
                </a:lnTo>
                <a:lnTo>
                  <a:pt x="225" y="454"/>
                </a:lnTo>
                <a:lnTo>
                  <a:pt x="228" y="428"/>
                </a:lnTo>
                <a:lnTo>
                  <a:pt x="230" y="403"/>
                </a:lnTo>
                <a:lnTo>
                  <a:pt x="232" y="378"/>
                </a:lnTo>
                <a:lnTo>
                  <a:pt x="234" y="355"/>
                </a:lnTo>
                <a:lnTo>
                  <a:pt x="238" y="332"/>
                </a:lnTo>
                <a:lnTo>
                  <a:pt x="240" y="309"/>
                </a:lnTo>
                <a:lnTo>
                  <a:pt x="242" y="287"/>
                </a:lnTo>
                <a:lnTo>
                  <a:pt x="244" y="266"/>
                </a:lnTo>
                <a:lnTo>
                  <a:pt x="246" y="247"/>
                </a:lnTo>
                <a:lnTo>
                  <a:pt x="246" y="228"/>
                </a:lnTo>
                <a:lnTo>
                  <a:pt x="246" y="211"/>
                </a:lnTo>
                <a:lnTo>
                  <a:pt x="246" y="193"/>
                </a:lnTo>
                <a:lnTo>
                  <a:pt x="246" y="178"/>
                </a:lnTo>
                <a:lnTo>
                  <a:pt x="244" y="163"/>
                </a:lnTo>
                <a:lnTo>
                  <a:pt x="244" y="149"/>
                </a:lnTo>
                <a:lnTo>
                  <a:pt x="242" y="136"/>
                </a:lnTo>
                <a:lnTo>
                  <a:pt x="238" y="122"/>
                </a:lnTo>
                <a:lnTo>
                  <a:pt x="236" y="111"/>
                </a:lnTo>
                <a:lnTo>
                  <a:pt x="232" y="101"/>
                </a:lnTo>
                <a:lnTo>
                  <a:pt x="230" y="90"/>
                </a:lnTo>
                <a:lnTo>
                  <a:pt x="226" y="82"/>
                </a:lnTo>
                <a:lnTo>
                  <a:pt x="223" y="73"/>
                </a:lnTo>
                <a:lnTo>
                  <a:pt x="217" y="67"/>
                </a:lnTo>
                <a:lnTo>
                  <a:pt x="213" y="59"/>
                </a:lnTo>
                <a:lnTo>
                  <a:pt x="209" y="53"/>
                </a:lnTo>
                <a:lnTo>
                  <a:pt x="207" y="48"/>
                </a:lnTo>
                <a:lnTo>
                  <a:pt x="203" y="42"/>
                </a:lnTo>
                <a:lnTo>
                  <a:pt x="203" y="38"/>
                </a:lnTo>
                <a:lnTo>
                  <a:pt x="202" y="32"/>
                </a:lnTo>
                <a:lnTo>
                  <a:pt x="202" y="28"/>
                </a:lnTo>
                <a:lnTo>
                  <a:pt x="202" y="26"/>
                </a:lnTo>
                <a:lnTo>
                  <a:pt x="202" y="23"/>
                </a:lnTo>
                <a:lnTo>
                  <a:pt x="203" y="19"/>
                </a:lnTo>
                <a:lnTo>
                  <a:pt x="205" y="17"/>
                </a:lnTo>
                <a:lnTo>
                  <a:pt x="209" y="13"/>
                </a:lnTo>
                <a:lnTo>
                  <a:pt x="213" y="11"/>
                </a:lnTo>
                <a:lnTo>
                  <a:pt x="219" y="9"/>
                </a:lnTo>
                <a:lnTo>
                  <a:pt x="223" y="5"/>
                </a:lnTo>
                <a:lnTo>
                  <a:pt x="230" y="3"/>
                </a:lnTo>
                <a:lnTo>
                  <a:pt x="236" y="2"/>
                </a:lnTo>
                <a:lnTo>
                  <a:pt x="244" y="0"/>
                </a:lnTo>
                <a:lnTo>
                  <a:pt x="250" y="0"/>
                </a:lnTo>
                <a:lnTo>
                  <a:pt x="257" y="0"/>
                </a:lnTo>
                <a:lnTo>
                  <a:pt x="265" y="0"/>
                </a:lnTo>
                <a:lnTo>
                  <a:pt x="273" y="0"/>
                </a:lnTo>
                <a:lnTo>
                  <a:pt x="280" y="2"/>
                </a:lnTo>
                <a:lnTo>
                  <a:pt x="288" y="3"/>
                </a:lnTo>
                <a:lnTo>
                  <a:pt x="296" y="5"/>
                </a:lnTo>
                <a:lnTo>
                  <a:pt x="303" y="9"/>
                </a:lnTo>
                <a:lnTo>
                  <a:pt x="313" y="13"/>
                </a:lnTo>
                <a:lnTo>
                  <a:pt x="321" y="17"/>
                </a:lnTo>
                <a:lnTo>
                  <a:pt x="330" y="23"/>
                </a:lnTo>
                <a:lnTo>
                  <a:pt x="340" y="28"/>
                </a:lnTo>
                <a:lnTo>
                  <a:pt x="351" y="34"/>
                </a:lnTo>
                <a:lnTo>
                  <a:pt x="363" y="42"/>
                </a:lnTo>
                <a:lnTo>
                  <a:pt x="380" y="55"/>
                </a:lnTo>
                <a:lnTo>
                  <a:pt x="395" y="67"/>
                </a:lnTo>
                <a:lnTo>
                  <a:pt x="411" y="78"/>
                </a:lnTo>
                <a:lnTo>
                  <a:pt x="426" y="88"/>
                </a:lnTo>
                <a:lnTo>
                  <a:pt x="438" y="99"/>
                </a:lnTo>
                <a:lnTo>
                  <a:pt x="451" y="109"/>
                </a:lnTo>
                <a:lnTo>
                  <a:pt x="461" y="119"/>
                </a:lnTo>
                <a:lnTo>
                  <a:pt x="470" y="128"/>
                </a:lnTo>
                <a:lnTo>
                  <a:pt x="474" y="136"/>
                </a:lnTo>
                <a:lnTo>
                  <a:pt x="478" y="145"/>
                </a:lnTo>
                <a:lnTo>
                  <a:pt x="478" y="155"/>
                </a:lnTo>
                <a:lnTo>
                  <a:pt x="480" y="167"/>
                </a:lnTo>
                <a:lnTo>
                  <a:pt x="478" y="176"/>
                </a:lnTo>
                <a:lnTo>
                  <a:pt x="478" y="188"/>
                </a:lnTo>
                <a:lnTo>
                  <a:pt x="474" y="201"/>
                </a:lnTo>
                <a:lnTo>
                  <a:pt x="470" y="215"/>
                </a:lnTo>
                <a:lnTo>
                  <a:pt x="466" y="222"/>
                </a:lnTo>
                <a:lnTo>
                  <a:pt x="461" y="230"/>
                </a:lnTo>
                <a:lnTo>
                  <a:pt x="457" y="241"/>
                </a:lnTo>
                <a:lnTo>
                  <a:pt x="453" y="253"/>
                </a:lnTo>
                <a:lnTo>
                  <a:pt x="447" y="266"/>
                </a:lnTo>
                <a:lnTo>
                  <a:pt x="443" y="282"/>
                </a:lnTo>
                <a:lnTo>
                  <a:pt x="438" y="297"/>
                </a:lnTo>
                <a:lnTo>
                  <a:pt x="432" y="314"/>
                </a:lnTo>
                <a:lnTo>
                  <a:pt x="428" y="334"/>
                </a:lnTo>
                <a:lnTo>
                  <a:pt x="422" y="355"/>
                </a:lnTo>
                <a:lnTo>
                  <a:pt x="417" y="378"/>
                </a:lnTo>
                <a:lnTo>
                  <a:pt x="411" y="401"/>
                </a:lnTo>
                <a:lnTo>
                  <a:pt x="405" y="426"/>
                </a:lnTo>
                <a:lnTo>
                  <a:pt x="399" y="453"/>
                </a:lnTo>
                <a:lnTo>
                  <a:pt x="392" y="479"/>
                </a:lnTo>
                <a:lnTo>
                  <a:pt x="386" y="510"/>
                </a:lnTo>
                <a:lnTo>
                  <a:pt x="380" y="543"/>
                </a:lnTo>
                <a:lnTo>
                  <a:pt x="372" y="575"/>
                </a:lnTo>
                <a:lnTo>
                  <a:pt x="365" y="610"/>
                </a:lnTo>
                <a:lnTo>
                  <a:pt x="357" y="644"/>
                </a:lnTo>
                <a:lnTo>
                  <a:pt x="347" y="681"/>
                </a:lnTo>
                <a:lnTo>
                  <a:pt x="340" y="717"/>
                </a:lnTo>
                <a:lnTo>
                  <a:pt x="330" y="756"/>
                </a:lnTo>
                <a:lnTo>
                  <a:pt x="321" y="794"/>
                </a:lnTo>
                <a:lnTo>
                  <a:pt x="311" y="832"/>
                </a:lnTo>
                <a:lnTo>
                  <a:pt x="301" y="873"/>
                </a:lnTo>
                <a:lnTo>
                  <a:pt x="290" y="913"/>
                </a:lnTo>
                <a:lnTo>
                  <a:pt x="278" y="953"/>
                </a:lnTo>
                <a:lnTo>
                  <a:pt x="267" y="996"/>
                </a:lnTo>
                <a:lnTo>
                  <a:pt x="255" y="1038"/>
                </a:lnTo>
                <a:lnTo>
                  <a:pt x="244" y="1082"/>
                </a:lnTo>
                <a:lnTo>
                  <a:pt x="230" y="112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42"/>
          <p:cNvSpPr/>
          <p:nvPr/>
        </p:nvSpPr>
        <p:spPr>
          <a:xfrm>
            <a:off x="5675400" y="3405240"/>
            <a:ext cx="882720" cy="1238040"/>
          </a:xfrm>
          <a:custGeom>
            <a:avLst/>
            <a:gdLst/>
            <a:ahLst/>
            <a:rect l="l" t="t" r="r" b="b"/>
            <a:pathLst>
              <a:path w="1111" h="1560">
                <a:moveTo>
                  <a:pt x="241" y="1360"/>
                </a:moveTo>
                <a:lnTo>
                  <a:pt x="272" y="1335"/>
                </a:lnTo>
                <a:lnTo>
                  <a:pt x="303" y="1312"/>
                </a:lnTo>
                <a:lnTo>
                  <a:pt x="332" y="1287"/>
                </a:lnTo>
                <a:lnTo>
                  <a:pt x="360" y="1262"/>
                </a:lnTo>
                <a:lnTo>
                  <a:pt x="389" y="1237"/>
                </a:lnTo>
                <a:lnTo>
                  <a:pt x="416" y="1210"/>
                </a:lnTo>
                <a:lnTo>
                  <a:pt x="443" y="1184"/>
                </a:lnTo>
                <a:lnTo>
                  <a:pt x="470" y="1157"/>
                </a:lnTo>
                <a:lnTo>
                  <a:pt x="495" y="1128"/>
                </a:lnTo>
                <a:lnTo>
                  <a:pt x="518" y="1099"/>
                </a:lnTo>
                <a:lnTo>
                  <a:pt x="543" y="1070"/>
                </a:lnTo>
                <a:lnTo>
                  <a:pt x="566" y="1042"/>
                </a:lnTo>
                <a:lnTo>
                  <a:pt x="587" y="1011"/>
                </a:lnTo>
                <a:lnTo>
                  <a:pt x="610" y="980"/>
                </a:lnTo>
                <a:lnTo>
                  <a:pt x="631" y="949"/>
                </a:lnTo>
                <a:lnTo>
                  <a:pt x="650" y="917"/>
                </a:lnTo>
                <a:lnTo>
                  <a:pt x="671" y="886"/>
                </a:lnTo>
                <a:lnTo>
                  <a:pt x="689" y="855"/>
                </a:lnTo>
                <a:lnTo>
                  <a:pt x="708" y="827"/>
                </a:lnTo>
                <a:lnTo>
                  <a:pt x="725" y="796"/>
                </a:lnTo>
                <a:lnTo>
                  <a:pt x="741" y="765"/>
                </a:lnTo>
                <a:lnTo>
                  <a:pt x="758" y="736"/>
                </a:lnTo>
                <a:lnTo>
                  <a:pt x="771" y="706"/>
                </a:lnTo>
                <a:lnTo>
                  <a:pt x="787" y="675"/>
                </a:lnTo>
                <a:lnTo>
                  <a:pt x="800" y="646"/>
                </a:lnTo>
                <a:lnTo>
                  <a:pt x="812" y="616"/>
                </a:lnTo>
                <a:lnTo>
                  <a:pt x="823" y="587"/>
                </a:lnTo>
                <a:lnTo>
                  <a:pt x="835" y="556"/>
                </a:lnTo>
                <a:lnTo>
                  <a:pt x="844" y="525"/>
                </a:lnTo>
                <a:lnTo>
                  <a:pt x="852" y="497"/>
                </a:lnTo>
                <a:lnTo>
                  <a:pt x="861" y="466"/>
                </a:lnTo>
                <a:lnTo>
                  <a:pt x="867" y="435"/>
                </a:lnTo>
                <a:lnTo>
                  <a:pt x="875" y="406"/>
                </a:lnTo>
                <a:lnTo>
                  <a:pt x="881" y="378"/>
                </a:lnTo>
                <a:lnTo>
                  <a:pt x="885" y="353"/>
                </a:lnTo>
                <a:lnTo>
                  <a:pt x="890" y="326"/>
                </a:lnTo>
                <a:lnTo>
                  <a:pt x="894" y="303"/>
                </a:lnTo>
                <a:lnTo>
                  <a:pt x="898" y="280"/>
                </a:lnTo>
                <a:lnTo>
                  <a:pt x="900" y="259"/>
                </a:lnTo>
                <a:lnTo>
                  <a:pt x="904" y="239"/>
                </a:lnTo>
                <a:lnTo>
                  <a:pt x="906" y="220"/>
                </a:lnTo>
                <a:lnTo>
                  <a:pt x="908" y="201"/>
                </a:lnTo>
                <a:lnTo>
                  <a:pt x="908" y="186"/>
                </a:lnTo>
                <a:lnTo>
                  <a:pt x="908" y="168"/>
                </a:lnTo>
                <a:lnTo>
                  <a:pt x="908" y="155"/>
                </a:lnTo>
                <a:lnTo>
                  <a:pt x="908" y="140"/>
                </a:lnTo>
                <a:lnTo>
                  <a:pt x="906" y="128"/>
                </a:lnTo>
                <a:lnTo>
                  <a:pt x="904" y="117"/>
                </a:lnTo>
                <a:lnTo>
                  <a:pt x="900" y="97"/>
                </a:lnTo>
                <a:lnTo>
                  <a:pt x="898" y="82"/>
                </a:lnTo>
                <a:lnTo>
                  <a:pt x="896" y="67"/>
                </a:lnTo>
                <a:lnTo>
                  <a:pt x="894" y="53"/>
                </a:lnTo>
                <a:lnTo>
                  <a:pt x="896" y="40"/>
                </a:lnTo>
                <a:lnTo>
                  <a:pt x="896" y="36"/>
                </a:lnTo>
                <a:lnTo>
                  <a:pt x="898" y="30"/>
                </a:lnTo>
                <a:lnTo>
                  <a:pt x="898" y="26"/>
                </a:lnTo>
                <a:lnTo>
                  <a:pt x="900" y="23"/>
                </a:lnTo>
                <a:lnTo>
                  <a:pt x="902" y="19"/>
                </a:lnTo>
                <a:lnTo>
                  <a:pt x="904" y="17"/>
                </a:lnTo>
                <a:lnTo>
                  <a:pt x="904" y="13"/>
                </a:lnTo>
                <a:lnTo>
                  <a:pt x="906" y="7"/>
                </a:lnTo>
                <a:lnTo>
                  <a:pt x="909" y="3"/>
                </a:lnTo>
                <a:lnTo>
                  <a:pt x="913" y="1"/>
                </a:lnTo>
                <a:lnTo>
                  <a:pt x="921" y="0"/>
                </a:lnTo>
                <a:lnTo>
                  <a:pt x="925" y="0"/>
                </a:lnTo>
                <a:lnTo>
                  <a:pt x="929" y="0"/>
                </a:lnTo>
                <a:lnTo>
                  <a:pt x="934" y="0"/>
                </a:lnTo>
                <a:lnTo>
                  <a:pt x="940" y="1"/>
                </a:lnTo>
                <a:lnTo>
                  <a:pt x="946" y="1"/>
                </a:lnTo>
                <a:lnTo>
                  <a:pt x="952" y="5"/>
                </a:lnTo>
                <a:lnTo>
                  <a:pt x="965" y="9"/>
                </a:lnTo>
                <a:lnTo>
                  <a:pt x="977" y="17"/>
                </a:lnTo>
                <a:lnTo>
                  <a:pt x="988" y="24"/>
                </a:lnTo>
                <a:lnTo>
                  <a:pt x="1000" y="32"/>
                </a:lnTo>
                <a:lnTo>
                  <a:pt x="1011" y="42"/>
                </a:lnTo>
                <a:lnTo>
                  <a:pt x="1023" y="53"/>
                </a:lnTo>
                <a:lnTo>
                  <a:pt x="1034" y="65"/>
                </a:lnTo>
                <a:lnTo>
                  <a:pt x="1048" y="78"/>
                </a:lnTo>
                <a:lnTo>
                  <a:pt x="1055" y="86"/>
                </a:lnTo>
                <a:lnTo>
                  <a:pt x="1061" y="92"/>
                </a:lnTo>
                <a:lnTo>
                  <a:pt x="1071" y="103"/>
                </a:lnTo>
                <a:lnTo>
                  <a:pt x="1080" y="115"/>
                </a:lnTo>
                <a:lnTo>
                  <a:pt x="1086" y="124"/>
                </a:lnTo>
                <a:lnTo>
                  <a:pt x="1094" y="134"/>
                </a:lnTo>
                <a:lnTo>
                  <a:pt x="1100" y="142"/>
                </a:lnTo>
                <a:lnTo>
                  <a:pt x="1103" y="147"/>
                </a:lnTo>
                <a:lnTo>
                  <a:pt x="1109" y="153"/>
                </a:lnTo>
                <a:lnTo>
                  <a:pt x="1109" y="155"/>
                </a:lnTo>
                <a:lnTo>
                  <a:pt x="1109" y="159"/>
                </a:lnTo>
                <a:lnTo>
                  <a:pt x="1111" y="163"/>
                </a:lnTo>
                <a:lnTo>
                  <a:pt x="1111" y="166"/>
                </a:lnTo>
                <a:lnTo>
                  <a:pt x="1109" y="172"/>
                </a:lnTo>
                <a:lnTo>
                  <a:pt x="1109" y="176"/>
                </a:lnTo>
                <a:lnTo>
                  <a:pt x="1109" y="184"/>
                </a:lnTo>
                <a:lnTo>
                  <a:pt x="1107" y="190"/>
                </a:lnTo>
                <a:lnTo>
                  <a:pt x="1107" y="197"/>
                </a:lnTo>
                <a:lnTo>
                  <a:pt x="1105" y="205"/>
                </a:lnTo>
                <a:lnTo>
                  <a:pt x="1103" y="213"/>
                </a:lnTo>
                <a:lnTo>
                  <a:pt x="1101" y="222"/>
                </a:lnTo>
                <a:lnTo>
                  <a:pt x="1098" y="232"/>
                </a:lnTo>
                <a:lnTo>
                  <a:pt x="1096" y="243"/>
                </a:lnTo>
                <a:lnTo>
                  <a:pt x="1092" y="253"/>
                </a:lnTo>
                <a:lnTo>
                  <a:pt x="1090" y="264"/>
                </a:lnTo>
                <a:lnTo>
                  <a:pt x="1086" y="278"/>
                </a:lnTo>
                <a:lnTo>
                  <a:pt x="1082" y="289"/>
                </a:lnTo>
                <a:lnTo>
                  <a:pt x="1078" y="303"/>
                </a:lnTo>
                <a:lnTo>
                  <a:pt x="1073" y="316"/>
                </a:lnTo>
                <a:lnTo>
                  <a:pt x="1069" y="332"/>
                </a:lnTo>
                <a:lnTo>
                  <a:pt x="1063" y="347"/>
                </a:lnTo>
                <a:lnTo>
                  <a:pt x="1059" y="362"/>
                </a:lnTo>
                <a:lnTo>
                  <a:pt x="1053" y="380"/>
                </a:lnTo>
                <a:lnTo>
                  <a:pt x="1048" y="397"/>
                </a:lnTo>
                <a:lnTo>
                  <a:pt x="1042" y="414"/>
                </a:lnTo>
                <a:lnTo>
                  <a:pt x="1036" y="433"/>
                </a:lnTo>
                <a:lnTo>
                  <a:pt x="1029" y="452"/>
                </a:lnTo>
                <a:lnTo>
                  <a:pt x="1023" y="472"/>
                </a:lnTo>
                <a:lnTo>
                  <a:pt x="1015" y="493"/>
                </a:lnTo>
                <a:lnTo>
                  <a:pt x="1007" y="512"/>
                </a:lnTo>
                <a:lnTo>
                  <a:pt x="1000" y="535"/>
                </a:lnTo>
                <a:lnTo>
                  <a:pt x="984" y="577"/>
                </a:lnTo>
                <a:lnTo>
                  <a:pt x="967" y="619"/>
                </a:lnTo>
                <a:lnTo>
                  <a:pt x="952" y="662"/>
                </a:lnTo>
                <a:lnTo>
                  <a:pt x="934" y="702"/>
                </a:lnTo>
                <a:lnTo>
                  <a:pt x="917" y="740"/>
                </a:lnTo>
                <a:lnTo>
                  <a:pt x="900" y="777"/>
                </a:lnTo>
                <a:lnTo>
                  <a:pt x="881" y="815"/>
                </a:lnTo>
                <a:lnTo>
                  <a:pt x="863" y="850"/>
                </a:lnTo>
                <a:lnTo>
                  <a:pt x="844" y="884"/>
                </a:lnTo>
                <a:lnTo>
                  <a:pt x="825" y="919"/>
                </a:lnTo>
                <a:lnTo>
                  <a:pt x="806" y="951"/>
                </a:lnTo>
                <a:lnTo>
                  <a:pt x="785" y="982"/>
                </a:lnTo>
                <a:lnTo>
                  <a:pt x="764" y="1013"/>
                </a:lnTo>
                <a:lnTo>
                  <a:pt x="742" y="1044"/>
                </a:lnTo>
                <a:lnTo>
                  <a:pt x="721" y="1072"/>
                </a:lnTo>
                <a:lnTo>
                  <a:pt x="700" y="1101"/>
                </a:lnTo>
                <a:lnTo>
                  <a:pt x="677" y="1130"/>
                </a:lnTo>
                <a:lnTo>
                  <a:pt x="654" y="1159"/>
                </a:lnTo>
                <a:lnTo>
                  <a:pt x="629" y="1186"/>
                </a:lnTo>
                <a:lnTo>
                  <a:pt x="604" y="1212"/>
                </a:lnTo>
                <a:lnTo>
                  <a:pt x="579" y="1237"/>
                </a:lnTo>
                <a:lnTo>
                  <a:pt x="554" y="1262"/>
                </a:lnTo>
                <a:lnTo>
                  <a:pt x="527" y="1285"/>
                </a:lnTo>
                <a:lnTo>
                  <a:pt x="501" y="1306"/>
                </a:lnTo>
                <a:lnTo>
                  <a:pt x="474" y="1329"/>
                </a:lnTo>
                <a:lnTo>
                  <a:pt x="445" y="1349"/>
                </a:lnTo>
                <a:lnTo>
                  <a:pt x="416" y="1370"/>
                </a:lnTo>
                <a:lnTo>
                  <a:pt x="387" y="1389"/>
                </a:lnTo>
                <a:lnTo>
                  <a:pt x="359" y="1406"/>
                </a:lnTo>
                <a:lnTo>
                  <a:pt x="328" y="1425"/>
                </a:lnTo>
                <a:lnTo>
                  <a:pt x="297" y="1443"/>
                </a:lnTo>
                <a:lnTo>
                  <a:pt x="266" y="1458"/>
                </a:lnTo>
                <a:lnTo>
                  <a:pt x="251" y="1466"/>
                </a:lnTo>
                <a:lnTo>
                  <a:pt x="236" y="1473"/>
                </a:lnTo>
                <a:lnTo>
                  <a:pt x="220" y="1481"/>
                </a:lnTo>
                <a:lnTo>
                  <a:pt x="207" y="1489"/>
                </a:lnTo>
                <a:lnTo>
                  <a:pt x="180" y="1502"/>
                </a:lnTo>
                <a:lnTo>
                  <a:pt x="155" y="1512"/>
                </a:lnTo>
                <a:lnTo>
                  <a:pt x="132" y="1523"/>
                </a:lnTo>
                <a:lnTo>
                  <a:pt x="111" y="1531"/>
                </a:lnTo>
                <a:lnTo>
                  <a:pt x="94" y="1539"/>
                </a:lnTo>
                <a:lnTo>
                  <a:pt x="76" y="1544"/>
                </a:lnTo>
                <a:lnTo>
                  <a:pt x="59" y="1550"/>
                </a:lnTo>
                <a:lnTo>
                  <a:pt x="46" y="1554"/>
                </a:lnTo>
                <a:lnTo>
                  <a:pt x="34" y="1558"/>
                </a:lnTo>
                <a:lnTo>
                  <a:pt x="24" y="1560"/>
                </a:lnTo>
                <a:lnTo>
                  <a:pt x="17" y="1560"/>
                </a:lnTo>
                <a:lnTo>
                  <a:pt x="9" y="1560"/>
                </a:lnTo>
                <a:lnTo>
                  <a:pt x="5" y="1560"/>
                </a:lnTo>
                <a:lnTo>
                  <a:pt x="1" y="1558"/>
                </a:lnTo>
                <a:lnTo>
                  <a:pt x="1" y="1556"/>
                </a:lnTo>
                <a:lnTo>
                  <a:pt x="0" y="1554"/>
                </a:lnTo>
                <a:lnTo>
                  <a:pt x="1" y="1552"/>
                </a:lnTo>
                <a:lnTo>
                  <a:pt x="1" y="1550"/>
                </a:lnTo>
                <a:lnTo>
                  <a:pt x="3" y="1546"/>
                </a:lnTo>
                <a:lnTo>
                  <a:pt x="5" y="1544"/>
                </a:lnTo>
                <a:lnTo>
                  <a:pt x="7" y="1541"/>
                </a:lnTo>
                <a:lnTo>
                  <a:pt x="11" y="1537"/>
                </a:lnTo>
                <a:lnTo>
                  <a:pt x="15" y="1533"/>
                </a:lnTo>
                <a:lnTo>
                  <a:pt x="19" y="1529"/>
                </a:lnTo>
                <a:lnTo>
                  <a:pt x="23" y="1523"/>
                </a:lnTo>
                <a:lnTo>
                  <a:pt x="28" y="1519"/>
                </a:lnTo>
                <a:lnTo>
                  <a:pt x="34" y="1514"/>
                </a:lnTo>
                <a:lnTo>
                  <a:pt x="40" y="1508"/>
                </a:lnTo>
                <a:lnTo>
                  <a:pt x="48" y="1502"/>
                </a:lnTo>
                <a:lnTo>
                  <a:pt x="55" y="1496"/>
                </a:lnTo>
                <a:lnTo>
                  <a:pt x="63" y="1489"/>
                </a:lnTo>
                <a:lnTo>
                  <a:pt x="71" y="1483"/>
                </a:lnTo>
                <a:lnTo>
                  <a:pt x="80" y="1475"/>
                </a:lnTo>
                <a:lnTo>
                  <a:pt x="90" y="1468"/>
                </a:lnTo>
                <a:lnTo>
                  <a:pt x="99" y="1460"/>
                </a:lnTo>
                <a:lnTo>
                  <a:pt x="109" y="1452"/>
                </a:lnTo>
                <a:lnTo>
                  <a:pt x="120" y="1445"/>
                </a:lnTo>
                <a:lnTo>
                  <a:pt x="132" y="1437"/>
                </a:lnTo>
                <a:lnTo>
                  <a:pt x="144" y="1427"/>
                </a:lnTo>
                <a:lnTo>
                  <a:pt x="157" y="1420"/>
                </a:lnTo>
                <a:lnTo>
                  <a:pt x="170" y="1410"/>
                </a:lnTo>
                <a:lnTo>
                  <a:pt x="184" y="1400"/>
                </a:lnTo>
                <a:lnTo>
                  <a:pt x="197" y="1391"/>
                </a:lnTo>
                <a:lnTo>
                  <a:pt x="211" y="1381"/>
                </a:lnTo>
                <a:lnTo>
                  <a:pt x="226" y="1370"/>
                </a:lnTo>
                <a:lnTo>
                  <a:pt x="241" y="136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Freeform 43"/>
          <p:cNvSpPr/>
          <p:nvPr/>
        </p:nvSpPr>
        <p:spPr>
          <a:xfrm>
            <a:off x="6516720" y="3429000"/>
            <a:ext cx="1222200" cy="266760"/>
          </a:xfrm>
          <a:custGeom>
            <a:avLst/>
            <a:gdLst/>
            <a:ahLst/>
            <a:rect l="l" t="t" r="r" b="b"/>
            <a:pathLst>
              <a:path w="1542" h="336">
                <a:moveTo>
                  <a:pt x="1480" y="160"/>
                </a:moveTo>
                <a:lnTo>
                  <a:pt x="1475" y="160"/>
                </a:lnTo>
                <a:lnTo>
                  <a:pt x="1465" y="160"/>
                </a:lnTo>
                <a:lnTo>
                  <a:pt x="1457" y="160"/>
                </a:lnTo>
                <a:lnTo>
                  <a:pt x="1448" y="160"/>
                </a:lnTo>
                <a:lnTo>
                  <a:pt x="1436" y="160"/>
                </a:lnTo>
                <a:lnTo>
                  <a:pt x="1425" y="160"/>
                </a:lnTo>
                <a:lnTo>
                  <a:pt x="1413" y="160"/>
                </a:lnTo>
                <a:lnTo>
                  <a:pt x="1400" y="161"/>
                </a:lnTo>
                <a:lnTo>
                  <a:pt x="1386" y="161"/>
                </a:lnTo>
                <a:lnTo>
                  <a:pt x="1371" y="161"/>
                </a:lnTo>
                <a:lnTo>
                  <a:pt x="1356" y="163"/>
                </a:lnTo>
                <a:lnTo>
                  <a:pt x="1338" y="165"/>
                </a:lnTo>
                <a:lnTo>
                  <a:pt x="1321" y="165"/>
                </a:lnTo>
                <a:lnTo>
                  <a:pt x="1304" y="167"/>
                </a:lnTo>
                <a:lnTo>
                  <a:pt x="1285" y="169"/>
                </a:lnTo>
                <a:lnTo>
                  <a:pt x="1263" y="171"/>
                </a:lnTo>
                <a:lnTo>
                  <a:pt x="1183" y="181"/>
                </a:lnTo>
                <a:lnTo>
                  <a:pt x="1102" y="190"/>
                </a:lnTo>
                <a:lnTo>
                  <a:pt x="1020" y="200"/>
                </a:lnTo>
                <a:lnTo>
                  <a:pt x="939" y="209"/>
                </a:lnTo>
                <a:lnTo>
                  <a:pt x="918" y="211"/>
                </a:lnTo>
                <a:lnTo>
                  <a:pt x="897" y="215"/>
                </a:lnTo>
                <a:lnTo>
                  <a:pt x="874" y="219"/>
                </a:lnTo>
                <a:lnTo>
                  <a:pt x="849" y="223"/>
                </a:lnTo>
                <a:lnTo>
                  <a:pt x="824" y="227"/>
                </a:lnTo>
                <a:lnTo>
                  <a:pt x="797" y="232"/>
                </a:lnTo>
                <a:lnTo>
                  <a:pt x="770" y="236"/>
                </a:lnTo>
                <a:lnTo>
                  <a:pt x="743" y="242"/>
                </a:lnTo>
                <a:lnTo>
                  <a:pt x="712" y="248"/>
                </a:lnTo>
                <a:lnTo>
                  <a:pt x="684" y="255"/>
                </a:lnTo>
                <a:lnTo>
                  <a:pt x="651" y="261"/>
                </a:lnTo>
                <a:lnTo>
                  <a:pt x="620" y="267"/>
                </a:lnTo>
                <a:lnTo>
                  <a:pt x="586" y="275"/>
                </a:lnTo>
                <a:lnTo>
                  <a:pt x="553" y="280"/>
                </a:lnTo>
                <a:lnTo>
                  <a:pt x="519" y="288"/>
                </a:lnTo>
                <a:lnTo>
                  <a:pt x="482" y="296"/>
                </a:lnTo>
                <a:lnTo>
                  <a:pt x="465" y="298"/>
                </a:lnTo>
                <a:lnTo>
                  <a:pt x="448" y="302"/>
                </a:lnTo>
                <a:lnTo>
                  <a:pt x="430" y="305"/>
                </a:lnTo>
                <a:lnTo>
                  <a:pt x="413" y="307"/>
                </a:lnTo>
                <a:lnTo>
                  <a:pt x="398" y="311"/>
                </a:lnTo>
                <a:lnTo>
                  <a:pt x="382" y="313"/>
                </a:lnTo>
                <a:lnTo>
                  <a:pt x="353" y="319"/>
                </a:lnTo>
                <a:lnTo>
                  <a:pt x="327" y="323"/>
                </a:lnTo>
                <a:lnTo>
                  <a:pt x="300" y="326"/>
                </a:lnTo>
                <a:lnTo>
                  <a:pt x="277" y="330"/>
                </a:lnTo>
                <a:lnTo>
                  <a:pt x="256" y="332"/>
                </a:lnTo>
                <a:lnTo>
                  <a:pt x="234" y="334"/>
                </a:lnTo>
                <a:lnTo>
                  <a:pt x="217" y="336"/>
                </a:lnTo>
                <a:lnTo>
                  <a:pt x="200" y="336"/>
                </a:lnTo>
                <a:lnTo>
                  <a:pt x="186" y="336"/>
                </a:lnTo>
                <a:lnTo>
                  <a:pt x="173" y="336"/>
                </a:lnTo>
                <a:lnTo>
                  <a:pt x="161" y="336"/>
                </a:lnTo>
                <a:lnTo>
                  <a:pt x="152" y="334"/>
                </a:lnTo>
                <a:lnTo>
                  <a:pt x="146" y="332"/>
                </a:lnTo>
                <a:lnTo>
                  <a:pt x="131" y="326"/>
                </a:lnTo>
                <a:lnTo>
                  <a:pt x="115" y="321"/>
                </a:lnTo>
                <a:lnTo>
                  <a:pt x="100" y="313"/>
                </a:lnTo>
                <a:lnTo>
                  <a:pt x="83" y="303"/>
                </a:lnTo>
                <a:lnTo>
                  <a:pt x="64" y="294"/>
                </a:lnTo>
                <a:lnTo>
                  <a:pt x="44" y="284"/>
                </a:lnTo>
                <a:lnTo>
                  <a:pt x="23" y="271"/>
                </a:lnTo>
                <a:lnTo>
                  <a:pt x="0" y="257"/>
                </a:lnTo>
                <a:lnTo>
                  <a:pt x="48" y="250"/>
                </a:lnTo>
                <a:lnTo>
                  <a:pt x="96" y="242"/>
                </a:lnTo>
                <a:lnTo>
                  <a:pt x="192" y="227"/>
                </a:lnTo>
                <a:lnTo>
                  <a:pt x="288" y="207"/>
                </a:lnTo>
                <a:lnTo>
                  <a:pt x="386" y="186"/>
                </a:lnTo>
                <a:lnTo>
                  <a:pt x="484" y="165"/>
                </a:lnTo>
                <a:lnTo>
                  <a:pt x="580" y="144"/>
                </a:lnTo>
                <a:lnTo>
                  <a:pt x="676" y="121"/>
                </a:lnTo>
                <a:lnTo>
                  <a:pt x="772" y="98"/>
                </a:lnTo>
                <a:lnTo>
                  <a:pt x="795" y="92"/>
                </a:lnTo>
                <a:lnTo>
                  <a:pt x="818" y="87"/>
                </a:lnTo>
                <a:lnTo>
                  <a:pt x="839" y="81"/>
                </a:lnTo>
                <a:lnTo>
                  <a:pt x="862" y="75"/>
                </a:lnTo>
                <a:lnTo>
                  <a:pt x="883" y="71"/>
                </a:lnTo>
                <a:lnTo>
                  <a:pt x="904" y="65"/>
                </a:lnTo>
                <a:lnTo>
                  <a:pt x="924" y="60"/>
                </a:lnTo>
                <a:lnTo>
                  <a:pt x="945" y="56"/>
                </a:lnTo>
                <a:lnTo>
                  <a:pt x="964" y="52"/>
                </a:lnTo>
                <a:lnTo>
                  <a:pt x="983" y="46"/>
                </a:lnTo>
                <a:lnTo>
                  <a:pt x="1000" y="42"/>
                </a:lnTo>
                <a:lnTo>
                  <a:pt x="1018" y="39"/>
                </a:lnTo>
                <a:lnTo>
                  <a:pt x="1035" y="35"/>
                </a:lnTo>
                <a:lnTo>
                  <a:pt x="1052" y="31"/>
                </a:lnTo>
                <a:lnTo>
                  <a:pt x="1068" y="29"/>
                </a:lnTo>
                <a:lnTo>
                  <a:pt x="1083" y="25"/>
                </a:lnTo>
                <a:lnTo>
                  <a:pt x="1098" y="21"/>
                </a:lnTo>
                <a:lnTo>
                  <a:pt x="1114" y="19"/>
                </a:lnTo>
                <a:lnTo>
                  <a:pt x="1127" y="16"/>
                </a:lnTo>
                <a:lnTo>
                  <a:pt x="1141" y="14"/>
                </a:lnTo>
                <a:lnTo>
                  <a:pt x="1152" y="12"/>
                </a:lnTo>
                <a:lnTo>
                  <a:pt x="1166" y="10"/>
                </a:lnTo>
                <a:lnTo>
                  <a:pt x="1177" y="8"/>
                </a:lnTo>
                <a:lnTo>
                  <a:pt x="1187" y="6"/>
                </a:lnTo>
                <a:lnTo>
                  <a:pt x="1198" y="4"/>
                </a:lnTo>
                <a:lnTo>
                  <a:pt x="1208" y="2"/>
                </a:lnTo>
                <a:lnTo>
                  <a:pt x="1215" y="2"/>
                </a:lnTo>
                <a:lnTo>
                  <a:pt x="1225" y="0"/>
                </a:lnTo>
                <a:lnTo>
                  <a:pt x="1233" y="0"/>
                </a:lnTo>
                <a:lnTo>
                  <a:pt x="1240" y="0"/>
                </a:lnTo>
                <a:lnTo>
                  <a:pt x="1246" y="0"/>
                </a:lnTo>
                <a:lnTo>
                  <a:pt x="1252" y="0"/>
                </a:lnTo>
                <a:lnTo>
                  <a:pt x="1275" y="0"/>
                </a:lnTo>
                <a:lnTo>
                  <a:pt x="1300" y="2"/>
                </a:lnTo>
                <a:lnTo>
                  <a:pt x="1323" y="6"/>
                </a:lnTo>
                <a:lnTo>
                  <a:pt x="1348" y="10"/>
                </a:lnTo>
                <a:lnTo>
                  <a:pt x="1373" y="16"/>
                </a:lnTo>
                <a:lnTo>
                  <a:pt x="1386" y="21"/>
                </a:lnTo>
                <a:lnTo>
                  <a:pt x="1398" y="25"/>
                </a:lnTo>
                <a:lnTo>
                  <a:pt x="1409" y="31"/>
                </a:lnTo>
                <a:lnTo>
                  <a:pt x="1423" y="35"/>
                </a:lnTo>
                <a:lnTo>
                  <a:pt x="1434" y="42"/>
                </a:lnTo>
                <a:lnTo>
                  <a:pt x="1446" y="48"/>
                </a:lnTo>
                <a:lnTo>
                  <a:pt x="1455" y="56"/>
                </a:lnTo>
                <a:lnTo>
                  <a:pt x="1467" y="62"/>
                </a:lnTo>
                <a:lnTo>
                  <a:pt x="1477" y="67"/>
                </a:lnTo>
                <a:lnTo>
                  <a:pt x="1484" y="73"/>
                </a:lnTo>
                <a:lnTo>
                  <a:pt x="1494" y="79"/>
                </a:lnTo>
                <a:lnTo>
                  <a:pt x="1501" y="85"/>
                </a:lnTo>
                <a:lnTo>
                  <a:pt x="1509" y="90"/>
                </a:lnTo>
                <a:lnTo>
                  <a:pt x="1515" y="94"/>
                </a:lnTo>
                <a:lnTo>
                  <a:pt x="1521" y="100"/>
                </a:lnTo>
                <a:lnTo>
                  <a:pt x="1526" y="104"/>
                </a:lnTo>
                <a:lnTo>
                  <a:pt x="1530" y="108"/>
                </a:lnTo>
                <a:lnTo>
                  <a:pt x="1534" y="112"/>
                </a:lnTo>
                <a:lnTo>
                  <a:pt x="1538" y="113"/>
                </a:lnTo>
                <a:lnTo>
                  <a:pt x="1540" y="117"/>
                </a:lnTo>
                <a:lnTo>
                  <a:pt x="1540" y="119"/>
                </a:lnTo>
                <a:lnTo>
                  <a:pt x="1542" y="123"/>
                </a:lnTo>
                <a:lnTo>
                  <a:pt x="1540" y="127"/>
                </a:lnTo>
                <a:lnTo>
                  <a:pt x="1540" y="131"/>
                </a:lnTo>
                <a:lnTo>
                  <a:pt x="1538" y="135"/>
                </a:lnTo>
                <a:lnTo>
                  <a:pt x="1536" y="138"/>
                </a:lnTo>
                <a:lnTo>
                  <a:pt x="1534" y="142"/>
                </a:lnTo>
                <a:lnTo>
                  <a:pt x="1532" y="144"/>
                </a:lnTo>
                <a:lnTo>
                  <a:pt x="1525" y="150"/>
                </a:lnTo>
                <a:lnTo>
                  <a:pt x="1515" y="154"/>
                </a:lnTo>
                <a:lnTo>
                  <a:pt x="1505" y="158"/>
                </a:lnTo>
                <a:lnTo>
                  <a:pt x="1494" y="160"/>
                </a:lnTo>
                <a:lnTo>
                  <a:pt x="1480" y="16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Freeform 44"/>
          <p:cNvSpPr/>
          <p:nvPr/>
        </p:nvSpPr>
        <p:spPr>
          <a:xfrm>
            <a:off x="6486480" y="3614760"/>
            <a:ext cx="631800" cy="950760"/>
          </a:xfrm>
          <a:custGeom>
            <a:avLst/>
            <a:gdLst/>
            <a:ahLst/>
            <a:rect l="l" t="t" r="r" b="b"/>
            <a:pathLst>
              <a:path w="795" h="1198">
                <a:moveTo>
                  <a:pt x="157" y="1108"/>
                </a:moveTo>
                <a:lnTo>
                  <a:pt x="140" y="1119"/>
                </a:lnTo>
                <a:lnTo>
                  <a:pt x="123" y="1131"/>
                </a:lnTo>
                <a:lnTo>
                  <a:pt x="109" y="1140"/>
                </a:lnTo>
                <a:lnTo>
                  <a:pt x="94" y="1150"/>
                </a:lnTo>
                <a:lnTo>
                  <a:pt x="80" y="1158"/>
                </a:lnTo>
                <a:lnTo>
                  <a:pt x="69" y="1167"/>
                </a:lnTo>
                <a:lnTo>
                  <a:pt x="57" y="1173"/>
                </a:lnTo>
                <a:lnTo>
                  <a:pt x="48" y="1179"/>
                </a:lnTo>
                <a:lnTo>
                  <a:pt x="38" y="1184"/>
                </a:lnTo>
                <a:lnTo>
                  <a:pt x="30" y="1188"/>
                </a:lnTo>
                <a:lnTo>
                  <a:pt x="23" y="1192"/>
                </a:lnTo>
                <a:lnTo>
                  <a:pt x="17" y="1196"/>
                </a:lnTo>
                <a:lnTo>
                  <a:pt x="11" y="1196"/>
                </a:lnTo>
                <a:lnTo>
                  <a:pt x="7" y="1198"/>
                </a:lnTo>
                <a:lnTo>
                  <a:pt x="4" y="1196"/>
                </a:lnTo>
                <a:lnTo>
                  <a:pt x="2" y="1194"/>
                </a:lnTo>
                <a:lnTo>
                  <a:pt x="0" y="1192"/>
                </a:lnTo>
                <a:lnTo>
                  <a:pt x="0" y="1188"/>
                </a:lnTo>
                <a:lnTo>
                  <a:pt x="0" y="1184"/>
                </a:lnTo>
                <a:lnTo>
                  <a:pt x="2" y="1179"/>
                </a:lnTo>
                <a:lnTo>
                  <a:pt x="4" y="1171"/>
                </a:lnTo>
                <a:lnTo>
                  <a:pt x="7" y="1165"/>
                </a:lnTo>
                <a:lnTo>
                  <a:pt x="13" y="1156"/>
                </a:lnTo>
                <a:lnTo>
                  <a:pt x="19" y="1146"/>
                </a:lnTo>
                <a:lnTo>
                  <a:pt x="27" y="1136"/>
                </a:lnTo>
                <a:lnTo>
                  <a:pt x="34" y="1125"/>
                </a:lnTo>
                <a:lnTo>
                  <a:pt x="44" y="1113"/>
                </a:lnTo>
                <a:lnTo>
                  <a:pt x="55" y="1100"/>
                </a:lnTo>
                <a:lnTo>
                  <a:pt x="67" y="1085"/>
                </a:lnTo>
                <a:lnTo>
                  <a:pt x="80" y="1069"/>
                </a:lnTo>
                <a:lnTo>
                  <a:pt x="94" y="1052"/>
                </a:lnTo>
                <a:lnTo>
                  <a:pt x="109" y="1035"/>
                </a:lnTo>
                <a:lnTo>
                  <a:pt x="125" y="1017"/>
                </a:lnTo>
                <a:lnTo>
                  <a:pt x="142" y="1000"/>
                </a:lnTo>
                <a:lnTo>
                  <a:pt x="157" y="981"/>
                </a:lnTo>
                <a:lnTo>
                  <a:pt x="174" y="962"/>
                </a:lnTo>
                <a:lnTo>
                  <a:pt x="192" y="943"/>
                </a:lnTo>
                <a:lnTo>
                  <a:pt x="209" y="922"/>
                </a:lnTo>
                <a:lnTo>
                  <a:pt x="226" y="900"/>
                </a:lnTo>
                <a:lnTo>
                  <a:pt x="244" y="877"/>
                </a:lnTo>
                <a:lnTo>
                  <a:pt x="261" y="854"/>
                </a:lnTo>
                <a:lnTo>
                  <a:pt x="278" y="829"/>
                </a:lnTo>
                <a:lnTo>
                  <a:pt x="297" y="804"/>
                </a:lnTo>
                <a:lnTo>
                  <a:pt x="315" y="778"/>
                </a:lnTo>
                <a:lnTo>
                  <a:pt x="332" y="751"/>
                </a:lnTo>
                <a:lnTo>
                  <a:pt x="351" y="724"/>
                </a:lnTo>
                <a:lnTo>
                  <a:pt x="368" y="695"/>
                </a:lnTo>
                <a:lnTo>
                  <a:pt x="386" y="664"/>
                </a:lnTo>
                <a:lnTo>
                  <a:pt x="403" y="634"/>
                </a:lnTo>
                <a:lnTo>
                  <a:pt x="422" y="601"/>
                </a:lnTo>
                <a:lnTo>
                  <a:pt x="439" y="568"/>
                </a:lnTo>
                <a:lnTo>
                  <a:pt x="457" y="532"/>
                </a:lnTo>
                <a:lnTo>
                  <a:pt x="472" y="495"/>
                </a:lnTo>
                <a:lnTo>
                  <a:pt x="489" y="459"/>
                </a:lnTo>
                <a:lnTo>
                  <a:pt x="507" y="419"/>
                </a:lnTo>
                <a:lnTo>
                  <a:pt x="522" y="378"/>
                </a:lnTo>
                <a:lnTo>
                  <a:pt x="539" y="336"/>
                </a:lnTo>
                <a:lnTo>
                  <a:pt x="556" y="292"/>
                </a:lnTo>
                <a:lnTo>
                  <a:pt x="572" y="246"/>
                </a:lnTo>
                <a:lnTo>
                  <a:pt x="587" y="200"/>
                </a:lnTo>
                <a:lnTo>
                  <a:pt x="604" y="152"/>
                </a:lnTo>
                <a:lnTo>
                  <a:pt x="620" y="102"/>
                </a:lnTo>
                <a:lnTo>
                  <a:pt x="635" y="52"/>
                </a:lnTo>
                <a:lnTo>
                  <a:pt x="651" y="0"/>
                </a:lnTo>
                <a:lnTo>
                  <a:pt x="668" y="16"/>
                </a:lnTo>
                <a:lnTo>
                  <a:pt x="685" y="31"/>
                </a:lnTo>
                <a:lnTo>
                  <a:pt x="699" y="46"/>
                </a:lnTo>
                <a:lnTo>
                  <a:pt x="714" y="60"/>
                </a:lnTo>
                <a:lnTo>
                  <a:pt x="727" y="73"/>
                </a:lnTo>
                <a:lnTo>
                  <a:pt x="739" y="87"/>
                </a:lnTo>
                <a:lnTo>
                  <a:pt x="748" y="98"/>
                </a:lnTo>
                <a:lnTo>
                  <a:pt x="758" y="110"/>
                </a:lnTo>
                <a:lnTo>
                  <a:pt x="768" y="121"/>
                </a:lnTo>
                <a:lnTo>
                  <a:pt x="775" y="133"/>
                </a:lnTo>
                <a:lnTo>
                  <a:pt x="781" y="142"/>
                </a:lnTo>
                <a:lnTo>
                  <a:pt x="787" y="152"/>
                </a:lnTo>
                <a:lnTo>
                  <a:pt x="791" y="162"/>
                </a:lnTo>
                <a:lnTo>
                  <a:pt x="793" y="169"/>
                </a:lnTo>
                <a:lnTo>
                  <a:pt x="795" y="177"/>
                </a:lnTo>
                <a:lnTo>
                  <a:pt x="795" y="185"/>
                </a:lnTo>
                <a:lnTo>
                  <a:pt x="795" y="192"/>
                </a:lnTo>
                <a:lnTo>
                  <a:pt x="795" y="200"/>
                </a:lnTo>
                <a:lnTo>
                  <a:pt x="793" y="210"/>
                </a:lnTo>
                <a:lnTo>
                  <a:pt x="791" y="219"/>
                </a:lnTo>
                <a:lnTo>
                  <a:pt x="787" y="231"/>
                </a:lnTo>
                <a:lnTo>
                  <a:pt x="783" y="242"/>
                </a:lnTo>
                <a:lnTo>
                  <a:pt x="779" y="256"/>
                </a:lnTo>
                <a:lnTo>
                  <a:pt x="775" y="269"/>
                </a:lnTo>
                <a:lnTo>
                  <a:pt x="770" y="284"/>
                </a:lnTo>
                <a:lnTo>
                  <a:pt x="764" y="300"/>
                </a:lnTo>
                <a:lnTo>
                  <a:pt x="756" y="317"/>
                </a:lnTo>
                <a:lnTo>
                  <a:pt x="748" y="334"/>
                </a:lnTo>
                <a:lnTo>
                  <a:pt x="741" y="353"/>
                </a:lnTo>
                <a:lnTo>
                  <a:pt x="731" y="375"/>
                </a:lnTo>
                <a:lnTo>
                  <a:pt x="722" y="396"/>
                </a:lnTo>
                <a:lnTo>
                  <a:pt x="712" y="419"/>
                </a:lnTo>
                <a:lnTo>
                  <a:pt x="689" y="465"/>
                </a:lnTo>
                <a:lnTo>
                  <a:pt x="664" y="511"/>
                </a:lnTo>
                <a:lnTo>
                  <a:pt x="651" y="534"/>
                </a:lnTo>
                <a:lnTo>
                  <a:pt x="637" y="557"/>
                </a:lnTo>
                <a:lnTo>
                  <a:pt x="624" y="580"/>
                </a:lnTo>
                <a:lnTo>
                  <a:pt x="608" y="605"/>
                </a:lnTo>
                <a:lnTo>
                  <a:pt x="593" y="628"/>
                </a:lnTo>
                <a:lnTo>
                  <a:pt x="578" y="653"/>
                </a:lnTo>
                <a:lnTo>
                  <a:pt x="562" y="676"/>
                </a:lnTo>
                <a:lnTo>
                  <a:pt x="545" y="701"/>
                </a:lnTo>
                <a:lnTo>
                  <a:pt x="528" y="724"/>
                </a:lnTo>
                <a:lnTo>
                  <a:pt x="508" y="749"/>
                </a:lnTo>
                <a:lnTo>
                  <a:pt x="489" y="776"/>
                </a:lnTo>
                <a:lnTo>
                  <a:pt x="470" y="801"/>
                </a:lnTo>
                <a:lnTo>
                  <a:pt x="451" y="826"/>
                </a:lnTo>
                <a:lnTo>
                  <a:pt x="430" y="851"/>
                </a:lnTo>
                <a:lnTo>
                  <a:pt x="411" y="874"/>
                </a:lnTo>
                <a:lnTo>
                  <a:pt x="391" y="897"/>
                </a:lnTo>
                <a:lnTo>
                  <a:pt x="372" y="920"/>
                </a:lnTo>
                <a:lnTo>
                  <a:pt x="353" y="941"/>
                </a:lnTo>
                <a:lnTo>
                  <a:pt x="334" y="962"/>
                </a:lnTo>
                <a:lnTo>
                  <a:pt x="315" y="983"/>
                </a:lnTo>
                <a:lnTo>
                  <a:pt x="295" y="1002"/>
                </a:lnTo>
                <a:lnTo>
                  <a:pt x="276" y="1019"/>
                </a:lnTo>
                <a:lnTo>
                  <a:pt x="257" y="1037"/>
                </a:lnTo>
                <a:lnTo>
                  <a:pt x="236" y="1054"/>
                </a:lnTo>
                <a:lnTo>
                  <a:pt x="217" y="1067"/>
                </a:lnTo>
                <a:lnTo>
                  <a:pt x="197" y="1083"/>
                </a:lnTo>
                <a:lnTo>
                  <a:pt x="178" y="1096"/>
                </a:lnTo>
                <a:lnTo>
                  <a:pt x="157" y="110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Freeform 45"/>
          <p:cNvSpPr/>
          <p:nvPr/>
        </p:nvSpPr>
        <p:spPr>
          <a:xfrm>
            <a:off x="5465880" y="3681360"/>
            <a:ext cx="946080" cy="295200"/>
          </a:xfrm>
          <a:custGeom>
            <a:avLst/>
            <a:gdLst/>
            <a:ahLst/>
            <a:rect l="l" t="t" r="r" b="b"/>
            <a:pathLst>
              <a:path w="1192" h="370">
                <a:moveTo>
                  <a:pt x="577" y="100"/>
                </a:moveTo>
                <a:lnTo>
                  <a:pt x="629" y="88"/>
                </a:lnTo>
                <a:lnTo>
                  <a:pt x="677" y="77"/>
                </a:lnTo>
                <a:lnTo>
                  <a:pt x="725" y="67"/>
                </a:lnTo>
                <a:lnTo>
                  <a:pt x="771" y="57"/>
                </a:lnTo>
                <a:lnTo>
                  <a:pt x="815" y="48"/>
                </a:lnTo>
                <a:lnTo>
                  <a:pt x="858" y="40"/>
                </a:lnTo>
                <a:lnTo>
                  <a:pt x="898" y="32"/>
                </a:lnTo>
                <a:lnTo>
                  <a:pt x="938" y="27"/>
                </a:lnTo>
                <a:lnTo>
                  <a:pt x="975" y="21"/>
                </a:lnTo>
                <a:lnTo>
                  <a:pt x="1011" y="15"/>
                </a:lnTo>
                <a:lnTo>
                  <a:pt x="1046" y="11"/>
                </a:lnTo>
                <a:lnTo>
                  <a:pt x="1078" y="7"/>
                </a:lnTo>
                <a:lnTo>
                  <a:pt x="1109" y="4"/>
                </a:lnTo>
                <a:lnTo>
                  <a:pt x="1138" y="2"/>
                </a:lnTo>
                <a:lnTo>
                  <a:pt x="1165" y="0"/>
                </a:lnTo>
                <a:lnTo>
                  <a:pt x="1192" y="0"/>
                </a:lnTo>
                <a:lnTo>
                  <a:pt x="1192" y="55"/>
                </a:lnTo>
                <a:lnTo>
                  <a:pt x="1192" y="111"/>
                </a:lnTo>
                <a:lnTo>
                  <a:pt x="1149" y="113"/>
                </a:lnTo>
                <a:lnTo>
                  <a:pt x="1107" y="115"/>
                </a:lnTo>
                <a:lnTo>
                  <a:pt x="1063" y="117"/>
                </a:lnTo>
                <a:lnTo>
                  <a:pt x="1019" y="123"/>
                </a:lnTo>
                <a:lnTo>
                  <a:pt x="996" y="125"/>
                </a:lnTo>
                <a:lnTo>
                  <a:pt x="973" y="128"/>
                </a:lnTo>
                <a:lnTo>
                  <a:pt x="950" y="132"/>
                </a:lnTo>
                <a:lnTo>
                  <a:pt x="927" y="138"/>
                </a:lnTo>
                <a:lnTo>
                  <a:pt x="904" y="142"/>
                </a:lnTo>
                <a:lnTo>
                  <a:pt x="879" y="148"/>
                </a:lnTo>
                <a:lnTo>
                  <a:pt x="854" y="153"/>
                </a:lnTo>
                <a:lnTo>
                  <a:pt x="831" y="161"/>
                </a:lnTo>
                <a:lnTo>
                  <a:pt x="777" y="174"/>
                </a:lnTo>
                <a:lnTo>
                  <a:pt x="723" y="190"/>
                </a:lnTo>
                <a:lnTo>
                  <a:pt x="671" y="203"/>
                </a:lnTo>
                <a:lnTo>
                  <a:pt x="622" y="219"/>
                </a:lnTo>
                <a:lnTo>
                  <a:pt x="570" y="232"/>
                </a:lnTo>
                <a:lnTo>
                  <a:pt x="520" y="249"/>
                </a:lnTo>
                <a:lnTo>
                  <a:pt x="470" y="267"/>
                </a:lnTo>
                <a:lnTo>
                  <a:pt x="422" y="284"/>
                </a:lnTo>
                <a:lnTo>
                  <a:pt x="397" y="295"/>
                </a:lnTo>
                <a:lnTo>
                  <a:pt x="374" y="305"/>
                </a:lnTo>
                <a:lnTo>
                  <a:pt x="353" y="315"/>
                </a:lnTo>
                <a:lnTo>
                  <a:pt x="334" y="324"/>
                </a:lnTo>
                <a:lnTo>
                  <a:pt x="314" y="332"/>
                </a:lnTo>
                <a:lnTo>
                  <a:pt x="297" y="339"/>
                </a:lnTo>
                <a:lnTo>
                  <a:pt x="280" y="345"/>
                </a:lnTo>
                <a:lnTo>
                  <a:pt x="264" y="351"/>
                </a:lnTo>
                <a:lnTo>
                  <a:pt x="251" y="355"/>
                </a:lnTo>
                <a:lnTo>
                  <a:pt x="238" y="359"/>
                </a:lnTo>
                <a:lnTo>
                  <a:pt x="226" y="363"/>
                </a:lnTo>
                <a:lnTo>
                  <a:pt x="215" y="366"/>
                </a:lnTo>
                <a:lnTo>
                  <a:pt x="205" y="368"/>
                </a:lnTo>
                <a:lnTo>
                  <a:pt x="195" y="368"/>
                </a:lnTo>
                <a:lnTo>
                  <a:pt x="188" y="370"/>
                </a:lnTo>
                <a:lnTo>
                  <a:pt x="180" y="370"/>
                </a:lnTo>
                <a:lnTo>
                  <a:pt x="172" y="370"/>
                </a:lnTo>
                <a:lnTo>
                  <a:pt x="167" y="368"/>
                </a:lnTo>
                <a:lnTo>
                  <a:pt x="159" y="368"/>
                </a:lnTo>
                <a:lnTo>
                  <a:pt x="153" y="366"/>
                </a:lnTo>
                <a:lnTo>
                  <a:pt x="145" y="363"/>
                </a:lnTo>
                <a:lnTo>
                  <a:pt x="138" y="359"/>
                </a:lnTo>
                <a:lnTo>
                  <a:pt x="132" y="355"/>
                </a:lnTo>
                <a:lnTo>
                  <a:pt x="124" y="351"/>
                </a:lnTo>
                <a:lnTo>
                  <a:pt x="117" y="345"/>
                </a:lnTo>
                <a:lnTo>
                  <a:pt x="109" y="339"/>
                </a:lnTo>
                <a:lnTo>
                  <a:pt x="101" y="332"/>
                </a:lnTo>
                <a:lnTo>
                  <a:pt x="94" y="324"/>
                </a:lnTo>
                <a:lnTo>
                  <a:pt x="86" y="315"/>
                </a:lnTo>
                <a:lnTo>
                  <a:pt x="76" y="305"/>
                </a:lnTo>
                <a:lnTo>
                  <a:pt x="69" y="295"/>
                </a:lnTo>
                <a:lnTo>
                  <a:pt x="61" y="284"/>
                </a:lnTo>
                <a:lnTo>
                  <a:pt x="49" y="272"/>
                </a:lnTo>
                <a:lnTo>
                  <a:pt x="40" y="263"/>
                </a:lnTo>
                <a:lnTo>
                  <a:pt x="32" y="251"/>
                </a:lnTo>
                <a:lnTo>
                  <a:pt x="24" y="242"/>
                </a:lnTo>
                <a:lnTo>
                  <a:pt x="17" y="234"/>
                </a:lnTo>
                <a:lnTo>
                  <a:pt x="13" y="224"/>
                </a:lnTo>
                <a:lnTo>
                  <a:pt x="7" y="217"/>
                </a:lnTo>
                <a:lnTo>
                  <a:pt x="5" y="209"/>
                </a:lnTo>
                <a:lnTo>
                  <a:pt x="1" y="203"/>
                </a:lnTo>
                <a:lnTo>
                  <a:pt x="1" y="197"/>
                </a:lnTo>
                <a:lnTo>
                  <a:pt x="0" y="192"/>
                </a:lnTo>
                <a:lnTo>
                  <a:pt x="1" y="188"/>
                </a:lnTo>
                <a:lnTo>
                  <a:pt x="1" y="182"/>
                </a:lnTo>
                <a:lnTo>
                  <a:pt x="3" y="178"/>
                </a:lnTo>
                <a:lnTo>
                  <a:pt x="7" y="176"/>
                </a:lnTo>
                <a:lnTo>
                  <a:pt x="11" y="173"/>
                </a:lnTo>
                <a:lnTo>
                  <a:pt x="15" y="171"/>
                </a:lnTo>
                <a:lnTo>
                  <a:pt x="17" y="169"/>
                </a:lnTo>
                <a:lnTo>
                  <a:pt x="21" y="167"/>
                </a:lnTo>
                <a:lnTo>
                  <a:pt x="24" y="167"/>
                </a:lnTo>
                <a:lnTo>
                  <a:pt x="34" y="165"/>
                </a:lnTo>
                <a:lnTo>
                  <a:pt x="46" y="163"/>
                </a:lnTo>
                <a:lnTo>
                  <a:pt x="57" y="165"/>
                </a:lnTo>
                <a:lnTo>
                  <a:pt x="69" y="167"/>
                </a:lnTo>
                <a:lnTo>
                  <a:pt x="82" y="169"/>
                </a:lnTo>
                <a:lnTo>
                  <a:pt x="96" y="173"/>
                </a:lnTo>
                <a:lnTo>
                  <a:pt x="99" y="174"/>
                </a:lnTo>
                <a:lnTo>
                  <a:pt x="105" y="174"/>
                </a:lnTo>
                <a:lnTo>
                  <a:pt x="109" y="176"/>
                </a:lnTo>
                <a:lnTo>
                  <a:pt x="117" y="176"/>
                </a:lnTo>
                <a:lnTo>
                  <a:pt x="122" y="176"/>
                </a:lnTo>
                <a:lnTo>
                  <a:pt x="130" y="176"/>
                </a:lnTo>
                <a:lnTo>
                  <a:pt x="138" y="176"/>
                </a:lnTo>
                <a:lnTo>
                  <a:pt x="147" y="176"/>
                </a:lnTo>
                <a:lnTo>
                  <a:pt x="157" y="174"/>
                </a:lnTo>
                <a:lnTo>
                  <a:pt x="168" y="174"/>
                </a:lnTo>
                <a:lnTo>
                  <a:pt x="180" y="173"/>
                </a:lnTo>
                <a:lnTo>
                  <a:pt x="192" y="173"/>
                </a:lnTo>
                <a:lnTo>
                  <a:pt x="205" y="171"/>
                </a:lnTo>
                <a:lnTo>
                  <a:pt x="218" y="169"/>
                </a:lnTo>
                <a:lnTo>
                  <a:pt x="232" y="167"/>
                </a:lnTo>
                <a:lnTo>
                  <a:pt x="247" y="165"/>
                </a:lnTo>
                <a:lnTo>
                  <a:pt x="263" y="161"/>
                </a:lnTo>
                <a:lnTo>
                  <a:pt x="278" y="159"/>
                </a:lnTo>
                <a:lnTo>
                  <a:pt x="295" y="157"/>
                </a:lnTo>
                <a:lnTo>
                  <a:pt x="312" y="153"/>
                </a:lnTo>
                <a:lnTo>
                  <a:pt x="332" y="149"/>
                </a:lnTo>
                <a:lnTo>
                  <a:pt x="351" y="148"/>
                </a:lnTo>
                <a:lnTo>
                  <a:pt x="370" y="144"/>
                </a:lnTo>
                <a:lnTo>
                  <a:pt x="391" y="140"/>
                </a:lnTo>
                <a:lnTo>
                  <a:pt x="412" y="134"/>
                </a:lnTo>
                <a:lnTo>
                  <a:pt x="433" y="130"/>
                </a:lnTo>
                <a:lnTo>
                  <a:pt x="456" y="126"/>
                </a:lnTo>
                <a:lnTo>
                  <a:pt x="479" y="121"/>
                </a:lnTo>
                <a:lnTo>
                  <a:pt x="503" y="115"/>
                </a:lnTo>
                <a:lnTo>
                  <a:pt x="527" y="111"/>
                </a:lnTo>
                <a:lnTo>
                  <a:pt x="552" y="105"/>
                </a:lnTo>
                <a:lnTo>
                  <a:pt x="577" y="10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Freeform 46"/>
          <p:cNvSpPr/>
          <p:nvPr/>
        </p:nvSpPr>
        <p:spPr>
          <a:xfrm>
            <a:off x="6804000" y="3859200"/>
            <a:ext cx="714240" cy="1047600"/>
          </a:xfrm>
          <a:custGeom>
            <a:avLst/>
            <a:gdLst/>
            <a:ahLst/>
            <a:rect l="l" t="t" r="r" b="b"/>
            <a:pathLst>
              <a:path w="900" h="1321">
                <a:moveTo>
                  <a:pt x="841" y="271"/>
                </a:moveTo>
                <a:lnTo>
                  <a:pt x="837" y="273"/>
                </a:lnTo>
                <a:lnTo>
                  <a:pt x="833" y="275"/>
                </a:lnTo>
                <a:lnTo>
                  <a:pt x="829" y="279"/>
                </a:lnTo>
                <a:lnTo>
                  <a:pt x="826" y="283"/>
                </a:lnTo>
                <a:lnTo>
                  <a:pt x="822" y="286"/>
                </a:lnTo>
                <a:lnTo>
                  <a:pt x="818" y="292"/>
                </a:lnTo>
                <a:lnTo>
                  <a:pt x="812" y="298"/>
                </a:lnTo>
                <a:lnTo>
                  <a:pt x="808" y="306"/>
                </a:lnTo>
                <a:lnTo>
                  <a:pt x="803" y="313"/>
                </a:lnTo>
                <a:lnTo>
                  <a:pt x="797" y="323"/>
                </a:lnTo>
                <a:lnTo>
                  <a:pt x="791" y="331"/>
                </a:lnTo>
                <a:lnTo>
                  <a:pt x="785" y="342"/>
                </a:lnTo>
                <a:lnTo>
                  <a:pt x="779" y="352"/>
                </a:lnTo>
                <a:lnTo>
                  <a:pt x="774" y="363"/>
                </a:lnTo>
                <a:lnTo>
                  <a:pt x="768" y="375"/>
                </a:lnTo>
                <a:lnTo>
                  <a:pt x="762" y="388"/>
                </a:lnTo>
                <a:lnTo>
                  <a:pt x="756" y="402"/>
                </a:lnTo>
                <a:lnTo>
                  <a:pt x="749" y="417"/>
                </a:lnTo>
                <a:lnTo>
                  <a:pt x="743" y="432"/>
                </a:lnTo>
                <a:lnTo>
                  <a:pt x="737" y="448"/>
                </a:lnTo>
                <a:lnTo>
                  <a:pt x="730" y="463"/>
                </a:lnTo>
                <a:lnTo>
                  <a:pt x="722" y="480"/>
                </a:lnTo>
                <a:lnTo>
                  <a:pt x="716" y="499"/>
                </a:lnTo>
                <a:lnTo>
                  <a:pt x="708" y="517"/>
                </a:lnTo>
                <a:lnTo>
                  <a:pt x="701" y="536"/>
                </a:lnTo>
                <a:lnTo>
                  <a:pt x="693" y="557"/>
                </a:lnTo>
                <a:lnTo>
                  <a:pt x="687" y="578"/>
                </a:lnTo>
                <a:lnTo>
                  <a:pt x="680" y="599"/>
                </a:lnTo>
                <a:lnTo>
                  <a:pt x="672" y="620"/>
                </a:lnTo>
                <a:lnTo>
                  <a:pt x="664" y="643"/>
                </a:lnTo>
                <a:lnTo>
                  <a:pt x="657" y="666"/>
                </a:lnTo>
                <a:lnTo>
                  <a:pt x="649" y="691"/>
                </a:lnTo>
                <a:lnTo>
                  <a:pt x="641" y="714"/>
                </a:lnTo>
                <a:lnTo>
                  <a:pt x="634" y="737"/>
                </a:lnTo>
                <a:lnTo>
                  <a:pt x="624" y="760"/>
                </a:lnTo>
                <a:lnTo>
                  <a:pt x="616" y="783"/>
                </a:lnTo>
                <a:lnTo>
                  <a:pt x="609" y="805"/>
                </a:lnTo>
                <a:lnTo>
                  <a:pt x="601" y="828"/>
                </a:lnTo>
                <a:lnTo>
                  <a:pt x="591" y="849"/>
                </a:lnTo>
                <a:lnTo>
                  <a:pt x="584" y="868"/>
                </a:lnTo>
                <a:lnTo>
                  <a:pt x="576" y="889"/>
                </a:lnTo>
                <a:lnTo>
                  <a:pt x="566" y="908"/>
                </a:lnTo>
                <a:lnTo>
                  <a:pt x="559" y="927"/>
                </a:lnTo>
                <a:lnTo>
                  <a:pt x="549" y="945"/>
                </a:lnTo>
                <a:lnTo>
                  <a:pt x="541" y="964"/>
                </a:lnTo>
                <a:lnTo>
                  <a:pt x="532" y="981"/>
                </a:lnTo>
                <a:lnTo>
                  <a:pt x="524" y="996"/>
                </a:lnTo>
                <a:lnTo>
                  <a:pt x="515" y="1014"/>
                </a:lnTo>
                <a:lnTo>
                  <a:pt x="507" y="1029"/>
                </a:lnTo>
                <a:lnTo>
                  <a:pt x="497" y="1044"/>
                </a:lnTo>
                <a:lnTo>
                  <a:pt x="488" y="1060"/>
                </a:lnTo>
                <a:lnTo>
                  <a:pt x="480" y="1075"/>
                </a:lnTo>
                <a:lnTo>
                  <a:pt x="470" y="1089"/>
                </a:lnTo>
                <a:lnTo>
                  <a:pt x="463" y="1102"/>
                </a:lnTo>
                <a:lnTo>
                  <a:pt x="453" y="1114"/>
                </a:lnTo>
                <a:lnTo>
                  <a:pt x="444" y="1127"/>
                </a:lnTo>
                <a:lnTo>
                  <a:pt x="436" y="1138"/>
                </a:lnTo>
                <a:lnTo>
                  <a:pt x="426" y="1150"/>
                </a:lnTo>
                <a:lnTo>
                  <a:pt x="417" y="1161"/>
                </a:lnTo>
                <a:lnTo>
                  <a:pt x="407" y="1171"/>
                </a:lnTo>
                <a:lnTo>
                  <a:pt x="399" y="1181"/>
                </a:lnTo>
                <a:lnTo>
                  <a:pt x="390" y="1190"/>
                </a:lnTo>
                <a:lnTo>
                  <a:pt x="380" y="1200"/>
                </a:lnTo>
                <a:lnTo>
                  <a:pt x="372" y="1208"/>
                </a:lnTo>
                <a:lnTo>
                  <a:pt x="355" y="1223"/>
                </a:lnTo>
                <a:lnTo>
                  <a:pt x="338" y="1238"/>
                </a:lnTo>
                <a:lnTo>
                  <a:pt x="323" y="1252"/>
                </a:lnTo>
                <a:lnTo>
                  <a:pt x="307" y="1263"/>
                </a:lnTo>
                <a:lnTo>
                  <a:pt x="292" y="1275"/>
                </a:lnTo>
                <a:lnTo>
                  <a:pt x="278" y="1284"/>
                </a:lnTo>
                <a:lnTo>
                  <a:pt x="267" y="1294"/>
                </a:lnTo>
                <a:lnTo>
                  <a:pt x="255" y="1302"/>
                </a:lnTo>
                <a:lnTo>
                  <a:pt x="244" y="1307"/>
                </a:lnTo>
                <a:lnTo>
                  <a:pt x="234" y="1313"/>
                </a:lnTo>
                <a:lnTo>
                  <a:pt x="225" y="1317"/>
                </a:lnTo>
                <a:lnTo>
                  <a:pt x="217" y="1319"/>
                </a:lnTo>
                <a:lnTo>
                  <a:pt x="209" y="1321"/>
                </a:lnTo>
                <a:lnTo>
                  <a:pt x="202" y="1321"/>
                </a:lnTo>
                <a:lnTo>
                  <a:pt x="196" y="1321"/>
                </a:lnTo>
                <a:lnTo>
                  <a:pt x="192" y="1319"/>
                </a:lnTo>
                <a:lnTo>
                  <a:pt x="184" y="1317"/>
                </a:lnTo>
                <a:lnTo>
                  <a:pt x="179" y="1313"/>
                </a:lnTo>
                <a:lnTo>
                  <a:pt x="173" y="1311"/>
                </a:lnTo>
                <a:lnTo>
                  <a:pt x="169" y="1307"/>
                </a:lnTo>
                <a:lnTo>
                  <a:pt x="165" y="1304"/>
                </a:lnTo>
                <a:lnTo>
                  <a:pt x="161" y="1300"/>
                </a:lnTo>
                <a:lnTo>
                  <a:pt x="157" y="1294"/>
                </a:lnTo>
                <a:lnTo>
                  <a:pt x="156" y="1290"/>
                </a:lnTo>
                <a:lnTo>
                  <a:pt x="154" y="1284"/>
                </a:lnTo>
                <a:lnTo>
                  <a:pt x="152" y="1279"/>
                </a:lnTo>
                <a:lnTo>
                  <a:pt x="152" y="1273"/>
                </a:lnTo>
                <a:lnTo>
                  <a:pt x="152" y="1265"/>
                </a:lnTo>
                <a:lnTo>
                  <a:pt x="152" y="1257"/>
                </a:lnTo>
                <a:lnTo>
                  <a:pt x="152" y="1250"/>
                </a:lnTo>
                <a:lnTo>
                  <a:pt x="154" y="1242"/>
                </a:lnTo>
                <a:lnTo>
                  <a:pt x="156" y="1233"/>
                </a:lnTo>
                <a:lnTo>
                  <a:pt x="157" y="1221"/>
                </a:lnTo>
                <a:lnTo>
                  <a:pt x="157" y="1209"/>
                </a:lnTo>
                <a:lnTo>
                  <a:pt x="157" y="1198"/>
                </a:lnTo>
                <a:lnTo>
                  <a:pt x="157" y="1186"/>
                </a:lnTo>
                <a:lnTo>
                  <a:pt x="156" y="1175"/>
                </a:lnTo>
                <a:lnTo>
                  <a:pt x="154" y="1163"/>
                </a:lnTo>
                <a:lnTo>
                  <a:pt x="150" y="1152"/>
                </a:lnTo>
                <a:lnTo>
                  <a:pt x="146" y="1140"/>
                </a:lnTo>
                <a:lnTo>
                  <a:pt x="140" y="1129"/>
                </a:lnTo>
                <a:lnTo>
                  <a:pt x="134" y="1117"/>
                </a:lnTo>
                <a:lnTo>
                  <a:pt x="129" y="1106"/>
                </a:lnTo>
                <a:lnTo>
                  <a:pt x="121" y="1094"/>
                </a:lnTo>
                <a:lnTo>
                  <a:pt x="113" y="1083"/>
                </a:lnTo>
                <a:lnTo>
                  <a:pt x="104" y="1071"/>
                </a:lnTo>
                <a:lnTo>
                  <a:pt x="94" y="1060"/>
                </a:lnTo>
                <a:lnTo>
                  <a:pt x="83" y="1048"/>
                </a:lnTo>
                <a:lnTo>
                  <a:pt x="73" y="1037"/>
                </a:lnTo>
                <a:lnTo>
                  <a:pt x="61" y="1025"/>
                </a:lnTo>
                <a:lnTo>
                  <a:pt x="54" y="1016"/>
                </a:lnTo>
                <a:lnTo>
                  <a:pt x="44" y="1006"/>
                </a:lnTo>
                <a:lnTo>
                  <a:pt x="37" y="996"/>
                </a:lnTo>
                <a:lnTo>
                  <a:pt x="31" y="989"/>
                </a:lnTo>
                <a:lnTo>
                  <a:pt x="25" y="979"/>
                </a:lnTo>
                <a:lnTo>
                  <a:pt x="19" y="972"/>
                </a:lnTo>
                <a:lnTo>
                  <a:pt x="14" y="964"/>
                </a:lnTo>
                <a:lnTo>
                  <a:pt x="10" y="958"/>
                </a:lnTo>
                <a:lnTo>
                  <a:pt x="6" y="952"/>
                </a:lnTo>
                <a:lnTo>
                  <a:pt x="4" y="945"/>
                </a:lnTo>
                <a:lnTo>
                  <a:pt x="2" y="939"/>
                </a:lnTo>
                <a:lnTo>
                  <a:pt x="0" y="935"/>
                </a:lnTo>
                <a:lnTo>
                  <a:pt x="0" y="929"/>
                </a:lnTo>
                <a:lnTo>
                  <a:pt x="0" y="925"/>
                </a:lnTo>
                <a:lnTo>
                  <a:pt x="0" y="922"/>
                </a:lnTo>
                <a:lnTo>
                  <a:pt x="0" y="920"/>
                </a:lnTo>
                <a:lnTo>
                  <a:pt x="2" y="920"/>
                </a:lnTo>
                <a:lnTo>
                  <a:pt x="6" y="918"/>
                </a:lnTo>
                <a:lnTo>
                  <a:pt x="10" y="916"/>
                </a:lnTo>
                <a:lnTo>
                  <a:pt x="14" y="916"/>
                </a:lnTo>
                <a:lnTo>
                  <a:pt x="19" y="916"/>
                </a:lnTo>
                <a:lnTo>
                  <a:pt x="27" y="916"/>
                </a:lnTo>
                <a:lnTo>
                  <a:pt x="33" y="918"/>
                </a:lnTo>
                <a:lnTo>
                  <a:pt x="40" y="918"/>
                </a:lnTo>
                <a:lnTo>
                  <a:pt x="50" y="920"/>
                </a:lnTo>
                <a:lnTo>
                  <a:pt x="60" y="924"/>
                </a:lnTo>
                <a:lnTo>
                  <a:pt x="71" y="925"/>
                </a:lnTo>
                <a:lnTo>
                  <a:pt x="83" y="929"/>
                </a:lnTo>
                <a:lnTo>
                  <a:pt x="94" y="933"/>
                </a:lnTo>
                <a:lnTo>
                  <a:pt x="108" y="937"/>
                </a:lnTo>
                <a:lnTo>
                  <a:pt x="119" y="945"/>
                </a:lnTo>
                <a:lnTo>
                  <a:pt x="129" y="950"/>
                </a:lnTo>
                <a:lnTo>
                  <a:pt x="140" y="956"/>
                </a:lnTo>
                <a:lnTo>
                  <a:pt x="150" y="960"/>
                </a:lnTo>
                <a:lnTo>
                  <a:pt x="159" y="966"/>
                </a:lnTo>
                <a:lnTo>
                  <a:pt x="169" y="970"/>
                </a:lnTo>
                <a:lnTo>
                  <a:pt x="179" y="972"/>
                </a:lnTo>
                <a:lnTo>
                  <a:pt x="188" y="975"/>
                </a:lnTo>
                <a:lnTo>
                  <a:pt x="205" y="981"/>
                </a:lnTo>
                <a:lnTo>
                  <a:pt x="223" y="983"/>
                </a:lnTo>
                <a:lnTo>
                  <a:pt x="238" y="985"/>
                </a:lnTo>
                <a:lnTo>
                  <a:pt x="252" y="987"/>
                </a:lnTo>
                <a:lnTo>
                  <a:pt x="255" y="989"/>
                </a:lnTo>
                <a:lnTo>
                  <a:pt x="261" y="989"/>
                </a:lnTo>
                <a:lnTo>
                  <a:pt x="267" y="989"/>
                </a:lnTo>
                <a:lnTo>
                  <a:pt x="273" y="989"/>
                </a:lnTo>
                <a:lnTo>
                  <a:pt x="277" y="987"/>
                </a:lnTo>
                <a:lnTo>
                  <a:pt x="282" y="985"/>
                </a:lnTo>
                <a:lnTo>
                  <a:pt x="290" y="983"/>
                </a:lnTo>
                <a:lnTo>
                  <a:pt x="296" y="981"/>
                </a:lnTo>
                <a:lnTo>
                  <a:pt x="301" y="977"/>
                </a:lnTo>
                <a:lnTo>
                  <a:pt x="307" y="972"/>
                </a:lnTo>
                <a:lnTo>
                  <a:pt x="315" y="968"/>
                </a:lnTo>
                <a:lnTo>
                  <a:pt x="321" y="962"/>
                </a:lnTo>
                <a:lnTo>
                  <a:pt x="334" y="950"/>
                </a:lnTo>
                <a:lnTo>
                  <a:pt x="348" y="937"/>
                </a:lnTo>
                <a:lnTo>
                  <a:pt x="351" y="933"/>
                </a:lnTo>
                <a:lnTo>
                  <a:pt x="355" y="929"/>
                </a:lnTo>
                <a:lnTo>
                  <a:pt x="357" y="924"/>
                </a:lnTo>
                <a:lnTo>
                  <a:pt x="361" y="920"/>
                </a:lnTo>
                <a:lnTo>
                  <a:pt x="365" y="914"/>
                </a:lnTo>
                <a:lnTo>
                  <a:pt x="369" y="906"/>
                </a:lnTo>
                <a:lnTo>
                  <a:pt x="372" y="900"/>
                </a:lnTo>
                <a:lnTo>
                  <a:pt x="376" y="893"/>
                </a:lnTo>
                <a:lnTo>
                  <a:pt x="382" y="885"/>
                </a:lnTo>
                <a:lnTo>
                  <a:pt x="386" y="877"/>
                </a:lnTo>
                <a:lnTo>
                  <a:pt x="390" y="868"/>
                </a:lnTo>
                <a:lnTo>
                  <a:pt x="394" y="858"/>
                </a:lnTo>
                <a:lnTo>
                  <a:pt x="399" y="849"/>
                </a:lnTo>
                <a:lnTo>
                  <a:pt x="403" y="839"/>
                </a:lnTo>
                <a:lnTo>
                  <a:pt x="409" y="828"/>
                </a:lnTo>
                <a:lnTo>
                  <a:pt x="413" y="816"/>
                </a:lnTo>
                <a:lnTo>
                  <a:pt x="419" y="805"/>
                </a:lnTo>
                <a:lnTo>
                  <a:pt x="422" y="793"/>
                </a:lnTo>
                <a:lnTo>
                  <a:pt x="428" y="780"/>
                </a:lnTo>
                <a:lnTo>
                  <a:pt x="434" y="766"/>
                </a:lnTo>
                <a:lnTo>
                  <a:pt x="438" y="753"/>
                </a:lnTo>
                <a:lnTo>
                  <a:pt x="444" y="739"/>
                </a:lnTo>
                <a:lnTo>
                  <a:pt x="449" y="724"/>
                </a:lnTo>
                <a:lnTo>
                  <a:pt x="455" y="709"/>
                </a:lnTo>
                <a:lnTo>
                  <a:pt x="461" y="693"/>
                </a:lnTo>
                <a:lnTo>
                  <a:pt x="467" y="676"/>
                </a:lnTo>
                <a:lnTo>
                  <a:pt x="472" y="659"/>
                </a:lnTo>
                <a:lnTo>
                  <a:pt x="478" y="641"/>
                </a:lnTo>
                <a:lnTo>
                  <a:pt x="484" y="624"/>
                </a:lnTo>
                <a:lnTo>
                  <a:pt x="492" y="605"/>
                </a:lnTo>
                <a:lnTo>
                  <a:pt x="497" y="586"/>
                </a:lnTo>
                <a:lnTo>
                  <a:pt x="505" y="567"/>
                </a:lnTo>
                <a:lnTo>
                  <a:pt x="511" y="549"/>
                </a:lnTo>
                <a:lnTo>
                  <a:pt x="516" y="530"/>
                </a:lnTo>
                <a:lnTo>
                  <a:pt x="522" y="513"/>
                </a:lnTo>
                <a:lnTo>
                  <a:pt x="530" y="497"/>
                </a:lnTo>
                <a:lnTo>
                  <a:pt x="536" y="480"/>
                </a:lnTo>
                <a:lnTo>
                  <a:pt x="540" y="465"/>
                </a:lnTo>
                <a:lnTo>
                  <a:pt x="545" y="449"/>
                </a:lnTo>
                <a:lnTo>
                  <a:pt x="551" y="434"/>
                </a:lnTo>
                <a:lnTo>
                  <a:pt x="557" y="421"/>
                </a:lnTo>
                <a:lnTo>
                  <a:pt x="561" y="407"/>
                </a:lnTo>
                <a:lnTo>
                  <a:pt x="564" y="394"/>
                </a:lnTo>
                <a:lnTo>
                  <a:pt x="570" y="380"/>
                </a:lnTo>
                <a:lnTo>
                  <a:pt x="574" y="369"/>
                </a:lnTo>
                <a:lnTo>
                  <a:pt x="578" y="357"/>
                </a:lnTo>
                <a:lnTo>
                  <a:pt x="586" y="334"/>
                </a:lnTo>
                <a:lnTo>
                  <a:pt x="591" y="313"/>
                </a:lnTo>
                <a:lnTo>
                  <a:pt x="597" y="296"/>
                </a:lnTo>
                <a:lnTo>
                  <a:pt x="601" y="279"/>
                </a:lnTo>
                <a:lnTo>
                  <a:pt x="605" y="263"/>
                </a:lnTo>
                <a:lnTo>
                  <a:pt x="609" y="250"/>
                </a:lnTo>
                <a:lnTo>
                  <a:pt x="611" y="240"/>
                </a:lnTo>
                <a:lnTo>
                  <a:pt x="612" y="231"/>
                </a:lnTo>
                <a:lnTo>
                  <a:pt x="612" y="223"/>
                </a:lnTo>
                <a:lnTo>
                  <a:pt x="612" y="215"/>
                </a:lnTo>
                <a:lnTo>
                  <a:pt x="611" y="210"/>
                </a:lnTo>
                <a:lnTo>
                  <a:pt x="611" y="202"/>
                </a:lnTo>
                <a:lnTo>
                  <a:pt x="609" y="196"/>
                </a:lnTo>
                <a:lnTo>
                  <a:pt x="605" y="190"/>
                </a:lnTo>
                <a:lnTo>
                  <a:pt x="601" y="185"/>
                </a:lnTo>
                <a:lnTo>
                  <a:pt x="597" y="181"/>
                </a:lnTo>
                <a:lnTo>
                  <a:pt x="593" y="175"/>
                </a:lnTo>
                <a:lnTo>
                  <a:pt x="588" y="169"/>
                </a:lnTo>
                <a:lnTo>
                  <a:pt x="582" y="165"/>
                </a:lnTo>
                <a:lnTo>
                  <a:pt x="574" y="160"/>
                </a:lnTo>
                <a:lnTo>
                  <a:pt x="566" y="154"/>
                </a:lnTo>
                <a:lnTo>
                  <a:pt x="559" y="150"/>
                </a:lnTo>
                <a:lnTo>
                  <a:pt x="549" y="144"/>
                </a:lnTo>
                <a:lnTo>
                  <a:pt x="540" y="141"/>
                </a:lnTo>
                <a:lnTo>
                  <a:pt x="528" y="137"/>
                </a:lnTo>
                <a:lnTo>
                  <a:pt x="516" y="131"/>
                </a:lnTo>
                <a:lnTo>
                  <a:pt x="505" y="127"/>
                </a:lnTo>
                <a:lnTo>
                  <a:pt x="492" y="123"/>
                </a:lnTo>
                <a:lnTo>
                  <a:pt x="478" y="119"/>
                </a:lnTo>
                <a:lnTo>
                  <a:pt x="465" y="116"/>
                </a:lnTo>
                <a:lnTo>
                  <a:pt x="449" y="114"/>
                </a:lnTo>
                <a:lnTo>
                  <a:pt x="434" y="110"/>
                </a:lnTo>
                <a:lnTo>
                  <a:pt x="417" y="108"/>
                </a:lnTo>
                <a:lnTo>
                  <a:pt x="399" y="106"/>
                </a:lnTo>
                <a:lnTo>
                  <a:pt x="382" y="104"/>
                </a:lnTo>
                <a:lnTo>
                  <a:pt x="363" y="102"/>
                </a:lnTo>
                <a:lnTo>
                  <a:pt x="342" y="100"/>
                </a:lnTo>
                <a:lnTo>
                  <a:pt x="321" y="100"/>
                </a:lnTo>
                <a:lnTo>
                  <a:pt x="300" y="100"/>
                </a:lnTo>
                <a:lnTo>
                  <a:pt x="277" y="98"/>
                </a:lnTo>
                <a:lnTo>
                  <a:pt x="252" y="98"/>
                </a:lnTo>
                <a:lnTo>
                  <a:pt x="252" y="56"/>
                </a:lnTo>
                <a:lnTo>
                  <a:pt x="252" y="14"/>
                </a:lnTo>
                <a:lnTo>
                  <a:pt x="273" y="14"/>
                </a:lnTo>
                <a:lnTo>
                  <a:pt x="294" y="16"/>
                </a:lnTo>
                <a:lnTo>
                  <a:pt x="313" y="16"/>
                </a:lnTo>
                <a:lnTo>
                  <a:pt x="332" y="18"/>
                </a:lnTo>
                <a:lnTo>
                  <a:pt x="351" y="18"/>
                </a:lnTo>
                <a:lnTo>
                  <a:pt x="369" y="18"/>
                </a:lnTo>
                <a:lnTo>
                  <a:pt x="386" y="20"/>
                </a:lnTo>
                <a:lnTo>
                  <a:pt x="403" y="20"/>
                </a:lnTo>
                <a:lnTo>
                  <a:pt x="419" y="20"/>
                </a:lnTo>
                <a:lnTo>
                  <a:pt x="434" y="22"/>
                </a:lnTo>
                <a:lnTo>
                  <a:pt x="449" y="22"/>
                </a:lnTo>
                <a:lnTo>
                  <a:pt x="465" y="22"/>
                </a:lnTo>
                <a:lnTo>
                  <a:pt x="478" y="22"/>
                </a:lnTo>
                <a:lnTo>
                  <a:pt x="492" y="22"/>
                </a:lnTo>
                <a:lnTo>
                  <a:pt x="505" y="22"/>
                </a:lnTo>
                <a:lnTo>
                  <a:pt x="516" y="22"/>
                </a:lnTo>
                <a:lnTo>
                  <a:pt x="528" y="22"/>
                </a:lnTo>
                <a:lnTo>
                  <a:pt x="540" y="22"/>
                </a:lnTo>
                <a:lnTo>
                  <a:pt x="549" y="22"/>
                </a:lnTo>
                <a:lnTo>
                  <a:pt x="559" y="22"/>
                </a:lnTo>
                <a:lnTo>
                  <a:pt x="568" y="22"/>
                </a:lnTo>
                <a:lnTo>
                  <a:pt x="578" y="22"/>
                </a:lnTo>
                <a:lnTo>
                  <a:pt x="586" y="20"/>
                </a:lnTo>
                <a:lnTo>
                  <a:pt x="593" y="20"/>
                </a:lnTo>
                <a:lnTo>
                  <a:pt x="601" y="20"/>
                </a:lnTo>
                <a:lnTo>
                  <a:pt x="607" y="18"/>
                </a:lnTo>
                <a:lnTo>
                  <a:pt x="612" y="18"/>
                </a:lnTo>
                <a:lnTo>
                  <a:pt x="618" y="18"/>
                </a:lnTo>
                <a:lnTo>
                  <a:pt x="624" y="16"/>
                </a:lnTo>
                <a:lnTo>
                  <a:pt x="628" y="16"/>
                </a:lnTo>
                <a:lnTo>
                  <a:pt x="634" y="14"/>
                </a:lnTo>
                <a:lnTo>
                  <a:pt x="637" y="14"/>
                </a:lnTo>
                <a:lnTo>
                  <a:pt x="649" y="8"/>
                </a:lnTo>
                <a:lnTo>
                  <a:pt x="660" y="6"/>
                </a:lnTo>
                <a:lnTo>
                  <a:pt x="672" y="2"/>
                </a:lnTo>
                <a:lnTo>
                  <a:pt x="682" y="2"/>
                </a:lnTo>
                <a:lnTo>
                  <a:pt x="691" y="0"/>
                </a:lnTo>
                <a:lnTo>
                  <a:pt x="697" y="0"/>
                </a:lnTo>
                <a:lnTo>
                  <a:pt x="705" y="0"/>
                </a:lnTo>
                <a:lnTo>
                  <a:pt x="708" y="0"/>
                </a:lnTo>
                <a:lnTo>
                  <a:pt x="712" y="2"/>
                </a:lnTo>
                <a:lnTo>
                  <a:pt x="714" y="4"/>
                </a:lnTo>
                <a:lnTo>
                  <a:pt x="718" y="8"/>
                </a:lnTo>
                <a:lnTo>
                  <a:pt x="722" y="10"/>
                </a:lnTo>
                <a:lnTo>
                  <a:pt x="731" y="16"/>
                </a:lnTo>
                <a:lnTo>
                  <a:pt x="741" y="20"/>
                </a:lnTo>
                <a:lnTo>
                  <a:pt x="755" y="27"/>
                </a:lnTo>
                <a:lnTo>
                  <a:pt x="766" y="33"/>
                </a:lnTo>
                <a:lnTo>
                  <a:pt x="779" y="41"/>
                </a:lnTo>
                <a:lnTo>
                  <a:pt x="793" y="50"/>
                </a:lnTo>
                <a:lnTo>
                  <a:pt x="806" y="58"/>
                </a:lnTo>
                <a:lnTo>
                  <a:pt x="818" y="68"/>
                </a:lnTo>
                <a:lnTo>
                  <a:pt x="829" y="77"/>
                </a:lnTo>
                <a:lnTo>
                  <a:pt x="839" y="87"/>
                </a:lnTo>
                <a:lnTo>
                  <a:pt x="851" y="96"/>
                </a:lnTo>
                <a:lnTo>
                  <a:pt x="860" y="106"/>
                </a:lnTo>
                <a:lnTo>
                  <a:pt x="877" y="123"/>
                </a:lnTo>
                <a:lnTo>
                  <a:pt x="881" y="137"/>
                </a:lnTo>
                <a:lnTo>
                  <a:pt x="885" y="148"/>
                </a:lnTo>
                <a:lnTo>
                  <a:pt x="891" y="160"/>
                </a:lnTo>
                <a:lnTo>
                  <a:pt x="893" y="169"/>
                </a:lnTo>
                <a:lnTo>
                  <a:pt x="897" y="179"/>
                </a:lnTo>
                <a:lnTo>
                  <a:pt x="898" y="187"/>
                </a:lnTo>
                <a:lnTo>
                  <a:pt x="900" y="192"/>
                </a:lnTo>
                <a:lnTo>
                  <a:pt x="900" y="198"/>
                </a:lnTo>
                <a:lnTo>
                  <a:pt x="900" y="202"/>
                </a:lnTo>
                <a:lnTo>
                  <a:pt x="900" y="208"/>
                </a:lnTo>
                <a:lnTo>
                  <a:pt x="898" y="212"/>
                </a:lnTo>
                <a:lnTo>
                  <a:pt x="897" y="215"/>
                </a:lnTo>
                <a:lnTo>
                  <a:pt x="895" y="221"/>
                </a:lnTo>
                <a:lnTo>
                  <a:pt x="891" y="225"/>
                </a:lnTo>
                <a:lnTo>
                  <a:pt x="885" y="235"/>
                </a:lnTo>
                <a:lnTo>
                  <a:pt x="875" y="244"/>
                </a:lnTo>
                <a:lnTo>
                  <a:pt x="866" y="254"/>
                </a:lnTo>
                <a:lnTo>
                  <a:pt x="854" y="261"/>
                </a:lnTo>
                <a:lnTo>
                  <a:pt x="841" y="27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Freeform 47"/>
          <p:cNvSpPr/>
          <p:nvPr/>
        </p:nvSpPr>
        <p:spPr>
          <a:xfrm>
            <a:off x="6896160" y="2913120"/>
            <a:ext cx="355680" cy="317520"/>
          </a:xfrm>
          <a:custGeom>
            <a:avLst/>
            <a:gdLst/>
            <a:ahLst/>
            <a:rect l="l" t="t" r="r" b="b"/>
            <a:pathLst>
              <a:path w="449" h="401">
                <a:moveTo>
                  <a:pt x="4" y="9"/>
                </a:moveTo>
                <a:lnTo>
                  <a:pt x="6" y="5"/>
                </a:lnTo>
                <a:lnTo>
                  <a:pt x="10" y="3"/>
                </a:lnTo>
                <a:lnTo>
                  <a:pt x="14" y="3"/>
                </a:lnTo>
                <a:lnTo>
                  <a:pt x="19" y="2"/>
                </a:lnTo>
                <a:lnTo>
                  <a:pt x="25" y="0"/>
                </a:lnTo>
                <a:lnTo>
                  <a:pt x="31" y="0"/>
                </a:lnTo>
                <a:lnTo>
                  <a:pt x="39" y="0"/>
                </a:lnTo>
                <a:lnTo>
                  <a:pt x="46" y="0"/>
                </a:lnTo>
                <a:lnTo>
                  <a:pt x="54" y="0"/>
                </a:lnTo>
                <a:lnTo>
                  <a:pt x="64" y="0"/>
                </a:lnTo>
                <a:lnTo>
                  <a:pt x="73" y="0"/>
                </a:lnTo>
                <a:lnTo>
                  <a:pt x="83" y="2"/>
                </a:lnTo>
                <a:lnTo>
                  <a:pt x="102" y="3"/>
                </a:lnTo>
                <a:lnTo>
                  <a:pt x="125" y="9"/>
                </a:lnTo>
                <a:lnTo>
                  <a:pt x="137" y="11"/>
                </a:lnTo>
                <a:lnTo>
                  <a:pt x="148" y="15"/>
                </a:lnTo>
                <a:lnTo>
                  <a:pt x="160" y="19"/>
                </a:lnTo>
                <a:lnTo>
                  <a:pt x="171" y="23"/>
                </a:lnTo>
                <a:lnTo>
                  <a:pt x="185" y="26"/>
                </a:lnTo>
                <a:lnTo>
                  <a:pt x="198" y="32"/>
                </a:lnTo>
                <a:lnTo>
                  <a:pt x="225" y="44"/>
                </a:lnTo>
                <a:lnTo>
                  <a:pt x="252" y="57"/>
                </a:lnTo>
                <a:lnTo>
                  <a:pt x="281" y="73"/>
                </a:lnTo>
                <a:lnTo>
                  <a:pt x="309" y="90"/>
                </a:lnTo>
                <a:lnTo>
                  <a:pt x="342" y="107"/>
                </a:lnTo>
                <a:lnTo>
                  <a:pt x="353" y="119"/>
                </a:lnTo>
                <a:lnTo>
                  <a:pt x="367" y="130"/>
                </a:lnTo>
                <a:lnTo>
                  <a:pt x="378" y="142"/>
                </a:lnTo>
                <a:lnTo>
                  <a:pt x="388" y="151"/>
                </a:lnTo>
                <a:lnTo>
                  <a:pt x="398" y="163"/>
                </a:lnTo>
                <a:lnTo>
                  <a:pt x="407" y="172"/>
                </a:lnTo>
                <a:lnTo>
                  <a:pt x="415" y="182"/>
                </a:lnTo>
                <a:lnTo>
                  <a:pt x="423" y="192"/>
                </a:lnTo>
                <a:lnTo>
                  <a:pt x="428" y="201"/>
                </a:lnTo>
                <a:lnTo>
                  <a:pt x="434" y="211"/>
                </a:lnTo>
                <a:lnTo>
                  <a:pt x="438" y="220"/>
                </a:lnTo>
                <a:lnTo>
                  <a:pt x="442" y="230"/>
                </a:lnTo>
                <a:lnTo>
                  <a:pt x="446" y="240"/>
                </a:lnTo>
                <a:lnTo>
                  <a:pt x="448" y="249"/>
                </a:lnTo>
                <a:lnTo>
                  <a:pt x="449" y="259"/>
                </a:lnTo>
                <a:lnTo>
                  <a:pt x="449" y="268"/>
                </a:lnTo>
                <a:lnTo>
                  <a:pt x="449" y="278"/>
                </a:lnTo>
                <a:lnTo>
                  <a:pt x="449" y="289"/>
                </a:lnTo>
                <a:lnTo>
                  <a:pt x="448" y="299"/>
                </a:lnTo>
                <a:lnTo>
                  <a:pt x="448" y="309"/>
                </a:lnTo>
                <a:lnTo>
                  <a:pt x="446" y="318"/>
                </a:lnTo>
                <a:lnTo>
                  <a:pt x="444" y="326"/>
                </a:lnTo>
                <a:lnTo>
                  <a:pt x="438" y="343"/>
                </a:lnTo>
                <a:lnTo>
                  <a:pt x="432" y="357"/>
                </a:lnTo>
                <a:lnTo>
                  <a:pt x="428" y="362"/>
                </a:lnTo>
                <a:lnTo>
                  <a:pt x="425" y="370"/>
                </a:lnTo>
                <a:lnTo>
                  <a:pt x="419" y="376"/>
                </a:lnTo>
                <a:lnTo>
                  <a:pt x="413" y="382"/>
                </a:lnTo>
                <a:lnTo>
                  <a:pt x="407" y="385"/>
                </a:lnTo>
                <a:lnTo>
                  <a:pt x="401" y="391"/>
                </a:lnTo>
                <a:lnTo>
                  <a:pt x="394" y="395"/>
                </a:lnTo>
                <a:lnTo>
                  <a:pt x="386" y="397"/>
                </a:lnTo>
                <a:lnTo>
                  <a:pt x="378" y="399"/>
                </a:lnTo>
                <a:lnTo>
                  <a:pt x="369" y="401"/>
                </a:lnTo>
                <a:lnTo>
                  <a:pt x="361" y="399"/>
                </a:lnTo>
                <a:lnTo>
                  <a:pt x="350" y="397"/>
                </a:lnTo>
                <a:lnTo>
                  <a:pt x="340" y="395"/>
                </a:lnTo>
                <a:lnTo>
                  <a:pt x="329" y="389"/>
                </a:lnTo>
                <a:lnTo>
                  <a:pt x="317" y="383"/>
                </a:lnTo>
                <a:lnTo>
                  <a:pt x="305" y="376"/>
                </a:lnTo>
                <a:lnTo>
                  <a:pt x="292" y="368"/>
                </a:lnTo>
                <a:lnTo>
                  <a:pt x="279" y="359"/>
                </a:lnTo>
                <a:lnTo>
                  <a:pt x="265" y="347"/>
                </a:lnTo>
                <a:lnTo>
                  <a:pt x="252" y="334"/>
                </a:lnTo>
                <a:lnTo>
                  <a:pt x="236" y="320"/>
                </a:lnTo>
                <a:lnTo>
                  <a:pt x="221" y="305"/>
                </a:lnTo>
                <a:lnTo>
                  <a:pt x="204" y="291"/>
                </a:lnTo>
                <a:lnTo>
                  <a:pt x="186" y="276"/>
                </a:lnTo>
                <a:lnTo>
                  <a:pt x="171" y="264"/>
                </a:lnTo>
                <a:lnTo>
                  <a:pt x="156" y="251"/>
                </a:lnTo>
                <a:lnTo>
                  <a:pt x="140" y="238"/>
                </a:lnTo>
                <a:lnTo>
                  <a:pt x="127" y="226"/>
                </a:lnTo>
                <a:lnTo>
                  <a:pt x="115" y="213"/>
                </a:lnTo>
                <a:lnTo>
                  <a:pt x="104" y="201"/>
                </a:lnTo>
                <a:lnTo>
                  <a:pt x="92" y="190"/>
                </a:lnTo>
                <a:lnTo>
                  <a:pt x="83" y="176"/>
                </a:lnTo>
                <a:lnTo>
                  <a:pt x="73" y="165"/>
                </a:lnTo>
                <a:lnTo>
                  <a:pt x="66" y="153"/>
                </a:lnTo>
                <a:lnTo>
                  <a:pt x="58" y="142"/>
                </a:lnTo>
                <a:lnTo>
                  <a:pt x="52" y="130"/>
                </a:lnTo>
                <a:lnTo>
                  <a:pt x="46" y="119"/>
                </a:lnTo>
                <a:lnTo>
                  <a:pt x="41" y="107"/>
                </a:lnTo>
                <a:lnTo>
                  <a:pt x="35" y="96"/>
                </a:lnTo>
                <a:lnTo>
                  <a:pt x="29" y="86"/>
                </a:lnTo>
                <a:lnTo>
                  <a:pt x="23" y="76"/>
                </a:lnTo>
                <a:lnTo>
                  <a:pt x="18" y="67"/>
                </a:lnTo>
                <a:lnTo>
                  <a:pt x="14" y="59"/>
                </a:lnTo>
                <a:lnTo>
                  <a:pt x="10" y="51"/>
                </a:lnTo>
                <a:lnTo>
                  <a:pt x="6" y="46"/>
                </a:lnTo>
                <a:lnTo>
                  <a:pt x="4" y="40"/>
                </a:lnTo>
                <a:lnTo>
                  <a:pt x="2" y="34"/>
                </a:lnTo>
                <a:lnTo>
                  <a:pt x="0" y="28"/>
                </a:lnTo>
                <a:lnTo>
                  <a:pt x="0" y="25"/>
                </a:lnTo>
                <a:lnTo>
                  <a:pt x="0" y="21"/>
                </a:lnTo>
                <a:lnTo>
                  <a:pt x="0" y="17"/>
                </a:lnTo>
                <a:lnTo>
                  <a:pt x="0" y="13"/>
                </a:lnTo>
                <a:lnTo>
                  <a:pt x="2" y="11"/>
                </a:lnTo>
                <a:lnTo>
                  <a:pt x="4" y="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99"/>
                                        </p:tgtEl>
                                        <p:attrNameLst>
                                          <p:attrName>style.visibility</p:attrName>
                                        </p:attrNameLst>
                                      </p:cBhvr>
                                      <p:to>
                                        <p:strVal val="visible"/>
                                      </p:to>
                                    </p:set>
                                    <p:anim calcmode="lin" valueType="num">
                                      <p:cBhvr additive="base">
                                        <p:cTn id="84" dur="500" fill="hold"/>
                                        <p:tgtEl>
                                          <p:spTgt spid="99"/>
                                        </p:tgtEl>
                                        <p:attrNameLst>
                                          <p:attrName>ppt_x</p:attrName>
                                        </p:attrNameLst>
                                      </p:cBhvr>
                                      <p:tavLst>
                                        <p:tav tm="0">
                                          <p:val>
                                            <p:strVal val="0-#ppt_w/2"/>
                                          </p:val>
                                        </p:tav>
                                        <p:tav tm="100000">
                                          <p:val>
                                            <p:strVal val="#ppt_x"/>
                                          </p:val>
                                        </p:tav>
                                      </p:tavLst>
                                    </p:anim>
                                    <p:anim calcmode="lin" valueType="num">
                                      <p:cBhvr additive="base">
                                        <p:cTn id="85"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100"/>
                                        </p:tgtEl>
                                        <p:attrNameLst>
                                          <p:attrName>style.visibility</p:attrName>
                                        </p:attrNameLst>
                                      </p:cBhvr>
                                      <p:to>
                                        <p:strVal val="visible"/>
                                      </p:to>
                                    </p:set>
                                    <p:animEffect filter="wipe(up)" transition="in">
                                      <p:cBhvr additive="repl">
                                        <p:cTn id="90" dur="500"/>
                                        <p:tgtEl>
                                          <p:spTgt spid="100"/>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101"/>
                                        </p:tgtEl>
                                        <p:attrNameLst>
                                          <p:attrName>style.visibility</p:attrName>
                                        </p:attrNameLst>
                                      </p:cBhvr>
                                      <p:to>
                                        <p:strVal val="visible"/>
                                      </p:to>
                                    </p:set>
                                    <p:animEffect filter="wipe(up)" transition="in">
                                      <p:cBhvr additive="repl">
                                        <p:cTn id="95" dur="500"/>
                                        <p:tgtEl>
                                          <p:spTgt spid="101"/>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04"/>
                                        </p:tgtEl>
                                        <p:attrNameLst>
                                          <p:attrName>style.visibility</p:attrName>
                                        </p:attrNameLst>
                                      </p:cBhvr>
                                      <p:to>
                                        <p:strVal val="visible"/>
                                      </p:to>
                                    </p:set>
                                    <p:animEffect filter="wipe(left)" transition="in">
                                      <p:cBhvr additive="repl">
                                        <p:cTn id="100" dur="500"/>
                                        <p:tgtEl>
                                          <p:spTgt spid="104"/>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106"/>
                                        </p:tgtEl>
                                        <p:attrNameLst>
                                          <p:attrName>style.visibility</p:attrName>
                                        </p:attrNameLst>
                                      </p:cBhvr>
                                      <p:to>
                                        <p:strVal val="visible"/>
                                      </p:to>
                                    </p:set>
                                    <p:animEffect filter="wipe(up)" transition="in">
                                      <p:cBhvr additive="repl">
                                        <p:cTn id="105" dur="500"/>
                                        <p:tgtEl>
                                          <p:spTgt spid="106"/>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02"/>
                                        </p:tgtEl>
                                        <p:attrNameLst>
                                          <p:attrName>style.visibility</p:attrName>
                                        </p:attrNameLst>
                                      </p:cBhvr>
                                      <p:to>
                                        <p:strVal val="visible"/>
                                      </p:to>
                                    </p:set>
                                    <p:animEffect filter="wipe(left)" transition="in">
                                      <p:cBhvr additive="repl">
                                        <p:cTn id="110" dur="500"/>
                                        <p:tgtEl>
                                          <p:spTgt spid="10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8" presetSubtype="6">
                                  <p:stCondLst>
                                    <p:cond delay="0"/>
                                  </p:stCondLst>
                                  <p:childTnLst>
                                    <p:set>
                                      <p:cBhvr>
                                        <p:cTn id="114" dur="1" fill="hold">
                                          <p:stCondLst>
                                            <p:cond delay="0"/>
                                          </p:stCondLst>
                                        </p:cTn>
                                        <p:tgtEl>
                                          <p:spTgt spid="105"/>
                                        </p:tgtEl>
                                        <p:attrNameLst>
                                          <p:attrName>style.visibility</p:attrName>
                                        </p:attrNameLst>
                                      </p:cBhvr>
                                      <p:to>
                                        <p:strVal val="visible"/>
                                      </p:to>
                                    </p:set>
                                    <p:animEffect filter="strips(downRight)" transition="in">
                                      <p:cBhvr additive="repl">
                                        <p:cTn id="115" dur="500"/>
                                        <p:tgtEl>
                                          <p:spTgt spid="105"/>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1">
                                  <p:stCondLst>
                                    <p:cond delay="0"/>
                                  </p:stCondLst>
                                  <p:childTnLst>
                                    <p:set>
                                      <p:cBhvr>
                                        <p:cTn id="119" dur="1" fill="hold">
                                          <p:stCondLst>
                                            <p:cond delay="0"/>
                                          </p:stCondLst>
                                        </p:cTn>
                                        <p:tgtEl>
                                          <p:spTgt spid="103"/>
                                        </p:tgtEl>
                                        <p:attrNameLst>
                                          <p:attrName>style.visibility</p:attrName>
                                        </p:attrNameLst>
                                      </p:cBhvr>
                                      <p:to>
                                        <p:strVal val="visible"/>
                                      </p:to>
                                    </p:set>
                                    <p:animEffect filter="wipe(up)" transition="in">
                                      <p:cBhvr additive="repl">
                                        <p:cTn id="120" dur="500"/>
                                        <p:tgtEl>
                                          <p:spTgt spid="103"/>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3" presetSubtype="16">
                                  <p:stCondLst>
                                    <p:cond delay="0"/>
                                  </p:stCondLst>
                                  <p:childTnLst>
                                    <p:set>
                                      <p:cBhvr>
                                        <p:cTn id="124" dur="1" fill="hold">
                                          <p:stCondLst>
                                            <p:cond delay="0"/>
                                          </p:stCondLst>
                                        </p:cTn>
                                        <p:tgtEl>
                                          <p:spTgt spid="96"/>
                                        </p:tgtEl>
                                        <p:attrNameLst>
                                          <p:attrName>style.visibility</p:attrName>
                                        </p:attrNameLst>
                                      </p:cBhvr>
                                      <p:to>
                                        <p:strVal val="visible"/>
                                      </p:to>
                                    </p:set>
                                    <p:anim calcmode="lin" valueType="num">
                                      <p:cBhvr additive="repl">
                                        <p:cTn id="125" dur="500" fill="hold"/>
                                        <p:tgtEl>
                                          <p:spTgt spid="96"/>
                                        </p:tgtEl>
                                        <p:attrNameLst>
                                          <p:attrName>ppt_w</p:attrName>
                                        </p:attrNameLst>
                                      </p:cBhvr>
                                      <p:tavLst>
                                        <p:tav tm="0">
                                          <p:val>
                                            <p:fltVal val="0"/>
                                          </p:val>
                                        </p:tav>
                                        <p:tav tm="100000">
                                          <p:val>
                                            <p:strVal val="#ppt_w"/>
                                          </p:val>
                                        </p:tav>
                                      </p:tavLst>
                                    </p:anim>
                                    <p:anim calcmode="lin" valueType="num">
                                      <p:cBhvr additive="repl">
                                        <p:cTn id="126" dur="500" fill="hold"/>
                                        <p:tgtEl>
                                          <p:spTgt spid="96"/>
                                        </p:tgtEl>
                                        <p:attrNameLst>
                                          <p:attrName>ppt_h</p:attrName>
                                        </p:attrNameLst>
                                      </p:cBhvr>
                                      <p:tavLst>
                                        <p:tav tm="0">
                                          <p:val>
                                            <p:fltVal val="0"/>
                                          </p:val>
                                        </p:tav>
                                        <p:tav tm="100000">
                                          <p:val>
                                            <p:strVal val="#ppt_h"/>
                                          </p:val>
                                        </p:tav>
                                      </p:tavLst>
                                    </p:anim>
                                    <p:animEffect filter="fade" transition="in">
                                      <p:cBhvr additive="repl">
                                        <p:cTn id="12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碍</a:t>
            </a:r>
            <a:endParaRPr b="0" lang="en-US" sz="8000" spc="-1" strike="noStrike">
              <a:solidFill>
                <a:srgbClr val="000000"/>
              </a:solidFill>
              <a:latin typeface="Calibri"/>
            </a:endParaRPr>
          </a:p>
        </p:txBody>
      </p:sp>
      <p:graphicFrame>
        <p:nvGraphicFramePr>
          <p:cNvPr id="108"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09" name="组合 8"/>
          <p:cNvGrpSpPr/>
          <p:nvPr/>
        </p:nvGrpSpPr>
        <p:grpSpPr>
          <a:xfrm>
            <a:off x="1400040" y="3975120"/>
            <a:ext cx="2840040" cy="1571760"/>
            <a:chOff x="1400040" y="3975120"/>
            <a:chExt cx="2840040" cy="1571760"/>
          </a:xfrm>
        </p:grpSpPr>
        <p:pic>
          <p:nvPicPr>
            <p:cNvPr id="110" name="图示 4" descr=""/>
            <p:cNvPicPr/>
            <p:nvPr/>
          </p:nvPicPr>
          <p:blipFill>
            <a:blip r:embed="rId1"/>
            <a:stretch/>
          </p:blipFill>
          <p:spPr>
            <a:xfrm>
              <a:off x="1400040" y="3975120"/>
              <a:ext cx="2840040" cy="1571760"/>
            </a:xfrm>
            <a:prstGeom prst="rect">
              <a:avLst/>
            </a:prstGeom>
            <a:ln w="0">
              <a:noFill/>
            </a:ln>
          </p:spPr>
        </p:pic>
        <p:sp>
          <p:nvSpPr>
            <p:cNvPr id="111" name="矩形 2"/>
            <p:cNvSpPr/>
            <p:nvPr/>
          </p:nvSpPr>
          <p:spPr>
            <a:xfrm>
              <a:off x="1444680" y="4587840"/>
              <a:ext cx="27666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左窄右宽。“口”要小，“日”宜扁。</a:t>
              </a:r>
              <a:endParaRPr b="0" lang="en-US" sz="2000" spc="-1" strike="noStrike">
                <a:solidFill>
                  <a:srgbClr val="000000"/>
                </a:solidFill>
                <a:latin typeface="Calibri"/>
              </a:endParaRPr>
            </a:p>
          </p:txBody>
        </p:sp>
      </p:grpSp>
      <p:sp>
        <p:nvSpPr>
          <p:cNvPr id="112" name="矩形 3"/>
          <p:cNvSpPr/>
          <p:nvPr/>
        </p:nvSpPr>
        <p:spPr>
          <a:xfrm>
            <a:off x="2171880" y="1868400"/>
            <a:ext cx="917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ài</a:t>
            </a:r>
            <a:endParaRPr b="0" lang="en-US" sz="4800" spc="-1" strike="noStrike">
              <a:solidFill>
                <a:srgbClr val="000000"/>
              </a:solidFill>
              <a:latin typeface="Calibri"/>
            </a:endParaRPr>
          </a:p>
        </p:txBody>
      </p:sp>
      <p:sp>
        <p:nvSpPr>
          <p:cNvPr id="113" name="Freeform 29"/>
          <p:cNvSpPr/>
          <p:nvPr/>
        </p:nvSpPr>
        <p:spPr>
          <a:xfrm>
            <a:off x="5816520" y="3710160"/>
            <a:ext cx="561960" cy="469800"/>
          </a:xfrm>
          <a:custGeom>
            <a:avLst/>
            <a:gdLst/>
            <a:ahLst/>
            <a:rect l="l" t="t" r="r" b="b"/>
            <a:pathLst>
              <a:path w="708" h="591">
                <a:moveTo>
                  <a:pt x="637" y="62"/>
                </a:moveTo>
                <a:lnTo>
                  <a:pt x="645" y="69"/>
                </a:lnTo>
                <a:lnTo>
                  <a:pt x="652" y="75"/>
                </a:lnTo>
                <a:lnTo>
                  <a:pt x="660" y="83"/>
                </a:lnTo>
                <a:lnTo>
                  <a:pt x="668" y="89"/>
                </a:lnTo>
                <a:lnTo>
                  <a:pt x="673" y="96"/>
                </a:lnTo>
                <a:lnTo>
                  <a:pt x="679" y="102"/>
                </a:lnTo>
                <a:lnTo>
                  <a:pt x="685" y="108"/>
                </a:lnTo>
                <a:lnTo>
                  <a:pt x="691" y="113"/>
                </a:lnTo>
                <a:lnTo>
                  <a:pt x="695" y="119"/>
                </a:lnTo>
                <a:lnTo>
                  <a:pt x="698" y="125"/>
                </a:lnTo>
                <a:lnTo>
                  <a:pt x="702" y="131"/>
                </a:lnTo>
                <a:lnTo>
                  <a:pt x="704" y="135"/>
                </a:lnTo>
                <a:lnTo>
                  <a:pt x="706" y="138"/>
                </a:lnTo>
                <a:lnTo>
                  <a:pt x="708" y="142"/>
                </a:lnTo>
                <a:lnTo>
                  <a:pt x="708" y="146"/>
                </a:lnTo>
                <a:lnTo>
                  <a:pt x="708" y="148"/>
                </a:lnTo>
                <a:lnTo>
                  <a:pt x="708" y="158"/>
                </a:lnTo>
                <a:lnTo>
                  <a:pt x="706" y="163"/>
                </a:lnTo>
                <a:lnTo>
                  <a:pt x="704" y="171"/>
                </a:lnTo>
                <a:lnTo>
                  <a:pt x="698" y="177"/>
                </a:lnTo>
                <a:lnTo>
                  <a:pt x="695" y="183"/>
                </a:lnTo>
                <a:lnTo>
                  <a:pt x="689" y="188"/>
                </a:lnTo>
                <a:lnTo>
                  <a:pt x="681" y="192"/>
                </a:lnTo>
                <a:lnTo>
                  <a:pt x="673" y="198"/>
                </a:lnTo>
                <a:lnTo>
                  <a:pt x="668" y="200"/>
                </a:lnTo>
                <a:lnTo>
                  <a:pt x="664" y="204"/>
                </a:lnTo>
                <a:lnTo>
                  <a:pt x="658" y="209"/>
                </a:lnTo>
                <a:lnTo>
                  <a:pt x="654" y="215"/>
                </a:lnTo>
                <a:lnTo>
                  <a:pt x="650" y="223"/>
                </a:lnTo>
                <a:lnTo>
                  <a:pt x="645" y="231"/>
                </a:lnTo>
                <a:lnTo>
                  <a:pt x="639" y="240"/>
                </a:lnTo>
                <a:lnTo>
                  <a:pt x="635" y="250"/>
                </a:lnTo>
                <a:lnTo>
                  <a:pt x="629" y="259"/>
                </a:lnTo>
                <a:lnTo>
                  <a:pt x="624" y="273"/>
                </a:lnTo>
                <a:lnTo>
                  <a:pt x="618" y="284"/>
                </a:lnTo>
                <a:lnTo>
                  <a:pt x="612" y="298"/>
                </a:lnTo>
                <a:lnTo>
                  <a:pt x="606" y="311"/>
                </a:lnTo>
                <a:lnTo>
                  <a:pt x="600" y="326"/>
                </a:lnTo>
                <a:lnTo>
                  <a:pt x="595" y="342"/>
                </a:lnTo>
                <a:lnTo>
                  <a:pt x="589" y="357"/>
                </a:lnTo>
                <a:lnTo>
                  <a:pt x="576" y="390"/>
                </a:lnTo>
                <a:lnTo>
                  <a:pt x="564" y="422"/>
                </a:lnTo>
                <a:lnTo>
                  <a:pt x="552" y="453"/>
                </a:lnTo>
                <a:lnTo>
                  <a:pt x="541" y="484"/>
                </a:lnTo>
                <a:lnTo>
                  <a:pt x="531" y="513"/>
                </a:lnTo>
                <a:lnTo>
                  <a:pt x="522" y="541"/>
                </a:lnTo>
                <a:lnTo>
                  <a:pt x="518" y="555"/>
                </a:lnTo>
                <a:lnTo>
                  <a:pt x="512" y="566"/>
                </a:lnTo>
                <a:lnTo>
                  <a:pt x="508" y="580"/>
                </a:lnTo>
                <a:lnTo>
                  <a:pt x="504" y="591"/>
                </a:lnTo>
                <a:lnTo>
                  <a:pt x="409" y="591"/>
                </a:lnTo>
                <a:lnTo>
                  <a:pt x="409" y="580"/>
                </a:lnTo>
                <a:lnTo>
                  <a:pt x="409" y="566"/>
                </a:lnTo>
                <a:lnTo>
                  <a:pt x="409" y="555"/>
                </a:lnTo>
                <a:lnTo>
                  <a:pt x="410" y="540"/>
                </a:lnTo>
                <a:lnTo>
                  <a:pt x="410" y="526"/>
                </a:lnTo>
                <a:lnTo>
                  <a:pt x="412" y="511"/>
                </a:lnTo>
                <a:lnTo>
                  <a:pt x="414" y="495"/>
                </a:lnTo>
                <a:lnTo>
                  <a:pt x="416" y="480"/>
                </a:lnTo>
                <a:lnTo>
                  <a:pt x="420" y="465"/>
                </a:lnTo>
                <a:lnTo>
                  <a:pt x="422" y="447"/>
                </a:lnTo>
                <a:lnTo>
                  <a:pt x="424" y="430"/>
                </a:lnTo>
                <a:lnTo>
                  <a:pt x="428" y="411"/>
                </a:lnTo>
                <a:lnTo>
                  <a:pt x="432" y="392"/>
                </a:lnTo>
                <a:lnTo>
                  <a:pt x="435" y="373"/>
                </a:lnTo>
                <a:lnTo>
                  <a:pt x="439" y="353"/>
                </a:lnTo>
                <a:lnTo>
                  <a:pt x="443" y="332"/>
                </a:lnTo>
                <a:lnTo>
                  <a:pt x="447" y="315"/>
                </a:lnTo>
                <a:lnTo>
                  <a:pt x="451" y="298"/>
                </a:lnTo>
                <a:lnTo>
                  <a:pt x="455" y="280"/>
                </a:lnTo>
                <a:lnTo>
                  <a:pt x="457" y="265"/>
                </a:lnTo>
                <a:lnTo>
                  <a:pt x="458" y="252"/>
                </a:lnTo>
                <a:lnTo>
                  <a:pt x="460" y="238"/>
                </a:lnTo>
                <a:lnTo>
                  <a:pt x="460" y="225"/>
                </a:lnTo>
                <a:lnTo>
                  <a:pt x="462" y="213"/>
                </a:lnTo>
                <a:lnTo>
                  <a:pt x="460" y="204"/>
                </a:lnTo>
                <a:lnTo>
                  <a:pt x="460" y="194"/>
                </a:lnTo>
                <a:lnTo>
                  <a:pt x="458" y="186"/>
                </a:lnTo>
                <a:lnTo>
                  <a:pt x="457" y="179"/>
                </a:lnTo>
                <a:lnTo>
                  <a:pt x="455" y="173"/>
                </a:lnTo>
                <a:lnTo>
                  <a:pt x="451" y="167"/>
                </a:lnTo>
                <a:lnTo>
                  <a:pt x="447" y="163"/>
                </a:lnTo>
                <a:lnTo>
                  <a:pt x="443" y="160"/>
                </a:lnTo>
                <a:lnTo>
                  <a:pt x="441" y="160"/>
                </a:lnTo>
                <a:lnTo>
                  <a:pt x="437" y="158"/>
                </a:lnTo>
                <a:lnTo>
                  <a:pt x="433" y="158"/>
                </a:lnTo>
                <a:lnTo>
                  <a:pt x="430" y="158"/>
                </a:lnTo>
                <a:lnTo>
                  <a:pt x="424" y="158"/>
                </a:lnTo>
                <a:lnTo>
                  <a:pt x="418" y="158"/>
                </a:lnTo>
                <a:lnTo>
                  <a:pt x="410" y="158"/>
                </a:lnTo>
                <a:lnTo>
                  <a:pt x="403" y="158"/>
                </a:lnTo>
                <a:lnTo>
                  <a:pt x="395" y="158"/>
                </a:lnTo>
                <a:lnTo>
                  <a:pt x="385" y="160"/>
                </a:lnTo>
                <a:lnTo>
                  <a:pt x="376" y="160"/>
                </a:lnTo>
                <a:lnTo>
                  <a:pt x="364" y="161"/>
                </a:lnTo>
                <a:lnTo>
                  <a:pt x="355" y="163"/>
                </a:lnTo>
                <a:lnTo>
                  <a:pt x="341" y="165"/>
                </a:lnTo>
                <a:lnTo>
                  <a:pt x="330" y="167"/>
                </a:lnTo>
                <a:lnTo>
                  <a:pt x="316" y="169"/>
                </a:lnTo>
                <a:lnTo>
                  <a:pt x="301" y="171"/>
                </a:lnTo>
                <a:lnTo>
                  <a:pt x="288" y="175"/>
                </a:lnTo>
                <a:lnTo>
                  <a:pt x="270" y="177"/>
                </a:lnTo>
                <a:lnTo>
                  <a:pt x="255" y="181"/>
                </a:lnTo>
                <a:lnTo>
                  <a:pt x="238" y="183"/>
                </a:lnTo>
                <a:lnTo>
                  <a:pt x="220" y="186"/>
                </a:lnTo>
                <a:lnTo>
                  <a:pt x="201" y="190"/>
                </a:lnTo>
                <a:lnTo>
                  <a:pt x="182" y="194"/>
                </a:lnTo>
                <a:lnTo>
                  <a:pt x="161" y="198"/>
                </a:lnTo>
                <a:lnTo>
                  <a:pt x="140" y="204"/>
                </a:lnTo>
                <a:lnTo>
                  <a:pt x="119" y="207"/>
                </a:lnTo>
                <a:lnTo>
                  <a:pt x="96" y="213"/>
                </a:lnTo>
                <a:lnTo>
                  <a:pt x="73" y="217"/>
                </a:lnTo>
                <a:lnTo>
                  <a:pt x="50" y="223"/>
                </a:lnTo>
                <a:lnTo>
                  <a:pt x="25" y="229"/>
                </a:lnTo>
                <a:lnTo>
                  <a:pt x="0" y="234"/>
                </a:lnTo>
                <a:lnTo>
                  <a:pt x="17" y="167"/>
                </a:lnTo>
                <a:lnTo>
                  <a:pt x="34" y="98"/>
                </a:lnTo>
                <a:lnTo>
                  <a:pt x="69" y="96"/>
                </a:lnTo>
                <a:lnTo>
                  <a:pt x="99" y="94"/>
                </a:lnTo>
                <a:lnTo>
                  <a:pt x="130" y="90"/>
                </a:lnTo>
                <a:lnTo>
                  <a:pt x="159" y="89"/>
                </a:lnTo>
                <a:lnTo>
                  <a:pt x="186" y="87"/>
                </a:lnTo>
                <a:lnTo>
                  <a:pt x="213" y="83"/>
                </a:lnTo>
                <a:lnTo>
                  <a:pt x="238" y="81"/>
                </a:lnTo>
                <a:lnTo>
                  <a:pt x="261" y="77"/>
                </a:lnTo>
                <a:lnTo>
                  <a:pt x="282" y="73"/>
                </a:lnTo>
                <a:lnTo>
                  <a:pt x="303" y="69"/>
                </a:lnTo>
                <a:lnTo>
                  <a:pt x="322" y="65"/>
                </a:lnTo>
                <a:lnTo>
                  <a:pt x="339" y="60"/>
                </a:lnTo>
                <a:lnTo>
                  <a:pt x="355" y="56"/>
                </a:lnTo>
                <a:lnTo>
                  <a:pt x="370" y="50"/>
                </a:lnTo>
                <a:lnTo>
                  <a:pt x="384" y="44"/>
                </a:lnTo>
                <a:lnTo>
                  <a:pt x="395" y="37"/>
                </a:lnTo>
                <a:lnTo>
                  <a:pt x="418" y="27"/>
                </a:lnTo>
                <a:lnTo>
                  <a:pt x="437" y="21"/>
                </a:lnTo>
                <a:lnTo>
                  <a:pt x="458" y="14"/>
                </a:lnTo>
                <a:lnTo>
                  <a:pt x="476" y="10"/>
                </a:lnTo>
                <a:lnTo>
                  <a:pt x="491" y="4"/>
                </a:lnTo>
                <a:lnTo>
                  <a:pt x="499" y="4"/>
                </a:lnTo>
                <a:lnTo>
                  <a:pt x="506" y="2"/>
                </a:lnTo>
                <a:lnTo>
                  <a:pt x="512" y="0"/>
                </a:lnTo>
                <a:lnTo>
                  <a:pt x="518" y="0"/>
                </a:lnTo>
                <a:lnTo>
                  <a:pt x="524" y="0"/>
                </a:lnTo>
                <a:lnTo>
                  <a:pt x="528" y="0"/>
                </a:lnTo>
                <a:lnTo>
                  <a:pt x="533" y="0"/>
                </a:lnTo>
                <a:lnTo>
                  <a:pt x="537" y="0"/>
                </a:lnTo>
                <a:lnTo>
                  <a:pt x="543" y="2"/>
                </a:lnTo>
                <a:lnTo>
                  <a:pt x="549" y="4"/>
                </a:lnTo>
                <a:lnTo>
                  <a:pt x="554" y="6"/>
                </a:lnTo>
                <a:lnTo>
                  <a:pt x="560" y="10"/>
                </a:lnTo>
                <a:lnTo>
                  <a:pt x="574" y="18"/>
                </a:lnTo>
                <a:lnTo>
                  <a:pt x="587" y="25"/>
                </a:lnTo>
                <a:lnTo>
                  <a:pt x="602" y="37"/>
                </a:lnTo>
                <a:lnTo>
                  <a:pt x="620" y="48"/>
                </a:lnTo>
                <a:lnTo>
                  <a:pt x="637" y="6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Freeform 30"/>
          <p:cNvSpPr/>
          <p:nvPr/>
        </p:nvSpPr>
        <p:spPr>
          <a:xfrm>
            <a:off x="5873760" y="4121280"/>
            <a:ext cx="430200" cy="166680"/>
          </a:xfrm>
          <a:custGeom>
            <a:avLst/>
            <a:gdLst/>
            <a:ahLst/>
            <a:rect l="l" t="t" r="r" b="b"/>
            <a:pathLst>
              <a:path w="541" h="210">
                <a:moveTo>
                  <a:pt x="0" y="98"/>
                </a:moveTo>
                <a:lnTo>
                  <a:pt x="23" y="96"/>
                </a:lnTo>
                <a:lnTo>
                  <a:pt x="46" y="96"/>
                </a:lnTo>
                <a:lnTo>
                  <a:pt x="67" y="93"/>
                </a:lnTo>
                <a:lnTo>
                  <a:pt x="90" y="89"/>
                </a:lnTo>
                <a:lnTo>
                  <a:pt x="113" y="83"/>
                </a:lnTo>
                <a:lnTo>
                  <a:pt x="136" y="77"/>
                </a:lnTo>
                <a:lnTo>
                  <a:pt x="157" y="69"/>
                </a:lnTo>
                <a:lnTo>
                  <a:pt x="180" y="62"/>
                </a:lnTo>
                <a:lnTo>
                  <a:pt x="203" y="56"/>
                </a:lnTo>
                <a:lnTo>
                  <a:pt x="224" y="50"/>
                </a:lnTo>
                <a:lnTo>
                  <a:pt x="247" y="43"/>
                </a:lnTo>
                <a:lnTo>
                  <a:pt x="268" y="37"/>
                </a:lnTo>
                <a:lnTo>
                  <a:pt x="290" y="29"/>
                </a:lnTo>
                <a:lnTo>
                  <a:pt x="311" y="23"/>
                </a:lnTo>
                <a:lnTo>
                  <a:pt x="330" y="18"/>
                </a:lnTo>
                <a:lnTo>
                  <a:pt x="349" y="12"/>
                </a:lnTo>
                <a:lnTo>
                  <a:pt x="366" y="8"/>
                </a:lnTo>
                <a:lnTo>
                  <a:pt x="384" y="4"/>
                </a:lnTo>
                <a:lnTo>
                  <a:pt x="403" y="2"/>
                </a:lnTo>
                <a:lnTo>
                  <a:pt x="420" y="0"/>
                </a:lnTo>
                <a:lnTo>
                  <a:pt x="435" y="0"/>
                </a:lnTo>
                <a:lnTo>
                  <a:pt x="453" y="0"/>
                </a:lnTo>
                <a:lnTo>
                  <a:pt x="466" y="0"/>
                </a:lnTo>
                <a:lnTo>
                  <a:pt x="481" y="0"/>
                </a:lnTo>
                <a:lnTo>
                  <a:pt x="487" y="2"/>
                </a:lnTo>
                <a:lnTo>
                  <a:pt x="493" y="6"/>
                </a:lnTo>
                <a:lnTo>
                  <a:pt x="501" y="10"/>
                </a:lnTo>
                <a:lnTo>
                  <a:pt x="506" y="14"/>
                </a:lnTo>
                <a:lnTo>
                  <a:pt x="510" y="18"/>
                </a:lnTo>
                <a:lnTo>
                  <a:pt x="516" y="23"/>
                </a:lnTo>
                <a:lnTo>
                  <a:pt x="520" y="29"/>
                </a:lnTo>
                <a:lnTo>
                  <a:pt x="524" y="37"/>
                </a:lnTo>
                <a:lnTo>
                  <a:pt x="528" y="45"/>
                </a:lnTo>
                <a:lnTo>
                  <a:pt x="531" y="52"/>
                </a:lnTo>
                <a:lnTo>
                  <a:pt x="535" y="60"/>
                </a:lnTo>
                <a:lnTo>
                  <a:pt x="537" y="69"/>
                </a:lnTo>
                <a:lnTo>
                  <a:pt x="539" y="79"/>
                </a:lnTo>
                <a:lnTo>
                  <a:pt x="539" y="89"/>
                </a:lnTo>
                <a:lnTo>
                  <a:pt x="541" y="98"/>
                </a:lnTo>
                <a:lnTo>
                  <a:pt x="541" y="110"/>
                </a:lnTo>
                <a:lnTo>
                  <a:pt x="407" y="135"/>
                </a:lnTo>
                <a:lnTo>
                  <a:pt x="270" y="160"/>
                </a:lnTo>
                <a:lnTo>
                  <a:pt x="136" y="185"/>
                </a:lnTo>
                <a:lnTo>
                  <a:pt x="0" y="210"/>
                </a:lnTo>
                <a:lnTo>
                  <a:pt x="0" y="154"/>
                </a:lnTo>
                <a:lnTo>
                  <a:pt x="0" y="9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31"/>
          <p:cNvSpPr/>
          <p:nvPr/>
        </p:nvSpPr>
        <p:spPr>
          <a:xfrm>
            <a:off x="5462640" y="3201840"/>
            <a:ext cx="665280" cy="1243080"/>
          </a:xfrm>
          <a:custGeom>
            <a:avLst/>
            <a:gdLst/>
            <a:ahLst/>
            <a:rect l="l" t="t" r="r" b="b"/>
            <a:pathLst>
              <a:path w="839" h="1566">
                <a:moveTo>
                  <a:pt x="820" y="198"/>
                </a:moveTo>
                <a:lnTo>
                  <a:pt x="814" y="208"/>
                </a:lnTo>
                <a:lnTo>
                  <a:pt x="809" y="219"/>
                </a:lnTo>
                <a:lnTo>
                  <a:pt x="803" y="231"/>
                </a:lnTo>
                <a:lnTo>
                  <a:pt x="795" y="246"/>
                </a:lnTo>
                <a:lnTo>
                  <a:pt x="789" y="261"/>
                </a:lnTo>
                <a:lnTo>
                  <a:pt x="785" y="269"/>
                </a:lnTo>
                <a:lnTo>
                  <a:pt x="782" y="279"/>
                </a:lnTo>
                <a:lnTo>
                  <a:pt x="780" y="288"/>
                </a:lnTo>
                <a:lnTo>
                  <a:pt x="776" y="300"/>
                </a:lnTo>
                <a:lnTo>
                  <a:pt x="774" y="309"/>
                </a:lnTo>
                <a:lnTo>
                  <a:pt x="772" y="321"/>
                </a:lnTo>
                <a:lnTo>
                  <a:pt x="768" y="332"/>
                </a:lnTo>
                <a:lnTo>
                  <a:pt x="766" y="346"/>
                </a:lnTo>
                <a:lnTo>
                  <a:pt x="762" y="357"/>
                </a:lnTo>
                <a:lnTo>
                  <a:pt x="759" y="373"/>
                </a:lnTo>
                <a:lnTo>
                  <a:pt x="755" y="386"/>
                </a:lnTo>
                <a:lnTo>
                  <a:pt x="749" y="401"/>
                </a:lnTo>
                <a:lnTo>
                  <a:pt x="743" y="417"/>
                </a:lnTo>
                <a:lnTo>
                  <a:pt x="737" y="432"/>
                </a:lnTo>
                <a:lnTo>
                  <a:pt x="732" y="449"/>
                </a:lnTo>
                <a:lnTo>
                  <a:pt x="726" y="469"/>
                </a:lnTo>
                <a:lnTo>
                  <a:pt x="720" y="486"/>
                </a:lnTo>
                <a:lnTo>
                  <a:pt x="714" y="505"/>
                </a:lnTo>
                <a:lnTo>
                  <a:pt x="707" y="526"/>
                </a:lnTo>
                <a:lnTo>
                  <a:pt x="701" y="547"/>
                </a:lnTo>
                <a:lnTo>
                  <a:pt x="693" y="568"/>
                </a:lnTo>
                <a:lnTo>
                  <a:pt x="688" y="591"/>
                </a:lnTo>
                <a:lnTo>
                  <a:pt x="678" y="614"/>
                </a:lnTo>
                <a:lnTo>
                  <a:pt x="668" y="639"/>
                </a:lnTo>
                <a:lnTo>
                  <a:pt x="657" y="664"/>
                </a:lnTo>
                <a:lnTo>
                  <a:pt x="647" y="689"/>
                </a:lnTo>
                <a:lnTo>
                  <a:pt x="636" y="714"/>
                </a:lnTo>
                <a:lnTo>
                  <a:pt x="622" y="741"/>
                </a:lnTo>
                <a:lnTo>
                  <a:pt x="611" y="768"/>
                </a:lnTo>
                <a:lnTo>
                  <a:pt x="597" y="795"/>
                </a:lnTo>
                <a:lnTo>
                  <a:pt x="582" y="824"/>
                </a:lnTo>
                <a:lnTo>
                  <a:pt x="569" y="850"/>
                </a:lnTo>
                <a:lnTo>
                  <a:pt x="553" y="881"/>
                </a:lnTo>
                <a:lnTo>
                  <a:pt x="538" y="910"/>
                </a:lnTo>
                <a:lnTo>
                  <a:pt x="522" y="941"/>
                </a:lnTo>
                <a:lnTo>
                  <a:pt x="505" y="971"/>
                </a:lnTo>
                <a:lnTo>
                  <a:pt x="488" y="1004"/>
                </a:lnTo>
                <a:lnTo>
                  <a:pt x="471" y="1035"/>
                </a:lnTo>
                <a:lnTo>
                  <a:pt x="453" y="1069"/>
                </a:lnTo>
                <a:lnTo>
                  <a:pt x="434" y="1102"/>
                </a:lnTo>
                <a:lnTo>
                  <a:pt x="417" y="1134"/>
                </a:lnTo>
                <a:lnTo>
                  <a:pt x="400" y="1165"/>
                </a:lnTo>
                <a:lnTo>
                  <a:pt x="380" y="1194"/>
                </a:lnTo>
                <a:lnTo>
                  <a:pt x="363" y="1223"/>
                </a:lnTo>
                <a:lnTo>
                  <a:pt x="344" y="1250"/>
                </a:lnTo>
                <a:lnTo>
                  <a:pt x="325" y="1275"/>
                </a:lnTo>
                <a:lnTo>
                  <a:pt x="306" y="1299"/>
                </a:lnTo>
                <a:lnTo>
                  <a:pt x="286" y="1324"/>
                </a:lnTo>
                <a:lnTo>
                  <a:pt x="269" y="1346"/>
                </a:lnTo>
                <a:lnTo>
                  <a:pt x="248" y="1367"/>
                </a:lnTo>
                <a:lnTo>
                  <a:pt x="229" y="1388"/>
                </a:lnTo>
                <a:lnTo>
                  <a:pt x="210" y="1407"/>
                </a:lnTo>
                <a:lnTo>
                  <a:pt x="190" y="1424"/>
                </a:lnTo>
                <a:lnTo>
                  <a:pt x="169" y="1442"/>
                </a:lnTo>
                <a:lnTo>
                  <a:pt x="150" y="1457"/>
                </a:lnTo>
                <a:lnTo>
                  <a:pt x="133" y="1472"/>
                </a:lnTo>
                <a:lnTo>
                  <a:pt x="115" y="1486"/>
                </a:lnTo>
                <a:lnTo>
                  <a:pt x="100" y="1499"/>
                </a:lnTo>
                <a:lnTo>
                  <a:pt x="85" y="1511"/>
                </a:lnTo>
                <a:lnTo>
                  <a:pt x="73" y="1522"/>
                </a:lnTo>
                <a:lnTo>
                  <a:pt x="60" y="1532"/>
                </a:lnTo>
                <a:lnTo>
                  <a:pt x="50" y="1541"/>
                </a:lnTo>
                <a:lnTo>
                  <a:pt x="41" y="1549"/>
                </a:lnTo>
                <a:lnTo>
                  <a:pt x="31" y="1555"/>
                </a:lnTo>
                <a:lnTo>
                  <a:pt x="23" y="1559"/>
                </a:lnTo>
                <a:lnTo>
                  <a:pt x="18" y="1562"/>
                </a:lnTo>
                <a:lnTo>
                  <a:pt x="12" y="1566"/>
                </a:lnTo>
                <a:lnTo>
                  <a:pt x="8" y="1566"/>
                </a:lnTo>
                <a:lnTo>
                  <a:pt x="4" y="1566"/>
                </a:lnTo>
                <a:lnTo>
                  <a:pt x="2" y="1564"/>
                </a:lnTo>
                <a:lnTo>
                  <a:pt x="0" y="1564"/>
                </a:lnTo>
                <a:lnTo>
                  <a:pt x="0" y="1562"/>
                </a:lnTo>
                <a:lnTo>
                  <a:pt x="0" y="1559"/>
                </a:lnTo>
                <a:lnTo>
                  <a:pt x="2" y="1553"/>
                </a:lnTo>
                <a:lnTo>
                  <a:pt x="4" y="1547"/>
                </a:lnTo>
                <a:lnTo>
                  <a:pt x="8" y="1539"/>
                </a:lnTo>
                <a:lnTo>
                  <a:pt x="14" y="1532"/>
                </a:lnTo>
                <a:lnTo>
                  <a:pt x="20" y="1520"/>
                </a:lnTo>
                <a:lnTo>
                  <a:pt x="27" y="1509"/>
                </a:lnTo>
                <a:lnTo>
                  <a:pt x="37" y="1497"/>
                </a:lnTo>
                <a:lnTo>
                  <a:pt x="46" y="1482"/>
                </a:lnTo>
                <a:lnTo>
                  <a:pt x="56" y="1466"/>
                </a:lnTo>
                <a:lnTo>
                  <a:pt x="67" y="1449"/>
                </a:lnTo>
                <a:lnTo>
                  <a:pt x="81" y="1432"/>
                </a:lnTo>
                <a:lnTo>
                  <a:pt x="94" y="1413"/>
                </a:lnTo>
                <a:lnTo>
                  <a:pt x="110" y="1394"/>
                </a:lnTo>
                <a:lnTo>
                  <a:pt x="125" y="1371"/>
                </a:lnTo>
                <a:lnTo>
                  <a:pt x="140" y="1349"/>
                </a:lnTo>
                <a:lnTo>
                  <a:pt x="158" y="1326"/>
                </a:lnTo>
                <a:lnTo>
                  <a:pt x="173" y="1303"/>
                </a:lnTo>
                <a:lnTo>
                  <a:pt x="188" y="1280"/>
                </a:lnTo>
                <a:lnTo>
                  <a:pt x="204" y="1255"/>
                </a:lnTo>
                <a:lnTo>
                  <a:pt x="221" y="1230"/>
                </a:lnTo>
                <a:lnTo>
                  <a:pt x="236" y="1205"/>
                </a:lnTo>
                <a:lnTo>
                  <a:pt x="252" y="1179"/>
                </a:lnTo>
                <a:lnTo>
                  <a:pt x="267" y="1150"/>
                </a:lnTo>
                <a:lnTo>
                  <a:pt x="284" y="1121"/>
                </a:lnTo>
                <a:lnTo>
                  <a:pt x="300" y="1092"/>
                </a:lnTo>
                <a:lnTo>
                  <a:pt x="315" y="1060"/>
                </a:lnTo>
                <a:lnTo>
                  <a:pt x="331" y="1029"/>
                </a:lnTo>
                <a:lnTo>
                  <a:pt x="346" y="996"/>
                </a:lnTo>
                <a:lnTo>
                  <a:pt x="363" y="962"/>
                </a:lnTo>
                <a:lnTo>
                  <a:pt x="378" y="929"/>
                </a:lnTo>
                <a:lnTo>
                  <a:pt x="392" y="898"/>
                </a:lnTo>
                <a:lnTo>
                  <a:pt x="407" y="866"/>
                </a:lnTo>
                <a:lnTo>
                  <a:pt x="423" y="837"/>
                </a:lnTo>
                <a:lnTo>
                  <a:pt x="436" y="806"/>
                </a:lnTo>
                <a:lnTo>
                  <a:pt x="450" y="777"/>
                </a:lnTo>
                <a:lnTo>
                  <a:pt x="463" y="749"/>
                </a:lnTo>
                <a:lnTo>
                  <a:pt x="476" y="720"/>
                </a:lnTo>
                <a:lnTo>
                  <a:pt x="488" y="691"/>
                </a:lnTo>
                <a:lnTo>
                  <a:pt x="499" y="664"/>
                </a:lnTo>
                <a:lnTo>
                  <a:pt x="511" y="637"/>
                </a:lnTo>
                <a:lnTo>
                  <a:pt x="522" y="611"/>
                </a:lnTo>
                <a:lnTo>
                  <a:pt x="532" y="584"/>
                </a:lnTo>
                <a:lnTo>
                  <a:pt x="540" y="557"/>
                </a:lnTo>
                <a:lnTo>
                  <a:pt x="547" y="532"/>
                </a:lnTo>
                <a:lnTo>
                  <a:pt x="555" y="505"/>
                </a:lnTo>
                <a:lnTo>
                  <a:pt x="561" y="480"/>
                </a:lnTo>
                <a:lnTo>
                  <a:pt x="569" y="453"/>
                </a:lnTo>
                <a:lnTo>
                  <a:pt x="574" y="426"/>
                </a:lnTo>
                <a:lnTo>
                  <a:pt x="580" y="399"/>
                </a:lnTo>
                <a:lnTo>
                  <a:pt x="586" y="371"/>
                </a:lnTo>
                <a:lnTo>
                  <a:pt x="592" y="342"/>
                </a:lnTo>
                <a:lnTo>
                  <a:pt x="595" y="311"/>
                </a:lnTo>
                <a:lnTo>
                  <a:pt x="601" y="280"/>
                </a:lnTo>
                <a:lnTo>
                  <a:pt x="607" y="250"/>
                </a:lnTo>
                <a:lnTo>
                  <a:pt x="611" y="217"/>
                </a:lnTo>
                <a:lnTo>
                  <a:pt x="617" y="183"/>
                </a:lnTo>
                <a:lnTo>
                  <a:pt x="620" y="148"/>
                </a:lnTo>
                <a:lnTo>
                  <a:pt x="626" y="113"/>
                </a:lnTo>
                <a:lnTo>
                  <a:pt x="630" y="77"/>
                </a:lnTo>
                <a:lnTo>
                  <a:pt x="634" y="39"/>
                </a:lnTo>
                <a:lnTo>
                  <a:pt x="640" y="0"/>
                </a:lnTo>
                <a:lnTo>
                  <a:pt x="659" y="10"/>
                </a:lnTo>
                <a:lnTo>
                  <a:pt x="678" y="19"/>
                </a:lnTo>
                <a:lnTo>
                  <a:pt x="695" y="27"/>
                </a:lnTo>
                <a:lnTo>
                  <a:pt x="713" y="35"/>
                </a:lnTo>
                <a:lnTo>
                  <a:pt x="730" y="42"/>
                </a:lnTo>
                <a:lnTo>
                  <a:pt x="745" y="50"/>
                </a:lnTo>
                <a:lnTo>
                  <a:pt x="759" y="58"/>
                </a:lnTo>
                <a:lnTo>
                  <a:pt x="772" y="65"/>
                </a:lnTo>
                <a:lnTo>
                  <a:pt x="784" y="71"/>
                </a:lnTo>
                <a:lnTo>
                  <a:pt x="793" y="79"/>
                </a:lnTo>
                <a:lnTo>
                  <a:pt x="803" y="85"/>
                </a:lnTo>
                <a:lnTo>
                  <a:pt x="812" y="90"/>
                </a:lnTo>
                <a:lnTo>
                  <a:pt x="818" y="96"/>
                </a:lnTo>
                <a:lnTo>
                  <a:pt x="824" y="102"/>
                </a:lnTo>
                <a:lnTo>
                  <a:pt x="828" y="106"/>
                </a:lnTo>
                <a:lnTo>
                  <a:pt x="832" y="112"/>
                </a:lnTo>
                <a:lnTo>
                  <a:pt x="835" y="121"/>
                </a:lnTo>
                <a:lnTo>
                  <a:pt x="837" y="131"/>
                </a:lnTo>
                <a:lnTo>
                  <a:pt x="839" y="140"/>
                </a:lnTo>
                <a:lnTo>
                  <a:pt x="839" y="150"/>
                </a:lnTo>
                <a:lnTo>
                  <a:pt x="837" y="160"/>
                </a:lnTo>
                <a:lnTo>
                  <a:pt x="833" y="171"/>
                </a:lnTo>
                <a:lnTo>
                  <a:pt x="830" y="177"/>
                </a:lnTo>
                <a:lnTo>
                  <a:pt x="828" y="184"/>
                </a:lnTo>
                <a:lnTo>
                  <a:pt x="824" y="190"/>
                </a:lnTo>
                <a:lnTo>
                  <a:pt x="820" y="19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Freeform 32"/>
          <p:cNvSpPr/>
          <p:nvPr/>
        </p:nvSpPr>
        <p:spPr>
          <a:xfrm>
            <a:off x="6332400" y="3855960"/>
            <a:ext cx="1422360" cy="293760"/>
          </a:xfrm>
          <a:custGeom>
            <a:avLst/>
            <a:gdLst/>
            <a:ahLst/>
            <a:rect l="l" t="t" r="r" b="b"/>
            <a:pathLst>
              <a:path w="1794" h="371">
                <a:moveTo>
                  <a:pt x="1433" y="25"/>
                </a:moveTo>
                <a:lnTo>
                  <a:pt x="1448" y="23"/>
                </a:lnTo>
                <a:lnTo>
                  <a:pt x="1461" y="22"/>
                </a:lnTo>
                <a:lnTo>
                  <a:pt x="1477" y="18"/>
                </a:lnTo>
                <a:lnTo>
                  <a:pt x="1490" y="16"/>
                </a:lnTo>
                <a:lnTo>
                  <a:pt x="1504" y="14"/>
                </a:lnTo>
                <a:lnTo>
                  <a:pt x="1517" y="12"/>
                </a:lnTo>
                <a:lnTo>
                  <a:pt x="1529" y="10"/>
                </a:lnTo>
                <a:lnTo>
                  <a:pt x="1540" y="8"/>
                </a:lnTo>
                <a:lnTo>
                  <a:pt x="1552" y="6"/>
                </a:lnTo>
                <a:lnTo>
                  <a:pt x="1561" y="4"/>
                </a:lnTo>
                <a:lnTo>
                  <a:pt x="1571" y="4"/>
                </a:lnTo>
                <a:lnTo>
                  <a:pt x="1580" y="2"/>
                </a:lnTo>
                <a:lnTo>
                  <a:pt x="1590" y="2"/>
                </a:lnTo>
                <a:lnTo>
                  <a:pt x="1598" y="0"/>
                </a:lnTo>
                <a:lnTo>
                  <a:pt x="1605" y="0"/>
                </a:lnTo>
                <a:lnTo>
                  <a:pt x="1613" y="0"/>
                </a:lnTo>
                <a:lnTo>
                  <a:pt x="1626" y="6"/>
                </a:lnTo>
                <a:lnTo>
                  <a:pt x="1640" y="12"/>
                </a:lnTo>
                <a:lnTo>
                  <a:pt x="1653" y="20"/>
                </a:lnTo>
                <a:lnTo>
                  <a:pt x="1669" y="29"/>
                </a:lnTo>
                <a:lnTo>
                  <a:pt x="1682" y="41"/>
                </a:lnTo>
                <a:lnTo>
                  <a:pt x="1692" y="48"/>
                </a:lnTo>
                <a:lnTo>
                  <a:pt x="1699" y="54"/>
                </a:lnTo>
                <a:lnTo>
                  <a:pt x="1707" y="62"/>
                </a:lnTo>
                <a:lnTo>
                  <a:pt x="1715" y="70"/>
                </a:lnTo>
                <a:lnTo>
                  <a:pt x="1724" y="77"/>
                </a:lnTo>
                <a:lnTo>
                  <a:pt x="1732" y="87"/>
                </a:lnTo>
                <a:lnTo>
                  <a:pt x="1740" y="96"/>
                </a:lnTo>
                <a:lnTo>
                  <a:pt x="1746" y="104"/>
                </a:lnTo>
                <a:lnTo>
                  <a:pt x="1751" y="112"/>
                </a:lnTo>
                <a:lnTo>
                  <a:pt x="1757" y="119"/>
                </a:lnTo>
                <a:lnTo>
                  <a:pt x="1763" y="127"/>
                </a:lnTo>
                <a:lnTo>
                  <a:pt x="1767" y="133"/>
                </a:lnTo>
                <a:lnTo>
                  <a:pt x="1772" y="139"/>
                </a:lnTo>
                <a:lnTo>
                  <a:pt x="1776" y="144"/>
                </a:lnTo>
                <a:lnTo>
                  <a:pt x="1784" y="154"/>
                </a:lnTo>
                <a:lnTo>
                  <a:pt x="1786" y="158"/>
                </a:lnTo>
                <a:lnTo>
                  <a:pt x="1788" y="162"/>
                </a:lnTo>
                <a:lnTo>
                  <a:pt x="1790" y="166"/>
                </a:lnTo>
                <a:lnTo>
                  <a:pt x="1792" y="167"/>
                </a:lnTo>
                <a:lnTo>
                  <a:pt x="1792" y="171"/>
                </a:lnTo>
                <a:lnTo>
                  <a:pt x="1794" y="173"/>
                </a:lnTo>
                <a:lnTo>
                  <a:pt x="1790" y="175"/>
                </a:lnTo>
                <a:lnTo>
                  <a:pt x="1784" y="177"/>
                </a:lnTo>
                <a:lnTo>
                  <a:pt x="1778" y="181"/>
                </a:lnTo>
                <a:lnTo>
                  <a:pt x="1770" y="183"/>
                </a:lnTo>
                <a:lnTo>
                  <a:pt x="1761" y="185"/>
                </a:lnTo>
                <a:lnTo>
                  <a:pt x="1749" y="187"/>
                </a:lnTo>
                <a:lnTo>
                  <a:pt x="1736" y="189"/>
                </a:lnTo>
                <a:lnTo>
                  <a:pt x="1721" y="190"/>
                </a:lnTo>
                <a:lnTo>
                  <a:pt x="1703" y="192"/>
                </a:lnTo>
                <a:lnTo>
                  <a:pt x="1686" y="192"/>
                </a:lnTo>
                <a:lnTo>
                  <a:pt x="1665" y="194"/>
                </a:lnTo>
                <a:lnTo>
                  <a:pt x="1644" y="196"/>
                </a:lnTo>
                <a:lnTo>
                  <a:pt x="1621" y="196"/>
                </a:lnTo>
                <a:lnTo>
                  <a:pt x="1596" y="196"/>
                </a:lnTo>
                <a:lnTo>
                  <a:pt x="1569" y="198"/>
                </a:lnTo>
                <a:lnTo>
                  <a:pt x="1540" y="198"/>
                </a:lnTo>
                <a:lnTo>
                  <a:pt x="1477" y="198"/>
                </a:lnTo>
                <a:lnTo>
                  <a:pt x="1413" y="200"/>
                </a:lnTo>
                <a:lnTo>
                  <a:pt x="1352" y="202"/>
                </a:lnTo>
                <a:lnTo>
                  <a:pt x="1289" y="208"/>
                </a:lnTo>
                <a:lnTo>
                  <a:pt x="1227" y="212"/>
                </a:lnTo>
                <a:lnTo>
                  <a:pt x="1166" y="219"/>
                </a:lnTo>
                <a:lnTo>
                  <a:pt x="1106" y="227"/>
                </a:lnTo>
                <a:lnTo>
                  <a:pt x="1047" y="235"/>
                </a:lnTo>
                <a:lnTo>
                  <a:pt x="1018" y="240"/>
                </a:lnTo>
                <a:lnTo>
                  <a:pt x="987" y="244"/>
                </a:lnTo>
                <a:lnTo>
                  <a:pt x="957" y="250"/>
                </a:lnTo>
                <a:lnTo>
                  <a:pt x="926" y="254"/>
                </a:lnTo>
                <a:lnTo>
                  <a:pt x="893" y="258"/>
                </a:lnTo>
                <a:lnTo>
                  <a:pt x="861" y="263"/>
                </a:lnTo>
                <a:lnTo>
                  <a:pt x="795" y="273"/>
                </a:lnTo>
                <a:lnTo>
                  <a:pt x="728" y="284"/>
                </a:lnTo>
                <a:lnTo>
                  <a:pt x="659" y="296"/>
                </a:lnTo>
                <a:lnTo>
                  <a:pt x="590" y="308"/>
                </a:lnTo>
                <a:lnTo>
                  <a:pt x="517" y="321"/>
                </a:lnTo>
                <a:lnTo>
                  <a:pt x="500" y="325"/>
                </a:lnTo>
                <a:lnTo>
                  <a:pt x="482" y="329"/>
                </a:lnTo>
                <a:lnTo>
                  <a:pt x="465" y="331"/>
                </a:lnTo>
                <a:lnTo>
                  <a:pt x="450" y="334"/>
                </a:lnTo>
                <a:lnTo>
                  <a:pt x="432" y="336"/>
                </a:lnTo>
                <a:lnTo>
                  <a:pt x="419" y="340"/>
                </a:lnTo>
                <a:lnTo>
                  <a:pt x="404" y="342"/>
                </a:lnTo>
                <a:lnTo>
                  <a:pt x="388" y="344"/>
                </a:lnTo>
                <a:lnTo>
                  <a:pt x="375" y="348"/>
                </a:lnTo>
                <a:lnTo>
                  <a:pt x="361" y="350"/>
                </a:lnTo>
                <a:lnTo>
                  <a:pt x="348" y="352"/>
                </a:lnTo>
                <a:lnTo>
                  <a:pt x="336" y="354"/>
                </a:lnTo>
                <a:lnTo>
                  <a:pt x="325" y="356"/>
                </a:lnTo>
                <a:lnTo>
                  <a:pt x="313" y="357"/>
                </a:lnTo>
                <a:lnTo>
                  <a:pt x="302" y="359"/>
                </a:lnTo>
                <a:lnTo>
                  <a:pt x="292" y="359"/>
                </a:lnTo>
                <a:lnTo>
                  <a:pt x="283" y="361"/>
                </a:lnTo>
                <a:lnTo>
                  <a:pt x="273" y="363"/>
                </a:lnTo>
                <a:lnTo>
                  <a:pt x="263" y="363"/>
                </a:lnTo>
                <a:lnTo>
                  <a:pt x="256" y="365"/>
                </a:lnTo>
                <a:lnTo>
                  <a:pt x="248" y="365"/>
                </a:lnTo>
                <a:lnTo>
                  <a:pt x="240" y="367"/>
                </a:lnTo>
                <a:lnTo>
                  <a:pt x="233" y="367"/>
                </a:lnTo>
                <a:lnTo>
                  <a:pt x="227" y="369"/>
                </a:lnTo>
                <a:lnTo>
                  <a:pt x="221" y="369"/>
                </a:lnTo>
                <a:lnTo>
                  <a:pt x="215" y="369"/>
                </a:lnTo>
                <a:lnTo>
                  <a:pt x="210" y="369"/>
                </a:lnTo>
                <a:lnTo>
                  <a:pt x="206" y="369"/>
                </a:lnTo>
                <a:lnTo>
                  <a:pt x="202" y="371"/>
                </a:lnTo>
                <a:lnTo>
                  <a:pt x="198" y="371"/>
                </a:lnTo>
                <a:lnTo>
                  <a:pt x="194" y="371"/>
                </a:lnTo>
                <a:lnTo>
                  <a:pt x="192" y="371"/>
                </a:lnTo>
                <a:lnTo>
                  <a:pt x="183" y="369"/>
                </a:lnTo>
                <a:lnTo>
                  <a:pt x="173" y="369"/>
                </a:lnTo>
                <a:lnTo>
                  <a:pt x="160" y="365"/>
                </a:lnTo>
                <a:lnTo>
                  <a:pt x="148" y="361"/>
                </a:lnTo>
                <a:lnTo>
                  <a:pt x="133" y="356"/>
                </a:lnTo>
                <a:lnTo>
                  <a:pt x="118" y="350"/>
                </a:lnTo>
                <a:lnTo>
                  <a:pt x="102" y="342"/>
                </a:lnTo>
                <a:lnTo>
                  <a:pt x="85" y="334"/>
                </a:lnTo>
                <a:lnTo>
                  <a:pt x="73" y="329"/>
                </a:lnTo>
                <a:lnTo>
                  <a:pt x="64" y="325"/>
                </a:lnTo>
                <a:lnTo>
                  <a:pt x="54" y="319"/>
                </a:lnTo>
                <a:lnTo>
                  <a:pt x="47" y="315"/>
                </a:lnTo>
                <a:lnTo>
                  <a:pt x="39" y="311"/>
                </a:lnTo>
                <a:lnTo>
                  <a:pt x="31" y="306"/>
                </a:lnTo>
                <a:lnTo>
                  <a:pt x="25" y="302"/>
                </a:lnTo>
                <a:lnTo>
                  <a:pt x="20" y="298"/>
                </a:lnTo>
                <a:lnTo>
                  <a:pt x="16" y="294"/>
                </a:lnTo>
                <a:lnTo>
                  <a:pt x="12" y="290"/>
                </a:lnTo>
                <a:lnTo>
                  <a:pt x="8" y="286"/>
                </a:lnTo>
                <a:lnTo>
                  <a:pt x="4" y="283"/>
                </a:lnTo>
                <a:lnTo>
                  <a:pt x="2" y="281"/>
                </a:lnTo>
                <a:lnTo>
                  <a:pt x="2" y="277"/>
                </a:lnTo>
                <a:lnTo>
                  <a:pt x="0" y="275"/>
                </a:lnTo>
                <a:lnTo>
                  <a:pt x="0" y="271"/>
                </a:lnTo>
                <a:lnTo>
                  <a:pt x="8" y="271"/>
                </a:lnTo>
                <a:lnTo>
                  <a:pt x="18" y="271"/>
                </a:lnTo>
                <a:lnTo>
                  <a:pt x="29" y="271"/>
                </a:lnTo>
                <a:lnTo>
                  <a:pt x="41" y="269"/>
                </a:lnTo>
                <a:lnTo>
                  <a:pt x="52" y="269"/>
                </a:lnTo>
                <a:lnTo>
                  <a:pt x="66" y="267"/>
                </a:lnTo>
                <a:lnTo>
                  <a:pt x="79" y="267"/>
                </a:lnTo>
                <a:lnTo>
                  <a:pt x="95" y="265"/>
                </a:lnTo>
                <a:lnTo>
                  <a:pt x="112" y="263"/>
                </a:lnTo>
                <a:lnTo>
                  <a:pt x="127" y="261"/>
                </a:lnTo>
                <a:lnTo>
                  <a:pt x="146" y="260"/>
                </a:lnTo>
                <a:lnTo>
                  <a:pt x="166" y="256"/>
                </a:lnTo>
                <a:lnTo>
                  <a:pt x="185" y="254"/>
                </a:lnTo>
                <a:lnTo>
                  <a:pt x="206" y="250"/>
                </a:lnTo>
                <a:lnTo>
                  <a:pt x="227" y="248"/>
                </a:lnTo>
                <a:lnTo>
                  <a:pt x="250" y="244"/>
                </a:lnTo>
                <a:lnTo>
                  <a:pt x="273" y="240"/>
                </a:lnTo>
                <a:lnTo>
                  <a:pt x="298" y="237"/>
                </a:lnTo>
                <a:lnTo>
                  <a:pt x="323" y="233"/>
                </a:lnTo>
                <a:lnTo>
                  <a:pt x="350" y="229"/>
                </a:lnTo>
                <a:lnTo>
                  <a:pt x="377" y="225"/>
                </a:lnTo>
                <a:lnTo>
                  <a:pt x="406" y="219"/>
                </a:lnTo>
                <a:lnTo>
                  <a:pt x="434" y="215"/>
                </a:lnTo>
                <a:lnTo>
                  <a:pt x="463" y="210"/>
                </a:lnTo>
                <a:lnTo>
                  <a:pt x="494" y="204"/>
                </a:lnTo>
                <a:lnTo>
                  <a:pt x="526" y="198"/>
                </a:lnTo>
                <a:lnTo>
                  <a:pt x="559" y="192"/>
                </a:lnTo>
                <a:lnTo>
                  <a:pt x="592" y="187"/>
                </a:lnTo>
                <a:lnTo>
                  <a:pt x="626" y="181"/>
                </a:lnTo>
                <a:lnTo>
                  <a:pt x="661" y="175"/>
                </a:lnTo>
                <a:lnTo>
                  <a:pt x="697" y="167"/>
                </a:lnTo>
                <a:lnTo>
                  <a:pt x="734" y="162"/>
                </a:lnTo>
                <a:lnTo>
                  <a:pt x="770" y="154"/>
                </a:lnTo>
                <a:lnTo>
                  <a:pt x="807" y="146"/>
                </a:lnTo>
                <a:lnTo>
                  <a:pt x="841" y="141"/>
                </a:lnTo>
                <a:lnTo>
                  <a:pt x="874" y="135"/>
                </a:lnTo>
                <a:lnTo>
                  <a:pt x="909" y="127"/>
                </a:lnTo>
                <a:lnTo>
                  <a:pt x="939" y="121"/>
                </a:lnTo>
                <a:lnTo>
                  <a:pt x="970" y="116"/>
                </a:lnTo>
                <a:lnTo>
                  <a:pt x="1001" y="110"/>
                </a:lnTo>
                <a:lnTo>
                  <a:pt x="1029" y="104"/>
                </a:lnTo>
                <a:lnTo>
                  <a:pt x="1056" y="98"/>
                </a:lnTo>
                <a:lnTo>
                  <a:pt x="1083" y="93"/>
                </a:lnTo>
                <a:lnTo>
                  <a:pt x="1110" y="89"/>
                </a:lnTo>
                <a:lnTo>
                  <a:pt x="1135" y="83"/>
                </a:lnTo>
                <a:lnTo>
                  <a:pt x="1160" y="79"/>
                </a:lnTo>
                <a:lnTo>
                  <a:pt x="1183" y="73"/>
                </a:lnTo>
                <a:lnTo>
                  <a:pt x="1204" y="70"/>
                </a:lnTo>
                <a:lnTo>
                  <a:pt x="1225" y="66"/>
                </a:lnTo>
                <a:lnTo>
                  <a:pt x="1246" y="62"/>
                </a:lnTo>
                <a:lnTo>
                  <a:pt x="1266" y="58"/>
                </a:lnTo>
                <a:lnTo>
                  <a:pt x="1285" y="54"/>
                </a:lnTo>
                <a:lnTo>
                  <a:pt x="1302" y="50"/>
                </a:lnTo>
                <a:lnTo>
                  <a:pt x="1317" y="47"/>
                </a:lnTo>
                <a:lnTo>
                  <a:pt x="1333" y="45"/>
                </a:lnTo>
                <a:lnTo>
                  <a:pt x="1348" y="41"/>
                </a:lnTo>
                <a:lnTo>
                  <a:pt x="1362" y="39"/>
                </a:lnTo>
                <a:lnTo>
                  <a:pt x="1375" y="37"/>
                </a:lnTo>
                <a:lnTo>
                  <a:pt x="1387" y="33"/>
                </a:lnTo>
                <a:lnTo>
                  <a:pt x="1398" y="31"/>
                </a:lnTo>
                <a:lnTo>
                  <a:pt x="1408" y="29"/>
                </a:lnTo>
                <a:lnTo>
                  <a:pt x="1417" y="27"/>
                </a:lnTo>
                <a:lnTo>
                  <a:pt x="1425" y="27"/>
                </a:lnTo>
                <a:lnTo>
                  <a:pt x="1433" y="2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Freeform 33"/>
          <p:cNvSpPr/>
          <p:nvPr/>
        </p:nvSpPr>
        <p:spPr>
          <a:xfrm>
            <a:off x="6531120" y="4199040"/>
            <a:ext cx="230040" cy="312480"/>
          </a:xfrm>
          <a:custGeom>
            <a:avLst/>
            <a:gdLst/>
            <a:ahLst/>
            <a:rect l="l" t="t" r="r" b="b"/>
            <a:pathLst>
              <a:path w="292" h="394">
                <a:moveTo>
                  <a:pt x="267" y="394"/>
                </a:moveTo>
                <a:lnTo>
                  <a:pt x="263" y="394"/>
                </a:lnTo>
                <a:lnTo>
                  <a:pt x="257" y="392"/>
                </a:lnTo>
                <a:lnTo>
                  <a:pt x="253" y="390"/>
                </a:lnTo>
                <a:lnTo>
                  <a:pt x="246" y="386"/>
                </a:lnTo>
                <a:lnTo>
                  <a:pt x="240" y="382"/>
                </a:lnTo>
                <a:lnTo>
                  <a:pt x="230" y="378"/>
                </a:lnTo>
                <a:lnTo>
                  <a:pt x="225" y="376"/>
                </a:lnTo>
                <a:lnTo>
                  <a:pt x="219" y="375"/>
                </a:lnTo>
                <a:lnTo>
                  <a:pt x="213" y="373"/>
                </a:lnTo>
                <a:lnTo>
                  <a:pt x="207" y="371"/>
                </a:lnTo>
                <a:lnTo>
                  <a:pt x="200" y="367"/>
                </a:lnTo>
                <a:lnTo>
                  <a:pt x="194" y="363"/>
                </a:lnTo>
                <a:lnTo>
                  <a:pt x="186" y="359"/>
                </a:lnTo>
                <a:lnTo>
                  <a:pt x="180" y="353"/>
                </a:lnTo>
                <a:lnTo>
                  <a:pt x="173" y="348"/>
                </a:lnTo>
                <a:lnTo>
                  <a:pt x="165" y="340"/>
                </a:lnTo>
                <a:lnTo>
                  <a:pt x="157" y="332"/>
                </a:lnTo>
                <a:lnTo>
                  <a:pt x="150" y="323"/>
                </a:lnTo>
                <a:lnTo>
                  <a:pt x="142" y="313"/>
                </a:lnTo>
                <a:lnTo>
                  <a:pt x="134" y="303"/>
                </a:lnTo>
                <a:lnTo>
                  <a:pt x="125" y="292"/>
                </a:lnTo>
                <a:lnTo>
                  <a:pt x="115" y="280"/>
                </a:lnTo>
                <a:lnTo>
                  <a:pt x="106" y="267"/>
                </a:lnTo>
                <a:lnTo>
                  <a:pt x="96" y="254"/>
                </a:lnTo>
                <a:lnTo>
                  <a:pt x="86" y="238"/>
                </a:lnTo>
                <a:lnTo>
                  <a:pt x="75" y="223"/>
                </a:lnTo>
                <a:lnTo>
                  <a:pt x="63" y="206"/>
                </a:lnTo>
                <a:lnTo>
                  <a:pt x="54" y="190"/>
                </a:lnTo>
                <a:lnTo>
                  <a:pt x="46" y="175"/>
                </a:lnTo>
                <a:lnTo>
                  <a:pt x="37" y="160"/>
                </a:lnTo>
                <a:lnTo>
                  <a:pt x="29" y="144"/>
                </a:lnTo>
                <a:lnTo>
                  <a:pt x="23" y="131"/>
                </a:lnTo>
                <a:lnTo>
                  <a:pt x="17" y="115"/>
                </a:lnTo>
                <a:lnTo>
                  <a:pt x="12" y="102"/>
                </a:lnTo>
                <a:lnTo>
                  <a:pt x="8" y="89"/>
                </a:lnTo>
                <a:lnTo>
                  <a:pt x="6" y="75"/>
                </a:lnTo>
                <a:lnTo>
                  <a:pt x="2" y="62"/>
                </a:lnTo>
                <a:lnTo>
                  <a:pt x="0" y="48"/>
                </a:lnTo>
                <a:lnTo>
                  <a:pt x="0" y="37"/>
                </a:lnTo>
                <a:lnTo>
                  <a:pt x="0" y="23"/>
                </a:lnTo>
                <a:lnTo>
                  <a:pt x="2" y="12"/>
                </a:lnTo>
                <a:lnTo>
                  <a:pt x="4" y="0"/>
                </a:lnTo>
                <a:lnTo>
                  <a:pt x="23" y="4"/>
                </a:lnTo>
                <a:lnTo>
                  <a:pt x="42" y="10"/>
                </a:lnTo>
                <a:lnTo>
                  <a:pt x="60" y="16"/>
                </a:lnTo>
                <a:lnTo>
                  <a:pt x="77" y="21"/>
                </a:lnTo>
                <a:lnTo>
                  <a:pt x="94" y="27"/>
                </a:lnTo>
                <a:lnTo>
                  <a:pt x="109" y="33"/>
                </a:lnTo>
                <a:lnTo>
                  <a:pt x="125" y="39"/>
                </a:lnTo>
                <a:lnTo>
                  <a:pt x="140" y="44"/>
                </a:lnTo>
                <a:lnTo>
                  <a:pt x="154" y="52"/>
                </a:lnTo>
                <a:lnTo>
                  <a:pt x="167" y="58"/>
                </a:lnTo>
                <a:lnTo>
                  <a:pt x="179" y="64"/>
                </a:lnTo>
                <a:lnTo>
                  <a:pt x="190" y="71"/>
                </a:lnTo>
                <a:lnTo>
                  <a:pt x="202" y="77"/>
                </a:lnTo>
                <a:lnTo>
                  <a:pt x="213" y="85"/>
                </a:lnTo>
                <a:lnTo>
                  <a:pt x="223" y="92"/>
                </a:lnTo>
                <a:lnTo>
                  <a:pt x="232" y="98"/>
                </a:lnTo>
                <a:lnTo>
                  <a:pt x="238" y="106"/>
                </a:lnTo>
                <a:lnTo>
                  <a:pt x="244" y="114"/>
                </a:lnTo>
                <a:lnTo>
                  <a:pt x="250" y="121"/>
                </a:lnTo>
                <a:lnTo>
                  <a:pt x="255" y="131"/>
                </a:lnTo>
                <a:lnTo>
                  <a:pt x="261" y="140"/>
                </a:lnTo>
                <a:lnTo>
                  <a:pt x="267" y="150"/>
                </a:lnTo>
                <a:lnTo>
                  <a:pt x="275" y="171"/>
                </a:lnTo>
                <a:lnTo>
                  <a:pt x="282" y="194"/>
                </a:lnTo>
                <a:lnTo>
                  <a:pt x="284" y="206"/>
                </a:lnTo>
                <a:lnTo>
                  <a:pt x="286" y="217"/>
                </a:lnTo>
                <a:lnTo>
                  <a:pt x="288" y="231"/>
                </a:lnTo>
                <a:lnTo>
                  <a:pt x="290" y="244"/>
                </a:lnTo>
                <a:lnTo>
                  <a:pt x="292" y="257"/>
                </a:lnTo>
                <a:lnTo>
                  <a:pt x="292" y="271"/>
                </a:lnTo>
                <a:lnTo>
                  <a:pt x="292" y="284"/>
                </a:lnTo>
                <a:lnTo>
                  <a:pt x="290" y="298"/>
                </a:lnTo>
                <a:lnTo>
                  <a:pt x="290" y="309"/>
                </a:lnTo>
                <a:lnTo>
                  <a:pt x="290" y="319"/>
                </a:lnTo>
                <a:lnTo>
                  <a:pt x="288" y="330"/>
                </a:lnTo>
                <a:lnTo>
                  <a:pt x="286" y="340"/>
                </a:lnTo>
                <a:lnTo>
                  <a:pt x="286" y="348"/>
                </a:lnTo>
                <a:lnTo>
                  <a:pt x="284" y="355"/>
                </a:lnTo>
                <a:lnTo>
                  <a:pt x="282" y="363"/>
                </a:lnTo>
                <a:lnTo>
                  <a:pt x="280" y="369"/>
                </a:lnTo>
                <a:lnTo>
                  <a:pt x="278" y="375"/>
                </a:lnTo>
                <a:lnTo>
                  <a:pt x="276" y="380"/>
                </a:lnTo>
                <a:lnTo>
                  <a:pt x="275" y="384"/>
                </a:lnTo>
                <a:lnTo>
                  <a:pt x="273" y="388"/>
                </a:lnTo>
                <a:lnTo>
                  <a:pt x="269" y="392"/>
                </a:lnTo>
                <a:lnTo>
                  <a:pt x="267" y="39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Freeform 34"/>
          <p:cNvSpPr/>
          <p:nvPr/>
        </p:nvSpPr>
        <p:spPr>
          <a:xfrm>
            <a:off x="5654520" y="3054240"/>
            <a:ext cx="800280" cy="235080"/>
          </a:xfrm>
          <a:custGeom>
            <a:avLst/>
            <a:gdLst/>
            <a:ahLst/>
            <a:rect l="l" t="t" r="r" b="b"/>
            <a:pathLst>
              <a:path w="1010" h="296">
                <a:moveTo>
                  <a:pt x="0" y="173"/>
                </a:moveTo>
                <a:lnTo>
                  <a:pt x="60" y="167"/>
                </a:lnTo>
                <a:lnTo>
                  <a:pt x="119" y="159"/>
                </a:lnTo>
                <a:lnTo>
                  <a:pt x="150" y="155"/>
                </a:lnTo>
                <a:lnTo>
                  <a:pt x="181" y="152"/>
                </a:lnTo>
                <a:lnTo>
                  <a:pt x="211" y="148"/>
                </a:lnTo>
                <a:lnTo>
                  <a:pt x="242" y="142"/>
                </a:lnTo>
                <a:lnTo>
                  <a:pt x="273" y="136"/>
                </a:lnTo>
                <a:lnTo>
                  <a:pt x="305" y="129"/>
                </a:lnTo>
                <a:lnTo>
                  <a:pt x="336" y="121"/>
                </a:lnTo>
                <a:lnTo>
                  <a:pt x="367" y="113"/>
                </a:lnTo>
                <a:lnTo>
                  <a:pt x="400" y="106"/>
                </a:lnTo>
                <a:lnTo>
                  <a:pt x="430" y="96"/>
                </a:lnTo>
                <a:lnTo>
                  <a:pt x="461" y="84"/>
                </a:lnTo>
                <a:lnTo>
                  <a:pt x="494" y="73"/>
                </a:lnTo>
                <a:lnTo>
                  <a:pt x="524" y="65"/>
                </a:lnTo>
                <a:lnTo>
                  <a:pt x="553" y="56"/>
                </a:lnTo>
                <a:lnTo>
                  <a:pt x="582" y="48"/>
                </a:lnTo>
                <a:lnTo>
                  <a:pt x="609" y="40"/>
                </a:lnTo>
                <a:lnTo>
                  <a:pt x="634" y="35"/>
                </a:lnTo>
                <a:lnTo>
                  <a:pt x="657" y="29"/>
                </a:lnTo>
                <a:lnTo>
                  <a:pt x="680" y="23"/>
                </a:lnTo>
                <a:lnTo>
                  <a:pt x="701" y="17"/>
                </a:lnTo>
                <a:lnTo>
                  <a:pt x="720" y="13"/>
                </a:lnTo>
                <a:lnTo>
                  <a:pt x="739" y="10"/>
                </a:lnTo>
                <a:lnTo>
                  <a:pt x="755" y="6"/>
                </a:lnTo>
                <a:lnTo>
                  <a:pt x="770" y="4"/>
                </a:lnTo>
                <a:lnTo>
                  <a:pt x="785" y="2"/>
                </a:lnTo>
                <a:lnTo>
                  <a:pt x="797" y="0"/>
                </a:lnTo>
                <a:lnTo>
                  <a:pt x="808" y="0"/>
                </a:lnTo>
                <a:lnTo>
                  <a:pt x="818" y="0"/>
                </a:lnTo>
                <a:lnTo>
                  <a:pt x="831" y="0"/>
                </a:lnTo>
                <a:lnTo>
                  <a:pt x="847" y="2"/>
                </a:lnTo>
                <a:lnTo>
                  <a:pt x="864" y="4"/>
                </a:lnTo>
                <a:lnTo>
                  <a:pt x="879" y="8"/>
                </a:lnTo>
                <a:lnTo>
                  <a:pt x="897" y="12"/>
                </a:lnTo>
                <a:lnTo>
                  <a:pt x="914" y="15"/>
                </a:lnTo>
                <a:lnTo>
                  <a:pt x="950" y="25"/>
                </a:lnTo>
                <a:lnTo>
                  <a:pt x="964" y="29"/>
                </a:lnTo>
                <a:lnTo>
                  <a:pt x="975" y="35"/>
                </a:lnTo>
                <a:lnTo>
                  <a:pt x="985" y="42"/>
                </a:lnTo>
                <a:lnTo>
                  <a:pt x="995" y="48"/>
                </a:lnTo>
                <a:lnTo>
                  <a:pt x="1000" y="56"/>
                </a:lnTo>
                <a:lnTo>
                  <a:pt x="1004" y="59"/>
                </a:lnTo>
                <a:lnTo>
                  <a:pt x="1006" y="61"/>
                </a:lnTo>
                <a:lnTo>
                  <a:pt x="1008" y="65"/>
                </a:lnTo>
                <a:lnTo>
                  <a:pt x="1010" y="69"/>
                </a:lnTo>
                <a:lnTo>
                  <a:pt x="1010" y="71"/>
                </a:lnTo>
                <a:lnTo>
                  <a:pt x="1010" y="73"/>
                </a:lnTo>
                <a:lnTo>
                  <a:pt x="1010" y="75"/>
                </a:lnTo>
                <a:lnTo>
                  <a:pt x="1008" y="79"/>
                </a:lnTo>
                <a:lnTo>
                  <a:pt x="1006" y="81"/>
                </a:lnTo>
                <a:lnTo>
                  <a:pt x="1004" y="83"/>
                </a:lnTo>
                <a:lnTo>
                  <a:pt x="1000" y="86"/>
                </a:lnTo>
                <a:lnTo>
                  <a:pt x="997" y="88"/>
                </a:lnTo>
                <a:lnTo>
                  <a:pt x="991" y="92"/>
                </a:lnTo>
                <a:lnTo>
                  <a:pt x="985" y="94"/>
                </a:lnTo>
                <a:lnTo>
                  <a:pt x="979" y="98"/>
                </a:lnTo>
                <a:lnTo>
                  <a:pt x="972" y="100"/>
                </a:lnTo>
                <a:lnTo>
                  <a:pt x="964" y="104"/>
                </a:lnTo>
                <a:lnTo>
                  <a:pt x="954" y="107"/>
                </a:lnTo>
                <a:lnTo>
                  <a:pt x="945" y="109"/>
                </a:lnTo>
                <a:lnTo>
                  <a:pt x="935" y="113"/>
                </a:lnTo>
                <a:lnTo>
                  <a:pt x="924" y="117"/>
                </a:lnTo>
                <a:lnTo>
                  <a:pt x="912" y="121"/>
                </a:lnTo>
                <a:lnTo>
                  <a:pt x="899" y="125"/>
                </a:lnTo>
                <a:lnTo>
                  <a:pt x="885" y="129"/>
                </a:lnTo>
                <a:lnTo>
                  <a:pt x="870" y="132"/>
                </a:lnTo>
                <a:lnTo>
                  <a:pt x="854" y="136"/>
                </a:lnTo>
                <a:lnTo>
                  <a:pt x="839" y="140"/>
                </a:lnTo>
                <a:lnTo>
                  <a:pt x="824" y="146"/>
                </a:lnTo>
                <a:lnTo>
                  <a:pt x="805" y="150"/>
                </a:lnTo>
                <a:lnTo>
                  <a:pt x="787" y="154"/>
                </a:lnTo>
                <a:lnTo>
                  <a:pt x="768" y="159"/>
                </a:lnTo>
                <a:lnTo>
                  <a:pt x="749" y="163"/>
                </a:lnTo>
                <a:lnTo>
                  <a:pt x="728" y="169"/>
                </a:lnTo>
                <a:lnTo>
                  <a:pt x="707" y="175"/>
                </a:lnTo>
                <a:lnTo>
                  <a:pt x="684" y="178"/>
                </a:lnTo>
                <a:lnTo>
                  <a:pt x="663" y="184"/>
                </a:lnTo>
                <a:lnTo>
                  <a:pt x="638" y="190"/>
                </a:lnTo>
                <a:lnTo>
                  <a:pt x="615" y="196"/>
                </a:lnTo>
                <a:lnTo>
                  <a:pt x="588" y="202"/>
                </a:lnTo>
                <a:lnTo>
                  <a:pt x="563" y="207"/>
                </a:lnTo>
                <a:lnTo>
                  <a:pt x="540" y="213"/>
                </a:lnTo>
                <a:lnTo>
                  <a:pt x="517" y="219"/>
                </a:lnTo>
                <a:lnTo>
                  <a:pt x="494" y="225"/>
                </a:lnTo>
                <a:lnTo>
                  <a:pt x="472" y="228"/>
                </a:lnTo>
                <a:lnTo>
                  <a:pt x="451" y="234"/>
                </a:lnTo>
                <a:lnTo>
                  <a:pt x="430" y="238"/>
                </a:lnTo>
                <a:lnTo>
                  <a:pt x="411" y="242"/>
                </a:lnTo>
                <a:lnTo>
                  <a:pt x="394" y="248"/>
                </a:lnTo>
                <a:lnTo>
                  <a:pt x="375" y="251"/>
                </a:lnTo>
                <a:lnTo>
                  <a:pt x="359" y="255"/>
                </a:lnTo>
                <a:lnTo>
                  <a:pt x="342" y="259"/>
                </a:lnTo>
                <a:lnTo>
                  <a:pt x="327" y="263"/>
                </a:lnTo>
                <a:lnTo>
                  <a:pt x="311" y="267"/>
                </a:lnTo>
                <a:lnTo>
                  <a:pt x="298" y="269"/>
                </a:lnTo>
                <a:lnTo>
                  <a:pt x="284" y="273"/>
                </a:lnTo>
                <a:lnTo>
                  <a:pt x="273" y="274"/>
                </a:lnTo>
                <a:lnTo>
                  <a:pt x="261" y="278"/>
                </a:lnTo>
                <a:lnTo>
                  <a:pt x="250" y="280"/>
                </a:lnTo>
                <a:lnTo>
                  <a:pt x="240" y="282"/>
                </a:lnTo>
                <a:lnTo>
                  <a:pt x="231" y="284"/>
                </a:lnTo>
                <a:lnTo>
                  <a:pt x="223" y="286"/>
                </a:lnTo>
                <a:lnTo>
                  <a:pt x="215" y="288"/>
                </a:lnTo>
                <a:lnTo>
                  <a:pt x="208" y="290"/>
                </a:lnTo>
                <a:lnTo>
                  <a:pt x="202" y="292"/>
                </a:lnTo>
                <a:lnTo>
                  <a:pt x="196" y="292"/>
                </a:lnTo>
                <a:lnTo>
                  <a:pt x="192" y="294"/>
                </a:lnTo>
                <a:lnTo>
                  <a:pt x="188" y="294"/>
                </a:lnTo>
                <a:lnTo>
                  <a:pt x="184" y="296"/>
                </a:lnTo>
                <a:lnTo>
                  <a:pt x="183" y="296"/>
                </a:lnTo>
                <a:lnTo>
                  <a:pt x="181" y="296"/>
                </a:lnTo>
                <a:lnTo>
                  <a:pt x="171" y="294"/>
                </a:lnTo>
                <a:lnTo>
                  <a:pt x="161" y="294"/>
                </a:lnTo>
                <a:lnTo>
                  <a:pt x="150" y="290"/>
                </a:lnTo>
                <a:lnTo>
                  <a:pt x="136" y="286"/>
                </a:lnTo>
                <a:lnTo>
                  <a:pt x="125" y="280"/>
                </a:lnTo>
                <a:lnTo>
                  <a:pt x="112" y="274"/>
                </a:lnTo>
                <a:lnTo>
                  <a:pt x="98" y="267"/>
                </a:lnTo>
                <a:lnTo>
                  <a:pt x="85" y="259"/>
                </a:lnTo>
                <a:lnTo>
                  <a:pt x="75" y="255"/>
                </a:lnTo>
                <a:lnTo>
                  <a:pt x="67" y="253"/>
                </a:lnTo>
                <a:lnTo>
                  <a:pt x="60" y="249"/>
                </a:lnTo>
                <a:lnTo>
                  <a:pt x="52" y="244"/>
                </a:lnTo>
                <a:lnTo>
                  <a:pt x="46" y="240"/>
                </a:lnTo>
                <a:lnTo>
                  <a:pt x="41" y="236"/>
                </a:lnTo>
                <a:lnTo>
                  <a:pt x="29" y="225"/>
                </a:lnTo>
                <a:lnTo>
                  <a:pt x="19" y="213"/>
                </a:lnTo>
                <a:lnTo>
                  <a:pt x="12" y="200"/>
                </a:lnTo>
                <a:lnTo>
                  <a:pt x="6" y="186"/>
                </a:lnTo>
                <a:lnTo>
                  <a:pt x="0" y="17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Freeform 35"/>
          <p:cNvSpPr/>
          <p:nvPr/>
        </p:nvSpPr>
        <p:spPr>
          <a:xfrm>
            <a:off x="6497640" y="2927520"/>
            <a:ext cx="225360" cy="685800"/>
          </a:xfrm>
          <a:custGeom>
            <a:avLst/>
            <a:gdLst/>
            <a:ahLst/>
            <a:rect l="l" t="t" r="r" b="b"/>
            <a:pathLst>
              <a:path w="284" h="863">
                <a:moveTo>
                  <a:pt x="19" y="86"/>
                </a:moveTo>
                <a:lnTo>
                  <a:pt x="15" y="78"/>
                </a:lnTo>
                <a:lnTo>
                  <a:pt x="11" y="73"/>
                </a:lnTo>
                <a:lnTo>
                  <a:pt x="7" y="67"/>
                </a:lnTo>
                <a:lnTo>
                  <a:pt x="5" y="61"/>
                </a:lnTo>
                <a:lnTo>
                  <a:pt x="4" y="55"/>
                </a:lnTo>
                <a:lnTo>
                  <a:pt x="2" y="50"/>
                </a:lnTo>
                <a:lnTo>
                  <a:pt x="0" y="40"/>
                </a:lnTo>
                <a:lnTo>
                  <a:pt x="0" y="30"/>
                </a:lnTo>
                <a:lnTo>
                  <a:pt x="0" y="25"/>
                </a:lnTo>
                <a:lnTo>
                  <a:pt x="4" y="17"/>
                </a:lnTo>
                <a:lnTo>
                  <a:pt x="7" y="13"/>
                </a:lnTo>
                <a:lnTo>
                  <a:pt x="11" y="7"/>
                </a:lnTo>
                <a:lnTo>
                  <a:pt x="17" y="6"/>
                </a:lnTo>
                <a:lnTo>
                  <a:pt x="21" y="4"/>
                </a:lnTo>
                <a:lnTo>
                  <a:pt x="29" y="2"/>
                </a:lnTo>
                <a:lnTo>
                  <a:pt x="34" y="2"/>
                </a:lnTo>
                <a:lnTo>
                  <a:pt x="44" y="0"/>
                </a:lnTo>
                <a:lnTo>
                  <a:pt x="50" y="0"/>
                </a:lnTo>
                <a:lnTo>
                  <a:pt x="55" y="0"/>
                </a:lnTo>
                <a:lnTo>
                  <a:pt x="61" y="0"/>
                </a:lnTo>
                <a:lnTo>
                  <a:pt x="67" y="0"/>
                </a:lnTo>
                <a:lnTo>
                  <a:pt x="80" y="2"/>
                </a:lnTo>
                <a:lnTo>
                  <a:pt x="96" y="2"/>
                </a:lnTo>
                <a:lnTo>
                  <a:pt x="105" y="4"/>
                </a:lnTo>
                <a:lnTo>
                  <a:pt x="113" y="6"/>
                </a:lnTo>
                <a:lnTo>
                  <a:pt x="123" y="7"/>
                </a:lnTo>
                <a:lnTo>
                  <a:pt x="134" y="9"/>
                </a:lnTo>
                <a:lnTo>
                  <a:pt x="144" y="11"/>
                </a:lnTo>
                <a:lnTo>
                  <a:pt x="155" y="15"/>
                </a:lnTo>
                <a:lnTo>
                  <a:pt x="167" y="17"/>
                </a:lnTo>
                <a:lnTo>
                  <a:pt x="178" y="21"/>
                </a:lnTo>
                <a:lnTo>
                  <a:pt x="192" y="25"/>
                </a:lnTo>
                <a:lnTo>
                  <a:pt x="205" y="29"/>
                </a:lnTo>
                <a:lnTo>
                  <a:pt x="220" y="32"/>
                </a:lnTo>
                <a:lnTo>
                  <a:pt x="236" y="38"/>
                </a:lnTo>
                <a:lnTo>
                  <a:pt x="236" y="44"/>
                </a:lnTo>
                <a:lnTo>
                  <a:pt x="236" y="50"/>
                </a:lnTo>
                <a:lnTo>
                  <a:pt x="236" y="57"/>
                </a:lnTo>
                <a:lnTo>
                  <a:pt x="236" y="65"/>
                </a:lnTo>
                <a:lnTo>
                  <a:pt x="236" y="73"/>
                </a:lnTo>
                <a:lnTo>
                  <a:pt x="236" y="82"/>
                </a:lnTo>
                <a:lnTo>
                  <a:pt x="238" y="92"/>
                </a:lnTo>
                <a:lnTo>
                  <a:pt x="238" y="102"/>
                </a:lnTo>
                <a:lnTo>
                  <a:pt x="238" y="113"/>
                </a:lnTo>
                <a:lnTo>
                  <a:pt x="240" y="123"/>
                </a:lnTo>
                <a:lnTo>
                  <a:pt x="240" y="136"/>
                </a:lnTo>
                <a:lnTo>
                  <a:pt x="240" y="148"/>
                </a:lnTo>
                <a:lnTo>
                  <a:pt x="242" y="161"/>
                </a:lnTo>
                <a:lnTo>
                  <a:pt x="242" y="174"/>
                </a:lnTo>
                <a:lnTo>
                  <a:pt x="244" y="188"/>
                </a:lnTo>
                <a:lnTo>
                  <a:pt x="245" y="201"/>
                </a:lnTo>
                <a:lnTo>
                  <a:pt x="245" y="217"/>
                </a:lnTo>
                <a:lnTo>
                  <a:pt x="247" y="232"/>
                </a:lnTo>
                <a:lnTo>
                  <a:pt x="247" y="249"/>
                </a:lnTo>
                <a:lnTo>
                  <a:pt x="249" y="265"/>
                </a:lnTo>
                <a:lnTo>
                  <a:pt x="251" y="282"/>
                </a:lnTo>
                <a:lnTo>
                  <a:pt x="253" y="299"/>
                </a:lnTo>
                <a:lnTo>
                  <a:pt x="255" y="318"/>
                </a:lnTo>
                <a:lnTo>
                  <a:pt x="255" y="338"/>
                </a:lnTo>
                <a:lnTo>
                  <a:pt x="257" y="357"/>
                </a:lnTo>
                <a:lnTo>
                  <a:pt x="259" y="376"/>
                </a:lnTo>
                <a:lnTo>
                  <a:pt x="261" y="397"/>
                </a:lnTo>
                <a:lnTo>
                  <a:pt x="263" y="416"/>
                </a:lnTo>
                <a:lnTo>
                  <a:pt x="265" y="439"/>
                </a:lnTo>
                <a:lnTo>
                  <a:pt x="267" y="460"/>
                </a:lnTo>
                <a:lnTo>
                  <a:pt x="268" y="483"/>
                </a:lnTo>
                <a:lnTo>
                  <a:pt x="272" y="506"/>
                </a:lnTo>
                <a:lnTo>
                  <a:pt x="274" y="529"/>
                </a:lnTo>
                <a:lnTo>
                  <a:pt x="276" y="553"/>
                </a:lnTo>
                <a:lnTo>
                  <a:pt x="276" y="574"/>
                </a:lnTo>
                <a:lnTo>
                  <a:pt x="278" y="595"/>
                </a:lnTo>
                <a:lnTo>
                  <a:pt x="280" y="616"/>
                </a:lnTo>
                <a:lnTo>
                  <a:pt x="282" y="635"/>
                </a:lnTo>
                <a:lnTo>
                  <a:pt x="282" y="654"/>
                </a:lnTo>
                <a:lnTo>
                  <a:pt x="282" y="671"/>
                </a:lnTo>
                <a:lnTo>
                  <a:pt x="284" y="689"/>
                </a:lnTo>
                <a:lnTo>
                  <a:pt x="284" y="706"/>
                </a:lnTo>
                <a:lnTo>
                  <a:pt x="284" y="721"/>
                </a:lnTo>
                <a:lnTo>
                  <a:pt x="284" y="735"/>
                </a:lnTo>
                <a:lnTo>
                  <a:pt x="284" y="750"/>
                </a:lnTo>
                <a:lnTo>
                  <a:pt x="284" y="762"/>
                </a:lnTo>
                <a:lnTo>
                  <a:pt x="282" y="775"/>
                </a:lnTo>
                <a:lnTo>
                  <a:pt x="282" y="787"/>
                </a:lnTo>
                <a:lnTo>
                  <a:pt x="280" y="796"/>
                </a:lnTo>
                <a:lnTo>
                  <a:pt x="280" y="806"/>
                </a:lnTo>
                <a:lnTo>
                  <a:pt x="278" y="815"/>
                </a:lnTo>
                <a:lnTo>
                  <a:pt x="276" y="823"/>
                </a:lnTo>
                <a:lnTo>
                  <a:pt x="276" y="831"/>
                </a:lnTo>
                <a:lnTo>
                  <a:pt x="274" y="838"/>
                </a:lnTo>
                <a:lnTo>
                  <a:pt x="272" y="844"/>
                </a:lnTo>
                <a:lnTo>
                  <a:pt x="270" y="848"/>
                </a:lnTo>
                <a:lnTo>
                  <a:pt x="267" y="854"/>
                </a:lnTo>
                <a:lnTo>
                  <a:pt x="265" y="858"/>
                </a:lnTo>
                <a:lnTo>
                  <a:pt x="263" y="860"/>
                </a:lnTo>
                <a:lnTo>
                  <a:pt x="259" y="861"/>
                </a:lnTo>
                <a:lnTo>
                  <a:pt x="257" y="863"/>
                </a:lnTo>
                <a:lnTo>
                  <a:pt x="253" y="863"/>
                </a:lnTo>
                <a:lnTo>
                  <a:pt x="251" y="863"/>
                </a:lnTo>
                <a:lnTo>
                  <a:pt x="247" y="863"/>
                </a:lnTo>
                <a:lnTo>
                  <a:pt x="242" y="860"/>
                </a:lnTo>
                <a:lnTo>
                  <a:pt x="234" y="856"/>
                </a:lnTo>
                <a:lnTo>
                  <a:pt x="228" y="852"/>
                </a:lnTo>
                <a:lnTo>
                  <a:pt x="220" y="846"/>
                </a:lnTo>
                <a:lnTo>
                  <a:pt x="215" y="840"/>
                </a:lnTo>
                <a:lnTo>
                  <a:pt x="209" y="833"/>
                </a:lnTo>
                <a:lnTo>
                  <a:pt x="201" y="823"/>
                </a:lnTo>
                <a:lnTo>
                  <a:pt x="196" y="814"/>
                </a:lnTo>
                <a:lnTo>
                  <a:pt x="190" y="802"/>
                </a:lnTo>
                <a:lnTo>
                  <a:pt x="186" y="790"/>
                </a:lnTo>
                <a:lnTo>
                  <a:pt x="180" y="777"/>
                </a:lnTo>
                <a:lnTo>
                  <a:pt x="176" y="762"/>
                </a:lnTo>
                <a:lnTo>
                  <a:pt x="173" y="746"/>
                </a:lnTo>
                <a:lnTo>
                  <a:pt x="169" y="729"/>
                </a:lnTo>
                <a:lnTo>
                  <a:pt x="165" y="710"/>
                </a:lnTo>
                <a:lnTo>
                  <a:pt x="163" y="691"/>
                </a:lnTo>
                <a:lnTo>
                  <a:pt x="157" y="648"/>
                </a:lnTo>
                <a:lnTo>
                  <a:pt x="151" y="604"/>
                </a:lnTo>
                <a:lnTo>
                  <a:pt x="146" y="560"/>
                </a:lnTo>
                <a:lnTo>
                  <a:pt x="138" y="514"/>
                </a:lnTo>
                <a:lnTo>
                  <a:pt x="128" y="468"/>
                </a:lnTo>
                <a:lnTo>
                  <a:pt x="121" y="420"/>
                </a:lnTo>
                <a:lnTo>
                  <a:pt x="111" y="370"/>
                </a:lnTo>
                <a:lnTo>
                  <a:pt x="103" y="320"/>
                </a:lnTo>
                <a:lnTo>
                  <a:pt x="98" y="295"/>
                </a:lnTo>
                <a:lnTo>
                  <a:pt x="94" y="272"/>
                </a:lnTo>
                <a:lnTo>
                  <a:pt x="90" y="251"/>
                </a:lnTo>
                <a:lnTo>
                  <a:pt x="84" y="230"/>
                </a:lnTo>
                <a:lnTo>
                  <a:pt x="80" y="211"/>
                </a:lnTo>
                <a:lnTo>
                  <a:pt x="75" y="194"/>
                </a:lnTo>
                <a:lnTo>
                  <a:pt x="71" y="176"/>
                </a:lnTo>
                <a:lnTo>
                  <a:pt x="65" y="163"/>
                </a:lnTo>
                <a:lnTo>
                  <a:pt x="61" y="148"/>
                </a:lnTo>
                <a:lnTo>
                  <a:pt x="55" y="136"/>
                </a:lnTo>
                <a:lnTo>
                  <a:pt x="50" y="125"/>
                </a:lnTo>
                <a:lnTo>
                  <a:pt x="44" y="115"/>
                </a:lnTo>
                <a:lnTo>
                  <a:pt x="38" y="105"/>
                </a:lnTo>
                <a:lnTo>
                  <a:pt x="32" y="98"/>
                </a:lnTo>
                <a:lnTo>
                  <a:pt x="25" y="92"/>
                </a:lnTo>
                <a:lnTo>
                  <a:pt x="19" y="8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Freeform 36"/>
          <p:cNvSpPr/>
          <p:nvPr/>
        </p:nvSpPr>
        <p:spPr>
          <a:xfrm>
            <a:off x="6580080" y="3587760"/>
            <a:ext cx="792360" cy="223920"/>
          </a:xfrm>
          <a:custGeom>
            <a:avLst/>
            <a:gdLst/>
            <a:ahLst/>
            <a:rect l="l" t="t" r="r" b="b"/>
            <a:pathLst>
              <a:path w="999" h="282">
                <a:moveTo>
                  <a:pt x="85" y="276"/>
                </a:moveTo>
                <a:lnTo>
                  <a:pt x="75" y="274"/>
                </a:lnTo>
                <a:lnTo>
                  <a:pt x="68" y="270"/>
                </a:lnTo>
                <a:lnTo>
                  <a:pt x="60" y="268"/>
                </a:lnTo>
                <a:lnTo>
                  <a:pt x="52" y="265"/>
                </a:lnTo>
                <a:lnTo>
                  <a:pt x="46" y="261"/>
                </a:lnTo>
                <a:lnTo>
                  <a:pt x="39" y="257"/>
                </a:lnTo>
                <a:lnTo>
                  <a:pt x="29" y="249"/>
                </a:lnTo>
                <a:lnTo>
                  <a:pt x="20" y="242"/>
                </a:lnTo>
                <a:lnTo>
                  <a:pt x="12" y="232"/>
                </a:lnTo>
                <a:lnTo>
                  <a:pt x="4" y="224"/>
                </a:lnTo>
                <a:lnTo>
                  <a:pt x="0" y="215"/>
                </a:lnTo>
                <a:lnTo>
                  <a:pt x="64" y="195"/>
                </a:lnTo>
                <a:lnTo>
                  <a:pt x="129" y="178"/>
                </a:lnTo>
                <a:lnTo>
                  <a:pt x="194" y="159"/>
                </a:lnTo>
                <a:lnTo>
                  <a:pt x="261" y="140"/>
                </a:lnTo>
                <a:lnTo>
                  <a:pt x="331" y="119"/>
                </a:lnTo>
                <a:lnTo>
                  <a:pt x="400" y="99"/>
                </a:lnTo>
                <a:lnTo>
                  <a:pt x="471" y="76"/>
                </a:lnTo>
                <a:lnTo>
                  <a:pt x="542" y="55"/>
                </a:lnTo>
                <a:lnTo>
                  <a:pt x="576" y="46"/>
                </a:lnTo>
                <a:lnTo>
                  <a:pt x="611" y="38"/>
                </a:lnTo>
                <a:lnTo>
                  <a:pt x="642" y="30"/>
                </a:lnTo>
                <a:lnTo>
                  <a:pt x="672" y="25"/>
                </a:lnTo>
                <a:lnTo>
                  <a:pt x="701" y="19"/>
                </a:lnTo>
                <a:lnTo>
                  <a:pt x="728" y="13"/>
                </a:lnTo>
                <a:lnTo>
                  <a:pt x="753" y="9"/>
                </a:lnTo>
                <a:lnTo>
                  <a:pt x="778" y="5"/>
                </a:lnTo>
                <a:lnTo>
                  <a:pt x="799" y="4"/>
                </a:lnTo>
                <a:lnTo>
                  <a:pt x="820" y="2"/>
                </a:lnTo>
                <a:lnTo>
                  <a:pt x="839" y="2"/>
                </a:lnTo>
                <a:lnTo>
                  <a:pt x="859" y="0"/>
                </a:lnTo>
                <a:lnTo>
                  <a:pt x="874" y="0"/>
                </a:lnTo>
                <a:lnTo>
                  <a:pt x="889" y="2"/>
                </a:lnTo>
                <a:lnTo>
                  <a:pt x="903" y="4"/>
                </a:lnTo>
                <a:lnTo>
                  <a:pt x="914" y="5"/>
                </a:lnTo>
                <a:lnTo>
                  <a:pt x="926" y="9"/>
                </a:lnTo>
                <a:lnTo>
                  <a:pt x="935" y="13"/>
                </a:lnTo>
                <a:lnTo>
                  <a:pt x="945" y="19"/>
                </a:lnTo>
                <a:lnTo>
                  <a:pt x="953" y="21"/>
                </a:lnTo>
                <a:lnTo>
                  <a:pt x="960" y="25"/>
                </a:lnTo>
                <a:lnTo>
                  <a:pt x="968" y="28"/>
                </a:lnTo>
                <a:lnTo>
                  <a:pt x="974" y="32"/>
                </a:lnTo>
                <a:lnTo>
                  <a:pt x="979" y="34"/>
                </a:lnTo>
                <a:lnTo>
                  <a:pt x="983" y="38"/>
                </a:lnTo>
                <a:lnTo>
                  <a:pt x="987" y="40"/>
                </a:lnTo>
                <a:lnTo>
                  <a:pt x="991" y="42"/>
                </a:lnTo>
                <a:lnTo>
                  <a:pt x="995" y="46"/>
                </a:lnTo>
                <a:lnTo>
                  <a:pt x="997" y="48"/>
                </a:lnTo>
                <a:lnTo>
                  <a:pt x="997" y="50"/>
                </a:lnTo>
                <a:lnTo>
                  <a:pt x="999" y="52"/>
                </a:lnTo>
                <a:lnTo>
                  <a:pt x="999" y="55"/>
                </a:lnTo>
                <a:lnTo>
                  <a:pt x="999" y="57"/>
                </a:lnTo>
                <a:lnTo>
                  <a:pt x="997" y="59"/>
                </a:lnTo>
                <a:lnTo>
                  <a:pt x="997" y="63"/>
                </a:lnTo>
                <a:lnTo>
                  <a:pt x="995" y="65"/>
                </a:lnTo>
                <a:lnTo>
                  <a:pt x="991" y="69"/>
                </a:lnTo>
                <a:lnTo>
                  <a:pt x="989" y="73"/>
                </a:lnTo>
                <a:lnTo>
                  <a:pt x="981" y="78"/>
                </a:lnTo>
                <a:lnTo>
                  <a:pt x="974" y="86"/>
                </a:lnTo>
                <a:lnTo>
                  <a:pt x="962" y="92"/>
                </a:lnTo>
                <a:lnTo>
                  <a:pt x="951" y="98"/>
                </a:lnTo>
                <a:lnTo>
                  <a:pt x="939" y="103"/>
                </a:lnTo>
                <a:lnTo>
                  <a:pt x="930" y="109"/>
                </a:lnTo>
                <a:lnTo>
                  <a:pt x="918" y="113"/>
                </a:lnTo>
                <a:lnTo>
                  <a:pt x="908" y="119"/>
                </a:lnTo>
                <a:lnTo>
                  <a:pt x="895" y="123"/>
                </a:lnTo>
                <a:lnTo>
                  <a:pt x="883" y="126"/>
                </a:lnTo>
                <a:lnTo>
                  <a:pt x="870" y="132"/>
                </a:lnTo>
                <a:lnTo>
                  <a:pt x="855" y="136"/>
                </a:lnTo>
                <a:lnTo>
                  <a:pt x="841" y="140"/>
                </a:lnTo>
                <a:lnTo>
                  <a:pt x="826" y="146"/>
                </a:lnTo>
                <a:lnTo>
                  <a:pt x="809" y="149"/>
                </a:lnTo>
                <a:lnTo>
                  <a:pt x="791" y="155"/>
                </a:lnTo>
                <a:lnTo>
                  <a:pt x="774" y="159"/>
                </a:lnTo>
                <a:lnTo>
                  <a:pt x="757" y="163"/>
                </a:lnTo>
                <a:lnTo>
                  <a:pt x="738" y="169"/>
                </a:lnTo>
                <a:lnTo>
                  <a:pt x="718" y="172"/>
                </a:lnTo>
                <a:lnTo>
                  <a:pt x="697" y="178"/>
                </a:lnTo>
                <a:lnTo>
                  <a:pt x="607" y="195"/>
                </a:lnTo>
                <a:lnTo>
                  <a:pt x="563" y="205"/>
                </a:lnTo>
                <a:lnTo>
                  <a:pt x="519" y="215"/>
                </a:lnTo>
                <a:lnTo>
                  <a:pt x="475" y="224"/>
                </a:lnTo>
                <a:lnTo>
                  <a:pt x="432" y="234"/>
                </a:lnTo>
                <a:lnTo>
                  <a:pt x="390" y="242"/>
                </a:lnTo>
                <a:lnTo>
                  <a:pt x="350" y="251"/>
                </a:lnTo>
                <a:lnTo>
                  <a:pt x="327" y="257"/>
                </a:lnTo>
                <a:lnTo>
                  <a:pt x="306" y="261"/>
                </a:lnTo>
                <a:lnTo>
                  <a:pt x="285" y="265"/>
                </a:lnTo>
                <a:lnTo>
                  <a:pt x="265" y="268"/>
                </a:lnTo>
                <a:lnTo>
                  <a:pt x="246" y="270"/>
                </a:lnTo>
                <a:lnTo>
                  <a:pt x="229" y="274"/>
                </a:lnTo>
                <a:lnTo>
                  <a:pt x="212" y="276"/>
                </a:lnTo>
                <a:lnTo>
                  <a:pt x="194" y="278"/>
                </a:lnTo>
                <a:lnTo>
                  <a:pt x="179" y="280"/>
                </a:lnTo>
                <a:lnTo>
                  <a:pt x="164" y="280"/>
                </a:lnTo>
                <a:lnTo>
                  <a:pt x="148" y="282"/>
                </a:lnTo>
                <a:lnTo>
                  <a:pt x="135" y="282"/>
                </a:lnTo>
                <a:lnTo>
                  <a:pt x="121" y="280"/>
                </a:lnTo>
                <a:lnTo>
                  <a:pt x="108" y="280"/>
                </a:lnTo>
                <a:lnTo>
                  <a:pt x="96" y="278"/>
                </a:lnTo>
                <a:lnTo>
                  <a:pt x="85" y="27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Freeform 37"/>
          <p:cNvSpPr/>
          <p:nvPr/>
        </p:nvSpPr>
        <p:spPr>
          <a:xfrm>
            <a:off x="6740640" y="3730680"/>
            <a:ext cx="474480" cy="1359000"/>
          </a:xfrm>
          <a:custGeom>
            <a:avLst/>
            <a:gdLst/>
            <a:ahLst/>
            <a:rect l="l" t="t" r="r" b="b"/>
            <a:pathLst>
              <a:path w="597" h="1712">
                <a:moveTo>
                  <a:pt x="532" y="357"/>
                </a:moveTo>
                <a:lnTo>
                  <a:pt x="534" y="376"/>
                </a:lnTo>
                <a:lnTo>
                  <a:pt x="536" y="396"/>
                </a:lnTo>
                <a:lnTo>
                  <a:pt x="539" y="417"/>
                </a:lnTo>
                <a:lnTo>
                  <a:pt x="541" y="438"/>
                </a:lnTo>
                <a:lnTo>
                  <a:pt x="543" y="461"/>
                </a:lnTo>
                <a:lnTo>
                  <a:pt x="545" y="484"/>
                </a:lnTo>
                <a:lnTo>
                  <a:pt x="547" y="509"/>
                </a:lnTo>
                <a:lnTo>
                  <a:pt x="549" y="534"/>
                </a:lnTo>
                <a:lnTo>
                  <a:pt x="553" y="561"/>
                </a:lnTo>
                <a:lnTo>
                  <a:pt x="555" y="587"/>
                </a:lnTo>
                <a:lnTo>
                  <a:pt x="557" y="616"/>
                </a:lnTo>
                <a:lnTo>
                  <a:pt x="559" y="647"/>
                </a:lnTo>
                <a:lnTo>
                  <a:pt x="561" y="678"/>
                </a:lnTo>
                <a:lnTo>
                  <a:pt x="562" y="708"/>
                </a:lnTo>
                <a:lnTo>
                  <a:pt x="566" y="741"/>
                </a:lnTo>
                <a:lnTo>
                  <a:pt x="568" y="776"/>
                </a:lnTo>
                <a:lnTo>
                  <a:pt x="570" y="810"/>
                </a:lnTo>
                <a:lnTo>
                  <a:pt x="572" y="843"/>
                </a:lnTo>
                <a:lnTo>
                  <a:pt x="574" y="875"/>
                </a:lnTo>
                <a:lnTo>
                  <a:pt x="576" y="908"/>
                </a:lnTo>
                <a:lnTo>
                  <a:pt x="576" y="937"/>
                </a:lnTo>
                <a:lnTo>
                  <a:pt x="578" y="967"/>
                </a:lnTo>
                <a:lnTo>
                  <a:pt x="580" y="994"/>
                </a:lnTo>
                <a:lnTo>
                  <a:pt x="580" y="1023"/>
                </a:lnTo>
                <a:lnTo>
                  <a:pt x="582" y="1048"/>
                </a:lnTo>
                <a:lnTo>
                  <a:pt x="582" y="1073"/>
                </a:lnTo>
                <a:lnTo>
                  <a:pt x="584" y="1096"/>
                </a:lnTo>
                <a:lnTo>
                  <a:pt x="585" y="1119"/>
                </a:lnTo>
                <a:lnTo>
                  <a:pt x="587" y="1140"/>
                </a:lnTo>
                <a:lnTo>
                  <a:pt x="587" y="1159"/>
                </a:lnTo>
                <a:lnTo>
                  <a:pt x="589" y="1179"/>
                </a:lnTo>
                <a:lnTo>
                  <a:pt x="593" y="1196"/>
                </a:lnTo>
                <a:lnTo>
                  <a:pt x="595" y="1213"/>
                </a:lnTo>
                <a:lnTo>
                  <a:pt x="595" y="1230"/>
                </a:lnTo>
                <a:lnTo>
                  <a:pt x="597" y="1250"/>
                </a:lnTo>
                <a:lnTo>
                  <a:pt x="597" y="1267"/>
                </a:lnTo>
                <a:lnTo>
                  <a:pt x="597" y="1299"/>
                </a:lnTo>
                <a:lnTo>
                  <a:pt x="595" y="1332"/>
                </a:lnTo>
                <a:lnTo>
                  <a:pt x="591" y="1363"/>
                </a:lnTo>
                <a:lnTo>
                  <a:pt x="591" y="1376"/>
                </a:lnTo>
                <a:lnTo>
                  <a:pt x="589" y="1390"/>
                </a:lnTo>
                <a:lnTo>
                  <a:pt x="587" y="1403"/>
                </a:lnTo>
                <a:lnTo>
                  <a:pt x="585" y="1417"/>
                </a:lnTo>
                <a:lnTo>
                  <a:pt x="582" y="1430"/>
                </a:lnTo>
                <a:lnTo>
                  <a:pt x="580" y="1441"/>
                </a:lnTo>
                <a:lnTo>
                  <a:pt x="572" y="1464"/>
                </a:lnTo>
                <a:lnTo>
                  <a:pt x="562" y="1486"/>
                </a:lnTo>
                <a:lnTo>
                  <a:pt x="553" y="1507"/>
                </a:lnTo>
                <a:lnTo>
                  <a:pt x="543" y="1528"/>
                </a:lnTo>
                <a:lnTo>
                  <a:pt x="532" y="1549"/>
                </a:lnTo>
                <a:lnTo>
                  <a:pt x="520" y="1570"/>
                </a:lnTo>
                <a:lnTo>
                  <a:pt x="509" y="1591"/>
                </a:lnTo>
                <a:lnTo>
                  <a:pt x="495" y="1614"/>
                </a:lnTo>
                <a:lnTo>
                  <a:pt x="489" y="1626"/>
                </a:lnTo>
                <a:lnTo>
                  <a:pt x="484" y="1635"/>
                </a:lnTo>
                <a:lnTo>
                  <a:pt x="476" y="1645"/>
                </a:lnTo>
                <a:lnTo>
                  <a:pt x="470" y="1653"/>
                </a:lnTo>
                <a:lnTo>
                  <a:pt x="466" y="1662"/>
                </a:lnTo>
                <a:lnTo>
                  <a:pt x="461" y="1668"/>
                </a:lnTo>
                <a:lnTo>
                  <a:pt x="455" y="1676"/>
                </a:lnTo>
                <a:lnTo>
                  <a:pt x="451" y="1681"/>
                </a:lnTo>
                <a:lnTo>
                  <a:pt x="447" y="1687"/>
                </a:lnTo>
                <a:lnTo>
                  <a:pt x="442" y="1691"/>
                </a:lnTo>
                <a:lnTo>
                  <a:pt x="438" y="1697"/>
                </a:lnTo>
                <a:lnTo>
                  <a:pt x="436" y="1701"/>
                </a:lnTo>
                <a:lnTo>
                  <a:pt x="428" y="1706"/>
                </a:lnTo>
                <a:lnTo>
                  <a:pt x="424" y="1712"/>
                </a:lnTo>
                <a:lnTo>
                  <a:pt x="418" y="1712"/>
                </a:lnTo>
                <a:lnTo>
                  <a:pt x="415" y="1710"/>
                </a:lnTo>
                <a:lnTo>
                  <a:pt x="411" y="1708"/>
                </a:lnTo>
                <a:lnTo>
                  <a:pt x="405" y="1706"/>
                </a:lnTo>
                <a:lnTo>
                  <a:pt x="401" y="1702"/>
                </a:lnTo>
                <a:lnTo>
                  <a:pt x="395" y="1697"/>
                </a:lnTo>
                <a:lnTo>
                  <a:pt x="392" y="1693"/>
                </a:lnTo>
                <a:lnTo>
                  <a:pt x="388" y="1685"/>
                </a:lnTo>
                <a:lnTo>
                  <a:pt x="382" y="1679"/>
                </a:lnTo>
                <a:lnTo>
                  <a:pt x="378" y="1672"/>
                </a:lnTo>
                <a:lnTo>
                  <a:pt x="374" y="1664"/>
                </a:lnTo>
                <a:lnTo>
                  <a:pt x="369" y="1654"/>
                </a:lnTo>
                <a:lnTo>
                  <a:pt x="365" y="1645"/>
                </a:lnTo>
                <a:lnTo>
                  <a:pt x="361" y="1635"/>
                </a:lnTo>
                <a:lnTo>
                  <a:pt x="355" y="1626"/>
                </a:lnTo>
                <a:lnTo>
                  <a:pt x="351" y="1614"/>
                </a:lnTo>
                <a:lnTo>
                  <a:pt x="344" y="1603"/>
                </a:lnTo>
                <a:lnTo>
                  <a:pt x="336" y="1591"/>
                </a:lnTo>
                <a:lnTo>
                  <a:pt x="328" y="1580"/>
                </a:lnTo>
                <a:lnTo>
                  <a:pt x="319" y="1568"/>
                </a:lnTo>
                <a:lnTo>
                  <a:pt x="309" y="1557"/>
                </a:lnTo>
                <a:lnTo>
                  <a:pt x="299" y="1545"/>
                </a:lnTo>
                <a:lnTo>
                  <a:pt x="288" y="1534"/>
                </a:lnTo>
                <a:lnTo>
                  <a:pt x="276" y="1522"/>
                </a:lnTo>
                <a:lnTo>
                  <a:pt x="263" y="1511"/>
                </a:lnTo>
                <a:lnTo>
                  <a:pt x="250" y="1499"/>
                </a:lnTo>
                <a:lnTo>
                  <a:pt x="234" y="1488"/>
                </a:lnTo>
                <a:lnTo>
                  <a:pt x="219" y="1476"/>
                </a:lnTo>
                <a:lnTo>
                  <a:pt x="203" y="1464"/>
                </a:lnTo>
                <a:lnTo>
                  <a:pt x="184" y="1453"/>
                </a:lnTo>
                <a:lnTo>
                  <a:pt x="167" y="1441"/>
                </a:lnTo>
                <a:lnTo>
                  <a:pt x="148" y="1430"/>
                </a:lnTo>
                <a:lnTo>
                  <a:pt x="127" y="1417"/>
                </a:lnTo>
                <a:lnTo>
                  <a:pt x="109" y="1407"/>
                </a:lnTo>
                <a:lnTo>
                  <a:pt x="92" y="1395"/>
                </a:lnTo>
                <a:lnTo>
                  <a:pt x="77" y="1386"/>
                </a:lnTo>
                <a:lnTo>
                  <a:pt x="63" y="1374"/>
                </a:lnTo>
                <a:lnTo>
                  <a:pt x="50" y="1367"/>
                </a:lnTo>
                <a:lnTo>
                  <a:pt x="40" y="1357"/>
                </a:lnTo>
                <a:lnTo>
                  <a:pt x="31" y="1349"/>
                </a:lnTo>
                <a:lnTo>
                  <a:pt x="21" y="1342"/>
                </a:lnTo>
                <a:lnTo>
                  <a:pt x="15" y="1334"/>
                </a:lnTo>
                <a:lnTo>
                  <a:pt x="10" y="1326"/>
                </a:lnTo>
                <a:lnTo>
                  <a:pt x="6" y="1321"/>
                </a:lnTo>
                <a:lnTo>
                  <a:pt x="2" y="1317"/>
                </a:lnTo>
                <a:lnTo>
                  <a:pt x="0" y="1313"/>
                </a:lnTo>
                <a:lnTo>
                  <a:pt x="0" y="1309"/>
                </a:lnTo>
                <a:lnTo>
                  <a:pt x="2" y="1305"/>
                </a:lnTo>
                <a:lnTo>
                  <a:pt x="4" y="1303"/>
                </a:lnTo>
                <a:lnTo>
                  <a:pt x="6" y="1301"/>
                </a:lnTo>
                <a:lnTo>
                  <a:pt x="10" y="1299"/>
                </a:lnTo>
                <a:lnTo>
                  <a:pt x="13" y="1299"/>
                </a:lnTo>
                <a:lnTo>
                  <a:pt x="19" y="1298"/>
                </a:lnTo>
                <a:lnTo>
                  <a:pt x="29" y="1298"/>
                </a:lnTo>
                <a:lnTo>
                  <a:pt x="36" y="1298"/>
                </a:lnTo>
                <a:lnTo>
                  <a:pt x="48" y="1298"/>
                </a:lnTo>
                <a:lnTo>
                  <a:pt x="59" y="1298"/>
                </a:lnTo>
                <a:lnTo>
                  <a:pt x="73" y="1299"/>
                </a:lnTo>
                <a:lnTo>
                  <a:pt x="88" y="1301"/>
                </a:lnTo>
                <a:lnTo>
                  <a:pt x="104" y="1303"/>
                </a:lnTo>
                <a:lnTo>
                  <a:pt x="121" y="1307"/>
                </a:lnTo>
                <a:lnTo>
                  <a:pt x="140" y="1309"/>
                </a:lnTo>
                <a:lnTo>
                  <a:pt x="161" y="1313"/>
                </a:lnTo>
                <a:lnTo>
                  <a:pt x="182" y="1319"/>
                </a:lnTo>
                <a:lnTo>
                  <a:pt x="203" y="1322"/>
                </a:lnTo>
                <a:lnTo>
                  <a:pt x="223" y="1326"/>
                </a:lnTo>
                <a:lnTo>
                  <a:pt x="240" y="1330"/>
                </a:lnTo>
                <a:lnTo>
                  <a:pt x="257" y="1332"/>
                </a:lnTo>
                <a:lnTo>
                  <a:pt x="274" y="1334"/>
                </a:lnTo>
                <a:lnTo>
                  <a:pt x="290" y="1334"/>
                </a:lnTo>
                <a:lnTo>
                  <a:pt x="303" y="1336"/>
                </a:lnTo>
                <a:lnTo>
                  <a:pt x="317" y="1336"/>
                </a:lnTo>
                <a:lnTo>
                  <a:pt x="330" y="1334"/>
                </a:lnTo>
                <a:lnTo>
                  <a:pt x="342" y="1332"/>
                </a:lnTo>
                <a:lnTo>
                  <a:pt x="351" y="1330"/>
                </a:lnTo>
                <a:lnTo>
                  <a:pt x="361" y="1326"/>
                </a:lnTo>
                <a:lnTo>
                  <a:pt x="369" y="1322"/>
                </a:lnTo>
                <a:lnTo>
                  <a:pt x="376" y="1319"/>
                </a:lnTo>
                <a:lnTo>
                  <a:pt x="382" y="1313"/>
                </a:lnTo>
                <a:lnTo>
                  <a:pt x="388" y="1305"/>
                </a:lnTo>
                <a:lnTo>
                  <a:pt x="390" y="1301"/>
                </a:lnTo>
                <a:lnTo>
                  <a:pt x="392" y="1294"/>
                </a:lnTo>
                <a:lnTo>
                  <a:pt x="394" y="1286"/>
                </a:lnTo>
                <a:lnTo>
                  <a:pt x="395" y="1278"/>
                </a:lnTo>
                <a:lnTo>
                  <a:pt x="399" y="1269"/>
                </a:lnTo>
                <a:lnTo>
                  <a:pt x="401" y="1257"/>
                </a:lnTo>
                <a:lnTo>
                  <a:pt x="403" y="1246"/>
                </a:lnTo>
                <a:lnTo>
                  <a:pt x="405" y="1234"/>
                </a:lnTo>
                <a:lnTo>
                  <a:pt x="407" y="1219"/>
                </a:lnTo>
                <a:lnTo>
                  <a:pt x="411" y="1205"/>
                </a:lnTo>
                <a:lnTo>
                  <a:pt x="413" y="1188"/>
                </a:lnTo>
                <a:lnTo>
                  <a:pt x="415" y="1173"/>
                </a:lnTo>
                <a:lnTo>
                  <a:pt x="417" y="1156"/>
                </a:lnTo>
                <a:lnTo>
                  <a:pt x="418" y="1136"/>
                </a:lnTo>
                <a:lnTo>
                  <a:pt x="422" y="1117"/>
                </a:lnTo>
                <a:lnTo>
                  <a:pt x="424" y="1096"/>
                </a:lnTo>
                <a:lnTo>
                  <a:pt x="426" y="1075"/>
                </a:lnTo>
                <a:lnTo>
                  <a:pt x="426" y="1052"/>
                </a:lnTo>
                <a:lnTo>
                  <a:pt x="428" y="1027"/>
                </a:lnTo>
                <a:lnTo>
                  <a:pt x="428" y="1000"/>
                </a:lnTo>
                <a:lnTo>
                  <a:pt x="428" y="971"/>
                </a:lnTo>
                <a:lnTo>
                  <a:pt x="428" y="941"/>
                </a:lnTo>
                <a:lnTo>
                  <a:pt x="428" y="910"/>
                </a:lnTo>
                <a:lnTo>
                  <a:pt x="426" y="875"/>
                </a:lnTo>
                <a:lnTo>
                  <a:pt x="424" y="841"/>
                </a:lnTo>
                <a:lnTo>
                  <a:pt x="424" y="804"/>
                </a:lnTo>
                <a:lnTo>
                  <a:pt x="422" y="766"/>
                </a:lnTo>
                <a:lnTo>
                  <a:pt x="420" y="728"/>
                </a:lnTo>
                <a:lnTo>
                  <a:pt x="418" y="685"/>
                </a:lnTo>
                <a:lnTo>
                  <a:pt x="417" y="643"/>
                </a:lnTo>
                <a:lnTo>
                  <a:pt x="413" y="599"/>
                </a:lnTo>
                <a:lnTo>
                  <a:pt x="411" y="555"/>
                </a:lnTo>
                <a:lnTo>
                  <a:pt x="407" y="509"/>
                </a:lnTo>
                <a:lnTo>
                  <a:pt x="401" y="465"/>
                </a:lnTo>
                <a:lnTo>
                  <a:pt x="395" y="422"/>
                </a:lnTo>
                <a:lnTo>
                  <a:pt x="390" y="380"/>
                </a:lnTo>
                <a:lnTo>
                  <a:pt x="382" y="342"/>
                </a:lnTo>
                <a:lnTo>
                  <a:pt x="374" y="303"/>
                </a:lnTo>
                <a:lnTo>
                  <a:pt x="367" y="267"/>
                </a:lnTo>
                <a:lnTo>
                  <a:pt x="357" y="230"/>
                </a:lnTo>
                <a:lnTo>
                  <a:pt x="347" y="198"/>
                </a:lnTo>
                <a:lnTo>
                  <a:pt x="338" y="165"/>
                </a:lnTo>
                <a:lnTo>
                  <a:pt x="328" y="133"/>
                </a:lnTo>
                <a:lnTo>
                  <a:pt x="317" y="104"/>
                </a:lnTo>
                <a:lnTo>
                  <a:pt x="305" y="75"/>
                </a:lnTo>
                <a:lnTo>
                  <a:pt x="294" y="48"/>
                </a:lnTo>
                <a:lnTo>
                  <a:pt x="280" y="23"/>
                </a:lnTo>
                <a:lnTo>
                  <a:pt x="267" y="0"/>
                </a:lnTo>
                <a:lnTo>
                  <a:pt x="296" y="4"/>
                </a:lnTo>
                <a:lnTo>
                  <a:pt x="322" y="10"/>
                </a:lnTo>
                <a:lnTo>
                  <a:pt x="347" y="14"/>
                </a:lnTo>
                <a:lnTo>
                  <a:pt x="370" y="17"/>
                </a:lnTo>
                <a:lnTo>
                  <a:pt x="394" y="23"/>
                </a:lnTo>
                <a:lnTo>
                  <a:pt x="413" y="27"/>
                </a:lnTo>
                <a:lnTo>
                  <a:pt x="432" y="33"/>
                </a:lnTo>
                <a:lnTo>
                  <a:pt x="449" y="37"/>
                </a:lnTo>
                <a:lnTo>
                  <a:pt x="465" y="40"/>
                </a:lnTo>
                <a:lnTo>
                  <a:pt x="478" y="46"/>
                </a:lnTo>
                <a:lnTo>
                  <a:pt x="491" y="50"/>
                </a:lnTo>
                <a:lnTo>
                  <a:pt x="503" y="56"/>
                </a:lnTo>
                <a:lnTo>
                  <a:pt x="513" y="60"/>
                </a:lnTo>
                <a:lnTo>
                  <a:pt x="520" y="64"/>
                </a:lnTo>
                <a:lnTo>
                  <a:pt x="526" y="69"/>
                </a:lnTo>
                <a:lnTo>
                  <a:pt x="532" y="73"/>
                </a:lnTo>
                <a:lnTo>
                  <a:pt x="536" y="83"/>
                </a:lnTo>
                <a:lnTo>
                  <a:pt x="541" y="92"/>
                </a:lnTo>
                <a:lnTo>
                  <a:pt x="543" y="102"/>
                </a:lnTo>
                <a:lnTo>
                  <a:pt x="547" y="111"/>
                </a:lnTo>
                <a:lnTo>
                  <a:pt x="549" y="123"/>
                </a:lnTo>
                <a:lnTo>
                  <a:pt x="549" y="135"/>
                </a:lnTo>
                <a:lnTo>
                  <a:pt x="549" y="140"/>
                </a:lnTo>
                <a:lnTo>
                  <a:pt x="547" y="146"/>
                </a:lnTo>
                <a:lnTo>
                  <a:pt x="545" y="154"/>
                </a:lnTo>
                <a:lnTo>
                  <a:pt x="543" y="159"/>
                </a:lnTo>
                <a:lnTo>
                  <a:pt x="541" y="167"/>
                </a:lnTo>
                <a:lnTo>
                  <a:pt x="539" y="175"/>
                </a:lnTo>
                <a:lnTo>
                  <a:pt x="537" y="182"/>
                </a:lnTo>
                <a:lnTo>
                  <a:pt x="536" y="192"/>
                </a:lnTo>
                <a:lnTo>
                  <a:pt x="534" y="202"/>
                </a:lnTo>
                <a:lnTo>
                  <a:pt x="532" y="213"/>
                </a:lnTo>
                <a:lnTo>
                  <a:pt x="530" y="223"/>
                </a:lnTo>
                <a:lnTo>
                  <a:pt x="530" y="234"/>
                </a:lnTo>
                <a:lnTo>
                  <a:pt x="528" y="248"/>
                </a:lnTo>
                <a:lnTo>
                  <a:pt x="528" y="261"/>
                </a:lnTo>
                <a:lnTo>
                  <a:pt x="526" y="275"/>
                </a:lnTo>
                <a:lnTo>
                  <a:pt x="528" y="290"/>
                </a:lnTo>
                <a:lnTo>
                  <a:pt x="528" y="305"/>
                </a:lnTo>
                <a:lnTo>
                  <a:pt x="528" y="321"/>
                </a:lnTo>
                <a:lnTo>
                  <a:pt x="530" y="338"/>
                </a:lnTo>
                <a:lnTo>
                  <a:pt x="532" y="35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Freeform 38"/>
          <p:cNvSpPr/>
          <p:nvPr/>
        </p:nvSpPr>
        <p:spPr>
          <a:xfrm>
            <a:off x="6656400" y="3132000"/>
            <a:ext cx="430200" cy="138240"/>
          </a:xfrm>
          <a:custGeom>
            <a:avLst/>
            <a:gdLst/>
            <a:ahLst/>
            <a:rect l="l" t="t" r="r" b="b"/>
            <a:pathLst>
              <a:path w="542" h="173">
                <a:moveTo>
                  <a:pt x="0" y="61"/>
                </a:moveTo>
                <a:lnTo>
                  <a:pt x="25" y="61"/>
                </a:lnTo>
                <a:lnTo>
                  <a:pt x="48" y="61"/>
                </a:lnTo>
                <a:lnTo>
                  <a:pt x="71" y="61"/>
                </a:lnTo>
                <a:lnTo>
                  <a:pt x="93" y="59"/>
                </a:lnTo>
                <a:lnTo>
                  <a:pt x="114" y="57"/>
                </a:lnTo>
                <a:lnTo>
                  <a:pt x="135" y="57"/>
                </a:lnTo>
                <a:lnTo>
                  <a:pt x="154" y="56"/>
                </a:lnTo>
                <a:lnTo>
                  <a:pt x="171" y="52"/>
                </a:lnTo>
                <a:lnTo>
                  <a:pt x="189" y="50"/>
                </a:lnTo>
                <a:lnTo>
                  <a:pt x="206" y="48"/>
                </a:lnTo>
                <a:lnTo>
                  <a:pt x="221" y="44"/>
                </a:lnTo>
                <a:lnTo>
                  <a:pt x="237" y="40"/>
                </a:lnTo>
                <a:lnTo>
                  <a:pt x="252" y="36"/>
                </a:lnTo>
                <a:lnTo>
                  <a:pt x="265" y="32"/>
                </a:lnTo>
                <a:lnTo>
                  <a:pt x="277" y="29"/>
                </a:lnTo>
                <a:lnTo>
                  <a:pt x="288" y="25"/>
                </a:lnTo>
                <a:lnTo>
                  <a:pt x="334" y="15"/>
                </a:lnTo>
                <a:lnTo>
                  <a:pt x="357" y="11"/>
                </a:lnTo>
                <a:lnTo>
                  <a:pt x="379" y="8"/>
                </a:lnTo>
                <a:lnTo>
                  <a:pt x="402" y="4"/>
                </a:lnTo>
                <a:lnTo>
                  <a:pt x="425" y="2"/>
                </a:lnTo>
                <a:lnTo>
                  <a:pt x="448" y="0"/>
                </a:lnTo>
                <a:lnTo>
                  <a:pt x="469" y="0"/>
                </a:lnTo>
                <a:lnTo>
                  <a:pt x="478" y="0"/>
                </a:lnTo>
                <a:lnTo>
                  <a:pt x="486" y="0"/>
                </a:lnTo>
                <a:lnTo>
                  <a:pt x="494" y="2"/>
                </a:lnTo>
                <a:lnTo>
                  <a:pt x="501" y="2"/>
                </a:lnTo>
                <a:lnTo>
                  <a:pt x="507" y="4"/>
                </a:lnTo>
                <a:lnTo>
                  <a:pt x="513" y="6"/>
                </a:lnTo>
                <a:lnTo>
                  <a:pt x="519" y="8"/>
                </a:lnTo>
                <a:lnTo>
                  <a:pt x="524" y="9"/>
                </a:lnTo>
                <a:lnTo>
                  <a:pt x="528" y="11"/>
                </a:lnTo>
                <a:lnTo>
                  <a:pt x="532" y="15"/>
                </a:lnTo>
                <a:lnTo>
                  <a:pt x="534" y="17"/>
                </a:lnTo>
                <a:lnTo>
                  <a:pt x="538" y="21"/>
                </a:lnTo>
                <a:lnTo>
                  <a:pt x="540" y="25"/>
                </a:lnTo>
                <a:lnTo>
                  <a:pt x="540" y="29"/>
                </a:lnTo>
                <a:lnTo>
                  <a:pt x="542" y="32"/>
                </a:lnTo>
                <a:lnTo>
                  <a:pt x="542" y="36"/>
                </a:lnTo>
                <a:lnTo>
                  <a:pt x="542" y="46"/>
                </a:lnTo>
                <a:lnTo>
                  <a:pt x="540" y="54"/>
                </a:lnTo>
                <a:lnTo>
                  <a:pt x="536" y="59"/>
                </a:lnTo>
                <a:lnTo>
                  <a:pt x="530" y="67"/>
                </a:lnTo>
                <a:lnTo>
                  <a:pt x="524" y="71"/>
                </a:lnTo>
                <a:lnTo>
                  <a:pt x="521" y="75"/>
                </a:lnTo>
                <a:lnTo>
                  <a:pt x="517" y="77"/>
                </a:lnTo>
                <a:lnTo>
                  <a:pt x="511" y="79"/>
                </a:lnTo>
                <a:lnTo>
                  <a:pt x="505" y="82"/>
                </a:lnTo>
                <a:lnTo>
                  <a:pt x="500" y="84"/>
                </a:lnTo>
                <a:lnTo>
                  <a:pt x="494" y="86"/>
                </a:lnTo>
                <a:lnTo>
                  <a:pt x="490" y="88"/>
                </a:lnTo>
                <a:lnTo>
                  <a:pt x="486" y="88"/>
                </a:lnTo>
                <a:lnTo>
                  <a:pt x="480" y="90"/>
                </a:lnTo>
                <a:lnTo>
                  <a:pt x="475" y="92"/>
                </a:lnTo>
                <a:lnTo>
                  <a:pt x="467" y="94"/>
                </a:lnTo>
                <a:lnTo>
                  <a:pt x="461" y="96"/>
                </a:lnTo>
                <a:lnTo>
                  <a:pt x="452" y="98"/>
                </a:lnTo>
                <a:lnTo>
                  <a:pt x="444" y="100"/>
                </a:lnTo>
                <a:lnTo>
                  <a:pt x="434" y="102"/>
                </a:lnTo>
                <a:lnTo>
                  <a:pt x="423" y="104"/>
                </a:lnTo>
                <a:lnTo>
                  <a:pt x="413" y="107"/>
                </a:lnTo>
                <a:lnTo>
                  <a:pt x="402" y="109"/>
                </a:lnTo>
                <a:lnTo>
                  <a:pt x="388" y="111"/>
                </a:lnTo>
                <a:lnTo>
                  <a:pt x="375" y="115"/>
                </a:lnTo>
                <a:lnTo>
                  <a:pt x="361" y="117"/>
                </a:lnTo>
                <a:lnTo>
                  <a:pt x="346" y="121"/>
                </a:lnTo>
                <a:lnTo>
                  <a:pt x="331" y="123"/>
                </a:lnTo>
                <a:lnTo>
                  <a:pt x="313" y="127"/>
                </a:lnTo>
                <a:lnTo>
                  <a:pt x="296" y="128"/>
                </a:lnTo>
                <a:lnTo>
                  <a:pt x="279" y="132"/>
                </a:lnTo>
                <a:lnTo>
                  <a:pt x="260" y="134"/>
                </a:lnTo>
                <a:lnTo>
                  <a:pt x="240" y="138"/>
                </a:lnTo>
                <a:lnTo>
                  <a:pt x="221" y="142"/>
                </a:lnTo>
                <a:lnTo>
                  <a:pt x="200" y="146"/>
                </a:lnTo>
                <a:lnTo>
                  <a:pt x="177" y="148"/>
                </a:lnTo>
                <a:lnTo>
                  <a:pt x="154" y="151"/>
                </a:lnTo>
                <a:lnTo>
                  <a:pt x="131" y="155"/>
                </a:lnTo>
                <a:lnTo>
                  <a:pt x="106" y="159"/>
                </a:lnTo>
                <a:lnTo>
                  <a:pt x="81" y="163"/>
                </a:lnTo>
                <a:lnTo>
                  <a:pt x="54" y="165"/>
                </a:lnTo>
                <a:lnTo>
                  <a:pt x="27" y="169"/>
                </a:lnTo>
                <a:lnTo>
                  <a:pt x="0" y="173"/>
                </a:lnTo>
                <a:lnTo>
                  <a:pt x="0" y="117"/>
                </a:lnTo>
                <a:lnTo>
                  <a:pt x="0" y="6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Freeform 39"/>
          <p:cNvSpPr/>
          <p:nvPr/>
        </p:nvSpPr>
        <p:spPr>
          <a:xfrm>
            <a:off x="6684840" y="3357720"/>
            <a:ext cx="565200" cy="156960"/>
          </a:xfrm>
          <a:custGeom>
            <a:avLst/>
            <a:gdLst/>
            <a:ahLst/>
            <a:rect l="l" t="t" r="r" b="b"/>
            <a:pathLst>
              <a:path w="710" h="198">
                <a:moveTo>
                  <a:pt x="710" y="0"/>
                </a:moveTo>
                <a:lnTo>
                  <a:pt x="708" y="6"/>
                </a:lnTo>
                <a:lnTo>
                  <a:pt x="708" y="11"/>
                </a:lnTo>
                <a:lnTo>
                  <a:pt x="706" y="17"/>
                </a:lnTo>
                <a:lnTo>
                  <a:pt x="704" y="21"/>
                </a:lnTo>
                <a:lnTo>
                  <a:pt x="702" y="27"/>
                </a:lnTo>
                <a:lnTo>
                  <a:pt x="699" y="33"/>
                </a:lnTo>
                <a:lnTo>
                  <a:pt x="695" y="38"/>
                </a:lnTo>
                <a:lnTo>
                  <a:pt x="691" y="44"/>
                </a:lnTo>
                <a:lnTo>
                  <a:pt x="685" y="48"/>
                </a:lnTo>
                <a:lnTo>
                  <a:pt x="681" y="54"/>
                </a:lnTo>
                <a:lnTo>
                  <a:pt x="674" y="57"/>
                </a:lnTo>
                <a:lnTo>
                  <a:pt x="668" y="63"/>
                </a:lnTo>
                <a:lnTo>
                  <a:pt x="660" y="69"/>
                </a:lnTo>
                <a:lnTo>
                  <a:pt x="653" y="73"/>
                </a:lnTo>
                <a:lnTo>
                  <a:pt x="645" y="77"/>
                </a:lnTo>
                <a:lnTo>
                  <a:pt x="635" y="82"/>
                </a:lnTo>
                <a:lnTo>
                  <a:pt x="626" y="86"/>
                </a:lnTo>
                <a:lnTo>
                  <a:pt x="616" y="92"/>
                </a:lnTo>
                <a:lnTo>
                  <a:pt x="605" y="96"/>
                </a:lnTo>
                <a:lnTo>
                  <a:pt x="593" y="100"/>
                </a:lnTo>
                <a:lnTo>
                  <a:pt x="582" y="104"/>
                </a:lnTo>
                <a:lnTo>
                  <a:pt x="568" y="109"/>
                </a:lnTo>
                <a:lnTo>
                  <a:pt x="555" y="113"/>
                </a:lnTo>
                <a:lnTo>
                  <a:pt x="541" y="117"/>
                </a:lnTo>
                <a:lnTo>
                  <a:pt x="528" y="121"/>
                </a:lnTo>
                <a:lnTo>
                  <a:pt x="512" y="125"/>
                </a:lnTo>
                <a:lnTo>
                  <a:pt x="497" y="128"/>
                </a:lnTo>
                <a:lnTo>
                  <a:pt x="480" y="132"/>
                </a:lnTo>
                <a:lnTo>
                  <a:pt x="463" y="136"/>
                </a:lnTo>
                <a:lnTo>
                  <a:pt x="445" y="140"/>
                </a:lnTo>
                <a:lnTo>
                  <a:pt x="428" y="144"/>
                </a:lnTo>
                <a:lnTo>
                  <a:pt x="409" y="148"/>
                </a:lnTo>
                <a:lnTo>
                  <a:pt x="370" y="153"/>
                </a:lnTo>
                <a:lnTo>
                  <a:pt x="334" y="161"/>
                </a:lnTo>
                <a:lnTo>
                  <a:pt x="299" y="165"/>
                </a:lnTo>
                <a:lnTo>
                  <a:pt x="267" y="171"/>
                </a:lnTo>
                <a:lnTo>
                  <a:pt x="234" y="175"/>
                </a:lnTo>
                <a:lnTo>
                  <a:pt x="205" y="180"/>
                </a:lnTo>
                <a:lnTo>
                  <a:pt x="176" y="182"/>
                </a:lnTo>
                <a:lnTo>
                  <a:pt x="150" y="186"/>
                </a:lnTo>
                <a:lnTo>
                  <a:pt x="125" y="188"/>
                </a:lnTo>
                <a:lnTo>
                  <a:pt x="102" y="192"/>
                </a:lnTo>
                <a:lnTo>
                  <a:pt x="80" y="194"/>
                </a:lnTo>
                <a:lnTo>
                  <a:pt x="59" y="194"/>
                </a:lnTo>
                <a:lnTo>
                  <a:pt x="42" y="196"/>
                </a:lnTo>
                <a:lnTo>
                  <a:pt x="27" y="196"/>
                </a:lnTo>
                <a:lnTo>
                  <a:pt x="19" y="196"/>
                </a:lnTo>
                <a:lnTo>
                  <a:pt x="11" y="196"/>
                </a:lnTo>
                <a:lnTo>
                  <a:pt x="6" y="198"/>
                </a:lnTo>
                <a:lnTo>
                  <a:pt x="0" y="198"/>
                </a:lnTo>
                <a:lnTo>
                  <a:pt x="0" y="148"/>
                </a:lnTo>
                <a:lnTo>
                  <a:pt x="0" y="98"/>
                </a:lnTo>
                <a:lnTo>
                  <a:pt x="32" y="92"/>
                </a:lnTo>
                <a:lnTo>
                  <a:pt x="65" y="86"/>
                </a:lnTo>
                <a:lnTo>
                  <a:pt x="98" y="81"/>
                </a:lnTo>
                <a:lnTo>
                  <a:pt x="128" y="75"/>
                </a:lnTo>
                <a:lnTo>
                  <a:pt x="159" y="71"/>
                </a:lnTo>
                <a:lnTo>
                  <a:pt x="190" y="65"/>
                </a:lnTo>
                <a:lnTo>
                  <a:pt x="219" y="61"/>
                </a:lnTo>
                <a:lnTo>
                  <a:pt x="248" y="56"/>
                </a:lnTo>
                <a:lnTo>
                  <a:pt x="274" y="52"/>
                </a:lnTo>
                <a:lnTo>
                  <a:pt x="301" y="48"/>
                </a:lnTo>
                <a:lnTo>
                  <a:pt x="328" y="42"/>
                </a:lnTo>
                <a:lnTo>
                  <a:pt x="353" y="38"/>
                </a:lnTo>
                <a:lnTo>
                  <a:pt x="378" y="34"/>
                </a:lnTo>
                <a:lnTo>
                  <a:pt x="403" y="33"/>
                </a:lnTo>
                <a:lnTo>
                  <a:pt x="426" y="29"/>
                </a:lnTo>
                <a:lnTo>
                  <a:pt x="449" y="25"/>
                </a:lnTo>
                <a:lnTo>
                  <a:pt x="470" y="23"/>
                </a:lnTo>
                <a:lnTo>
                  <a:pt x="491" y="19"/>
                </a:lnTo>
                <a:lnTo>
                  <a:pt x="512" y="17"/>
                </a:lnTo>
                <a:lnTo>
                  <a:pt x="532" y="13"/>
                </a:lnTo>
                <a:lnTo>
                  <a:pt x="551" y="11"/>
                </a:lnTo>
                <a:lnTo>
                  <a:pt x="570" y="10"/>
                </a:lnTo>
                <a:lnTo>
                  <a:pt x="587" y="8"/>
                </a:lnTo>
                <a:lnTo>
                  <a:pt x="603" y="6"/>
                </a:lnTo>
                <a:lnTo>
                  <a:pt x="620" y="4"/>
                </a:lnTo>
                <a:lnTo>
                  <a:pt x="635" y="4"/>
                </a:lnTo>
                <a:lnTo>
                  <a:pt x="649" y="2"/>
                </a:lnTo>
                <a:lnTo>
                  <a:pt x="662" y="2"/>
                </a:lnTo>
                <a:lnTo>
                  <a:pt x="676" y="0"/>
                </a:lnTo>
                <a:lnTo>
                  <a:pt x="687" y="0"/>
                </a:lnTo>
                <a:lnTo>
                  <a:pt x="699" y="0"/>
                </a:lnTo>
                <a:lnTo>
                  <a:pt x="710" y="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Freeform 40"/>
          <p:cNvSpPr/>
          <p:nvPr/>
        </p:nvSpPr>
        <p:spPr>
          <a:xfrm>
            <a:off x="6580080" y="2825640"/>
            <a:ext cx="916200" cy="689040"/>
          </a:xfrm>
          <a:custGeom>
            <a:avLst/>
            <a:gdLst/>
            <a:ahLst/>
            <a:rect l="l" t="t" r="r" b="b"/>
            <a:pathLst>
              <a:path w="1154" h="870">
                <a:moveTo>
                  <a:pt x="1024" y="92"/>
                </a:moveTo>
                <a:lnTo>
                  <a:pt x="1039" y="100"/>
                </a:lnTo>
                <a:lnTo>
                  <a:pt x="1052" y="106"/>
                </a:lnTo>
                <a:lnTo>
                  <a:pt x="1066" y="113"/>
                </a:lnTo>
                <a:lnTo>
                  <a:pt x="1079" y="119"/>
                </a:lnTo>
                <a:lnTo>
                  <a:pt x="1091" y="127"/>
                </a:lnTo>
                <a:lnTo>
                  <a:pt x="1100" y="133"/>
                </a:lnTo>
                <a:lnTo>
                  <a:pt x="1112" y="138"/>
                </a:lnTo>
                <a:lnTo>
                  <a:pt x="1120" y="144"/>
                </a:lnTo>
                <a:lnTo>
                  <a:pt x="1127" y="150"/>
                </a:lnTo>
                <a:lnTo>
                  <a:pt x="1135" y="156"/>
                </a:lnTo>
                <a:lnTo>
                  <a:pt x="1141" y="161"/>
                </a:lnTo>
                <a:lnTo>
                  <a:pt x="1146" y="165"/>
                </a:lnTo>
                <a:lnTo>
                  <a:pt x="1150" y="169"/>
                </a:lnTo>
                <a:lnTo>
                  <a:pt x="1152" y="173"/>
                </a:lnTo>
                <a:lnTo>
                  <a:pt x="1154" y="177"/>
                </a:lnTo>
                <a:lnTo>
                  <a:pt x="1154" y="179"/>
                </a:lnTo>
                <a:lnTo>
                  <a:pt x="1154" y="188"/>
                </a:lnTo>
                <a:lnTo>
                  <a:pt x="1152" y="198"/>
                </a:lnTo>
                <a:lnTo>
                  <a:pt x="1148" y="206"/>
                </a:lnTo>
                <a:lnTo>
                  <a:pt x="1145" y="215"/>
                </a:lnTo>
                <a:lnTo>
                  <a:pt x="1137" y="225"/>
                </a:lnTo>
                <a:lnTo>
                  <a:pt x="1133" y="229"/>
                </a:lnTo>
                <a:lnTo>
                  <a:pt x="1129" y="234"/>
                </a:lnTo>
                <a:lnTo>
                  <a:pt x="1125" y="238"/>
                </a:lnTo>
                <a:lnTo>
                  <a:pt x="1120" y="244"/>
                </a:lnTo>
                <a:lnTo>
                  <a:pt x="1114" y="248"/>
                </a:lnTo>
                <a:lnTo>
                  <a:pt x="1106" y="254"/>
                </a:lnTo>
                <a:lnTo>
                  <a:pt x="1102" y="255"/>
                </a:lnTo>
                <a:lnTo>
                  <a:pt x="1100" y="257"/>
                </a:lnTo>
                <a:lnTo>
                  <a:pt x="1097" y="261"/>
                </a:lnTo>
                <a:lnTo>
                  <a:pt x="1093" y="265"/>
                </a:lnTo>
                <a:lnTo>
                  <a:pt x="1089" y="271"/>
                </a:lnTo>
                <a:lnTo>
                  <a:pt x="1085" y="275"/>
                </a:lnTo>
                <a:lnTo>
                  <a:pt x="1079" y="280"/>
                </a:lnTo>
                <a:lnTo>
                  <a:pt x="1075" y="286"/>
                </a:lnTo>
                <a:lnTo>
                  <a:pt x="1072" y="294"/>
                </a:lnTo>
                <a:lnTo>
                  <a:pt x="1066" y="302"/>
                </a:lnTo>
                <a:lnTo>
                  <a:pt x="1062" y="307"/>
                </a:lnTo>
                <a:lnTo>
                  <a:pt x="1056" y="317"/>
                </a:lnTo>
                <a:lnTo>
                  <a:pt x="1047" y="334"/>
                </a:lnTo>
                <a:lnTo>
                  <a:pt x="1037" y="353"/>
                </a:lnTo>
                <a:lnTo>
                  <a:pt x="1027" y="374"/>
                </a:lnTo>
                <a:lnTo>
                  <a:pt x="1016" y="397"/>
                </a:lnTo>
                <a:lnTo>
                  <a:pt x="1006" y="420"/>
                </a:lnTo>
                <a:lnTo>
                  <a:pt x="995" y="447"/>
                </a:lnTo>
                <a:lnTo>
                  <a:pt x="983" y="476"/>
                </a:lnTo>
                <a:lnTo>
                  <a:pt x="974" y="507"/>
                </a:lnTo>
                <a:lnTo>
                  <a:pt x="962" y="539"/>
                </a:lnTo>
                <a:lnTo>
                  <a:pt x="951" y="572"/>
                </a:lnTo>
                <a:lnTo>
                  <a:pt x="945" y="591"/>
                </a:lnTo>
                <a:lnTo>
                  <a:pt x="937" y="609"/>
                </a:lnTo>
                <a:lnTo>
                  <a:pt x="931" y="626"/>
                </a:lnTo>
                <a:lnTo>
                  <a:pt x="926" y="641"/>
                </a:lnTo>
                <a:lnTo>
                  <a:pt x="920" y="658"/>
                </a:lnTo>
                <a:lnTo>
                  <a:pt x="914" y="674"/>
                </a:lnTo>
                <a:lnTo>
                  <a:pt x="908" y="687"/>
                </a:lnTo>
                <a:lnTo>
                  <a:pt x="903" y="703"/>
                </a:lnTo>
                <a:lnTo>
                  <a:pt x="899" y="716"/>
                </a:lnTo>
                <a:lnTo>
                  <a:pt x="893" y="729"/>
                </a:lnTo>
                <a:lnTo>
                  <a:pt x="889" y="741"/>
                </a:lnTo>
                <a:lnTo>
                  <a:pt x="885" y="753"/>
                </a:lnTo>
                <a:lnTo>
                  <a:pt x="880" y="764"/>
                </a:lnTo>
                <a:lnTo>
                  <a:pt x="876" y="776"/>
                </a:lnTo>
                <a:lnTo>
                  <a:pt x="872" y="785"/>
                </a:lnTo>
                <a:lnTo>
                  <a:pt x="868" y="795"/>
                </a:lnTo>
                <a:lnTo>
                  <a:pt x="864" y="804"/>
                </a:lnTo>
                <a:lnTo>
                  <a:pt x="860" y="812"/>
                </a:lnTo>
                <a:lnTo>
                  <a:pt x="859" y="820"/>
                </a:lnTo>
                <a:lnTo>
                  <a:pt x="855" y="827"/>
                </a:lnTo>
                <a:lnTo>
                  <a:pt x="853" y="833"/>
                </a:lnTo>
                <a:lnTo>
                  <a:pt x="849" y="839"/>
                </a:lnTo>
                <a:lnTo>
                  <a:pt x="847" y="845"/>
                </a:lnTo>
                <a:lnTo>
                  <a:pt x="843" y="850"/>
                </a:lnTo>
                <a:lnTo>
                  <a:pt x="841" y="854"/>
                </a:lnTo>
                <a:lnTo>
                  <a:pt x="839" y="858"/>
                </a:lnTo>
                <a:lnTo>
                  <a:pt x="837" y="862"/>
                </a:lnTo>
                <a:lnTo>
                  <a:pt x="835" y="864"/>
                </a:lnTo>
                <a:lnTo>
                  <a:pt x="834" y="866"/>
                </a:lnTo>
                <a:lnTo>
                  <a:pt x="832" y="868"/>
                </a:lnTo>
                <a:lnTo>
                  <a:pt x="830" y="870"/>
                </a:lnTo>
                <a:lnTo>
                  <a:pt x="824" y="868"/>
                </a:lnTo>
                <a:lnTo>
                  <a:pt x="818" y="866"/>
                </a:lnTo>
                <a:lnTo>
                  <a:pt x="812" y="864"/>
                </a:lnTo>
                <a:lnTo>
                  <a:pt x="807" y="860"/>
                </a:lnTo>
                <a:lnTo>
                  <a:pt x="799" y="854"/>
                </a:lnTo>
                <a:lnTo>
                  <a:pt x="793" y="848"/>
                </a:lnTo>
                <a:lnTo>
                  <a:pt x="787" y="841"/>
                </a:lnTo>
                <a:lnTo>
                  <a:pt x="782" y="831"/>
                </a:lnTo>
                <a:lnTo>
                  <a:pt x="778" y="829"/>
                </a:lnTo>
                <a:lnTo>
                  <a:pt x="774" y="825"/>
                </a:lnTo>
                <a:lnTo>
                  <a:pt x="772" y="822"/>
                </a:lnTo>
                <a:lnTo>
                  <a:pt x="768" y="816"/>
                </a:lnTo>
                <a:lnTo>
                  <a:pt x="766" y="810"/>
                </a:lnTo>
                <a:lnTo>
                  <a:pt x="764" y="802"/>
                </a:lnTo>
                <a:lnTo>
                  <a:pt x="763" y="797"/>
                </a:lnTo>
                <a:lnTo>
                  <a:pt x="763" y="789"/>
                </a:lnTo>
                <a:lnTo>
                  <a:pt x="763" y="779"/>
                </a:lnTo>
                <a:lnTo>
                  <a:pt x="763" y="772"/>
                </a:lnTo>
                <a:lnTo>
                  <a:pt x="763" y="762"/>
                </a:lnTo>
                <a:lnTo>
                  <a:pt x="763" y="753"/>
                </a:lnTo>
                <a:lnTo>
                  <a:pt x="766" y="731"/>
                </a:lnTo>
                <a:lnTo>
                  <a:pt x="770" y="708"/>
                </a:lnTo>
                <a:lnTo>
                  <a:pt x="774" y="685"/>
                </a:lnTo>
                <a:lnTo>
                  <a:pt x="778" y="660"/>
                </a:lnTo>
                <a:lnTo>
                  <a:pt x="784" y="634"/>
                </a:lnTo>
                <a:lnTo>
                  <a:pt x="787" y="605"/>
                </a:lnTo>
                <a:lnTo>
                  <a:pt x="793" y="576"/>
                </a:lnTo>
                <a:lnTo>
                  <a:pt x="795" y="561"/>
                </a:lnTo>
                <a:lnTo>
                  <a:pt x="797" y="543"/>
                </a:lnTo>
                <a:lnTo>
                  <a:pt x="799" y="528"/>
                </a:lnTo>
                <a:lnTo>
                  <a:pt x="801" y="511"/>
                </a:lnTo>
                <a:lnTo>
                  <a:pt x="805" y="492"/>
                </a:lnTo>
                <a:lnTo>
                  <a:pt x="807" y="474"/>
                </a:lnTo>
                <a:lnTo>
                  <a:pt x="809" y="457"/>
                </a:lnTo>
                <a:lnTo>
                  <a:pt x="811" y="440"/>
                </a:lnTo>
                <a:lnTo>
                  <a:pt x="812" y="422"/>
                </a:lnTo>
                <a:lnTo>
                  <a:pt x="814" y="407"/>
                </a:lnTo>
                <a:lnTo>
                  <a:pt x="816" y="392"/>
                </a:lnTo>
                <a:lnTo>
                  <a:pt x="818" y="378"/>
                </a:lnTo>
                <a:lnTo>
                  <a:pt x="820" y="365"/>
                </a:lnTo>
                <a:lnTo>
                  <a:pt x="822" y="353"/>
                </a:lnTo>
                <a:lnTo>
                  <a:pt x="824" y="342"/>
                </a:lnTo>
                <a:lnTo>
                  <a:pt x="826" y="330"/>
                </a:lnTo>
                <a:lnTo>
                  <a:pt x="826" y="319"/>
                </a:lnTo>
                <a:lnTo>
                  <a:pt x="828" y="309"/>
                </a:lnTo>
                <a:lnTo>
                  <a:pt x="828" y="302"/>
                </a:lnTo>
                <a:lnTo>
                  <a:pt x="830" y="292"/>
                </a:lnTo>
                <a:lnTo>
                  <a:pt x="830" y="284"/>
                </a:lnTo>
                <a:lnTo>
                  <a:pt x="830" y="277"/>
                </a:lnTo>
                <a:lnTo>
                  <a:pt x="830" y="263"/>
                </a:lnTo>
                <a:lnTo>
                  <a:pt x="828" y="252"/>
                </a:lnTo>
                <a:lnTo>
                  <a:pt x="826" y="240"/>
                </a:lnTo>
                <a:lnTo>
                  <a:pt x="822" y="229"/>
                </a:lnTo>
                <a:lnTo>
                  <a:pt x="818" y="219"/>
                </a:lnTo>
                <a:lnTo>
                  <a:pt x="814" y="209"/>
                </a:lnTo>
                <a:lnTo>
                  <a:pt x="807" y="190"/>
                </a:lnTo>
                <a:lnTo>
                  <a:pt x="797" y="183"/>
                </a:lnTo>
                <a:lnTo>
                  <a:pt x="787" y="175"/>
                </a:lnTo>
                <a:lnTo>
                  <a:pt x="778" y="167"/>
                </a:lnTo>
                <a:lnTo>
                  <a:pt x="768" y="163"/>
                </a:lnTo>
                <a:lnTo>
                  <a:pt x="759" y="159"/>
                </a:lnTo>
                <a:lnTo>
                  <a:pt x="747" y="156"/>
                </a:lnTo>
                <a:lnTo>
                  <a:pt x="736" y="154"/>
                </a:lnTo>
                <a:lnTo>
                  <a:pt x="722" y="154"/>
                </a:lnTo>
                <a:lnTo>
                  <a:pt x="718" y="154"/>
                </a:lnTo>
                <a:lnTo>
                  <a:pt x="713" y="154"/>
                </a:lnTo>
                <a:lnTo>
                  <a:pt x="707" y="156"/>
                </a:lnTo>
                <a:lnTo>
                  <a:pt x="699" y="156"/>
                </a:lnTo>
                <a:lnTo>
                  <a:pt x="691" y="156"/>
                </a:lnTo>
                <a:lnTo>
                  <a:pt x="682" y="158"/>
                </a:lnTo>
                <a:lnTo>
                  <a:pt x="670" y="159"/>
                </a:lnTo>
                <a:lnTo>
                  <a:pt x="659" y="159"/>
                </a:lnTo>
                <a:lnTo>
                  <a:pt x="645" y="161"/>
                </a:lnTo>
                <a:lnTo>
                  <a:pt x="632" y="163"/>
                </a:lnTo>
                <a:lnTo>
                  <a:pt x="617" y="165"/>
                </a:lnTo>
                <a:lnTo>
                  <a:pt x="599" y="169"/>
                </a:lnTo>
                <a:lnTo>
                  <a:pt x="582" y="171"/>
                </a:lnTo>
                <a:lnTo>
                  <a:pt x="563" y="173"/>
                </a:lnTo>
                <a:lnTo>
                  <a:pt x="544" y="177"/>
                </a:lnTo>
                <a:lnTo>
                  <a:pt x="523" y="179"/>
                </a:lnTo>
                <a:lnTo>
                  <a:pt x="501" y="183"/>
                </a:lnTo>
                <a:lnTo>
                  <a:pt x="478" y="186"/>
                </a:lnTo>
                <a:lnTo>
                  <a:pt x="453" y="190"/>
                </a:lnTo>
                <a:lnTo>
                  <a:pt x="428" y="194"/>
                </a:lnTo>
                <a:lnTo>
                  <a:pt x="402" y="198"/>
                </a:lnTo>
                <a:lnTo>
                  <a:pt x="375" y="202"/>
                </a:lnTo>
                <a:lnTo>
                  <a:pt x="346" y="206"/>
                </a:lnTo>
                <a:lnTo>
                  <a:pt x="315" y="211"/>
                </a:lnTo>
                <a:lnTo>
                  <a:pt x="285" y="215"/>
                </a:lnTo>
                <a:lnTo>
                  <a:pt x="252" y="221"/>
                </a:lnTo>
                <a:lnTo>
                  <a:pt x="219" y="225"/>
                </a:lnTo>
                <a:lnTo>
                  <a:pt x="185" y="231"/>
                </a:lnTo>
                <a:lnTo>
                  <a:pt x="150" y="236"/>
                </a:lnTo>
                <a:lnTo>
                  <a:pt x="112" y="242"/>
                </a:lnTo>
                <a:lnTo>
                  <a:pt x="75" y="246"/>
                </a:lnTo>
                <a:lnTo>
                  <a:pt x="37" y="254"/>
                </a:lnTo>
                <a:lnTo>
                  <a:pt x="18" y="204"/>
                </a:lnTo>
                <a:lnTo>
                  <a:pt x="0" y="154"/>
                </a:lnTo>
                <a:lnTo>
                  <a:pt x="12" y="154"/>
                </a:lnTo>
                <a:lnTo>
                  <a:pt x="23" y="154"/>
                </a:lnTo>
                <a:lnTo>
                  <a:pt x="37" y="152"/>
                </a:lnTo>
                <a:lnTo>
                  <a:pt x="52" y="152"/>
                </a:lnTo>
                <a:lnTo>
                  <a:pt x="66" y="150"/>
                </a:lnTo>
                <a:lnTo>
                  <a:pt x="83" y="148"/>
                </a:lnTo>
                <a:lnTo>
                  <a:pt x="98" y="146"/>
                </a:lnTo>
                <a:lnTo>
                  <a:pt x="116" y="144"/>
                </a:lnTo>
                <a:lnTo>
                  <a:pt x="133" y="142"/>
                </a:lnTo>
                <a:lnTo>
                  <a:pt x="152" y="140"/>
                </a:lnTo>
                <a:lnTo>
                  <a:pt x="171" y="136"/>
                </a:lnTo>
                <a:lnTo>
                  <a:pt x="190" y="133"/>
                </a:lnTo>
                <a:lnTo>
                  <a:pt x="212" y="129"/>
                </a:lnTo>
                <a:lnTo>
                  <a:pt x="233" y="125"/>
                </a:lnTo>
                <a:lnTo>
                  <a:pt x="254" y="121"/>
                </a:lnTo>
                <a:lnTo>
                  <a:pt x="277" y="117"/>
                </a:lnTo>
                <a:lnTo>
                  <a:pt x="317" y="112"/>
                </a:lnTo>
                <a:lnTo>
                  <a:pt x="356" y="106"/>
                </a:lnTo>
                <a:lnTo>
                  <a:pt x="394" y="100"/>
                </a:lnTo>
                <a:lnTo>
                  <a:pt x="430" y="92"/>
                </a:lnTo>
                <a:lnTo>
                  <a:pt x="465" y="85"/>
                </a:lnTo>
                <a:lnTo>
                  <a:pt x="500" y="79"/>
                </a:lnTo>
                <a:lnTo>
                  <a:pt x="534" y="73"/>
                </a:lnTo>
                <a:lnTo>
                  <a:pt x="565" y="67"/>
                </a:lnTo>
                <a:lnTo>
                  <a:pt x="592" y="62"/>
                </a:lnTo>
                <a:lnTo>
                  <a:pt x="617" y="56"/>
                </a:lnTo>
                <a:lnTo>
                  <a:pt x="642" y="50"/>
                </a:lnTo>
                <a:lnTo>
                  <a:pt x="663" y="42"/>
                </a:lnTo>
                <a:lnTo>
                  <a:pt x="684" y="37"/>
                </a:lnTo>
                <a:lnTo>
                  <a:pt x="693" y="33"/>
                </a:lnTo>
                <a:lnTo>
                  <a:pt x="703" y="29"/>
                </a:lnTo>
                <a:lnTo>
                  <a:pt x="711" y="27"/>
                </a:lnTo>
                <a:lnTo>
                  <a:pt x="718" y="23"/>
                </a:lnTo>
                <a:lnTo>
                  <a:pt x="726" y="21"/>
                </a:lnTo>
                <a:lnTo>
                  <a:pt x="734" y="19"/>
                </a:lnTo>
                <a:lnTo>
                  <a:pt x="747" y="14"/>
                </a:lnTo>
                <a:lnTo>
                  <a:pt x="763" y="10"/>
                </a:lnTo>
                <a:lnTo>
                  <a:pt x="778" y="6"/>
                </a:lnTo>
                <a:lnTo>
                  <a:pt x="793" y="2"/>
                </a:lnTo>
                <a:lnTo>
                  <a:pt x="811" y="2"/>
                </a:lnTo>
                <a:lnTo>
                  <a:pt x="826" y="0"/>
                </a:lnTo>
                <a:lnTo>
                  <a:pt x="834" y="2"/>
                </a:lnTo>
                <a:lnTo>
                  <a:pt x="839" y="2"/>
                </a:lnTo>
                <a:lnTo>
                  <a:pt x="847" y="4"/>
                </a:lnTo>
                <a:lnTo>
                  <a:pt x="855" y="6"/>
                </a:lnTo>
                <a:lnTo>
                  <a:pt x="868" y="12"/>
                </a:lnTo>
                <a:lnTo>
                  <a:pt x="883" y="17"/>
                </a:lnTo>
                <a:lnTo>
                  <a:pt x="893" y="21"/>
                </a:lnTo>
                <a:lnTo>
                  <a:pt x="901" y="25"/>
                </a:lnTo>
                <a:lnTo>
                  <a:pt x="910" y="31"/>
                </a:lnTo>
                <a:lnTo>
                  <a:pt x="920" y="35"/>
                </a:lnTo>
                <a:lnTo>
                  <a:pt x="931" y="41"/>
                </a:lnTo>
                <a:lnTo>
                  <a:pt x="941" y="46"/>
                </a:lnTo>
                <a:lnTo>
                  <a:pt x="955" y="52"/>
                </a:lnTo>
                <a:lnTo>
                  <a:pt x="966" y="60"/>
                </a:lnTo>
                <a:lnTo>
                  <a:pt x="979" y="67"/>
                </a:lnTo>
                <a:lnTo>
                  <a:pt x="993" y="75"/>
                </a:lnTo>
                <a:lnTo>
                  <a:pt x="1008" y="83"/>
                </a:lnTo>
                <a:lnTo>
                  <a:pt x="1024" y="9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Freeform 41"/>
          <p:cNvSpPr/>
          <p:nvPr/>
        </p:nvSpPr>
        <p:spPr>
          <a:xfrm>
            <a:off x="5724360" y="3773520"/>
            <a:ext cx="198720" cy="693720"/>
          </a:xfrm>
          <a:custGeom>
            <a:avLst/>
            <a:gdLst/>
            <a:ahLst/>
            <a:rect l="l" t="t" r="r" b="b"/>
            <a:pathLst>
              <a:path w="249" h="873">
                <a:moveTo>
                  <a:pt x="32" y="79"/>
                </a:moveTo>
                <a:lnTo>
                  <a:pt x="24" y="75"/>
                </a:lnTo>
                <a:lnTo>
                  <a:pt x="19" y="69"/>
                </a:lnTo>
                <a:lnTo>
                  <a:pt x="15" y="65"/>
                </a:lnTo>
                <a:lnTo>
                  <a:pt x="11" y="61"/>
                </a:lnTo>
                <a:lnTo>
                  <a:pt x="7" y="55"/>
                </a:lnTo>
                <a:lnTo>
                  <a:pt x="5" y="52"/>
                </a:lnTo>
                <a:lnTo>
                  <a:pt x="3" y="48"/>
                </a:lnTo>
                <a:lnTo>
                  <a:pt x="1" y="44"/>
                </a:lnTo>
                <a:lnTo>
                  <a:pt x="0" y="40"/>
                </a:lnTo>
                <a:lnTo>
                  <a:pt x="0" y="36"/>
                </a:lnTo>
                <a:lnTo>
                  <a:pt x="0" y="32"/>
                </a:lnTo>
                <a:lnTo>
                  <a:pt x="1" y="29"/>
                </a:lnTo>
                <a:lnTo>
                  <a:pt x="3" y="23"/>
                </a:lnTo>
                <a:lnTo>
                  <a:pt x="7" y="17"/>
                </a:lnTo>
                <a:lnTo>
                  <a:pt x="13" y="13"/>
                </a:lnTo>
                <a:lnTo>
                  <a:pt x="19" y="9"/>
                </a:lnTo>
                <a:lnTo>
                  <a:pt x="24" y="6"/>
                </a:lnTo>
                <a:lnTo>
                  <a:pt x="32" y="2"/>
                </a:lnTo>
                <a:lnTo>
                  <a:pt x="42" y="0"/>
                </a:lnTo>
                <a:lnTo>
                  <a:pt x="49" y="0"/>
                </a:lnTo>
                <a:lnTo>
                  <a:pt x="55" y="0"/>
                </a:lnTo>
                <a:lnTo>
                  <a:pt x="59" y="2"/>
                </a:lnTo>
                <a:lnTo>
                  <a:pt x="63" y="4"/>
                </a:lnTo>
                <a:lnTo>
                  <a:pt x="69" y="6"/>
                </a:lnTo>
                <a:lnTo>
                  <a:pt x="72" y="8"/>
                </a:lnTo>
                <a:lnTo>
                  <a:pt x="78" y="9"/>
                </a:lnTo>
                <a:lnTo>
                  <a:pt x="84" y="11"/>
                </a:lnTo>
                <a:lnTo>
                  <a:pt x="90" y="13"/>
                </a:lnTo>
                <a:lnTo>
                  <a:pt x="97" y="13"/>
                </a:lnTo>
                <a:lnTo>
                  <a:pt x="105" y="15"/>
                </a:lnTo>
                <a:lnTo>
                  <a:pt x="113" y="15"/>
                </a:lnTo>
                <a:lnTo>
                  <a:pt x="122" y="15"/>
                </a:lnTo>
                <a:lnTo>
                  <a:pt x="130" y="17"/>
                </a:lnTo>
                <a:lnTo>
                  <a:pt x="142" y="17"/>
                </a:lnTo>
                <a:lnTo>
                  <a:pt x="151" y="17"/>
                </a:lnTo>
                <a:lnTo>
                  <a:pt x="163" y="17"/>
                </a:lnTo>
                <a:lnTo>
                  <a:pt x="174" y="17"/>
                </a:lnTo>
                <a:lnTo>
                  <a:pt x="186" y="17"/>
                </a:lnTo>
                <a:lnTo>
                  <a:pt x="199" y="17"/>
                </a:lnTo>
                <a:lnTo>
                  <a:pt x="213" y="17"/>
                </a:lnTo>
                <a:lnTo>
                  <a:pt x="213" y="34"/>
                </a:lnTo>
                <a:lnTo>
                  <a:pt x="213" y="52"/>
                </a:lnTo>
                <a:lnTo>
                  <a:pt x="213" y="69"/>
                </a:lnTo>
                <a:lnTo>
                  <a:pt x="215" y="88"/>
                </a:lnTo>
                <a:lnTo>
                  <a:pt x="215" y="105"/>
                </a:lnTo>
                <a:lnTo>
                  <a:pt x="216" y="126"/>
                </a:lnTo>
                <a:lnTo>
                  <a:pt x="218" y="148"/>
                </a:lnTo>
                <a:lnTo>
                  <a:pt x="220" y="169"/>
                </a:lnTo>
                <a:lnTo>
                  <a:pt x="220" y="190"/>
                </a:lnTo>
                <a:lnTo>
                  <a:pt x="222" y="215"/>
                </a:lnTo>
                <a:lnTo>
                  <a:pt x="226" y="238"/>
                </a:lnTo>
                <a:lnTo>
                  <a:pt x="228" y="263"/>
                </a:lnTo>
                <a:lnTo>
                  <a:pt x="230" y="290"/>
                </a:lnTo>
                <a:lnTo>
                  <a:pt x="232" y="316"/>
                </a:lnTo>
                <a:lnTo>
                  <a:pt x="234" y="345"/>
                </a:lnTo>
                <a:lnTo>
                  <a:pt x="236" y="374"/>
                </a:lnTo>
                <a:lnTo>
                  <a:pt x="238" y="405"/>
                </a:lnTo>
                <a:lnTo>
                  <a:pt x="239" y="432"/>
                </a:lnTo>
                <a:lnTo>
                  <a:pt x="241" y="460"/>
                </a:lnTo>
                <a:lnTo>
                  <a:pt x="243" y="485"/>
                </a:lnTo>
                <a:lnTo>
                  <a:pt x="243" y="510"/>
                </a:lnTo>
                <a:lnTo>
                  <a:pt x="245" y="535"/>
                </a:lnTo>
                <a:lnTo>
                  <a:pt x="245" y="558"/>
                </a:lnTo>
                <a:lnTo>
                  <a:pt x="247" y="579"/>
                </a:lnTo>
                <a:lnTo>
                  <a:pt x="247" y="601"/>
                </a:lnTo>
                <a:lnTo>
                  <a:pt x="247" y="620"/>
                </a:lnTo>
                <a:lnTo>
                  <a:pt x="247" y="639"/>
                </a:lnTo>
                <a:lnTo>
                  <a:pt x="247" y="656"/>
                </a:lnTo>
                <a:lnTo>
                  <a:pt x="247" y="673"/>
                </a:lnTo>
                <a:lnTo>
                  <a:pt x="247" y="691"/>
                </a:lnTo>
                <a:lnTo>
                  <a:pt x="249" y="706"/>
                </a:lnTo>
                <a:lnTo>
                  <a:pt x="249" y="720"/>
                </a:lnTo>
                <a:lnTo>
                  <a:pt x="247" y="733"/>
                </a:lnTo>
                <a:lnTo>
                  <a:pt x="247" y="746"/>
                </a:lnTo>
                <a:lnTo>
                  <a:pt x="247" y="758"/>
                </a:lnTo>
                <a:lnTo>
                  <a:pt x="245" y="771"/>
                </a:lnTo>
                <a:lnTo>
                  <a:pt x="245" y="781"/>
                </a:lnTo>
                <a:lnTo>
                  <a:pt x="243" y="792"/>
                </a:lnTo>
                <a:lnTo>
                  <a:pt x="241" y="802"/>
                </a:lnTo>
                <a:lnTo>
                  <a:pt x="239" y="810"/>
                </a:lnTo>
                <a:lnTo>
                  <a:pt x="236" y="819"/>
                </a:lnTo>
                <a:lnTo>
                  <a:pt x="234" y="827"/>
                </a:lnTo>
                <a:lnTo>
                  <a:pt x="230" y="833"/>
                </a:lnTo>
                <a:lnTo>
                  <a:pt x="228" y="838"/>
                </a:lnTo>
                <a:lnTo>
                  <a:pt x="224" y="844"/>
                </a:lnTo>
                <a:lnTo>
                  <a:pt x="220" y="848"/>
                </a:lnTo>
                <a:lnTo>
                  <a:pt x="216" y="852"/>
                </a:lnTo>
                <a:lnTo>
                  <a:pt x="213" y="856"/>
                </a:lnTo>
                <a:lnTo>
                  <a:pt x="207" y="860"/>
                </a:lnTo>
                <a:lnTo>
                  <a:pt x="203" y="863"/>
                </a:lnTo>
                <a:lnTo>
                  <a:pt x="199" y="867"/>
                </a:lnTo>
                <a:lnTo>
                  <a:pt x="193" y="869"/>
                </a:lnTo>
                <a:lnTo>
                  <a:pt x="190" y="871"/>
                </a:lnTo>
                <a:lnTo>
                  <a:pt x="186" y="873"/>
                </a:lnTo>
                <a:lnTo>
                  <a:pt x="182" y="873"/>
                </a:lnTo>
                <a:lnTo>
                  <a:pt x="178" y="873"/>
                </a:lnTo>
                <a:lnTo>
                  <a:pt x="174" y="871"/>
                </a:lnTo>
                <a:lnTo>
                  <a:pt x="170" y="869"/>
                </a:lnTo>
                <a:lnTo>
                  <a:pt x="167" y="867"/>
                </a:lnTo>
                <a:lnTo>
                  <a:pt x="163" y="863"/>
                </a:lnTo>
                <a:lnTo>
                  <a:pt x="159" y="860"/>
                </a:lnTo>
                <a:lnTo>
                  <a:pt x="157" y="856"/>
                </a:lnTo>
                <a:lnTo>
                  <a:pt x="155" y="850"/>
                </a:lnTo>
                <a:lnTo>
                  <a:pt x="151" y="842"/>
                </a:lnTo>
                <a:lnTo>
                  <a:pt x="143" y="829"/>
                </a:lnTo>
                <a:lnTo>
                  <a:pt x="136" y="814"/>
                </a:lnTo>
                <a:lnTo>
                  <a:pt x="130" y="796"/>
                </a:lnTo>
                <a:lnTo>
                  <a:pt x="124" y="777"/>
                </a:lnTo>
                <a:lnTo>
                  <a:pt x="120" y="756"/>
                </a:lnTo>
                <a:lnTo>
                  <a:pt x="119" y="746"/>
                </a:lnTo>
                <a:lnTo>
                  <a:pt x="119" y="735"/>
                </a:lnTo>
                <a:lnTo>
                  <a:pt x="117" y="721"/>
                </a:lnTo>
                <a:lnTo>
                  <a:pt x="117" y="710"/>
                </a:lnTo>
                <a:lnTo>
                  <a:pt x="117" y="696"/>
                </a:lnTo>
                <a:lnTo>
                  <a:pt x="117" y="683"/>
                </a:lnTo>
                <a:lnTo>
                  <a:pt x="117" y="670"/>
                </a:lnTo>
                <a:lnTo>
                  <a:pt x="115" y="654"/>
                </a:lnTo>
                <a:lnTo>
                  <a:pt x="115" y="637"/>
                </a:lnTo>
                <a:lnTo>
                  <a:pt x="115" y="620"/>
                </a:lnTo>
                <a:lnTo>
                  <a:pt x="115" y="602"/>
                </a:lnTo>
                <a:lnTo>
                  <a:pt x="115" y="583"/>
                </a:lnTo>
                <a:lnTo>
                  <a:pt x="115" y="564"/>
                </a:lnTo>
                <a:lnTo>
                  <a:pt x="115" y="543"/>
                </a:lnTo>
                <a:lnTo>
                  <a:pt x="113" y="522"/>
                </a:lnTo>
                <a:lnTo>
                  <a:pt x="113" y="499"/>
                </a:lnTo>
                <a:lnTo>
                  <a:pt x="111" y="474"/>
                </a:lnTo>
                <a:lnTo>
                  <a:pt x="111" y="449"/>
                </a:lnTo>
                <a:lnTo>
                  <a:pt x="109" y="422"/>
                </a:lnTo>
                <a:lnTo>
                  <a:pt x="107" y="395"/>
                </a:lnTo>
                <a:lnTo>
                  <a:pt x="105" y="368"/>
                </a:lnTo>
                <a:lnTo>
                  <a:pt x="103" y="338"/>
                </a:lnTo>
                <a:lnTo>
                  <a:pt x="101" y="311"/>
                </a:lnTo>
                <a:lnTo>
                  <a:pt x="99" y="286"/>
                </a:lnTo>
                <a:lnTo>
                  <a:pt x="95" y="261"/>
                </a:lnTo>
                <a:lnTo>
                  <a:pt x="92" y="238"/>
                </a:lnTo>
                <a:lnTo>
                  <a:pt x="90" y="217"/>
                </a:lnTo>
                <a:lnTo>
                  <a:pt x="86" y="198"/>
                </a:lnTo>
                <a:lnTo>
                  <a:pt x="80" y="178"/>
                </a:lnTo>
                <a:lnTo>
                  <a:pt x="76" y="163"/>
                </a:lnTo>
                <a:lnTo>
                  <a:pt x="72" y="148"/>
                </a:lnTo>
                <a:lnTo>
                  <a:pt x="67" y="132"/>
                </a:lnTo>
                <a:lnTo>
                  <a:pt x="61" y="121"/>
                </a:lnTo>
                <a:lnTo>
                  <a:pt x="55" y="109"/>
                </a:lnTo>
                <a:lnTo>
                  <a:pt x="49" y="100"/>
                </a:lnTo>
                <a:lnTo>
                  <a:pt x="44" y="92"/>
                </a:lnTo>
                <a:lnTo>
                  <a:pt x="38" y="84"/>
                </a:lnTo>
                <a:lnTo>
                  <a:pt x="32" y="7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12"/>
                                        </p:tgtEl>
                                        <p:attrNameLst>
                                          <p:attrName>style.visibility</p:attrName>
                                        </p:attrNameLst>
                                      </p:cBhvr>
                                      <p:to>
                                        <p:strVal val="visible"/>
                                      </p:to>
                                    </p:set>
                                    <p:anim calcmode="lin" valueType="num">
                                      <p:cBhvr additive="base">
                                        <p:cTn id="134" dur="500" fill="hold"/>
                                        <p:tgtEl>
                                          <p:spTgt spid="112"/>
                                        </p:tgtEl>
                                        <p:attrNameLst>
                                          <p:attrName>ppt_x</p:attrName>
                                        </p:attrNameLst>
                                      </p:cBhvr>
                                      <p:tavLst>
                                        <p:tav tm="0">
                                          <p:val>
                                            <p:strVal val="0-#ppt_w/2"/>
                                          </p:val>
                                        </p:tav>
                                        <p:tav tm="100000">
                                          <p:val>
                                            <p:strVal val="#ppt_x"/>
                                          </p:val>
                                        </p:tav>
                                      </p:tavLst>
                                    </p:anim>
                                    <p:anim calcmode="lin" valueType="num">
                                      <p:cBhvr additive="base">
                                        <p:cTn id="13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18"/>
                                        </p:tgtEl>
                                        <p:attrNameLst>
                                          <p:attrName>style.visibility</p:attrName>
                                        </p:attrNameLst>
                                      </p:cBhvr>
                                      <p:to>
                                        <p:strVal val="visible"/>
                                      </p:to>
                                    </p:set>
                                    <p:animEffect filter="wipe(left)" transition="in">
                                      <p:cBhvr additive="repl">
                                        <p:cTn id="140" dur="500"/>
                                        <p:tgtEl>
                                          <p:spTgt spid="118"/>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115"/>
                                        </p:tgtEl>
                                        <p:attrNameLst>
                                          <p:attrName>style.visibility</p:attrName>
                                        </p:attrNameLst>
                                      </p:cBhvr>
                                      <p:to>
                                        <p:strVal val="visible"/>
                                      </p:to>
                                    </p:set>
                                    <p:animEffect filter="wipe(up)" transition="in">
                                      <p:cBhvr additive="repl">
                                        <p:cTn id="145" dur="500"/>
                                        <p:tgtEl>
                                          <p:spTgt spid="115"/>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125"/>
                                        </p:tgtEl>
                                        <p:attrNameLst>
                                          <p:attrName>style.visibility</p:attrName>
                                        </p:attrNameLst>
                                      </p:cBhvr>
                                      <p:to>
                                        <p:strVal val="visible"/>
                                      </p:to>
                                    </p:set>
                                    <p:animEffect filter="wipe(up)" transition="in">
                                      <p:cBhvr additive="repl">
                                        <p:cTn id="150" dur="500"/>
                                        <p:tgtEl>
                                          <p:spTgt spid="125"/>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8" presetSubtype="6">
                                  <p:stCondLst>
                                    <p:cond delay="0"/>
                                  </p:stCondLst>
                                  <p:childTnLst>
                                    <p:set>
                                      <p:cBhvr>
                                        <p:cTn id="154" dur="1" fill="hold">
                                          <p:stCondLst>
                                            <p:cond delay="0"/>
                                          </p:stCondLst>
                                        </p:cTn>
                                        <p:tgtEl>
                                          <p:spTgt spid="113"/>
                                        </p:tgtEl>
                                        <p:attrNameLst>
                                          <p:attrName>style.visibility</p:attrName>
                                        </p:attrNameLst>
                                      </p:cBhvr>
                                      <p:to>
                                        <p:strVal val="visible"/>
                                      </p:to>
                                    </p:set>
                                    <p:animEffect filter="strips(downRight)" transition="in">
                                      <p:cBhvr additive="repl">
                                        <p:cTn id="155" dur="500"/>
                                        <p:tgtEl>
                                          <p:spTgt spid="113"/>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14"/>
                                        </p:tgtEl>
                                        <p:attrNameLst>
                                          <p:attrName>style.visibility</p:attrName>
                                        </p:attrNameLst>
                                      </p:cBhvr>
                                      <p:to>
                                        <p:strVal val="visible"/>
                                      </p:to>
                                    </p:set>
                                    <p:animEffect filter="wipe(left)" transition="in">
                                      <p:cBhvr additive="repl">
                                        <p:cTn id="160" dur="500"/>
                                        <p:tgtEl>
                                          <p:spTgt spid="114"/>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19"/>
                                        </p:tgtEl>
                                        <p:attrNameLst>
                                          <p:attrName>style.visibility</p:attrName>
                                        </p:attrNameLst>
                                      </p:cBhvr>
                                      <p:to>
                                        <p:strVal val="visible"/>
                                      </p:to>
                                    </p:set>
                                    <p:animEffect filter="wipe(up)" transition="in">
                                      <p:cBhvr additive="repl">
                                        <p:cTn id="165" dur="500"/>
                                        <p:tgtEl>
                                          <p:spTgt spid="119"/>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8" presetSubtype="6">
                                  <p:stCondLst>
                                    <p:cond delay="0"/>
                                  </p:stCondLst>
                                  <p:childTnLst>
                                    <p:set>
                                      <p:cBhvr>
                                        <p:cTn id="169" dur="1" fill="hold">
                                          <p:stCondLst>
                                            <p:cond delay="0"/>
                                          </p:stCondLst>
                                        </p:cTn>
                                        <p:tgtEl>
                                          <p:spTgt spid="124"/>
                                        </p:tgtEl>
                                        <p:attrNameLst>
                                          <p:attrName>style.visibility</p:attrName>
                                        </p:attrNameLst>
                                      </p:cBhvr>
                                      <p:to>
                                        <p:strVal val="visible"/>
                                      </p:to>
                                    </p:set>
                                    <p:animEffect filter="strips(downRight)" transition="in">
                                      <p:cBhvr additive="repl">
                                        <p:cTn id="170" dur="500"/>
                                        <p:tgtEl>
                                          <p:spTgt spid="124"/>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22"/>
                                        </p:tgtEl>
                                        <p:attrNameLst>
                                          <p:attrName>style.visibility</p:attrName>
                                        </p:attrNameLst>
                                      </p:cBhvr>
                                      <p:to>
                                        <p:strVal val="visible"/>
                                      </p:to>
                                    </p:set>
                                    <p:animEffect filter="wipe(left)" transition="in">
                                      <p:cBhvr additive="repl">
                                        <p:cTn id="175" dur="500"/>
                                        <p:tgtEl>
                                          <p:spTgt spid="12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23"/>
                                        </p:tgtEl>
                                        <p:attrNameLst>
                                          <p:attrName>style.visibility</p:attrName>
                                        </p:attrNameLst>
                                      </p:cBhvr>
                                      <p:to>
                                        <p:strVal val="visible"/>
                                      </p:to>
                                    </p:set>
                                    <p:animEffect filter="wipe(left)" transition="in">
                                      <p:cBhvr additive="repl">
                                        <p:cTn id="180" dur="500"/>
                                        <p:tgtEl>
                                          <p:spTgt spid="123"/>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0"/>
                                        </p:tgtEl>
                                        <p:attrNameLst>
                                          <p:attrName>style.visibility</p:attrName>
                                        </p:attrNameLst>
                                      </p:cBhvr>
                                      <p:to>
                                        <p:strVal val="visible"/>
                                      </p:to>
                                    </p:set>
                                    <p:animEffect filter="wipe(left)" transition="in">
                                      <p:cBhvr additive="repl">
                                        <p:cTn id="185" dur="500"/>
                                        <p:tgtEl>
                                          <p:spTgt spid="120"/>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16"/>
                                        </p:tgtEl>
                                        <p:attrNameLst>
                                          <p:attrName>style.visibility</p:attrName>
                                        </p:attrNameLst>
                                      </p:cBhvr>
                                      <p:to>
                                        <p:strVal val="visible"/>
                                      </p:to>
                                    </p:set>
                                    <p:animEffect filter="wipe(left)" transition="in">
                                      <p:cBhvr additive="repl">
                                        <p:cTn id="190" dur="500"/>
                                        <p:tgtEl>
                                          <p:spTgt spid="116"/>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121"/>
                                        </p:tgtEl>
                                        <p:attrNameLst>
                                          <p:attrName>style.visibility</p:attrName>
                                        </p:attrNameLst>
                                      </p:cBhvr>
                                      <p:to>
                                        <p:strVal val="visible"/>
                                      </p:to>
                                    </p:set>
                                    <p:animEffect filter="wipe(up)" transition="in">
                                      <p:cBhvr additive="repl">
                                        <p:cTn id="195" dur="500"/>
                                        <p:tgtEl>
                                          <p:spTgt spid="121"/>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1">
                                  <p:stCondLst>
                                    <p:cond delay="0"/>
                                  </p:stCondLst>
                                  <p:childTnLst>
                                    <p:set>
                                      <p:cBhvr>
                                        <p:cTn id="199" dur="1" fill="hold">
                                          <p:stCondLst>
                                            <p:cond delay="0"/>
                                          </p:stCondLst>
                                        </p:cTn>
                                        <p:tgtEl>
                                          <p:spTgt spid="117"/>
                                        </p:tgtEl>
                                        <p:attrNameLst>
                                          <p:attrName>style.visibility</p:attrName>
                                        </p:attrNameLst>
                                      </p:cBhvr>
                                      <p:to>
                                        <p:strVal val="visible"/>
                                      </p:to>
                                    </p:set>
                                    <p:animEffect filter="wipe(up)" transition="in">
                                      <p:cBhvr additive="repl">
                                        <p:cTn id="200" dur="500"/>
                                        <p:tgtEl>
                                          <p:spTgt spid="117"/>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53" presetSubtype="16">
                                  <p:stCondLst>
                                    <p:cond delay="0"/>
                                  </p:stCondLst>
                                  <p:childTnLst>
                                    <p:set>
                                      <p:cBhvr>
                                        <p:cTn id="204" dur="1" fill="hold">
                                          <p:stCondLst>
                                            <p:cond delay="0"/>
                                          </p:stCondLst>
                                        </p:cTn>
                                        <p:tgtEl>
                                          <p:spTgt spid="109"/>
                                        </p:tgtEl>
                                        <p:attrNameLst>
                                          <p:attrName>style.visibility</p:attrName>
                                        </p:attrNameLst>
                                      </p:cBhvr>
                                      <p:to>
                                        <p:strVal val="visible"/>
                                      </p:to>
                                    </p:set>
                                    <p:anim calcmode="lin" valueType="num">
                                      <p:cBhvr additive="repl">
                                        <p:cTn id="205" dur="500" fill="hold"/>
                                        <p:tgtEl>
                                          <p:spTgt spid="109"/>
                                        </p:tgtEl>
                                        <p:attrNameLst>
                                          <p:attrName>ppt_w</p:attrName>
                                        </p:attrNameLst>
                                      </p:cBhvr>
                                      <p:tavLst>
                                        <p:tav tm="0">
                                          <p:val>
                                            <p:fltVal val="0"/>
                                          </p:val>
                                        </p:tav>
                                        <p:tav tm="100000">
                                          <p:val>
                                            <p:strVal val="#ppt_w"/>
                                          </p:val>
                                        </p:tav>
                                      </p:tavLst>
                                    </p:anim>
                                    <p:anim calcmode="lin" valueType="num">
                                      <p:cBhvr additive="repl">
                                        <p:cTn id="206" dur="500" fill="hold"/>
                                        <p:tgtEl>
                                          <p:spTgt spid="109"/>
                                        </p:tgtEl>
                                        <p:attrNameLst>
                                          <p:attrName>ppt_h</p:attrName>
                                        </p:attrNameLst>
                                      </p:cBhvr>
                                      <p:tavLst>
                                        <p:tav tm="0">
                                          <p:val>
                                            <p:fltVal val="0"/>
                                          </p:val>
                                        </p:tav>
                                        <p:tav tm="100000">
                                          <p:val>
                                            <p:strVal val="#ppt_h"/>
                                          </p:val>
                                        </p:tav>
                                      </p:tavLst>
                                    </p:anim>
                                    <p:animEffect filter="fade" transition="in">
                                      <p:cBhvr additive="repl">
                                        <p:cTn id="20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侵</a:t>
            </a:r>
            <a:endParaRPr b="0" lang="en-US" sz="8000" spc="-1" strike="noStrike">
              <a:solidFill>
                <a:srgbClr val="000000"/>
              </a:solidFill>
              <a:latin typeface="Calibri"/>
            </a:endParaRPr>
          </a:p>
        </p:txBody>
      </p:sp>
      <p:graphicFrame>
        <p:nvGraphicFramePr>
          <p:cNvPr id="127"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28" name="组合 8"/>
          <p:cNvGrpSpPr/>
          <p:nvPr/>
        </p:nvGrpSpPr>
        <p:grpSpPr>
          <a:xfrm>
            <a:off x="1211400" y="3975120"/>
            <a:ext cx="2840040" cy="1572480"/>
            <a:chOff x="1211400" y="3975120"/>
            <a:chExt cx="2840040" cy="1572480"/>
          </a:xfrm>
        </p:grpSpPr>
        <p:pic>
          <p:nvPicPr>
            <p:cNvPr id="129" name="图示 4" descr=""/>
            <p:cNvPicPr/>
            <p:nvPr/>
          </p:nvPicPr>
          <p:blipFill>
            <a:blip r:embed="rId1"/>
            <a:stretch/>
          </p:blipFill>
          <p:spPr>
            <a:xfrm>
              <a:off x="1211400" y="3975120"/>
              <a:ext cx="2840040" cy="1572480"/>
            </a:xfrm>
            <a:prstGeom prst="rect">
              <a:avLst/>
            </a:prstGeom>
            <a:ln w="0">
              <a:noFill/>
            </a:ln>
          </p:spPr>
        </p:pic>
        <p:sp>
          <p:nvSpPr>
            <p:cNvPr id="130" name="矩形 2"/>
            <p:cNvSpPr/>
            <p:nvPr/>
          </p:nvSpPr>
          <p:spPr>
            <a:xfrm>
              <a:off x="1256040" y="4588200"/>
              <a:ext cx="27666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左窄右宽，右部“彐”要扁些，“又”横撇、捺伸展。</a:t>
              </a:r>
              <a:endParaRPr b="0" lang="en-US" sz="2000" spc="-1" strike="noStrike">
                <a:solidFill>
                  <a:srgbClr val="000000"/>
                </a:solidFill>
                <a:latin typeface="Calibri"/>
              </a:endParaRPr>
            </a:p>
          </p:txBody>
        </p:sp>
      </p:grpSp>
      <p:sp>
        <p:nvSpPr>
          <p:cNvPr id="131" name="矩形 3"/>
          <p:cNvSpPr/>
          <p:nvPr/>
        </p:nvSpPr>
        <p:spPr>
          <a:xfrm>
            <a:off x="2139840" y="1868400"/>
            <a:ext cx="1517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qīn</a:t>
            </a:r>
            <a:endParaRPr b="0" lang="en-US" sz="4800" spc="-1" strike="noStrike">
              <a:solidFill>
                <a:srgbClr val="000000"/>
              </a:solidFill>
              <a:latin typeface="Calibri"/>
            </a:endParaRPr>
          </a:p>
        </p:txBody>
      </p:sp>
      <p:sp>
        <p:nvSpPr>
          <p:cNvPr id="132" name="Freeform 29"/>
          <p:cNvSpPr/>
          <p:nvPr/>
        </p:nvSpPr>
        <p:spPr>
          <a:xfrm>
            <a:off x="5415120" y="2908440"/>
            <a:ext cx="841320" cy="1218960"/>
          </a:xfrm>
          <a:custGeom>
            <a:avLst/>
            <a:gdLst/>
            <a:ahLst/>
            <a:rect l="l" t="t" r="r" b="b"/>
            <a:pathLst>
              <a:path w="1062" h="1535">
                <a:moveTo>
                  <a:pt x="4" y="1533"/>
                </a:moveTo>
                <a:lnTo>
                  <a:pt x="2" y="1529"/>
                </a:lnTo>
                <a:lnTo>
                  <a:pt x="0" y="1525"/>
                </a:lnTo>
                <a:lnTo>
                  <a:pt x="2" y="1519"/>
                </a:lnTo>
                <a:lnTo>
                  <a:pt x="4" y="1514"/>
                </a:lnTo>
                <a:lnTo>
                  <a:pt x="6" y="1506"/>
                </a:lnTo>
                <a:lnTo>
                  <a:pt x="10" y="1498"/>
                </a:lnTo>
                <a:lnTo>
                  <a:pt x="15" y="1491"/>
                </a:lnTo>
                <a:lnTo>
                  <a:pt x="21" y="1479"/>
                </a:lnTo>
                <a:lnTo>
                  <a:pt x="29" y="1470"/>
                </a:lnTo>
                <a:lnTo>
                  <a:pt x="37" y="1458"/>
                </a:lnTo>
                <a:lnTo>
                  <a:pt x="46" y="1445"/>
                </a:lnTo>
                <a:lnTo>
                  <a:pt x="58" y="1431"/>
                </a:lnTo>
                <a:lnTo>
                  <a:pt x="69" y="1418"/>
                </a:lnTo>
                <a:lnTo>
                  <a:pt x="83" y="1402"/>
                </a:lnTo>
                <a:lnTo>
                  <a:pt x="96" y="1387"/>
                </a:lnTo>
                <a:lnTo>
                  <a:pt x="111" y="1372"/>
                </a:lnTo>
                <a:lnTo>
                  <a:pt x="127" y="1354"/>
                </a:lnTo>
                <a:lnTo>
                  <a:pt x="142" y="1337"/>
                </a:lnTo>
                <a:lnTo>
                  <a:pt x="159" y="1320"/>
                </a:lnTo>
                <a:lnTo>
                  <a:pt x="175" y="1301"/>
                </a:lnTo>
                <a:lnTo>
                  <a:pt x="192" y="1280"/>
                </a:lnTo>
                <a:lnTo>
                  <a:pt x="207" y="1258"/>
                </a:lnTo>
                <a:lnTo>
                  <a:pt x="225" y="1237"/>
                </a:lnTo>
                <a:lnTo>
                  <a:pt x="242" y="1214"/>
                </a:lnTo>
                <a:lnTo>
                  <a:pt x="257" y="1191"/>
                </a:lnTo>
                <a:lnTo>
                  <a:pt x="277" y="1166"/>
                </a:lnTo>
                <a:lnTo>
                  <a:pt x="294" y="1141"/>
                </a:lnTo>
                <a:lnTo>
                  <a:pt x="311" y="1116"/>
                </a:lnTo>
                <a:lnTo>
                  <a:pt x="330" y="1090"/>
                </a:lnTo>
                <a:lnTo>
                  <a:pt x="350" y="1061"/>
                </a:lnTo>
                <a:lnTo>
                  <a:pt x="369" y="1032"/>
                </a:lnTo>
                <a:lnTo>
                  <a:pt x="388" y="1003"/>
                </a:lnTo>
                <a:lnTo>
                  <a:pt x="405" y="973"/>
                </a:lnTo>
                <a:lnTo>
                  <a:pt x="424" y="940"/>
                </a:lnTo>
                <a:lnTo>
                  <a:pt x="444" y="909"/>
                </a:lnTo>
                <a:lnTo>
                  <a:pt x="463" y="877"/>
                </a:lnTo>
                <a:lnTo>
                  <a:pt x="482" y="844"/>
                </a:lnTo>
                <a:lnTo>
                  <a:pt x="501" y="811"/>
                </a:lnTo>
                <a:lnTo>
                  <a:pt x="520" y="777"/>
                </a:lnTo>
                <a:lnTo>
                  <a:pt x="540" y="742"/>
                </a:lnTo>
                <a:lnTo>
                  <a:pt x="561" y="706"/>
                </a:lnTo>
                <a:lnTo>
                  <a:pt x="580" y="669"/>
                </a:lnTo>
                <a:lnTo>
                  <a:pt x="601" y="633"/>
                </a:lnTo>
                <a:lnTo>
                  <a:pt x="620" y="594"/>
                </a:lnTo>
                <a:lnTo>
                  <a:pt x="641" y="556"/>
                </a:lnTo>
                <a:lnTo>
                  <a:pt x="661" y="518"/>
                </a:lnTo>
                <a:lnTo>
                  <a:pt x="682" y="477"/>
                </a:lnTo>
                <a:lnTo>
                  <a:pt x="701" y="435"/>
                </a:lnTo>
                <a:lnTo>
                  <a:pt x="710" y="416"/>
                </a:lnTo>
                <a:lnTo>
                  <a:pt x="720" y="397"/>
                </a:lnTo>
                <a:lnTo>
                  <a:pt x="730" y="378"/>
                </a:lnTo>
                <a:lnTo>
                  <a:pt x="737" y="360"/>
                </a:lnTo>
                <a:lnTo>
                  <a:pt x="747" y="343"/>
                </a:lnTo>
                <a:lnTo>
                  <a:pt x="755" y="326"/>
                </a:lnTo>
                <a:lnTo>
                  <a:pt x="762" y="310"/>
                </a:lnTo>
                <a:lnTo>
                  <a:pt x="770" y="293"/>
                </a:lnTo>
                <a:lnTo>
                  <a:pt x="778" y="278"/>
                </a:lnTo>
                <a:lnTo>
                  <a:pt x="783" y="264"/>
                </a:lnTo>
                <a:lnTo>
                  <a:pt x="789" y="249"/>
                </a:lnTo>
                <a:lnTo>
                  <a:pt x="797" y="236"/>
                </a:lnTo>
                <a:lnTo>
                  <a:pt x="801" y="222"/>
                </a:lnTo>
                <a:lnTo>
                  <a:pt x="806" y="209"/>
                </a:lnTo>
                <a:lnTo>
                  <a:pt x="812" y="197"/>
                </a:lnTo>
                <a:lnTo>
                  <a:pt x="816" y="186"/>
                </a:lnTo>
                <a:lnTo>
                  <a:pt x="820" y="174"/>
                </a:lnTo>
                <a:lnTo>
                  <a:pt x="824" y="163"/>
                </a:lnTo>
                <a:lnTo>
                  <a:pt x="828" y="153"/>
                </a:lnTo>
                <a:lnTo>
                  <a:pt x="829" y="143"/>
                </a:lnTo>
                <a:lnTo>
                  <a:pt x="833" y="134"/>
                </a:lnTo>
                <a:lnTo>
                  <a:pt x="835" y="126"/>
                </a:lnTo>
                <a:lnTo>
                  <a:pt x="837" y="117"/>
                </a:lnTo>
                <a:lnTo>
                  <a:pt x="837" y="109"/>
                </a:lnTo>
                <a:lnTo>
                  <a:pt x="839" y="101"/>
                </a:lnTo>
                <a:lnTo>
                  <a:pt x="839" y="95"/>
                </a:lnTo>
                <a:lnTo>
                  <a:pt x="839" y="90"/>
                </a:lnTo>
                <a:lnTo>
                  <a:pt x="839" y="84"/>
                </a:lnTo>
                <a:lnTo>
                  <a:pt x="839" y="78"/>
                </a:lnTo>
                <a:lnTo>
                  <a:pt x="837" y="74"/>
                </a:lnTo>
                <a:lnTo>
                  <a:pt x="835" y="69"/>
                </a:lnTo>
                <a:lnTo>
                  <a:pt x="833" y="67"/>
                </a:lnTo>
                <a:lnTo>
                  <a:pt x="828" y="61"/>
                </a:lnTo>
                <a:lnTo>
                  <a:pt x="822" y="57"/>
                </a:lnTo>
                <a:lnTo>
                  <a:pt x="818" y="51"/>
                </a:lnTo>
                <a:lnTo>
                  <a:pt x="814" y="48"/>
                </a:lnTo>
                <a:lnTo>
                  <a:pt x="810" y="44"/>
                </a:lnTo>
                <a:lnTo>
                  <a:pt x="808" y="38"/>
                </a:lnTo>
                <a:lnTo>
                  <a:pt x="806" y="34"/>
                </a:lnTo>
                <a:lnTo>
                  <a:pt x="806" y="30"/>
                </a:lnTo>
                <a:lnTo>
                  <a:pt x="806" y="26"/>
                </a:lnTo>
                <a:lnTo>
                  <a:pt x="808" y="23"/>
                </a:lnTo>
                <a:lnTo>
                  <a:pt x="810" y="19"/>
                </a:lnTo>
                <a:lnTo>
                  <a:pt x="814" y="15"/>
                </a:lnTo>
                <a:lnTo>
                  <a:pt x="818" y="13"/>
                </a:lnTo>
                <a:lnTo>
                  <a:pt x="822" y="9"/>
                </a:lnTo>
                <a:lnTo>
                  <a:pt x="828" y="5"/>
                </a:lnTo>
                <a:lnTo>
                  <a:pt x="833" y="3"/>
                </a:lnTo>
                <a:lnTo>
                  <a:pt x="839" y="1"/>
                </a:lnTo>
                <a:lnTo>
                  <a:pt x="843" y="0"/>
                </a:lnTo>
                <a:lnTo>
                  <a:pt x="849" y="0"/>
                </a:lnTo>
                <a:lnTo>
                  <a:pt x="856" y="1"/>
                </a:lnTo>
                <a:lnTo>
                  <a:pt x="862" y="1"/>
                </a:lnTo>
                <a:lnTo>
                  <a:pt x="870" y="5"/>
                </a:lnTo>
                <a:lnTo>
                  <a:pt x="877" y="7"/>
                </a:lnTo>
                <a:lnTo>
                  <a:pt x="887" y="11"/>
                </a:lnTo>
                <a:lnTo>
                  <a:pt x="895" y="15"/>
                </a:lnTo>
                <a:lnTo>
                  <a:pt x="904" y="21"/>
                </a:lnTo>
                <a:lnTo>
                  <a:pt x="914" y="26"/>
                </a:lnTo>
                <a:lnTo>
                  <a:pt x="924" y="34"/>
                </a:lnTo>
                <a:lnTo>
                  <a:pt x="933" y="40"/>
                </a:lnTo>
                <a:lnTo>
                  <a:pt x="945" y="48"/>
                </a:lnTo>
                <a:lnTo>
                  <a:pt x="954" y="57"/>
                </a:lnTo>
                <a:lnTo>
                  <a:pt x="966" y="67"/>
                </a:lnTo>
                <a:lnTo>
                  <a:pt x="977" y="76"/>
                </a:lnTo>
                <a:lnTo>
                  <a:pt x="987" y="88"/>
                </a:lnTo>
                <a:lnTo>
                  <a:pt x="996" y="97"/>
                </a:lnTo>
                <a:lnTo>
                  <a:pt x="1006" y="107"/>
                </a:lnTo>
                <a:lnTo>
                  <a:pt x="1014" y="117"/>
                </a:lnTo>
                <a:lnTo>
                  <a:pt x="1021" y="124"/>
                </a:lnTo>
                <a:lnTo>
                  <a:pt x="1029" y="134"/>
                </a:lnTo>
                <a:lnTo>
                  <a:pt x="1037" y="142"/>
                </a:lnTo>
                <a:lnTo>
                  <a:pt x="1043" y="147"/>
                </a:lnTo>
                <a:lnTo>
                  <a:pt x="1046" y="155"/>
                </a:lnTo>
                <a:lnTo>
                  <a:pt x="1052" y="161"/>
                </a:lnTo>
                <a:lnTo>
                  <a:pt x="1056" y="168"/>
                </a:lnTo>
                <a:lnTo>
                  <a:pt x="1058" y="174"/>
                </a:lnTo>
                <a:lnTo>
                  <a:pt x="1060" y="178"/>
                </a:lnTo>
                <a:lnTo>
                  <a:pt x="1062" y="184"/>
                </a:lnTo>
                <a:lnTo>
                  <a:pt x="1062" y="190"/>
                </a:lnTo>
                <a:lnTo>
                  <a:pt x="1060" y="193"/>
                </a:lnTo>
                <a:lnTo>
                  <a:pt x="1056" y="201"/>
                </a:lnTo>
                <a:lnTo>
                  <a:pt x="1052" y="209"/>
                </a:lnTo>
                <a:lnTo>
                  <a:pt x="1046" y="218"/>
                </a:lnTo>
                <a:lnTo>
                  <a:pt x="1039" y="230"/>
                </a:lnTo>
                <a:lnTo>
                  <a:pt x="1033" y="243"/>
                </a:lnTo>
                <a:lnTo>
                  <a:pt x="1023" y="257"/>
                </a:lnTo>
                <a:lnTo>
                  <a:pt x="1016" y="274"/>
                </a:lnTo>
                <a:lnTo>
                  <a:pt x="1004" y="291"/>
                </a:lnTo>
                <a:lnTo>
                  <a:pt x="993" y="310"/>
                </a:lnTo>
                <a:lnTo>
                  <a:pt x="981" y="332"/>
                </a:lnTo>
                <a:lnTo>
                  <a:pt x="968" y="353"/>
                </a:lnTo>
                <a:lnTo>
                  <a:pt x="954" y="378"/>
                </a:lnTo>
                <a:lnTo>
                  <a:pt x="939" y="403"/>
                </a:lnTo>
                <a:lnTo>
                  <a:pt x="924" y="431"/>
                </a:lnTo>
                <a:lnTo>
                  <a:pt x="906" y="460"/>
                </a:lnTo>
                <a:lnTo>
                  <a:pt x="870" y="522"/>
                </a:lnTo>
                <a:lnTo>
                  <a:pt x="831" y="583"/>
                </a:lnTo>
                <a:lnTo>
                  <a:pt x="793" y="644"/>
                </a:lnTo>
                <a:lnTo>
                  <a:pt x="755" y="708"/>
                </a:lnTo>
                <a:lnTo>
                  <a:pt x="714" y="771"/>
                </a:lnTo>
                <a:lnTo>
                  <a:pt x="674" y="834"/>
                </a:lnTo>
                <a:lnTo>
                  <a:pt x="593" y="965"/>
                </a:lnTo>
                <a:lnTo>
                  <a:pt x="572" y="999"/>
                </a:lnTo>
                <a:lnTo>
                  <a:pt x="551" y="1032"/>
                </a:lnTo>
                <a:lnTo>
                  <a:pt x="530" y="1065"/>
                </a:lnTo>
                <a:lnTo>
                  <a:pt x="509" y="1095"/>
                </a:lnTo>
                <a:lnTo>
                  <a:pt x="488" y="1124"/>
                </a:lnTo>
                <a:lnTo>
                  <a:pt x="467" y="1153"/>
                </a:lnTo>
                <a:lnTo>
                  <a:pt x="444" y="1182"/>
                </a:lnTo>
                <a:lnTo>
                  <a:pt x="421" y="1209"/>
                </a:lnTo>
                <a:lnTo>
                  <a:pt x="399" y="1234"/>
                </a:lnTo>
                <a:lnTo>
                  <a:pt x="374" y="1260"/>
                </a:lnTo>
                <a:lnTo>
                  <a:pt x="351" y="1283"/>
                </a:lnTo>
                <a:lnTo>
                  <a:pt x="328" y="1308"/>
                </a:lnTo>
                <a:lnTo>
                  <a:pt x="305" y="1331"/>
                </a:lnTo>
                <a:lnTo>
                  <a:pt x="280" y="1353"/>
                </a:lnTo>
                <a:lnTo>
                  <a:pt x="255" y="1376"/>
                </a:lnTo>
                <a:lnTo>
                  <a:pt x="232" y="1397"/>
                </a:lnTo>
                <a:lnTo>
                  <a:pt x="207" y="1416"/>
                </a:lnTo>
                <a:lnTo>
                  <a:pt x="184" y="1435"/>
                </a:lnTo>
                <a:lnTo>
                  <a:pt x="163" y="1450"/>
                </a:lnTo>
                <a:lnTo>
                  <a:pt x="142" y="1466"/>
                </a:lnTo>
                <a:lnTo>
                  <a:pt x="123" y="1479"/>
                </a:lnTo>
                <a:lnTo>
                  <a:pt x="106" y="1491"/>
                </a:lnTo>
                <a:lnTo>
                  <a:pt x="88" y="1502"/>
                </a:lnTo>
                <a:lnTo>
                  <a:pt x="73" y="1510"/>
                </a:lnTo>
                <a:lnTo>
                  <a:pt x="60" y="1518"/>
                </a:lnTo>
                <a:lnTo>
                  <a:pt x="46" y="1523"/>
                </a:lnTo>
                <a:lnTo>
                  <a:pt x="35" y="1529"/>
                </a:lnTo>
                <a:lnTo>
                  <a:pt x="25" y="1531"/>
                </a:lnTo>
                <a:lnTo>
                  <a:pt x="17" y="1533"/>
                </a:lnTo>
                <a:lnTo>
                  <a:pt x="12" y="1535"/>
                </a:lnTo>
                <a:lnTo>
                  <a:pt x="6" y="1533"/>
                </a:lnTo>
                <a:lnTo>
                  <a:pt x="4" y="1533"/>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Freeform 30"/>
          <p:cNvSpPr/>
          <p:nvPr/>
        </p:nvSpPr>
        <p:spPr>
          <a:xfrm>
            <a:off x="5884920" y="3489480"/>
            <a:ext cx="190440" cy="1477800"/>
          </a:xfrm>
          <a:custGeom>
            <a:avLst/>
            <a:gdLst/>
            <a:ahLst/>
            <a:rect l="l" t="t" r="r" b="b"/>
            <a:pathLst>
              <a:path w="240" h="1861">
                <a:moveTo>
                  <a:pt x="73" y="0"/>
                </a:moveTo>
                <a:lnTo>
                  <a:pt x="89" y="7"/>
                </a:lnTo>
                <a:lnTo>
                  <a:pt x="102" y="13"/>
                </a:lnTo>
                <a:lnTo>
                  <a:pt x="117" y="21"/>
                </a:lnTo>
                <a:lnTo>
                  <a:pt x="131" y="27"/>
                </a:lnTo>
                <a:lnTo>
                  <a:pt x="142" y="34"/>
                </a:lnTo>
                <a:lnTo>
                  <a:pt x="156" y="40"/>
                </a:lnTo>
                <a:lnTo>
                  <a:pt x="167" y="48"/>
                </a:lnTo>
                <a:lnTo>
                  <a:pt x="177" y="53"/>
                </a:lnTo>
                <a:lnTo>
                  <a:pt x="187" y="59"/>
                </a:lnTo>
                <a:lnTo>
                  <a:pt x="196" y="67"/>
                </a:lnTo>
                <a:lnTo>
                  <a:pt x="204" y="73"/>
                </a:lnTo>
                <a:lnTo>
                  <a:pt x="212" y="78"/>
                </a:lnTo>
                <a:lnTo>
                  <a:pt x="217" y="84"/>
                </a:lnTo>
                <a:lnTo>
                  <a:pt x="221" y="88"/>
                </a:lnTo>
                <a:lnTo>
                  <a:pt x="227" y="94"/>
                </a:lnTo>
                <a:lnTo>
                  <a:pt x="229" y="100"/>
                </a:lnTo>
                <a:lnTo>
                  <a:pt x="231" y="107"/>
                </a:lnTo>
                <a:lnTo>
                  <a:pt x="233" y="115"/>
                </a:lnTo>
                <a:lnTo>
                  <a:pt x="235" y="126"/>
                </a:lnTo>
                <a:lnTo>
                  <a:pt x="235" y="140"/>
                </a:lnTo>
                <a:lnTo>
                  <a:pt x="236" y="155"/>
                </a:lnTo>
                <a:lnTo>
                  <a:pt x="238" y="171"/>
                </a:lnTo>
                <a:lnTo>
                  <a:pt x="238" y="190"/>
                </a:lnTo>
                <a:lnTo>
                  <a:pt x="238" y="209"/>
                </a:lnTo>
                <a:lnTo>
                  <a:pt x="240" y="230"/>
                </a:lnTo>
                <a:lnTo>
                  <a:pt x="240" y="255"/>
                </a:lnTo>
                <a:lnTo>
                  <a:pt x="240" y="280"/>
                </a:lnTo>
                <a:lnTo>
                  <a:pt x="240" y="307"/>
                </a:lnTo>
                <a:lnTo>
                  <a:pt x="240" y="336"/>
                </a:lnTo>
                <a:lnTo>
                  <a:pt x="240" y="364"/>
                </a:lnTo>
                <a:lnTo>
                  <a:pt x="240" y="397"/>
                </a:lnTo>
                <a:lnTo>
                  <a:pt x="240" y="432"/>
                </a:lnTo>
                <a:lnTo>
                  <a:pt x="238" y="468"/>
                </a:lnTo>
                <a:lnTo>
                  <a:pt x="236" y="506"/>
                </a:lnTo>
                <a:lnTo>
                  <a:pt x="235" y="545"/>
                </a:lnTo>
                <a:lnTo>
                  <a:pt x="233" y="585"/>
                </a:lnTo>
                <a:lnTo>
                  <a:pt x="233" y="625"/>
                </a:lnTo>
                <a:lnTo>
                  <a:pt x="231" y="668"/>
                </a:lnTo>
                <a:lnTo>
                  <a:pt x="229" y="710"/>
                </a:lnTo>
                <a:lnTo>
                  <a:pt x="229" y="752"/>
                </a:lnTo>
                <a:lnTo>
                  <a:pt x="227" y="796"/>
                </a:lnTo>
                <a:lnTo>
                  <a:pt x="227" y="840"/>
                </a:lnTo>
                <a:lnTo>
                  <a:pt x="225" y="886"/>
                </a:lnTo>
                <a:lnTo>
                  <a:pt x="223" y="932"/>
                </a:lnTo>
                <a:lnTo>
                  <a:pt x="221" y="978"/>
                </a:lnTo>
                <a:lnTo>
                  <a:pt x="221" y="1025"/>
                </a:lnTo>
                <a:lnTo>
                  <a:pt x="219" y="1073"/>
                </a:lnTo>
                <a:lnTo>
                  <a:pt x="217" y="1121"/>
                </a:lnTo>
                <a:lnTo>
                  <a:pt x="213" y="1168"/>
                </a:lnTo>
                <a:lnTo>
                  <a:pt x="212" y="1215"/>
                </a:lnTo>
                <a:lnTo>
                  <a:pt x="210" y="1259"/>
                </a:lnTo>
                <a:lnTo>
                  <a:pt x="208" y="1303"/>
                </a:lnTo>
                <a:lnTo>
                  <a:pt x="204" y="1345"/>
                </a:lnTo>
                <a:lnTo>
                  <a:pt x="202" y="1385"/>
                </a:lnTo>
                <a:lnTo>
                  <a:pt x="200" y="1424"/>
                </a:lnTo>
                <a:lnTo>
                  <a:pt x="196" y="1460"/>
                </a:lnTo>
                <a:lnTo>
                  <a:pt x="194" y="1495"/>
                </a:lnTo>
                <a:lnTo>
                  <a:pt x="190" y="1527"/>
                </a:lnTo>
                <a:lnTo>
                  <a:pt x="187" y="1558"/>
                </a:lnTo>
                <a:lnTo>
                  <a:pt x="185" y="1589"/>
                </a:lnTo>
                <a:lnTo>
                  <a:pt x="181" y="1616"/>
                </a:lnTo>
                <a:lnTo>
                  <a:pt x="179" y="1629"/>
                </a:lnTo>
                <a:lnTo>
                  <a:pt x="177" y="1643"/>
                </a:lnTo>
                <a:lnTo>
                  <a:pt x="175" y="1654"/>
                </a:lnTo>
                <a:lnTo>
                  <a:pt x="173" y="1666"/>
                </a:lnTo>
                <a:lnTo>
                  <a:pt x="171" y="1677"/>
                </a:lnTo>
                <a:lnTo>
                  <a:pt x="169" y="1689"/>
                </a:lnTo>
                <a:lnTo>
                  <a:pt x="164" y="1710"/>
                </a:lnTo>
                <a:lnTo>
                  <a:pt x="160" y="1731"/>
                </a:lnTo>
                <a:lnTo>
                  <a:pt x="156" y="1750"/>
                </a:lnTo>
                <a:lnTo>
                  <a:pt x="150" y="1769"/>
                </a:lnTo>
                <a:lnTo>
                  <a:pt x="146" y="1785"/>
                </a:lnTo>
                <a:lnTo>
                  <a:pt x="142" y="1800"/>
                </a:lnTo>
                <a:lnTo>
                  <a:pt x="139" y="1813"/>
                </a:lnTo>
                <a:lnTo>
                  <a:pt x="135" y="1825"/>
                </a:lnTo>
                <a:lnTo>
                  <a:pt x="129" y="1834"/>
                </a:lnTo>
                <a:lnTo>
                  <a:pt x="127" y="1844"/>
                </a:lnTo>
                <a:lnTo>
                  <a:pt x="123" y="1852"/>
                </a:lnTo>
                <a:lnTo>
                  <a:pt x="119" y="1856"/>
                </a:lnTo>
                <a:lnTo>
                  <a:pt x="116" y="1859"/>
                </a:lnTo>
                <a:lnTo>
                  <a:pt x="114" y="1861"/>
                </a:lnTo>
                <a:lnTo>
                  <a:pt x="110" y="1861"/>
                </a:lnTo>
                <a:lnTo>
                  <a:pt x="108" y="1861"/>
                </a:lnTo>
                <a:lnTo>
                  <a:pt x="104" y="1857"/>
                </a:lnTo>
                <a:lnTo>
                  <a:pt x="98" y="1854"/>
                </a:lnTo>
                <a:lnTo>
                  <a:pt x="94" y="1852"/>
                </a:lnTo>
                <a:lnTo>
                  <a:pt x="91" y="1846"/>
                </a:lnTo>
                <a:lnTo>
                  <a:pt x="85" y="1842"/>
                </a:lnTo>
                <a:lnTo>
                  <a:pt x="81" y="1836"/>
                </a:lnTo>
                <a:lnTo>
                  <a:pt x="77" y="1831"/>
                </a:lnTo>
                <a:lnTo>
                  <a:pt x="71" y="1823"/>
                </a:lnTo>
                <a:lnTo>
                  <a:pt x="68" y="1817"/>
                </a:lnTo>
                <a:lnTo>
                  <a:pt x="64" y="1808"/>
                </a:lnTo>
                <a:lnTo>
                  <a:pt x="58" y="1800"/>
                </a:lnTo>
                <a:lnTo>
                  <a:pt x="54" y="1790"/>
                </a:lnTo>
                <a:lnTo>
                  <a:pt x="50" y="1781"/>
                </a:lnTo>
                <a:lnTo>
                  <a:pt x="44" y="1771"/>
                </a:lnTo>
                <a:lnTo>
                  <a:pt x="41" y="1760"/>
                </a:lnTo>
                <a:lnTo>
                  <a:pt x="37" y="1750"/>
                </a:lnTo>
                <a:lnTo>
                  <a:pt x="31" y="1735"/>
                </a:lnTo>
                <a:lnTo>
                  <a:pt x="27" y="1723"/>
                </a:lnTo>
                <a:lnTo>
                  <a:pt x="23" y="1710"/>
                </a:lnTo>
                <a:lnTo>
                  <a:pt x="20" y="1698"/>
                </a:lnTo>
                <a:lnTo>
                  <a:pt x="18" y="1687"/>
                </a:lnTo>
                <a:lnTo>
                  <a:pt x="14" y="1677"/>
                </a:lnTo>
                <a:lnTo>
                  <a:pt x="12" y="1667"/>
                </a:lnTo>
                <a:lnTo>
                  <a:pt x="8" y="1658"/>
                </a:lnTo>
                <a:lnTo>
                  <a:pt x="6" y="1650"/>
                </a:lnTo>
                <a:lnTo>
                  <a:pt x="4" y="1643"/>
                </a:lnTo>
                <a:lnTo>
                  <a:pt x="2" y="1635"/>
                </a:lnTo>
                <a:lnTo>
                  <a:pt x="2" y="1629"/>
                </a:lnTo>
                <a:lnTo>
                  <a:pt x="0" y="1625"/>
                </a:lnTo>
                <a:lnTo>
                  <a:pt x="0" y="1619"/>
                </a:lnTo>
                <a:lnTo>
                  <a:pt x="0" y="1616"/>
                </a:lnTo>
                <a:lnTo>
                  <a:pt x="0" y="1614"/>
                </a:lnTo>
                <a:lnTo>
                  <a:pt x="0" y="1612"/>
                </a:lnTo>
                <a:lnTo>
                  <a:pt x="0" y="1608"/>
                </a:lnTo>
                <a:lnTo>
                  <a:pt x="0" y="1602"/>
                </a:lnTo>
                <a:lnTo>
                  <a:pt x="2" y="1598"/>
                </a:lnTo>
                <a:lnTo>
                  <a:pt x="2" y="1591"/>
                </a:lnTo>
                <a:lnTo>
                  <a:pt x="4" y="1585"/>
                </a:lnTo>
                <a:lnTo>
                  <a:pt x="6" y="1577"/>
                </a:lnTo>
                <a:lnTo>
                  <a:pt x="8" y="1568"/>
                </a:lnTo>
                <a:lnTo>
                  <a:pt x="8" y="1558"/>
                </a:lnTo>
                <a:lnTo>
                  <a:pt x="10" y="1547"/>
                </a:lnTo>
                <a:lnTo>
                  <a:pt x="12" y="1537"/>
                </a:lnTo>
                <a:lnTo>
                  <a:pt x="16" y="1524"/>
                </a:lnTo>
                <a:lnTo>
                  <a:pt x="18" y="1510"/>
                </a:lnTo>
                <a:lnTo>
                  <a:pt x="20" y="1497"/>
                </a:lnTo>
                <a:lnTo>
                  <a:pt x="21" y="1481"/>
                </a:lnTo>
                <a:lnTo>
                  <a:pt x="23" y="1466"/>
                </a:lnTo>
                <a:lnTo>
                  <a:pt x="25" y="1449"/>
                </a:lnTo>
                <a:lnTo>
                  <a:pt x="29" y="1431"/>
                </a:lnTo>
                <a:lnTo>
                  <a:pt x="31" y="1412"/>
                </a:lnTo>
                <a:lnTo>
                  <a:pt x="35" y="1393"/>
                </a:lnTo>
                <a:lnTo>
                  <a:pt x="39" y="1372"/>
                </a:lnTo>
                <a:lnTo>
                  <a:pt x="41" y="1349"/>
                </a:lnTo>
                <a:lnTo>
                  <a:pt x="44" y="1326"/>
                </a:lnTo>
                <a:lnTo>
                  <a:pt x="48" y="1303"/>
                </a:lnTo>
                <a:lnTo>
                  <a:pt x="52" y="1278"/>
                </a:lnTo>
                <a:lnTo>
                  <a:pt x="54" y="1253"/>
                </a:lnTo>
                <a:lnTo>
                  <a:pt x="58" y="1226"/>
                </a:lnTo>
                <a:lnTo>
                  <a:pt x="62" y="1199"/>
                </a:lnTo>
                <a:lnTo>
                  <a:pt x="64" y="1172"/>
                </a:lnTo>
                <a:lnTo>
                  <a:pt x="68" y="1144"/>
                </a:lnTo>
                <a:lnTo>
                  <a:pt x="69" y="1115"/>
                </a:lnTo>
                <a:lnTo>
                  <a:pt x="73" y="1084"/>
                </a:lnTo>
                <a:lnTo>
                  <a:pt x="75" y="1055"/>
                </a:lnTo>
                <a:lnTo>
                  <a:pt x="77" y="1025"/>
                </a:lnTo>
                <a:lnTo>
                  <a:pt x="77" y="996"/>
                </a:lnTo>
                <a:lnTo>
                  <a:pt x="79" y="969"/>
                </a:lnTo>
                <a:lnTo>
                  <a:pt x="81" y="942"/>
                </a:lnTo>
                <a:lnTo>
                  <a:pt x="81" y="915"/>
                </a:lnTo>
                <a:lnTo>
                  <a:pt x="81" y="888"/>
                </a:lnTo>
                <a:lnTo>
                  <a:pt x="83" y="861"/>
                </a:lnTo>
                <a:lnTo>
                  <a:pt x="83" y="836"/>
                </a:lnTo>
                <a:lnTo>
                  <a:pt x="83" y="813"/>
                </a:lnTo>
                <a:lnTo>
                  <a:pt x="83" y="788"/>
                </a:lnTo>
                <a:lnTo>
                  <a:pt x="83" y="765"/>
                </a:lnTo>
                <a:lnTo>
                  <a:pt x="83" y="742"/>
                </a:lnTo>
                <a:lnTo>
                  <a:pt x="85" y="719"/>
                </a:lnTo>
                <a:lnTo>
                  <a:pt x="85" y="698"/>
                </a:lnTo>
                <a:lnTo>
                  <a:pt x="85" y="677"/>
                </a:lnTo>
                <a:lnTo>
                  <a:pt x="85" y="666"/>
                </a:lnTo>
                <a:lnTo>
                  <a:pt x="85" y="654"/>
                </a:lnTo>
                <a:lnTo>
                  <a:pt x="85" y="643"/>
                </a:lnTo>
                <a:lnTo>
                  <a:pt x="85" y="629"/>
                </a:lnTo>
                <a:lnTo>
                  <a:pt x="83" y="616"/>
                </a:lnTo>
                <a:lnTo>
                  <a:pt x="83" y="602"/>
                </a:lnTo>
                <a:lnTo>
                  <a:pt x="83" y="587"/>
                </a:lnTo>
                <a:lnTo>
                  <a:pt x="83" y="572"/>
                </a:lnTo>
                <a:lnTo>
                  <a:pt x="83" y="554"/>
                </a:lnTo>
                <a:lnTo>
                  <a:pt x="83" y="539"/>
                </a:lnTo>
                <a:lnTo>
                  <a:pt x="83" y="520"/>
                </a:lnTo>
                <a:lnTo>
                  <a:pt x="83" y="503"/>
                </a:lnTo>
                <a:lnTo>
                  <a:pt x="83" y="483"/>
                </a:lnTo>
                <a:lnTo>
                  <a:pt x="83" y="464"/>
                </a:lnTo>
                <a:lnTo>
                  <a:pt x="83" y="443"/>
                </a:lnTo>
                <a:lnTo>
                  <a:pt x="83" y="422"/>
                </a:lnTo>
                <a:lnTo>
                  <a:pt x="83" y="401"/>
                </a:lnTo>
                <a:lnTo>
                  <a:pt x="81" y="378"/>
                </a:lnTo>
                <a:lnTo>
                  <a:pt x="81" y="355"/>
                </a:lnTo>
                <a:lnTo>
                  <a:pt x="81" y="332"/>
                </a:lnTo>
                <a:lnTo>
                  <a:pt x="81" y="307"/>
                </a:lnTo>
                <a:lnTo>
                  <a:pt x="81" y="282"/>
                </a:lnTo>
                <a:lnTo>
                  <a:pt x="79" y="257"/>
                </a:lnTo>
                <a:lnTo>
                  <a:pt x="79" y="230"/>
                </a:lnTo>
                <a:lnTo>
                  <a:pt x="79" y="203"/>
                </a:lnTo>
                <a:lnTo>
                  <a:pt x="77" y="176"/>
                </a:lnTo>
                <a:lnTo>
                  <a:pt x="77" y="149"/>
                </a:lnTo>
                <a:lnTo>
                  <a:pt x="77" y="121"/>
                </a:lnTo>
                <a:lnTo>
                  <a:pt x="75" y="90"/>
                </a:lnTo>
                <a:lnTo>
                  <a:pt x="75" y="61"/>
                </a:lnTo>
                <a:lnTo>
                  <a:pt x="73" y="30"/>
                </a:lnTo>
                <a:lnTo>
                  <a:pt x="73" y="0"/>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Freeform 31"/>
          <p:cNvSpPr/>
          <p:nvPr/>
        </p:nvSpPr>
        <p:spPr>
          <a:xfrm>
            <a:off x="6191280" y="3754440"/>
            <a:ext cx="203040" cy="412920"/>
          </a:xfrm>
          <a:custGeom>
            <a:avLst/>
            <a:gdLst/>
            <a:ahLst/>
            <a:rect l="l" t="t" r="r" b="b"/>
            <a:pathLst>
              <a:path w="256" h="520">
                <a:moveTo>
                  <a:pt x="144" y="491"/>
                </a:moveTo>
                <a:lnTo>
                  <a:pt x="136" y="497"/>
                </a:lnTo>
                <a:lnTo>
                  <a:pt x="131" y="502"/>
                </a:lnTo>
                <a:lnTo>
                  <a:pt x="123" y="508"/>
                </a:lnTo>
                <a:lnTo>
                  <a:pt x="117" y="512"/>
                </a:lnTo>
                <a:lnTo>
                  <a:pt x="110" y="516"/>
                </a:lnTo>
                <a:lnTo>
                  <a:pt x="104" y="518"/>
                </a:lnTo>
                <a:lnTo>
                  <a:pt x="96" y="518"/>
                </a:lnTo>
                <a:lnTo>
                  <a:pt x="90" y="520"/>
                </a:lnTo>
                <a:lnTo>
                  <a:pt x="85" y="518"/>
                </a:lnTo>
                <a:lnTo>
                  <a:pt x="79" y="518"/>
                </a:lnTo>
                <a:lnTo>
                  <a:pt x="73" y="516"/>
                </a:lnTo>
                <a:lnTo>
                  <a:pt x="67" y="512"/>
                </a:lnTo>
                <a:lnTo>
                  <a:pt x="62" y="508"/>
                </a:lnTo>
                <a:lnTo>
                  <a:pt x="56" y="502"/>
                </a:lnTo>
                <a:lnTo>
                  <a:pt x="50" y="497"/>
                </a:lnTo>
                <a:lnTo>
                  <a:pt x="46" y="491"/>
                </a:lnTo>
                <a:lnTo>
                  <a:pt x="41" y="483"/>
                </a:lnTo>
                <a:lnTo>
                  <a:pt x="35" y="478"/>
                </a:lnTo>
                <a:lnTo>
                  <a:pt x="29" y="470"/>
                </a:lnTo>
                <a:lnTo>
                  <a:pt x="23" y="464"/>
                </a:lnTo>
                <a:lnTo>
                  <a:pt x="19" y="456"/>
                </a:lnTo>
                <a:lnTo>
                  <a:pt x="16" y="451"/>
                </a:lnTo>
                <a:lnTo>
                  <a:pt x="10" y="437"/>
                </a:lnTo>
                <a:lnTo>
                  <a:pt x="4" y="426"/>
                </a:lnTo>
                <a:lnTo>
                  <a:pt x="2" y="414"/>
                </a:lnTo>
                <a:lnTo>
                  <a:pt x="0" y="403"/>
                </a:lnTo>
                <a:lnTo>
                  <a:pt x="0" y="393"/>
                </a:lnTo>
                <a:lnTo>
                  <a:pt x="0" y="391"/>
                </a:lnTo>
                <a:lnTo>
                  <a:pt x="0" y="387"/>
                </a:lnTo>
                <a:lnTo>
                  <a:pt x="2" y="383"/>
                </a:lnTo>
                <a:lnTo>
                  <a:pt x="4" y="380"/>
                </a:lnTo>
                <a:lnTo>
                  <a:pt x="6" y="374"/>
                </a:lnTo>
                <a:lnTo>
                  <a:pt x="8" y="370"/>
                </a:lnTo>
                <a:lnTo>
                  <a:pt x="16" y="359"/>
                </a:lnTo>
                <a:lnTo>
                  <a:pt x="25" y="345"/>
                </a:lnTo>
                <a:lnTo>
                  <a:pt x="35" y="330"/>
                </a:lnTo>
                <a:lnTo>
                  <a:pt x="46" y="312"/>
                </a:lnTo>
                <a:lnTo>
                  <a:pt x="60" y="295"/>
                </a:lnTo>
                <a:lnTo>
                  <a:pt x="65" y="284"/>
                </a:lnTo>
                <a:lnTo>
                  <a:pt x="73" y="274"/>
                </a:lnTo>
                <a:lnTo>
                  <a:pt x="79" y="261"/>
                </a:lnTo>
                <a:lnTo>
                  <a:pt x="87" y="247"/>
                </a:lnTo>
                <a:lnTo>
                  <a:pt x="92" y="234"/>
                </a:lnTo>
                <a:lnTo>
                  <a:pt x="100" y="218"/>
                </a:lnTo>
                <a:lnTo>
                  <a:pt x="108" y="201"/>
                </a:lnTo>
                <a:lnTo>
                  <a:pt x="115" y="184"/>
                </a:lnTo>
                <a:lnTo>
                  <a:pt x="121" y="165"/>
                </a:lnTo>
                <a:lnTo>
                  <a:pt x="129" y="144"/>
                </a:lnTo>
                <a:lnTo>
                  <a:pt x="136" y="122"/>
                </a:lnTo>
                <a:lnTo>
                  <a:pt x="146" y="99"/>
                </a:lnTo>
                <a:lnTo>
                  <a:pt x="154" y="76"/>
                </a:lnTo>
                <a:lnTo>
                  <a:pt x="161" y="51"/>
                </a:lnTo>
                <a:lnTo>
                  <a:pt x="169" y="27"/>
                </a:lnTo>
                <a:lnTo>
                  <a:pt x="179" y="0"/>
                </a:lnTo>
                <a:lnTo>
                  <a:pt x="192" y="9"/>
                </a:lnTo>
                <a:lnTo>
                  <a:pt x="204" y="19"/>
                </a:lnTo>
                <a:lnTo>
                  <a:pt x="215" y="32"/>
                </a:lnTo>
                <a:lnTo>
                  <a:pt x="225" y="46"/>
                </a:lnTo>
                <a:lnTo>
                  <a:pt x="232" y="59"/>
                </a:lnTo>
                <a:lnTo>
                  <a:pt x="240" y="75"/>
                </a:lnTo>
                <a:lnTo>
                  <a:pt x="246" y="92"/>
                </a:lnTo>
                <a:lnTo>
                  <a:pt x="252" y="109"/>
                </a:lnTo>
                <a:lnTo>
                  <a:pt x="254" y="119"/>
                </a:lnTo>
                <a:lnTo>
                  <a:pt x="256" y="128"/>
                </a:lnTo>
                <a:lnTo>
                  <a:pt x="256" y="138"/>
                </a:lnTo>
                <a:lnTo>
                  <a:pt x="256" y="149"/>
                </a:lnTo>
                <a:lnTo>
                  <a:pt x="256" y="170"/>
                </a:lnTo>
                <a:lnTo>
                  <a:pt x="254" y="193"/>
                </a:lnTo>
                <a:lnTo>
                  <a:pt x="252" y="220"/>
                </a:lnTo>
                <a:lnTo>
                  <a:pt x="250" y="232"/>
                </a:lnTo>
                <a:lnTo>
                  <a:pt x="248" y="247"/>
                </a:lnTo>
                <a:lnTo>
                  <a:pt x="246" y="261"/>
                </a:lnTo>
                <a:lnTo>
                  <a:pt x="244" y="276"/>
                </a:lnTo>
                <a:lnTo>
                  <a:pt x="242" y="291"/>
                </a:lnTo>
                <a:lnTo>
                  <a:pt x="240" y="307"/>
                </a:lnTo>
                <a:lnTo>
                  <a:pt x="234" y="322"/>
                </a:lnTo>
                <a:lnTo>
                  <a:pt x="231" y="337"/>
                </a:lnTo>
                <a:lnTo>
                  <a:pt x="225" y="353"/>
                </a:lnTo>
                <a:lnTo>
                  <a:pt x="219" y="366"/>
                </a:lnTo>
                <a:lnTo>
                  <a:pt x="213" y="380"/>
                </a:lnTo>
                <a:lnTo>
                  <a:pt x="208" y="393"/>
                </a:lnTo>
                <a:lnTo>
                  <a:pt x="202" y="405"/>
                </a:lnTo>
                <a:lnTo>
                  <a:pt x="196" y="418"/>
                </a:lnTo>
                <a:lnTo>
                  <a:pt x="190" y="428"/>
                </a:lnTo>
                <a:lnTo>
                  <a:pt x="183" y="439"/>
                </a:lnTo>
                <a:lnTo>
                  <a:pt x="177" y="449"/>
                </a:lnTo>
                <a:lnTo>
                  <a:pt x="169" y="458"/>
                </a:lnTo>
                <a:lnTo>
                  <a:pt x="163" y="468"/>
                </a:lnTo>
                <a:lnTo>
                  <a:pt x="156" y="476"/>
                </a:lnTo>
                <a:lnTo>
                  <a:pt x="150" y="483"/>
                </a:lnTo>
                <a:lnTo>
                  <a:pt x="144" y="491"/>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 name="Freeform 32"/>
          <p:cNvSpPr/>
          <p:nvPr/>
        </p:nvSpPr>
        <p:spPr>
          <a:xfrm>
            <a:off x="6486480" y="4243320"/>
            <a:ext cx="1298520" cy="689040"/>
          </a:xfrm>
          <a:custGeom>
            <a:avLst/>
            <a:gdLst/>
            <a:ahLst/>
            <a:rect l="l" t="t" r="r" b="b"/>
            <a:pathLst>
              <a:path w="1635" h="867">
                <a:moveTo>
                  <a:pt x="48" y="86"/>
                </a:moveTo>
                <a:lnTo>
                  <a:pt x="38" y="82"/>
                </a:lnTo>
                <a:lnTo>
                  <a:pt x="30" y="80"/>
                </a:lnTo>
                <a:lnTo>
                  <a:pt x="23" y="78"/>
                </a:lnTo>
                <a:lnTo>
                  <a:pt x="17" y="75"/>
                </a:lnTo>
                <a:lnTo>
                  <a:pt x="13" y="73"/>
                </a:lnTo>
                <a:lnTo>
                  <a:pt x="7" y="71"/>
                </a:lnTo>
                <a:lnTo>
                  <a:pt x="5" y="67"/>
                </a:lnTo>
                <a:lnTo>
                  <a:pt x="2" y="65"/>
                </a:lnTo>
                <a:lnTo>
                  <a:pt x="0" y="61"/>
                </a:lnTo>
                <a:lnTo>
                  <a:pt x="0" y="59"/>
                </a:lnTo>
                <a:lnTo>
                  <a:pt x="0" y="55"/>
                </a:lnTo>
                <a:lnTo>
                  <a:pt x="0" y="52"/>
                </a:lnTo>
                <a:lnTo>
                  <a:pt x="2" y="48"/>
                </a:lnTo>
                <a:lnTo>
                  <a:pt x="3" y="44"/>
                </a:lnTo>
                <a:lnTo>
                  <a:pt x="7" y="40"/>
                </a:lnTo>
                <a:lnTo>
                  <a:pt x="11" y="36"/>
                </a:lnTo>
                <a:lnTo>
                  <a:pt x="17" y="27"/>
                </a:lnTo>
                <a:lnTo>
                  <a:pt x="23" y="19"/>
                </a:lnTo>
                <a:lnTo>
                  <a:pt x="28" y="13"/>
                </a:lnTo>
                <a:lnTo>
                  <a:pt x="36" y="7"/>
                </a:lnTo>
                <a:lnTo>
                  <a:pt x="44" y="4"/>
                </a:lnTo>
                <a:lnTo>
                  <a:pt x="53" y="2"/>
                </a:lnTo>
                <a:lnTo>
                  <a:pt x="61" y="0"/>
                </a:lnTo>
                <a:lnTo>
                  <a:pt x="71" y="0"/>
                </a:lnTo>
                <a:lnTo>
                  <a:pt x="74" y="0"/>
                </a:lnTo>
                <a:lnTo>
                  <a:pt x="78" y="0"/>
                </a:lnTo>
                <a:lnTo>
                  <a:pt x="82" y="2"/>
                </a:lnTo>
                <a:lnTo>
                  <a:pt x="88" y="4"/>
                </a:lnTo>
                <a:lnTo>
                  <a:pt x="96" y="5"/>
                </a:lnTo>
                <a:lnTo>
                  <a:pt x="103" y="9"/>
                </a:lnTo>
                <a:lnTo>
                  <a:pt x="113" y="13"/>
                </a:lnTo>
                <a:lnTo>
                  <a:pt x="122" y="19"/>
                </a:lnTo>
                <a:lnTo>
                  <a:pt x="132" y="25"/>
                </a:lnTo>
                <a:lnTo>
                  <a:pt x="144" y="30"/>
                </a:lnTo>
                <a:lnTo>
                  <a:pt x="157" y="38"/>
                </a:lnTo>
                <a:lnTo>
                  <a:pt x="169" y="46"/>
                </a:lnTo>
                <a:lnTo>
                  <a:pt x="182" y="53"/>
                </a:lnTo>
                <a:lnTo>
                  <a:pt x="197" y="63"/>
                </a:lnTo>
                <a:lnTo>
                  <a:pt x="213" y="75"/>
                </a:lnTo>
                <a:lnTo>
                  <a:pt x="228" y="86"/>
                </a:lnTo>
                <a:lnTo>
                  <a:pt x="243" y="98"/>
                </a:lnTo>
                <a:lnTo>
                  <a:pt x="261" y="109"/>
                </a:lnTo>
                <a:lnTo>
                  <a:pt x="278" y="121"/>
                </a:lnTo>
                <a:lnTo>
                  <a:pt x="297" y="134"/>
                </a:lnTo>
                <a:lnTo>
                  <a:pt x="316" y="147"/>
                </a:lnTo>
                <a:lnTo>
                  <a:pt x="338" y="161"/>
                </a:lnTo>
                <a:lnTo>
                  <a:pt x="359" y="174"/>
                </a:lnTo>
                <a:lnTo>
                  <a:pt x="380" y="190"/>
                </a:lnTo>
                <a:lnTo>
                  <a:pt x="403" y="205"/>
                </a:lnTo>
                <a:lnTo>
                  <a:pt x="428" y="220"/>
                </a:lnTo>
                <a:lnTo>
                  <a:pt x="453" y="238"/>
                </a:lnTo>
                <a:lnTo>
                  <a:pt x="478" y="255"/>
                </a:lnTo>
                <a:lnTo>
                  <a:pt x="505" y="272"/>
                </a:lnTo>
                <a:lnTo>
                  <a:pt x="531" y="291"/>
                </a:lnTo>
                <a:lnTo>
                  <a:pt x="560" y="311"/>
                </a:lnTo>
                <a:lnTo>
                  <a:pt x="589" y="332"/>
                </a:lnTo>
                <a:lnTo>
                  <a:pt x="616" y="353"/>
                </a:lnTo>
                <a:lnTo>
                  <a:pt x="643" y="372"/>
                </a:lnTo>
                <a:lnTo>
                  <a:pt x="670" y="391"/>
                </a:lnTo>
                <a:lnTo>
                  <a:pt x="696" y="408"/>
                </a:lnTo>
                <a:lnTo>
                  <a:pt x="723" y="426"/>
                </a:lnTo>
                <a:lnTo>
                  <a:pt x="750" y="441"/>
                </a:lnTo>
                <a:lnTo>
                  <a:pt x="777" y="458"/>
                </a:lnTo>
                <a:lnTo>
                  <a:pt x="806" y="474"/>
                </a:lnTo>
                <a:lnTo>
                  <a:pt x="833" y="487"/>
                </a:lnTo>
                <a:lnTo>
                  <a:pt x="862" y="503"/>
                </a:lnTo>
                <a:lnTo>
                  <a:pt x="890" y="516"/>
                </a:lnTo>
                <a:lnTo>
                  <a:pt x="917" y="527"/>
                </a:lnTo>
                <a:lnTo>
                  <a:pt x="975" y="554"/>
                </a:lnTo>
                <a:lnTo>
                  <a:pt x="1034" y="577"/>
                </a:lnTo>
                <a:lnTo>
                  <a:pt x="1061" y="589"/>
                </a:lnTo>
                <a:lnTo>
                  <a:pt x="1086" y="600"/>
                </a:lnTo>
                <a:lnTo>
                  <a:pt x="1113" y="610"/>
                </a:lnTo>
                <a:lnTo>
                  <a:pt x="1140" y="620"/>
                </a:lnTo>
                <a:lnTo>
                  <a:pt x="1165" y="629"/>
                </a:lnTo>
                <a:lnTo>
                  <a:pt x="1192" y="639"/>
                </a:lnTo>
                <a:lnTo>
                  <a:pt x="1217" y="646"/>
                </a:lnTo>
                <a:lnTo>
                  <a:pt x="1242" y="654"/>
                </a:lnTo>
                <a:lnTo>
                  <a:pt x="1294" y="668"/>
                </a:lnTo>
                <a:lnTo>
                  <a:pt x="1343" y="681"/>
                </a:lnTo>
                <a:lnTo>
                  <a:pt x="1393" y="691"/>
                </a:lnTo>
                <a:lnTo>
                  <a:pt x="1443" y="702"/>
                </a:lnTo>
                <a:lnTo>
                  <a:pt x="1466" y="708"/>
                </a:lnTo>
                <a:lnTo>
                  <a:pt x="1489" y="716"/>
                </a:lnTo>
                <a:lnTo>
                  <a:pt x="1509" y="721"/>
                </a:lnTo>
                <a:lnTo>
                  <a:pt x="1528" y="727"/>
                </a:lnTo>
                <a:lnTo>
                  <a:pt x="1545" y="733"/>
                </a:lnTo>
                <a:lnTo>
                  <a:pt x="1560" y="739"/>
                </a:lnTo>
                <a:lnTo>
                  <a:pt x="1576" y="744"/>
                </a:lnTo>
                <a:lnTo>
                  <a:pt x="1587" y="748"/>
                </a:lnTo>
                <a:lnTo>
                  <a:pt x="1599" y="754"/>
                </a:lnTo>
                <a:lnTo>
                  <a:pt x="1608" y="760"/>
                </a:lnTo>
                <a:lnTo>
                  <a:pt x="1616" y="764"/>
                </a:lnTo>
                <a:lnTo>
                  <a:pt x="1624" y="769"/>
                </a:lnTo>
                <a:lnTo>
                  <a:pt x="1628" y="773"/>
                </a:lnTo>
                <a:lnTo>
                  <a:pt x="1631" y="777"/>
                </a:lnTo>
                <a:lnTo>
                  <a:pt x="1633" y="783"/>
                </a:lnTo>
                <a:lnTo>
                  <a:pt x="1635" y="787"/>
                </a:lnTo>
                <a:lnTo>
                  <a:pt x="1633" y="788"/>
                </a:lnTo>
                <a:lnTo>
                  <a:pt x="1631" y="792"/>
                </a:lnTo>
                <a:lnTo>
                  <a:pt x="1628" y="794"/>
                </a:lnTo>
                <a:lnTo>
                  <a:pt x="1620" y="798"/>
                </a:lnTo>
                <a:lnTo>
                  <a:pt x="1612" y="802"/>
                </a:lnTo>
                <a:lnTo>
                  <a:pt x="1603" y="806"/>
                </a:lnTo>
                <a:lnTo>
                  <a:pt x="1591" y="810"/>
                </a:lnTo>
                <a:lnTo>
                  <a:pt x="1580" y="813"/>
                </a:lnTo>
                <a:lnTo>
                  <a:pt x="1564" y="817"/>
                </a:lnTo>
                <a:lnTo>
                  <a:pt x="1547" y="821"/>
                </a:lnTo>
                <a:lnTo>
                  <a:pt x="1528" y="827"/>
                </a:lnTo>
                <a:lnTo>
                  <a:pt x="1507" y="831"/>
                </a:lnTo>
                <a:lnTo>
                  <a:pt x="1497" y="833"/>
                </a:lnTo>
                <a:lnTo>
                  <a:pt x="1486" y="835"/>
                </a:lnTo>
                <a:lnTo>
                  <a:pt x="1474" y="836"/>
                </a:lnTo>
                <a:lnTo>
                  <a:pt x="1461" y="840"/>
                </a:lnTo>
                <a:lnTo>
                  <a:pt x="1447" y="842"/>
                </a:lnTo>
                <a:lnTo>
                  <a:pt x="1434" y="844"/>
                </a:lnTo>
                <a:lnTo>
                  <a:pt x="1420" y="846"/>
                </a:lnTo>
                <a:lnTo>
                  <a:pt x="1407" y="850"/>
                </a:lnTo>
                <a:lnTo>
                  <a:pt x="1378" y="852"/>
                </a:lnTo>
                <a:lnTo>
                  <a:pt x="1349" y="854"/>
                </a:lnTo>
                <a:lnTo>
                  <a:pt x="1324" y="856"/>
                </a:lnTo>
                <a:lnTo>
                  <a:pt x="1299" y="858"/>
                </a:lnTo>
                <a:lnTo>
                  <a:pt x="1276" y="859"/>
                </a:lnTo>
                <a:lnTo>
                  <a:pt x="1253" y="861"/>
                </a:lnTo>
                <a:lnTo>
                  <a:pt x="1234" y="863"/>
                </a:lnTo>
                <a:lnTo>
                  <a:pt x="1213" y="865"/>
                </a:lnTo>
                <a:lnTo>
                  <a:pt x="1196" y="865"/>
                </a:lnTo>
                <a:lnTo>
                  <a:pt x="1176" y="867"/>
                </a:lnTo>
                <a:lnTo>
                  <a:pt x="1161" y="867"/>
                </a:lnTo>
                <a:lnTo>
                  <a:pt x="1146" y="867"/>
                </a:lnTo>
                <a:lnTo>
                  <a:pt x="1130" y="865"/>
                </a:lnTo>
                <a:lnTo>
                  <a:pt x="1117" y="865"/>
                </a:lnTo>
                <a:lnTo>
                  <a:pt x="1105" y="863"/>
                </a:lnTo>
                <a:lnTo>
                  <a:pt x="1094" y="861"/>
                </a:lnTo>
                <a:lnTo>
                  <a:pt x="1082" y="859"/>
                </a:lnTo>
                <a:lnTo>
                  <a:pt x="1071" y="856"/>
                </a:lnTo>
                <a:lnTo>
                  <a:pt x="1057" y="852"/>
                </a:lnTo>
                <a:lnTo>
                  <a:pt x="1046" y="848"/>
                </a:lnTo>
                <a:lnTo>
                  <a:pt x="1032" y="842"/>
                </a:lnTo>
                <a:lnTo>
                  <a:pt x="1021" y="836"/>
                </a:lnTo>
                <a:lnTo>
                  <a:pt x="1007" y="831"/>
                </a:lnTo>
                <a:lnTo>
                  <a:pt x="994" y="825"/>
                </a:lnTo>
                <a:lnTo>
                  <a:pt x="981" y="817"/>
                </a:lnTo>
                <a:lnTo>
                  <a:pt x="967" y="810"/>
                </a:lnTo>
                <a:lnTo>
                  <a:pt x="952" y="802"/>
                </a:lnTo>
                <a:lnTo>
                  <a:pt x="938" y="792"/>
                </a:lnTo>
                <a:lnTo>
                  <a:pt x="923" y="783"/>
                </a:lnTo>
                <a:lnTo>
                  <a:pt x="908" y="773"/>
                </a:lnTo>
                <a:lnTo>
                  <a:pt x="892" y="762"/>
                </a:lnTo>
                <a:lnTo>
                  <a:pt x="877" y="750"/>
                </a:lnTo>
                <a:lnTo>
                  <a:pt x="860" y="739"/>
                </a:lnTo>
                <a:lnTo>
                  <a:pt x="842" y="723"/>
                </a:lnTo>
                <a:lnTo>
                  <a:pt x="821" y="708"/>
                </a:lnTo>
                <a:lnTo>
                  <a:pt x="800" y="691"/>
                </a:lnTo>
                <a:lnTo>
                  <a:pt x="777" y="671"/>
                </a:lnTo>
                <a:lnTo>
                  <a:pt x="752" y="650"/>
                </a:lnTo>
                <a:lnTo>
                  <a:pt x="727" y="629"/>
                </a:lnTo>
                <a:lnTo>
                  <a:pt x="698" y="606"/>
                </a:lnTo>
                <a:lnTo>
                  <a:pt x="670" y="581"/>
                </a:lnTo>
                <a:lnTo>
                  <a:pt x="639" y="554"/>
                </a:lnTo>
                <a:lnTo>
                  <a:pt x="608" y="527"/>
                </a:lnTo>
                <a:lnTo>
                  <a:pt x="576" y="499"/>
                </a:lnTo>
                <a:lnTo>
                  <a:pt x="541" y="468"/>
                </a:lnTo>
                <a:lnTo>
                  <a:pt x="505" y="435"/>
                </a:lnTo>
                <a:lnTo>
                  <a:pt x="470" y="403"/>
                </a:lnTo>
                <a:lnTo>
                  <a:pt x="432" y="368"/>
                </a:lnTo>
                <a:lnTo>
                  <a:pt x="412" y="351"/>
                </a:lnTo>
                <a:lnTo>
                  <a:pt x="395" y="334"/>
                </a:lnTo>
                <a:lnTo>
                  <a:pt x="376" y="318"/>
                </a:lnTo>
                <a:lnTo>
                  <a:pt x="359" y="303"/>
                </a:lnTo>
                <a:lnTo>
                  <a:pt x="341" y="288"/>
                </a:lnTo>
                <a:lnTo>
                  <a:pt x="324" y="274"/>
                </a:lnTo>
                <a:lnTo>
                  <a:pt x="309" y="261"/>
                </a:lnTo>
                <a:lnTo>
                  <a:pt x="293" y="247"/>
                </a:lnTo>
                <a:lnTo>
                  <a:pt x="278" y="234"/>
                </a:lnTo>
                <a:lnTo>
                  <a:pt x="263" y="222"/>
                </a:lnTo>
                <a:lnTo>
                  <a:pt x="247" y="211"/>
                </a:lnTo>
                <a:lnTo>
                  <a:pt x="234" y="199"/>
                </a:lnTo>
                <a:lnTo>
                  <a:pt x="220" y="190"/>
                </a:lnTo>
                <a:lnTo>
                  <a:pt x="207" y="180"/>
                </a:lnTo>
                <a:lnTo>
                  <a:pt x="194" y="171"/>
                </a:lnTo>
                <a:lnTo>
                  <a:pt x="182" y="161"/>
                </a:lnTo>
                <a:lnTo>
                  <a:pt x="169" y="153"/>
                </a:lnTo>
                <a:lnTo>
                  <a:pt x="157" y="146"/>
                </a:lnTo>
                <a:lnTo>
                  <a:pt x="147" y="138"/>
                </a:lnTo>
                <a:lnTo>
                  <a:pt x="136" y="130"/>
                </a:lnTo>
                <a:lnTo>
                  <a:pt x="126" y="124"/>
                </a:lnTo>
                <a:lnTo>
                  <a:pt x="117" y="119"/>
                </a:lnTo>
                <a:lnTo>
                  <a:pt x="99" y="109"/>
                </a:lnTo>
                <a:lnTo>
                  <a:pt x="90" y="103"/>
                </a:lnTo>
                <a:lnTo>
                  <a:pt x="82" y="100"/>
                </a:lnTo>
                <a:lnTo>
                  <a:pt x="74" y="96"/>
                </a:lnTo>
                <a:lnTo>
                  <a:pt x="69" y="94"/>
                </a:lnTo>
                <a:lnTo>
                  <a:pt x="63" y="90"/>
                </a:lnTo>
                <a:lnTo>
                  <a:pt x="57" y="88"/>
                </a:lnTo>
                <a:lnTo>
                  <a:pt x="51" y="86"/>
                </a:lnTo>
                <a:lnTo>
                  <a:pt x="48" y="86"/>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Freeform 33"/>
          <p:cNvSpPr/>
          <p:nvPr/>
        </p:nvSpPr>
        <p:spPr>
          <a:xfrm>
            <a:off x="6467400" y="2882880"/>
            <a:ext cx="908280" cy="606600"/>
          </a:xfrm>
          <a:custGeom>
            <a:avLst/>
            <a:gdLst/>
            <a:ahLst/>
            <a:rect l="l" t="t" r="r" b="b"/>
            <a:pathLst>
              <a:path w="1144" h="764">
                <a:moveTo>
                  <a:pt x="927" y="764"/>
                </a:moveTo>
                <a:lnTo>
                  <a:pt x="865" y="764"/>
                </a:lnTo>
                <a:lnTo>
                  <a:pt x="806" y="764"/>
                </a:lnTo>
                <a:lnTo>
                  <a:pt x="806" y="731"/>
                </a:lnTo>
                <a:lnTo>
                  <a:pt x="808" y="697"/>
                </a:lnTo>
                <a:lnTo>
                  <a:pt x="810" y="679"/>
                </a:lnTo>
                <a:lnTo>
                  <a:pt x="812" y="660"/>
                </a:lnTo>
                <a:lnTo>
                  <a:pt x="814" y="641"/>
                </a:lnTo>
                <a:lnTo>
                  <a:pt x="816" y="622"/>
                </a:lnTo>
                <a:lnTo>
                  <a:pt x="817" y="603"/>
                </a:lnTo>
                <a:lnTo>
                  <a:pt x="819" y="581"/>
                </a:lnTo>
                <a:lnTo>
                  <a:pt x="823" y="560"/>
                </a:lnTo>
                <a:lnTo>
                  <a:pt x="827" y="539"/>
                </a:lnTo>
                <a:lnTo>
                  <a:pt x="829" y="516"/>
                </a:lnTo>
                <a:lnTo>
                  <a:pt x="833" y="493"/>
                </a:lnTo>
                <a:lnTo>
                  <a:pt x="837" y="468"/>
                </a:lnTo>
                <a:lnTo>
                  <a:pt x="842" y="443"/>
                </a:lnTo>
                <a:lnTo>
                  <a:pt x="844" y="418"/>
                </a:lnTo>
                <a:lnTo>
                  <a:pt x="846" y="395"/>
                </a:lnTo>
                <a:lnTo>
                  <a:pt x="846" y="374"/>
                </a:lnTo>
                <a:lnTo>
                  <a:pt x="848" y="353"/>
                </a:lnTo>
                <a:lnTo>
                  <a:pt x="850" y="334"/>
                </a:lnTo>
                <a:lnTo>
                  <a:pt x="850" y="317"/>
                </a:lnTo>
                <a:lnTo>
                  <a:pt x="850" y="299"/>
                </a:lnTo>
                <a:lnTo>
                  <a:pt x="850" y="284"/>
                </a:lnTo>
                <a:lnTo>
                  <a:pt x="850" y="271"/>
                </a:lnTo>
                <a:lnTo>
                  <a:pt x="850" y="259"/>
                </a:lnTo>
                <a:lnTo>
                  <a:pt x="850" y="247"/>
                </a:lnTo>
                <a:lnTo>
                  <a:pt x="848" y="238"/>
                </a:lnTo>
                <a:lnTo>
                  <a:pt x="846" y="228"/>
                </a:lnTo>
                <a:lnTo>
                  <a:pt x="846" y="221"/>
                </a:lnTo>
                <a:lnTo>
                  <a:pt x="844" y="215"/>
                </a:lnTo>
                <a:lnTo>
                  <a:pt x="842" y="209"/>
                </a:lnTo>
                <a:lnTo>
                  <a:pt x="839" y="207"/>
                </a:lnTo>
                <a:lnTo>
                  <a:pt x="837" y="205"/>
                </a:lnTo>
                <a:lnTo>
                  <a:pt x="833" y="203"/>
                </a:lnTo>
                <a:lnTo>
                  <a:pt x="829" y="201"/>
                </a:lnTo>
                <a:lnTo>
                  <a:pt x="823" y="200"/>
                </a:lnTo>
                <a:lnTo>
                  <a:pt x="819" y="198"/>
                </a:lnTo>
                <a:lnTo>
                  <a:pt x="814" y="196"/>
                </a:lnTo>
                <a:lnTo>
                  <a:pt x="808" y="196"/>
                </a:lnTo>
                <a:lnTo>
                  <a:pt x="800" y="194"/>
                </a:lnTo>
                <a:lnTo>
                  <a:pt x="794" y="194"/>
                </a:lnTo>
                <a:lnTo>
                  <a:pt x="787" y="192"/>
                </a:lnTo>
                <a:lnTo>
                  <a:pt x="779" y="192"/>
                </a:lnTo>
                <a:lnTo>
                  <a:pt x="769" y="192"/>
                </a:lnTo>
                <a:lnTo>
                  <a:pt x="760" y="192"/>
                </a:lnTo>
                <a:lnTo>
                  <a:pt x="750" y="192"/>
                </a:lnTo>
                <a:lnTo>
                  <a:pt x="741" y="192"/>
                </a:lnTo>
                <a:lnTo>
                  <a:pt x="729" y="192"/>
                </a:lnTo>
                <a:lnTo>
                  <a:pt x="720" y="194"/>
                </a:lnTo>
                <a:lnTo>
                  <a:pt x="706" y="194"/>
                </a:lnTo>
                <a:lnTo>
                  <a:pt x="695" y="194"/>
                </a:lnTo>
                <a:lnTo>
                  <a:pt x="681" y="196"/>
                </a:lnTo>
                <a:lnTo>
                  <a:pt x="668" y="198"/>
                </a:lnTo>
                <a:lnTo>
                  <a:pt x="654" y="200"/>
                </a:lnTo>
                <a:lnTo>
                  <a:pt x="641" y="200"/>
                </a:lnTo>
                <a:lnTo>
                  <a:pt x="626" y="201"/>
                </a:lnTo>
                <a:lnTo>
                  <a:pt x="610" y="205"/>
                </a:lnTo>
                <a:lnTo>
                  <a:pt x="593" y="207"/>
                </a:lnTo>
                <a:lnTo>
                  <a:pt x="578" y="209"/>
                </a:lnTo>
                <a:lnTo>
                  <a:pt x="560" y="213"/>
                </a:lnTo>
                <a:lnTo>
                  <a:pt x="541" y="215"/>
                </a:lnTo>
                <a:lnTo>
                  <a:pt x="524" y="219"/>
                </a:lnTo>
                <a:lnTo>
                  <a:pt x="505" y="223"/>
                </a:lnTo>
                <a:lnTo>
                  <a:pt x="485" y="224"/>
                </a:lnTo>
                <a:lnTo>
                  <a:pt x="468" y="228"/>
                </a:lnTo>
                <a:lnTo>
                  <a:pt x="449" y="232"/>
                </a:lnTo>
                <a:lnTo>
                  <a:pt x="432" y="234"/>
                </a:lnTo>
                <a:lnTo>
                  <a:pt x="414" y="238"/>
                </a:lnTo>
                <a:lnTo>
                  <a:pt x="399" y="240"/>
                </a:lnTo>
                <a:lnTo>
                  <a:pt x="384" y="242"/>
                </a:lnTo>
                <a:lnTo>
                  <a:pt x="366" y="246"/>
                </a:lnTo>
                <a:lnTo>
                  <a:pt x="353" y="247"/>
                </a:lnTo>
                <a:lnTo>
                  <a:pt x="338" y="249"/>
                </a:lnTo>
                <a:lnTo>
                  <a:pt x="324" y="251"/>
                </a:lnTo>
                <a:lnTo>
                  <a:pt x="311" y="253"/>
                </a:lnTo>
                <a:lnTo>
                  <a:pt x="297" y="255"/>
                </a:lnTo>
                <a:lnTo>
                  <a:pt x="286" y="257"/>
                </a:lnTo>
                <a:lnTo>
                  <a:pt x="274" y="259"/>
                </a:lnTo>
                <a:lnTo>
                  <a:pt x="263" y="261"/>
                </a:lnTo>
                <a:lnTo>
                  <a:pt x="251" y="261"/>
                </a:lnTo>
                <a:lnTo>
                  <a:pt x="242" y="263"/>
                </a:lnTo>
                <a:lnTo>
                  <a:pt x="232" y="265"/>
                </a:lnTo>
                <a:lnTo>
                  <a:pt x="222" y="265"/>
                </a:lnTo>
                <a:lnTo>
                  <a:pt x="215" y="267"/>
                </a:lnTo>
                <a:lnTo>
                  <a:pt x="207" y="267"/>
                </a:lnTo>
                <a:lnTo>
                  <a:pt x="199" y="267"/>
                </a:lnTo>
                <a:lnTo>
                  <a:pt x="192" y="269"/>
                </a:lnTo>
                <a:lnTo>
                  <a:pt x="186" y="269"/>
                </a:lnTo>
                <a:lnTo>
                  <a:pt x="180" y="269"/>
                </a:lnTo>
                <a:lnTo>
                  <a:pt x="174" y="271"/>
                </a:lnTo>
                <a:lnTo>
                  <a:pt x="171" y="271"/>
                </a:lnTo>
                <a:lnTo>
                  <a:pt x="165" y="271"/>
                </a:lnTo>
                <a:lnTo>
                  <a:pt x="161" y="271"/>
                </a:lnTo>
                <a:lnTo>
                  <a:pt x="159" y="271"/>
                </a:lnTo>
                <a:lnTo>
                  <a:pt x="157" y="271"/>
                </a:lnTo>
                <a:lnTo>
                  <a:pt x="147" y="271"/>
                </a:lnTo>
                <a:lnTo>
                  <a:pt x="136" y="269"/>
                </a:lnTo>
                <a:lnTo>
                  <a:pt x="124" y="265"/>
                </a:lnTo>
                <a:lnTo>
                  <a:pt x="113" y="261"/>
                </a:lnTo>
                <a:lnTo>
                  <a:pt x="99" y="257"/>
                </a:lnTo>
                <a:lnTo>
                  <a:pt x="86" y="249"/>
                </a:lnTo>
                <a:lnTo>
                  <a:pt x="73" y="244"/>
                </a:lnTo>
                <a:lnTo>
                  <a:pt x="61" y="234"/>
                </a:lnTo>
                <a:lnTo>
                  <a:pt x="48" y="228"/>
                </a:lnTo>
                <a:lnTo>
                  <a:pt x="36" y="223"/>
                </a:lnTo>
                <a:lnTo>
                  <a:pt x="25" y="217"/>
                </a:lnTo>
                <a:lnTo>
                  <a:pt x="17" y="209"/>
                </a:lnTo>
                <a:lnTo>
                  <a:pt x="9" y="201"/>
                </a:lnTo>
                <a:lnTo>
                  <a:pt x="5" y="200"/>
                </a:lnTo>
                <a:lnTo>
                  <a:pt x="4" y="196"/>
                </a:lnTo>
                <a:lnTo>
                  <a:pt x="2" y="192"/>
                </a:lnTo>
                <a:lnTo>
                  <a:pt x="2" y="190"/>
                </a:lnTo>
                <a:lnTo>
                  <a:pt x="0" y="186"/>
                </a:lnTo>
                <a:lnTo>
                  <a:pt x="0" y="184"/>
                </a:lnTo>
                <a:lnTo>
                  <a:pt x="0" y="182"/>
                </a:lnTo>
                <a:lnTo>
                  <a:pt x="2" y="182"/>
                </a:lnTo>
                <a:lnTo>
                  <a:pt x="2" y="180"/>
                </a:lnTo>
                <a:lnTo>
                  <a:pt x="4" y="180"/>
                </a:lnTo>
                <a:lnTo>
                  <a:pt x="5" y="178"/>
                </a:lnTo>
                <a:lnTo>
                  <a:pt x="9" y="178"/>
                </a:lnTo>
                <a:lnTo>
                  <a:pt x="11" y="176"/>
                </a:lnTo>
                <a:lnTo>
                  <a:pt x="15" y="175"/>
                </a:lnTo>
                <a:lnTo>
                  <a:pt x="25" y="173"/>
                </a:lnTo>
                <a:lnTo>
                  <a:pt x="34" y="171"/>
                </a:lnTo>
                <a:lnTo>
                  <a:pt x="48" y="169"/>
                </a:lnTo>
                <a:lnTo>
                  <a:pt x="61" y="167"/>
                </a:lnTo>
                <a:lnTo>
                  <a:pt x="78" y="165"/>
                </a:lnTo>
                <a:lnTo>
                  <a:pt x="96" y="161"/>
                </a:lnTo>
                <a:lnTo>
                  <a:pt x="115" y="159"/>
                </a:lnTo>
                <a:lnTo>
                  <a:pt x="136" y="157"/>
                </a:lnTo>
                <a:lnTo>
                  <a:pt x="159" y="155"/>
                </a:lnTo>
                <a:lnTo>
                  <a:pt x="184" y="152"/>
                </a:lnTo>
                <a:lnTo>
                  <a:pt x="211" y="150"/>
                </a:lnTo>
                <a:lnTo>
                  <a:pt x="240" y="148"/>
                </a:lnTo>
                <a:lnTo>
                  <a:pt x="268" y="146"/>
                </a:lnTo>
                <a:lnTo>
                  <a:pt x="297" y="142"/>
                </a:lnTo>
                <a:lnTo>
                  <a:pt x="326" y="140"/>
                </a:lnTo>
                <a:lnTo>
                  <a:pt x="353" y="136"/>
                </a:lnTo>
                <a:lnTo>
                  <a:pt x="380" y="132"/>
                </a:lnTo>
                <a:lnTo>
                  <a:pt x="405" y="128"/>
                </a:lnTo>
                <a:lnTo>
                  <a:pt x="432" y="127"/>
                </a:lnTo>
                <a:lnTo>
                  <a:pt x="457" y="121"/>
                </a:lnTo>
                <a:lnTo>
                  <a:pt x="482" y="117"/>
                </a:lnTo>
                <a:lnTo>
                  <a:pt x="505" y="113"/>
                </a:lnTo>
                <a:lnTo>
                  <a:pt x="528" y="109"/>
                </a:lnTo>
                <a:lnTo>
                  <a:pt x="551" y="105"/>
                </a:lnTo>
                <a:lnTo>
                  <a:pt x="574" y="100"/>
                </a:lnTo>
                <a:lnTo>
                  <a:pt x="595" y="96"/>
                </a:lnTo>
                <a:lnTo>
                  <a:pt x="616" y="90"/>
                </a:lnTo>
                <a:lnTo>
                  <a:pt x="637" y="86"/>
                </a:lnTo>
                <a:lnTo>
                  <a:pt x="656" y="84"/>
                </a:lnTo>
                <a:lnTo>
                  <a:pt x="675" y="81"/>
                </a:lnTo>
                <a:lnTo>
                  <a:pt x="693" y="79"/>
                </a:lnTo>
                <a:lnTo>
                  <a:pt x="710" y="75"/>
                </a:lnTo>
                <a:lnTo>
                  <a:pt x="725" y="71"/>
                </a:lnTo>
                <a:lnTo>
                  <a:pt x="739" y="67"/>
                </a:lnTo>
                <a:lnTo>
                  <a:pt x="752" y="65"/>
                </a:lnTo>
                <a:lnTo>
                  <a:pt x="766" y="59"/>
                </a:lnTo>
                <a:lnTo>
                  <a:pt x="777" y="56"/>
                </a:lnTo>
                <a:lnTo>
                  <a:pt x="787" y="52"/>
                </a:lnTo>
                <a:lnTo>
                  <a:pt x="796" y="48"/>
                </a:lnTo>
                <a:lnTo>
                  <a:pt x="804" y="44"/>
                </a:lnTo>
                <a:lnTo>
                  <a:pt x="812" y="38"/>
                </a:lnTo>
                <a:lnTo>
                  <a:pt x="819" y="34"/>
                </a:lnTo>
                <a:lnTo>
                  <a:pt x="825" y="29"/>
                </a:lnTo>
                <a:lnTo>
                  <a:pt x="831" y="25"/>
                </a:lnTo>
                <a:lnTo>
                  <a:pt x="835" y="21"/>
                </a:lnTo>
                <a:lnTo>
                  <a:pt x="841" y="15"/>
                </a:lnTo>
                <a:lnTo>
                  <a:pt x="848" y="11"/>
                </a:lnTo>
                <a:lnTo>
                  <a:pt x="856" y="8"/>
                </a:lnTo>
                <a:lnTo>
                  <a:pt x="864" y="4"/>
                </a:lnTo>
                <a:lnTo>
                  <a:pt x="871" y="2"/>
                </a:lnTo>
                <a:lnTo>
                  <a:pt x="881" y="0"/>
                </a:lnTo>
                <a:lnTo>
                  <a:pt x="890" y="0"/>
                </a:lnTo>
                <a:lnTo>
                  <a:pt x="894" y="2"/>
                </a:lnTo>
                <a:lnTo>
                  <a:pt x="900" y="6"/>
                </a:lnTo>
                <a:lnTo>
                  <a:pt x="906" y="8"/>
                </a:lnTo>
                <a:lnTo>
                  <a:pt x="912" y="11"/>
                </a:lnTo>
                <a:lnTo>
                  <a:pt x="919" y="15"/>
                </a:lnTo>
                <a:lnTo>
                  <a:pt x="927" y="19"/>
                </a:lnTo>
                <a:lnTo>
                  <a:pt x="935" y="25"/>
                </a:lnTo>
                <a:lnTo>
                  <a:pt x="944" y="29"/>
                </a:lnTo>
                <a:lnTo>
                  <a:pt x="954" y="34"/>
                </a:lnTo>
                <a:lnTo>
                  <a:pt x="963" y="40"/>
                </a:lnTo>
                <a:lnTo>
                  <a:pt x="973" y="46"/>
                </a:lnTo>
                <a:lnTo>
                  <a:pt x="984" y="54"/>
                </a:lnTo>
                <a:lnTo>
                  <a:pt x="996" y="61"/>
                </a:lnTo>
                <a:lnTo>
                  <a:pt x="1009" y="69"/>
                </a:lnTo>
                <a:lnTo>
                  <a:pt x="1021" y="77"/>
                </a:lnTo>
                <a:lnTo>
                  <a:pt x="1034" y="86"/>
                </a:lnTo>
                <a:lnTo>
                  <a:pt x="1048" y="96"/>
                </a:lnTo>
                <a:lnTo>
                  <a:pt x="1059" y="104"/>
                </a:lnTo>
                <a:lnTo>
                  <a:pt x="1071" y="113"/>
                </a:lnTo>
                <a:lnTo>
                  <a:pt x="1080" y="121"/>
                </a:lnTo>
                <a:lnTo>
                  <a:pt x="1092" y="128"/>
                </a:lnTo>
                <a:lnTo>
                  <a:pt x="1100" y="136"/>
                </a:lnTo>
                <a:lnTo>
                  <a:pt x="1107" y="144"/>
                </a:lnTo>
                <a:lnTo>
                  <a:pt x="1115" y="150"/>
                </a:lnTo>
                <a:lnTo>
                  <a:pt x="1121" y="155"/>
                </a:lnTo>
                <a:lnTo>
                  <a:pt x="1127" y="161"/>
                </a:lnTo>
                <a:lnTo>
                  <a:pt x="1132" y="167"/>
                </a:lnTo>
                <a:lnTo>
                  <a:pt x="1136" y="171"/>
                </a:lnTo>
                <a:lnTo>
                  <a:pt x="1138" y="175"/>
                </a:lnTo>
                <a:lnTo>
                  <a:pt x="1142" y="178"/>
                </a:lnTo>
                <a:lnTo>
                  <a:pt x="1142" y="182"/>
                </a:lnTo>
                <a:lnTo>
                  <a:pt x="1144" y="184"/>
                </a:lnTo>
                <a:lnTo>
                  <a:pt x="1142" y="194"/>
                </a:lnTo>
                <a:lnTo>
                  <a:pt x="1140" y="203"/>
                </a:lnTo>
                <a:lnTo>
                  <a:pt x="1136" y="211"/>
                </a:lnTo>
                <a:lnTo>
                  <a:pt x="1132" y="221"/>
                </a:lnTo>
                <a:lnTo>
                  <a:pt x="1125" y="228"/>
                </a:lnTo>
                <a:lnTo>
                  <a:pt x="1121" y="232"/>
                </a:lnTo>
                <a:lnTo>
                  <a:pt x="1117" y="236"/>
                </a:lnTo>
                <a:lnTo>
                  <a:pt x="1111" y="238"/>
                </a:lnTo>
                <a:lnTo>
                  <a:pt x="1107" y="242"/>
                </a:lnTo>
                <a:lnTo>
                  <a:pt x="1100" y="244"/>
                </a:lnTo>
                <a:lnTo>
                  <a:pt x="1094" y="247"/>
                </a:lnTo>
                <a:lnTo>
                  <a:pt x="1088" y="249"/>
                </a:lnTo>
                <a:lnTo>
                  <a:pt x="1080" y="253"/>
                </a:lnTo>
                <a:lnTo>
                  <a:pt x="1075" y="259"/>
                </a:lnTo>
                <a:lnTo>
                  <a:pt x="1067" y="265"/>
                </a:lnTo>
                <a:lnTo>
                  <a:pt x="1061" y="272"/>
                </a:lnTo>
                <a:lnTo>
                  <a:pt x="1054" y="280"/>
                </a:lnTo>
                <a:lnTo>
                  <a:pt x="1048" y="290"/>
                </a:lnTo>
                <a:lnTo>
                  <a:pt x="1040" y="301"/>
                </a:lnTo>
                <a:lnTo>
                  <a:pt x="1034" y="313"/>
                </a:lnTo>
                <a:lnTo>
                  <a:pt x="1027" y="324"/>
                </a:lnTo>
                <a:lnTo>
                  <a:pt x="1019" y="338"/>
                </a:lnTo>
                <a:lnTo>
                  <a:pt x="1013" y="353"/>
                </a:lnTo>
                <a:lnTo>
                  <a:pt x="1006" y="368"/>
                </a:lnTo>
                <a:lnTo>
                  <a:pt x="1000" y="384"/>
                </a:lnTo>
                <a:lnTo>
                  <a:pt x="992" y="401"/>
                </a:lnTo>
                <a:lnTo>
                  <a:pt x="986" y="420"/>
                </a:lnTo>
                <a:lnTo>
                  <a:pt x="981" y="437"/>
                </a:lnTo>
                <a:lnTo>
                  <a:pt x="975" y="457"/>
                </a:lnTo>
                <a:lnTo>
                  <a:pt x="963" y="495"/>
                </a:lnTo>
                <a:lnTo>
                  <a:pt x="956" y="535"/>
                </a:lnTo>
                <a:lnTo>
                  <a:pt x="948" y="578"/>
                </a:lnTo>
                <a:lnTo>
                  <a:pt x="940" y="622"/>
                </a:lnTo>
                <a:lnTo>
                  <a:pt x="938" y="645"/>
                </a:lnTo>
                <a:lnTo>
                  <a:pt x="935" y="666"/>
                </a:lnTo>
                <a:lnTo>
                  <a:pt x="933" y="691"/>
                </a:lnTo>
                <a:lnTo>
                  <a:pt x="931" y="714"/>
                </a:lnTo>
                <a:lnTo>
                  <a:pt x="929" y="739"/>
                </a:lnTo>
                <a:lnTo>
                  <a:pt x="927" y="764"/>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Freeform 34"/>
          <p:cNvSpPr/>
          <p:nvPr/>
        </p:nvSpPr>
        <p:spPr>
          <a:xfrm>
            <a:off x="6543720" y="3219480"/>
            <a:ext cx="468360" cy="142920"/>
          </a:xfrm>
          <a:custGeom>
            <a:avLst/>
            <a:gdLst/>
            <a:ahLst/>
            <a:rect l="l" t="t" r="r" b="b"/>
            <a:pathLst>
              <a:path w="589" h="180">
                <a:moveTo>
                  <a:pt x="0" y="119"/>
                </a:moveTo>
                <a:lnTo>
                  <a:pt x="0" y="117"/>
                </a:lnTo>
                <a:lnTo>
                  <a:pt x="2" y="115"/>
                </a:lnTo>
                <a:lnTo>
                  <a:pt x="2" y="113"/>
                </a:lnTo>
                <a:lnTo>
                  <a:pt x="3" y="113"/>
                </a:lnTo>
                <a:lnTo>
                  <a:pt x="5" y="111"/>
                </a:lnTo>
                <a:lnTo>
                  <a:pt x="9" y="109"/>
                </a:lnTo>
                <a:lnTo>
                  <a:pt x="11" y="108"/>
                </a:lnTo>
                <a:lnTo>
                  <a:pt x="15" y="104"/>
                </a:lnTo>
                <a:lnTo>
                  <a:pt x="25" y="100"/>
                </a:lnTo>
                <a:lnTo>
                  <a:pt x="34" y="96"/>
                </a:lnTo>
                <a:lnTo>
                  <a:pt x="48" y="90"/>
                </a:lnTo>
                <a:lnTo>
                  <a:pt x="61" y="84"/>
                </a:lnTo>
                <a:lnTo>
                  <a:pt x="78" y="79"/>
                </a:lnTo>
                <a:lnTo>
                  <a:pt x="96" y="73"/>
                </a:lnTo>
                <a:lnTo>
                  <a:pt x="115" y="65"/>
                </a:lnTo>
                <a:lnTo>
                  <a:pt x="138" y="60"/>
                </a:lnTo>
                <a:lnTo>
                  <a:pt x="161" y="52"/>
                </a:lnTo>
                <a:lnTo>
                  <a:pt x="186" y="46"/>
                </a:lnTo>
                <a:lnTo>
                  <a:pt x="213" y="38"/>
                </a:lnTo>
                <a:lnTo>
                  <a:pt x="242" y="33"/>
                </a:lnTo>
                <a:lnTo>
                  <a:pt x="270" y="25"/>
                </a:lnTo>
                <a:lnTo>
                  <a:pt x="297" y="19"/>
                </a:lnTo>
                <a:lnTo>
                  <a:pt x="324" y="15"/>
                </a:lnTo>
                <a:lnTo>
                  <a:pt x="349" y="10"/>
                </a:lnTo>
                <a:lnTo>
                  <a:pt x="372" y="8"/>
                </a:lnTo>
                <a:lnTo>
                  <a:pt x="395" y="4"/>
                </a:lnTo>
                <a:lnTo>
                  <a:pt x="418" y="2"/>
                </a:lnTo>
                <a:lnTo>
                  <a:pt x="437" y="0"/>
                </a:lnTo>
                <a:lnTo>
                  <a:pt x="457" y="0"/>
                </a:lnTo>
                <a:lnTo>
                  <a:pt x="474" y="0"/>
                </a:lnTo>
                <a:lnTo>
                  <a:pt x="491" y="0"/>
                </a:lnTo>
                <a:lnTo>
                  <a:pt x="506" y="0"/>
                </a:lnTo>
                <a:lnTo>
                  <a:pt x="520" y="2"/>
                </a:lnTo>
                <a:lnTo>
                  <a:pt x="533" y="2"/>
                </a:lnTo>
                <a:lnTo>
                  <a:pt x="543" y="4"/>
                </a:lnTo>
                <a:lnTo>
                  <a:pt x="554" y="8"/>
                </a:lnTo>
                <a:lnTo>
                  <a:pt x="560" y="12"/>
                </a:lnTo>
                <a:lnTo>
                  <a:pt x="566" y="15"/>
                </a:lnTo>
                <a:lnTo>
                  <a:pt x="572" y="21"/>
                </a:lnTo>
                <a:lnTo>
                  <a:pt x="576" y="25"/>
                </a:lnTo>
                <a:lnTo>
                  <a:pt x="579" y="31"/>
                </a:lnTo>
                <a:lnTo>
                  <a:pt x="583" y="35"/>
                </a:lnTo>
                <a:lnTo>
                  <a:pt x="585" y="38"/>
                </a:lnTo>
                <a:lnTo>
                  <a:pt x="587" y="44"/>
                </a:lnTo>
                <a:lnTo>
                  <a:pt x="589" y="48"/>
                </a:lnTo>
                <a:lnTo>
                  <a:pt x="589" y="54"/>
                </a:lnTo>
                <a:lnTo>
                  <a:pt x="589" y="58"/>
                </a:lnTo>
                <a:lnTo>
                  <a:pt x="589" y="61"/>
                </a:lnTo>
                <a:lnTo>
                  <a:pt x="587" y="67"/>
                </a:lnTo>
                <a:lnTo>
                  <a:pt x="585" y="71"/>
                </a:lnTo>
                <a:lnTo>
                  <a:pt x="581" y="77"/>
                </a:lnTo>
                <a:lnTo>
                  <a:pt x="577" y="81"/>
                </a:lnTo>
                <a:lnTo>
                  <a:pt x="572" y="84"/>
                </a:lnTo>
                <a:lnTo>
                  <a:pt x="566" y="90"/>
                </a:lnTo>
                <a:lnTo>
                  <a:pt x="558" y="94"/>
                </a:lnTo>
                <a:lnTo>
                  <a:pt x="549" y="100"/>
                </a:lnTo>
                <a:lnTo>
                  <a:pt x="537" y="104"/>
                </a:lnTo>
                <a:lnTo>
                  <a:pt x="526" y="108"/>
                </a:lnTo>
                <a:lnTo>
                  <a:pt x="512" y="111"/>
                </a:lnTo>
                <a:lnTo>
                  <a:pt x="497" y="117"/>
                </a:lnTo>
                <a:lnTo>
                  <a:pt x="482" y="121"/>
                </a:lnTo>
                <a:lnTo>
                  <a:pt x="464" y="125"/>
                </a:lnTo>
                <a:lnTo>
                  <a:pt x="447" y="127"/>
                </a:lnTo>
                <a:lnTo>
                  <a:pt x="426" y="131"/>
                </a:lnTo>
                <a:lnTo>
                  <a:pt x="407" y="134"/>
                </a:lnTo>
                <a:lnTo>
                  <a:pt x="384" y="138"/>
                </a:lnTo>
                <a:lnTo>
                  <a:pt x="361" y="140"/>
                </a:lnTo>
                <a:lnTo>
                  <a:pt x="338" y="144"/>
                </a:lnTo>
                <a:lnTo>
                  <a:pt x="313" y="148"/>
                </a:lnTo>
                <a:lnTo>
                  <a:pt x="290" y="152"/>
                </a:lnTo>
                <a:lnTo>
                  <a:pt x="267" y="155"/>
                </a:lnTo>
                <a:lnTo>
                  <a:pt x="247" y="159"/>
                </a:lnTo>
                <a:lnTo>
                  <a:pt x="226" y="163"/>
                </a:lnTo>
                <a:lnTo>
                  <a:pt x="209" y="165"/>
                </a:lnTo>
                <a:lnTo>
                  <a:pt x="192" y="169"/>
                </a:lnTo>
                <a:lnTo>
                  <a:pt x="176" y="171"/>
                </a:lnTo>
                <a:lnTo>
                  <a:pt x="161" y="173"/>
                </a:lnTo>
                <a:lnTo>
                  <a:pt x="147" y="175"/>
                </a:lnTo>
                <a:lnTo>
                  <a:pt x="136" y="177"/>
                </a:lnTo>
                <a:lnTo>
                  <a:pt x="124" y="177"/>
                </a:lnTo>
                <a:lnTo>
                  <a:pt x="117" y="179"/>
                </a:lnTo>
                <a:lnTo>
                  <a:pt x="107" y="179"/>
                </a:lnTo>
                <a:lnTo>
                  <a:pt x="101" y="179"/>
                </a:lnTo>
                <a:lnTo>
                  <a:pt x="96" y="180"/>
                </a:lnTo>
                <a:lnTo>
                  <a:pt x="86" y="179"/>
                </a:lnTo>
                <a:lnTo>
                  <a:pt x="78" y="177"/>
                </a:lnTo>
                <a:lnTo>
                  <a:pt x="69" y="175"/>
                </a:lnTo>
                <a:lnTo>
                  <a:pt x="61" y="171"/>
                </a:lnTo>
                <a:lnTo>
                  <a:pt x="53" y="167"/>
                </a:lnTo>
                <a:lnTo>
                  <a:pt x="48" y="163"/>
                </a:lnTo>
                <a:lnTo>
                  <a:pt x="42" y="159"/>
                </a:lnTo>
                <a:lnTo>
                  <a:pt x="36" y="155"/>
                </a:lnTo>
                <a:lnTo>
                  <a:pt x="28" y="150"/>
                </a:lnTo>
                <a:lnTo>
                  <a:pt x="21" y="146"/>
                </a:lnTo>
                <a:lnTo>
                  <a:pt x="15" y="140"/>
                </a:lnTo>
                <a:lnTo>
                  <a:pt x="9" y="136"/>
                </a:lnTo>
                <a:lnTo>
                  <a:pt x="5" y="132"/>
                </a:lnTo>
                <a:lnTo>
                  <a:pt x="2" y="127"/>
                </a:lnTo>
                <a:lnTo>
                  <a:pt x="0" y="123"/>
                </a:lnTo>
                <a:lnTo>
                  <a:pt x="0" y="119"/>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Freeform 35"/>
          <p:cNvSpPr/>
          <p:nvPr/>
        </p:nvSpPr>
        <p:spPr>
          <a:xfrm>
            <a:off x="6438960" y="3440160"/>
            <a:ext cx="811080" cy="173160"/>
          </a:xfrm>
          <a:custGeom>
            <a:avLst/>
            <a:gdLst/>
            <a:ahLst/>
            <a:rect l="l" t="t" r="r" b="b"/>
            <a:pathLst>
              <a:path w="1023" h="217">
                <a:moveTo>
                  <a:pt x="820" y="123"/>
                </a:moveTo>
                <a:lnTo>
                  <a:pt x="806" y="125"/>
                </a:lnTo>
                <a:lnTo>
                  <a:pt x="793" y="127"/>
                </a:lnTo>
                <a:lnTo>
                  <a:pt x="778" y="131"/>
                </a:lnTo>
                <a:lnTo>
                  <a:pt x="762" y="133"/>
                </a:lnTo>
                <a:lnTo>
                  <a:pt x="743" y="135"/>
                </a:lnTo>
                <a:lnTo>
                  <a:pt x="724" y="138"/>
                </a:lnTo>
                <a:lnTo>
                  <a:pt x="703" y="140"/>
                </a:lnTo>
                <a:lnTo>
                  <a:pt x="680" y="144"/>
                </a:lnTo>
                <a:lnTo>
                  <a:pt x="655" y="148"/>
                </a:lnTo>
                <a:lnTo>
                  <a:pt x="630" y="152"/>
                </a:lnTo>
                <a:lnTo>
                  <a:pt x="601" y="156"/>
                </a:lnTo>
                <a:lnTo>
                  <a:pt x="570" y="162"/>
                </a:lnTo>
                <a:lnTo>
                  <a:pt x="540" y="165"/>
                </a:lnTo>
                <a:lnTo>
                  <a:pt x="505" y="171"/>
                </a:lnTo>
                <a:lnTo>
                  <a:pt x="488" y="175"/>
                </a:lnTo>
                <a:lnTo>
                  <a:pt x="471" y="179"/>
                </a:lnTo>
                <a:lnTo>
                  <a:pt x="451" y="181"/>
                </a:lnTo>
                <a:lnTo>
                  <a:pt x="434" y="185"/>
                </a:lnTo>
                <a:lnTo>
                  <a:pt x="415" y="188"/>
                </a:lnTo>
                <a:lnTo>
                  <a:pt x="396" y="192"/>
                </a:lnTo>
                <a:lnTo>
                  <a:pt x="378" y="194"/>
                </a:lnTo>
                <a:lnTo>
                  <a:pt x="361" y="198"/>
                </a:lnTo>
                <a:lnTo>
                  <a:pt x="344" y="200"/>
                </a:lnTo>
                <a:lnTo>
                  <a:pt x="327" y="202"/>
                </a:lnTo>
                <a:lnTo>
                  <a:pt x="311" y="204"/>
                </a:lnTo>
                <a:lnTo>
                  <a:pt x="296" y="206"/>
                </a:lnTo>
                <a:lnTo>
                  <a:pt x="280" y="208"/>
                </a:lnTo>
                <a:lnTo>
                  <a:pt x="267" y="210"/>
                </a:lnTo>
                <a:lnTo>
                  <a:pt x="254" y="211"/>
                </a:lnTo>
                <a:lnTo>
                  <a:pt x="238" y="213"/>
                </a:lnTo>
                <a:lnTo>
                  <a:pt x="227" y="213"/>
                </a:lnTo>
                <a:lnTo>
                  <a:pt x="213" y="215"/>
                </a:lnTo>
                <a:lnTo>
                  <a:pt x="202" y="215"/>
                </a:lnTo>
                <a:lnTo>
                  <a:pt x="190" y="215"/>
                </a:lnTo>
                <a:lnTo>
                  <a:pt x="179" y="217"/>
                </a:lnTo>
                <a:lnTo>
                  <a:pt x="169" y="217"/>
                </a:lnTo>
                <a:lnTo>
                  <a:pt x="158" y="217"/>
                </a:lnTo>
                <a:lnTo>
                  <a:pt x="150" y="217"/>
                </a:lnTo>
                <a:lnTo>
                  <a:pt x="140" y="217"/>
                </a:lnTo>
                <a:lnTo>
                  <a:pt x="131" y="217"/>
                </a:lnTo>
                <a:lnTo>
                  <a:pt x="123" y="217"/>
                </a:lnTo>
                <a:lnTo>
                  <a:pt x="115" y="217"/>
                </a:lnTo>
                <a:lnTo>
                  <a:pt x="110" y="215"/>
                </a:lnTo>
                <a:lnTo>
                  <a:pt x="102" y="215"/>
                </a:lnTo>
                <a:lnTo>
                  <a:pt x="96" y="215"/>
                </a:lnTo>
                <a:lnTo>
                  <a:pt x="90" y="213"/>
                </a:lnTo>
                <a:lnTo>
                  <a:pt x="85" y="213"/>
                </a:lnTo>
                <a:lnTo>
                  <a:pt x="81" y="211"/>
                </a:lnTo>
                <a:lnTo>
                  <a:pt x="77" y="211"/>
                </a:lnTo>
                <a:lnTo>
                  <a:pt x="73" y="210"/>
                </a:lnTo>
                <a:lnTo>
                  <a:pt x="64" y="208"/>
                </a:lnTo>
                <a:lnTo>
                  <a:pt x="56" y="206"/>
                </a:lnTo>
                <a:lnTo>
                  <a:pt x="48" y="202"/>
                </a:lnTo>
                <a:lnTo>
                  <a:pt x="41" y="200"/>
                </a:lnTo>
                <a:lnTo>
                  <a:pt x="35" y="198"/>
                </a:lnTo>
                <a:lnTo>
                  <a:pt x="29" y="194"/>
                </a:lnTo>
                <a:lnTo>
                  <a:pt x="23" y="192"/>
                </a:lnTo>
                <a:lnTo>
                  <a:pt x="17" y="190"/>
                </a:lnTo>
                <a:lnTo>
                  <a:pt x="14" y="186"/>
                </a:lnTo>
                <a:lnTo>
                  <a:pt x="10" y="183"/>
                </a:lnTo>
                <a:lnTo>
                  <a:pt x="8" y="181"/>
                </a:lnTo>
                <a:lnTo>
                  <a:pt x="4" y="177"/>
                </a:lnTo>
                <a:lnTo>
                  <a:pt x="2" y="173"/>
                </a:lnTo>
                <a:lnTo>
                  <a:pt x="2" y="169"/>
                </a:lnTo>
                <a:lnTo>
                  <a:pt x="0" y="165"/>
                </a:lnTo>
                <a:lnTo>
                  <a:pt x="0" y="162"/>
                </a:lnTo>
                <a:lnTo>
                  <a:pt x="0" y="156"/>
                </a:lnTo>
                <a:lnTo>
                  <a:pt x="2" y="152"/>
                </a:lnTo>
                <a:lnTo>
                  <a:pt x="6" y="148"/>
                </a:lnTo>
                <a:lnTo>
                  <a:pt x="12" y="144"/>
                </a:lnTo>
                <a:lnTo>
                  <a:pt x="17" y="140"/>
                </a:lnTo>
                <a:lnTo>
                  <a:pt x="25" y="138"/>
                </a:lnTo>
                <a:lnTo>
                  <a:pt x="31" y="137"/>
                </a:lnTo>
                <a:lnTo>
                  <a:pt x="37" y="137"/>
                </a:lnTo>
                <a:lnTo>
                  <a:pt x="42" y="137"/>
                </a:lnTo>
                <a:lnTo>
                  <a:pt x="48" y="137"/>
                </a:lnTo>
                <a:lnTo>
                  <a:pt x="52" y="135"/>
                </a:lnTo>
                <a:lnTo>
                  <a:pt x="56" y="135"/>
                </a:lnTo>
                <a:lnTo>
                  <a:pt x="62" y="135"/>
                </a:lnTo>
                <a:lnTo>
                  <a:pt x="67" y="135"/>
                </a:lnTo>
                <a:lnTo>
                  <a:pt x="73" y="135"/>
                </a:lnTo>
                <a:lnTo>
                  <a:pt x="79" y="133"/>
                </a:lnTo>
                <a:lnTo>
                  <a:pt x="87" y="133"/>
                </a:lnTo>
                <a:lnTo>
                  <a:pt x="94" y="131"/>
                </a:lnTo>
                <a:lnTo>
                  <a:pt x="102" y="131"/>
                </a:lnTo>
                <a:lnTo>
                  <a:pt x="112" y="129"/>
                </a:lnTo>
                <a:lnTo>
                  <a:pt x="121" y="127"/>
                </a:lnTo>
                <a:lnTo>
                  <a:pt x="131" y="125"/>
                </a:lnTo>
                <a:lnTo>
                  <a:pt x="142" y="123"/>
                </a:lnTo>
                <a:lnTo>
                  <a:pt x="154" y="121"/>
                </a:lnTo>
                <a:lnTo>
                  <a:pt x="165" y="119"/>
                </a:lnTo>
                <a:lnTo>
                  <a:pt x="179" y="117"/>
                </a:lnTo>
                <a:lnTo>
                  <a:pt x="192" y="115"/>
                </a:lnTo>
                <a:lnTo>
                  <a:pt x="206" y="112"/>
                </a:lnTo>
                <a:lnTo>
                  <a:pt x="219" y="110"/>
                </a:lnTo>
                <a:lnTo>
                  <a:pt x="234" y="108"/>
                </a:lnTo>
                <a:lnTo>
                  <a:pt x="252" y="104"/>
                </a:lnTo>
                <a:lnTo>
                  <a:pt x="267" y="100"/>
                </a:lnTo>
                <a:lnTo>
                  <a:pt x="284" y="98"/>
                </a:lnTo>
                <a:lnTo>
                  <a:pt x="302" y="94"/>
                </a:lnTo>
                <a:lnTo>
                  <a:pt x="321" y="91"/>
                </a:lnTo>
                <a:lnTo>
                  <a:pt x="340" y="87"/>
                </a:lnTo>
                <a:lnTo>
                  <a:pt x="359" y="83"/>
                </a:lnTo>
                <a:lnTo>
                  <a:pt x="380" y="79"/>
                </a:lnTo>
                <a:lnTo>
                  <a:pt x="401" y="75"/>
                </a:lnTo>
                <a:lnTo>
                  <a:pt x="424" y="71"/>
                </a:lnTo>
                <a:lnTo>
                  <a:pt x="446" y="66"/>
                </a:lnTo>
                <a:lnTo>
                  <a:pt x="471" y="62"/>
                </a:lnTo>
                <a:lnTo>
                  <a:pt x="492" y="58"/>
                </a:lnTo>
                <a:lnTo>
                  <a:pt x="515" y="54"/>
                </a:lnTo>
                <a:lnTo>
                  <a:pt x="536" y="52"/>
                </a:lnTo>
                <a:lnTo>
                  <a:pt x="557" y="48"/>
                </a:lnTo>
                <a:lnTo>
                  <a:pt x="576" y="44"/>
                </a:lnTo>
                <a:lnTo>
                  <a:pt x="595" y="43"/>
                </a:lnTo>
                <a:lnTo>
                  <a:pt x="615" y="39"/>
                </a:lnTo>
                <a:lnTo>
                  <a:pt x="634" y="37"/>
                </a:lnTo>
                <a:lnTo>
                  <a:pt x="653" y="33"/>
                </a:lnTo>
                <a:lnTo>
                  <a:pt x="670" y="31"/>
                </a:lnTo>
                <a:lnTo>
                  <a:pt x="687" y="29"/>
                </a:lnTo>
                <a:lnTo>
                  <a:pt x="705" y="25"/>
                </a:lnTo>
                <a:lnTo>
                  <a:pt x="720" y="23"/>
                </a:lnTo>
                <a:lnTo>
                  <a:pt x="735" y="21"/>
                </a:lnTo>
                <a:lnTo>
                  <a:pt x="751" y="20"/>
                </a:lnTo>
                <a:lnTo>
                  <a:pt x="766" y="18"/>
                </a:lnTo>
                <a:lnTo>
                  <a:pt x="780" y="16"/>
                </a:lnTo>
                <a:lnTo>
                  <a:pt x="793" y="14"/>
                </a:lnTo>
                <a:lnTo>
                  <a:pt x="806" y="12"/>
                </a:lnTo>
                <a:lnTo>
                  <a:pt x="820" y="10"/>
                </a:lnTo>
                <a:lnTo>
                  <a:pt x="831" y="8"/>
                </a:lnTo>
                <a:lnTo>
                  <a:pt x="843" y="8"/>
                </a:lnTo>
                <a:lnTo>
                  <a:pt x="854" y="6"/>
                </a:lnTo>
                <a:lnTo>
                  <a:pt x="864" y="4"/>
                </a:lnTo>
                <a:lnTo>
                  <a:pt x="874" y="4"/>
                </a:lnTo>
                <a:lnTo>
                  <a:pt x="883" y="2"/>
                </a:lnTo>
                <a:lnTo>
                  <a:pt x="891" y="2"/>
                </a:lnTo>
                <a:lnTo>
                  <a:pt x="901" y="2"/>
                </a:lnTo>
                <a:lnTo>
                  <a:pt x="906" y="0"/>
                </a:lnTo>
                <a:lnTo>
                  <a:pt x="914" y="0"/>
                </a:lnTo>
                <a:lnTo>
                  <a:pt x="920" y="0"/>
                </a:lnTo>
                <a:lnTo>
                  <a:pt x="927" y="0"/>
                </a:lnTo>
                <a:lnTo>
                  <a:pt x="937" y="0"/>
                </a:lnTo>
                <a:lnTo>
                  <a:pt x="949" y="0"/>
                </a:lnTo>
                <a:lnTo>
                  <a:pt x="958" y="2"/>
                </a:lnTo>
                <a:lnTo>
                  <a:pt x="968" y="2"/>
                </a:lnTo>
                <a:lnTo>
                  <a:pt x="975" y="4"/>
                </a:lnTo>
                <a:lnTo>
                  <a:pt x="983" y="6"/>
                </a:lnTo>
                <a:lnTo>
                  <a:pt x="991" y="8"/>
                </a:lnTo>
                <a:lnTo>
                  <a:pt x="998" y="10"/>
                </a:lnTo>
                <a:lnTo>
                  <a:pt x="1004" y="12"/>
                </a:lnTo>
                <a:lnTo>
                  <a:pt x="1008" y="16"/>
                </a:lnTo>
                <a:lnTo>
                  <a:pt x="1014" y="18"/>
                </a:lnTo>
                <a:lnTo>
                  <a:pt x="1018" y="21"/>
                </a:lnTo>
                <a:lnTo>
                  <a:pt x="1020" y="25"/>
                </a:lnTo>
                <a:lnTo>
                  <a:pt x="1021" y="29"/>
                </a:lnTo>
                <a:lnTo>
                  <a:pt x="1023" y="33"/>
                </a:lnTo>
                <a:lnTo>
                  <a:pt x="1023" y="37"/>
                </a:lnTo>
                <a:lnTo>
                  <a:pt x="1023" y="44"/>
                </a:lnTo>
                <a:lnTo>
                  <a:pt x="1023" y="50"/>
                </a:lnTo>
                <a:lnTo>
                  <a:pt x="1021" y="56"/>
                </a:lnTo>
                <a:lnTo>
                  <a:pt x="1021" y="60"/>
                </a:lnTo>
                <a:lnTo>
                  <a:pt x="1018" y="69"/>
                </a:lnTo>
                <a:lnTo>
                  <a:pt x="1012" y="77"/>
                </a:lnTo>
                <a:lnTo>
                  <a:pt x="1006" y="83"/>
                </a:lnTo>
                <a:lnTo>
                  <a:pt x="1002" y="87"/>
                </a:lnTo>
                <a:lnTo>
                  <a:pt x="998" y="89"/>
                </a:lnTo>
                <a:lnTo>
                  <a:pt x="993" y="92"/>
                </a:lnTo>
                <a:lnTo>
                  <a:pt x="987" y="94"/>
                </a:lnTo>
                <a:lnTo>
                  <a:pt x="981" y="96"/>
                </a:lnTo>
                <a:lnTo>
                  <a:pt x="975" y="98"/>
                </a:lnTo>
                <a:lnTo>
                  <a:pt x="968" y="100"/>
                </a:lnTo>
                <a:lnTo>
                  <a:pt x="962" y="102"/>
                </a:lnTo>
                <a:lnTo>
                  <a:pt x="952" y="106"/>
                </a:lnTo>
                <a:lnTo>
                  <a:pt x="943" y="108"/>
                </a:lnTo>
                <a:lnTo>
                  <a:pt x="935" y="110"/>
                </a:lnTo>
                <a:lnTo>
                  <a:pt x="929" y="110"/>
                </a:lnTo>
                <a:lnTo>
                  <a:pt x="924" y="110"/>
                </a:lnTo>
                <a:lnTo>
                  <a:pt x="920" y="112"/>
                </a:lnTo>
                <a:lnTo>
                  <a:pt x="916" y="112"/>
                </a:lnTo>
                <a:lnTo>
                  <a:pt x="910" y="112"/>
                </a:lnTo>
                <a:lnTo>
                  <a:pt x="902" y="112"/>
                </a:lnTo>
                <a:lnTo>
                  <a:pt x="899" y="112"/>
                </a:lnTo>
                <a:lnTo>
                  <a:pt x="895" y="112"/>
                </a:lnTo>
                <a:lnTo>
                  <a:pt x="889" y="112"/>
                </a:lnTo>
                <a:lnTo>
                  <a:pt x="885" y="112"/>
                </a:lnTo>
                <a:lnTo>
                  <a:pt x="879" y="114"/>
                </a:lnTo>
                <a:lnTo>
                  <a:pt x="872" y="114"/>
                </a:lnTo>
                <a:lnTo>
                  <a:pt x="866" y="115"/>
                </a:lnTo>
                <a:lnTo>
                  <a:pt x="856" y="115"/>
                </a:lnTo>
                <a:lnTo>
                  <a:pt x="849" y="117"/>
                </a:lnTo>
                <a:lnTo>
                  <a:pt x="839" y="119"/>
                </a:lnTo>
                <a:lnTo>
                  <a:pt x="830" y="121"/>
                </a:lnTo>
                <a:lnTo>
                  <a:pt x="820" y="123"/>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Freeform 36"/>
          <p:cNvSpPr/>
          <p:nvPr/>
        </p:nvSpPr>
        <p:spPr>
          <a:xfrm>
            <a:off x="6216480" y="3957480"/>
            <a:ext cx="986040" cy="914400"/>
          </a:xfrm>
          <a:custGeom>
            <a:avLst/>
            <a:gdLst/>
            <a:ahLst/>
            <a:rect l="l" t="t" r="r" b="b"/>
            <a:pathLst>
              <a:path w="1242" h="1151">
                <a:moveTo>
                  <a:pt x="255" y="1109"/>
                </a:moveTo>
                <a:lnTo>
                  <a:pt x="238" y="1113"/>
                </a:lnTo>
                <a:lnTo>
                  <a:pt x="224" y="1117"/>
                </a:lnTo>
                <a:lnTo>
                  <a:pt x="209" y="1119"/>
                </a:lnTo>
                <a:lnTo>
                  <a:pt x="196" y="1123"/>
                </a:lnTo>
                <a:lnTo>
                  <a:pt x="182" y="1124"/>
                </a:lnTo>
                <a:lnTo>
                  <a:pt x="169" y="1128"/>
                </a:lnTo>
                <a:lnTo>
                  <a:pt x="155" y="1130"/>
                </a:lnTo>
                <a:lnTo>
                  <a:pt x="144" y="1132"/>
                </a:lnTo>
                <a:lnTo>
                  <a:pt x="132" y="1134"/>
                </a:lnTo>
                <a:lnTo>
                  <a:pt x="121" y="1136"/>
                </a:lnTo>
                <a:lnTo>
                  <a:pt x="111" y="1138"/>
                </a:lnTo>
                <a:lnTo>
                  <a:pt x="100" y="1140"/>
                </a:lnTo>
                <a:lnTo>
                  <a:pt x="90" y="1142"/>
                </a:lnTo>
                <a:lnTo>
                  <a:pt x="82" y="1144"/>
                </a:lnTo>
                <a:lnTo>
                  <a:pt x="73" y="1146"/>
                </a:lnTo>
                <a:lnTo>
                  <a:pt x="65" y="1146"/>
                </a:lnTo>
                <a:lnTo>
                  <a:pt x="57" y="1147"/>
                </a:lnTo>
                <a:lnTo>
                  <a:pt x="50" y="1147"/>
                </a:lnTo>
                <a:lnTo>
                  <a:pt x="44" y="1149"/>
                </a:lnTo>
                <a:lnTo>
                  <a:pt x="38" y="1149"/>
                </a:lnTo>
                <a:lnTo>
                  <a:pt x="32" y="1149"/>
                </a:lnTo>
                <a:lnTo>
                  <a:pt x="27" y="1149"/>
                </a:lnTo>
                <a:lnTo>
                  <a:pt x="21" y="1151"/>
                </a:lnTo>
                <a:lnTo>
                  <a:pt x="17" y="1151"/>
                </a:lnTo>
                <a:lnTo>
                  <a:pt x="13" y="1149"/>
                </a:lnTo>
                <a:lnTo>
                  <a:pt x="11" y="1149"/>
                </a:lnTo>
                <a:lnTo>
                  <a:pt x="8" y="1149"/>
                </a:lnTo>
                <a:lnTo>
                  <a:pt x="6" y="1149"/>
                </a:lnTo>
                <a:lnTo>
                  <a:pt x="4" y="1149"/>
                </a:lnTo>
                <a:lnTo>
                  <a:pt x="4" y="1147"/>
                </a:lnTo>
                <a:lnTo>
                  <a:pt x="2" y="1147"/>
                </a:lnTo>
                <a:lnTo>
                  <a:pt x="2" y="1146"/>
                </a:lnTo>
                <a:lnTo>
                  <a:pt x="2" y="1144"/>
                </a:lnTo>
                <a:lnTo>
                  <a:pt x="0" y="1144"/>
                </a:lnTo>
                <a:lnTo>
                  <a:pt x="0" y="1142"/>
                </a:lnTo>
                <a:lnTo>
                  <a:pt x="2" y="1140"/>
                </a:lnTo>
                <a:lnTo>
                  <a:pt x="2" y="1138"/>
                </a:lnTo>
                <a:lnTo>
                  <a:pt x="4" y="1136"/>
                </a:lnTo>
                <a:lnTo>
                  <a:pt x="6" y="1132"/>
                </a:lnTo>
                <a:lnTo>
                  <a:pt x="9" y="1130"/>
                </a:lnTo>
                <a:lnTo>
                  <a:pt x="11" y="1128"/>
                </a:lnTo>
                <a:lnTo>
                  <a:pt x="15" y="1124"/>
                </a:lnTo>
                <a:lnTo>
                  <a:pt x="19" y="1121"/>
                </a:lnTo>
                <a:lnTo>
                  <a:pt x="25" y="1119"/>
                </a:lnTo>
                <a:lnTo>
                  <a:pt x="29" y="1115"/>
                </a:lnTo>
                <a:lnTo>
                  <a:pt x="34" y="1111"/>
                </a:lnTo>
                <a:lnTo>
                  <a:pt x="40" y="1107"/>
                </a:lnTo>
                <a:lnTo>
                  <a:pt x="48" y="1103"/>
                </a:lnTo>
                <a:lnTo>
                  <a:pt x="54" y="1099"/>
                </a:lnTo>
                <a:lnTo>
                  <a:pt x="61" y="1096"/>
                </a:lnTo>
                <a:lnTo>
                  <a:pt x="69" y="1090"/>
                </a:lnTo>
                <a:lnTo>
                  <a:pt x="79" y="1086"/>
                </a:lnTo>
                <a:lnTo>
                  <a:pt x="88" y="1082"/>
                </a:lnTo>
                <a:lnTo>
                  <a:pt x="96" y="1076"/>
                </a:lnTo>
                <a:lnTo>
                  <a:pt x="107" y="1073"/>
                </a:lnTo>
                <a:lnTo>
                  <a:pt x="117" y="1067"/>
                </a:lnTo>
                <a:lnTo>
                  <a:pt x="128" y="1061"/>
                </a:lnTo>
                <a:lnTo>
                  <a:pt x="140" y="1055"/>
                </a:lnTo>
                <a:lnTo>
                  <a:pt x="151" y="1052"/>
                </a:lnTo>
                <a:lnTo>
                  <a:pt x="165" y="1046"/>
                </a:lnTo>
                <a:lnTo>
                  <a:pt x="176" y="1040"/>
                </a:lnTo>
                <a:lnTo>
                  <a:pt x="190" y="1034"/>
                </a:lnTo>
                <a:lnTo>
                  <a:pt x="205" y="1028"/>
                </a:lnTo>
                <a:lnTo>
                  <a:pt x="219" y="1023"/>
                </a:lnTo>
                <a:lnTo>
                  <a:pt x="246" y="1011"/>
                </a:lnTo>
                <a:lnTo>
                  <a:pt x="272" y="998"/>
                </a:lnTo>
                <a:lnTo>
                  <a:pt x="299" y="984"/>
                </a:lnTo>
                <a:lnTo>
                  <a:pt x="324" y="969"/>
                </a:lnTo>
                <a:lnTo>
                  <a:pt x="351" y="956"/>
                </a:lnTo>
                <a:lnTo>
                  <a:pt x="376" y="938"/>
                </a:lnTo>
                <a:lnTo>
                  <a:pt x="403" y="923"/>
                </a:lnTo>
                <a:lnTo>
                  <a:pt x="428" y="904"/>
                </a:lnTo>
                <a:lnTo>
                  <a:pt x="453" y="886"/>
                </a:lnTo>
                <a:lnTo>
                  <a:pt x="478" y="867"/>
                </a:lnTo>
                <a:lnTo>
                  <a:pt x="503" y="848"/>
                </a:lnTo>
                <a:lnTo>
                  <a:pt x="528" y="827"/>
                </a:lnTo>
                <a:lnTo>
                  <a:pt x="553" y="806"/>
                </a:lnTo>
                <a:lnTo>
                  <a:pt x="578" y="785"/>
                </a:lnTo>
                <a:lnTo>
                  <a:pt x="603" y="764"/>
                </a:lnTo>
                <a:lnTo>
                  <a:pt x="628" y="741"/>
                </a:lnTo>
                <a:lnTo>
                  <a:pt x="649" y="716"/>
                </a:lnTo>
                <a:lnTo>
                  <a:pt x="670" y="693"/>
                </a:lnTo>
                <a:lnTo>
                  <a:pt x="691" y="670"/>
                </a:lnTo>
                <a:lnTo>
                  <a:pt x="710" y="647"/>
                </a:lnTo>
                <a:lnTo>
                  <a:pt x="729" y="624"/>
                </a:lnTo>
                <a:lnTo>
                  <a:pt x="747" y="601"/>
                </a:lnTo>
                <a:lnTo>
                  <a:pt x="764" y="577"/>
                </a:lnTo>
                <a:lnTo>
                  <a:pt x="781" y="554"/>
                </a:lnTo>
                <a:lnTo>
                  <a:pt x="797" y="531"/>
                </a:lnTo>
                <a:lnTo>
                  <a:pt x="810" y="508"/>
                </a:lnTo>
                <a:lnTo>
                  <a:pt x="825" y="485"/>
                </a:lnTo>
                <a:lnTo>
                  <a:pt x="837" y="462"/>
                </a:lnTo>
                <a:lnTo>
                  <a:pt x="850" y="439"/>
                </a:lnTo>
                <a:lnTo>
                  <a:pt x="860" y="416"/>
                </a:lnTo>
                <a:lnTo>
                  <a:pt x="871" y="393"/>
                </a:lnTo>
                <a:lnTo>
                  <a:pt x="881" y="370"/>
                </a:lnTo>
                <a:lnTo>
                  <a:pt x="889" y="349"/>
                </a:lnTo>
                <a:lnTo>
                  <a:pt x="896" y="330"/>
                </a:lnTo>
                <a:lnTo>
                  <a:pt x="904" y="313"/>
                </a:lnTo>
                <a:lnTo>
                  <a:pt x="912" y="293"/>
                </a:lnTo>
                <a:lnTo>
                  <a:pt x="917" y="278"/>
                </a:lnTo>
                <a:lnTo>
                  <a:pt x="923" y="263"/>
                </a:lnTo>
                <a:lnTo>
                  <a:pt x="927" y="247"/>
                </a:lnTo>
                <a:lnTo>
                  <a:pt x="933" y="234"/>
                </a:lnTo>
                <a:lnTo>
                  <a:pt x="937" y="222"/>
                </a:lnTo>
                <a:lnTo>
                  <a:pt x="939" y="211"/>
                </a:lnTo>
                <a:lnTo>
                  <a:pt x="941" y="201"/>
                </a:lnTo>
                <a:lnTo>
                  <a:pt x="942" y="194"/>
                </a:lnTo>
                <a:lnTo>
                  <a:pt x="942" y="186"/>
                </a:lnTo>
                <a:lnTo>
                  <a:pt x="942" y="180"/>
                </a:lnTo>
                <a:lnTo>
                  <a:pt x="942" y="176"/>
                </a:lnTo>
                <a:lnTo>
                  <a:pt x="941" y="173"/>
                </a:lnTo>
                <a:lnTo>
                  <a:pt x="937" y="171"/>
                </a:lnTo>
                <a:lnTo>
                  <a:pt x="933" y="169"/>
                </a:lnTo>
                <a:lnTo>
                  <a:pt x="925" y="169"/>
                </a:lnTo>
                <a:lnTo>
                  <a:pt x="917" y="169"/>
                </a:lnTo>
                <a:lnTo>
                  <a:pt x="908" y="169"/>
                </a:lnTo>
                <a:lnTo>
                  <a:pt x="898" y="169"/>
                </a:lnTo>
                <a:lnTo>
                  <a:pt x="885" y="171"/>
                </a:lnTo>
                <a:lnTo>
                  <a:pt x="871" y="173"/>
                </a:lnTo>
                <a:lnTo>
                  <a:pt x="856" y="174"/>
                </a:lnTo>
                <a:lnTo>
                  <a:pt x="839" y="178"/>
                </a:lnTo>
                <a:lnTo>
                  <a:pt x="821" y="182"/>
                </a:lnTo>
                <a:lnTo>
                  <a:pt x="800" y="186"/>
                </a:lnTo>
                <a:lnTo>
                  <a:pt x="781" y="192"/>
                </a:lnTo>
                <a:lnTo>
                  <a:pt x="758" y="197"/>
                </a:lnTo>
                <a:lnTo>
                  <a:pt x="735" y="203"/>
                </a:lnTo>
                <a:lnTo>
                  <a:pt x="712" y="211"/>
                </a:lnTo>
                <a:lnTo>
                  <a:pt x="687" y="217"/>
                </a:lnTo>
                <a:lnTo>
                  <a:pt x="664" y="222"/>
                </a:lnTo>
                <a:lnTo>
                  <a:pt x="643" y="230"/>
                </a:lnTo>
                <a:lnTo>
                  <a:pt x="622" y="236"/>
                </a:lnTo>
                <a:lnTo>
                  <a:pt x="603" y="242"/>
                </a:lnTo>
                <a:lnTo>
                  <a:pt x="583" y="245"/>
                </a:lnTo>
                <a:lnTo>
                  <a:pt x="566" y="251"/>
                </a:lnTo>
                <a:lnTo>
                  <a:pt x="551" y="255"/>
                </a:lnTo>
                <a:lnTo>
                  <a:pt x="535" y="259"/>
                </a:lnTo>
                <a:lnTo>
                  <a:pt x="524" y="263"/>
                </a:lnTo>
                <a:lnTo>
                  <a:pt x="510" y="265"/>
                </a:lnTo>
                <a:lnTo>
                  <a:pt x="501" y="267"/>
                </a:lnTo>
                <a:lnTo>
                  <a:pt x="491" y="269"/>
                </a:lnTo>
                <a:lnTo>
                  <a:pt x="484" y="270"/>
                </a:lnTo>
                <a:lnTo>
                  <a:pt x="476" y="270"/>
                </a:lnTo>
                <a:lnTo>
                  <a:pt x="472" y="272"/>
                </a:lnTo>
                <a:lnTo>
                  <a:pt x="462" y="270"/>
                </a:lnTo>
                <a:lnTo>
                  <a:pt x="453" y="269"/>
                </a:lnTo>
                <a:lnTo>
                  <a:pt x="443" y="265"/>
                </a:lnTo>
                <a:lnTo>
                  <a:pt x="434" y="261"/>
                </a:lnTo>
                <a:lnTo>
                  <a:pt x="422" y="253"/>
                </a:lnTo>
                <a:lnTo>
                  <a:pt x="416" y="249"/>
                </a:lnTo>
                <a:lnTo>
                  <a:pt x="411" y="245"/>
                </a:lnTo>
                <a:lnTo>
                  <a:pt x="405" y="240"/>
                </a:lnTo>
                <a:lnTo>
                  <a:pt x="399" y="236"/>
                </a:lnTo>
                <a:lnTo>
                  <a:pt x="393" y="228"/>
                </a:lnTo>
                <a:lnTo>
                  <a:pt x="388" y="222"/>
                </a:lnTo>
                <a:lnTo>
                  <a:pt x="374" y="213"/>
                </a:lnTo>
                <a:lnTo>
                  <a:pt x="363" y="205"/>
                </a:lnTo>
                <a:lnTo>
                  <a:pt x="357" y="201"/>
                </a:lnTo>
                <a:lnTo>
                  <a:pt x="353" y="199"/>
                </a:lnTo>
                <a:lnTo>
                  <a:pt x="349" y="196"/>
                </a:lnTo>
                <a:lnTo>
                  <a:pt x="345" y="192"/>
                </a:lnTo>
                <a:lnTo>
                  <a:pt x="342" y="190"/>
                </a:lnTo>
                <a:lnTo>
                  <a:pt x="340" y="188"/>
                </a:lnTo>
                <a:lnTo>
                  <a:pt x="338" y="184"/>
                </a:lnTo>
                <a:lnTo>
                  <a:pt x="336" y="182"/>
                </a:lnTo>
                <a:lnTo>
                  <a:pt x="336" y="180"/>
                </a:lnTo>
                <a:lnTo>
                  <a:pt x="336" y="176"/>
                </a:lnTo>
                <a:lnTo>
                  <a:pt x="338" y="174"/>
                </a:lnTo>
                <a:lnTo>
                  <a:pt x="340" y="173"/>
                </a:lnTo>
                <a:lnTo>
                  <a:pt x="342" y="171"/>
                </a:lnTo>
                <a:lnTo>
                  <a:pt x="345" y="169"/>
                </a:lnTo>
                <a:lnTo>
                  <a:pt x="351" y="165"/>
                </a:lnTo>
                <a:lnTo>
                  <a:pt x="359" y="163"/>
                </a:lnTo>
                <a:lnTo>
                  <a:pt x="367" y="161"/>
                </a:lnTo>
                <a:lnTo>
                  <a:pt x="378" y="159"/>
                </a:lnTo>
                <a:lnTo>
                  <a:pt x="390" y="155"/>
                </a:lnTo>
                <a:lnTo>
                  <a:pt x="401" y="153"/>
                </a:lnTo>
                <a:lnTo>
                  <a:pt x="416" y="150"/>
                </a:lnTo>
                <a:lnTo>
                  <a:pt x="432" y="148"/>
                </a:lnTo>
                <a:lnTo>
                  <a:pt x="449" y="144"/>
                </a:lnTo>
                <a:lnTo>
                  <a:pt x="466" y="140"/>
                </a:lnTo>
                <a:lnTo>
                  <a:pt x="487" y="136"/>
                </a:lnTo>
                <a:lnTo>
                  <a:pt x="509" y="132"/>
                </a:lnTo>
                <a:lnTo>
                  <a:pt x="532" y="128"/>
                </a:lnTo>
                <a:lnTo>
                  <a:pt x="555" y="125"/>
                </a:lnTo>
                <a:lnTo>
                  <a:pt x="580" y="119"/>
                </a:lnTo>
                <a:lnTo>
                  <a:pt x="603" y="115"/>
                </a:lnTo>
                <a:lnTo>
                  <a:pt x="626" y="109"/>
                </a:lnTo>
                <a:lnTo>
                  <a:pt x="647" y="105"/>
                </a:lnTo>
                <a:lnTo>
                  <a:pt x="668" y="102"/>
                </a:lnTo>
                <a:lnTo>
                  <a:pt x="689" y="96"/>
                </a:lnTo>
                <a:lnTo>
                  <a:pt x="708" y="92"/>
                </a:lnTo>
                <a:lnTo>
                  <a:pt x="727" y="88"/>
                </a:lnTo>
                <a:lnTo>
                  <a:pt x="745" y="84"/>
                </a:lnTo>
                <a:lnTo>
                  <a:pt x="760" y="80"/>
                </a:lnTo>
                <a:lnTo>
                  <a:pt x="777" y="77"/>
                </a:lnTo>
                <a:lnTo>
                  <a:pt x="793" y="73"/>
                </a:lnTo>
                <a:lnTo>
                  <a:pt x="806" y="71"/>
                </a:lnTo>
                <a:lnTo>
                  <a:pt x="820" y="67"/>
                </a:lnTo>
                <a:lnTo>
                  <a:pt x="831" y="65"/>
                </a:lnTo>
                <a:lnTo>
                  <a:pt x="845" y="63"/>
                </a:lnTo>
                <a:lnTo>
                  <a:pt x="866" y="57"/>
                </a:lnTo>
                <a:lnTo>
                  <a:pt x="887" y="54"/>
                </a:lnTo>
                <a:lnTo>
                  <a:pt x="896" y="50"/>
                </a:lnTo>
                <a:lnTo>
                  <a:pt x="906" y="48"/>
                </a:lnTo>
                <a:lnTo>
                  <a:pt x="914" y="46"/>
                </a:lnTo>
                <a:lnTo>
                  <a:pt x="921" y="44"/>
                </a:lnTo>
                <a:lnTo>
                  <a:pt x="929" y="42"/>
                </a:lnTo>
                <a:lnTo>
                  <a:pt x="937" y="38"/>
                </a:lnTo>
                <a:lnTo>
                  <a:pt x="942" y="36"/>
                </a:lnTo>
                <a:lnTo>
                  <a:pt x="948" y="34"/>
                </a:lnTo>
                <a:lnTo>
                  <a:pt x="954" y="32"/>
                </a:lnTo>
                <a:lnTo>
                  <a:pt x="958" y="29"/>
                </a:lnTo>
                <a:lnTo>
                  <a:pt x="962" y="27"/>
                </a:lnTo>
                <a:lnTo>
                  <a:pt x="965" y="25"/>
                </a:lnTo>
                <a:lnTo>
                  <a:pt x="973" y="15"/>
                </a:lnTo>
                <a:lnTo>
                  <a:pt x="979" y="11"/>
                </a:lnTo>
                <a:lnTo>
                  <a:pt x="985" y="8"/>
                </a:lnTo>
                <a:lnTo>
                  <a:pt x="990" y="4"/>
                </a:lnTo>
                <a:lnTo>
                  <a:pt x="996" y="2"/>
                </a:lnTo>
                <a:lnTo>
                  <a:pt x="1004" y="0"/>
                </a:lnTo>
                <a:lnTo>
                  <a:pt x="1013" y="0"/>
                </a:lnTo>
                <a:lnTo>
                  <a:pt x="1017" y="0"/>
                </a:lnTo>
                <a:lnTo>
                  <a:pt x="1023" y="0"/>
                </a:lnTo>
                <a:lnTo>
                  <a:pt x="1029" y="2"/>
                </a:lnTo>
                <a:lnTo>
                  <a:pt x="1035" y="2"/>
                </a:lnTo>
                <a:lnTo>
                  <a:pt x="1042" y="4"/>
                </a:lnTo>
                <a:lnTo>
                  <a:pt x="1050" y="6"/>
                </a:lnTo>
                <a:lnTo>
                  <a:pt x="1065" y="11"/>
                </a:lnTo>
                <a:lnTo>
                  <a:pt x="1083" y="17"/>
                </a:lnTo>
                <a:lnTo>
                  <a:pt x="1092" y="21"/>
                </a:lnTo>
                <a:lnTo>
                  <a:pt x="1102" y="27"/>
                </a:lnTo>
                <a:lnTo>
                  <a:pt x="1113" y="31"/>
                </a:lnTo>
                <a:lnTo>
                  <a:pt x="1123" y="36"/>
                </a:lnTo>
                <a:lnTo>
                  <a:pt x="1134" y="44"/>
                </a:lnTo>
                <a:lnTo>
                  <a:pt x="1146" y="50"/>
                </a:lnTo>
                <a:lnTo>
                  <a:pt x="1156" y="57"/>
                </a:lnTo>
                <a:lnTo>
                  <a:pt x="1167" y="63"/>
                </a:lnTo>
                <a:lnTo>
                  <a:pt x="1177" y="69"/>
                </a:lnTo>
                <a:lnTo>
                  <a:pt x="1184" y="75"/>
                </a:lnTo>
                <a:lnTo>
                  <a:pt x="1194" y="80"/>
                </a:lnTo>
                <a:lnTo>
                  <a:pt x="1202" y="86"/>
                </a:lnTo>
                <a:lnTo>
                  <a:pt x="1209" y="92"/>
                </a:lnTo>
                <a:lnTo>
                  <a:pt x="1215" y="98"/>
                </a:lnTo>
                <a:lnTo>
                  <a:pt x="1221" y="103"/>
                </a:lnTo>
                <a:lnTo>
                  <a:pt x="1227" y="107"/>
                </a:lnTo>
                <a:lnTo>
                  <a:pt x="1230" y="113"/>
                </a:lnTo>
                <a:lnTo>
                  <a:pt x="1234" y="117"/>
                </a:lnTo>
                <a:lnTo>
                  <a:pt x="1238" y="123"/>
                </a:lnTo>
                <a:lnTo>
                  <a:pt x="1240" y="126"/>
                </a:lnTo>
                <a:lnTo>
                  <a:pt x="1240" y="132"/>
                </a:lnTo>
                <a:lnTo>
                  <a:pt x="1242" y="136"/>
                </a:lnTo>
                <a:lnTo>
                  <a:pt x="1240" y="144"/>
                </a:lnTo>
                <a:lnTo>
                  <a:pt x="1238" y="151"/>
                </a:lnTo>
                <a:lnTo>
                  <a:pt x="1234" y="159"/>
                </a:lnTo>
                <a:lnTo>
                  <a:pt x="1230" y="165"/>
                </a:lnTo>
                <a:lnTo>
                  <a:pt x="1225" y="171"/>
                </a:lnTo>
                <a:lnTo>
                  <a:pt x="1215" y="176"/>
                </a:lnTo>
                <a:lnTo>
                  <a:pt x="1211" y="178"/>
                </a:lnTo>
                <a:lnTo>
                  <a:pt x="1205" y="180"/>
                </a:lnTo>
                <a:lnTo>
                  <a:pt x="1200" y="182"/>
                </a:lnTo>
                <a:lnTo>
                  <a:pt x="1194" y="186"/>
                </a:lnTo>
                <a:lnTo>
                  <a:pt x="1186" y="188"/>
                </a:lnTo>
                <a:lnTo>
                  <a:pt x="1179" y="194"/>
                </a:lnTo>
                <a:lnTo>
                  <a:pt x="1171" y="199"/>
                </a:lnTo>
                <a:lnTo>
                  <a:pt x="1163" y="207"/>
                </a:lnTo>
                <a:lnTo>
                  <a:pt x="1156" y="219"/>
                </a:lnTo>
                <a:lnTo>
                  <a:pt x="1146" y="230"/>
                </a:lnTo>
                <a:lnTo>
                  <a:pt x="1138" y="242"/>
                </a:lnTo>
                <a:lnTo>
                  <a:pt x="1129" y="257"/>
                </a:lnTo>
                <a:lnTo>
                  <a:pt x="1119" y="274"/>
                </a:lnTo>
                <a:lnTo>
                  <a:pt x="1111" y="292"/>
                </a:lnTo>
                <a:lnTo>
                  <a:pt x="1100" y="311"/>
                </a:lnTo>
                <a:lnTo>
                  <a:pt x="1090" y="332"/>
                </a:lnTo>
                <a:lnTo>
                  <a:pt x="1081" y="355"/>
                </a:lnTo>
                <a:lnTo>
                  <a:pt x="1069" y="380"/>
                </a:lnTo>
                <a:lnTo>
                  <a:pt x="1060" y="405"/>
                </a:lnTo>
                <a:lnTo>
                  <a:pt x="1048" y="432"/>
                </a:lnTo>
                <a:lnTo>
                  <a:pt x="1035" y="462"/>
                </a:lnTo>
                <a:lnTo>
                  <a:pt x="1019" y="491"/>
                </a:lnTo>
                <a:lnTo>
                  <a:pt x="1004" y="520"/>
                </a:lnTo>
                <a:lnTo>
                  <a:pt x="987" y="547"/>
                </a:lnTo>
                <a:lnTo>
                  <a:pt x="969" y="574"/>
                </a:lnTo>
                <a:lnTo>
                  <a:pt x="952" y="602"/>
                </a:lnTo>
                <a:lnTo>
                  <a:pt x="933" y="627"/>
                </a:lnTo>
                <a:lnTo>
                  <a:pt x="914" y="654"/>
                </a:lnTo>
                <a:lnTo>
                  <a:pt x="893" y="679"/>
                </a:lnTo>
                <a:lnTo>
                  <a:pt x="869" y="704"/>
                </a:lnTo>
                <a:lnTo>
                  <a:pt x="848" y="729"/>
                </a:lnTo>
                <a:lnTo>
                  <a:pt x="825" y="754"/>
                </a:lnTo>
                <a:lnTo>
                  <a:pt x="800" y="779"/>
                </a:lnTo>
                <a:lnTo>
                  <a:pt x="775" y="802"/>
                </a:lnTo>
                <a:lnTo>
                  <a:pt x="750" y="827"/>
                </a:lnTo>
                <a:lnTo>
                  <a:pt x="724" y="850"/>
                </a:lnTo>
                <a:lnTo>
                  <a:pt x="697" y="873"/>
                </a:lnTo>
                <a:lnTo>
                  <a:pt x="670" y="894"/>
                </a:lnTo>
                <a:lnTo>
                  <a:pt x="641" y="915"/>
                </a:lnTo>
                <a:lnTo>
                  <a:pt x="614" y="936"/>
                </a:lnTo>
                <a:lnTo>
                  <a:pt x="585" y="956"/>
                </a:lnTo>
                <a:lnTo>
                  <a:pt x="557" y="973"/>
                </a:lnTo>
                <a:lnTo>
                  <a:pt x="528" y="992"/>
                </a:lnTo>
                <a:lnTo>
                  <a:pt x="499" y="1007"/>
                </a:lnTo>
                <a:lnTo>
                  <a:pt x="468" y="1023"/>
                </a:lnTo>
                <a:lnTo>
                  <a:pt x="439" y="1038"/>
                </a:lnTo>
                <a:lnTo>
                  <a:pt x="409" y="1052"/>
                </a:lnTo>
                <a:lnTo>
                  <a:pt x="378" y="1065"/>
                </a:lnTo>
                <a:lnTo>
                  <a:pt x="347" y="1076"/>
                </a:lnTo>
                <a:lnTo>
                  <a:pt x="317" y="1088"/>
                </a:lnTo>
                <a:lnTo>
                  <a:pt x="286" y="1099"/>
                </a:lnTo>
                <a:lnTo>
                  <a:pt x="255" y="1109"/>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Freeform 37"/>
          <p:cNvSpPr/>
          <p:nvPr/>
        </p:nvSpPr>
        <p:spPr>
          <a:xfrm>
            <a:off x="6343560" y="3616200"/>
            <a:ext cx="1298520" cy="354240"/>
          </a:xfrm>
          <a:custGeom>
            <a:avLst/>
            <a:gdLst/>
            <a:ahLst/>
            <a:rect l="l" t="t" r="r" b="b"/>
            <a:pathLst>
              <a:path w="1636" h="445">
                <a:moveTo>
                  <a:pt x="854" y="123"/>
                </a:moveTo>
                <a:lnTo>
                  <a:pt x="879" y="117"/>
                </a:lnTo>
                <a:lnTo>
                  <a:pt x="904" y="113"/>
                </a:lnTo>
                <a:lnTo>
                  <a:pt x="927" y="107"/>
                </a:lnTo>
                <a:lnTo>
                  <a:pt x="952" y="104"/>
                </a:lnTo>
                <a:lnTo>
                  <a:pt x="973" y="100"/>
                </a:lnTo>
                <a:lnTo>
                  <a:pt x="997" y="96"/>
                </a:lnTo>
                <a:lnTo>
                  <a:pt x="1018" y="92"/>
                </a:lnTo>
                <a:lnTo>
                  <a:pt x="1039" y="86"/>
                </a:lnTo>
                <a:lnTo>
                  <a:pt x="1058" y="82"/>
                </a:lnTo>
                <a:lnTo>
                  <a:pt x="1077" y="79"/>
                </a:lnTo>
                <a:lnTo>
                  <a:pt x="1094" y="77"/>
                </a:lnTo>
                <a:lnTo>
                  <a:pt x="1112" y="73"/>
                </a:lnTo>
                <a:lnTo>
                  <a:pt x="1129" y="69"/>
                </a:lnTo>
                <a:lnTo>
                  <a:pt x="1146" y="65"/>
                </a:lnTo>
                <a:lnTo>
                  <a:pt x="1162" y="61"/>
                </a:lnTo>
                <a:lnTo>
                  <a:pt x="1175" y="59"/>
                </a:lnTo>
                <a:lnTo>
                  <a:pt x="1188" y="56"/>
                </a:lnTo>
                <a:lnTo>
                  <a:pt x="1202" y="54"/>
                </a:lnTo>
                <a:lnTo>
                  <a:pt x="1213" y="50"/>
                </a:lnTo>
                <a:lnTo>
                  <a:pt x="1225" y="48"/>
                </a:lnTo>
                <a:lnTo>
                  <a:pt x="1236" y="44"/>
                </a:lnTo>
                <a:lnTo>
                  <a:pt x="1246" y="42"/>
                </a:lnTo>
                <a:lnTo>
                  <a:pt x="1256" y="40"/>
                </a:lnTo>
                <a:lnTo>
                  <a:pt x="1263" y="38"/>
                </a:lnTo>
                <a:lnTo>
                  <a:pt x="1271" y="34"/>
                </a:lnTo>
                <a:lnTo>
                  <a:pt x="1277" y="33"/>
                </a:lnTo>
                <a:lnTo>
                  <a:pt x="1283" y="31"/>
                </a:lnTo>
                <a:lnTo>
                  <a:pt x="1288" y="31"/>
                </a:lnTo>
                <a:lnTo>
                  <a:pt x="1292" y="29"/>
                </a:lnTo>
                <a:lnTo>
                  <a:pt x="1294" y="27"/>
                </a:lnTo>
                <a:lnTo>
                  <a:pt x="1298" y="25"/>
                </a:lnTo>
                <a:lnTo>
                  <a:pt x="1300" y="25"/>
                </a:lnTo>
                <a:lnTo>
                  <a:pt x="1308" y="15"/>
                </a:lnTo>
                <a:lnTo>
                  <a:pt x="1313" y="11"/>
                </a:lnTo>
                <a:lnTo>
                  <a:pt x="1319" y="8"/>
                </a:lnTo>
                <a:lnTo>
                  <a:pt x="1325" y="4"/>
                </a:lnTo>
                <a:lnTo>
                  <a:pt x="1331" y="2"/>
                </a:lnTo>
                <a:lnTo>
                  <a:pt x="1338" y="0"/>
                </a:lnTo>
                <a:lnTo>
                  <a:pt x="1348" y="0"/>
                </a:lnTo>
                <a:lnTo>
                  <a:pt x="1352" y="2"/>
                </a:lnTo>
                <a:lnTo>
                  <a:pt x="1357" y="4"/>
                </a:lnTo>
                <a:lnTo>
                  <a:pt x="1365" y="8"/>
                </a:lnTo>
                <a:lnTo>
                  <a:pt x="1371" y="11"/>
                </a:lnTo>
                <a:lnTo>
                  <a:pt x="1380" y="15"/>
                </a:lnTo>
                <a:lnTo>
                  <a:pt x="1388" y="19"/>
                </a:lnTo>
                <a:lnTo>
                  <a:pt x="1398" y="23"/>
                </a:lnTo>
                <a:lnTo>
                  <a:pt x="1409" y="29"/>
                </a:lnTo>
                <a:lnTo>
                  <a:pt x="1419" y="34"/>
                </a:lnTo>
                <a:lnTo>
                  <a:pt x="1432" y="40"/>
                </a:lnTo>
                <a:lnTo>
                  <a:pt x="1444" y="46"/>
                </a:lnTo>
                <a:lnTo>
                  <a:pt x="1457" y="52"/>
                </a:lnTo>
                <a:lnTo>
                  <a:pt x="1471" y="59"/>
                </a:lnTo>
                <a:lnTo>
                  <a:pt x="1484" y="67"/>
                </a:lnTo>
                <a:lnTo>
                  <a:pt x="1499" y="77"/>
                </a:lnTo>
                <a:lnTo>
                  <a:pt x="1515" y="86"/>
                </a:lnTo>
                <a:lnTo>
                  <a:pt x="1530" y="96"/>
                </a:lnTo>
                <a:lnTo>
                  <a:pt x="1544" y="107"/>
                </a:lnTo>
                <a:lnTo>
                  <a:pt x="1557" y="117"/>
                </a:lnTo>
                <a:lnTo>
                  <a:pt x="1569" y="127"/>
                </a:lnTo>
                <a:lnTo>
                  <a:pt x="1580" y="136"/>
                </a:lnTo>
                <a:lnTo>
                  <a:pt x="1590" y="146"/>
                </a:lnTo>
                <a:lnTo>
                  <a:pt x="1599" y="153"/>
                </a:lnTo>
                <a:lnTo>
                  <a:pt x="1607" y="161"/>
                </a:lnTo>
                <a:lnTo>
                  <a:pt x="1613" y="169"/>
                </a:lnTo>
                <a:lnTo>
                  <a:pt x="1619" y="175"/>
                </a:lnTo>
                <a:lnTo>
                  <a:pt x="1624" y="182"/>
                </a:lnTo>
                <a:lnTo>
                  <a:pt x="1628" y="188"/>
                </a:lnTo>
                <a:lnTo>
                  <a:pt x="1630" y="194"/>
                </a:lnTo>
                <a:lnTo>
                  <a:pt x="1634" y="200"/>
                </a:lnTo>
                <a:lnTo>
                  <a:pt x="1634" y="203"/>
                </a:lnTo>
                <a:lnTo>
                  <a:pt x="1636" y="209"/>
                </a:lnTo>
                <a:lnTo>
                  <a:pt x="1634" y="215"/>
                </a:lnTo>
                <a:lnTo>
                  <a:pt x="1634" y="221"/>
                </a:lnTo>
                <a:lnTo>
                  <a:pt x="1632" y="226"/>
                </a:lnTo>
                <a:lnTo>
                  <a:pt x="1628" y="232"/>
                </a:lnTo>
                <a:lnTo>
                  <a:pt x="1624" y="236"/>
                </a:lnTo>
                <a:lnTo>
                  <a:pt x="1620" y="240"/>
                </a:lnTo>
                <a:lnTo>
                  <a:pt x="1615" y="244"/>
                </a:lnTo>
                <a:lnTo>
                  <a:pt x="1609" y="248"/>
                </a:lnTo>
                <a:lnTo>
                  <a:pt x="1603" y="249"/>
                </a:lnTo>
                <a:lnTo>
                  <a:pt x="1595" y="251"/>
                </a:lnTo>
                <a:lnTo>
                  <a:pt x="1588" y="253"/>
                </a:lnTo>
                <a:lnTo>
                  <a:pt x="1580" y="255"/>
                </a:lnTo>
                <a:lnTo>
                  <a:pt x="1571" y="257"/>
                </a:lnTo>
                <a:lnTo>
                  <a:pt x="1561" y="257"/>
                </a:lnTo>
                <a:lnTo>
                  <a:pt x="1549" y="257"/>
                </a:lnTo>
                <a:lnTo>
                  <a:pt x="1540" y="259"/>
                </a:lnTo>
                <a:lnTo>
                  <a:pt x="1528" y="259"/>
                </a:lnTo>
                <a:lnTo>
                  <a:pt x="1517" y="259"/>
                </a:lnTo>
                <a:lnTo>
                  <a:pt x="1503" y="261"/>
                </a:lnTo>
                <a:lnTo>
                  <a:pt x="1492" y="265"/>
                </a:lnTo>
                <a:lnTo>
                  <a:pt x="1480" y="269"/>
                </a:lnTo>
                <a:lnTo>
                  <a:pt x="1467" y="272"/>
                </a:lnTo>
                <a:lnTo>
                  <a:pt x="1453" y="278"/>
                </a:lnTo>
                <a:lnTo>
                  <a:pt x="1442" y="284"/>
                </a:lnTo>
                <a:lnTo>
                  <a:pt x="1428" y="290"/>
                </a:lnTo>
                <a:lnTo>
                  <a:pt x="1415" y="297"/>
                </a:lnTo>
                <a:lnTo>
                  <a:pt x="1402" y="305"/>
                </a:lnTo>
                <a:lnTo>
                  <a:pt x="1388" y="315"/>
                </a:lnTo>
                <a:lnTo>
                  <a:pt x="1375" y="324"/>
                </a:lnTo>
                <a:lnTo>
                  <a:pt x="1361" y="334"/>
                </a:lnTo>
                <a:lnTo>
                  <a:pt x="1348" y="345"/>
                </a:lnTo>
                <a:lnTo>
                  <a:pt x="1334" y="357"/>
                </a:lnTo>
                <a:lnTo>
                  <a:pt x="1321" y="370"/>
                </a:lnTo>
                <a:lnTo>
                  <a:pt x="1309" y="382"/>
                </a:lnTo>
                <a:lnTo>
                  <a:pt x="1298" y="393"/>
                </a:lnTo>
                <a:lnTo>
                  <a:pt x="1286" y="403"/>
                </a:lnTo>
                <a:lnTo>
                  <a:pt x="1277" y="413"/>
                </a:lnTo>
                <a:lnTo>
                  <a:pt x="1269" y="420"/>
                </a:lnTo>
                <a:lnTo>
                  <a:pt x="1260" y="426"/>
                </a:lnTo>
                <a:lnTo>
                  <a:pt x="1252" y="432"/>
                </a:lnTo>
                <a:lnTo>
                  <a:pt x="1244" y="438"/>
                </a:lnTo>
                <a:lnTo>
                  <a:pt x="1238" y="439"/>
                </a:lnTo>
                <a:lnTo>
                  <a:pt x="1233" y="443"/>
                </a:lnTo>
                <a:lnTo>
                  <a:pt x="1229" y="445"/>
                </a:lnTo>
                <a:lnTo>
                  <a:pt x="1223" y="445"/>
                </a:lnTo>
                <a:lnTo>
                  <a:pt x="1219" y="445"/>
                </a:lnTo>
                <a:lnTo>
                  <a:pt x="1217" y="445"/>
                </a:lnTo>
                <a:lnTo>
                  <a:pt x="1215" y="443"/>
                </a:lnTo>
                <a:lnTo>
                  <a:pt x="1212" y="439"/>
                </a:lnTo>
                <a:lnTo>
                  <a:pt x="1212" y="436"/>
                </a:lnTo>
                <a:lnTo>
                  <a:pt x="1210" y="432"/>
                </a:lnTo>
                <a:lnTo>
                  <a:pt x="1208" y="428"/>
                </a:lnTo>
                <a:lnTo>
                  <a:pt x="1208" y="422"/>
                </a:lnTo>
                <a:lnTo>
                  <a:pt x="1208" y="416"/>
                </a:lnTo>
                <a:lnTo>
                  <a:pt x="1208" y="411"/>
                </a:lnTo>
                <a:lnTo>
                  <a:pt x="1210" y="403"/>
                </a:lnTo>
                <a:lnTo>
                  <a:pt x="1210" y="393"/>
                </a:lnTo>
                <a:lnTo>
                  <a:pt x="1212" y="384"/>
                </a:lnTo>
                <a:lnTo>
                  <a:pt x="1215" y="374"/>
                </a:lnTo>
                <a:lnTo>
                  <a:pt x="1217" y="363"/>
                </a:lnTo>
                <a:lnTo>
                  <a:pt x="1221" y="351"/>
                </a:lnTo>
                <a:lnTo>
                  <a:pt x="1227" y="338"/>
                </a:lnTo>
                <a:lnTo>
                  <a:pt x="1233" y="322"/>
                </a:lnTo>
                <a:lnTo>
                  <a:pt x="1238" y="307"/>
                </a:lnTo>
                <a:lnTo>
                  <a:pt x="1244" y="294"/>
                </a:lnTo>
                <a:lnTo>
                  <a:pt x="1250" y="280"/>
                </a:lnTo>
                <a:lnTo>
                  <a:pt x="1256" y="269"/>
                </a:lnTo>
                <a:lnTo>
                  <a:pt x="1261" y="257"/>
                </a:lnTo>
                <a:lnTo>
                  <a:pt x="1265" y="246"/>
                </a:lnTo>
                <a:lnTo>
                  <a:pt x="1269" y="236"/>
                </a:lnTo>
                <a:lnTo>
                  <a:pt x="1271" y="224"/>
                </a:lnTo>
                <a:lnTo>
                  <a:pt x="1275" y="217"/>
                </a:lnTo>
                <a:lnTo>
                  <a:pt x="1277" y="207"/>
                </a:lnTo>
                <a:lnTo>
                  <a:pt x="1277" y="201"/>
                </a:lnTo>
                <a:lnTo>
                  <a:pt x="1279" y="194"/>
                </a:lnTo>
                <a:lnTo>
                  <a:pt x="1279" y="188"/>
                </a:lnTo>
                <a:lnTo>
                  <a:pt x="1279" y="182"/>
                </a:lnTo>
                <a:lnTo>
                  <a:pt x="1277" y="178"/>
                </a:lnTo>
                <a:lnTo>
                  <a:pt x="1277" y="175"/>
                </a:lnTo>
                <a:lnTo>
                  <a:pt x="1275" y="173"/>
                </a:lnTo>
                <a:lnTo>
                  <a:pt x="1269" y="167"/>
                </a:lnTo>
                <a:lnTo>
                  <a:pt x="1263" y="165"/>
                </a:lnTo>
                <a:lnTo>
                  <a:pt x="1256" y="163"/>
                </a:lnTo>
                <a:lnTo>
                  <a:pt x="1248" y="161"/>
                </a:lnTo>
                <a:lnTo>
                  <a:pt x="1238" y="159"/>
                </a:lnTo>
                <a:lnTo>
                  <a:pt x="1227" y="159"/>
                </a:lnTo>
                <a:lnTo>
                  <a:pt x="1215" y="159"/>
                </a:lnTo>
                <a:lnTo>
                  <a:pt x="1202" y="159"/>
                </a:lnTo>
                <a:lnTo>
                  <a:pt x="1188" y="159"/>
                </a:lnTo>
                <a:lnTo>
                  <a:pt x="1173" y="159"/>
                </a:lnTo>
                <a:lnTo>
                  <a:pt x="1164" y="159"/>
                </a:lnTo>
                <a:lnTo>
                  <a:pt x="1156" y="159"/>
                </a:lnTo>
                <a:lnTo>
                  <a:pt x="1146" y="161"/>
                </a:lnTo>
                <a:lnTo>
                  <a:pt x="1137" y="161"/>
                </a:lnTo>
                <a:lnTo>
                  <a:pt x="1125" y="161"/>
                </a:lnTo>
                <a:lnTo>
                  <a:pt x="1114" y="163"/>
                </a:lnTo>
                <a:lnTo>
                  <a:pt x="1102" y="163"/>
                </a:lnTo>
                <a:lnTo>
                  <a:pt x="1091" y="165"/>
                </a:lnTo>
                <a:lnTo>
                  <a:pt x="1077" y="167"/>
                </a:lnTo>
                <a:lnTo>
                  <a:pt x="1064" y="167"/>
                </a:lnTo>
                <a:lnTo>
                  <a:pt x="1048" y="169"/>
                </a:lnTo>
                <a:lnTo>
                  <a:pt x="1035" y="173"/>
                </a:lnTo>
                <a:lnTo>
                  <a:pt x="1025" y="173"/>
                </a:lnTo>
                <a:lnTo>
                  <a:pt x="1018" y="175"/>
                </a:lnTo>
                <a:lnTo>
                  <a:pt x="1008" y="177"/>
                </a:lnTo>
                <a:lnTo>
                  <a:pt x="998" y="178"/>
                </a:lnTo>
                <a:lnTo>
                  <a:pt x="989" y="178"/>
                </a:lnTo>
                <a:lnTo>
                  <a:pt x="977" y="180"/>
                </a:lnTo>
                <a:lnTo>
                  <a:pt x="966" y="182"/>
                </a:lnTo>
                <a:lnTo>
                  <a:pt x="954" y="184"/>
                </a:lnTo>
                <a:lnTo>
                  <a:pt x="943" y="188"/>
                </a:lnTo>
                <a:lnTo>
                  <a:pt x="929" y="190"/>
                </a:lnTo>
                <a:lnTo>
                  <a:pt x="918" y="192"/>
                </a:lnTo>
                <a:lnTo>
                  <a:pt x="904" y="194"/>
                </a:lnTo>
                <a:lnTo>
                  <a:pt x="889" y="198"/>
                </a:lnTo>
                <a:lnTo>
                  <a:pt x="876" y="200"/>
                </a:lnTo>
                <a:lnTo>
                  <a:pt x="860" y="201"/>
                </a:lnTo>
                <a:lnTo>
                  <a:pt x="845" y="205"/>
                </a:lnTo>
                <a:lnTo>
                  <a:pt x="828" y="207"/>
                </a:lnTo>
                <a:lnTo>
                  <a:pt x="812" y="211"/>
                </a:lnTo>
                <a:lnTo>
                  <a:pt x="795" y="215"/>
                </a:lnTo>
                <a:lnTo>
                  <a:pt x="778" y="217"/>
                </a:lnTo>
                <a:lnTo>
                  <a:pt x="758" y="221"/>
                </a:lnTo>
                <a:lnTo>
                  <a:pt x="741" y="224"/>
                </a:lnTo>
                <a:lnTo>
                  <a:pt x="722" y="226"/>
                </a:lnTo>
                <a:lnTo>
                  <a:pt x="703" y="230"/>
                </a:lnTo>
                <a:lnTo>
                  <a:pt x="682" y="234"/>
                </a:lnTo>
                <a:lnTo>
                  <a:pt x="662" y="236"/>
                </a:lnTo>
                <a:lnTo>
                  <a:pt x="641" y="240"/>
                </a:lnTo>
                <a:lnTo>
                  <a:pt x="618" y="244"/>
                </a:lnTo>
                <a:lnTo>
                  <a:pt x="597" y="248"/>
                </a:lnTo>
                <a:lnTo>
                  <a:pt x="574" y="251"/>
                </a:lnTo>
                <a:lnTo>
                  <a:pt x="551" y="255"/>
                </a:lnTo>
                <a:lnTo>
                  <a:pt x="528" y="259"/>
                </a:lnTo>
                <a:lnTo>
                  <a:pt x="505" y="263"/>
                </a:lnTo>
                <a:lnTo>
                  <a:pt x="482" y="267"/>
                </a:lnTo>
                <a:lnTo>
                  <a:pt x="459" y="271"/>
                </a:lnTo>
                <a:lnTo>
                  <a:pt x="438" y="276"/>
                </a:lnTo>
                <a:lnTo>
                  <a:pt x="396" y="284"/>
                </a:lnTo>
                <a:lnTo>
                  <a:pt x="353" y="292"/>
                </a:lnTo>
                <a:lnTo>
                  <a:pt x="315" y="297"/>
                </a:lnTo>
                <a:lnTo>
                  <a:pt x="279" y="303"/>
                </a:lnTo>
                <a:lnTo>
                  <a:pt x="244" y="309"/>
                </a:lnTo>
                <a:lnTo>
                  <a:pt x="209" y="315"/>
                </a:lnTo>
                <a:lnTo>
                  <a:pt x="179" y="319"/>
                </a:lnTo>
                <a:lnTo>
                  <a:pt x="148" y="322"/>
                </a:lnTo>
                <a:lnTo>
                  <a:pt x="119" y="324"/>
                </a:lnTo>
                <a:lnTo>
                  <a:pt x="92" y="328"/>
                </a:lnTo>
                <a:lnTo>
                  <a:pt x="67" y="330"/>
                </a:lnTo>
                <a:lnTo>
                  <a:pt x="42" y="330"/>
                </a:lnTo>
                <a:lnTo>
                  <a:pt x="19" y="332"/>
                </a:lnTo>
                <a:lnTo>
                  <a:pt x="0" y="332"/>
                </a:lnTo>
                <a:lnTo>
                  <a:pt x="0" y="295"/>
                </a:lnTo>
                <a:lnTo>
                  <a:pt x="0" y="259"/>
                </a:lnTo>
                <a:lnTo>
                  <a:pt x="56" y="249"/>
                </a:lnTo>
                <a:lnTo>
                  <a:pt x="112" y="240"/>
                </a:lnTo>
                <a:lnTo>
                  <a:pt x="221" y="221"/>
                </a:lnTo>
                <a:lnTo>
                  <a:pt x="328" y="203"/>
                </a:lnTo>
                <a:lnTo>
                  <a:pt x="436" y="186"/>
                </a:lnTo>
                <a:lnTo>
                  <a:pt x="542" y="169"/>
                </a:lnTo>
                <a:lnTo>
                  <a:pt x="645" y="152"/>
                </a:lnTo>
                <a:lnTo>
                  <a:pt x="749" y="136"/>
                </a:lnTo>
                <a:lnTo>
                  <a:pt x="854" y="123"/>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31"/>
                                        </p:tgtEl>
                                        <p:attrNameLst>
                                          <p:attrName>style.visibility</p:attrName>
                                        </p:attrNameLst>
                                      </p:cBhvr>
                                      <p:to>
                                        <p:strVal val="visible"/>
                                      </p:to>
                                    </p:set>
                                    <p:anim calcmode="lin" valueType="num">
                                      <p:cBhvr additive="base">
                                        <p:cTn id="214" dur="500" fill="hold"/>
                                        <p:tgtEl>
                                          <p:spTgt spid="131"/>
                                        </p:tgtEl>
                                        <p:attrNameLst>
                                          <p:attrName>ppt_x</p:attrName>
                                        </p:attrNameLst>
                                      </p:cBhvr>
                                      <p:tavLst>
                                        <p:tav tm="0">
                                          <p:val>
                                            <p:strVal val="0-#ppt_w/2"/>
                                          </p:val>
                                        </p:tav>
                                        <p:tav tm="100000">
                                          <p:val>
                                            <p:strVal val="#ppt_x"/>
                                          </p:val>
                                        </p:tav>
                                      </p:tavLst>
                                    </p:anim>
                                    <p:anim calcmode="lin" valueType="num">
                                      <p:cBhvr additive="base">
                                        <p:cTn id="215"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32"/>
                                        </p:tgtEl>
                                        <p:attrNameLst>
                                          <p:attrName>style.visibility</p:attrName>
                                        </p:attrNameLst>
                                      </p:cBhvr>
                                      <p:to>
                                        <p:strVal val="visible"/>
                                      </p:to>
                                    </p:set>
                                    <p:animEffect filter="wipe(up)" transition="in">
                                      <p:cBhvr additive="repl">
                                        <p:cTn id="220" dur="500"/>
                                        <p:tgtEl>
                                          <p:spTgt spid="132"/>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33"/>
                                        </p:tgtEl>
                                        <p:attrNameLst>
                                          <p:attrName>style.visibility</p:attrName>
                                        </p:attrNameLst>
                                      </p:cBhvr>
                                      <p:to>
                                        <p:strVal val="visible"/>
                                      </p:to>
                                    </p:set>
                                    <p:animEffect filter="wipe(up)" transition="in">
                                      <p:cBhvr additive="repl">
                                        <p:cTn id="225" dur="500"/>
                                        <p:tgtEl>
                                          <p:spTgt spid="13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8" presetSubtype="6">
                                  <p:stCondLst>
                                    <p:cond delay="0"/>
                                  </p:stCondLst>
                                  <p:childTnLst>
                                    <p:set>
                                      <p:cBhvr>
                                        <p:cTn id="229" dur="1" fill="hold">
                                          <p:stCondLst>
                                            <p:cond delay="0"/>
                                          </p:stCondLst>
                                        </p:cTn>
                                        <p:tgtEl>
                                          <p:spTgt spid="136"/>
                                        </p:tgtEl>
                                        <p:attrNameLst>
                                          <p:attrName>style.visibility</p:attrName>
                                        </p:attrNameLst>
                                      </p:cBhvr>
                                      <p:to>
                                        <p:strVal val="visible"/>
                                      </p:to>
                                    </p:set>
                                    <p:animEffect filter="strips(downRight)" transition="in">
                                      <p:cBhvr additive="repl">
                                        <p:cTn id="230" dur="500"/>
                                        <p:tgtEl>
                                          <p:spTgt spid="136"/>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37"/>
                                        </p:tgtEl>
                                        <p:attrNameLst>
                                          <p:attrName>style.visibility</p:attrName>
                                        </p:attrNameLst>
                                      </p:cBhvr>
                                      <p:to>
                                        <p:strVal val="visible"/>
                                      </p:to>
                                    </p:set>
                                    <p:animEffect filter="wipe(left)" transition="in">
                                      <p:cBhvr additive="repl">
                                        <p:cTn id="235" dur="500"/>
                                        <p:tgtEl>
                                          <p:spTgt spid="137"/>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38"/>
                                        </p:tgtEl>
                                        <p:attrNameLst>
                                          <p:attrName>style.visibility</p:attrName>
                                        </p:attrNameLst>
                                      </p:cBhvr>
                                      <p:to>
                                        <p:strVal val="visible"/>
                                      </p:to>
                                    </p:set>
                                    <p:animEffect filter="wipe(left)" transition="in">
                                      <p:cBhvr additive="repl">
                                        <p:cTn id="240" dur="500"/>
                                        <p:tgtEl>
                                          <p:spTgt spid="138"/>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34"/>
                                        </p:tgtEl>
                                        <p:attrNameLst>
                                          <p:attrName>style.visibility</p:attrName>
                                        </p:attrNameLst>
                                      </p:cBhvr>
                                      <p:to>
                                        <p:strVal val="visible"/>
                                      </p:to>
                                    </p:set>
                                    <p:animEffect filter="wipe(up)" transition="in">
                                      <p:cBhvr additive="repl">
                                        <p:cTn id="245" dur="500"/>
                                        <p:tgtEl>
                                          <p:spTgt spid="134"/>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8" presetSubtype="6">
                                  <p:stCondLst>
                                    <p:cond delay="0"/>
                                  </p:stCondLst>
                                  <p:childTnLst>
                                    <p:set>
                                      <p:cBhvr>
                                        <p:cTn id="249" dur="1" fill="hold">
                                          <p:stCondLst>
                                            <p:cond delay="0"/>
                                          </p:stCondLst>
                                        </p:cTn>
                                        <p:tgtEl>
                                          <p:spTgt spid="140"/>
                                        </p:tgtEl>
                                        <p:attrNameLst>
                                          <p:attrName>style.visibility</p:attrName>
                                        </p:attrNameLst>
                                      </p:cBhvr>
                                      <p:to>
                                        <p:strVal val="visible"/>
                                      </p:to>
                                    </p:set>
                                    <p:animEffect filter="strips(downRight)" transition="in">
                                      <p:cBhvr additive="repl">
                                        <p:cTn id="250" dur="500"/>
                                        <p:tgtEl>
                                          <p:spTgt spid="140"/>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8" presetSubtype="6">
                                  <p:stCondLst>
                                    <p:cond delay="0"/>
                                  </p:stCondLst>
                                  <p:childTnLst>
                                    <p:set>
                                      <p:cBhvr>
                                        <p:cTn id="254" dur="1" fill="hold">
                                          <p:stCondLst>
                                            <p:cond delay="0"/>
                                          </p:stCondLst>
                                        </p:cTn>
                                        <p:tgtEl>
                                          <p:spTgt spid="139"/>
                                        </p:tgtEl>
                                        <p:attrNameLst>
                                          <p:attrName>style.visibility</p:attrName>
                                        </p:attrNameLst>
                                      </p:cBhvr>
                                      <p:to>
                                        <p:strVal val="visible"/>
                                      </p:to>
                                    </p:set>
                                    <p:animEffect filter="strips(downRight)" transition="in">
                                      <p:cBhvr additive="repl">
                                        <p:cTn id="255" dur="500"/>
                                        <p:tgtEl>
                                          <p:spTgt spid="139"/>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135"/>
                                        </p:tgtEl>
                                        <p:attrNameLst>
                                          <p:attrName>style.visibility</p:attrName>
                                        </p:attrNameLst>
                                      </p:cBhvr>
                                      <p:to>
                                        <p:strVal val="visible"/>
                                      </p:to>
                                    </p:set>
                                    <p:animEffect filter="wipe(up)" transition="in">
                                      <p:cBhvr additive="repl">
                                        <p:cTn id="260" dur="500"/>
                                        <p:tgtEl>
                                          <p:spTgt spid="135"/>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3" presetSubtype="16">
                                  <p:stCondLst>
                                    <p:cond delay="0"/>
                                  </p:stCondLst>
                                  <p:childTnLst>
                                    <p:set>
                                      <p:cBhvr>
                                        <p:cTn id="264" dur="1" fill="hold">
                                          <p:stCondLst>
                                            <p:cond delay="0"/>
                                          </p:stCondLst>
                                        </p:cTn>
                                        <p:tgtEl>
                                          <p:spTgt spid="128"/>
                                        </p:tgtEl>
                                        <p:attrNameLst>
                                          <p:attrName>style.visibility</p:attrName>
                                        </p:attrNameLst>
                                      </p:cBhvr>
                                      <p:to>
                                        <p:strVal val="visible"/>
                                      </p:to>
                                    </p:set>
                                    <p:anim calcmode="lin" valueType="num">
                                      <p:cBhvr additive="repl">
                                        <p:cTn id="265" dur="500" fill="hold"/>
                                        <p:tgtEl>
                                          <p:spTgt spid="128"/>
                                        </p:tgtEl>
                                        <p:attrNameLst>
                                          <p:attrName>ppt_w</p:attrName>
                                        </p:attrNameLst>
                                      </p:cBhvr>
                                      <p:tavLst>
                                        <p:tav tm="0">
                                          <p:val>
                                            <p:fltVal val="0"/>
                                          </p:val>
                                        </p:tav>
                                        <p:tav tm="100000">
                                          <p:val>
                                            <p:strVal val="#ppt_w"/>
                                          </p:val>
                                        </p:tav>
                                      </p:tavLst>
                                    </p:anim>
                                    <p:anim calcmode="lin" valueType="num">
                                      <p:cBhvr additive="repl">
                                        <p:cTn id="266" dur="500" fill="hold"/>
                                        <p:tgtEl>
                                          <p:spTgt spid="128"/>
                                        </p:tgtEl>
                                        <p:attrNameLst>
                                          <p:attrName>ppt_h</p:attrName>
                                        </p:attrNameLst>
                                      </p:cBhvr>
                                      <p:tavLst>
                                        <p:tav tm="0">
                                          <p:val>
                                            <p:fltVal val="0"/>
                                          </p:val>
                                        </p:tav>
                                        <p:tav tm="100000">
                                          <p:val>
                                            <p:strVal val="#ppt_h"/>
                                          </p:val>
                                        </p:tav>
                                      </p:tavLst>
                                    </p:anim>
                                    <p:animEffect filter="fade" transition="in">
                                      <p:cBhvr additive="repl">
                                        <p:cTn id="26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伪</a:t>
            </a:r>
            <a:endParaRPr b="0" lang="en-US" sz="8000" spc="-1" strike="noStrike">
              <a:solidFill>
                <a:srgbClr val="000000"/>
              </a:solidFill>
              <a:latin typeface="Calibri"/>
            </a:endParaRPr>
          </a:p>
        </p:txBody>
      </p:sp>
      <p:graphicFrame>
        <p:nvGraphicFramePr>
          <p:cNvPr id="142"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43" name="组合 8"/>
          <p:cNvGrpSpPr/>
          <p:nvPr/>
        </p:nvGrpSpPr>
        <p:grpSpPr>
          <a:xfrm>
            <a:off x="1227240" y="3975120"/>
            <a:ext cx="2840040" cy="1571760"/>
            <a:chOff x="1227240" y="3975120"/>
            <a:chExt cx="2840040" cy="1571760"/>
          </a:xfrm>
        </p:grpSpPr>
        <p:pic>
          <p:nvPicPr>
            <p:cNvPr id="144" name="图示 4" descr=""/>
            <p:cNvPicPr/>
            <p:nvPr/>
          </p:nvPicPr>
          <p:blipFill>
            <a:blip r:embed="rId1"/>
            <a:stretch/>
          </p:blipFill>
          <p:spPr>
            <a:xfrm>
              <a:off x="1227240" y="3975120"/>
              <a:ext cx="2840040" cy="1571760"/>
            </a:xfrm>
            <a:prstGeom prst="rect">
              <a:avLst/>
            </a:prstGeom>
            <a:ln w="0">
              <a:noFill/>
            </a:ln>
          </p:spPr>
        </p:pic>
        <p:sp>
          <p:nvSpPr>
            <p:cNvPr id="145" name="矩形 2"/>
            <p:cNvSpPr/>
            <p:nvPr/>
          </p:nvSpPr>
          <p:spPr>
            <a:xfrm>
              <a:off x="1275480" y="4587840"/>
              <a:ext cx="27666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右部先点后撇，横折钩微成弧形。</a:t>
              </a:r>
              <a:endParaRPr b="0" lang="en-US" sz="2000" spc="-1" strike="noStrike">
                <a:solidFill>
                  <a:srgbClr val="000000"/>
                </a:solidFill>
                <a:latin typeface="Calibri"/>
              </a:endParaRPr>
            </a:p>
          </p:txBody>
        </p:sp>
      </p:grpSp>
      <p:sp>
        <p:nvSpPr>
          <p:cNvPr id="146" name="矩形 3"/>
          <p:cNvSpPr/>
          <p:nvPr/>
        </p:nvSpPr>
        <p:spPr>
          <a:xfrm>
            <a:off x="2092320" y="1868400"/>
            <a:ext cx="1392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wěi</a:t>
            </a:r>
            <a:endParaRPr b="0" lang="en-US" sz="4800" spc="-1" strike="noStrike">
              <a:solidFill>
                <a:srgbClr val="000000"/>
              </a:solidFill>
              <a:latin typeface="Calibri"/>
            </a:endParaRPr>
          </a:p>
        </p:txBody>
      </p:sp>
      <p:sp>
        <p:nvSpPr>
          <p:cNvPr id="147" name="Freeform 29"/>
          <p:cNvSpPr/>
          <p:nvPr/>
        </p:nvSpPr>
        <p:spPr>
          <a:xfrm>
            <a:off x="5965920" y="3597120"/>
            <a:ext cx="180720" cy="1360800"/>
          </a:xfrm>
          <a:custGeom>
            <a:avLst/>
            <a:gdLst/>
            <a:ahLst/>
            <a:rect l="l" t="t" r="r" b="b"/>
            <a:pathLst>
              <a:path w="228" h="1713">
                <a:moveTo>
                  <a:pt x="179" y="950"/>
                </a:moveTo>
                <a:lnTo>
                  <a:pt x="177" y="980"/>
                </a:lnTo>
                <a:lnTo>
                  <a:pt x="177" y="1009"/>
                </a:lnTo>
                <a:lnTo>
                  <a:pt x="175" y="1040"/>
                </a:lnTo>
                <a:lnTo>
                  <a:pt x="175" y="1069"/>
                </a:lnTo>
                <a:lnTo>
                  <a:pt x="173" y="1095"/>
                </a:lnTo>
                <a:lnTo>
                  <a:pt x="173" y="1122"/>
                </a:lnTo>
                <a:lnTo>
                  <a:pt x="171" y="1149"/>
                </a:lnTo>
                <a:lnTo>
                  <a:pt x="169" y="1176"/>
                </a:lnTo>
                <a:lnTo>
                  <a:pt x="169" y="1201"/>
                </a:lnTo>
                <a:lnTo>
                  <a:pt x="167" y="1224"/>
                </a:lnTo>
                <a:lnTo>
                  <a:pt x="167" y="1249"/>
                </a:lnTo>
                <a:lnTo>
                  <a:pt x="165" y="1272"/>
                </a:lnTo>
                <a:lnTo>
                  <a:pt x="165" y="1293"/>
                </a:lnTo>
                <a:lnTo>
                  <a:pt x="163" y="1314"/>
                </a:lnTo>
                <a:lnTo>
                  <a:pt x="161" y="1335"/>
                </a:lnTo>
                <a:lnTo>
                  <a:pt x="161" y="1354"/>
                </a:lnTo>
                <a:lnTo>
                  <a:pt x="159" y="1376"/>
                </a:lnTo>
                <a:lnTo>
                  <a:pt x="159" y="1393"/>
                </a:lnTo>
                <a:lnTo>
                  <a:pt x="157" y="1410"/>
                </a:lnTo>
                <a:lnTo>
                  <a:pt x="156" y="1427"/>
                </a:lnTo>
                <a:lnTo>
                  <a:pt x="156" y="1445"/>
                </a:lnTo>
                <a:lnTo>
                  <a:pt x="154" y="1460"/>
                </a:lnTo>
                <a:lnTo>
                  <a:pt x="154" y="1475"/>
                </a:lnTo>
                <a:lnTo>
                  <a:pt x="152" y="1489"/>
                </a:lnTo>
                <a:lnTo>
                  <a:pt x="152" y="1502"/>
                </a:lnTo>
                <a:lnTo>
                  <a:pt x="150" y="1516"/>
                </a:lnTo>
                <a:lnTo>
                  <a:pt x="148" y="1527"/>
                </a:lnTo>
                <a:lnTo>
                  <a:pt x="148" y="1539"/>
                </a:lnTo>
                <a:lnTo>
                  <a:pt x="146" y="1550"/>
                </a:lnTo>
                <a:lnTo>
                  <a:pt x="146" y="1560"/>
                </a:lnTo>
                <a:lnTo>
                  <a:pt x="144" y="1569"/>
                </a:lnTo>
                <a:lnTo>
                  <a:pt x="144" y="1577"/>
                </a:lnTo>
                <a:lnTo>
                  <a:pt x="140" y="1592"/>
                </a:lnTo>
                <a:lnTo>
                  <a:pt x="138" y="1608"/>
                </a:lnTo>
                <a:lnTo>
                  <a:pt x="136" y="1621"/>
                </a:lnTo>
                <a:lnTo>
                  <a:pt x="134" y="1635"/>
                </a:lnTo>
                <a:lnTo>
                  <a:pt x="132" y="1646"/>
                </a:lnTo>
                <a:lnTo>
                  <a:pt x="131" y="1658"/>
                </a:lnTo>
                <a:lnTo>
                  <a:pt x="127" y="1667"/>
                </a:lnTo>
                <a:lnTo>
                  <a:pt x="125" y="1677"/>
                </a:lnTo>
                <a:lnTo>
                  <a:pt x="123" y="1685"/>
                </a:lnTo>
                <a:lnTo>
                  <a:pt x="121" y="1692"/>
                </a:lnTo>
                <a:lnTo>
                  <a:pt x="119" y="1698"/>
                </a:lnTo>
                <a:lnTo>
                  <a:pt x="115" y="1704"/>
                </a:lnTo>
                <a:lnTo>
                  <a:pt x="113" y="1708"/>
                </a:lnTo>
                <a:lnTo>
                  <a:pt x="111" y="1710"/>
                </a:lnTo>
                <a:lnTo>
                  <a:pt x="109" y="1711"/>
                </a:lnTo>
                <a:lnTo>
                  <a:pt x="108" y="1713"/>
                </a:lnTo>
                <a:lnTo>
                  <a:pt x="104" y="1711"/>
                </a:lnTo>
                <a:lnTo>
                  <a:pt x="102" y="1711"/>
                </a:lnTo>
                <a:lnTo>
                  <a:pt x="98" y="1710"/>
                </a:lnTo>
                <a:lnTo>
                  <a:pt x="96" y="1706"/>
                </a:lnTo>
                <a:lnTo>
                  <a:pt x="92" y="1702"/>
                </a:lnTo>
                <a:lnTo>
                  <a:pt x="88" y="1696"/>
                </a:lnTo>
                <a:lnTo>
                  <a:pt x="84" y="1692"/>
                </a:lnTo>
                <a:lnTo>
                  <a:pt x="81" y="1685"/>
                </a:lnTo>
                <a:lnTo>
                  <a:pt x="77" y="1677"/>
                </a:lnTo>
                <a:lnTo>
                  <a:pt x="73" y="1669"/>
                </a:lnTo>
                <a:lnTo>
                  <a:pt x="69" y="1660"/>
                </a:lnTo>
                <a:lnTo>
                  <a:pt x="65" y="1650"/>
                </a:lnTo>
                <a:lnTo>
                  <a:pt x="60" y="1640"/>
                </a:lnTo>
                <a:lnTo>
                  <a:pt x="56" y="1629"/>
                </a:lnTo>
                <a:lnTo>
                  <a:pt x="52" y="1615"/>
                </a:lnTo>
                <a:lnTo>
                  <a:pt x="48" y="1602"/>
                </a:lnTo>
                <a:lnTo>
                  <a:pt x="40" y="1589"/>
                </a:lnTo>
                <a:lnTo>
                  <a:pt x="35" y="1575"/>
                </a:lnTo>
                <a:lnTo>
                  <a:pt x="29" y="1564"/>
                </a:lnTo>
                <a:lnTo>
                  <a:pt x="25" y="1550"/>
                </a:lnTo>
                <a:lnTo>
                  <a:pt x="21" y="1539"/>
                </a:lnTo>
                <a:lnTo>
                  <a:pt x="15" y="1529"/>
                </a:lnTo>
                <a:lnTo>
                  <a:pt x="13" y="1520"/>
                </a:lnTo>
                <a:lnTo>
                  <a:pt x="10" y="1510"/>
                </a:lnTo>
                <a:lnTo>
                  <a:pt x="8" y="1500"/>
                </a:lnTo>
                <a:lnTo>
                  <a:pt x="6" y="1493"/>
                </a:lnTo>
                <a:lnTo>
                  <a:pt x="4" y="1485"/>
                </a:lnTo>
                <a:lnTo>
                  <a:pt x="2" y="1477"/>
                </a:lnTo>
                <a:lnTo>
                  <a:pt x="0" y="1470"/>
                </a:lnTo>
                <a:lnTo>
                  <a:pt x="0" y="1464"/>
                </a:lnTo>
                <a:lnTo>
                  <a:pt x="0" y="1460"/>
                </a:lnTo>
                <a:lnTo>
                  <a:pt x="0" y="1454"/>
                </a:lnTo>
                <a:lnTo>
                  <a:pt x="0" y="1450"/>
                </a:lnTo>
                <a:lnTo>
                  <a:pt x="0" y="1447"/>
                </a:lnTo>
                <a:lnTo>
                  <a:pt x="0" y="1441"/>
                </a:lnTo>
                <a:lnTo>
                  <a:pt x="2" y="1433"/>
                </a:lnTo>
                <a:lnTo>
                  <a:pt x="2" y="1425"/>
                </a:lnTo>
                <a:lnTo>
                  <a:pt x="4" y="1416"/>
                </a:lnTo>
                <a:lnTo>
                  <a:pt x="6" y="1404"/>
                </a:lnTo>
                <a:lnTo>
                  <a:pt x="6" y="1391"/>
                </a:lnTo>
                <a:lnTo>
                  <a:pt x="8" y="1378"/>
                </a:lnTo>
                <a:lnTo>
                  <a:pt x="10" y="1362"/>
                </a:lnTo>
                <a:lnTo>
                  <a:pt x="12" y="1345"/>
                </a:lnTo>
                <a:lnTo>
                  <a:pt x="13" y="1328"/>
                </a:lnTo>
                <a:lnTo>
                  <a:pt x="15" y="1308"/>
                </a:lnTo>
                <a:lnTo>
                  <a:pt x="19" y="1287"/>
                </a:lnTo>
                <a:lnTo>
                  <a:pt x="21" y="1266"/>
                </a:lnTo>
                <a:lnTo>
                  <a:pt x="23" y="1245"/>
                </a:lnTo>
                <a:lnTo>
                  <a:pt x="25" y="1232"/>
                </a:lnTo>
                <a:lnTo>
                  <a:pt x="25" y="1218"/>
                </a:lnTo>
                <a:lnTo>
                  <a:pt x="27" y="1201"/>
                </a:lnTo>
                <a:lnTo>
                  <a:pt x="27" y="1184"/>
                </a:lnTo>
                <a:lnTo>
                  <a:pt x="29" y="1164"/>
                </a:lnTo>
                <a:lnTo>
                  <a:pt x="29" y="1143"/>
                </a:lnTo>
                <a:lnTo>
                  <a:pt x="31" y="1120"/>
                </a:lnTo>
                <a:lnTo>
                  <a:pt x="33" y="1097"/>
                </a:lnTo>
                <a:lnTo>
                  <a:pt x="33" y="1070"/>
                </a:lnTo>
                <a:lnTo>
                  <a:pt x="35" y="1042"/>
                </a:lnTo>
                <a:lnTo>
                  <a:pt x="35" y="1013"/>
                </a:lnTo>
                <a:lnTo>
                  <a:pt x="36" y="982"/>
                </a:lnTo>
                <a:lnTo>
                  <a:pt x="38" y="948"/>
                </a:lnTo>
                <a:lnTo>
                  <a:pt x="38" y="913"/>
                </a:lnTo>
                <a:lnTo>
                  <a:pt x="40" y="877"/>
                </a:lnTo>
                <a:lnTo>
                  <a:pt x="40" y="840"/>
                </a:lnTo>
                <a:lnTo>
                  <a:pt x="42" y="800"/>
                </a:lnTo>
                <a:lnTo>
                  <a:pt x="42" y="758"/>
                </a:lnTo>
                <a:lnTo>
                  <a:pt x="44" y="715"/>
                </a:lnTo>
                <a:lnTo>
                  <a:pt x="46" y="669"/>
                </a:lnTo>
                <a:lnTo>
                  <a:pt x="46" y="623"/>
                </a:lnTo>
                <a:lnTo>
                  <a:pt x="48" y="575"/>
                </a:lnTo>
                <a:lnTo>
                  <a:pt x="48" y="525"/>
                </a:lnTo>
                <a:lnTo>
                  <a:pt x="50" y="474"/>
                </a:lnTo>
                <a:lnTo>
                  <a:pt x="52" y="420"/>
                </a:lnTo>
                <a:lnTo>
                  <a:pt x="52" y="364"/>
                </a:lnTo>
                <a:lnTo>
                  <a:pt x="54" y="309"/>
                </a:lnTo>
                <a:lnTo>
                  <a:pt x="54" y="249"/>
                </a:lnTo>
                <a:lnTo>
                  <a:pt x="56" y="190"/>
                </a:lnTo>
                <a:lnTo>
                  <a:pt x="56" y="128"/>
                </a:lnTo>
                <a:lnTo>
                  <a:pt x="58" y="65"/>
                </a:lnTo>
                <a:lnTo>
                  <a:pt x="60" y="0"/>
                </a:lnTo>
                <a:lnTo>
                  <a:pt x="79" y="19"/>
                </a:lnTo>
                <a:lnTo>
                  <a:pt x="96" y="36"/>
                </a:lnTo>
                <a:lnTo>
                  <a:pt x="113" y="51"/>
                </a:lnTo>
                <a:lnTo>
                  <a:pt x="131" y="67"/>
                </a:lnTo>
                <a:lnTo>
                  <a:pt x="146" y="82"/>
                </a:lnTo>
                <a:lnTo>
                  <a:pt x="159" y="96"/>
                </a:lnTo>
                <a:lnTo>
                  <a:pt x="173" y="109"/>
                </a:lnTo>
                <a:lnTo>
                  <a:pt x="184" y="120"/>
                </a:lnTo>
                <a:lnTo>
                  <a:pt x="194" y="132"/>
                </a:lnTo>
                <a:lnTo>
                  <a:pt x="202" y="142"/>
                </a:lnTo>
                <a:lnTo>
                  <a:pt x="209" y="151"/>
                </a:lnTo>
                <a:lnTo>
                  <a:pt x="217" y="159"/>
                </a:lnTo>
                <a:lnTo>
                  <a:pt x="221" y="167"/>
                </a:lnTo>
                <a:lnTo>
                  <a:pt x="225" y="174"/>
                </a:lnTo>
                <a:lnTo>
                  <a:pt x="227" y="180"/>
                </a:lnTo>
                <a:lnTo>
                  <a:pt x="228" y="186"/>
                </a:lnTo>
                <a:lnTo>
                  <a:pt x="228" y="190"/>
                </a:lnTo>
                <a:lnTo>
                  <a:pt x="227" y="195"/>
                </a:lnTo>
                <a:lnTo>
                  <a:pt x="227" y="201"/>
                </a:lnTo>
                <a:lnTo>
                  <a:pt x="227" y="209"/>
                </a:lnTo>
                <a:lnTo>
                  <a:pt x="227" y="215"/>
                </a:lnTo>
                <a:lnTo>
                  <a:pt x="227" y="222"/>
                </a:lnTo>
                <a:lnTo>
                  <a:pt x="227" y="232"/>
                </a:lnTo>
                <a:lnTo>
                  <a:pt x="227" y="239"/>
                </a:lnTo>
                <a:lnTo>
                  <a:pt x="225" y="249"/>
                </a:lnTo>
                <a:lnTo>
                  <a:pt x="225" y="261"/>
                </a:lnTo>
                <a:lnTo>
                  <a:pt x="223" y="270"/>
                </a:lnTo>
                <a:lnTo>
                  <a:pt x="223" y="282"/>
                </a:lnTo>
                <a:lnTo>
                  <a:pt x="221" y="293"/>
                </a:lnTo>
                <a:lnTo>
                  <a:pt x="219" y="307"/>
                </a:lnTo>
                <a:lnTo>
                  <a:pt x="217" y="318"/>
                </a:lnTo>
                <a:lnTo>
                  <a:pt x="215" y="333"/>
                </a:lnTo>
                <a:lnTo>
                  <a:pt x="213" y="339"/>
                </a:lnTo>
                <a:lnTo>
                  <a:pt x="213" y="349"/>
                </a:lnTo>
                <a:lnTo>
                  <a:pt x="211" y="357"/>
                </a:lnTo>
                <a:lnTo>
                  <a:pt x="211" y="366"/>
                </a:lnTo>
                <a:lnTo>
                  <a:pt x="209" y="378"/>
                </a:lnTo>
                <a:lnTo>
                  <a:pt x="209" y="389"/>
                </a:lnTo>
                <a:lnTo>
                  <a:pt x="207" y="401"/>
                </a:lnTo>
                <a:lnTo>
                  <a:pt x="205" y="414"/>
                </a:lnTo>
                <a:lnTo>
                  <a:pt x="205" y="428"/>
                </a:lnTo>
                <a:lnTo>
                  <a:pt x="204" y="441"/>
                </a:lnTo>
                <a:lnTo>
                  <a:pt x="204" y="456"/>
                </a:lnTo>
                <a:lnTo>
                  <a:pt x="202" y="472"/>
                </a:lnTo>
                <a:lnTo>
                  <a:pt x="200" y="489"/>
                </a:lnTo>
                <a:lnTo>
                  <a:pt x="200" y="506"/>
                </a:lnTo>
                <a:lnTo>
                  <a:pt x="198" y="525"/>
                </a:lnTo>
                <a:lnTo>
                  <a:pt x="198" y="545"/>
                </a:lnTo>
                <a:lnTo>
                  <a:pt x="196" y="564"/>
                </a:lnTo>
                <a:lnTo>
                  <a:pt x="196" y="585"/>
                </a:lnTo>
                <a:lnTo>
                  <a:pt x="194" y="606"/>
                </a:lnTo>
                <a:lnTo>
                  <a:pt x="192" y="627"/>
                </a:lnTo>
                <a:lnTo>
                  <a:pt x="192" y="650"/>
                </a:lnTo>
                <a:lnTo>
                  <a:pt x="190" y="673"/>
                </a:lnTo>
                <a:lnTo>
                  <a:pt x="188" y="698"/>
                </a:lnTo>
                <a:lnTo>
                  <a:pt x="188" y="723"/>
                </a:lnTo>
                <a:lnTo>
                  <a:pt x="186" y="748"/>
                </a:lnTo>
                <a:lnTo>
                  <a:pt x="186" y="775"/>
                </a:lnTo>
                <a:lnTo>
                  <a:pt x="184" y="802"/>
                </a:lnTo>
                <a:lnTo>
                  <a:pt x="182" y="831"/>
                </a:lnTo>
                <a:lnTo>
                  <a:pt x="182" y="859"/>
                </a:lnTo>
                <a:lnTo>
                  <a:pt x="180" y="888"/>
                </a:lnTo>
                <a:lnTo>
                  <a:pt x="180" y="917"/>
                </a:lnTo>
                <a:lnTo>
                  <a:pt x="179" y="950"/>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30"/>
          <p:cNvSpPr/>
          <p:nvPr/>
        </p:nvSpPr>
        <p:spPr>
          <a:xfrm>
            <a:off x="5456160" y="2933640"/>
            <a:ext cx="881280" cy="1244520"/>
          </a:xfrm>
          <a:custGeom>
            <a:avLst/>
            <a:gdLst/>
            <a:ahLst/>
            <a:rect l="l" t="t" r="r" b="b"/>
            <a:pathLst>
              <a:path w="1109" h="1568">
                <a:moveTo>
                  <a:pt x="134" y="1516"/>
                </a:moveTo>
                <a:lnTo>
                  <a:pt x="119" y="1524"/>
                </a:lnTo>
                <a:lnTo>
                  <a:pt x="105" y="1531"/>
                </a:lnTo>
                <a:lnTo>
                  <a:pt x="92" y="1539"/>
                </a:lnTo>
                <a:lnTo>
                  <a:pt x="80" y="1545"/>
                </a:lnTo>
                <a:lnTo>
                  <a:pt x="69" y="1550"/>
                </a:lnTo>
                <a:lnTo>
                  <a:pt x="59" y="1556"/>
                </a:lnTo>
                <a:lnTo>
                  <a:pt x="50" y="1560"/>
                </a:lnTo>
                <a:lnTo>
                  <a:pt x="42" y="1562"/>
                </a:lnTo>
                <a:lnTo>
                  <a:pt x="34" y="1566"/>
                </a:lnTo>
                <a:lnTo>
                  <a:pt x="27" y="1568"/>
                </a:lnTo>
                <a:lnTo>
                  <a:pt x="21" y="1568"/>
                </a:lnTo>
                <a:lnTo>
                  <a:pt x="15" y="1568"/>
                </a:lnTo>
                <a:lnTo>
                  <a:pt x="11" y="1568"/>
                </a:lnTo>
                <a:lnTo>
                  <a:pt x="8" y="1568"/>
                </a:lnTo>
                <a:lnTo>
                  <a:pt x="4" y="1566"/>
                </a:lnTo>
                <a:lnTo>
                  <a:pt x="2" y="1564"/>
                </a:lnTo>
                <a:lnTo>
                  <a:pt x="2" y="1562"/>
                </a:lnTo>
                <a:lnTo>
                  <a:pt x="0" y="1560"/>
                </a:lnTo>
                <a:lnTo>
                  <a:pt x="0" y="1558"/>
                </a:lnTo>
                <a:lnTo>
                  <a:pt x="2" y="1556"/>
                </a:lnTo>
                <a:lnTo>
                  <a:pt x="2" y="1554"/>
                </a:lnTo>
                <a:lnTo>
                  <a:pt x="4" y="1550"/>
                </a:lnTo>
                <a:lnTo>
                  <a:pt x="6" y="1547"/>
                </a:lnTo>
                <a:lnTo>
                  <a:pt x="9" y="1543"/>
                </a:lnTo>
                <a:lnTo>
                  <a:pt x="15" y="1533"/>
                </a:lnTo>
                <a:lnTo>
                  <a:pt x="25" y="1524"/>
                </a:lnTo>
                <a:lnTo>
                  <a:pt x="34" y="1510"/>
                </a:lnTo>
                <a:lnTo>
                  <a:pt x="46" y="1497"/>
                </a:lnTo>
                <a:lnTo>
                  <a:pt x="61" y="1481"/>
                </a:lnTo>
                <a:lnTo>
                  <a:pt x="77" y="1464"/>
                </a:lnTo>
                <a:lnTo>
                  <a:pt x="94" y="1443"/>
                </a:lnTo>
                <a:lnTo>
                  <a:pt x="103" y="1433"/>
                </a:lnTo>
                <a:lnTo>
                  <a:pt x="113" y="1422"/>
                </a:lnTo>
                <a:lnTo>
                  <a:pt x="123" y="1410"/>
                </a:lnTo>
                <a:lnTo>
                  <a:pt x="134" y="1399"/>
                </a:lnTo>
                <a:lnTo>
                  <a:pt x="144" y="1387"/>
                </a:lnTo>
                <a:lnTo>
                  <a:pt x="155" y="1374"/>
                </a:lnTo>
                <a:lnTo>
                  <a:pt x="169" y="1360"/>
                </a:lnTo>
                <a:lnTo>
                  <a:pt x="180" y="1347"/>
                </a:lnTo>
                <a:lnTo>
                  <a:pt x="194" y="1332"/>
                </a:lnTo>
                <a:lnTo>
                  <a:pt x="207" y="1318"/>
                </a:lnTo>
                <a:lnTo>
                  <a:pt x="259" y="1257"/>
                </a:lnTo>
                <a:lnTo>
                  <a:pt x="311" y="1195"/>
                </a:lnTo>
                <a:lnTo>
                  <a:pt x="359" y="1132"/>
                </a:lnTo>
                <a:lnTo>
                  <a:pt x="407" y="1069"/>
                </a:lnTo>
                <a:lnTo>
                  <a:pt x="453" y="1004"/>
                </a:lnTo>
                <a:lnTo>
                  <a:pt x="497" y="936"/>
                </a:lnTo>
                <a:lnTo>
                  <a:pt x="539" y="869"/>
                </a:lnTo>
                <a:lnTo>
                  <a:pt x="580" y="800"/>
                </a:lnTo>
                <a:lnTo>
                  <a:pt x="599" y="766"/>
                </a:lnTo>
                <a:lnTo>
                  <a:pt x="618" y="731"/>
                </a:lnTo>
                <a:lnTo>
                  <a:pt x="637" y="698"/>
                </a:lnTo>
                <a:lnTo>
                  <a:pt x="654" y="666"/>
                </a:lnTo>
                <a:lnTo>
                  <a:pt x="670" y="633"/>
                </a:lnTo>
                <a:lnTo>
                  <a:pt x="687" y="602"/>
                </a:lnTo>
                <a:lnTo>
                  <a:pt x="702" y="572"/>
                </a:lnTo>
                <a:lnTo>
                  <a:pt x="718" y="541"/>
                </a:lnTo>
                <a:lnTo>
                  <a:pt x="731" y="512"/>
                </a:lnTo>
                <a:lnTo>
                  <a:pt x="747" y="482"/>
                </a:lnTo>
                <a:lnTo>
                  <a:pt x="760" y="455"/>
                </a:lnTo>
                <a:lnTo>
                  <a:pt x="772" y="426"/>
                </a:lnTo>
                <a:lnTo>
                  <a:pt x="785" y="399"/>
                </a:lnTo>
                <a:lnTo>
                  <a:pt x="797" y="372"/>
                </a:lnTo>
                <a:lnTo>
                  <a:pt x="808" y="345"/>
                </a:lnTo>
                <a:lnTo>
                  <a:pt x="820" y="320"/>
                </a:lnTo>
                <a:lnTo>
                  <a:pt x="831" y="295"/>
                </a:lnTo>
                <a:lnTo>
                  <a:pt x="841" y="270"/>
                </a:lnTo>
                <a:lnTo>
                  <a:pt x="848" y="249"/>
                </a:lnTo>
                <a:lnTo>
                  <a:pt x="856" y="226"/>
                </a:lnTo>
                <a:lnTo>
                  <a:pt x="862" y="207"/>
                </a:lnTo>
                <a:lnTo>
                  <a:pt x="868" y="188"/>
                </a:lnTo>
                <a:lnTo>
                  <a:pt x="871" y="171"/>
                </a:lnTo>
                <a:lnTo>
                  <a:pt x="875" y="153"/>
                </a:lnTo>
                <a:lnTo>
                  <a:pt x="877" y="138"/>
                </a:lnTo>
                <a:lnTo>
                  <a:pt x="879" y="123"/>
                </a:lnTo>
                <a:lnTo>
                  <a:pt x="879" y="109"/>
                </a:lnTo>
                <a:lnTo>
                  <a:pt x="879" y="98"/>
                </a:lnTo>
                <a:lnTo>
                  <a:pt x="877" y="86"/>
                </a:lnTo>
                <a:lnTo>
                  <a:pt x="875" y="77"/>
                </a:lnTo>
                <a:lnTo>
                  <a:pt x="873" y="67"/>
                </a:lnTo>
                <a:lnTo>
                  <a:pt x="869" y="61"/>
                </a:lnTo>
                <a:lnTo>
                  <a:pt x="862" y="54"/>
                </a:lnTo>
                <a:lnTo>
                  <a:pt x="858" y="48"/>
                </a:lnTo>
                <a:lnTo>
                  <a:pt x="852" y="42"/>
                </a:lnTo>
                <a:lnTo>
                  <a:pt x="850" y="36"/>
                </a:lnTo>
                <a:lnTo>
                  <a:pt x="848" y="32"/>
                </a:lnTo>
                <a:lnTo>
                  <a:pt x="846" y="29"/>
                </a:lnTo>
                <a:lnTo>
                  <a:pt x="846" y="25"/>
                </a:lnTo>
                <a:lnTo>
                  <a:pt x="846" y="21"/>
                </a:lnTo>
                <a:lnTo>
                  <a:pt x="848" y="17"/>
                </a:lnTo>
                <a:lnTo>
                  <a:pt x="850" y="13"/>
                </a:lnTo>
                <a:lnTo>
                  <a:pt x="854" y="11"/>
                </a:lnTo>
                <a:lnTo>
                  <a:pt x="858" y="9"/>
                </a:lnTo>
                <a:lnTo>
                  <a:pt x="862" y="6"/>
                </a:lnTo>
                <a:lnTo>
                  <a:pt x="868" y="4"/>
                </a:lnTo>
                <a:lnTo>
                  <a:pt x="873" y="2"/>
                </a:lnTo>
                <a:lnTo>
                  <a:pt x="881" y="0"/>
                </a:lnTo>
                <a:lnTo>
                  <a:pt x="894" y="0"/>
                </a:lnTo>
                <a:lnTo>
                  <a:pt x="908" y="2"/>
                </a:lnTo>
                <a:lnTo>
                  <a:pt x="921" y="4"/>
                </a:lnTo>
                <a:lnTo>
                  <a:pt x="935" y="7"/>
                </a:lnTo>
                <a:lnTo>
                  <a:pt x="948" y="13"/>
                </a:lnTo>
                <a:lnTo>
                  <a:pt x="962" y="19"/>
                </a:lnTo>
                <a:lnTo>
                  <a:pt x="975" y="27"/>
                </a:lnTo>
                <a:lnTo>
                  <a:pt x="988" y="36"/>
                </a:lnTo>
                <a:lnTo>
                  <a:pt x="1015" y="55"/>
                </a:lnTo>
                <a:lnTo>
                  <a:pt x="1029" y="63"/>
                </a:lnTo>
                <a:lnTo>
                  <a:pt x="1040" y="73"/>
                </a:lnTo>
                <a:lnTo>
                  <a:pt x="1054" y="82"/>
                </a:lnTo>
                <a:lnTo>
                  <a:pt x="1065" y="92"/>
                </a:lnTo>
                <a:lnTo>
                  <a:pt x="1075" y="102"/>
                </a:lnTo>
                <a:lnTo>
                  <a:pt x="1084" y="111"/>
                </a:lnTo>
                <a:lnTo>
                  <a:pt x="1088" y="123"/>
                </a:lnTo>
                <a:lnTo>
                  <a:pt x="1094" y="136"/>
                </a:lnTo>
                <a:lnTo>
                  <a:pt x="1098" y="146"/>
                </a:lnTo>
                <a:lnTo>
                  <a:pt x="1102" y="155"/>
                </a:lnTo>
                <a:lnTo>
                  <a:pt x="1104" y="165"/>
                </a:lnTo>
                <a:lnTo>
                  <a:pt x="1106" y="173"/>
                </a:lnTo>
                <a:lnTo>
                  <a:pt x="1108" y="178"/>
                </a:lnTo>
                <a:lnTo>
                  <a:pt x="1109" y="184"/>
                </a:lnTo>
                <a:lnTo>
                  <a:pt x="1108" y="190"/>
                </a:lnTo>
                <a:lnTo>
                  <a:pt x="1108" y="196"/>
                </a:lnTo>
                <a:lnTo>
                  <a:pt x="1106" y="203"/>
                </a:lnTo>
                <a:lnTo>
                  <a:pt x="1102" y="211"/>
                </a:lnTo>
                <a:lnTo>
                  <a:pt x="1098" y="222"/>
                </a:lnTo>
                <a:lnTo>
                  <a:pt x="1094" y="232"/>
                </a:lnTo>
                <a:lnTo>
                  <a:pt x="1088" y="245"/>
                </a:lnTo>
                <a:lnTo>
                  <a:pt x="1081" y="259"/>
                </a:lnTo>
                <a:lnTo>
                  <a:pt x="1075" y="274"/>
                </a:lnTo>
                <a:lnTo>
                  <a:pt x="1065" y="292"/>
                </a:lnTo>
                <a:lnTo>
                  <a:pt x="1058" y="309"/>
                </a:lnTo>
                <a:lnTo>
                  <a:pt x="1048" y="328"/>
                </a:lnTo>
                <a:lnTo>
                  <a:pt x="1036" y="347"/>
                </a:lnTo>
                <a:lnTo>
                  <a:pt x="1027" y="370"/>
                </a:lnTo>
                <a:lnTo>
                  <a:pt x="1013" y="393"/>
                </a:lnTo>
                <a:lnTo>
                  <a:pt x="1002" y="418"/>
                </a:lnTo>
                <a:lnTo>
                  <a:pt x="985" y="443"/>
                </a:lnTo>
                <a:lnTo>
                  <a:pt x="969" y="470"/>
                </a:lnTo>
                <a:lnTo>
                  <a:pt x="937" y="524"/>
                </a:lnTo>
                <a:lnTo>
                  <a:pt x="904" y="579"/>
                </a:lnTo>
                <a:lnTo>
                  <a:pt x="871" y="637"/>
                </a:lnTo>
                <a:lnTo>
                  <a:pt x="837" y="695"/>
                </a:lnTo>
                <a:lnTo>
                  <a:pt x="800" y="754"/>
                </a:lnTo>
                <a:lnTo>
                  <a:pt x="764" y="814"/>
                </a:lnTo>
                <a:lnTo>
                  <a:pt x="743" y="844"/>
                </a:lnTo>
                <a:lnTo>
                  <a:pt x="724" y="875"/>
                </a:lnTo>
                <a:lnTo>
                  <a:pt x="704" y="904"/>
                </a:lnTo>
                <a:lnTo>
                  <a:pt x="683" y="933"/>
                </a:lnTo>
                <a:lnTo>
                  <a:pt x="664" y="961"/>
                </a:lnTo>
                <a:lnTo>
                  <a:pt x="645" y="990"/>
                </a:lnTo>
                <a:lnTo>
                  <a:pt x="626" y="1017"/>
                </a:lnTo>
                <a:lnTo>
                  <a:pt x="606" y="1044"/>
                </a:lnTo>
                <a:lnTo>
                  <a:pt x="587" y="1071"/>
                </a:lnTo>
                <a:lnTo>
                  <a:pt x="568" y="1096"/>
                </a:lnTo>
                <a:lnTo>
                  <a:pt x="549" y="1121"/>
                </a:lnTo>
                <a:lnTo>
                  <a:pt x="530" y="1146"/>
                </a:lnTo>
                <a:lnTo>
                  <a:pt x="509" y="1169"/>
                </a:lnTo>
                <a:lnTo>
                  <a:pt x="489" y="1194"/>
                </a:lnTo>
                <a:lnTo>
                  <a:pt x="470" y="1215"/>
                </a:lnTo>
                <a:lnTo>
                  <a:pt x="451" y="1238"/>
                </a:lnTo>
                <a:lnTo>
                  <a:pt x="430" y="1259"/>
                </a:lnTo>
                <a:lnTo>
                  <a:pt x="411" y="1282"/>
                </a:lnTo>
                <a:lnTo>
                  <a:pt x="391" y="1301"/>
                </a:lnTo>
                <a:lnTo>
                  <a:pt x="372" y="1320"/>
                </a:lnTo>
                <a:lnTo>
                  <a:pt x="353" y="1339"/>
                </a:lnTo>
                <a:lnTo>
                  <a:pt x="334" y="1357"/>
                </a:lnTo>
                <a:lnTo>
                  <a:pt x="317" y="1374"/>
                </a:lnTo>
                <a:lnTo>
                  <a:pt x="299" y="1391"/>
                </a:lnTo>
                <a:lnTo>
                  <a:pt x="280" y="1407"/>
                </a:lnTo>
                <a:lnTo>
                  <a:pt x="265" y="1422"/>
                </a:lnTo>
                <a:lnTo>
                  <a:pt x="247" y="1435"/>
                </a:lnTo>
                <a:lnTo>
                  <a:pt x="230" y="1449"/>
                </a:lnTo>
                <a:lnTo>
                  <a:pt x="215" y="1460"/>
                </a:lnTo>
                <a:lnTo>
                  <a:pt x="198" y="1474"/>
                </a:lnTo>
                <a:lnTo>
                  <a:pt x="182" y="1485"/>
                </a:lnTo>
                <a:lnTo>
                  <a:pt x="165" y="1495"/>
                </a:lnTo>
                <a:lnTo>
                  <a:pt x="150" y="1506"/>
                </a:lnTo>
                <a:lnTo>
                  <a:pt x="134" y="1516"/>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31"/>
          <p:cNvSpPr/>
          <p:nvPr/>
        </p:nvSpPr>
        <p:spPr>
          <a:xfrm>
            <a:off x="6438960" y="3176640"/>
            <a:ext cx="260280" cy="323640"/>
          </a:xfrm>
          <a:custGeom>
            <a:avLst/>
            <a:gdLst/>
            <a:ahLst/>
            <a:rect l="l" t="t" r="r" b="b"/>
            <a:pathLst>
              <a:path w="328" h="407">
                <a:moveTo>
                  <a:pt x="221" y="100"/>
                </a:moveTo>
                <a:lnTo>
                  <a:pt x="232" y="111"/>
                </a:lnTo>
                <a:lnTo>
                  <a:pt x="246" y="121"/>
                </a:lnTo>
                <a:lnTo>
                  <a:pt x="255" y="132"/>
                </a:lnTo>
                <a:lnTo>
                  <a:pt x="267" y="144"/>
                </a:lnTo>
                <a:lnTo>
                  <a:pt x="276" y="153"/>
                </a:lnTo>
                <a:lnTo>
                  <a:pt x="286" y="163"/>
                </a:lnTo>
                <a:lnTo>
                  <a:pt x="294" y="173"/>
                </a:lnTo>
                <a:lnTo>
                  <a:pt x="301" y="182"/>
                </a:lnTo>
                <a:lnTo>
                  <a:pt x="307" y="192"/>
                </a:lnTo>
                <a:lnTo>
                  <a:pt x="313" y="199"/>
                </a:lnTo>
                <a:lnTo>
                  <a:pt x="317" y="209"/>
                </a:lnTo>
                <a:lnTo>
                  <a:pt x="321" y="217"/>
                </a:lnTo>
                <a:lnTo>
                  <a:pt x="324" y="224"/>
                </a:lnTo>
                <a:lnTo>
                  <a:pt x="326" y="232"/>
                </a:lnTo>
                <a:lnTo>
                  <a:pt x="328" y="240"/>
                </a:lnTo>
                <a:lnTo>
                  <a:pt x="328" y="247"/>
                </a:lnTo>
                <a:lnTo>
                  <a:pt x="328" y="261"/>
                </a:lnTo>
                <a:lnTo>
                  <a:pt x="326" y="274"/>
                </a:lnTo>
                <a:lnTo>
                  <a:pt x="323" y="288"/>
                </a:lnTo>
                <a:lnTo>
                  <a:pt x="319" y="303"/>
                </a:lnTo>
                <a:lnTo>
                  <a:pt x="315" y="317"/>
                </a:lnTo>
                <a:lnTo>
                  <a:pt x="307" y="330"/>
                </a:lnTo>
                <a:lnTo>
                  <a:pt x="300" y="343"/>
                </a:lnTo>
                <a:lnTo>
                  <a:pt x="292" y="359"/>
                </a:lnTo>
                <a:lnTo>
                  <a:pt x="288" y="366"/>
                </a:lnTo>
                <a:lnTo>
                  <a:pt x="282" y="374"/>
                </a:lnTo>
                <a:lnTo>
                  <a:pt x="278" y="382"/>
                </a:lnTo>
                <a:lnTo>
                  <a:pt x="275" y="388"/>
                </a:lnTo>
                <a:lnTo>
                  <a:pt x="269" y="393"/>
                </a:lnTo>
                <a:lnTo>
                  <a:pt x="265" y="397"/>
                </a:lnTo>
                <a:lnTo>
                  <a:pt x="259" y="401"/>
                </a:lnTo>
                <a:lnTo>
                  <a:pt x="253" y="403"/>
                </a:lnTo>
                <a:lnTo>
                  <a:pt x="250" y="405"/>
                </a:lnTo>
                <a:lnTo>
                  <a:pt x="244" y="407"/>
                </a:lnTo>
                <a:lnTo>
                  <a:pt x="238" y="407"/>
                </a:lnTo>
                <a:lnTo>
                  <a:pt x="232" y="407"/>
                </a:lnTo>
                <a:lnTo>
                  <a:pt x="227" y="405"/>
                </a:lnTo>
                <a:lnTo>
                  <a:pt x="221" y="401"/>
                </a:lnTo>
                <a:lnTo>
                  <a:pt x="215" y="399"/>
                </a:lnTo>
                <a:lnTo>
                  <a:pt x="207" y="395"/>
                </a:lnTo>
                <a:lnTo>
                  <a:pt x="202" y="389"/>
                </a:lnTo>
                <a:lnTo>
                  <a:pt x="194" y="384"/>
                </a:lnTo>
                <a:lnTo>
                  <a:pt x="186" y="376"/>
                </a:lnTo>
                <a:lnTo>
                  <a:pt x="181" y="368"/>
                </a:lnTo>
                <a:lnTo>
                  <a:pt x="173" y="361"/>
                </a:lnTo>
                <a:lnTo>
                  <a:pt x="165" y="351"/>
                </a:lnTo>
                <a:lnTo>
                  <a:pt x="157" y="340"/>
                </a:lnTo>
                <a:lnTo>
                  <a:pt x="150" y="328"/>
                </a:lnTo>
                <a:lnTo>
                  <a:pt x="142" y="317"/>
                </a:lnTo>
                <a:lnTo>
                  <a:pt x="134" y="303"/>
                </a:lnTo>
                <a:lnTo>
                  <a:pt x="125" y="288"/>
                </a:lnTo>
                <a:lnTo>
                  <a:pt x="115" y="272"/>
                </a:lnTo>
                <a:lnTo>
                  <a:pt x="106" y="255"/>
                </a:lnTo>
                <a:lnTo>
                  <a:pt x="96" y="238"/>
                </a:lnTo>
                <a:lnTo>
                  <a:pt x="86" y="219"/>
                </a:lnTo>
                <a:lnTo>
                  <a:pt x="75" y="198"/>
                </a:lnTo>
                <a:lnTo>
                  <a:pt x="65" y="176"/>
                </a:lnTo>
                <a:lnTo>
                  <a:pt x="54" y="157"/>
                </a:lnTo>
                <a:lnTo>
                  <a:pt x="46" y="140"/>
                </a:lnTo>
                <a:lnTo>
                  <a:pt x="37" y="123"/>
                </a:lnTo>
                <a:lnTo>
                  <a:pt x="31" y="107"/>
                </a:lnTo>
                <a:lnTo>
                  <a:pt x="23" y="94"/>
                </a:lnTo>
                <a:lnTo>
                  <a:pt x="17" y="80"/>
                </a:lnTo>
                <a:lnTo>
                  <a:pt x="13" y="67"/>
                </a:lnTo>
                <a:lnTo>
                  <a:pt x="8" y="57"/>
                </a:lnTo>
                <a:lnTo>
                  <a:pt x="6" y="48"/>
                </a:lnTo>
                <a:lnTo>
                  <a:pt x="2" y="38"/>
                </a:lnTo>
                <a:lnTo>
                  <a:pt x="2" y="31"/>
                </a:lnTo>
                <a:lnTo>
                  <a:pt x="0" y="25"/>
                </a:lnTo>
                <a:lnTo>
                  <a:pt x="0" y="19"/>
                </a:lnTo>
                <a:lnTo>
                  <a:pt x="2" y="15"/>
                </a:lnTo>
                <a:lnTo>
                  <a:pt x="4" y="13"/>
                </a:lnTo>
                <a:lnTo>
                  <a:pt x="4" y="9"/>
                </a:lnTo>
                <a:lnTo>
                  <a:pt x="4" y="8"/>
                </a:lnTo>
                <a:lnTo>
                  <a:pt x="6" y="8"/>
                </a:lnTo>
                <a:lnTo>
                  <a:pt x="8" y="6"/>
                </a:lnTo>
                <a:lnTo>
                  <a:pt x="10" y="4"/>
                </a:lnTo>
                <a:lnTo>
                  <a:pt x="12" y="4"/>
                </a:lnTo>
                <a:lnTo>
                  <a:pt x="19" y="2"/>
                </a:lnTo>
                <a:lnTo>
                  <a:pt x="29" y="0"/>
                </a:lnTo>
                <a:lnTo>
                  <a:pt x="38" y="0"/>
                </a:lnTo>
                <a:lnTo>
                  <a:pt x="50" y="0"/>
                </a:lnTo>
                <a:lnTo>
                  <a:pt x="63" y="0"/>
                </a:lnTo>
                <a:lnTo>
                  <a:pt x="71" y="0"/>
                </a:lnTo>
                <a:lnTo>
                  <a:pt x="79" y="2"/>
                </a:lnTo>
                <a:lnTo>
                  <a:pt x="86" y="4"/>
                </a:lnTo>
                <a:lnTo>
                  <a:pt x="94" y="6"/>
                </a:lnTo>
                <a:lnTo>
                  <a:pt x="104" y="9"/>
                </a:lnTo>
                <a:lnTo>
                  <a:pt x="113" y="15"/>
                </a:lnTo>
                <a:lnTo>
                  <a:pt x="123" y="19"/>
                </a:lnTo>
                <a:lnTo>
                  <a:pt x="133" y="27"/>
                </a:lnTo>
                <a:lnTo>
                  <a:pt x="144" y="32"/>
                </a:lnTo>
                <a:lnTo>
                  <a:pt x="154" y="40"/>
                </a:lnTo>
                <a:lnTo>
                  <a:pt x="165" y="48"/>
                </a:lnTo>
                <a:lnTo>
                  <a:pt x="175" y="57"/>
                </a:lnTo>
                <a:lnTo>
                  <a:pt x="186" y="67"/>
                </a:lnTo>
                <a:lnTo>
                  <a:pt x="198" y="77"/>
                </a:lnTo>
                <a:lnTo>
                  <a:pt x="209" y="88"/>
                </a:lnTo>
                <a:lnTo>
                  <a:pt x="221" y="100"/>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Freeform 32"/>
          <p:cNvSpPr/>
          <p:nvPr/>
        </p:nvSpPr>
        <p:spPr>
          <a:xfrm>
            <a:off x="6124680" y="2825640"/>
            <a:ext cx="1023840" cy="2065320"/>
          </a:xfrm>
          <a:custGeom>
            <a:avLst/>
            <a:gdLst/>
            <a:ahLst/>
            <a:rect l="l" t="t" r="r" b="b"/>
            <a:pathLst>
              <a:path w="1290" h="2602">
                <a:moveTo>
                  <a:pt x="1036" y="481"/>
                </a:moveTo>
                <a:lnTo>
                  <a:pt x="1038" y="458"/>
                </a:lnTo>
                <a:lnTo>
                  <a:pt x="1040" y="437"/>
                </a:lnTo>
                <a:lnTo>
                  <a:pt x="1042" y="418"/>
                </a:lnTo>
                <a:lnTo>
                  <a:pt x="1044" y="397"/>
                </a:lnTo>
                <a:lnTo>
                  <a:pt x="1046" y="378"/>
                </a:lnTo>
                <a:lnTo>
                  <a:pt x="1048" y="358"/>
                </a:lnTo>
                <a:lnTo>
                  <a:pt x="1048" y="341"/>
                </a:lnTo>
                <a:lnTo>
                  <a:pt x="1050" y="324"/>
                </a:lnTo>
                <a:lnTo>
                  <a:pt x="1050" y="307"/>
                </a:lnTo>
                <a:lnTo>
                  <a:pt x="1052" y="289"/>
                </a:lnTo>
                <a:lnTo>
                  <a:pt x="1052" y="274"/>
                </a:lnTo>
                <a:lnTo>
                  <a:pt x="1052" y="259"/>
                </a:lnTo>
                <a:lnTo>
                  <a:pt x="1054" y="245"/>
                </a:lnTo>
                <a:lnTo>
                  <a:pt x="1054" y="230"/>
                </a:lnTo>
                <a:lnTo>
                  <a:pt x="1054" y="218"/>
                </a:lnTo>
                <a:lnTo>
                  <a:pt x="1054" y="205"/>
                </a:lnTo>
                <a:lnTo>
                  <a:pt x="1054" y="193"/>
                </a:lnTo>
                <a:lnTo>
                  <a:pt x="1054" y="182"/>
                </a:lnTo>
                <a:lnTo>
                  <a:pt x="1054" y="170"/>
                </a:lnTo>
                <a:lnTo>
                  <a:pt x="1052" y="161"/>
                </a:lnTo>
                <a:lnTo>
                  <a:pt x="1052" y="151"/>
                </a:lnTo>
                <a:lnTo>
                  <a:pt x="1052" y="142"/>
                </a:lnTo>
                <a:lnTo>
                  <a:pt x="1050" y="134"/>
                </a:lnTo>
                <a:lnTo>
                  <a:pt x="1050" y="124"/>
                </a:lnTo>
                <a:lnTo>
                  <a:pt x="1048" y="119"/>
                </a:lnTo>
                <a:lnTo>
                  <a:pt x="1048" y="111"/>
                </a:lnTo>
                <a:lnTo>
                  <a:pt x="1046" y="105"/>
                </a:lnTo>
                <a:lnTo>
                  <a:pt x="1044" y="101"/>
                </a:lnTo>
                <a:lnTo>
                  <a:pt x="1042" y="96"/>
                </a:lnTo>
                <a:lnTo>
                  <a:pt x="1040" y="92"/>
                </a:lnTo>
                <a:lnTo>
                  <a:pt x="1038" y="88"/>
                </a:lnTo>
                <a:lnTo>
                  <a:pt x="1036" y="86"/>
                </a:lnTo>
                <a:lnTo>
                  <a:pt x="1029" y="80"/>
                </a:lnTo>
                <a:lnTo>
                  <a:pt x="1021" y="74"/>
                </a:lnTo>
                <a:lnTo>
                  <a:pt x="1015" y="67"/>
                </a:lnTo>
                <a:lnTo>
                  <a:pt x="1011" y="59"/>
                </a:lnTo>
                <a:lnTo>
                  <a:pt x="1007" y="51"/>
                </a:lnTo>
                <a:lnTo>
                  <a:pt x="1007" y="48"/>
                </a:lnTo>
                <a:lnTo>
                  <a:pt x="1007" y="44"/>
                </a:lnTo>
                <a:lnTo>
                  <a:pt x="1007" y="38"/>
                </a:lnTo>
                <a:lnTo>
                  <a:pt x="1007" y="34"/>
                </a:lnTo>
                <a:lnTo>
                  <a:pt x="1009" y="28"/>
                </a:lnTo>
                <a:lnTo>
                  <a:pt x="1011" y="25"/>
                </a:lnTo>
                <a:lnTo>
                  <a:pt x="1017" y="21"/>
                </a:lnTo>
                <a:lnTo>
                  <a:pt x="1023" y="15"/>
                </a:lnTo>
                <a:lnTo>
                  <a:pt x="1030" y="11"/>
                </a:lnTo>
                <a:lnTo>
                  <a:pt x="1038" y="7"/>
                </a:lnTo>
                <a:lnTo>
                  <a:pt x="1048" y="3"/>
                </a:lnTo>
                <a:lnTo>
                  <a:pt x="1059" y="1"/>
                </a:lnTo>
                <a:lnTo>
                  <a:pt x="1071" y="0"/>
                </a:lnTo>
                <a:lnTo>
                  <a:pt x="1084" y="0"/>
                </a:lnTo>
                <a:lnTo>
                  <a:pt x="1098" y="3"/>
                </a:lnTo>
                <a:lnTo>
                  <a:pt x="1111" y="9"/>
                </a:lnTo>
                <a:lnTo>
                  <a:pt x="1126" y="15"/>
                </a:lnTo>
                <a:lnTo>
                  <a:pt x="1142" y="21"/>
                </a:lnTo>
                <a:lnTo>
                  <a:pt x="1157" y="28"/>
                </a:lnTo>
                <a:lnTo>
                  <a:pt x="1174" y="38"/>
                </a:lnTo>
                <a:lnTo>
                  <a:pt x="1184" y="42"/>
                </a:lnTo>
                <a:lnTo>
                  <a:pt x="1194" y="48"/>
                </a:lnTo>
                <a:lnTo>
                  <a:pt x="1205" y="55"/>
                </a:lnTo>
                <a:lnTo>
                  <a:pt x="1217" y="61"/>
                </a:lnTo>
                <a:lnTo>
                  <a:pt x="1224" y="69"/>
                </a:lnTo>
                <a:lnTo>
                  <a:pt x="1232" y="74"/>
                </a:lnTo>
                <a:lnTo>
                  <a:pt x="1240" y="82"/>
                </a:lnTo>
                <a:lnTo>
                  <a:pt x="1247" y="88"/>
                </a:lnTo>
                <a:lnTo>
                  <a:pt x="1253" y="96"/>
                </a:lnTo>
                <a:lnTo>
                  <a:pt x="1261" y="101"/>
                </a:lnTo>
                <a:lnTo>
                  <a:pt x="1265" y="107"/>
                </a:lnTo>
                <a:lnTo>
                  <a:pt x="1270" y="113"/>
                </a:lnTo>
                <a:lnTo>
                  <a:pt x="1274" y="119"/>
                </a:lnTo>
                <a:lnTo>
                  <a:pt x="1278" y="124"/>
                </a:lnTo>
                <a:lnTo>
                  <a:pt x="1282" y="130"/>
                </a:lnTo>
                <a:lnTo>
                  <a:pt x="1284" y="134"/>
                </a:lnTo>
                <a:lnTo>
                  <a:pt x="1286" y="138"/>
                </a:lnTo>
                <a:lnTo>
                  <a:pt x="1288" y="142"/>
                </a:lnTo>
                <a:lnTo>
                  <a:pt x="1288" y="145"/>
                </a:lnTo>
                <a:lnTo>
                  <a:pt x="1290" y="147"/>
                </a:lnTo>
                <a:lnTo>
                  <a:pt x="1288" y="167"/>
                </a:lnTo>
                <a:lnTo>
                  <a:pt x="1288" y="174"/>
                </a:lnTo>
                <a:lnTo>
                  <a:pt x="1288" y="182"/>
                </a:lnTo>
                <a:lnTo>
                  <a:pt x="1286" y="190"/>
                </a:lnTo>
                <a:lnTo>
                  <a:pt x="1284" y="197"/>
                </a:lnTo>
                <a:lnTo>
                  <a:pt x="1280" y="203"/>
                </a:lnTo>
                <a:lnTo>
                  <a:pt x="1276" y="209"/>
                </a:lnTo>
                <a:lnTo>
                  <a:pt x="1274" y="211"/>
                </a:lnTo>
                <a:lnTo>
                  <a:pt x="1274" y="214"/>
                </a:lnTo>
                <a:lnTo>
                  <a:pt x="1272" y="218"/>
                </a:lnTo>
                <a:lnTo>
                  <a:pt x="1272" y="222"/>
                </a:lnTo>
                <a:lnTo>
                  <a:pt x="1270" y="228"/>
                </a:lnTo>
                <a:lnTo>
                  <a:pt x="1269" y="234"/>
                </a:lnTo>
                <a:lnTo>
                  <a:pt x="1269" y="239"/>
                </a:lnTo>
                <a:lnTo>
                  <a:pt x="1267" y="245"/>
                </a:lnTo>
                <a:lnTo>
                  <a:pt x="1265" y="253"/>
                </a:lnTo>
                <a:lnTo>
                  <a:pt x="1265" y="261"/>
                </a:lnTo>
                <a:lnTo>
                  <a:pt x="1263" y="270"/>
                </a:lnTo>
                <a:lnTo>
                  <a:pt x="1261" y="278"/>
                </a:lnTo>
                <a:lnTo>
                  <a:pt x="1261" y="287"/>
                </a:lnTo>
                <a:lnTo>
                  <a:pt x="1259" y="297"/>
                </a:lnTo>
                <a:lnTo>
                  <a:pt x="1257" y="309"/>
                </a:lnTo>
                <a:lnTo>
                  <a:pt x="1255" y="320"/>
                </a:lnTo>
                <a:lnTo>
                  <a:pt x="1253" y="332"/>
                </a:lnTo>
                <a:lnTo>
                  <a:pt x="1251" y="345"/>
                </a:lnTo>
                <a:lnTo>
                  <a:pt x="1249" y="357"/>
                </a:lnTo>
                <a:lnTo>
                  <a:pt x="1247" y="370"/>
                </a:lnTo>
                <a:lnTo>
                  <a:pt x="1246" y="385"/>
                </a:lnTo>
                <a:lnTo>
                  <a:pt x="1244" y="399"/>
                </a:lnTo>
                <a:lnTo>
                  <a:pt x="1242" y="414"/>
                </a:lnTo>
                <a:lnTo>
                  <a:pt x="1238" y="431"/>
                </a:lnTo>
                <a:lnTo>
                  <a:pt x="1236" y="447"/>
                </a:lnTo>
                <a:lnTo>
                  <a:pt x="1234" y="464"/>
                </a:lnTo>
                <a:lnTo>
                  <a:pt x="1230" y="481"/>
                </a:lnTo>
                <a:lnTo>
                  <a:pt x="1228" y="500"/>
                </a:lnTo>
                <a:lnTo>
                  <a:pt x="1224" y="520"/>
                </a:lnTo>
                <a:lnTo>
                  <a:pt x="1222" y="539"/>
                </a:lnTo>
                <a:lnTo>
                  <a:pt x="1219" y="558"/>
                </a:lnTo>
                <a:lnTo>
                  <a:pt x="1217" y="579"/>
                </a:lnTo>
                <a:lnTo>
                  <a:pt x="1209" y="621"/>
                </a:lnTo>
                <a:lnTo>
                  <a:pt x="1201" y="664"/>
                </a:lnTo>
                <a:lnTo>
                  <a:pt x="1194" y="706"/>
                </a:lnTo>
                <a:lnTo>
                  <a:pt x="1184" y="748"/>
                </a:lnTo>
                <a:lnTo>
                  <a:pt x="1176" y="790"/>
                </a:lnTo>
                <a:lnTo>
                  <a:pt x="1167" y="832"/>
                </a:lnTo>
                <a:lnTo>
                  <a:pt x="1155" y="877"/>
                </a:lnTo>
                <a:lnTo>
                  <a:pt x="1146" y="919"/>
                </a:lnTo>
                <a:lnTo>
                  <a:pt x="1123" y="1005"/>
                </a:lnTo>
                <a:lnTo>
                  <a:pt x="1100" y="1093"/>
                </a:lnTo>
                <a:lnTo>
                  <a:pt x="1075" y="1182"/>
                </a:lnTo>
                <a:lnTo>
                  <a:pt x="1048" y="1270"/>
                </a:lnTo>
                <a:lnTo>
                  <a:pt x="1032" y="1314"/>
                </a:lnTo>
                <a:lnTo>
                  <a:pt x="1017" y="1358"/>
                </a:lnTo>
                <a:lnTo>
                  <a:pt x="1002" y="1402"/>
                </a:lnTo>
                <a:lnTo>
                  <a:pt x="984" y="1445"/>
                </a:lnTo>
                <a:lnTo>
                  <a:pt x="969" y="1485"/>
                </a:lnTo>
                <a:lnTo>
                  <a:pt x="954" y="1525"/>
                </a:lnTo>
                <a:lnTo>
                  <a:pt x="936" y="1566"/>
                </a:lnTo>
                <a:lnTo>
                  <a:pt x="919" y="1602"/>
                </a:lnTo>
                <a:lnTo>
                  <a:pt x="904" y="1640"/>
                </a:lnTo>
                <a:lnTo>
                  <a:pt x="887" y="1675"/>
                </a:lnTo>
                <a:lnTo>
                  <a:pt x="869" y="1711"/>
                </a:lnTo>
                <a:lnTo>
                  <a:pt x="852" y="1746"/>
                </a:lnTo>
                <a:lnTo>
                  <a:pt x="835" y="1779"/>
                </a:lnTo>
                <a:lnTo>
                  <a:pt x="817" y="1811"/>
                </a:lnTo>
                <a:lnTo>
                  <a:pt x="800" y="1842"/>
                </a:lnTo>
                <a:lnTo>
                  <a:pt x="783" y="1873"/>
                </a:lnTo>
                <a:lnTo>
                  <a:pt x="764" y="1903"/>
                </a:lnTo>
                <a:lnTo>
                  <a:pt x="743" y="1932"/>
                </a:lnTo>
                <a:lnTo>
                  <a:pt x="723" y="1959"/>
                </a:lnTo>
                <a:lnTo>
                  <a:pt x="704" y="1986"/>
                </a:lnTo>
                <a:lnTo>
                  <a:pt x="685" y="2013"/>
                </a:lnTo>
                <a:lnTo>
                  <a:pt x="666" y="2038"/>
                </a:lnTo>
                <a:lnTo>
                  <a:pt x="647" y="2063"/>
                </a:lnTo>
                <a:lnTo>
                  <a:pt x="629" y="2088"/>
                </a:lnTo>
                <a:lnTo>
                  <a:pt x="610" y="2111"/>
                </a:lnTo>
                <a:lnTo>
                  <a:pt x="591" y="2132"/>
                </a:lnTo>
                <a:lnTo>
                  <a:pt x="574" y="2155"/>
                </a:lnTo>
                <a:lnTo>
                  <a:pt x="554" y="2176"/>
                </a:lnTo>
                <a:lnTo>
                  <a:pt x="537" y="2197"/>
                </a:lnTo>
                <a:lnTo>
                  <a:pt x="518" y="2216"/>
                </a:lnTo>
                <a:lnTo>
                  <a:pt x="501" y="2235"/>
                </a:lnTo>
                <a:lnTo>
                  <a:pt x="483" y="2255"/>
                </a:lnTo>
                <a:lnTo>
                  <a:pt x="464" y="2276"/>
                </a:lnTo>
                <a:lnTo>
                  <a:pt x="447" y="2295"/>
                </a:lnTo>
                <a:lnTo>
                  <a:pt x="428" y="2314"/>
                </a:lnTo>
                <a:lnTo>
                  <a:pt x="410" y="2333"/>
                </a:lnTo>
                <a:lnTo>
                  <a:pt x="393" y="2351"/>
                </a:lnTo>
                <a:lnTo>
                  <a:pt x="374" y="2368"/>
                </a:lnTo>
                <a:lnTo>
                  <a:pt x="355" y="2385"/>
                </a:lnTo>
                <a:lnTo>
                  <a:pt x="337" y="2402"/>
                </a:lnTo>
                <a:lnTo>
                  <a:pt x="318" y="2418"/>
                </a:lnTo>
                <a:lnTo>
                  <a:pt x="299" y="2433"/>
                </a:lnTo>
                <a:lnTo>
                  <a:pt x="280" y="2448"/>
                </a:lnTo>
                <a:lnTo>
                  <a:pt x="261" y="2462"/>
                </a:lnTo>
                <a:lnTo>
                  <a:pt x="241" y="2475"/>
                </a:lnTo>
                <a:lnTo>
                  <a:pt x="222" y="2489"/>
                </a:lnTo>
                <a:lnTo>
                  <a:pt x="201" y="2500"/>
                </a:lnTo>
                <a:lnTo>
                  <a:pt x="182" y="2514"/>
                </a:lnTo>
                <a:lnTo>
                  <a:pt x="163" y="2527"/>
                </a:lnTo>
                <a:lnTo>
                  <a:pt x="144" y="2539"/>
                </a:lnTo>
                <a:lnTo>
                  <a:pt x="126" y="2550"/>
                </a:lnTo>
                <a:lnTo>
                  <a:pt x="111" y="2560"/>
                </a:lnTo>
                <a:lnTo>
                  <a:pt x="96" y="2569"/>
                </a:lnTo>
                <a:lnTo>
                  <a:pt x="80" y="2577"/>
                </a:lnTo>
                <a:lnTo>
                  <a:pt x="67" y="2583"/>
                </a:lnTo>
                <a:lnTo>
                  <a:pt x="55" y="2588"/>
                </a:lnTo>
                <a:lnTo>
                  <a:pt x="46" y="2594"/>
                </a:lnTo>
                <a:lnTo>
                  <a:pt x="36" y="2598"/>
                </a:lnTo>
                <a:lnTo>
                  <a:pt x="26" y="2600"/>
                </a:lnTo>
                <a:lnTo>
                  <a:pt x="19" y="2602"/>
                </a:lnTo>
                <a:lnTo>
                  <a:pt x="13" y="2602"/>
                </a:lnTo>
                <a:lnTo>
                  <a:pt x="7" y="2602"/>
                </a:lnTo>
                <a:lnTo>
                  <a:pt x="3" y="2602"/>
                </a:lnTo>
                <a:lnTo>
                  <a:pt x="2" y="2600"/>
                </a:lnTo>
                <a:lnTo>
                  <a:pt x="0" y="2596"/>
                </a:lnTo>
                <a:lnTo>
                  <a:pt x="0" y="2592"/>
                </a:lnTo>
                <a:lnTo>
                  <a:pt x="2" y="2587"/>
                </a:lnTo>
                <a:lnTo>
                  <a:pt x="3" y="2581"/>
                </a:lnTo>
                <a:lnTo>
                  <a:pt x="7" y="2573"/>
                </a:lnTo>
                <a:lnTo>
                  <a:pt x="13" y="2565"/>
                </a:lnTo>
                <a:lnTo>
                  <a:pt x="21" y="2556"/>
                </a:lnTo>
                <a:lnTo>
                  <a:pt x="28" y="2546"/>
                </a:lnTo>
                <a:lnTo>
                  <a:pt x="38" y="2535"/>
                </a:lnTo>
                <a:lnTo>
                  <a:pt x="50" y="2521"/>
                </a:lnTo>
                <a:lnTo>
                  <a:pt x="63" y="2508"/>
                </a:lnTo>
                <a:lnTo>
                  <a:pt x="76" y="2494"/>
                </a:lnTo>
                <a:lnTo>
                  <a:pt x="92" y="2479"/>
                </a:lnTo>
                <a:lnTo>
                  <a:pt x="107" y="2462"/>
                </a:lnTo>
                <a:lnTo>
                  <a:pt x="126" y="2445"/>
                </a:lnTo>
                <a:lnTo>
                  <a:pt x="145" y="2427"/>
                </a:lnTo>
                <a:lnTo>
                  <a:pt x="167" y="2410"/>
                </a:lnTo>
                <a:lnTo>
                  <a:pt x="186" y="2393"/>
                </a:lnTo>
                <a:lnTo>
                  <a:pt x="207" y="2372"/>
                </a:lnTo>
                <a:lnTo>
                  <a:pt x="230" y="2351"/>
                </a:lnTo>
                <a:lnTo>
                  <a:pt x="251" y="2327"/>
                </a:lnTo>
                <a:lnTo>
                  <a:pt x="274" y="2304"/>
                </a:lnTo>
                <a:lnTo>
                  <a:pt x="295" y="2278"/>
                </a:lnTo>
                <a:lnTo>
                  <a:pt x="318" y="2251"/>
                </a:lnTo>
                <a:lnTo>
                  <a:pt x="343" y="2224"/>
                </a:lnTo>
                <a:lnTo>
                  <a:pt x="366" y="2193"/>
                </a:lnTo>
                <a:lnTo>
                  <a:pt x="391" y="2162"/>
                </a:lnTo>
                <a:lnTo>
                  <a:pt x="416" y="2130"/>
                </a:lnTo>
                <a:lnTo>
                  <a:pt x="441" y="2095"/>
                </a:lnTo>
                <a:lnTo>
                  <a:pt x="466" y="2059"/>
                </a:lnTo>
                <a:lnTo>
                  <a:pt x="493" y="2022"/>
                </a:lnTo>
                <a:lnTo>
                  <a:pt x="520" y="1984"/>
                </a:lnTo>
                <a:lnTo>
                  <a:pt x="543" y="1946"/>
                </a:lnTo>
                <a:lnTo>
                  <a:pt x="568" y="1907"/>
                </a:lnTo>
                <a:lnTo>
                  <a:pt x="591" y="1867"/>
                </a:lnTo>
                <a:lnTo>
                  <a:pt x="616" y="1827"/>
                </a:lnTo>
                <a:lnTo>
                  <a:pt x="639" y="1784"/>
                </a:lnTo>
                <a:lnTo>
                  <a:pt x="662" y="1742"/>
                </a:lnTo>
                <a:lnTo>
                  <a:pt x="685" y="1698"/>
                </a:lnTo>
                <a:lnTo>
                  <a:pt x="706" y="1652"/>
                </a:lnTo>
                <a:lnTo>
                  <a:pt x="729" y="1606"/>
                </a:lnTo>
                <a:lnTo>
                  <a:pt x="750" y="1560"/>
                </a:lnTo>
                <a:lnTo>
                  <a:pt x="771" y="1512"/>
                </a:lnTo>
                <a:lnTo>
                  <a:pt x="791" y="1462"/>
                </a:lnTo>
                <a:lnTo>
                  <a:pt x="812" y="1412"/>
                </a:lnTo>
                <a:lnTo>
                  <a:pt x="831" y="1362"/>
                </a:lnTo>
                <a:lnTo>
                  <a:pt x="850" y="1310"/>
                </a:lnTo>
                <a:lnTo>
                  <a:pt x="867" y="1257"/>
                </a:lnTo>
                <a:lnTo>
                  <a:pt x="883" y="1203"/>
                </a:lnTo>
                <a:lnTo>
                  <a:pt x="898" y="1151"/>
                </a:lnTo>
                <a:lnTo>
                  <a:pt x="911" y="1099"/>
                </a:lnTo>
                <a:lnTo>
                  <a:pt x="925" y="1049"/>
                </a:lnTo>
                <a:lnTo>
                  <a:pt x="938" y="998"/>
                </a:lnTo>
                <a:lnTo>
                  <a:pt x="950" y="948"/>
                </a:lnTo>
                <a:lnTo>
                  <a:pt x="963" y="898"/>
                </a:lnTo>
                <a:lnTo>
                  <a:pt x="973" y="850"/>
                </a:lnTo>
                <a:lnTo>
                  <a:pt x="984" y="802"/>
                </a:lnTo>
                <a:lnTo>
                  <a:pt x="994" y="754"/>
                </a:lnTo>
                <a:lnTo>
                  <a:pt x="1004" y="708"/>
                </a:lnTo>
                <a:lnTo>
                  <a:pt x="1011" y="660"/>
                </a:lnTo>
                <a:lnTo>
                  <a:pt x="1019" y="614"/>
                </a:lnTo>
                <a:lnTo>
                  <a:pt x="1025" y="570"/>
                </a:lnTo>
                <a:lnTo>
                  <a:pt x="1030" y="525"/>
                </a:lnTo>
                <a:lnTo>
                  <a:pt x="1036" y="481"/>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Freeform 33"/>
          <p:cNvSpPr/>
          <p:nvPr/>
        </p:nvSpPr>
        <p:spPr>
          <a:xfrm>
            <a:off x="6307200" y="3537000"/>
            <a:ext cx="1366920" cy="1469880"/>
          </a:xfrm>
          <a:custGeom>
            <a:avLst/>
            <a:gdLst/>
            <a:ahLst/>
            <a:rect l="l" t="t" r="r" b="b"/>
            <a:pathLst>
              <a:path w="1720" h="1852">
                <a:moveTo>
                  <a:pt x="1275" y="1729"/>
                </a:moveTo>
                <a:lnTo>
                  <a:pt x="1261" y="1744"/>
                </a:lnTo>
                <a:lnTo>
                  <a:pt x="1248" y="1758"/>
                </a:lnTo>
                <a:lnTo>
                  <a:pt x="1236" y="1771"/>
                </a:lnTo>
                <a:lnTo>
                  <a:pt x="1223" y="1785"/>
                </a:lnTo>
                <a:lnTo>
                  <a:pt x="1211" y="1796"/>
                </a:lnTo>
                <a:lnTo>
                  <a:pt x="1200" y="1806"/>
                </a:lnTo>
                <a:lnTo>
                  <a:pt x="1188" y="1815"/>
                </a:lnTo>
                <a:lnTo>
                  <a:pt x="1177" y="1823"/>
                </a:lnTo>
                <a:lnTo>
                  <a:pt x="1167" y="1829"/>
                </a:lnTo>
                <a:lnTo>
                  <a:pt x="1158" y="1836"/>
                </a:lnTo>
                <a:lnTo>
                  <a:pt x="1148" y="1840"/>
                </a:lnTo>
                <a:lnTo>
                  <a:pt x="1138" y="1844"/>
                </a:lnTo>
                <a:lnTo>
                  <a:pt x="1129" y="1848"/>
                </a:lnTo>
                <a:lnTo>
                  <a:pt x="1121" y="1850"/>
                </a:lnTo>
                <a:lnTo>
                  <a:pt x="1113" y="1852"/>
                </a:lnTo>
                <a:lnTo>
                  <a:pt x="1108" y="1852"/>
                </a:lnTo>
                <a:lnTo>
                  <a:pt x="1098" y="1850"/>
                </a:lnTo>
                <a:lnTo>
                  <a:pt x="1090" y="1846"/>
                </a:lnTo>
                <a:lnTo>
                  <a:pt x="1083" y="1842"/>
                </a:lnTo>
                <a:lnTo>
                  <a:pt x="1075" y="1838"/>
                </a:lnTo>
                <a:lnTo>
                  <a:pt x="1069" y="1833"/>
                </a:lnTo>
                <a:lnTo>
                  <a:pt x="1063" y="1827"/>
                </a:lnTo>
                <a:lnTo>
                  <a:pt x="1058" y="1821"/>
                </a:lnTo>
                <a:lnTo>
                  <a:pt x="1054" y="1813"/>
                </a:lnTo>
                <a:lnTo>
                  <a:pt x="1050" y="1808"/>
                </a:lnTo>
                <a:lnTo>
                  <a:pt x="1048" y="1800"/>
                </a:lnTo>
                <a:lnTo>
                  <a:pt x="1046" y="1790"/>
                </a:lnTo>
                <a:lnTo>
                  <a:pt x="1044" y="1783"/>
                </a:lnTo>
                <a:lnTo>
                  <a:pt x="1044" y="1773"/>
                </a:lnTo>
                <a:lnTo>
                  <a:pt x="1044" y="1762"/>
                </a:lnTo>
                <a:lnTo>
                  <a:pt x="1044" y="1752"/>
                </a:lnTo>
                <a:lnTo>
                  <a:pt x="1046" y="1740"/>
                </a:lnTo>
                <a:lnTo>
                  <a:pt x="1046" y="1727"/>
                </a:lnTo>
                <a:lnTo>
                  <a:pt x="1044" y="1714"/>
                </a:lnTo>
                <a:lnTo>
                  <a:pt x="1042" y="1698"/>
                </a:lnTo>
                <a:lnTo>
                  <a:pt x="1039" y="1685"/>
                </a:lnTo>
                <a:lnTo>
                  <a:pt x="1035" y="1671"/>
                </a:lnTo>
                <a:lnTo>
                  <a:pt x="1031" y="1656"/>
                </a:lnTo>
                <a:lnTo>
                  <a:pt x="1025" y="1643"/>
                </a:lnTo>
                <a:lnTo>
                  <a:pt x="1017" y="1629"/>
                </a:lnTo>
                <a:lnTo>
                  <a:pt x="1010" y="1614"/>
                </a:lnTo>
                <a:lnTo>
                  <a:pt x="1000" y="1598"/>
                </a:lnTo>
                <a:lnTo>
                  <a:pt x="991" y="1585"/>
                </a:lnTo>
                <a:lnTo>
                  <a:pt x="981" y="1570"/>
                </a:lnTo>
                <a:lnTo>
                  <a:pt x="968" y="1554"/>
                </a:lnTo>
                <a:lnTo>
                  <a:pt x="956" y="1539"/>
                </a:lnTo>
                <a:lnTo>
                  <a:pt x="941" y="1522"/>
                </a:lnTo>
                <a:lnTo>
                  <a:pt x="927" y="1506"/>
                </a:lnTo>
                <a:lnTo>
                  <a:pt x="912" y="1493"/>
                </a:lnTo>
                <a:lnTo>
                  <a:pt x="898" y="1479"/>
                </a:lnTo>
                <a:lnTo>
                  <a:pt x="885" y="1468"/>
                </a:lnTo>
                <a:lnTo>
                  <a:pt x="873" y="1455"/>
                </a:lnTo>
                <a:lnTo>
                  <a:pt x="864" y="1445"/>
                </a:lnTo>
                <a:lnTo>
                  <a:pt x="856" y="1433"/>
                </a:lnTo>
                <a:lnTo>
                  <a:pt x="848" y="1424"/>
                </a:lnTo>
                <a:lnTo>
                  <a:pt x="843" y="1416"/>
                </a:lnTo>
                <a:lnTo>
                  <a:pt x="837" y="1407"/>
                </a:lnTo>
                <a:lnTo>
                  <a:pt x="833" y="1399"/>
                </a:lnTo>
                <a:lnTo>
                  <a:pt x="829" y="1393"/>
                </a:lnTo>
                <a:lnTo>
                  <a:pt x="827" y="1387"/>
                </a:lnTo>
                <a:lnTo>
                  <a:pt x="827" y="1382"/>
                </a:lnTo>
                <a:lnTo>
                  <a:pt x="827" y="1378"/>
                </a:lnTo>
                <a:lnTo>
                  <a:pt x="829" y="1374"/>
                </a:lnTo>
                <a:lnTo>
                  <a:pt x="831" y="1372"/>
                </a:lnTo>
                <a:lnTo>
                  <a:pt x="833" y="1368"/>
                </a:lnTo>
                <a:lnTo>
                  <a:pt x="835" y="1368"/>
                </a:lnTo>
                <a:lnTo>
                  <a:pt x="839" y="1366"/>
                </a:lnTo>
                <a:lnTo>
                  <a:pt x="845" y="1366"/>
                </a:lnTo>
                <a:lnTo>
                  <a:pt x="848" y="1366"/>
                </a:lnTo>
                <a:lnTo>
                  <a:pt x="854" y="1368"/>
                </a:lnTo>
                <a:lnTo>
                  <a:pt x="862" y="1368"/>
                </a:lnTo>
                <a:lnTo>
                  <a:pt x="870" y="1370"/>
                </a:lnTo>
                <a:lnTo>
                  <a:pt x="877" y="1374"/>
                </a:lnTo>
                <a:lnTo>
                  <a:pt x="887" y="1376"/>
                </a:lnTo>
                <a:lnTo>
                  <a:pt x="896" y="1380"/>
                </a:lnTo>
                <a:lnTo>
                  <a:pt x="908" y="1383"/>
                </a:lnTo>
                <a:lnTo>
                  <a:pt x="920" y="1389"/>
                </a:lnTo>
                <a:lnTo>
                  <a:pt x="933" y="1395"/>
                </a:lnTo>
                <a:lnTo>
                  <a:pt x="946" y="1401"/>
                </a:lnTo>
                <a:lnTo>
                  <a:pt x="962" y="1408"/>
                </a:lnTo>
                <a:lnTo>
                  <a:pt x="977" y="1414"/>
                </a:lnTo>
                <a:lnTo>
                  <a:pt x="992" y="1422"/>
                </a:lnTo>
                <a:lnTo>
                  <a:pt x="1006" y="1428"/>
                </a:lnTo>
                <a:lnTo>
                  <a:pt x="1019" y="1433"/>
                </a:lnTo>
                <a:lnTo>
                  <a:pt x="1031" y="1439"/>
                </a:lnTo>
                <a:lnTo>
                  <a:pt x="1042" y="1445"/>
                </a:lnTo>
                <a:lnTo>
                  <a:pt x="1054" y="1449"/>
                </a:lnTo>
                <a:lnTo>
                  <a:pt x="1063" y="1455"/>
                </a:lnTo>
                <a:lnTo>
                  <a:pt x="1075" y="1458"/>
                </a:lnTo>
                <a:lnTo>
                  <a:pt x="1083" y="1462"/>
                </a:lnTo>
                <a:lnTo>
                  <a:pt x="1092" y="1466"/>
                </a:lnTo>
                <a:lnTo>
                  <a:pt x="1100" y="1470"/>
                </a:lnTo>
                <a:lnTo>
                  <a:pt x="1117" y="1476"/>
                </a:lnTo>
                <a:lnTo>
                  <a:pt x="1131" y="1481"/>
                </a:lnTo>
                <a:lnTo>
                  <a:pt x="1138" y="1483"/>
                </a:lnTo>
                <a:lnTo>
                  <a:pt x="1144" y="1483"/>
                </a:lnTo>
                <a:lnTo>
                  <a:pt x="1152" y="1481"/>
                </a:lnTo>
                <a:lnTo>
                  <a:pt x="1158" y="1478"/>
                </a:lnTo>
                <a:lnTo>
                  <a:pt x="1165" y="1472"/>
                </a:lnTo>
                <a:lnTo>
                  <a:pt x="1171" y="1464"/>
                </a:lnTo>
                <a:lnTo>
                  <a:pt x="1179" y="1456"/>
                </a:lnTo>
                <a:lnTo>
                  <a:pt x="1184" y="1447"/>
                </a:lnTo>
                <a:lnTo>
                  <a:pt x="1192" y="1435"/>
                </a:lnTo>
                <a:lnTo>
                  <a:pt x="1198" y="1422"/>
                </a:lnTo>
                <a:lnTo>
                  <a:pt x="1206" y="1407"/>
                </a:lnTo>
                <a:lnTo>
                  <a:pt x="1211" y="1389"/>
                </a:lnTo>
                <a:lnTo>
                  <a:pt x="1219" y="1372"/>
                </a:lnTo>
                <a:lnTo>
                  <a:pt x="1227" y="1353"/>
                </a:lnTo>
                <a:lnTo>
                  <a:pt x="1232" y="1332"/>
                </a:lnTo>
                <a:lnTo>
                  <a:pt x="1240" y="1311"/>
                </a:lnTo>
                <a:lnTo>
                  <a:pt x="1246" y="1286"/>
                </a:lnTo>
                <a:lnTo>
                  <a:pt x="1254" y="1261"/>
                </a:lnTo>
                <a:lnTo>
                  <a:pt x="1261" y="1236"/>
                </a:lnTo>
                <a:lnTo>
                  <a:pt x="1267" y="1207"/>
                </a:lnTo>
                <a:lnTo>
                  <a:pt x="1275" y="1178"/>
                </a:lnTo>
                <a:lnTo>
                  <a:pt x="1284" y="1149"/>
                </a:lnTo>
                <a:lnTo>
                  <a:pt x="1292" y="1119"/>
                </a:lnTo>
                <a:lnTo>
                  <a:pt x="1300" y="1086"/>
                </a:lnTo>
                <a:lnTo>
                  <a:pt x="1307" y="1051"/>
                </a:lnTo>
                <a:lnTo>
                  <a:pt x="1315" y="1017"/>
                </a:lnTo>
                <a:lnTo>
                  <a:pt x="1323" y="980"/>
                </a:lnTo>
                <a:lnTo>
                  <a:pt x="1330" y="944"/>
                </a:lnTo>
                <a:lnTo>
                  <a:pt x="1338" y="904"/>
                </a:lnTo>
                <a:lnTo>
                  <a:pt x="1346" y="863"/>
                </a:lnTo>
                <a:lnTo>
                  <a:pt x="1351" y="823"/>
                </a:lnTo>
                <a:lnTo>
                  <a:pt x="1359" y="779"/>
                </a:lnTo>
                <a:lnTo>
                  <a:pt x="1363" y="758"/>
                </a:lnTo>
                <a:lnTo>
                  <a:pt x="1365" y="737"/>
                </a:lnTo>
                <a:lnTo>
                  <a:pt x="1369" y="716"/>
                </a:lnTo>
                <a:lnTo>
                  <a:pt x="1371" y="695"/>
                </a:lnTo>
                <a:lnTo>
                  <a:pt x="1374" y="675"/>
                </a:lnTo>
                <a:lnTo>
                  <a:pt x="1376" y="656"/>
                </a:lnTo>
                <a:lnTo>
                  <a:pt x="1378" y="637"/>
                </a:lnTo>
                <a:lnTo>
                  <a:pt x="1382" y="620"/>
                </a:lnTo>
                <a:lnTo>
                  <a:pt x="1384" y="602"/>
                </a:lnTo>
                <a:lnTo>
                  <a:pt x="1386" y="585"/>
                </a:lnTo>
                <a:lnTo>
                  <a:pt x="1388" y="568"/>
                </a:lnTo>
                <a:lnTo>
                  <a:pt x="1390" y="551"/>
                </a:lnTo>
                <a:lnTo>
                  <a:pt x="1394" y="520"/>
                </a:lnTo>
                <a:lnTo>
                  <a:pt x="1396" y="491"/>
                </a:lnTo>
                <a:lnTo>
                  <a:pt x="1399" y="464"/>
                </a:lnTo>
                <a:lnTo>
                  <a:pt x="1401" y="437"/>
                </a:lnTo>
                <a:lnTo>
                  <a:pt x="1403" y="414"/>
                </a:lnTo>
                <a:lnTo>
                  <a:pt x="1405" y="393"/>
                </a:lnTo>
                <a:lnTo>
                  <a:pt x="1405" y="372"/>
                </a:lnTo>
                <a:lnTo>
                  <a:pt x="1407" y="355"/>
                </a:lnTo>
                <a:lnTo>
                  <a:pt x="1407" y="338"/>
                </a:lnTo>
                <a:lnTo>
                  <a:pt x="1407" y="324"/>
                </a:lnTo>
                <a:lnTo>
                  <a:pt x="1407" y="309"/>
                </a:lnTo>
                <a:lnTo>
                  <a:pt x="1407" y="297"/>
                </a:lnTo>
                <a:lnTo>
                  <a:pt x="1405" y="284"/>
                </a:lnTo>
                <a:lnTo>
                  <a:pt x="1405" y="272"/>
                </a:lnTo>
                <a:lnTo>
                  <a:pt x="1403" y="261"/>
                </a:lnTo>
                <a:lnTo>
                  <a:pt x="1403" y="251"/>
                </a:lnTo>
                <a:lnTo>
                  <a:pt x="1401" y="242"/>
                </a:lnTo>
                <a:lnTo>
                  <a:pt x="1399" y="232"/>
                </a:lnTo>
                <a:lnTo>
                  <a:pt x="1398" y="224"/>
                </a:lnTo>
                <a:lnTo>
                  <a:pt x="1396" y="217"/>
                </a:lnTo>
                <a:lnTo>
                  <a:pt x="1394" y="209"/>
                </a:lnTo>
                <a:lnTo>
                  <a:pt x="1392" y="203"/>
                </a:lnTo>
                <a:lnTo>
                  <a:pt x="1390" y="199"/>
                </a:lnTo>
                <a:lnTo>
                  <a:pt x="1388" y="194"/>
                </a:lnTo>
                <a:lnTo>
                  <a:pt x="1386" y="190"/>
                </a:lnTo>
                <a:lnTo>
                  <a:pt x="1384" y="188"/>
                </a:lnTo>
                <a:lnTo>
                  <a:pt x="1380" y="186"/>
                </a:lnTo>
                <a:lnTo>
                  <a:pt x="1376" y="186"/>
                </a:lnTo>
                <a:lnTo>
                  <a:pt x="1373" y="186"/>
                </a:lnTo>
                <a:lnTo>
                  <a:pt x="1369" y="186"/>
                </a:lnTo>
                <a:lnTo>
                  <a:pt x="1363" y="186"/>
                </a:lnTo>
                <a:lnTo>
                  <a:pt x="1357" y="186"/>
                </a:lnTo>
                <a:lnTo>
                  <a:pt x="1350" y="186"/>
                </a:lnTo>
                <a:lnTo>
                  <a:pt x="1342" y="188"/>
                </a:lnTo>
                <a:lnTo>
                  <a:pt x="1334" y="188"/>
                </a:lnTo>
                <a:lnTo>
                  <a:pt x="1325" y="190"/>
                </a:lnTo>
                <a:lnTo>
                  <a:pt x="1315" y="192"/>
                </a:lnTo>
                <a:lnTo>
                  <a:pt x="1305" y="194"/>
                </a:lnTo>
                <a:lnTo>
                  <a:pt x="1294" y="196"/>
                </a:lnTo>
                <a:lnTo>
                  <a:pt x="1280" y="197"/>
                </a:lnTo>
                <a:lnTo>
                  <a:pt x="1269" y="199"/>
                </a:lnTo>
                <a:lnTo>
                  <a:pt x="1255" y="203"/>
                </a:lnTo>
                <a:lnTo>
                  <a:pt x="1240" y="205"/>
                </a:lnTo>
                <a:lnTo>
                  <a:pt x="1227" y="209"/>
                </a:lnTo>
                <a:lnTo>
                  <a:pt x="1209" y="213"/>
                </a:lnTo>
                <a:lnTo>
                  <a:pt x="1194" y="217"/>
                </a:lnTo>
                <a:lnTo>
                  <a:pt x="1177" y="220"/>
                </a:lnTo>
                <a:lnTo>
                  <a:pt x="1159" y="224"/>
                </a:lnTo>
                <a:lnTo>
                  <a:pt x="1140" y="228"/>
                </a:lnTo>
                <a:lnTo>
                  <a:pt x="1121" y="232"/>
                </a:lnTo>
                <a:lnTo>
                  <a:pt x="1100" y="238"/>
                </a:lnTo>
                <a:lnTo>
                  <a:pt x="1079" y="242"/>
                </a:lnTo>
                <a:lnTo>
                  <a:pt x="1058" y="247"/>
                </a:lnTo>
                <a:lnTo>
                  <a:pt x="1035" y="251"/>
                </a:lnTo>
                <a:lnTo>
                  <a:pt x="1012" y="257"/>
                </a:lnTo>
                <a:lnTo>
                  <a:pt x="989" y="263"/>
                </a:lnTo>
                <a:lnTo>
                  <a:pt x="964" y="268"/>
                </a:lnTo>
                <a:lnTo>
                  <a:pt x="939" y="274"/>
                </a:lnTo>
                <a:lnTo>
                  <a:pt x="887" y="288"/>
                </a:lnTo>
                <a:lnTo>
                  <a:pt x="862" y="295"/>
                </a:lnTo>
                <a:lnTo>
                  <a:pt x="839" y="301"/>
                </a:lnTo>
                <a:lnTo>
                  <a:pt x="814" y="307"/>
                </a:lnTo>
                <a:lnTo>
                  <a:pt x="791" y="313"/>
                </a:lnTo>
                <a:lnTo>
                  <a:pt x="768" y="320"/>
                </a:lnTo>
                <a:lnTo>
                  <a:pt x="747" y="326"/>
                </a:lnTo>
                <a:lnTo>
                  <a:pt x="726" y="332"/>
                </a:lnTo>
                <a:lnTo>
                  <a:pt x="705" y="338"/>
                </a:lnTo>
                <a:lnTo>
                  <a:pt x="683" y="341"/>
                </a:lnTo>
                <a:lnTo>
                  <a:pt x="662" y="347"/>
                </a:lnTo>
                <a:lnTo>
                  <a:pt x="643" y="353"/>
                </a:lnTo>
                <a:lnTo>
                  <a:pt x="624" y="357"/>
                </a:lnTo>
                <a:lnTo>
                  <a:pt x="605" y="363"/>
                </a:lnTo>
                <a:lnTo>
                  <a:pt x="585" y="366"/>
                </a:lnTo>
                <a:lnTo>
                  <a:pt x="568" y="372"/>
                </a:lnTo>
                <a:lnTo>
                  <a:pt x="551" y="376"/>
                </a:lnTo>
                <a:lnTo>
                  <a:pt x="534" y="380"/>
                </a:lnTo>
                <a:lnTo>
                  <a:pt x="518" y="384"/>
                </a:lnTo>
                <a:lnTo>
                  <a:pt x="503" y="387"/>
                </a:lnTo>
                <a:lnTo>
                  <a:pt x="488" y="391"/>
                </a:lnTo>
                <a:lnTo>
                  <a:pt x="472" y="395"/>
                </a:lnTo>
                <a:lnTo>
                  <a:pt x="457" y="399"/>
                </a:lnTo>
                <a:lnTo>
                  <a:pt x="443" y="403"/>
                </a:lnTo>
                <a:lnTo>
                  <a:pt x="430" y="405"/>
                </a:lnTo>
                <a:lnTo>
                  <a:pt x="418" y="409"/>
                </a:lnTo>
                <a:lnTo>
                  <a:pt x="405" y="412"/>
                </a:lnTo>
                <a:lnTo>
                  <a:pt x="394" y="414"/>
                </a:lnTo>
                <a:lnTo>
                  <a:pt x="382" y="416"/>
                </a:lnTo>
                <a:lnTo>
                  <a:pt x="370" y="420"/>
                </a:lnTo>
                <a:lnTo>
                  <a:pt x="361" y="422"/>
                </a:lnTo>
                <a:lnTo>
                  <a:pt x="342" y="430"/>
                </a:lnTo>
                <a:lnTo>
                  <a:pt x="322" y="435"/>
                </a:lnTo>
                <a:lnTo>
                  <a:pt x="305" y="441"/>
                </a:lnTo>
                <a:lnTo>
                  <a:pt x="288" y="445"/>
                </a:lnTo>
                <a:lnTo>
                  <a:pt x="273" y="451"/>
                </a:lnTo>
                <a:lnTo>
                  <a:pt x="259" y="455"/>
                </a:lnTo>
                <a:lnTo>
                  <a:pt x="246" y="457"/>
                </a:lnTo>
                <a:lnTo>
                  <a:pt x="232" y="460"/>
                </a:lnTo>
                <a:lnTo>
                  <a:pt x="221" y="462"/>
                </a:lnTo>
                <a:lnTo>
                  <a:pt x="211" y="466"/>
                </a:lnTo>
                <a:lnTo>
                  <a:pt x="202" y="468"/>
                </a:lnTo>
                <a:lnTo>
                  <a:pt x="194" y="468"/>
                </a:lnTo>
                <a:lnTo>
                  <a:pt x="186" y="470"/>
                </a:lnTo>
                <a:lnTo>
                  <a:pt x="178" y="470"/>
                </a:lnTo>
                <a:lnTo>
                  <a:pt x="173" y="470"/>
                </a:lnTo>
                <a:lnTo>
                  <a:pt x="169" y="472"/>
                </a:lnTo>
                <a:lnTo>
                  <a:pt x="155" y="470"/>
                </a:lnTo>
                <a:lnTo>
                  <a:pt x="142" y="468"/>
                </a:lnTo>
                <a:lnTo>
                  <a:pt x="129" y="466"/>
                </a:lnTo>
                <a:lnTo>
                  <a:pt x="113" y="460"/>
                </a:lnTo>
                <a:lnTo>
                  <a:pt x="107" y="457"/>
                </a:lnTo>
                <a:lnTo>
                  <a:pt x="100" y="455"/>
                </a:lnTo>
                <a:lnTo>
                  <a:pt x="94" y="451"/>
                </a:lnTo>
                <a:lnTo>
                  <a:pt x="86" y="445"/>
                </a:lnTo>
                <a:lnTo>
                  <a:pt x="81" y="441"/>
                </a:lnTo>
                <a:lnTo>
                  <a:pt x="73" y="435"/>
                </a:lnTo>
                <a:lnTo>
                  <a:pt x="67" y="430"/>
                </a:lnTo>
                <a:lnTo>
                  <a:pt x="59" y="422"/>
                </a:lnTo>
                <a:lnTo>
                  <a:pt x="46" y="409"/>
                </a:lnTo>
                <a:lnTo>
                  <a:pt x="35" y="397"/>
                </a:lnTo>
                <a:lnTo>
                  <a:pt x="25" y="386"/>
                </a:lnTo>
                <a:lnTo>
                  <a:pt x="17" y="374"/>
                </a:lnTo>
                <a:lnTo>
                  <a:pt x="10" y="364"/>
                </a:lnTo>
                <a:lnTo>
                  <a:pt x="6" y="359"/>
                </a:lnTo>
                <a:lnTo>
                  <a:pt x="4" y="355"/>
                </a:lnTo>
                <a:lnTo>
                  <a:pt x="2" y="349"/>
                </a:lnTo>
                <a:lnTo>
                  <a:pt x="2" y="345"/>
                </a:lnTo>
                <a:lnTo>
                  <a:pt x="0" y="339"/>
                </a:lnTo>
                <a:lnTo>
                  <a:pt x="0" y="336"/>
                </a:lnTo>
                <a:lnTo>
                  <a:pt x="48" y="328"/>
                </a:lnTo>
                <a:lnTo>
                  <a:pt x="96" y="320"/>
                </a:lnTo>
                <a:lnTo>
                  <a:pt x="146" y="313"/>
                </a:lnTo>
                <a:lnTo>
                  <a:pt x="196" y="303"/>
                </a:lnTo>
                <a:lnTo>
                  <a:pt x="246" y="295"/>
                </a:lnTo>
                <a:lnTo>
                  <a:pt x="298" y="286"/>
                </a:lnTo>
                <a:lnTo>
                  <a:pt x="349" y="276"/>
                </a:lnTo>
                <a:lnTo>
                  <a:pt x="403" y="265"/>
                </a:lnTo>
                <a:lnTo>
                  <a:pt x="457" y="255"/>
                </a:lnTo>
                <a:lnTo>
                  <a:pt x="511" y="244"/>
                </a:lnTo>
                <a:lnTo>
                  <a:pt x="564" y="234"/>
                </a:lnTo>
                <a:lnTo>
                  <a:pt x="618" y="222"/>
                </a:lnTo>
                <a:lnTo>
                  <a:pt x="729" y="199"/>
                </a:lnTo>
                <a:lnTo>
                  <a:pt x="843" y="176"/>
                </a:lnTo>
                <a:lnTo>
                  <a:pt x="870" y="169"/>
                </a:lnTo>
                <a:lnTo>
                  <a:pt x="896" y="165"/>
                </a:lnTo>
                <a:lnTo>
                  <a:pt x="923" y="159"/>
                </a:lnTo>
                <a:lnTo>
                  <a:pt x="948" y="153"/>
                </a:lnTo>
                <a:lnTo>
                  <a:pt x="973" y="148"/>
                </a:lnTo>
                <a:lnTo>
                  <a:pt x="996" y="142"/>
                </a:lnTo>
                <a:lnTo>
                  <a:pt x="1019" y="136"/>
                </a:lnTo>
                <a:lnTo>
                  <a:pt x="1042" y="132"/>
                </a:lnTo>
                <a:lnTo>
                  <a:pt x="1063" y="126"/>
                </a:lnTo>
                <a:lnTo>
                  <a:pt x="1085" y="121"/>
                </a:lnTo>
                <a:lnTo>
                  <a:pt x="1106" y="117"/>
                </a:lnTo>
                <a:lnTo>
                  <a:pt x="1125" y="111"/>
                </a:lnTo>
                <a:lnTo>
                  <a:pt x="1142" y="105"/>
                </a:lnTo>
                <a:lnTo>
                  <a:pt x="1161" y="102"/>
                </a:lnTo>
                <a:lnTo>
                  <a:pt x="1177" y="98"/>
                </a:lnTo>
                <a:lnTo>
                  <a:pt x="1194" y="92"/>
                </a:lnTo>
                <a:lnTo>
                  <a:pt x="1209" y="88"/>
                </a:lnTo>
                <a:lnTo>
                  <a:pt x="1223" y="82"/>
                </a:lnTo>
                <a:lnTo>
                  <a:pt x="1238" y="78"/>
                </a:lnTo>
                <a:lnTo>
                  <a:pt x="1250" y="75"/>
                </a:lnTo>
                <a:lnTo>
                  <a:pt x="1263" y="71"/>
                </a:lnTo>
                <a:lnTo>
                  <a:pt x="1275" y="65"/>
                </a:lnTo>
                <a:lnTo>
                  <a:pt x="1284" y="61"/>
                </a:lnTo>
                <a:lnTo>
                  <a:pt x="1296" y="57"/>
                </a:lnTo>
                <a:lnTo>
                  <a:pt x="1303" y="54"/>
                </a:lnTo>
                <a:lnTo>
                  <a:pt x="1313" y="50"/>
                </a:lnTo>
                <a:lnTo>
                  <a:pt x="1321" y="46"/>
                </a:lnTo>
                <a:lnTo>
                  <a:pt x="1326" y="42"/>
                </a:lnTo>
                <a:lnTo>
                  <a:pt x="1332" y="38"/>
                </a:lnTo>
                <a:lnTo>
                  <a:pt x="1338" y="34"/>
                </a:lnTo>
                <a:lnTo>
                  <a:pt x="1344" y="30"/>
                </a:lnTo>
                <a:lnTo>
                  <a:pt x="1348" y="29"/>
                </a:lnTo>
                <a:lnTo>
                  <a:pt x="1351" y="21"/>
                </a:lnTo>
                <a:lnTo>
                  <a:pt x="1357" y="15"/>
                </a:lnTo>
                <a:lnTo>
                  <a:pt x="1363" y="11"/>
                </a:lnTo>
                <a:lnTo>
                  <a:pt x="1369" y="7"/>
                </a:lnTo>
                <a:lnTo>
                  <a:pt x="1376" y="4"/>
                </a:lnTo>
                <a:lnTo>
                  <a:pt x="1384" y="2"/>
                </a:lnTo>
                <a:lnTo>
                  <a:pt x="1392" y="0"/>
                </a:lnTo>
                <a:lnTo>
                  <a:pt x="1401" y="0"/>
                </a:lnTo>
                <a:lnTo>
                  <a:pt x="1411" y="0"/>
                </a:lnTo>
                <a:lnTo>
                  <a:pt x="1421" y="2"/>
                </a:lnTo>
                <a:lnTo>
                  <a:pt x="1430" y="4"/>
                </a:lnTo>
                <a:lnTo>
                  <a:pt x="1442" y="7"/>
                </a:lnTo>
                <a:lnTo>
                  <a:pt x="1453" y="11"/>
                </a:lnTo>
                <a:lnTo>
                  <a:pt x="1467" y="15"/>
                </a:lnTo>
                <a:lnTo>
                  <a:pt x="1478" y="21"/>
                </a:lnTo>
                <a:lnTo>
                  <a:pt x="1492" y="29"/>
                </a:lnTo>
                <a:lnTo>
                  <a:pt x="1518" y="42"/>
                </a:lnTo>
                <a:lnTo>
                  <a:pt x="1543" y="55"/>
                </a:lnTo>
                <a:lnTo>
                  <a:pt x="1566" y="69"/>
                </a:lnTo>
                <a:lnTo>
                  <a:pt x="1590" y="84"/>
                </a:lnTo>
                <a:lnTo>
                  <a:pt x="1611" y="98"/>
                </a:lnTo>
                <a:lnTo>
                  <a:pt x="1620" y="103"/>
                </a:lnTo>
                <a:lnTo>
                  <a:pt x="1628" y="111"/>
                </a:lnTo>
                <a:lnTo>
                  <a:pt x="1637" y="119"/>
                </a:lnTo>
                <a:lnTo>
                  <a:pt x="1645" y="125"/>
                </a:lnTo>
                <a:lnTo>
                  <a:pt x="1653" y="132"/>
                </a:lnTo>
                <a:lnTo>
                  <a:pt x="1661" y="140"/>
                </a:lnTo>
                <a:lnTo>
                  <a:pt x="1672" y="153"/>
                </a:lnTo>
                <a:lnTo>
                  <a:pt x="1684" y="167"/>
                </a:lnTo>
                <a:lnTo>
                  <a:pt x="1695" y="178"/>
                </a:lnTo>
                <a:lnTo>
                  <a:pt x="1703" y="192"/>
                </a:lnTo>
                <a:lnTo>
                  <a:pt x="1710" y="201"/>
                </a:lnTo>
                <a:lnTo>
                  <a:pt x="1712" y="207"/>
                </a:lnTo>
                <a:lnTo>
                  <a:pt x="1716" y="211"/>
                </a:lnTo>
                <a:lnTo>
                  <a:pt x="1718" y="217"/>
                </a:lnTo>
                <a:lnTo>
                  <a:pt x="1718" y="220"/>
                </a:lnTo>
                <a:lnTo>
                  <a:pt x="1720" y="222"/>
                </a:lnTo>
                <a:lnTo>
                  <a:pt x="1720" y="226"/>
                </a:lnTo>
                <a:lnTo>
                  <a:pt x="1716" y="234"/>
                </a:lnTo>
                <a:lnTo>
                  <a:pt x="1710" y="242"/>
                </a:lnTo>
                <a:lnTo>
                  <a:pt x="1707" y="247"/>
                </a:lnTo>
                <a:lnTo>
                  <a:pt x="1701" y="255"/>
                </a:lnTo>
                <a:lnTo>
                  <a:pt x="1695" y="259"/>
                </a:lnTo>
                <a:lnTo>
                  <a:pt x="1687" y="265"/>
                </a:lnTo>
                <a:lnTo>
                  <a:pt x="1680" y="270"/>
                </a:lnTo>
                <a:lnTo>
                  <a:pt x="1672" y="274"/>
                </a:lnTo>
                <a:lnTo>
                  <a:pt x="1668" y="276"/>
                </a:lnTo>
                <a:lnTo>
                  <a:pt x="1666" y="278"/>
                </a:lnTo>
                <a:lnTo>
                  <a:pt x="1662" y="280"/>
                </a:lnTo>
                <a:lnTo>
                  <a:pt x="1659" y="284"/>
                </a:lnTo>
                <a:lnTo>
                  <a:pt x="1657" y="288"/>
                </a:lnTo>
                <a:lnTo>
                  <a:pt x="1653" y="293"/>
                </a:lnTo>
                <a:lnTo>
                  <a:pt x="1649" y="299"/>
                </a:lnTo>
                <a:lnTo>
                  <a:pt x="1647" y="305"/>
                </a:lnTo>
                <a:lnTo>
                  <a:pt x="1643" y="311"/>
                </a:lnTo>
                <a:lnTo>
                  <a:pt x="1641" y="318"/>
                </a:lnTo>
                <a:lnTo>
                  <a:pt x="1637" y="328"/>
                </a:lnTo>
                <a:lnTo>
                  <a:pt x="1636" y="336"/>
                </a:lnTo>
                <a:lnTo>
                  <a:pt x="1632" y="345"/>
                </a:lnTo>
                <a:lnTo>
                  <a:pt x="1630" y="357"/>
                </a:lnTo>
                <a:lnTo>
                  <a:pt x="1626" y="366"/>
                </a:lnTo>
                <a:lnTo>
                  <a:pt x="1624" y="380"/>
                </a:lnTo>
                <a:lnTo>
                  <a:pt x="1620" y="391"/>
                </a:lnTo>
                <a:lnTo>
                  <a:pt x="1618" y="405"/>
                </a:lnTo>
                <a:lnTo>
                  <a:pt x="1614" y="418"/>
                </a:lnTo>
                <a:lnTo>
                  <a:pt x="1613" y="434"/>
                </a:lnTo>
                <a:lnTo>
                  <a:pt x="1609" y="449"/>
                </a:lnTo>
                <a:lnTo>
                  <a:pt x="1607" y="464"/>
                </a:lnTo>
                <a:lnTo>
                  <a:pt x="1603" y="481"/>
                </a:lnTo>
                <a:lnTo>
                  <a:pt x="1601" y="499"/>
                </a:lnTo>
                <a:lnTo>
                  <a:pt x="1597" y="518"/>
                </a:lnTo>
                <a:lnTo>
                  <a:pt x="1595" y="537"/>
                </a:lnTo>
                <a:lnTo>
                  <a:pt x="1591" y="556"/>
                </a:lnTo>
                <a:lnTo>
                  <a:pt x="1590" y="577"/>
                </a:lnTo>
                <a:lnTo>
                  <a:pt x="1586" y="599"/>
                </a:lnTo>
                <a:lnTo>
                  <a:pt x="1582" y="622"/>
                </a:lnTo>
                <a:lnTo>
                  <a:pt x="1580" y="645"/>
                </a:lnTo>
                <a:lnTo>
                  <a:pt x="1576" y="670"/>
                </a:lnTo>
                <a:lnTo>
                  <a:pt x="1570" y="718"/>
                </a:lnTo>
                <a:lnTo>
                  <a:pt x="1563" y="764"/>
                </a:lnTo>
                <a:lnTo>
                  <a:pt x="1557" y="810"/>
                </a:lnTo>
                <a:lnTo>
                  <a:pt x="1549" y="856"/>
                </a:lnTo>
                <a:lnTo>
                  <a:pt x="1542" y="900"/>
                </a:lnTo>
                <a:lnTo>
                  <a:pt x="1536" y="944"/>
                </a:lnTo>
                <a:lnTo>
                  <a:pt x="1528" y="986"/>
                </a:lnTo>
                <a:lnTo>
                  <a:pt x="1522" y="1028"/>
                </a:lnTo>
                <a:lnTo>
                  <a:pt x="1515" y="1071"/>
                </a:lnTo>
                <a:lnTo>
                  <a:pt x="1509" y="1111"/>
                </a:lnTo>
                <a:lnTo>
                  <a:pt x="1501" y="1149"/>
                </a:lnTo>
                <a:lnTo>
                  <a:pt x="1495" y="1188"/>
                </a:lnTo>
                <a:lnTo>
                  <a:pt x="1488" y="1226"/>
                </a:lnTo>
                <a:lnTo>
                  <a:pt x="1482" y="1263"/>
                </a:lnTo>
                <a:lnTo>
                  <a:pt x="1474" y="1299"/>
                </a:lnTo>
                <a:lnTo>
                  <a:pt x="1469" y="1334"/>
                </a:lnTo>
                <a:lnTo>
                  <a:pt x="1459" y="1368"/>
                </a:lnTo>
                <a:lnTo>
                  <a:pt x="1449" y="1401"/>
                </a:lnTo>
                <a:lnTo>
                  <a:pt x="1440" y="1431"/>
                </a:lnTo>
                <a:lnTo>
                  <a:pt x="1430" y="1460"/>
                </a:lnTo>
                <a:lnTo>
                  <a:pt x="1419" y="1489"/>
                </a:lnTo>
                <a:lnTo>
                  <a:pt x="1407" y="1516"/>
                </a:lnTo>
                <a:lnTo>
                  <a:pt x="1398" y="1543"/>
                </a:lnTo>
                <a:lnTo>
                  <a:pt x="1384" y="1568"/>
                </a:lnTo>
                <a:lnTo>
                  <a:pt x="1373" y="1591"/>
                </a:lnTo>
                <a:lnTo>
                  <a:pt x="1359" y="1614"/>
                </a:lnTo>
                <a:lnTo>
                  <a:pt x="1348" y="1635"/>
                </a:lnTo>
                <a:lnTo>
                  <a:pt x="1334" y="1656"/>
                </a:lnTo>
                <a:lnTo>
                  <a:pt x="1319" y="1675"/>
                </a:lnTo>
                <a:lnTo>
                  <a:pt x="1305" y="1694"/>
                </a:lnTo>
                <a:lnTo>
                  <a:pt x="1290" y="1712"/>
                </a:lnTo>
                <a:lnTo>
                  <a:pt x="1275" y="1729"/>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Freeform 34"/>
          <p:cNvSpPr/>
          <p:nvPr/>
        </p:nvSpPr>
        <p:spPr>
          <a:xfrm>
            <a:off x="6824520" y="3989520"/>
            <a:ext cx="335160" cy="342720"/>
          </a:xfrm>
          <a:custGeom>
            <a:avLst/>
            <a:gdLst/>
            <a:ahLst/>
            <a:rect l="l" t="t" r="r" b="b"/>
            <a:pathLst>
              <a:path w="422" h="432">
                <a:moveTo>
                  <a:pt x="311" y="100"/>
                </a:moveTo>
                <a:lnTo>
                  <a:pt x="326" y="111"/>
                </a:lnTo>
                <a:lnTo>
                  <a:pt x="340" y="123"/>
                </a:lnTo>
                <a:lnTo>
                  <a:pt x="353" y="134"/>
                </a:lnTo>
                <a:lnTo>
                  <a:pt x="365" y="148"/>
                </a:lnTo>
                <a:lnTo>
                  <a:pt x="376" y="159"/>
                </a:lnTo>
                <a:lnTo>
                  <a:pt x="386" y="172"/>
                </a:lnTo>
                <a:lnTo>
                  <a:pt x="393" y="186"/>
                </a:lnTo>
                <a:lnTo>
                  <a:pt x="401" y="199"/>
                </a:lnTo>
                <a:lnTo>
                  <a:pt x="407" y="213"/>
                </a:lnTo>
                <a:lnTo>
                  <a:pt x="412" y="226"/>
                </a:lnTo>
                <a:lnTo>
                  <a:pt x="416" y="240"/>
                </a:lnTo>
                <a:lnTo>
                  <a:pt x="420" y="253"/>
                </a:lnTo>
                <a:lnTo>
                  <a:pt x="420" y="267"/>
                </a:lnTo>
                <a:lnTo>
                  <a:pt x="422" y="280"/>
                </a:lnTo>
                <a:lnTo>
                  <a:pt x="420" y="293"/>
                </a:lnTo>
                <a:lnTo>
                  <a:pt x="420" y="309"/>
                </a:lnTo>
                <a:lnTo>
                  <a:pt x="414" y="324"/>
                </a:lnTo>
                <a:lnTo>
                  <a:pt x="411" y="338"/>
                </a:lnTo>
                <a:lnTo>
                  <a:pt x="407" y="351"/>
                </a:lnTo>
                <a:lnTo>
                  <a:pt x="401" y="364"/>
                </a:lnTo>
                <a:lnTo>
                  <a:pt x="397" y="374"/>
                </a:lnTo>
                <a:lnTo>
                  <a:pt x="393" y="386"/>
                </a:lnTo>
                <a:lnTo>
                  <a:pt x="389" y="393"/>
                </a:lnTo>
                <a:lnTo>
                  <a:pt x="386" y="401"/>
                </a:lnTo>
                <a:lnTo>
                  <a:pt x="382" y="409"/>
                </a:lnTo>
                <a:lnTo>
                  <a:pt x="378" y="414"/>
                </a:lnTo>
                <a:lnTo>
                  <a:pt x="374" y="420"/>
                </a:lnTo>
                <a:lnTo>
                  <a:pt x="370" y="424"/>
                </a:lnTo>
                <a:lnTo>
                  <a:pt x="366" y="426"/>
                </a:lnTo>
                <a:lnTo>
                  <a:pt x="365" y="430"/>
                </a:lnTo>
                <a:lnTo>
                  <a:pt x="361" y="430"/>
                </a:lnTo>
                <a:lnTo>
                  <a:pt x="359" y="432"/>
                </a:lnTo>
                <a:lnTo>
                  <a:pt x="357" y="430"/>
                </a:lnTo>
                <a:lnTo>
                  <a:pt x="353" y="430"/>
                </a:lnTo>
                <a:lnTo>
                  <a:pt x="349" y="428"/>
                </a:lnTo>
                <a:lnTo>
                  <a:pt x="345" y="424"/>
                </a:lnTo>
                <a:lnTo>
                  <a:pt x="340" y="420"/>
                </a:lnTo>
                <a:lnTo>
                  <a:pt x="336" y="416"/>
                </a:lnTo>
                <a:lnTo>
                  <a:pt x="328" y="410"/>
                </a:lnTo>
                <a:lnTo>
                  <a:pt x="322" y="403"/>
                </a:lnTo>
                <a:lnTo>
                  <a:pt x="315" y="397"/>
                </a:lnTo>
                <a:lnTo>
                  <a:pt x="307" y="387"/>
                </a:lnTo>
                <a:lnTo>
                  <a:pt x="299" y="380"/>
                </a:lnTo>
                <a:lnTo>
                  <a:pt x="290" y="370"/>
                </a:lnTo>
                <a:lnTo>
                  <a:pt x="282" y="359"/>
                </a:lnTo>
                <a:lnTo>
                  <a:pt x="270" y="347"/>
                </a:lnTo>
                <a:lnTo>
                  <a:pt x="261" y="336"/>
                </a:lnTo>
                <a:lnTo>
                  <a:pt x="249" y="322"/>
                </a:lnTo>
                <a:lnTo>
                  <a:pt x="238" y="309"/>
                </a:lnTo>
                <a:lnTo>
                  <a:pt x="226" y="293"/>
                </a:lnTo>
                <a:lnTo>
                  <a:pt x="213" y="278"/>
                </a:lnTo>
                <a:lnTo>
                  <a:pt x="199" y="261"/>
                </a:lnTo>
                <a:lnTo>
                  <a:pt x="186" y="244"/>
                </a:lnTo>
                <a:lnTo>
                  <a:pt x="173" y="226"/>
                </a:lnTo>
                <a:lnTo>
                  <a:pt x="157" y="207"/>
                </a:lnTo>
                <a:lnTo>
                  <a:pt x="142" y="188"/>
                </a:lnTo>
                <a:lnTo>
                  <a:pt x="126" y="167"/>
                </a:lnTo>
                <a:lnTo>
                  <a:pt x="109" y="146"/>
                </a:lnTo>
                <a:lnTo>
                  <a:pt x="92" y="123"/>
                </a:lnTo>
                <a:lnTo>
                  <a:pt x="75" y="100"/>
                </a:lnTo>
                <a:lnTo>
                  <a:pt x="55" y="77"/>
                </a:lnTo>
                <a:lnTo>
                  <a:pt x="38" y="52"/>
                </a:lnTo>
                <a:lnTo>
                  <a:pt x="19" y="27"/>
                </a:lnTo>
                <a:lnTo>
                  <a:pt x="0" y="0"/>
                </a:lnTo>
                <a:lnTo>
                  <a:pt x="23" y="0"/>
                </a:lnTo>
                <a:lnTo>
                  <a:pt x="46" y="2"/>
                </a:lnTo>
                <a:lnTo>
                  <a:pt x="69" y="4"/>
                </a:lnTo>
                <a:lnTo>
                  <a:pt x="92" y="6"/>
                </a:lnTo>
                <a:lnTo>
                  <a:pt x="113" y="9"/>
                </a:lnTo>
                <a:lnTo>
                  <a:pt x="134" y="15"/>
                </a:lnTo>
                <a:lnTo>
                  <a:pt x="153" y="19"/>
                </a:lnTo>
                <a:lnTo>
                  <a:pt x="173" y="27"/>
                </a:lnTo>
                <a:lnTo>
                  <a:pt x="192" y="32"/>
                </a:lnTo>
                <a:lnTo>
                  <a:pt x="211" y="40"/>
                </a:lnTo>
                <a:lnTo>
                  <a:pt x="228" y="48"/>
                </a:lnTo>
                <a:lnTo>
                  <a:pt x="245" y="57"/>
                </a:lnTo>
                <a:lnTo>
                  <a:pt x="263" y="67"/>
                </a:lnTo>
                <a:lnTo>
                  <a:pt x="278" y="77"/>
                </a:lnTo>
                <a:lnTo>
                  <a:pt x="295" y="88"/>
                </a:lnTo>
                <a:lnTo>
                  <a:pt x="311" y="100"/>
                </a:lnTo>
              </a:path>
            </a:pathLst>
          </a:custGeom>
          <a:solidFill>
            <a:srgbClr val="ff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46"/>
                                        </p:tgtEl>
                                        <p:attrNameLst>
                                          <p:attrName>style.visibility</p:attrName>
                                        </p:attrNameLst>
                                      </p:cBhvr>
                                      <p:to>
                                        <p:strVal val="visible"/>
                                      </p:to>
                                    </p:set>
                                    <p:anim calcmode="lin" valueType="num">
                                      <p:cBhvr additive="base">
                                        <p:cTn id="274" dur="500" fill="hold"/>
                                        <p:tgtEl>
                                          <p:spTgt spid="146"/>
                                        </p:tgtEl>
                                        <p:attrNameLst>
                                          <p:attrName>ppt_x</p:attrName>
                                        </p:attrNameLst>
                                      </p:cBhvr>
                                      <p:tavLst>
                                        <p:tav tm="0">
                                          <p:val>
                                            <p:strVal val="0-#ppt_w/2"/>
                                          </p:val>
                                        </p:tav>
                                        <p:tav tm="100000">
                                          <p:val>
                                            <p:strVal val="#ppt_x"/>
                                          </p:val>
                                        </p:tav>
                                      </p:tavLst>
                                    </p:anim>
                                    <p:anim calcmode="lin" valueType="num">
                                      <p:cBhvr additive="base">
                                        <p:cTn id="275"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1">
                                  <p:stCondLst>
                                    <p:cond delay="0"/>
                                  </p:stCondLst>
                                  <p:childTnLst>
                                    <p:set>
                                      <p:cBhvr>
                                        <p:cTn id="279" dur="1" fill="hold">
                                          <p:stCondLst>
                                            <p:cond delay="0"/>
                                          </p:stCondLst>
                                        </p:cTn>
                                        <p:tgtEl>
                                          <p:spTgt spid="148"/>
                                        </p:tgtEl>
                                        <p:attrNameLst>
                                          <p:attrName>style.visibility</p:attrName>
                                        </p:attrNameLst>
                                      </p:cBhvr>
                                      <p:to>
                                        <p:strVal val="visible"/>
                                      </p:to>
                                    </p:set>
                                    <p:animEffect filter="wipe(up)" transition="in">
                                      <p:cBhvr additive="repl">
                                        <p:cTn id="280" dur="500"/>
                                        <p:tgtEl>
                                          <p:spTgt spid="148"/>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47"/>
                                        </p:tgtEl>
                                        <p:attrNameLst>
                                          <p:attrName>style.visibility</p:attrName>
                                        </p:attrNameLst>
                                      </p:cBhvr>
                                      <p:to>
                                        <p:strVal val="visible"/>
                                      </p:to>
                                    </p:set>
                                    <p:animEffect filter="wipe(up)" transition="in">
                                      <p:cBhvr additive="repl">
                                        <p:cTn id="285" dur="500"/>
                                        <p:tgtEl>
                                          <p:spTgt spid="147"/>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149"/>
                                        </p:tgtEl>
                                        <p:attrNameLst>
                                          <p:attrName>style.visibility</p:attrName>
                                        </p:attrNameLst>
                                      </p:cBhvr>
                                      <p:to>
                                        <p:strVal val="visible"/>
                                      </p:to>
                                    </p:set>
                                    <p:animEffect filter="wipe(up)" transition="in">
                                      <p:cBhvr additive="repl">
                                        <p:cTn id="290" dur="500"/>
                                        <p:tgtEl>
                                          <p:spTgt spid="149"/>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150"/>
                                        </p:tgtEl>
                                        <p:attrNameLst>
                                          <p:attrName>style.visibility</p:attrName>
                                        </p:attrNameLst>
                                      </p:cBhvr>
                                      <p:to>
                                        <p:strVal val="visible"/>
                                      </p:to>
                                    </p:set>
                                    <p:animEffect filter="wipe(up)" transition="in">
                                      <p:cBhvr additive="repl">
                                        <p:cTn id="295" dur="500"/>
                                        <p:tgtEl>
                                          <p:spTgt spid="150"/>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51"/>
                                        </p:tgtEl>
                                        <p:attrNameLst>
                                          <p:attrName>style.visibility</p:attrName>
                                        </p:attrNameLst>
                                      </p:cBhvr>
                                      <p:to>
                                        <p:strVal val="visible"/>
                                      </p:to>
                                    </p:set>
                                    <p:animEffect filter="strips(downRight)" transition="in">
                                      <p:cBhvr additive="repl">
                                        <p:cTn id="300" dur="500"/>
                                        <p:tgtEl>
                                          <p:spTgt spid="151"/>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152"/>
                                        </p:tgtEl>
                                        <p:attrNameLst>
                                          <p:attrName>style.visibility</p:attrName>
                                        </p:attrNameLst>
                                      </p:cBhvr>
                                      <p:to>
                                        <p:strVal val="visible"/>
                                      </p:to>
                                    </p:set>
                                    <p:animEffect filter="wipe(up)" transition="in">
                                      <p:cBhvr additive="repl">
                                        <p:cTn id="305" dur="500"/>
                                        <p:tgtEl>
                                          <p:spTgt spid="152"/>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53" presetSubtype="16">
                                  <p:stCondLst>
                                    <p:cond delay="0"/>
                                  </p:stCondLst>
                                  <p:childTnLst>
                                    <p:set>
                                      <p:cBhvr>
                                        <p:cTn id="309" dur="1" fill="hold">
                                          <p:stCondLst>
                                            <p:cond delay="0"/>
                                          </p:stCondLst>
                                        </p:cTn>
                                        <p:tgtEl>
                                          <p:spTgt spid="143"/>
                                        </p:tgtEl>
                                        <p:attrNameLst>
                                          <p:attrName>style.visibility</p:attrName>
                                        </p:attrNameLst>
                                      </p:cBhvr>
                                      <p:to>
                                        <p:strVal val="visible"/>
                                      </p:to>
                                    </p:set>
                                    <p:anim calcmode="lin" valueType="num">
                                      <p:cBhvr additive="repl">
                                        <p:cTn id="310" dur="500" fill="hold"/>
                                        <p:tgtEl>
                                          <p:spTgt spid="143"/>
                                        </p:tgtEl>
                                        <p:attrNameLst>
                                          <p:attrName>ppt_w</p:attrName>
                                        </p:attrNameLst>
                                      </p:cBhvr>
                                      <p:tavLst>
                                        <p:tav tm="0">
                                          <p:val>
                                            <p:fltVal val="0"/>
                                          </p:val>
                                        </p:tav>
                                        <p:tav tm="100000">
                                          <p:val>
                                            <p:strVal val="#ppt_w"/>
                                          </p:val>
                                        </p:tav>
                                      </p:tavLst>
                                    </p:anim>
                                    <p:anim calcmode="lin" valueType="num">
                                      <p:cBhvr additive="repl">
                                        <p:cTn id="311" dur="500" fill="hold"/>
                                        <p:tgtEl>
                                          <p:spTgt spid="143"/>
                                        </p:tgtEl>
                                        <p:attrNameLst>
                                          <p:attrName>ppt_h</p:attrName>
                                        </p:attrNameLst>
                                      </p:cBhvr>
                                      <p:tavLst>
                                        <p:tav tm="0">
                                          <p:val>
                                            <p:fltVal val="0"/>
                                          </p:val>
                                        </p:tav>
                                        <p:tav tm="100000">
                                          <p:val>
                                            <p:strVal val="#ppt_h"/>
                                          </p:val>
                                        </p:tav>
                                      </p:tavLst>
                                    </p:anim>
                                    <p:animEffect filter="fade" transition="in">
                                      <p:cBhvr additive="repl">
                                        <p:cTn id="31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谋</a:t>
            </a:r>
            <a:endParaRPr b="0" lang="en-US" sz="8000" spc="-1" strike="noStrike">
              <a:solidFill>
                <a:srgbClr val="000000"/>
              </a:solidFill>
              <a:latin typeface="Calibri"/>
            </a:endParaRPr>
          </a:p>
        </p:txBody>
      </p:sp>
      <p:graphicFrame>
        <p:nvGraphicFramePr>
          <p:cNvPr id="154"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55" name="组合 8"/>
          <p:cNvGrpSpPr/>
          <p:nvPr/>
        </p:nvGrpSpPr>
        <p:grpSpPr>
          <a:xfrm>
            <a:off x="1258920" y="3975120"/>
            <a:ext cx="2840040" cy="1621080"/>
            <a:chOff x="1258920" y="3975120"/>
            <a:chExt cx="2840040" cy="1621080"/>
          </a:xfrm>
        </p:grpSpPr>
        <p:pic>
          <p:nvPicPr>
            <p:cNvPr id="156" name="图示 4" descr=""/>
            <p:cNvPicPr/>
            <p:nvPr/>
          </p:nvPicPr>
          <p:blipFill>
            <a:blip r:embed="rId1"/>
            <a:stretch/>
          </p:blipFill>
          <p:spPr>
            <a:xfrm>
              <a:off x="1258920" y="3975120"/>
              <a:ext cx="2840040" cy="1571760"/>
            </a:xfrm>
            <a:prstGeom prst="rect">
              <a:avLst/>
            </a:prstGeom>
            <a:ln w="0">
              <a:noFill/>
            </a:ln>
          </p:spPr>
        </p:pic>
        <p:sp>
          <p:nvSpPr>
            <p:cNvPr id="157" name="矩形 2"/>
            <p:cNvSpPr/>
            <p:nvPr/>
          </p:nvSpPr>
          <p:spPr>
            <a:xfrm>
              <a:off x="1302480" y="4587840"/>
              <a:ext cx="2772360" cy="1008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左窄右宽。右部捺舒展。</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grpSp>
      <p:sp>
        <p:nvSpPr>
          <p:cNvPr id="158" name="矩形 3"/>
          <p:cNvSpPr/>
          <p:nvPr/>
        </p:nvSpPr>
        <p:spPr>
          <a:xfrm>
            <a:off x="2046240" y="1868400"/>
            <a:ext cx="1343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móu</a:t>
            </a:r>
            <a:endParaRPr b="0" lang="en-US" sz="4800" spc="-1" strike="noStrike">
              <a:solidFill>
                <a:srgbClr val="000000"/>
              </a:solidFill>
              <a:latin typeface="Calibri"/>
            </a:endParaRPr>
          </a:p>
        </p:txBody>
      </p:sp>
      <p:sp>
        <p:nvSpPr>
          <p:cNvPr id="159" name="Freeform 63"/>
          <p:cNvSpPr/>
          <p:nvPr/>
        </p:nvSpPr>
        <p:spPr>
          <a:xfrm>
            <a:off x="6492960" y="2917800"/>
            <a:ext cx="203040" cy="954000"/>
          </a:xfrm>
          <a:custGeom>
            <a:avLst/>
            <a:gdLst/>
            <a:ahLst/>
            <a:rect l="l" t="t" r="r" b="b"/>
            <a:pathLst>
              <a:path w="257" h="1202">
                <a:moveTo>
                  <a:pt x="2" y="36"/>
                </a:moveTo>
                <a:lnTo>
                  <a:pt x="7" y="27"/>
                </a:lnTo>
                <a:lnTo>
                  <a:pt x="13" y="19"/>
                </a:lnTo>
                <a:lnTo>
                  <a:pt x="19" y="13"/>
                </a:lnTo>
                <a:lnTo>
                  <a:pt x="28" y="8"/>
                </a:lnTo>
                <a:lnTo>
                  <a:pt x="36" y="4"/>
                </a:lnTo>
                <a:lnTo>
                  <a:pt x="48" y="2"/>
                </a:lnTo>
                <a:lnTo>
                  <a:pt x="59" y="0"/>
                </a:lnTo>
                <a:lnTo>
                  <a:pt x="71" y="0"/>
                </a:lnTo>
                <a:lnTo>
                  <a:pt x="84" y="4"/>
                </a:lnTo>
                <a:lnTo>
                  <a:pt x="100" y="8"/>
                </a:lnTo>
                <a:lnTo>
                  <a:pt x="115" y="13"/>
                </a:lnTo>
                <a:lnTo>
                  <a:pt x="130" y="17"/>
                </a:lnTo>
                <a:lnTo>
                  <a:pt x="144" y="21"/>
                </a:lnTo>
                <a:lnTo>
                  <a:pt x="159" y="27"/>
                </a:lnTo>
                <a:lnTo>
                  <a:pt x="174" y="31"/>
                </a:lnTo>
                <a:lnTo>
                  <a:pt x="188" y="36"/>
                </a:lnTo>
                <a:lnTo>
                  <a:pt x="199" y="40"/>
                </a:lnTo>
                <a:lnTo>
                  <a:pt x="211" y="46"/>
                </a:lnTo>
                <a:lnTo>
                  <a:pt x="220" y="54"/>
                </a:lnTo>
                <a:lnTo>
                  <a:pt x="230" y="59"/>
                </a:lnTo>
                <a:lnTo>
                  <a:pt x="240" y="67"/>
                </a:lnTo>
                <a:lnTo>
                  <a:pt x="245" y="73"/>
                </a:lnTo>
                <a:lnTo>
                  <a:pt x="251" y="79"/>
                </a:lnTo>
                <a:lnTo>
                  <a:pt x="257" y="84"/>
                </a:lnTo>
                <a:lnTo>
                  <a:pt x="257" y="88"/>
                </a:lnTo>
                <a:lnTo>
                  <a:pt x="257" y="92"/>
                </a:lnTo>
                <a:lnTo>
                  <a:pt x="257" y="96"/>
                </a:lnTo>
                <a:lnTo>
                  <a:pt x="257" y="102"/>
                </a:lnTo>
                <a:lnTo>
                  <a:pt x="257" y="109"/>
                </a:lnTo>
                <a:lnTo>
                  <a:pt x="257" y="117"/>
                </a:lnTo>
                <a:lnTo>
                  <a:pt x="257" y="127"/>
                </a:lnTo>
                <a:lnTo>
                  <a:pt x="257" y="136"/>
                </a:lnTo>
                <a:lnTo>
                  <a:pt x="257" y="148"/>
                </a:lnTo>
                <a:lnTo>
                  <a:pt x="257" y="159"/>
                </a:lnTo>
                <a:lnTo>
                  <a:pt x="257" y="171"/>
                </a:lnTo>
                <a:lnTo>
                  <a:pt x="257" y="184"/>
                </a:lnTo>
                <a:lnTo>
                  <a:pt x="257" y="198"/>
                </a:lnTo>
                <a:lnTo>
                  <a:pt x="257" y="211"/>
                </a:lnTo>
                <a:lnTo>
                  <a:pt x="257" y="226"/>
                </a:lnTo>
                <a:lnTo>
                  <a:pt x="257" y="244"/>
                </a:lnTo>
                <a:lnTo>
                  <a:pt x="255" y="251"/>
                </a:lnTo>
                <a:lnTo>
                  <a:pt x="255" y="263"/>
                </a:lnTo>
                <a:lnTo>
                  <a:pt x="253" y="272"/>
                </a:lnTo>
                <a:lnTo>
                  <a:pt x="253" y="284"/>
                </a:lnTo>
                <a:lnTo>
                  <a:pt x="251" y="296"/>
                </a:lnTo>
                <a:lnTo>
                  <a:pt x="251" y="307"/>
                </a:lnTo>
                <a:lnTo>
                  <a:pt x="251" y="319"/>
                </a:lnTo>
                <a:lnTo>
                  <a:pt x="249" y="332"/>
                </a:lnTo>
                <a:lnTo>
                  <a:pt x="249" y="345"/>
                </a:lnTo>
                <a:lnTo>
                  <a:pt x="249" y="359"/>
                </a:lnTo>
                <a:lnTo>
                  <a:pt x="249" y="388"/>
                </a:lnTo>
                <a:lnTo>
                  <a:pt x="247" y="418"/>
                </a:lnTo>
                <a:lnTo>
                  <a:pt x="247" y="451"/>
                </a:lnTo>
                <a:lnTo>
                  <a:pt x="247" y="486"/>
                </a:lnTo>
                <a:lnTo>
                  <a:pt x="249" y="522"/>
                </a:lnTo>
                <a:lnTo>
                  <a:pt x="249" y="560"/>
                </a:lnTo>
                <a:lnTo>
                  <a:pt x="249" y="601"/>
                </a:lnTo>
                <a:lnTo>
                  <a:pt x="251" y="643"/>
                </a:lnTo>
                <a:lnTo>
                  <a:pt x="253" y="687"/>
                </a:lnTo>
                <a:lnTo>
                  <a:pt x="255" y="731"/>
                </a:lnTo>
                <a:lnTo>
                  <a:pt x="257" y="779"/>
                </a:lnTo>
                <a:lnTo>
                  <a:pt x="257" y="804"/>
                </a:lnTo>
                <a:lnTo>
                  <a:pt x="257" y="827"/>
                </a:lnTo>
                <a:lnTo>
                  <a:pt x="257" y="850"/>
                </a:lnTo>
                <a:lnTo>
                  <a:pt x="257" y="873"/>
                </a:lnTo>
                <a:lnTo>
                  <a:pt x="257" y="894"/>
                </a:lnTo>
                <a:lnTo>
                  <a:pt x="257" y="916"/>
                </a:lnTo>
                <a:lnTo>
                  <a:pt x="257" y="937"/>
                </a:lnTo>
                <a:lnTo>
                  <a:pt x="257" y="956"/>
                </a:lnTo>
                <a:lnTo>
                  <a:pt x="257" y="973"/>
                </a:lnTo>
                <a:lnTo>
                  <a:pt x="257" y="992"/>
                </a:lnTo>
                <a:lnTo>
                  <a:pt x="257" y="1010"/>
                </a:lnTo>
                <a:lnTo>
                  <a:pt x="255" y="1025"/>
                </a:lnTo>
                <a:lnTo>
                  <a:pt x="255" y="1040"/>
                </a:lnTo>
                <a:lnTo>
                  <a:pt x="255" y="1056"/>
                </a:lnTo>
                <a:lnTo>
                  <a:pt x="255" y="1069"/>
                </a:lnTo>
                <a:lnTo>
                  <a:pt x="255" y="1083"/>
                </a:lnTo>
                <a:lnTo>
                  <a:pt x="255" y="1094"/>
                </a:lnTo>
                <a:lnTo>
                  <a:pt x="255" y="1106"/>
                </a:lnTo>
                <a:lnTo>
                  <a:pt x="255" y="1117"/>
                </a:lnTo>
                <a:lnTo>
                  <a:pt x="253" y="1129"/>
                </a:lnTo>
                <a:lnTo>
                  <a:pt x="253" y="1136"/>
                </a:lnTo>
                <a:lnTo>
                  <a:pt x="253" y="1146"/>
                </a:lnTo>
                <a:lnTo>
                  <a:pt x="253" y="1154"/>
                </a:lnTo>
                <a:lnTo>
                  <a:pt x="251" y="1161"/>
                </a:lnTo>
                <a:lnTo>
                  <a:pt x="251" y="1167"/>
                </a:lnTo>
                <a:lnTo>
                  <a:pt x="251" y="1173"/>
                </a:lnTo>
                <a:lnTo>
                  <a:pt x="249" y="1178"/>
                </a:lnTo>
                <a:lnTo>
                  <a:pt x="249" y="1182"/>
                </a:lnTo>
                <a:lnTo>
                  <a:pt x="247" y="1186"/>
                </a:lnTo>
                <a:lnTo>
                  <a:pt x="247" y="1190"/>
                </a:lnTo>
                <a:lnTo>
                  <a:pt x="245" y="1192"/>
                </a:lnTo>
                <a:lnTo>
                  <a:pt x="245" y="1194"/>
                </a:lnTo>
                <a:lnTo>
                  <a:pt x="240" y="1198"/>
                </a:lnTo>
                <a:lnTo>
                  <a:pt x="234" y="1200"/>
                </a:lnTo>
                <a:lnTo>
                  <a:pt x="228" y="1202"/>
                </a:lnTo>
                <a:lnTo>
                  <a:pt x="220" y="1202"/>
                </a:lnTo>
                <a:lnTo>
                  <a:pt x="213" y="1200"/>
                </a:lnTo>
                <a:lnTo>
                  <a:pt x="209" y="1198"/>
                </a:lnTo>
                <a:lnTo>
                  <a:pt x="205" y="1196"/>
                </a:lnTo>
                <a:lnTo>
                  <a:pt x="199" y="1192"/>
                </a:lnTo>
                <a:lnTo>
                  <a:pt x="196" y="1190"/>
                </a:lnTo>
                <a:lnTo>
                  <a:pt x="192" y="1186"/>
                </a:lnTo>
                <a:lnTo>
                  <a:pt x="188" y="1182"/>
                </a:lnTo>
                <a:lnTo>
                  <a:pt x="186" y="1178"/>
                </a:lnTo>
                <a:lnTo>
                  <a:pt x="182" y="1175"/>
                </a:lnTo>
                <a:lnTo>
                  <a:pt x="180" y="1171"/>
                </a:lnTo>
                <a:lnTo>
                  <a:pt x="178" y="1165"/>
                </a:lnTo>
                <a:lnTo>
                  <a:pt x="176" y="1157"/>
                </a:lnTo>
                <a:lnTo>
                  <a:pt x="174" y="1152"/>
                </a:lnTo>
                <a:lnTo>
                  <a:pt x="172" y="1142"/>
                </a:lnTo>
                <a:lnTo>
                  <a:pt x="171" y="1132"/>
                </a:lnTo>
                <a:lnTo>
                  <a:pt x="169" y="1123"/>
                </a:lnTo>
                <a:lnTo>
                  <a:pt x="167" y="1111"/>
                </a:lnTo>
                <a:lnTo>
                  <a:pt x="165" y="1100"/>
                </a:lnTo>
                <a:lnTo>
                  <a:pt x="161" y="1086"/>
                </a:lnTo>
                <a:lnTo>
                  <a:pt x="159" y="1073"/>
                </a:lnTo>
                <a:lnTo>
                  <a:pt x="157" y="1058"/>
                </a:lnTo>
                <a:lnTo>
                  <a:pt x="155" y="1042"/>
                </a:lnTo>
                <a:lnTo>
                  <a:pt x="153" y="1025"/>
                </a:lnTo>
                <a:lnTo>
                  <a:pt x="151" y="1008"/>
                </a:lnTo>
                <a:lnTo>
                  <a:pt x="149" y="990"/>
                </a:lnTo>
                <a:lnTo>
                  <a:pt x="148" y="971"/>
                </a:lnTo>
                <a:lnTo>
                  <a:pt x="148" y="950"/>
                </a:lnTo>
                <a:lnTo>
                  <a:pt x="146" y="929"/>
                </a:lnTo>
                <a:lnTo>
                  <a:pt x="144" y="906"/>
                </a:lnTo>
                <a:lnTo>
                  <a:pt x="142" y="883"/>
                </a:lnTo>
                <a:lnTo>
                  <a:pt x="140" y="860"/>
                </a:lnTo>
                <a:lnTo>
                  <a:pt x="138" y="835"/>
                </a:lnTo>
                <a:lnTo>
                  <a:pt x="136" y="808"/>
                </a:lnTo>
                <a:lnTo>
                  <a:pt x="136" y="781"/>
                </a:lnTo>
                <a:lnTo>
                  <a:pt x="134" y="754"/>
                </a:lnTo>
                <a:lnTo>
                  <a:pt x="132" y="725"/>
                </a:lnTo>
                <a:lnTo>
                  <a:pt x="132" y="695"/>
                </a:lnTo>
                <a:lnTo>
                  <a:pt x="130" y="664"/>
                </a:lnTo>
                <a:lnTo>
                  <a:pt x="130" y="633"/>
                </a:lnTo>
                <a:lnTo>
                  <a:pt x="128" y="601"/>
                </a:lnTo>
                <a:lnTo>
                  <a:pt x="126" y="570"/>
                </a:lnTo>
                <a:lnTo>
                  <a:pt x="126" y="541"/>
                </a:lnTo>
                <a:lnTo>
                  <a:pt x="124" y="512"/>
                </a:lnTo>
                <a:lnTo>
                  <a:pt x="123" y="486"/>
                </a:lnTo>
                <a:lnTo>
                  <a:pt x="121" y="457"/>
                </a:lnTo>
                <a:lnTo>
                  <a:pt x="119" y="432"/>
                </a:lnTo>
                <a:lnTo>
                  <a:pt x="117" y="407"/>
                </a:lnTo>
                <a:lnTo>
                  <a:pt x="115" y="382"/>
                </a:lnTo>
                <a:lnTo>
                  <a:pt x="113" y="359"/>
                </a:lnTo>
                <a:lnTo>
                  <a:pt x="111" y="338"/>
                </a:lnTo>
                <a:lnTo>
                  <a:pt x="107" y="317"/>
                </a:lnTo>
                <a:lnTo>
                  <a:pt x="105" y="296"/>
                </a:lnTo>
                <a:lnTo>
                  <a:pt x="103" y="276"/>
                </a:lnTo>
                <a:lnTo>
                  <a:pt x="100" y="257"/>
                </a:lnTo>
                <a:lnTo>
                  <a:pt x="98" y="240"/>
                </a:lnTo>
                <a:lnTo>
                  <a:pt x="96" y="223"/>
                </a:lnTo>
                <a:lnTo>
                  <a:pt x="92" y="207"/>
                </a:lnTo>
                <a:lnTo>
                  <a:pt x="90" y="192"/>
                </a:lnTo>
                <a:lnTo>
                  <a:pt x="86" y="178"/>
                </a:lnTo>
                <a:lnTo>
                  <a:pt x="82" y="165"/>
                </a:lnTo>
                <a:lnTo>
                  <a:pt x="80" y="153"/>
                </a:lnTo>
                <a:lnTo>
                  <a:pt x="76" y="142"/>
                </a:lnTo>
                <a:lnTo>
                  <a:pt x="75" y="132"/>
                </a:lnTo>
                <a:lnTo>
                  <a:pt x="71" y="123"/>
                </a:lnTo>
                <a:lnTo>
                  <a:pt x="67" y="115"/>
                </a:lnTo>
                <a:lnTo>
                  <a:pt x="65" y="107"/>
                </a:lnTo>
                <a:lnTo>
                  <a:pt x="61" y="102"/>
                </a:lnTo>
                <a:lnTo>
                  <a:pt x="57" y="96"/>
                </a:lnTo>
                <a:lnTo>
                  <a:pt x="55" y="90"/>
                </a:lnTo>
                <a:lnTo>
                  <a:pt x="52" y="86"/>
                </a:lnTo>
                <a:lnTo>
                  <a:pt x="48" y="84"/>
                </a:lnTo>
                <a:lnTo>
                  <a:pt x="36" y="79"/>
                </a:lnTo>
                <a:lnTo>
                  <a:pt x="25" y="73"/>
                </a:lnTo>
                <a:lnTo>
                  <a:pt x="15" y="67"/>
                </a:lnTo>
                <a:lnTo>
                  <a:pt x="11" y="63"/>
                </a:lnTo>
                <a:lnTo>
                  <a:pt x="7" y="59"/>
                </a:lnTo>
                <a:lnTo>
                  <a:pt x="5" y="58"/>
                </a:lnTo>
                <a:lnTo>
                  <a:pt x="2" y="54"/>
                </a:lnTo>
                <a:lnTo>
                  <a:pt x="0" y="50"/>
                </a:lnTo>
                <a:lnTo>
                  <a:pt x="0" y="46"/>
                </a:lnTo>
                <a:lnTo>
                  <a:pt x="0" y="44"/>
                </a:lnTo>
                <a:lnTo>
                  <a:pt x="0" y="40"/>
                </a:lnTo>
                <a:lnTo>
                  <a:pt x="0" y="38"/>
                </a:lnTo>
                <a:lnTo>
                  <a:pt x="2" y="3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64"/>
          <p:cNvSpPr/>
          <p:nvPr/>
        </p:nvSpPr>
        <p:spPr>
          <a:xfrm>
            <a:off x="6329520" y="3051000"/>
            <a:ext cx="1130040" cy="247680"/>
          </a:xfrm>
          <a:custGeom>
            <a:avLst/>
            <a:gdLst/>
            <a:ahLst/>
            <a:rect l="l" t="t" r="r" b="b"/>
            <a:pathLst>
              <a:path w="1425" h="311">
                <a:moveTo>
                  <a:pt x="0" y="257"/>
                </a:moveTo>
                <a:lnTo>
                  <a:pt x="35" y="249"/>
                </a:lnTo>
                <a:lnTo>
                  <a:pt x="69" y="240"/>
                </a:lnTo>
                <a:lnTo>
                  <a:pt x="104" y="232"/>
                </a:lnTo>
                <a:lnTo>
                  <a:pt x="139" y="224"/>
                </a:lnTo>
                <a:lnTo>
                  <a:pt x="171" y="217"/>
                </a:lnTo>
                <a:lnTo>
                  <a:pt x="206" y="211"/>
                </a:lnTo>
                <a:lnTo>
                  <a:pt x="238" y="203"/>
                </a:lnTo>
                <a:lnTo>
                  <a:pt x="269" y="196"/>
                </a:lnTo>
                <a:lnTo>
                  <a:pt x="302" y="188"/>
                </a:lnTo>
                <a:lnTo>
                  <a:pt x="332" y="182"/>
                </a:lnTo>
                <a:lnTo>
                  <a:pt x="363" y="175"/>
                </a:lnTo>
                <a:lnTo>
                  <a:pt x="392" y="169"/>
                </a:lnTo>
                <a:lnTo>
                  <a:pt x="423" y="161"/>
                </a:lnTo>
                <a:lnTo>
                  <a:pt x="451" y="155"/>
                </a:lnTo>
                <a:lnTo>
                  <a:pt x="478" y="150"/>
                </a:lnTo>
                <a:lnTo>
                  <a:pt x="507" y="144"/>
                </a:lnTo>
                <a:lnTo>
                  <a:pt x="534" y="138"/>
                </a:lnTo>
                <a:lnTo>
                  <a:pt x="561" y="132"/>
                </a:lnTo>
                <a:lnTo>
                  <a:pt x="588" y="127"/>
                </a:lnTo>
                <a:lnTo>
                  <a:pt x="613" y="121"/>
                </a:lnTo>
                <a:lnTo>
                  <a:pt x="640" y="115"/>
                </a:lnTo>
                <a:lnTo>
                  <a:pt x="664" y="109"/>
                </a:lnTo>
                <a:lnTo>
                  <a:pt x="688" y="103"/>
                </a:lnTo>
                <a:lnTo>
                  <a:pt x="712" y="100"/>
                </a:lnTo>
                <a:lnTo>
                  <a:pt x="736" y="94"/>
                </a:lnTo>
                <a:lnTo>
                  <a:pt x="759" y="90"/>
                </a:lnTo>
                <a:lnTo>
                  <a:pt x="780" y="84"/>
                </a:lnTo>
                <a:lnTo>
                  <a:pt x="803" y="80"/>
                </a:lnTo>
                <a:lnTo>
                  <a:pt x="824" y="77"/>
                </a:lnTo>
                <a:lnTo>
                  <a:pt x="843" y="71"/>
                </a:lnTo>
                <a:lnTo>
                  <a:pt x="864" y="67"/>
                </a:lnTo>
                <a:lnTo>
                  <a:pt x="883" y="63"/>
                </a:lnTo>
                <a:lnTo>
                  <a:pt x="903" y="59"/>
                </a:lnTo>
                <a:lnTo>
                  <a:pt x="922" y="56"/>
                </a:lnTo>
                <a:lnTo>
                  <a:pt x="939" y="52"/>
                </a:lnTo>
                <a:lnTo>
                  <a:pt x="956" y="48"/>
                </a:lnTo>
                <a:lnTo>
                  <a:pt x="974" y="46"/>
                </a:lnTo>
                <a:lnTo>
                  <a:pt x="991" y="42"/>
                </a:lnTo>
                <a:lnTo>
                  <a:pt x="1006" y="38"/>
                </a:lnTo>
                <a:lnTo>
                  <a:pt x="1022" y="36"/>
                </a:lnTo>
                <a:lnTo>
                  <a:pt x="1037" y="32"/>
                </a:lnTo>
                <a:lnTo>
                  <a:pt x="1052" y="31"/>
                </a:lnTo>
                <a:lnTo>
                  <a:pt x="1066" y="27"/>
                </a:lnTo>
                <a:lnTo>
                  <a:pt x="1079" y="25"/>
                </a:lnTo>
                <a:lnTo>
                  <a:pt x="1093" y="23"/>
                </a:lnTo>
                <a:lnTo>
                  <a:pt x="1104" y="21"/>
                </a:lnTo>
                <a:lnTo>
                  <a:pt x="1116" y="17"/>
                </a:lnTo>
                <a:lnTo>
                  <a:pt x="1127" y="15"/>
                </a:lnTo>
                <a:lnTo>
                  <a:pt x="1139" y="13"/>
                </a:lnTo>
                <a:lnTo>
                  <a:pt x="1148" y="11"/>
                </a:lnTo>
                <a:lnTo>
                  <a:pt x="1158" y="11"/>
                </a:lnTo>
                <a:lnTo>
                  <a:pt x="1167" y="9"/>
                </a:lnTo>
                <a:lnTo>
                  <a:pt x="1177" y="8"/>
                </a:lnTo>
                <a:lnTo>
                  <a:pt x="1185" y="6"/>
                </a:lnTo>
                <a:lnTo>
                  <a:pt x="1192" y="6"/>
                </a:lnTo>
                <a:lnTo>
                  <a:pt x="1200" y="4"/>
                </a:lnTo>
                <a:lnTo>
                  <a:pt x="1206" y="4"/>
                </a:lnTo>
                <a:lnTo>
                  <a:pt x="1212" y="2"/>
                </a:lnTo>
                <a:lnTo>
                  <a:pt x="1217" y="2"/>
                </a:lnTo>
                <a:lnTo>
                  <a:pt x="1223" y="2"/>
                </a:lnTo>
                <a:lnTo>
                  <a:pt x="1227" y="0"/>
                </a:lnTo>
                <a:lnTo>
                  <a:pt x="1231" y="0"/>
                </a:lnTo>
                <a:lnTo>
                  <a:pt x="1235" y="0"/>
                </a:lnTo>
                <a:lnTo>
                  <a:pt x="1238" y="0"/>
                </a:lnTo>
                <a:lnTo>
                  <a:pt x="1260" y="0"/>
                </a:lnTo>
                <a:lnTo>
                  <a:pt x="1281" y="0"/>
                </a:lnTo>
                <a:lnTo>
                  <a:pt x="1298" y="2"/>
                </a:lnTo>
                <a:lnTo>
                  <a:pt x="1317" y="2"/>
                </a:lnTo>
                <a:lnTo>
                  <a:pt x="1334" y="4"/>
                </a:lnTo>
                <a:lnTo>
                  <a:pt x="1350" y="6"/>
                </a:lnTo>
                <a:lnTo>
                  <a:pt x="1363" y="9"/>
                </a:lnTo>
                <a:lnTo>
                  <a:pt x="1377" y="13"/>
                </a:lnTo>
                <a:lnTo>
                  <a:pt x="1384" y="15"/>
                </a:lnTo>
                <a:lnTo>
                  <a:pt x="1390" y="17"/>
                </a:lnTo>
                <a:lnTo>
                  <a:pt x="1394" y="21"/>
                </a:lnTo>
                <a:lnTo>
                  <a:pt x="1400" y="25"/>
                </a:lnTo>
                <a:lnTo>
                  <a:pt x="1407" y="31"/>
                </a:lnTo>
                <a:lnTo>
                  <a:pt x="1413" y="38"/>
                </a:lnTo>
                <a:lnTo>
                  <a:pt x="1419" y="44"/>
                </a:lnTo>
                <a:lnTo>
                  <a:pt x="1421" y="52"/>
                </a:lnTo>
                <a:lnTo>
                  <a:pt x="1423" y="57"/>
                </a:lnTo>
                <a:lnTo>
                  <a:pt x="1425" y="61"/>
                </a:lnTo>
                <a:lnTo>
                  <a:pt x="1423" y="71"/>
                </a:lnTo>
                <a:lnTo>
                  <a:pt x="1421" y="79"/>
                </a:lnTo>
                <a:lnTo>
                  <a:pt x="1419" y="84"/>
                </a:lnTo>
                <a:lnTo>
                  <a:pt x="1413" y="90"/>
                </a:lnTo>
                <a:lnTo>
                  <a:pt x="1407" y="96"/>
                </a:lnTo>
                <a:lnTo>
                  <a:pt x="1400" y="102"/>
                </a:lnTo>
                <a:lnTo>
                  <a:pt x="1394" y="103"/>
                </a:lnTo>
                <a:lnTo>
                  <a:pt x="1390" y="105"/>
                </a:lnTo>
                <a:lnTo>
                  <a:pt x="1384" y="107"/>
                </a:lnTo>
                <a:lnTo>
                  <a:pt x="1377" y="111"/>
                </a:lnTo>
                <a:lnTo>
                  <a:pt x="1371" y="113"/>
                </a:lnTo>
                <a:lnTo>
                  <a:pt x="1361" y="115"/>
                </a:lnTo>
                <a:lnTo>
                  <a:pt x="1352" y="119"/>
                </a:lnTo>
                <a:lnTo>
                  <a:pt x="1340" y="121"/>
                </a:lnTo>
                <a:lnTo>
                  <a:pt x="1329" y="125"/>
                </a:lnTo>
                <a:lnTo>
                  <a:pt x="1313" y="128"/>
                </a:lnTo>
                <a:lnTo>
                  <a:pt x="1298" y="132"/>
                </a:lnTo>
                <a:lnTo>
                  <a:pt x="1283" y="134"/>
                </a:lnTo>
                <a:lnTo>
                  <a:pt x="1263" y="138"/>
                </a:lnTo>
                <a:lnTo>
                  <a:pt x="1244" y="142"/>
                </a:lnTo>
                <a:lnTo>
                  <a:pt x="1223" y="146"/>
                </a:lnTo>
                <a:lnTo>
                  <a:pt x="1202" y="148"/>
                </a:lnTo>
                <a:lnTo>
                  <a:pt x="1179" y="151"/>
                </a:lnTo>
                <a:lnTo>
                  <a:pt x="1154" y="153"/>
                </a:lnTo>
                <a:lnTo>
                  <a:pt x="1127" y="157"/>
                </a:lnTo>
                <a:lnTo>
                  <a:pt x="1100" y="159"/>
                </a:lnTo>
                <a:lnTo>
                  <a:pt x="1071" y="165"/>
                </a:lnTo>
                <a:lnTo>
                  <a:pt x="1041" y="169"/>
                </a:lnTo>
                <a:lnTo>
                  <a:pt x="1012" y="175"/>
                </a:lnTo>
                <a:lnTo>
                  <a:pt x="979" y="180"/>
                </a:lnTo>
                <a:lnTo>
                  <a:pt x="949" y="186"/>
                </a:lnTo>
                <a:lnTo>
                  <a:pt x="916" y="192"/>
                </a:lnTo>
                <a:lnTo>
                  <a:pt x="881" y="198"/>
                </a:lnTo>
                <a:lnTo>
                  <a:pt x="847" y="203"/>
                </a:lnTo>
                <a:lnTo>
                  <a:pt x="812" y="209"/>
                </a:lnTo>
                <a:lnTo>
                  <a:pt x="776" y="217"/>
                </a:lnTo>
                <a:lnTo>
                  <a:pt x="739" y="222"/>
                </a:lnTo>
                <a:lnTo>
                  <a:pt x="703" y="228"/>
                </a:lnTo>
                <a:lnTo>
                  <a:pt x="664" y="236"/>
                </a:lnTo>
                <a:lnTo>
                  <a:pt x="624" y="244"/>
                </a:lnTo>
                <a:lnTo>
                  <a:pt x="584" y="249"/>
                </a:lnTo>
                <a:lnTo>
                  <a:pt x="544" y="257"/>
                </a:lnTo>
                <a:lnTo>
                  <a:pt x="503" y="265"/>
                </a:lnTo>
                <a:lnTo>
                  <a:pt x="465" y="274"/>
                </a:lnTo>
                <a:lnTo>
                  <a:pt x="428" y="280"/>
                </a:lnTo>
                <a:lnTo>
                  <a:pt x="394" y="288"/>
                </a:lnTo>
                <a:lnTo>
                  <a:pt x="361" y="292"/>
                </a:lnTo>
                <a:lnTo>
                  <a:pt x="330" y="297"/>
                </a:lnTo>
                <a:lnTo>
                  <a:pt x="300" y="301"/>
                </a:lnTo>
                <a:lnTo>
                  <a:pt x="273" y="305"/>
                </a:lnTo>
                <a:lnTo>
                  <a:pt x="248" y="307"/>
                </a:lnTo>
                <a:lnTo>
                  <a:pt x="223" y="309"/>
                </a:lnTo>
                <a:lnTo>
                  <a:pt x="202" y="309"/>
                </a:lnTo>
                <a:lnTo>
                  <a:pt x="181" y="311"/>
                </a:lnTo>
                <a:lnTo>
                  <a:pt x="162" y="309"/>
                </a:lnTo>
                <a:lnTo>
                  <a:pt x="144" y="309"/>
                </a:lnTo>
                <a:lnTo>
                  <a:pt x="129" y="307"/>
                </a:lnTo>
                <a:lnTo>
                  <a:pt x="115" y="305"/>
                </a:lnTo>
                <a:lnTo>
                  <a:pt x="100" y="303"/>
                </a:lnTo>
                <a:lnTo>
                  <a:pt x="87" y="301"/>
                </a:lnTo>
                <a:lnTo>
                  <a:pt x="75" y="299"/>
                </a:lnTo>
                <a:lnTo>
                  <a:pt x="64" y="295"/>
                </a:lnTo>
                <a:lnTo>
                  <a:pt x="52" y="294"/>
                </a:lnTo>
                <a:lnTo>
                  <a:pt x="43" y="292"/>
                </a:lnTo>
                <a:lnTo>
                  <a:pt x="35" y="288"/>
                </a:lnTo>
                <a:lnTo>
                  <a:pt x="27" y="286"/>
                </a:lnTo>
                <a:lnTo>
                  <a:pt x="19" y="282"/>
                </a:lnTo>
                <a:lnTo>
                  <a:pt x="14" y="280"/>
                </a:lnTo>
                <a:lnTo>
                  <a:pt x="10" y="276"/>
                </a:lnTo>
                <a:lnTo>
                  <a:pt x="6" y="272"/>
                </a:lnTo>
                <a:lnTo>
                  <a:pt x="2" y="269"/>
                </a:lnTo>
                <a:lnTo>
                  <a:pt x="0" y="265"/>
                </a:lnTo>
                <a:lnTo>
                  <a:pt x="0" y="261"/>
                </a:lnTo>
                <a:lnTo>
                  <a:pt x="0" y="25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Freeform 65"/>
          <p:cNvSpPr/>
          <p:nvPr/>
        </p:nvSpPr>
        <p:spPr>
          <a:xfrm>
            <a:off x="6651720" y="3416400"/>
            <a:ext cx="320760" cy="120600"/>
          </a:xfrm>
          <a:custGeom>
            <a:avLst/>
            <a:gdLst/>
            <a:ahLst/>
            <a:rect l="l" t="t" r="r" b="b"/>
            <a:pathLst>
              <a:path w="405" h="151">
                <a:moveTo>
                  <a:pt x="371" y="115"/>
                </a:moveTo>
                <a:lnTo>
                  <a:pt x="367" y="117"/>
                </a:lnTo>
                <a:lnTo>
                  <a:pt x="365" y="117"/>
                </a:lnTo>
                <a:lnTo>
                  <a:pt x="361" y="119"/>
                </a:lnTo>
                <a:lnTo>
                  <a:pt x="357" y="119"/>
                </a:lnTo>
                <a:lnTo>
                  <a:pt x="352" y="121"/>
                </a:lnTo>
                <a:lnTo>
                  <a:pt x="346" y="122"/>
                </a:lnTo>
                <a:lnTo>
                  <a:pt x="340" y="122"/>
                </a:lnTo>
                <a:lnTo>
                  <a:pt x="334" y="124"/>
                </a:lnTo>
                <a:lnTo>
                  <a:pt x="327" y="124"/>
                </a:lnTo>
                <a:lnTo>
                  <a:pt x="319" y="126"/>
                </a:lnTo>
                <a:lnTo>
                  <a:pt x="309" y="126"/>
                </a:lnTo>
                <a:lnTo>
                  <a:pt x="302" y="128"/>
                </a:lnTo>
                <a:lnTo>
                  <a:pt x="292" y="130"/>
                </a:lnTo>
                <a:lnTo>
                  <a:pt x="281" y="130"/>
                </a:lnTo>
                <a:lnTo>
                  <a:pt x="271" y="132"/>
                </a:lnTo>
                <a:lnTo>
                  <a:pt x="259" y="132"/>
                </a:lnTo>
                <a:lnTo>
                  <a:pt x="246" y="134"/>
                </a:lnTo>
                <a:lnTo>
                  <a:pt x="235" y="136"/>
                </a:lnTo>
                <a:lnTo>
                  <a:pt x="221" y="136"/>
                </a:lnTo>
                <a:lnTo>
                  <a:pt x="208" y="138"/>
                </a:lnTo>
                <a:lnTo>
                  <a:pt x="194" y="138"/>
                </a:lnTo>
                <a:lnTo>
                  <a:pt x="179" y="140"/>
                </a:lnTo>
                <a:lnTo>
                  <a:pt x="164" y="142"/>
                </a:lnTo>
                <a:lnTo>
                  <a:pt x="148" y="142"/>
                </a:lnTo>
                <a:lnTo>
                  <a:pt x="131" y="144"/>
                </a:lnTo>
                <a:lnTo>
                  <a:pt x="114" y="144"/>
                </a:lnTo>
                <a:lnTo>
                  <a:pt x="96" y="145"/>
                </a:lnTo>
                <a:lnTo>
                  <a:pt x="77" y="147"/>
                </a:lnTo>
                <a:lnTo>
                  <a:pt x="60" y="147"/>
                </a:lnTo>
                <a:lnTo>
                  <a:pt x="41" y="149"/>
                </a:lnTo>
                <a:lnTo>
                  <a:pt x="20" y="149"/>
                </a:lnTo>
                <a:lnTo>
                  <a:pt x="0" y="151"/>
                </a:lnTo>
                <a:lnTo>
                  <a:pt x="0" y="78"/>
                </a:lnTo>
                <a:lnTo>
                  <a:pt x="29" y="73"/>
                </a:lnTo>
                <a:lnTo>
                  <a:pt x="58" y="67"/>
                </a:lnTo>
                <a:lnTo>
                  <a:pt x="87" y="59"/>
                </a:lnTo>
                <a:lnTo>
                  <a:pt x="114" y="51"/>
                </a:lnTo>
                <a:lnTo>
                  <a:pt x="140" y="44"/>
                </a:lnTo>
                <a:lnTo>
                  <a:pt x="167" y="36"/>
                </a:lnTo>
                <a:lnTo>
                  <a:pt x="219" y="17"/>
                </a:lnTo>
                <a:lnTo>
                  <a:pt x="240" y="13"/>
                </a:lnTo>
                <a:lnTo>
                  <a:pt x="261" y="7"/>
                </a:lnTo>
                <a:lnTo>
                  <a:pt x="281" y="5"/>
                </a:lnTo>
                <a:lnTo>
                  <a:pt x="298" y="2"/>
                </a:lnTo>
                <a:lnTo>
                  <a:pt x="315" y="0"/>
                </a:lnTo>
                <a:lnTo>
                  <a:pt x="331" y="0"/>
                </a:lnTo>
                <a:lnTo>
                  <a:pt x="338" y="0"/>
                </a:lnTo>
                <a:lnTo>
                  <a:pt x="346" y="2"/>
                </a:lnTo>
                <a:lnTo>
                  <a:pt x="352" y="3"/>
                </a:lnTo>
                <a:lnTo>
                  <a:pt x="359" y="5"/>
                </a:lnTo>
                <a:lnTo>
                  <a:pt x="365" y="7"/>
                </a:lnTo>
                <a:lnTo>
                  <a:pt x="371" y="9"/>
                </a:lnTo>
                <a:lnTo>
                  <a:pt x="377" y="13"/>
                </a:lnTo>
                <a:lnTo>
                  <a:pt x="380" y="17"/>
                </a:lnTo>
                <a:lnTo>
                  <a:pt x="388" y="23"/>
                </a:lnTo>
                <a:lnTo>
                  <a:pt x="396" y="30"/>
                </a:lnTo>
                <a:lnTo>
                  <a:pt x="400" y="36"/>
                </a:lnTo>
                <a:lnTo>
                  <a:pt x="403" y="42"/>
                </a:lnTo>
                <a:lnTo>
                  <a:pt x="405" y="48"/>
                </a:lnTo>
                <a:lnTo>
                  <a:pt x="405" y="53"/>
                </a:lnTo>
                <a:lnTo>
                  <a:pt x="405" y="63"/>
                </a:lnTo>
                <a:lnTo>
                  <a:pt x="403" y="73"/>
                </a:lnTo>
                <a:lnTo>
                  <a:pt x="400" y="80"/>
                </a:lnTo>
                <a:lnTo>
                  <a:pt x="396" y="88"/>
                </a:lnTo>
                <a:lnTo>
                  <a:pt x="392" y="96"/>
                </a:lnTo>
                <a:lnTo>
                  <a:pt x="386" y="103"/>
                </a:lnTo>
                <a:lnTo>
                  <a:pt x="379" y="109"/>
                </a:lnTo>
                <a:lnTo>
                  <a:pt x="371" y="11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Freeform 66"/>
          <p:cNvSpPr/>
          <p:nvPr/>
        </p:nvSpPr>
        <p:spPr>
          <a:xfrm>
            <a:off x="6651720" y="3700440"/>
            <a:ext cx="393480" cy="136440"/>
          </a:xfrm>
          <a:custGeom>
            <a:avLst/>
            <a:gdLst/>
            <a:ahLst/>
            <a:rect l="l" t="t" r="r" b="b"/>
            <a:pathLst>
              <a:path w="498" h="170">
                <a:moveTo>
                  <a:pt x="0" y="61"/>
                </a:moveTo>
                <a:lnTo>
                  <a:pt x="8" y="61"/>
                </a:lnTo>
                <a:lnTo>
                  <a:pt x="16" y="61"/>
                </a:lnTo>
                <a:lnTo>
                  <a:pt x="25" y="59"/>
                </a:lnTo>
                <a:lnTo>
                  <a:pt x="35" y="59"/>
                </a:lnTo>
                <a:lnTo>
                  <a:pt x="44" y="59"/>
                </a:lnTo>
                <a:lnTo>
                  <a:pt x="54" y="57"/>
                </a:lnTo>
                <a:lnTo>
                  <a:pt x="66" y="57"/>
                </a:lnTo>
                <a:lnTo>
                  <a:pt x="77" y="55"/>
                </a:lnTo>
                <a:lnTo>
                  <a:pt x="91" y="55"/>
                </a:lnTo>
                <a:lnTo>
                  <a:pt x="102" y="53"/>
                </a:lnTo>
                <a:lnTo>
                  <a:pt x="116" y="51"/>
                </a:lnTo>
                <a:lnTo>
                  <a:pt x="129" y="51"/>
                </a:lnTo>
                <a:lnTo>
                  <a:pt x="142" y="49"/>
                </a:lnTo>
                <a:lnTo>
                  <a:pt x="158" y="48"/>
                </a:lnTo>
                <a:lnTo>
                  <a:pt x="173" y="46"/>
                </a:lnTo>
                <a:lnTo>
                  <a:pt x="188" y="44"/>
                </a:lnTo>
                <a:lnTo>
                  <a:pt x="221" y="40"/>
                </a:lnTo>
                <a:lnTo>
                  <a:pt x="254" y="34"/>
                </a:lnTo>
                <a:lnTo>
                  <a:pt x="290" y="30"/>
                </a:lnTo>
                <a:lnTo>
                  <a:pt x="329" y="24"/>
                </a:lnTo>
                <a:lnTo>
                  <a:pt x="369" y="19"/>
                </a:lnTo>
                <a:lnTo>
                  <a:pt x="409" y="13"/>
                </a:lnTo>
                <a:lnTo>
                  <a:pt x="453" y="5"/>
                </a:lnTo>
                <a:lnTo>
                  <a:pt x="498" y="0"/>
                </a:lnTo>
                <a:lnTo>
                  <a:pt x="498" y="109"/>
                </a:lnTo>
                <a:lnTo>
                  <a:pt x="490" y="109"/>
                </a:lnTo>
                <a:lnTo>
                  <a:pt x="482" y="109"/>
                </a:lnTo>
                <a:lnTo>
                  <a:pt x="473" y="109"/>
                </a:lnTo>
                <a:lnTo>
                  <a:pt x="463" y="111"/>
                </a:lnTo>
                <a:lnTo>
                  <a:pt x="453" y="111"/>
                </a:lnTo>
                <a:lnTo>
                  <a:pt x="442" y="111"/>
                </a:lnTo>
                <a:lnTo>
                  <a:pt x="432" y="113"/>
                </a:lnTo>
                <a:lnTo>
                  <a:pt x="421" y="113"/>
                </a:lnTo>
                <a:lnTo>
                  <a:pt x="407" y="115"/>
                </a:lnTo>
                <a:lnTo>
                  <a:pt x="396" y="115"/>
                </a:lnTo>
                <a:lnTo>
                  <a:pt x="382" y="117"/>
                </a:lnTo>
                <a:lnTo>
                  <a:pt x="369" y="119"/>
                </a:lnTo>
                <a:lnTo>
                  <a:pt x="355" y="120"/>
                </a:lnTo>
                <a:lnTo>
                  <a:pt x="340" y="122"/>
                </a:lnTo>
                <a:lnTo>
                  <a:pt x="325" y="124"/>
                </a:lnTo>
                <a:lnTo>
                  <a:pt x="309" y="126"/>
                </a:lnTo>
                <a:lnTo>
                  <a:pt x="277" y="130"/>
                </a:lnTo>
                <a:lnTo>
                  <a:pt x="242" y="134"/>
                </a:lnTo>
                <a:lnTo>
                  <a:pt x="206" y="140"/>
                </a:lnTo>
                <a:lnTo>
                  <a:pt x="169" y="145"/>
                </a:lnTo>
                <a:lnTo>
                  <a:pt x="129" y="151"/>
                </a:lnTo>
                <a:lnTo>
                  <a:pt x="89" y="157"/>
                </a:lnTo>
                <a:lnTo>
                  <a:pt x="44" y="163"/>
                </a:lnTo>
                <a:lnTo>
                  <a:pt x="0" y="170"/>
                </a:lnTo>
                <a:lnTo>
                  <a:pt x="0" y="6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Freeform 67"/>
          <p:cNvSpPr/>
          <p:nvPr/>
        </p:nvSpPr>
        <p:spPr>
          <a:xfrm>
            <a:off x="6237360" y="3884760"/>
            <a:ext cx="1396800" cy="280800"/>
          </a:xfrm>
          <a:custGeom>
            <a:avLst/>
            <a:gdLst/>
            <a:ahLst/>
            <a:rect l="l" t="t" r="r" b="b"/>
            <a:pathLst>
              <a:path w="1761" h="353">
                <a:moveTo>
                  <a:pt x="1714" y="169"/>
                </a:moveTo>
                <a:lnTo>
                  <a:pt x="1707" y="173"/>
                </a:lnTo>
                <a:lnTo>
                  <a:pt x="1697" y="174"/>
                </a:lnTo>
                <a:lnTo>
                  <a:pt x="1686" y="174"/>
                </a:lnTo>
                <a:lnTo>
                  <a:pt x="1674" y="176"/>
                </a:lnTo>
                <a:lnTo>
                  <a:pt x="1659" y="178"/>
                </a:lnTo>
                <a:lnTo>
                  <a:pt x="1642" y="178"/>
                </a:lnTo>
                <a:lnTo>
                  <a:pt x="1622" y="180"/>
                </a:lnTo>
                <a:lnTo>
                  <a:pt x="1601" y="180"/>
                </a:lnTo>
                <a:lnTo>
                  <a:pt x="1578" y="180"/>
                </a:lnTo>
                <a:lnTo>
                  <a:pt x="1555" y="180"/>
                </a:lnTo>
                <a:lnTo>
                  <a:pt x="1528" y="182"/>
                </a:lnTo>
                <a:lnTo>
                  <a:pt x="1499" y="182"/>
                </a:lnTo>
                <a:lnTo>
                  <a:pt x="1469" y="182"/>
                </a:lnTo>
                <a:lnTo>
                  <a:pt x="1436" y="182"/>
                </a:lnTo>
                <a:lnTo>
                  <a:pt x="1403" y="182"/>
                </a:lnTo>
                <a:lnTo>
                  <a:pt x="1367" y="182"/>
                </a:lnTo>
                <a:lnTo>
                  <a:pt x="1329" y="182"/>
                </a:lnTo>
                <a:lnTo>
                  <a:pt x="1292" y="182"/>
                </a:lnTo>
                <a:lnTo>
                  <a:pt x="1258" y="182"/>
                </a:lnTo>
                <a:lnTo>
                  <a:pt x="1225" y="182"/>
                </a:lnTo>
                <a:lnTo>
                  <a:pt x="1194" y="182"/>
                </a:lnTo>
                <a:lnTo>
                  <a:pt x="1165" y="182"/>
                </a:lnTo>
                <a:lnTo>
                  <a:pt x="1139" y="182"/>
                </a:lnTo>
                <a:lnTo>
                  <a:pt x="1114" y="184"/>
                </a:lnTo>
                <a:lnTo>
                  <a:pt x="1091" y="184"/>
                </a:lnTo>
                <a:lnTo>
                  <a:pt x="1068" y="184"/>
                </a:lnTo>
                <a:lnTo>
                  <a:pt x="1048" y="186"/>
                </a:lnTo>
                <a:lnTo>
                  <a:pt x="1029" y="186"/>
                </a:lnTo>
                <a:lnTo>
                  <a:pt x="1014" y="188"/>
                </a:lnTo>
                <a:lnTo>
                  <a:pt x="998" y="190"/>
                </a:lnTo>
                <a:lnTo>
                  <a:pt x="985" y="192"/>
                </a:lnTo>
                <a:lnTo>
                  <a:pt x="973" y="194"/>
                </a:lnTo>
                <a:lnTo>
                  <a:pt x="962" y="197"/>
                </a:lnTo>
                <a:lnTo>
                  <a:pt x="949" y="199"/>
                </a:lnTo>
                <a:lnTo>
                  <a:pt x="931" y="203"/>
                </a:lnTo>
                <a:lnTo>
                  <a:pt x="914" y="207"/>
                </a:lnTo>
                <a:lnTo>
                  <a:pt x="895" y="211"/>
                </a:lnTo>
                <a:lnTo>
                  <a:pt x="874" y="217"/>
                </a:lnTo>
                <a:lnTo>
                  <a:pt x="851" y="222"/>
                </a:lnTo>
                <a:lnTo>
                  <a:pt x="826" y="228"/>
                </a:lnTo>
                <a:lnTo>
                  <a:pt x="799" y="234"/>
                </a:lnTo>
                <a:lnTo>
                  <a:pt x="770" y="240"/>
                </a:lnTo>
                <a:lnTo>
                  <a:pt x="739" y="245"/>
                </a:lnTo>
                <a:lnTo>
                  <a:pt x="707" y="251"/>
                </a:lnTo>
                <a:lnTo>
                  <a:pt x="672" y="259"/>
                </a:lnTo>
                <a:lnTo>
                  <a:pt x="636" y="265"/>
                </a:lnTo>
                <a:lnTo>
                  <a:pt x="597" y="272"/>
                </a:lnTo>
                <a:lnTo>
                  <a:pt x="557" y="280"/>
                </a:lnTo>
                <a:lnTo>
                  <a:pt x="536" y="284"/>
                </a:lnTo>
                <a:lnTo>
                  <a:pt x="517" y="288"/>
                </a:lnTo>
                <a:lnTo>
                  <a:pt x="497" y="293"/>
                </a:lnTo>
                <a:lnTo>
                  <a:pt x="478" y="297"/>
                </a:lnTo>
                <a:lnTo>
                  <a:pt x="461" y="301"/>
                </a:lnTo>
                <a:lnTo>
                  <a:pt x="444" y="305"/>
                </a:lnTo>
                <a:lnTo>
                  <a:pt x="426" y="309"/>
                </a:lnTo>
                <a:lnTo>
                  <a:pt x="409" y="311"/>
                </a:lnTo>
                <a:lnTo>
                  <a:pt x="394" y="315"/>
                </a:lnTo>
                <a:lnTo>
                  <a:pt x="378" y="318"/>
                </a:lnTo>
                <a:lnTo>
                  <a:pt x="363" y="320"/>
                </a:lnTo>
                <a:lnTo>
                  <a:pt x="350" y="324"/>
                </a:lnTo>
                <a:lnTo>
                  <a:pt x="336" y="326"/>
                </a:lnTo>
                <a:lnTo>
                  <a:pt x="323" y="330"/>
                </a:lnTo>
                <a:lnTo>
                  <a:pt x="311" y="332"/>
                </a:lnTo>
                <a:lnTo>
                  <a:pt x="300" y="334"/>
                </a:lnTo>
                <a:lnTo>
                  <a:pt x="288" y="336"/>
                </a:lnTo>
                <a:lnTo>
                  <a:pt x="277" y="340"/>
                </a:lnTo>
                <a:lnTo>
                  <a:pt x="267" y="340"/>
                </a:lnTo>
                <a:lnTo>
                  <a:pt x="257" y="341"/>
                </a:lnTo>
                <a:lnTo>
                  <a:pt x="250" y="343"/>
                </a:lnTo>
                <a:lnTo>
                  <a:pt x="242" y="345"/>
                </a:lnTo>
                <a:lnTo>
                  <a:pt x="234" y="347"/>
                </a:lnTo>
                <a:lnTo>
                  <a:pt x="227" y="347"/>
                </a:lnTo>
                <a:lnTo>
                  <a:pt x="221" y="349"/>
                </a:lnTo>
                <a:lnTo>
                  <a:pt x="215" y="349"/>
                </a:lnTo>
                <a:lnTo>
                  <a:pt x="211" y="351"/>
                </a:lnTo>
                <a:lnTo>
                  <a:pt x="208" y="351"/>
                </a:lnTo>
                <a:lnTo>
                  <a:pt x="204" y="351"/>
                </a:lnTo>
                <a:lnTo>
                  <a:pt x="202" y="353"/>
                </a:lnTo>
                <a:lnTo>
                  <a:pt x="200" y="353"/>
                </a:lnTo>
                <a:lnTo>
                  <a:pt x="198" y="353"/>
                </a:lnTo>
                <a:lnTo>
                  <a:pt x="188" y="351"/>
                </a:lnTo>
                <a:lnTo>
                  <a:pt x="179" y="349"/>
                </a:lnTo>
                <a:lnTo>
                  <a:pt x="165" y="347"/>
                </a:lnTo>
                <a:lnTo>
                  <a:pt x="152" y="343"/>
                </a:lnTo>
                <a:lnTo>
                  <a:pt x="138" y="338"/>
                </a:lnTo>
                <a:lnTo>
                  <a:pt x="121" y="332"/>
                </a:lnTo>
                <a:lnTo>
                  <a:pt x="112" y="328"/>
                </a:lnTo>
                <a:lnTo>
                  <a:pt x="102" y="324"/>
                </a:lnTo>
                <a:lnTo>
                  <a:pt x="92" y="320"/>
                </a:lnTo>
                <a:lnTo>
                  <a:pt x="81" y="317"/>
                </a:lnTo>
                <a:lnTo>
                  <a:pt x="71" y="311"/>
                </a:lnTo>
                <a:lnTo>
                  <a:pt x="62" y="307"/>
                </a:lnTo>
                <a:lnTo>
                  <a:pt x="52" y="301"/>
                </a:lnTo>
                <a:lnTo>
                  <a:pt x="44" y="297"/>
                </a:lnTo>
                <a:lnTo>
                  <a:pt x="37" y="293"/>
                </a:lnTo>
                <a:lnTo>
                  <a:pt x="31" y="288"/>
                </a:lnTo>
                <a:lnTo>
                  <a:pt x="25" y="284"/>
                </a:lnTo>
                <a:lnTo>
                  <a:pt x="19" y="278"/>
                </a:lnTo>
                <a:lnTo>
                  <a:pt x="16" y="274"/>
                </a:lnTo>
                <a:lnTo>
                  <a:pt x="12" y="270"/>
                </a:lnTo>
                <a:lnTo>
                  <a:pt x="8" y="265"/>
                </a:lnTo>
                <a:lnTo>
                  <a:pt x="6" y="261"/>
                </a:lnTo>
                <a:lnTo>
                  <a:pt x="2" y="257"/>
                </a:lnTo>
                <a:lnTo>
                  <a:pt x="2" y="251"/>
                </a:lnTo>
                <a:lnTo>
                  <a:pt x="0" y="247"/>
                </a:lnTo>
                <a:lnTo>
                  <a:pt x="0" y="244"/>
                </a:lnTo>
                <a:lnTo>
                  <a:pt x="65" y="234"/>
                </a:lnTo>
                <a:lnTo>
                  <a:pt x="129" y="224"/>
                </a:lnTo>
                <a:lnTo>
                  <a:pt x="194" y="215"/>
                </a:lnTo>
                <a:lnTo>
                  <a:pt x="257" y="205"/>
                </a:lnTo>
                <a:lnTo>
                  <a:pt x="382" y="188"/>
                </a:lnTo>
                <a:lnTo>
                  <a:pt x="505" y="169"/>
                </a:lnTo>
                <a:lnTo>
                  <a:pt x="628" y="148"/>
                </a:lnTo>
                <a:lnTo>
                  <a:pt x="749" y="128"/>
                </a:lnTo>
                <a:lnTo>
                  <a:pt x="868" y="107"/>
                </a:lnTo>
                <a:lnTo>
                  <a:pt x="985" y="84"/>
                </a:lnTo>
                <a:lnTo>
                  <a:pt x="1014" y="78"/>
                </a:lnTo>
                <a:lnTo>
                  <a:pt x="1043" y="73"/>
                </a:lnTo>
                <a:lnTo>
                  <a:pt x="1069" y="67"/>
                </a:lnTo>
                <a:lnTo>
                  <a:pt x="1096" y="63"/>
                </a:lnTo>
                <a:lnTo>
                  <a:pt x="1121" y="57"/>
                </a:lnTo>
                <a:lnTo>
                  <a:pt x="1146" y="54"/>
                </a:lnTo>
                <a:lnTo>
                  <a:pt x="1169" y="50"/>
                </a:lnTo>
                <a:lnTo>
                  <a:pt x="1192" y="44"/>
                </a:lnTo>
                <a:lnTo>
                  <a:pt x="1215" y="40"/>
                </a:lnTo>
                <a:lnTo>
                  <a:pt x="1236" y="36"/>
                </a:lnTo>
                <a:lnTo>
                  <a:pt x="1258" y="32"/>
                </a:lnTo>
                <a:lnTo>
                  <a:pt x="1279" y="31"/>
                </a:lnTo>
                <a:lnTo>
                  <a:pt x="1298" y="27"/>
                </a:lnTo>
                <a:lnTo>
                  <a:pt x="1315" y="23"/>
                </a:lnTo>
                <a:lnTo>
                  <a:pt x="1332" y="21"/>
                </a:lnTo>
                <a:lnTo>
                  <a:pt x="1350" y="19"/>
                </a:lnTo>
                <a:lnTo>
                  <a:pt x="1365" y="15"/>
                </a:lnTo>
                <a:lnTo>
                  <a:pt x="1380" y="13"/>
                </a:lnTo>
                <a:lnTo>
                  <a:pt x="1394" y="11"/>
                </a:lnTo>
                <a:lnTo>
                  <a:pt x="1407" y="9"/>
                </a:lnTo>
                <a:lnTo>
                  <a:pt x="1421" y="7"/>
                </a:lnTo>
                <a:lnTo>
                  <a:pt x="1432" y="6"/>
                </a:lnTo>
                <a:lnTo>
                  <a:pt x="1444" y="6"/>
                </a:lnTo>
                <a:lnTo>
                  <a:pt x="1453" y="4"/>
                </a:lnTo>
                <a:lnTo>
                  <a:pt x="1463" y="2"/>
                </a:lnTo>
                <a:lnTo>
                  <a:pt x="1473" y="2"/>
                </a:lnTo>
                <a:lnTo>
                  <a:pt x="1480" y="0"/>
                </a:lnTo>
                <a:lnTo>
                  <a:pt x="1486" y="0"/>
                </a:lnTo>
                <a:lnTo>
                  <a:pt x="1492" y="0"/>
                </a:lnTo>
                <a:lnTo>
                  <a:pt x="1498" y="0"/>
                </a:lnTo>
                <a:lnTo>
                  <a:pt x="1503" y="0"/>
                </a:lnTo>
                <a:lnTo>
                  <a:pt x="1507" y="0"/>
                </a:lnTo>
                <a:lnTo>
                  <a:pt x="1521" y="0"/>
                </a:lnTo>
                <a:lnTo>
                  <a:pt x="1534" y="2"/>
                </a:lnTo>
                <a:lnTo>
                  <a:pt x="1551" y="4"/>
                </a:lnTo>
                <a:lnTo>
                  <a:pt x="1569" y="7"/>
                </a:lnTo>
                <a:lnTo>
                  <a:pt x="1588" y="13"/>
                </a:lnTo>
                <a:lnTo>
                  <a:pt x="1609" y="19"/>
                </a:lnTo>
                <a:lnTo>
                  <a:pt x="1620" y="23"/>
                </a:lnTo>
                <a:lnTo>
                  <a:pt x="1632" y="27"/>
                </a:lnTo>
                <a:lnTo>
                  <a:pt x="1643" y="31"/>
                </a:lnTo>
                <a:lnTo>
                  <a:pt x="1657" y="36"/>
                </a:lnTo>
                <a:lnTo>
                  <a:pt x="1668" y="42"/>
                </a:lnTo>
                <a:lnTo>
                  <a:pt x="1682" y="50"/>
                </a:lnTo>
                <a:lnTo>
                  <a:pt x="1691" y="55"/>
                </a:lnTo>
                <a:lnTo>
                  <a:pt x="1703" y="61"/>
                </a:lnTo>
                <a:lnTo>
                  <a:pt x="1711" y="67"/>
                </a:lnTo>
                <a:lnTo>
                  <a:pt x="1720" y="73"/>
                </a:lnTo>
                <a:lnTo>
                  <a:pt x="1728" y="78"/>
                </a:lnTo>
                <a:lnTo>
                  <a:pt x="1736" y="82"/>
                </a:lnTo>
                <a:lnTo>
                  <a:pt x="1741" y="88"/>
                </a:lnTo>
                <a:lnTo>
                  <a:pt x="1745" y="94"/>
                </a:lnTo>
                <a:lnTo>
                  <a:pt x="1751" y="98"/>
                </a:lnTo>
                <a:lnTo>
                  <a:pt x="1755" y="102"/>
                </a:lnTo>
                <a:lnTo>
                  <a:pt x="1757" y="107"/>
                </a:lnTo>
                <a:lnTo>
                  <a:pt x="1759" y="111"/>
                </a:lnTo>
                <a:lnTo>
                  <a:pt x="1761" y="117"/>
                </a:lnTo>
                <a:lnTo>
                  <a:pt x="1761" y="121"/>
                </a:lnTo>
                <a:lnTo>
                  <a:pt x="1761" y="130"/>
                </a:lnTo>
                <a:lnTo>
                  <a:pt x="1759" y="136"/>
                </a:lnTo>
                <a:lnTo>
                  <a:pt x="1755" y="144"/>
                </a:lnTo>
                <a:lnTo>
                  <a:pt x="1751" y="150"/>
                </a:lnTo>
                <a:lnTo>
                  <a:pt x="1745" y="155"/>
                </a:lnTo>
                <a:lnTo>
                  <a:pt x="1736" y="161"/>
                </a:lnTo>
                <a:lnTo>
                  <a:pt x="1732" y="163"/>
                </a:lnTo>
                <a:lnTo>
                  <a:pt x="1726" y="165"/>
                </a:lnTo>
                <a:lnTo>
                  <a:pt x="1720" y="167"/>
                </a:lnTo>
                <a:lnTo>
                  <a:pt x="1714" y="16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Freeform 68"/>
          <p:cNvSpPr/>
          <p:nvPr/>
        </p:nvSpPr>
        <p:spPr>
          <a:xfrm>
            <a:off x="6745320" y="3860640"/>
            <a:ext cx="169920" cy="1155960"/>
          </a:xfrm>
          <a:custGeom>
            <a:avLst/>
            <a:gdLst/>
            <a:ahLst/>
            <a:rect l="l" t="t" r="r" b="b"/>
            <a:pathLst>
              <a:path w="213" h="1455">
                <a:moveTo>
                  <a:pt x="8" y="17"/>
                </a:moveTo>
                <a:lnTo>
                  <a:pt x="18" y="14"/>
                </a:lnTo>
                <a:lnTo>
                  <a:pt x="27" y="10"/>
                </a:lnTo>
                <a:lnTo>
                  <a:pt x="39" y="6"/>
                </a:lnTo>
                <a:lnTo>
                  <a:pt x="52" y="2"/>
                </a:lnTo>
                <a:lnTo>
                  <a:pt x="68" y="0"/>
                </a:lnTo>
                <a:lnTo>
                  <a:pt x="85" y="0"/>
                </a:lnTo>
                <a:lnTo>
                  <a:pt x="94" y="0"/>
                </a:lnTo>
                <a:lnTo>
                  <a:pt x="104" y="2"/>
                </a:lnTo>
                <a:lnTo>
                  <a:pt x="114" y="4"/>
                </a:lnTo>
                <a:lnTo>
                  <a:pt x="123" y="6"/>
                </a:lnTo>
                <a:lnTo>
                  <a:pt x="133" y="8"/>
                </a:lnTo>
                <a:lnTo>
                  <a:pt x="140" y="10"/>
                </a:lnTo>
                <a:lnTo>
                  <a:pt x="148" y="14"/>
                </a:lnTo>
                <a:lnTo>
                  <a:pt x="154" y="17"/>
                </a:lnTo>
                <a:lnTo>
                  <a:pt x="167" y="23"/>
                </a:lnTo>
                <a:lnTo>
                  <a:pt x="177" y="31"/>
                </a:lnTo>
                <a:lnTo>
                  <a:pt x="187" y="37"/>
                </a:lnTo>
                <a:lnTo>
                  <a:pt x="194" y="44"/>
                </a:lnTo>
                <a:lnTo>
                  <a:pt x="200" y="50"/>
                </a:lnTo>
                <a:lnTo>
                  <a:pt x="206" y="54"/>
                </a:lnTo>
                <a:lnTo>
                  <a:pt x="210" y="63"/>
                </a:lnTo>
                <a:lnTo>
                  <a:pt x="212" y="73"/>
                </a:lnTo>
                <a:lnTo>
                  <a:pt x="213" y="83"/>
                </a:lnTo>
                <a:lnTo>
                  <a:pt x="213" y="92"/>
                </a:lnTo>
                <a:lnTo>
                  <a:pt x="213" y="104"/>
                </a:lnTo>
                <a:lnTo>
                  <a:pt x="212" y="115"/>
                </a:lnTo>
                <a:lnTo>
                  <a:pt x="210" y="127"/>
                </a:lnTo>
                <a:lnTo>
                  <a:pt x="206" y="140"/>
                </a:lnTo>
                <a:lnTo>
                  <a:pt x="204" y="148"/>
                </a:lnTo>
                <a:lnTo>
                  <a:pt x="200" y="157"/>
                </a:lnTo>
                <a:lnTo>
                  <a:pt x="198" y="169"/>
                </a:lnTo>
                <a:lnTo>
                  <a:pt x="196" y="181"/>
                </a:lnTo>
                <a:lnTo>
                  <a:pt x="194" y="196"/>
                </a:lnTo>
                <a:lnTo>
                  <a:pt x="192" y="213"/>
                </a:lnTo>
                <a:lnTo>
                  <a:pt x="190" y="230"/>
                </a:lnTo>
                <a:lnTo>
                  <a:pt x="188" y="252"/>
                </a:lnTo>
                <a:lnTo>
                  <a:pt x="188" y="273"/>
                </a:lnTo>
                <a:lnTo>
                  <a:pt x="187" y="298"/>
                </a:lnTo>
                <a:lnTo>
                  <a:pt x="185" y="323"/>
                </a:lnTo>
                <a:lnTo>
                  <a:pt x="185" y="336"/>
                </a:lnTo>
                <a:lnTo>
                  <a:pt x="185" y="351"/>
                </a:lnTo>
                <a:lnTo>
                  <a:pt x="183" y="365"/>
                </a:lnTo>
                <a:lnTo>
                  <a:pt x="183" y="380"/>
                </a:lnTo>
                <a:lnTo>
                  <a:pt x="183" y="395"/>
                </a:lnTo>
                <a:lnTo>
                  <a:pt x="183" y="411"/>
                </a:lnTo>
                <a:lnTo>
                  <a:pt x="183" y="428"/>
                </a:lnTo>
                <a:lnTo>
                  <a:pt x="183" y="445"/>
                </a:lnTo>
                <a:lnTo>
                  <a:pt x="183" y="463"/>
                </a:lnTo>
                <a:lnTo>
                  <a:pt x="183" y="482"/>
                </a:lnTo>
                <a:lnTo>
                  <a:pt x="179" y="518"/>
                </a:lnTo>
                <a:lnTo>
                  <a:pt x="179" y="555"/>
                </a:lnTo>
                <a:lnTo>
                  <a:pt x="177" y="589"/>
                </a:lnTo>
                <a:lnTo>
                  <a:pt x="175" y="622"/>
                </a:lnTo>
                <a:lnTo>
                  <a:pt x="175" y="655"/>
                </a:lnTo>
                <a:lnTo>
                  <a:pt x="173" y="683"/>
                </a:lnTo>
                <a:lnTo>
                  <a:pt x="173" y="712"/>
                </a:lnTo>
                <a:lnTo>
                  <a:pt x="173" y="739"/>
                </a:lnTo>
                <a:lnTo>
                  <a:pt x="173" y="766"/>
                </a:lnTo>
                <a:lnTo>
                  <a:pt x="173" y="789"/>
                </a:lnTo>
                <a:lnTo>
                  <a:pt x="175" y="812"/>
                </a:lnTo>
                <a:lnTo>
                  <a:pt x="175" y="833"/>
                </a:lnTo>
                <a:lnTo>
                  <a:pt x="177" y="854"/>
                </a:lnTo>
                <a:lnTo>
                  <a:pt x="179" y="873"/>
                </a:lnTo>
                <a:lnTo>
                  <a:pt x="179" y="891"/>
                </a:lnTo>
                <a:lnTo>
                  <a:pt x="183" y="908"/>
                </a:lnTo>
                <a:lnTo>
                  <a:pt x="185" y="923"/>
                </a:lnTo>
                <a:lnTo>
                  <a:pt x="185" y="941"/>
                </a:lnTo>
                <a:lnTo>
                  <a:pt x="187" y="958"/>
                </a:lnTo>
                <a:lnTo>
                  <a:pt x="188" y="975"/>
                </a:lnTo>
                <a:lnTo>
                  <a:pt x="188" y="994"/>
                </a:lnTo>
                <a:lnTo>
                  <a:pt x="190" y="1014"/>
                </a:lnTo>
                <a:lnTo>
                  <a:pt x="190" y="1035"/>
                </a:lnTo>
                <a:lnTo>
                  <a:pt x="190" y="1056"/>
                </a:lnTo>
                <a:lnTo>
                  <a:pt x="190" y="1077"/>
                </a:lnTo>
                <a:lnTo>
                  <a:pt x="190" y="1098"/>
                </a:lnTo>
                <a:lnTo>
                  <a:pt x="188" y="1121"/>
                </a:lnTo>
                <a:lnTo>
                  <a:pt x="188" y="1146"/>
                </a:lnTo>
                <a:lnTo>
                  <a:pt x="187" y="1171"/>
                </a:lnTo>
                <a:lnTo>
                  <a:pt x="185" y="1196"/>
                </a:lnTo>
                <a:lnTo>
                  <a:pt x="185" y="1221"/>
                </a:lnTo>
                <a:lnTo>
                  <a:pt x="183" y="1250"/>
                </a:lnTo>
                <a:lnTo>
                  <a:pt x="179" y="1273"/>
                </a:lnTo>
                <a:lnTo>
                  <a:pt x="177" y="1296"/>
                </a:lnTo>
                <a:lnTo>
                  <a:pt x="175" y="1317"/>
                </a:lnTo>
                <a:lnTo>
                  <a:pt x="173" y="1338"/>
                </a:lnTo>
                <a:lnTo>
                  <a:pt x="171" y="1355"/>
                </a:lnTo>
                <a:lnTo>
                  <a:pt x="167" y="1373"/>
                </a:lnTo>
                <a:lnTo>
                  <a:pt x="165" y="1388"/>
                </a:lnTo>
                <a:lnTo>
                  <a:pt x="164" y="1403"/>
                </a:lnTo>
                <a:lnTo>
                  <a:pt x="160" y="1415"/>
                </a:lnTo>
                <a:lnTo>
                  <a:pt x="158" y="1426"/>
                </a:lnTo>
                <a:lnTo>
                  <a:pt x="154" y="1434"/>
                </a:lnTo>
                <a:lnTo>
                  <a:pt x="150" y="1442"/>
                </a:lnTo>
                <a:lnTo>
                  <a:pt x="148" y="1447"/>
                </a:lnTo>
                <a:lnTo>
                  <a:pt x="144" y="1453"/>
                </a:lnTo>
                <a:lnTo>
                  <a:pt x="140" y="1455"/>
                </a:lnTo>
                <a:lnTo>
                  <a:pt x="135" y="1455"/>
                </a:lnTo>
                <a:lnTo>
                  <a:pt x="131" y="1455"/>
                </a:lnTo>
                <a:lnTo>
                  <a:pt x="127" y="1455"/>
                </a:lnTo>
                <a:lnTo>
                  <a:pt x="123" y="1451"/>
                </a:lnTo>
                <a:lnTo>
                  <a:pt x="117" y="1449"/>
                </a:lnTo>
                <a:lnTo>
                  <a:pt x="114" y="1445"/>
                </a:lnTo>
                <a:lnTo>
                  <a:pt x="110" y="1440"/>
                </a:lnTo>
                <a:lnTo>
                  <a:pt x="106" y="1434"/>
                </a:lnTo>
                <a:lnTo>
                  <a:pt x="100" y="1428"/>
                </a:lnTo>
                <a:lnTo>
                  <a:pt x="96" y="1420"/>
                </a:lnTo>
                <a:lnTo>
                  <a:pt x="93" y="1413"/>
                </a:lnTo>
                <a:lnTo>
                  <a:pt x="87" y="1403"/>
                </a:lnTo>
                <a:lnTo>
                  <a:pt x="83" y="1394"/>
                </a:lnTo>
                <a:lnTo>
                  <a:pt x="79" y="1384"/>
                </a:lnTo>
                <a:lnTo>
                  <a:pt x="75" y="1373"/>
                </a:lnTo>
                <a:lnTo>
                  <a:pt x="69" y="1359"/>
                </a:lnTo>
                <a:lnTo>
                  <a:pt x="66" y="1346"/>
                </a:lnTo>
                <a:lnTo>
                  <a:pt x="60" y="1330"/>
                </a:lnTo>
                <a:lnTo>
                  <a:pt x="54" y="1315"/>
                </a:lnTo>
                <a:lnTo>
                  <a:pt x="48" y="1301"/>
                </a:lnTo>
                <a:lnTo>
                  <a:pt x="45" y="1288"/>
                </a:lnTo>
                <a:lnTo>
                  <a:pt x="41" y="1277"/>
                </a:lnTo>
                <a:lnTo>
                  <a:pt x="37" y="1265"/>
                </a:lnTo>
                <a:lnTo>
                  <a:pt x="33" y="1255"/>
                </a:lnTo>
                <a:lnTo>
                  <a:pt x="29" y="1246"/>
                </a:lnTo>
                <a:lnTo>
                  <a:pt x="27" y="1236"/>
                </a:lnTo>
                <a:lnTo>
                  <a:pt x="25" y="1229"/>
                </a:lnTo>
                <a:lnTo>
                  <a:pt x="23" y="1223"/>
                </a:lnTo>
                <a:lnTo>
                  <a:pt x="21" y="1215"/>
                </a:lnTo>
                <a:lnTo>
                  <a:pt x="21" y="1211"/>
                </a:lnTo>
                <a:lnTo>
                  <a:pt x="20" y="1206"/>
                </a:lnTo>
                <a:lnTo>
                  <a:pt x="20" y="1204"/>
                </a:lnTo>
                <a:lnTo>
                  <a:pt x="20" y="1200"/>
                </a:lnTo>
                <a:lnTo>
                  <a:pt x="20" y="1196"/>
                </a:lnTo>
                <a:lnTo>
                  <a:pt x="20" y="1190"/>
                </a:lnTo>
                <a:lnTo>
                  <a:pt x="21" y="1184"/>
                </a:lnTo>
                <a:lnTo>
                  <a:pt x="21" y="1177"/>
                </a:lnTo>
                <a:lnTo>
                  <a:pt x="23" y="1169"/>
                </a:lnTo>
                <a:lnTo>
                  <a:pt x="23" y="1161"/>
                </a:lnTo>
                <a:lnTo>
                  <a:pt x="25" y="1152"/>
                </a:lnTo>
                <a:lnTo>
                  <a:pt x="27" y="1142"/>
                </a:lnTo>
                <a:lnTo>
                  <a:pt x="29" y="1131"/>
                </a:lnTo>
                <a:lnTo>
                  <a:pt x="31" y="1119"/>
                </a:lnTo>
                <a:lnTo>
                  <a:pt x="33" y="1108"/>
                </a:lnTo>
                <a:lnTo>
                  <a:pt x="35" y="1094"/>
                </a:lnTo>
                <a:lnTo>
                  <a:pt x="37" y="1079"/>
                </a:lnTo>
                <a:lnTo>
                  <a:pt x="39" y="1063"/>
                </a:lnTo>
                <a:lnTo>
                  <a:pt x="41" y="1046"/>
                </a:lnTo>
                <a:lnTo>
                  <a:pt x="43" y="1029"/>
                </a:lnTo>
                <a:lnTo>
                  <a:pt x="45" y="1021"/>
                </a:lnTo>
                <a:lnTo>
                  <a:pt x="45" y="1012"/>
                </a:lnTo>
                <a:lnTo>
                  <a:pt x="46" y="1004"/>
                </a:lnTo>
                <a:lnTo>
                  <a:pt x="46" y="992"/>
                </a:lnTo>
                <a:lnTo>
                  <a:pt x="48" y="983"/>
                </a:lnTo>
                <a:lnTo>
                  <a:pt x="48" y="971"/>
                </a:lnTo>
                <a:lnTo>
                  <a:pt x="50" y="962"/>
                </a:lnTo>
                <a:lnTo>
                  <a:pt x="52" y="948"/>
                </a:lnTo>
                <a:lnTo>
                  <a:pt x="52" y="937"/>
                </a:lnTo>
                <a:lnTo>
                  <a:pt x="54" y="923"/>
                </a:lnTo>
                <a:lnTo>
                  <a:pt x="54" y="910"/>
                </a:lnTo>
                <a:lnTo>
                  <a:pt x="56" y="896"/>
                </a:lnTo>
                <a:lnTo>
                  <a:pt x="56" y="881"/>
                </a:lnTo>
                <a:lnTo>
                  <a:pt x="58" y="866"/>
                </a:lnTo>
                <a:lnTo>
                  <a:pt x="58" y="850"/>
                </a:lnTo>
                <a:lnTo>
                  <a:pt x="58" y="835"/>
                </a:lnTo>
                <a:lnTo>
                  <a:pt x="60" y="818"/>
                </a:lnTo>
                <a:lnTo>
                  <a:pt x="60" y="801"/>
                </a:lnTo>
                <a:lnTo>
                  <a:pt x="62" y="781"/>
                </a:lnTo>
                <a:lnTo>
                  <a:pt x="62" y="764"/>
                </a:lnTo>
                <a:lnTo>
                  <a:pt x="62" y="745"/>
                </a:lnTo>
                <a:lnTo>
                  <a:pt x="64" y="724"/>
                </a:lnTo>
                <a:lnTo>
                  <a:pt x="64" y="705"/>
                </a:lnTo>
                <a:lnTo>
                  <a:pt x="64" y="683"/>
                </a:lnTo>
                <a:lnTo>
                  <a:pt x="64" y="662"/>
                </a:lnTo>
                <a:lnTo>
                  <a:pt x="66" y="639"/>
                </a:lnTo>
                <a:lnTo>
                  <a:pt x="66" y="616"/>
                </a:lnTo>
                <a:lnTo>
                  <a:pt x="66" y="593"/>
                </a:lnTo>
                <a:lnTo>
                  <a:pt x="66" y="568"/>
                </a:lnTo>
                <a:lnTo>
                  <a:pt x="66" y="543"/>
                </a:lnTo>
                <a:lnTo>
                  <a:pt x="66" y="518"/>
                </a:lnTo>
                <a:lnTo>
                  <a:pt x="66" y="493"/>
                </a:lnTo>
                <a:lnTo>
                  <a:pt x="66" y="467"/>
                </a:lnTo>
                <a:lnTo>
                  <a:pt x="66" y="442"/>
                </a:lnTo>
                <a:lnTo>
                  <a:pt x="66" y="419"/>
                </a:lnTo>
                <a:lnTo>
                  <a:pt x="66" y="394"/>
                </a:lnTo>
                <a:lnTo>
                  <a:pt x="66" y="371"/>
                </a:lnTo>
                <a:lnTo>
                  <a:pt x="66" y="349"/>
                </a:lnTo>
                <a:lnTo>
                  <a:pt x="64" y="328"/>
                </a:lnTo>
                <a:lnTo>
                  <a:pt x="64" y="307"/>
                </a:lnTo>
                <a:lnTo>
                  <a:pt x="64" y="288"/>
                </a:lnTo>
                <a:lnTo>
                  <a:pt x="62" y="269"/>
                </a:lnTo>
                <a:lnTo>
                  <a:pt x="62" y="252"/>
                </a:lnTo>
                <a:lnTo>
                  <a:pt x="62" y="234"/>
                </a:lnTo>
                <a:lnTo>
                  <a:pt x="60" y="217"/>
                </a:lnTo>
                <a:lnTo>
                  <a:pt x="60" y="202"/>
                </a:lnTo>
                <a:lnTo>
                  <a:pt x="58" y="188"/>
                </a:lnTo>
                <a:lnTo>
                  <a:pt x="58" y="173"/>
                </a:lnTo>
                <a:lnTo>
                  <a:pt x="56" y="159"/>
                </a:lnTo>
                <a:lnTo>
                  <a:pt x="56" y="148"/>
                </a:lnTo>
                <a:lnTo>
                  <a:pt x="54" y="136"/>
                </a:lnTo>
                <a:lnTo>
                  <a:pt x="52" y="125"/>
                </a:lnTo>
                <a:lnTo>
                  <a:pt x="50" y="115"/>
                </a:lnTo>
                <a:lnTo>
                  <a:pt x="50" y="106"/>
                </a:lnTo>
                <a:lnTo>
                  <a:pt x="48" y="96"/>
                </a:lnTo>
                <a:lnTo>
                  <a:pt x="46" y="88"/>
                </a:lnTo>
                <a:lnTo>
                  <a:pt x="45" y="81"/>
                </a:lnTo>
                <a:lnTo>
                  <a:pt x="43" y="75"/>
                </a:lnTo>
                <a:lnTo>
                  <a:pt x="41" y="69"/>
                </a:lnTo>
                <a:lnTo>
                  <a:pt x="39" y="65"/>
                </a:lnTo>
                <a:lnTo>
                  <a:pt x="37" y="62"/>
                </a:lnTo>
                <a:lnTo>
                  <a:pt x="35" y="58"/>
                </a:lnTo>
                <a:lnTo>
                  <a:pt x="33" y="56"/>
                </a:lnTo>
                <a:lnTo>
                  <a:pt x="31" y="54"/>
                </a:lnTo>
                <a:lnTo>
                  <a:pt x="25" y="52"/>
                </a:lnTo>
                <a:lnTo>
                  <a:pt x="20" y="50"/>
                </a:lnTo>
                <a:lnTo>
                  <a:pt x="16" y="48"/>
                </a:lnTo>
                <a:lnTo>
                  <a:pt x="12" y="44"/>
                </a:lnTo>
                <a:lnTo>
                  <a:pt x="8" y="42"/>
                </a:lnTo>
                <a:lnTo>
                  <a:pt x="6" y="40"/>
                </a:lnTo>
                <a:lnTo>
                  <a:pt x="4" y="38"/>
                </a:lnTo>
                <a:lnTo>
                  <a:pt x="2" y="37"/>
                </a:lnTo>
                <a:lnTo>
                  <a:pt x="2" y="35"/>
                </a:lnTo>
                <a:lnTo>
                  <a:pt x="0" y="31"/>
                </a:lnTo>
                <a:lnTo>
                  <a:pt x="2" y="27"/>
                </a:lnTo>
                <a:lnTo>
                  <a:pt x="4" y="23"/>
                </a:lnTo>
                <a:lnTo>
                  <a:pt x="8" y="1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Freeform 69"/>
          <p:cNvSpPr/>
          <p:nvPr/>
        </p:nvSpPr>
        <p:spPr>
          <a:xfrm>
            <a:off x="6170760" y="4059360"/>
            <a:ext cx="680760" cy="717480"/>
          </a:xfrm>
          <a:custGeom>
            <a:avLst/>
            <a:gdLst/>
            <a:ahLst/>
            <a:rect l="l" t="t" r="r" b="b"/>
            <a:pathLst>
              <a:path w="858" h="904">
                <a:moveTo>
                  <a:pt x="199" y="804"/>
                </a:moveTo>
                <a:lnTo>
                  <a:pt x="176" y="819"/>
                </a:lnTo>
                <a:lnTo>
                  <a:pt x="153" y="833"/>
                </a:lnTo>
                <a:lnTo>
                  <a:pt x="134" y="846"/>
                </a:lnTo>
                <a:lnTo>
                  <a:pt x="117" y="858"/>
                </a:lnTo>
                <a:lnTo>
                  <a:pt x="99" y="867"/>
                </a:lnTo>
                <a:lnTo>
                  <a:pt x="84" y="875"/>
                </a:lnTo>
                <a:lnTo>
                  <a:pt x="69" y="883"/>
                </a:lnTo>
                <a:lnTo>
                  <a:pt x="57" y="890"/>
                </a:lnTo>
                <a:lnTo>
                  <a:pt x="46" y="894"/>
                </a:lnTo>
                <a:lnTo>
                  <a:pt x="36" y="898"/>
                </a:lnTo>
                <a:lnTo>
                  <a:pt x="27" y="902"/>
                </a:lnTo>
                <a:lnTo>
                  <a:pt x="19" y="904"/>
                </a:lnTo>
                <a:lnTo>
                  <a:pt x="13" y="904"/>
                </a:lnTo>
                <a:lnTo>
                  <a:pt x="7" y="904"/>
                </a:lnTo>
                <a:lnTo>
                  <a:pt x="3" y="904"/>
                </a:lnTo>
                <a:lnTo>
                  <a:pt x="2" y="902"/>
                </a:lnTo>
                <a:lnTo>
                  <a:pt x="0" y="898"/>
                </a:lnTo>
                <a:lnTo>
                  <a:pt x="0" y="894"/>
                </a:lnTo>
                <a:lnTo>
                  <a:pt x="2" y="888"/>
                </a:lnTo>
                <a:lnTo>
                  <a:pt x="5" y="883"/>
                </a:lnTo>
                <a:lnTo>
                  <a:pt x="11" y="875"/>
                </a:lnTo>
                <a:lnTo>
                  <a:pt x="19" y="867"/>
                </a:lnTo>
                <a:lnTo>
                  <a:pt x="27" y="858"/>
                </a:lnTo>
                <a:lnTo>
                  <a:pt x="36" y="846"/>
                </a:lnTo>
                <a:lnTo>
                  <a:pt x="48" y="835"/>
                </a:lnTo>
                <a:lnTo>
                  <a:pt x="61" y="821"/>
                </a:lnTo>
                <a:lnTo>
                  <a:pt x="76" y="808"/>
                </a:lnTo>
                <a:lnTo>
                  <a:pt x="94" y="792"/>
                </a:lnTo>
                <a:lnTo>
                  <a:pt x="111" y="775"/>
                </a:lnTo>
                <a:lnTo>
                  <a:pt x="130" y="758"/>
                </a:lnTo>
                <a:lnTo>
                  <a:pt x="153" y="739"/>
                </a:lnTo>
                <a:lnTo>
                  <a:pt x="176" y="717"/>
                </a:lnTo>
                <a:lnTo>
                  <a:pt x="217" y="677"/>
                </a:lnTo>
                <a:lnTo>
                  <a:pt x="257" y="637"/>
                </a:lnTo>
                <a:lnTo>
                  <a:pt x="297" y="598"/>
                </a:lnTo>
                <a:lnTo>
                  <a:pt x="334" y="562"/>
                </a:lnTo>
                <a:lnTo>
                  <a:pt x="368" y="524"/>
                </a:lnTo>
                <a:lnTo>
                  <a:pt x="403" y="487"/>
                </a:lnTo>
                <a:lnTo>
                  <a:pt x="433" y="451"/>
                </a:lnTo>
                <a:lnTo>
                  <a:pt x="464" y="414"/>
                </a:lnTo>
                <a:lnTo>
                  <a:pt x="478" y="395"/>
                </a:lnTo>
                <a:lnTo>
                  <a:pt x="491" y="376"/>
                </a:lnTo>
                <a:lnTo>
                  <a:pt x="506" y="355"/>
                </a:lnTo>
                <a:lnTo>
                  <a:pt x="522" y="334"/>
                </a:lnTo>
                <a:lnTo>
                  <a:pt x="537" y="311"/>
                </a:lnTo>
                <a:lnTo>
                  <a:pt x="553" y="288"/>
                </a:lnTo>
                <a:lnTo>
                  <a:pt x="568" y="265"/>
                </a:lnTo>
                <a:lnTo>
                  <a:pt x="585" y="238"/>
                </a:lnTo>
                <a:lnTo>
                  <a:pt x="602" y="213"/>
                </a:lnTo>
                <a:lnTo>
                  <a:pt x="620" y="186"/>
                </a:lnTo>
                <a:lnTo>
                  <a:pt x="637" y="157"/>
                </a:lnTo>
                <a:lnTo>
                  <a:pt x="656" y="128"/>
                </a:lnTo>
                <a:lnTo>
                  <a:pt x="673" y="98"/>
                </a:lnTo>
                <a:lnTo>
                  <a:pt x="693" y="65"/>
                </a:lnTo>
                <a:lnTo>
                  <a:pt x="712" y="32"/>
                </a:lnTo>
                <a:lnTo>
                  <a:pt x="731" y="0"/>
                </a:lnTo>
                <a:lnTo>
                  <a:pt x="794" y="36"/>
                </a:lnTo>
                <a:lnTo>
                  <a:pt x="858" y="73"/>
                </a:lnTo>
                <a:lnTo>
                  <a:pt x="835" y="111"/>
                </a:lnTo>
                <a:lnTo>
                  <a:pt x="812" y="147"/>
                </a:lnTo>
                <a:lnTo>
                  <a:pt x="789" y="184"/>
                </a:lnTo>
                <a:lnTo>
                  <a:pt x="766" y="217"/>
                </a:lnTo>
                <a:lnTo>
                  <a:pt x="743" y="249"/>
                </a:lnTo>
                <a:lnTo>
                  <a:pt x="721" y="280"/>
                </a:lnTo>
                <a:lnTo>
                  <a:pt x="700" y="311"/>
                </a:lnTo>
                <a:lnTo>
                  <a:pt x="677" y="339"/>
                </a:lnTo>
                <a:lnTo>
                  <a:pt x="656" y="366"/>
                </a:lnTo>
                <a:lnTo>
                  <a:pt x="637" y="393"/>
                </a:lnTo>
                <a:lnTo>
                  <a:pt x="616" y="418"/>
                </a:lnTo>
                <a:lnTo>
                  <a:pt x="597" y="441"/>
                </a:lnTo>
                <a:lnTo>
                  <a:pt x="577" y="462"/>
                </a:lnTo>
                <a:lnTo>
                  <a:pt x="558" y="485"/>
                </a:lnTo>
                <a:lnTo>
                  <a:pt x="541" y="504"/>
                </a:lnTo>
                <a:lnTo>
                  <a:pt x="524" y="524"/>
                </a:lnTo>
                <a:lnTo>
                  <a:pt x="505" y="545"/>
                </a:lnTo>
                <a:lnTo>
                  <a:pt x="487" y="564"/>
                </a:lnTo>
                <a:lnTo>
                  <a:pt x="470" y="583"/>
                </a:lnTo>
                <a:lnTo>
                  <a:pt x="451" y="602"/>
                </a:lnTo>
                <a:lnTo>
                  <a:pt x="412" y="639"/>
                </a:lnTo>
                <a:lnTo>
                  <a:pt x="374" y="673"/>
                </a:lnTo>
                <a:lnTo>
                  <a:pt x="332" y="706"/>
                </a:lnTo>
                <a:lnTo>
                  <a:pt x="290" y="739"/>
                </a:lnTo>
                <a:lnTo>
                  <a:pt x="245" y="771"/>
                </a:lnTo>
                <a:lnTo>
                  <a:pt x="222" y="787"/>
                </a:lnTo>
                <a:lnTo>
                  <a:pt x="199" y="80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Freeform 70"/>
          <p:cNvSpPr/>
          <p:nvPr/>
        </p:nvSpPr>
        <p:spPr>
          <a:xfrm>
            <a:off x="6870600" y="4038480"/>
            <a:ext cx="938160" cy="635040"/>
          </a:xfrm>
          <a:custGeom>
            <a:avLst/>
            <a:gdLst/>
            <a:ahLst/>
            <a:rect l="l" t="t" r="r" b="b"/>
            <a:pathLst>
              <a:path w="1182" h="798">
                <a:moveTo>
                  <a:pt x="1182" y="742"/>
                </a:moveTo>
                <a:lnTo>
                  <a:pt x="1182" y="746"/>
                </a:lnTo>
                <a:lnTo>
                  <a:pt x="1180" y="748"/>
                </a:lnTo>
                <a:lnTo>
                  <a:pt x="1178" y="750"/>
                </a:lnTo>
                <a:lnTo>
                  <a:pt x="1175" y="752"/>
                </a:lnTo>
                <a:lnTo>
                  <a:pt x="1171" y="754"/>
                </a:lnTo>
                <a:lnTo>
                  <a:pt x="1167" y="758"/>
                </a:lnTo>
                <a:lnTo>
                  <a:pt x="1161" y="760"/>
                </a:lnTo>
                <a:lnTo>
                  <a:pt x="1153" y="762"/>
                </a:lnTo>
                <a:lnTo>
                  <a:pt x="1146" y="764"/>
                </a:lnTo>
                <a:lnTo>
                  <a:pt x="1138" y="766"/>
                </a:lnTo>
                <a:lnTo>
                  <a:pt x="1129" y="767"/>
                </a:lnTo>
                <a:lnTo>
                  <a:pt x="1119" y="771"/>
                </a:lnTo>
                <a:lnTo>
                  <a:pt x="1107" y="773"/>
                </a:lnTo>
                <a:lnTo>
                  <a:pt x="1094" y="775"/>
                </a:lnTo>
                <a:lnTo>
                  <a:pt x="1081" y="777"/>
                </a:lnTo>
                <a:lnTo>
                  <a:pt x="1065" y="781"/>
                </a:lnTo>
                <a:lnTo>
                  <a:pt x="1034" y="785"/>
                </a:lnTo>
                <a:lnTo>
                  <a:pt x="1004" y="787"/>
                </a:lnTo>
                <a:lnTo>
                  <a:pt x="971" y="789"/>
                </a:lnTo>
                <a:lnTo>
                  <a:pt x="938" y="790"/>
                </a:lnTo>
                <a:lnTo>
                  <a:pt x="906" y="792"/>
                </a:lnTo>
                <a:lnTo>
                  <a:pt x="873" y="792"/>
                </a:lnTo>
                <a:lnTo>
                  <a:pt x="843" y="792"/>
                </a:lnTo>
                <a:lnTo>
                  <a:pt x="812" y="792"/>
                </a:lnTo>
                <a:lnTo>
                  <a:pt x="796" y="794"/>
                </a:lnTo>
                <a:lnTo>
                  <a:pt x="781" y="796"/>
                </a:lnTo>
                <a:lnTo>
                  <a:pt x="768" y="796"/>
                </a:lnTo>
                <a:lnTo>
                  <a:pt x="752" y="798"/>
                </a:lnTo>
                <a:lnTo>
                  <a:pt x="725" y="796"/>
                </a:lnTo>
                <a:lnTo>
                  <a:pt x="714" y="796"/>
                </a:lnTo>
                <a:lnTo>
                  <a:pt x="700" y="796"/>
                </a:lnTo>
                <a:lnTo>
                  <a:pt x="689" y="794"/>
                </a:lnTo>
                <a:lnTo>
                  <a:pt x="679" y="792"/>
                </a:lnTo>
                <a:lnTo>
                  <a:pt x="668" y="790"/>
                </a:lnTo>
                <a:lnTo>
                  <a:pt x="658" y="789"/>
                </a:lnTo>
                <a:lnTo>
                  <a:pt x="649" y="787"/>
                </a:lnTo>
                <a:lnTo>
                  <a:pt x="641" y="785"/>
                </a:lnTo>
                <a:lnTo>
                  <a:pt x="633" y="783"/>
                </a:lnTo>
                <a:lnTo>
                  <a:pt x="626" y="781"/>
                </a:lnTo>
                <a:lnTo>
                  <a:pt x="618" y="777"/>
                </a:lnTo>
                <a:lnTo>
                  <a:pt x="608" y="773"/>
                </a:lnTo>
                <a:lnTo>
                  <a:pt x="597" y="767"/>
                </a:lnTo>
                <a:lnTo>
                  <a:pt x="587" y="762"/>
                </a:lnTo>
                <a:lnTo>
                  <a:pt x="576" y="754"/>
                </a:lnTo>
                <a:lnTo>
                  <a:pt x="564" y="744"/>
                </a:lnTo>
                <a:lnTo>
                  <a:pt x="553" y="735"/>
                </a:lnTo>
                <a:lnTo>
                  <a:pt x="541" y="723"/>
                </a:lnTo>
                <a:lnTo>
                  <a:pt x="528" y="712"/>
                </a:lnTo>
                <a:lnTo>
                  <a:pt x="514" y="696"/>
                </a:lnTo>
                <a:lnTo>
                  <a:pt x="501" y="681"/>
                </a:lnTo>
                <a:lnTo>
                  <a:pt x="487" y="666"/>
                </a:lnTo>
                <a:lnTo>
                  <a:pt x="474" y="647"/>
                </a:lnTo>
                <a:lnTo>
                  <a:pt x="459" y="627"/>
                </a:lnTo>
                <a:lnTo>
                  <a:pt x="443" y="606"/>
                </a:lnTo>
                <a:lnTo>
                  <a:pt x="430" y="585"/>
                </a:lnTo>
                <a:lnTo>
                  <a:pt x="413" y="560"/>
                </a:lnTo>
                <a:lnTo>
                  <a:pt x="395" y="535"/>
                </a:lnTo>
                <a:lnTo>
                  <a:pt x="376" y="508"/>
                </a:lnTo>
                <a:lnTo>
                  <a:pt x="355" y="480"/>
                </a:lnTo>
                <a:lnTo>
                  <a:pt x="334" y="449"/>
                </a:lnTo>
                <a:lnTo>
                  <a:pt x="309" y="418"/>
                </a:lnTo>
                <a:lnTo>
                  <a:pt x="284" y="384"/>
                </a:lnTo>
                <a:lnTo>
                  <a:pt x="257" y="349"/>
                </a:lnTo>
                <a:lnTo>
                  <a:pt x="230" y="313"/>
                </a:lnTo>
                <a:lnTo>
                  <a:pt x="201" y="274"/>
                </a:lnTo>
                <a:lnTo>
                  <a:pt x="171" y="234"/>
                </a:lnTo>
                <a:lnTo>
                  <a:pt x="138" y="194"/>
                </a:lnTo>
                <a:lnTo>
                  <a:pt x="105" y="149"/>
                </a:lnTo>
                <a:lnTo>
                  <a:pt x="71" y="105"/>
                </a:lnTo>
                <a:lnTo>
                  <a:pt x="36" y="59"/>
                </a:lnTo>
                <a:lnTo>
                  <a:pt x="0" y="13"/>
                </a:lnTo>
                <a:lnTo>
                  <a:pt x="30" y="5"/>
                </a:lnTo>
                <a:lnTo>
                  <a:pt x="59" y="0"/>
                </a:lnTo>
                <a:lnTo>
                  <a:pt x="92" y="30"/>
                </a:lnTo>
                <a:lnTo>
                  <a:pt x="125" y="61"/>
                </a:lnTo>
                <a:lnTo>
                  <a:pt x="157" y="90"/>
                </a:lnTo>
                <a:lnTo>
                  <a:pt x="188" y="119"/>
                </a:lnTo>
                <a:lnTo>
                  <a:pt x="221" y="146"/>
                </a:lnTo>
                <a:lnTo>
                  <a:pt x="251" y="172"/>
                </a:lnTo>
                <a:lnTo>
                  <a:pt x="282" y="199"/>
                </a:lnTo>
                <a:lnTo>
                  <a:pt x="311" y="224"/>
                </a:lnTo>
                <a:lnTo>
                  <a:pt x="341" y="249"/>
                </a:lnTo>
                <a:lnTo>
                  <a:pt x="370" y="274"/>
                </a:lnTo>
                <a:lnTo>
                  <a:pt x="399" y="297"/>
                </a:lnTo>
                <a:lnTo>
                  <a:pt x="426" y="318"/>
                </a:lnTo>
                <a:lnTo>
                  <a:pt x="455" y="339"/>
                </a:lnTo>
                <a:lnTo>
                  <a:pt x="482" y="361"/>
                </a:lnTo>
                <a:lnTo>
                  <a:pt x="508" y="382"/>
                </a:lnTo>
                <a:lnTo>
                  <a:pt x="535" y="401"/>
                </a:lnTo>
                <a:lnTo>
                  <a:pt x="560" y="418"/>
                </a:lnTo>
                <a:lnTo>
                  <a:pt x="587" y="435"/>
                </a:lnTo>
                <a:lnTo>
                  <a:pt x="612" y="453"/>
                </a:lnTo>
                <a:lnTo>
                  <a:pt x="635" y="468"/>
                </a:lnTo>
                <a:lnTo>
                  <a:pt x="660" y="483"/>
                </a:lnTo>
                <a:lnTo>
                  <a:pt x="683" y="499"/>
                </a:lnTo>
                <a:lnTo>
                  <a:pt x="706" y="512"/>
                </a:lnTo>
                <a:lnTo>
                  <a:pt x="729" y="524"/>
                </a:lnTo>
                <a:lnTo>
                  <a:pt x="750" y="537"/>
                </a:lnTo>
                <a:lnTo>
                  <a:pt x="773" y="547"/>
                </a:lnTo>
                <a:lnTo>
                  <a:pt x="795" y="558"/>
                </a:lnTo>
                <a:lnTo>
                  <a:pt x="816" y="568"/>
                </a:lnTo>
                <a:lnTo>
                  <a:pt x="835" y="576"/>
                </a:lnTo>
                <a:lnTo>
                  <a:pt x="854" y="583"/>
                </a:lnTo>
                <a:lnTo>
                  <a:pt x="873" y="591"/>
                </a:lnTo>
                <a:lnTo>
                  <a:pt x="892" y="597"/>
                </a:lnTo>
                <a:lnTo>
                  <a:pt x="910" y="604"/>
                </a:lnTo>
                <a:lnTo>
                  <a:pt x="929" y="610"/>
                </a:lnTo>
                <a:lnTo>
                  <a:pt x="944" y="618"/>
                </a:lnTo>
                <a:lnTo>
                  <a:pt x="962" y="623"/>
                </a:lnTo>
                <a:lnTo>
                  <a:pt x="977" y="629"/>
                </a:lnTo>
                <a:lnTo>
                  <a:pt x="992" y="637"/>
                </a:lnTo>
                <a:lnTo>
                  <a:pt x="1006" y="643"/>
                </a:lnTo>
                <a:lnTo>
                  <a:pt x="1021" y="648"/>
                </a:lnTo>
                <a:lnTo>
                  <a:pt x="1034" y="654"/>
                </a:lnTo>
                <a:lnTo>
                  <a:pt x="1046" y="660"/>
                </a:lnTo>
                <a:lnTo>
                  <a:pt x="1059" y="664"/>
                </a:lnTo>
                <a:lnTo>
                  <a:pt x="1071" y="670"/>
                </a:lnTo>
                <a:lnTo>
                  <a:pt x="1081" y="675"/>
                </a:lnTo>
                <a:lnTo>
                  <a:pt x="1092" y="679"/>
                </a:lnTo>
                <a:lnTo>
                  <a:pt x="1102" y="685"/>
                </a:lnTo>
                <a:lnTo>
                  <a:pt x="1111" y="689"/>
                </a:lnTo>
                <a:lnTo>
                  <a:pt x="1119" y="693"/>
                </a:lnTo>
                <a:lnTo>
                  <a:pt x="1127" y="698"/>
                </a:lnTo>
                <a:lnTo>
                  <a:pt x="1134" y="702"/>
                </a:lnTo>
                <a:lnTo>
                  <a:pt x="1142" y="706"/>
                </a:lnTo>
                <a:lnTo>
                  <a:pt x="1148" y="710"/>
                </a:lnTo>
                <a:lnTo>
                  <a:pt x="1153" y="714"/>
                </a:lnTo>
                <a:lnTo>
                  <a:pt x="1159" y="718"/>
                </a:lnTo>
                <a:lnTo>
                  <a:pt x="1165" y="721"/>
                </a:lnTo>
                <a:lnTo>
                  <a:pt x="1169" y="723"/>
                </a:lnTo>
                <a:lnTo>
                  <a:pt x="1173" y="727"/>
                </a:lnTo>
                <a:lnTo>
                  <a:pt x="1175" y="731"/>
                </a:lnTo>
                <a:lnTo>
                  <a:pt x="1177" y="733"/>
                </a:lnTo>
                <a:lnTo>
                  <a:pt x="1178" y="737"/>
                </a:lnTo>
                <a:lnTo>
                  <a:pt x="1180" y="739"/>
                </a:lnTo>
                <a:lnTo>
                  <a:pt x="1182" y="741"/>
                </a:lnTo>
                <a:lnTo>
                  <a:pt x="1182" y="74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Freeform 71"/>
          <p:cNvSpPr/>
          <p:nvPr/>
        </p:nvSpPr>
        <p:spPr>
          <a:xfrm>
            <a:off x="6988320" y="2698920"/>
            <a:ext cx="196560" cy="1137960"/>
          </a:xfrm>
          <a:custGeom>
            <a:avLst/>
            <a:gdLst/>
            <a:ahLst/>
            <a:rect l="l" t="t" r="r" b="b"/>
            <a:pathLst>
              <a:path w="247" h="1433">
                <a:moveTo>
                  <a:pt x="38" y="1324"/>
                </a:moveTo>
                <a:lnTo>
                  <a:pt x="38" y="1307"/>
                </a:lnTo>
                <a:lnTo>
                  <a:pt x="38" y="1289"/>
                </a:lnTo>
                <a:lnTo>
                  <a:pt x="40" y="1270"/>
                </a:lnTo>
                <a:lnTo>
                  <a:pt x="40" y="1249"/>
                </a:lnTo>
                <a:lnTo>
                  <a:pt x="42" y="1228"/>
                </a:lnTo>
                <a:lnTo>
                  <a:pt x="42" y="1207"/>
                </a:lnTo>
                <a:lnTo>
                  <a:pt x="44" y="1182"/>
                </a:lnTo>
                <a:lnTo>
                  <a:pt x="46" y="1157"/>
                </a:lnTo>
                <a:lnTo>
                  <a:pt x="48" y="1130"/>
                </a:lnTo>
                <a:lnTo>
                  <a:pt x="50" y="1103"/>
                </a:lnTo>
                <a:lnTo>
                  <a:pt x="51" y="1074"/>
                </a:lnTo>
                <a:lnTo>
                  <a:pt x="53" y="1044"/>
                </a:lnTo>
                <a:lnTo>
                  <a:pt x="55" y="1013"/>
                </a:lnTo>
                <a:lnTo>
                  <a:pt x="57" y="978"/>
                </a:lnTo>
                <a:lnTo>
                  <a:pt x="59" y="944"/>
                </a:lnTo>
                <a:lnTo>
                  <a:pt x="61" y="909"/>
                </a:lnTo>
                <a:lnTo>
                  <a:pt x="65" y="836"/>
                </a:lnTo>
                <a:lnTo>
                  <a:pt x="67" y="765"/>
                </a:lnTo>
                <a:lnTo>
                  <a:pt x="71" y="694"/>
                </a:lnTo>
                <a:lnTo>
                  <a:pt x="71" y="625"/>
                </a:lnTo>
                <a:lnTo>
                  <a:pt x="73" y="558"/>
                </a:lnTo>
                <a:lnTo>
                  <a:pt x="73" y="491"/>
                </a:lnTo>
                <a:lnTo>
                  <a:pt x="73" y="426"/>
                </a:lnTo>
                <a:lnTo>
                  <a:pt x="73" y="360"/>
                </a:lnTo>
                <a:lnTo>
                  <a:pt x="73" y="330"/>
                </a:lnTo>
                <a:lnTo>
                  <a:pt x="73" y="299"/>
                </a:lnTo>
                <a:lnTo>
                  <a:pt x="71" y="272"/>
                </a:lnTo>
                <a:lnTo>
                  <a:pt x="71" y="247"/>
                </a:lnTo>
                <a:lnTo>
                  <a:pt x="69" y="222"/>
                </a:lnTo>
                <a:lnTo>
                  <a:pt x="67" y="199"/>
                </a:lnTo>
                <a:lnTo>
                  <a:pt x="65" y="178"/>
                </a:lnTo>
                <a:lnTo>
                  <a:pt x="63" y="159"/>
                </a:lnTo>
                <a:lnTo>
                  <a:pt x="59" y="142"/>
                </a:lnTo>
                <a:lnTo>
                  <a:pt x="55" y="126"/>
                </a:lnTo>
                <a:lnTo>
                  <a:pt x="51" y="113"/>
                </a:lnTo>
                <a:lnTo>
                  <a:pt x="48" y="99"/>
                </a:lnTo>
                <a:lnTo>
                  <a:pt x="44" y="90"/>
                </a:lnTo>
                <a:lnTo>
                  <a:pt x="38" y="80"/>
                </a:lnTo>
                <a:lnTo>
                  <a:pt x="32" y="74"/>
                </a:lnTo>
                <a:lnTo>
                  <a:pt x="26" y="69"/>
                </a:lnTo>
                <a:lnTo>
                  <a:pt x="21" y="63"/>
                </a:lnTo>
                <a:lnTo>
                  <a:pt x="15" y="59"/>
                </a:lnTo>
                <a:lnTo>
                  <a:pt x="11" y="53"/>
                </a:lnTo>
                <a:lnTo>
                  <a:pt x="7" y="49"/>
                </a:lnTo>
                <a:lnTo>
                  <a:pt x="3" y="46"/>
                </a:lnTo>
                <a:lnTo>
                  <a:pt x="2" y="42"/>
                </a:lnTo>
                <a:lnTo>
                  <a:pt x="0" y="36"/>
                </a:lnTo>
                <a:lnTo>
                  <a:pt x="0" y="32"/>
                </a:lnTo>
                <a:lnTo>
                  <a:pt x="0" y="28"/>
                </a:lnTo>
                <a:lnTo>
                  <a:pt x="0" y="24"/>
                </a:lnTo>
                <a:lnTo>
                  <a:pt x="0" y="21"/>
                </a:lnTo>
                <a:lnTo>
                  <a:pt x="2" y="19"/>
                </a:lnTo>
                <a:lnTo>
                  <a:pt x="3" y="15"/>
                </a:lnTo>
                <a:lnTo>
                  <a:pt x="7" y="13"/>
                </a:lnTo>
                <a:lnTo>
                  <a:pt x="11" y="9"/>
                </a:lnTo>
                <a:lnTo>
                  <a:pt x="15" y="7"/>
                </a:lnTo>
                <a:lnTo>
                  <a:pt x="17" y="5"/>
                </a:lnTo>
                <a:lnTo>
                  <a:pt x="21" y="3"/>
                </a:lnTo>
                <a:lnTo>
                  <a:pt x="25" y="1"/>
                </a:lnTo>
                <a:lnTo>
                  <a:pt x="30" y="0"/>
                </a:lnTo>
                <a:lnTo>
                  <a:pt x="36" y="0"/>
                </a:lnTo>
                <a:lnTo>
                  <a:pt x="42" y="0"/>
                </a:lnTo>
                <a:lnTo>
                  <a:pt x="50" y="0"/>
                </a:lnTo>
                <a:lnTo>
                  <a:pt x="57" y="0"/>
                </a:lnTo>
                <a:lnTo>
                  <a:pt x="65" y="0"/>
                </a:lnTo>
                <a:lnTo>
                  <a:pt x="74" y="1"/>
                </a:lnTo>
                <a:lnTo>
                  <a:pt x="84" y="3"/>
                </a:lnTo>
                <a:lnTo>
                  <a:pt x="96" y="5"/>
                </a:lnTo>
                <a:lnTo>
                  <a:pt x="105" y="7"/>
                </a:lnTo>
                <a:lnTo>
                  <a:pt x="117" y="11"/>
                </a:lnTo>
                <a:lnTo>
                  <a:pt x="130" y="15"/>
                </a:lnTo>
                <a:lnTo>
                  <a:pt x="142" y="19"/>
                </a:lnTo>
                <a:lnTo>
                  <a:pt x="153" y="26"/>
                </a:lnTo>
                <a:lnTo>
                  <a:pt x="163" y="32"/>
                </a:lnTo>
                <a:lnTo>
                  <a:pt x="172" y="38"/>
                </a:lnTo>
                <a:lnTo>
                  <a:pt x="182" y="46"/>
                </a:lnTo>
                <a:lnTo>
                  <a:pt x="190" y="51"/>
                </a:lnTo>
                <a:lnTo>
                  <a:pt x="197" y="55"/>
                </a:lnTo>
                <a:lnTo>
                  <a:pt x="205" y="61"/>
                </a:lnTo>
                <a:lnTo>
                  <a:pt x="211" y="67"/>
                </a:lnTo>
                <a:lnTo>
                  <a:pt x="218" y="72"/>
                </a:lnTo>
                <a:lnTo>
                  <a:pt x="224" y="76"/>
                </a:lnTo>
                <a:lnTo>
                  <a:pt x="228" y="82"/>
                </a:lnTo>
                <a:lnTo>
                  <a:pt x="234" y="86"/>
                </a:lnTo>
                <a:lnTo>
                  <a:pt x="238" y="90"/>
                </a:lnTo>
                <a:lnTo>
                  <a:pt x="241" y="95"/>
                </a:lnTo>
                <a:lnTo>
                  <a:pt x="243" y="99"/>
                </a:lnTo>
                <a:lnTo>
                  <a:pt x="247" y="105"/>
                </a:lnTo>
                <a:lnTo>
                  <a:pt x="247" y="109"/>
                </a:lnTo>
                <a:lnTo>
                  <a:pt x="247" y="115"/>
                </a:lnTo>
                <a:lnTo>
                  <a:pt x="245" y="120"/>
                </a:lnTo>
                <a:lnTo>
                  <a:pt x="245" y="128"/>
                </a:lnTo>
                <a:lnTo>
                  <a:pt x="245" y="134"/>
                </a:lnTo>
                <a:lnTo>
                  <a:pt x="245" y="143"/>
                </a:lnTo>
                <a:lnTo>
                  <a:pt x="245" y="151"/>
                </a:lnTo>
                <a:lnTo>
                  <a:pt x="245" y="161"/>
                </a:lnTo>
                <a:lnTo>
                  <a:pt x="243" y="170"/>
                </a:lnTo>
                <a:lnTo>
                  <a:pt x="243" y="182"/>
                </a:lnTo>
                <a:lnTo>
                  <a:pt x="243" y="193"/>
                </a:lnTo>
                <a:lnTo>
                  <a:pt x="241" y="205"/>
                </a:lnTo>
                <a:lnTo>
                  <a:pt x="240" y="218"/>
                </a:lnTo>
                <a:lnTo>
                  <a:pt x="240" y="232"/>
                </a:lnTo>
                <a:lnTo>
                  <a:pt x="238" y="247"/>
                </a:lnTo>
                <a:lnTo>
                  <a:pt x="236" y="262"/>
                </a:lnTo>
                <a:lnTo>
                  <a:pt x="232" y="295"/>
                </a:lnTo>
                <a:lnTo>
                  <a:pt x="228" y="330"/>
                </a:lnTo>
                <a:lnTo>
                  <a:pt x="226" y="347"/>
                </a:lnTo>
                <a:lnTo>
                  <a:pt x="226" y="366"/>
                </a:lnTo>
                <a:lnTo>
                  <a:pt x="224" y="383"/>
                </a:lnTo>
                <a:lnTo>
                  <a:pt x="224" y="403"/>
                </a:lnTo>
                <a:lnTo>
                  <a:pt x="222" y="422"/>
                </a:lnTo>
                <a:lnTo>
                  <a:pt x="220" y="443"/>
                </a:lnTo>
                <a:lnTo>
                  <a:pt x="220" y="464"/>
                </a:lnTo>
                <a:lnTo>
                  <a:pt x="218" y="485"/>
                </a:lnTo>
                <a:lnTo>
                  <a:pt x="217" y="508"/>
                </a:lnTo>
                <a:lnTo>
                  <a:pt x="215" y="531"/>
                </a:lnTo>
                <a:lnTo>
                  <a:pt x="213" y="554"/>
                </a:lnTo>
                <a:lnTo>
                  <a:pt x="211" y="579"/>
                </a:lnTo>
                <a:lnTo>
                  <a:pt x="207" y="629"/>
                </a:lnTo>
                <a:lnTo>
                  <a:pt x="205" y="677"/>
                </a:lnTo>
                <a:lnTo>
                  <a:pt x="203" y="725"/>
                </a:lnTo>
                <a:lnTo>
                  <a:pt x="199" y="771"/>
                </a:lnTo>
                <a:lnTo>
                  <a:pt x="197" y="817"/>
                </a:lnTo>
                <a:lnTo>
                  <a:pt x="195" y="861"/>
                </a:lnTo>
                <a:lnTo>
                  <a:pt x="192" y="904"/>
                </a:lnTo>
                <a:lnTo>
                  <a:pt x="188" y="946"/>
                </a:lnTo>
                <a:lnTo>
                  <a:pt x="184" y="990"/>
                </a:lnTo>
                <a:lnTo>
                  <a:pt x="178" y="1034"/>
                </a:lnTo>
                <a:lnTo>
                  <a:pt x="172" y="1078"/>
                </a:lnTo>
                <a:lnTo>
                  <a:pt x="165" y="1119"/>
                </a:lnTo>
                <a:lnTo>
                  <a:pt x="159" y="1159"/>
                </a:lnTo>
                <a:lnTo>
                  <a:pt x="153" y="1199"/>
                </a:lnTo>
                <a:lnTo>
                  <a:pt x="147" y="1238"/>
                </a:lnTo>
                <a:lnTo>
                  <a:pt x="142" y="1274"/>
                </a:lnTo>
                <a:lnTo>
                  <a:pt x="140" y="1295"/>
                </a:lnTo>
                <a:lnTo>
                  <a:pt x="138" y="1312"/>
                </a:lnTo>
                <a:lnTo>
                  <a:pt x="134" y="1330"/>
                </a:lnTo>
                <a:lnTo>
                  <a:pt x="132" y="1345"/>
                </a:lnTo>
                <a:lnTo>
                  <a:pt x="128" y="1360"/>
                </a:lnTo>
                <a:lnTo>
                  <a:pt x="124" y="1372"/>
                </a:lnTo>
                <a:lnTo>
                  <a:pt x="121" y="1385"/>
                </a:lnTo>
                <a:lnTo>
                  <a:pt x="119" y="1395"/>
                </a:lnTo>
                <a:lnTo>
                  <a:pt x="113" y="1405"/>
                </a:lnTo>
                <a:lnTo>
                  <a:pt x="109" y="1412"/>
                </a:lnTo>
                <a:lnTo>
                  <a:pt x="105" y="1418"/>
                </a:lnTo>
                <a:lnTo>
                  <a:pt x="101" y="1424"/>
                </a:lnTo>
                <a:lnTo>
                  <a:pt x="97" y="1428"/>
                </a:lnTo>
                <a:lnTo>
                  <a:pt x="94" y="1431"/>
                </a:lnTo>
                <a:lnTo>
                  <a:pt x="88" y="1431"/>
                </a:lnTo>
                <a:lnTo>
                  <a:pt x="84" y="1433"/>
                </a:lnTo>
                <a:lnTo>
                  <a:pt x="78" y="1433"/>
                </a:lnTo>
                <a:lnTo>
                  <a:pt x="73" y="1431"/>
                </a:lnTo>
                <a:lnTo>
                  <a:pt x="67" y="1430"/>
                </a:lnTo>
                <a:lnTo>
                  <a:pt x="63" y="1426"/>
                </a:lnTo>
                <a:lnTo>
                  <a:pt x="57" y="1422"/>
                </a:lnTo>
                <a:lnTo>
                  <a:pt x="55" y="1418"/>
                </a:lnTo>
                <a:lnTo>
                  <a:pt x="51" y="1412"/>
                </a:lnTo>
                <a:lnTo>
                  <a:pt x="48" y="1406"/>
                </a:lnTo>
                <a:lnTo>
                  <a:pt x="46" y="1399"/>
                </a:lnTo>
                <a:lnTo>
                  <a:pt x="44" y="1389"/>
                </a:lnTo>
                <a:lnTo>
                  <a:pt x="42" y="1382"/>
                </a:lnTo>
                <a:lnTo>
                  <a:pt x="40" y="1372"/>
                </a:lnTo>
                <a:lnTo>
                  <a:pt x="40" y="1360"/>
                </a:lnTo>
                <a:lnTo>
                  <a:pt x="38" y="1349"/>
                </a:lnTo>
                <a:lnTo>
                  <a:pt x="38" y="1337"/>
                </a:lnTo>
                <a:lnTo>
                  <a:pt x="38" y="132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Freeform 72"/>
          <p:cNvSpPr/>
          <p:nvPr/>
        </p:nvSpPr>
        <p:spPr>
          <a:xfrm>
            <a:off x="5842080" y="2975040"/>
            <a:ext cx="366480" cy="280800"/>
          </a:xfrm>
          <a:custGeom>
            <a:avLst/>
            <a:gdLst/>
            <a:ahLst/>
            <a:rect l="l" t="t" r="r" b="b"/>
            <a:pathLst>
              <a:path w="463" h="353">
                <a:moveTo>
                  <a:pt x="440" y="353"/>
                </a:moveTo>
                <a:lnTo>
                  <a:pt x="438" y="351"/>
                </a:lnTo>
                <a:lnTo>
                  <a:pt x="432" y="351"/>
                </a:lnTo>
                <a:lnTo>
                  <a:pt x="426" y="347"/>
                </a:lnTo>
                <a:lnTo>
                  <a:pt x="418" y="343"/>
                </a:lnTo>
                <a:lnTo>
                  <a:pt x="409" y="338"/>
                </a:lnTo>
                <a:lnTo>
                  <a:pt x="397" y="332"/>
                </a:lnTo>
                <a:lnTo>
                  <a:pt x="386" y="324"/>
                </a:lnTo>
                <a:lnTo>
                  <a:pt x="370" y="317"/>
                </a:lnTo>
                <a:lnTo>
                  <a:pt x="355" y="307"/>
                </a:lnTo>
                <a:lnTo>
                  <a:pt x="340" y="295"/>
                </a:lnTo>
                <a:lnTo>
                  <a:pt x="321" y="284"/>
                </a:lnTo>
                <a:lnTo>
                  <a:pt x="301" y="271"/>
                </a:lnTo>
                <a:lnTo>
                  <a:pt x="280" y="257"/>
                </a:lnTo>
                <a:lnTo>
                  <a:pt x="257" y="242"/>
                </a:lnTo>
                <a:lnTo>
                  <a:pt x="234" y="224"/>
                </a:lnTo>
                <a:lnTo>
                  <a:pt x="207" y="207"/>
                </a:lnTo>
                <a:lnTo>
                  <a:pt x="182" y="188"/>
                </a:lnTo>
                <a:lnTo>
                  <a:pt x="159" y="171"/>
                </a:lnTo>
                <a:lnTo>
                  <a:pt x="138" y="153"/>
                </a:lnTo>
                <a:lnTo>
                  <a:pt x="117" y="138"/>
                </a:lnTo>
                <a:lnTo>
                  <a:pt x="98" y="123"/>
                </a:lnTo>
                <a:lnTo>
                  <a:pt x="81" y="107"/>
                </a:lnTo>
                <a:lnTo>
                  <a:pt x="65" y="94"/>
                </a:lnTo>
                <a:lnTo>
                  <a:pt x="52" y="80"/>
                </a:lnTo>
                <a:lnTo>
                  <a:pt x="40" y="67"/>
                </a:lnTo>
                <a:lnTo>
                  <a:pt x="29" y="56"/>
                </a:lnTo>
                <a:lnTo>
                  <a:pt x="19" y="44"/>
                </a:lnTo>
                <a:lnTo>
                  <a:pt x="13" y="32"/>
                </a:lnTo>
                <a:lnTo>
                  <a:pt x="8" y="23"/>
                </a:lnTo>
                <a:lnTo>
                  <a:pt x="2" y="15"/>
                </a:lnTo>
                <a:lnTo>
                  <a:pt x="0" y="6"/>
                </a:lnTo>
                <a:lnTo>
                  <a:pt x="0" y="0"/>
                </a:lnTo>
                <a:lnTo>
                  <a:pt x="23" y="0"/>
                </a:lnTo>
                <a:lnTo>
                  <a:pt x="46" y="0"/>
                </a:lnTo>
                <a:lnTo>
                  <a:pt x="67" y="0"/>
                </a:lnTo>
                <a:lnTo>
                  <a:pt x="86" y="0"/>
                </a:lnTo>
                <a:lnTo>
                  <a:pt x="106" y="0"/>
                </a:lnTo>
                <a:lnTo>
                  <a:pt x="125" y="0"/>
                </a:lnTo>
                <a:lnTo>
                  <a:pt x="142" y="0"/>
                </a:lnTo>
                <a:lnTo>
                  <a:pt x="159" y="0"/>
                </a:lnTo>
                <a:lnTo>
                  <a:pt x="175" y="2"/>
                </a:lnTo>
                <a:lnTo>
                  <a:pt x="190" y="2"/>
                </a:lnTo>
                <a:lnTo>
                  <a:pt x="203" y="4"/>
                </a:lnTo>
                <a:lnTo>
                  <a:pt x="219" y="4"/>
                </a:lnTo>
                <a:lnTo>
                  <a:pt x="230" y="6"/>
                </a:lnTo>
                <a:lnTo>
                  <a:pt x="244" y="8"/>
                </a:lnTo>
                <a:lnTo>
                  <a:pt x="255" y="9"/>
                </a:lnTo>
                <a:lnTo>
                  <a:pt x="267" y="11"/>
                </a:lnTo>
                <a:lnTo>
                  <a:pt x="275" y="13"/>
                </a:lnTo>
                <a:lnTo>
                  <a:pt x="284" y="17"/>
                </a:lnTo>
                <a:lnTo>
                  <a:pt x="292" y="21"/>
                </a:lnTo>
                <a:lnTo>
                  <a:pt x="301" y="25"/>
                </a:lnTo>
                <a:lnTo>
                  <a:pt x="319" y="34"/>
                </a:lnTo>
                <a:lnTo>
                  <a:pt x="336" y="44"/>
                </a:lnTo>
                <a:lnTo>
                  <a:pt x="353" y="57"/>
                </a:lnTo>
                <a:lnTo>
                  <a:pt x="370" y="69"/>
                </a:lnTo>
                <a:lnTo>
                  <a:pt x="388" y="82"/>
                </a:lnTo>
                <a:lnTo>
                  <a:pt x="405" y="96"/>
                </a:lnTo>
                <a:lnTo>
                  <a:pt x="417" y="111"/>
                </a:lnTo>
                <a:lnTo>
                  <a:pt x="428" y="127"/>
                </a:lnTo>
                <a:lnTo>
                  <a:pt x="438" y="144"/>
                </a:lnTo>
                <a:lnTo>
                  <a:pt x="447" y="161"/>
                </a:lnTo>
                <a:lnTo>
                  <a:pt x="453" y="180"/>
                </a:lnTo>
                <a:lnTo>
                  <a:pt x="459" y="199"/>
                </a:lnTo>
                <a:lnTo>
                  <a:pt x="461" y="209"/>
                </a:lnTo>
                <a:lnTo>
                  <a:pt x="463" y="221"/>
                </a:lnTo>
                <a:lnTo>
                  <a:pt x="463" y="232"/>
                </a:lnTo>
                <a:lnTo>
                  <a:pt x="463" y="244"/>
                </a:lnTo>
                <a:lnTo>
                  <a:pt x="463" y="253"/>
                </a:lnTo>
                <a:lnTo>
                  <a:pt x="463" y="265"/>
                </a:lnTo>
                <a:lnTo>
                  <a:pt x="463" y="274"/>
                </a:lnTo>
                <a:lnTo>
                  <a:pt x="461" y="284"/>
                </a:lnTo>
                <a:lnTo>
                  <a:pt x="461" y="294"/>
                </a:lnTo>
                <a:lnTo>
                  <a:pt x="459" y="301"/>
                </a:lnTo>
                <a:lnTo>
                  <a:pt x="457" y="309"/>
                </a:lnTo>
                <a:lnTo>
                  <a:pt x="455" y="317"/>
                </a:lnTo>
                <a:lnTo>
                  <a:pt x="453" y="322"/>
                </a:lnTo>
                <a:lnTo>
                  <a:pt x="453" y="328"/>
                </a:lnTo>
                <a:lnTo>
                  <a:pt x="451" y="334"/>
                </a:lnTo>
                <a:lnTo>
                  <a:pt x="447" y="340"/>
                </a:lnTo>
                <a:lnTo>
                  <a:pt x="445" y="343"/>
                </a:lnTo>
                <a:lnTo>
                  <a:pt x="443" y="347"/>
                </a:lnTo>
                <a:lnTo>
                  <a:pt x="442" y="349"/>
                </a:lnTo>
                <a:lnTo>
                  <a:pt x="440" y="35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Freeform 73"/>
          <p:cNvSpPr/>
          <p:nvPr/>
        </p:nvSpPr>
        <p:spPr>
          <a:xfrm>
            <a:off x="5475240" y="3575160"/>
            <a:ext cx="854280" cy="1179360"/>
          </a:xfrm>
          <a:custGeom>
            <a:avLst/>
            <a:gdLst/>
            <a:ahLst/>
            <a:rect l="l" t="t" r="r" b="b"/>
            <a:pathLst>
              <a:path w="1077" h="1488">
                <a:moveTo>
                  <a:pt x="764" y="232"/>
                </a:moveTo>
                <a:lnTo>
                  <a:pt x="761" y="236"/>
                </a:lnTo>
                <a:lnTo>
                  <a:pt x="757" y="240"/>
                </a:lnTo>
                <a:lnTo>
                  <a:pt x="755" y="246"/>
                </a:lnTo>
                <a:lnTo>
                  <a:pt x="751" y="252"/>
                </a:lnTo>
                <a:lnTo>
                  <a:pt x="749" y="257"/>
                </a:lnTo>
                <a:lnTo>
                  <a:pt x="747" y="265"/>
                </a:lnTo>
                <a:lnTo>
                  <a:pt x="743" y="273"/>
                </a:lnTo>
                <a:lnTo>
                  <a:pt x="741" y="280"/>
                </a:lnTo>
                <a:lnTo>
                  <a:pt x="739" y="290"/>
                </a:lnTo>
                <a:lnTo>
                  <a:pt x="738" y="300"/>
                </a:lnTo>
                <a:lnTo>
                  <a:pt x="736" y="309"/>
                </a:lnTo>
                <a:lnTo>
                  <a:pt x="734" y="319"/>
                </a:lnTo>
                <a:lnTo>
                  <a:pt x="732" y="330"/>
                </a:lnTo>
                <a:lnTo>
                  <a:pt x="730" y="342"/>
                </a:lnTo>
                <a:lnTo>
                  <a:pt x="728" y="355"/>
                </a:lnTo>
                <a:lnTo>
                  <a:pt x="726" y="369"/>
                </a:lnTo>
                <a:lnTo>
                  <a:pt x="724" y="382"/>
                </a:lnTo>
                <a:lnTo>
                  <a:pt x="722" y="396"/>
                </a:lnTo>
                <a:lnTo>
                  <a:pt x="722" y="411"/>
                </a:lnTo>
                <a:lnTo>
                  <a:pt x="720" y="426"/>
                </a:lnTo>
                <a:lnTo>
                  <a:pt x="718" y="444"/>
                </a:lnTo>
                <a:lnTo>
                  <a:pt x="718" y="459"/>
                </a:lnTo>
                <a:lnTo>
                  <a:pt x="716" y="476"/>
                </a:lnTo>
                <a:lnTo>
                  <a:pt x="714" y="495"/>
                </a:lnTo>
                <a:lnTo>
                  <a:pt x="714" y="513"/>
                </a:lnTo>
                <a:lnTo>
                  <a:pt x="713" y="532"/>
                </a:lnTo>
                <a:lnTo>
                  <a:pt x="711" y="551"/>
                </a:lnTo>
                <a:lnTo>
                  <a:pt x="711" y="572"/>
                </a:lnTo>
                <a:lnTo>
                  <a:pt x="709" y="593"/>
                </a:lnTo>
                <a:lnTo>
                  <a:pt x="709" y="614"/>
                </a:lnTo>
                <a:lnTo>
                  <a:pt x="707" y="637"/>
                </a:lnTo>
                <a:lnTo>
                  <a:pt x="707" y="659"/>
                </a:lnTo>
                <a:lnTo>
                  <a:pt x="705" y="684"/>
                </a:lnTo>
                <a:lnTo>
                  <a:pt x="703" y="705"/>
                </a:lnTo>
                <a:lnTo>
                  <a:pt x="703" y="728"/>
                </a:lnTo>
                <a:lnTo>
                  <a:pt x="703" y="749"/>
                </a:lnTo>
                <a:lnTo>
                  <a:pt x="701" y="770"/>
                </a:lnTo>
                <a:lnTo>
                  <a:pt x="701" y="789"/>
                </a:lnTo>
                <a:lnTo>
                  <a:pt x="701" y="808"/>
                </a:lnTo>
                <a:lnTo>
                  <a:pt x="699" y="826"/>
                </a:lnTo>
                <a:lnTo>
                  <a:pt x="699" y="843"/>
                </a:lnTo>
                <a:lnTo>
                  <a:pt x="699" y="860"/>
                </a:lnTo>
                <a:lnTo>
                  <a:pt x="699" y="876"/>
                </a:lnTo>
                <a:lnTo>
                  <a:pt x="699" y="891"/>
                </a:lnTo>
                <a:lnTo>
                  <a:pt x="699" y="906"/>
                </a:lnTo>
                <a:lnTo>
                  <a:pt x="699" y="920"/>
                </a:lnTo>
                <a:lnTo>
                  <a:pt x="699" y="933"/>
                </a:lnTo>
                <a:lnTo>
                  <a:pt x="699" y="945"/>
                </a:lnTo>
                <a:lnTo>
                  <a:pt x="699" y="956"/>
                </a:lnTo>
                <a:lnTo>
                  <a:pt x="699" y="968"/>
                </a:lnTo>
                <a:lnTo>
                  <a:pt x="699" y="977"/>
                </a:lnTo>
                <a:lnTo>
                  <a:pt x="701" y="987"/>
                </a:lnTo>
                <a:lnTo>
                  <a:pt x="701" y="996"/>
                </a:lnTo>
                <a:lnTo>
                  <a:pt x="703" y="1004"/>
                </a:lnTo>
                <a:lnTo>
                  <a:pt x="703" y="1012"/>
                </a:lnTo>
                <a:lnTo>
                  <a:pt x="705" y="1019"/>
                </a:lnTo>
                <a:lnTo>
                  <a:pt x="705" y="1025"/>
                </a:lnTo>
                <a:lnTo>
                  <a:pt x="707" y="1031"/>
                </a:lnTo>
                <a:lnTo>
                  <a:pt x="709" y="1035"/>
                </a:lnTo>
                <a:lnTo>
                  <a:pt x="711" y="1039"/>
                </a:lnTo>
                <a:lnTo>
                  <a:pt x="711" y="1042"/>
                </a:lnTo>
                <a:lnTo>
                  <a:pt x="713" y="1044"/>
                </a:lnTo>
                <a:lnTo>
                  <a:pt x="714" y="1048"/>
                </a:lnTo>
                <a:lnTo>
                  <a:pt x="718" y="1048"/>
                </a:lnTo>
                <a:lnTo>
                  <a:pt x="720" y="1050"/>
                </a:lnTo>
                <a:lnTo>
                  <a:pt x="724" y="1052"/>
                </a:lnTo>
                <a:lnTo>
                  <a:pt x="730" y="1052"/>
                </a:lnTo>
                <a:lnTo>
                  <a:pt x="738" y="1052"/>
                </a:lnTo>
                <a:lnTo>
                  <a:pt x="745" y="1050"/>
                </a:lnTo>
                <a:lnTo>
                  <a:pt x="753" y="1046"/>
                </a:lnTo>
                <a:lnTo>
                  <a:pt x="764" y="1042"/>
                </a:lnTo>
                <a:lnTo>
                  <a:pt x="776" y="1039"/>
                </a:lnTo>
                <a:lnTo>
                  <a:pt x="787" y="1033"/>
                </a:lnTo>
                <a:lnTo>
                  <a:pt x="801" y="1027"/>
                </a:lnTo>
                <a:lnTo>
                  <a:pt x="816" y="1019"/>
                </a:lnTo>
                <a:lnTo>
                  <a:pt x="832" y="1010"/>
                </a:lnTo>
                <a:lnTo>
                  <a:pt x="849" y="1000"/>
                </a:lnTo>
                <a:lnTo>
                  <a:pt x="866" y="989"/>
                </a:lnTo>
                <a:lnTo>
                  <a:pt x="883" y="977"/>
                </a:lnTo>
                <a:lnTo>
                  <a:pt x="903" y="964"/>
                </a:lnTo>
                <a:lnTo>
                  <a:pt x="922" y="952"/>
                </a:lnTo>
                <a:lnTo>
                  <a:pt x="939" y="943"/>
                </a:lnTo>
                <a:lnTo>
                  <a:pt x="956" y="931"/>
                </a:lnTo>
                <a:lnTo>
                  <a:pt x="972" y="923"/>
                </a:lnTo>
                <a:lnTo>
                  <a:pt x="987" y="914"/>
                </a:lnTo>
                <a:lnTo>
                  <a:pt x="1001" y="906"/>
                </a:lnTo>
                <a:lnTo>
                  <a:pt x="1012" y="899"/>
                </a:lnTo>
                <a:lnTo>
                  <a:pt x="1024" y="893"/>
                </a:lnTo>
                <a:lnTo>
                  <a:pt x="1035" y="889"/>
                </a:lnTo>
                <a:lnTo>
                  <a:pt x="1045" y="883"/>
                </a:lnTo>
                <a:lnTo>
                  <a:pt x="1052" y="881"/>
                </a:lnTo>
                <a:lnTo>
                  <a:pt x="1058" y="877"/>
                </a:lnTo>
                <a:lnTo>
                  <a:pt x="1066" y="876"/>
                </a:lnTo>
                <a:lnTo>
                  <a:pt x="1070" y="876"/>
                </a:lnTo>
                <a:lnTo>
                  <a:pt x="1073" y="877"/>
                </a:lnTo>
                <a:lnTo>
                  <a:pt x="1077" y="879"/>
                </a:lnTo>
                <a:lnTo>
                  <a:pt x="1077" y="881"/>
                </a:lnTo>
                <a:lnTo>
                  <a:pt x="1077" y="887"/>
                </a:lnTo>
                <a:lnTo>
                  <a:pt x="1075" y="893"/>
                </a:lnTo>
                <a:lnTo>
                  <a:pt x="1072" y="900"/>
                </a:lnTo>
                <a:lnTo>
                  <a:pt x="1066" y="910"/>
                </a:lnTo>
                <a:lnTo>
                  <a:pt x="1058" y="922"/>
                </a:lnTo>
                <a:lnTo>
                  <a:pt x="1048" y="933"/>
                </a:lnTo>
                <a:lnTo>
                  <a:pt x="1039" y="948"/>
                </a:lnTo>
                <a:lnTo>
                  <a:pt x="1025" y="964"/>
                </a:lnTo>
                <a:lnTo>
                  <a:pt x="1018" y="971"/>
                </a:lnTo>
                <a:lnTo>
                  <a:pt x="1010" y="981"/>
                </a:lnTo>
                <a:lnTo>
                  <a:pt x="1002" y="989"/>
                </a:lnTo>
                <a:lnTo>
                  <a:pt x="993" y="998"/>
                </a:lnTo>
                <a:lnTo>
                  <a:pt x="985" y="1008"/>
                </a:lnTo>
                <a:lnTo>
                  <a:pt x="976" y="1018"/>
                </a:lnTo>
                <a:lnTo>
                  <a:pt x="964" y="1029"/>
                </a:lnTo>
                <a:lnTo>
                  <a:pt x="954" y="1039"/>
                </a:lnTo>
                <a:lnTo>
                  <a:pt x="943" y="1050"/>
                </a:lnTo>
                <a:lnTo>
                  <a:pt x="931" y="1062"/>
                </a:lnTo>
                <a:lnTo>
                  <a:pt x="920" y="1073"/>
                </a:lnTo>
                <a:lnTo>
                  <a:pt x="906" y="1085"/>
                </a:lnTo>
                <a:lnTo>
                  <a:pt x="893" y="1098"/>
                </a:lnTo>
                <a:lnTo>
                  <a:pt x="880" y="1110"/>
                </a:lnTo>
                <a:lnTo>
                  <a:pt x="853" y="1135"/>
                </a:lnTo>
                <a:lnTo>
                  <a:pt x="826" y="1160"/>
                </a:lnTo>
                <a:lnTo>
                  <a:pt x="801" y="1183"/>
                </a:lnTo>
                <a:lnTo>
                  <a:pt x="778" y="1204"/>
                </a:lnTo>
                <a:lnTo>
                  <a:pt x="757" y="1225"/>
                </a:lnTo>
                <a:lnTo>
                  <a:pt x="736" y="1246"/>
                </a:lnTo>
                <a:lnTo>
                  <a:pt x="716" y="1265"/>
                </a:lnTo>
                <a:lnTo>
                  <a:pt x="699" y="1284"/>
                </a:lnTo>
                <a:lnTo>
                  <a:pt x="684" y="1302"/>
                </a:lnTo>
                <a:lnTo>
                  <a:pt x="668" y="1319"/>
                </a:lnTo>
                <a:lnTo>
                  <a:pt x="655" y="1334"/>
                </a:lnTo>
                <a:lnTo>
                  <a:pt x="643" y="1350"/>
                </a:lnTo>
                <a:lnTo>
                  <a:pt x="634" y="1365"/>
                </a:lnTo>
                <a:lnTo>
                  <a:pt x="624" y="1378"/>
                </a:lnTo>
                <a:lnTo>
                  <a:pt x="618" y="1390"/>
                </a:lnTo>
                <a:lnTo>
                  <a:pt x="613" y="1403"/>
                </a:lnTo>
                <a:lnTo>
                  <a:pt x="609" y="1413"/>
                </a:lnTo>
                <a:lnTo>
                  <a:pt x="605" y="1424"/>
                </a:lnTo>
                <a:lnTo>
                  <a:pt x="601" y="1432"/>
                </a:lnTo>
                <a:lnTo>
                  <a:pt x="595" y="1442"/>
                </a:lnTo>
                <a:lnTo>
                  <a:pt x="592" y="1449"/>
                </a:lnTo>
                <a:lnTo>
                  <a:pt x="588" y="1457"/>
                </a:lnTo>
                <a:lnTo>
                  <a:pt x="584" y="1463"/>
                </a:lnTo>
                <a:lnTo>
                  <a:pt x="580" y="1469"/>
                </a:lnTo>
                <a:lnTo>
                  <a:pt x="576" y="1472"/>
                </a:lnTo>
                <a:lnTo>
                  <a:pt x="572" y="1476"/>
                </a:lnTo>
                <a:lnTo>
                  <a:pt x="569" y="1480"/>
                </a:lnTo>
                <a:lnTo>
                  <a:pt x="567" y="1484"/>
                </a:lnTo>
                <a:lnTo>
                  <a:pt x="563" y="1486"/>
                </a:lnTo>
                <a:lnTo>
                  <a:pt x="561" y="1486"/>
                </a:lnTo>
                <a:lnTo>
                  <a:pt x="557" y="1488"/>
                </a:lnTo>
                <a:lnTo>
                  <a:pt x="555" y="1488"/>
                </a:lnTo>
                <a:lnTo>
                  <a:pt x="551" y="1488"/>
                </a:lnTo>
                <a:lnTo>
                  <a:pt x="547" y="1486"/>
                </a:lnTo>
                <a:lnTo>
                  <a:pt x="542" y="1486"/>
                </a:lnTo>
                <a:lnTo>
                  <a:pt x="538" y="1484"/>
                </a:lnTo>
                <a:lnTo>
                  <a:pt x="534" y="1482"/>
                </a:lnTo>
                <a:lnTo>
                  <a:pt x="528" y="1478"/>
                </a:lnTo>
                <a:lnTo>
                  <a:pt x="519" y="1471"/>
                </a:lnTo>
                <a:lnTo>
                  <a:pt x="509" y="1463"/>
                </a:lnTo>
                <a:lnTo>
                  <a:pt x="498" y="1451"/>
                </a:lnTo>
                <a:lnTo>
                  <a:pt x="486" y="1440"/>
                </a:lnTo>
                <a:lnTo>
                  <a:pt x="475" y="1426"/>
                </a:lnTo>
                <a:lnTo>
                  <a:pt x="469" y="1421"/>
                </a:lnTo>
                <a:lnTo>
                  <a:pt x="463" y="1413"/>
                </a:lnTo>
                <a:lnTo>
                  <a:pt x="457" y="1407"/>
                </a:lnTo>
                <a:lnTo>
                  <a:pt x="453" y="1400"/>
                </a:lnTo>
                <a:lnTo>
                  <a:pt x="444" y="1386"/>
                </a:lnTo>
                <a:lnTo>
                  <a:pt x="438" y="1373"/>
                </a:lnTo>
                <a:lnTo>
                  <a:pt x="434" y="1361"/>
                </a:lnTo>
                <a:lnTo>
                  <a:pt x="430" y="1350"/>
                </a:lnTo>
                <a:lnTo>
                  <a:pt x="428" y="1338"/>
                </a:lnTo>
                <a:lnTo>
                  <a:pt x="428" y="1328"/>
                </a:lnTo>
                <a:lnTo>
                  <a:pt x="428" y="1325"/>
                </a:lnTo>
                <a:lnTo>
                  <a:pt x="428" y="1319"/>
                </a:lnTo>
                <a:lnTo>
                  <a:pt x="430" y="1313"/>
                </a:lnTo>
                <a:lnTo>
                  <a:pt x="432" y="1307"/>
                </a:lnTo>
                <a:lnTo>
                  <a:pt x="434" y="1300"/>
                </a:lnTo>
                <a:lnTo>
                  <a:pt x="438" y="1292"/>
                </a:lnTo>
                <a:lnTo>
                  <a:pt x="442" y="1284"/>
                </a:lnTo>
                <a:lnTo>
                  <a:pt x="446" y="1275"/>
                </a:lnTo>
                <a:lnTo>
                  <a:pt x="450" y="1265"/>
                </a:lnTo>
                <a:lnTo>
                  <a:pt x="455" y="1256"/>
                </a:lnTo>
                <a:lnTo>
                  <a:pt x="461" y="1244"/>
                </a:lnTo>
                <a:lnTo>
                  <a:pt x="467" y="1234"/>
                </a:lnTo>
                <a:lnTo>
                  <a:pt x="475" y="1221"/>
                </a:lnTo>
                <a:lnTo>
                  <a:pt x="482" y="1209"/>
                </a:lnTo>
                <a:lnTo>
                  <a:pt x="490" y="1196"/>
                </a:lnTo>
                <a:lnTo>
                  <a:pt x="498" y="1183"/>
                </a:lnTo>
                <a:lnTo>
                  <a:pt x="501" y="1177"/>
                </a:lnTo>
                <a:lnTo>
                  <a:pt x="503" y="1167"/>
                </a:lnTo>
                <a:lnTo>
                  <a:pt x="507" y="1160"/>
                </a:lnTo>
                <a:lnTo>
                  <a:pt x="511" y="1150"/>
                </a:lnTo>
                <a:lnTo>
                  <a:pt x="513" y="1140"/>
                </a:lnTo>
                <a:lnTo>
                  <a:pt x="517" y="1131"/>
                </a:lnTo>
                <a:lnTo>
                  <a:pt x="521" y="1119"/>
                </a:lnTo>
                <a:lnTo>
                  <a:pt x="523" y="1108"/>
                </a:lnTo>
                <a:lnTo>
                  <a:pt x="526" y="1096"/>
                </a:lnTo>
                <a:lnTo>
                  <a:pt x="528" y="1083"/>
                </a:lnTo>
                <a:lnTo>
                  <a:pt x="532" y="1069"/>
                </a:lnTo>
                <a:lnTo>
                  <a:pt x="536" y="1056"/>
                </a:lnTo>
                <a:lnTo>
                  <a:pt x="538" y="1041"/>
                </a:lnTo>
                <a:lnTo>
                  <a:pt x="542" y="1025"/>
                </a:lnTo>
                <a:lnTo>
                  <a:pt x="544" y="1010"/>
                </a:lnTo>
                <a:lnTo>
                  <a:pt x="547" y="993"/>
                </a:lnTo>
                <a:lnTo>
                  <a:pt x="549" y="975"/>
                </a:lnTo>
                <a:lnTo>
                  <a:pt x="551" y="958"/>
                </a:lnTo>
                <a:lnTo>
                  <a:pt x="555" y="939"/>
                </a:lnTo>
                <a:lnTo>
                  <a:pt x="557" y="920"/>
                </a:lnTo>
                <a:lnTo>
                  <a:pt x="559" y="900"/>
                </a:lnTo>
                <a:lnTo>
                  <a:pt x="561" y="881"/>
                </a:lnTo>
                <a:lnTo>
                  <a:pt x="563" y="860"/>
                </a:lnTo>
                <a:lnTo>
                  <a:pt x="567" y="839"/>
                </a:lnTo>
                <a:lnTo>
                  <a:pt x="569" y="816"/>
                </a:lnTo>
                <a:lnTo>
                  <a:pt x="570" y="795"/>
                </a:lnTo>
                <a:lnTo>
                  <a:pt x="572" y="772"/>
                </a:lnTo>
                <a:lnTo>
                  <a:pt x="572" y="747"/>
                </a:lnTo>
                <a:lnTo>
                  <a:pt x="574" y="724"/>
                </a:lnTo>
                <a:lnTo>
                  <a:pt x="576" y="699"/>
                </a:lnTo>
                <a:lnTo>
                  <a:pt x="578" y="672"/>
                </a:lnTo>
                <a:lnTo>
                  <a:pt x="578" y="647"/>
                </a:lnTo>
                <a:lnTo>
                  <a:pt x="580" y="620"/>
                </a:lnTo>
                <a:lnTo>
                  <a:pt x="580" y="595"/>
                </a:lnTo>
                <a:lnTo>
                  <a:pt x="582" y="572"/>
                </a:lnTo>
                <a:lnTo>
                  <a:pt x="582" y="547"/>
                </a:lnTo>
                <a:lnTo>
                  <a:pt x="584" y="526"/>
                </a:lnTo>
                <a:lnTo>
                  <a:pt x="584" y="503"/>
                </a:lnTo>
                <a:lnTo>
                  <a:pt x="584" y="482"/>
                </a:lnTo>
                <a:lnTo>
                  <a:pt x="586" y="461"/>
                </a:lnTo>
                <a:lnTo>
                  <a:pt x="586" y="442"/>
                </a:lnTo>
                <a:lnTo>
                  <a:pt x="586" y="423"/>
                </a:lnTo>
                <a:lnTo>
                  <a:pt x="586" y="405"/>
                </a:lnTo>
                <a:lnTo>
                  <a:pt x="586" y="388"/>
                </a:lnTo>
                <a:lnTo>
                  <a:pt x="586" y="371"/>
                </a:lnTo>
                <a:lnTo>
                  <a:pt x="588" y="355"/>
                </a:lnTo>
                <a:lnTo>
                  <a:pt x="588" y="342"/>
                </a:lnTo>
                <a:lnTo>
                  <a:pt x="588" y="327"/>
                </a:lnTo>
                <a:lnTo>
                  <a:pt x="588" y="313"/>
                </a:lnTo>
                <a:lnTo>
                  <a:pt x="588" y="302"/>
                </a:lnTo>
                <a:lnTo>
                  <a:pt x="586" y="290"/>
                </a:lnTo>
                <a:lnTo>
                  <a:pt x="586" y="279"/>
                </a:lnTo>
                <a:lnTo>
                  <a:pt x="586" y="269"/>
                </a:lnTo>
                <a:lnTo>
                  <a:pt x="586" y="259"/>
                </a:lnTo>
                <a:lnTo>
                  <a:pt x="586" y="250"/>
                </a:lnTo>
                <a:lnTo>
                  <a:pt x="586" y="242"/>
                </a:lnTo>
                <a:lnTo>
                  <a:pt x="584" y="236"/>
                </a:lnTo>
                <a:lnTo>
                  <a:pt x="584" y="229"/>
                </a:lnTo>
                <a:lnTo>
                  <a:pt x="584" y="223"/>
                </a:lnTo>
                <a:lnTo>
                  <a:pt x="582" y="219"/>
                </a:lnTo>
                <a:lnTo>
                  <a:pt x="582" y="215"/>
                </a:lnTo>
                <a:lnTo>
                  <a:pt x="580" y="211"/>
                </a:lnTo>
                <a:lnTo>
                  <a:pt x="580" y="209"/>
                </a:lnTo>
                <a:lnTo>
                  <a:pt x="578" y="208"/>
                </a:lnTo>
                <a:lnTo>
                  <a:pt x="576" y="206"/>
                </a:lnTo>
                <a:lnTo>
                  <a:pt x="572" y="206"/>
                </a:lnTo>
                <a:lnTo>
                  <a:pt x="567" y="206"/>
                </a:lnTo>
                <a:lnTo>
                  <a:pt x="561" y="206"/>
                </a:lnTo>
                <a:lnTo>
                  <a:pt x="555" y="208"/>
                </a:lnTo>
                <a:lnTo>
                  <a:pt x="546" y="209"/>
                </a:lnTo>
                <a:lnTo>
                  <a:pt x="538" y="211"/>
                </a:lnTo>
                <a:lnTo>
                  <a:pt x="528" y="215"/>
                </a:lnTo>
                <a:lnTo>
                  <a:pt x="517" y="219"/>
                </a:lnTo>
                <a:lnTo>
                  <a:pt x="505" y="225"/>
                </a:lnTo>
                <a:lnTo>
                  <a:pt x="492" y="231"/>
                </a:lnTo>
                <a:lnTo>
                  <a:pt x="478" y="236"/>
                </a:lnTo>
                <a:lnTo>
                  <a:pt x="465" y="244"/>
                </a:lnTo>
                <a:lnTo>
                  <a:pt x="450" y="252"/>
                </a:lnTo>
                <a:lnTo>
                  <a:pt x="434" y="259"/>
                </a:lnTo>
                <a:lnTo>
                  <a:pt x="417" y="269"/>
                </a:lnTo>
                <a:lnTo>
                  <a:pt x="398" y="279"/>
                </a:lnTo>
                <a:lnTo>
                  <a:pt x="380" y="286"/>
                </a:lnTo>
                <a:lnTo>
                  <a:pt x="363" y="294"/>
                </a:lnTo>
                <a:lnTo>
                  <a:pt x="348" y="302"/>
                </a:lnTo>
                <a:lnTo>
                  <a:pt x="332" y="307"/>
                </a:lnTo>
                <a:lnTo>
                  <a:pt x="319" y="313"/>
                </a:lnTo>
                <a:lnTo>
                  <a:pt x="306" y="319"/>
                </a:lnTo>
                <a:lnTo>
                  <a:pt x="294" y="325"/>
                </a:lnTo>
                <a:lnTo>
                  <a:pt x="283" y="328"/>
                </a:lnTo>
                <a:lnTo>
                  <a:pt x="273" y="332"/>
                </a:lnTo>
                <a:lnTo>
                  <a:pt x="263" y="336"/>
                </a:lnTo>
                <a:lnTo>
                  <a:pt x="256" y="338"/>
                </a:lnTo>
                <a:lnTo>
                  <a:pt x="248" y="340"/>
                </a:lnTo>
                <a:lnTo>
                  <a:pt x="242" y="342"/>
                </a:lnTo>
                <a:lnTo>
                  <a:pt x="236" y="342"/>
                </a:lnTo>
                <a:lnTo>
                  <a:pt x="231" y="342"/>
                </a:lnTo>
                <a:lnTo>
                  <a:pt x="225" y="344"/>
                </a:lnTo>
                <a:lnTo>
                  <a:pt x="217" y="346"/>
                </a:lnTo>
                <a:lnTo>
                  <a:pt x="212" y="346"/>
                </a:lnTo>
                <a:lnTo>
                  <a:pt x="206" y="348"/>
                </a:lnTo>
                <a:lnTo>
                  <a:pt x="198" y="348"/>
                </a:lnTo>
                <a:lnTo>
                  <a:pt x="192" y="346"/>
                </a:lnTo>
                <a:lnTo>
                  <a:pt x="177" y="344"/>
                </a:lnTo>
                <a:lnTo>
                  <a:pt x="164" y="340"/>
                </a:lnTo>
                <a:lnTo>
                  <a:pt x="148" y="334"/>
                </a:lnTo>
                <a:lnTo>
                  <a:pt x="133" y="327"/>
                </a:lnTo>
                <a:lnTo>
                  <a:pt x="116" y="317"/>
                </a:lnTo>
                <a:lnTo>
                  <a:pt x="104" y="315"/>
                </a:lnTo>
                <a:lnTo>
                  <a:pt x="94" y="311"/>
                </a:lnTo>
                <a:lnTo>
                  <a:pt x="85" y="307"/>
                </a:lnTo>
                <a:lnTo>
                  <a:pt x="75" y="303"/>
                </a:lnTo>
                <a:lnTo>
                  <a:pt x="68" y="300"/>
                </a:lnTo>
                <a:lnTo>
                  <a:pt x="60" y="294"/>
                </a:lnTo>
                <a:lnTo>
                  <a:pt x="45" y="282"/>
                </a:lnTo>
                <a:lnTo>
                  <a:pt x="31" y="269"/>
                </a:lnTo>
                <a:lnTo>
                  <a:pt x="20" y="254"/>
                </a:lnTo>
                <a:lnTo>
                  <a:pt x="8" y="238"/>
                </a:lnTo>
                <a:lnTo>
                  <a:pt x="0" y="221"/>
                </a:lnTo>
                <a:lnTo>
                  <a:pt x="46" y="215"/>
                </a:lnTo>
                <a:lnTo>
                  <a:pt x="93" y="209"/>
                </a:lnTo>
                <a:lnTo>
                  <a:pt x="139" y="202"/>
                </a:lnTo>
                <a:lnTo>
                  <a:pt x="183" y="192"/>
                </a:lnTo>
                <a:lnTo>
                  <a:pt x="225" y="183"/>
                </a:lnTo>
                <a:lnTo>
                  <a:pt x="267" y="173"/>
                </a:lnTo>
                <a:lnTo>
                  <a:pt x="308" y="160"/>
                </a:lnTo>
                <a:lnTo>
                  <a:pt x="348" y="148"/>
                </a:lnTo>
                <a:lnTo>
                  <a:pt x="365" y="140"/>
                </a:lnTo>
                <a:lnTo>
                  <a:pt x="384" y="135"/>
                </a:lnTo>
                <a:lnTo>
                  <a:pt x="402" y="127"/>
                </a:lnTo>
                <a:lnTo>
                  <a:pt x="419" y="121"/>
                </a:lnTo>
                <a:lnTo>
                  <a:pt x="434" y="115"/>
                </a:lnTo>
                <a:lnTo>
                  <a:pt x="450" y="110"/>
                </a:lnTo>
                <a:lnTo>
                  <a:pt x="463" y="104"/>
                </a:lnTo>
                <a:lnTo>
                  <a:pt x="476" y="98"/>
                </a:lnTo>
                <a:lnTo>
                  <a:pt x="490" y="92"/>
                </a:lnTo>
                <a:lnTo>
                  <a:pt x="501" y="87"/>
                </a:lnTo>
                <a:lnTo>
                  <a:pt x="513" y="81"/>
                </a:lnTo>
                <a:lnTo>
                  <a:pt x="523" y="75"/>
                </a:lnTo>
                <a:lnTo>
                  <a:pt x="532" y="69"/>
                </a:lnTo>
                <a:lnTo>
                  <a:pt x="542" y="64"/>
                </a:lnTo>
                <a:lnTo>
                  <a:pt x="549" y="56"/>
                </a:lnTo>
                <a:lnTo>
                  <a:pt x="555" y="50"/>
                </a:lnTo>
                <a:lnTo>
                  <a:pt x="559" y="42"/>
                </a:lnTo>
                <a:lnTo>
                  <a:pt x="565" y="37"/>
                </a:lnTo>
                <a:lnTo>
                  <a:pt x="569" y="31"/>
                </a:lnTo>
                <a:lnTo>
                  <a:pt x="572" y="27"/>
                </a:lnTo>
                <a:lnTo>
                  <a:pt x="576" y="21"/>
                </a:lnTo>
                <a:lnTo>
                  <a:pt x="582" y="17"/>
                </a:lnTo>
                <a:lnTo>
                  <a:pt x="590" y="12"/>
                </a:lnTo>
                <a:lnTo>
                  <a:pt x="599" y="6"/>
                </a:lnTo>
                <a:lnTo>
                  <a:pt x="607" y="4"/>
                </a:lnTo>
                <a:lnTo>
                  <a:pt x="617" y="2"/>
                </a:lnTo>
                <a:lnTo>
                  <a:pt x="624" y="0"/>
                </a:lnTo>
                <a:lnTo>
                  <a:pt x="628" y="0"/>
                </a:lnTo>
                <a:lnTo>
                  <a:pt x="630" y="2"/>
                </a:lnTo>
                <a:lnTo>
                  <a:pt x="634" y="2"/>
                </a:lnTo>
                <a:lnTo>
                  <a:pt x="638" y="4"/>
                </a:lnTo>
                <a:lnTo>
                  <a:pt x="642" y="4"/>
                </a:lnTo>
                <a:lnTo>
                  <a:pt x="647" y="6"/>
                </a:lnTo>
                <a:lnTo>
                  <a:pt x="653" y="8"/>
                </a:lnTo>
                <a:lnTo>
                  <a:pt x="659" y="12"/>
                </a:lnTo>
                <a:lnTo>
                  <a:pt x="666" y="14"/>
                </a:lnTo>
                <a:lnTo>
                  <a:pt x="674" y="17"/>
                </a:lnTo>
                <a:lnTo>
                  <a:pt x="682" y="21"/>
                </a:lnTo>
                <a:lnTo>
                  <a:pt x="690" y="27"/>
                </a:lnTo>
                <a:lnTo>
                  <a:pt x="699" y="31"/>
                </a:lnTo>
                <a:lnTo>
                  <a:pt x="709" y="37"/>
                </a:lnTo>
                <a:lnTo>
                  <a:pt x="718" y="42"/>
                </a:lnTo>
                <a:lnTo>
                  <a:pt x="730" y="50"/>
                </a:lnTo>
                <a:lnTo>
                  <a:pt x="738" y="56"/>
                </a:lnTo>
                <a:lnTo>
                  <a:pt x="745" y="64"/>
                </a:lnTo>
                <a:lnTo>
                  <a:pt x="753" y="69"/>
                </a:lnTo>
                <a:lnTo>
                  <a:pt x="759" y="75"/>
                </a:lnTo>
                <a:lnTo>
                  <a:pt x="772" y="87"/>
                </a:lnTo>
                <a:lnTo>
                  <a:pt x="782" y="96"/>
                </a:lnTo>
                <a:lnTo>
                  <a:pt x="791" y="104"/>
                </a:lnTo>
                <a:lnTo>
                  <a:pt x="799" y="112"/>
                </a:lnTo>
                <a:lnTo>
                  <a:pt x="805" y="117"/>
                </a:lnTo>
                <a:lnTo>
                  <a:pt x="810" y="123"/>
                </a:lnTo>
                <a:lnTo>
                  <a:pt x="809" y="133"/>
                </a:lnTo>
                <a:lnTo>
                  <a:pt x="809" y="144"/>
                </a:lnTo>
                <a:lnTo>
                  <a:pt x="805" y="156"/>
                </a:lnTo>
                <a:lnTo>
                  <a:pt x="799" y="169"/>
                </a:lnTo>
                <a:lnTo>
                  <a:pt x="793" y="183"/>
                </a:lnTo>
                <a:lnTo>
                  <a:pt x="786" y="198"/>
                </a:lnTo>
                <a:lnTo>
                  <a:pt x="782" y="206"/>
                </a:lnTo>
                <a:lnTo>
                  <a:pt x="776" y="215"/>
                </a:lnTo>
                <a:lnTo>
                  <a:pt x="770" y="223"/>
                </a:lnTo>
                <a:lnTo>
                  <a:pt x="764" y="23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58"/>
                                        </p:tgtEl>
                                        <p:attrNameLst>
                                          <p:attrName>style.visibility</p:attrName>
                                        </p:attrNameLst>
                                      </p:cBhvr>
                                      <p:to>
                                        <p:strVal val="visible"/>
                                      </p:to>
                                    </p:set>
                                    <p:anim calcmode="lin" valueType="num">
                                      <p:cBhvr additive="base">
                                        <p:cTn id="319" dur="500" fill="hold"/>
                                        <p:tgtEl>
                                          <p:spTgt spid="158"/>
                                        </p:tgtEl>
                                        <p:attrNameLst>
                                          <p:attrName>ppt_x</p:attrName>
                                        </p:attrNameLst>
                                      </p:cBhvr>
                                      <p:tavLst>
                                        <p:tav tm="0">
                                          <p:val>
                                            <p:strVal val="0-#ppt_w/2"/>
                                          </p:val>
                                        </p:tav>
                                        <p:tav tm="100000">
                                          <p:val>
                                            <p:strVal val="#ppt_x"/>
                                          </p:val>
                                        </p:tav>
                                      </p:tavLst>
                                    </p:anim>
                                    <p:anim calcmode="lin" valueType="num">
                                      <p:cBhvr additive="base">
                                        <p:cTn id="320"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1">
                                  <p:stCondLst>
                                    <p:cond delay="0"/>
                                  </p:stCondLst>
                                  <p:childTnLst>
                                    <p:set>
                                      <p:cBhvr>
                                        <p:cTn id="324" dur="1" fill="hold">
                                          <p:stCondLst>
                                            <p:cond delay="0"/>
                                          </p:stCondLst>
                                        </p:cTn>
                                        <p:tgtEl>
                                          <p:spTgt spid="168"/>
                                        </p:tgtEl>
                                        <p:attrNameLst>
                                          <p:attrName>style.visibility</p:attrName>
                                        </p:attrNameLst>
                                      </p:cBhvr>
                                      <p:to>
                                        <p:strVal val="visible"/>
                                      </p:to>
                                    </p:set>
                                    <p:animEffect filter="wipe(up)" transition="in">
                                      <p:cBhvr additive="repl">
                                        <p:cTn id="325" dur="500"/>
                                        <p:tgtEl>
                                          <p:spTgt spid="168"/>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8" presetSubtype="6">
                                  <p:stCondLst>
                                    <p:cond delay="0"/>
                                  </p:stCondLst>
                                  <p:childTnLst>
                                    <p:set>
                                      <p:cBhvr>
                                        <p:cTn id="329" dur="1" fill="hold">
                                          <p:stCondLst>
                                            <p:cond delay="0"/>
                                          </p:stCondLst>
                                        </p:cTn>
                                        <p:tgtEl>
                                          <p:spTgt spid="169"/>
                                        </p:tgtEl>
                                        <p:attrNameLst>
                                          <p:attrName>style.visibility</p:attrName>
                                        </p:attrNameLst>
                                      </p:cBhvr>
                                      <p:to>
                                        <p:strVal val="visible"/>
                                      </p:to>
                                    </p:set>
                                    <p:animEffect filter="strips(downRight)" transition="in">
                                      <p:cBhvr additive="repl">
                                        <p:cTn id="330" dur="500"/>
                                        <p:tgtEl>
                                          <p:spTgt spid="169"/>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60"/>
                                        </p:tgtEl>
                                        <p:attrNameLst>
                                          <p:attrName>style.visibility</p:attrName>
                                        </p:attrNameLst>
                                      </p:cBhvr>
                                      <p:to>
                                        <p:strVal val="visible"/>
                                      </p:to>
                                    </p:set>
                                    <p:animEffect filter="wipe(left)" transition="in">
                                      <p:cBhvr additive="repl">
                                        <p:cTn id="335" dur="500"/>
                                        <p:tgtEl>
                                          <p:spTgt spid="160"/>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1">
                                  <p:stCondLst>
                                    <p:cond delay="0"/>
                                  </p:stCondLst>
                                  <p:childTnLst>
                                    <p:set>
                                      <p:cBhvr>
                                        <p:cTn id="339" dur="1" fill="hold">
                                          <p:stCondLst>
                                            <p:cond delay="0"/>
                                          </p:stCondLst>
                                        </p:cTn>
                                        <p:tgtEl>
                                          <p:spTgt spid="159"/>
                                        </p:tgtEl>
                                        <p:attrNameLst>
                                          <p:attrName>style.visibility</p:attrName>
                                        </p:attrNameLst>
                                      </p:cBhvr>
                                      <p:to>
                                        <p:strVal val="visible"/>
                                      </p:to>
                                    </p:set>
                                    <p:animEffect filter="wipe(up)" transition="in">
                                      <p:cBhvr additive="repl">
                                        <p:cTn id="340" dur="500"/>
                                        <p:tgtEl>
                                          <p:spTgt spid="159"/>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167"/>
                                        </p:tgtEl>
                                        <p:attrNameLst>
                                          <p:attrName>style.visibility</p:attrName>
                                        </p:attrNameLst>
                                      </p:cBhvr>
                                      <p:to>
                                        <p:strVal val="visible"/>
                                      </p:to>
                                    </p:set>
                                    <p:animEffect filter="wipe(up)" transition="in">
                                      <p:cBhvr additive="repl">
                                        <p:cTn id="345" dur="500"/>
                                        <p:tgtEl>
                                          <p:spTgt spid="16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161"/>
                                        </p:tgtEl>
                                        <p:attrNameLst>
                                          <p:attrName>style.visibility</p:attrName>
                                        </p:attrNameLst>
                                      </p:cBhvr>
                                      <p:to>
                                        <p:strVal val="visible"/>
                                      </p:to>
                                    </p:set>
                                    <p:animEffect filter="wipe(left)" transition="in">
                                      <p:cBhvr additive="repl">
                                        <p:cTn id="350" dur="500"/>
                                        <p:tgtEl>
                                          <p:spTgt spid="161"/>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162"/>
                                        </p:tgtEl>
                                        <p:attrNameLst>
                                          <p:attrName>style.visibility</p:attrName>
                                        </p:attrNameLst>
                                      </p:cBhvr>
                                      <p:to>
                                        <p:strVal val="visible"/>
                                      </p:to>
                                    </p:set>
                                    <p:animEffect filter="wipe(left)" transition="in">
                                      <p:cBhvr additive="repl">
                                        <p:cTn id="355" dur="500"/>
                                        <p:tgtEl>
                                          <p:spTgt spid="162"/>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163"/>
                                        </p:tgtEl>
                                        <p:attrNameLst>
                                          <p:attrName>style.visibility</p:attrName>
                                        </p:attrNameLst>
                                      </p:cBhvr>
                                      <p:to>
                                        <p:strVal val="visible"/>
                                      </p:to>
                                    </p:set>
                                    <p:animEffect filter="wipe(left)" transition="in">
                                      <p:cBhvr additive="repl">
                                        <p:cTn id="360" dur="500"/>
                                        <p:tgtEl>
                                          <p:spTgt spid="163"/>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164"/>
                                        </p:tgtEl>
                                        <p:attrNameLst>
                                          <p:attrName>style.visibility</p:attrName>
                                        </p:attrNameLst>
                                      </p:cBhvr>
                                      <p:to>
                                        <p:strVal val="visible"/>
                                      </p:to>
                                    </p:set>
                                    <p:animEffect filter="wipe(up)" transition="in">
                                      <p:cBhvr additive="repl">
                                        <p:cTn id="365" dur="500"/>
                                        <p:tgtEl>
                                          <p:spTgt spid="164"/>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165"/>
                                        </p:tgtEl>
                                        <p:attrNameLst>
                                          <p:attrName>style.visibility</p:attrName>
                                        </p:attrNameLst>
                                      </p:cBhvr>
                                      <p:to>
                                        <p:strVal val="visible"/>
                                      </p:to>
                                    </p:set>
                                    <p:animEffect filter="wipe(up)" transition="in">
                                      <p:cBhvr additive="repl">
                                        <p:cTn id="370" dur="500"/>
                                        <p:tgtEl>
                                          <p:spTgt spid="165"/>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2" presetSubtype="1">
                                  <p:stCondLst>
                                    <p:cond delay="0"/>
                                  </p:stCondLst>
                                  <p:childTnLst>
                                    <p:set>
                                      <p:cBhvr>
                                        <p:cTn id="374" dur="1" fill="hold">
                                          <p:stCondLst>
                                            <p:cond delay="0"/>
                                          </p:stCondLst>
                                        </p:cTn>
                                        <p:tgtEl>
                                          <p:spTgt spid="166"/>
                                        </p:tgtEl>
                                        <p:attrNameLst>
                                          <p:attrName>style.visibility</p:attrName>
                                        </p:attrNameLst>
                                      </p:cBhvr>
                                      <p:to>
                                        <p:strVal val="visible"/>
                                      </p:to>
                                    </p:set>
                                    <p:animEffect filter="wipe(up)" transition="in">
                                      <p:cBhvr additive="repl">
                                        <p:cTn id="375" dur="500"/>
                                        <p:tgtEl>
                                          <p:spTgt spid="166"/>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53" presetSubtype="16">
                                  <p:stCondLst>
                                    <p:cond delay="0"/>
                                  </p:stCondLst>
                                  <p:childTnLst>
                                    <p:set>
                                      <p:cBhvr>
                                        <p:cTn id="379" dur="1" fill="hold">
                                          <p:stCondLst>
                                            <p:cond delay="0"/>
                                          </p:stCondLst>
                                        </p:cTn>
                                        <p:tgtEl>
                                          <p:spTgt spid="155"/>
                                        </p:tgtEl>
                                        <p:attrNameLst>
                                          <p:attrName>style.visibility</p:attrName>
                                        </p:attrNameLst>
                                      </p:cBhvr>
                                      <p:to>
                                        <p:strVal val="visible"/>
                                      </p:to>
                                    </p:set>
                                    <p:anim calcmode="lin" valueType="num">
                                      <p:cBhvr additive="repl">
                                        <p:cTn id="380" dur="500" fill="hold"/>
                                        <p:tgtEl>
                                          <p:spTgt spid="155"/>
                                        </p:tgtEl>
                                        <p:attrNameLst>
                                          <p:attrName>ppt_w</p:attrName>
                                        </p:attrNameLst>
                                      </p:cBhvr>
                                      <p:tavLst>
                                        <p:tav tm="0">
                                          <p:val>
                                            <p:fltVal val="0"/>
                                          </p:val>
                                        </p:tav>
                                        <p:tav tm="100000">
                                          <p:val>
                                            <p:strVal val="#ppt_w"/>
                                          </p:val>
                                        </p:tav>
                                      </p:tavLst>
                                    </p:anim>
                                    <p:anim calcmode="lin" valueType="num">
                                      <p:cBhvr additive="repl">
                                        <p:cTn id="381" dur="500" fill="hold"/>
                                        <p:tgtEl>
                                          <p:spTgt spid="155"/>
                                        </p:tgtEl>
                                        <p:attrNameLst>
                                          <p:attrName>ppt_h</p:attrName>
                                        </p:attrNameLst>
                                      </p:cBhvr>
                                      <p:tavLst>
                                        <p:tav tm="0">
                                          <p:val>
                                            <p:fltVal val="0"/>
                                          </p:val>
                                        </p:tav>
                                        <p:tav tm="100000">
                                          <p:val>
                                            <p:strVal val="#ppt_h"/>
                                          </p:val>
                                        </p:tav>
                                      </p:tavLst>
                                    </p:anim>
                                    <p:animEffect filter="fade" transition="in">
                                      <p:cBhvr additive="repl">
                                        <p:cTn id="38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24T02:31:12Z</dcterms:modified>
  <cp:revision>45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