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9.gif" ContentType="image/gif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DAAF-CD92-480D-A117-137959E7D3B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FDE8-D5D7-4BE5-AF63-E2A2FAECBA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7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48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6554880" y="577800"/>
            <a:ext cx="2193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四       线和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6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57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0" name="椭圆 40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1" name="椭圆 40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椭圆 41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64" name="椭圆 41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椭圆 42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67" name="椭圆 42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椭圆 43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0" name="椭圆 43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椭圆 44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73" name="椭圆 44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椭圆 45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76" name="椭圆 45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Box 3"/>
          <p:cNvSpPr/>
          <p:nvPr/>
        </p:nvSpPr>
        <p:spPr>
          <a:xfrm>
            <a:off x="-324000" y="1433520"/>
            <a:ext cx="8153640" cy="13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两点间的距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80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2"/>
          <p:cNvSpPr/>
          <p:nvPr/>
        </p:nvSpPr>
        <p:spPr>
          <a:xfrm>
            <a:off x="1233360" y="2836800"/>
            <a:ext cx="693900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两点之间的连线中线段最短的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我是小小设计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1"/>
          <p:cNvGrpSpPr/>
          <p:nvPr/>
        </p:nvGrpSpPr>
        <p:grpSpPr>
          <a:xfrm>
            <a:off x="512640" y="1104840"/>
            <a:ext cx="2835360" cy="668520"/>
            <a:chOff x="512640" y="1104840"/>
            <a:chExt cx="2835360" cy="668520"/>
          </a:xfrm>
        </p:grpSpPr>
        <p:sp>
          <p:nvSpPr>
            <p:cNvPr id="85" name="圆角矩形 6"/>
            <p:cNvSpPr/>
            <p:nvPr/>
          </p:nvSpPr>
          <p:spPr>
            <a:xfrm>
              <a:off x="1396800" y="12175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1da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9999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文本框 13"/>
            <p:cNvSpPr/>
            <p:nvPr/>
          </p:nvSpPr>
          <p:spPr>
            <a:xfrm>
              <a:off x="1422360" y="119952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12640" y="110484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TextBox 36"/>
          <p:cNvSpPr/>
          <p:nvPr/>
        </p:nvSpPr>
        <p:spPr>
          <a:xfrm>
            <a:off x="819000" y="1728720"/>
            <a:ext cx="749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人们在修高速公路时，如果遇到施工的前方有一座大山时，为什么要修一条笔直的隧道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3"/>
          <p:cNvSpPr/>
          <p:nvPr/>
        </p:nvSpPr>
        <p:spPr>
          <a:xfrm>
            <a:off x="974880" y="3141720"/>
            <a:ext cx="75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 algn="ctr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修隧道就需要开山，把山从中凿穿。这样两边的路与山体中的隧道才能连成一条直线，根据“两点之间线段最短”，因此是为了路途近而这样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7"/>
          <p:cNvSpPr/>
          <p:nvPr/>
        </p:nvSpPr>
        <p:spPr>
          <a:xfrm>
            <a:off x="1457280" y="3749760"/>
            <a:ext cx="672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将绳子拉直来量才能真实地反映这个同学扔铅球的成绩。否则绳子弯了，长度也会增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6"/>
          <p:cNvSpPr/>
          <p:nvPr/>
        </p:nvSpPr>
        <p:spPr>
          <a:xfrm>
            <a:off x="819000" y="1728720"/>
            <a:ext cx="749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体育老师在测量某个同学扔铅球的成绩时，为什么要从起点开始拉直绳子到终点，再测量这段绳子的长度，就是该同学的成绩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4"/>
          <p:cNvSpPr/>
          <p:nvPr/>
        </p:nvSpPr>
        <p:spPr>
          <a:xfrm>
            <a:off x="1403280" y="4830840"/>
            <a:ext cx="64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将这两点连成笔直的线，就是李大娘所走的路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6"/>
          <p:cNvSpPr/>
          <p:nvPr/>
        </p:nvSpPr>
        <p:spPr>
          <a:xfrm>
            <a:off x="826920" y="1628640"/>
            <a:ext cx="74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李大娘经常要从家到村里的一口井里去打水。为了节约时间，请你给李大娘设计一条打水路线，使李大娘走的路最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3" descr=""/>
          <p:cNvPicPr/>
          <p:nvPr/>
        </p:nvPicPr>
        <p:blipFill>
          <a:blip r:embed="rId1"/>
          <a:stretch/>
        </p:blipFill>
        <p:spPr>
          <a:xfrm>
            <a:off x="4049640" y="3006720"/>
            <a:ext cx="388296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36"/>
          <p:cNvSpPr/>
          <p:nvPr/>
        </p:nvSpPr>
        <p:spPr>
          <a:xfrm>
            <a:off x="819000" y="1728720"/>
            <a:ext cx="74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从贝贝家到小华家有三条路，其中有一条笔直的路；从小华家到学校又有三条路，也有一条直路。星期一的早晨，贝贝想去邀小华一同去上学，他应该怎样走，才能使所走的路程最短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9"/>
          <p:cNvSpPr/>
          <p:nvPr/>
        </p:nvSpPr>
        <p:spPr>
          <a:xfrm>
            <a:off x="1393920" y="4149720"/>
            <a:ext cx="65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贝贝从家出发，沿直路到小华家去邀小华上学，然后两人又从小华家沿直路去学校上学，这样走的路程就是最短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1"/>
          <p:cNvGrpSpPr/>
          <p:nvPr/>
        </p:nvGrpSpPr>
        <p:grpSpPr>
          <a:xfrm>
            <a:off x="512640" y="1104840"/>
            <a:ext cx="2835360" cy="668520"/>
            <a:chOff x="512640" y="1104840"/>
            <a:chExt cx="2835360" cy="668520"/>
          </a:xfrm>
        </p:grpSpPr>
        <p:sp>
          <p:nvSpPr>
            <p:cNvPr id="98" name="圆角矩形 12"/>
            <p:cNvSpPr/>
            <p:nvPr/>
          </p:nvSpPr>
          <p:spPr>
            <a:xfrm>
              <a:off x="1396800" y="12175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1da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9999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文本框 13"/>
            <p:cNvSpPr/>
            <p:nvPr/>
          </p:nvSpPr>
          <p:spPr>
            <a:xfrm>
              <a:off x="1422360" y="119952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12640" y="1104840"/>
              <a:ext cx="1087560" cy="668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05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107" name="矩形 3"/>
          <p:cNvSpPr/>
          <p:nvPr/>
        </p:nvSpPr>
        <p:spPr>
          <a:xfrm>
            <a:off x="7029360" y="65530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矩形 12" descr=""/>
          <p:cNvPicPr/>
          <p:nvPr/>
        </p:nvPicPr>
        <p:blipFill>
          <a:blip r:embed="rId5"/>
          <a:stretch/>
        </p:blipFill>
        <p:spPr>
          <a:xfrm>
            <a:off x="1468440" y="1328760"/>
            <a:ext cx="6207120" cy="181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17-11-12T13:51:16Z</dcterms:modified>
  <cp:revision>3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