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7BAD-8C0E-457A-8C54-B6529858A91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F221-ABCF-453E-9645-19662C9855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554880" y="577800"/>
            <a:ext cx="2193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四       线和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-324000" y="1433520"/>
            <a:ext cx="815364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角及角的度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6"/>
          <p:cNvSpPr/>
          <p:nvPr/>
        </p:nvSpPr>
        <p:spPr>
          <a:xfrm>
            <a:off x="819000" y="1728720"/>
            <a:ext cx="749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数一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                        （　　）条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　                           （　　）条线段 （　　）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　                           （　　）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4457880" y="239724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42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2031840" y="2205000"/>
            <a:ext cx="2032200" cy="121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1986120" y="3666960"/>
            <a:ext cx="1938240" cy="1109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4"/>
          <a:stretch/>
        </p:blipFill>
        <p:spPr>
          <a:xfrm>
            <a:off x="2122560" y="4954680"/>
            <a:ext cx="1665360" cy="1382760"/>
          </a:xfrm>
          <a:prstGeom prst="rect">
            <a:avLst/>
          </a:prstGeom>
          <a:ln w="0">
            <a:noFill/>
          </a:ln>
        </p:spPr>
      </p:pic>
      <p:sp>
        <p:nvSpPr>
          <p:cNvPr id="148" name="矩形 11"/>
          <p:cNvSpPr/>
          <p:nvPr/>
        </p:nvSpPr>
        <p:spPr>
          <a:xfrm>
            <a:off x="4452840" y="40482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691320" y="40482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452840" y="56610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5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57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233360" y="2421000"/>
            <a:ext cx="693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探究决定角的大小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测量角的度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探究图形各角的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钟表上角的度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三角尺拼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1187280" y="1728720"/>
            <a:ext cx="7493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测量我发现：角的大小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测量我发现：角的大小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3"/>
          <p:cNvSpPr/>
          <p:nvPr/>
        </p:nvSpPr>
        <p:spPr>
          <a:xfrm>
            <a:off x="2259000" y="2413080"/>
            <a:ext cx="5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1341360" y="1666800"/>
            <a:ext cx="4238640" cy="79056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5067360" y="2405160"/>
            <a:ext cx="5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2205000" y="355752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边的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87280" y="4398840"/>
            <a:ext cx="4743720" cy="857520"/>
          </a:xfrm>
          <a:prstGeom prst="rect">
            <a:avLst/>
          </a:prstGeom>
          <a:ln w="0">
            <a:noFill/>
          </a:ln>
        </p:spPr>
      </p:pic>
      <p:sp>
        <p:nvSpPr>
          <p:cNvPr id="94" name="矩形 12"/>
          <p:cNvSpPr/>
          <p:nvPr/>
        </p:nvSpPr>
        <p:spPr>
          <a:xfrm>
            <a:off x="2274840" y="4076640"/>
            <a:ext cx="5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4970520" y="404820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2322360" y="5748480"/>
            <a:ext cx="28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两边张开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563840" y="3789360"/>
            <a:ext cx="5887800" cy="1658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6"/>
          <p:cNvSpPr/>
          <p:nvPr/>
        </p:nvSpPr>
        <p:spPr>
          <a:xfrm>
            <a:off x="819000" y="1728720"/>
            <a:ext cx="67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放大镜去看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，角的度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量出下面各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2027160" y="4770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4284720" y="4756320"/>
            <a:ext cx="6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435720" y="475632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1835280" y="2417760"/>
            <a:ext cx="5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365120" y="1784520"/>
            <a:ext cx="2927520" cy="31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732200" y="1773360"/>
            <a:ext cx="2662200" cy="3179520"/>
          </a:xfrm>
          <a:prstGeom prst="rect">
            <a:avLst/>
          </a:prstGeom>
          <a:ln w="0">
            <a:noFill/>
          </a:ln>
        </p:spPr>
      </p:pic>
      <p:sp>
        <p:nvSpPr>
          <p:cNvPr id="105" name="矩形 4"/>
          <p:cNvSpPr/>
          <p:nvPr/>
        </p:nvSpPr>
        <p:spPr>
          <a:xfrm>
            <a:off x="2755800" y="34290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2741760" y="390384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2741760" y="436572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6012000" y="342900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0"/>
          <p:cNvSpPr/>
          <p:nvPr/>
        </p:nvSpPr>
        <p:spPr>
          <a:xfrm>
            <a:off x="6014880" y="39178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1"/>
          <p:cNvSpPr/>
          <p:nvPr/>
        </p:nvSpPr>
        <p:spPr>
          <a:xfrm>
            <a:off x="6014880" y="44100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6"/>
          <p:cNvSpPr/>
          <p:nvPr/>
        </p:nvSpPr>
        <p:spPr>
          <a:xfrm>
            <a:off x="819000" y="1728720"/>
            <a:ext cx="67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先估一估，再量一量各个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106640" y="2894040"/>
            <a:ext cx="64148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6"/>
          <p:cNvSpPr/>
          <p:nvPr/>
        </p:nvSpPr>
        <p:spPr>
          <a:xfrm>
            <a:off x="1069920" y="1728720"/>
            <a:ext cx="807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量得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∠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两条直线相交成四个角，相邻两个角的度数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，相对两个角的度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量得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三角形三个角的度数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3908520" y="1844640"/>
            <a:ext cx="9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5738760" y="1860480"/>
            <a:ext cx="9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7653240" y="1844640"/>
            <a:ext cx="9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2195640" y="2421000"/>
            <a:ext cx="9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1619280" y="350028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5667480" y="352728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3908520" y="4076640"/>
            <a:ext cx="9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5781600" y="407664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7667640" y="407664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5910120" y="462276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6"/>
          <p:cNvSpPr/>
          <p:nvPr/>
        </p:nvSpPr>
        <p:spPr>
          <a:xfrm>
            <a:off x="819000" y="1728720"/>
            <a:ext cx="67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365120" y="1916280"/>
            <a:ext cx="6413760" cy="24094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7"/>
          <p:cNvSpPr/>
          <p:nvPr/>
        </p:nvSpPr>
        <p:spPr>
          <a:xfrm>
            <a:off x="1332000" y="3255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8"/>
          <p:cNvSpPr/>
          <p:nvPr/>
        </p:nvSpPr>
        <p:spPr>
          <a:xfrm>
            <a:off x="1332000" y="37893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9"/>
          <p:cNvSpPr/>
          <p:nvPr/>
        </p:nvSpPr>
        <p:spPr>
          <a:xfrm>
            <a:off x="2987640" y="3255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0"/>
          <p:cNvSpPr/>
          <p:nvPr/>
        </p:nvSpPr>
        <p:spPr>
          <a:xfrm>
            <a:off x="2987640" y="37893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1"/>
          <p:cNvSpPr/>
          <p:nvPr/>
        </p:nvSpPr>
        <p:spPr>
          <a:xfrm>
            <a:off x="4649760" y="3255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2"/>
          <p:cNvSpPr/>
          <p:nvPr/>
        </p:nvSpPr>
        <p:spPr>
          <a:xfrm>
            <a:off x="4643280" y="3789360"/>
            <a:ext cx="7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3"/>
          <p:cNvSpPr/>
          <p:nvPr/>
        </p:nvSpPr>
        <p:spPr>
          <a:xfrm>
            <a:off x="6345360" y="32558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4"/>
          <p:cNvSpPr/>
          <p:nvPr/>
        </p:nvSpPr>
        <p:spPr>
          <a:xfrm>
            <a:off x="6346800" y="37735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6"/>
          <p:cNvSpPr/>
          <p:nvPr/>
        </p:nvSpPr>
        <p:spPr>
          <a:xfrm>
            <a:off x="819000" y="1728720"/>
            <a:ext cx="67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是用一副三角尺拼成的一些角，先猜一猜拼成的角的度数，再用量角器量一量验证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1938240" y="48099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3851280" y="47959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27200" y="3595680"/>
            <a:ext cx="5889600" cy="1704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13"/>
          <p:cNvSpPr/>
          <p:nvPr/>
        </p:nvSpPr>
        <p:spPr>
          <a:xfrm>
            <a:off x="6100920" y="48117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3:55:56Z</dcterms:modified>
  <cp:revision>3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