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28.gif" ContentType="image/gif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15C0D-4991-4C9F-82FF-9AB0C237D7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79F5B-A3B9-4A11-B3A1-923F1D9295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30D21-B6B1-4D97-97EE-1CE094B7C58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24F18-CF14-419F-AC61-B101F87D94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8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角的分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716880" y="503280"/>
            <a:ext cx="1931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四    线和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7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矩形 7"/>
          <p:cNvSpPr/>
          <p:nvPr/>
        </p:nvSpPr>
        <p:spPr>
          <a:xfrm>
            <a:off x="2549520" y="26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6"/>
          <p:cNvSpPr/>
          <p:nvPr/>
        </p:nvSpPr>
        <p:spPr>
          <a:xfrm>
            <a:off x="819000" y="1944720"/>
            <a:ext cx="78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平角分成两个角，其中一个是锐角，则另外一个角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形的四个角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，它们的和正好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4363920" y="321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1608120" y="376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863640" y="256536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640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之间的关系口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640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周二平四直角，关系密切不得了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640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钝角介于直平间，锐角不大比直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6"/>
          <p:cNvSpPr/>
          <p:nvPr/>
        </p:nvSpPr>
        <p:spPr>
          <a:xfrm>
            <a:off x="1116000" y="1947960"/>
            <a:ext cx="64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下面的角按从小到大的顺序排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角    钝角   平角    锐角    周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&lt;(          )&lt;(          )&lt;(          )&lt;(    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687320" y="318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锐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286200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4008960" y="32004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角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511920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6286320" y="3087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组合 7"/>
          <p:cNvGrpSpPr/>
          <p:nvPr/>
        </p:nvGrpSpPr>
        <p:grpSpPr>
          <a:xfrm>
            <a:off x="957240" y="1062720"/>
            <a:ext cx="5364360" cy="733680"/>
            <a:chOff x="957240" y="1062720"/>
            <a:chExt cx="5364360" cy="733680"/>
          </a:xfrm>
        </p:grpSpPr>
        <p:pic>
          <p:nvPicPr>
            <p:cNvPr id="18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3"/>
            <p:cNvSpPr/>
            <p:nvPr/>
          </p:nvSpPr>
          <p:spPr>
            <a:xfrm>
              <a:off x="1279440" y="1062720"/>
              <a:ext cx="5042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4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6"/>
          <p:cNvSpPr/>
          <p:nvPr/>
        </p:nvSpPr>
        <p:spPr>
          <a:xfrm>
            <a:off x="843120" y="1539720"/>
            <a:ext cx="66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下图中，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7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2320" y="2778120"/>
            <a:ext cx="7523280" cy="2298600"/>
          </a:xfrm>
          <a:prstGeom prst="rect">
            <a:avLst/>
          </a:prstGeom>
          <a:ln w="0">
            <a:noFill/>
          </a:ln>
        </p:spPr>
      </p:pic>
      <p:sp>
        <p:nvSpPr>
          <p:cNvPr id="193" name="矩形 1"/>
          <p:cNvSpPr/>
          <p:nvPr/>
        </p:nvSpPr>
        <p:spPr>
          <a:xfrm>
            <a:off x="4216320" y="529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2316960" y="456084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4804200" y="45464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7176600" y="443088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6"/>
          <p:cNvSpPr/>
          <p:nvPr/>
        </p:nvSpPr>
        <p:spPr>
          <a:xfrm>
            <a:off x="843120" y="1539720"/>
            <a:ext cx="66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要求在钟面上画时针和分针，量出时针和分针组成的角的 度数，并读出钟面上的时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15920" y="2886120"/>
            <a:ext cx="6804000" cy="1946160"/>
          </a:xfrm>
          <a:prstGeom prst="rect">
            <a:avLst/>
          </a:prstGeom>
          <a:ln w="0">
            <a:noFill/>
          </a:ln>
        </p:spPr>
      </p:pic>
      <p:sp>
        <p:nvSpPr>
          <p:cNvPr id="199" name="矩形 6"/>
          <p:cNvSpPr/>
          <p:nvPr/>
        </p:nvSpPr>
        <p:spPr>
          <a:xfrm>
            <a:off x="3684600" y="5070600"/>
            <a:ext cx="7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0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TextBox 36"/>
          <p:cNvSpPr/>
          <p:nvPr/>
        </p:nvSpPr>
        <p:spPr>
          <a:xfrm>
            <a:off x="819000" y="177336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是钝角。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平角是一条直线，周角是一条射线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573680" y="1933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7531560" y="35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2158920" y="4508640"/>
            <a:ext cx="51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清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角、平角、周角的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1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13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3915360" y="1415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谜    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5603040" y="461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一生活用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5738040" y="3427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夏季摇来乐陶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2401560" y="3435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动无风动有风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081040" y="27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风不动无风动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980440" y="2705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东西手中握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914400" y="1947960"/>
            <a:ext cx="6237360" cy="7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316160" y="2666880"/>
            <a:ext cx="6954840" cy="108432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"/>
          <p:cNvGrpSpPr/>
          <p:nvPr/>
        </p:nvGrpSpPr>
        <p:grpSpPr>
          <a:xfrm>
            <a:off x="1125360" y="3819600"/>
            <a:ext cx="3628800" cy="780840"/>
            <a:chOff x="1125360" y="3819600"/>
            <a:chExt cx="3628800" cy="780840"/>
          </a:xfrm>
        </p:grpSpPr>
        <p:pic>
          <p:nvPicPr>
            <p:cNvPr id="96" name="Picture 8" descr=""/>
            <p:cNvPicPr/>
            <p:nvPr/>
          </p:nvPicPr>
          <p:blipFill>
            <a:blip r:embed="rId3"/>
            <a:stretch/>
          </p:blipFill>
          <p:spPr>
            <a:xfrm>
              <a:off x="1125360" y="3819600"/>
              <a:ext cx="14450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1"/>
            <p:cNvSpPr/>
            <p:nvPr/>
          </p:nvSpPr>
          <p:spPr>
            <a:xfrm>
              <a:off x="3110400" y="41389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折成的是什么角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3"/>
          <p:cNvGrpSpPr/>
          <p:nvPr/>
        </p:nvGrpSpPr>
        <p:grpSpPr>
          <a:xfrm>
            <a:off x="5581800" y="4044960"/>
            <a:ext cx="2568600" cy="1111320"/>
            <a:chOff x="5581800" y="4044960"/>
            <a:chExt cx="2568600" cy="1111320"/>
          </a:xfrm>
        </p:grpSpPr>
        <p:pic>
          <p:nvPicPr>
            <p:cNvPr id="99" name="Picture 9" descr=""/>
            <p:cNvPicPr/>
            <p:nvPr/>
          </p:nvPicPr>
          <p:blipFill>
            <a:blip r:embed="rId4"/>
            <a:stretch/>
          </p:blipFill>
          <p:spPr>
            <a:xfrm>
              <a:off x="5581800" y="4284720"/>
              <a:ext cx="18194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"/>
            <p:cNvPicPr/>
            <p:nvPr/>
          </p:nvPicPr>
          <p:blipFill>
            <a:blip r:embed="rId5"/>
            <a:stretch/>
          </p:blipFill>
          <p:spPr>
            <a:xfrm>
              <a:off x="7401240" y="4044960"/>
              <a:ext cx="749160" cy="11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7"/>
          <p:cNvGrpSpPr/>
          <p:nvPr/>
        </p:nvGrpSpPr>
        <p:grpSpPr>
          <a:xfrm>
            <a:off x="1847880" y="4871880"/>
            <a:ext cx="5303880" cy="1343160"/>
            <a:chOff x="1847880" y="4871880"/>
            <a:chExt cx="5303880" cy="1343160"/>
          </a:xfrm>
        </p:grpSpPr>
        <p:grpSp>
          <p:nvGrpSpPr>
            <p:cNvPr id="102" name="组合 5"/>
            <p:cNvGrpSpPr/>
            <p:nvPr/>
          </p:nvGrpSpPr>
          <p:grpSpPr>
            <a:xfrm>
              <a:off x="4379040" y="5219280"/>
              <a:ext cx="2772720" cy="995760"/>
              <a:chOff x="4379040" y="5219280"/>
              <a:chExt cx="2772720" cy="995760"/>
            </a:xfrm>
          </p:grpSpPr>
          <p:pic>
            <p:nvPicPr>
              <p:cNvPr id="103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4379040" y="5219280"/>
                <a:ext cx="2057760" cy="93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6475320" y="5328720"/>
                <a:ext cx="676440" cy="886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组合 6"/>
            <p:cNvGrpSpPr/>
            <p:nvPr/>
          </p:nvGrpSpPr>
          <p:grpSpPr>
            <a:xfrm>
              <a:off x="1847880" y="4871880"/>
              <a:ext cx="2534040" cy="972000"/>
              <a:chOff x="1847880" y="4871880"/>
              <a:chExt cx="2534040" cy="972000"/>
            </a:xfrm>
          </p:grpSpPr>
          <p:pic>
            <p:nvPicPr>
              <p:cNvPr id="106" name="Pictur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1847880" y="4903200"/>
                <a:ext cx="657360" cy="84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5240" y="4871880"/>
                <a:ext cx="1876680" cy="97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8" name="组合 1"/>
          <p:cNvGrpSpPr/>
          <p:nvPr/>
        </p:nvGrpSpPr>
        <p:grpSpPr>
          <a:xfrm>
            <a:off x="479520" y="1000080"/>
            <a:ext cx="5653080" cy="666720"/>
            <a:chOff x="479520" y="1000080"/>
            <a:chExt cx="5653080" cy="666720"/>
          </a:xfrm>
        </p:grpSpPr>
        <p:sp>
          <p:nvSpPr>
            <p:cNvPr id="109" name="文本框 13"/>
            <p:cNvSpPr/>
            <p:nvPr/>
          </p:nvSpPr>
          <p:spPr>
            <a:xfrm>
              <a:off x="1637640" y="1071360"/>
              <a:ext cx="449496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平角和周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0"/>
            <a:stretch/>
          </p:blipFill>
          <p:spPr>
            <a:xfrm>
              <a:off x="47952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391400" y="142092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刚才折成直角的纸打开（如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），两个直角组成一个新的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3878640" y="25131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的两条边在一条直线上，这样的角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66400" y="3613320"/>
            <a:ext cx="27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再打开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直角又组成一个新的角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角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6121440" y="1515960"/>
            <a:ext cx="2514600" cy="784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2"/>
          <a:stretch/>
        </p:blipFill>
        <p:spPr>
          <a:xfrm>
            <a:off x="6386400" y="4125960"/>
            <a:ext cx="19843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1090440" y="1424160"/>
            <a:ext cx="2822760" cy="100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1787400" y="2443320"/>
            <a:ext cx="2384640" cy="82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1719360" y="3571920"/>
            <a:ext cx="2859120" cy="57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5910120" y="2262240"/>
            <a:ext cx="15177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5"/>
          <a:stretch/>
        </p:blipFill>
        <p:spPr>
          <a:xfrm>
            <a:off x="6046920" y="3584520"/>
            <a:ext cx="1689120" cy="7923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2"/>
          <p:cNvGrpSpPr/>
          <p:nvPr/>
        </p:nvGrpSpPr>
        <p:grpSpPr>
          <a:xfrm>
            <a:off x="603360" y="4530600"/>
            <a:ext cx="5403240" cy="1168200"/>
            <a:chOff x="603360" y="4530600"/>
            <a:chExt cx="5403240" cy="1168200"/>
          </a:xfrm>
        </p:grpSpPr>
        <p:pic>
          <p:nvPicPr>
            <p:cNvPr id="125" name="Picture 13" descr=""/>
            <p:cNvPicPr/>
            <p:nvPr/>
          </p:nvPicPr>
          <p:blipFill>
            <a:blip r:embed="rId6"/>
            <a:stretch/>
          </p:blipFill>
          <p:spPr>
            <a:xfrm>
              <a:off x="603360" y="4530600"/>
              <a:ext cx="1487160" cy="8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4728600" y="487332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直角、平角、周角各是多少度的角？它们之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什么关系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3"/>
          <p:cNvGrpSpPr/>
          <p:nvPr/>
        </p:nvGrpSpPr>
        <p:grpSpPr>
          <a:xfrm>
            <a:off x="442800" y="2093760"/>
            <a:ext cx="5536080" cy="928440"/>
            <a:chOff x="442800" y="2093760"/>
            <a:chExt cx="5536080" cy="928440"/>
          </a:xfrm>
        </p:grpSpPr>
        <p:pic>
          <p:nvPicPr>
            <p:cNvPr id="130" name="Picture 11" descr=""/>
            <p:cNvPicPr/>
            <p:nvPr/>
          </p:nvPicPr>
          <p:blipFill>
            <a:blip r:embed="rId1"/>
            <a:stretch/>
          </p:blipFill>
          <p:spPr>
            <a:xfrm>
              <a:off x="442800" y="2093760"/>
              <a:ext cx="1658880" cy="9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2"/>
            <p:cNvSpPr/>
            <p:nvPr/>
          </p:nvSpPr>
          <p:spPr>
            <a:xfrm>
              <a:off x="5196240" y="25624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一个活动角，边操作边观察，说说各是什么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4"/>
          <p:cNvSpPr/>
          <p:nvPr/>
        </p:nvSpPr>
        <p:spPr>
          <a:xfrm>
            <a:off x="2446200" y="4857840"/>
            <a:ext cx="47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锐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1"/>
          <p:cNvGrpSpPr/>
          <p:nvPr/>
        </p:nvGrpSpPr>
        <p:grpSpPr>
          <a:xfrm>
            <a:off x="479520" y="1000080"/>
            <a:ext cx="5959440" cy="666720"/>
            <a:chOff x="479520" y="1000080"/>
            <a:chExt cx="5959440" cy="666720"/>
          </a:xfrm>
        </p:grpSpPr>
        <p:sp>
          <p:nvSpPr>
            <p:cNvPr id="134" name="文本框 13"/>
            <p:cNvSpPr/>
            <p:nvPr/>
          </p:nvSpPr>
          <p:spPr>
            <a:xfrm>
              <a:off x="1637640" y="1071360"/>
              <a:ext cx="480132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锐角和钝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7952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1" descr=""/>
          <p:cNvPicPr/>
          <p:nvPr/>
        </p:nvPicPr>
        <p:blipFill>
          <a:blip r:embed="rId3"/>
          <a:stretch/>
        </p:blipFill>
        <p:spPr>
          <a:xfrm>
            <a:off x="1176480" y="3730680"/>
            <a:ext cx="72360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4"/>
          <a:stretch/>
        </p:blipFill>
        <p:spPr>
          <a:xfrm>
            <a:off x="2727360" y="354960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5"/>
          <a:stretch/>
        </p:blipFill>
        <p:spPr>
          <a:xfrm>
            <a:off x="4140360" y="3676680"/>
            <a:ext cx="876240" cy="53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6"/>
          <a:stretch/>
        </p:blipFill>
        <p:spPr>
          <a:xfrm>
            <a:off x="6012000" y="3978360"/>
            <a:ext cx="1123920" cy="199800"/>
          </a:xfrm>
          <a:prstGeom prst="rect">
            <a:avLst/>
          </a:prstGeom>
          <a:ln w="0">
            <a:noFill/>
          </a:ln>
        </p:spPr>
      </p:pic>
      <p:sp>
        <p:nvSpPr>
          <p:cNvPr id="140" name="右箭头 1"/>
          <p:cNvSpPr/>
          <p:nvPr/>
        </p:nvSpPr>
        <p:spPr>
          <a:xfrm>
            <a:off x="2052720" y="3911760"/>
            <a:ext cx="384120" cy="1746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右箭头 2"/>
          <p:cNvSpPr/>
          <p:nvPr/>
        </p:nvSpPr>
        <p:spPr>
          <a:xfrm>
            <a:off x="3546360" y="3887640"/>
            <a:ext cx="492120" cy="190800"/>
          </a:xfrm>
          <a:prstGeom prst="rightArrow">
            <a:avLst>
              <a:gd name="adj1" fmla="val 50000"/>
              <a:gd name="adj2" fmla="val 4992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右箭头 5"/>
          <p:cNvSpPr/>
          <p:nvPr/>
        </p:nvSpPr>
        <p:spPr>
          <a:xfrm>
            <a:off x="5329080" y="3887640"/>
            <a:ext cx="457200" cy="190800"/>
          </a:xfrm>
          <a:prstGeom prst="right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Box 36"/>
          <p:cNvSpPr/>
          <p:nvPr/>
        </p:nvSpPr>
        <p:spPr>
          <a:xfrm>
            <a:off x="819000" y="1944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条射线绕着它的端点旋转半周，形成的角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条射线绕着它的端点旋转一周，形成的角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角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角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角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1541160" y="320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1576080" y="429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7"/>
          <p:cNvSpPr/>
          <p:nvPr/>
        </p:nvSpPr>
        <p:spPr>
          <a:xfrm>
            <a:off x="2622600" y="484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8"/>
          <p:cNvSpPr/>
          <p:nvPr/>
        </p:nvSpPr>
        <p:spPr>
          <a:xfrm>
            <a:off x="5052240" y="4842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9"/>
          <p:cNvSpPr/>
          <p:nvPr/>
        </p:nvSpPr>
        <p:spPr>
          <a:xfrm>
            <a:off x="2507400" y="538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36"/>
          <p:cNvSpPr/>
          <p:nvPr/>
        </p:nvSpPr>
        <p:spPr>
          <a:xfrm>
            <a:off x="819000" y="1944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，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三角尺上都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直角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锐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8"/>
          <p:cNvSpPr/>
          <p:nvPr/>
        </p:nvSpPr>
        <p:spPr>
          <a:xfrm>
            <a:off x="4055040" y="211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85264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4104720" y="32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619380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6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36"/>
          <p:cNvSpPr/>
          <p:nvPr/>
        </p:nvSpPr>
        <p:spPr>
          <a:xfrm>
            <a:off x="1060560" y="1914480"/>
            <a:ext cx="785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角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角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角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平角、直角、锐角、钝角、周角按从大到小的顺序排列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2702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27028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4465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1660320" y="484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1"/>
          <p:cNvSpPr/>
          <p:nvPr/>
        </p:nvSpPr>
        <p:spPr>
          <a:xfrm>
            <a:off x="3099960" y="485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458136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钝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3"/>
          <p:cNvSpPr/>
          <p:nvPr/>
        </p:nvSpPr>
        <p:spPr>
          <a:xfrm>
            <a:off x="603684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4"/>
          <p:cNvSpPr/>
          <p:nvPr/>
        </p:nvSpPr>
        <p:spPr>
          <a:xfrm>
            <a:off x="750852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锐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3:58:14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