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6B932-A009-4261-871E-E8EC7CF4A99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480EC-5A91-4391-B7E8-3D146699D1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倍数的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180120" y="503280"/>
            <a:ext cx="2467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五    倍数和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6"/>
          <p:cNvSpPr/>
          <p:nvPr/>
        </p:nvSpPr>
        <p:spPr>
          <a:xfrm>
            <a:off x="1523880" y="2752560"/>
            <a:ext cx="58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62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的特征：一个数各个数位上的数字之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，这个数就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6"/>
          <p:cNvSpPr/>
          <p:nvPr/>
        </p:nvSpPr>
        <p:spPr>
          <a:xfrm>
            <a:off x="3606120" y="176364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说一说求出的车轮数有什么特征，再填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7"/>
          <p:cNvGrpSpPr/>
          <p:nvPr/>
        </p:nvGrpSpPr>
        <p:grpSpPr>
          <a:xfrm>
            <a:off x="957240" y="1062720"/>
            <a:ext cx="5286240" cy="733680"/>
            <a:chOff x="957240" y="1062720"/>
            <a:chExt cx="5286240" cy="733680"/>
          </a:xfrm>
        </p:grpSpPr>
        <p:pic>
          <p:nvPicPr>
            <p:cNvPr id="19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文本框 23"/>
            <p:cNvSpPr/>
            <p:nvPr/>
          </p:nvSpPr>
          <p:spPr>
            <a:xfrm>
              <a:off x="1279440" y="1062720"/>
              <a:ext cx="4964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1106640" y="2517840"/>
            <a:ext cx="6967440" cy="1315800"/>
          </a:xfrm>
          <a:prstGeom prst="rect">
            <a:avLst/>
          </a:prstGeom>
          <a:ln w="0">
            <a:noFill/>
          </a:ln>
        </p:spPr>
      </p:pic>
      <p:sp>
        <p:nvSpPr>
          <p:cNvPr id="194" name="矩形 1"/>
          <p:cNvSpPr/>
          <p:nvPr/>
        </p:nvSpPr>
        <p:spPr>
          <a:xfrm>
            <a:off x="2732040" y="403236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求出的车轮数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7526160" y="30942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4331520" y="32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4722840" y="32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5203800" y="32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5672160" y="3213000"/>
            <a:ext cx="55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6137280" y="32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6617520" y="321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7086600" y="31035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6"/>
          <p:cNvSpPr/>
          <p:nvPr/>
        </p:nvSpPr>
        <p:spPr>
          <a:xfrm>
            <a:off x="1163520" y="1432080"/>
            <a:ext cx="595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面各数是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4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2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82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1562040" y="2732040"/>
            <a:ext cx="605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2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6"/>
          <p:cNvSpPr/>
          <p:nvPr/>
        </p:nvSpPr>
        <p:spPr>
          <a:xfrm>
            <a:off x="2438280" y="1432080"/>
            <a:ext cx="4276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要求在下面的方框里填上合适的数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27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4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有几种填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4395960" y="244800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4035600" y="3300480"/>
            <a:ext cx="12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3005280" y="4264200"/>
            <a:ext cx="40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种填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2357280" y="216360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2346480" y="2946240"/>
            <a:ext cx="4330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8"/>
          <p:cNvSpPr/>
          <p:nvPr/>
        </p:nvSpPr>
        <p:spPr>
          <a:xfrm>
            <a:off x="2192400" y="389556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6"/>
          <p:cNvSpPr/>
          <p:nvPr/>
        </p:nvSpPr>
        <p:spPr>
          <a:xfrm>
            <a:off x="1117080" y="1252440"/>
            <a:ext cx="70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每个方框里填上哪些数字，这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  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7"/>
          <p:cNvSpPr/>
          <p:nvPr/>
        </p:nvSpPr>
        <p:spPr>
          <a:xfrm>
            <a:off x="1758960" y="2370240"/>
            <a:ext cx="43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8"/>
          <p:cNvSpPr/>
          <p:nvPr/>
        </p:nvSpPr>
        <p:spPr>
          <a:xfrm>
            <a:off x="3054240" y="2382840"/>
            <a:ext cx="43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4597560" y="2357280"/>
            <a:ext cx="43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"/>
          <p:cNvSpPr/>
          <p:nvPr/>
        </p:nvSpPr>
        <p:spPr>
          <a:xfrm>
            <a:off x="5796000" y="2324160"/>
            <a:ext cx="43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1"/>
          <p:cNvSpPr/>
          <p:nvPr/>
        </p:nvSpPr>
        <p:spPr>
          <a:xfrm>
            <a:off x="6853320" y="2335320"/>
            <a:ext cx="43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1722600" y="1935000"/>
            <a:ext cx="43308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6804000" y="1935000"/>
            <a:ext cx="43200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5737320" y="1943280"/>
            <a:ext cx="43344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4549680" y="1924200"/>
            <a:ext cx="432000" cy="43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3017880" y="192708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2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TextBox 36"/>
          <p:cNvSpPr/>
          <p:nvPr/>
        </p:nvSpPr>
        <p:spPr>
          <a:xfrm>
            <a:off x="819000" y="1773360"/>
            <a:ext cx="720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数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一定不是偶数。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2370240" y="3898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掌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的特征，以及对偶数的认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1"/>
          <p:cNvSpPr/>
          <p:nvPr/>
        </p:nvSpPr>
        <p:spPr>
          <a:xfrm>
            <a:off x="7392600" y="2478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9"/>
          <p:cNvSpPr/>
          <p:nvPr/>
        </p:nvSpPr>
        <p:spPr>
          <a:xfrm>
            <a:off x="7408440" y="302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13" descr="数学游戏.png"/>
          <p:cNvPicPr/>
          <p:nvPr/>
        </p:nvPicPr>
        <p:blipFill>
          <a:blip r:embed="rId1"/>
          <a:stretch/>
        </p:blipFill>
        <p:spPr>
          <a:xfrm>
            <a:off x="3263760" y="173160"/>
            <a:ext cx="2627280" cy="610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6794640" y="1392120"/>
            <a:ext cx="1419120" cy="66852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1483920" y="5557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5"/>
          <p:cNvSpPr/>
          <p:nvPr/>
        </p:nvSpPr>
        <p:spPr>
          <a:xfrm>
            <a:off x="4101840" y="36655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，写出不同的两位数，并按数的特征整理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6"/>
          <p:cNvSpPr/>
          <p:nvPr/>
        </p:nvSpPr>
        <p:spPr>
          <a:xfrm>
            <a:off x="392040" y="195264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两颗骰子掷一次，可以得到两个点数，这两个点数可以组成一个或两个两位数。如，按上面骰子的点数可以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4061520" y="142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掷骰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24"/>
          <p:cNvGrpSpPr/>
          <p:nvPr/>
        </p:nvGrpSpPr>
        <p:grpSpPr>
          <a:xfrm>
            <a:off x="1303920" y="4154400"/>
            <a:ext cx="5490720" cy="459720"/>
            <a:chOff x="1303920" y="4154400"/>
            <a:chExt cx="5490720" cy="459720"/>
          </a:xfrm>
        </p:grpSpPr>
        <p:sp>
          <p:nvSpPr>
            <p:cNvPr id="238" name="矩形 4"/>
            <p:cNvSpPr/>
            <p:nvPr/>
          </p:nvSpPr>
          <p:spPr>
            <a:xfrm>
              <a:off x="1303920" y="4154400"/>
              <a:ext cx="258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有：      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直接连接符 9"/>
            <p:cNvSpPr/>
            <p:nvPr/>
          </p:nvSpPr>
          <p:spPr>
            <a:xfrm>
              <a:off x="2698560" y="4568760"/>
              <a:ext cx="409608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5"/>
          <p:cNvGrpSpPr/>
          <p:nvPr/>
        </p:nvGrpSpPr>
        <p:grpSpPr>
          <a:xfrm>
            <a:off x="1320480" y="4616280"/>
            <a:ext cx="5474160" cy="459720"/>
            <a:chOff x="1320480" y="4616280"/>
            <a:chExt cx="5474160" cy="459720"/>
          </a:xfrm>
        </p:grpSpPr>
        <p:sp>
          <p:nvSpPr>
            <p:cNvPr id="241" name="矩形 3"/>
            <p:cNvSpPr/>
            <p:nvPr/>
          </p:nvSpPr>
          <p:spPr>
            <a:xfrm>
              <a:off x="1320480" y="4616280"/>
              <a:ext cx="13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有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直接连接符 21"/>
            <p:cNvSpPr/>
            <p:nvPr/>
          </p:nvSpPr>
          <p:spPr>
            <a:xfrm>
              <a:off x="2698560" y="5043600"/>
              <a:ext cx="409608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26"/>
          <p:cNvGrpSpPr/>
          <p:nvPr/>
        </p:nvGrpSpPr>
        <p:grpSpPr>
          <a:xfrm>
            <a:off x="1050840" y="5041800"/>
            <a:ext cx="5743800" cy="462240"/>
            <a:chOff x="1050840" y="5041800"/>
            <a:chExt cx="5743800" cy="462240"/>
          </a:xfrm>
        </p:grpSpPr>
        <p:sp>
          <p:nvSpPr>
            <p:cNvPr id="244" name="矩形 2"/>
            <p:cNvSpPr/>
            <p:nvPr/>
          </p:nvSpPr>
          <p:spPr>
            <a:xfrm>
              <a:off x="1050840" y="5041800"/>
              <a:ext cx="179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有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23"/>
            <p:cNvSpPr/>
            <p:nvPr/>
          </p:nvSpPr>
          <p:spPr>
            <a:xfrm>
              <a:off x="2698560" y="5504040"/>
              <a:ext cx="409608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51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763560" y="1725480"/>
            <a:ext cx="45910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矩形 1"/>
          <p:cNvSpPr/>
          <p:nvPr/>
        </p:nvSpPr>
        <p:spPr>
          <a:xfrm>
            <a:off x="5103720" y="244152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鸡蛋，能平均分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小朋友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1"/>
          <p:cNvGrpSpPr/>
          <p:nvPr/>
        </p:nvGrpSpPr>
        <p:grpSpPr>
          <a:xfrm>
            <a:off x="961920" y="1508040"/>
            <a:ext cx="2745720" cy="635040"/>
            <a:chOff x="961920" y="1508040"/>
            <a:chExt cx="2745720" cy="635040"/>
          </a:xfrm>
        </p:grpSpPr>
        <p:pic>
          <p:nvPicPr>
            <p:cNvPr id="85" name="图片 34" descr="QQ截图20170213223835.png"/>
            <p:cNvPicPr/>
            <p:nvPr/>
          </p:nvPicPr>
          <p:blipFill>
            <a:blip r:embed="rId1"/>
            <a:stretch/>
          </p:blipFill>
          <p:spPr>
            <a:xfrm>
              <a:off x="961920" y="1508040"/>
              <a:ext cx="6872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35"/>
            <p:cNvSpPr/>
            <p:nvPr/>
          </p:nvSpPr>
          <p:spPr>
            <a:xfrm>
              <a:off x="2713320" y="1582920"/>
              <a:ext cx="9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探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的特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"/>
          <p:cNvGrpSpPr/>
          <p:nvPr/>
        </p:nvGrpSpPr>
        <p:grpSpPr>
          <a:xfrm>
            <a:off x="809640" y="920880"/>
            <a:ext cx="5467320" cy="666720"/>
            <a:chOff x="809640" y="920880"/>
            <a:chExt cx="5467320" cy="666720"/>
          </a:xfrm>
        </p:grpSpPr>
        <p:sp>
          <p:nvSpPr>
            <p:cNvPr id="88" name="文本框 13"/>
            <p:cNvSpPr/>
            <p:nvPr/>
          </p:nvSpPr>
          <p:spPr>
            <a:xfrm>
              <a:off x="1968120" y="992160"/>
              <a:ext cx="4308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倍数的特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809640" y="9208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矩形 3"/>
          <p:cNvSpPr/>
          <p:nvPr/>
        </p:nvSpPr>
        <p:spPr>
          <a:xfrm>
            <a:off x="2126520" y="5238720"/>
            <a:ext cx="52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上面的结果，你发现小棒的根数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有什么关系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2086920" y="198612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数位表中的小棒数，完成右面的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6"/>
          <p:cNvGrpSpPr/>
          <p:nvPr/>
        </p:nvGrpSpPr>
        <p:grpSpPr>
          <a:xfrm>
            <a:off x="2759040" y="5576760"/>
            <a:ext cx="4675320" cy="762120"/>
            <a:chOff x="2759040" y="5576760"/>
            <a:chExt cx="4675320" cy="762120"/>
          </a:xfrm>
        </p:grpSpPr>
        <p:pic>
          <p:nvPicPr>
            <p:cNvPr id="93" name="Picture 13" descr=""/>
            <p:cNvPicPr/>
            <p:nvPr/>
          </p:nvPicPr>
          <p:blipFill>
            <a:blip r:embed="rId3"/>
            <a:stretch/>
          </p:blipFill>
          <p:spPr>
            <a:xfrm>
              <a:off x="2759040" y="5610240"/>
              <a:ext cx="42775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5" descr=""/>
            <p:cNvPicPr/>
            <p:nvPr/>
          </p:nvPicPr>
          <p:blipFill>
            <a:blip r:embed="rId4"/>
            <a:stretch/>
          </p:blipFill>
          <p:spPr>
            <a:xfrm>
              <a:off x="6910560" y="5576760"/>
              <a:ext cx="52380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17" descr=""/>
          <p:cNvPicPr/>
          <p:nvPr/>
        </p:nvPicPr>
        <p:blipFill>
          <a:blip r:embed="rId5"/>
          <a:stretch/>
        </p:blipFill>
        <p:spPr>
          <a:xfrm>
            <a:off x="3417840" y="2343240"/>
            <a:ext cx="3551400" cy="29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"/>
          <p:cNvPicPr/>
          <p:nvPr/>
        </p:nvPicPr>
        <p:blipFill>
          <a:blip r:embed="rId6"/>
          <a:stretch/>
        </p:blipFill>
        <p:spPr>
          <a:xfrm>
            <a:off x="1454040" y="2390760"/>
            <a:ext cx="1650960" cy="2906640"/>
          </a:xfrm>
          <a:prstGeom prst="rect">
            <a:avLst/>
          </a:prstGeom>
          <a:ln w="0">
            <a:noFill/>
          </a:ln>
        </p:spPr>
      </p:pic>
      <p:sp>
        <p:nvSpPr>
          <p:cNvPr id="97" name="矩形 5"/>
          <p:cNvSpPr/>
          <p:nvPr/>
        </p:nvSpPr>
        <p:spPr>
          <a:xfrm>
            <a:off x="5028120" y="3941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5028120" y="4280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6111000" y="394164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6142680" y="428004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3860280" y="4570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5036040" y="457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6139800" y="458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3860280" y="4879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978080" y="4879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6133320" y="487980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2464560" y="1128600"/>
            <a:ext cx="42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~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然数中找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所有倍数，分别把个位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位上的数相加，并把和填在下表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1924200" y="2425680"/>
            <a:ext cx="6102360" cy="9842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9"/>
          <p:cNvGrpSpPr/>
          <p:nvPr/>
        </p:nvGrpSpPr>
        <p:grpSpPr>
          <a:xfrm>
            <a:off x="1638360" y="3825720"/>
            <a:ext cx="5767200" cy="1946520"/>
            <a:chOff x="1638360" y="3825720"/>
            <a:chExt cx="5767200" cy="1946520"/>
          </a:xfrm>
        </p:grpSpPr>
        <p:grpSp>
          <p:nvGrpSpPr>
            <p:cNvPr id="112" name="组合 6"/>
            <p:cNvGrpSpPr/>
            <p:nvPr/>
          </p:nvGrpSpPr>
          <p:grpSpPr>
            <a:xfrm>
              <a:off x="1638360" y="4886280"/>
              <a:ext cx="2666880" cy="885960"/>
              <a:chOff x="1638360" y="4886280"/>
              <a:chExt cx="2666880" cy="885960"/>
            </a:xfrm>
          </p:grpSpPr>
          <p:pic>
            <p:nvPicPr>
              <p:cNvPr id="113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8360" y="5029200"/>
                <a:ext cx="571320" cy="74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4886280"/>
                <a:ext cx="209556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组合 8"/>
            <p:cNvGrpSpPr/>
            <p:nvPr/>
          </p:nvGrpSpPr>
          <p:grpSpPr>
            <a:xfrm>
              <a:off x="1782360" y="3825720"/>
              <a:ext cx="5623200" cy="1723680"/>
              <a:chOff x="1782360" y="3825720"/>
              <a:chExt cx="5623200" cy="1723680"/>
            </a:xfrm>
          </p:grpSpPr>
          <p:grpSp>
            <p:nvGrpSpPr>
              <p:cNvPr id="116" name="组合 5"/>
              <p:cNvGrpSpPr/>
              <p:nvPr/>
            </p:nvGrpSpPr>
            <p:grpSpPr>
              <a:xfrm>
                <a:off x="1782360" y="3825720"/>
                <a:ext cx="4794480" cy="800640"/>
                <a:chOff x="1782360" y="3825720"/>
                <a:chExt cx="4794480" cy="800640"/>
              </a:xfrm>
            </p:grpSpPr>
            <p:pic>
              <p:nvPicPr>
                <p:cNvPr id="117" name="Picture 1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82360" y="3826080"/>
                  <a:ext cx="62856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95080" y="3825720"/>
                  <a:ext cx="4181760" cy="657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9" name="组合 7"/>
              <p:cNvGrpSpPr/>
              <p:nvPr/>
            </p:nvGrpSpPr>
            <p:grpSpPr>
              <a:xfrm>
                <a:off x="4462920" y="4396680"/>
                <a:ext cx="2942640" cy="1152720"/>
                <a:chOff x="4462920" y="4396680"/>
                <a:chExt cx="2942640" cy="1152720"/>
              </a:xfrm>
            </p:grpSpPr>
            <p:pic>
              <p:nvPicPr>
                <p:cNvPr id="120" name="Picture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62920" y="4396680"/>
                  <a:ext cx="2267280" cy="115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24520" y="4711680"/>
                  <a:ext cx="581040" cy="73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22" name="矩形 1"/>
          <p:cNvSpPr/>
          <p:nvPr/>
        </p:nvSpPr>
        <p:spPr>
          <a:xfrm>
            <a:off x="2910600" y="2478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2973600" y="295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3359880" y="247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3376800" y="295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4291560" y="2478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4748760" y="247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5237640" y="2482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5709240" y="2471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6159960" y="2470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628320" y="247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7095240" y="2471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7542720" y="2482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3800880" y="2471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3841200" y="295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4368960" y="294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4810320" y="294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5301720" y="294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5788080" y="294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2"/>
          <p:cNvSpPr/>
          <p:nvPr/>
        </p:nvSpPr>
        <p:spPr>
          <a:xfrm>
            <a:off x="6167880" y="294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4"/>
          <p:cNvSpPr/>
          <p:nvPr/>
        </p:nvSpPr>
        <p:spPr>
          <a:xfrm>
            <a:off x="6704280" y="295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5"/>
          <p:cNvSpPr/>
          <p:nvPr/>
        </p:nvSpPr>
        <p:spPr>
          <a:xfrm>
            <a:off x="7147080" y="295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6"/>
          <p:cNvSpPr/>
          <p:nvPr/>
        </p:nvSpPr>
        <p:spPr>
          <a:xfrm>
            <a:off x="7536600" y="295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4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3"/>
          <a:stretch/>
        </p:blipFill>
        <p:spPr>
          <a:xfrm>
            <a:off x="617400" y="950760"/>
            <a:ext cx="1808280" cy="1038240"/>
          </a:xfrm>
          <a:prstGeom prst="rect">
            <a:avLst/>
          </a:prstGeom>
          <a:ln w="0">
            <a:noFill/>
          </a:ln>
        </p:spPr>
      </p:pic>
      <p:sp>
        <p:nvSpPr>
          <p:cNvPr id="149" name="矩形 1"/>
          <p:cNvSpPr/>
          <p:nvPr/>
        </p:nvSpPr>
        <p:spPr>
          <a:xfrm>
            <a:off x="2914920" y="1849320"/>
            <a:ext cx="39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有什么特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2908440" y="3274920"/>
            <a:ext cx="39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有什么特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2902680" y="4680000"/>
            <a:ext cx="43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有什么特征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1481040" y="3581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457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数的特征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位上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且各数位上的数的和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1486080" y="215424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457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数的特征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偶数，且各数位上的数的和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1450800" y="5038560"/>
            <a:ext cx="67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457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数的特征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位上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且各数位上的数的和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TextBox 36"/>
          <p:cNvSpPr/>
          <p:nvPr/>
        </p:nvSpPr>
        <p:spPr>
          <a:xfrm>
            <a:off x="819000" y="1944720"/>
            <a:ext cx="749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各个数位上的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的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，且各个数位上的数字之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的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且各个数位上的数字之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4950720" y="266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0"/>
          <p:cNvSpPr/>
          <p:nvPr/>
        </p:nvSpPr>
        <p:spPr>
          <a:xfrm>
            <a:off x="7713360" y="3745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5966640" y="42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774936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6"/>
          <p:cNvSpPr/>
          <p:nvPr/>
        </p:nvSpPr>
        <p:spPr>
          <a:xfrm>
            <a:off x="19256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672552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6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TextBox 36"/>
          <p:cNvSpPr/>
          <p:nvPr/>
        </p:nvSpPr>
        <p:spPr>
          <a:xfrm>
            <a:off x="819000" y="1944720"/>
            <a:ext cx="773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的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且各个数位上的数字之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最小的两位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最小的三位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8"/>
          <p:cNvSpPr/>
          <p:nvPr/>
        </p:nvSpPr>
        <p:spPr>
          <a:xfrm>
            <a:off x="1628280" y="265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643176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5372280" y="31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2102760" y="3747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6"/>
          <p:cNvSpPr/>
          <p:nvPr/>
        </p:nvSpPr>
        <p:spPr>
          <a:xfrm>
            <a:off x="819000" y="1944720"/>
            <a:ext cx="76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自然数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自然数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那么它也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数中，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7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矩形 21"/>
          <p:cNvSpPr/>
          <p:nvPr/>
        </p:nvSpPr>
        <p:spPr>
          <a:xfrm>
            <a:off x="7701120" y="3216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6"/>
          <p:cNvSpPr/>
          <p:nvPr/>
        </p:nvSpPr>
        <p:spPr>
          <a:xfrm>
            <a:off x="7737840" y="3751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7716240" y="4854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8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36"/>
          <p:cNvSpPr/>
          <p:nvPr/>
        </p:nvSpPr>
        <p:spPr>
          <a:xfrm>
            <a:off x="819000" y="1944720"/>
            <a:ext cx="749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内的自然数中，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最大的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一定是偶数。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7378200" y="266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7382160" y="31827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4:18:35Z</dcterms:modified>
  <cp:revision>4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