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A9943-B679-434E-B71C-8D549BA799F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07A1E-4D31-4670-86D4-A631922A27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528920" y="1433520"/>
            <a:ext cx="610704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升和毫升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548400" y="503280"/>
            <a:ext cx="21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一    升和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6"/>
          <p:cNvSpPr/>
          <p:nvPr/>
        </p:nvSpPr>
        <p:spPr>
          <a:xfrm>
            <a:off x="1027080" y="1306440"/>
            <a:ext cx="71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小明家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人，每天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水，平均每人每天喝多少毫升水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"/>
          <p:cNvSpPr/>
          <p:nvPr/>
        </p:nvSpPr>
        <p:spPr>
          <a:xfrm>
            <a:off x="2209680" y="2900520"/>
            <a:ext cx="479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升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00÷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平均每人每天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6"/>
          <p:cNvSpPr/>
          <p:nvPr/>
        </p:nvSpPr>
        <p:spPr>
          <a:xfrm>
            <a:off x="849240" y="1306440"/>
            <a:ext cx="740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个没有关紧的水龙头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就会流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水。一个成年人每天大约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的水，照这样计算，一所学校有两个这样的水龙头，一个月流掉的水够多少个成年人用一天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月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"/>
          <p:cNvSpPr/>
          <p:nvPr/>
        </p:nvSpPr>
        <p:spPr>
          <a:xfrm>
            <a:off x="1460520" y="3541680"/>
            <a:ext cx="62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×2×24×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4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40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一个月流掉的水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成年人用一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995400" y="2825640"/>
            <a:ext cx="71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应用升与毫升之间的关系解题时，要牢记它们之间的进率，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升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毫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题目中单位不一致，则别忘了要先统一单位，再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276200" y="2538360"/>
            <a:ext cx="6570720" cy="2022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6"/>
          <p:cNvSpPr/>
          <p:nvPr/>
        </p:nvSpPr>
        <p:spPr>
          <a:xfrm>
            <a:off x="952560" y="193824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一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4419720" y="50529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7"/>
          <p:cNvGrpSpPr/>
          <p:nvPr/>
        </p:nvGrpSpPr>
        <p:grpSpPr>
          <a:xfrm>
            <a:off x="957240" y="1062720"/>
            <a:ext cx="5324400" cy="733680"/>
            <a:chOff x="957240" y="1062720"/>
            <a:chExt cx="5324400" cy="733680"/>
          </a:xfrm>
        </p:grpSpPr>
        <p:pic>
          <p:nvPicPr>
            <p:cNvPr id="156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23"/>
            <p:cNvSpPr/>
            <p:nvPr/>
          </p:nvSpPr>
          <p:spPr>
            <a:xfrm>
              <a:off x="1279440" y="1062720"/>
              <a:ext cx="50022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6"/>
          <p:cNvSpPr/>
          <p:nvPr/>
        </p:nvSpPr>
        <p:spPr>
          <a:xfrm>
            <a:off x="952560" y="1157400"/>
            <a:ext cx="721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瓶酱油和几袋酱油同样多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种酱油便宜？便宜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133720" y="4827600"/>
            <a:ext cx="4889520" cy="15368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6"/>
          <p:cNvSpPr/>
          <p:nvPr/>
        </p:nvSpPr>
        <p:spPr>
          <a:xfrm>
            <a:off x="2030400" y="1782720"/>
            <a:ext cx="46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(m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瓶酱油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袋酱油同样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1706400" y="3419640"/>
            <a:ext cx="62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瓶装酱油便宜，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 mL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瓶装酱油比袋装酱油便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6"/>
          <p:cNvSpPr/>
          <p:nvPr/>
        </p:nvSpPr>
        <p:spPr>
          <a:xfrm>
            <a:off x="952560" y="126684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瓶洗衣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瓶洗衣液有多少升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251880" y="2200320"/>
            <a:ext cx="26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瓶洗衣液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36"/>
          <p:cNvSpPr/>
          <p:nvPr/>
        </p:nvSpPr>
        <p:spPr>
          <a:xfrm>
            <a:off x="952560" y="126684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括号里填上合适的单位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270080" y="3821040"/>
            <a:ext cx="624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 ）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 ）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  ）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  ）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1773360" y="38005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40440" y="38354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毫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4967640" y="3821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7"/>
          <p:cNvSpPr/>
          <p:nvPr/>
        </p:nvSpPr>
        <p:spPr>
          <a:xfrm>
            <a:off x="675108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毫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1633680" y="2101680"/>
            <a:ext cx="58784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6"/>
          <p:cNvSpPr/>
          <p:nvPr/>
        </p:nvSpPr>
        <p:spPr>
          <a:xfrm>
            <a:off x="952560" y="18939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自己家中找出几种液体物品，记录它们的净含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2149560" y="4989600"/>
            <a:ext cx="58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3556080" y="375444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6"/>
          <p:cNvSpPr/>
          <p:nvPr/>
        </p:nvSpPr>
        <p:spPr>
          <a:xfrm>
            <a:off x="1119240" y="1763640"/>
            <a:ext cx="70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甲瓶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果汁，乙瓶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果汁，那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7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TextBox 36"/>
          <p:cNvSpPr/>
          <p:nvPr/>
        </p:nvSpPr>
        <p:spPr>
          <a:xfrm>
            <a:off x="1279440" y="391320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比较大小要根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具体的数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7358400" y="242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8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86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1744200" y="132876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合适的单位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1727280" y="2131920"/>
            <a:ext cx="1866960" cy="259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4578480" y="2089080"/>
            <a:ext cx="2790720" cy="267660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1985040" y="51166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升，毫升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5292720" y="5116680"/>
            <a:ext cx="15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升，毫升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1876320" y="180972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777960" y="3639960"/>
            <a:ext cx="3749760" cy="168444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11"/>
          <p:cNvGrpSpPr/>
          <p:nvPr/>
        </p:nvGrpSpPr>
        <p:grpSpPr>
          <a:xfrm>
            <a:off x="779400" y="1616040"/>
            <a:ext cx="6656760" cy="1796760"/>
            <a:chOff x="779400" y="1616040"/>
            <a:chExt cx="6656760" cy="1796760"/>
          </a:xfrm>
        </p:grpSpPr>
        <p:grpSp>
          <p:nvGrpSpPr>
            <p:cNvPr id="88" name="组合 6"/>
            <p:cNvGrpSpPr/>
            <p:nvPr/>
          </p:nvGrpSpPr>
          <p:grpSpPr>
            <a:xfrm>
              <a:off x="867960" y="1616040"/>
              <a:ext cx="6568200" cy="1796760"/>
              <a:chOff x="867960" y="1616040"/>
              <a:chExt cx="6568200" cy="1796760"/>
            </a:xfrm>
          </p:grpSpPr>
          <p:sp>
            <p:nvSpPr>
              <p:cNvPr id="89" name="TextBox 60"/>
              <p:cNvSpPr/>
              <p:nvPr/>
            </p:nvSpPr>
            <p:spPr>
              <a:xfrm>
                <a:off x="867960" y="1616040"/>
                <a:ext cx="1839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TextBox 62"/>
              <p:cNvSpPr/>
              <p:nvPr/>
            </p:nvSpPr>
            <p:spPr>
              <a:xfrm>
                <a:off x="1429920" y="2135160"/>
                <a:ext cx="18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TextBox 29"/>
              <p:cNvSpPr/>
              <p:nvPr/>
            </p:nvSpPr>
            <p:spPr>
              <a:xfrm>
                <a:off x="2104920" y="1672920"/>
                <a:ext cx="5331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小实验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在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毫升的量筒中装入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毫升水，倒人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毫升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的量杯中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2" name="Picture 12" descr=""/>
            <p:cNvPicPr/>
            <p:nvPr/>
          </p:nvPicPr>
          <p:blipFill>
            <a:blip r:embed="rId2"/>
            <a:stretch/>
          </p:blipFill>
          <p:spPr>
            <a:xfrm>
              <a:off x="779400" y="1672920"/>
              <a:ext cx="545760" cy="59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1"/>
          <p:cNvGrpSpPr/>
          <p:nvPr/>
        </p:nvGrpSpPr>
        <p:grpSpPr>
          <a:xfrm>
            <a:off x="5999040" y="3041640"/>
            <a:ext cx="2089440" cy="2514600"/>
            <a:chOff x="5999040" y="3041640"/>
            <a:chExt cx="2089440" cy="2514600"/>
          </a:xfrm>
        </p:grpSpPr>
        <p:pic>
          <p:nvPicPr>
            <p:cNvPr id="94" name="Picture 12" descr=""/>
            <p:cNvPicPr/>
            <p:nvPr/>
          </p:nvPicPr>
          <p:blipFill>
            <a:blip r:embed="rId3"/>
            <a:stretch/>
          </p:blipFill>
          <p:spPr>
            <a:xfrm>
              <a:off x="5999040" y="3622680"/>
              <a:ext cx="524160" cy="19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3" descr=""/>
            <p:cNvPicPr/>
            <p:nvPr/>
          </p:nvPicPr>
          <p:blipFill>
            <a:blip r:embed="rId4"/>
            <a:stretch/>
          </p:blipFill>
          <p:spPr>
            <a:xfrm>
              <a:off x="6830280" y="3041640"/>
              <a:ext cx="125820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组合 2"/>
          <p:cNvGrpSpPr/>
          <p:nvPr/>
        </p:nvGrpSpPr>
        <p:grpSpPr>
          <a:xfrm>
            <a:off x="503280" y="1143000"/>
            <a:ext cx="7585200" cy="666720"/>
            <a:chOff x="503280" y="1143000"/>
            <a:chExt cx="7585200" cy="666720"/>
          </a:xfrm>
        </p:grpSpPr>
        <p:sp>
          <p:nvSpPr>
            <p:cNvPr id="97" name="文本框 13"/>
            <p:cNvSpPr/>
            <p:nvPr/>
          </p:nvSpPr>
          <p:spPr>
            <a:xfrm>
              <a:off x="1671840" y="1190520"/>
              <a:ext cx="64166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升”和“毫升”之间的进率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8" name="图片 9" descr="book.gif"/>
            <p:cNvPicPr/>
            <p:nvPr/>
          </p:nvPicPr>
          <p:blipFill>
            <a:blip r:embed="rId5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314360" y="1360440"/>
            <a:ext cx="3043440" cy="224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4853160" y="1360440"/>
            <a:ext cx="2963520" cy="2162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1182600" y="3427560"/>
            <a:ext cx="3306960" cy="2368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4"/>
          <a:stretch/>
        </p:blipFill>
        <p:spPr>
          <a:xfrm>
            <a:off x="4853160" y="3427560"/>
            <a:ext cx="30794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1181520" y="1436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749160" y="1981080"/>
            <a:ext cx="4077000" cy="1447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2"/>
          <a:stretch/>
        </p:blipFill>
        <p:spPr>
          <a:xfrm>
            <a:off x="5165640" y="2057400"/>
            <a:ext cx="33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4"/>
          <p:cNvGrpSpPr/>
          <p:nvPr/>
        </p:nvGrpSpPr>
        <p:grpSpPr>
          <a:xfrm>
            <a:off x="2360520" y="4062240"/>
            <a:ext cx="4467240" cy="714600"/>
            <a:chOff x="2360520" y="4062240"/>
            <a:chExt cx="4467240" cy="714600"/>
          </a:xfrm>
        </p:grpSpPr>
        <p:sp>
          <p:nvSpPr>
            <p:cNvPr id="110" name="矩形 1"/>
            <p:cNvSpPr/>
            <p:nvPr/>
          </p:nvSpPr>
          <p:spPr>
            <a:xfrm>
              <a:off x="2360520" y="4130280"/>
              <a:ext cx="1884240" cy="642600"/>
            </a:xfrm>
            <a:prstGeom prst="rect">
              <a:avLst/>
            </a:prstGeom>
            <a:solidFill>
              <a:srgbClr val="bc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升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10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毫升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4825800" y="4146120"/>
              <a:ext cx="2001960" cy="630720"/>
            </a:xfrm>
            <a:prstGeom prst="rect">
              <a:avLst/>
            </a:prstGeom>
            <a:solidFill>
              <a:srgbClr val="bc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L=1000m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矩形 3"/>
            <p:cNvSpPr/>
            <p:nvPr/>
          </p:nvSpPr>
          <p:spPr>
            <a:xfrm>
              <a:off x="4396320" y="4062240"/>
              <a:ext cx="36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5"/>
          <p:cNvSpPr/>
          <p:nvPr/>
        </p:nvSpPr>
        <p:spPr>
          <a:xfrm>
            <a:off x="2310840" y="278748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水有多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1046160" y="1712880"/>
            <a:ext cx="165888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2"/>
          <a:stretch/>
        </p:blipFill>
        <p:spPr>
          <a:xfrm>
            <a:off x="5519880" y="3083040"/>
            <a:ext cx="3114360" cy="260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3"/>
          <a:stretch/>
        </p:blipFill>
        <p:spPr>
          <a:xfrm>
            <a:off x="2090880" y="3689280"/>
            <a:ext cx="2487600" cy="144324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2"/>
          <p:cNvGrpSpPr/>
          <p:nvPr/>
        </p:nvGrpSpPr>
        <p:grpSpPr>
          <a:xfrm>
            <a:off x="503280" y="1143000"/>
            <a:ext cx="5016600" cy="666720"/>
            <a:chOff x="503280" y="1143000"/>
            <a:chExt cx="5016600" cy="666720"/>
          </a:xfrm>
        </p:grpSpPr>
        <p:sp>
          <p:nvSpPr>
            <p:cNvPr id="120" name="文本框 13"/>
            <p:cNvSpPr/>
            <p:nvPr/>
          </p:nvSpPr>
          <p:spPr>
            <a:xfrm>
              <a:off x="1671840" y="1190520"/>
              <a:ext cx="38480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升水有多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2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TextBox 36"/>
          <p:cNvSpPr/>
          <p:nvPr/>
        </p:nvSpPr>
        <p:spPr>
          <a:xfrm>
            <a:off x="961920" y="1959120"/>
            <a:ext cx="72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与毫升之间的进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和毫升都是计量液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单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4683960" y="2635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4659120" y="3197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体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2254320" y="361008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6"/>
          <p:cNvSpPr/>
          <p:nvPr/>
        </p:nvSpPr>
        <p:spPr>
          <a:xfrm>
            <a:off x="1027080" y="1306440"/>
            <a:ext cx="7137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在括号里填上“升”或“毫升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瓶牛奶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瓶洗发水约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0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桶大豆油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瓶矿泉水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太阳能热水器能盛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支口服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3659040" y="1979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4381920" y="2544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3992400" y="35211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5695920" y="41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3944520" y="46180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3738600" y="3067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6"/>
          <p:cNvSpPr/>
          <p:nvPr/>
        </p:nvSpPr>
        <p:spPr>
          <a:xfrm>
            <a:off x="1343160" y="1306440"/>
            <a:ext cx="7137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2730600" y="195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3391920" y="25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3624480" y="3084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446640" y="3602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359160" y="4199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4422960" y="420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3452040" y="4722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4518720" y="4613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4:44:46Z</dcterms:modified>
  <cp:revision>4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