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1654-41BB-4EFD-AAB3-2784B11CD0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C6E0-237F-4F74-92C2-B5E41BA663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3DF4-56B5-406E-88EE-91A28E7662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452-3229-42D2-9628-1E9EC0D25C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8778-2BA4-47F7-B7DC-C1733E7C5B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BD6-F3D1-4800-836D-2B49BA512E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4CA6-3285-4712-B891-D3DF61A2FB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2DCB-A12E-437C-A9C4-D12FE811AA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280D-9DE5-4E5F-87CE-671AD1F181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FD47-3ED7-499B-90D9-EA11D08851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F2CD-C5F1-468B-ACEF-F0F8ADA5E0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C159-3AEE-45A7-88D4-7594F1C07B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BBF0-487C-40BA-B75B-5828EAA85F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6F7A-FB9E-46BD-BA0B-09337C1142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F33-2336-4099-B007-E678CA4C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BB1-8DE1-4291-9E07-92A2C55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2D6-E79E-4C24-9FB5-160E393D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6EC-4CDF-4375-8E27-D5106324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FC5-5E39-4E68-8364-024703E2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5E1-3A4E-4E93-B35B-21F07739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EB8-1157-44E9-B2B6-5E96564A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070-7F61-4945-B1CF-2146B474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723-4A2C-4630-AD75-4F6A5794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BFB-D3AA-45A1-99FB-C3E3EEA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9A4-A383-47D3-AA3F-608B796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F12-E543-4B7E-9CDC-2875218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6E5F-E11D-49EB-BD10-AAF8BD4AF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1357200" y="178596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三位数除以整十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62120" y="1066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大爷的果园收获苹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，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，李子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算一算：装这几种水果，各需要多少个纸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809880" cy="2423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066680" y="4809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苹果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8÷4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1447920" y="52671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梨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0÷3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066680" y="572436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子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6÷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76212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老师带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钱给学校篮球队队员买运动衫，最多够买几件，还剩多少元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2000520" cy="1247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447920" y="389556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0÷8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件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447920" y="4902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最多够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件，还剩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685800" y="1447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85800" y="226044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66÷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62÷8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876920" y="226044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9÷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18÷7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743200" y="389088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97÷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16÷3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514600" y="243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514600" y="320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70572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705720" y="3200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572000" y="4068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72000" y="4830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57120" y="1824120"/>
            <a:ext cx="8429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80880" y="270288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估算和学习笔算三位数除以整十数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掌握三位数除以整十数的笔算方法，能正确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主动参与数学学习活动，体会数学在日常生活中的应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48120" y="85716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4" descr="03-02"/>
          <p:cNvPicPr/>
          <p:nvPr/>
        </p:nvPicPr>
        <p:blipFill>
          <a:blip r:embed="rId1"/>
          <a:stretch/>
        </p:blipFill>
        <p:spPr>
          <a:xfrm>
            <a:off x="4191120" y="4495680"/>
            <a:ext cx="1600200" cy="18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762120" y="2362320"/>
          <a:ext cx="4038480" cy="1920600"/>
        </p:xfrm>
        <a:graphic>
          <a:graphicData uri="http://schemas.openxmlformats.org/drawingml/2006/table">
            <a:tbl>
              <a:tblPr/>
              <a:tblGrid>
                <a:gridCol w="1828800"/>
                <a:gridCol w="22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学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496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教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27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合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523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20"/>
          <p:cNvSpPr/>
          <p:nvPr/>
        </p:nvSpPr>
        <p:spPr>
          <a:xfrm>
            <a:off x="1219320" y="990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星小学师生去参观航天博物馆。博物馆规定，每批参观的人数不得超过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/>
          <p:cNvSpPr/>
          <p:nvPr/>
        </p:nvSpPr>
        <p:spPr>
          <a:xfrm>
            <a:off x="5257800" y="2286000"/>
            <a:ext cx="3505320" cy="1981080"/>
          </a:xfrm>
          <a:prstGeom prst="cloudCallout">
            <a:avLst>
              <a:gd name="adj1" fmla="val -47875"/>
              <a:gd name="adj2" fmla="val 72634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全校师生至少要分几批参观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1" descr="QQ截图20140831135903.png"/>
          <p:cNvPicPr/>
          <p:nvPr/>
        </p:nvPicPr>
        <p:blipFill>
          <a:blip r:embed="rId2"/>
          <a:stretch/>
        </p:blipFill>
        <p:spPr>
          <a:xfrm>
            <a:off x="609480" y="1066680"/>
            <a:ext cx="619200" cy="648000"/>
          </a:xfrm>
          <a:prstGeom prst="rect">
            <a:avLst/>
          </a:prstGeom>
          <a:ln w="0">
            <a:noFill/>
          </a:ln>
        </p:spPr>
      </p:pic>
      <p:sp>
        <p:nvSpPr>
          <p:cNvPr id="59" name="任意多边形 27"/>
          <p:cNvSpPr/>
          <p:nvPr/>
        </p:nvSpPr>
        <p:spPr>
          <a:xfrm>
            <a:off x="2887560" y="1481040"/>
            <a:ext cx="5685120" cy="577800"/>
          </a:xfrm>
          <a:custGeom>
            <a:avLst/>
            <a:gdLst/>
            <a:ahLst/>
            <a:rect l="l" t="t" r="r" b="b"/>
            <a:pathLst>
              <a:path w="5683956" h="577615">
                <a:moveTo>
                  <a:pt x="182504" y="9407"/>
                </a:moveTo>
                <a:cubicBezTo>
                  <a:pt x="115711" y="66792"/>
                  <a:pt x="48918" y="124178"/>
                  <a:pt x="24459" y="190030"/>
                </a:cubicBezTo>
                <a:cubicBezTo>
                  <a:pt x="0" y="255882"/>
                  <a:pt x="26341" y="344311"/>
                  <a:pt x="35748" y="404518"/>
                </a:cubicBezTo>
                <a:cubicBezTo>
                  <a:pt x="45155" y="464725"/>
                  <a:pt x="26341" y="528696"/>
                  <a:pt x="80904" y="551274"/>
                </a:cubicBezTo>
                <a:cubicBezTo>
                  <a:pt x="135467" y="573852"/>
                  <a:pt x="223896" y="536222"/>
                  <a:pt x="363126" y="539985"/>
                </a:cubicBezTo>
                <a:cubicBezTo>
                  <a:pt x="502356" y="543748"/>
                  <a:pt x="916282" y="573852"/>
                  <a:pt x="916282" y="573852"/>
                </a:cubicBezTo>
                <a:cubicBezTo>
                  <a:pt x="1115719" y="577615"/>
                  <a:pt x="1337733" y="573852"/>
                  <a:pt x="1559748" y="562563"/>
                </a:cubicBezTo>
                <a:cubicBezTo>
                  <a:pt x="1781763" y="551274"/>
                  <a:pt x="2020711" y="515525"/>
                  <a:pt x="2248370" y="506118"/>
                </a:cubicBezTo>
                <a:cubicBezTo>
                  <a:pt x="2476029" y="496711"/>
                  <a:pt x="2925704" y="506118"/>
                  <a:pt x="2925704" y="506118"/>
                </a:cubicBezTo>
                <a:lnTo>
                  <a:pt x="4054593" y="506118"/>
                </a:lnTo>
                <a:cubicBezTo>
                  <a:pt x="4378208" y="511762"/>
                  <a:pt x="4615275" y="543748"/>
                  <a:pt x="4867393" y="539985"/>
                </a:cubicBezTo>
                <a:cubicBezTo>
                  <a:pt x="5119511" y="536222"/>
                  <a:pt x="5450652" y="524933"/>
                  <a:pt x="5567304" y="483541"/>
                </a:cubicBezTo>
                <a:cubicBezTo>
                  <a:pt x="5683956" y="442149"/>
                  <a:pt x="5578593" y="340549"/>
                  <a:pt x="5567304" y="291630"/>
                </a:cubicBezTo>
                <a:cubicBezTo>
                  <a:pt x="5556015" y="242711"/>
                  <a:pt x="5546607" y="227660"/>
                  <a:pt x="5499570" y="190030"/>
                </a:cubicBezTo>
                <a:cubicBezTo>
                  <a:pt x="5452533" y="152400"/>
                  <a:pt x="5365986" y="95956"/>
                  <a:pt x="5285082" y="65852"/>
                </a:cubicBezTo>
                <a:cubicBezTo>
                  <a:pt x="5204178" y="35748"/>
                  <a:pt x="5089407" y="16933"/>
                  <a:pt x="5014148" y="9407"/>
                </a:cubicBezTo>
                <a:cubicBezTo>
                  <a:pt x="4938889" y="1881"/>
                  <a:pt x="4987808" y="18815"/>
                  <a:pt x="4833526" y="20696"/>
                </a:cubicBezTo>
                <a:cubicBezTo>
                  <a:pt x="4679245" y="22578"/>
                  <a:pt x="4088459" y="20696"/>
                  <a:pt x="4088459" y="20696"/>
                </a:cubicBezTo>
                <a:cubicBezTo>
                  <a:pt x="3841985" y="18815"/>
                  <a:pt x="3522134" y="0"/>
                  <a:pt x="3354682" y="9407"/>
                </a:cubicBezTo>
                <a:cubicBezTo>
                  <a:pt x="3187230" y="18814"/>
                  <a:pt x="3196637" y="73378"/>
                  <a:pt x="3083748" y="77141"/>
                </a:cubicBezTo>
                <a:cubicBezTo>
                  <a:pt x="2970859" y="80904"/>
                  <a:pt x="2837274" y="41392"/>
                  <a:pt x="2677348" y="31985"/>
                </a:cubicBezTo>
                <a:cubicBezTo>
                  <a:pt x="2517422" y="22578"/>
                  <a:pt x="2272830" y="18815"/>
                  <a:pt x="2124193" y="20696"/>
                </a:cubicBezTo>
                <a:cubicBezTo>
                  <a:pt x="1975556" y="22577"/>
                  <a:pt x="1902178" y="39511"/>
                  <a:pt x="1785526" y="43274"/>
                </a:cubicBezTo>
                <a:cubicBezTo>
                  <a:pt x="1668874" y="47037"/>
                  <a:pt x="1424282" y="43274"/>
                  <a:pt x="1424282" y="43274"/>
                </a:cubicBezTo>
                <a:lnTo>
                  <a:pt x="916282" y="43274"/>
                </a:lnTo>
                <a:lnTo>
                  <a:pt x="566326" y="43274"/>
                </a:lnTo>
                <a:cubicBezTo>
                  <a:pt x="464726" y="41393"/>
                  <a:pt x="385704" y="33866"/>
                  <a:pt x="306682" y="31985"/>
                </a:cubicBezTo>
                <a:cubicBezTo>
                  <a:pt x="227660" y="30104"/>
                  <a:pt x="159926" y="31044"/>
                  <a:pt x="92193" y="31985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762120" y="4724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23÷60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1066680" y="1447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23÷60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752480" y="31464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  2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62120" y="3124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27432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1752480" y="3679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4  8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5"/>
          <p:cNvSpPr/>
          <p:nvPr/>
        </p:nvSpPr>
        <p:spPr>
          <a:xfrm>
            <a:off x="1676520" y="4363920"/>
            <a:ext cx="1676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2743200" y="4343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2209680" y="43434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276720" y="14479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批）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43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3733920" y="3375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验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5181480" y="24606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×8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5715000" y="32227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  8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5181480" y="3908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4"/>
          <p:cNvSpPr/>
          <p:nvPr/>
        </p:nvSpPr>
        <p:spPr>
          <a:xfrm>
            <a:off x="5257800" y="4518000"/>
            <a:ext cx="2057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7"/>
          <p:cNvSpPr/>
          <p:nvPr/>
        </p:nvSpPr>
        <p:spPr>
          <a:xfrm>
            <a:off x="5715000" y="4540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5  2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8"/>
          <p:cNvSpPr/>
          <p:nvPr/>
        </p:nvSpPr>
        <p:spPr>
          <a:xfrm>
            <a:off x="1066680" y="5280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全校师生至少需要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批参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9"/>
          <p:cNvSpPr/>
          <p:nvPr/>
        </p:nvSpPr>
        <p:spPr>
          <a:xfrm>
            <a:off x="1143000" y="3124080"/>
            <a:ext cx="20574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8414_1284261069D7LB.png"/>
          <p:cNvPicPr/>
          <p:nvPr/>
        </p:nvPicPr>
        <p:blipFill>
          <a:blip r:embed="rId1"/>
          <a:stretch/>
        </p:blipFill>
        <p:spPr>
          <a:xfrm>
            <a:off x="2857680" y="1171440"/>
            <a:ext cx="3314520" cy="1419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3390840" y="15526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归纳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685800" y="28195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除数里面最多有几个除数，商就是几，商要写在个位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余数要比除数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抠图、试一试.png"/>
          <p:cNvPicPr/>
          <p:nvPr/>
        </p:nvPicPr>
        <p:blipFill>
          <a:blip r:embed="rId1"/>
          <a:stretch/>
        </p:blipFill>
        <p:spPr>
          <a:xfrm>
            <a:off x="533520" y="91440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1219320" y="15638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62120" y="22813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校师生参加植树劳动，如果每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分成一组，最多够分几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3454560"/>
          <a:ext cx="2590920" cy="1803240"/>
        </p:xfrm>
        <a:graphic>
          <a:graphicData uri="http://schemas.openxmlformats.org/drawingml/2006/table">
            <a:tbl>
              <a:tblPr/>
              <a:tblGrid>
                <a:gridCol w="1219320"/>
                <a:gridCol w="137160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学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496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教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27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523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7"/>
          <p:cNvSpPr/>
          <p:nvPr/>
        </p:nvSpPr>
        <p:spPr>
          <a:xfrm>
            <a:off x="3124080" y="3429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23÷7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4114800" y="4648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  2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124080" y="4626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05520" y="3940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4114800" y="51814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4  9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4"/>
          <p:cNvSpPr/>
          <p:nvPr/>
        </p:nvSpPr>
        <p:spPr>
          <a:xfrm>
            <a:off x="4038480" y="586584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4572000" y="5845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105520" y="5845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4952880" y="3429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批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6095880" y="4572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最多够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19"/>
          <p:cNvSpPr/>
          <p:nvPr/>
        </p:nvSpPr>
        <p:spPr>
          <a:xfrm>
            <a:off x="3581280" y="4572000"/>
            <a:ext cx="20574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990720"/>
            <a:ext cx="2307960" cy="144756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2193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57200" y="2514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电脑录入一篇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6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字的文章。谁录入得快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990720" y="3191040"/>
            <a:ext cx="743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57440" y="1828800"/>
            <a:ext cx="5429160" cy="1676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838080" y="3352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447920" y="4151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66÷6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505320" y="41371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分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85800" y="4876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小女孩需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多一些，小男孩只需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，所以小男孩录得快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电脑录入一篇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6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字的文章。谁录入得快一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657440" y="1828800"/>
            <a:ext cx="5429160" cy="1676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838080" y="3352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47920" y="4052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66÷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505320" y="40384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685800" y="4724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小男孩每分钟至少录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字，小女孩每分钟只能录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字，所以小男孩录得快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电脑录入一篇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6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字的文章。谁录入得快一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7:38:51Z</dcterms:created>
  <dc:creator/>
  <dc:description/>
  <cp:keywords/>
  <dc:language>en-US</dc:language>
  <cp:lastModifiedBy/>
  <dcterms:modified xsi:type="dcterms:W3CDTF">2016-12-02T15:57:21Z</dcterms:modified>
  <cp:revision>5</cp:revision>
  <dc:subject/>
  <dc:title/>
</cp:coreProperties>
</file>