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3EE-3C97-4122-9A5F-D85967FA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3D2-2113-49CC-A0F7-8CCDD1F1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BC27-7723-4A74-AE98-F2278A24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DE78-87BB-4D31-AAEB-1FC9036B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D4A9-5D96-48FE-B09E-DE748D22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16B9-4CFD-4D39-873C-03B4CB7A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1F91-3E86-4511-BC77-6CEDA4DC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68BC-C2F1-4473-A8FD-126ABC81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09FA-A58F-411F-B98A-72612931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0784-1123-426F-A85D-C9EB2F90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DB3B-5AE8-4BAB-8A9E-AF99BC40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3B2-A5CD-46A5-9469-7BF2EFD6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2031-F96D-4472-B9E7-43CAAA0A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C5C4-A61C-4AAC-80C6-DF7BC593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7B3B-DA7F-4435-A0B2-667B0C5F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C576-6BC9-4DB9-90C2-E9CE625D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2BCB-992E-4985-9F99-8AA9A9348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A301E-F72D-4936-89A8-CF6D4680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707EC-8A13-4FD0-ACA5-8B8A9873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255E9-3B41-498B-9B2F-CE3B9B4F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BCE31-E8A9-4A97-926D-AC99623D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36344-054A-45C1-AE97-AF232DAD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6558-99B3-47D3-9EA3-76A289D5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A66B5-95A1-4635-80E2-8D68D3CC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32C84-FF30-47DA-8406-5B5F957C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E0B7B-CB92-4694-93D0-536F9C93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6B570-1573-4612-AF6E-E07B229D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3DD66-5B78-43BD-9924-91608143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B0B14-48CF-4A86-8BB4-19B4ACAC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C1ACF-EC1D-4D39-9A46-66C078B1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73FD1-B9A1-4F24-86DB-F932DD30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8AED2-C9CD-47A1-B27F-2F192FAF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76B19-7CF6-47FC-AB24-12B4C9CD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1C0-0B9E-490B-9F8A-153937AD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AE3D2-6314-4919-9359-F968966E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E4961-E51E-4C7A-90CD-6BAE696F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6BBDF-5F78-4400-947F-316E24B2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9F408-82E0-44FE-BF4B-64D57B54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4A1FB-4B22-45D0-89CF-235B101F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9D474-C61F-4AF5-B1D7-3E1560E9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9CC81-EC3F-4783-A93C-4F96477F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64BBF-4055-4D27-80ED-E0FFBF54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01A8C-2F61-4DA8-8305-B9232F57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1AF10-A33C-4CFA-8431-BD958977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C60-C567-4018-9E83-34D7687D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58A17-2DEB-41B6-ADE9-3E008822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59105-82A3-49E7-A917-8FCADD6A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DDBF3-33A1-451E-8052-69298904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082E5-E89F-4D08-90BE-012AF5A5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CB3E4-E375-46D2-BC9A-AE6C0EF2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AA1E2-5395-4754-A623-8FEAC386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18961-3CD4-484F-B34B-A47E3B82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3796A-ECFB-4F83-A923-E901EDFD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EAFE3-9A47-486A-889A-89A445B8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04862-00FA-47FC-BA80-688B33F3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79C6-F5F9-427C-AB9B-10B3B623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4D93D-0A23-43B0-8EA5-D62C6382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FA057-66B3-4845-9502-3DE20D86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5578E-0025-4ECE-A0C0-768BEAB5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DB752-D95F-4605-8673-8441F644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0A511-7CBC-416D-98C3-642FDDE8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37677-7079-4E9E-937D-57CC2FAB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672F3-13BD-43FD-B1B1-FF9B5DFB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33B4B-0275-438C-A34F-A2460B00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3F47B-DA18-452F-A954-6991C63C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A8BDE-42A0-4520-87D6-E10FACE7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39D1-0088-49EB-A32A-E3A75C68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7791D-66CB-4BF7-944F-84E305D0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4B086-75F6-46A7-A988-6D76C1D8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67C86-9B8A-40CE-A538-009513AE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D5BF-E759-41F4-91FB-85DB5035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8178-1E9E-40EF-A30F-F83B3C77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CCD5-F069-4EEE-8174-91F7ADEBA2EE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8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CF72-1D41-4B8C-84F0-48D064FB4473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5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6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7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8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9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ACB1-869C-4CF0-86E5-BB5D44538AF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4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47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8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50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51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13F8-DFD1-4147-95F7-7106488340E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96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7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8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9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0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201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202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3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4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5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6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7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8248-F4DB-47B2-AE35-FE90A41277C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50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1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2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3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4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255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256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7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8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9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61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3232-6D3A-40CD-A437-39EDA9B02A93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0" y="2133720"/>
            <a:ext cx="9144000" cy="1523880"/>
          </a:xfrm>
          <a:prstGeom prst="rect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33360" y="1219320"/>
            <a:ext cx="5257800" cy="90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808"/>
                </a:solidFill>
                <a:latin typeface="黑体"/>
                <a:ea typeface="黑体"/>
              </a:rPr>
              <a:t>第</a:t>
            </a:r>
            <a:r>
              <a:rPr b="1" lang="en-US" sz="4800" spc="-1" strike="noStrike">
                <a:solidFill>
                  <a:srgbClr val="000808"/>
                </a:solidFill>
                <a:latin typeface="黑体"/>
                <a:ea typeface="黑体"/>
              </a:rPr>
              <a:t>15</a:t>
            </a:r>
            <a:r>
              <a:rPr b="1" lang="zh-CN" sz="4800" spc="-1" strike="noStrike">
                <a:solidFill>
                  <a:srgbClr val="000808"/>
                </a:solidFill>
                <a:latin typeface="黑体"/>
                <a:ea typeface="黑体"/>
              </a:rPr>
              <a:t>课 古诗三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3200040" y="304812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文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 六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"/>
          <p:cNvSpPr/>
          <p:nvPr/>
        </p:nvSpPr>
        <p:spPr>
          <a:xfrm>
            <a:off x="2362320" y="2971800"/>
            <a:ext cx="4952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李白2"/>
          <p:cNvPicPr/>
          <p:nvPr/>
        </p:nvPicPr>
        <p:blipFill>
          <a:blip r:embed="rId1"/>
          <a:stretch/>
        </p:blipFill>
        <p:spPr>
          <a:xfrm>
            <a:off x="228600" y="1981080"/>
            <a:ext cx="2540160" cy="358164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"/>
          <p:cNvSpPr/>
          <p:nvPr/>
        </p:nvSpPr>
        <p:spPr>
          <a:xfrm>
            <a:off x="2895480" y="1523880"/>
            <a:ext cx="59436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宋体"/>
                <a:ea typeface="宋体"/>
              </a:rPr>
              <a:t>李白（</a:t>
            </a:r>
            <a:r>
              <a:rPr b="1" lang="en-US" sz="3600" spc="-1" strike="noStrike">
                <a:solidFill>
                  <a:srgbClr val="9933ff"/>
                </a:solidFill>
                <a:latin typeface="宋体"/>
                <a:ea typeface="宋体"/>
              </a:rPr>
              <a:t>701——762</a:t>
            </a:r>
            <a:r>
              <a:rPr b="1" lang="zh-CN" sz="3600" spc="-1" strike="noStrike">
                <a:solidFill>
                  <a:srgbClr val="9933ff"/>
                </a:solidFill>
                <a:latin typeface="宋体"/>
                <a:ea typeface="宋体"/>
              </a:rPr>
              <a:t>），字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  <a:ea typeface="宋体"/>
              </a:rPr>
              <a:t>太白</a:t>
            </a:r>
            <a:r>
              <a:rPr b="1" lang="zh-CN" sz="3600" spc="-1" strike="noStrike">
                <a:solidFill>
                  <a:srgbClr val="9933ff"/>
                </a:solidFill>
                <a:latin typeface="宋体"/>
                <a:ea typeface="宋体"/>
              </a:rPr>
              <a:t>，号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  <a:ea typeface="宋体"/>
              </a:rPr>
              <a:t>青莲居士</a:t>
            </a:r>
            <a:r>
              <a:rPr b="1" lang="zh-CN" sz="3600" spc="-1" strike="noStrike">
                <a:solidFill>
                  <a:srgbClr val="9933ff"/>
                </a:solidFill>
                <a:latin typeface="宋体"/>
                <a:ea typeface="宋体"/>
              </a:rPr>
              <a:t>，盛唐最杰出的诗人，也是我国文学史上继屈原之后又一伟大的浪漫主义诗人，素有“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  <a:ea typeface="宋体"/>
              </a:rPr>
              <a:t>诗仙</a:t>
            </a:r>
            <a:r>
              <a:rPr b="1" lang="zh-CN" sz="3600" spc="-1" strike="noStrike">
                <a:solidFill>
                  <a:srgbClr val="9933ff"/>
                </a:solidFill>
                <a:latin typeface="宋体"/>
                <a:ea typeface="宋体"/>
              </a:rPr>
              <a:t>”之称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1" name="AutoShape 45"/>
          <p:cNvSpPr/>
          <p:nvPr/>
        </p:nvSpPr>
        <p:spPr>
          <a:xfrm>
            <a:off x="152280" y="152280"/>
            <a:ext cx="2210040" cy="762120"/>
          </a:xfrm>
          <a:custGeom>
            <a:avLst/>
            <a:gdLst>
              <a:gd name="textAreaLeft" fmla="*/ 89640 w 2210040"/>
              <a:gd name="textAreaRight" fmla="*/ 2120400 w 221004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1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18" y="21600"/>
                </a:lnTo>
                <a:arcTo wR="3600" hR="3600" stAng="10800000" swAng="5400000"/>
                <a:lnTo>
                  <a:pt x="62618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认识作者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52280" y="990720"/>
            <a:ext cx="49532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孟浩然（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689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740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）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浩然，以写田园山水诗为主。与另一位山水田园诗人王维合称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"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孟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"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存诗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6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首，多为五言律诗。他的山水诗多是写他故乡襄阳的名胜。孟诗风格以清旷冲淡为主，但冲淡中亦有壮逸之气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43" name="Picture 3" descr="79f0f736afc3793117b36904e9c4b74542a911c7"/>
          <p:cNvPicPr/>
          <p:nvPr/>
        </p:nvPicPr>
        <p:blipFill>
          <a:blip r:embed="rId1"/>
          <a:stretch/>
        </p:blipFill>
        <p:spPr>
          <a:xfrm>
            <a:off x="5029200" y="1371600"/>
            <a:ext cx="39528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3"/>
          <p:cNvSpPr/>
          <p:nvPr/>
        </p:nvSpPr>
        <p:spPr>
          <a:xfrm>
            <a:off x="2103480" y="293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80946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20406"/>
                </a:solidFill>
                <a:latin typeface="Arial"/>
              </a:rPr>
              <a:t>黄鹤楼送孟浩然之广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0406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0406"/>
                </a:solidFill>
                <a:latin typeface="Arial"/>
              </a:rPr>
              <a:t>                               </a:t>
            </a:r>
            <a:r>
              <a:rPr b="1" lang="zh-CN" sz="2800" spc="-1" strike="noStrike">
                <a:solidFill>
                  <a:srgbClr val="020406"/>
                </a:solidFill>
                <a:latin typeface="Arial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0406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故 人 西 辞 黄 鹤 楼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烟 花 三 月 下 扬 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孤 帆 远 影 碧 空 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唯 见 长 江 天 际 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黄鹤楼送孟浩然之广陵.mp3" descr=""/>
          <p:cNvPicPr/>
          <p:nvPr/>
        </p:nvPicPr>
        <p:blipFill>
          <a:blip r:embed="rId1"/>
          <a:stretch/>
        </p:blipFill>
        <p:spPr>
          <a:xfrm>
            <a:off x="7391520" y="19051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5"/>
          <p:cNvSpPr/>
          <p:nvPr/>
        </p:nvSpPr>
        <p:spPr>
          <a:xfrm>
            <a:off x="228600" y="15228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欣赏诗歌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30487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14479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Arial"/>
              </a:rPr>
              <a:t>注释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4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0406"/>
                </a:solidFill>
                <a:latin typeface="Arial"/>
              </a:rPr>
              <a:t>黄鹤楼：楼名，在今武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0406"/>
                </a:solidFill>
                <a:latin typeface="Arial"/>
              </a:rPr>
              <a:t>之：去，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0406"/>
                </a:solidFill>
                <a:latin typeface="Arial"/>
              </a:rPr>
              <a:t>故人：这里指老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0406"/>
                </a:solidFill>
                <a:latin typeface="Arial"/>
              </a:rPr>
              <a:t>烟花：形容花开得繁茂，像浮动的烟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3"/>
          <p:cNvSpPr/>
          <p:nvPr/>
        </p:nvSpPr>
        <p:spPr>
          <a:xfrm>
            <a:off x="1600200" y="838080"/>
            <a:ext cx="5638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447920" y="1447920"/>
            <a:ext cx="66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故人西辞黄鹤楼，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烟花三月下扬州。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1066680" y="3809880"/>
            <a:ext cx="76964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这句诗的意思是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我的好友孟浩然在繁花似锦的阳春三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由黄鹤楼出发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乘船东行到扬州去。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3" name="AutoShape 45"/>
          <p:cNvSpPr/>
          <p:nvPr/>
        </p:nvSpPr>
        <p:spPr>
          <a:xfrm>
            <a:off x="228600" y="15228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精读诗歌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4"/>
          <p:cNvSpPr/>
          <p:nvPr/>
        </p:nvSpPr>
        <p:spPr>
          <a:xfrm>
            <a:off x="1143000" y="1231920"/>
            <a:ext cx="70866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黄鹤楼在西，扬州在东，孟浩然要沿长江由西向东顺流而下，告辞时自然要面向西，故而说是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西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”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371600" y="3517920"/>
            <a:ext cx="6705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烟花三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”传神地写出了三月的扬州烟雾迷蒙，繁花似锦的景象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5"/>
          <p:cNvSpPr/>
          <p:nvPr/>
        </p:nvSpPr>
        <p:spPr>
          <a:xfrm>
            <a:off x="2374920" y="838080"/>
            <a:ext cx="547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楷体_GB2312"/>
              </a:rPr>
              <a:t>孤帆远影碧空尽，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楷体_GB2312"/>
              </a:rPr>
              <a:t>唯见长江天际流。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1066680" y="2819520"/>
            <a:ext cx="72392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9d8ec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这句诗的意思是：我伫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zh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ù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立江边，目送友人的小船愈行愈远，渐渐消失在水天相接的地方，只望见浩浩荡荡的江水流向天际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7" descr="47bf039e1ab7c139ef90dd7382653067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962520" y="3043080"/>
            <a:ext cx="5181480" cy="38149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1219320" y="5335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孤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并不是说浩瀚的长江上只有一只帆船，而是说诗人的注意力全部集中在好友乘坐的那只帆船上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609480" y="327672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尽”字和“唯”字将孤帆远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去、江流天际的景象以及诗人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目驻神驰的情形巧妙的展现出来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3505320" y="11430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品读感悟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990720" y="1981080"/>
            <a:ext cx="7772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鹤楼送孟浩然之广陵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诗语言凝炼，感情真挚。前两句写景，后两句写富有诗意的神驰目注，写出了作者对好友的一片深情。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3" name="AutoShape 45"/>
          <p:cNvSpPr/>
          <p:nvPr/>
        </p:nvSpPr>
        <p:spPr>
          <a:xfrm>
            <a:off x="228600" y="15228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品读感悟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4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</a:rPr>
              <a:t>填空练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41440" y="1981080"/>
            <a:ext cx="8067600" cy="38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”的意思是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广陵”是现在的（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烟花”指（ 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故人”是老朋友，这里指（                 ）。因为（                                  ），所以说“西辞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尽”是（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唯”是（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际”是（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首诗表达了李白对老朋友（                     ）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3848040" y="1863720"/>
            <a:ext cx="533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去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3862440" y="1946160"/>
            <a:ext cx="9144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3124080" y="2803680"/>
            <a:ext cx="335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艳丽的春景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4273560" y="2330280"/>
            <a:ext cx="1006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扬州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5486400" y="3276720"/>
            <a:ext cx="1447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孟 浩 然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1741320" y="3743280"/>
            <a:ext cx="3745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孟浩然是由西向东行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3124080" y="4502160"/>
            <a:ext cx="1295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消  失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2890800" y="5078520"/>
            <a:ext cx="1066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只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4" name="Text Box 12"/>
          <p:cNvSpPr/>
          <p:nvPr/>
        </p:nvSpPr>
        <p:spPr>
          <a:xfrm>
            <a:off x="3276720" y="5494320"/>
            <a:ext cx="198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天   边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5791320" y="5925960"/>
            <a:ext cx="1904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依 依 惜 别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6" name="AutoShape 45"/>
          <p:cNvSpPr/>
          <p:nvPr/>
        </p:nvSpPr>
        <p:spPr>
          <a:xfrm>
            <a:off x="228600" y="15228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作业练习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609480" y="137160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宋体"/>
              </a:rPr>
              <a:t>今天我们学习的三首诗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宋体"/>
              </a:rPr>
              <a:t>送元二使安西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宋体"/>
              </a:rPr>
              <a:t>》《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宋体"/>
              </a:rPr>
              <a:t>黄鹤楼送孟浩然之广陵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宋体"/>
              </a:rPr>
              <a:t>》《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宋体"/>
              </a:rPr>
              <a:t>赋得古原草送别</a:t>
            </a:r>
            <a:r>
              <a:rPr b="1" lang="en-US" sz="3200" spc="-1" strike="noStrike">
                <a:solidFill>
                  <a:srgbClr val="000808"/>
                </a:solidFill>
                <a:latin typeface="Arial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  <a:ea typeface="宋体"/>
              </a:rPr>
              <a:t>，都是描写送别朋友时，与朋友依依惜别的情景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1066680" y="4724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表达了诗人与朋友之间深情厚谊和与朋友分别时依依惜别的感情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9" name="AutoShape 45"/>
          <p:cNvSpPr/>
          <p:nvPr/>
        </p:nvSpPr>
        <p:spPr>
          <a:xfrm>
            <a:off x="152280" y="152280"/>
            <a:ext cx="2210040" cy="762120"/>
          </a:xfrm>
          <a:custGeom>
            <a:avLst/>
            <a:gdLst>
              <a:gd name="textAreaLeft" fmla="*/ 89640 w 2210040"/>
              <a:gd name="textAreaRight" fmla="*/ 2120400 w 221004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1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18" y="21600"/>
                </a:lnTo>
                <a:arcTo wR="3600" hR="3600" stAng="10800000" swAng="5400000"/>
                <a:lnTo>
                  <a:pt x="62618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新课导入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0"/>
          <p:cNvSpPr/>
          <p:nvPr/>
        </p:nvSpPr>
        <p:spPr>
          <a:xfrm>
            <a:off x="3352680" y="2971800"/>
            <a:ext cx="54104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赋得古原草送别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78" name="Picture 12" descr="1427078131923805916"/>
          <p:cNvPicPr/>
          <p:nvPr/>
        </p:nvPicPr>
        <p:blipFill>
          <a:blip r:embed="rId1"/>
          <a:stretch/>
        </p:blipFill>
        <p:spPr>
          <a:xfrm>
            <a:off x="228600" y="1295280"/>
            <a:ext cx="320040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白居易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7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46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）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汉族，字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乐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晚年又号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香山居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河南新郑（今郑州新郑）人，我国唐代伟大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现实主义诗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中国文学史上负有盛名且影响深远的诗人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文学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他的诗歌题材广泛，形式多样，语言平易通俗，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诗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诗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之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官至翰林学士、左赞善大夫。有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白氏长庆集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传世，代表诗作有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长恨歌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卖炭翁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琵琶行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45"/>
          <p:cNvSpPr/>
          <p:nvPr/>
        </p:nvSpPr>
        <p:spPr>
          <a:xfrm>
            <a:off x="228600" y="15228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诗人简介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"/>
          <p:cNvSpPr/>
          <p:nvPr/>
        </p:nvSpPr>
        <p:spPr>
          <a:xfrm>
            <a:off x="1219320" y="1371600"/>
            <a:ext cx="6858000" cy="42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赋得古原草送别　　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（唐）白居易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　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离离原上草，一岁一枯荣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　　野火烧不尽，春风吹又生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　　远芳侵古道，晴翠接荒城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　　又送王孙去，萋萋满别情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82" name="赋得古原草送别.mp3" descr=""/>
          <p:cNvPicPr/>
          <p:nvPr/>
        </p:nvPicPr>
        <p:blipFill>
          <a:blip r:embed="rId1"/>
          <a:stretch/>
        </p:blipFill>
        <p:spPr>
          <a:xfrm>
            <a:off x="8153280" y="9907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43604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9144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离离原上草，一岁一枯荣。</a:t>
            </a:r>
            <a:r>
              <a:rPr b="0" lang="zh-CN" sz="4400" spc="-1" strike="noStrike">
                <a:solidFill>
                  <a:srgbClr val="cc0066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62120" y="2362320"/>
            <a:ext cx="694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cc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99cc"/>
                </a:solidFill>
                <a:latin typeface="宋体"/>
                <a:ea typeface="宋体"/>
              </a:rPr>
              <a:t>注释</a:t>
            </a:r>
            <a:r>
              <a:rPr b="1" lang="zh-CN" sz="2800" spc="-1" strike="noStrike">
                <a:solidFill>
                  <a:srgbClr val="0099cc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宋体"/>
                <a:ea typeface="宋体"/>
              </a:rPr>
              <a:t>离离：繁盛的样子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宋体"/>
                <a:ea typeface="宋体"/>
              </a:rPr>
              <a:t>原：原野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宋体"/>
                <a:ea typeface="宋体"/>
              </a:rPr>
              <a:t>枯荣：指草的枯萎和茂盛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762120" y="434340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[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句解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]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4019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原野上的青草茂盛，一年一度枯了又会繁茂起来。“一岁一枯荣”，道出草秋枯春荣、岁岁循环不已的生长规律。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作者不说“荣枯”，而说“枯荣”，强调了草的强大的生命力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6" name="AutoShape 45"/>
          <p:cNvSpPr/>
          <p:nvPr/>
        </p:nvSpPr>
        <p:spPr>
          <a:xfrm>
            <a:off x="152280" y="152280"/>
            <a:ext cx="2210040" cy="762120"/>
          </a:xfrm>
          <a:custGeom>
            <a:avLst/>
            <a:gdLst>
              <a:gd name="textAreaLeft" fmla="*/ 89640 w 2210040"/>
              <a:gd name="textAreaRight" fmla="*/ 2120400 w 221004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1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18" y="21600"/>
                </a:lnTo>
                <a:arcTo wR="3600" hR="3600" stAng="10800000" swAng="5400000"/>
                <a:lnTo>
                  <a:pt x="62618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精读诗歌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0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5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0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0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5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野火烧不尽，春风吹又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1187280" y="2205000"/>
            <a:ext cx="757584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00453"/>
                </a:solidFill>
                <a:latin typeface="宋体"/>
                <a:ea typeface="宋体"/>
              </a:rPr>
              <a:t>[</a:t>
            </a:r>
            <a:r>
              <a:rPr b="1" lang="zh-CN" sz="2400" spc="-1" strike="noStrike">
                <a:solidFill>
                  <a:srgbClr val="e00453"/>
                </a:solidFill>
                <a:latin typeface="宋体"/>
                <a:ea typeface="宋体"/>
              </a:rPr>
              <a:t>句解</a:t>
            </a:r>
            <a:r>
              <a:rPr b="1" lang="zh-CN" sz="2400" spc="-1" strike="noStrike">
                <a:solidFill>
                  <a:srgbClr val="e00453"/>
                </a:solidFill>
                <a:latin typeface="宋体"/>
                <a:ea typeface="宋体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野火燎原，枯草成灰，却怎么也烧不尽；春风吹拂，小草复生，大地又是一片绿色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这两句充满哲理，告诉我们像古原草那样具有死而复生的顽强生命力，是任何势力也摧不跨的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761760" y="28191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055b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7055b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f7055b"/>
                </a:solidFill>
                <a:latin typeface="Arial"/>
              </a:rPr>
              <a:t>句解</a:t>
            </a:r>
            <a:r>
              <a:rPr b="1" lang="zh-CN" sz="2800" spc="-1" strike="noStrike">
                <a:solidFill>
                  <a:srgbClr val="f7055b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蔓延到远方的一片野草，侵占了古老的道路。在晴天，一片绿色连接着荒城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远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睛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与之形成对照，生存竞争力之强由此可见。一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侵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字，一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字，以铺叙的手法，进一步渲染了春草的无限生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990720" y="83808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远芳侵古道，晴翠接荒城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116000" y="1700280"/>
            <a:ext cx="619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1476360" y="1635120"/>
            <a:ext cx="5457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1143000" y="1752480"/>
            <a:ext cx="611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07f5"/>
                </a:solidFill>
                <a:latin typeface="Arial"/>
                <a:ea typeface="宋体"/>
              </a:rPr>
              <a:t>[</a:t>
            </a:r>
            <a:r>
              <a:rPr b="1" lang="zh-CN" sz="2800" spc="-1" strike="noStrike">
                <a:solidFill>
                  <a:srgbClr val="2907f5"/>
                </a:solidFill>
                <a:latin typeface="Arial"/>
                <a:ea typeface="宋体"/>
              </a:rPr>
              <a:t>注释</a:t>
            </a:r>
            <a:r>
              <a:rPr b="1" lang="zh-CN" sz="2800" spc="-1" strike="noStrike">
                <a:solidFill>
                  <a:srgbClr val="2907f5"/>
                </a:solidFill>
                <a:latin typeface="Arial"/>
                <a:ea typeface="宋体"/>
              </a:rPr>
              <a:t>]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宋体"/>
              </a:rPr>
              <a:t>侵：蔓延，长满           荒：荒芜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0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5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219320" y="144756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907f5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2907f5"/>
                </a:solidFill>
                <a:latin typeface="Arial"/>
              </a:rPr>
              <a:t>注释</a:t>
            </a:r>
            <a:r>
              <a:rPr b="1" lang="en-US" sz="2800" spc="-1" strike="noStrike">
                <a:solidFill>
                  <a:srgbClr val="2907f5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王孙：本指贵族后代，这里泛指离家远游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萋萋：草长得茂盛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457200" y="304920"/>
            <a:ext cx="8001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1295280" y="53352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又送王孙去，萋萋满别情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838080" y="3200400"/>
            <a:ext cx="784872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00453"/>
                </a:solidFill>
                <a:latin typeface="Times New Roman"/>
                <a:ea typeface="宋体"/>
              </a:rPr>
              <a:t>[</a:t>
            </a:r>
            <a:r>
              <a:rPr b="1" lang="zh-CN" sz="2400" spc="-1" strike="noStrike">
                <a:solidFill>
                  <a:srgbClr val="e00453"/>
                </a:solidFill>
                <a:latin typeface="Times New Roman"/>
                <a:ea typeface="宋体"/>
              </a:rPr>
              <a:t>句解</a:t>
            </a:r>
            <a:r>
              <a:rPr b="1" lang="zh-CN" sz="2400" spc="-1" strike="noStrike">
                <a:solidFill>
                  <a:srgbClr val="e00453"/>
                </a:solidFill>
                <a:latin typeface="Times New Roman"/>
                <a:ea typeface="宋体"/>
              </a:rPr>
              <a:t>]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又要送你远去，繁盛的青草仿佛也充满了离情别意。这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句运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拟人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手法，来表现作者难舍难分的感情。尾联关合全篇，结清题意，点出送别之意。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这里变其意而用之，说的是看见萋萋芳草，而平添送别的愁情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2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7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3" descr="20090521161223280"/>
          <p:cNvPicPr/>
          <p:nvPr/>
        </p:nvPicPr>
        <p:blipFill>
          <a:blip r:embed="rId1"/>
          <a:stretch/>
        </p:blipFill>
        <p:spPr>
          <a:xfrm>
            <a:off x="3809880" y="304920"/>
            <a:ext cx="4714920" cy="61722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4"/>
          <p:cNvSpPr/>
          <p:nvPr/>
        </p:nvSpPr>
        <p:spPr>
          <a:xfrm>
            <a:off x="-393120" y="609480"/>
            <a:ext cx="20091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20406"/>
                </a:solidFill>
                <a:latin typeface="Arial"/>
                <a:ea typeface="楷体_GB2312"/>
              </a:rPr>
              <a:t>送元二使安西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2975040" y="4343400"/>
            <a:ext cx="546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406"/>
                </a:solidFill>
                <a:latin typeface="Arial"/>
                <a:ea typeface="迷你简小隶书"/>
              </a:rPr>
              <a:t>【</a:t>
            </a:r>
            <a:r>
              <a:rPr b="1" lang="zh-CN" sz="2400" spc="-1" strike="noStrike">
                <a:solidFill>
                  <a:srgbClr val="020406"/>
                </a:solidFill>
                <a:latin typeface="Arial"/>
                <a:ea typeface="迷你简小隶书"/>
              </a:rPr>
              <a:t>唐</a:t>
            </a:r>
            <a:r>
              <a:rPr b="1" lang="en-US" sz="2400" spc="-1" strike="noStrike">
                <a:solidFill>
                  <a:srgbClr val="020406"/>
                </a:solidFill>
                <a:latin typeface="Arial"/>
                <a:ea typeface="迷你简小隶书"/>
              </a:rPr>
              <a:t>】</a:t>
            </a:r>
            <a:r>
              <a:rPr b="1" lang="zh-CN" sz="2400" spc="-1" strike="noStrike">
                <a:solidFill>
                  <a:srgbClr val="020406"/>
                </a:solidFill>
                <a:latin typeface="Arial"/>
                <a:ea typeface="迷你简小隶书"/>
              </a:rPr>
              <a:t>王维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1523880" y="2133720"/>
            <a:ext cx="2133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又叫：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赠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渭城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阳关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阳关三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5"/>
          <p:cNvSpPr/>
          <p:nvPr/>
        </p:nvSpPr>
        <p:spPr>
          <a:xfrm>
            <a:off x="457200" y="1371600"/>
            <a:ext cx="48769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王维（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701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－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761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：字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摩诘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号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摩诘居士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”，汉族，祖籍山西祁县，唐朝诗人，外号“诗佛”。开元九年（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721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）中进士，任太乐丞。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今存诗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0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余首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王维精通佛学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15" name="Picture 4" descr="6d81800a19d8bc3e70a1df01828ba61ea9d34554"/>
          <p:cNvPicPr/>
          <p:nvPr/>
        </p:nvPicPr>
        <p:blipFill>
          <a:blip r:embed="rId1"/>
          <a:stretch/>
        </p:blipFill>
        <p:spPr>
          <a:xfrm>
            <a:off x="5410080" y="1371600"/>
            <a:ext cx="3564000" cy="441972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45"/>
          <p:cNvSpPr/>
          <p:nvPr/>
        </p:nvSpPr>
        <p:spPr>
          <a:xfrm>
            <a:off x="304920" y="15228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认识作者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6"/>
          <p:cNvSpPr/>
          <p:nvPr/>
        </p:nvSpPr>
        <p:spPr>
          <a:xfrm>
            <a:off x="8304120" y="762120"/>
            <a:ext cx="4590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-636480" y="380880"/>
            <a:ext cx="23749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送元二使安西</a:t>
            </a:r>
            <a:endParaRPr b="1" lang="en-US" sz="7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 rot="16200000">
            <a:off x="8884440" y="2939040"/>
            <a:ext cx="46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1981080" y="12193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渭城朝雨浥轻尘，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客舍青青柳色新。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劝君更尽一杯酒，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西出阳关无故人。</a:t>
            </a:r>
            <a:endParaRPr b="1" lang="en-US" sz="5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21" name="送元二使安西.mp3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34484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6"/>
          <p:cNvSpPr/>
          <p:nvPr/>
        </p:nvSpPr>
        <p:spPr>
          <a:xfrm>
            <a:off x="1295280" y="1371600"/>
            <a:ext cx="49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0" y="1365840"/>
            <a:ext cx="9220320" cy="764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楷体_GB2312"/>
              </a:rPr>
              <a:t>渭城朝雨浥轻尘，客舍青青柳色新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0" y="2361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Arial"/>
                <a:ea typeface="楷体_GB2312"/>
              </a:rPr>
              <a:t>渭城：秦置咸阳县，汉代改称渭城县，唐时属京兆府咸阳县辖区，在今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陕西咸阳</a:t>
            </a:r>
            <a:r>
              <a:rPr b="1" lang="zh-CN" sz="2800" spc="-1" strike="noStrike">
                <a:solidFill>
                  <a:srgbClr val="000808"/>
                </a:solidFill>
                <a:latin typeface="Arial"/>
                <a:ea typeface="楷体_GB2312"/>
              </a:rPr>
              <a:t>市东北，渭水北岸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1973520" y="4652280"/>
            <a:ext cx="4447800" cy="192240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清晨的细雨打湿了渭城的浮尘；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青砖绿瓦的旅店和周围的柳树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都显得格外清新明朗。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 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533520" y="3581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送别的地点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渭城，时间、天气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朝雨，环境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客舍青、柳色新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7" name="AutoShape 45"/>
          <p:cNvSpPr/>
          <p:nvPr/>
        </p:nvSpPr>
        <p:spPr>
          <a:xfrm>
            <a:off x="152280" y="152280"/>
            <a:ext cx="2210040" cy="762120"/>
          </a:xfrm>
          <a:custGeom>
            <a:avLst/>
            <a:gdLst>
              <a:gd name="textAreaLeft" fmla="*/ 89640 w 2210040"/>
              <a:gd name="textAreaRight" fmla="*/ 2120400 w 221004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1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18" y="21600"/>
                </a:lnTo>
                <a:arcTo wR="3600" hR="3600" stAng="10800000" swAng="5400000"/>
                <a:lnTo>
                  <a:pt x="62618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精读诗歌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4"/>
          <p:cNvSpPr/>
          <p:nvPr/>
        </p:nvSpPr>
        <p:spPr>
          <a:xfrm>
            <a:off x="76320" y="584280"/>
            <a:ext cx="8991360" cy="7642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楷体_GB2312"/>
              </a:rPr>
              <a:t>劝君更尽一杯酒，西出阳关无故人。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870840" y="1726560"/>
            <a:ext cx="8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君：指元二。</a:t>
            </a:r>
            <a:r>
              <a:rPr b="0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2202120" y="4550400"/>
            <a:ext cx="4447800" cy="192240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请你再饮一杯离别的酒吧！因为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你西出阳关之后，在那里就见不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到老朋友了。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 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2286000" y="1727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更：再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3886200" y="1727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故人：老朋友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6477120" y="1727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更尽：再饮完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457200" y="27939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0406"/>
                </a:solidFill>
                <a:latin typeface="Arial"/>
                <a:ea typeface="楷体_GB2312"/>
              </a:rPr>
              <a:t>阳关：汉朝设置的边关名，故址在今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甘肃</a:t>
            </a:r>
            <a:r>
              <a:rPr b="1" lang="zh-CN" sz="2800" spc="-1" strike="noStrike">
                <a:solidFill>
                  <a:srgbClr val="020406"/>
                </a:solidFill>
                <a:latin typeface="Arial"/>
                <a:ea typeface="楷体_GB2312"/>
              </a:rPr>
              <a:t>省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敦煌</a:t>
            </a:r>
            <a:r>
              <a:rPr b="1" lang="zh-CN" sz="2800" spc="-1" strike="noStrike">
                <a:solidFill>
                  <a:srgbClr val="020406"/>
                </a:solidFill>
                <a:latin typeface="Arial"/>
                <a:ea typeface="楷体_GB2312"/>
              </a:rPr>
              <a:t>县西南，古代跟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玉门关</a:t>
            </a:r>
            <a:r>
              <a:rPr b="1" lang="zh-CN" sz="2800" spc="-1" strike="noStrike">
                <a:solidFill>
                  <a:srgbClr val="020406"/>
                </a:solidFill>
                <a:latin typeface="Arial"/>
                <a:ea typeface="楷体_GB2312"/>
              </a:rPr>
              <a:t>同是出塞必经的关口</a:t>
            </a:r>
            <a:r>
              <a:rPr b="1" lang="en-US" sz="2800" spc="-1" strike="noStrike">
                <a:solidFill>
                  <a:srgbClr val="020406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20406"/>
                </a:solidFill>
                <a:latin typeface="Arial"/>
                <a:ea typeface="楷体_GB2312"/>
              </a:rPr>
              <a:t>元和郡县志</a:t>
            </a:r>
            <a:r>
              <a:rPr b="1" lang="en-US" sz="2800" spc="-1" strike="noStrike">
                <a:solidFill>
                  <a:srgbClr val="020406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20406"/>
                </a:solidFill>
                <a:latin typeface="Arial"/>
                <a:ea typeface="楷体_GB2312"/>
              </a:rPr>
              <a:t>云，因在玉门之南，故称阳关。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矩形 2"/>
          <p:cNvSpPr/>
          <p:nvPr/>
        </p:nvSpPr>
        <p:spPr>
          <a:xfrm>
            <a:off x="304920" y="762120"/>
            <a:ext cx="868680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整首诗完整解释：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清晨的细雨打湿了渭城的浮尘；青砖绿瓦的旅店和周围的柳树都显得格外清新明朗。请你再饮一杯离别的酒吧；因为你西出阳关之后，在那里就见不到老朋友了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3"/>
          <p:cNvSpPr/>
          <p:nvPr/>
        </p:nvSpPr>
        <p:spPr>
          <a:xfrm>
            <a:off x="2103480" y="293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838080" y="99072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黄鹤楼送孟浩然之广陵</a:t>
            </a:r>
            <a:endParaRPr b="1" lang="en-US" sz="6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38" name="Picture 9" descr="t01043367bbb389f7d0"/>
          <p:cNvPicPr/>
          <p:nvPr/>
        </p:nvPicPr>
        <p:blipFill>
          <a:blip r:embed="rId1"/>
          <a:stretch/>
        </p:blipFill>
        <p:spPr>
          <a:xfrm>
            <a:off x="2362320" y="2362320"/>
            <a:ext cx="5257800" cy="3679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icken君</cp:lastModifiedBy>
  <dcterms:modified xsi:type="dcterms:W3CDTF">2017-11-30T16:41:1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