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B98-C6FB-4BC4-8E3C-AB9CE039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CB8-6771-4262-95C1-38B0E213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69D-53E6-42C2-A293-D4EEFF8E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440-D974-4FCE-AA2A-067A7AAB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0D2-6628-441F-A5E9-583ECE48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C42-E582-4D9D-B489-BE1971C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136-9884-4FB0-BAF5-1C51C037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D41-AD82-4965-884E-ED741903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D3F-AA1C-4EA1-AC87-7B2A0351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946-7812-46B8-BB4E-66472730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B96-8DDB-42F8-825C-5581715B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A59-D7AC-4B79-AC69-23943543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A342-A3B4-4DF7-8F91-6757E68175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5" descr="数学ppt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  <p:sp>
        <p:nvSpPr>
          <p:cNvPr id="43" name="标题 1"/>
          <p:cNvSpPr/>
          <p:nvPr/>
        </p:nvSpPr>
        <p:spPr>
          <a:xfrm>
            <a:off x="971640" y="1530360"/>
            <a:ext cx="691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数的改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9"/>
          <p:cNvGrpSpPr/>
          <p:nvPr/>
        </p:nvGrpSpPr>
        <p:grpSpPr>
          <a:xfrm>
            <a:off x="3203640" y="5514840"/>
            <a:ext cx="1655640" cy="368280"/>
            <a:chOff x="3203640" y="5514840"/>
            <a:chExt cx="1655640" cy="368280"/>
          </a:xfrm>
        </p:grpSpPr>
        <p:pic>
          <p:nvPicPr>
            <p:cNvPr id="45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3203640" y="5516280"/>
              <a:ext cx="357120" cy="3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12"/>
            <p:cNvSpPr/>
            <p:nvPr/>
          </p:nvSpPr>
          <p:spPr>
            <a:xfrm>
              <a:off x="3637080" y="55148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顾反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8"/>
          <p:cNvGrpSpPr/>
          <p:nvPr/>
        </p:nvGrpSpPr>
        <p:grpSpPr>
          <a:xfrm>
            <a:off x="2050920" y="4983120"/>
            <a:ext cx="2060640" cy="387360"/>
            <a:chOff x="2050920" y="4983120"/>
            <a:chExt cx="2060640" cy="387360"/>
          </a:xfrm>
        </p:grpSpPr>
        <p:sp>
          <p:nvSpPr>
            <p:cNvPr id="48" name="Text Box 11"/>
            <p:cNvSpPr/>
            <p:nvPr/>
          </p:nvSpPr>
          <p:spPr>
            <a:xfrm>
              <a:off x="2455560" y="49831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主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2050920" y="50133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17"/>
          <p:cNvGrpSpPr/>
          <p:nvPr/>
        </p:nvGrpSpPr>
        <p:grpSpPr>
          <a:xfrm>
            <a:off x="1187280" y="4249800"/>
            <a:ext cx="2016000" cy="399960"/>
            <a:chOff x="1187280" y="4249800"/>
            <a:chExt cx="2016000" cy="399960"/>
          </a:xfrm>
        </p:grpSpPr>
        <p:sp>
          <p:nvSpPr>
            <p:cNvPr id="51" name="Text Box 10"/>
            <p:cNvSpPr/>
            <p:nvPr/>
          </p:nvSpPr>
          <p:spPr>
            <a:xfrm>
              <a:off x="1547640" y="42498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合作探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1187280" y="42926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16"/>
          <p:cNvGrpSpPr/>
          <p:nvPr/>
        </p:nvGrpSpPr>
        <p:grpSpPr>
          <a:xfrm>
            <a:off x="482760" y="3529080"/>
            <a:ext cx="2044080" cy="401040"/>
            <a:chOff x="482760" y="3529080"/>
            <a:chExt cx="2044080" cy="401040"/>
          </a:xfrm>
        </p:grpSpPr>
        <p:sp>
          <p:nvSpPr>
            <p:cNvPr id="54" name="Text Box 9"/>
            <p:cNvSpPr/>
            <p:nvPr/>
          </p:nvSpPr>
          <p:spPr>
            <a:xfrm>
              <a:off x="871200" y="35290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82760" y="3573000"/>
              <a:ext cx="35676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6"/>
          <p:cNvSpPr/>
          <p:nvPr/>
        </p:nvSpPr>
        <p:spPr>
          <a:xfrm>
            <a:off x="527040" y="26434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59090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写成以亿为单位的数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39640" y="222444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12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写成以万作单位的数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1.2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。  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598320" y="1184400"/>
            <a:ext cx="432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958680" y="1380960"/>
            <a:ext cx="31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火眼金睛辨对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7812000" y="209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539640" y="3198960"/>
            <a:ext cx="9001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29.00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确到百分位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.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              （   ）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39640" y="398628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留三位小数，表示精确到千分位。           （   ）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39640" y="468180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4.00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留两位小数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                 （   ）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810560" y="269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897680" y="3357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824960" y="4076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824960" y="47235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68360" y="134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写并保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1042920" y="3860640"/>
            <a:ext cx="6769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70990000=28.7099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.7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5"/>
          <p:cNvSpPr/>
          <p:nvPr/>
        </p:nvSpPr>
        <p:spPr>
          <a:xfrm>
            <a:off x="324000" y="1916280"/>
            <a:ext cx="8569080" cy="11912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王星、海王星、土星到太阳的距离分别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7099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0400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2940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请把这三个数先改写成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单位的数，再写出它们的近似数（保留一位小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1028880" y="5186520"/>
            <a:ext cx="6769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29400000=14.29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.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8"/>
          <p:cNvSpPr/>
          <p:nvPr/>
        </p:nvSpPr>
        <p:spPr>
          <a:xfrm>
            <a:off x="1000080" y="4508640"/>
            <a:ext cx="6769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04000000=45.0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.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332000" y="422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78000000=6.7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.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3"/>
          <p:cNvSpPr/>
          <p:nvPr/>
        </p:nvSpPr>
        <p:spPr>
          <a:xfrm>
            <a:off x="324000" y="134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按要求改写，再按要求求近似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250920" y="191628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29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写成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单位的数。（保留一位小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258840" y="350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800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写成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单位的数。（精确到十分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1258920" y="2708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2900=45.29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.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1"/>
          <p:cNvSpPr/>
          <p:nvPr/>
        </p:nvSpPr>
        <p:spPr>
          <a:xfrm>
            <a:off x="5219640" y="1700280"/>
            <a:ext cx="34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539640" y="5805360"/>
            <a:ext cx="727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3"/>
          <p:cNvSpPr/>
          <p:nvPr/>
        </p:nvSpPr>
        <p:spPr>
          <a:xfrm>
            <a:off x="6084720" y="198900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高能飞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7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4"/>
          <p:cNvSpPr/>
          <p:nvPr/>
        </p:nvSpPr>
        <p:spPr>
          <a:xfrm>
            <a:off x="6084720" y="2565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有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99680000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5"/>
          <p:cNvSpPr/>
          <p:nvPr/>
        </p:nvSpPr>
        <p:spPr>
          <a:xfrm>
            <a:off x="6084720" y="3213000"/>
            <a:ext cx="251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你能把横线上的数改写成以“万”或“亿”作单位的数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6"/>
          <p:cNvSpPr/>
          <p:nvPr/>
        </p:nvSpPr>
        <p:spPr>
          <a:xfrm>
            <a:off x="4067280" y="4726080"/>
            <a:ext cx="8665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7"/>
          <p:cNvSpPr/>
          <p:nvPr/>
        </p:nvSpPr>
        <p:spPr>
          <a:xfrm>
            <a:off x="4211640" y="5300640"/>
            <a:ext cx="15127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8"/>
          <p:cNvSpPr/>
          <p:nvPr/>
        </p:nvSpPr>
        <p:spPr>
          <a:xfrm>
            <a:off x="6156360" y="2565360"/>
            <a:ext cx="2303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4819680" cy="2962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48387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9" descr="四下_页面_074"/>
          <p:cNvPicPr/>
          <p:nvPr/>
        </p:nvPicPr>
        <p:blipFill>
          <a:blip r:embed="rId1"/>
          <a:srcRect l="10413" t="31484" r="80258" b="62852"/>
          <a:stretch/>
        </p:blipFill>
        <p:spPr>
          <a:xfrm>
            <a:off x="395280" y="1341360"/>
            <a:ext cx="720720" cy="4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1"/>
          <p:cNvSpPr/>
          <p:nvPr/>
        </p:nvSpPr>
        <p:spPr>
          <a:xfrm>
            <a:off x="1116000" y="191628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写成以万作单位的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3"/>
          <p:cNvSpPr/>
          <p:nvPr/>
        </p:nvSpPr>
        <p:spPr>
          <a:xfrm>
            <a:off x="1116000" y="1268280"/>
            <a:ext cx="8028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把横线上的数改写成以“万”或“亿”作单位的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7"/>
          <p:cNvSpPr/>
          <p:nvPr/>
        </p:nvSpPr>
        <p:spPr>
          <a:xfrm>
            <a:off x="3141720" y="2825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8"/>
          <p:cNvSpPr/>
          <p:nvPr/>
        </p:nvSpPr>
        <p:spPr>
          <a:xfrm>
            <a:off x="3646440" y="28116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9"/>
          <p:cNvSpPr/>
          <p:nvPr/>
        </p:nvSpPr>
        <p:spPr>
          <a:xfrm>
            <a:off x="4065480" y="28116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0"/>
          <p:cNvSpPr/>
          <p:nvPr/>
        </p:nvSpPr>
        <p:spPr>
          <a:xfrm>
            <a:off x="4581360" y="2825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1"/>
          <p:cNvSpPr/>
          <p:nvPr/>
        </p:nvSpPr>
        <p:spPr>
          <a:xfrm>
            <a:off x="5086440" y="2825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2"/>
          <p:cNvSpPr/>
          <p:nvPr/>
        </p:nvSpPr>
        <p:spPr>
          <a:xfrm flipV="1">
            <a:off x="5364000" y="3430080"/>
            <a:ext cx="9720" cy="46044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3"/>
          <p:cNvSpPr/>
          <p:nvPr/>
        </p:nvSpPr>
        <p:spPr>
          <a:xfrm>
            <a:off x="5148360" y="3863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4"/>
          <p:cNvSpPr/>
          <p:nvPr/>
        </p:nvSpPr>
        <p:spPr>
          <a:xfrm flipV="1">
            <a:off x="4859280" y="3430080"/>
            <a:ext cx="11160" cy="46044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5"/>
          <p:cNvSpPr/>
          <p:nvPr/>
        </p:nvSpPr>
        <p:spPr>
          <a:xfrm>
            <a:off x="4645080" y="3892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6"/>
          <p:cNvSpPr/>
          <p:nvPr/>
        </p:nvSpPr>
        <p:spPr>
          <a:xfrm flipV="1">
            <a:off x="4284720" y="3430080"/>
            <a:ext cx="9360" cy="46044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7"/>
          <p:cNvSpPr/>
          <p:nvPr/>
        </p:nvSpPr>
        <p:spPr>
          <a:xfrm>
            <a:off x="4068720" y="3889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8"/>
          <p:cNvSpPr/>
          <p:nvPr/>
        </p:nvSpPr>
        <p:spPr>
          <a:xfrm flipV="1">
            <a:off x="3851280" y="3430080"/>
            <a:ext cx="11160" cy="46044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9"/>
          <p:cNvSpPr/>
          <p:nvPr/>
        </p:nvSpPr>
        <p:spPr>
          <a:xfrm>
            <a:off x="3578400" y="3863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0"/>
          <p:cNvSpPr/>
          <p:nvPr/>
        </p:nvSpPr>
        <p:spPr>
          <a:xfrm flipV="1">
            <a:off x="3348000" y="3430080"/>
            <a:ext cx="9720" cy="460440"/>
          </a:xfrm>
          <a:prstGeom prst="line">
            <a:avLst/>
          </a:prstGeom>
          <a:ln w="3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1"/>
          <p:cNvSpPr/>
          <p:nvPr/>
        </p:nvSpPr>
        <p:spPr>
          <a:xfrm>
            <a:off x="3122640" y="3865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2"/>
          <p:cNvSpPr/>
          <p:nvPr/>
        </p:nvSpPr>
        <p:spPr>
          <a:xfrm>
            <a:off x="3430440" y="278136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4"/>
          <p:cNvSpPr/>
          <p:nvPr/>
        </p:nvSpPr>
        <p:spPr>
          <a:xfrm>
            <a:off x="3132000" y="47260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5"/>
          <p:cNvSpPr/>
          <p:nvPr/>
        </p:nvSpPr>
        <p:spPr>
          <a:xfrm>
            <a:off x="3548160" y="47275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6"/>
          <p:cNvSpPr/>
          <p:nvPr/>
        </p:nvSpPr>
        <p:spPr>
          <a:xfrm>
            <a:off x="4038480" y="47260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7"/>
          <p:cNvSpPr/>
          <p:nvPr/>
        </p:nvSpPr>
        <p:spPr>
          <a:xfrm>
            <a:off x="5118120" y="4711680"/>
            <a:ext cx="5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8"/>
          <p:cNvSpPr/>
          <p:nvPr/>
        </p:nvSpPr>
        <p:spPr>
          <a:xfrm>
            <a:off x="4630680" y="47116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9"/>
          <p:cNvSpPr/>
          <p:nvPr/>
        </p:nvSpPr>
        <p:spPr>
          <a:xfrm>
            <a:off x="5580000" y="46530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0"/>
          <p:cNvSpPr/>
          <p:nvPr/>
        </p:nvSpPr>
        <p:spPr>
          <a:xfrm>
            <a:off x="5580000" y="47242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1"/>
          <p:cNvSpPr/>
          <p:nvPr/>
        </p:nvSpPr>
        <p:spPr>
          <a:xfrm>
            <a:off x="3132000" y="5589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00 = 1.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2"/>
          <p:cNvSpPr/>
          <p:nvPr/>
        </p:nvSpPr>
        <p:spPr>
          <a:xfrm>
            <a:off x="6588000" y="479736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4"/>
          <p:cNvSpPr/>
          <p:nvPr/>
        </p:nvSpPr>
        <p:spPr>
          <a:xfrm>
            <a:off x="611280" y="2852640"/>
            <a:ext cx="2160360" cy="1225800"/>
          </a:xfrm>
          <a:prstGeom prst="wedgeRectCallout">
            <a:avLst>
              <a:gd name="adj1" fmla="val 60652"/>
              <a:gd name="adj2" fmla="val -21115"/>
            </a:avLst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0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有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万和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0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，用万作单位，整数部分应该是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5"/>
          <p:cNvSpPr/>
          <p:nvPr/>
        </p:nvSpPr>
        <p:spPr>
          <a:xfrm>
            <a:off x="6300720" y="2924280"/>
            <a:ext cx="2016360" cy="1225440"/>
          </a:xfrm>
          <a:prstGeom prst="wedgeRectCallout">
            <a:avLst>
              <a:gd name="adj1" fmla="val -60236"/>
              <a:gd name="adj2" fmla="val -16319"/>
            </a:avLst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万位的右边点上小数点，在数的后面加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64162E-006 L 0.26875 -0.14312 E">
                                      <p:cBhvr>
                                        <p:cTn id="9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1619 C -0.00625 0.02567 -0.01406 0.04717 -0.0217 0.05156 C -0.03559 0.06775 -0.04375 0.08509 -0.05972 0.08925 C -0.08003 0.09549 -0.11649 0.10937 -0.14132 0.10659 C -0.16667 0.10474 -0.19531 0.08925 -0.21094 0.07677 C -0.21996 0.06659 -0.22656 0.04116 -0.23472 0.03029 C -0.23663 0.02729 -0.23819 0.01966 -0.2401 0.01966 E">
                                      <p:cBhvr>
                                        <p:cTn id="14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2.31214E-006 L -0.19878 2.31214E-006 E">
                                      <p:cBhvr>
                                        <p:cTn id="16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373800" y="32907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97440" y="32907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292720" y="32907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861080" y="32907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500720" y="32907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97440" y="3290760"/>
            <a:ext cx="43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565440" y="3290760"/>
            <a:ext cx="4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916360" y="3290760"/>
            <a:ext cx="43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2197080" y="32907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4"/>
          <p:cNvGrpSpPr/>
          <p:nvPr/>
        </p:nvGrpSpPr>
        <p:grpSpPr>
          <a:xfrm>
            <a:off x="1260360" y="2425680"/>
            <a:ext cx="5904000" cy="1191240"/>
            <a:chOff x="1260360" y="2425680"/>
            <a:chExt cx="5904000" cy="1191240"/>
          </a:xfrm>
        </p:grpSpPr>
        <p:sp>
          <p:nvSpPr>
            <p:cNvPr id="111" name="Text Box 7"/>
            <p:cNvSpPr/>
            <p:nvPr/>
          </p:nvSpPr>
          <p:spPr>
            <a:xfrm>
              <a:off x="1260360" y="2425680"/>
              <a:ext cx="144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 9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2987640" y="242568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3564000" y="2425680"/>
              <a:ext cx="360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 0 0 0 0 0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0"/>
          <p:cNvSpPr/>
          <p:nvPr/>
        </p:nvSpPr>
        <p:spPr>
          <a:xfrm>
            <a:off x="1835280" y="5013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680000000=996.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6804000" y="4011480"/>
            <a:ext cx="3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7093080" y="43131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四下_页面_074"/>
          <p:cNvPicPr/>
          <p:nvPr/>
        </p:nvPicPr>
        <p:blipFill>
          <a:blip r:embed="rId2"/>
          <a:srcRect l="10413" t="31484" r="80258" b="62852"/>
          <a:stretch/>
        </p:blipFill>
        <p:spPr>
          <a:xfrm>
            <a:off x="395280" y="1368360"/>
            <a:ext cx="720720" cy="43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9"/>
          <p:cNvSpPr/>
          <p:nvPr/>
        </p:nvSpPr>
        <p:spPr>
          <a:xfrm>
            <a:off x="1116000" y="1295280"/>
            <a:ext cx="8028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把横线上的数改写成以“万”或“亿”作单位的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1116000" y="191628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68000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写成以亿作单位的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1332000" y="437040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 9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2987640" y="43704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3592440" y="43434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0 0 0 0 0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2557440" y="2133720"/>
            <a:ext cx="3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111E-006 -4.91329E-006 L 0.52743 -0.12161 E">
                                      <p:cBhvr>
                                        <p:cTn id="25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885 C -0.02066 0.04671 -0.01684 0.04763 -0.02969 0.05549 C -0.04983 0.06752 -0.09323 0.06775 -0.11476 0.06844 C -0.14775 0.0733 -0.17969 0.0726 -0.21372 0.07353 C -0.26476 0.07284 -0.31632 0.07284 -0.36737 0.07168 C -0.38525 0.07145 -0.40035 0.05896 -0.41598 0.05549 C -0.42744 0.04255 -0.41303 0.05758 -0.42744 0.04717 C -0.43282 0.04347 -0.43507 0.03885 -0.44132 0.03561 C -0.44289 0.03445 -0.45191 0.03145 -0.45278 0.0289 C -0.45278 0.02636 -0.45278 0.02359 -0.45278 0.02104 E">
                                      <p:cBhvr>
                                        <p:cTn id="28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1"/>
                            </p:stCondLst>
                            <p:childTnLst>
                              <p:par>
                                <p:cTn id="2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0578 L -0.39757 0.01156 E">
                                      <p:cBhvr>
                                        <p:cTn id="29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7"/>
          <p:cNvSpPr/>
          <p:nvPr/>
        </p:nvSpPr>
        <p:spPr>
          <a:xfrm>
            <a:off x="539640" y="22510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怎样将一个数改写成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单位的数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755640" y="3970440"/>
            <a:ext cx="7632720" cy="104436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一个数改写成用“万”或“亿”作单位的数：在原数的万位或亿位右边点上小数点（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点向左移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），后面加上“万”字或“亿”字，如果末尾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化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826920" y="1521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00 =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1"/>
          <p:cNvSpPr/>
          <p:nvPr/>
        </p:nvSpPr>
        <p:spPr>
          <a:xfrm>
            <a:off x="3780000" y="1593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680000000 =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2627280" y="15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6877080" y="1563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6227640" y="1219320"/>
            <a:ext cx="576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6"/>
          <p:cNvSpPr/>
          <p:nvPr/>
        </p:nvSpPr>
        <p:spPr>
          <a:xfrm>
            <a:off x="2008080" y="1203480"/>
            <a:ext cx="576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2411280" y="1521000"/>
            <a:ext cx="4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2050920" y="15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5724360" y="159228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6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6588000" y="1593720"/>
            <a:ext cx="4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8"/>
          <p:cNvSpPr/>
          <p:nvPr/>
        </p:nvSpPr>
        <p:spPr>
          <a:xfrm>
            <a:off x="755640" y="2159640"/>
            <a:ext cx="83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较大的数改写成以万作单位的小数时，只要在（    ）位的右下角添上（      ），并在小数末尾加上（   ），用（      ）连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6"/>
          <p:cNvSpPr/>
          <p:nvPr/>
        </p:nvSpPr>
        <p:spPr>
          <a:xfrm>
            <a:off x="684360" y="54054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30000000  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亿；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1530000000=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468360" y="14119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324000" y="389736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395280" y="358668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000  =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万；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4000=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611280" y="423288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较大的数改写成以亿作单位的小数时，只要在（    ）位的右下角添上（      ），并在小数末尾加上（   ），用（       ）连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409680" y="186408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7810560" y="20178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00520" y="246384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数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7236000" y="2463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1085760" y="29401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于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2916360" y="35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6156360" y="35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7667640" y="41068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3059280" y="455292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数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321680" y="45385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1332000" y="49989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于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3203640" y="558972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7048440" y="5589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1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6"/>
          <p:cNvSpPr/>
          <p:nvPr/>
        </p:nvSpPr>
        <p:spPr>
          <a:xfrm>
            <a:off x="611280" y="4149720"/>
            <a:ext cx="8281800" cy="2087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70040" y="2133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6.8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354400" y="2133720"/>
            <a:ext cx="41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≈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97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保留整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1"/>
          <p:cNvSpPr/>
          <p:nvPr/>
        </p:nvSpPr>
        <p:spPr>
          <a:xfrm>
            <a:off x="755640" y="1413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时可以根据需要取近似数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684360" y="2924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求一个数的近似数和将一个数改写成用“万”或“亿”作单位的数有什么区别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684360" y="4292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求一个数的近似数，需要省略某位后面的尾数，结果是近似数，数的大小也发生了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755640" y="5229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将一个数改写成以“万”或“亿”作单位的数，结果是准确数，数的大小没有发生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1"/>
          <p:cNvSpPr/>
          <p:nvPr/>
        </p:nvSpPr>
        <p:spPr>
          <a:xfrm>
            <a:off x="2989440" y="1628640"/>
            <a:ext cx="165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长的山系是科迪勒拉山系，全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6516720" y="162864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的内陆湖是里海，总面积达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18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平方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2700360" y="414972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上海洋的总面积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2000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平方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2700360" y="5229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到太阳的平均距离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96000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84360" y="1341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四下_页面_076"/>
          <p:cNvPicPr/>
          <p:nvPr/>
        </p:nvPicPr>
        <p:blipFill>
          <a:blip r:embed="rId1"/>
          <a:srcRect l="13623" t="10907" r="67958" b="75558"/>
          <a:stretch/>
        </p:blipFill>
        <p:spPr>
          <a:xfrm>
            <a:off x="539640" y="1768320"/>
            <a:ext cx="2376720" cy="2433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四下_页面_076"/>
          <p:cNvPicPr/>
          <p:nvPr/>
        </p:nvPicPr>
        <p:blipFill>
          <a:blip r:embed="rId2"/>
          <a:srcRect l="47126" t="10922" r="35168" b="74795"/>
          <a:stretch/>
        </p:blipFill>
        <p:spPr>
          <a:xfrm>
            <a:off x="4643280" y="1700280"/>
            <a:ext cx="1944720" cy="2458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四下_页面_076"/>
          <p:cNvPicPr/>
          <p:nvPr/>
        </p:nvPicPr>
        <p:blipFill>
          <a:blip r:embed="rId3"/>
          <a:srcRect l="13623" t="24446" r="67403" b="62035"/>
          <a:stretch/>
        </p:blipFill>
        <p:spPr>
          <a:xfrm>
            <a:off x="539640" y="400536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5"/>
          <p:cNvSpPr/>
          <p:nvPr/>
        </p:nvSpPr>
        <p:spPr>
          <a:xfrm>
            <a:off x="2957400" y="3357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7164360" y="2924280"/>
            <a:ext cx="10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7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957400" y="45957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2771640" y="566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4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C:\Documents and Settings\pub\Desktop\新ppt\返回首页.jpg"/>
          <p:cNvPicPr/>
          <p:nvPr/>
        </p:nvPicPr>
        <p:blipFill>
          <a:blip r:embed="rId4"/>
          <a:stretch/>
        </p:blipFill>
        <p:spPr>
          <a:xfrm>
            <a:off x="8362800" y="641340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3" name="Line 22"/>
          <p:cNvSpPr/>
          <p:nvPr/>
        </p:nvSpPr>
        <p:spPr>
          <a:xfrm>
            <a:off x="2989440" y="3784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7278840" y="3327480"/>
            <a:ext cx="86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6"/>
          <p:cNvSpPr/>
          <p:nvPr/>
        </p:nvSpPr>
        <p:spPr>
          <a:xfrm>
            <a:off x="2843280" y="501336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2771640" y="602136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2987640" y="299736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7020000" y="256536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5292720" y="429264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2"/>
          <p:cNvSpPr/>
          <p:nvPr/>
        </p:nvSpPr>
        <p:spPr>
          <a:xfrm>
            <a:off x="5435640" y="537372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6"/>
          <p:cNvSpPr/>
          <p:nvPr/>
        </p:nvSpPr>
        <p:spPr>
          <a:xfrm>
            <a:off x="439560" y="386064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地球绕太阳公转一周的行程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94000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468360" y="4581360"/>
            <a:ext cx="799308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地球表面的总面积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51000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千米，其中陆地总面积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4800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468360" y="227664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太阳的直径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38900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11280" y="1484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各数改写成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单位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132000" y="27082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.89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57200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8440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364000" y="42498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.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4354560" y="4941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1835280" y="54468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4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4"/>
          <p:cNvSpPr/>
          <p:nvPr/>
        </p:nvSpPr>
        <p:spPr>
          <a:xfrm>
            <a:off x="468360" y="30258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地球到月球的平均距离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84401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13:10:22Z</dcterms:created>
  <dc:creator>Lenovo</dc:creator>
  <dc:description/>
  <cp:keywords>青岛版数学</cp:keywords>
  <dc:language>en-US</dc:language>
  <cp:lastModifiedBy>微软用户</cp:lastModifiedBy>
  <dcterms:modified xsi:type="dcterms:W3CDTF">2015-10-22T08:01:31Z</dcterms:modified>
  <cp:revision>212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