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D932-D6F4-4AF2-83DA-7A9E3585F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9DF6-F732-41E2-9B3A-038227BD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0C0D-7504-4CAC-95F5-51142C53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D503-06E4-4D39-8044-DD6894BE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D1CD-11C6-4509-BC44-219944416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7EA1-A557-4D38-B86E-CAFB26B5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B865-5C94-436A-B723-C1900CFF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D2A8-11D8-4F18-95F4-5E13936B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2CEB-0BCD-4207-B27B-E1D10FEF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EA67-724E-44D9-AC89-9D9552FB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600B-3F60-406F-ABDC-F2312A34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F615-19D7-420C-AB54-14EA57BD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2B12-DEC1-492A-BB86-E7282F9D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8497-D256-497B-98E7-CEEF4ECA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AE7A-A7F3-41C0-8524-4B8DD657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5BB7-7A2C-4745-BB03-811F953B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A8EF-0C1D-4519-8BFA-75B595141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D9A7-BFDE-46E8-9C10-286DECB2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306F-DEAE-4980-896C-8F07ABB3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FAF1-AEC2-4D04-A580-0B3F26B2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6BDA-F4D7-4CE8-9D68-CBE2C77B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BED2-1597-4B0E-87F9-739ED092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0105-0131-40B2-A7EC-4464A35F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4598-75D6-48F2-A599-041B0FF5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2816-5E9C-4148-9F7F-9ECA452646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93FC-E5CA-4B92-BEE1-324C824D17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38200" y="2484000"/>
            <a:ext cx="4948200" cy="17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Tahoma"/>
                <a:ea typeface="华文中宋"/>
              </a:rPr>
              <a:t>除数是两位数的口算除法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Line 3"/>
          <p:cNvSpPr/>
          <p:nvPr/>
        </p:nvSpPr>
        <p:spPr>
          <a:xfrm flipV="1">
            <a:off x="1619280" y="1700280"/>
            <a:ext cx="4680000" cy="144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Line 5"/>
          <p:cNvSpPr/>
          <p:nvPr/>
        </p:nvSpPr>
        <p:spPr>
          <a:xfrm flipH="1">
            <a:off x="1762200" y="838080"/>
            <a:ext cx="1440" cy="3598920"/>
          </a:xfrm>
          <a:prstGeom prst="line">
            <a:avLst/>
          </a:prstGeom>
          <a:ln w="57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619280" y="981000"/>
            <a:ext cx="609588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青岛版四年级上册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98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吨土豆，一次能运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吨。估一估，几次能运完？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70610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98÷50≈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（次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98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估成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00÷50=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98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吨往大里估，结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次能运完。实际运的比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00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吨少，所以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次肯定能运完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198960" y="20606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1116000" y="554688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答：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98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吨土豆需要运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次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3">
            <a:hlinkClick r:id="" action="ppaction://hlinkshowjump?jump=previousslide"/>
          </p:cNvPr>
          <p:cNvSpPr/>
          <p:nvPr/>
        </p:nvSpPr>
        <p:spPr>
          <a:xfrm>
            <a:off x="8085240" y="6303960"/>
            <a:ext cx="272880" cy="249120"/>
          </a:xfrm>
          <a:custGeom>
            <a:avLst/>
            <a:gdLst>
              <a:gd name="textAreaLeft" fmla="*/ 15840 w 272880"/>
              <a:gd name="textAreaRight" fmla="*/ 257040 w 272880"/>
              <a:gd name="textAreaTop" fmla="*/ 15840 h 249120"/>
              <a:gd name="textAreaBottom" fmla="*/ 233280 h 249120"/>
            </a:gdLst>
            <a:ahLst/>
            <a:rect l="textAreaLeft" t="textAreaTop" r="textAreaRight" b="textAreaBottom"/>
            <a:pathLst>
              <a:path w="23657" h="21600">
                <a:moveTo>
                  <a:pt x="0" y="0"/>
                </a:moveTo>
                <a:lnTo>
                  <a:pt x="23657" y="0"/>
                </a:lnTo>
                <a:lnTo>
                  <a:pt x="23657" y="21600"/>
                </a:lnTo>
                <a:lnTo>
                  <a:pt x="0" y="21600"/>
                </a:lnTo>
                <a:close/>
              </a:path>
              <a:path fill="lightenLess" w="23657" h="21600">
                <a:moveTo>
                  <a:pt x="0" y="0"/>
                </a:moveTo>
                <a:lnTo>
                  <a:pt x="23657" y="0"/>
                </a:lnTo>
                <a:lnTo>
                  <a:pt x="22257" y="1400"/>
                </a:lnTo>
                <a:lnTo>
                  <a:pt x="1400" y="1400"/>
                </a:lnTo>
                <a:close/>
              </a:path>
              <a:path fill="darken" w="23657" h="21600">
                <a:moveTo>
                  <a:pt x="23657" y="0"/>
                </a:moveTo>
                <a:lnTo>
                  <a:pt x="23657" y="21600"/>
                </a:lnTo>
                <a:lnTo>
                  <a:pt x="22257" y="20200"/>
                </a:lnTo>
                <a:lnTo>
                  <a:pt x="22257" y="1400"/>
                </a:lnTo>
                <a:close/>
              </a:path>
              <a:path fill="darkenLess" w="23657" h="21600">
                <a:moveTo>
                  <a:pt x="23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57" y="20200"/>
                </a:lnTo>
                <a:close/>
              </a:path>
              <a:path fill="lighten" w="23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57" h="21600">
                <a:moveTo>
                  <a:pt x="4822" y="10800"/>
                </a:moveTo>
                <a:lnTo>
                  <a:pt x="18835" y="3794"/>
                </a:lnTo>
                <a:lnTo>
                  <a:pt x="18835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AutoShape 4">
            <a:hlinkClick r:id="" action="ppaction://hlinkshowjump?jump=nextslide"/>
          </p:cNvPr>
          <p:cNvSpPr/>
          <p:nvPr/>
        </p:nvSpPr>
        <p:spPr>
          <a:xfrm>
            <a:off x="8367840" y="6305400"/>
            <a:ext cx="264960" cy="247680"/>
          </a:xfrm>
          <a:custGeom>
            <a:avLst/>
            <a:gdLst>
              <a:gd name="textAreaLeft" fmla="*/ 15840 w 264960"/>
              <a:gd name="textAreaRight" fmla="*/ 249120 w 264960"/>
              <a:gd name="textAreaTop" fmla="*/ 15840 h 247680"/>
              <a:gd name="textAreaBottom" fmla="*/ 231840 h 247680"/>
            </a:gdLst>
            <a:ahLst/>
            <a:rect l="textAreaLeft" t="textAreaTop" r="textAreaRight" b="textAreaBottom"/>
            <a:pathLst>
              <a:path w="23105" h="21600">
                <a:moveTo>
                  <a:pt x="0" y="0"/>
                </a:moveTo>
                <a:lnTo>
                  <a:pt x="23105" y="0"/>
                </a:lnTo>
                <a:lnTo>
                  <a:pt x="23105" y="21600"/>
                </a:lnTo>
                <a:lnTo>
                  <a:pt x="0" y="21600"/>
                </a:lnTo>
                <a:close/>
              </a:path>
              <a:path fill="lightenLess" w="23105" h="21600">
                <a:moveTo>
                  <a:pt x="0" y="0"/>
                </a:moveTo>
                <a:lnTo>
                  <a:pt x="23105" y="0"/>
                </a:lnTo>
                <a:lnTo>
                  <a:pt x="21705" y="1400"/>
                </a:lnTo>
                <a:lnTo>
                  <a:pt x="1400" y="1400"/>
                </a:lnTo>
                <a:close/>
              </a:path>
              <a:path fill="darken" w="23105" h="21600">
                <a:moveTo>
                  <a:pt x="23105" y="0"/>
                </a:moveTo>
                <a:lnTo>
                  <a:pt x="23105" y="21600"/>
                </a:lnTo>
                <a:lnTo>
                  <a:pt x="21705" y="20200"/>
                </a:lnTo>
                <a:lnTo>
                  <a:pt x="21705" y="1400"/>
                </a:lnTo>
                <a:close/>
              </a:path>
              <a:path fill="darkenLess" w="23105" h="21600">
                <a:moveTo>
                  <a:pt x="231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5" y="20200"/>
                </a:lnTo>
                <a:close/>
              </a:path>
              <a:path fill="lighten" w="231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5" h="21600">
                <a:moveTo>
                  <a:pt x="4546" y="3794"/>
                </a:moveTo>
                <a:lnTo>
                  <a:pt x="18559" y="10800"/>
                </a:lnTo>
                <a:lnTo>
                  <a:pt x="454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609480" y="1600200"/>
            <a:ext cx="335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90÷30=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609480" y="2438280"/>
            <a:ext cx="335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143÷70≈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4876920" y="243828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632÷90≈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609480" y="3962520"/>
            <a:ext cx="335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360÷40=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609480" y="4724280"/>
            <a:ext cx="335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240÷77≈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4876920" y="160020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80÷40=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3276720" y="160020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429000" y="24382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7467480" y="160020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7696080" y="24382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3276720" y="39625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3429000" y="47242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685800" y="685800"/>
            <a:ext cx="244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第一关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395280" y="3068640"/>
            <a:ext cx="115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ahoma"/>
              </a:rPr>
              <a:t>（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140</a:t>
            </a:r>
            <a:r>
              <a:rPr b="0" lang="zh-CN" sz="2800" spc="-1" strike="noStrike">
                <a:solidFill>
                  <a:srgbClr val="ff00ff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Text Box 19"/>
          <p:cNvSpPr/>
          <p:nvPr/>
        </p:nvSpPr>
        <p:spPr>
          <a:xfrm>
            <a:off x="4716360" y="3141720"/>
            <a:ext cx="12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ahoma"/>
              </a:rPr>
              <a:t>（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630</a:t>
            </a:r>
            <a:r>
              <a:rPr b="0" lang="zh-CN" sz="2800" spc="-1" strike="noStrike">
                <a:solidFill>
                  <a:srgbClr val="ff00ff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Text Box 20"/>
          <p:cNvSpPr/>
          <p:nvPr/>
        </p:nvSpPr>
        <p:spPr>
          <a:xfrm>
            <a:off x="1979640" y="5300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ahoma"/>
              </a:rPr>
              <a:t>（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80</a:t>
            </a:r>
            <a:r>
              <a:rPr b="0" lang="zh-CN" sz="2800" spc="-1" strike="noStrike">
                <a:solidFill>
                  <a:srgbClr val="ff00ff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5580000" y="3789360"/>
            <a:ext cx="64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2363400" y="909720"/>
            <a:ext cx="462384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÷30= 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20÷89≈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7÷80≈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80÷60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90÷70=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0÷8=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×5=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2÷50≈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2232000" y="260280"/>
            <a:ext cx="691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在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之内做完吗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只写结果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Picture 7" descr="KT175"/>
          <p:cNvPicPr/>
          <p:nvPr/>
        </p:nvPicPr>
        <p:blipFill>
          <a:blip r:embed="rId2"/>
          <a:stretch/>
        </p:blipFill>
        <p:spPr>
          <a:xfrm>
            <a:off x="1403280" y="0"/>
            <a:ext cx="1219320" cy="11541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21"/>
          <p:cNvSpPr/>
          <p:nvPr/>
        </p:nvSpPr>
        <p:spPr>
          <a:xfrm>
            <a:off x="0" y="0"/>
            <a:ext cx="2556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第二关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5580000" y="3789360"/>
            <a:ext cx="64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2421000" y="478080"/>
            <a:ext cx="54230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÷30= </a:t>
            </a:r>
            <a:r>
              <a:rPr b="0" lang="en-US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3 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20÷89≈</a:t>
            </a:r>
            <a:r>
              <a:rPr b="0" lang="en-US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8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2÷80≈</a:t>
            </a:r>
            <a:r>
              <a:rPr b="0" lang="en-US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80÷60=</a:t>
            </a:r>
            <a:r>
              <a:rPr b="0" lang="en-US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90÷70=</a:t>
            </a:r>
            <a:r>
              <a:rPr b="0" lang="en-US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0÷8=</a:t>
            </a:r>
            <a:r>
              <a:rPr b="0" lang="en-US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40 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×5=</a:t>
            </a:r>
            <a:r>
              <a:rPr b="0" lang="en-US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350 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2÷50≈</a:t>
            </a:r>
            <a:r>
              <a:rPr b="0" lang="en-US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6" name="Picture 6" descr="900304-1"/>
          <p:cNvPicPr/>
          <p:nvPr/>
        </p:nvPicPr>
        <p:blipFill>
          <a:blip r:embed="rId2"/>
          <a:stretch/>
        </p:blipFill>
        <p:spPr>
          <a:xfrm>
            <a:off x="0" y="6188040"/>
            <a:ext cx="9144000" cy="66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2"/>
          <a:stretch/>
        </p:blipFill>
        <p:spPr>
          <a:xfrm>
            <a:off x="36360" y="1159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生活中的数学2"/>
          <p:cNvPicPr/>
          <p:nvPr/>
        </p:nvPicPr>
        <p:blipFill>
          <a:blip r:embed="rId3"/>
          <a:stretch/>
        </p:blipFill>
        <p:spPr>
          <a:xfrm>
            <a:off x="457200" y="1165320"/>
            <a:ext cx="6635880" cy="355896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4">
            <a:hlinkClick r:id="" action="ppaction://hlinkshowjump?jump=previousslide"/>
          </p:cNvPr>
          <p:cNvSpPr/>
          <p:nvPr/>
        </p:nvSpPr>
        <p:spPr>
          <a:xfrm>
            <a:off x="8085240" y="6303960"/>
            <a:ext cx="272880" cy="249120"/>
          </a:xfrm>
          <a:custGeom>
            <a:avLst/>
            <a:gdLst>
              <a:gd name="textAreaLeft" fmla="*/ 15840 w 272880"/>
              <a:gd name="textAreaRight" fmla="*/ 257040 w 272880"/>
              <a:gd name="textAreaTop" fmla="*/ 15840 h 249120"/>
              <a:gd name="textAreaBottom" fmla="*/ 233280 h 249120"/>
            </a:gdLst>
            <a:ahLst/>
            <a:rect l="textAreaLeft" t="textAreaTop" r="textAreaRight" b="textAreaBottom"/>
            <a:pathLst>
              <a:path w="23657" h="21600">
                <a:moveTo>
                  <a:pt x="0" y="0"/>
                </a:moveTo>
                <a:lnTo>
                  <a:pt x="23657" y="0"/>
                </a:lnTo>
                <a:lnTo>
                  <a:pt x="23657" y="21600"/>
                </a:lnTo>
                <a:lnTo>
                  <a:pt x="0" y="21600"/>
                </a:lnTo>
                <a:close/>
              </a:path>
              <a:path fill="lightenLess" w="23657" h="21600">
                <a:moveTo>
                  <a:pt x="0" y="0"/>
                </a:moveTo>
                <a:lnTo>
                  <a:pt x="23657" y="0"/>
                </a:lnTo>
                <a:lnTo>
                  <a:pt x="22257" y="1400"/>
                </a:lnTo>
                <a:lnTo>
                  <a:pt x="1400" y="1400"/>
                </a:lnTo>
                <a:close/>
              </a:path>
              <a:path fill="darken" w="23657" h="21600">
                <a:moveTo>
                  <a:pt x="23657" y="0"/>
                </a:moveTo>
                <a:lnTo>
                  <a:pt x="23657" y="21600"/>
                </a:lnTo>
                <a:lnTo>
                  <a:pt x="22257" y="20200"/>
                </a:lnTo>
                <a:lnTo>
                  <a:pt x="22257" y="1400"/>
                </a:lnTo>
                <a:close/>
              </a:path>
              <a:path fill="darkenLess" w="23657" h="21600">
                <a:moveTo>
                  <a:pt x="23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57" y="20200"/>
                </a:lnTo>
                <a:close/>
              </a:path>
              <a:path fill="lighten" w="23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57" h="21600">
                <a:moveTo>
                  <a:pt x="4822" y="10800"/>
                </a:moveTo>
                <a:lnTo>
                  <a:pt x="18835" y="3794"/>
                </a:lnTo>
                <a:lnTo>
                  <a:pt x="18835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5">
            <a:hlinkClick r:id="" action="ppaction://hlinkshowjump?jump=nextslide"/>
          </p:cNvPr>
          <p:cNvSpPr/>
          <p:nvPr/>
        </p:nvSpPr>
        <p:spPr>
          <a:xfrm>
            <a:off x="8367840" y="6305400"/>
            <a:ext cx="264960" cy="247680"/>
          </a:xfrm>
          <a:custGeom>
            <a:avLst/>
            <a:gdLst>
              <a:gd name="textAreaLeft" fmla="*/ 15840 w 264960"/>
              <a:gd name="textAreaRight" fmla="*/ 249120 w 264960"/>
              <a:gd name="textAreaTop" fmla="*/ 15840 h 247680"/>
              <a:gd name="textAreaBottom" fmla="*/ 231840 h 247680"/>
            </a:gdLst>
            <a:ahLst/>
            <a:rect l="textAreaLeft" t="textAreaTop" r="textAreaRight" b="textAreaBottom"/>
            <a:pathLst>
              <a:path w="23105" h="21600">
                <a:moveTo>
                  <a:pt x="0" y="0"/>
                </a:moveTo>
                <a:lnTo>
                  <a:pt x="23105" y="0"/>
                </a:lnTo>
                <a:lnTo>
                  <a:pt x="23105" y="21600"/>
                </a:lnTo>
                <a:lnTo>
                  <a:pt x="0" y="21600"/>
                </a:lnTo>
                <a:close/>
              </a:path>
              <a:path fill="lightenLess" w="23105" h="21600">
                <a:moveTo>
                  <a:pt x="0" y="0"/>
                </a:moveTo>
                <a:lnTo>
                  <a:pt x="23105" y="0"/>
                </a:lnTo>
                <a:lnTo>
                  <a:pt x="21705" y="1400"/>
                </a:lnTo>
                <a:lnTo>
                  <a:pt x="1400" y="1400"/>
                </a:lnTo>
                <a:close/>
              </a:path>
              <a:path fill="darken" w="23105" h="21600">
                <a:moveTo>
                  <a:pt x="23105" y="0"/>
                </a:moveTo>
                <a:lnTo>
                  <a:pt x="23105" y="21600"/>
                </a:lnTo>
                <a:lnTo>
                  <a:pt x="21705" y="20200"/>
                </a:lnTo>
                <a:lnTo>
                  <a:pt x="21705" y="1400"/>
                </a:lnTo>
                <a:close/>
              </a:path>
              <a:path fill="darkenLess" w="23105" h="21600">
                <a:moveTo>
                  <a:pt x="231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5" y="20200"/>
                </a:lnTo>
                <a:close/>
              </a:path>
              <a:path fill="lighten" w="231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5" h="21600">
                <a:moveTo>
                  <a:pt x="4546" y="3794"/>
                </a:moveTo>
                <a:lnTo>
                  <a:pt x="18559" y="10800"/>
                </a:lnTo>
                <a:lnTo>
                  <a:pt x="454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2362320" y="4038480"/>
            <a:ext cx="373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179÷30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5638680" y="40384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（辆）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1752480" y="548640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答：大约需要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辆车。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AutoShape 9"/>
          <p:cNvSpPr/>
          <p:nvPr/>
        </p:nvSpPr>
        <p:spPr>
          <a:xfrm>
            <a:off x="1835280" y="1268280"/>
            <a:ext cx="3581280" cy="1600200"/>
          </a:xfrm>
          <a:prstGeom prst="wedgeRoundRectCallout">
            <a:avLst>
              <a:gd name="adj1" fmla="val -31694"/>
              <a:gd name="adj2" fmla="val 42162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校准备组织同学们去秋游，四年级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，每辆车限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大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需要多少辆车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4876920" y="403848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≈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1981080" y="464832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400" spc="-1" strike="noStrike">
                <a:solidFill>
                  <a:srgbClr val="ffcf01"/>
                </a:solidFill>
                <a:latin typeface="宋体"/>
              </a:rPr>
              <a:t>180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179280" y="260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250920" y="549360"/>
            <a:ext cx="50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第三关：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小组合作完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3">
            <a:hlinkClick r:id="" action="ppaction://hlinkshowjump?jump=previousslide"/>
          </p:cNvPr>
          <p:cNvSpPr/>
          <p:nvPr/>
        </p:nvSpPr>
        <p:spPr>
          <a:xfrm>
            <a:off x="8085240" y="6303960"/>
            <a:ext cx="272880" cy="249120"/>
          </a:xfrm>
          <a:custGeom>
            <a:avLst/>
            <a:gdLst>
              <a:gd name="textAreaLeft" fmla="*/ 15840 w 272880"/>
              <a:gd name="textAreaRight" fmla="*/ 257040 w 272880"/>
              <a:gd name="textAreaTop" fmla="*/ 15840 h 249120"/>
              <a:gd name="textAreaBottom" fmla="*/ 233280 h 249120"/>
            </a:gdLst>
            <a:ahLst/>
            <a:rect l="textAreaLeft" t="textAreaTop" r="textAreaRight" b="textAreaBottom"/>
            <a:pathLst>
              <a:path w="23657" h="21600">
                <a:moveTo>
                  <a:pt x="0" y="0"/>
                </a:moveTo>
                <a:lnTo>
                  <a:pt x="23657" y="0"/>
                </a:lnTo>
                <a:lnTo>
                  <a:pt x="23657" y="21600"/>
                </a:lnTo>
                <a:lnTo>
                  <a:pt x="0" y="21600"/>
                </a:lnTo>
                <a:close/>
              </a:path>
              <a:path fill="lightenLess" w="23657" h="21600">
                <a:moveTo>
                  <a:pt x="0" y="0"/>
                </a:moveTo>
                <a:lnTo>
                  <a:pt x="23657" y="0"/>
                </a:lnTo>
                <a:lnTo>
                  <a:pt x="22257" y="1400"/>
                </a:lnTo>
                <a:lnTo>
                  <a:pt x="1400" y="1400"/>
                </a:lnTo>
                <a:close/>
              </a:path>
              <a:path fill="darken" w="23657" h="21600">
                <a:moveTo>
                  <a:pt x="23657" y="0"/>
                </a:moveTo>
                <a:lnTo>
                  <a:pt x="23657" y="21600"/>
                </a:lnTo>
                <a:lnTo>
                  <a:pt x="22257" y="20200"/>
                </a:lnTo>
                <a:lnTo>
                  <a:pt x="22257" y="1400"/>
                </a:lnTo>
                <a:close/>
              </a:path>
              <a:path fill="darkenLess" w="23657" h="21600">
                <a:moveTo>
                  <a:pt x="23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57" y="20200"/>
                </a:lnTo>
                <a:close/>
              </a:path>
              <a:path fill="lighten" w="23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57" h="21600">
                <a:moveTo>
                  <a:pt x="4822" y="10800"/>
                </a:moveTo>
                <a:lnTo>
                  <a:pt x="18835" y="3794"/>
                </a:lnTo>
                <a:lnTo>
                  <a:pt x="18835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AutoShape 4">
            <a:hlinkClick r:id="" action="ppaction://hlinkshowjump?jump=nextslide"/>
          </p:cNvPr>
          <p:cNvSpPr/>
          <p:nvPr/>
        </p:nvSpPr>
        <p:spPr>
          <a:xfrm>
            <a:off x="8367840" y="6305400"/>
            <a:ext cx="264960" cy="247680"/>
          </a:xfrm>
          <a:custGeom>
            <a:avLst/>
            <a:gdLst>
              <a:gd name="textAreaLeft" fmla="*/ 15840 w 264960"/>
              <a:gd name="textAreaRight" fmla="*/ 249120 w 264960"/>
              <a:gd name="textAreaTop" fmla="*/ 15840 h 247680"/>
              <a:gd name="textAreaBottom" fmla="*/ 231840 h 247680"/>
            </a:gdLst>
            <a:ahLst/>
            <a:rect l="textAreaLeft" t="textAreaTop" r="textAreaRight" b="textAreaBottom"/>
            <a:pathLst>
              <a:path w="23105" h="21600">
                <a:moveTo>
                  <a:pt x="0" y="0"/>
                </a:moveTo>
                <a:lnTo>
                  <a:pt x="23105" y="0"/>
                </a:lnTo>
                <a:lnTo>
                  <a:pt x="23105" y="21600"/>
                </a:lnTo>
                <a:lnTo>
                  <a:pt x="0" y="21600"/>
                </a:lnTo>
                <a:close/>
              </a:path>
              <a:path fill="lightenLess" w="23105" h="21600">
                <a:moveTo>
                  <a:pt x="0" y="0"/>
                </a:moveTo>
                <a:lnTo>
                  <a:pt x="23105" y="0"/>
                </a:lnTo>
                <a:lnTo>
                  <a:pt x="21705" y="1400"/>
                </a:lnTo>
                <a:lnTo>
                  <a:pt x="1400" y="1400"/>
                </a:lnTo>
                <a:close/>
              </a:path>
              <a:path fill="darken" w="23105" h="21600">
                <a:moveTo>
                  <a:pt x="23105" y="0"/>
                </a:moveTo>
                <a:lnTo>
                  <a:pt x="23105" y="21600"/>
                </a:lnTo>
                <a:lnTo>
                  <a:pt x="21705" y="20200"/>
                </a:lnTo>
                <a:lnTo>
                  <a:pt x="21705" y="1400"/>
                </a:lnTo>
                <a:close/>
              </a:path>
              <a:path fill="darkenLess" w="23105" h="21600">
                <a:moveTo>
                  <a:pt x="231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5" y="20200"/>
                </a:lnTo>
                <a:close/>
              </a:path>
              <a:path fill="lighten" w="231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5" h="21600">
                <a:moveTo>
                  <a:pt x="4546" y="3794"/>
                </a:moveTo>
                <a:lnTo>
                  <a:pt x="18559" y="10800"/>
                </a:lnTo>
                <a:lnTo>
                  <a:pt x="454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Picture 5" descr="聪聪"/>
          <p:cNvPicPr/>
          <p:nvPr/>
        </p:nvPicPr>
        <p:blipFill>
          <a:blip r:embed="rId3"/>
          <a:stretch/>
        </p:blipFill>
        <p:spPr>
          <a:xfrm>
            <a:off x="1116000" y="549360"/>
            <a:ext cx="1457280" cy="16761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2411280" y="765000"/>
            <a:ext cx="57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这节课你学会了什么？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395280" y="2371680"/>
            <a:ext cx="849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除数是两位数除法的口算方法：根据乘除法关系用乘法算除法；用表内除法计算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除数是两位数的除法估算：用四舍五入法把被除数和除数都看作与它接近的整十数、整百数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，再进行口算。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8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1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teach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3">
            <a:hlinkClick r:id="" action="ppaction://hlinkshowjump?jump=previousslide"/>
          </p:cNvPr>
          <p:cNvSpPr/>
          <p:nvPr/>
        </p:nvSpPr>
        <p:spPr>
          <a:xfrm>
            <a:off x="8085240" y="6259680"/>
            <a:ext cx="272880" cy="249120"/>
          </a:xfrm>
          <a:custGeom>
            <a:avLst/>
            <a:gdLst>
              <a:gd name="textAreaLeft" fmla="*/ 15840 w 272880"/>
              <a:gd name="textAreaRight" fmla="*/ 257040 w 272880"/>
              <a:gd name="textAreaTop" fmla="*/ 15840 h 249120"/>
              <a:gd name="textAreaBottom" fmla="*/ 233280 h 249120"/>
            </a:gdLst>
            <a:ahLst/>
            <a:rect l="textAreaLeft" t="textAreaTop" r="textAreaRight" b="textAreaBottom"/>
            <a:pathLst>
              <a:path w="23657" h="21600">
                <a:moveTo>
                  <a:pt x="0" y="0"/>
                </a:moveTo>
                <a:lnTo>
                  <a:pt x="23657" y="0"/>
                </a:lnTo>
                <a:lnTo>
                  <a:pt x="23657" y="21600"/>
                </a:lnTo>
                <a:lnTo>
                  <a:pt x="0" y="21600"/>
                </a:lnTo>
                <a:close/>
              </a:path>
              <a:path fill="lightenLess" w="23657" h="21600">
                <a:moveTo>
                  <a:pt x="0" y="0"/>
                </a:moveTo>
                <a:lnTo>
                  <a:pt x="23657" y="0"/>
                </a:lnTo>
                <a:lnTo>
                  <a:pt x="22257" y="1400"/>
                </a:lnTo>
                <a:lnTo>
                  <a:pt x="1400" y="1400"/>
                </a:lnTo>
                <a:close/>
              </a:path>
              <a:path fill="darken" w="23657" h="21600">
                <a:moveTo>
                  <a:pt x="23657" y="0"/>
                </a:moveTo>
                <a:lnTo>
                  <a:pt x="23657" y="21600"/>
                </a:lnTo>
                <a:lnTo>
                  <a:pt x="22257" y="20200"/>
                </a:lnTo>
                <a:lnTo>
                  <a:pt x="22257" y="1400"/>
                </a:lnTo>
                <a:close/>
              </a:path>
              <a:path fill="darkenLess" w="23657" h="21600">
                <a:moveTo>
                  <a:pt x="23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57" y="20200"/>
                </a:lnTo>
                <a:close/>
              </a:path>
              <a:path fill="lighten" w="23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57" h="21600">
                <a:moveTo>
                  <a:pt x="4822" y="10800"/>
                </a:moveTo>
                <a:lnTo>
                  <a:pt x="18835" y="3794"/>
                </a:lnTo>
                <a:lnTo>
                  <a:pt x="18835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AutoShape 4">
            <a:hlinkClick r:id="" action="ppaction://hlinkshowjump?jump=nextslide"/>
          </p:cNvPr>
          <p:cNvSpPr/>
          <p:nvPr/>
        </p:nvSpPr>
        <p:spPr>
          <a:xfrm>
            <a:off x="8367840" y="6261120"/>
            <a:ext cx="264960" cy="247680"/>
          </a:xfrm>
          <a:custGeom>
            <a:avLst/>
            <a:gdLst>
              <a:gd name="textAreaLeft" fmla="*/ 15840 w 264960"/>
              <a:gd name="textAreaRight" fmla="*/ 249120 w 264960"/>
              <a:gd name="textAreaTop" fmla="*/ 15840 h 247680"/>
              <a:gd name="textAreaBottom" fmla="*/ 231840 h 247680"/>
            </a:gdLst>
            <a:ahLst/>
            <a:rect l="textAreaLeft" t="textAreaTop" r="textAreaRight" b="textAreaBottom"/>
            <a:pathLst>
              <a:path w="23105" h="21600">
                <a:moveTo>
                  <a:pt x="0" y="0"/>
                </a:moveTo>
                <a:lnTo>
                  <a:pt x="23105" y="0"/>
                </a:lnTo>
                <a:lnTo>
                  <a:pt x="23105" y="21600"/>
                </a:lnTo>
                <a:lnTo>
                  <a:pt x="0" y="21600"/>
                </a:lnTo>
                <a:close/>
              </a:path>
              <a:path fill="lightenLess" w="23105" h="21600">
                <a:moveTo>
                  <a:pt x="0" y="0"/>
                </a:moveTo>
                <a:lnTo>
                  <a:pt x="23105" y="0"/>
                </a:lnTo>
                <a:lnTo>
                  <a:pt x="21705" y="1400"/>
                </a:lnTo>
                <a:lnTo>
                  <a:pt x="1400" y="1400"/>
                </a:lnTo>
                <a:close/>
              </a:path>
              <a:path fill="darken" w="23105" h="21600">
                <a:moveTo>
                  <a:pt x="23105" y="0"/>
                </a:moveTo>
                <a:lnTo>
                  <a:pt x="23105" y="21600"/>
                </a:lnTo>
                <a:lnTo>
                  <a:pt x="21705" y="20200"/>
                </a:lnTo>
                <a:lnTo>
                  <a:pt x="21705" y="1400"/>
                </a:lnTo>
                <a:close/>
              </a:path>
              <a:path fill="darkenLess" w="23105" h="21600">
                <a:moveTo>
                  <a:pt x="231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5" y="20200"/>
                </a:lnTo>
                <a:close/>
              </a:path>
              <a:path fill="lighten" w="231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5" h="21600">
                <a:moveTo>
                  <a:pt x="4546" y="3794"/>
                </a:moveTo>
                <a:lnTo>
                  <a:pt x="18559" y="10800"/>
                </a:lnTo>
                <a:lnTo>
                  <a:pt x="454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2340000" y="2060640"/>
            <a:ext cx="4503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作业：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f01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请同学们完成自主练习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复习准备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77724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20×3=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7×50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6×3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20×5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4×9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＝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 　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24÷6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8÷2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12÷3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＝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42÷6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90÷3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＝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>
            <a:hlinkClick r:id="" action="ppaction://hlinkshowjump?jump=previousslide"/>
          </p:cNvPr>
          <p:cNvSpPr/>
          <p:nvPr/>
        </p:nvSpPr>
        <p:spPr>
          <a:xfrm>
            <a:off x="8085240" y="6303960"/>
            <a:ext cx="272880" cy="249120"/>
          </a:xfrm>
          <a:custGeom>
            <a:avLst/>
            <a:gdLst>
              <a:gd name="textAreaLeft" fmla="*/ 15840 w 272880"/>
              <a:gd name="textAreaRight" fmla="*/ 257040 w 272880"/>
              <a:gd name="textAreaTop" fmla="*/ 15840 h 249120"/>
              <a:gd name="textAreaBottom" fmla="*/ 233280 h 249120"/>
            </a:gdLst>
            <a:ahLst/>
            <a:rect l="textAreaLeft" t="textAreaTop" r="textAreaRight" b="textAreaBottom"/>
            <a:pathLst>
              <a:path w="23657" h="21600">
                <a:moveTo>
                  <a:pt x="0" y="0"/>
                </a:moveTo>
                <a:lnTo>
                  <a:pt x="23657" y="0"/>
                </a:lnTo>
                <a:lnTo>
                  <a:pt x="23657" y="21600"/>
                </a:lnTo>
                <a:lnTo>
                  <a:pt x="0" y="21600"/>
                </a:lnTo>
                <a:close/>
              </a:path>
              <a:path fill="lightenLess" w="23657" h="21600">
                <a:moveTo>
                  <a:pt x="0" y="0"/>
                </a:moveTo>
                <a:lnTo>
                  <a:pt x="23657" y="0"/>
                </a:lnTo>
                <a:lnTo>
                  <a:pt x="22257" y="1400"/>
                </a:lnTo>
                <a:lnTo>
                  <a:pt x="1400" y="1400"/>
                </a:lnTo>
                <a:close/>
              </a:path>
              <a:path fill="darken" w="23657" h="21600">
                <a:moveTo>
                  <a:pt x="23657" y="0"/>
                </a:moveTo>
                <a:lnTo>
                  <a:pt x="23657" y="21600"/>
                </a:lnTo>
                <a:lnTo>
                  <a:pt x="22257" y="20200"/>
                </a:lnTo>
                <a:lnTo>
                  <a:pt x="22257" y="1400"/>
                </a:lnTo>
                <a:close/>
              </a:path>
              <a:path fill="darkenLess" w="23657" h="21600">
                <a:moveTo>
                  <a:pt x="23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57" y="20200"/>
                </a:lnTo>
                <a:close/>
              </a:path>
              <a:path fill="lighten" w="23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57" h="21600">
                <a:moveTo>
                  <a:pt x="4822" y="10800"/>
                </a:moveTo>
                <a:lnTo>
                  <a:pt x="18835" y="3794"/>
                </a:lnTo>
                <a:lnTo>
                  <a:pt x="18835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AutoShape 3">
            <a:hlinkClick r:id="" action="ppaction://hlinkshowjump?jump=nextslide"/>
          </p:cNvPr>
          <p:cNvSpPr/>
          <p:nvPr/>
        </p:nvSpPr>
        <p:spPr>
          <a:xfrm>
            <a:off x="8367840" y="6305400"/>
            <a:ext cx="264960" cy="247680"/>
          </a:xfrm>
          <a:custGeom>
            <a:avLst/>
            <a:gdLst>
              <a:gd name="textAreaLeft" fmla="*/ 15840 w 264960"/>
              <a:gd name="textAreaRight" fmla="*/ 249120 w 264960"/>
              <a:gd name="textAreaTop" fmla="*/ 15840 h 247680"/>
              <a:gd name="textAreaBottom" fmla="*/ 231840 h 247680"/>
            </a:gdLst>
            <a:ahLst/>
            <a:rect l="textAreaLeft" t="textAreaTop" r="textAreaRight" b="textAreaBottom"/>
            <a:pathLst>
              <a:path w="23105" h="21600">
                <a:moveTo>
                  <a:pt x="0" y="0"/>
                </a:moveTo>
                <a:lnTo>
                  <a:pt x="23105" y="0"/>
                </a:lnTo>
                <a:lnTo>
                  <a:pt x="23105" y="21600"/>
                </a:lnTo>
                <a:lnTo>
                  <a:pt x="0" y="21600"/>
                </a:lnTo>
                <a:close/>
              </a:path>
              <a:path fill="lightenLess" w="23105" h="21600">
                <a:moveTo>
                  <a:pt x="0" y="0"/>
                </a:moveTo>
                <a:lnTo>
                  <a:pt x="23105" y="0"/>
                </a:lnTo>
                <a:lnTo>
                  <a:pt x="21705" y="1400"/>
                </a:lnTo>
                <a:lnTo>
                  <a:pt x="1400" y="1400"/>
                </a:lnTo>
                <a:close/>
              </a:path>
              <a:path fill="darken" w="23105" h="21600">
                <a:moveTo>
                  <a:pt x="23105" y="0"/>
                </a:moveTo>
                <a:lnTo>
                  <a:pt x="23105" y="21600"/>
                </a:lnTo>
                <a:lnTo>
                  <a:pt x="21705" y="20200"/>
                </a:lnTo>
                <a:lnTo>
                  <a:pt x="21705" y="1400"/>
                </a:lnTo>
                <a:close/>
              </a:path>
              <a:path fill="darkenLess" w="23105" h="21600">
                <a:moveTo>
                  <a:pt x="231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5" y="20200"/>
                </a:lnTo>
                <a:close/>
              </a:path>
              <a:path fill="lighten" w="231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5" h="21600">
                <a:moveTo>
                  <a:pt x="4546" y="3794"/>
                </a:moveTo>
                <a:lnTo>
                  <a:pt x="18559" y="10800"/>
                </a:lnTo>
                <a:lnTo>
                  <a:pt x="454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8" name="Picture 5" descr="8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6"/>
            <p:cNvSpPr/>
            <p:nvPr/>
          </p:nvSpPr>
          <p:spPr>
            <a:xfrm>
              <a:off x="2133720" y="380880"/>
              <a:ext cx="594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学校里举行艺术节，有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80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个气球。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10" name="Picture 7" descr="2"/>
            <p:cNvPicPr/>
            <p:nvPr/>
          </p:nvPicPr>
          <p:blipFill>
            <a:blip r:embed="rId3"/>
            <a:stretch/>
          </p:blipFill>
          <p:spPr>
            <a:xfrm>
              <a:off x="1752480" y="990720"/>
              <a:ext cx="5181840" cy="450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Text Box 8"/>
          <p:cNvSpPr/>
          <p:nvPr/>
        </p:nvSpPr>
        <p:spPr>
          <a:xfrm>
            <a:off x="2133720" y="533412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可以分给几个班？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042920" y="62064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3" name="Group 10"/>
          <p:cNvGrpSpPr/>
          <p:nvPr/>
        </p:nvGrpSpPr>
        <p:grpSpPr>
          <a:xfrm>
            <a:off x="539640" y="0"/>
            <a:ext cx="1209600" cy="1114560"/>
            <a:chOff x="539640" y="0"/>
            <a:chExt cx="1209600" cy="1114560"/>
          </a:xfrm>
        </p:grpSpPr>
        <p:pic>
          <p:nvPicPr>
            <p:cNvPr id="114" name="Picture 11" descr="24"/>
            <p:cNvPicPr/>
            <p:nvPr/>
          </p:nvPicPr>
          <p:blipFill>
            <a:blip r:embed="rId4"/>
            <a:stretch/>
          </p:blipFill>
          <p:spPr>
            <a:xfrm>
              <a:off x="539640" y="0"/>
              <a:ext cx="120960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2"/>
            <p:cNvSpPr/>
            <p:nvPr/>
          </p:nvSpPr>
          <p:spPr>
            <a:xfrm>
              <a:off x="768240" y="31896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b3b3b"/>
                  </a:solidFill>
                  <a:latin typeface="Arial"/>
                  <a:ea typeface="方正少儿简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5"/>
          <p:cNvSpPr/>
          <p:nvPr/>
        </p:nvSpPr>
        <p:spPr>
          <a:xfrm>
            <a:off x="1187280" y="333360"/>
            <a:ext cx="6769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2556000" y="1197000"/>
            <a:ext cx="287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÷20 =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13"/>
          <p:cNvSpPr/>
          <p:nvPr/>
        </p:nvSpPr>
        <p:spPr>
          <a:xfrm flipV="1" rot="10800000">
            <a:off x="900000" y="1843560"/>
            <a:ext cx="7920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法一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乘法算除法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×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8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所以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÷20=4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14"/>
          <p:cNvSpPr/>
          <p:nvPr/>
        </p:nvSpPr>
        <p:spPr>
          <a:xfrm flipV="1" rot="10800000">
            <a:off x="971640" y="2924280"/>
            <a:ext cx="7632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法二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表内除法来做。（划去被除数和除数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末尾相同个数的</a:t>
            </a:r>
            <a:r>
              <a:rPr b="1" lang="en-US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÷2 = 4      80÷20=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15"/>
          <p:cNvSpPr/>
          <p:nvPr/>
        </p:nvSpPr>
        <p:spPr>
          <a:xfrm flipV="1" rot="10800000">
            <a:off x="2268360" y="5012280"/>
            <a:ext cx="48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4859280" y="1197000"/>
            <a:ext cx="194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个）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1116000" y="5589720"/>
            <a:ext cx="446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可以分给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班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32"/>
          <p:cNvSpPr/>
          <p:nvPr/>
        </p:nvSpPr>
        <p:spPr>
          <a:xfrm>
            <a:off x="1403280" y="40464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列式计算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AutoShape 33"/>
          <p:cNvSpPr/>
          <p:nvPr/>
        </p:nvSpPr>
        <p:spPr>
          <a:xfrm>
            <a:off x="6659640" y="4913280"/>
            <a:ext cx="3058920" cy="1944720"/>
          </a:xfrm>
          <a:prstGeom prst="cloudCallout">
            <a:avLst>
              <a:gd name="adj1" fmla="val 39569"/>
              <a:gd name="adj2" fmla="val 86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34"/>
          <p:cNvSpPr/>
          <p:nvPr/>
        </p:nvSpPr>
        <p:spPr>
          <a:xfrm>
            <a:off x="6985080" y="544500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你喜欢哪一种口算方法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38"/>
          <p:cNvSpPr/>
          <p:nvPr/>
        </p:nvSpPr>
        <p:spPr>
          <a:xfrm>
            <a:off x="900000" y="4508640"/>
            <a:ext cx="727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法三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十，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十，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十除以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十。 即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÷20=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4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3">
            <a:hlinkClick r:id="" action="ppaction://hlinkshowjump?jump=previousslide"/>
          </p:cNvPr>
          <p:cNvSpPr/>
          <p:nvPr/>
        </p:nvSpPr>
        <p:spPr>
          <a:xfrm>
            <a:off x="8085240" y="6303960"/>
            <a:ext cx="272880" cy="249120"/>
          </a:xfrm>
          <a:custGeom>
            <a:avLst/>
            <a:gdLst>
              <a:gd name="textAreaLeft" fmla="*/ 15840 w 272880"/>
              <a:gd name="textAreaRight" fmla="*/ 257040 w 272880"/>
              <a:gd name="textAreaTop" fmla="*/ 15840 h 249120"/>
              <a:gd name="textAreaBottom" fmla="*/ 233280 h 249120"/>
            </a:gdLst>
            <a:ahLst/>
            <a:rect l="textAreaLeft" t="textAreaTop" r="textAreaRight" b="textAreaBottom"/>
            <a:pathLst>
              <a:path w="23657" h="21600">
                <a:moveTo>
                  <a:pt x="0" y="0"/>
                </a:moveTo>
                <a:lnTo>
                  <a:pt x="23657" y="0"/>
                </a:lnTo>
                <a:lnTo>
                  <a:pt x="23657" y="21600"/>
                </a:lnTo>
                <a:lnTo>
                  <a:pt x="0" y="21600"/>
                </a:lnTo>
                <a:close/>
              </a:path>
              <a:path fill="lightenLess" w="23657" h="21600">
                <a:moveTo>
                  <a:pt x="0" y="0"/>
                </a:moveTo>
                <a:lnTo>
                  <a:pt x="23657" y="0"/>
                </a:lnTo>
                <a:lnTo>
                  <a:pt x="22257" y="1400"/>
                </a:lnTo>
                <a:lnTo>
                  <a:pt x="1400" y="1400"/>
                </a:lnTo>
                <a:close/>
              </a:path>
              <a:path fill="darken" w="23657" h="21600">
                <a:moveTo>
                  <a:pt x="23657" y="0"/>
                </a:moveTo>
                <a:lnTo>
                  <a:pt x="23657" y="21600"/>
                </a:lnTo>
                <a:lnTo>
                  <a:pt x="22257" y="20200"/>
                </a:lnTo>
                <a:lnTo>
                  <a:pt x="22257" y="1400"/>
                </a:lnTo>
                <a:close/>
              </a:path>
              <a:path fill="darkenLess" w="23657" h="21600">
                <a:moveTo>
                  <a:pt x="23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57" y="20200"/>
                </a:lnTo>
                <a:close/>
              </a:path>
              <a:path fill="lighten" w="23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57" h="21600">
                <a:moveTo>
                  <a:pt x="4822" y="10800"/>
                </a:moveTo>
                <a:lnTo>
                  <a:pt x="18835" y="3794"/>
                </a:lnTo>
                <a:lnTo>
                  <a:pt x="18835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AutoShape 4">
            <a:hlinkClick r:id="" action="ppaction://hlinkshowjump?jump=nextslide"/>
          </p:cNvPr>
          <p:cNvSpPr/>
          <p:nvPr/>
        </p:nvSpPr>
        <p:spPr>
          <a:xfrm>
            <a:off x="8367840" y="6305400"/>
            <a:ext cx="264960" cy="247680"/>
          </a:xfrm>
          <a:custGeom>
            <a:avLst/>
            <a:gdLst>
              <a:gd name="textAreaLeft" fmla="*/ 15840 w 264960"/>
              <a:gd name="textAreaRight" fmla="*/ 249120 w 264960"/>
              <a:gd name="textAreaTop" fmla="*/ 15840 h 247680"/>
              <a:gd name="textAreaBottom" fmla="*/ 231840 h 247680"/>
            </a:gdLst>
            <a:ahLst/>
            <a:rect l="textAreaLeft" t="textAreaTop" r="textAreaRight" b="textAreaBottom"/>
            <a:pathLst>
              <a:path w="23105" h="21600">
                <a:moveTo>
                  <a:pt x="0" y="0"/>
                </a:moveTo>
                <a:lnTo>
                  <a:pt x="23105" y="0"/>
                </a:lnTo>
                <a:lnTo>
                  <a:pt x="23105" y="21600"/>
                </a:lnTo>
                <a:lnTo>
                  <a:pt x="0" y="21600"/>
                </a:lnTo>
                <a:close/>
              </a:path>
              <a:path fill="lightenLess" w="23105" h="21600">
                <a:moveTo>
                  <a:pt x="0" y="0"/>
                </a:moveTo>
                <a:lnTo>
                  <a:pt x="23105" y="0"/>
                </a:lnTo>
                <a:lnTo>
                  <a:pt x="21705" y="1400"/>
                </a:lnTo>
                <a:lnTo>
                  <a:pt x="1400" y="1400"/>
                </a:lnTo>
                <a:close/>
              </a:path>
              <a:path fill="darken" w="23105" h="21600">
                <a:moveTo>
                  <a:pt x="23105" y="0"/>
                </a:moveTo>
                <a:lnTo>
                  <a:pt x="23105" y="21600"/>
                </a:lnTo>
                <a:lnTo>
                  <a:pt x="21705" y="20200"/>
                </a:lnTo>
                <a:lnTo>
                  <a:pt x="21705" y="1400"/>
                </a:lnTo>
                <a:close/>
              </a:path>
              <a:path fill="darkenLess" w="23105" h="21600">
                <a:moveTo>
                  <a:pt x="231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5" y="20200"/>
                </a:lnTo>
                <a:close/>
              </a:path>
              <a:path fill="lighten" w="231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5" h="21600">
                <a:moveTo>
                  <a:pt x="4546" y="3794"/>
                </a:moveTo>
                <a:lnTo>
                  <a:pt x="18559" y="10800"/>
                </a:lnTo>
                <a:lnTo>
                  <a:pt x="454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09480" y="160020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÷2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533520" y="327672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÷3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4800600" y="327672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÷3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876920" y="16002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÷1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9" descr="做一做"/>
          <p:cNvPicPr/>
          <p:nvPr/>
        </p:nvPicPr>
        <p:blipFill>
          <a:blip r:embed="rId3"/>
          <a:stretch/>
        </p:blipFill>
        <p:spPr>
          <a:xfrm>
            <a:off x="457200" y="380880"/>
            <a:ext cx="2362320" cy="11653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0"/>
          <p:cNvSpPr/>
          <p:nvPr/>
        </p:nvSpPr>
        <p:spPr>
          <a:xfrm>
            <a:off x="3276720" y="160020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7467480" y="160020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3276720" y="3276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7467480" y="32767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3">
            <a:hlinkClick r:id="" action="ppaction://hlinkshowjump?jump=previousslide"/>
          </p:cNvPr>
          <p:cNvSpPr/>
          <p:nvPr/>
        </p:nvSpPr>
        <p:spPr>
          <a:xfrm>
            <a:off x="8085240" y="6303960"/>
            <a:ext cx="272880" cy="249120"/>
          </a:xfrm>
          <a:custGeom>
            <a:avLst/>
            <a:gdLst>
              <a:gd name="textAreaLeft" fmla="*/ 15840 w 272880"/>
              <a:gd name="textAreaRight" fmla="*/ 257040 w 272880"/>
              <a:gd name="textAreaTop" fmla="*/ 15840 h 249120"/>
              <a:gd name="textAreaBottom" fmla="*/ 233280 h 249120"/>
            </a:gdLst>
            <a:ahLst/>
            <a:rect l="textAreaLeft" t="textAreaTop" r="textAreaRight" b="textAreaBottom"/>
            <a:pathLst>
              <a:path w="23657" h="21600">
                <a:moveTo>
                  <a:pt x="0" y="0"/>
                </a:moveTo>
                <a:lnTo>
                  <a:pt x="23657" y="0"/>
                </a:lnTo>
                <a:lnTo>
                  <a:pt x="23657" y="21600"/>
                </a:lnTo>
                <a:lnTo>
                  <a:pt x="0" y="21600"/>
                </a:lnTo>
                <a:close/>
              </a:path>
              <a:path fill="lightenLess" w="23657" h="21600">
                <a:moveTo>
                  <a:pt x="0" y="0"/>
                </a:moveTo>
                <a:lnTo>
                  <a:pt x="23657" y="0"/>
                </a:lnTo>
                <a:lnTo>
                  <a:pt x="22257" y="1400"/>
                </a:lnTo>
                <a:lnTo>
                  <a:pt x="1400" y="1400"/>
                </a:lnTo>
                <a:close/>
              </a:path>
              <a:path fill="darken" w="23657" h="21600">
                <a:moveTo>
                  <a:pt x="23657" y="0"/>
                </a:moveTo>
                <a:lnTo>
                  <a:pt x="23657" y="21600"/>
                </a:lnTo>
                <a:lnTo>
                  <a:pt x="22257" y="20200"/>
                </a:lnTo>
                <a:lnTo>
                  <a:pt x="22257" y="1400"/>
                </a:lnTo>
                <a:close/>
              </a:path>
              <a:path fill="darkenLess" w="23657" h="21600">
                <a:moveTo>
                  <a:pt x="23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57" y="20200"/>
                </a:lnTo>
                <a:close/>
              </a:path>
              <a:path fill="lighten" w="23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57" h="21600">
                <a:moveTo>
                  <a:pt x="4822" y="10800"/>
                </a:moveTo>
                <a:lnTo>
                  <a:pt x="18835" y="3794"/>
                </a:lnTo>
                <a:lnTo>
                  <a:pt x="18835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utoShape 4">
            <a:hlinkClick r:id="" action="ppaction://hlinkshowjump?jump=nextslide"/>
          </p:cNvPr>
          <p:cNvSpPr/>
          <p:nvPr/>
        </p:nvSpPr>
        <p:spPr>
          <a:xfrm>
            <a:off x="8367840" y="6305400"/>
            <a:ext cx="264960" cy="247680"/>
          </a:xfrm>
          <a:custGeom>
            <a:avLst/>
            <a:gdLst>
              <a:gd name="textAreaLeft" fmla="*/ 15840 w 264960"/>
              <a:gd name="textAreaRight" fmla="*/ 249120 w 264960"/>
              <a:gd name="textAreaTop" fmla="*/ 15840 h 247680"/>
              <a:gd name="textAreaBottom" fmla="*/ 231840 h 247680"/>
            </a:gdLst>
            <a:ahLst/>
            <a:rect l="textAreaLeft" t="textAreaTop" r="textAreaRight" b="textAreaBottom"/>
            <a:pathLst>
              <a:path w="23105" h="21600">
                <a:moveTo>
                  <a:pt x="0" y="0"/>
                </a:moveTo>
                <a:lnTo>
                  <a:pt x="23105" y="0"/>
                </a:lnTo>
                <a:lnTo>
                  <a:pt x="23105" y="21600"/>
                </a:lnTo>
                <a:lnTo>
                  <a:pt x="0" y="21600"/>
                </a:lnTo>
                <a:close/>
              </a:path>
              <a:path fill="lightenLess" w="23105" h="21600">
                <a:moveTo>
                  <a:pt x="0" y="0"/>
                </a:moveTo>
                <a:lnTo>
                  <a:pt x="23105" y="0"/>
                </a:lnTo>
                <a:lnTo>
                  <a:pt x="21705" y="1400"/>
                </a:lnTo>
                <a:lnTo>
                  <a:pt x="1400" y="1400"/>
                </a:lnTo>
                <a:close/>
              </a:path>
              <a:path fill="darken" w="23105" h="21600">
                <a:moveTo>
                  <a:pt x="23105" y="0"/>
                </a:moveTo>
                <a:lnTo>
                  <a:pt x="23105" y="21600"/>
                </a:lnTo>
                <a:lnTo>
                  <a:pt x="21705" y="20200"/>
                </a:lnTo>
                <a:lnTo>
                  <a:pt x="21705" y="1400"/>
                </a:lnTo>
                <a:close/>
              </a:path>
              <a:path fill="darkenLess" w="23105" h="21600">
                <a:moveTo>
                  <a:pt x="231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5" y="20200"/>
                </a:lnTo>
                <a:close/>
              </a:path>
              <a:path fill="lighten" w="231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5" h="21600">
                <a:moveTo>
                  <a:pt x="4546" y="3794"/>
                </a:moveTo>
                <a:lnTo>
                  <a:pt x="18559" y="10800"/>
                </a:lnTo>
                <a:lnTo>
                  <a:pt x="454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609480" y="160020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÷3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4800600" y="16002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÷8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4800600" y="327672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54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÷9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611280" y="328464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÷5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Picture 9" descr="做一做"/>
          <p:cNvPicPr/>
          <p:nvPr/>
        </p:nvPicPr>
        <p:blipFill>
          <a:blip r:embed="rId3"/>
          <a:stretch/>
        </p:blipFill>
        <p:spPr>
          <a:xfrm>
            <a:off x="457200" y="380880"/>
            <a:ext cx="2362320" cy="11653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3429000" y="160020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7620120" y="160020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3429000" y="3276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7620120" y="3276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1258920" y="4797360"/>
            <a:ext cx="37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731600" y="8096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闯关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79280" y="2852640"/>
            <a:ext cx="8642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630÷90=      100÷50=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600÷60=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      360÷60=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120÷30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  <a:ea typeface="隶书"/>
              </a:rPr>
              <a:t>=         </a:t>
            </a: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490÷70=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160÷80=      560÷70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  <a:ea typeface="隶书"/>
              </a:rPr>
              <a:t>=</a:t>
            </a: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3">
            <a:hlinkClick r:id="" action="ppaction://hlinkshowjump?jump=previousslide"/>
          </p:cNvPr>
          <p:cNvSpPr/>
          <p:nvPr/>
        </p:nvSpPr>
        <p:spPr>
          <a:xfrm>
            <a:off x="8085240" y="6303960"/>
            <a:ext cx="272880" cy="249120"/>
          </a:xfrm>
          <a:custGeom>
            <a:avLst/>
            <a:gdLst>
              <a:gd name="textAreaLeft" fmla="*/ 15840 w 272880"/>
              <a:gd name="textAreaRight" fmla="*/ 257040 w 272880"/>
              <a:gd name="textAreaTop" fmla="*/ 15840 h 249120"/>
              <a:gd name="textAreaBottom" fmla="*/ 233280 h 249120"/>
            </a:gdLst>
            <a:ahLst/>
            <a:rect l="textAreaLeft" t="textAreaTop" r="textAreaRight" b="textAreaBottom"/>
            <a:pathLst>
              <a:path w="23657" h="21600">
                <a:moveTo>
                  <a:pt x="0" y="0"/>
                </a:moveTo>
                <a:lnTo>
                  <a:pt x="23657" y="0"/>
                </a:lnTo>
                <a:lnTo>
                  <a:pt x="23657" y="21600"/>
                </a:lnTo>
                <a:lnTo>
                  <a:pt x="0" y="21600"/>
                </a:lnTo>
                <a:close/>
              </a:path>
              <a:path fill="lightenLess" w="23657" h="21600">
                <a:moveTo>
                  <a:pt x="0" y="0"/>
                </a:moveTo>
                <a:lnTo>
                  <a:pt x="23657" y="0"/>
                </a:lnTo>
                <a:lnTo>
                  <a:pt x="22257" y="1400"/>
                </a:lnTo>
                <a:lnTo>
                  <a:pt x="1400" y="1400"/>
                </a:lnTo>
                <a:close/>
              </a:path>
              <a:path fill="darken" w="23657" h="21600">
                <a:moveTo>
                  <a:pt x="23657" y="0"/>
                </a:moveTo>
                <a:lnTo>
                  <a:pt x="23657" y="21600"/>
                </a:lnTo>
                <a:lnTo>
                  <a:pt x="22257" y="20200"/>
                </a:lnTo>
                <a:lnTo>
                  <a:pt x="22257" y="1400"/>
                </a:lnTo>
                <a:close/>
              </a:path>
              <a:path fill="darkenLess" w="23657" h="21600">
                <a:moveTo>
                  <a:pt x="23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57" y="20200"/>
                </a:lnTo>
                <a:close/>
              </a:path>
              <a:path fill="lighten" w="23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57" h="21600">
                <a:moveTo>
                  <a:pt x="4822" y="10800"/>
                </a:moveTo>
                <a:lnTo>
                  <a:pt x="18835" y="3794"/>
                </a:lnTo>
                <a:lnTo>
                  <a:pt x="18835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AutoShape 4">
            <a:hlinkClick r:id="" action="ppaction://hlinkshowjump?jump=nextslide"/>
          </p:cNvPr>
          <p:cNvSpPr/>
          <p:nvPr/>
        </p:nvSpPr>
        <p:spPr>
          <a:xfrm>
            <a:off x="8367840" y="6305400"/>
            <a:ext cx="264960" cy="247680"/>
          </a:xfrm>
          <a:custGeom>
            <a:avLst/>
            <a:gdLst>
              <a:gd name="textAreaLeft" fmla="*/ 15840 w 264960"/>
              <a:gd name="textAreaRight" fmla="*/ 249120 w 264960"/>
              <a:gd name="textAreaTop" fmla="*/ 15840 h 247680"/>
              <a:gd name="textAreaBottom" fmla="*/ 231840 h 247680"/>
            </a:gdLst>
            <a:ahLst/>
            <a:rect l="textAreaLeft" t="textAreaTop" r="textAreaRight" b="textAreaBottom"/>
            <a:pathLst>
              <a:path w="23105" h="21600">
                <a:moveTo>
                  <a:pt x="0" y="0"/>
                </a:moveTo>
                <a:lnTo>
                  <a:pt x="23105" y="0"/>
                </a:lnTo>
                <a:lnTo>
                  <a:pt x="23105" y="21600"/>
                </a:lnTo>
                <a:lnTo>
                  <a:pt x="0" y="21600"/>
                </a:lnTo>
                <a:close/>
              </a:path>
              <a:path fill="lightenLess" w="23105" h="21600">
                <a:moveTo>
                  <a:pt x="0" y="0"/>
                </a:moveTo>
                <a:lnTo>
                  <a:pt x="23105" y="0"/>
                </a:lnTo>
                <a:lnTo>
                  <a:pt x="21705" y="1400"/>
                </a:lnTo>
                <a:lnTo>
                  <a:pt x="1400" y="1400"/>
                </a:lnTo>
                <a:close/>
              </a:path>
              <a:path fill="darken" w="23105" h="21600">
                <a:moveTo>
                  <a:pt x="23105" y="0"/>
                </a:moveTo>
                <a:lnTo>
                  <a:pt x="23105" y="21600"/>
                </a:lnTo>
                <a:lnTo>
                  <a:pt x="21705" y="20200"/>
                </a:lnTo>
                <a:lnTo>
                  <a:pt x="21705" y="1400"/>
                </a:lnTo>
                <a:close/>
              </a:path>
              <a:path fill="darkenLess" w="23105" h="21600">
                <a:moveTo>
                  <a:pt x="231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5" y="20200"/>
                </a:lnTo>
                <a:close/>
              </a:path>
              <a:path fill="lighten" w="231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5" h="21600">
                <a:moveTo>
                  <a:pt x="4546" y="3794"/>
                </a:moveTo>
                <a:lnTo>
                  <a:pt x="18559" y="10800"/>
                </a:lnTo>
                <a:lnTo>
                  <a:pt x="454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50920" y="134136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83÷20≈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276720" y="1268280"/>
            <a:ext cx="76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Picture 7" descr="聪聪"/>
          <p:cNvPicPr/>
          <p:nvPr/>
        </p:nvPicPr>
        <p:blipFill>
          <a:blip r:embed="rId3"/>
          <a:stretch/>
        </p:blipFill>
        <p:spPr>
          <a:xfrm>
            <a:off x="971640" y="476280"/>
            <a:ext cx="927000" cy="10666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8"/>
          <p:cNvSpPr/>
          <p:nvPr/>
        </p:nvSpPr>
        <p:spPr>
          <a:xfrm>
            <a:off x="1905120" y="533520"/>
            <a:ext cx="55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试着想一想，该怎么估算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0" y="198900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80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572000" y="126828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80÷19≈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7667640" y="11970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5796000" y="19162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20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0" y="3068640"/>
            <a:ext cx="33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122÷30≈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4643280" y="314172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120÷28≈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3203640" y="3068640"/>
            <a:ext cx="76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-181080" y="371628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120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7812000" y="31417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6084720" y="378936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30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0" y="4797360"/>
            <a:ext cx="8820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ahoma"/>
              </a:rPr>
              <a:t>   </a:t>
            </a:r>
            <a:r>
              <a:rPr b="1" lang="zh-CN" sz="3600" spc="-1" strike="noStrike">
                <a:solidFill>
                  <a:srgbClr val="cc0066"/>
                </a:solidFill>
                <a:latin typeface="Tahoma"/>
              </a:rPr>
              <a:t>用四舍五入法把被除数和除数看作与它接近的整十、整百或者整百整十的数来估算。</a:t>
            </a:r>
            <a:r>
              <a:rPr b="0" lang="zh-CN" sz="18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3">
            <a:hlinkClick r:id="" action="ppaction://hlinkshowjump?jump=previousslide"/>
          </p:cNvPr>
          <p:cNvSpPr/>
          <p:nvPr/>
        </p:nvSpPr>
        <p:spPr>
          <a:xfrm>
            <a:off x="8085240" y="6303960"/>
            <a:ext cx="272880" cy="249120"/>
          </a:xfrm>
          <a:custGeom>
            <a:avLst/>
            <a:gdLst>
              <a:gd name="textAreaLeft" fmla="*/ 15840 w 272880"/>
              <a:gd name="textAreaRight" fmla="*/ 257040 w 272880"/>
              <a:gd name="textAreaTop" fmla="*/ 15840 h 249120"/>
              <a:gd name="textAreaBottom" fmla="*/ 233280 h 249120"/>
            </a:gdLst>
            <a:ahLst/>
            <a:rect l="textAreaLeft" t="textAreaTop" r="textAreaRight" b="textAreaBottom"/>
            <a:pathLst>
              <a:path w="23657" h="21600">
                <a:moveTo>
                  <a:pt x="0" y="0"/>
                </a:moveTo>
                <a:lnTo>
                  <a:pt x="23657" y="0"/>
                </a:lnTo>
                <a:lnTo>
                  <a:pt x="23657" y="21600"/>
                </a:lnTo>
                <a:lnTo>
                  <a:pt x="0" y="21600"/>
                </a:lnTo>
                <a:close/>
              </a:path>
              <a:path fill="lightenLess" w="23657" h="21600">
                <a:moveTo>
                  <a:pt x="0" y="0"/>
                </a:moveTo>
                <a:lnTo>
                  <a:pt x="23657" y="0"/>
                </a:lnTo>
                <a:lnTo>
                  <a:pt x="22257" y="1400"/>
                </a:lnTo>
                <a:lnTo>
                  <a:pt x="1400" y="1400"/>
                </a:lnTo>
                <a:close/>
              </a:path>
              <a:path fill="darken" w="23657" h="21600">
                <a:moveTo>
                  <a:pt x="23657" y="0"/>
                </a:moveTo>
                <a:lnTo>
                  <a:pt x="23657" y="21600"/>
                </a:lnTo>
                <a:lnTo>
                  <a:pt x="22257" y="20200"/>
                </a:lnTo>
                <a:lnTo>
                  <a:pt x="22257" y="1400"/>
                </a:lnTo>
                <a:close/>
              </a:path>
              <a:path fill="darkenLess" w="23657" h="21600">
                <a:moveTo>
                  <a:pt x="23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57" y="20200"/>
                </a:lnTo>
                <a:close/>
              </a:path>
              <a:path fill="lighten" w="23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57" h="21600">
                <a:moveTo>
                  <a:pt x="4822" y="10800"/>
                </a:moveTo>
                <a:lnTo>
                  <a:pt x="18835" y="3794"/>
                </a:lnTo>
                <a:lnTo>
                  <a:pt x="18835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AutoShape 4">
            <a:hlinkClick r:id="" action="ppaction://hlinkshowjump?jump=nextslide"/>
          </p:cNvPr>
          <p:cNvSpPr/>
          <p:nvPr/>
        </p:nvSpPr>
        <p:spPr>
          <a:xfrm>
            <a:off x="8367840" y="6305400"/>
            <a:ext cx="264960" cy="247680"/>
          </a:xfrm>
          <a:custGeom>
            <a:avLst/>
            <a:gdLst>
              <a:gd name="textAreaLeft" fmla="*/ 15840 w 264960"/>
              <a:gd name="textAreaRight" fmla="*/ 249120 w 264960"/>
              <a:gd name="textAreaTop" fmla="*/ 15840 h 247680"/>
              <a:gd name="textAreaBottom" fmla="*/ 231840 h 247680"/>
            </a:gdLst>
            <a:ahLst/>
            <a:rect l="textAreaLeft" t="textAreaTop" r="textAreaRight" b="textAreaBottom"/>
            <a:pathLst>
              <a:path w="23105" h="21600">
                <a:moveTo>
                  <a:pt x="0" y="0"/>
                </a:moveTo>
                <a:lnTo>
                  <a:pt x="23105" y="0"/>
                </a:lnTo>
                <a:lnTo>
                  <a:pt x="23105" y="21600"/>
                </a:lnTo>
                <a:lnTo>
                  <a:pt x="0" y="21600"/>
                </a:lnTo>
                <a:close/>
              </a:path>
              <a:path fill="lightenLess" w="23105" h="21600">
                <a:moveTo>
                  <a:pt x="0" y="0"/>
                </a:moveTo>
                <a:lnTo>
                  <a:pt x="23105" y="0"/>
                </a:lnTo>
                <a:lnTo>
                  <a:pt x="21705" y="1400"/>
                </a:lnTo>
                <a:lnTo>
                  <a:pt x="1400" y="1400"/>
                </a:lnTo>
                <a:close/>
              </a:path>
              <a:path fill="darken" w="23105" h="21600">
                <a:moveTo>
                  <a:pt x="23105" y="0"/>
                </a:moveTo>
                <a:lnTo>
                  <a:pt x="23105" y="21600"/>
                </a:lnTo>
                <a:lnTo>
                  <a:pt x="21705" y="20200"/>
                </a:lnTo>
                <a:lnTo>
                  <a:pt x="21705" y="1400"/>
                </a:lnTo>
                <a:close/>
              </a:path>
              <a:path fill="darkenLess" w="23105" h="21600">
                <a:moveTo>
                  <a:pt x="231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5" y="20200"/>
                </a:lnTo>
                <a:close/>
              </a:path>
              <a:path fill="lighten" w="231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5" h="21600">
                <a:moveTo>
                  <a:pt x="4546" y="3794"/>
                </a:moveTo>
                <a:lnTo>
                  <a:pt x="18559" y="10800"/>
                </a:lnTo>
                <a:lnTo>
                  <a:pt x="454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547640" y="83664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来当小老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判断对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0" y="1916280"/>
            <a:ext cx="3809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122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60=2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0" y="364500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349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50≈8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8" descr="聪聪"/>
          <p:cNvPicPr/>
          <p:nvPr/>
        </p:nvPicPr>
        <p:blipFill>
          <a:blip r:embed="rId3"/>
          <a:stretch/>
        </p:blipFill>
        <p:spPr>
          <a:xfrm>
            <a:off x="685800" y="457200"/>
            <a:ext cx="927000" cy="10666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9"/>
          <p:cNvSpPr/>
          <p:nvPr/>
        </p:nvSpPr>
        <p:spPr>
          <a:xfrm>
            <a:off x="4788000" y="2001960"/>
            <a:ext cx="4114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122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en-US" sz="5400" spc="-1" strike="noStrike">
                <a:solidFill>
                  <a:srgbClr val="ffcf01"/>
                </a:solidFill>
                <a:latin typeface="宋体"/>
              </a:rPr>
              <a:t>≈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3132000" y="198900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3348000" y="364500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4932360" y="364500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349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50≈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-252360" y="443700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40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8101080" y="3716280"/>
            <a:ext cx="76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f01"/>
                </a:solidFill>
                <a:latin typeface="宋体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4572000" y="443700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5400" spc="-1" strike="noStrike">
                <a:solidFill>
                  <a:srgbClr val="ffcf01"/>
                </a:solidFill>
                <a:latin typeface="宋体"/>
              </a:rPr>
              <a:t>350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4:17:04Z</dcterms:created>
  <dc:creator>微软用户</dc:creator>
  <dc:description/>
  <dc:language>en-US</dc:language>
  <cp:lastModifiedBy>xjghost</cp:lastModifiedBy>
  <dcterms:modified xsi:type="dcterms:W3CDTF">2014-12-04T11:59:47Z</dcterms:modified>
  <cp:revision>106</cp:revision>
  <dc:subject/>
  <dc:title>幻灯片 1</dc:title>
</cp:coreProperties>
</file>