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jpeg" ContentType="image/jpeg"/>
  <Override PartName="/ppt/media/image12.png" ContentType="image/png"/>
  <Override PartName="/ppt/media/image21.png" ContentType="image/png"/>
  <Override PartName="/ppt/media/image22.png" ContentType="image/png"/>
  <Override PartName="/ppt/media/image24.jpeg" ContentType="image/jpeg"/>
  <Override PartName="/ppt/media/camera.wav" ContentType="audio/x-wav"/>
  <Override PartName="/ppt/media/image46.png" ContentType="image/png"/>
  <Override PartName="/ppt/media/image19.gif" ContentType="image/gif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7.jpeg" ContentType="image/jpeg"/>
  <Override PartName="/ppt/media/image31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32.png" ContentType="image/png"/>
  <Override PartName="/ppt/media/image1.jpeg" ContentType="image/jpeg"/>
  <Override PartName="/ppt/media/image44.png" ContentType="image/png"/>
  <Override PartName="/ppt/media/image43.png" ContentType="image/png"/>
  <Override PartName="/ppt/media/image47.jpeg" ContentType="image/jpeg"/>
  <Override PartName="/ppt/media/image38.png" ContentType="image/png"/>
  <Override PartName="/ppt/media/image45.gif" ContentType="image/gif"/>
  <Override PartName="/ppt/media/image8.jpeg" ContentType="image/jpeg"/>
  <Override PartName="/ppt/media/image26.jpeg" ContentType="image/jpeg"/>
  <Override PartName="/ppt/media/image42.png" ContentType="image/png"/>
  <Override PartName="/ppt/media/image27.jpeg" ContentType="image/jpeg"/>
  <Override PartName="/ppt/media/image4.gif" ContentType="image/gif"/>
  <Override PartName="/ppt/media/image30.wmf" ContentType="image/x-wmf"/>
  <Override PartName="/ppt/media/CHIMES.WAV" ContentType="audio/x-wav"/>
  <Override PartName="/ppt/media/image28.wmf" ContentType="image/x-wmf"/>
  <Override PartName="/ppt/media/image3.jpeg" ContentType="image/jpeg"/>
  <Override PartName="/ppt/media/image15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DD9-16FA-4128-8C8F-E533B7FD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F34-F058-44DD-A477-B6A73019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目的：让学感知平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88E-5501-4143-B289-47009AF8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E6C-F704-486B-AD83-67912CDA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C7A7-9840-42F5-854F-8B0F09072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E5BF-96F7-44C6-96A1-064E4D962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252-4748-4C7A-A3D8-8C945CE340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4CDE-97E4-45F4-B8A9-7E1556E8D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B7C-D7D0-4F35-A9A0-C80427E222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EBA4-1AFC-4B54-BA62-3A2C9BCA4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AE6-CC65-4987-93FD-1C3020771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115-6B1F-4342-A855-0704BED4E6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3FE-B884-4059-99E8-D5E520FE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目的：让学感知平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938-647C-46D2-B98A-E2B6CA787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B78-1A9B-4C1A-8B87-C7D2161A4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FAC-022F-4D04-A4A7-0D55A33903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C54-8AC6-4994-9301-A3E8429C8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69D-81B0-4569-8723-522CDF2EB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85FE-1F9A-447D-8BDD-41D02F19B6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692-081C-4F2B-AAD5-33FE709E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94B-1A7B-4C62-8F67-2B838112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E31-78F2-4CD1-98F2-2ABC84F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5E7-0215-4932-9650-A9FC3821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973-A81C-4357-B035-733483B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B18-D001-4AC4-A707-7B47FB4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071-4BED-4DF8-9466-7D91842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F3C-95C5-42A1-B66F-4245FF9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E52-BF70-49FA-A239-4B951049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910-BE86-4D98-ADF5-802DE9D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20E-6156-494C-8EBA-288811B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37B-5DD6-49CA-99A8-AA51869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1ED-35B7-4C77-BE01-87FB218E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5.xml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-star4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125880" y="25671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9999"/>
                </a:solidFill>
                <a:latin typeface="华文行楷"/>
                <a:ea typeface="华文行楷"/>
              </a:rPr>
              <a:t>认识三角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80880" y="4495680"/>
            <a:ext cx="3885840" cy="2133000"/>
            <a:chOff x="380880" y="4495680"/>
            <a:chExt cx="3885840" cy="2133000"/>
          </a:xfrm>
        </p:grpSpPr>
        <p:sp>
          <p:nvSpPr>
            <p:cNvPr id="51" name="AutoShape 5"/>
            <p:cNvSpPr/>
            <p:nvPr/>
          </p:nvSpPr>
          <p:spPr>
            <a:xfrm>
              <a:off x="380880" y="4939920"/>
              <a:ext cx="1295280" cy="5155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6"/>
            <p:cNvSpPr/>
            <p:nvPr/>
          </p:nvSpPr>
          <p:spPr>
            <a:xfrm>
              <a:off x="2971440" y="4939920"/>
              <a:ext cx="1295280" cy="5155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1676160" y="4939920"/>
              <a:ext cx="1295280" cy="5155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380880" y="4495680"/>
              <a:ext cx="1295280" cy="5173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9"/>
            <p:cNvSpPr/>
            <p:nvPr/>
          </p:nvSpPr>
          <p:spPr>
            <a:xfrm>
              <a:off x="2971440" y="4511160"/>
              <a:ext cx="1295280" cy="5173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>
              <a:off x="1676160" y="4511160"/>
              <a:ext cx="1295280" cy="51732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cap="rnd" w="93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1"/>
            <p:cNvGrpSpPr/>
            <p:nvPr/>
          </p:nvGrpSpPr>
          <p:grpSpPr>
            <a:xfrm>
              <a:off x="812160" y="5455800"/>
              <a:ext cx="431280" cy="1172880"/>
              <a:chOff x="812160" y="5455800"/>
              <a:chExt cx="431280" cy="1172880"/>
            </a:xfrm>
          </p:grpSpPr>
          <p:sp>
            <p:nvSpPr>
              <p:cNvPr id="58" name="AutoShape 12"/>
              <p:cNvSpPr/>
              <p:nvPr/>
            </p:nvSpPr>
            <p:spPr>
              <a:xfrm flipH="1">
                <a:off x="812160" y="5455800"/>
                <a:ext cx="431280" cy="1172880"/>
              </a:xfrm>
              <a:prstGeom prst="rtTriangl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3"/>
              <p:cNvSpPr/>
              <p:nvPr/>
            </p:nvSpPr>
            <p:spPr>
              <a:xfrm flipV="1">
                <a:off x="812160" y="5455800"/>
                <a:ext cx="431280" cy="1172880"/>
              </a:xfrm>
              <a:prstGeom prst="rtTriangle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4"/>
            <p:cNvGrpSpPr/>
            <p:nvPr/>
          </p:nvGrpSpPr>
          <p:grpSpPr>
            <a:xfrm>
              <a:off x="2107440" y="5455800"/>
              <a:ext cx="431280" cy="1172880"/>
              <a:chOff x="2107440" y="5455800"/>
              <a:chExt cx="431280" cy="1172880"/>
            </a:xfrm>
          </p:grpSpPr>
          <p:sp>
            <p:nvSpPr>
              <p:cNvPr id="61" name="AutoShape 15"/>
              <p:cNvSpPr/>
              <p:nvPr/>
            </p:nvSpPr>
            <p:spPr>
              <a:xfrm flipH="1">
                <a:off x="2107440" y="5455800"/>
                <a:ext cx="431280" cy="1172880"/>
              </a:xfrm>
              <a:prstGeom prst="rtTriangl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6"/>
              <p:cNvSpPr/>
              <p:nvPr/>
            </p:nvSpPr>
            <p:spPr>
              <a:xfrm flipV="1">
                <a:off x="2107440" y="5455800"/>
                <a:ext cx="431280" cy="1172880"/>
              </a:xfrm>
              <a:prstGeom prst="rtTriangle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17"/>
            <p:cNvGrpSpPr/>
            <p:nvPr/>
          </p:nvGrpSpPr>
          <p:grpSpPr>
            <a:xfrm>
              <a:off x="3402720" y="5455800"/>
              <a:ext cx="431280" cy="1172880"/>
              <a:chOff x="3402720" y="5455800"/>
              <a:chExt cx="431280" cy="1172880"/>
            </a:xfrm>
          </p:grpSpPr>
          <p:sp>
            <p:nvSpPr>
              <p:cNvPr id="64" name="AutoShape 18"/>
              <p:cNvSpPr/>
              <p:nvPr/>
            </p:nvSpPr>
            <p:spPr>
              <a:xfrm flipH="1">
                <a:off x="3402720" y="5455800"/>
                <a:ext cx="431280" cy="1172880"/>
              </a:xfrm>
              <a:prstGeom prst="rtTriangl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19"/>
              <p:cNvSpPr/>
              <p:nvPr/>
            </p:nvSpPr>
            <p:spPr>
              <a:xfrm flipV="1">
                <a:off x="3402720" y="5455800"/>
                <a:ext cx="431280" cy="1172880"/>
              </a:xfrm>
              <a:prstGeom prst="rtTriangle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可爱的小熊"/>
          <p:cNvPicPr/>
          <p:nvPr/>
        </p:nvPicPr>
        <p:blipFill>
          <a:blip r:embed="rId2"/>
          <a:stretch/>
        </p:blipFill>
        <p:spPr>
          <a:xfrm>
            <a:off x="5410080" y="609480"/>
            <a:ext cx="3048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82" name="Line 3"/>
          <p:cNvSpPr/>
          <p:nvPr/>
        </p:nvSpPr>
        <p:spPr>
          <a:xfrm flipH="1">
            <a:off x="1763640" y="907920"/>
            <a:ext cx="2232000" cy="144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1763640" y="2349360"/>
            <a:ext cx="5400720" cy="3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924360" y="907920"/>
            <a:ext cx="324000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1763640" y="907920"/>
            <a:ext cx="5400720" cy="1800360"/>
            <a:chOff x="1763640" y="907920"/>
            <a:chExt cx="5400720" cy="1800360"/>
          </a:xfrm>
        </p:grpSpPr>
        <p:sp>
          <p:nvSpPr>
            <p:cNvPr id="186" name="Line 7"/>
            <p:cNvSpPr/>
            <p:nvPr/>
          </p:nvSpPr>
          <p:spPr>
            <a:xfrm flipH="1">
              <a:off x="1763640" y="907920"/>
              <a:ext cx="223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>
              <a:off x="1763640" y="2349360"/>
              <a:ext cx="5400720" cy="35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"/>
            <p:cNvSpPr/>
            <p:nvPr/>
          </p:nvSpPr>
          <p:spPr>
            <a:xfrm>
              <a:off x="3924360" y="907920"/>
              <a:ext cx="3240000" cy="180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166068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0348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660680" y="19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71808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228600" y="533520"/>
            <a:ext cx="8305920" cy="3124080"/>
            <a:chOff x="228600" y="533520"/>
            <a:chExt cx="8305920" cy="3124080"/>
          </a:xfrm>
        </p:grpSpPr>
        <p:pic>
          <p:nvPicPr>
            <p:cNvPr id="194" name="Picture 9" descr="1"/>
            <p:cNvPicPr/>
            <p:nvPr/>
          </p:nvPicPr>
          <p:blipFill>
            <a:blip r:embed="rId1"/>
            <a:stretch/>
          </p:blipFill>
          <p:spPr>
            <a:xfrm>
              <a:off x="228600" y="768240"/>
              <a:ext cx="174456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329580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想一想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2514600" y="1606680"/>
              <a:ext cx="6019920" cy="2050920"/>
            </a:xfrm>
            <a:prstGeom prst="cloudCallout">
              <a:avLst>
                <a:gd name="adj1" fmla="val -12814"/>
                <a:gd name="adj2" fmla="val 25232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生活中有这么多的三角形，想一想为什么要设计成三角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2"/>
          <p:cNvSpPr/>
          <p:nvPr/>
        </p:nvSpPr>
        <p:spPr>
          <a:xfrm>
            <a:off x="2498760" y="4813200"/>
            <a:ext cx="51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三角形具有稳定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8"/>
          <p:cNvGrpSpPr/>
          <p:nvPr/>
        </p:nvGrpSpPr>
        <p:grpSpPr>
          <a:xfrm>
            <a:off x="430200" y="1447920"/>
            <a:ext cx="8713800" cy="3542760"/>
            <a:chOff x="430200" y="1447920"/>
            <a:chExt cx="8713800" cy="3542760"/>
          </a:xfrm>
        </p:grpSpPr>
        <p:pic>
          <p:nvPicPr>
            <p:cNvPr id="199" name="Picture 2" descr="篱笆"/>
            <p:cNvPicPr/>
            <p:nvPr/>
          </p:nvPicPr>
          <p:blipFill>
            <a:blip r:embed="rId1"/>
            <a:stretch/>
          </p:blipFill>
          <p:spPr>
            <a:xfrm>
              <a:off x="430200" y="2135160"/>
              <a:ext cx="8713800" cy="28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"/>
            <p:cNvSpPr/>
            <p:nvPr/>
          </p:nvSpPr>
          <p:spPr>
            <a:xfrm>
              <a:off x="2490120" y="1447920"/>
              <a:ext cx="41814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0066"/>
                  </a:solidFill>
                  <a:latin typeface="Tahoma"/>
                  <a:ea typeface="仿宋_GB2312"/>
                </a:rPr>
                <a:t>你能从这张图片上找到三角形吗？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2678040" y="4952880"/>
            <a:ext cx="338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66"/>
                </a:solidFill>
                <a:latin typeface="Tahoma"/>
                <a:ea typeface="仿宋_GB2312"/>
              </a:rPr>
              <a:t>哪种方法更牢固，为什么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990720" y="2742840"/>
            <a:ext cx="2209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98560" y="568332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你能帮小兔建的更牢固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13256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最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1233"/>
          <p:cNvPicPr/>
          <p:nvPr/>
        </p:nvPicPr>
        <p:blipFill>
          <a:blip r:embed="rId1"/>
          <a:stretch/>
        </p:blipFill>
        <p:spPr>
          <a:xfrm>
            <a:off x="0" y="598320"/>
            <a:ext cx="8966160" cy="607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狗9"/>
          <p:cNvPicPr/>
          <p:nvPr/>
        </p:nvPicPr>
        <p:blipFill>
          <a:blip r:embed="rId2"/>
          <a:stretch/>
        </p:blipFill>
        <p:spPr>
          <a:xfrm>
            <a:off x="250920" y="2852640"/>
            <a:ext cx="1228680" cy="1505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480560" y="1125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办法做一个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83"/>
          <p:cNvPicPr/>
          <p:nvPr/>
        </p:nvPicPr>
        <p:blipFill>
          <a:blip r:embed="rId1"/>
          <a:stretch/>
        </p:blipFill>
        <p:spPr>
          <a:xfrm>
            <a:off x="182520" y="620640"/>
            <a:ext cx="8777160" cy="5894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936440" y="177336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033280" y="278136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890360" y="39337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817280" y="50846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42920" y="5877000"/>
            <a:ext cx="2737080" cy="360360"/>
            <a:chOff x="1042920" y="5877000"/>
            <a:chExt cx="2737080" cy="360360"/>
          </a:xfrm>
        </p:grpSpPr>
        <p:sp>
          <p:nvSpPr>
            <p:cNvPr id="214" name="Rectangle 9"/>
            <p:cNvSpPr/>
            <p:nvPr/>
          </p:nvSpPr>
          <p:spPr>
            <a:xfrm>
              <a:off x="1085400" y="5877000"/>
              <a:ext cx="2608920" cy="36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51840" y="5877000"/>
              <a:ext cx="12816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1042920" y="5877000"/>
              <a:ext cx="12708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1128600" y="5877000"/>
              <a:ext cx="170280" cy="360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>
              <a:off x="1085400" y="623736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1128600" y="5877000"/>
              <a:ext cx="1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971640" y="3429000"/>
            <a:ext cx="3384000" cy="360360"/>
            <a:chOff x="971640" y="3429000"/>
            <a:chExt cx="3384000" cy="360360"/>
          </a:xfrm>
        </p:grpSpPr>
        <p:sp>
          <p:nvSpPr>
            <p:cNvPr id="221" name="Rectangle 16"/>
            <p:cNvSpPr/>
            <p:nvPr/>
          </p:nvSpPr>
          <p:spPr>
            <a:xfrm>
              <a:off x="1024200" y="3429000"/>
              <a:ext cx="322560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197240" y="3429000"/>
              <a:ext cx="15840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971640" y="3429000"/>
              <a:ext cx="15732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1077840" y="3429000"/>
              <a:ext cx="210960" cy="360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1024200" y="378936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1077840" y="342900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971640" y="4653000"/>
            <a:ext cx="4031640" cy="360360"/>
            <a:chOff x="971640" y="4653000"/>
            <a:chExt cx="4031640" cy="360360"/>
          </a:xfrm>
        </p:grpSpPr>
        <p:sp>
          <p:nvSpPr>
            <p:cNvPr id="228" name="Rectangle 23"/>
            <p:cNvSpPr/>
            <p:nvPr/>
          </p:nvSpPr>
          <p:spPr>
            <a:xfrm>
              <a:off x="1034280" y="4653000"/>
              <a:ext cx="3843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814640" y="4653000"/>
              <a:ext cx="18864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971640" y="4653000"/>
              <a:ext cx="1875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1098000" y="4653000"/>
              <a:ext cx="2512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034280" y="501336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098000" y="4653000"/>
              <a:ext cx="2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9"/>
          <p:cNvGrpSpPr/>
          <p:nvPr/>
        </p:nvGrpSpPr>
        <p:grpSpPr>
          <a:xfrm>
            <a:off x="901800" y="2349360"/>
            <a:ext cx="6909840" cy="360360"/>
            <a:chOff x="901800" y="2349360"/>
            <a:chExt cx="6909840" cy="360360"/>
          </a:xfrm>
        </p:grpSpPr>
        <p:sp>
          <p:nvSpPr>
            <p:cNvPr id="235" name="Rectangle 30"/>
            <p:cNvSpPr/>
            <p:nvPr/>
          </p:nvSpPr>
          <p:spPr>
            <a:xfrm>
              <a:off x="1010160" y="2349360"/>
              <a:ext cx="669492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7484760" y="2349360"/>
              <a:ext cx="3268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901800" y="2349360"/>
              <a:ext cx="3261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121760" y="2349360"/>
              <a:ext cx="437760" cy="36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010160" y="270972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121760" y="234936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95280" y="1916280"/>
          <a:ext cx="7561440" cy="3027240"/>
        </p:xfrm>
        <a:graphic>
          <a:graphicData uri="http://schemas.openxmlformats.org/drawingml/2006/table">
            <a:tbl>
              <a:tblPr/>
              <a:tblGrid>
                <a:gridCol w="1152360"/>
                <a:gridCol w="1500480"/>
                <a:gridCol w="1236600"/>
                <a:gridCol w="36720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  组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 边 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厘米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否围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  角  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发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第一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第三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40"/>
          <p:cNvSpPr/>
          <p:nvPr/>
        </p:nvSpPr>
        <p:spPr>
          <a:xfrm>
            <a:off x="59220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324000" y="266760"/>
            <a:ext cx="287640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宋体"/>
              </a:rPr>
              <a:t>动手、动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948960" y="950760"/>
            <a:ext cx="65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用长是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宋体"/>
              </a:rPr>
              <a:t>4cm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宋体"/>
              </a:rPr>
              <a:t>6cm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宋体"/>
              </a:rPr>
              <a:t>10cm</a:t>
            </a: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的小棒摆三角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  <a:ea typeface="宋体"/>
              </a:rPr>
              <a:t>（每边只能用一根小棒来表示）并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160020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1728720" y="3278160"/>
            <a:ext cx="10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5"/>
          <p:cNvSpPr/>
          <p:nvPr/>
        </p:nvSpPr>
        <p:spPr>
          <a:xfrm>
            <a:off x="1734840" y="3854520"/>
            <a:ext cx="11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1734840" y="4502160"/>
            <a:ext cx="11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"/>
          <p:cNvSpPr/>
          <p:nvPr/>
        </p:nvSpPr>
        <p:spPr>
          <a:xfrm>
            <a:off x="1647360" y="2743200"/>
            <a:ext cx="11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2"/>
          <p:cNvSpPr/>
          <p:nvPr/>
        </p:nvSpPr>
        <p:spPr>
          <a:xfrm>
            <a:off x="3340080" y="326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3"/>
          <p:cNvSpPr/>
          <p:nvPr/>
        </p:nvSpPr>
        <p:spPr>
          <a:xfrm>
            <a:off x="3257280" y="383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4"/>
          <p:cNvSpPr/>
          <p:nvPr/>
        </p:nvSpPr>
        <p:spPr>
          <a:xfrm>
            <a:off x="3309840" y="441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5"/>
          <p:cNvSpPr/>
          <p:nvPr/>
        </p:nvSpPr>
        <p:spPr>
          <a:xfrm>
            <a:off x="331920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宋体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6"/>
          <p:cNvSpPr/>
          <p:nvPr/>
        </p:nvSpPr>
        <p:spPr>
          <a:xfrm>
            <a:off x="593640" y="53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7"/>
          <p:cNvSpPr/>
          <p:nvPr/>
        </p:nvSpPr>
        <p:spPr>
          <a:xfrm>
            <a:off x="746280" y="528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>
            <a:off x="1692360" y="342900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895480"/>
            <a:ext cx="31669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 flipH="1">
            <a:off x="1676520" y="3124080"/>
            <a:ext cx="2016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132000" y="414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两条线段长度之和小于第三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020680" y="47304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一看、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3.33333E-006 0.04444 E">
                                      <p:cBhvr>
                                        <p:cTn id="289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00191 0.07778 E">
                                      <p:cBhvr>
                                        <p:cTn id="293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2360" y="4508280"/>
            <a:ext cx="68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1692360" y="342900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V="1">
            <a:off x="1692360" y="549000"/>
            <a:ext cx="0" cy="2879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7451640" y="1268280"/>
            <a:ext cx="0" cy="21607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"/>
          <p:cNvSpPr/>
          <p:nvPr/>
        </p:nvSpPr>
        <p:spPr>
          <a:xfrm>
            <a:off x="1692360" y="371628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 flipV="1">
            <a:off x="1692360" y="1123560"/>
            <a:ext cx="1079280" cy="259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 flipH="1" flipV="1">
            <a:off x="6732360" y="1700280"/>
            <a:ext cx="718920" cy="20160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24280"/>
            <a:ext cx="68706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1692360" y="342900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 flipV="1">
            <a:off x="1692360" y="1773000"/>
            <a:ext cx="2158920" cy="1655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 flipH="1" flipV="1">
            <a:off x="5940360" y="1916280"/>
            <a:ext cx="1511280" cy="15127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143000" y="68580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什么是三角形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28760" y="42148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三条线段</a:t>
            </a:r>
            <a:r>
              <a:rPr b="1" i="1" lang="zh-CN" sz="4000" spc="-1" strike="noStrike">
                <a:solidFill>
                  <a:srgbClr val="0000cc"/>
                </a:solidFill>
                <a:latin typeface="楷体_GB2312"/>
              </a:rPr>
              <a:t>围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的图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叫做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4"/>
          <p:cNvGrpSpPr/>
          <p:nvPr/>
        </p:nvGrpSpPr>
        <p:grpSpPr>
          <a:xfrm>
            <a:off x="3123720" y="1600200"/>
            <a:ext cx="4143960" cy="1928880"/>
            <a:chOff x="3123720" y="1600200"/>
            <a:chExt cx="4143960" cy="1928880"/>
          </a:xfrm>
        </p:grpSpPr>
        <p:sp>
          <p:nvSpPr>
            <p:cNvPr id="70" name="直接连接符 4"/>
            <p:cNvSpPr/>
            <p:nvPr/>
          </p:nvSpPr>
          <p:spPr>
            <a:xfrm flipH="1">
              <a:off x="3123720" y="1600200"/>
              <a:ext cx="1600200" cy="192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5"/>
            <p:cNvSpPr/>
            <p:nvPr/>
          </p:nvSpPr>
          <p:spPr>
            <a:xfrm flipH="1" flipV="1">
              <a:off x="4723920" y="1600200"/>
              <a:ext cx="2543400" cy="1928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9"/>
            <p:cNvSpPr/>
            <p:nvPr/>
          </p:nvSpPr>
          <p:spPr>
            <a:xfrm>
              <a:off x="3124080" y="3529080"/>
              <a:ext cx="4143600" cy="0"/>
            </a:xfrm>
            <a:prstGeom prst="line">
              <a:avLst/>
            </a:prstGeom>
            <a:ln w="507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24280"/>
            <a:ext cx="68706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2360" y="342900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1692360" y="2421000"/>
            <a:ext cx="273528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 flipH="1" flipV="1">
            <a:off x="5435640" y="2492280"/>
            <a:ext cx="2016000" cy="9367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19280" y="4436640"/>
            <a:ext cx="705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条线段长度之和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小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1692360" y="342900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V="1">
            <a:off x="1692360" y="3284280"/>
            <a:ext cx="287964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 flipH="1" flipV="1">
            <a:off x="5363640" y="3284280"/>
            <a:ext cx="2087640" cy="1443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276720" y="5805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不能围成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24720" y="2708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484360" y="2852640"/>
            <a:ext cx="338472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1676160" y="3733920"/>
            <a:ext cx="237492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00348 0.05556 E">
                                      <p:cBhvr>
                                        <p:cTn id="31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3.33333E-006 0.09167 C -3.33333E-006 0.13287 0.04827 0.18403 0.08802 0.18403 L 0.17657 0.18403 E">
                                      <p:cBhvr>
                                        <p:cTn id="31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2"/>
          <p:cNvSpPr/>
          <p:nvPr/>
        </p:nvSpPr>
        <p:spPr>
          <a:xfrm>
            <a:off x="1676520" y="25909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524720" y="2708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4038480" y="2514600"/>
            <a:ext cx="3384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1676160" y="2514600"/>
            <a:ext cx="237492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987280" y="3860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两条线段长度之和等于第三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920" y="4724280"/>
            <a:ext cx="7346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7524720" y="2708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 flipV="1">
            <a:off x="1692360" y="549000"/>
            <a:ext cx="0" cy="3598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 flipV="1">
            <a:off x="7451640" y="1989000"/>
            <a:ext cx="0" cy="2160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47640" y="4868640"/>
            <a:ext cx="68709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 flipV="1">
            <a:off x="1692360" y="1341000"/>
            <a:ext cx="1727280" cy="2806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 flipH="1" flipV="1">
            <a:off x="6372360" y="2205000"/>
            <a:ext cx="1079280" cy="1944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 flipV="1">
            <a:off x="1692360" y="1700280"/>
            <a:ext cx="2808360" cy="244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 flipH="1" flipV="1">
            <a:off x="5940360" y="2637000"/>
            <a:ext cx="1511280" cy="1512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 flipV="1">
            <a:off x="1692360" y="2997000"/>
            <a:ext cx="3384360" cy="1150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 flipH="1" flipV="1">
            <a:off x="5435640" y="3213000"/>
            <a:ext cx="2016000" cy="936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149360"/>
            <a:ext cx="6870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条线段长度之和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等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1692360" y="328608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 flipV="1">
            <a:off x="1692360" y="3212640"/>
            <a:ext cx="3527280" cy="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"/>
          <p:cNvSpPr/>
          <p:nvPr/>
        </p:nvSpPr>
        <p:spPr>
          <a:xfrm flipH="1" flipV="1">
            <a:off x="5292360" y="3212640"/>
            <a:ext cx="2158920" cy="73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059280" y="51595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不能围成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676520" y="403848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762120" y="312408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 flipH="1" flipV="1">
            <a:off x="3419280" y="2563920"/>
            <a:ext cx="2447640" cy="1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68 -0.01112 L -0.05868 0.05555 C -0.05868 0.08541 -0.0151 0.12222 0.02049 0.12222 L 0.09966 0.12222 E">
                                      <p:cBhvr>
                                        <p:cTn id="32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717 L -0.00781 0.09838 C -0.00781 0.1456 0.05643 0.20394 0.10886 0.20394 L 0.22552 0.20394 E">
                                      <p:cBhvr>
                                        <p:cTn id="33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133720" y="2590920"/>
            <a:ext cx="4572000" cy="3200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362320" y="3657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715000" y="3657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038480" y="57913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33920" y="17524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54100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705720" y="53341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顶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2438280" y="5410080"/>
            <a:ext cx="30492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6172200" y="5410080"/>
            <a:ext cx="24120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743200" y="4952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486400" y="4952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3"/>
          <p:cNvSpPr/>
          <p:nvPr/>
        </p:nvSpPr>
        <p:spPr>
          <a:xfrm>
            <a:off x="4191120" y="2895480"/>
            <a:ext cx="457200" cy="177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038480" y="2971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6629400" y="5715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2057400" y="5715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304920" y="304920"/>
            <a:ext cx="8610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角形有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三条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边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三个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顶点，三个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 flipH="1">
            <a:off x="2133720" y="2590920"/>
            <a:ext cx="228600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133720" y="5791320"/>
            <a:ext cx="457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 flipV="1">
            <a:off x="4419720" y="2590920"/>
            <a:ext cx="228600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Line 2"/>
          <p:cNvSpPr/>
          <p:nvPr/>
        </p:nvSpPr>
        <p:spPr>
          <a:xfrm>
            <a:off x="1692360" y="2925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1692360" y="285264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 flipH="1" flipV="1">
            <a:off x="5508720" y="2852280"/>
            <a:ext cx="2448000" cy="18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286800" y="37940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两条线段长度之和大于第三条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34560" y="508428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 flipV="1">
            <a:off x="1692360" y="549000"/>
            <a:ext cx="0" cy="3598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 flipH="1" flipV="1">
            <a:off x="7380360" y="1268280"/>
            <a:ext cx="71280" cy="2881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"/>
          <p:cNvSpPr/>
          <p:nvPr/>
        </p:nvSpPr>
        <p:spPr>
          <a:xfrm flipV="1">
            <a:off x="1692360" y="836280"/>
            <a:ext cx="1439640" cy="331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"/>
          <p:cNvSpPr/>
          <p:nvPr/>
        </p:nvSpPr>
        <p:spPr>
          <a:xfrm flipH="1" flipV="1">
            <a:off x="6300360" y="1484280"/>
            <a:ext cx="1150920" cy="266544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524720" y="2708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1692360" y="1125000"/>
            <a:ext cx="2808360" cy="3022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"/>
          <p:cNvSpPr/>
          <p:nvPr/>
        </p:nvSpPr>
        <p:spPr>
          <a:xfrm flipH="1" flipV="1">
            <a:off x="5435640" y="1628280"/>
            <a:ext cx="2016000" cy="2521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Line 2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4286160" y="429264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 flipV="1">
            <a:off x="1692360" y="1773000"/>
            <a:ext cx="3166920" cy="2374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H="1" flipV="1">
            <a:off x="5363640" y="1989000"/>
            <a:ext cx="2087640" cy="2160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7280" y="5013360"/>
            <a:ext cx="8496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条线段长度之和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大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条线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1692360" y="2637000"/>
            <a:ext cx="3527280" cy="1511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 flipH="1" flipV="1">
            <a:off x="5219640" y="2637000"/>
            <a:ext cx="2232000" cy="1512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059280" y="5877000"/>
            <a:ext cx="38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可以围成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>
            <a:hlinkClick r:id="rId2" action="ppaction://hlinksldjump"/>
          </p:cNvPr>
          <p:cNvSpPr/>
          <p:nvPr/>
        </p:nvSpPr>
        <p:spPr>
          <a:xfrm>
            <a:off x="8028000" y="189000"/>
            <a:ext cx="936720" cy="576000"/>
          </a:xfrm>
          <a:prstGeom prst="leftArrow">
            <a:avLst>
              <a:gd name="adj1" fmla="val 50000"/>
              <a:gd name="adj2" fmla="val 406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083"/>
          <p:cNvPicPr/>
          <p:nvPr/>
        </p:nvPicPr>
        <p:blipFill>
          <a:blip r:embed="rId1"/>
          <a:stretch/>
        </p:blipFill>
        <p:spPr>
          <a:xfrm>
            <a:off x="182520" y="620640"/>
            <a:ext cx="8777160" cy="59770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3"/>
          <p:cNvGrpSpPr/>
          <p:nvPr/>
        </p:nvGrpSpPr>
        <p:grpSpPr>
          <a:xfrm>
            <a:off x="457200" y="2040480"/>
            <a:ext cx="4275360" cy="1412280"/>
            <a:chOff x="457200" y="2040480"/>
            <a:chExt cx="4275360" cy="1412280"/>
          </a:xfrm>
        </p:grpSpPr>
        <p:grpSp>
          <p:nvGrpSpPr>
            <p:cNvPr id="343" name="Group 4"/>
            <p:cNvGrpSpPr/>
            <p:nvPr/>
          </p:nvGrpSpPr>
          <p:grpSpPr>
            <a:xfrm>
              <a:off x="457200" y="3117960"/>
              <a:ext cx="4269240" cy="334800"/>
              <a:chOff x="457200" y="3117960"/>
              <a:chExt cx="4269240" cy="334800"/>
            </a:xfrm>
          </p:grpSpPr>
          <p:sp>
            <p:nvSpPr>
              <p:cNvPr id="344" name="Rectangle 5"/>
              <p:cNvSpPr/>
              <p:nvPr/>
            </p:nvSpPr>
            <p:spPr>
              <a:xfrm>
                <a:off x="524160" y="3117960"/>
                <a:ext cx="4136400" cy="3348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6"/>
              <p:cNvSpPr/>
              <p:nvPr/>
            </p:nvSpPr>
            <p:spPr>
              <a:xfrm>
                <a:off x="4524480" y="3117960"/>
                <a:ext cx="201960" cy="3348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>
                <a:off x="457200" y="3117960"/>
                <a:ext cx="201600" cy="3348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8"/>
              <p:cNvSpPr/>
              <p:nvPr/>
            </p:nvSpPr>
            <p:spPr>
              <a:xfrm>
                <a:off x="592920" y="3117960"/>
                <a:ext cx="270360" cy="33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9"/>
              <p:cNvSpPr/>
              <p:nvPr/>
            </p:nvSpPr>
            <p:spPr>
              <a:xfrm>
                <a:off x="524160" y="34527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0"/>
              <p:cNvSpPr/>
              <p:nvPr/>
            </p:nvSpPr>
            <p:spPr>
              <a:xfrm>
                <a:off x="592920" y="3117960"/>
                <a:ext cx="27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11"/>
            <p:cNvGrpSpPr/>
            <p:nvPr/>
          </p:nvGrpSpPr>
          <p:grpSpPr>
            <a:xfrm>
              <a:off x="2729160" y="2040480"/>
              <a:ext cx="2003400" cy="1282680"/>
              <a:chOff x="2729160" y="2040480"/>
              <a:chExt cx="2003400" cy="1282680"/>
            </a:xfrm>
          </p:grpSpPr>
          <p:sp>
            <p:nvSpPr>
              <p:cNvPr id="351" name="Rectangle 12"/>
              <p:cNvSpPr/>
              <p:nvPr/>
            </p:nvSpPr>
            <p:spPr>
              <a:xfrm rot="12489600">
                <a:off x="2747880" y="2522160"/>
                <a:ext cx="1994760" cy="3348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 rot="12489600">
                <a:off x="2802240" y="2043360"/>
                <a:ext cx="97920" cy="33480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4"/>
              <p:cNvSpPr/>
              <p:nvPr/>
            </p:nvSpPr>
            <p:spPr>
              <a:xfrm rot="12489600">
                <a:off x="4561920" y="2985120"/>
                <a:ext cx="97200" cy="33480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5"/>
              <p:cNvSpPr/>
              <p:nvPr/>
            </p:nvSpPr>
            <p:spPr>
              <a:xfrm rot="12489600">
                <a:off x="4472640" y="2946600"/>
                <a:ext cx="130320" cy="3348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6"/>
              <p:cNvSpPr/>
              <p:nvPr/>
            </p:nvSpPr>
            <p:spPr>
              <a:xfrm flipH="1" flipV="1">
                <a:off x="4559760" y="2935800"/>
                <a:ext cx="1440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7"/>
              <p:cNvSpPr/>
              <p:nvPr/>
            </p:nvSpPr>
            <p:spPr>
              <a:xfrm flipH="1" flipV="1">
                <a:off x="4401720" y="3231000"/>
                <a:ext cx="11484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8"/>
            <p:cNvGrpSpPr/>
            <p:nvPr/>
          </p:nvGrpSpPr>
          <p:grpSpPr>
            <a:xfrm>
              <a:off x="486000" y="2057760"/>
              <a:ext cx="2434320" cy="1248480"/>
              <a:chOff x="486000" y="2057760"/>
              <a:chExt cx="2434320" cy="1248480"/>
            </a:xfrm>
          </p:grpSpPr>
          <p:sp>
            <p:nvSpPr>
              <p:cNvPr id="358" name="Rectangle 19"/>
              <p:cNvSpPr/>
              <p:nvPr/>
            </p:nvSpPr>
            <p:spPr>
              <a:xfrm rot="20272200">
                <a:off x="497160" y="2521800"/>
                <a:ext cx="2375280" cy="334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20"/>
              <p:cNvSpPr/>
              <p:nvPr/>
            </p:nvSpPr>
            <p:spPr>
              <a:xfrm rot="20272200">
                <a:off x="2745000" y="2067120"/>
                <a:ext cx="116640" cy="334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21"/>
              <p:cNvSpPr/>
              <p:nvPr/>
            </p:nvSpPr>
            <p:spPr>
              <a:xfrm rot="20272200">
                <a:off x="544680" y="2962080"/>
                <a:ext cx="115920" cy="334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2"/>
              <p:cNvSpPr/>
              <p:nvPr/>
            </p:nvSpPr>
            <p:spPr>
              <a:xfrm rot="20272200">
                <a:off x="615600" y="2925000"/>
                <a:ext cx="155160" cy="334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647640" y="3218400"/>
                <a:ext cx="18036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558360" y="2908440"/>
                <a:ext cx="14364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25"/>
          <p:cNvGrpSpPr/>
          <p:nvPr/>
        </p:nvGrpSpPr>
        <p:grpSpPr>
          <a:xfrm>
            <a:off x="5079600" y="1591920"/>
            <a:ext cx="3165840" cy="1957680"/>
            <a:chOff x="5079600" y="1591920"/>
            <a:chExt cx="3165840" cy="1957680"/>
          </a:xfrm>
        </p:grpSpPr>
        <p:grpSp>
          <p:nvGrpSpPr>
            <p:cNvPr id="365" name="Group 26"/>
            <p:cNvGrpSpPr/>
            <p:nvPr/>
          </p:nvGrpSpPr>
          <p:grpSpPr>
            <a:xfrm>
              <a:off x="5079600" y="1758240"/>
              <a:ext cx="1243080" cy="1616400"/>
              <a:chOff x="5079600" y="1758240"/>
              <a:chExt cx="1243080" cy="1616400"/>
            </a:xfrm>
          </p:grpSpPr>
          <p:sp>
            <p:nvSpPr>
              <p:cNvPr id="366" name="Rectangle 27"/>
              <p:cNvSpPr/>
              <p:nvPr/>
            </p:nvSpPr>
            <p:spPr>
              <a:xfrm rot="18294000">
                <a:off x="4844880" y="2440080"/>
                <a:ext cx="1695960" cy="2746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 rot="18294000">
                <a:off x="6144480" y="1733400"/>
                <a:ext cx="83160" cy="2746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 rot="18294000">
                <a:off x="5174280" y="3124440"/>
                <a:ext cx="82800" cy="2746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0"/>
              <p:cNvSpPr/>
              <p:nvPr/>
            </p:nvSpPr>
            <p:spPr>
              <a:xfrm rot="18294000">
                <a:off x="5199840" y="3066840"/>
                <a:ext cx="110880" cy="274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31"/>
              <p:cNvSpPr/>
              <p:nvPr/>
            </p:nvSpPr>
            <p:spPr>
              <a:xfrm flipV="1">
                <a:off x="5320440" y="3237840"/>
                <a:ext cx="7956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32"/>
              <p:cNvSpPr/>
              <p:nvPr/>
            </p:nvSpPr>
            <p:spPr>
              <a:xfrm flipV="1">
                <a:off x="5111280" y="3080520"/>
                <a:ext cx="6372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3"/>
            <p:cNvGrpSpPr/>
            <p:nvPr/>
          </p:nvGrpSpPr>
          <p:grpSpPr>
            <a:xfrm>
              <a:off x="6174360" y="1591920"/>
              <a:ext cx="2063160" cy="1902600"/>
              <a:chOff x="6174360" y="1591920"/>
              <a:chExt cx="2063160" cy="1902600"/>
            </a:xfrm>
          </p:grpSpPr>
          <p:sp>
            <p:nvSpPr>
              <p:cNvPr id="373" name="Rectangle 34"/>
              <p:cNvSpPr/>
              <p:nvPr/>
            </p:nvSpPr>
            <p:spPr>
              <a:xfrm rot="2533800">
                <a:off x="5964480" y="2412000"/>
                <a:ext cx="2452320" cy="2350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35"/>
              <p:cNvSpPr/>
              <p:nvPr/>
            </p:nvSpPr>
            <p:spPr>
              <a:xfrm rot="2533800">
                <a:off x="8053920" y="3249360"/>
                <a:ext cx="120240" cy="2350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36"/>
              <p:cNvSpPr/>
              <p:nvPr/>
            </p:nvSpPr>
            <p:spPr>
              <a:xfrm rot="2533800">
                <a:off x="6237720" y="1601280"/>
                <a:ext cx="119520" cy="2350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7"/>
              <p:cNvSpPr/>
              <p:nvPr/>
            </p:nvSpPr>
            <p:spPr>
              <a:xfrm rot="2533800">
                <a:off x="6292080" y="1668960"/>
                <a:ext cx="160200" cy="2350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6203880" y="1792800"/>
                <a:ext cx="14904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39"/>
              <p:cNvSpPr/>
              <p:nvPr/>
            </p:nvSpPr>
            <p:spPr>
              <a:xfrm>
                <a:off x="6392160" y="1645920"/>
                <a:ext cx="11844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40"/>
            <p:cNvGrpSpPr/>
            <p:nvPr/>
          </p:nvGrpSpPr>
          <p:grpSpPr>
            <a:xfrm>
              <a:off x="5181480" y="3314520"/>
              <a:ext cx="3063960" cy="235080"/>
              <a:chOff x="5181480" y="3314520"/>
              <a:chExt cx="3063960" cy="235080"/>
            </a:xfrm>
          </p:grpSpPr>
          <p:sp>
            <p:nvSpPr>
              <p:cNvPr id="380" name="Rectangle 41"/>
              <p:cNvSpPr/>
              <p:nvPr/>
            </p:nvSpPr>
            <p:spPr>
              <a:xfrm>
                <a:off x="5229000" y="3314520"/>
                <a:ext cx="2920680" cy="235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42"/>
              <p:cNvSpPr/>
              <p:nvPr/>
            </p:nvSpPr>
            <p:spPr>
              <a:xfrm>
                <a:off x="8102160" y="3314520"/>
                <a:ext cx="143280" cy="235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43"/>
              <p:cNvSpPr/>
              <p:nvPr/>
            </p:nvSpPr>
            <p:spPr>
              <a:xfrm>
                <a:off x="5181480" y="3314520"/>
                <a:ext cx="142560" cy="235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44"/>
              <p:cNvSpPr/>
              <p:nvPr/>
            </p:nvSpPr>
            <p:spPr>
              <a:xfrm>
                <a:off x="5277600" y="3314520"/>
                <a:ext cx="190800" cy="235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45"/>
              <p:cNvSpPr/>
              <p:nvPr/>
            </p:nvSpPr>
            <p:spPr>
              <a:xfrm>
                <a:off x="5229000" y="3549600"/>
                <a:ext cx="23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46"/>
              <p:cNvSpPr/>
              <p:nvPr/>
            </p:nvSpPr>
            <p:spPr>
              <a:xfrm>
                <a:off x="5277600" y="331452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47"/>
          <p:cNvGrpSpPr/>
          <p:nvPr/>
        </p:nvGrpSpPr>
        <p:grpSpPr>
          <a:xfrm>
            <a:off x="462240" y="3902760"/>
            <a:ext cx="3824640" cy="1470600"/>
            <a:chOff x="462240" y="3902760"/>
            <a:chExt cx="3824640" cy="1470600"/>
          </a:xfrm>
        </p:grpSpPr>
        <p:grpSp>
          <p:nvGrpSpPr>
            <p:cNvPr id="387" name="Group 48"/>
            <p:cNvGrpSpPr/>
            <p:nvPr/>
          </p:nvGrpSpPr>
          <p:grpSpPr>
            <a:xfrm>
              <a:off x="468360" y="5122800"/>
              <a:ext cx="3722400" cy="250560"/>
              <a:chOff x="468360" y="5122800"/>
              <a:chExt cx="3722400" cy="250560"/>
            </a:xfrm>
          </p:grpSpPr>
          <p:sp>
            <p:nvSpPr>
              <p:cNvPr id="388" name="Rectangle 49"/>
              <p:cNvSpPr/>
              <p:nvPr/>
            </p:nvSpPr>
            <p:spPr>
              <a:xfrm>
                <a:off x="526680" y="5122800"/>
                <a:ext cx="3606840" cy="250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50"/>
              <p:cNvSpPr/>
              <p:nvPr/>
            </p:nvSpPr>
            <p:spPr>
              <a:xfrm>
                <a:off x="4014720" y="5122800"/>
                <a:ext cx="176040" cy="2505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51"/>
              <p:cNvSpPr/>
              <p:nvPr/>
            </p:nvSpPr>
            <p:spPr>
              <a:xfrm>
                <a:off x="468360" y="5122800"/>
                <a:ext cx="175680" cy="2505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52"/>
              <p:cNvSpPr/>
              <p:nvPr/>
            </p:nvSpPr>
            <p:spPr>
              <a:xfrm>
                <a:off x="586800" y="5122800"/>
                <a:ext cx="235800" cy="250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53"/>
              <p:cNvSpPr/>
              <p:nvPr/>
            </p:nvSpPr>
            <p:spPr>
              <a:xfrm>
                <a:off x="526680" y="5373360"/>
                <a:ext cx="29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54"/>
              <p:cNvSpPr/>
              <p:nvPr/>
            </p:nvSpPr>
            <p:spPr>
              <a:xfrm>
                <a:off x="586800" y="512280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55"/>
            <p:cNvGrpSpPr/>
            <p:nvPr/>
          </p:nvGrpSpPr>
          <p:grpSpPr>
            <a:xfrm>
              <a:off x="462240" y="3927960"/>
              <a:ext cx="1881720" cy="1202400"/>
              <a:chOff x="462240" y="3927960"/>
              <a:chExt cx="1881720" cy="1202400"/>
            </a:xfrm>
          </p:grpSpPr>
          <p:sp>
            <p:nvSpPr>
              <p:cNvPr id="395" name="Rectangle 56"/>
              <p:cNvSpPr/>
              <p:nvPr/>
            </p:nvSpPr>
            <p:spPr>
              <a:xfrm rot="19847400">
                <a:off x="428400" y="4411440"/>
                <a:ext cx="1921680" cy="250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 rot="19847400">
                <a:off x="2194560" y="3934800"/>
                <a:ext cx="94320" cy="250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 rot="19847400">
                <a:off x="517320" y="4872960"/>
                <a:ext cx="93600" cy="250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59"/>
              <p:cNvSpPr/>
              <p:nvPr/>
            </p:nvSpPr>
            <p:spPr>
              <a:xfrm rot="19847400">
                <a:off x="570240" y="4834080"/>
                <a:ext cx="125640" cy="25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0"/>
              <p:cNvSpPr/>
              <p:nvPr/>
            </p:nvSpPr>
            <p:spPr>
              <a:xfrm flipV="1">
                <a:off x="612000" y="5038200"/>
                <a:ext cx="13716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61"/>
              <p:cNvSpPr/>
              <p:nvPr/>
            </p:nvSpPr>
            <p:spPr>
              <a:xfrm flipV="1">
                <a:off x="517320" y="4819680"/>
                <a:ext cx="10980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62"/>
            <p:cNvGrpSpPr/>
            <p:nvPr/>
          </p:nvGrpSpPr>
          <p:grpSpPr>
            <a:xfrm>
              <a:off x="2886840" y="3902760"/>
              <a:ext cx="1400040" cy="1252800"/>
              <a:chOff x="2886840" y="3902760"/>
              <a:chExt cx="1400040" cy="1252800"/>
            </a:xfrm>
          </p:grpSpPr>
          <p:sp>
            <p:nvSpPr>
              <p:cNvPr id="402" name="Rectangle 63"/>
              <p:cNvSpPr/>
              <p:nvPr/>
            </p:nvSpPr>
            <p:spPr>
              <a:xfrm rot="2440800">
                <a:off x="2799720" y="4395240"/>
                <a:ext cx="1554120" cy="2505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64"/>
              <p:cNvSpPr/>
              <p:nvPr/>
            </p:nvSpPr>
            <p:spPr>
              <a:xfrm rot="2440800">
                <a:off x="4137840" y="4910400"/>
                <a:ext cx="76320" cy="250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65"/>
              <p:cNvSpPr/>
              <p:nvPr/>
            </p:nvSpPr>
            <p:spPr>
              <a:xfrm rot="2440800">
                <a:off x="2959200" y="3897000"/>
                <a:ext cx="75600" cy="25056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66"/>
              <p:cNvSpPr/>
              <p:nvPr/>
            </p:nvSpPr>
            <p:spPr>
              <a:xfrm rot="2440800">
                <a:off x="2995200" y="3938760"/>
                <a:ext cx="101520" cy="25056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7"/>
              <p:cNvSpPr/>
              <p:nvPr/>
            </p:nvSpPr>
            <p:spPr>
              <a:xfrm>
                <a:off x="2905920" y="4109400"/>
                <a:ext cx="9684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68"/>
              <p:cNvSpPr/>
              <p:nvPr/>
            </p:nvSpPr>
            <p:spPr>
              <a:xfrm>
                <a:off x="3089160" y="3936240"/>
                <a:ext cx="7668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69"/>
          <p:cNvGrpSpPr/>
          <p:nvPr/>
        </p:nvGrpSpPr>
        <p:grpSpPr>
          <a:xfrm>
            <a:off x="4381560" y="4015800"/>
            <a:ext cx="4151160" cy="1357920"/>
            <a:chOff x="4381560" y="4015800"/>
            <a:chExt cx="4151160" cy="1357920"/>
          </a:xfrm>
        </p:grpSpPr>
        <p:grpSp>
          <p:nvGrpSpPr>
            <p:cNvPr id="409" name="Group 70"/>
            <p:cNvGrpSpPr/>
            <p:nvPr/>
          </p:nvGrpSpPr>
          <p:grpSpPr>
            <a:xfrm>
              <a:off x="4431960" y="5065560"/>
              <a:ext cx="4100760" cy="308160"/>
              <a:chOff x="4431960" y="5065560"/>
              <a:chExt cx="4100760" cy="308160"/>
            </a:xfrm>
          </p:grpSpPr>
          <p:sp>
            <p:nvSpPr>
              <p:cNvPr id="410" name="Rectangle 71"/>
              <p:cNvSpPr/>
              <p:nvPr/>
            </p:nvSpPr>
            <p:spPr>
              <a:xfrm>
                <a:off x="4496400" y="5065560"/>
                <a:ext cx="3972960" cy="3081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72"/>
              <p:cNvSpPr/>
              <p:nvPr/>
            </p:nvSpPr>
            <p:spPr>
              <a:xfrm>
                <a:off x="8338680" y="5065560"/>
                <a:ext cx="194040" cy="3081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73"/>
              <p:cNvSpPr/>
              <p:nvPr/>
            </p:nvSpPr>
            <p:spPr>
              <a:xfrm>
                <a:off x="4431960" y="5065560"/>
                <a:ext cx="193680" cy="3081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74"/>
              <p:cNvSpPr/>
              <p:nvPr/>
            </p:nvSpPr>
            <p:spPr>
              <a:xfrm>
                <a:off x="4562280" y="5065560"/>
                <a:ext cx="259560" cy="3081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75"/>
              <p:cNvSpPr/>
              <p:nvPr/>
            </p:nvSpPr>
            <p:spPr>
              <a:xfrm>
                <a:off x="4496400" y="5373720"/>
                <a:ext cx="32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76"/>
              <p:cNvSpPr/>
              <p:nvPr/>
            </p:nvSpPr>
            <p:spPr>
              <a:xfrm>
                <a:off x="4562280" y="5065560"/>
                <a:ext cx="25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77"/>
            <p:cNvGrpSpPr/>
            <p:nvPr/>
          </p:nvGrpSpPr>
          <p:grpSpPr>
            <a:xfrm>
              <a:off x="7199640" y="4015800"/>
              <a:ext cx="1270080" cy="1143000"/>
              <a:chOff x="7199640" y="4015800"/>
              <a:chExt cx="1270080" cy="1143000"/>
            </a:xfrm>
          </p:grpSpPr>
          <p:sp>
            <p:nvSpPr>
              <p:cNvPr id="417" name="Rectangle 78"/>
              <p:cNvSpPr/>
              <p:nvPr/>
            </p:nvSpPr>
            <p:spPr>
              <a:xfrm rot="2440800">
                <a:off x="7131960" y="4451760"/>
                <a:ext cx="1387440" cy="2556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79"/>
              <p:cNvSpPr/>
              <p:nvPr/>
            </p:nvSpPr>
            <p:spPr>
              <a:xfrm rot="2440800">
                <a:off x="8326440" y="4911480"/>
                <a:ext cx="68040" cy="2556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80"/>
              <p:cNvSpPr/>
              <p:nvPr/>
            </p:nvSpPr>
            <p:spPr>
              <a:xfrm rot="2440800">
                <a:off x="7274520" y="4006800"/>
                <a:ext cx="67680" cy="2556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81"/>
              <p:cNvSpPr/>
              <p:nvPr/>
            </p:nvSpPr>
            <p:spPr>
              <a:xfrm rot="2440800">
                <a:off x="7306200" y="4044240"/>
                <a:ext cx="90720" cy="25560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82"/>
              <p:cNvSpPr/>
              <p:nvPr/>
            </p:nvSpPr>
            <p:spPr>
              <a:xfrm>
                <a:off x="7216560" y="4224240"/>
                <a:ext cx="864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83"/>
              <p:cNvSpPr/>
              <p:nvPr/>
            </p:nvSpPr>
            <p:spPr>
              <a:xfrm>
                <a:off x="7400520" y="4045680"/>
                <a:ext cx="6876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84"/>
            <p:cNvGrpSpPr/>
            <p:nvPr/>
          </p:nvGrpSpPr>
          <p:grpSpPr>
            <a:xfrm>
              <a:off x="4381560" y="4055400"/>
              <a:ext cx="2181960" cy="1117440"/>
              <a:chOff x="4381560" y="4055400"/>
              <a:chExt cx="2181960" cy="1117440"/>
            </a:xfrm>
          </p:grpSpPr>
          <p:sp>
            <p:nvSpPr>
              <p:cNvPr id="424" name="Rectangle 85"/>
              <p:cNvSpPr/>
              <p:nvPr/>
            </p:nvSpPr>
            <p:spPr>
              <a:xfrm rot="20275800">
                <a:off x="4392000" y="4470480"/>
                <a:ext cx="2128680" cy="3002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86"/>
              <p:cNvSpPr/>
              <p:nvPr/>
            </p:nvSpPr>
            <p:spPr>
              <a:xfrm rot="20275800">
                <a:off x="6406560" y="4063680"/>
                <a:ext cx="104400" cy="3002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87"/>
              <p:cNvSpPr/>
              <p:nvPr/>
            </p:nvSpPr>
            <p:spPr>
              <a:xfrm rot="20275800">
                <a:off x="4434120" y="4863960"/>
                <a:ext cx="103680" cy="3002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88"/>
              <p:cNvSpPr/>
              <p:nvPr/>
            </p:nvSpPr>
            <p:spPr>
              <a:xfrm rot="20275800">
                <a:off x="4497120" y="4830840"/>
                <a:ext cx="138960" cy="300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89"/>
              <p:cNvSpPr/>
              <p:nvPr/>
            </p:nvSpPr>
            <p:spPr>
              <a:xfrm flipV="1">
                <a:off x="4526280" y="5094360"/>
                <a:ext cx="16164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0"/>
              <p:cNvSpPr/>
              <p:nvPr/>
            </p:nvSpPr>
            <p:spPr>
              <a:xfrm flipV="1">
                <a:off x="4446000" y="4816080"/>
                <a:ext cx="12888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Rectangle 91"/>
          <p:cNvSpPr/>
          <p:nvPr/>
        </p:nvSpPr>
        <p:spPr>
          <a:xfrm>
            <a:off x="304920" y="6858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你摆的三角形的情况，比较这三根小棒的长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有什么发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2"/>
          <p:cNvSpPr/>
          <p:nvPr/>
        </p:nvSpPr>
        <p:spPr>
          <a:xfrm>
            <a:off x="755640" y="59500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角形任意两边之和大于第三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3"/>
          <p:cNvSpPr/>
          <p:nvPr/>
        </p:nvSpPr>
        <p:spPr>
          <a:xfrm>
            <a:off x="667080" y="34290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6cm+5cm</a:t>
            </a:r>
            <a:r>
              <a:rPr b="0" lang="zh-CN" sz="2800" spc="-1" strike="noStrike">
                <a:solidFill>
                  <a:srgbClr val="006600"/>
                </a:solidFill>
                <a:latin typeface="Comic Sans MS"/>
              </a:rPr>
              <a:t>＞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4"/>
          <p:cNvSpPr/>
          <p:nvPr/>
        </p:nvSpPr>
        <p:spPr>
          <a:xfrm>
            <a:off x="5260320" y="35053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4cm+5cm</a:t>
            </a:r>
            <a:r>
              <a:rPr b="0" lang="zh-CN" sz="2800" spc="-1" strike="noStrike">
                <a:solidFill>
                  <a:srgbClr val="006600"/>
                </a:solidFill>
                <a:latin typeface="Comic Sans MS"/>
              </a:rPr>
              <a:t>＞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5"/>
          <p:cNvSpPr/>
          <p:nvPr/>
        </p:nvSpPr>
        <p:spPr>
          <a:xfrm>
            <a:off x="880200" y="544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6cm+4cm=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6"/>
          <p:cNvSpPr/>
          <p:nvPr/>
        </p:nvSpPr>
        <p:spPr>
          <a:xfrm>
            <a:off x="4908960" y="54450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5cm+4cm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7"/>
          <p:cNvSpPr/>
          <p:nvPr/>
        </p:nvSpPr>
        <p:spPr>
          <a:xfrm>
            <a:off x="380880" y="1752480"/>
            <a:ext cx="8139240" cy="2162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8"/>
          <p:cNvSpPr/>
          <p:nvPr/>
        </p:nvSpPr>
        <p:spPr>
          <a:xfrm>
            <a:off x="2147040" y="27558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9"/>
          <p:cNvSpPr/>
          <p:nvPr/>
        </p:nvSpPr>
        <p:spPr>
          <a:xfrm rot="1553400">
            <a:off x="3301200" y="21733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0"/>
          <p:cNvSpPr/>
          <p:nvPr/>
        </p:nvSpPr>
        <p:spPr>
          <a:xfrm rot="20476800">
            <a:off x="1369800" y="20347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1"/>
          <p:cNvSpPr/>
          <p:nvPr/>
        </p:nvSpPr>
        <p:spPr>
          <a:xfrm rot="18391200">
            <a:off x="5079240" y="21949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2"/>
          <p:cNvSpPr/>
          <p:nvPr/>
        </p:nvSpPr>
        <p:spPr>
          <a:xfrm>
            <a:off x="1799640" y="501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3"/>
          <p:cNvSpPr/>
          <p:nvPr/>
        </p:nvSpPr>
        <p:spPr>
          <a:xfrm rot="2638800">
            <a:off x="6609240" y="19591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4"/>
          <p:cNvSpPr/>
          <p:nvPr/>
        </p:nvSpPr>
        <p:spPr>
          <a:xfrm>
            <a:off x="6261120" y="29242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5"/>
          <p:cNvSpPr/>
          <p:nvPr/>
        </p:nvSpPr>
        <p:spPr>
          <a:xfrm rot="2026800">
            <a:off x="3165120" y="42688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6"/>
          <p:cNvSpPr/>
          <p:nvPr/>
        </p:nvSpPr>
        <p:spPr>
          <a:xfrm>
            <a:off x="6192000" y="499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7"/>
          <p:cNvSpPr/>
          <p:nvPr/>
        </p:nvSpPr>
        <p:spPr>
          <a:xfrm rot="19927200">
            <a:off x="5134320" y="43495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8"/>
          <p:cNvSpPr/>
          <p:nvPr/>
        </p:nvSpPr>
        <p:spPr>
          <a:xfrm rot="19224600">
            <a:off x="1101600" y="41490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9"/>
          <p:cNvSpPr/>
          <p:nvPr/>
        </p:nvSpPr>
        <p:spPr>
          <a:xfrm rot="2227800">
            <a:off x="7412760" y="43243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203640" y="1844640"/>
            <a:ext cx="2627280" cy="37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250920" y="1844640"/>
            <a:ext cx="2627280" cy="37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285280" y="33336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哪几组中的三条线段可以围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三角形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"/>
          <p:cNvGrpSpPr/>
          <p:nvPr/>
        </p:nvGrpSpPr>
        <p:grpSpPr>
          <a:xfrm>
            <a:off x="378720" y="2060640"/>
            <a:ext cx="2248560" cy="2952720"/>
            <a:chOff x="378720" y="2060640"/>
            <a:chExt cx="2248560" cy="2952720"/>
          </a:xfrm>
        </p:grpSpPr>
        <p:sp>
          <p:nvSpPr>
            <p:cNvPr id="453" name="Line 6"/>
            <p:cNvSpPr/>
            <p:nvPr/>
          </p:nvSpPr>
          <p:spPr>
            <a:xfrm>
              <a:off x="468360" y="2852640"/>
              <a:ext cx="7189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"/>
            <p:cNvSpPr/>
            <p:nvPr/>
          </p:nvSpPr>
          <p:spPr>
            <a:xfrm>
              <a:off x="468360" y="5013360"/>
              <a:ext cx="21589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8"/>
            <p:cNvSpPr/>
            <p:nvPr/>
          </p:nvSpPr>
          <p:spPr>
            <a:xfrm>
              <a:off x="468360" y="3860640"/>
              <a:ext cx="14396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9"/>
            <p:cNvSpPr/>
            <p:nvPr/>
          </p:nvSpPr>
          <p:spPr>
            <a:xfrm>
              <a:off x="396360" y="206064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396360" y="314172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1"/>
            <p:cNvSpPr/>
            <p:nvPr/>
          </p:nvSpPr>
          <p:spPr>
            <a:xfrm>
              <a:off x="378720" y="429264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2"/>
          <p:cNvGrpSpPr/>
          <p:nvPr/>
        </p:nvGrpSpPr>
        <p:grpSpPr>
          <a:xfrm>
            <a:off x="3419640" y="2133720"/>
            <a:ext cx="1873080" cy="2879640"/>
            <a:chOff x="3419640" y="2133720"/>
            <a:chExt cx="1873080" cy="2879640"/>
          </a:xfrm>
        </p:grpSpPr>
        <p:sp>
          <p:nvSpPr>
            <p:cNvPr id="460" name="Line 13"/>
            <p:cNvSpPr/>
            <p:nvPr/>
          </p:nvSpPr>
          <p:spPr>
            <a:xfrm>
              <a:off x="3419640" y="5013360"/>
              <a:ext cx="18000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3492360" y="2924280"/>
              <a:ext cx="18003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5"/>
            <p:cNvSpPr/>
            <p:nvPr/>
          </p:nvSpPr>
          <p:spPr>
            <a:xfrm>
              <a:off x="3924360" y="3933720"/>
              <a:ext cx="7189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3781800" y="31417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7"/>
            <p:cNvSpPr/>
            <p:nvPr/>
          </p:nvSpPr>
          <p:spPr>
            <a:xfrm>
              <a:off x="3781800" y="21337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8"/>
            <p:cNvSpPr/>
            <p:nvPr/>
          </p:nvSpPr>
          <p:spPr>
            <a:xfrm>
              <a:off x="3710160" y="429264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19"/>
          <p:cNvSpPr/>
          <p:nvPr/>
        </p:nvSpPr>
        <p:spPr>
          <a:xfrm>
            <a:off x="6156360" y="1844640"/>
            <a:ext cx="2627280" cy="37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0"/>
          <p:cNvGrpSpPr/>
          <p:nvPr/>
        </p:nvGrpSpPr>
        <p:grpSpPr>
          <a:xfrm>
            <a:off x="6372360" y="2133720"/>
            <a:ext cx="2158920" cy="2808000"/>
            <a:chOff x="6372360" y="2133720"/>
            <a:chExt cx="2158920" cy="2808000"/>
          </a:xfrm>
        </p:grpSpPr>
        <p:sp>
          <p:nvSpPr>
            <p:cNvPr id="468" name="Line 21"/>
            <p:cNvSpPr/>
            <p:nvPr/>
          </p:nvSpPr>
          <p:spPr>
            <a:xfrm>
              <a:off x="6372360" y="2852640"/>
              <a:ext cx="215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2"/>
            <p:cNvSpPr/>
            <p:nvPr/>
          </p:nvSpPr>
          <p:spPr>
            <a:xfrm>
              <a:off x="6659640" y="393372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>
              <a:off x="6443640" y="4941720"/>
              <a:ext cx="180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4"/>
            <p:cNvSpPr/>
            <p:nvPr/>
          </p:nvSpPr>
          <p:spPr>
            <a:xfrm>
              <a:off x="6518520" y="21337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5"/>
            <p:cNvSpPr/>
            <p:nvPr/>
          </p:nvSpPr>
          <p:spPr>
            <a:xfrm>
              <a:off x="6590160" y="32130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6"/>
            <p:cNvSpPr/>
            <p:nvPr/>
          </p:nvSpPr>
          <p:spPr>
            <a:xfrm>
              <a:off x="6590160" y="41497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2103480" y="3048120"/>
            <a:ext cx="48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i="1" lang="zh-CN" sz="3600" spc="-1" strike="noStrike">
                <a:solidFill>
                  <a:srgbClr val="0000ff"/>
                </a:solidFill>
                <a:latin typeface="楷体_GB2312"/>
              </a:rPr>
              <a:t>通过这节课的学习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58436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808080"/>
                </a:solidFill>
                <a:latin typeface="Arial"/>
              </a:rPr>
              <a:t>请用你喜欢的方法验证：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三角形的内角和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是不是</a:t>
            </a:r>
            <a:r>
              <a:rPr b="0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度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24000" y="4076640"/>
            <a:ext cx="85406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G:\未命名.jpg"/>
          <p:cNvPicPr/>
          <p:nvPr/>
        </p:nvPicPr>
        <p:blipFill>
          <a:blip r:embed="rId1"/>
          <a:stretch/>
        </p:blipFill>
        <p:spPr>
          <a:xfrm>
            <a:off x="0" y="285840"/>
            <a:ext cx="20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54936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谁来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4360" y="148428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84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下面图形哪些是三角形？哪些不是？请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IL19009"/>
          <p:cNvPicPr/>
          <p:nvPr/>
        </p:nvPicPr>
        <p:blipFill>
          <a:blip r:embed="rId1"/>
          <a:stretch/>
        </p:blipFill>
        <p:spPr>
          <a:xfrm>
            <a:off x="6973920" y="907920"/>
            <a:ext cx="2170080" cy="27133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7596360" y="3789000"/>
            <a:ext cx="1369440" cy="1130760"/>
            <a:chOff x="7596360" y="3789000"/>
            <a:chExt cx="1369440" cy="1130760"/>
          </a:xfrm>
        </p:grpSpPr>
        <p:sp>
          <p:nvSpPr>
            <p:cNvPr id="98" name="Line 4"/>
            <p:cNvSpPr/>
            <p:nvPr/>
          </p:nvSpPr>
          <p:spPr>
            <a:xfrm flipV="1">
              <a:off x="7596360" y="3789000"/>
              <a:ext cx="1008000" cy="81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 flipH="1" flipV="1">
              <a:off x="8605440" y="3789000"/>
              <a:ext cx="360360" cy="101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rc 6"/>
            <p:cNvSpPr/>
            <p:nvPr/>
          </p:nvSpPr>
          <p:spPr>
            <a:xfrm>
              <a:off x="7662960" y="4437000"/>
              <a:ext cx="1299960" cy="482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0"/>
          <p:cNvGrpSpPr/>
          <p:nvPr/>
        </p:nvGrpSpPr>
        <p:grpSpPr>
          <a:xfrm>
            <a:off x="151920" y="4114800"/>
            <a:ext cx="1692720" cy="863640"/>
            <a:chOff x="151920" y="4114800"/>
            <a:chExt cx="1692720" cy="863640"/>
          </a:xfrm>
        </p:grpSpPr>
        <p:sp>
          <p:nvSpPr>
            <p:cNvPr id="102" name="Line 11"/>
            <p:cNvSpPr/>
            <p:nvPr/>
          </p:nvSpPr>
          <p:spPr>
            <a:xfrm flipH="1">
              <a:off x="151920" y="4114800"/>
              <a:ext cx="600120" cy="863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152280" y="4978440"/>
              <a:ext cx="1692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 flipH="1" flipV="1">
              <a:off x="1134360" y="4518000"/>
              <a:ext cx="709560" cy="45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2124000" y="4076640"/>
            <a:ext cx="1656000" cy="1008000"/>
            <a:chOff x="2124000" y="4076640"/>
            <a:chExt cx="1656000" cy="1008000"/>
          </a:xfrm>
        </p:grpSpPr>
        <p:sp>
          <p:nvSpPr>
            <p:cNvPr id="106" name="Line 15"/>
            <p:cNvSpPr/>
            <p:nvPr/>
          </p:nvSpPr>
          <p:spPr>
            <a:xfrm flipH="1">
              <a:off x="2124000" y="4076640"/>
              <a:ext cx="908640" cy="902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2978280" y="4076640"/>
              <a:ext cx="54000" cy="1008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3032640" y="4076640"/>
              <a:ext cx="747360" cy="848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4140000" y="3933720"/>
            <a:ext cx="1295280" cy="1008000"/>
            <a:chOff x="4140000" y="3933720"/>
            <a:chExt cx="1295280" cy="1008000"/>
          </a:xfrm>
        </p:grpSpPr>
        <p:sp>
          <p:nvSpPr>
            <p:cNvPr id="110" name="Line 19"/>
            <p:cNvSpPr/>
            <p:nvPr/>
          </p:nvSpPr>
          <p:spPr>
            <a:xfrm flipH="1">
              <a:off x="4140000" y="3933720"/>
              <a:ext cx="970920" cy="1008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4140360" y="4941720"/>
              <a:ext cx="129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 flipV="1">
              <a:off x="5110920" y="3933720"/>
              <a:ext cx="323640" cy="1008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2"/>
          <p:cNvGrpSpPr/>
          <p:nvPr/>
        </p:nvGrpSpPr>
        <p:grpSpPr>
          <a:xfrm>
            <a:off x="5724360" y="3933720"/>
            <a:ext cx="1727280" cy="935280"/>
            <a:chOff x="5724360" y="3933720"/>
            <a:chExt cx="1727280" cy="935280"/>
          </a:xfrm>
        </p:grpSpPr>
        <p:sp>
          <p:nvSpPr>
            <p:cNvPr id="114" name="Line 23"/>
            <p:cNvSpPr/>
            <p:nvPr/>
          </p:nvSpPr>
          <p:spPr>
            <a:xfrm flipV="1">
              <a:off x="5724360" y="3933720"/>
              <a:ext cx="1480320" cy="935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6859800" y="3933720"/>
              <a:ext cx="344880" cy="63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>
              <a:off x="6859800" y="4570920"/>
              <a:ext cx="591480" cy="297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 flipH="1">
              <a:off x="5724360" y="4869000"/>
              <a:ext cx="1727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7"/>
          <p:cNvSpPr/>
          <p:nvPr/>
        </p:nvSpPr>
        <p:spPr>
          <a:xfrm>
            <a:off x="0" y="5445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7545960" y="5419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2218320" y="544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5580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3780000" y="5419800"/>
            <a:ext cx="19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611280" y="551664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636480" y="5300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2732040" y="5308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6253200" y="5308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053560" y="5300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4427640" y="5308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G:\未命名1.jpg"/>
          <p:cNvPicPr/>
          <p:nvPr/>
        </p:nvPicPr>
        <p:blipFill>
          <a:blip r:embed="rId1"/>
          <a:stretch/>
        </p:blipFill>
        <p:spPr>
          <a:xfrm>
            <a:off x="1214280" y="428760"/>
            <a:ext cx="7929720" cy="5572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2"/>
          <p:cNvSpPr/>
          <p:nvPr/>
        </p:nvSpPr>
        <p:spPr>
          <a:xfrm>
            <a:off x="13320" y="513000"/>
            <a:ext cx="109476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黑体"/>
                <a:ea typeface="黑体"/>
              </a:rPr>
              <a:t>量  一  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"/>
          <p:cNvSpPr/>
          <p:nvPr/>
        </p:nvSpPr>
        <p:spPr>
          <a:xfrm>
            <a:off x="4000680" y="20718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6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5286240" y="207180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5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6643800" y="20718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62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3929040" y="342900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4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5286240" y="342900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42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6643800" y="3429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9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3786120" y="4786200"/>
            <a:ext cx="18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13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5214960" y="47862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3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1"/>
          <p:cNvSpPr/>
          <p:nvPr/>
        </p:nvSpPr>
        <p:spPr>
          <a:xfrm>
            <a:off x="6572160" y="478620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2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7643880" y="20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7643880" y="342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>
            <a:off x="7643880" y="47862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  <a:ea typeface="宋体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Object 2"/>
          <p:cNvGraphicFramePr/>
          <p:nvPr/>
        </p:nvGraphicFramePr>
        <p:xfrm>
          <a:off x="5638680" y="2725560"/>
          <a:ext cx="17020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725560"/>
                    <a:ext cx="1702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"/>
          <p:cNvGraphicFramePr/>
          <p:nvPr/>
        </p:nvGraphicFramePr>
        <p:xfrm>
          <a:off x="3276720" y="2712960"/>
          <a:ext cx="242064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12960"/>
                    <a:ext cx="2420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4"/>
          <p:cNvGraphicFramePr/>
          <p:nvPr/>
        </p:nvGraphicFramePr>
        <p:xfrm>
          <a:off x="609480" y="609480"/>
          <a:ext cx="297180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609480"/>
                    <a:ext cx="29718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5"/>
          <p:cNvGraphicFramePr/>
          <p:nvPr/>
        </p:nvGraphicFramePr>
        <p:xfrm>
          <a:off x="4343400" y="2514600"/>
          <a:ext cx="1981080" cy="135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2514600"/>
                    <a:ext cx="198108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 Box 6">
            <a:hlinkClick r:id="rId9" action="ppaction://hlinksldjump"/>
          </p:cNvPr>
          <p:cNvSpPr/>
          <p:nvPr/>
        </p:nvSpPr>
        <p:spPr>
          <a:xfrm>
            <a:off x="6372360" y="6338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新宋体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3"/>
          <p:cNvPicPr/>
          <p:nvPr/>
        </p:nvPicPr>
        <p:blipFill>
          <a:blip r:embed="rId1"/>
          <a:stretch/>
        </p:blipFill>
        <p:spPr>
          <a:xfrm>
            <a:off x="5869080" y="2997360"/>
            <a:ext cx="2286000" cy="3305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未标题-1"/>
          <p:cNvPicPr/>
          <p:nvPr/>
        </p:nvPicPr>
        <p:blipFill>
          <a:blip r:embed="rId2"/>
          <a:stretch/>
        </p:blipFill>
        <p:spPr>
          <a:xfrm>
            <a:off x="900000" y="404640"/>
            <a:ext cx="2286000" cy="33055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1"/>
          <p:cNvPicPr/>
          <p:nvPr/>
        </p:nvPicPr>
        <p:blipFill>
          <a:blip r:embed="rId3"/>
          <a:stretch/>
        </p:blipFill>
        <p:spPr>
          <a:xfrm>
            <a:off x="5940360" y="3003480"/>
            <a:ext cx="2286000" cy="3305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2"/>
          <p:cNvPicPr/>
          <p:nvPr/>
        </p:nvPicPr>
        <p:blipFill>
          <a:blip r:embed="rId4"/>
          <a:stretch/>
        </p:blipFill>
        <p:spPr>
          <a:xfrm rot="10740000">
            <a:off x="3708360" y="2997000"/>
            <a:ext cx="2286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c"/>
          <p:cNvPicPr/>
          <p:nvPr/>
        </p:nvPicPr>
        <p:blipFill>
          <a:blip r:embed="rId1"/>
          <a:stretch/>
        </p:blipFill>
        <p:spPr>
          <a:xfrm rot="5160000">
            <a:off x="4906440" y="3043080"/>
            <a:ext cx="3067200" cy="3895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ed"/>
          <p:cNvPicPr/>
          <p:nvPr/>
        </p:nvPicPr>
        <p:blipFill>
          <a:blip r:embed="rId2"/>
          <a:stretch/>
        </p:blipFill>
        <p:spPr>
          <a:xfrm>
            <a:off x="5796000" y="189000"/>
            <a:ext cx="3066840" cy="3895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sdf"/>
          <p:cNvPicPr/>
          <p:nvPr/>
        </p:nvPicPr>
        <p:blipFill>
          <a:blip r:embed="rId3"/>
          <a:stretch/>
        </p:blipFill>
        <p:spPr>
          <a:xfrm rot="15960000">
            <a:off x="2970000" y="2725560"/>
            <a:ext cx="3067200" cy="38955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sx"/>
          <p:cNvPicPr/>
          <p:nvPr/>
        </p:nvPicPr>
        <p:blipFill>
          <a:blip r:embed="rId4"/>
          <a:stretch/>
        </p:blipFill>
        <p:spPr>
          <a:xfrm rot="5280000">
            <a:off x="953640" y="2798640"/>
            <a:ext cx="30672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4067280" y="2276640"/>
            <a:ext cx="2665440" cy="158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4067280" y="692280"/>
            <a:ext cx="2663640" cy="1584360"/>
            <a:chOff x="4067280" y="692280"/>
            <a:chExt cx="2663640" cy="1584360"/>
          </a:xfrm>
        </p:grpSpPr>
        <p:sp>
          <p:nvSpPr>
            <p:cNvPr id="513" name="AutoShape 4"/>
            <p:cNvSpPr/>
            <p:nvPr/>
          </p:nvSpPr>
          <p:spPr>
            <a:xfrm>
              <a:off x="4067280" y="692280"/>
              <a:ext cx="2663640" cy="158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5"/>
            <p:cNvSpPr/>
            <p:nvPr/>
          </p:nvSpPr>
          <p:spPr>
            <a:xfrm>
              <a:off x="5219280" y="908280"/>
              <a:ext cx="36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6"/>
            <p:cNvSpPr/>
            <p:nvPr/>
          </p:nvSpPr>
          <p:spPr>
            <a:xfrm>
              <a:off x="5221080" y="83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7"/>
          <p:cNvGrpSpPr/>
          <p:nvPr/>
        </p:nvGrpSpPr>
        <p:grpSpPr>
          <a:xfrm>
            <a:off x="4066920" y="2276640"/>
            <a:ext cx="2663640" cy="1584000"/>
            <a:chOff x="4066920" y="2276640"/>
            <a:chExt cx="2663640" cy="1584000"/>
          </a:xfrm>
        </p:grpSpPr>
        <p:sp>
          <p:nvSpPr>
            <p:cNvPr id="517" name="AutoShape 8"/>
            <p:cNvSpPr/>
            <p:nvPr/>
          </p:nvSpPr>
          <p:spPr>
            <a:xfrm rot="10800000">
              <a:off x="4066920" y="2276640"/>
              <a:ext cx="2663640" cy="1584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9"/>
            <p:cNvSpPr/>
            <p:nvPr/>
          </p:nvSpPr>
          <p:spPr>
            <a:xfrm flipH="1">
              <a:off x="5218560" y="364500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0"/>
            <p:cNvSpPr/>
            <p:nvPr/>
          </p:nvSpPr>
          <p:spPr>
            <a:xfrm rot="10800000">
              <a:off x="5269680" y="33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2771640" y="2276640"/>
            <a:ext cx="1295280" cy="1611360"/>
            <a:chOff x="2771640" y="2276640"/>
            <a:chExt cx="1295280" cy="1611360"/>
          </a:xfrm>
        </p:grpSpPr>
        <p:sp>
          <p:nvSpPr>
            <p:cNvPr id="521" name="AutoShape 12"/>
            <p:cNvSpPr/>
            <p:nvPr/>
          </p:nvSpPr>
          <p:spPr>
            <a:xfrm flipH="1">
              <a:off x="2771640" y="2276640"/>
              <a:ext cx="1295280" cy="158436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3"/>
            <p:cNvSpPr/>
            <p:nvPr/>
          </p:nvSpPr>
          <p:spPr>
            <a:xfrm>
              <a:off x="2987640" y="3645000"/>
              <a:ext cx="7128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4"/>
            <p:cNvSpPr/>
            <p:nvPr/>
          </p:nvSpPr>
          <p:spPr>
            <a:xfrm>
              <a:off x="3042000" y="35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5"/>
          <p:cNvGrpSpPr/>
          <p:nvPr/>
        </p:nvGrpSpPr>
        <p:grpSpPr>
          <a:xfrm>
            <a:off x="4068000" y="2276640"/>
            <a:ext cx="1296360" cy="1611360"/>
            <a:chOff x="4068000" y="2276640"/>
            <a:chExt cx="1296360" cy="1611360"/>
          </a:xfrm>
        </p:grpSpPr>
        <p:sp>
          <p:nvSpPr>
            <p:cNvPr id="525" name="AutoShape 16"/>
            <p:cNvSpPr/>
            <p:nvPr/>
          </p:nvSpPr>
          <p:spPr>
            <a:xfrm>
              <a:off x="4068000" y="2276640"/>
              <a:ext cx="1296360" cy="1584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7"/>
            <p:cNvSpPr/>
            <p:nvPr/>
          </p:nvSpPr>
          <p:spPr>
            <a:xfrm flipH="1">
              <a:off x="5076720" y="3645000"/>
              <a:ext cx="7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8"/>
            <p:cNvSpPr/>
            <p:nvPr/>
          </p:nvSpPr>
          <p:spPr>
            <a:xfrm flipH="1">
              <a:off x="4786200" y="35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9"/>
          <p:cNvGrpSpPr/>
          <p:nvPr/>
        </p:nvGrpSpPr>
        <p:grpSpPr>
          <a:xfrm>
            <a:off x="6730920" y="2276640"/>
            <a:ext cx="1297080" cy="1584000"/>
            <a:chOff x="6730920" y="2276640"/>
            <a:chExt cx="1297080" cy="1584000"/>
          </a:xfrm>
        </p:grpSpPr>
        <p:sp>
          <p:nvSpPr>
            <p:cNvPr id="529" name="AutoShape 20"/>
            <p:cNvSpPr/>
            <p:nvPr/>
          </p:nvSpPr>
          <p:spPr>
            <a:xfrm>
              <a:off x="6730920" y="2276640"/>
              <a:ext cx="1297080" cy="158400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1"/>
            <p:cNvSpPr/>
            <p:nvPr/>
          </p:nvSpPr>
          <p:spPr>
            <a:xfrm flipH="1">
              <a:off x="7738560" y="3644640"/>
              <a:ext cx="71640" cy="21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22"/>
            <p:cNvSpPr/>
            <p:nvPr/>
          </p:nvSpPr>
          <p:spPr>
            <a:xfrm>
              <a:off x="7504200" y="344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23"/>
          <p:cNvGrpSpPr/>
          <p:nvPr/>
        </p:nvGrpSpPr>
        <p:grpSpPr>
          <a:xfrm>
            <a:off x="5435280" y="2276640"/>
            <a:ext cx="1297080" cy="1584000"/>
            <a:chOff x="5435280" y="2276640"/>
            <a:chExt cx="1297080" cy="1584000"/>
          </a:xfrm>
        </p:grpSpPr>
        <p:sp>
          <p:nvSpPr>
            <p:cNvPr id="533" name="AutoShape 24"/>
            <p:cNvSpPr/>
            <p:nvPr/>
          </p:nvSpPr>
          <p:spPr>
            <a:xfrm flipH="1">
              <a:off x="5434920" y="2276640"/>
              <a:ext cx="1297080" cy="1584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5653080" y="364464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6"/>
            <p:cNvSpPr/>
            <p:nvPr/>
          </p:nvSpPr>
          <p:spPr>
            <a:xfrm flipH="1">
              <a:off x="5670360" y="344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4067280" y="2276640"/>
            <a:ext cx="2665440" cy="158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4067280" y="692280"/>
            <a:ext cx="2663640" cy="1584360"/>
            <a:chOff x="4067280" y="692280"/>
            <a:chExt cx="2663640" cy="1584360"/>
          </a:xfrm>
        </p:grpSpPr>
        <p:sp>
          <p:nvSpPr>
            <p:cNvPr id="538" name="AutoShape 4"/>
            <p:cNvSpPr/>
            <p:nvPr/>
          </p:nvSpPr>
          <p:spPr>
            <a:xfrm>
              <a:off x="4067280" y="692280"/>
              <a:ext cx="2663640" cy="1584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5219280" y="908280"/>
              <a:ext cx="36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6"/>
            <p:cNvSpPr/>
            <p:nvPr/>
          </p:nvSpPr>
          <p:spPr>
            <a:xfrm>
              <a:off x="5221080" y="83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7"/>
          <p:cNvGrpSpPr/>
          <p:nvPr/>
        </p:nvGrpSpPr>
        <p:grpSpPr>
          <a:xfrm>
            <a:off x="4066920" y="2276640"/>
            <a:ext cx="2663640" cy="1584000"/>
            <a:chOff x="4066920" y="2276640"/>
            <a:chExt cx="2663640" cy="1584000"/>
          </a:xfrm>
        </p:grpSpPr>
        <p:sp>
          <p:nvSpPr>
            <p:cNvPr id="542" name="AutoShape 8"/>
            <p:cNvSpPr/>
            <p:nvPr/>
          </p:nvSpPr>
          <p:spPr>
            <a:xfrm rot="10800000">
              <a:off x="4066920" y="2276640"/>
              <a:ext cx="2663640" cy="1584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 flipH="1">
              <a:off x="5218560" y="364500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0"/>
            <p:cNvSpPr/>
            <p:nvPr/>
          </p:nvSpPr>
          <p:spPr>
            <a:xfrm rot="10800000">
              <a:off x="5269680" y="334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2771640" y="2276640"/>
            <a:ext cx="1295280" cy="1611360"/>
            <a:chOff x="2771640" y="2276640"/>
            <a:chExt cx="1295280" cy="1611360"/>
          </a:xfrm>
        </p:grpSpPr>
        <p:sp>
          <p:nvSpPr>
            <p:cNvPr id="546" name="AutoShape 12"/>
            <p:cNvSpPr/>
            <p:nvPr/>
          </p:nvSpPr>
          <p:spPr>
            <a:xfrm flipH="1">
              <a:off x="2771640" y="2276640"/>
              <a:ext cx="1295280" cy="158436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2987640" y="3645000"/>
              <a:ext cx="7128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042000" y="35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5"/>
          <p:cNvGrpSpPr/>
          <p:nvPr/>
        </p:nvGrpSpPr>
        <p:grpSpPr>
          <a:xfrm>
            <a:off x="4068000" y="2276640"/>
            <a:ext cx="1296360" cy="1611360"/>
            <a:chOff x="4068000" y="2276640"/>
            <a:chExt cx="1296360" cy="1611360"/>
          </a:xfrm>
        </p:grpSpPr>
        <p:sp>
          <p:nvSpPr>
            <p:cNvPr id="550" name="AutoShape 16"/>
            <p:cNvSpPr/>
            <p:nvPr/>
          </p:nvSpPr>
          <p:spPr>
            <a:xfrm>
              <a:off x="4068000" y="2276640"/>
              <a:ext cx="1296360" cy="1584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7"/>
            <p:cNvSpPr/>
            <p:nvPr/>
          </p:nvSpPr>
          <p:spPr>
            <a:xfrm flipH="1">
              <a:off x="5076720" y="3645000"/>
              <a:ext cx="7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8"/>
            <p:cNvSpPr/>
            <p:nvPr/>
          </p:nvSpPr>
          <p:spPr>
            <a:xfrm flipH="1">
              <a:off x="4786200" y="35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9"/>
          <p:cNvGrpSpPr/>
          <p:nvPr/>
        </p:nvGrpSpPr>
        <p:grpSpPr>
          <a:xfrm>
            <a:off x="6730920" y="2276640"/>
            <a:ext cx="1297080" cy="1584000"/>
            <a:chOff x="6730920" y="2276640"/>
            <a:chExt cx="1297080" cy="1584000"/>
          </a:xfrm>
        </p:grpSpPr>
        <p:sp>
          <p:nvSpPr>
            <p:cNvPr id="554" name="AutoShape 20"/>
            <p:cNvSpPr/>
            <p:nvPr/>
          </p:nvSpPr>
          <p:spPr>
            <a:xfrm>
              <a:off x="6730920" y="2276640"/>
              <a:ext cx="1297080" cy="158400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1"/>
            <p:cNvSpPr/>
            <p:nvPr/>
          </p:nvSpPr>
          <p:spPr>
            <a:xfrm flipH="1">
              <a:off x="7738560" y="3644640"/>
              <a:ext cx="71640" cy="21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22"/>
            <p:cNvSpPr/>
            <p:nvPr/>
          </p:nvSpPr>
          <p:spPr>
            <a:xfrm>
              <a:off x="7504200" y="344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3"/>
          <p:cNvGrpSpPr/>
          <p:nvPr/>
        </p:nvGrpSpPr>
        <p:grpSpPr>
          <a:xfrm>
            <a:off x="5435280" y="2276640"/>
            <a:ext cx="1297080" cy="1584000"/>
            <a:chOff x="5435280" y="2276640"/>
            <a:chExt cx="1297080" cy="1584000"/>
          </a:xfrm>
        </p:grpSpPr>
        <p:sp>
          <p:nvSpPr>
            <p:cNvPr id="558" name="AutoShape 24"/>
            <p:cNvSpPr/>
            <p:nvPr/>
          </p:nvSpPr>
          <p:spPr>
            <a:xfrm flipH="1">
              <a:off x="5434920" y="2276640"/>
              <a:ext cx="1297080" cy="1584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5"/>
            <p:cNvSpPr/>
            <p:nvPr/>
          </p:nvSpPr>
          <p:spPr>
            <a:xfrm>
              <a:off x="5653080" y="364464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26"/>
            <p:cNvSpPr/>
            <p:nvPr/>
          </p:nvSpPr>
          <p:spPr>
            <a:xfrm flipH="1">
              <a:off x="5670360" y="344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D"/>
          <p:cNvPicPr/>
          <p:nvPr/>
        </p:nvPicPr>
        <p:blipFill>
          <a:blip r:embed="rId1"/>
          <a:srcRect l="0" t="34019" r="0" b="36001"/>
          <a:stretch/>
        </p:blipFill>
        <p:spPr>
          <a:xfrm>
            <a:off x="539640" y="1197000"/>
            <a:ext cx="8226360" cy="2663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未标题-2"/>
          <p:cNvPicPr/>
          <p:nvPr/>
        </p:nvPicPr>
        <p:blipFill>
          <a:blip r:embed="rId2"/>
          <a:srcRect l="28746" t="37243" r="26868" b="22428"/>
          <a:stretch/>
        </p:blipFill>
        <p:spPr>
          <a:xfrm>
            <a:off x="3060720" y="1486080"/>
            <a:ext cx="3013200" cy="804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未标题-3"/>
          <p:cNvPicPr/>
          <p:nvPr/>
        </p:nvPicPr>
        <p:blipFill>
          <a:blip r:embed="rId3"/>
          <a:srcRect l="17016" t="14587" r="49980" b="18941"/>
          <a:stretch/>
        </p:blipFill>
        <p:spPr>
          <a:xfrm>
            <a:off x="1017720" y="2349360"/>
            <a:ext cx="2395440" cy="1368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未标题-4"/>
          <p:cNvPicPr/>
          <p:nvPr/>
        </p:nvPicPr>
        <p:blipFill>
          <a:blip r:embed="rId4"/>
          <a:srcRect l="28862" t="13418" r="35583" b="18583"/>
          <a:stretch/>
        </p:blipFill>
        <p:spPr>
          <a:xfrm>
            <a:off x="6012000" y="2349360"/>
            <a:ext cx="2736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609480" y="990720"/>
            <a:ext cx="77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宋体"/>
              </a:rPr>
              <a:t>结论：三角形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内角和</a:t>
            </a: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宋体"/>
              </a:rPr>
              <a:t>是</a:t>
            </a:r>
            <a:r>
              <a:rPr b="1" lang="en-US" sz="5400" spc="-1" strike="noStrike">
                <a:solidFill>
                  <a:srgbClr val="808080"/>
                </a:solidFill>
                <a:latin typeface="Arial"/>
                <a:ea typeface="宋体"/>
              </a:rPr>
              <a:t>180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00036"/>
          <p:cNvPicPr/>
          <p:nvPr/>
        </p:nvPicPr>
        <p:blipFill>
          <a:blip r:embed="rId1"/>
          <a:stretch/>
        </p:blipFill>
        <p:spPr>
          <a:xfrm>
            <a:off x="304920" y="320040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200400" y="357336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∠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1+∠2+∠3=18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4a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4869000"/>
            <a:ext cx="23637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00036"/>
          <p:cNvPicPr/>
          <p:nvPr/>
        </p:nvPicPr>
        <p:blipFill>
          <a:blip r:embed="rId1"/>
          <a:stretch/>
        </p:blipFill>
        <p:spPr>
          <a:xfrm>
            <a:off x="0" y="-73080"/>
            <a:ext cx="3886200" cy="251136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1371600" y="533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宋体"/>
              </a:rPr>
              <a:t>7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60948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宋体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5"/>
          <p:cNvSpPr/>
          <p:nvPr/>
        </p:nvSpPr>
        <p:spPr>
          <a:xfrm>
            <a:off x="2514600" y="1523880"/>
            <a:ext cx="2263680" cy="17686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200400" y="7621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宋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990720" y="502920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11280" y="3716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180°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－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75 °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－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35°=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33520" y="4941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180°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－（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75 ° + 35°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）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=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80°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90°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50°=4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80°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－（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50°+90°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=40 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285840" y="214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一个直角三角形，一个锐角是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50°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，另一个锐角是几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6705720" y="3124080"/>
            <a:ext cx="2286000" cy="22100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5"/>
          <p:cNvGrpSpPr/>
          <p:nvPr/>
        </p:nvGrpSpPr>
        <p:grpSpPr>
          <a:xfrm>
            <a:off x="6705720" y="5029200"/>
            <a:ext cx="228600" cy="304920"/>
            <a:chOff x="6705720" y="5029200"/>
            <a:chExt cx="228600" cy="304920"/>
          </a:xfrm>
        </p:grpSpPr>
        <p:sp>
          <p:nvSpPr>
            <p:cNvPr id="581" name="Line 6"/>
            <p:cNvSpPr/>
            <p:nvPr/>
          </p:nvSpPr>
          <p:spPr>
            <a:xfrm>
              <a:off x="6705720" y="5029200"/>
              <a:ext cx="228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6934320" y="5029200"/>
              <a:ext cx="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8"/>
          <p:cNvGrpSpPr/>
          <p:nvPr/>
        </p:nvGrpSpPr>
        <p:grpSpPr>
          <a:xfrm>
            <a:off x="6629400" y="3352680"/>
            <a:ext cx="1219320" cy="733680"/>
            <a:chOff x="6629400" y="3352680"/>
            <a:chExt cx="1219320" cy="733680"/>
          </a:xfrm>
        </p:grpSpPr>
        <p:sp>
          <p:nvSpPr>
            <p:cNvPr id="584" name="Freeform 9"/>
            <p:cNvSpPr/>
            <p:nvPr/>
          </p:nvSpPr>
          <p:spPr>
            <a:xfrm>
              <a:off x="6705720" y="3352680"/>
              <a:ext cx="228600" cy="228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0"/>
            <p:cNvSpPr/>
            <p:nvPr/>
          </p:nvSpPr>
          <p:spPr>
            <a:xfrm>
              <a:off x="6629400" y="35049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1"/>
          <p:cNvSpPr/>
          <p:nvPr/>
        </p:nvSpPr>
        <p:spPr>
          <a:xfrm>
            <a:off x="357120" y="392904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90°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宋体"/>
              </a:rPr>
              <a:t>－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50°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宋体"/>
              </a:rPr>
              <a:t>＝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4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2"/>
          <p:cNvGrpSpPr/>
          <p:nvPr/>
        </p:nvGrpSpPr>
        <p:grpSpPr>
          <a:xfrm>
            <a:off x="8153280" y="4800600"/>
            <a:ext cx="504720" cy="573120"/>
            <a:chOff x="8153280" y="4800600"/>
            <a:chExt cx="504720" cy="573120"/>
          </a:xfrm>
        </p:grpSpPr>
        <p:sp>
          <p:nvSpPr>
            <p:cNvPr id="588" name="Freeform 13"/>
            <p:cNvSpPr/>
            <p:nvPr/>
          </p:nvSpPr>
          <p:spPr>
            <a:xfrm>
              <a:off x="8621640" y="5057640"/>
              <a:ext cx="36360" cy="3160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WordArt 14"/>
            <p:cNvSpPr txBox="1"/>
            <p:nvPr/>
          </p:nvSpPr>
          <p:spPr>
            <a:xfrm>
              <a:off x="8153280" y="48006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9"/>
          <p:cNvGrpSpPr/>
          <p:nvPr/>
        </p:nvGrpSpPr>
        <p:grpSpPr>
          <a:xfrm>
            <a:off x="271440" y="249120"/>
            <a:ext cx="7272360" cy="4475160"/>
            <a:chOff x="271440" y="249120"/>
            <a:chExt cx="7272360" cy="4475160"/>
          </a:xfrm>
        </p:grpSpPr>
        <p:sp>
          <p:nvSpPr>
            <p:cNvPr id="131" name="AutoShape 3"/>
            <p:cNvSpPr/>
            <p:nvPr/>
          </p:nvSpPr>
          <p:spPr>
            <a:xfrm>
              <a:off x="2286000" y="2057400"/>
              <a:ext cx="5257800" cy="2666880"/>
            </a:xfrm>
            <a:prstGeom prst="cloudCallout">
              <a:avLst>
                <a:gd name="adj1" fmla="val -9902"/>
                <a:gd name="adj2" fmla="val 8012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日常生活中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有关三角形的实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8"/>
            <p:cNvGrpSpPr/>
            <p:nvPr/>
          </p:nvGrpSpPr>
          <p:grpSpPr>
            <a:xfrm>
              <a:off x="271440" y="249120"/>
              <a:ext cx="4605480" cy="1427400"/>
              <a:chOff x="271440" y="249120"/>
              <a:chExt cx="4605480" cy="1427400"/>
            </a:xfrm>
          </p:grpSpPr>
          <p:pic>
            <p:nvPicPr>
              <p:cNvPr id="133" name="Picture 4" descr="test[1]">
                <a:hlinkClick r:id="" action="ppaction://hlinkshowjump?jump=firstslide"/>
              </p:cNvPr>
              <p:cNvPicPr/>
              <p:nvPr/>
            </p:nvPicPr>
            <p:blipFill>
              <a:blip r:embed="rId1"/>
              <a:stretch/>
            </p:blipFill>
            <p:spPr>
              <a:xfrm>
                <a:off x="271440" y="249120"/>
                <a:ext cx="1938240" cy="14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5"/>
              <p:cNvSpPr/>
              <p:nvPr/>
            </p:nvSpPr>
            <p:spPr>
              <a:xfrm>
                <a:off x="2514600" y="685800"/>
                <a:ext cx="2362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0000"/>
                    </a:solidFill>
                    <a:latin typeface="Arial"/>
                  </a:rPr>
                  <a:t>看一看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: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324000" y="33336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808080"/>
                </a:solidFill>
                <a:latin typeface="黑体"/>
                <a:ea typeface="黑体"/>
              </a:rPr>
              <a:t>已知等腰三角形的风筝，一个底角</a:t>
            </a:r>
            <a:r>
              <a:rPr b="1" lang="en-US" sz="4800" spc="-1" strike="noStrike">
                <a:solidFill>
                  <a:srgbClr val="808080"/>
                </a:solidFill>
                <a:latin typeface="黑体"/>
                <a:ea typeface="黑体"/>
              </a:rPr>
              <a:t>70°</a:t>
            </a:r>
            <a:r>
              <a:rPr b="1" lang="zh-CN" sz="4800" spc="-1" strike="noStrike">
                <a:solidFill>
                  <a:srgbClr val="808080"/>
                </a:solidFill>
                <a:latin typeface="黑体"/>
                <a:ea typeface="黑体"/>
              </a:rPr>
              <a:t>，顶角多少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826920" y="4292640"/>
            <a:ext cx="777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180°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宋体"/>
              </a:rPr>
              <a:t>－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70°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宋体"/>
              </a:rPr>
              <a:t>－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70°=4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180°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宋体"/>
              </a:rPr>
              <a:t>－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  <a:ea typeface="宋体"/>
              </a:rPr>
              <a:t>70°×2=4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6012000" y="1844640"/>
            <a:ext cx="2361960" cy="2057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6195960" y="3429000"/>
            <a:ext cx="1500120" cy="581400"/>
            <a:chOff x="6195960" y="3429000"/>
            <a:chExt cx="1500120" cy="581400"/>
          </a:xfrm>
        </p:grpSpPr>
        <p:sp>
          <p:nvSpPr>
            <p:cNvPr id="594" name="Text Box 6"/>
            <p:cNvSpPr/>
            <p:nvPr/>
          </p:nvSpPr>
          <p:spPr>
            <a:xfrm>
              <a:off x="6477120" y="34290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195960" y="3583080"/>
              <a:ext cx="204840" cy="30312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8"/>
          <p:cNvGrpSpPr/>
          <p:nvPr/>
        </p:nvGrpSpPr>
        <p:grpSpPr>
          <a:xfrm>
            <a:off x="7391520" y="3429000"/>
            <a:ext cx="1143000" cy="581400"/>
            <a:chOff x="7391520" y="3429000"/>
            <a:chExt cx="1143000" cy="581400"/>
          </a:xfrm>
        </p:grpSpPr>
        <p:sp>
          <p:nvSpPr>
            <p:cNvPr id="597" name="Text Box 9"/>
            <p:cNvSpPr/>
            <p:nvPr/>
          </p:nvSpPr>
          <p:spPr>
            <a:xfrm>
              <a:off x="7391520" y="3429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8056800" y="3657600"/>
              <a:ext cx="153720" cy="2620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1"/>
          <p:cNvGrpSpPr/>
          <p:nvPr/>
        </p:nvGrpSpPr>
        <p:grpSpPr>
          <a:xfrm>
            <a:off x="7035840" y="2071800"/>
            <a:ext cx="279360" cy="671400"/>
            <a:chOff x="7035840" y="2071800"/>
            <a:chExt cx="279360" cy="671400"/>
          </a:xfrm>
        </p:grpSpPr>
        <p:sp>
          <p:nvSpPr>
            <p:cNvPr id="600" name="Freeform 12"/>
            <p:cNvSpPr/>
            <p:nvPr/>
          </p:nvSpPr>
          <p:spPr>
            <a:xfrm>
              <a:off x="7035840" y="2071800"/>
              <a:ext cx="279360" cy="5544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7086600" y="22860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24000" y="1413000"/>
            <a:ext cx="8820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80"/>
                </a:solidFill>
                <a:latin typeface="Garamond"/>
                <a:ea typeface="黑体"/>
              </a:rPr>
              <a:t>一个三角形中可能有两个直角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80"/>
                </a:solidFill>
                <a:latin typeface="Garamond"/>
                <a:ea typeface="黑体"/>
              </a:rPr>
              <a:t>一个三角形中可能有两个钝角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304920" y="28584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应用    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宋体"/>
              </a:rPr>
              <a:t>变式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893320" y="189000"/>
            <a:ext cx="360000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一块三角尺的内角和是</a:t>
            </a:r>
            <a:r>
              <a:rPr b="1" lang="en-US" sz="3600" spc="-1" strike="noStrike">
                <a:solidFill>
                  <a:srgbClr val="808080"/>
                </a:solidFill>
                <a:latin typeface="黑体"/>
                <a:ea typeface="黑体"/>
              </a:rPr>
              <a:t>180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度，用两块完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一样的三角尺拼成一个三角形，这个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的内角和是</a:t>
            </a:r>
            <a:r>
              <a:rPr b="1" lang="en-US" sz="3600" spc="-1" strike="noStrike">
                <a:solidFill>
                  <a:srgbClr val="808080"/>
                </a:solidFill>
                <a:latin typeface="黑体"/>
                <a:ea typeface="黑体"/>
              </a:rPr>
              <a:t>360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6408720" y="1197000"/>
            <a:ext cx="2735280" cy="2449440"/>
            <a:chOff x="6408720" y="1197000"/>
            <a:chExt cx="2735280" cy="2449440"/>
          </a:xfrm>
        </p:grpSpPr>
        <p:sp>
          <p:nvSpPr>
            <p:cNvPr id="606" name="AutoShape 4"/>
            <p:cNvSpPr/>
            <p:nvPr/>
          </p:nvSpPr>
          <p:spPr>
            <a:xfrm>
              <a:off x="6408720" y="1197000"/>
              <a:ext cx="2735280" cy="2449440"/>
            </a:xfrm>
            <a:prstGeom prst="irregularSeal1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5"/>
            <p:cNvSpPr/>
            <p:nvPr/>
          </p:nvSpPr>
          <p:spPr>
            <a:xfrm>
              <a:off x="7375680" y="163044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Arial"/>
                  <a:ea typeface="黑体"/>
                </a:rPr>
                <a:t>？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AutoShape 6"/>
          <p:cNvSpPr/>
          <p:nvPr/>
        </p:nvSpPr>
        <p:spPr>
          <a:xfrm>
            <a:off x="250920" y="3357720"/>
            <a:ext cx="1873080" cy="1612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2484360" y="4005360"/>
            <a:ext cx="3311640" cy="93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8"/>
          <p:cNvSpPr/>
          <p:nvPr/>
        </p:nvSpPr>
        <p:spPr>
          <a:xfrm rot="8039400">
            <a:off x="6658920" y="4005000"/>
            <a:ext cx="1871640" cy="187164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9"/>
          <p:cNvSpPr/>
          <p:nvPr/>
        </p:nvSpPr>
        <p:spPr>
          <a:xfrm>
            <a:off x="1187280" y="335772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"/>
          <p:cNvSpPr/>
          <p:nvPr/>
        </p:nvSpPr>
        <p:spPr>
          <a:xfrm>
            <a:off x="4140360" y="4005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7596360" y="364500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2"/>
          <p:cNvSpPr/>
          <p:nvPr/>
        </p:nvSpPr>
        <p:spPr>
          <a:xfrm>
            <a:off x="75564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3"/>
          <p:cNvSpPr/>
          <p:nvPr/>
        </p:nvSpPr>
        <p:spPr>
          <a:xfrm>
            <a:off x="1332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4"/>
          <p:cNvSpPr/>
          <p:nvPr/>
        </p:nvSpPr>
        <p:spPr>
          <a:xfrm>
            <a:off x="363528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5"/>
          <p:cNvSpPr/>
          <p:nvPr/>
        </p:nvSpPr>
        <p:spPr>
          <a:xfrm>
            <a:off x="4356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6"/>
          <p:cNvSpPr/>
          <p:nvPr/>
        </p:nvSpPr>
        <p:spPr>
          <a:xfrm>
            <a:off x="709308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7"/>
          <p:cNvSpPr/>
          <p:nvPr/>
        </p:nvSpPr>
        <p:spPr>
          <a:xfrm>
            <a:off x="781200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43000" y="189000"/>
            <a:ext cx="890100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一块三角尺的内角和是</a:t>
            </a:r>
            <a:r>
              <a:rPr b="1" lang="en-US" sz="3600" spc="-1" strike="noStrike">
                <a:solidFill>
                  <a:srgbClr val="808080"/>
                </a:solidFill>
                <a:latin typeface="黑体"/>
                <a:ea typeface="黑体"/>
              </a:rPr>
              <a:t>180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度，用两块完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一样的三角尺拼成一个三角形，这个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的内角和</a:t>
            </a:r>
            <a:r>
              <a:rPr b="1" lang="en-US" sz="3600" spc="-1" strike="noStrike">
                <a:solidFill>
                  <a:srgbClr val="808080"/>
                </a:solidFill>
                <a:latin typeface="黑体"/>
                <a:ea typeface="黑体"/>
              </a:rPr>
              <a:t>(        )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50920" y="3357720"/>
            <a:ext cx="1873080" cy="1612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484360" y="4005360"/>
            <a:ext cx="3311640" cy="93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5"/>
          <p:cNvSpPr/>
          <p:nvPr/>
        </p:nvSpPr>
        <p:spPr>
          <a:xfrm rot="8039400">
            <a:off x="6658920" y="4005000"/>
            <a:ext cx="1871640" cy="187164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1187280" y="335772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4140360" y="4005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8"/>
          <p:cNvSpPr/>
          <p:nvPr/>
        </p:nvSpPr>
        <p:spPr>
          <a:xfrm>
            <a:off x="7596360" y="364500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"/>
          <p:cNvSpPr/>
          <p:nvPr/>
        </p:nvSpPr>
        <p:spPr>
          <a:xfrm>
            <a:off x="75564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0"/>
          <p:cNvSpPr/>
          <p:nvPr/>
        </p:nvSpPr>
        <p:spPr>
          <a:xfrm>
            <a:off x="1332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1"/>
          <p:cNvSpPr/>
          <p:nvPr/>
        </p:nvSpPr>
        <p:spPr>
          <a:xfrm>
            <a:off x="363528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2"/>
          <p:cNvSpPr/>
          <p:nvPr/>
        </p:nvSpPr>
        <p:spPr>
          <a:xfrm>
            <a:off x="4356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3"/>
          <p:cNvSpPr/>
          <p:nvPr/>
        </p:nvSpPr>
        <p:spPr>
          <a:xfrm>
            <a:off x="709308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4"/>
          <p:cNvSpPr/>
          <p:nvPr/>
        </p:nvSpPr>
        <p:spPr>
          <a:xfrm>
            <a:off x="781200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79280" y="428760"/>
            <a:ext cx="896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Garamond"/>
                <a:ea typeface="黑体"/>
              </a:rPr>
              <a:t>将一个大三角形分成两个小三角形，这两个小三角形的内角和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556000" y="2707920"/>
            <a:ext cx="2735280" cy="1872000"/>
            <a:chOff x="2556000" y="2707920"/>
            <a:chExt cx="2735280" cy="1872000"/>
          </a:xfrm>
        </p:grpSpPr>
        <p:sp>
          <p:nvSpPr>
            <p:cNvPr id="635" name="Line 4"/>
            <p:cNvSpPr/>
            <p:nvPr/>
          </p:nvSpPr>
          <p:spPr>
            <a:xfrm flipV="1">
              <a:off x="2556000" y="2707920"/>
              <a:ext cx="136836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3924360" y="2708280"/>
              <a:ext cx="136692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"/>
            <p:cNvSpPr/>
            <p:nvPr/>
          </p:nvSpPr>
          <p:spPr>
            <a:xfrm>
              <a:off x="2556000" y="4508640"/>
              <a:ext cx="2735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Line 7"/>
          <p:cNvSpPr/>
          <p:nvPr/>
        </p:nvSpPr>
        <p:spPr>
          <a:xfrm flipH="1">
            <a:off x="341964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468360" y="189000"/>
            <a:ext cx="441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知识的升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xs03gif251[1]"/>
          <p:cNvPicPr/>
          <p:nvPr/>
        </p:nvPicPr>
        <p:blipFill>
          <a:blip r:embed="rId1"/>
          <a:stretch/>
        </p:blipFill>
        <p:spPr>
          <a:xfrm>
            <a:off x="6934320" y="464832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4"/>
          <p:cNvSpPr/>
          <p:nvPr/>
        </p:nvSpPr>
        <p:spPr>
          <a:xfrm>
            <a:off x="304920" y="2819520"/>
            <a:ext cx="1904760" cy="1523880"/>
          </a:xfrm>
          <a:prstGeom prst="hexagon">
            <a:avLst>
              <a:gd name="adj" fmla="val 31249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0" y="10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宋体"/>
              </a:rPr>
              <a:t>下面的正六边形，你能根据学过的知识求出六边形的内角和吗？七边形呢？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762120" y="2819520"/>
            <a:ext cx="144756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7"/>
          <p:cNvSpPr/>
          <p:nvPr/>
        </p:nvSpPr>
        <p:spPr>
          <a:xfrm>
            <a:off x="762120" y="2819520"/>
            <a:ext cx="990360" cy="15238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8"/>
          <p:cNvSpPr/>
          <p:nvPr/>
        </p:nvSpPr>
        <p:spPr>
          <a:xfrm>
            <a:off x="762120" y="2895480"/>
            <a:ext cx="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3203640" y="285264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4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个三角形：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180°×4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宋体"/>
              </a:rPr>
              <a:t>＝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  <a:ea typeface="宋体"/>
              </a:rPr>
              <a:t>72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BAS00027_1142259283"/>
          <p:cNvPicPr/>
          <p:nvPr/>
        </p:nvPicPr>
        <p:blipFill>
          <a:blip r:embed="rId1"/>
          <a:stretch/>
        </p:blipFill>
        <p:spPr>
          <a:xfrm>
            <a:off x="838080" y="1676520"/>
            <a:ext cx="7162920" cy="4781520"/>
          </a:xfrm>
          <a:prstGeom prst="rect">
            <a:avLst/>
          </a:prstGeom>
          <a:ln w="0">
            <a:noFill/>
          </a:ln>
        </p:spPr>
      </p:pic>
      <p:sp>
        <p:nvSpPr>
          <p:cNvPr id="648" name="WordArt 12"/>
          <p:cNvSpPr txBox="1"/>
          <p:nvPr/>
        </p:nvSpPr>
        <p:spPr>
          <a:xfrm>
            <a:off x="3124080" y="2514600"/>
            <a:ext cx="3200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zxc2"/>
          <p:cNvPicPr/>
          <p:nvPr/>
        </p:nvPicPr>
        <p:blipFill>
          <a:blip r:embed="rId1"/>
          <a:stretch/>
        </p:blipFill>
        <p:spPr>
          <a:xfrm>
            <a:off x="2286000" y="0"/>
            <a:ext cx="2857680" cy="289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22"/>
          <p:cNvPicPr/>
          <p:nvPr/>
        </p:nvPicPr>
        <p:blipFill>
          <a:blip r:embed="rId2"/>
          <a:stretch/>
        </p:blipFill>
        <p:spPr>
          <a:xfrm>
            <a:off x="0" y="4038480"/>
            <a:ext cx="3048120" cy="280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18"/>
          <p:cNvPicPr/>
          <p:nvPr/>
        </p:nvPicPr>
        <p:blipFill>
          <a:blip r:embed="rId3"/>
          <a:stretch/>
        </p:blipFill>
        <p:spPr>
          <a:xfrm>
            <a:off x="0" y="0"/>
            <a:ext cx="236232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1"/>
          <p:cNvPicPr/>
          <p:nvPr/>
        </p:nvPicPr>
        <p:blipFill>
          <a:blip r:embed="rId4"/>
          <a:stretch/>
        </p:blipFill>
        <p:spPr>
          <a:xfrm>
            <a:off x="3048120" y="3962520"/>
            <a:ext cx="2286000" cy="2895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20"/>
          <p:cNvPicPr/>
          <p:nvPr/>
        </p:nvPicPr>
        <p:blipFill>
          <a:blip r:embed="rId5"/>
          <a:stretch/>
        </p:blipFill>
        <p:spPr>
          <a:xfrm>
            <a:off x="0" y="289548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7"/>
          <p:cNvPicPr/>
          <p:nvPr/>
        </p:nvPicPr>
        <p:blipFill>
          <a:blip r:embed="rId6"/>
          <a:stretch/>
        </p:blipFill>
        <p:spPr>
          <a:xfrm>
            <a:off x="5181480" y="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0"/>
          <p:cNvSpPr txBox="1"/>
          <p:nvPr/>
        </p:nvSpPr>
        <p:spPr>
          <a:xfrm>
            <a:off x="1523880" y="2514600"/>
            <a:ext cx="52578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生活中的三角形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三角形稳定性几何图片1"/>
          <p:cNvPicPr/>
          <p:nvPr/>
        </p:nvPicPr>
        <p:blipFill>
          <a:blip r:embed="rId1"/>
          <a:stretch/>
        </p:blipFill>
        <p:spPr>
          <a:xfrm>
            <a:off x="0" y="0"/>
            <a:ext cx="457200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三角形稳定性几何图片2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三角形稳定性几何图片3"/>
          <p:cNvPicPr/>
          <p:nvPr/>
        </p:nvPicPr>
        <p:blipFill>
          <a:blip r:embed="rId3"/>
          <a:stretch/>
        </p:blipFill>
        <p:spPr>
          <a:xfrm>
            <a:off x="-684360" y="3429000"/>
            <a:ext cx="42418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三角形稳定性几何图片8"/>
          <p:cNvPicPr/>
          <p:nvPr/>
        </p:nvPicPr>
        <p:blipFill>
          <a:blip r:embed="rId4"/>
          <a:stretch/>
        </p:blipFill>
        <p:spPr>
          <a:xfrm>
            <a:off x="2629080" y="3773520"/>
            <a:ext cx="3886200" cy="3084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三角形稳定性几何图片7"/>
          <p:cNvPicPr/>
          <p:nvPr/>
        </p:nvPicPr>
        <p:blipFill>
          <a:blip r:embed="rId5"/>
          <a:stretch/>
        </p:blipFill>
        <p:spPr>
          <a:xfrm>
            <a:off x="6121440" y="3429000"/>
            <a:ext cx="3022560" cy="30733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7"/>
          <p:cNvGrpSpPr/>
          <p:nvPr/>
        </p:nvGrpSpPr>
        <p:grpSpPr>
          <a:xfrm>
            <a:off x="5105160" y="685440"/>
            <a:ext cx="3733920" cy="2057760"/>
            <a:chOff x="5105160" y="685440"/>
            <a:chExt cx="3733920" cy="2057760"/>
          </a:xfrm>
        </p:grpSpPr>
        <p:sp>
          <p:nvSpPr>
            <p:cNvPr id="148" name="Line 8"/>
            <p:cNvSpPr/>
            <p:nvPr/>
          </p:nvSpPr>
          <p:spPr>
            <a:xfrm flipH="1">
              <a:off x="5105160" y="685800"/>
              <a:ext cx="1828440" cy="205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5105520" y="2666880"/>
              <a:ext cx="37335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 flipH="1" flipV="1">
              <a:off x="6933600" y="685440"/>
              <a:ext cx="190476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3962160" y="838080"/>
            <a:ext cx="228960" cy="457200"/>
            <a:chOff x="3962160" y="838080"/>
            <a:chExt cx="228960" cy="457200"/>
          </a:xfrm>
        </p:grpSpPr>
        <p:sp>
          <p:nvSpPr>
            <p:cNvPr id="152" name="Line 12"/>
            <p:cNvSpPr/>
            <p:nvPr/>
          </p:nvSpPr>
          <p:spPr>
            <a:xfrm flipH="1">
              <a:off x="3962160" y="83808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3962520" y="1143000"/>
              <a:ext cx="2286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4114800" y="838080"/>
              <a:ext cx="763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1143000" y="3429000"/>
            <a:ext cx="914400" cy="2666880"/>
            <a:chOff x="1143000" y="3429000"/>
            <a:chExt cx="914400" cy="2666880"/>
          </a:xfrm>
        </p:grpSpPr>
        <p:sp>
          <p:nvSpPr>
            <p:cNvPr id="156" name="Line 16"/>
            <p:cNvSpPr/>
            <p:nvPr/>
          </p:nvSpPr>
          <p:spPr>
            <a:xfrm>
              <a:off x="1143000" y="60958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 flipV="1">
              <a:off x="1143000" y="3429000"/>
              <a:ext cx="45720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H="1" flipV="1">
              <a:off x="1600200" y="3429000"/>
              <a:ext cx="45720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3733920" y="4191120"/>
            <a:ext cx="533160" cy="2286000"/>
            <a:chOff x="3733920" y="4191120"/>
            <a:chExt cx="533160" cy="2286000"/>
          </a:xfrm>
        </p:grpSpPr>
        <p:sp>
          <p:nvSpPr>
            <p:cNvPr id="160" name="Line 20"/>
            <p:cNvSpPr/>
            <p:nvPr/>
          </p:nvSpPr>
          <p:spPr>
            <a:xfrm>
              <a:off x="3733920" y="4191120"/>
              <a:ext cx="0" cy="205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3733920" y="4191120"/>
              <a:ext cx="53316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>
              <a:off x="3733920" y="6248520"/>
              <a:ext cx="5331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7086240" y="5409720"/>
            <a:ext cx="1067040" cy="1067040"/>
            <a:chOff x="7086240" y="5409720"/>
            <a:chExt cx="1067040" cy="1067040"/>
          </a:xfrm>
        </p:grpSpPr>
        <p:sp>
          <p:nvSpPr>
            <p:cNvPr id="164" name="Line 24"/>
            <p:cNvSpPr/>
            <p:nvPr/>
          </p:nvSpPr>
          <p:spPr>
            <a:xfrm>
              <a:off x="7086600" y="5410080"/>
              <a:ext cx="7632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V="1">
              <a:off x="7162920" y="5715000"/>
              <a:ext cx="99036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 flipH="1" flipV="1">
              <a:off x="7086240" y="5409720"/>
              <a:ext cx="10666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zoom dir="in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2007721171625554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4"/>
          <p:cNvGrpSpPr/>
          <p:nvPr/>
        </p:nvGrpSpPr>
        <p:grpSpPr>
          <a:xfrm>
            <a:off x="3276360" y="1752480"/>
            <a:ext cx="3047400" cy="1828440"/>
            <a:chOff x="3276360" y="1752480"/>
            <a:chExt cx="3047400" cy="1828440"/>
          </a:xfrm>
        </p:grpSpPr>
        <p:sp>
          <p:nvSpPr>
            <p:cNvPr id="170" name="Line 5"/>
            <p:cNvSpPr/>
            <p:nvPr/>
          </p:nvSpPr>
          <p:spPr>
            <a:xfrm flipH="1">
              <a:off x="3276360" y="1752480"/>
              <a:ext cx="3047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 flipH="1" flipV="1">
              <a:off x="3309840" y="1819440"/>
              <a:ext cx="1038240" cy="176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 flipH="1">
              <a:off x="4348080" y="1752480"/>
              <a:ext cx="1875240" cy="182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10872" t="10636" r="10872" b="18635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610920" y="1844640"/>
            <a:ext cx="6121800" cy="2305080"/>
            <a:chOff x="610920" y="1844640"/>
            <a:chExt cx="6121800" cy="2305080"/>
          </a:xfrm>
        </p:grpSpPr>
        <p:sp>
          <p:nvSpPr>
            <p:cNvPr id="175" name="Line 4"/>
            <p:cNvSpPr/>
            <p:nvPr/>
          </p:nvSpPr>
          <p:spPr>
            <a:xfrm flipH="1">
              <a:off x="2843280" y="1916280"/>
              <a:ext cx="1657440" cy="1657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4500720" y="1844640"/>
              <a:ext cx="2232000" cy="230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2843280" y="3573360"/>
              <a:ext cx="388944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 flipH="1">
              <a:off x="610920" y="2205000"/>
              <a:ext cx="647640" cy="122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1258920" y="2133720"/>
              <a:ext cx="1225440" cy="1439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611280" y="3429000"/>
              <a:ext cx="18730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18T11:19:25Z</dcterms:modified>
  <cp:revision>2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