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683-BD6C-4E80-9BB5-75F8181B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9CC-F11C-4558-90F7-F112F413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0CB-EFB5-4685-9CD1-9FE71E0E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F85-CFD8-41A3-B647-59ECC21F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B06-20C0-441E-8B55-1D7B3843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69A-9401-45C3-BA19-3B1DADFE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4D7-93D1-496E-9E4B-418AD579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08C-10EA-4E34-B0A9-14B7C830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DF2-04A0-47BF-AA2B-AF745154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DFB-0C8F-4F88-A86F-6ED94034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C6B-A67D-4543-8C6B-93F6CF55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862-588B-4804-A23B-E82E6E14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44DE-C5E1-4CB6-9B59-AC08450A54E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副标题 2"/>
          <p:cNvSpPr/>
          <p:nvPr/>
        </p:nvSpPr>
        <p:spPr>
          <a:xfrm>
            <a:off x="914400" y="4419720"/>
            <a:ext cx="4191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能听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2362320" y="1219320"/>
            <a:ext cx="41907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聆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寂静之声 班得瑞.mp3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237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47920" y="18284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鬼哭狼嚎   蕴涵   嗜好  召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33520" y="3808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隶书"/>
                <a:ea typeface="华文隶书"/>
              </a:rPr>
              <a:t>我会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209680" y="129528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háo        hán    shì      zhà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85800" y="3048120"/>
            <a:ext cx="78487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惊雷滚滚   赤日炎炎   置身其外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融入其中   精神焕发   自信十足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凝神遐想   闭目凝神   判若两人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遨游       驾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1905120"/>
            <a:ext cx="8610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仿宋"/>
                <a:ea typeface="仿宋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仿宋"/>
                <a:ea typeface="仿宋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仿宋"/>
                <a:ea typeface="仿宋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母亲教“我”聆听歌曲：夏日的晚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（        ） 划破黑夜，随机惊雷（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我”吓得（        ）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母亲叫“我”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（      ）里的歌声，在（        ）的陪伴下，“我”进入了（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09480" y="457200"/>
            <a:ext cx="6553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隶书"/>
                <a:ea typeface="华文隶书"/>
              </a:rPr>
              <a:t>读课文，按提示填空，了解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隶书"/>
                <a:ea typeface="华文隶书"/>
              </a:rPr>
              <a:t>容，理清层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762120" y="251460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道闪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7086600" y="25146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滚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819520" y="31240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哭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762120" y="36576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暴风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410080" y="36576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竖琴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419720" y="4191120"/>
            <a:ext cx="99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梦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228600" y="380880"/>
            <a:ext cx="8610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仿宋"/>
                <a:ea typeface="仿宋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仿宋"/>
                <a:ea typeface="仿宋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仿宋"/>
                <a:ea typeface="仿宋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母亲教“我”聆听心中的歌：一次，在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基山观看（    ），“我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（        ） 倾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时，感受到（      ）水流中有（      ）的（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362320" y="990720"/>
            <a:ext cx="99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5638680" y="990720"/>
            <a:ext cx="1676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闭目凝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743200" y="16002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奔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629400" y="16002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微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143000" y="20574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节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28195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仿宋"/>
                <a:ea typeface="仿宋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仿宋"/>
                <a:ea typeface="仿宋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仿宋"/>
                <a:ea typeface="仿宋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“我”教学生聆听音乐：当希莉对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（        ）绝望时，“我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陪她（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很快，她同过去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62120" y="342900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听力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934320" y="34290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听音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809880" y="4038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判若两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60200" y="483876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仿宋"/>
                <a:ea typeface="仿宋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仿宋"/>
                <a:ea typeface="仿宋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仿宋"/>
                <a:ea typeface="仿宋"/>
              </a:rPr>
              <a:t>）</a:t>
            </a:r>
            <a:r>
              <a:rPr b="1" lang="zh-CN" sz="3600" spc="-1" strike="noStrike">
                <a:solidFill>
                  <a:srgbClr val="c00000"/>
                </a:solidFill>
                <a:latin typeface="华文隶书"/>
                <a:ea typeface="华文隶书"/>
              </a:rPr>
              <a:t>按上面填空提示，把全文分成三段，并归纳段意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609480" y="533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我会分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09480" y="129528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仿宋"/>
                <a:ea typeface="仿宋"/>
              </a:rPr>
              <a:t>第一段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（       ）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讲母亲教“我”聆听暴风雨中的歌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480" y="274320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仿宋"/>
                <a:ea typeface="仿宋"/>
              </a:rPr>
              <a:t>第二段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（       ）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讲母亲教“我”聆听自己心中的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09480" y="426708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仿宋"/>
                <a:ea typeface="仿宋"/>
              </a:rPr>
              <a:t>第三段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（       ）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讲“我”教学生聆听音乐，帮助她找回了自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438280" y="137160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—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86000" y="2819520"/>
            <a:ext cx="1447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—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43200" y="426708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04920" y="1066680"/>
            <a:ext cx="84582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宇宙的万物中都蕴含着（       ），无论是在（       ）的变换、心脏的搏动中，还是在（     ）与（     ）的（        ）中。你不要（            ），而应当（           ），那么，你就会融入这（     ）的（     ）里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92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先填空，再理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324480" y="10666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音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209680" y="16002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季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09680" y="2209680"/>
            <a:ext cx="60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267080" y="2209680"/>
            <a:ext cx="60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248520" y="2209680"/>
            <a:ext cx="99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133720" y="27432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置身其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400800" y="274320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融入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876920" y="3276720"/>
            <a:ext cx="99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雄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858000" y="327672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节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3962520"/>
            <a:ext cx="8458200" cy="180036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“蕴含”的意思是（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“无论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… …</a:t>
            </a: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还是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… …</a:t>
            </a: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”这组关联词强调了宇宙的（             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“不要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… … </a:t>
            </a: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而应当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… …</a:t>
            </a: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那么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… …</a:t>
            </a: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”这组词语，提醒我们要（        ）感受音乐，召唤（                ）的东西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648320" y="3962520"/>
            <a:ext cx="99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包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219320" y="480060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万物都蕴含着音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514600" y="56386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用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477120" y="5638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内心美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57200" y="2286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作业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990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读课后第三题的词语，选择其中两个写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8600" y="1752480"/>
            <a:ext cx="868680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小练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宇宙的万物中都蕴含着音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清晨，漫步花园，小鸟在枝头“叽叽喳喳”地叫，这时你会想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秋游时，我们在林中散步，脚踩在松松软软的落叶上，发出“咯吱咯吱”的声响时，这时你会想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       …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宇宙万物的音乐丰富多彩，美妙无比。请选择自己感受最深的一种声响，用一段话写一写自己的心灵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华文隶书"/>
                <a:ea typeface="华文隶书"/>
              </a:rPr>
              <a:t>7.</a:t>
            </a:r>
            <a:r>
              <a:rPr b="1" lang="zh-CN" sz="9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学会聆听</a:t>
            </a: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c:\users\ADMINI~1\appdata\roaming\360se6\USERDA~1\Temp\1.jpg"/>
          <p:cNvPicPr/>
          <p:nvPr/>
        </p:nvPicPr>
        <p:blipFill>
          <a:blip r:embed="rId1"/>
          <a:stretch/>
        </p:blipFill>
        <p:spPr>
          <a:xfrm>
            <a:off x="331920" y="1752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2057400" y="5851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赤日炎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创设情境"/>
          <p:cNvPicPr/>
          <p:nvPr/>
        </p:nvPicPr>
        <p:blipFill>
          <a:blip r:embed="rId2"/>
          <a:stretch/>
        </p:blipFill>
        <p:spPr>
          <a:xfrm>
            <a:off x="304920" y="304920"/>
            <a:ext cx="3276360" cy="91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夜幕"/>
          <p:cNvPicPr/>
          <p:nvPr/>
        </p:nvPicPr>
        <p:blipFill>
          <a:blip r:embed="rId1"/>
          <a:stretch/>
        </p:blipFill>
        <p:spPr>
          <a:xfrm>
            <a:off x="1143000" y="16765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438280" y="5334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夜幕降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c:\users\ADMINI~1\appdata\roaming\360se6\USERDA~1\Temp\6.jpg"/>
          <p:cNvPicPr/>
          <p:nvPr/>
        </p:nvPicPr>
        <p:blipFill>
          <a:blip r:embed="rId1"/>
          <a:stretch/>
        </p:blipFill>
        <p:spPr>
          <a:xfrm>
            <a:off x="762120" y="730080"/>
            <a:ext cx="5079960" cy="3810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133720" y="5105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电闪雷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暴雨"/>
          <p:cNvPicPr/>
          <p:nvPr/>
        </p:nvPicPr>
        <p:blipFill>
          <a:blip r:embed="rId1"/>
          <a:stretch/>
        </p:blipFill>
        <p:spPr>
          <a:xfrm>
            <a:off x="990720" y="762120"/>
            <a:ext cx="4673520" cy="3504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209680" y="49528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狂风暴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口琴"/>
          <p:cNvPicPr/>
          <p:nvPr/>
        </p:nvPicPr>
        <p:blipFill>
          <a:blip r:embed="rId1"/>
          <a:stretch/>
        </p:blipFill>
        <p:spPr>
          <a:xfrm>
            <a:off x="914400" y="1523880"/>
            <a:ext cx="4165560" cy="3124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235240" y="4646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口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竖琴"/>
          <p:cNvPicPr/>
          <p:nvPr/>
        </p:nvPicPr>
        <p:blipFill>
          <a:blip r:embed="rId1"/>
          <a:stretch/>
        </p:blipFill>
        <p:spPr>
          <a:xfrm>
            <a:off x="609480" y="993600"/>
            <a:ext cx="4572000" cy="3426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0" y="4800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竖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D:\Documents\Pictures\60d27f6dtb76f21925ead&amp;690.gif"/>
          <p:cNvPicPr/>
          <p:nvPr/>
        </p:nvPicPr>
        <p:blipFill>
          <a:blip r:embed="rId1"/>
          <a:stretch/>
        </p:blipFill>
        <p:spPr>
          <a:xfrm>
            <a:off x="1603440" y="914400"/>
            <a:ext cx="405900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819520" y="4800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2-11T03:54:5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