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B57E-5970-4691-A473-B677EEBF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CFF4-5351-4917-B86D-FD9AF778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FBB-CF7C-47EF-B711-F07CDA29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1D92-B0A3-4A70-9062-73B9DDEE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3DB6-6FA2-4853-BBFC-9F4328E0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8196-5C1A-4DC2-A257-F33AD9A9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2149-C1BD-4C33-8213-01C05C55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288-CC72-4B29-A611-A4E30F6F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2B4F-DA37-446A-B267-2D45A8CE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BAE9-CBCA-4ABE-BB1B-D08C8DDB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10C2-114D-4013-8F0E-B172892A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D3C1-7D6E-4CFE-A4B2-45EED0C8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9F77-3AD7-48A9-B227-4099C2B9A098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7" descr=""/>
          <p:cNvPicPr/>
          <p:nvPr/>
        </p:nvPicPr>
        <p:blipFill>
          <a:blip r:embed="rId2"/>
          <a:stretch/>
        </p:blipFill>
        <p:spPr>
          <a:xfrm>
            <a:off x="-100080" y="0"/>
            <a:ext cx="9244080" cy="678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2"/>
          <p:cNvPicPr/>
          <p:nvPr/>
        </p:nvPicPr>
        <p:blipFill>
          <a:blip r:embed="rId1"/>
          <a:stretch/>
        </p:blipFill>
        <p:spPr>
          <a:xfrm>
            <a:off x="3498840" y="2073240"/>
            <a:ext cx="4621320" cy="3967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6000" spc="-1" strike="noStrike">
                <a:solidFill>
                  <a:srgbClr val="6600ff"/>
                </a:solidFill>
                <a:latin typeface="宋体"/>
              </a:rPr>
              <a:t>8.</a:t>
            </a:r>
            <a:r>
              <a:rPr b="1" lang="zh-CN" sz="6000" spc="-1" strike="noStrike">
                <a:solidFill>
                  <a:srgbClr val="6600ff"/>
                </a:solidFill>
                <a:latin typeface="宋体"/>
              </a:rPr>
              <a:t>回 忆 爸 爸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914040"/>
            <a:ext cx="9144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走运了，孩子。要写作就要专心致志，要有想象力。你已经表明你是有想象力的。你已经做成功了一次，那你就再去做成功一千次吧！想象力在想当长时间内是不会离弃人的，甚至永远也不会离弃。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爸爸常常讲，他在动笔之前，总是能清楚地意识到句子是怎么在他头脑中形成的。他总是总是试着用不同的方案来写这些句子，再从中选出最好的方案。他说，当他笔下的任务讲话时，话就会滔滔不绝地涌出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6840" y="7621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◆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自学指导三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从爸爸对“我”的写作指导中，你得到了哪些启示？联系自己的学习经验谈一谈，议一议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2189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9920" indent="-169920">
              <a:lnSpc>
                <a:spcPct val="14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出与“现在我写文章的时候，常常想起爸爸对我的教诲。”前后照应的句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lnSpc>
                <a:spcPct val="14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方正楷体_GBK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个“常常”，写出了父亲的教诲对作者的重要性，它影响了作者的一生；一个“常常”，道出了作者对父亲的爱，这些教诲不仅仅来源于父亲那智慧的头脑，还来源于父亲那一颗充满慈爱的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感受领悟"/>
          <p:cNvPicPr/>
          <p:nvPr/>
        </p:nvPicPr>
        <p:blipFill>
          <a:blip r:embed="rId1"/>
          <a:stretch/>
        </p:blipFill>
        <p:spPr>
          <a:xfrm>
            <a:off x="685800" y="304920"/>
            <a:ext cx="2362320" cy="64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33160" y="2361960"/>
            <a:ext cx="7467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                  </a:t>
            </a:r>
            <a:r>
              <a:rPr b="1" lang="zh-CN" sz="5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把倒数第二段写成爸爸直接对</a:t>
            </a:r>
            <a:r>
              <a:rPr b="1" lang="zh-CN" sz="5400" spc="-1" strike="noStrike">
                <a:solidFill>
                  <a:srgbClr val="6600ff"/>
                </a:solidFill>
                <a:latin typeface="Calibri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我</a:t>
            </a:r>
            <a:r>
              <a:rPr b="1" lang="zh-CN" sz="5400" spc="-1" strike="noStrike">
                <a:solidFill>
                  <a:srgbClr val="6600ff"/>
                </a:solidFill>
                <a:latin typeface="Calibri"/>
                <a:ea typeface="楷体_GB2312"/>
              </a:rPr>
              <a:t>”</a:t>
            </a:r>
            <a:r>
              <a:rPr b="1" lang="zh-CN" sz="5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说的话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85800" y="9907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当堂训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762120" y="1143000"/>
            <a:ext cx="809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我能读懂课文，回答课后的问题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895120" y="1447920"/>
            <a:ext cx="1676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宋体"/>
              </a:rPr>
              <a:t>海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宋体"/>
              </a:rPr>
              <a:t>明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宋体"/>
              </a:rPr>
              <a:t>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海明威1"/>
          <p:cNvPicPr/>
          <p:nvPr/>
        </p:nvPicPr>
        <p:blipFill>
          <a:blip r:embed="rId1"/>
          <a:stretch/>
        </p:blipFill>
        <p:spPr>
          <a:xfrm>
            <a:off x="4863960" y="865080"/>
            <a:ext cx="3457800" cy="6310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57800" y="5562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宋体"/>
              </a:rPr>
              <a:t>钓鱼的喜悦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Picture 4" descr="海明威2"/>
          <p:cNvPicPr/>
          <p:nvPr/>
        </p:nvPicPr>
        <p:blipFill>
          <a:blip r:embed="rId1"/>
          <a:stretch/>
        </p:blipFill>
        <p:spPr>
          <a:xfrm>
            <a:off x="4648320" y="838080"/>
            <a:ext cx="3614760" cy="449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创设情境"/>
          <p:cNvPicPr/>
          <p:nvPr/>
        </p:nvPicPr>
        <p:blipFill>
          <a:blip r:embed="rId2"/>
          <a:stretch/>
        </p:blipFill>
        <p:spPr>
          <a:xfrm>
            <a:off x="457200" y="458640"/>
            <a:ext cx="2759040" cy="758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40480" y="502884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宋体"/>
              </a:rPr>
              <a:t>认真写作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Picture 4" descr="海明威3"/>
          <p:cNvPicPr/>
          <p:nvPr/>
        </p:nvPicPr>
        <p:blipFill>
          <a:blip r:embed="rId1"/>
          <a:stretch/>
        </p:blipFill>
        <p:spPr>
          <a:xfrm>
            <a:off x="4495680" y="124308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00600" y="472392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2060"/>
                </a:solidFill>
                <a:latin typeface="宋体"/>
              </a:rPr>
              <a:t>热衷打猎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Picture 4" descr="海明威4"/>
          <p:cNvPicPr/>
          <p:nvPr/>
        </p:nvPicPr>
        <p:blipFill>
          <a:blip r:embed="rId1"/>
          <a:stretch/>
        </p:blipFill>
        <p:spPr>
          <a:xfrm>
            <a:off x="2895480" y="841320"/>
            <a:ext cx="5565960" cy="3681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11124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自学指导一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自由读课文，边读边思考课文写了一个怎样的故事 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分钟后比谁说得好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初读感知"/>
          <p:cNvPicPr/>
          <p:nvPr/>
        </p:nvPicPr>
        <p:blipFill>
          <a:blip r:embed="rId1"/>
          <a:stretch/>
        </p:blipFill>
        <p:spPr>
          <a:xfrm>
            <a:off x="533520" y="609480"/>
            <a:ext cx="2079360" cy="503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0520" y="6094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自学指导二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默读课文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3-1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自然段，说说爸爸在写作上给了“我”哪些指导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4400" spc="-1" strike="noStrike">
                <a:solidFill>
                  <a:srgbClr val="6600ff"/>
                </a:solidFill>
                <a:latin typeface="宋体"/>
              </a:rPr>
              <a:t>（拿起笔边读边勾画出相关语句哦！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分钟后比谁说得好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28600" y="1142640"/>
            <a:ext cx="9144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爸爸建议我说：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好好看，深入到人物的性格和情节发展中去。此外，当然喽，看书也是一种 ‘享受’。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别试图分析它们的作品，你只要欣赏它们，从中得到乐趣就是了。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在你直接试着写写短篇小说吧，当然喽，你别指望一下能写出一篇惊人的小说来。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应该注意不要写得啰里啰嗦。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12-11T04:24:4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