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50E-7E24-471B-AF2C-8C6A8019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DCF-9908-425C-88FA-506C10BD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67A-4F1F-479A-8E31-E29225C2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895-66D1-43BA-BF38-E9EFE848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A32-443B-4E14-B3D2-EBE05910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DFE-71C3-458C-AD1E-273E788F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FC7-1C99-44C6-B4F1-031D858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FEB-3021-41F8-B025-D1730B5F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D51-6853-49B7-BA50-25BAC10F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C73-7977-4196-AEE5-E80557E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013-96CD-4C5A-97D5-416898F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66C-125E-479B-A5D6-6996708F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0FCE-6B78-4496-A709-86B1BD881C2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c:\users\ADMINI~1\appdata\roaming\360se6\USERDA~1\Temp\64230_~1.JPG"/>
          <p:cNvPicPr/>
          <p:nvPr/>
        </p:nvPicPr>
        <p:blipFill>
          <a:blip r:embed="rId1"/>
          <a:srcRect l="0" t="8004" r="0" b="6948"/>
          <a:stretch/>
        </p:blipFill>
        <p:spPr>
          <a:xfrm>
            <a:off x="0" y="-100080"/>
            <a:ext cx="9144000" cy="6954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4276800" y="3333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奔腾的黄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6760" y="285840"/>
            <a:ext cx="83581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指挥棒一跳一个巨浪，一甩一个浪花。分不清乐声、歌声，台上、台下。只感到扑面飞来的水珠，脚下滚滚的波浪；万千父老弟兄，盯着一个人的眼睛。浆板，劈动了死寂的东海；号子，震醒了沉睡的山峰；中国号，乘驾着怒吼的黄河，向前冲去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412880" y="3244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853920" y="2687400"/>
            <a:ext cx="7715520" cy="14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V="1">
            <a:off x="853920" y="3289320"/>
            <a:ext cx="7715520" cy="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692280" y="3892320"/>
            <a:ext cx="3286080" cy="14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08080" y="402264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品味：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这段采用丰富的联想和（      ），运用（      ）和（      ）的修辞手法，不仅表现出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黄河大合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（            ）的气势，还表达了作者的思想感情，烘托了气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737400" y="3984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841680" y="4595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2776680" y="454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夸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6"/>
          <p:cNvSpPr/>
          <p:nvPr/>
        </p:nvSpPr>
        <p:spPr>
          <a:xfrm>
            <a:off x="3887640" y="5119560"/>
            <a:ext cx="17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惊天动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黄河大合唱"/>
          <p:cNvPicPr/>
          <p:nvPr/>
        </p:nvPicPr>
        <p:blipFill>
          <a:blip r:embed="rId1"/>
          <a:stretch/>
        </p:blipFill>
        <p:spPr>
          <a:xfrm>
            <a:off x="1332000" y="907920"/>
            <a:ext cx="6372000" cy="478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"/>
          <p:cNvPicPr/>
          <p:nvPr/>
        </p:nvPicPr>
        <p:blipFill>
          <a:blip r:embed="rId1"/>
          <a:stretch/>
        </p:blipFill>
        <p:spPr>
          <a:xfrm>
            <a:off x="1908000" y="765000"/>
            <a:ext cx="5820120" cy="436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571760" y="4429080"/>
            <a:ext cx="53575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信念坚定、准备充分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斗志昂扬、英勇无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714240" y="785880"/>
            <a:ext cx="32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导学提示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714240" y="2000160"/>
            <a:ext cx="7500960" cy="20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自由读</a:t>
            </a:r>
            <a:r>
              <a:rPr b="1" lang="en-US" sz="4000" spc="-1" strike="noStrike">
                <a:solidFill>
                  <a:srgbClr val="7030a0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、</a:t>
            </a:r>
            <a:r>
              <a:rPr b="1" lang="en-US" sz="4000" spc="-1" strike="noStrike">
                <a:solidFill>
                  <a:srgbClr val="7030a0"/>
                </a:solidFill>
                <a:latin typeface="宋体"/>
              </a:rPr>
              <a:t>11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自然段，说说这是一支怎样的队伍，你是从哪里体会到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10666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85840" y="1643040"/>
            <a:ext cx="857232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课文既写了（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，又写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表现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黄河大合唱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首乐曲的（       ）和抗日军民的（       ），热情歌颂了（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357120" y="571680"/>
            <a:ext cx="251460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导学归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500720" y="171468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演唱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黄河大合唱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714240" y="242892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5214960" y="2428920"/>
            <a:ext cx="2643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抗日部队奔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57120" y="3071880"/>
            <a:ext cx="2357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线的场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3500280" y="3786120"/>
            <a:ext cx="2000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磅礴气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357200" y="4500720"/>
            <a:ext cx="1857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昂扬斗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857160" y="5214960"/>
            <a:ext cx="3929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华民族的英雄气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928520" y="2214720"/>
            <a:ext cx="5786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曲黄河绝唱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风骚乐坛百年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英雄中华儿女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谱写华夏新篇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357120" y="857160"/>
            <a:ext cx="24386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诗歌欣赏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保卫黄河.mp3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6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18095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4000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作业提示：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感情朗读课文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抄写课文好词佳句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课后朗读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黄河大合唱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八个乐章或歌词，开展一次朗诵比赛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67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67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67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67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ADMINI~1\appdata\roaming\360se6\USERDA~1\Temp\9FD00A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85840" y="121428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1938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年秋冬，</a:t>
            </a: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光未然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随抗日部队行军至大西北的黄河岸边。中国雄奇的山川，战士们英勇的身姿激发了作者的创作灵感，时代的呼唤促使他怀着高涨的爱国热情谱写了一篇大型朗诵诗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黄河吟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，后来被改写成</a:t>
            </a:r>
            <a:r>
              <a:rPr b="1" lang="en-US" sz="31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黄河大合唱</a:t>
            </a:r>
            <a:r>
              <a:rPr b="1" lang="en-US" sz="31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的歌词。“人民音乐家” </a:t>
            </a: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冼星海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为它谱曲。   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作品由八个乐章组成，它以丰富的艺术形象，壮阔的历史场景和磅礴的气势，表现出黄河儿女的英雄气概。 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2627280" y="765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63720" y="1773360"/>
            <a:ext cx="70009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15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黄河大合唱</a:t>
            </a:r>
            <a:r>
              <a:rPr b="1" lang="en-US" sz="8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DMINI~1\appdata\roaming\360se6\USERDA~1\Temp\190825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820800" y="874800"/>
            <a:ext cx="7500960" cy="1068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魏钢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2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9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曾用名魏开城，祖籍山西繁峙，生于太原。当代诗人、散文家。主要作品有散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船夫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绿叶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艳阳漫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另外还有诗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赤泥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灯海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23288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会读：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3880" y="1714320"/>
            <a:ext cx="764388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Calibri"/>
              </a:rPr>
              <a:t>目光炯炯          鼓槌          闸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d0d0d"/>
                </a:solidFill>
                <a:latin typeface="Calibri"/>
              </a:rPr>
              <a:t>洪水          田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714240" y="3786120"/>
            <a:ext cx="764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神情严峻      迫不及待       稠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刀山火海      咆哮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焦灼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机警             澎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42960" y="2500200"/>
            <a:ext cx="4786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óng               gě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14240" y="1214280"/>
            <a:ext cx="7643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jiǒng              chuí        zh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714320"/>
            <a:ext cx="814392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快速浏览课文，看课文写了哪些内容？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5840" y="714240"/>
            <a:ext cx="32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导学提示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785880" y="2357280"/>
            <a:ext cx="6572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一是演唱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黄河大合唱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的情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二是抗日部队奔赴前线的场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500040" y="3714840"/>
            <a:ext cx="81439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再读课文，看看课文哪几个自然段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是演出的情景，哪几个自然段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是抗日部队奔赴前线的场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000080" y="5572080"/>
            <a:ext cx="7572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演唱情景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—9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，奔赴前线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0—1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357120" y="1197000"/>
            <a:ext cx="8215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7030a0"/>
                </a:solidFill>
                <a:latin typeface="宋体"/>
              </a:rPr>
              <a:t>这是一支什么样的合唱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7030a0"/>
                </a:solidFill>
                <a:latin typeface="宋体"/>
              </a:rPr>
              <a:t>为什么说这个乐队很奇特？你从中想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7030a0"/>
                </a:solidFill>
                <a:latin typeface="宋体"/>
              </a:rPr>
              <a:t>细读</a:t>
            </a:r>
            <a:r>
              <a:rPr b="1" lang="en-US" sz="3600" spc="-1" strike="noStrike">
                <a:solidFill>
                  <a:srgbClr val="7030a0"/>
                </a:solidFill>
                <a:latin typeface="宋体"/>
              </a:rPr>
              <a:t>6—8</a:t>
            </a:r>
            <a:r>
              <a:rPr b="1" lang="zh-CN" sz="3600" spc="-1" strike="noStrike">
                <a:solidFill>
                  <a:srgbClr val="7030a0"/>
                </a:solidFill>
                <a:latin typeface="宋体"/>
              </a:rPr>
              <a:t>自然段，分别找出写演出和作者的联想与想象的句子，反复品读，写下你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7030a0"/>
                </a:solidFill>
                <a:latin typeface="宋体"/>
              </a:rPr>
              <a:t>感情朗读</a:t>
            </a:r>
            <a:r>
              <a:rPr b="1" lang="en-US" sz="3600" spc="-1" strike="noStrike">
                <a:solidFill>
                  <a:srgbClr val="7030a0"/>
                </a:solidFill>
                <a:latin typeface="宋体"/>
              </a:rPr>
              <a:t>6—8</a:t>
            </a:r>
            <a:r>
              <a:rPr b="1" lang="zh-CN" sz="3600" spc="-1" strike="noStrike">
                <a:solidFill>
                  <a:srgbClr val="7030a0"/>
                </a:solidFill>
                <a:latin typeface="宋体"/>
              </a:rPr>
              <a:t>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57120" y="214200"/>
            <a:ext cx="32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导学提示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840" y="357120"/>
            <a:ext cx="85723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997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指挥，缓缓地举起了指挥棒，几千人的心都被提了起来</a:t>
            </a: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鼓手，捏紧了鼓槌；号兵，举起了系着红绸的马号；几千双眼睛凝聚在那个小小的棒头上。他，将棒向下一劈，乐声像冲出闸门的洪水，真是“黄河之水天上来”啊！</a:t>
            </a:r>
            <a:r>
              <a:rPr b="1" lang="zh-CN" sz="37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4604760" y="8571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7462440" y="15001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071960" y="214308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676480" y="3357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85840" y="4786200"/>
            <a:ext cx="85723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品味：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采用（      ）描写，运用（     ）和（      ）的修辞手法，把乐声想象成洪水，表现出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黄河大合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（          ）的气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3221280" y="485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细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7150320" y="485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863640" y="535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引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5582520" y="5929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势不可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减号 14"/>
          <p:cNvSpPr/>
          <p:nvPr/>
        </p:nvSpPr>
        <p:spPr>
          <a:xfrm>
            <a:off x="6357960" y="3500280"/>
            <a:ext cx="2571840" cy="71640"/>
          </a:xfrm>
          <a:custGeom>
            <a:avLst/>
            <a:gdLst/>
            <a:ahLst/>
            <a:rect l="l" t="t" r="r" b="b"/>
            <a:pathLst>
              <a:path w="2571750" h="71437">
                <a:moveTo>
                  <a:pt x="340885" y="27318"/>
                </a:moveTo>
                <a:lnTo>
                  <a:pt x="2230865" y="27318"/>
                </a:lnTo>
                <a:lnTo>
                  <a:pt x="2230865" y="44119"/>
                </a:lnTo>
                <a:lnTo>
                  <a:pt x="340885" y="44119"/>
                </a:lnTo>
                <a:lnTo>
                  <a:pt x="340885" y="27318"/>
                </a:lnTo>
                <a:close/>
              </a:path>
            </a:pathLst>
          </a:custGeom>
          <a:solidFill>
            <a:srgbClr val="5b9bd5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减号 15"/>
          <p:cNvSpPr/>
          <p:nvPr/>
        </p:nvSpPr>
        <p:spPr>
          <a:xfrm flipV="1">
            <a:off x="-1071720" y="4070880"/>
            <a:ext cx="11144520" cy="142920"/>
          </a:xfrm>
          <a:custGeom>
            <a:avLst/>
            <a:gdLst/>
            <a:ahLst/>
            <a:rect l="l" t="t" r="r" b="b"/>
            <a:pathLst>
              <a:path w="11144251" h="142875">
                <a:moveTo>
                  <a:pt x="1477170" y="54635"/>
                </a:moveTo>
                <a:lnTo>
                  <a:pt x="9667081" y="54635"/>
                </a:lnTo>
                <a:lnTo>
                  <a:pt x="9667081" y="88240"/>
                </a:lnTo>
                <a:lnTo>
                  <a:pt x="1477170" y="88240"/>
                </a:lnTo>
                <a:lnTo>
                  <a:pt x="1477170" y="54635"/>
                </a:lnTo>
                <a:close/>
              </a:path>
            </a:pathLst>
          </a:custGeom>
          <a:solidFill>
            <a:srgbClr val="5b9bd5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减号 16"/>
          <p:cNvSpPr/>
          <p:nvPr/>
        </p:nvSpPr>
        <p:spPr>
          <a:xfrm>
            <a:off x="0" y="4714920"/>
            <a:ext cx="2571840" cy="71280"/>
          </a:xfrm>
          <a:custGeom>
            <a:avLst/>
            <a:gdLst/>
            <a:ahLst/>
            <a:rect l="l" t="t" r="r" b="b"/>
            <a:pathLst>
              <a:path w="2571750" h="71438">
                <a:moveTo>
                  <a:pt x="340885" y="27318"/>
                </a:moveTo>
                <a:lnTo>
                  <a:pt x="2230865" y="27318"/>
                </a:lnTo>
                <a:lnTo>
                  <a:pt x="2230865" y="44120"/>
                </a:lnTo>
                <a:lnTo>
                  <a:pt x="340885" y="44120"/>
                </a:lnTo>
                <a:lnTo>
                  <a:pt x="340885" y="27318"/>
                </a:lnTo>
                <a:close/>
              </a:path>
            </a:pathLst>
          </a:custGeom>
          <a:solidFill>
            <a:srgbClr val="5b9bd5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0:43:36Z</dcterms:created>
  <dc:creator/>
  <dc:description/>
  <dc:language>en-US</dc:language>
  <cp:lastModifiedBy>微软用户</cp:lastModifiedBy>
  <dcterms:modified xsi:type="dcterms:W3CDTF">2016-12-11T07:42:5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