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6.png" ContentType="image/png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D17-94B9-4BFC-A890-83662140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E6E-46E5-4EBA-B2E5-7B359D4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825-3081-476C-94FD-E7547212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331-4C0B-420D-9D5C-B288B495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B4E-CBE6-47C2-A5FE-EB0C443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DC3-9E67-4D65-B672-97785A4B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794-46ED-4D20-B053-2625E8EF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D3B-98A1-4895-B4C7-F0A2A82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5A4-D8A9-4499-8906-E1B4281B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AC7-3255-43B5-A7D1-C5C3EF58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F6D-E27A-41F4-A951-9E697FA1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4AA-A9C7-4EE6-B28F-2B640681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8F4D-A625-4D13-813B-45BC75F400E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闪电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371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357920" y="57168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来之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322"/>
          <p:cNvPicPr/>
          <p:nvPr/>
        </p:nvPicPr>
        <p:blipFill>
          <a:blip r:embed="rId1"/>
          <a:stretch/>
        </p:blipFill>
        <p:spPr>
          <a:xfrm>
            <a:off x="4572000" y="762120"/>
            <a:ext cx="4191120" cy="2904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28600" y="22860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大雨猛烈地敲打着屋顶，冲击着玻璃，奏出激动人心的乐章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82520" y="408456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不一会儿，铿锵的乐曲转为节奏单一的旋律，那优柔、甜蜜的催眠曲，抚慰着沉睡人儿的疲惫躯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1297800" y="115740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去之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3808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990720" y="99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蓝天白玉"/>
          <p:cNvPicPr/>
          <p:nvPr/>
        </p:nvPicPr>
        <p:blipFill>
          <a:blip r:embed="rId1"/>
          <a:srcRect l="0" t="0" r="0" b="11165"/>
          <a:stretch/>
        </p:blipFill>
        <p:spPr>
          <a:xfrm>
            <a:off x="5029200" y="322200"/>
            <a:ext cx="3602160" cy="2251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17680" y="2611440"/>
            <a:ext cx="793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碧空中漂浮着的朵朵白云，在和煦的微风中翩翩起舞，把蓝悠悠的天空擦拭得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加明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85800" y="411480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鸟儿唱着欢乐的歌，迎接着喷薄欲出的朝阳；被暴雨压弯了腰的花草伸着懒腰，宛如刚从梦中苏醒；依偎在花瓣、绿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上的水珠闪烁着光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85800" y="6094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97632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读课文完成下列习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课按照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顺序，描写了三个不同阶段景物的特点。写了暴风雨来之前使人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景象，暴风雨来之时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场面，还具体描写了暴风雨去之后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景象。最后直接说明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样一个哲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238880" y="2743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读句子，谈体会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闷热的夜，令人窒息，我辗转不寐。窗外，一道道闪电划破了漆黑的夜幕，沉闷的雷声如同大炮轰鸣，使人恐惧。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哪两个词语写出了我的感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哪些词语写出了暴风雨来之前的特点？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品读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2---6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自然段，体会暴风雨来之时由开始的猛烈到结束时柔美的情景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52396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一道闪光，一声清脆的霹雳，接着便下起瓢泼大雨。宛如天神听到信号，撕开天幕，把天河之水倾注到人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思考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本段写了什么内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哪些词语说明暴风雨来得急，哪些词语说明雨下得大、下得猛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狂风咆哮着，猛的把门打开，摔在墙上，烟囱发出低声的呜鸣，犹如在黑夜中抽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这段写了暴风雨来时，狂风咆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914400"/>
            <a:ext cx="7391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雨猛烈地敲打着房屋，冲击着玻璃，奏出激动人心的乐章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） 这句运用了什么修辞手法？（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）体会作者激荡的心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7120" y="27432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本段都是用了什么修辞手法？请画出动词、叠词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12680" y="914040"/>
            <a:ext cx="7886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小股雨水从天窗上悄悄地爬进来，缓缓地蠕动着，在天花板上留下弯弯曲曲的足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雨水流进屋内，在天花板上留下印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5053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 Light"/>
              </a:rPr>
              <a:t>体会暴风雨变弱时，作者的愉悦感受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一会儿，铿锵的乐曲转为节奏单一的旋律，那柔美、甜美的催眠曲，抚慰着沉睡人儿的疲惫躯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本段比喻句和拟人句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从窗外射进来的第一束光线报道着人间的黎明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碧空中漂浮着的朵朵白云，在和煦的微风中翩翩起舞，把蓝幽幽的天空擦拭得更加明亮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闪电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2670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 Light"/>
              </a:rPr>
              <a:t>雨后小鸟欢叫和小草生长的景象和山色、村舍、花香像一幅画卷</a:t>
            </a:r>
            <a:r>
              <a:rPr b="1" lang="zh-CN" sz="3200" spc="-1" strike="noStrike">
                <a:solidFill>
                  <a:srgbClr val="000000"/>
                </a:solidFill>
                <a:latin typeface="Calibri Ligh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30000" y="304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鸟儿唱着欢快的歌，迎接着喷薄欲出的朝阳；被暴风雨压弯了腰的花草伸着懒腰，宛如刚从梦中苏醒；依偎在花瓣、绿叶上的水珠闪烁着光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常年积雪的阿尔卑斯山迎着朝霞，披上玫瑰色的丽装；远处的村舍闪闪发亮，艳丽的玫瑰花散发出阵阵芳香。江山似锦，风景如画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绮丽华美的春色啊，你是多么美好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上面句子用了什么修辞手法？画出听觉和味觉描写，并说明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160" y="15998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暴风雨给我们带来了什么样的启示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方正楷体_GBK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方正楷体_GBK"/>
              </a:rPr>
              <a:t>昨晚，狂暴的大自然似乎要把整个人间毁灭，而它带来的却是更加绚丽的早晨。有时，人们受到种种局限，只看到事物的一个方面，而忽略了大自然整体那无伦比的和谐的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整体感知"/>
          <p:cNvPicPr/>
          <p:nvPr/>
        </p:nvPicPr>
        <p:blipFill>
          <a:blip r:embed="rId1"/>
          <a:stretch/>
        </p:blipFill>
        <p:spPr>
          <a:xfrm>
            <a:off x="1676520" y="533520"/>
            <a:ext cx="2017440" cy="4172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2570040"/>
            <a:ext cx="854064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作者是不是也和我们一样，喜欢的是暴风雨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去之后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的绚丽华美，是不是对暴风雨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来之前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来之时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的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狂暴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觉得不美，不喜欢呢？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细读感悟"/>
          <p:cNvPicPr/>
          <p:nvPr/>
        </p:nvPicPr>
        <p:blipFill>
          <a:blip r:embed="rId1"/>
          <a:stretch/>
        </p:blipFill>
        <p:spPr>
          <a:xfrm>
            <a:off x="1676520" y="685800"/>
            <a:ext cx="3346200" cy="8953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有时，人们受到种种局限，只看到事物的一个方面，而忽略了大自然整体那无伦比的和谐的美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方正楷体_GBK"/>
              </a:rPr>
              <a:t>这是点明文章中心的句子。这里的“局限”指的是“只看到事物的一个方面”。如果只看到暴风雨前和暴风雨时的一种惊心动魄的美，是一种局限；如果只认识到暴风雨去之后一派绚丽多姿的美，也仍然是一种局限。只有把暴风雨来之前，来之时和去之后的不同的美结合起来，才能真正体会到“大自然整体那无与伦比的和谐的美”。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感受领悟"/>
          <p:cNvPicPr/>
          <p:nvPr/>
        </p:nvPicPr>
        <p:blipFill>
          <a:blip r:embed="rId1"/>
          <a:stretch/>
        </p:blipFill>
        <p:spPr>
          <a:xfrm>
            <a:off x="1447920" y="380880"/>
            <a:ext cx="2286000" cy="621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1920" y="1066680"/>
            <a:ext cx="8610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道闪光，一声清脆的霹雳，接着便下起瓢泼大雨。宛如天神听到信号，撕开天幕，把天河之水倾注到人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狂风咆哮着，猛地把门打开，摔在墙上。烟囱发出低声的呜鸣，犹如在黑夜里抽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大雨猛烈地敲打着屋顶，冲击着玻璃，奏出激动人心的乐章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暴风雨给我们带来了什么样的启示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方正楷体_GBK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方正楷体_GBK"/>
              </a:rPr>
              <a:t>昨晚，狂暴的大自然似乎要把整个人间毁灭，而它带来的却是更加绚丽的早晨。有时，人们受到种种局限，只看到事物的一个方面，而忽略了大自然整体那无伦比的和谐的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整体感知"/>
          <p:cNvPicPr/>
          <p:nvPr/>
        </p:nvPicPr>
        <p:blipFill>
          <a:blip r:embed="rId1"/>
          <a:stretch/>
        </p:blipFill>
        <p:spPr>
          <a:xfrm>
            <a:off x="1676520" y="533520"/>
            <a:ext cx="2017440" cy="4172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2570040"/>
            <a:ext cx="854064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作者是不是也和我们一样，喜欢的是暴风雨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去之后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的绚丽华美，是不是对暴风雨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来之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来之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狂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觉得不美，不喜欢呢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细读感悟"/>
          <p:cNvPicPr/>
          <p:nvPr/>
        </p:nvPicPr>
        <p:blipFill>
          <a:blip r:embed="rId1"/>
          <a:stretch/>
        </p:blipFill>
        <p:spPr>
          <a:xfrm>
            <a:off x="1676520" y="685800"/>
            <a:ext cx="3346200" cy="8953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480" y="1371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有时，人们受到种种局限，只看到事物的一个方面，而忽略了大自然整体那无伦比的和谐的美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方正楷体_GBK"/>
              </a:rPr>
              <a:t>这是点明文章中心的句子。这里的“局限”指的是“只看到事物的一个方面”。如果只看到暴风雨前和暴风雨时的一种惊心动魄的美，是一种局限；如果只认识到暴风雨去之后一派绚丽多姿的美，也仍然是一种局限。只有把暴风雨来之前，来之时和去之后的不同的美结合起来，才能真正体会到“大自然整体那无与伦比的和谐的美”。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感受领悟"/>
          <p:cNvPicPr/>
          <p:nvPr/>
        </p:nvPicPr>
        <p:blipFill>
          <a:blip r:embed="rId1"/>
          <a:stretch/>
        </p:blipFill>
        <p:spPr>
          <a:xfrm>
            <a:off x="1447920" y="380880"/>
            <a:ext cx="2286000" cy="621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>
            <a:off x="1676520" y="2209680"/>
            <a:ext cx="64008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谢谢指导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暴风雨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黎明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春色"/>
          <p:cNvPicPr/>
          <p:nvPr/>
        </p:nvPicPr>
        <p:blipFill>
          <a:blip r:embed="rId2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Calibri Light"/>
                <a:ea typeface="方正楷体_GBK"/>
              </a:rPr>
              <a:t>暴风雨的启示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读一读"/>
          <p:cNvPicPr/>
          <p:nvPr/>
        </p:nvPicPr>
        <p:blipFill>
          <a:blip r:embed="rId1"/>
          <a:stretch/>
        </p:blipFill>
        <p:spPr>
          <a:xfrm>
            <a:off x="380880" y="228600"/>
            <a:ext cx="211464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2743200" y="5335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zhì                z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n             mèi    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ī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窒    息           辗    转  不    寐     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piáo                  shì    w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瓢   泼          擦 拭     偎     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2819520"/>
            <a:ext cx="914400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闷热      划破         漆黑         恐惧         清脆          宛如        咆哮       烟囱        犹如          闪烁        黎明         艳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咽       蠕动         铿锵         抚慰         疲惫         和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玫瑰      绚丽   绮丽     和谐    毁灭   无与伦比     风景如画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山似锦             喷薄欲出         翩翩起舞            蓝悠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初读感知"/>
          <p:cNvPicPr/>
          <p:nvPr/>
        </p:nvPicPr>
        <p:blipFill>
          <a:blip r:embed="rId1"/>
          <a:stretch/>
        </p:blipFill>
        <p:spPr>
          <a:xfrm>
            <a:off x="533520" y="228600"/>
            <a:ext cx="2157120" cy="503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朗读课文想一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暴风雨来之前的情景怎样？找出能表现其特点的词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暴风雨来之时天空的情景如何？找出能体现这时特点的语句。用自己的话谈谈这时的美丽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暴风雨去之后天空又是怎样的？说一说此时天空展现的绮丽风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本文告诉我们一个深刻的道理是什么？结合课文谈一谈理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4"/>
          <p:cNvPicPr/>
          <p:nvPr/>
        </p:nvPicPr>
        <p:blipFill>
          <a:blip r:embed="rId1"/>
          <a:stretch/>
        </p:blipFill>
        <p:spPr>
          <a:xfrm>
            <a:off x="4838760" y="152280"/>
            <a:ext cx="3886200" cy="2895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6094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3520" y="32004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窗外，一道道闪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划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漆黑的夜幕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沉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雷声如同大炮轰鸣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使人恐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87320" y="990720"/>
            <a:ext cx="186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来之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2:52:08Z</dcterms:created>
  <dc:creator/>
  <dc:description/>
  <dc:language>en-US</dc:language>
  <cp:lastModifiedBy>微软用户</cp:lastModifiedBy>
  <dcterms:modified xsi:type="dcterms:W3CDTF">2016-12-11T08:02:4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