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D9E-57D2-45AA-9779-4B859CB7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53F-1622-4AAB-9E3A-1C4A5E9A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739-494E-4E7A-9CA8-AAE6CDE9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6D2-7296-4874-9E26-33F5A302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41A-5297-45EE-AE01-6448CCC0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815-5F62-4E3B-8C3F-6DD44625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B2F-D036-4EED-81BA-85D60D04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3F0-F9C5-4EF3-B7AC-E2457B75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102-B3B8-49A7-8E17-D9C1084F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923-5797-47F8-8E36-15F5F171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4E11-6ECF-4287-BB8D-B098443B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88F-0D6C-4D8A-9483-CA9B893B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CD05-85A5-4351-8167-62CF6334AE9C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6"/>
          <p:cNvSpPr txBox="1"/>
          <p:nvPr/>
        </p:nvSpPr>
        <p:spPr>
          <a:xfrm rot="5400000">
            <a:off x="-275760" y="3809160"/>
            <a:ext cx="4871880" cy="122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神奇的丝瓜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1"/>
          <a:srcRect l="22050" t="0" r="0" b="0"/>
          <a:stretch/>
        </p:blipFill>
        <p:spPr>
          <a:xfrm>
            <a:off x="3564000" y="2924280"/>
            <a:ext cx="43434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42960" y="500040"/>
            <a:ext cx="58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小组合作学习提示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714240" y="185724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1.</a:t>
            </a:r>
            <a:r>
              <a:rPr b="1" lang="zh-CN" sz="3600" spc="-1" strike="noStrike">
                <a:solidFill>
                  <a:srgbClr val="0d0d0d"/>
                </a:solidFill>
                <a:latin typeface="仿宋"/>
                <a:ea typeface="仿宋"/>
              </a:rPr>
              <a:t>文中多处写到作者对丝瓜的担心，勾出有关词句，体会它在表情达意上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/>
          <p:cNvSpPr/>
          <p:nvPr/>
        </p:nvSpPr>
        <p:spPr>
          <a:xfrm>
            <a:off x="714240" y="40006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2.</a:t>
            </a:r>
            <a:r>
              <a:rPr b="1" lang="zh-CN" sz="3600" spc="-1" strike="noStrike">
                <a:solidFill>
                  <a:srgbClr val="0d0d0d"/>
                </a:solidFill>
                <a:latin typeface="仿宋"/>
                <a:ea typeface="仿宋"/>
              </a:rPr>
              <a:t>读课后第二题的句子，体会带点词语的表达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792972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1.</a:t>
            </a:r>
            <a:r>
              <a:rPr b="1" lang="zh-CN" sz="3600" spc="-1" strike="noStrike">
                <a:solidFill>
                  <a:srgbClr val="0d0d0d"/>
                </a:solidFill>
                <a:latin typeface="仿宋"/>
                <a:ea typeface="仿宋"/>
              </a:rPr>
              <a:t>我真替它担心，生怕它经不住这份重量，会从楼下坠下来，落到地上。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71680" y="1643040"/>
            <a:ext cx="79293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2.</a:t>
            </a:r>
            <a:r>
              <a:rPr b="1" lang="zh-CN" sz="3600" spc="-1" strike="noStrike">
                <a:solidFill>
                  <a:srgbClr val="0d0d0d"/>
                </a:solidFill>
                <a:latin typeface="仿宋"/>
                <a:ea typeface="仿宋"/>
              </a:rPr>
              <a:t>这两个瓜加起来恐怕有五六斤重，那一根细秧怎么能承受得了呢？我又担心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71680" y="3286080"/>
            <a:ext cx="7929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3.</a:t>
            </a:r>
            <a:r>
              <a:rPr b="1" lang="zh-CN" sz="3600" spc="-1" strike="noStrike">
                <a:solidFill>
                  <a:srgbClr val="0d0d0d"/>
                </a:solidFill>
                <a:latin typeface="仿宋"/>
                <a:ea typeface="仿宋"/>
              </a:rPr>
              <a:t>我又犯了担心病：这个瓜上面够不到窗台，下面也是空空的；总有一天，它越来越大，会把上面的两个大瓜也坠下来，一起坠到地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71680" y="5643720"/>
            <a:ext cx="79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"/>
                <a:ea typeface="仿宋"/>
              </a:rPr>
              <a:t>体会：</a:t>
            </a: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作者很关心丝瓜，反衬出丝瓜有顽强的生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42960" y="571680"/>
            <a:ext cx="56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小组合作学习提示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714240" y="16430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1.</a:t>
            </a:r>
            <a:r>
              <a:rPr b="1" lang="zh-CN" sz="3600" spc="-1" strike="noStrike">
                <a:solidFill>
                  <a:srgbClr val="002060"/>
                </a:solidFill>
                <a:latin typeface="仿宋"/>
                <a:ea typeface="仿宋"/>
              </a:rPr>
              <a:t>作者心目中的丝瓜是一个怎样的形象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714240" y="45007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3.</a:t>
            </a:r>
            <a:r>
              <a:rPr b="1" lang="zh-CN" sz="3600" spc="-1" strike="noStrike">
                <a:solidFill>
                  <a:srgbClr val="002060"/>
                </a:solidFill>
                <a:latin typeface="仿宋"/>
                <a:ea typeface="仿宋"/>
              </a:rPr>
              <a:t>你还知道哪些植物有神奇之处，与同学们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714240" y="30002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2.</a:t>
            </a:r>
            <a:r>
              <a:rPr b="1" lang="zh-CN" sz="3600" spc="-1" strike="noStrike">
                <a:solidFill>
                  <a:srgbClr val="002060"/>
                </a:solidFill>
                <a:latin typeface="仿宋"/>
                <a:ea typeface="仿宋"/>
              </a:rPr>
              <a:t>作者看待事物的方式给了我们什么启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248840"/>
            <a:ext cx="4786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我们得到的启示：</a:t>
            </a: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6200" y="2034720"/>
            <a:ext cx="8099640" cy="20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65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我们不能改变环境，但我们可以改变自己，让自己去适应环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98400" y="3392640"/>
            <a:ext cx="76438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对人对事不计较个人得失，不管有多大的困难，我们都要想办法解决，积极地面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73200" y="5249880"/>
            <a:ext cx="76438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不论何时，不论何地，我们应始终保持一颗豁达、随缘的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85840" y="1071720"/>
            <a:ext cx="84279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神奇的丝瓜，我们从中体会到了生命的责任。它们本无语，只要你细细观察、好好体味，大自然中的一切都能给我们启示，试将下面空缺处填写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自然能给我们许多启示：成熟的稻穗低着头， 那是在启示我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一群蚂蚁抬走骨头，那是在启示我们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　　　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滴水可以穿石，那是在启示我们做事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　　　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青松不惧风雪，那是在启示我们做人要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879480" y="3571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拓展延伸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4929120" y="36432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谦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5752440" y="4143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齐心协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/>
          <p:cNvSpPr/>
          <p:nvPr/>
        </p:nvSpPr>
        <p:spPr>
          <a:xfrm>
            <a:off x="7109640" y="4643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持之以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28760" y="57150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坚毅刚强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500040" y="5786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99"/>
                </a:solidFill>
                <a:uFillTx/>
                <a:latin typeface="宋体"/>
              </a:rPr>
              <a:t>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143000" y="500040"/>
            <a:ext cx="3500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作业提示：</a:t>
            </a:r>
            <a:r>
              <a:rPr b="0" lang="zh-CN" sz="4800" spc="-1" strike="noStrike">
                <a:solidFill>
                  <a:srgbClr val="44546a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285920" y="2643120"/>
            <a:ext cx="55720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zh-CN" sz="4000" spc="-1" strike="noStrike">
                <a:solidFill>
                  <a:srgbClr val="002060"/>
                </a:solidFill>
                <a:latin typeface="Calibri"/>
              </a:rPr>
              <a:t>摘抄你喜欢的句子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1" lang="zh-CN" sz="4000" spc="-1" strike="noStrike">
                <a:solidFill>
                  <a:srgbClr val="002060"/>
                </a:solidFill>
                <a:latin typeface="Calibri"/>
              </a:rPr>
              <a:t>完成练习册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18</a:t>
            </a:r>
            <a:r>
              <a:rPr b="1" lang="zh-CN" sz="4000" spc="-1" strike="noStrike">
                <a:solidFill>
                  <a:srgbClr val="002060"/>
                </a:solidFill>
                <a:latin typeface="Calibri"/>
              </a:rPr>
              <a:t>课阅读练习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《</a:t>
            </a:r>
            <a:r>
              <a:rPr b="1" lang="zh-CN" sz="4000" spc="-1" strike="noStrike">
                <a:solidFill>
                  <a:srgbClr val="002060"/>
                </a:solidFill>
                <a:latin typeface="Calibri"/>
              </a:rPr>
              <a:t>野草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》</a:t>
            </a:r>
            <a:r>
              <a:rPr b="1" lang="zh-CN" sz="4000" spc="-1" strike="noStrike">
                <a:solidFill>
                  <a:srgbClr val="002060"/>
                </a:solidFill>
                <a:latin typeface="Calibri"/>
              </a:rPr>
              <a:t>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2005092015100400000"/>
          <p:cNvPicPr/>
          <p:nvPr/>
        </p:nvPicPr>
        <p:blipFill>
          <a:blip r:embed="rId1"/>
          <a:stretch/>
        </p:blipFill>
        <p:spPr>
          <a:xfrm>
            <a:off x="41400" y="1628640"/>
            <a:ext cx="3030480" cy="3936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3708360" y="476280"/>
            <a:ext cx="4033800" cy="366840"/>
          </a:xfrm>
          <a:prstGeom prst="rect">
            <a:avLst/>
          </a:prstGeom>
          <a:noFill/>
          <a:ln w="0">
            <a:noFill/>
          </a:ln>
          <a:effectLst>
            <a:outerShdw dist="99192" dir="7781944" blurRad="0" rotWithShape="0">
              <a:srgbClr val="000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30480" y="220500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    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11-200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山东人。北京大学教授，中国语言学家、文学翻译家。著名散文集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竺心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朗润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留德十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棚杂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季羡林先生学识渊博、德高望重。他的散文有着完美的意境，精巧的结构，纯朴恬淡、极富音乐性的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3938760" y="2205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季羡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4"/>
          <p:cNvPicPr/>
          <p:nvPr/>
        </p:nvPicPr>
        <p:blipFill>
          <a:blip r:embed="rId1"/>
          <a:stretch/>
        </p:blipFill>
        <p:spPr>
          <a:xfrm>
            <a:off x="3255840" y="2395440"/>
            <a:ext cx="4930920" cy="3694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900000" y="3416400"/>
            <a:ext cx="19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黑体"/>
                <a:ea typeface="黑体"/>
              </a:rPr>
              <a:t>玉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5"/>
          <p:cNvPicPr/>
          <p:nvPr/>
        </p:nvPicPr>
        <p:blipFill>
          <a:blip r:embed="rId1"/>
          <a:stretch/>
        </p:blipFill>
        <p:spPr>
          <a:xfrm>
            <a:off x="3995640" y="2610000"/>
            <a:ext cx="4476960" cy="3357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00000" y="3465360"/>
            <a:ext cx="19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黑体"/>
                <a:ea typeface="黑体"/>
              </a:rPr>
              <a:t>月 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6"/>
          <p:cNvPicPr/>
          <p:nvPr/>
        </p:nvPicPr>
        <p:blipFill>
          <a:blip r:embed="rId1"/>
          <a:stretch/>
        </p:blipFill>
        <p:spPr>
          <a:xfrm>
            <a:off x="3780000" y="2706840"/>
            <a:ext cx="4443120" cy="3438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476360" y="3494160"/>
            <a:ext cx="214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黑体"/>
                <a:ea typeface="黑体"/>
              </a:rPr>
              <a:t>扁 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85840" y="28584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小组合作学习提示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428760" y="1071720"/>
            <a:ext cx="76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1.</a:t>
            </a:r>
            <a:r>
              <a:rPr b="1" lang="zh-CN" sz="3600" spc="-1" strike="noStrike">
                <a:solidFill>
                  <a:srgbClr val="0d0d0d"/>
                </a:solidFill>
                <a:latin typeface="仿宋"/>
                <a:ea typeface="仿宋"/>
              </a:rPr>
              <a:t>自学本课生字，理解相关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28760" y="17146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2.</a:t>
            </a:r>
            <a:r>
              <a:rPr b="1" lang="zh-CN" sz="3600" spc="-1" strike="noStrike">
                <a:solidFill>
                  <a:srgbClr val="0d0d0d"/>
                </a:solidFill>
                <a:latin typeface="仿宋"/>
                <a:ea typeface="仿宋"/>
              </a:rPr>
              <a:t>选取自己喜欢的方式，正确、流利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428760" y="28576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3.</a:t>
            </a:r>
            <a:r>
              <a:rPr b="1" lang="zh-CN" sz="3600" spc="-1" strike="noStrike">
                <a:solidFill>
                  <a:srgbClr val="0d0d0d"/>
                </a:solidFill>
                <a:latin typeface="仿宋"/>
                <a:ea typeface="仿宋"/>
              </a:rPr>
              <a:t>根据课文内容讲讲丝瓜的生长过程是怎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428760" y="407196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4.</a:t>
            </a:r>
            <a:r>
              <a:rPr b="1" lang="zh-CN" sz="3600" spc="-1" strike="noStrike">
                <a:solidFill>
                  <a:srgbClr val="0d0d0d"/>
                </a:solidFill>
                <a:latin typeface="仿宋"/>
                <a:ea typeface="仿宋"/>
              </a:rPr>
              <a:t>面对丝瓜生长不同的阶段，作者的心灵感受又是怎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0"/>
          <p:cNvSpPr/>
          <p:nvPr/>
        </p:nvSpPr>
        <p:spPr>
          <a:xfrm>
            <a:off x="428760" y="52862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5.</a:t>
            </a:r>
            <a:r>
              <a:rPr b="1" lang="zh-CN" sz="3600" spc="-1" strike="noStrike">
                <a:solidFill>
                  <a:srgbClr val="0d0d0d"/>
                </a:solidFill>
                <a:latin typeface="仿宋"/>
                <a:ea typeface="仿宋"/>
              </a:rPr>
              <a:t>本文中的丝瓜究竟神奇在什么地方？试用文中的原句回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4"/>
          <p:cNvSpPr/>
          <p:nvPr/>
        </p:nvSpPr>
        <p:spPr>
          <a:xfrm>
            <a:off x="642960" y="200016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中宋"/>
                <a:ea typeface="华文中宋"/>
              </a:rPr>
              <a:t>篱笆        杞人忧天       凸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071720" y="1357200"/>
            <a:ext cx="60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bā        qǐ                 t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42960" y="314316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中宋"/>
                <a:ea typeface="华文中宋"/>
              </a:rPr>
              <a:t>百思不得其解        难以置信       日益茁壮     随风摇摆     车水马龙心中有数     扑人眉宇     夸大之词威武雄壮     一丈见方     大吃一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2"/>
          <p:cNvSpPr/>
          <p:nvPr/>
        </p:nvSpPr>
        <p:spPr>
          <a:xfrm>
            <a:off x="1275120" y="1429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50"/>
                </a:solidFill>
                <a:latin typeface="隶书"/>
                <a:ea typeface="隶书"/>
              </a:rPr>
              <a:t>我读书，我知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28760" y="1857240"/>
            <a:ext cx="5786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家人随意种上两棵丝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丝瓜竟然长了出来且日益壮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爬过了篱笆，爬上了矮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开花结瓜，重量越来越重，直挺挺地悬垂在空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最初长出来的瓜不再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窗台上长出两个瓜且猛长成大丝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大丝瓜落脚窗台上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在二、三楼之间，又长出了一个瓜且垂直悬挂在那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平躺在楼墙凸出来的台子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7154280" y="857160"/>
            <a:ext cx="1034280" cy="94716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作者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心灵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221600" y="2143080"/>
            <a:ext cx="820800" cy="52056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隶书"/>
                <a:ea typeface="隶书"/>
              </a:rPr>
              <a:t>很惊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2153520" y="928800"/>
            <a:ext cx="1034280" cy="94716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丝瓜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生长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7151040" y="5143680"/>
            <a:ext cx="1034280" cy="94716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隶书"/>
                <a:ea typeface="隶书"/>
              </a:rPr>
              <a:t>百思不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隶书"/>
                <a:ea typeface="隶书"/>
              </a:rPr>
              <a:t>难以置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7151040" y="3286080"/>
            <a:ext cx="1034280" cy="52056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隶书"/>
                <a:ea typeface="隶书"/>
              </a:rPr>
              <a:t>杞人忧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下箭头 9"/>
          <p:cNvSpPr/>
          <p:nvPr/>
        </p:nvSpPr>
        <p:spPr>
          <a:xfrm>
            <a:off x="7500960" y="2714760"/>
            <a:ext cx="285840" cy="4284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下箭头 10"/>
          <p:cNvSpPr/>
          <p:nvPr/>
        </p:nvSpPr>
        <p:spPr>
          <a:xfrm>
            <a:off x="7500960" y="4000680"/>
            <a:ext cx="285840" cy="78552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500040" y="2857680"/>
            <a:ext cx="7858080" cy="295056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隶书"/>
              </a:rPr>
              <a:t>它能让无法承担重量的瓜停止生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隶书"/>
              </a:rPr>
              <a:t>它能给处于有利地形的大瓜找到承担重量的地方，并给这样的瓜特殊待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隶书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隶书"/>
              </a:rPr>
              <a:t>让它们疯狂地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华文中宋"/>
                <a:ea typeface="隶书"/>
              </a:rPr>
              <a:t>4.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隶书"/>
              </a:rPr>
              <a:t>它能让悬垂的瓜平身躺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1346400" y="3571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50"/>
                </a:solidFill>
                <a:latin typeface="隶书"/>
                <a:ea typeface="隶书"/>
              </a:rPr>
              <a:t>我读书，我知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428760" y="1500120"/>
            <a:ext cx="7786440" cy="58140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"/>
                <a:ea typeface="仿宋"/>
              </a:rPr>
              <a:t>本文中的丝瓜究竟神奇在什么地方？试用文中的原句回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2T14:11:20Z</dcterms:created>
  <dc:creator/>
  <dc:description/>
  <dc:language>en-US</dc:language>
  <cp:lastModifiedBy>微软用户</cp:lastModifiedBy>
  <dcterms:modified xsi:type="dcterms:W3CDTF">2016-12-11T11:45:09Z</dcterms:modified>
  <cp:revision>2</cp:revision>
  <dc:subject/>
  <dc:title/>
</cp:coreProperties>
</file>