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421-4499-4847-BB15-403A3DA7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5A6-2B35-4D41-8346-8BC54899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35C-F5B6-4E5E-A31D-A47BB085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EA7-F091-40B7-BCC0-5DCEF807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425-F3C0-477C-9381-4B5517BD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000-B5DE-4D3F-8194-AD014EC0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55A-DF20-47C0-AF6F-A5167D35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9BA-70C1-4975-8B3A-A574DC56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19E-3D09-48BF-AA46-FACCF72A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DFF-857C-4788-9826-63F7D35F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2E4-F90E-41C4-83FF-FA3B11DC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02D-E819-469A-9BD3-11162AA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8AED-4960-4043-9AC6-D09492932AB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7417080"/>
          </a:xfrm>
          <a:prstGeom prst="rect">
            <a:avLst/>
          </a:prstGeom>
          <a:ln w="0">
            <a:noFill/>
          </a:ln>
        </p:spPr>
      </p:pic>
      <p:pic>
        <p:nvPicPr>
          <p:cNvPr id="6" name="图片 8" descr=""/>
          <p:cNvPicPr/>
          <p:nvPr/>
        </p:nvPicPr>
        <p:blipFill>
          <a:blip r:embed="rId3"/>
          <a:stretch/>
        </p:blipFill>
        <p:spPr>
          <a:xfrm>
            <a:off x="-76320" y="5105520"/>
            <a:ext cx="4164120" cy="188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2209680" y="990720"/>
            <a:ext cx="4419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b050"/>
                </a:solidFill>
                <a:latin typeface="宋体"/>
              </a:rPr>
              <a:t>访 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486400" y="3581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b050"/>
                </a:solidFill>
                <a:latin typeface="宋体"/>
              </a:rPr>
              <a:t>贾平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9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讨论读文第二遍，理清词义不怕难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方圆：指周围。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愠怒：恼怒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弥漫：（烟尘、雾气、水等）充满，布满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虚幻：主观幻想的，不真实的。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制止：强迫使停止，不允许继续（行动）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清爽：文中形容野兰的清纯、淡雅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惋惜：对人的不幸遭遇或事物的不如人意的    变化表示同情、可惜。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楚楚：文中形容野兰的娇柔、秀美。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淳朴：朴素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默读课文第三遍，带着问题去钻研（试着给课文划分段落）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第一部分：（    ）写父亲不喜欢别 人来家里赏兰，却意外邀“我”和他一起进山访兰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92080" y="39873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二部分：（    ）：写“我”和父亲    去访兰及访兰过程中的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三部分：（    ）：写“我”再也不敢挖野兰，并为以前毁了野兰而懊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57600" y="18255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398760" y="3567240"/>
            <a:ext cx="10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-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551400" y="46148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Calibri Light"/>
              </a:rPr>
              <a:t>合作探究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Calibri Light"/>
              </a:rPr>
              <a:t>集体展示）（三个臭皮匠，顶个诸葛）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在作者的笔下，兰花有怎样的引人之处？请把有关描写兰花的语句勾画出来，细细品读。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2.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初步感知：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父亲为什么带我去访兰？（重点阅读谈话部分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47640" y="44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通过和父亲去深山访兰，然后就野生的兰草和家养的兰草的区别发生对话，自然引出父亲希望儿子达到的一种做人的境界：保持真性，不媚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1337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Calibri Light"/>
              </a:rPr>
              <a:t>教师点拨：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兰花形态卓越多姿，枝叶典雅，花朵幽香清新，给人们带来了愉悦的美的享受。她是一种精神、一种艺术、一种文化、一种情怀与境界，其品格风范已成为中国人理想人格的象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Calibri Light"/>
              </a:rPr>
              <a:t>教师点拨</a:t>
            </a:r>
            <a:r>
              <a:rPr b="0" lang="zh-CN" sz="2400" spc="-1" strike="noStrike">
                <a:solidFill>
                  <a:srgbClr val="000000"/>
                </a:solidFill>
                <a:latin typeface="Calibri Light"/>
              </a:rPr>
              <a:t>（难点剖析）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4840" y="228564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课文以兰喻人，探寻做人处事之理。作者借父亲之口，赞美了兰花的不俗，直透人生的真谛，切入生活的本质，思之有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正是它的不俗处，它不为被人欣赏而生长，却为着自己的特色而存在着，所以它才长得叶纯，开得花纯，楚楚的有着它自己的灵性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这是全文的中心句，作者借父亲之口，赞美了兰花的不俗，直透人生的真谛，切入生活的本质，让人读来可思，思之有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句子解析"/>
          <p:cNvPicPr/>
          <p:nvPr/>
        </p:nvPicPr>
        <p:blipFill>
          <a:blip r:embed="rId1"/>
          <a:stretch/>
        </p:blipFill>
        <p:spPr>
          <a:xfrm>
            <a:off x="1371600" y="304920"/>
            <a:ext cx="1638360" cy="132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3兰花"/>
          <p:cNvPicPr/>
          <p:nvPr/>
        </p:nvPicPr>
        <p:blipFill>
          <a:blip r:embed="rId1"/>
          <a:stretch/>
        </p:blipFill>
        <p:spPr>
          <a:xfrm>
            <a:off x="2438280" y="1212840"/>
            <a:ext cx="4498920" cy="4200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886200" y="541008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兰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内容占位符 4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5078160" cy="453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内容占位符 4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4797360" cy="449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4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261040" cy="507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有关兰的诗句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00200" y="25905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我爱幽兰异众芳，不将颜色媚春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西风寒露深林下，任是无人也自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千古幽贞是此花，不求闻达只烟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采樵或恐通来路，更取高山一片遮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86200" y="914040"/>
            <a:ext cx="4952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贾平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原名贾平娃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出生，陕西丹凤人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毕业于西北大学中文系。全国政协委员，陕西省作家协会副主席，西安市人大代表，西安市作家协会主席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开始发表作品。著有小说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贾平凹获奖中篇小说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长篇小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白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自传体长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是农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贾平凹"/>
          <p:cNvPicPr/>
          <p:nvPr/>
        </p:nvPicPr>
        <p:blipFill>
          <a:blip r:embed="rId1"/>
          <a:stretch/>
        </p:blipFill>
        <p:spPr>
          <a:xfrm>
            <a:off x="743040" y="914400"/>
            <a:ext cx="3105000" cy="419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Calibri Light"/>
              </a:rPr>
              <a:t>自学目标</a:t>
            </a: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学习想高效、目标不可少）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我能学会文中的生字，理解课内的词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我能正确、流利地朗读课文，理清文章的脉络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Calibri Light"/>
              </a:rPr>
              <a:t>自学内容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</a:rPr>
              <a:t>：（学习要高效，自主学习很重要）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7301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声朗读第一遍，找出生词、积累新词是关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趟（　）圃（　）愠（　） 惋（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僻（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兰草  园圃  方圆  愠怒  弥漫  虚幻  盈尺  浓烈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清妙  培育  仙品 制止  清爽  幽物  趣姿  盆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惋惜  楚楚  灵性  淳朴  空谷僻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967040" y="2319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à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503520" y="2239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902120" y="2239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ù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348240" y="2349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548480" y="224172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2-11T12:03:0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