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03F-A2A6-4FDA-A3DF-F6D25E96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D74-27AB-4C9D-9F33-41B7CF63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2C9-E52A-49EF-8B6C-E549C230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A98-B77B-4E73-AB69-E78D5CE1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E4A-EFCC-4F86-AE0D-223EA929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84C-7454-4D95-BABA-7DFB5804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ADB-52EF-4836-A0CE-B7DD1BBD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C01-0C58-4E00-9F88-4C62B180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B34-B93D-4F31-9BCC-2F0D523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2B4-D866-4712-BF01-15E4134B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721-8CD8-445A-AEBF-BBF8B5B8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BD0-22E0-4AFC-BF35-88DC6EE1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1620-C2BF-4DBD-9FC4-0682A9B766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青岛版四年级数学上册混合运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1440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=21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18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0-2100-1800=61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0-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+6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10000-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00+18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10000-3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61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152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小强比小丽少走多少米 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4000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老爷爷还要走多远才能走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000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米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428840" y="9288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能提出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64008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小强比小丽少走多少米 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Calibri"/>
              </a:rPr>
              <a:t>怎样计算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alibri"/>
              </a:rPr>
              <a:t>要计算这个问题需要先计算他们各自走了多少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×47=235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52×47=2444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Calibri"/>
              </a:rPr>
              <a:t>小丽的减去小强的就是小丽多走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2444—2350=94</a:t>
            </a:r>
            <a:r>
              <a:rPr b="1" lang="zh-CN" sz="3200" spc="-1" strike="noStrike">
                <a:solidFill>
                  <a:srgbClr val="000099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ff00ff"/>
                </a:solidFill>
                <a:latin typeface="Calibri"/>
              </a:rPr>
              <a:t>还有什么办法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42840"/>
            <a:ext cx="9144000" cy="6815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2570040" y="779400"/>
            <a:ext cx="3814920" cy="1843200"/>
          </a:xfrm>
          <a:prstGeom prst="wedgeEllipseCallout">
            <a:avLst>
              <a:gd name="adj1" fmla="val -67643"/>
              <a:gd name="adj2" fmla="val 23300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先计算他们各自走了多少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98680" y="3182760"/>
            <a:ext cx="14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749760" y="3184560"/>
            <a:ext cx="25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2350</a:t>
            </a:r>
            <a:r>
              <a:rPr b="0" lang="zh-CN" sz="1800" spc="-1" strike="noStrike">
                <a:solidFill>
                  <a:srgbClr val="9900ff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95360" y="3997440"/>
            <a:ext cx="7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52</a:t>
            </a:r>
            <a:r>
              <a:rPr b="0" lang="en-US" sz="1800" spc="-1" strike="noStrike">
                <a:solidFill>
                  <a:srgbClr val="9900ff"/>
                </a:solidFill>
                <a:latin typeface="Arial Unicode MS"/>
                <a:ea typeface="Arial Unicode MS"/>
              </a:rPr>
              <a:t>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255840" y="401148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747960" y="3995640"/>
            <a:ext cx="24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2444</a:t>
            </a:r>
            <a:r>
              <a:rPr b="0" lang="zh-CN" sz="1800" spc="-1" strike="noStrike">
                <a:solidFill>
                  <a:srgbClr val="9900ff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085"/>
          <p:cNvPicPr/>
          <p:nvPr/>
        </p:nvPicPr>
        <p:blipFill>
          <a:blip r:embed="rId2"/>
          <a:stretch/>
        </p:blipFill>
        <p:spPr>
          <a:xfrm>
            <a:off x="214200" y="1357200"/>
            <a:ext cx="1695600" cy="1792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2071800" y="450072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44-2350=9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3"/>
          <p:cNvSpPr/>
          <p:nvPr/>
        </p:nvSpPr>
        <p:spPr>
          <a:xfrm>
            <a:off x="2917800" y="768240"/>
            <a:ext cx="4468680" cy="1509840"/>
          </a:xfrm>
          <a:prstGeom prst="wedgeEllipseCallout">
            <a:avLst>
              <a:gd name="adj1" fmla="val -65703"/>
              <a:gd name="adj2" fmla="val 26023"/>
            </a:avLst>
          </a:prstGeom>
          <a:solidFill>
            <a:srgbClr val="ffffcc"/>
          </a:solidFill>
          <a:ln w="9360">
            <a:solidFill>
              <a:srgbClr val="3333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来列成综合算式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684440" y="256860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✕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035160" y="2570040"/>
            <a:ext cx="252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2350</a:t>
            </a:r>
            <a:r>
              <a:rPr b="0" lang="zh-CN" sz="1800" spc="-1" strike="noStrike">
                <a:solidFill>
                  <a:srgbClr val="9900ff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785960" y="3000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ff"/>
                </a:solidFill>
                <a:uFillTx/>
                <a:latin typeface="Arial"/>
              </a:rPr>
              <a:t>52</a:t>
            </a:r>
            <a:r>
              <a:rPr b="0" lang="en-US" sz="1800" spc="-1" strike="noStrike" u="sng">
                <a:solidFill>
                  <a:srgbClr val="9900ff"/>
                </a:solidFill>
                <a:uFillTx/>
                <a:latin typeface="Arial Unicode MS"/>
                <a:ea typeface="Arial Unicode MS"/>
              </a:rPr>
              <a:t>✕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643120" y="3000240"/>
            <a:ext cx="2436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2444</a:t>
            </a:r>
            <a:r>
              <a:rPr b="0" lang="zh-CN" sz="1800" spc="-1" strike="noStrike">
                <a:solidFill>
                  <a:srgbClr val="9900ff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012"/>
          <p:cNvPicPr/>
          <p:nvPr/>
        </p:nvPicPr>
        <p:blipFill>
          <a:blip r:embed="rId1"/>
          <a:stretch/>
        </p:blipFill>
        <p:spPr>
          <a:xfrm>
            <a:off x="7472520" y="5370480"/>
            <a:ext cx="933120" cy="7905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1"/>
          <p:cNvSpPr/>
          <p:nvPr/>
        </p:nvSpPr>
        <p:spPr>
          <a:xfrm>
            <a:off x="4876920" y="3351240"/>
            <a:ext cx="3890880" cy="1698480"/>
          </a:xfrm>
          <a:prstGeom prst="wedgeEllipseCallout">
            <a:avLst>
              <a:gd name="adj1" fmla="val 21115"/>
              <a:gd name="adj2" fmla="val 75796"/>
            </a:avLst>
          </a:prstGeom>
          <a:solidFill>
            <a:srgbClr val="ffcc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综合算式，对不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d3"/>
          <p:cNvPicPr/>
          <p:nvPr/>
        </p:nvPicPr>
        <p:blipFill>
          <a:blip r:embed="rId2"/>
          <a:stretch/>
        </p:blipFill>
        <p:spPr>
          <a:xfrm>
            <a:off x="214200" y="571680"/>
            <a:ext cx="1648080" cy="2125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1571760" y="3500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354920" y="3244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2214720" y="3500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 rot="16200000">
            <a:off x="3231000" y="2769480"/>
            <a:ext cx="45468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50=9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857160" y="500076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小强比小丽少走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米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02683E-006 L -0.09254 0.20375 E">
                                      <p:cBhvr>
                                        <p:cTn id="4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69103E-006 L 0.08055 0.26665 E">
                                      <p:cBhvr>
                                        <p:cTn id="5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40518E-007 L -0.02813 0.1309 E">
                                      <p:cBhvr>
                                        <p:cTn id="5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2-50=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7=9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9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老爷爷还要走多远才能走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米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7:27:58Z</dcterms:created>
  <dc:creator/>
  <dc:description/>
  <cp:keywords/>
  <dc:language>en-US</dc:language>
  <cp:lastModifiedBy>Administrator</cp:lastModifiedBy>
  <dcterms:modified xsi:type="dcterms:W3CDTF">2015-02-18T11:27:22Z</dcterms:modified>
  <cp:revision>12</cp:revision>
  <dc:subject/>
  <dc:title>       青岛版四年级数学上册混合运算</dc:title>
</cp:coreProperties>
</file>