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himes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A16-EE00-4188-BDD1-91D2BC3D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A3DB-328E-4D07-A260-4ED08984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99C1-87A5-4B03-9D08-CC1170F2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F7C3-48C5-4A7F-A737-9FB97248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1678-6F99-448A-85F7-8D2DBF86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14F4-B161-409C-8384-B50102CE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A33-4ACB-4E0B-8782-9313DB8E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FDE-D3CD-463D-96AA-60CB9AFE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405-1174-45AD-AD93-D7497A82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F17-0C88-45EB-90A3-B9AF1C05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6E05-6AE4-4557-A083-C4DAA626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91CC-5EFC-4DB3-ADB3-0F49E49B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F0B2-C252-41B4-8A95-4376ABE8AF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539640" y="1989000"/>
            <a:ext cx="6837480" cy="17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三位数乘两位数的估算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643280" y="5000760"/>
            <a:ext cx="3714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10b65"/>
                </a:solidFill>
                <a:latin typeface="Calibri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a46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a4606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乘法估算时，什么时候估大些，什么时候估小些，应该根据实际情况而定，不能机械地用“四舍五入”法取近似数。同时，要注意计算的简便，尽量取整十整百的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你们可要记住了哦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182680" y="285840"/>
            <a:ext cx="477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总结：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这节课你学会了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42960" y="2071800"/>
            <a:ext cx="76960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中许多问题要估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根据具体情况选择恰当的估算方法，使结果尽可能符合准确值又计算简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估算基本方法的内涵：符合实际，计算简便，接近准确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79280" y="47628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</a:rPr>
              <a:t>用你以前所学的知识，试着完成下面各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378320" y="328464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003300"/>
                </a:solidFill>
                <a:latin typeface="黑体"/>
                <a:ea typeface="黑体"/>
              </a:rPr>
              <a:t>61×82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03040" y="4476600"/>
            <a:ext cx="30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003300"/>
                </a:solidFill>
                <a:latin typeface="黑体"/>
                <a:ea typeface="黑体"/>
              </a:rPr>
              <a:t>38×19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30320" y="328464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003300"/>
                </a:solidFill>
                <a:latin typeface="黑体"/>
                <a:ea typeface="黑体"/>
              </a:rPr>
              <a:t>58×39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68360" y="2276640"/>
            <a:ext cx="26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黑体"/>
                <a:ea typeface="黑体"/>
              </a:rPr>
              <a:t>89×31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4657680" y="2201760"/>
            <a:ext cx="267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黑体"/>
                <a:ea typeface="黑体"/>
              </a:rPr>
              <a:t>91×89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716360" y="4508640"/>
            <a:ext cx="264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黑体"/>
                <a:ea typeface="黑体"/>
              </a:rPr>
              <a:t>69×52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7259760" y="4451400"/>
            <a:ext cx="163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3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094200" y="2276640"/>
            <a:ext cx="149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27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3073320" y="3284640"/>
            <a:ext cx="164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2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068640" y="4437000"/>
            <a:ext cx="144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7226280" y="3213000"/>
            <a:ext cx="168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48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7226280" y="2205000"/>
            <a:ext cx="168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8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334"/>
          <p:cNvPicPr/>
          <p:nvPr/>
        </p:nvPicPr>
        <p:blipFill>
          <a:blip r:embed="rId1"/>
          <a:srcRect l="634" t="1501" r="2056" b="1234"/>
          <a:stretch/>
        </p:blipFill>
        <p:spPr>
          <a:xfrm>
            <a:off x="179280" y="189000"/>
            <a:ext cx="8777520" cy="547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20056313181850"/>
          <p:cNvPicPr/>
          <p:nvPr/>
        </p:nvPicPr>
        <p:blipFill>
          <a:blip r:embed="rId2"/>
          <a:stretch/>
        </p:blipFill>
        <p:spPr>
          <a:xfrm>
            <a:off x="179280" y="189000"/>
            <a:ext cx="4824360" cy="291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20063161701731420"/>
          <p:cNvPicPr/>
          <p:nvPr/>
        </p:nvPicPr>
        <p:blipFill>
          <a:blip r:embed="rId3"/>
          <a:stretch/>
        </p:blipFill>
        <p:spPr>
          <a:xfrm>
            <a:off x="0" y="2781360"/>
            <a:ext cx="5003640" cy="287964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5219640" y="2349360"/>
            <a:ext cx="3816360" cy="892080"/>
            <a:chOff x="5219640" y="2349360"/>
            <a:chExt cx="3816360" cy="892080"/>
          </a:xfrm>
        </p:grpSpPr>
        <p:sp>
          <p:nvSpPr>
            <p:cNvPr id="60" name="AutoShape 6"/>
            <p:cNvSpPr/>
            <p:nvPr/>
          </p:nvSpPr>
          <p:spPr>
            <a:xfrm>
              <a:off x="5219640" y="2349360"/>
              <a:ext cx="3764160" cy="865800"/>
            </a:xfrm>
            <a:prstGeom prst="cloudCallout">
              <a:avLst>
                <a:gd name="adj1" fmla="val 32027"/>
                <a:gd name="adj2" fmla="val 134476"/>
              </a:avLst>
            </a:prstGeom>
            <a:solidFill>
              <a:srgbClr val="ff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7"/>
            <p:cNvSpPr/>
            <p:nvPr/>
          </p:nvSpPr>
          <p:spPr>
            <a:xfrm>
              <a:off x="5689800" y="2415960"/>
              <a:ext cx="33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光明小学有</a:t>
              </a:r>
              <a:r>
                <a:rPr b="0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2</a:t>
              </a:r>
              <a:r>
                <a:rPr b="0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个班，平均每班发</a:t>
              </a:r>
              <a:r>
                <a:rPr b="0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340</a:t>
              </a:r>
              <a:r>
                <a:rPr b="0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包树种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8" descr="158228_356741"/>
          <p:cNvPicPr/>
          <p:nvPr/>
        </p:nvPicPr>
        <p:blipFill>
          <a:blip r:embed="rId4"/>
          <a:srcRect l="794" t="0" r="0" b="1876"/>
          <a:stretch/>
        </p:blipFill>
        <p:spPr>
          <a:xfrm>
            <a:off x="7451640" y="3645000"/>
            <a:ext cx="1366920" cy="201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图片15"/>
          <p:cNvPicPr/>
          <p:nvPr/>
        </p:nvPicPr>
        <p:blipFill>
          <a:blip r:embed="rId5"/>
          <a:stretch/>
        </p:blipFill>
        <p:spPr>
          <a:xfrm>
            <a:off x="5364000" y="3284640"/>
            <a:ext cx="129564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10"/>
          <p:cNvGrpSpPr/>
          <p:nvPr/>
        </p:nvGrpSpPr>
        <p:grpSpPr>
          <a:xfrm>
            <a:off x="4643280" y="0"/>
            <a:ext cx="4178160" cy="1555560"/>
            <a:chOff x="4643280" y="0"/>
            <a:chExt cx="4178160" cy="1555560"/>
          </a:xfrm>
        </p:grpSpPr>
        <p:sp>
          <p:nvSpPr>
            <p:cNvPr id="65" name="AutoShape 11"/>
            <p:cNvSpPr/>
            <p:nvPr/>
          </p:nvSpPr>
          <p:spPr>
            <a:xfrm>
              <a:off x="4643280" y="0"/>
              <a:ext cx="4063320" cy="1555560"/>
            </a:xfrm>
            <a:prstGeom prst="cloudCallout">
              <a:avLst>
                <a:gd name="adj1" fmla="val -34379"/>
                <a:gd name="adj2" fmla="val 213731"/>
              </a:avLst>
            </a:prstGeom>
            <a:solidFill>
              <a:srgbClr val="ffff00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2"/>
            <p:cNvSpPr/>
            <p:nvPr/>
          </p:nvSpPr>
          <p:spPr>
            <a:xfrm>
              <a:off x="4701960" y="210240"/>
              <a:ext cx="411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80008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800080"/>
                  </a:solidFill>
                  <a:latin typeface="黑体"/>
                  <a:ea typeface="黑体"/>
                </a:rPr>
                <a:t>育才小学有</a:t>
              </a:r>
              <a:r>
                <a:rPr b="0" lang="zh-CN" sz="2400" spc="-1" strike="noStrike">
                  <a:solidFill>
                    <a:srgbClr val="800080"/>
                  </a:solidFill>
                  <a:latin typeface="黑体"/>
                  <a:ea typeface="黑体"/>
                </a:rPr>
                <a:t>18</a:t>
              </a:r>
              <a:r>
                <a:rPr b="0" lang="zh-CN" sz="2400" spc="-1" strike="noStrike">
                  <a:solidFill>
                    <a:srgbClr val="800080"/>
                  </a:solidFill>
                  <a:latin typeface="黑体"/>
                  <a:ea typeface="黑体"/>
                </a:rPr>
                <a:t>个班，平均每班发</a:t>
              </a:r>
              <a:r>
                <a:rPr b="0" lang="zh-CN" sz="2400" spc="-1" strike="noStrike">
                  <a:solidFill>
                    <a:srgbClr val="800080"/>
                  </a:solidFill>
                  <a:latin typeface="黑体"/>
                  <a:ea typeface="黑体"/>
                </a:rPr>
                <a:t>223</a:t>
              </a:r>
              <a:r>
                <a:rPr b="0" lang="zh-CN" sz="2400" spc="-1" strike="noStrike">
                  <a:solidFill>
                    <a:srgbClr val="800080"/>
                  </a:solidFill>
                  <a:latin typeface="黑体"/>
                  <a:ea typeface="黑体"/>
                </a:rPr>
                <a:t>包树种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14"/>
          <p:cNvSpPr/>
          <p:nvPr/>
        </p:nvSpPr>
        <p:spPr>
          <a:xfrm>
            <a:off x="1187280" y="5734080"/>
            <a:ext cx="56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你能提出什么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7216920" y="617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q2"/>
          <p:cNvPicPr/>
          <p:nvPr/>
        </p:nvPicPr>
        <p:blipFill>
          <a:blip r:embed="rId6"/>
          <a:stretch/>
        </p:blipFill>
        <p:spPr>
          <a:xfrm rot="1523400">
            <a:off x="6948000" y="5497560"/>
            <a:ext cx="1236960" cy="13604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826920" y="1645920"/>
            <a:ext cx="705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估算的方法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一、把两个因数都看做接近的  整十、整百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二、把一个因数看做接近的  整十、整百数，另一个因数不变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84360" y="836640"/>
            <a:ext cx="741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练习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502×79≈       98×22 ≈       31×196 ≈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98×71 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429080" y="2637000"/>
            <a:ext cx="223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429080" y="4437000"/>
            <a:ext cx="287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70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572000" y="1701720"/>
            <a:ext cx="300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400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284720" y="2565360"/>
            <a:ext cx="223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645080" y="3502080"/>
            <a:ext cx="192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60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334"/>
          <p:cNvPicPr/>
          <p:nvPr/>
        </p:nvPicPr>
        <p:blipFill>
          <a:blip r:embed="rId1"/>
          <a:srcRect l="634" t="1501" r="2056" b="1234"/>
          <a:stretch/>
        </p:blipFill>
        <p:spPr>
          <a:xfrm>
            <a:off x="179280" y="189000"/>
            <a:ext cx="8777520" cy="547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20056313181850"/>
          <p:cNvPicPr/>
          <p:nvPr/>
        </p:nvPicPr>
        <p:blipFill>
          <a:blip r:embed="rId2"/>
          <a:stretch/>
        </p:blipFill>
        <p:spPr>
          <a:xfrm>
            <a:off x="179280" y="189000"/>
            <a:ext cx="4824360" cy="291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20063161701731420"/>
          <p:cNvPicPr/>
          <p:nvPr/>
        </p:nvPicPr>
        <p:blipFill>
          <a:blip r:embed="rId3"/>
          <a:stretch/>
        </p:blipFill>
        <p:spPr>
          <a:xfrm>
            <a:off x="0" y="2781360"/>
            <a:ext cx="5003640" cy="287964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5"/>
          <p:cNvGrpSpPr/>
          <p:nvPr/>
        </p:nvGrpSpPr>
        <p:grpSpPr>
          <a:xfrm>
            <a:off x="5219640" y="2349360"/>
            <a:ext cx="3816360" cy="892080"/>
            <a:chOff x="5219640" y="2349360"/>
            <a:chExt cx="3816360" cy="892080"/>
          </a:xfrm>
        </p:grpSpPr>
        <p:sp>
          <p:nvSpPr>
            <p:cNvPr id="81" name="AutoShape 6"/>
            <p:cNvSpPr/>
            <p:nvPr/>
          </p:nvSpPr>
          <p:spPr>
            <a:xfrm>
              <a:off x="5219640" y="2349360"/>
              <a:ext cx="3764160" cy="865800"/>
            </a:xfrm>
            <a:prstGeom prst="cloudCallout">
              <a:avLst>
                <a:gd name="adj1" fmla="val 32027"/>
                <a:gd name="adj2" fmla="val 134476"/>
              </a:avLst>
            </a:prstGeom>
            <a:solidFill>
              <a:srgbClr val="ffccff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7"/>
            <p:cNvSpPr/>
            <p:nvPr/>
          </p:nvSpPr>
          <p:spPr>
            <a:xfrm>
              <a:off x="5689800" y="2415960"/>
              <a:ext cx="33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光明小学有</a:t>
              </a:r>
              <a:r>
                <a:rPr b="0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2</a:t>
              </a:r>
              <a:r>
                <a:rPr b="0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个班，平均每班发</a:t>
              </a:r>
              <a:r>
                <a:rPr b="0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340</a:t>
              </a:r>
              <a:r>
                <a:rPr b="0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包树种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Picture 8" descr="158228_356741"/>
          <p:cNvPicPr/>
          <p:nvPr/>
        </p:nvPicPr>
        <p:blipFill>
          <a:blip r:embed="rId4"/>
          <a:srcRect l="794" t="0" r="0" b="1876"/>
          <a:stretch/>
        </p:blipFill>
        <p:spPr>
          <a:xfrm>
            <a:off x="7451640" y="3645000"/>
            <a:ext cx="1366920" cy="201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图片15"/>
          <p:cNvPicPr/>
          <p:nvPr/>
        </p:nvPicPr>
        <p:blipFill>
          <a:blip r:embed="rId5"/>
          <a:stretch/>
        </p:blipFill>
        <p:spPr>
          <a:xfrm>
            <a:off x="5364000" y="3284640"/>
            <a:ext cx="1295640" cy="230508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10"/>
          <p:cNvGrpSpPr/>
          <p:nvPr/>
        </p:nvGrpSpPr>
        <p:grpSpPr>
          <a:xfrm>
            <a:off x="4643280" y="0"/>
            <a:ext cx="4178160" cy="1555560"/>
            <a:chOff x="4643280" y="0"/>
            <a:chExt cx="4178160" cy="1555560"/>
          </a:xfrm>
        </p:grpSpPr>
        <p:sp>
          <p:nvSpPr>
            <p:cNvPr id="86" name="AutoShape 11"/>
            <p:cNvSpPr/>
            <p:nvPr/>
          </p:nvSpPr>
          <p:spPr>
            <a:xfrm>
              <a:off x="4643280" y="0"/>
              <a:ext cx="4063320" cy="1555560"/>
            </a:xfrm>
            <a:prstGeom prst="cloudCallout">
              <a:avLst>
                <a:gd name="adj1" fmla="val -34379"/>
                <a:gd name="adj2" fmla="val 213731"/>
              </a:avLst>
            </a:prstGeom>
            <a:solidFill>
              <a:srgbClr val="ffff00"/>
            </a:soli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2"/>
            <p:cNvSpPr/>
            <p:nvPr/>
          </p:nvSpPr>
          <p:spPr>
            <a:xfrm>
              <a:off x="4701960" y="210240"/>
              <a:ext cx="411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80008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800080"/>
                  </a:solidFill>
                  <a:latin typeface="黑体"/>
                  <a:ea typeface="黑体"/>
                </a:rPr>
                <a:t>育才小学有</a:t>
              </a:r>
              <a:r>
                <a:rPr b="0" lang="zh-CN" sz="2400" spc="-1" strike="noStrike">
                  <a:solidFill>
                    <a:srgbClr val="800080"/>
                  </a:solidFill>
                  <a:latin typeface="黑体"/>
                  <a:ea typeface="黑体"/>
                </a:rPr>
                <a:t>18</a:t>
              </a:r>
              <a:r>
                <a:rPr b="0" lang="zh-CN" sz="2400" spc="-1" strike="noStrike">
                  <a:solidFill>
                    <a:srgbClr val="800080"/>
                  </a:solidFill>
                  <a:latin typeface="黑体"/>
                  <a:ea typeface="黑体"/>
                </a:rPr>
                <a:t>个班，平均每班发</a:t>
              </a:r>
              <a:r>
                <a:rPr b="0" lang="zh-CN" sz="2400" spc="-1" strike="noStrike">
                  <a:solidFill>
                    <a:srgbClr val="800080"/>
                  </a:solidFill>
                  <a:latin typeface="黑体"/>
                  <a:ea typeface="黑体"/>
                </a:rPr>
                <a:t>223</a:t>
              </a:r>
              <a:r>
                <a:rPr b="0" lang="zh-CN" sz="2400" spc="-1" strike="noStrike">
                  <a:solidFill>
                    <a:srgbClr val="800080"/>
                  </a:solidFill>
                  <a:latin typeface="黑体"/>
                  <a:ea typeface="黑体"/>
                </a:rPr>
                <a:t>包树种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13"/>
          <p:cNvSpPr/>
          <p:nvPr/>
        </p:nvSpPr>
        <p:spPr>
          <a:xfrm>
            <a:off x="1187280" y="5734080"/>
            <a:ext cx="56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你能提出什么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7216920" y="617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q2"/>
          <p:cNvPicPr/>
          <p:nvPr/>
        </p:nvPicPr>
        <p:blipFill>
          <a:blip r:embed="rId6"/>
          <a:stretch/>
        </p:blipFill>
        <p:spPr>
          <a:xfrm rot="1523400">
            <a:off x="6948000" y="5497560"/>
            <a:ext cx="1236960" cy="13604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奥运吉祥物批发价格表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95280" y="4292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19120" y="437040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95280" y="411948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经理想批发高档福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套，他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钱够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16000" y="1773360"/>
          <a:ext cx="6072120" cy="1455480"/>
        </p:xfrm>
        <a:graphic>
          <a:graphicData uri="http://schemas.openxmlformats.org/drawingml/2006/table">
            <a:tbl>
              <a:tblPr/>
              <a:tblGrid>
                <a:gridCol w="1517760"/>
                <a:gridCol w="1519200"/>
                <a:gridCol w="1517760"/>
                <a:gridCol w="1517400"/>
              </a:tblGrid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商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低 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批发价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8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奥运吉祥物批发价格表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95280" y="4292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19120" y="437040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95280" y="386064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批发中档福娃李经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套，他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4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元钱够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16000" y="1773360"/>
          <a:ext cx="6072120" cy="1446120"/>
        </p:xfrm>
        <a:graphic>
          <a:graphicData uri="http://schemas.openxmlformats.org/drawingml/2006/table">
            <a:tbl>
              <a:tblPr/>
              <a:tblGrid>
                <a:gridCol w="1517760"/>
                <a:gridCol w="1519200"/>
                <a:gridCol w="1517760"/>
                <a:gridCol w="1517400"/>
              </a:tblGrid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商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低 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批发价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8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 rot="228000">
            <a:off x="457200" y="228600"/>
            <a:ext cx="2381400" cy="19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32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巩固练习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32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17640" y="0"/>
            <a:ext cx="3429000" cy="2286000"/>
          </a:xfrm>
          <a:prstGeom prst="ellipse">
            <a:avLst/>
          </a:prstGeom>
          <a:noFill/>
          <a:ln w="5724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410840" y="2460600"/>
            <a:ext cx="634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动物园每张门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元，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9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小朋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参观。大约需要多少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890720" y="3860640"/>
            <a:ext cx="19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5×496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108240" y="428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1752480" y="4419720"/>
            <a:ext cx="45720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2743200" y="4419720"/>
            <a:ext cx="6094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677600" y="44197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668320" y="441972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4314240" y="3860640"/>
            <a:ext cx="262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50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3059280" y="522936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答：大约需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5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1:36:12Z</dcterms:created>
  <dc:creator/>
  <dc:description/>
  <cp:keywords/>
  <dc:language>en-US</dc:language>
  <cp:lastModifiedBy>Administrator</cp:lastModifiedBy>
  <cp:lastPrinted>1899-12-30T00:00:00Z</cp:lastPrinted>
  <dcterms:modified xsi:type="dcterms:W3CDTF">2015-02-18T11:35:11Z</dcterms:modified>
  <cp:revision>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63</vt:lpwstr>
  </property>
</Properties>
</file>