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5.png" ContentType="image/png"/>
  <Override PartName="/ppt/media/image10.jpeg" ContentType="image/jpeg"/>
  <Override PartName="/ppt/media/image9.jpeg" ContentType="image/jpeg"/>
  <Override PartName="/ppt/media/image8.png" ContentType="image/png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camera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4.jpeg" ContentType="image/jpeg"/>
  <Override PartName="/ppt/media/laser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04A-DF7F-4177-B59D-D5D91067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9BD-B318-4AE9-810E-2B865335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0BA-41B3-4F76-9658-02BA723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042-9024-4C86-AAE0-D1D52809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E9C3-D2FF-4E7B-AD9F-294230C2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8BFC-19F2-481D-9F98-4B311BA0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B15-7E9B-44E5-9922-F81B3359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F794-A49C-4CF2-8875-CE35EF19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47D-9FF4-4A63-9F05-54B59D6B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8C71-809D-43FA-AC1E-C1EC6154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AC5D-302F-4EBF-9185-DE673BF6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B5E-5A49-47D3-92C7-E4E17B86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BF2B-E661-4E6D-B98C-F8DC2B59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7899-1762-4238-A0D5-3657A2B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4580-E4A1-4D1B-87E4-75B56881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64BB-2302-4C9F-B458-4CF54E51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089A-40BB-41C2-BB0F-B128AD75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CFE-3E35-497D-89A0-FB7D8B54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A93-1486-4184-8B14-A207C678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3C4-A556-43C0-BDB1-B9A8422C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A10-5BB5-427D-9B8C-31CB843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F0F-2D5B-4198-BECB-B4B288A6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D9F-59C1-41CC-8965-CE2DF02D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B7F-4CB4-452F-8CE0-C96A03D3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D8B2-DD9C-497C-BA14-C8A22909BC44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8607-D59F-4EA0-9765-15475ED46282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160" y="44193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左图：青岛奥帆中心飘扬着各参赛国家的旗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右上图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国家的代表队齐聚奥帆赛现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右下图：激光级帆船从起点出发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Img259144874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6840" y="4267080"/>
            <a:ext cx="4876920" cy="185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V34)CHXW{FJ`IMTL0(S[KQF"/>
          <p:cNvPicPr/>
          <p:nvPr/>
        </p:nvPicPr>
        <p:blipFill>
          <a:blip r:embed="rId2"/>
          <a:stretch/>
        </p:blipFill>
        <p:spPr>
          <a:xfrm>
            <a:off x="380880" y="228600"/>
            <a:ext cx="8305920" cy="6172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57200" y="533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走进大自然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3811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170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× </a:t>
            </a: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18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≈</a:t>
            </a: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609480"/>
            <a:ext cx="20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估一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85800" y="27432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2438280" y="2209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981080" y="27432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276720" y="1523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4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6248520" y="2057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7913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086600" y="1523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34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341360" y="380988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宋体"/>
              </a:rPr>
              <a:t>170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宋体"/>
              </a:rPr>
              <a:t> × 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宋体"/>
              </a:rPr>
              <a:t>18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宋体"/>
              </a:rPr>
              <a:t>≈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1676520" y="4419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143000" y="4876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3886200" y="3809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36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4495680" y="1295280"/>
            <a:ext cx="3810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1f497d"/>
                </a:solidFill>
                <a:latin typeface="Arial"/>
                <a:ea typeface="宋体"/>
              </a:rPr>
              <a:t>                   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1f497d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宋体"/>
              </a:rPr>
              <a:t>170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宋体"/>
              </a:rPr>
              <a:t> × 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宋体"/>
              </a:rPr>
              <a:t>18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宋体"/>
              </a:rPr>
              <a:t>≈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宋体"/>
              </a:rPr>
              <a:t>           </a:t>
            </a:r>
            <a:r>
              <a:rPr b="1" lang="en-US" sz="900" spc="-1" strike="noStrike">
                <a:solidFill>
                  <a:srgbClr val="1f497d"/>
                </a:solidFill>
                <a:latin typeface="Arial"/>
                <a:ea typeface="宋体"/>
              </a:rPr>
              <a:t>   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  <a:ea typeface="宋体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4876920" y="4724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306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095880" y="4800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万平方千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116000" y="1599480"/>
            <a:ext cx="705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三位数乘两位数估算的基本方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宋体"/>
              </a:rPr>
              <a:t>、要简便，把因数看成整十或整百的数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宋体"/>
              </a:rPr>
              <a:t>、要结合实际情况，选择最合理的方法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宋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680x1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-360" y="24379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有一件翠绿的衣衫，那就是森林。它像地球的肺，吸收二氧化碳，呼出氧气；它像气候的参谋、土壤的管家，防止沙尘随风漂移搬家；它像水分的调度，让洪水分流，让河水川流不息；它像天然的仓库，提供我们木材、瓜果和菌类；它像动物的天堂，让飞鸟栖息，让走兽安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audio isNarration="0">
              <p:cMediaNode showWhenStopped="1">
                <p:cTn/>
                <p:tgtEl>
                  <p:spTgt spid="151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7552329_13411512791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04920" y="4495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没有了森林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：水土流失！土壤沙化！植物无法生长！那么  人类将没有食物！无法呼吸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7"/>
          <p:cNvSpPr/>
          <p:nvPr/>
        </p:nvSpPr>
        <p:spPr>
          <a:xfrm>
            <a:off x="3838680" y="2590920"/>
            <a:ext cx="733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T6Z(65RO`)]2YQSK(}{MA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228600" y="304920"/>
            <a:ext cx="4114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保护森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保护地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从你做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从我做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从身边的小事做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7086600" y="380880"/>
            <a:ext cx="1371600" cy="1828800"/>
          </a:xfrm>
          <a:prstGeom prst="cloudCallout">
            <a:avLst>
              <a:gd name="adj1" fmla="val -45486"/>
              <a:gd name="adj2" fmla="val 699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拒绝使用一次性筷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1752480" y="4800600"/>
            <a:ext cx="1905120" cy="1219320"/>
          </a:xfrm>
          <a:prstGeom prst="wedgeEllipseCallout">
            <a:avLst>
              <a:gd name="adj1" fmla="val 104583"/>
              <a:gd name="adj2" fmla="val -6315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减少纸张浪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7696080" y="3352680"/>
            <a:ext cx="1371600" cy="1219320"/>
          </a:xfrm>
          <a:prstGeom prst="wedgeRoundRectCallout">
            <a:avLst>
              <a:gd name="adj1" fmla="val -125925"/>
              <a:gd name="adj2" fmla="val 14453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年都参加植树节活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4" descr="Img259144875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609480" y="48607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选手殷剑在帆板比赛中，为中国夺取奥运参赛史上第一枚金牌。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51"/>
          <p:cNvPicPr/>
          <p:nvPr/>
        </p:nvPicPr>
        <p:blipFill>
          <a:blip r:embed="rId1"/>
          <a:srcRect l="8643" t="1708" r="9731" b="601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7005960" y="7596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为奥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种棵树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alibri"/>
              </a:rPr>
              <a:t>育才小学有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cc3300"/>
                </a:solidFill>
                <a:latin typeface="Calibri"/>
              </a:rPr>
              <a:t>个班，平均每班发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223</a:t>
            </a:r>
            <a:r>
              <a:rPr b="1" lang="zh-CN" sz="3200" spc="-1" strike="noStrike">
                <a:solidFill>
                  <a:srgbClr val="cc3300"/>
                </a:solidFill>
                <a:latin typeface="Calibri"/>
              </a:rPr>
              <a:t>包树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14400" y="2514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育才小学大约发了多少包树种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09480" y="160020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位数乘两位数估算时：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把两个因数分别看成整十或整百的数，计算起来比较简便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7162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zh-CN" sz="3300" spc="-1" strike="noStrike">
                <a:solidFill>
                  <a:srgbClr val="1f497d"/>
                </a:solidFill>
                <a:latin typeface="Calibri"/>
              </a:rPr>
              <a:t>98</a:t>
            </a:r>
            <a:r>
              <a:rPr b="1" lang="en-US" sz="3300" spc="-1" strike="noStrike">
                <a:solidFill>
                  <a:srgbClr val="1f497d"/>
                </a:solidFill>
                <a:latin typeface="Calibri"/>
              </a:rPr>
              <a:t> × </a:t>
            </a:r>
            <a:r>
              <a:rPr b="1" lang="zh-CN" sz="3300" spc="-1" strike="noStrike">
                <a:solidFill>
                  <a:srgbClr val="1f497d"/>
                </a:solidFill>
                <a:latin typeface="Calibri"/>
              </a:rPr>
              <a:t>22</a:t>
            </a:r>
            <a:r>
              <a:rPr b="1" lang="en-US" sz="3300" spc="-1" strike="noStrike">
                <a:solidFill>
                  <a:srgbClr val="1f497d"/>
                </a:solidFill>
                <a:latin typeface="Calibri"/>
              </a:rPr>
              <a:t>≈</a:t>
            </a:r>
            <a:r>
              <a:rPr b="1" lang="zh-CN" sz="3300" spc="-1" strike="noStrike">
                <a:solidFill>
                  <a:srgbClr val="1f497d"/>
                </a:solidFill>
                <a:latin typeface="Calibri"/>
              </a:rPr>
              <a:t>           317</a:t>
            </a:r>
            <a:r>
              <a:rPr b="1" lang="en-US" sz="3300" spc="-1" strike="noStrike">
                <a:solidFill>
                  <a:srgbClr val="1f497d"/>
                </a:solidFill>
                <a:latin typeface="Calibri"/>
              </a:rPr>
              <a:t>× </a:t>
            </a:r>
            <a:r>
              <a:rPr b="1" lang="zh-CN" sz="3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1f497d"/>
                </a:solidFill>
                <a:latin typeface="Calibri"/>
              </a:rPr>
              <a:t>1 ≈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f497d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38080" y="609480"/>
            <a:ext cx="20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估一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85800" y="27432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2438280" y="2209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981080" y="27432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276720" y="1523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2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2133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495680" y="2590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6248520" y="2057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7913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7086600" y="1523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6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alibri"/>
              </a:rPr>
              <a:t>光明小学有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12</a:t>
            </a:r>
            <a:r>
              <a:rPr b="1" lang="zh-CN" sz="3200" spc="-1" strike="noStrike">
                <a:solidFill>
                  <a:srgbClr val="cc3300"/>
                </a:solidFill>
                <a:latin typeface="Calibri"/>
              </a:rPr>
              <a:t>个班，平均每班发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340</a:t>
            </a:r>
            <a:r>
              <a:rPr b="1" lang="zh-CN" sz="3200" spc="-1" strike="noStrike">
                <a:solidFill>
                  <a:srgbClr val="cc3300"/>
                </a:solidFill>
                <a:latin typeface="Calibri"/>
              </a:rPr>
              <a:t>包树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14400" y="2514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光明小学大约发了多少包树种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447920"/>
          <a:ext cx="7391520" cy="3859200"/>
        </p:xfrm>
        <a:graphic>
          <a:graphicData uri="http://schemas.openxmlformats.org/drawingml/2006/table">
            <a:tbl>
              <a:tblPr/>
              <a:tblGrid>
                <a:gridCol w="1231920"/>
                <a:gridCol w="1231920"/>
                <a:gridCol w="1231920"/>
                <a:gridCol w="1231920"/>
                <a:gridCol w="1231920"/>
                <a:gridCol w="1231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因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因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不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不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与实际结果相比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42"/>
          <p:cNvSpPr/>
          <p:nvPr/>
        </p:nvSpPr>
        <p:spPr>
          <a:xfrm>
            <a:off x="3429000" y="609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3"/>
          <p:cNvSpPr/>
          <p:nvPr/>
        </p:nvSpPr>
        <p:spPr>
          <a:xfrm>
            <a:off x="4724280" y="41911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3352680" y="41911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6"/>
          <p:cNvSpPr/>
          <p:nvPr/>
        </p:nvSpPr>
        <p:spPr>
          <a:xfrm>
            <a:off x="5791320" y="4267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7"/>
          <p:cNvSpPr/>
          <p:nvPr/>
        </p:nvSpPr>
        <p:spPr>
          <a:xfrm>
            <a:off x="6934320" y="3962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998640" y="533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Arial"/>
              </a:rPr>
              <a:t>大胆猜测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9"/>
          <p:cNvSpPr/>
          <p:nvPr/>
        </p:nvSpPr>
        <p:spPr>
          <a:xfrm>
            <a:off x="2362320" y="5257800"/>
            <a:ext cx="403848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位数乘两位数的估算有啥规律呢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4495680" y="4038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2057400" y="4191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0" descr="20071221123847682_2"/>
          <p:cNvPicPr/>
          <p:nvPr/>
        </p:nvPicPr>
        <p:blipFill>
          <a:blip r:embed="rId1"/>
          <a:stretch/>
        </p:blipFill>
        <p:spPr>
          <a:xfrm>
            <a:off x="5257800" y="380880"/>
            <a:ext cx="327672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38080" y="2895480"/>
          <a:ext cx="7696440" cy="223992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1295280"/>
                <a:gridCol w="1295640"/>
                <a:gridCol w="29718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购买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商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价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元）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套）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估算结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元）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王经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高档福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9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李经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中档福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76"/>
          <p:cNvSpPr/>
          <p:nvPr/>
        </p:nvSpPr>
        <p:spPr>
          <a:xfrm>
            <a:off x="5638680" y="3809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5791320" y="4495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7"/>
          <p:cNvSpPr/>
          <p:nvPr/>
        </p:nvSpPr>
        <p:spPr>
          <a:xfrm>
            <a:off x="7315200" y="2971800"/>
            <a:ext cx="0" cy="2514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9"/>
          <p:cNvSpPr/>
          <p:nvPr/>
        </p:nvSpPr>
        <p:spPr>
          <a:xfrm>
            <a:off x="708660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少了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0"/>
          <p:cNvSpPr/>
          <p:nvPr/>
        </p:nvSpPr>
        <p:spPr>
          <a:xfrm>
            <a:off x="7238880" y="4648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多了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2"/>
          <p:cNvSpPr/>
          <p:nvPr/>
        </p:nvSpPr>
        <p:spPr>
          <a:xfrm>
            <a:off x="1981080" y="685800"/>
            <a:ext cx="3505320" cy="2057400"/>
          </a:xfrm>
          <a:prstGeom prst="cloudCallout">
            <a:avLst>
              <a:gd name="adj1" fmla="val 57791"/>
              <a:gd name="adj2" fmla="val 3163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判断出需要带的钱与估算出来的钱是多了还是少了吗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457200" y="533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宋体"/>
              </a:rPr>
              <a:t>走进生活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3"/>
          <p:cNvSpPr/>
          <p:nvPr/>
        </p:nvSpPr>
        <p:spPr>
          <a:xfrm>
            <a:off x="7010280" y="3809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16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4"/>
          <p:cNvSpPr/>
          <p:nvPr/>
        </p:nvSpPr>
        <p:spPr>
          <a:xfrm>
            <a:off x="7086600" y="4572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6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8:00:21Z</dcterms:created>
  <dc:creator/>
  <dc:description/>
  <cp:keywords/>
  <dc:language>en-US</dc:language>
  <cp:lastModifiedBy>Administrator</cp:lastModifiedBy>
  <dcterms:modified xsi:type="dcterms:W3CDTF">2015-02-18T11:31:53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  <property fmtid="{D5CDD505-2E9C-101B-9397-08002B2CF9AE}" pid="3" name="Version">
    <vt:r8>1</vt:r8>
  </property>
</Properties>
</file>