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REMINDER.WAV" ContentType="audio/x-wav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coin.wav" ContentType="audio/x-wav"/>
  <Override PartName="/ppt/media/image8.gif" ContentType="image/gif"/>
  <Override PartName="/ppt/media/START.WAV" ContentType="audio/x-wav"/>
  <Override PartName="/ppt/media/image6.png" ContentType="image/png"/>
  <Override PartName="/ppt/media/image7.jpeg" ContentType="image/jpeg"/>
  <Override PartName="/ppt/media/chimes.wav" ContentType="audio/x-wav"/>
  <Override PartName="/ppt/media/image2.png" ContentType="image/png"/>
  <Override PartName="/ppt/media/suction.wav" ContentType="audio/x-wav"/>
  <Override PartName="/ppt/media/Button18.wav" ContentType="audio/x-wav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17E0-617D-4208-B961-C8EA46A8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CE12-6707-4470-BD9B-94BF8FD9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BC61-FD30-4905-9B61-A2383BBE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A30-C107-4A09-A5E4-560CE367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E13-EFC5-4B1A-BAE0-7F30341B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5A33-3D5F-43CA-B9E0-9226AD07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8BB8-B88B-41BA-A065-EA22AC45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7CC-D14D-490F-BA1C-A9F3640D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F37-5987-438E-A1CF-2F165E54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8535-0069-40A4-B50F-99FB0A5C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AB5-BF77-40E8-A732-C6C9A703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7EF-FB3D-4D44-BDBD-13F45EBD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3B03-6CF9-445E-91B3-008A235619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utton18.wav"/><Relationship Id="rId3" Type="http://schemas.openxmlformats.org/officeDocument/2006/relationships/audio" Target="../media/REMINDER.WAV"/><Relationship Id="rId4" Type="http://schemas.openxmlformats.org/officeDocument/2006/relationships/audio" Target="../media/coin.wav"/><Relationship Id="rId5" Type="http://schemas.openxmlformats.org/officeDocument/2006/relationships/audio" Target="../media/suction.wav"/><Relationship Id="rId6" Type="http://schemas.openxmlformats.org/officeDocument/2006/relationships/audio" Target="../media/START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audio" Target="../media/coin.wav"/><Relationship Id="rId5" Type="http://schemas.openxmlformats.org/officeDocument/2006/relationships/audio" Target="../media/suction.wav"/><Relationship Id="rId6" Type="http://schemas.openxmlformats.org/officeDocument/2006/relationships/audio" Target="../media/coin.wav"/><Relationship Id="rId7" Type="http://schemas.openxmlformats.org/officeDocument/2006/relationships/audio" Target="../media/START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971640" y="2060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504d"/>
                </a:solidFill>
                <a:latin typeface="Times New Roman"/>
                <a:ea typeface="黑体"/>
              </a:rPr>
              <a:t>三位数乘两位数的笔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476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青岛版四年级上册第三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120600" y="979560"/>
            <a:ext cx="2833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Times New Roman"/>
              </a:rPr>
              <a:t>3 7  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0504d"/>
                </a:solidFill>
                <a:uFillTx/>
                <a:latin typeface="Times New Roman"/>
              </a:rPr>
              <a:t>×</a:t>
            </a:r>
            <a:r>
              <a:rPr b="1" lang="en-US" sz="4400" spc="-1" strike="noStrike" u="sng">
                <a:solidFill>
                  <a:srgbClr val="c0504d"/>
                </a:solidFill>
                <a:uFillTx/>
                <a:latin typeface="Arial"/>
              </a:rPr>
              <a:t>  </a:t>
            </a:r>
            <a:r>
              <a:rPr b="1" lang="en-US" sz="4400" spc="-1" strike="noStrike" u="sng">
                <a:solidFill>
                  <a:srgbClr val="c0504d"/>
                </a:solidFill>
                <a:uFillTx/>
                <a:latin typeface="Times New Roman"/>
              </a:rPr>
              <a:t>  1  2 </a:t>
            </a:r>
            <a:r>
              <a:rPr b="1" lang="en-US" sz="4400" spc="-1" strike="noStrike" u="sng">
                <a:solidFill>
                  <a:srgbClr val="c0504d"/>
                </a:solidFill>
                <a:uFillTx/>
                <a:latin typeface="Arial"/>
              </a:rPr>
              <a:t>    </a:t>
            </a:r>
            <a:r>
              <a:rPr b="1" lang="en-US" sz="4400" spc="-1" strike="noStrike" u="sng">
                <a:solidFill>
                  <a:srgbClr val="c0504d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Arial"/>
              </a:rPr>
              <a:t>            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397680" y="835200"/>
            <a:ext cx="241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2 4 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×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  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 4 5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    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            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5651640" y="763560"/>
            <a:ext cx="321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3 0 9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 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×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  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 2 6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  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3"/>
          <p:cNvGrpSpPr/>
          <p:nvPr/>
        </p:nvGrpSpPr>
        <p:grpSpPr>
          <a:xfrm>
            <a:off x="4140360" y="-243000"/>
            <a:ext cx="3635280" cy="1295280"/>
            <a:chOff x="4140360" y="-243000"/>
            <a:chExt cx="3635280" cy="1295280"/>
          </a:xfrm>
        </p:grpSpPr>
        <p:sp>
          <p:nvSpPr>
            <p:cNvPr id="159" name="AutoShape 11"/>
            <p:cNvSpPr/>
            <p:nvPr/>
          </p:nvSpPr>
          <p:spPr>
            <a:xfrm>
              <a:off x="4140360" y="-243000"/>
              <a:ext cx="3635280" cy="1295280"/>
            </a:xfrm>
            <a:prstGeom prst="cloudCallout">
              <a:avLst>
                <a:gd name="adj1" fmla="val -46115"/>
                <a:gd name="adj2" fmla="val -104902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2">
              <a:hlinkClick r:id="rId1" action="ppaction://hlinksldjump"/>
            </p:cNvPr>
            <p:cNvSpPr/>
            <p:nvPr/>
          </p:nvSpPr>
          <p:spPr>
            <a:xfrm>
              <a:off x="4928040" y="46080"/>
              <a:ext cx="208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3300"/>
                  </a:solidFill>
                  <a:latin typeface="Times New Roman"/>
                </a:rPr>
                <a:t>说说计算过程</a:t>
              </a:r>
              <a:r>
                <a:rPr b="1" lang="en-US" sz="3600" spc="-1" strike="noStrike">
                  <a:solidFill>
                    <a:srgbClr val="cc3300"/>
                  </a:solidFill>
                  <a:latin typeface="Times New Roman"/>
                </a:rPr>
                <a:t>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4"/>
          <p:cNvSpPr/>
          <p:nvPr/>
        </p:nvSpPr>
        <p:spPr>
          <a:xfrm>
            <a:off x="1925280" y="5013360"/>
            <a:ext cx="532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乘数中间有</a:t>
            </a:r>
            <a:r>
              <a:rPr b="1" lang="en-US" sz="4000" spc="-1" strike="noStrike">
                <a:solidFill>
                  <a:srgbClr val="c0504d"/>
                </a:solidFill>
                <a:latin typeface="Times New Roman"/>
              </a:rPr>
              <a:t>0</a:t>
            </a:r>
            <a:r>
              <a:rPr b="1" lang="zh-CN" sz="4000" spc="-1" strike="noStrike">
                <a:solidFill>
                  <a:srgbClr val="c0504d"/>
                </a:solidFill>
                <a:latin typeface="Times New Roman"/>
              </a:rPr>
              <a:t>时计算中应怎么办啊</a:t>
            </a:r>
            <a:r>
              <a:rPr b="1" lang="en-US" sz="4000" spc="-1" strike="noStrike">
                <a:solidFill>
                  <a:srgbClr val="c0504d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5"/>
          <p:cNvSpPr/>
          <p:nvPr/>
        </p:nvSpPr>
        <p:spPr>
          <a:xfrm>
            <a:off x="179280" y="0"/>
            <a:ext cx="2592360" cy="112536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拓展提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755640" y="2349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7 5 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324000" y="2852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 7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8"/>
          <p:cNvSpPr/>
          <p:nvPr/>
        </p:nvSpPr>
        <p:spPr>
          <a:xfrm>
            <a:off x="0" y="3573360"/>
            <a:ext cx="277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324000" y="3645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 5 0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3851280" y="21337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 2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3851280" y="285264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9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2"/>
          <p:cNvSpPr/>
          <p:nvPr/>
        </p:nvSpPr>
        <p:spPr>
          <a:xfrm>
            <a:off x="3348000" y="3573360"/>
            <a:ext cx="22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3419640" y="37162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 0 8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5076720" y="3716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5"/>
          <p:cNvSpPr/>
          <p:nvPr/>
        </p:nvSpPr>
        <p:spPr>
          <a:xfrm>
            <a:off x="5364000" y="1557360"/>
            <a:ext cx="0" cy="22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6"/>
          <p:cNvSpPr/>
          <p:nvPr/>
        </p:nvSpPr>
        <p:spPr>
          <a:xfrm>
            <a:off x="6443640" y="2276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 8 5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7"/>
          <p:cNvSpPr/>
          <p:nvPr/>
        </p:nvSpPr>
        <p:spPr>
          <a:xfrm>
            <a:off x="6516720" y="306864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 1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8"/>
          <p:cNvSpPr/>
          <p:nvPr/>
        </p:nvSpPr>
        <p:spPr>
          <a:xfrm>
            <a:off x="622764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9"/>
          <p:cNvSpPr/>
          <p:nvPr/>
        </p:nvSpPr>
        <p:spPr>
          <a:xfrm>
            <a:off x="6227640" y="3789360"/>
            <a:ext cx="237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0"/>
          <p:cNvSpPr/>
          <p:nvPr/>
        </p:nvSpPr>
        <p:spPr>
          <a:xfrm>
            <a:off x="6516720" y="386064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8 0 3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0"/>
          <p:cNvSpPr/>
          <p:nvPr/>
        </p:nvSpPr>
        <p:spPr>
          <a:xfrm>
            <a:off x="0" y="0"/>
            <a:ext cx="2016000" cy="1417680"/>
          </a:xfrm>
          <a:prstGeom prst="plus">
            <a:avLst>
              <a:gd name="adj" fmla="val 25000"/>
            </a:avLst>
          </a:prstGeom>
          <a:solidFill>
            <a:srgbClr val="ff66ff">
              <a:alpha val="56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华文彩云"/>
              </a:rPr>
              <a:t>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医 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幼圆"/>
              </a:rPr>
              <a:t> 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华文彩云"/>
              </a:rPr>
              <a:t>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250920" y="1700280"/>
            <a:ext cx="576000" cy="576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0"/>
          <p:cNvSpPr/>
          <p:nvPr/>
        </p:nvSpPr>
        <p:spPr>
          <a:xfrm>
            <a:off x="6372360" y="404640"/>
            <a:ext cx="2087280" cy="72072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华文行楷"/>
              </a:rPr>
              <a:t>判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正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02"/>
          <p:cNvSpPr/>
          <p:nvPr/>
        </p:nvSpPr>
        <p:spPr>
          <a:xfrm>
            <a:off x="4716360" y="1413000"/>
            <a:ext cx="1727280" cy="10270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改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18"/>
          <p:cNvGrpSpPr/>
          <p:nvPr/>
        </p:nvGrpSpPr>
        <p:grpSpPr>
          <a:xfrm>
            <a:off x="5735520" y="1628640"/>
            <a:ext cx="2765520" cy="5148720"/>
            <a:chOff x="5735520" y="1628640"/>
            <a:chExt cx="2765520" cy="5148720"/>
          </a:xfrm>
        </p:grpSpPr>
        <p:sp>
          <p:nvSpPr>
            <p:cNvPr id="183" name="Text Box 103"/>
            <p:cNvSpPr/>
            <p:nvPr/>
          </p:nvSpPr>
          <p:spPr>
            <a:xfrm>
              <a:off x="6515280" y="162864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1 3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04"/>
            <p:cNvSpPr/>
            <p:nvPr/>
          </p:nvSpPr>
          <p:spPr>
            <a:xfrm>
              <a:off x="6500880" y="211284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 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1 6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05"/>
            <p:cNvSpPr/>
            <p:nvPr/>
          </p:nvSpPr>
          <p:spPr>
            <a:xfrm>
              <a:off x="5900760" y="308304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1 3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06"/>
            <p:cNvSpPr/>
            <p:nvPr/>
          </p:nvSpPr>
          <p:spPr>
            <a:xfrm>
              <a:off x="6496200" y="265572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8 0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07"/>
            <p:cNvSpPr/>
            <p:nvPr/>
          </p:nvSpPr>
          <p:spPr>
            <a:xfrm>
              <a:off x="5908680" y="3666960"/>
              <a:ext cx="259236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2 1 4 4               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8"/>
            <p:cNvSpPr/>
            <p:nvPr/>
          </p:nvSpPr>
          <p:spPr>
            <a:xfrm>
              <a:off x="6588000" y="2563920"/>
              <a:ext cx="172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09"/>
            <p:cNvSpPr/>
            <p:nvPr/>
          </p:nvSpPr>
          <p:spPr>
            <a:xfrm>
              <a:off x="6529680" y="206064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10"/>
            <p:cNvSpPr/>
            <p:nvPr/>
          </p:nvSpPr>
          <p:spPr>
            <a:xfrm>
              <a:off x="5735520" y="2962440"/>
              <a:ext cx="6508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11"/>
            <p:cNvSpPr/>
            <p:nvPr/>
          </p:nvSpPr>
          <p:spPr>
            <a:xfrm flipV="1">
              <a:off x="5911920" y="3536640"/>
              <a:ext cx="2522520" cy="20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12"/>
            <p:cNvSpPr/>
            <p:nvPr/>
          </p:nvSpPr>
          <p:spPr>
            <a:xfrm>
              <a:off x="6280200" y="313380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19"/>
          <p:cNvGrpSpPr/>
          <p:nvPr/>
        </p:nvGrpSpPr>
        <p:grpSpPr>
          <a:xfrm>
            <a:off x="1835280" y="2905200"/>
            <a:ext cx="2857320" cy="1015920"/>
            <a:chOff x="1835280" y="2905200"/>
            <a:chExt cx="2857320" cy="1015920"/>
          </a:xfrm>
        </p:grpSpPr>
        <p:sp>
          <p:nvSpPr>
            <p:cNvPr id="194" name="Text Box 113"/>
            <p:cNvSpPr/>
            <p:nvPr/>
          </p:nvSpPr>
          <p:spPr>
            <a:xfrm>
              <a:off x="1835280" y="2924280"/>
              <a:ext cx="2241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…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4"/>
            <p:cNvSpPr/>
            <p:nvPr/>
          </p:nvSpPr>
          <p:spPr>
            <a:xfrm>
              <a:off x="3252960" y="2905200"/>
              <a:ext cx="14396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积的书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位置错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17"/>
          <p:cNvGrpSpPr/>
          <p:nvPr/>
        </p:nvGrpSpPr>
        <p:grpSpPr>
          <a:xfrm>
            <a:off x="250920" y="1700280"/>
            <a:ext cx="3241080" cy="3511800"/>
            <a:chOff x="250920" y="1700280"/>
            <a:chExt cx="3241080" cy="3511800"/>
          </a:xfrm>
        </p:grpSpPr>
        <p:sp>
          <p:nvSpPr>
            <p:cNvPr id="197" name="Text Box 13"/>
            <p:cNvSpPr/>
            <p:nvPr/>
          </p:nvSpPr>
          <p:spPr>
            <a:xfrm>
              <a:off x="445680" y="1700280"/>
              <a:ext cx="2552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1 3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93"/>
            <p:cNvSpPr/>
            <p:nvPr/>
          </p:nvSpPr>
          <p:spPr>
            <a:xfrm>
              <a:off x="425880" y="2188440"/>
              <a:ext cx="2552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 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1 6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94"/>
            <p:cNvSpPr/>
            <p:nvPr/>
          </p:nvSpPr>
          <p:spPr>
            <a:xfrm>
              <a:off x="399960" y="3171600"/>
              <a:ext cx="2552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1 3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95"/>
            <p:cNvSpPr/>
            <p:nvPr/>
          </p:nvSpPr>
          <p:spPr>
            <a:xfrm>
              <a:off x="419760" y="2736000"/>
              <a:ext cx="2552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8 0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96"/>
            <p:cNvSpPr/>
            <p:nvPr/>
          </p:nvSpPr>
          <p:spPr>
            <a:xfrm>
              <a:off x="393480" y="3717720"/>
              <a:ext cx="2552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9 3 8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7"/>
            <p:cNvSpPr/>
            <p:nvPr/>
          </p:nvSpPr>
          <p:spPr>
            <a:xfrm>
              <a:off x="545400" y="2643120"/>
              <a:ext cx="2355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98"/>
            <p:cNvSpPr/>
            <p:nvPr/>
          </p:nvSpPr>
          <p:spPr>
            <a:xfrm>
              <a:off x="542880" y="213552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00"/>
            <p:cNvSpPr/>
            <p:nvPr/>
          </p:nvSpPr>
          <p:spPr>
            <a:xfrm>
              <a:off x="250920" y="3036960"/>
              <a:ext cx="887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01"/>
            <p:cNvSpPr/>
            <p:nvPr/>
          </p:nvSpPr>
          <p:spPr>
            <a:xfrm>
              <a:off x="300240" y="3624840"/>
              <a:ext cx="2797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15"/>
            <p:cNvSpPr/>
            <p:nvPr/>
          </p:nvSpPr>
          <p:spPr>
            <a:xfrm>
              <a:off x="642600" y="4386960"/>
              <a:ext cx="2849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8000"/>
                  </a:solidFill>
                  <a:latin typeface="Arial"/>
                </a:rPr>
                <a:t>〖    〗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116"/>
          <p:cNvSpPr/>
          <p:nvPr/>
        </p:nvSpPr>
        <p:spPr>
          <a:xfrm>
            <a:off x="1383840" y="4232160"/>
            <a:ext cx="734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93c819fb101e93b7bb9f57a46ccc4b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3c"/>
          <p:cNvPicPr/>
          <p:nvPr/>
        </p:nvPicPr>
        <p:blipFill>
          <a:blip r:embed="rId2"/>
          <a:stretch/>
        </p:blipFill>
        <p:spPr>
          <a:xfrm>
            <a:off x="468360" y="5672160"/>
            <a:ext cx="8281800" cy="799920"/>
          </a:xfrm>
          <a:prstGeom prst="rect">
            <a:avLst/>
          </a:prstGeom>
          <a:ln w="0">
            <a:noFill/>
          </a:ln>
        </p:spPr>
      </p:pic>
      <p:sp>
        <p:nvSpPr>
          <p:cNvPr id="210" name="Oval 75"/>
          <p:cNvSpPr/>
          <p:nvPr/>
        </p:nvSpPr>
        <p:spPr>
          <a:xfrm>
            <a:off x="414360" y="1413000"/>
            <a:ext cx="576360" cy="57600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6"/>
          <p:cNvSpPr/>
          <p:nvPr/>
        </p:nvSpPr>
        <p:spPr>
          <a:xfrm>
            <a:off x="3348000" y="23781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没有满十进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01"/>
          <p:cNvGrpSpPr/>
          <p:nvPr/>
        </p:nvGrpSpPr>
        <p:grpSpPr>
          <a:xfrm>
            <a:off x="324000" y="1557360"/>
            <a:ext cx="2834640" cy="3558960"/>
            <a:chOff x="324000" y="1557360"/>
            <a:chExt cx="2834640" cy="3558960"/>
          </a:xfrm>
        </p:grpSpPr>
        <p:sp>
          <p:nvSpPr>
            <p:cNvPr id="213" name="Text Box 3"/>
            <p:cNvSpPr/>
            <p:nvPr/>
          </p:nvSpPr>
          <p:spPr>
            <a:xfrm>
              <a:off x="714240" y="2252520"/>
              <a:ext cx="504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76"/>
            <p:cNvSpPr/>
            <p:nvPr/>
          </p:nvSpPr>
          <p:spPr>
            <a:xfrm>
              <a:off x="1001520" y="1557360"/>
              <a:ext cx="18712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2 4 6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77"/>
            <p:cNvSpPr/>
            <p:nvPr/>
          </p:nvSpPr>
          <p:spPr>
            <a:xfrm>
              <a:off x="987480" y="2041200"/>
              <a:ext cx="18712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 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3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78"/>
            <p:cNvSpPr/>
            <p:nvPr/>
          </p:nvSpPr>
          <p:spPr>
            <a:xfrm>
              <a:off x="426960" y="3011400"/>
              <a:ext cx="18712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6 2 8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79"/>
            <p:cNvSpPr/>
            <p:nvPr/>
          </p:nvSpPr>
          <p:spPr>
            <a:xfrm>
              <a:off x="973080" y="2560320"/>
              <a:ext cx="18712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8 6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0"/>
            <p:cNvSpPr/>
            <p:nvPr/>
          </p:nvSpPr>
          <p:spPr>
            <a:xfrm>
              <a:off x="407880" y="3576240"/>
              <a:ext cx="27316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7 1 4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81"/>
            <p:cNvSpPr/>
            <p:nvPr/>
          </p:nvSpPr>
          <p:spPr>
            <a:xfrm>
              <a:off x="1074600" y="2492280"/>
              <a:ext cx="1726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82"/>
            <p:cNvSpPr/>
            <p:nvPr/>
          </p:nvSpPr>
          <p:spPr>
            <a:xfrm>
              <a:off x="1015920" y="198900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83"/>
            <p:cNvSpPr/>
            <p:nvPr/>
          </p:nvSpPr>
          <p:spPr>
            <a:xfrm>
              <a:off x="324000" y="2863440"/>
              <a:ext cx="650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4"/>
            <p:cNvSpPr/>
            <p:nvPr/>
          </p:nvSpPr>
          <p:spPr>
            <a:xfrm flipV="1">
              <a:off x="547560" y="3465360"/>
              <a:ext cx="230328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87"/>
            <p:cNvSpPr/>
            <p:nvPr/>
          </p:nvSpPr>
          <p:spPr>
            <a:xfrm>
              <a:off x="1069920" y="4182840"/>
              <a:ext cx="2088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8000"/>
                  </a:solidFill>
                  <a:latin typeface="Arial"/>
                </a:rPr>
                <a:t>〖   〗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88"/>
          <p:cNvSpPr/>
          <p:nvPr/>
        </p:nvSpPr>
        <p:spPr>
          <a:xfrm>
            <a:off x="1716480" y="4013280"/>
            <a:ext cx="734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89"/>
          <p:cNvSpPr/>
          <p:nvPr/>
        </p:nvSpPr>
        <p:spPr>
          <a:xfrm>
            <a:off x="4500720" y="1052640"/>
            <a:ext cx="1726920" cy="1027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改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04"/>
          <p:cNvGrpSpPr/>
          <p:nvPr/>
        </p:nvGrpSpPr>
        <p:grpSpPr>
          <a:xfrm>
            <a:off x="1990800" y="2214720"/>
            <a:ext cx="2243160" cy="1241280"/>
            <a:chOff x="1990800" y="2214720"/>
            <a:chExt cx="2243160" cy="1241280"/>
          </a:xfrm>
        </p:grpSpPr>
        <p:sp>
          <p:nvSpPr>
            <p:cNvPr id="227" name="Text Box 85"/>
            <p:cNvSpPr/>
            <p:nvPr/>
          </p:nvSpPr>
          <p:spPr>
            <a:xfrm>
              <a:off x="1992240" y="2693880"/>
              <a:ext cx="2241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00"/>
            <p:cNvSpPr/>
            <p:nvPr/>
          </p:nvSpPr>
          <p:spPr>
            <a:xfrm>
              <a:off x="1990800" y="2214720"/>
              <a:ext cx="2241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…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08"/>
          <p:cNvGrpSpPr/>
          <p:nvPr/>
        </p:nvGrpSpPr>
        <p:grpSpPr>
          <a:xfrm>
            <a:off x="5735520" y="1628640"/>
            <a:ext cx="2765520" cy="5148720"/>
            <a:chOff x="5735520" y="1628640"/>
            <a:chExt cx="2765520" cy="5148720"/>
          </a:xfrm>
        </p:grpSpPr>
        <p:sp>
          <p:nvSpPr>
            <p:cNvPr id="230" name="Text Box 6"/>
            <p:cNvSpPr/>
            <p:nvPr/>
          </p:nvSpPr>
          <p:spPr>
            <a:xfrm>
              <a:off x="7308720" y="2852640"/>
              <a:ext cx="719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90"/>
            <p:cNvSpPr/>
            <p:nvPr/>
          </p:nvSpPr>
          <p:spPr>
            <a:xfrm>
              <a:off x="6515280" y="162864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2 4 6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91"/>
            <p:cNvSpPr/>
            <p:nvPr/>
          </p:nvSpPr>
          <p:spPr>
            <a:xfrm>
              <a:off x="6500880" y="211284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 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3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92"/>
            <p:cNvSpPr/>
            <p:nvPr/>
          </p:nvSpPr>
          <p:spPr>
            <a:xfrm>
              <a:off x="5919840" y="310212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7 3 8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93"/>
            <p:cNvSpPr/>
            <p:nvPr/>
          </p:nvSpPr>
          <p:spPr>
            <a:xfrm>
              <a:off x="6496200" y="2655720"/>
              <a:ext cx="187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9 8 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94"/>
            <p:cNvSpPr/>
            <p:nvPr/>
          </p:nvSpPr>
          <p:spPr>
            <a:xfrm>
              <a:off x="5908680" y="3666960"/>
              <a:ext cx="259236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 </a:t>
              </a:r>
              <a:r>
                <a:rPr b="1" lang="en-US" sz="6600" spc="-1" strike="noStrike" baseline="30000">
                  <a:solidFill>
                    <a:srgbClr val="008000"/>
                  </a:solidFill>
                  <a:latin typeface="幼圆"/>
                  <a:ea typeface="幼圆"/>
                </a:rPr>
                <a:t>8 3 6 4               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95"/>
            <p:cNvSpPr/>
            <p:nvPr/>
          </p:nvSpPr>
          <p:spPr>
            <a:xfrm>
              <a:off x="6588000" y="2563920"/>
              <a:ext cx="172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96"/>
            <p:cNvSpPr/>
            <p:nvPr/>
          </p:nvSpPr>
          <p:spPr>
            <a:xfrm>
              <a:off x="6529680" y="206064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97"/>
            <p:cNvSpPr/>
            <p:nvPr/>
          </p:nvSpPr>
          <p:spPr>
            <a:xfrm>
              <a:off x="5735520" y="2962440"/>
              <a:ext cx="6508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98"/>
            <p:cNvSpPr/>
            <p:nvPr/>
          </p:nvSpPr>
          <p:spPr>
            <a:xfrm flipV="1">
              <a:off x="5911920" y="3536640"/>
              <a:ext cx="2522520" cy="20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05"/>
            <p:cNvSpPr/>
            <p:nvPr/>
          </p:nvSpPr>
          <p:spPr>
            <a:xfrm>
              <a:off x="6248520" y="306864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06"/>
            <p:cNvSpPr/>
            <p:nvPr/>
          </p:nvSpPr>
          <p:spPr>
            <a:xfrm>
              <a:off x="6910560" y="30463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07"/>
            <p:cNvSpPr/>
            <p:nvPr/>
          </p:nvSpPr>
          <p:spPr>
            <a:xfrm>
              <a:off x="6896160" y="2035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in" orient="vert"/>
    <p:sndAc>
      <p:stSnd>
        <p:snd r:embed="rId3" name="chimes.wav"/>
      </p:stSnd>
    </p:sndAc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93c819fb101e93b7bb9f57a46ccc4b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3c"/>
          <p:cNvPicPr/>
          <p:nvPr/>
        </p:nvPicPr>
        <p:blipFill>
          <a:blip r:embed="rId2"/>
          <a:stretch/>
        </p:blipFill>
        <p:spPr>
          <a:xfrm>
            <a:off x="468360" y="5516640"/>
            <a:ext cx="8281800" cy="955440"/>
          </a:xfrm>
          <a:prstGeom prst="rect">
            <a:avLst/>
          </a:prstGeom>
          <a:ln w="0">
            <a:noFill/>
          </a:ln>
        </p:spPr>
      </p:pic>
      <p:sp>
        <p:nvSpPr>
          <p:cNvPr id="245" name="Oval 75"/>
          <p:cNvSpPr/>
          <p:nvPr/>
        </p:nvSpPr>
        <p:spPr>
          <a:xfrm>
            <a:off x="414360" y="1413000"/>
            <a:ext cx="576360" cy="57600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8"/>
          <p:cNvSpPr/>
          <p:nvPr/>
        </p:nvSpPr>
        <p:spPr>
          <a:xfrm>
            <a:off x="2124000" y="414972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黑体"/>
                <a:ea typeface="黑体"/>
              </a:rPr>
              <a:t>√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547640" y="1052640"/>
            <a:ext cx="266400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en-US" sz="4800" spc="-1" strike="noStrike">
                <a:solidFill>
                  <a:srgbClr val="ff0066"/>
                </a:solidFill>
                <a:latin typeface="黑体"/>
                <a:ea typeface="黑体"/>
              </a:rPr>
              <a:t>2 0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×   1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619280" y="2349360"/>
            <a:ext cx="27367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en-US" sz="4800" spc="-1" strike="noStrike">
                <a:solidFill>
                  <a:srgbClr val="66ff33"/>
                </a:solidFill>
                <a:latin typeface="黑体"/>
                <a:ea typeface="黑体"/>
              </a:rPr>
              <a:t>8 2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66ff33"/>
                </a:solidFill>
                <a:uFillTx/>
                <a:latin typeface="黑体"/>
                <a:ea typeface="黑体"/>
              </a:rPr>
              <a:t> </a:t>
            </a:r>
            <a:r>
              <a:rPr b="1" lang="en-US" sz="4800" spc="-1" strike="noStrike" u="sng">
                <a:solidFill>
                  <a:srgbClr val="66ff33"/>
                </a:solidFill>
                <a:uFillTx/>
                <a:latin typeface="黑体"/>
                <a:ea typeface="黑体"/>
              </a:rPr>
              <a:t>2 0 7</a:t>
            </a:r>
            <a:r>
              <a:rPr b="1" lang="en-US" sz="48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908000" y="3645000"/>
            <a:ext cx="2448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黑体"/>
                <a:ea typeface="黑体"/>
              </a:rPr>
              <a:t>2 8 9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1619280" y="4508640"/>
            <a:ext cx="25210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黑体"/>
                <a:ea typeface="黑体"/>
              </a:rPr>
              <a:t>〖 </a:t>
            </a:r>
            <a:r>
              <a:rPr b="1" lang="en-US" sz="48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008000"/>
                </a:solidFill>
                <a:latin typeface="黑体"/>
                <a:ea typeface="黑体"/>
              </a:rPr>
              <a:t>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  <p:sndAc>
      <p:stSnd>
        <p:snd r:embed="rId3" name="chimes.wav"/>
      </p:stSnd>
    </p:sndAc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3276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2  6 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×      4 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—————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1  0  4 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755640" y="3789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4572000" y="1197000"/>
            <a:ext cx="367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2  6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×     4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1  0  4  0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看谁算得又对又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1320" y="1905120"/>
            <a:ext cx="8591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321           209           287              1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×  12       ×  18        ×  63          ×  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395280" y="2997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2411280" y="299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4356000" y="2924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6659640" y="2997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504d"/>
                </a:solidFill>
                <a:latin typeface="Calibri"/>
                <a:ea typeface="宋体"/>
              </a:rPr>
              <a:t>看谁算得又对又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1320" y="1905120"/>
            <a:ext cx="8591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360           270           240              1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× 32       ×  43       ×  23         ×    8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Line 4"/>
          <p:cNvSpPr/>
          <p:nvPr/>
        </p:nvSpPr>
        <p:spPr>
          <a:xfrm>
            <a:off x="395280" y="2997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5"/>
          <p:cNvSpPr/>
          <p:nvPr/>
        </p:nvSpPr>
        <p:spPr>
          <a:xfrm>
            <a:off x="2411280" y="299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4356000" y="2924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6659640" y="2997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xinsrc_0307012315267803200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3"/>
          <p:cNvSpPr/>
          <p:nvPr/>
        </p:nvSpPr>
        <p:spPr>
          <a:xfrm>
            <a:off x="5076720" y="5300640"/>
            <a:ext cx="3745080" cy="576360"/>
          </a:xfrm>
          <a:prstGeom prst="wedgeRoundRectCallout">
            <a:avLst>
              <a:gd name="adj1" fmla="val -36180"/>
              <a:gd name="adj2" fmla="val -88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每辆车可以坐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324000" y="1268280"/>
            <a:ext cx="3743280" cy="1081080"/>
          </a:xfrm>
          <a:prstGeom prst="wedgeRoundRectCallout">
            <a:avLst>
              <a:gd name="adj1" fmla="val 37361"/>
              <a:gd name="adj2" fmla="val 711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公交公司共有这样的大客车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28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395280" y="6021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共可以坐多少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395280" y="2852640"/>
            <a:ext cx="4105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×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468360" y="4067280"/>
            <a:ext cx="158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611280" y="4221000"/>
            <a:ext cx="1512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395280" y="4292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图片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2124000" y="1916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835280" y="314172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通过这一课的学习你有哪些收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3962520" y="457200"/>
            <a:ext cx="4876560" cy="56386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4716360" y="11970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个位上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去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积的末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因数的个位对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716360" y="234936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十位上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去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积的末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因数的十位对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788000" y="357336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最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两个得数加起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755640" y="1341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×3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611280" y="242100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900000" y="2492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0 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826920" y="3141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468360" y="371628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900000" y="3789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 1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9"/>
          <p:cNvGrpSpPr/>
          <p:nvPr/>
        </p:nvGrpSpPr>
        <p:grpSpPr>
          <a:xfrm>
            <a:off x="1403280" y="3213000"/>
            <a:ext cx="1283760" cy="1072440"/>
            <a:chOff x="1403280" y="3213000"/>
            <a:chExt cx="1283760" cy="1072440"/>
          </a:xfrm>
        </p:grpSpPr>
        <p:sp>
          <p:nvSpPr>
            <p:cNvPr id="55" name="Oval 14"/>
            <p:cNvSpPr/>
            <p:nvPr/>
          </p:nvSpPr>
          <p:spPr>
            <a:xfrm>
              <a:off x="1403280" y="3213000"/>
              <a:ext cx="504720" cy="433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5"/>
            <p:cNvSpPr/>
            <p:nvPr/>
          </p:nvSpPr>
          <p:spPr>
            <a:xfrm>
              <a:off x="1918800" y="3504240"/>
              <a:ext cx="768240" cy="7812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6"/>
          <p:cNvGrpSpPr/>
          <p:nvPr/>
        </p:nvGrpSpPr>
        <p:grpSpPr>
          <a:xfrm>
            <a:off x="0" y="3860640"/>
            <a:ext cx="4932000" cy="3357360"/>
            <a:chOff x="0" y="3860640"/>
            <a:chExt cx="4932000" cy="3357360"/>
          </a:xfrm>
        </p:grpSpPr>
        <p:sp>
          <p:nvSpPr>
            <p:cNvPr id="58" name="Text Box 17"/>
            <p:cNvSpPr/>
            <p:nvPr/>
          </p:nvSpPr>
          <p:spPr>
            <a:xfrm rot="20632200">
              <a:off x="749160" y="4820760"/>
              <a:ext cx="287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注意积的末位要与十位对齐！用哪一位去乘，积的末尾就和哪一位对齐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8"/>
            <p:cNvSpPr/>
            <p:nvPr/>
          </p:nvSpPr>
          <p:spPr>
            <a:xfrm>
              <a:off x="0" y="3860640"/>
              <a:ext cx="4932000" cy="3357360"/>
            </a:xfrm>
            <a:prstGeom prst="irregularSeal2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20"/>
          <p:cNvSpPr/>
          <p:nvPr/>
        </p:nvSpPr>
        <p:spPr>
          <a:xfrm>
            <a:off x="395280" y="40464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列竖式算一算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908000" y="1341360"/>
            <a:ext cx="53992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      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      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 flipH="1">
            <a:off x="1332000" y="3716280"/>
            <a:ext cx="50328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332000" y="3716280"/>
            <a:ext cx="503280" cy="64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755640" y="4941720"/>
            <a:ext cx="712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V="1">
            <a:off x="5580000" y="2565360"/>
            <a:ext cx="0" cy="1008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H="1" flipV="1">
            <a:off x="3419640" y="2492280"/>
            <a:ext cx="2016000" cy="1152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 flipV="1">
            <a:off x="3276720" y="2565000"/>
            <a:ext cx="1942920" cy="1150920"/>
          </a:xfrm>
          <a:prstGeom prst="line">
            <a:avLst/>
          </a:prstGeom>
          <a:ln w="5724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 flipH="1" flipV="1">
            <a:off x="3059280" y="2565000"/>
            <a:ext cx="72720" cy="1079640"/>
          </a:xfrm>
          <a:prstGeom prst="line">
            <a:avLst/>
          </a:prstGeom>
          <a:ln w="5724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10"/>
          <p:cNvSpPr txBox="1"/>
          <p:nvPr/>
        </p:nvSpPr>
        <p:spPr>
          <a:xfrm>
            <a:off x="2556000" y="476280"/>
            <a:ext cx="3200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两位数乘两位数的笔算顺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395280" y="5546880"/>
            <a:ext cx="68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速公路一期工程全长多少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414800" y="6302520"/>
            <a:ext cx="40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速公路二期工程全长多少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4356000" y="3716280"/>
            <a:ext cx="4103640" cy="2669760"/>
            <a:chOff x="4356000" y="3716280"/>
            <a:chExt cx="4103640" cy="2669760"/>
          </a:xfrm>
        </p:grpSpPr>
        <p:sp>
          <p:nvSpPr>
            <p:cNvPr id="74" name="AutoShape 3"/>
            <p:cNvSpPr/>
            <p:nvPr/>
          </p:nvSpPr>
          <p:spPr>
            <a:xfrm>
              <a:off x="4356000" y="3716280"/>
              <a:ext cx="4103640" cy="2669760"/>
            </a:xfrm>
            <a:prstGeom prst="cloudCallout">
              <a:avLst>
                <a:gd name="adj1" fmla="val 37115"/>
                <a:gd name="adj2" fmla="val -105921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4"/>
            <p:cNvSpPr/>
            <p:nvPr/>
          </p:nvSpPr>
          <p:spPr>
            <a:xfrm>
              <a:off x="4989600" y="4144680"/>
              <a:ext cx="3254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用以前学过的两位数乘两位数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竖式试算一下吧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5"/>
          <p:cNvGrpSpPr/>
          <p:nvPr/>
        </p:nvGrpSpPr>
        <p:grpSpPr>
          <a:xfrm>
            <a:off x="324000" y="4005360"/>
            <a:ext cx="3887280" cy="3951000"/>
            <a:chOff x="324000" y="4005360"/>
            <a:chExt cx="3887280" cy="3951000"/>
          </a:xfrm>
        </p:grpSpPr>
        <p:sp>
          <p:nvSpPr>
            <p:cNvPr id="77" name="AutoShape 6"/>
            <p:cNvSpPr/>
            <p:nvPr/>
          </p:nvSpPr>
          <p:spPr>
            <a:xfrm>
              <a:off x="324000" y="4005360"/>
              <a:ext cx="3658680" cy="2117160"/>
            </a:xfrm>
            <a:prstGeom prst="wedgeRoundRectCallout">
              <a:avLst>
                <a:gd name="adj1" fmla="val -39203"/>
                <a:gd name="adj2" fmla="val 62166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7"/>
            <p:cNvSpPr/>
            <p:nvPr/>
          </p:nvSpPr>
          <p:spPr>
            <a:xfrm>
              <a:off x="399600" y="4206240"/>
              <a:ext cx="381168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可以估算一下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13≈2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0×15=3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8"/>
          <p:cNvSpPr/>
          <p:nvPr/>
        </p:nvSpPr>
        <p:spPr>
          <a:xfrm>
            <a:off x="2700360" y="17002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13×15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1116000" y="765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高速公路一期工程全长多少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2124000" y="2708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6"/>
          <p:cNvSpPr/>
          <p:nvPr/>
        </p:nvSpPr>
        <p:spPr>
          <a:xfrm>
            <a:off x="1979640" y="2492280"/>
            <a:ext cx="5329080" cy="136836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估算是大约值，不是准确值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以不能用这个答案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0"/>
          <p:cNvSpPr/>
          <p:nvPr/>
        </p:nvSpPr>
        <p:spPr>
          <a:xfrm flipV="1">
            <a:off x="900000" y="3212640"/>
            <a:ext cx="100800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katongdongwu3_048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902960" y="606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用笔算准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2136600" y="2349360"/>
            <a:ext cx="2016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195640" y="2421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 0  6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556000" y="1336680"/>
            <a:ext cx="130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  1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136600" y="1844640"/>
            <a:ext cx="4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987640" y="177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195640" y="2852640"/>
            <a:ext cx="13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 1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2136600" y="3429000"/>
            <a:ext cx="20163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195640" y="3429000"/>
            <a:ext cx="18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 1  9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 flipH="1">
            <a:off x="4067280" y="2708280"/>
            <a:ext cx="57600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5054400" y="2408400"/>
            <a:ext cx="29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先用个位上的</a:t>
            </a:r>
            <a:r>
              <a:rPr b="0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去乘</a:t>
            </a:r>
            <a:r>
              <a:rPr b="0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 flipH="1">
            <a:off x="4067280" y="3209760"/>
            <a:ext cx="57600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5096520" y="2909880"/>
            <a:ext cx="29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再用十位上的</a:t>
            </a:r>
            <a:r>
              <a:rPr b="0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去乘</a:t>
            </a:r>
            <a:r>
              <a:rPr b="0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3444840" y="177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"/>
          <p:cNvSpPr/>
          <p:nvPr/>
        </p:nvSpPr>
        <p:spPr>
          <a:xfrm flipV="1">
            <a:off x="3497400" y="2065320"/>
            <a:ext cx="1525320" cy="10000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8"/>
          <p:cNvGrpSpPr/>
          <p:nvPr/>
        </p:nvGrpSpPr>
        <p:grpSpPr>
          <a:xfrm>
            <a:off x="4284720" y="404640"/>
            <a:ext cx="5616000" cy="2376360"/>
            <a:chOff x="4284720" y="404640"/>
            <a:chExt cx="5616000" cy="2376360"/>
          </a:xfrm>
        </p:grpSpPr>
        <p:sp>
          <p:nvSpPr>
            <p:cNvPr id="101" name="Text Box 19"/>
            <p:cNvSpPr/>
            <p:nvPr/>
          </p:nvSpPr>
          <p:spPr>
            <a:xfrm rot="20632200">
              <a:off x="5832000" y="1151640"/>
              <a:ext cx="1674360" cy="947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Arial"/>
                  <a:ea typeface="仿宋_GB2312"/>
                </a:rPr>
                <a:t>注意积的末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Arial"/>
                  <a:ea typeface="仿宋_GB2312"/>
                </a:rPr>
                <a:t>要与十位对齐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20"/>
            <p:cNvSpPr/>
            <p:nvPr/>
          </p:nvSpPr>
          <p:spPr>
            <a:xfrm>
              <a:off x="4284720" y="404640"/>
              <a:ext cx="5616000" cy="2376360"/>
            </a:xfrm>
            <a:prstGeom prst="irregularSeal2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Line 21"/>
          <p:cNvSpPr/>
          <p:nvPr/>
        </p:nvSpPr>
        <p:spPr>
          <a:xfrm flipH="1">
            <a:off x="4067280" y="3714840"/>
            <a:ext cx="57600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5285520" y="34146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把所得的积加起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4"/>
          <p:cNvSpPr/>
          <p:nvPr/>
        </p:nvSpPr>
        <p:spPr>
          <a:xfrm>
            <a:off x="2987640" y="2924280"/>
            <a:ext cx="50472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50"/>
          <p:cNvGrpSpPr/>
          <p:nvPr/>
        </p:nvGrpSpPr>
        <p:grpSpPr>
          <a:xfrm>
            <a:off x="614520" y="1413000"/>
            <a:ext cx="10582200" cy="7300080"/>
            <a:chOff x="614520" y="1413000"/>
            <a:chExt cx="10582200" cy="7300080"/>
          </a:xfrm>
        </p:grpSpPr>
        <p:sp>
          <p:nvSpPr>
            <p:cNvPr id="107" name="AutoShape 40"/>
            <p:cNvSpPr/>
            <p:nvPr/>
          </p:nvSpPr>
          <p:spPr>
            <a:xfrm>
              <a:off x="684000" y="1413000"/>
              <a:ext cx="7488360" cy="5616720"/>
            </a:xfrm>
            <a:prstGeom prst="horizontalScroll">
              <a:avLst>
                <a:gd name="adj" fmla="val 125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1"/>
            <p:cNvSpPr/>
            <p:nvPr/>
          </p:nvSpPr>
          <p:spPr>
            <a:xfrm>
              <a:off x="1834920" y="2563920"/>
              <a:ext cx="6424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三位数乘两位数与两位数乘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两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数方法类似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2"/>
            <p:cNvSpPr/>
            <p:nvPr/>
          </p:nvSpPr>
          <p:spPr>
            <a:xfrm>
              <a:off x="1763640" y="3716640"/>
              <a:ext cx="943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先用两位数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位上的数乘三位数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3"/>
            <p:cNvSpPr/>
            <p:nvPr/>
          </p:nvSpPr>
          <p:spPr>
            <a:xfrm>
              <a:off x="1979640" y="7390080"/>
              <a:ext cx="62643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4"/>
            <p:cNvSpPr/>
            <p:nvPr/>
          </p:nvSpPr>
          <p:spPr>
            <a:xfrm>
              <a:off x="1763640" y="5156280"/>
              <a:ext cx="8443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用哪一位去乘，积的末尾就和哪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位对齐，最后把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两次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乘得的积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相加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1"/>
            <p:cNvSpPr/>
            <p:nvPr/>
          </p:nvSpPr>
          <p:spPr>
            <a:xfrm>
              <a:off x="614520" y="3500640"/>
              <a:ext cx="850680" cy="22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小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45"/>
          <p:cNvSpPr/>
          <p:nvPr/>
        </p:nvSpPr>
        <p:spPr>
          <a:xfrm>
            <a:off x="1943280" y="4365720"/>
            <a:ext cx="72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1"/>
          <p:cNvSpPr/>
          <p:nvPr/>
        </p:nvSpPr>
        <p:spPr>
          <a:xfrm>
            <a:off x="1547640" y="4470480"/>
            <a:ext cx="644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用两位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上的数乘三位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8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179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-1)"/>
                                      </p:to>
                                    </p:set>
                                    <p:set>
                                      <p:cBhvr>
                                        <p:cTn id="180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50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99" dur="50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00" dur="50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116000" y="76500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速公路一期工程全长多少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13×15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213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：高速公路一期工程全长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19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3276720" y="15573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19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28560" y="0"/>
            <a:ext cx="7886880" cy="5445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755640" y="5661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速公路二期工程全长多少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3492360" y="1844640"/>
            <a:ext cx="3527280" cy="4825800"/>
            <a:chOff x="3492360" y="1844640"/>
            <a:chExt cx="3527280" cy="4825800"/>
          </a:xfrm>
        </p:grpSpPr>
        <p:sp>
          <p:nvSpPr>
            <p:cNvPr id="121" name="AutoShape 3"/>
            <p:cNvSpPr/>
            <p:nvPr/>
          </p:nvSpPr>
          <p:spPr>
            <a:xfrm>
              <a:off x="3492360" y="1844640"/>
              <a:ext cx="3527280" cy="4825800"/>
            </a:xfrm>
            <a:prstGeom prst="wedgeRoundRectCallout">
              <a:avLst>
                <a:gd name="adj1" fmla="val 43236"/>
                <a:gd name="adj2" fmla="val -64444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"/>
            <p:cNvSpPr/>
            <p:nvPr/>
          </p:nvSpPr>
          <p:spPr>
            <a:xfrm>
              <a:off x="3821400" y="1970280"/>
              <a:ext cx="29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这样列更好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8"/>
          <p:cNvSpPr/>
          <p:nvPr/>
        </p:nvSpPr>
        <p:spPr>
          <a:xfrm>
            <a:off x="4788000" y="4076640"/>
            <a:ext cx="2160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5292720" y="2924280"/>
            <a:ext cx="13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 6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4859280" y="342900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5364000" y="407664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4"/>
          <p:cNvSpPr/>
          <p:nvPr/>
        </p:nvSpPr>
        <p:spPr>
          <a:xfrm>
            <a:off x="6156360" y="2708280"/>
            <a:ext cx="0" cy="16556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5"/>
          <p:cNvGrpSpPr/>
          <p:nvPr/>
        </p:nvGrpSpPr>
        <p:grpSpPr>
          <a:xfrm>
            <a:off x="0" y="1484280"/>
            <a:ext cx="3528720" cy="4968720"/>
            <a:chOff x="0" y="1484280"/>
            <a:chExt cx="3528720" cy="4968720"/>
          </a:xfrm>
        </p:grpSpPr>
        <p:sp>
          <p:nvSpPr>
            <p:cNvPr id="129" name="AutoShape 16"/>
            <p:cNvSpPr/>
            <p:nvPr/>
          </p:nvSpPr>
          <p:spPr>
            <a:xfrm>
              <a:off x="0" y="1484280"/>
              <a:ext cx="3449160" cy="4968720"/>
            </a:xfrm>
            <a:prstGeom prst="wedgeRoundRectCallout">
              <a:avLst>
                <a:gd name="adj1" fmla="val -40416"/>
                <a:gd name="adj2" fmla="val 59004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>
              <a:off x="321480" y="4885200"/>
              <a:ext cx="2245320" cy="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8"/>
            <p:cNvSpPr/>
            <p:nvPr/>
          </p:nvSpPr>
          <p:spPr>
            <a:xfrm>
              <a:off x="818280" y="2760840"/>
              <a:ext cx="149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  6  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9"/>
            <p:cNvSpPr/>
            <p:nvPr/>
          </p:nvSpPr>
          <p:spPr>
            <a:xfrm>
              <a:off x="411480" y="3762000"/>
              <a:ext cx="55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0"/>
            <p:cNvSpPr/>
            <p:nvPr/>
          </p:nvSpPr>
          <p:spPr>
            <a:xfrm>
              <a:off x="1364760" y="3746520"/>
              <a:ext cx="46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1"/>
            <p:cNvSpPr/>
            <p:nvPr/>
          </p:nvSpPr>
          <p:spPr>
            <a:xfrm>
              <a:off x="1864800" y="3746520"/>
              <a:ext cx="46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2"/>
            <p:cNvSpPr/>
            <p:nvPr/>
          </p:nvSpPr>
          <p:spPr>
            <a:xfrm>
              <a:off x="160560" y="1768680"/>
              <a:ext cx="336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我这样列竖式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23"/>
          <p:cNvSpPr/>
          <p:nvPr/>
        </p:nvSpPr>
        <p:spPr>
          <a:xfrm>
            <a:off x="826920" y="98100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60×12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"/>
          <p:cNvSpPr/>
          <p:nvPr/>
        </p:nvSpPr>
        <p:spPr>
          <a:xfrm>
            <a:off x="611280" y="404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高速公路二期工程全长多少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6"/>
          <p:cNvSpPr/>
          <p:nvPr/>
        </p:nvSpPr>
        <p:spPr>
          <a:xfrm>
            <a:off x="826920" y="486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 2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468360" y="530064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6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9"/>
          <p:cNvSpPr/>
          <p:nvPr/>
        </p:nvSpPr>
        <p:spPr>
          <a:xfrm>
            <a:off x="3924360" y="609300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0"/>
          <p:cNvSpPr/>
          <p:nvPr/>
        </p:nvSpPr>
        <p:spPr>
          <a:xfrm>
            <a:off x="395280" y="5805360"/>
            <a:ext cx="216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468360" y="5877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 1  2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5292720" y="3429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3"/>
          <p:cNvSpPr/>
          <p:nvPr/>
        </p:nvSpPr>
        <p:spPr>
          <a:xfrm>
            <a:off x="5076720" y="4581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4"/>
          <p:cNvSpPr/>
          <p:nvPr/>
        </p:nvSpPr>
        <p:spPr>
          <a:xfrm>
            <a:off x="4788000" y="52182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3"/>
          <p:cNvSpPr/>
          <p:nvPr/>
        </p:nvSpPr>
        <p:spPr>
          <a:xfrm>
            <a:off x="5003640" y="5075280"/>
            <a:ext cx="22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4"/>
          <p:cNvSpPr/>
          <p:nvPr/>
        </p:nvSpPr>
        <p:spPr>
          <a:xfrm>
            <a:off x="4859280" y="522936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5"/>
          <p:cNvSpPr/>
          <p:nvPr/>
        </p:nvSpPr>
        <p:spPr>
          <a:xfrm>
            <a:off x="5076720" y="5445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1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6"/>
          <p:cNvSpPr/>
          <p:nvPr/>
        </p:nvSpPr>
        <p:spPr>
          <a:xfrm>
            <a:off x="6227640" y="544500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7"/>
          <p:cNvSpPr/>
          <p:nvPr/>
        </p:nvSpPr>
        <p:spPr>
          <a:xfrm>
            <a:off x="2987640" y="1052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9"/>
          <p:cNvSpPr/>
          <p:nvPr/>
        </p:nvSpPr>
        <p:spPr>
          <a:xfrm>
            <a:off x="7524720" y="2276640"/>
            <a:ext cx="1150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答：高速公路二期工程全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0"/>
          <p:cNvGrpSpPr/>
          <p:nvPr/>
        </p:nvGrpSpPr>
        <p:grpSpPr>
          <a:xfrm>
            <a:off x="1332000" y="836640"/>
            <a:ext cx="5473080" cy="2287080"/>
            <a:chOff x="1332000" y="836640"/>
            <a:chExt cx="5473080" cy="2287080"/>
          </a:xfrm>
        </p:grpSpPr>
        <p:sp>
          <p:nvSpPr>
            <p:cNvPr id="153" name="AutoShape 61"/>
            <p:cNvSpPr/>
            <p:nvPr/>
          </p:nvSpPr>
          <p:spPr>
            <a:xfrm>
              <a:off x="1332000" y="836640"/>
              <a:ext cx="5473080" cy="22870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62"/>
            <p:cNvSpPr/>
            <p:nvPr/>
          </p:nvSpPr>
          <p:spPr>
            <a:xfrm>
              <a:off x="1562760" y="1019520"/>
              <a:ext cx="5009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小结：先用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前面的数相乘，然后看因数末尾共有几个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，就在积的末尾添写几个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2-18T11:37:39Z</dcterms:modified>
  <cp:revision>1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3000000000001024120</vt:lpwstr>
  </property>
</Properties>
</file>