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5.gif" ContentType="image/gif"/>
  <Override PartName="/ppt/media/image14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2.gif" ContentType="image/gif"/>
  <Override PartName="/ppt/media/image5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3F6-55DB-482D-B9DB-123797E2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573-E725-4F9D-A93C-90A8505D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F1E-83A4-4765-B4AE-AD2AFF29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621-93C3-477B-924F-839D07B6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F1A-E005-40E0-8182-830E16A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070-813E-416D-BD6D-DCF0368A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540-F812-4C3F-ADB5-2C7B1240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424-F0E0-4F15-9DA9-6ABFE834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A93-2D28-4114-8661-82141E9D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86A-8A8D-44FC-A918-DDFB89A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E1C-51BF-4A22-A30A-41CBBB4D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49B-757C-4C1F-8D08-C7BD961D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14BD-B1AF-48C1-B2AB-1C5F5BE370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44480" y="824040"/>
            <a:ext cx="790200" cy="70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口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1403280" y="17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187280" y="242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900000" y="3213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0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4788000" y="2492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×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5076720" y="3213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×4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2556000" y="177336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2627280" y="2492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6086520" y="18446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6157800" y="2565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>
            <a:off x="2629440" y="32846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6229440" y="32846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4788000" y="1484280"/>
            <a:ext cx="28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4788000" y="177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×4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 rot="5581200">
            <a:off x="6523920" y="1331640"/>
            <a:ext cx="3083040" cy="1228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5780000"/>
                </a:gradFill>
                <a:latin typeface="宋体"/>
              </a:rPr>
              <a:t>我算得最快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5780000"/>
              </a:gradFill>
              <a:latin typeface="宋体"/>
              <a:ea typeface="宋体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9528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  <a:ea typeface="宋体"/>
              </a:rPr>
              <a:t>8×50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  <a:ea typeface="宋体"/>
              </a:rPr>
              <a:t>400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宋体"/>
              </a:rPr>
              <a:t>，直接写出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332000" y="17002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8×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476360" y="350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×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619280" y="21891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50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÷2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84360" y="40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8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÷4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203640" y="1628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宋体"/>
              </a:rPr>
              <a:t>2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987640" y="112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400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÷2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348000" y="3500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宋体"/>
              </a:rPr>
              <a:t>1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060720" y="3054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400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÷4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2195640" y="836640"/>
            <a:ext cx="215640" cy="1008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403280" y="692280"/>
            <a:ext cx="216000" cy="2952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你能把这两条规律合并在一起吗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116000" y="2276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Arial"/>
                <a:ea typeface="隶书"/>
              </a:rPr>
              <a:t>两个数相乘，一个因数不变，另一个因数乘几（或</a:t>
            </a:r>
            <a:r>
              <a:rPr b="1" lang="zh-CN" sz="4800" spc="-1" strike="noStrike">
                <a:solidFill>
                  <a:srgbClr val="9900cc"/>
                </a:solidFill>
                <a:latin typeface="Arial"/>
                <a:ea typeface="隶书"/>
              </a:rPr>
              <a:t>除以几</a:t>
            </a:r>
            <a:r>
              <a:rPr b="0" lang="zh-CN" sz="4800" spc="-1" strike="noStrike">
                <a:solidFill>
                  <a:srgbClr val="9900cc"/>
                </a:solidFill>
                <a:latin typeface="Arial"/>
                <a:ea typeface="隶书"/>
              </a:rPr>
              <a:t>），积也要乘几（或</a:t>
            </a:r>
            <a:r>
              <a:rPr b="1" lang="zh-CN" sz="4800" spc="-1" strike="noStrike">
                <a:solidFill>
                  <a:srgbClr val="9900cc"/>
                </a:solidFill>
                <a:latin typeface="Arial"/>
                <a:ea typeface="隶书"/>
              </a:rPr>
              <a:t>除以几</a:t>
            </a:r>
            <a:r>
              <a:rPr b="0" lang="zh-CN" sz="4800" spc="-1" strike="noStrike">
                <a:solidFill>
                  <a:srgbClr val="9900cc"/>
                </a:solidFill>
                <a:latin typeface="Arial"/>
                <a:ea typeface="隶书"/>
              </a:rPr>
              <a:t>）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773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两个数相乘，一个因数不变，另一个因数乘几，积也要乘几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7"/>
          <p:cNvSpPr/>
          <p:nvPr/>
        </p:nvSpPr>
        <p:spPr>
          <a:xfrm>
            <a:off x="684360" y="414972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隶书"/>
              </a:rPr>
              <a:t>两个数相乘，一个因数不变，另一个因数除以几，积也要除以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隶书"/>
              </a:rPr>
              <a:t>几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积的变化规律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773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两个数相乘，一个因数不变，另一个因数扩大到原来的几倍，积也扩大到原来的多少倍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684360" y="414972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隶书"/>
              </a:rPr>
              <a:t>两个数相乘，一个因数不变，另一个因数缩小到原来的几分之几，积也缩小到原来的几分之几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隶书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图片2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9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2"/>
          <p:cNvSpPr txBox="1"/>
          <p:nvPr/>
        </p:nvSpPr>
        <p:spPr>
          <a:xfrm>
            <a:off x="468360" y="333360"/>
            <a:ext cx="180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584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学擂台</a:t>
            </a:r>
            <a:endParaRPr b="1" lang="en-US" sz="2800" spc="1" strike="noStrike">
              <a:ln w="1584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1619280" y="1989000"/>
            <a:ext cx="252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第一关：火眼金睛</a:t>
            </a:r>
            <a:endParaRPr b="1" lang="en-US" sz="2800" spc="1" strike="noStrike">
              <a:ln w="1260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203200" y="2637000"/>
            <a:ext cx="49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判断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两数相乘，一个因数不变，另一个因数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积应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                                                           （        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两数相乘，一个因数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另一个因数不变，积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                                                      （       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320520" y="4653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313680" y="3573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9" descr="办公2"/>
          <p:cNvPicPr/>
          <p:nvPr/>
        </p:nvPicPr>
        <p:blipFill>
          <a:blip r:embed="rId1"/>
          <a:stretch/>
        </p:blipFill>
        <p:spPr>
          <a:xfrm>
            <a:off x="34920" y="44280"/>
            <a:ext cx="1241280" cy="134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办公3"/>
          <p:cNvPicPr/>
          <p:nvPr/>
        </p:nvPicPr>
        <p:blipFill>
          <a:blip r:embed="rId2"/>
          <a:stretch/>
        </p:blipFill>
        <p:spPr>
          <a:xfrm>
            <a:off x="7381800" y="5734080"/>
            <a:ext cx="1511280" cy="1060560"/>
          </a:xfrm>
          <a:prstGeom prst="rect">
            <a:avLst/>
          </a:prstGeom>
          <a:ln w="0">
            <a:noFill/>
          </a:ln>
        </p:spPr>
      </p:pic>
      <p:sp>
        <p:nvSpPr>
          <p:cNvPr id="150" name="WordArt 2"/>
          <p:cNvSpPr txBox="1"/>
          <p:nvPr/>
        </p:nvSpPr>
        <p:spPr>
          <a:xfrm>
            <a:off x="395280" y="189000"/>
            <a:ext cx="38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第二关：灵活机智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835280" y="1268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宋体"/>
              </a:rPr>
              <a:t>找规律，写得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6920" y="213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2×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826920" y="3068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×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393372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×3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700360" y="2997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宋体"/>
              </a:rPr>
              <a:t>19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771640" y="39337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宋体"/>
              </a:rPr>
              <a:t>38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932360" y="2133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0×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8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5003640" y="3014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0×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5076720" y="4022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×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7166880" y="299736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8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7238520" y="402264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4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539640" y="189000"/>
            <a:ext cx="4319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第三关：随机应变</a:t>
            </a:r>
            <a:endParaRPr b="1" lang="en-US" sz="2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57240" y="1268280"/>
            <a:ext cx="7520760" cy="2545560"/>
            <a:chOff x="57240" y="1268280"/>
            <a:chExt cx="7520760" cy="2545560"/>
          </a:xfrm>
        </p:grpSpPr>
        <p:pic>
          <p:nvPicPr>
            <p:cNvPr id="164" name="Picture 8" descr="W020070411385135227273"/>
            <p:cNvPicPr/>
            <p:nvPr/>
          </p:nvPicPr>
          <p:blipFill>
            <a:blip r:embed="rId1"/>
            <a:srcRect l="18863" t="16459" r="68407" b="79062"/>
            <a:stretch/>
          </p:blipFill>
          <p:spPr>
            <a:xfrm>
              <a:off x="293760" y="1517760"/>
              <a:ext cx="216072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9" descr="W020070411385135227273"/>
            <p:cNvPicPr/>
            <p:nvPr/>
          </p:nvPicPr>
          <p:blipFill>
            <a:blip r:embed="rId2"/>
            <a:srcRect l="60534" t="24286" r="27631" b="70792"/>
            <a:stretch/>
          </p:blipFill>
          <p:spPr>
            <a:xfrm>
              <a:off x="4254480" y="1268280"/>
              <a:ext cx="23749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0"/>
            <p:cNvSpPr/>
            <p:nvPr/>
          </p:nvSpPr>
          <p:spPr>
            <a:xfrm>
              <a:off x="1889640" y="2440080"/>
              <a:ext cx="5688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速度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千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                  是货车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间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时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路程：（          ）千米               （         ）千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57240" y="12733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3"/>
          <p:cNvSpPr/>
          <p:nvPr/>
        </p:nvSpPr>
        <p:spPr>
          <a:xfrm>
            <a:off x="2629800" y="3357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  <a:ea typeface="宋体"/>
              </a:rPr>
              <a:t>1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6590520" y="3357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  <a:ea typeface="宋体"/>
              </a:rPr>
              <a:t>3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1116000" y="4292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166760" y="4529160"/>
            <a:ext cx="268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75564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×4=160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4392720" y="486900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0×2=3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千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4788720" y="4149720"/>
            <a:ext cx="37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×2×4=3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千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250920" y="4076640"/>
            <a:ext cx="8229600" cy="2376360"/>
            <a:chOff x="250920" y="4076640"/>
            <a:chExt cx="8229600" cy="2376360"/>
          </a:xfrm>
        </p:grpSpPr>
        <p:graphicFrame>
          <p:nvGraphicFramePr>
            <p:cNvPr id="176" name="Object 3"/>
            <p:cNvGraphicFramePr/>
            <p:nvPr/>
          </p:nvGraphicFramePr>
          <p:xfrm>
            <a:off x="250920" y="4076640"/>
            <a:ext cx="8229600" cy="237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076640"/>
                      <a:ext cx="822960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Text Box 4"/>
            <p:cNvSpPr/>
            <p:nvPr/>
          </p:nvSpPr>
          <p:spPr>
            <a:xfrm rot="769800">
              <a:off x="3799800" y="4821840"/>
              <a:ext cx="1686240" cy="5814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6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方米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 flipH="1">
              <a:off x="2705400" y="4281840"/>
              <a:ext cx="275760" cy="113040"/>
            </a:xfrm>
            <a:prstGeom prst="line">
              <a:avLst/>
            </a:prstGeom>
            <a:ln w="64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6"/>
          <p:cNvSpPr/>
          <p:nvPr/>
        </p:nvSpPr>
        <p:spPr>
          <a:xfrm rot="20756400">
            <a:off x="1834560" y="4292640"/>
            <a:ext cx="1233360" cy="58140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468360" y="115920"/>
            <a:ext cx="41749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第四关：大展身手</a:t>
            </a:r>
            <a:endParaRPr b="1" lang="en-US" sz="2800" spc="1" strike="noStrike">
              <a:ln w="19080">
                <a:solidFill>
                  <a:srgbClr val="ffff99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755640" y="134136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这块长方形绿地的宽要增加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，长不变。扩大后的绿地面积是多少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926080" y="227664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÷8=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089680" y="3405240"/>
            <a:ext cx="30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扩大后的绿地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平方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218760" y="267660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60×3=16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平方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900000" y="2492280"/>
            <a:ext cx="122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484360" y="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拓展创新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根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直接写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得数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920" y="1557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积的变化规律，可分两步进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95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    7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195640" y="2852640"/>
            <a:ext cx="215640" cy="936720"/>
          </a:xfrm>
          <a:prstGeom prst="downArrow">
            <a:avLst>
              <a:gd name="adj1" fmla="val 50000"/>
              <a:gd name="adj2" fmla="val 10859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411280" y="285264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68360" y="2852640"/>
            <a:ext cx="216000" cy="936720"/>
          </a:xfrm>
          <a:prstGeom prst="downArrow">
            <a:avLst>
              <a:gd name="adj1" fmla="val 50000"/>
              <a:gd name="adj2" fmla="val 10841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1128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×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213560" y="386064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    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50920" y="3860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009240" y="3828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492360" y="3789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24000" y="4437000"/>
            <a:ext cx="215640" cy="936720"/>
          </a:xfrm>
          <a:prstGeom prst="downArrow">
            <a:avLst>
              <a:gd name="adj1" fmla="val 50000"/>
              <a:gd name="adj2" fmla="val 10859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539640" y="443700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6"/>
          <p:cNvSpPr/>
          <p:nvPr/>
        </p:nvSpPr>
        <p:spPr>
          <a:xfrm>
            <a:off x="2195640" y="4508640"/>
            <a:ext cx="215640" cy="936360"/>
          </a:xfrm>
          <a:prstGeom prst="downArrow">
            <a:avLst>
              <a:gd name="adj1" fmla="val 50000"/>
              <a:gd name="adj2" fmla="val 10855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2340000" y="47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×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50920" y="55897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   70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492360" y="5589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规律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因数相乘，一个因数扩大到原来的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倍，另一个因数扩大到原来的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倍，那么积就扩大到原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443640" y="2708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68360" y="371628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两个因数相乘，一个因数除以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另一个因数除以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那么积除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191280" y="4221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n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试一试，你能行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根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×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直接写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×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得数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549360"/>
            <a:ext cx="8569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</a:rPr>
              <a:t>1.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</a:rPr>
              <a:t>6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</a:rPr>
              <a:t>扩大到原来的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</a:rPr>
              <a:t>10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</a:rPr>
              <a:t>倍是多少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</a:rPr>
              <a:t>2.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</a:rPr>
              <a:t>6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</a:rPr>
              <a:t>扩大到原来的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</a:rPr>
              <a:t>100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</a:rPr>
              <a:t>倍是多少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484360" y="2205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×10=6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268360" y="4508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×100=6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Q_015"/>
          <p:cNvPicPr/>
          <p:nvPr/>
        </p:nvPicPr>
        <p:blipFill>
          <a:blip r:embed="rId1"/>
          <a:stretch/>
        </p:blipFill>
        <p:spPr>
          <a:xfrm>
            <a:off x="7683480" y="5373720"/>
            <a:ext cx="1460520" cy="1484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0" y="765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算一算，想一想。你能发现什么规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277280" y="1700280"/>
            <a:ext cx="29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6×1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4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0" y="5013360"/>
            <a:ext cx="932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</a:rPr>
              <a:t>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两个数相乘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一个因数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_GB2312"/>
              </a:rPr>
              <a:t>乘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另一个因数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_GB2312"/>
              </a:rPr>
              <a:t>同时除以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</a:rPr>
              <a:t>,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楷体_GB2312"/>
              </a:rPr>
              <a:t>积不变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300320" y="242100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300320" y="328464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826920" y="409572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6×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8÷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732720" y="2421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64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659640" y="3284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64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659640" y="4076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64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图片"/>
          <p:cNvPicPr/>
          <p:nvPr/>
        </p:nvPicPr>
        <p:blipFill>
          <a:blip r:embed="rId1"/>
          <a:stretch/>
        </p:blipFill>
        <p:spPr>
          <a:xfrm>
            <a:off x="8402760" y="189000"/>
            <a:ext cx="741240" cy="741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2411280" y="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拓展创新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判断下列的题目是否正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把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扩大了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倍得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8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因数的积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如果一个 因数除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另一个因数不变，所得的积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9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68360" y="5493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521160" y="692280"/>
            <a:ext cx="4586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55640" y="1197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小结：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宋体"/>
              </a:rPr>
              <a:t>一个数乘几，也可以说     把这个数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扩大到原来的多少倍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艺术字 4"/>
          <p:cNvSpPr txBox="1"/>
          <p:nvPr/>
        </p:nvSpPr>
        <p:spPr>
          <a:xfrm>
            <a:off x="1116000" y="2421000"/>
            <a:ext cx="7056360" cy="16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积的变化规律</a:t>
            </a:r>
            <a:endParaRPr b="1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3" name="图片 7" descr="gif036"/>
          <p:cNvPicPr/>
          <p:nvPr/>
        </p:nvPicPr>
        <p:blipFill>
          <a:blip r:embed="rId1"/>
          <a:stretch/>
        </p:blipFill>
        <p:spPr>
          <a:xfrm>
            <a:off x="6516720" y="189000"/>
            <a:ext cx="1224000" cy="10285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8" descr="gif019"/>
          <p:cNvPicPr/>
          <p:nvPr/>
        </p:nvPicPr>
        <p:blipFill>
          <a:blip r:embed="rId2"/>
          <a:stretch/>
        </p:blipFill>
        <p:spPr>
          <a:xfrm>
            <a:off x="971640" y="0"/>
            <a:ext cx="5548320" cy="25988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" descr="LIN_005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89160"/>
          </a:xfrm>
          <a:prstGeom prst="rect">
            <a:avLst/>
          </a:prstGeom>
          <a:ln w="0">
            <a:noFill/>
          </a:ln>
        </p:spPr>
      </p:pic>
      <p:pic>
        <p:nvPicPr>
          <p:cNvPr id="66" name="MUSIC8.MP3" descr=""/>
          <p:cNvPicPr/>
          <p:nvPr/>
        </p:nvPicPr>
        <p:blipFill>
          <a:blip r:embed="rId4"/>
          <a:stretch/>
        </p:blipFill>
        <p:spPr>
          <a:xfrm>
            <a:off x="32400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69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7"/>
          <p:cNvGrpSpPr/>
          <p:nvPr/>
        </p:nvGrpSpPr>
        <p:grpSpPr>
          <a:xfrm>
            <a:off x="324000" y="189000"/>
            <a:ext cx="3743280" cy="1079280"/>
            <a:chOff x="324000" y="189000"/>
            <a:chExt cx="3743280" cy="1079280"/>
          </a:xfrm>
        </p:grpSpPr>
        <p:pic>
          <p:nvPicPr>
            <p:cNvPr id="68" name="Picture 5" descr="pic_95586"/>
            <p:cNvPicPr/>
            <p:nvPr/>
          </p:nvPicPr>
          <p:blipFill>
            <a:blip r:embed="rId1"/>
            <a:srcRect l="12747" t="26443" r="49097" b="66826"/>
            <a:stretch/>
          </p:blipFill>
          <p:spPr>
            <a:xfrm>
              <a:off x="324000" y="189000"/>
              <a:ext cx="3743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6"/>
            <p:cNvSpPr/>
            <p:nvPr/>
          </p:nvSpPr>
          <p:spPr>
            <a:xfrm>
              <a:off x="449280" y="399600"/>
              <a:ext cx="2807640" cy="4730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仔细观察，你发现了什么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9"/>
          <p:cNvSpPr/>
          <p:nvPr/>
        </p:nvSpPr>
        <p:spPr>
          <a:xfrm>
            <a:off x="755640" y="1557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×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9640" y="24400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×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24000" y="3303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×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340000" y="1557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宋体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340000" y="244008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宋体"/>
              </a:rPr>
              <a:t>1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411280" y="3303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宋体"/>
              </a:rPr>
              <a:t>12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50920" y="422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观察：与第一个算式比较，第二个算式的因数是怎样变化的？积是怎样变化的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4284720" y="620640"/>
            <a:ext cx="4319640" cy="2175120"/>
            <a:chOff x="4284720" y="620640"/>
            <a:chExt cx="4319640" cy="2175120"/>
          </a:xfrm>
        </p:grpSpPr>
        <p:sp>
          <p:nvSpPr>
            <p:cNvPr id="78" name="AutoShape 23"/>
            <p:cNvSpPr/>
            <p:nvPr/>
          </p:nvSpPr>
          <p:spPr>
            <a:xfrm>
              <a:off x="4861080" y="620640"/>
              <a:ext cx="3600360" cy="1081080"/>
            </a:xfrm>
            <a:prstGeom prst="wedgeEllipseCallout">
              <a:avLst>
                <a:gd name="adj1" fmla="val -24953"/>
                <a:gd name="adj2" fmla="val 109324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发现了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4"/>
            <p:cNvSpPr/>
            <p:nvPr/>
          </p:nvSpPr>
          <p:spPr>
            <a:xfrm>
              <a:off x="4284720" y="2276640"/>
              <a:ext cx="431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6"/>
          <p:cNvSpPr/>
          <p:nvPr/>
        </p:nvSpPr>
        <p:spPr>
          <a:xfrm>
            <a:off x="4213080" y="242100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两数相乘，一个因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变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，另一个因数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乘了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（或扩大到原来的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倍），积也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乘了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10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（或扩大到原来的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倍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324000" y="607860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三个算式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8"/>
          <p:cNvSpPr/>
          <p:nvPr/>
        </p:nvSpPr>
        <p:spPr>
          <a:xfrm>
            <a:off x="1619280" y="2133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9"/>
          <p:cNvSpPr/>
          <p:nvPr/>
        </p:nvSpPr>
        <p:spPr>
          <a:xfrm>
            <a:off x="161928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0"/>
          <p:cNvSpPr/>
          <p:nvPr/>
        </p:nvSpPr>
        <p:spPr>
          <a:xfrm>
            <a:off x="2627280" y="2133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1"/>
          <p:cNvSpPr/>
          <p:nvPr/>
        </p:nvSpPr>
        <p:spPr>
          <a:xfrm>
            <a:off x="262728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26420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55640" y="2133720"/>
            <a:ext cx="720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两数相乘，一个因数不变，另一个因数乘几，积也要乘几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132000" y="836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积的变化规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pic_95614"/>
          <p:cNvPicPr/>
          <p:nvPr/>
        </p:nvPicPr>
        <p:blipFill>
          <a:blip r:embed="rId1"/>
          <a:srcRect l="18183" t="6322" r="72750" b="85163"/>
          <a:stretch/>
        </p:blipFill>
        <p:spPr>
          <a:xfrm>
            <a:off x="0" y="0"/>
            <a:ext cx="118728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2"/>
          <p:cNvSpPr txBox="1"/>
          <p:nvPr/>
        </p:nvSpPr>
        <p:spPr>
          <a:xfrm rot="5581200">
            <a:off x="6523920" y="1331640"/>
            <a:ext cx="3083040" cy="1228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5780000"/>
                </a:gradFill>
                <a:latin typeface="宋体"/>
              </a:rPr>
              <a:t>我算得最快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5780000"/>
              </a:gradFill>
              <a:latin typeface="宋体"/>
              <a:ea typeface="宋体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16000" y="90792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  <a:ea typeface="宋体"/>
              </a:rPr>
              <a:t>8×50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  <a:ea typeface="宋体"/>
              </a:rPr>
              <a:t>400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宋体"/>
              </a:rPr>
              <a:t>，直接写出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47640" y="2708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6×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4653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2×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11280" y="2133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8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×2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11280" y="3933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8×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492360" y="2708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916360" y="19890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400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×2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49236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6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2987640" y="3933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宋体"/>
              </a:rPr>
              <a:t>400×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95280" y="4869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1547280" y="1268280"/>
            <a:ext cx="576360" cy="1008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3564000" y="1413000"/>
            <a:ext cx="720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1692000" y="1341360"/>
            <a:ext cx="431640" cy="266544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"/>
          <p:cNvGrpSpPr/>
          <p:nvPr/>
        </p:nvGrpSpPr>
        <p:grpSpPr>
          <a:xfrm>
            <a:off x="324000" y="189000"/>
            <a:ext cx="3743280" cy="1079280"/>
            <a:chOff x="324000" y="189000"/>
            <a:chExt cx="3743280" cy="1079280"/>
          </a:xfrm>
        </p:grpSpPr>
        <p:pic>
          <p:nvPicPr>
            <p:cNvPr id="107" name="Picture 3" descr="pic_95586"/>
            <p:cNvPicPr/>
            <p:nvPr/>
          </p:nvPicPr>
          <p:blipFill>
            <a:blip r:embed="rId2"/>
            <a:srcRect l="12747" t="26443" r="49097" b="66826"/>
            <a:stretch/>
          </p:blipFill>
          <p:spPr>
            <a:xfrm>
              <a:off x="324000" y="189000"/>
              <a:ext cx="3743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"/>
            <p:cNvSpPr/>
            <p:nvPr/>
          </p:nvSpPr>
          <p:spPr>
            <a:xfrm>
              <a:off x="449280" y="399600"/>
              <a:ext cx="2807640" cy="4730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仔细观察，你发现了什么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5"/>
          <p:cNvSpPr/>
          <p:nvPr/>
        </p:nvSpPr>
        <p:spPr>
          <a:xfrm>
            <a:off x="179280" y="18446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×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29973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0×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24000" y="3933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×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684360" y="2565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2340000" y="2565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755640" y="3573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11280" y="3573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4284720" y="620640"/>
            <a:ext cx="4319640" cy="2175120"/>
            <a:chOff x="4284720" y="620640"/>
            <a:chExt cx="4319640" cy="2175120"/>
          </a:xfrm>
        </p:grpSpPr>
        <p:sp>
          <p:nvSpPr>
            <p:cNvPr id="117" name="AutoShape 24"/>
            <p:cNvSpPr/>
            <p:nvPr/>
          </p:nvSpPr>
          <p:spPr>
            <a:xfrm>
              <a:off x="4861080" y="620640"/>
              <a:ext cx="3600360" cy="1081080"/>
            </a:xfrm>
            <a:prstGeom prst="wedgeEllipseCallout">
              <a:avLst>
                <a:gd name="adj1" fmla="val -24953"/>
                <a:gd name="adj2" fmla="val 109324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发现了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284720" y="2276640"/>
              <a:ext cx="431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数相乘，一个因数不变，另一个因数除以几，积也除以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132000" y="895320"/>
            <a:ext cx="38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积的变化规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042920" y="2276640"/>
            <a:ext cx="65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两数相乘，一个因数不变，另一个因数除以几，积也除以几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03:43:13Z</dcterms:created>
  <dc:creator/>
  <dc:description/>
  <cp:keywords/>
  <dc:language>en-US</dc:language>
  <cp:lastModifiedBy>Administrator</cp:lastModifiedBy>
  <dcterms:modified xsi:type="dcterms:W3CDTF">2015-02-18T11:42:02Z</dcterms:modified>
  <cp:revision>95</cp:revision>
  <dc:subject/>
  <dc:title>幻灯片 1</dc:title>
</cp:coreProperties>
</file>