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33E-31D2-4900-8FE3-49A7B962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9A2-055B-416C-9936-E96170CE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366-7450-4247-B9E7-233736F7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5E67-ADB6-4E90-BA79-612ABF42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46A0-C446-4F6A-8C1B-09BC8845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80B-4456-4882-B982-1924F981D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AAF-C092-4357-A12D-D69B1E1E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87D-D621-41C0-BC4B-5C5ADAB0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CCD-5DEC-4C46-B354-3CBBA4870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88B-201C-40F3-BD54-C28405DC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336-5E94-4560-BB46-E3E4A408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8E6-5BFB-448C-83A1-C53825FE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6FBB-4BAD-4A21-B058-740C6213B38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1285920" y="2857680"/>
            <a:ext cx="6429240" cy="27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笔算除法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Text Box 12"/>
          <p:cNvSpPr/>
          <p:nvPr/>
        </p:nvSpPr>
        <p:spPr>
          <a:xfrm>
            <a:off x="0" y="3571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义务教育课程标准实验教科书 四年级上册第</a:t>
            </a:r>
            <a:r>
              <a:rPr b="1" lang="en-US" sz="2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84</a:t>
            </a:r>
            <a:r>
              <a:rPr b="1" lang="zh-CN" sz="20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1571760" y="1931400"/>
            <a:ext cx="53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除数接近整十数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428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根据试商的情况，很快说出准确商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" descr="《笔算除法》图片六"/>
          <p:cNvPicPr/>
          <p:nvPr/>
        </p:nvPicPr>
        <p:blipFill>
          <a:blip r:embed="rId1"/>
          <a:stretch/>
        </p:blipFill>
        <p:spPr>
          <a:xfrm>
            <a:off x="250920" y="2349360"/>
            <a:ext cx="7596000" cy="32418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5"/>
          <p:cNvSpPr/>
          <p:nvPr/>
        </p:nvSpPr>
        <p:spPr>
          <a:xfrm>
            <a:off x="1337760" y="2540160"/>
            <a:ext cx="461160" cy="764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977040" y="4149720"/>
            <a:ext cx="741600" cy="764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348000" y="2492280"/>
            <a:ext cx="544680" cy="764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776680" y="4221000"/>
            <a:ext cx="1022040" cy="764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1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5298480" y="2565360"/>
            <a:ext cx="461160" cy="764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"/>
          <p:cNvSpPr/>
          <p:nvPr/>
        </p:nvSpPr>
        <p:spPr>
          <a:xfrm>
            <a:off x="4792680" y="4076640"/>
            <a:ext cx="1022040" cy="764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3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7050960" y="4653000"/>
            <a:ext cx="59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357120" y="285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P86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练习十五第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2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《笔算除法》图片七"/>
          <p:cNvPicPr/>
          <p:nvPr/>
        </p:nvPicPr>
        <p:blipFill>
          <a:blip r:embed="rId1"/>
          <a:stretch/>
        </p:blipFill>
        <p:spPr>
          <a:xfrm>
            <a:off x="0" y="692280"/>
            <a:ext cx="6696000" cy="22334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7"/>
          <p:cNvSpPr/>
          <p:nvPr/>
        </p:nvSpPr>
        <p:spPr>
          <a:xfrm>
            <a:off x="1763640" y="3357720"/>
            <a:ext cx="7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8"/>
          <p:cNvSpPr/>
          <p:nvPr/>
        </p:nvSpPr>
        <p:spPr>
          <a:xfrm>
            <a:off x="1332000" y="4365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57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1116000" y="494172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1547640" y="486900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4284720" y="3357720"/>
            <a:ext cx="7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3714840" y="4357800"/>
            <a:ext cx="13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2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>
            <a:off x="3708360" y="501336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4035600" y="4941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华文中宋"/>
                <a:ea typeface="华文中宋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428760" y="3286080"/>
            <a:ext cx="216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1793520" y="2100240"/>
            <a:ext cx="8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1495800" y="1700280"/>
            <a:ext cx="4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3492360" y="1125360"/>
            <a:ext cx="13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4025880" y="2100240"/>
            <a:ext cx="81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×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2916360" y="3284640"/>
            <a:ext cx="22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214200" y="142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P86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练习十五第</a:t>
            </a:r>
            <a:r>
              <a:rPr b="1" lang="en-US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3</a:t>
            </a:r>
            <a:r>
              <a:rPr b="1" lang="zh-CN" sz="1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53964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Times New Roman"/>
              </a:rPr>
              <a:t>20×</a:t>
            </a:r>
            <a:r>
              <a:rPr b="0" lang="zh-CN" sz="3200" spc="-1" strike="noStrike">
                <a:solidFill>
                  <a:srgbClr val="c0504d"/>
                </a:solidFill>
                <a:latin typeface="Times New Roman"/>
              </a:rPr>
              <a:t>（ ）﹤</a:t>
            </a:r>
            <a:r>
              <a:rPr b="0" lang="en-US" sz="3200" spc="-1" strike="noStrike">
                <a:solidFill>
                  <a:srgbClr val="c0504d"/>
                </a:solidFill>
                <a:latin typeface="Times New Roman"/>
              </a:rPr>
              <a:t>85     40×</a:t>
            </a:r>
            <a:r>
              <a:rPr b="0" lang="zh-CN" sz="3200" spc="-1" strike="noStrike">
                <a:solidFill>
                  <a:srgbClr val="c0504d"/>
                </a:solidFill>
                <a:latin typeface="Times New Roman"/>
              </a:rPr>
              <a:t>（ ）﹤</a:t>
            </a:r>
            <a:r>
              <a:rPr b="0" lang="en-US" sz="3200" spc="-1" strike="noStrike">
                <a:solidFill>
                  <a:srgbClr val="c0504d"/>
                </a:solidFill>
                <a:latin typeface="Times New Roman"/>
              </a:rPr>
              <a:t>316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Times New Roman"/>
              </a:rPr>
              <a:t>70×</a:t>
            </a:r>
            <a:r>
              <a:rPr b="0" lang="zh-CN" sz="3200" spc="-1" strike="noStrike">
                <a:solidFill>
                  <a:srgbClr val="c0504d"/>
                </a:solidFill>
                <a:latin typeface="Times New Roman"/>
              </a:rPr>
              <a:t>（ ）﹤</a:t>
            </a:r>
            <a:r>
              <a:rPr b="0" lang="en-US" sz="3200" spc="-1" strike="noStrike">
                <a:solidFill>
                  <a:srgbClr val="c0504d"/>
                </a:solidFill>
                <a:latin typeface="Times New Roman"/>
              </a:rPr>
              <a:t>165     50×</a:t>
            </a:r>
            <a:r>
              <a:rPr b="0" lang="zh-CN" sz="3200" spc="-1" strike="noStrike">
                <a:solidFill>
                  <a:srgbClr val="c0504d"/>
                </a:solidFill>
                <a:latin typeface="Times New Roman"/>
              </a:rPr>
              <a:t>（ ）﹤</a:t>
            </a:r>
            <a:r>
              <a:rPr b="0" lang="en-US" sz="3200" spc="-1" strike="noStrike">
                <a:solidFill>
                  <a:srgbClr val="c0504d"/>
                </a:solidFill>
                <a:latin typeface="Times New Roman"/>
              </a:rPr>
              <a:t>4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549440" y="20606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859280" y="2708280"/>
            <a:ext cx="64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8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1619280" y="2708280"/>
            <a:ext cx="5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4644720" y="21337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179280" y="4724280"/>
            <a:ext cx="244980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1476360" y="4292640"/>
            <a:ext cx="4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1260360" y="522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/>
          <p:cNvSpPr/>
          <p:nvPr/>
        </p:nvSpPr>
        <p:spPr>
          <a:xfrm>
            <a:off x="1044720" y="544500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1478160" y="57340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0"/>
          <p:cNvSpPr/>
          <p:nvPr/>
        </p:nvSpPr>
        <p:spPr>
          <a:xfrm>
            <a:off x="2485800" y="39337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4 ……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4464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、口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Calibri"/>
                <a:ea typeface="宋体"/>
              </a:rPr>
              <a:t>括号里最大能填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-360" y="2781000"/>
            <a:ext cx="277164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二、笔算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  <a:ea typeface="宋体"/>
              </a:rPr>
              <a:t>84÷20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3214800" y="4929120"/>
            <a:ext cx="5516280" cy="6426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如果除数不是整十数又该怎样算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《笔算除法》图片四"/>
          <p:cNvPicPr/>
          <p:nvPr/>
        </p:nvPicPr>
        <p:blipFill>
          <a:blip r:embed="rId1"/>
          <a:stretch/>
        </p:blipFill>
        <p:spPr>
          <a:xfrm>
            <a:off x="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2548080" y="5589720"/>
            <a:ext cx="3390480" cy="642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一本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作文选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要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60" y="1773000"/>
            <a:ext cx="66913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一本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作文选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多少元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253600" y="3357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000160" y="4500720"/>
            <a:ext cx="195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050920" y="5013000"/>
            <a:ext cx="719280" cy="32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2359080" y="49291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2821320" y="2421000"/>
            <a:ext cx="154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(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116000" y="335772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698840" y="5661000"/>
            <a:ext cx="31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答：一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文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要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1189080" y="3429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203640" y="3585240"/>
            <a:ext cx="2797200" cy="1287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注意：要用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与原来的除数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1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相乘，千万不能用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与看成的这个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去乘。</a:t>
            </a:r>
            <a:r>
              <a:rPr b="1" lang="zh-CN" sz="28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539640" y="2421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4÷2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2556000" y="1628640"/>
            <a:ext cx="914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700360" y="3933720"/>
            <a:ext cx="914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234440" y="836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笔算下面各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931320" y="170028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9÷23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684360" y="407664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24÷81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755640" y="184464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3"/>
          <p:cNvSpPr/>
          <p:nvPr/>
        </p:nvSpPr>
        <p:spPr>
          <a:xfrm>
            <a:off x="757440" y="2205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4"/>
          <p:cNvSpPr/>
          <p:nvPr/>
        </p:nvSpPr>
        <p:spPr>
          <a:xfrm>
            <a:off x="1909800" y="2060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1693800" y="2924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6"/>
          <p:cNvSpPr/>
          <p:nvPr/>
        </p:nvSpPr>
        <p:spPr>
          <a:xfrm>
            <a:off x="1333440" y="30686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7"/>
          <p:cNvSpPr/>
          <p:nvPr/>
        </p:nvSpPr>
        <p:spPr>
          <a:xfrm>
            <a:off x="1909800" y="3284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900000" y="4149720"/>
            <a:ext cx="19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1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901800" y="4437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0"/>
          <p:cNvSpPr/>
          <p:nvPr/>
        </p:nvSpPr>
        <p:spPr>
          <a:xfrm>
            <a:off x="2271600" y="436572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1840680" y="5300640"/>
            <a:ext cx="98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1692360" y="5516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2271600" y="580536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《笔算除法》图片四"/>
          <p:cNvPicPr/>
          <p:nvPr/>
        </p:nvPicPr>
        <p:blipFill>
          <a:blip r:embed="rId1"/>
          <a:stretch/>
        </p:blipFill>
        <p:spPr>
          <a:xfrm>
            <a:off x="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9"/>
          <p:cNvSpPr/>
          <p:nvPr/>
        </p:nvSpPr>
        <p:spPr>
          <a:xfrm>
            <a:off x="6372360" y="1052640"/>
            <a:ext cx="2987640" cy="2374920"/>
          </a:xfrm>
          <a:prstGeom prst="wedgeEllipseCallout">
            <a:avLst>
              <a:gd name="adj1" fmla="val -2287"/>
              <a:gd name="adj2" fmla="val -4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这种词典</a:t>
            </a: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39</a:t>
            </a:r>
            <a:r>
              <a:rPr b="1" lang="zh-CN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1484280"/>
            <a:ext cx="2195640" cy="1258920"/>
          </a:xfrm>
          <a:prstGeom prst="wedgeRoundRectCallout">
            <a:avLst>
              <a:gd name="adj1" fmla="val -6398"/>
              <a:gd name="adj2" fmla="val -4899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我还有</a:t>
            </a:r>
            <a:r>
              <a:rPr b="1" lang="en-US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196</a:t>
            </a:r>
            <a:r>
              <a:rPr b="1" lang="zh-CN" sz="24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元，想买那种词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8"/>
          <p:cNvSpPr/>
          <p:nvPr/>
        </p:nvSpPr>
        <p:spPr>
          <a:xfrm>
            <a:off x="2540880" y="2924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124000" y="407664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1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 flipV="1">
            <a:off x="5508720" y="4652640"/>
            <a:ext cx="1009440" cy="324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084720" y="4581360"/>
            <a:ext cx="5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2987640" y="2276640"/>
            <a:ext cx="369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本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) ……1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187280" y="2924280"/>
            <a:ext cx="24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1155600" y="3068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2050920" y="42210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  <a:ea typeface="华文中宋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2340000" y="4508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2843280" y="256536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4643280" y="2924280"/>
            <a:ext cx="244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9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4611600" y="2924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2"/>
          <p:cNvSpPr/>
          <p:nvPr/>
        </p:nvSpPr>
        <p:spPr>
          <a:xfrm>
            <a:off x="6040440" y="3068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 </a:t>
            </a: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3"/>
          <p:cNvSpPr/>
          <p:nvPr/>
        </p:nvSpPr>
        <p:spPr>
          <a:xfrm>
            <a:off x="5531760" y="407664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华文中宋"/>
                <a:ea typeface="华文中宋"/>
              </a:rPr>
              <a:t>1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4"/>
          <p:cNvSpPr/>
          <p:nvPr/>
        </p:nvSpPr>
        <p:spPr>
          <a:xfrm>
            <a:off x="3203640" y="4653000"/>
            <a:ext cx="1511280" cy="3988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余数比商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1014840" y="2205000"/>
            <a:ext cx="18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6÷39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179280" y="1052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老师还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要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一本的词典，可以买多少本？还剩多少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684360" y="5516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答：可以买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本，还剩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5292720" y="357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1"/>
          <p:cNvSpPr/>
          <p:nvPr/>
        </p:nvSpPr>
        <p:spPr>
          <a:xfrm>
            <a:off x="1692360" y="3213000"/>
            <a:ext cx="1295280" cy="164628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6"/>
          <p:cNvSpPr/>
          <p:nvPr/>
        </p:nvSpPr>
        <p:spPr>
          <a:xfrm>
            <a:off x="2197080" y="19162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3278160" y="1916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3060720" y="2852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2844720" y="30686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3278160" y="335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3924360" y="126828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3……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5219640" y="1413000"/>
            <a:ext cx="41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2155320" y="134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90÷29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1939680" y="393372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504d"/>
                </a:solidFill>
                <a:latin typeface="Times New Roman"/>
                <a:ea typeface="楷体_GB2312"/>
              </a:rPr>
              <a:t>185÷37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2"/>
          <p:cNvSpPr/>
          <p:nvPr/>
        </p:nvSpPr>
        <p:spPr>
          <a:xfrm>
            <a:off x="1909800" y="4365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3"/>
          <p:cNvSpPr/>
          <p:nvPr/>
        </p:nvSpPr>
        <p:spPr>
          <a:xfrm>
            <a:off x="3132000" y="422100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2701800" y="5300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5"/>
          <p:cNvSpPr/>
          <p:nvPr/>
        </p:nvSpPr>
        <p:spPr>
          <a:xfrm>
            <a:off x="2629080" y="551664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6"/>
          <p:cNvSpPr/>
          <p:nvPr/>
        </p:nvSpPr>
        <p:spPr>
          <a:xfrm>
            <a:off x="3133800" y="580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  <a:ea typeface="楷体_GB2312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2124000" y="1700280"/>
            <a:ext cx="25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1763640" y="4149720"/>
            <a:ext cx="252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7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9"/>
          <p:cNvSpPr/>
          <p:nvPr/>
        </p:nvSpPr>
        <p:spPr>
          <a:xfrm>
            <a:off x="3276720" y="378936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9"/>
          <p:cNvSpPr/>
          <p:nvPr/>
        </p:nvSpPr>
        <p:spPr>
          <a:xfrm>
            <a:off x="2643120" y="2714760"/>
            <a:ext cx="5214960" cy="2803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般情况下，可以按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四舍五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法，把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除数看作与它接近的整十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试商，试商如果不合适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调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商的大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785880" y="2928960"/>
            <a:ext cx="1439640" cy="264312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试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2357280" y="1357200"/>
            <a:ext cx="5715000" cy="85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除数接近整十数的笔算除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611280" y="1197000"/>
            <a:ext cx="0" cy="1079640"/>
          </a:xfrm>
          <a:prstGeom prst="line">
            <a:avLst/>
          </a:prstGeom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组合 16"/>
          <p:cNvGrpSpPr/>
          <p:nvPr/>
        </p:nvGrpSpPr>
        <p:grpSpPr>
          <a:xfrm>
            <a:off x="642960" y="1000080"/>
            <a:ext cx="7389720" cy="4803840"/>
            <a:chOff x="642960" y="1000080"/>
            <a:chExt cx="7389720" cy="4803840"/>
          </a:xfrm>
        </p:grpSpPr>
        <p:sp>
          <p:nvSpPr>
            <p:cNvPr id="133" name="Rectangle 12"/>
            <p:cNvSpPr/>
            <p:nvPr/>
          </p:nvSpPr>
          <p:spPr>
            <a:xfrm>
              <a:off x="642960" y="1000080"/>
              <a:ext cx="1679760" cy="156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4"/>
            <p:cNvSpPr/>
            <p:nvPr/>
          </p:nvSpPr>
          <p:spPr>
            <a:xfrm>
              <a:off x="642960" y="2566080"/>
              <a:ext cx="738972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2322720" y="1000080"/>
              <a:ext cx="0" cy="480384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42"/>
            <p:cNvSpPr/>
            <p:nvPr/>
          </p:nvSpPr>
          <p:spPr>
            <a:xfrm>
              <a:off x="2322720" y="5803920"/>
              <a:ext cx="570996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642960" y="5803920"/>
              <a:ext cx="1679760" cy="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8032680" y="1000080"/>
              <a:ext cx="0" cy="480384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3"/>
            <p:cNvSpPr/>
            <p:nvPr/>
          </p:nvSpPr>
          <p:spPr>
            <a:xfrm>
              <a:off x="642960" y="1000080"/>
              <a:ext cx="7389720" cy="0"/>
            </a:xfrm>
            <a:prstGeom prst="line">
              <a:avLst/>
            </a:prstGeom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8"/>
            <p:cNvSpPr/>
            <p:nvPr/>
          </p:nvSpPr>
          <p:spPr>
            <a:xfrm>
              <a:off x="642960" y="2566080"/>
              <a:ext cx="0" cy="3237840"/>
            </a:xfrm>
            <a:prstGeom prst="line">
              <a:avLst/>
            </a:prstGeom>
            <a:ln cap="sq"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02:41:03Z</dcterms:created>
  <dc:creator/>
  <dc:description/>
  <cp:keywords/>
  <dc:language>en-US</dc:language>
  <cp:lastModifiedBy>Administrator</cp:lastModifiedBy>
  <dcterms:modified xsi:type="dcterms:W3CDTF">2015-02-20T16:25:27Z</dcterms:modified>
  <cp:revision>200</cp:revision>
  <dc:subject/>
  <dc:title>幻灯片 1</dc:title>
</cp:coreProperties>
</file>