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hammer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FBA-4C37-4FDB-910D-C3F247BC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368-1A14-4EE1-9D7C-5419BD7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1E9-17C1-43FC-9AF0-7517651C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E21-6008-4ABF-8BB6-37F878D6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20AA-0459-4867-8DB3-BFA38B3D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4708-6970-4B57-975D-B95729B0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024F-7DAD-4CAE-8EE6-D692453B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0398-2965-4662-A379-D3728C66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BF28-87BF-4699-8398-62DF8AEE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0574-77CB-4227-A8DB-93AF52A1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F4C4-9A2C-4050-A109-E4896985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62C-8B1F-4BCC-AF1E-B70E5D8F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8634-F5E4-4876-AD5C-2F91A8D7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754F-F5BC-4F5F-9699-E250A7D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2C8A-0312-43F0-86CD-FE6F3F4D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B882-B94B-4FAF-A1C1-979E1E34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5117-10AA-4660-B74B-F42BA33D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CE63-3A44-4E19-961B-CDCA8331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4715-92EE-417C-91B1-3FF2D852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FF8BD-2A60-47E5-BB2A-93204E8A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0C46-3DD0-4E6D-9BEF-DF6DE3D0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78CC-C61E-47AF-9BEC-BF751B1F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5CB-F4B2-474B-9DF8-6448052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D9E0-B742-41A6-A0E5-C7849514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0B33-BE07-4A5D-BDAE-556E7B6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A1B1-5B71-44C1-A466-D5ADC76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6BD5-31BE-43D8-8659-B4CD34C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5B74-7E86-494D-B88A-94045845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467D-C698-43B7-A365-4F6A09C2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0E8B0-A718-49BD-A8B9-9501E6FA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881-6132-4D2A-ADF6-F9863BA7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066-809E-4AD5-98B0-41BCA733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03C-4FD5-4CB7-BD0D-9F8C53C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888-0EEC-4F7D-9BD9-74C1F37F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69A-BB48-487F-AFAE-9720C53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3F8-FF5A-4647-AF22-5254639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2065-2E36-4428-903E-8DCDDF7826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844F-5643-4B1B-A3C6-C4DE3907A8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DB48-6832-45EC-835B-CD4E90D1FC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380880" y="2514600"/>
            <a:ext cx="8228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华文隶书"/>
                <a:ea typeface="华文隶书"/>
              </a:rPr>
              <a:t>             </a:t>
            </a:r>
            <a:r>
              <a:rPr b="1" lang="zh-CN" sz="3200" spc="-1" strike="noStrike">
                <a:solidFill>
                  <a:srgbClr val="ff0066"/>
                </a:solidFill>
                <a:latin typeface="华文隶书"/>
                <a:ea typeface="华文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357200" y="4000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 rot="120000">
            <a:off x="1322280" y="2695320"/>
            <a:ext cx="6070680" cy="16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因数和倍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图片 1" descr="5c9164e85a6cefbed945e60f626b49e0.jpg"/>
          <p:cNvPicPr/>
          <p:nvPr/>
        </p:nvPicPr>
        <p:blipFill>
          <a:blip r:embed="rId1"/>
          <a:stretch/>
        </p:blipFill>
        <p:spPr>
          <a:xfrm>
            <a:off x="714240" y="428760"/>
            <a:ext cx="785880" cy="10713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2527200" y="642960"/>
            <a:ext cx="42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你能找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所有因数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615960" y="1525680"/>
            <a:ext cx="23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因数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7"/>
          <p:cNvSpPr/>
          <p:nvPr/>
        </p:nvSpPr>
        <p:spPr>
          <a:xfrm flipH="1">
            <a:off x="457200" y="2743200"/>
            <a:ext cx="1440" cy="449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0"/>
          <p:cNvSpPr/>
          <p:nvPr/>
        </p:nvSpPr>
        <p:spPr>
          <a:xfrm flipH="1" flipV="1">
            <a:off x="76320" y="6858000"/>
            <a:ext cx="8286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11"/>
          <p:cNvSpPr/>
          <p:nvPr/>
        </p:nvSpPr>
        <p:spPr>
          <a:xfrm flipH="1">
            <a:off x="8610120" y="2819520"/>
            <a:ext cx="1800" cy="4502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2819520" y="1523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1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30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2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15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3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10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5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457200" y="2666880"/>
            <a:ext cx="82868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F012s.jpg"/>
          <p:cNvPicPr/>
          <p:nvPr/>
        </p:nvPicPr>
        <p:blipFill>
          <a:blip r:embed="rId1"/>
          <a:stretch/>
        </p:blipFill>
        <p:spPr>
          <a:xfrm>
            <a:off x="1071720" y="1482840"/>
            <a:ext cx="411120" cy="3603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3" descr="F012s.jpg"/>
          <p:cNvPicPr/>
          <p:nvPr/>
        </p:nvPicPr>
        <p:blipFill>
          <a:blip r:embed="rId2"/>
          <a:stretch/>
        </p:blipFill>
        <p:spPr>
          <a:xfrm>
            <a:off x="1143000" y="2571840"/>
            <a:ext cx="411120" cy="3603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4" descr="F012s.jpg"/>
          <p:cNvPicPr/>
          <p:nvPr/>
        </p:nvPicPr>
        <p:blipFill>
          <a:blip r:embed="rId3"/>
          <a:stretch/>
        </p:blipFill>
        <p:spPr>
          <a:xfrm>
            <a:off x="1214280" y="3643200"/>
            <a:ext cx="411480" cy="3603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5" descr="F012s.jpg"/>
          <p:cNvPicPr/>
          <p:nvPr/>
        </p:nvPicPr>
        <p:blipFill>
          <a:blip r:embed="rId4"/>
          <a:stretch/>
        </p:blipFill>
        <p:spPr>
          <a:xfrm>
            <a:off x="1214280" y="4786200"/>
            <a:ext cx="411480" cy="3603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1714680" y="1500120"/>
            <a:ext cx="20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257184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1571760" y="3643200"/>
            <a:ext cx="22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571760" y="4857840"/>
            <a:ext cx="22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10" descr="u=2956867505,1060788636&amp;fm=0&amp;gp=24.jpg"/>
          <p:cNvPicPr/>
          <p:nvPr/>
        </p:nvPicPr>
        <p:blipFill>
          <a:blip r:embed="rId5"/>
          <a:stretch/>
        </p:blipFill>
        <p:spPr>
          <a:xfrm>
            <a:off x="428760" y="42876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2"/>
          <p:cNvSpPr/>
          <p:nvPr/>
        </p:nvSpPr>
        <p:spPr>
          <a:xfrm>
            <a:off x="2526120" y="6429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下面各数的因数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643200" y="150012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3699720" y="257184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3698280" y="3643200"/>
            <a:ext cx="27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7"/>
          <p:cNvSpPr/>
          <p:nvPr/>
        </p:nvSpPr>
        <p:spPr>
          <a:xfrm>
            <a:off x="3618720" y="485784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9" descr="F012s.jpg"/>
          <p:cNvPicPr/>
          <p:nvPr/>
        </p:nvPicPr>
        <p:blipFill>
          <a:blip r:embed="rId6"/>
          <a:stretch/>
        </p:blipFill>
        <p:spPr>
          <a:xfrm>
            <a:off x="285840" y="5715000"/>
            <a:ext cx="493560" cy="431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20"/>
          <p:cNvSpPr/>
          <p:nvPr/>
        </p:nvSpPr>
        <p:spPr>
          <a:xfrm>
            <a:off x="4479840" y="5786280"/>
            <a:ext cx="121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一个数最小的因数是</a:t>
            </a:r>
            <a:r>
              <a:rPr b="0" lang="en-US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1</a:t>
            </a:r>
            <a:r>
              <a:rPr b="0" lang="zh-CN" sz="3200" spc="-1" strike="noStrike">
                <a:solidFill>
                  <a:srgbClr val="c00000"/>
                </a:solidFill>
                <a:latin typeface="华文隶书"/>
                <a:ea typeface="华文隶书"/>
              </a:rPr>
              <a:t>，最大的因数是它本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练习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写出下列个数的因数和倍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2209680"/>
          <a:ext cx="8229600" cy="3946680"/>
        </p:xfrm>
        <a:graphic>
          <a:graphicData uri="http://schemas.openxmlformats.org/drawingml/2006/table">
            <a:tbl>
              <a:tblPr/>
              <a:tblGrid>
                <a:gridCol w="1806480"/>
                <a:gridCol w="3067200"/>
                <a:gridCol w="335592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因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倍数（写出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个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练习题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731960"/>
                <a:gridCol w="3409920"/>
                <a:gridCol w="30877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因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倍数（写出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个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2   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 8   12   16  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  14   21   28   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15   3 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  30   45  60  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 32  2   16   4   8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 64  96  128  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40  2  20  4  10  5 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 80   120  160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WordArt 4"/>
          <p:cNvSpPr txBox="1"/>
          <p:nvPr/>
        </p:nvSpPr>
        <p:spPr>
          <a:xfrm rot="60000">
            <a:off x="2347920" y="1945800"/>
            <a:ext cx="42609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大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82" name="凤凰传奇 - 荷塘月色.mp3" descr="凤凰传奇 - 荷塘月色"/>
          <p:cNvPicPr/>
          <p:nvPr/>
        </p:nvPicPr>
        <p:blipFill>
          <a:blip r:embed="rId1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249339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理解因数和倍数的概念，能够找出一个数的因数的和倍数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知道这个数的因数和倍数各有什么特征，能够解决相关的实际问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培养同学们的合作意识、探索意识，以及热爱数学学习的情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76320"/>
            <a:ext cx="82296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90720" y="266688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352680" y="274320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257800" y="243828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848720" y="220968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914400" y="457200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895480" y="426708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6400800" y="411480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5334120" y="426708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6934320" y="327672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590920" y="335268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590920" y="167652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6629400" y="2057400"/>
            <a:ext cx="9144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214200" y="1143000"/>
            <a:ext cx="5214960" cy="357120"/>
            <a:chOff x="214200" y="1143000"/>
            <a:chExt cx="5214960" cy="357120"/>
          </a:xfrm>
        </p:grpSpPr>
        <p:sp>
          <p:nvSpPr>
            <p:cNvPr id="143" name="矩形 1"/>
            <p:cNvSpPr/>
            <p:nvPr/>
          </p:nvSpPr>
          <p:spPr>
            <a:xfrm>
              <a:off x="214200" y="1143000"/>
              <a:ext cx="5214960" cy="3567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3"/>
            <p:cNvSpPr/>
            <p:nvPr/>
          </p:nvSpPr>
          <p:spPr>
            <a:xfrm>
              <a:off x="2821320" y="114336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3"/>
            <p:cNvSpPr/>
            <p:nvPr/>
          </p:nvSpPr>
          <p:spPr>
            <a:xfrm>
              <a:off x="412560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4"/>
            <p:cNvSpPr/>
            <p:nvPr/>
          </p:nvSpPr>
          <p:spPr>
            <a:xfrm>
              <a:off x="369072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6"/>
            <p:cNvSpPr/>
            <p:nvPr/>
          </p:nvSpPr>
          <p:spPr>
            <a:xfrm>
              <a:off x="325620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20"/>
            <p:cNvSpPr/>
            <p:nvPr/>
          </p:nvSpPr>
          <p:spPr>
            <a:xfrm>
              <a:off x="60516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21"/>
            <p:cNvSpPr/>
            <p:nvPr/>
          </p:nvSpPr>
          <p:spPr>
            <a:xfrm>
              <a:off x="103968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2"/>
            <p:cNvSpPr/>
            <p:nvPr/>
          </p:nvSpPr>
          <p:spPr>
            <a:xfrm>
              <a:off x="151776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23"/>
            <p:cNvSpPr/>
            <p:nvPr/>
          </p:nvSpPr>
          <p:spPr>
            <a:xfrm>
              <a:off x="195228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24"/>
            <p:cNvSpPr/>
            <p:nvPr/>
          </p:nvSpPr>
          <p:spPr>
            <a:xfrm>
              <a:off x="238716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25"/>
            <p:cNvSpPr/>
            <p:nvPr/>
          </p:nvSpPr>
          <p:spPr>
            <a:xfrm>
              <a:off x="499464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26"/>
            <p:cNvSpPr/>
            <p:nvPr/>
          </p:nvSpPr>
          <p:spPr>
            <a:xfrm>
              <a:off x="4560120" y="1143000"/>
              <a:ext cx="720" cy="356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29"/>
          <p:cNvSpPr/>
          <p:nvPr/>
        </p:nvSpPr>
        <p:spPr>
          <a:xfrm>
            <a:off x="405360" y="15717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 × 12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6"/>
          <p:cNvGrpSpPr/>
          <p:nvPr/>
        </p:nvGrpSpPr>
        <p:grpSpPr>
          <a:xfrm>
            <a:off x="6643800" y="0"/>
            <a:ext cx="357120" cy="5572080"/>
            <a:chOff x="6643800" y="0"/>
            <a:chExt cx="357120" cy="5572080"/>
          </a:xfrm>
        </p:grpSpPr>
        <p:sp>
          <p:nvSpPr>
            <p:cNvPr id="157" name="矩形 18"/>
            <p:cNvSpPr/>
            <p:nvPr/>
          </p:nvSpPr>
          <p:spPr>
            <a:xfrm rot="5400000">
              <a:off x="4036320" y="2607480"/>
              <a:ext cx="5572080" cy="3567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9"/>
            <p:cNvSpPr/>
            <p:nvPr/>
          </p:nvSpPr>
          <p:spPr>
            <a:xfrm flipH="1">
              <a:off x="6643800" y="278568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27"/>
            <p:cNvSpPr/>
            <p:nvPr/>
          </p:nvSpPr>
          <p:spPr>
            <a:xfrm flipH="1">
              <a:off x="6644160" y="41792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28"/>
            <p:cNvSpPr/>
            <p:nvPr/>
          </p:nvSpPr>
          <p:spPr>
            <a:xfrm flipH="1">
              <a:off x="6644160" y="37148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30"/>
            <p:cNvSpPr/>
            <p:nvPr/>
          </p:nvSpPr>
          <p:spPr>
            <a:xfrm flipH="1">
              <a:off x="6644160" y="32504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31"/>
            <p:cNvSpPr/>
            <p:nvPr/>
          </p:nvSpPr>
          <p:spPr>
            <a:xfrm flipH="1">
              <a:off x="6644160" y="41760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32"/>
            <p:cNvSpPr/>
            <p:nvPr/>
          </p:nvSpPr>
          <p:spPr>
            <a:xfrm flipH="1">
              <a:off x="6644160" y="88200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33"/>
            <p:cNvSpPr/>
            <p:nvPr/>
          </p:nvSpPr>
          <p:spPr>
            <a:xfrm flipH="1">
              <a:off x="6644160" y="13928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34"/>
            <p:cNvSpPr/>
            <p:nvPr/>
          </p:nvSpPr>
          <p:spPr>
            <a:xfrm flipH="1">
              <a:off x="6644160" y="18572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35"/>
            <p:cNvSpPr/>
            <p:nvPr/>
          </p:nvSpPr>
          <p:spPr>
            <a:xfrm flipH="1">
              <a:off x="6644160" y="23216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36"/>
            <p:cNvSpPr/>
            <p:nvPr/>
          </p:nvSpPr>
          <p:spPr>
            <a:xfrm flipH="1">
              <a:off x="6644160" y="51080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37"/>
            <p:cNvSpPr/>
            <p:nvPr/>
          </p:nvSpPr>
          <p:spPr>
            <a:xfrm flipH="1">
              <a:off x="6644160" y="4643640"/>
              <a:ext cx="35676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9"/>
          <p:cNvGrpSpPr/>
          <p:nvPr/>
        </p:nvGrpSpPr>
        <p:grpSpPr>
          <a:xfrm>
            <a:off x="3928680" y="1928880"/>
            <a:ext cx="572040" cy="2357280"/>
            <a:chOff x="3928680" y="1928880"/>
            <a:chExt cx="572040" cy="2357280"/>
          </a:xfrm>
        </p:grpSpPr>
        <p:sp>
          <p:nvSpPr>
            <p:cNvPr id="170" name="矩形 71"/>
            <p:cNvSpPr/>
            <p:nvPr/>
          </p:nvSpPr>
          <p:spPr>
            <a:xfrm rot="5400000">
              <a:off x="3036240" y="2821680"/>
              <a:ext cx="2357280" cy="5716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72"/>
            <p:cNvSpPr/>
            <p:nvPr/>
          </p:nvSpPr>
          <p:spPr>
            <a:xfrm>
              <a:off x="4214160" y="1928880"/>
              <a:ext cx="36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73"/>
            <p:cNvSpPr/>
            <p:nvPr/>
          </p:nvSpPr>
          <p:spPr>
            <a:xfrm flipH="1" flipV="1">
              <a:off x="3929040" y="2321640"/>
              <a:ext cx="57168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74"/>
            <p:cNvSpPr/>
            <p:nvPr/>
          </p:nvSpPr>
          <p:spPr>
            <a:xfrm flipH="1" flipV="1">
              <a:off x="3928680" y="3893400"/>
              <a:ext cx="54324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75"/>
            <p:cNvSpPr/>
            <p:nvPr/>
          </p:nvSpPr>
          <p:spPr>
            <a:xfrm flipH="1" flipV="1">
              <a:off x="3929040" y="3500280"/>
              <a:ext cx="57168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76"/>
            <p:cNvSpPr/>
            <p:nvPr/>
          </p:nvSpPr>
          <p:spPr>
            <a:xfrm flipH="1">
              <a:off x="3929040" y="3107520"/>
              <a:ext cx="57168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77"/>
            <p:cNvSpPr/>
            <p:nvPr/>
          </p:nvSpPr>
          <p:spPr>
            <a:xfrm flipH="1" flipV="1">
              <a:off x="3929040" y="2714760"/>
              <a:ext cx="571680" cy="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214200" y="2499840"/>
            <a:ext cx="2500560" cy="606960"/>
            <a:chOff x="214200" y="2499840"/>
            <a:chExt cx="2500560" cy="606960"/>
          </a:xfrm>
        </p:grpSpPr>
        <p:sp>
          <p:nvSpPr>
            <p:cNvPr id="178" name="矩形 79"/>
            <p:cNvSpPr/>
            <p:nvPr/>
          </p:nvSpPr>
          <p:spPr>
            <a:xfrm>
              <a:off x="214200" y="2500200"/>
              <a:ext cx="2500560" cy="606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80"/>
            <p:cNvSpPr/>
            <p:nvPr/>
          </p:nvSpPr>
          <p:spPr>
            <a:xfrm flipV="1">
              <a:off x="214200" y="2802960"/>
              <a:ext cx="2500560" cy="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81"/>
            <p:cNvSpPr/>
            <p:nvPr/>
          </p:nvSpPr>
          <p:spPr>
            <a:xfrm flipV="1">
              <a:off x="1464480" y="2499840"/>
              <a:ext cx="720" cy="606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82"/>
            <p:cNvSpPr/>
            <p:nvPr/>
          </p:nvSpPr>
          <p:spPr>
            <a:xfrm flipV="1">
              <a:off x="589320" y="2499840"/>
              <a:ext cx="720" cy="606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83"/>
            <p:cNvSpPr/>
            <p:nvPr/>
          </p:nvSpPr>
          <p:spPr>
            <a:xfrm flipV="1">
              <a:off x="1005840" y="2499840"/>
              <a:ext cx="720" cy="606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84"/>
            <p:cNvSpPr/>
            <p:nvPr/>
          </p:nvSpPr>
          <p:spPr>
            <a:xfrm flipV="1">
              <a:off x="1881360" y="2499840"/>
              <a:ext cx="720" cy="606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85"/>
            <p:cNvSpPr/>
            <p:nvPr/>
          </p:nvSpPr>
          <p:spPr>
            <a:xfrm flipV="1">
              <a:off x="2298240" y="2499840"/>
              <a:ext cx="720" cy="606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Box 86"/>
          <p:cNvSpPr/>
          <p:nvPr/>
        </p:nvSpPr>
        <p:spPr>
          <a:xfrm>
            <a:off x="214200" y="3143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 × 6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6"/>
          <p:cNvGrpSpPr/>
          <p:nvPr/>
        </p:nvGrpSpPr>
        <p:grpSpPr>
          <a:xfrm>
            <a:off x="214200" y="4071960"/>
            <a:ext cx="1571760" cy="1000080"/>
            <a:chOff x="214200" y="4071960"/>
            <a:chExt cx="1571760" cy="1000080"/>
          </a:xfrm>
        </p:grpSpPr>
        <p:sp>
          <p:nvSpPr>
            <p:cNvPr id="187" name="矩形 88"/>
            <p:cNvSpPr/>
            <p:nvPr/>
          </p:nvSpPr>
          <p:spPr>
            <a:xfrm>
              <a:off x="214200" y="4071960"/>
              <a:ext cx="1571760" cy="1000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89"/>
            <p:cNvSpPr/>
            <p:nvPr/>
          </p:nvSpPr>
          <p:spPr>
            <a:xfrm>
              <a:off x="214200" y="4749480"/>
              <a:ext cx="1571760" cy="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90"/>
            <p:cNvSpPr/>
            <p:nvPr/>
          </p:nvSpPr>
          <p:spPr>
            <a:xfrm>
              <a:off x="214200" y="4426920"/>
              <a:ext cx="1571760" cy="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91"/>
            <p:cNvSpPr/>
            <p:nvPr/>
          </p:nvSpPr>
          <p:spPr>
            <a:xfrm flipH="1">
              <a:off x="1432440" y="4071960"/>
              <a:ext cx="720" cy="1000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92"/>
            <p:cNvSpPr/>
            <p:nvPr/>
          </p:nvSpPr>
          <p:spPr>
            <a:xfrm flipH="1">
              <a:off x="1000080" y="4071960"/>
              <a:ext cx="720" cy="1000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93"/>
            <p:cNvSpPr/>
            <p:nvPr/>
          </p:nvSpPr>
          <p:spPr>
            <a:xfrm flipH="1">
              <a:off x="606960" y="4071960"/>
              <a:ext cx="720" cy="1000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3"/>
          <p:cNvGrpSpPr/>
          <p:nvPr/>
        </p:nvGrpSpPr>
        <p:grpSpPr>
          <a:xfrm>
            <a:off x="2786040" y="3857760"/>
            <a:ext cx="1214640" cy="1280880"/>
            <a:chOff x="2786040" y="3857760"/>
            <a:chExt cx="1214640" cy="1280880"/>
          </a:xfrm>
        </p:grpSpPr>
        <p:sp>
          <p:nvSpPr>
            <p:cNvPr id="194" name="矩形 95"/>
            <p:cNvSpPr/>
            <p:nvPr/>
          </p:nvSpPr>
          <p:spPr>
            <a:xfrm rot="5400000">
              <a:off x="2752920" y="3890880"/>
              <a:ext cx="1280880" cy="12146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96"/>
            <p:cNvSpPr/>
            <p:nvPr/>
          </p:nvSpPr>
          <p:spPr>
            <a:xfrm flipH="1">
              <a:off x="3216960" y="3857760"/>
              <a:ext cx="720" cy="1280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97"/>
            <p:cNvSpPr/>
            <p:nvPr/>
          </p:nvSpPr>
          <p:spPr>
            <a:xfrm flipH="1">
              <a:off x="3609000" y="3857760"/>
              <a:ext cx="720" cy="1280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98"/>
            <p:cNvSpPr/>
            <p:nvPr/>
          </p:nvSpPr>
          <p:spPr>
            <a:xfrm>
              <a:off x="2786040" y="4177800"/>
              <a:ext cx="1214640" cy="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99"/>
            <p:cNvSpPr/>
            <p:nvPr/>
          </p:nvSpPr>
          <p:spPr>
            <a:xfrm>
              <a:off x="2786040" y="4498200"/>
              <a:ext cx="1214640" cy="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100"/>
            <p:cNvSpPr/>
            <p:nvPr/>
          </p:nvSpPr>
          <p:spPr>
            <a:xfrm>
              <a:off x="2786040" y="4818600"/>
              <a:ext cx="1214640" cy="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01"/>
          <p:cNvSpPr/>
          <p:nvPr/>
        </p:nvSpPr>
        <p:spPr>
          <a:xfrm>
            <a:off x="214200" y="5072040"/>
            <a:ext cx="24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 ×4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2"/>
          <p:cNvSpPr/>
          <p:nvPr/>
        </p:nvSpPr>
        <p:spPr>
          <a:xfrm>
            <a:off x="2585520" y="5072040"/>
            <a:ext cx="29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因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04"/>
          <p:cNvSpPr/>
          <p:nvPr/>
        </p:nvSpPr>
        <p:spPr>
          <a:xfrm>
            <a:off x="6067440" y="5072040"/>
            <a:ext cx="29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因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5"/>
          <p:cNvSpPr/>
          <p:nvPr/>
        </p:nvSpPr>
        <p:spPr>
          <a:xfrm>
            <a:off x="2876760" y="5786280"/>
            <a:ext cx="56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倍数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是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64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357480" cy="5716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07"/>
          <p:cNvSpPr/>
          <p:nvPr/>
        </p:nvSpPr>
        <p:spPr>
          <a:xfrm>
            <a:off x="2099880" y="500040"/>
            <a:ext cx="54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研究因数和倍数，所说的数都是指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自然数（</a:t>
            </a: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除外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8"/>
          <p:cNvSpPr/>
          <p:nvPr/>
        </p:nvSpPr>
        <p:spPr>
          <a:xfrm>
            <a:off x="519480" y="5857920"/>
            <a:ext cx="62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因数有：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1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12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2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6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3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700360" y="1268280"/>
            <a:ext cx="28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×  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680200" y="12574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670560" y="12574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105880" y="12574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3059280" y="2276640"/>
            <a:ext cx="1152000" cy="288360"/>
            <a:chOff x="3059280" y="2276640"/>
            <a:chExt cx="1152000" cy="288360"/>
          </a:xfrm>
        </p:grpSpPr>
        <p:sp>
          <p:nvSpPr>
            <p:cNvPr id="212" name="Line 7"/>
            <p:cNvSpPr/>
            <p:nvPr/>
          </p:nvSpPr>
          <p:spPr>
            <a:xfrm>
              <a:off x="3059280" y="2276640"/>
              <a:ext cx="0" cy="28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3059280" y="2565000"/>
              <a:ext cx="115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9"/>
            <p:cNvSpPr/>
            <p:nvPr/>
          </p:nvSpPr>
          <p:spPr>
            <a:xfrm>
              <a:off x="4211280" y="2276640"/>
              <a:ext cx="0" cy="28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"/>
          <p:cNvGrpSpPr/>
          <p:nvPr/>
        </p:nvGrpSpPr>
        <p:grpSpPr>
          <a:xfrm>
            <a:off x="3635280" y="2276640"/>
            <a:ext cx="2016000" cy="576000"/>
            <a:chOff x="3635280" y="2276640"/>
            <a:chExt cx="2016000" cy="576000"/>
          </a:xfrm>
        </p:grpSpPr>
        <p:sp>
          <p:nvSpPr>
            <p:cNvPr id="216" name="Line 11"/>
            <p:cNvSpPr/>
            <p:nvPr/>
          </p:nvSpPr>
          <p:spPr>
            <a:xfrm>
              <a:off x="3635280" y="2563560"/>
              <a:ext cx="0" cy="288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3635280" y="2852640"/>
              <a:ext cx="201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V="1">
              <a:off x="5651280" y="2276640"/>
              <a:ext cx="0" cy="57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14"/>
          <p:cNvSpPr/>
          <p:nvPr/>
        </p:nvSpPr>
        <p:spPr>
          <a:xfrm>
            <a:off x="2218680" y="3990960"/>
            <a:ext cx="478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因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2700360" y="1268280"/>
            <a:ext cx="28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×  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680200" y="12574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04200" y="12574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105880" y="12574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6"/>
          <p:cNvGrpSpPr/>
          <p:nvPr/>
        </p:nvGrpSpPr>
        <p:grpSpPr>
          <a:xfrm>
            <a:off x="3059280" y="2276640"/>
            <a:ext cx="1152000" cy="288360"/>
            <a:chOff x="3059280" y="2276640"/>
            <a:chExt cx="1152000" cy="288360"/>
          </a:xfrm>
        </p:grpSpPr>
        <p:sp>
          <p:nvSpPr>
            <p:cNvPr id="225" name="Line 7"/>
            <p:cNvSpPr/>
            <p:nvPr/>
          </p:nvSpPr>
          <p:spPr>
            <a:xfrm>
              <a:off x="3059280" y="2276640"/>
              <a:ext cx="0" cy="28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3059280" y="2565000"/>
              <a:ext cx="1152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4211280" y="2276640"/>
              <a:ext cx="0" cy="288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3635280" y="2276640"/>
            <a:ext cx="2016000" cy="576000"/>
            <a:chOff x="3635280" y="2276640"/>
            <a:chExt cx="2016000" cy="576000"/>
          </a:xfrm>
        </p:grpSpPr>
        <p:sp>
          <p:nvSpPr>
            <p:cNvPr id="229" name="Line 11"/>
            <p:cNvSpPr/>
            <p:nvPr/>
          </p:nvSpPr>
          <p:spPr>
            <a:xfrm>
              <a:off x="3635280" y="2563560"/>
              <a:ext cx="0" cy="288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3635280" y="2852640"/>
              <a:ext cx="201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 flipV="1">
              <a:off x="5651280" y="2276640"/>
              <a:ext cx="0" cy="57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4"/>
          <p:cNvSpPr/>
          <p:nvPr/>
        </p:nvSpPr>
        <p:spPr>
          <a:xfrm>
            <a:off x="2393280" y="3990960"/>
            <a:ext cx="443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因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700360" y="1268280"/>
            <a:ext cx="28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×   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680200" y="12574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904200" y="12574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105880" y="125748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4211640" y="2205000"/>
            <a:ext cx="1584360" cy="227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3059280" y="2276640"/>
            <a:ext cx="2665080" cy="492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1224360" y="4935600"/>
            <a:ext cx="349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倍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393280" y="3990960"/>
            <a:ext cx="443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因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203080" y="4935600"/>
            <a:ext cx="294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倍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-1)"/>
                                      </p:to>
                                    </p:se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2556000" y="1527120"/>
            <a:ext cx="3539160" cy="1110600"/>
            <a:chOff x="2556000" y="1527120"/>
            <a:chExt cx="3539160" cy="1110600"/>
          </a:xfrm>
        </p:grpSpPr>
        <p:sp>
          <p:nvSpPr>
            <p:cNvPr id="243" name="Rectangle 3"/>
            <p:cNvSpPr/>
            <p:nvPr/>
          </p:nvSpPr>
          <p:spPr>
            <a:xfrm>
              <a:off x="2576160" y="1538280"/>
              <a:ext cx="2879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4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   =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2556000" y="1527120"/>
              <a:ext cx="646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3779640" y="1527120"/>
              <a:ext cx="646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4981680" y="1527120"/>
              <a:ext cx="1113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7"/>
          <p:cNvSpPr/>
          <p:nvPr/>
        </p:nvSpPr>
        <p:spPr>
          <a:xfrm>
            <a:off x="2363040" y="4935600"/>
            <a:ext cx="443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倍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2393280" y="3990960"/>
            <a:ext cx="443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4800" spc="-1" strike="noStrike">
                <a:solidFill>
                  <a:srgbClr val="ff3399"/>
                </a:solidFill>
                <a:latin typeface="黑体"/>
                <a:ea typeface="黑体"/>
              </a:rPr>
              <a:t>因数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11280" y="213372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最小的因数是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最大的因数是它本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6:10:32Z</dcterms:created>
  <dc:creator/>
  <dc:description/>
  <cp:keywords/>
  <dc:language>en-US</dc:language>
  <cp:lastModifiedBy>Administrator</cp:lastModifiedBy>
  <dcterms:modified xsi:type="dcterms:W3CDTF">2015-02-28T00:54:0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  <property fmtid="{D5CDD505-2E9C-101B-9397-08002B2CF9AE}" pid="3" name="Version">
    <vt:r8>1</vt:r8>
  </property>
</Properties>
</file>