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media/image4.gif" ContentType="image/gif"/>
  <Override PartName="/ppt/media/image3.gif" ContentType="image/gif"/>
  <Override PartName="/ppt/media/image26.png" ContentType="image/png"/>
  <Override PartName="/ppt/media/image24.png" ContentType="image/png"/>
  <Override PartName="/ppt/media/image23.png" ContentType="image/png"/>
  <Override PartName="/ppt/media/image2.gif" ContentType="image/gif"/>
  <Override PartName="/ppt/media/image22.gif" ContentType="image/gif"/>
  <Override PartName="/ppt/media/image25.png" ContentType="image/png"/>
  <Override PartName="/ppt/media/image21.png" ContentType="image/png"/>
  <Override PartName="/ppt/media/image19.jpeg" ContentType="image/jpeg"/>
  <Override PartName="/ppt/media/image17.gif" ContentType="image/gif"/>
  <Override PartName="/ppt/media/image20.png" ContentType="image/png"/>
  <Override PartName="/ppt/media/image15.gif" ContentType="image/gif"/>
  <Override PartName="/ppt/media/image1.gif" ContentType="image/gi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自定义放映 1" id="0">
      <p:sldLst>
        <p:sld r:id="rId7"/>
        <p:sld r:id="rId8"/>
        <p:sld r:id="rId9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CB8-8B47-4AC8-B141-AE027C10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8F9-39AC-401E-BD86-546C12B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6F5-22AA-440B-9787-F21FE02D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F73-F4E3-469A-9846-903A7491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397-DC41-4ACD-880E-FC8B321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A06-46C1-444F-8229-1151D84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0137-66AF-491A-9544-14102223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D30-7E94-4BC1-B645-AFCDE13A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82C-FFDF-4A92-89A2-40EAD9D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325-E203-40E5-842B-7F36CE1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DC3-65E6-404B-B1C4-0360336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275-1F9D-4C92-B8BA-D3C238BA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3BF0-3C56-45EA-8854-B0A3E6EEE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hyperlink" Target="file:///E:/&#24555;&#20048;&#20803;&#32032;/&#36873;&#31168;%20-&#19977;&#65288;4&#65289;.ppt" TargetMode="External"/><Relationship Id="rId14" Type="http://schemas.openxmlformats.org/officeDocument/2006/relationships/image" Target="../media/image6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E:/&#24555;&#20048;&#20803;&#32032;/&#36873;&#31168;%20-&#19977;&#65288;4&#65289;.ppt" TargetMode="External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:/&#24555;&#20048;&#20803;&#32032;/&#36873;&#31168;%20-&#19977;&#65288;4&#65289;.ppt" TargetMode="External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8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80716114232595"/>
          <p:cNvPicPr/>
          <p:nvPr/>
        </p:nvPicPr>
        <p:blipFill>
          <a:blip r:embed="rId1"/>
          <a:stretch/>
        </p:blipFill>
        <p:spPr>
          <a:xfrm>
            <a:off x="395280" y="501336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0080716114351316"/>
          <p:cNvPicPr/>
          <p:nvPr/>
        </p:nvPicPr>
        <p:blipFill>
          <a:blip r:embed="rId2"/>
          <a:stretch/>
        </p:blipFill>
        <p:spPr>
          <a:xfrm>
            <a:off x="7236000" y="4941720"/>
            <a:ext cx="1495080" cy="1495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0080716114244477"/>
          <p:cNvPicPr/>
          <p:nvPr/>
        </p:nvPicPr>
        <p:blipFill>
          <a:blip r:embed="rId3"/>
          <a:stretch/>
        </p:blipFill>
        <p:spPr>
          <a:xfrm>
            <a:off x="2700360" y="5013360"/>
            <a:ext cx="149544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009040335035845"/>
          <p:cNvPicPr/>
          <p:nvPr/>
        </p:nvPicPr>
        <p:blipFill>
          <a:blip r:embed="rId4"/>
          <a:stretch/>
        </p:blipFill>
        <p:spPr>
          <a:xfrm>
            <a:off x="4716360" y="4869000"/>
            <a:ext cx="1685880" cy="168588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332000" y="620640"/>
            <a:ext cx="7134120" cy="25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三位数乘两位数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971640" y="3284640"/>
            <a:ext cx="7705800" cy="30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笔"/>
          <p:cNvPicPr/>
          <p:nvPr/>
        </p:nvPicPr>
        <p:blipFill>
          <a:blip r:embed="rId1"/>
          <a:srcRect l="0" t="0" r="54921" b="40602"/>
          <a:stretch/>
        </p:blipFill>
        <p:spPr>
          <a:xfrm>
            <a:off x="324000" y="909720"/>
            <a:ext cx="790560" cy="701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1116000" y="765000"/>
            <a:ext cx="3168720" cy="100836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7556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总结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893960" y="1843560"/>
            <a:ext cx="528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因数中间、末尾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乘法笔算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确定积末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个数？写竖式时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572920" y="3305520"/>
            <a:ext cx="469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先把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前面的数相乘，再看两个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数末尾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共有几个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则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积的末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添写几个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269080" y="5300280"/>
            <a:ext cx="48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写竖式时末尾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前边的数对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77548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476360" y="189000"/>
            <a:ext cx="2590920" cy="10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大显身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020120" y="1219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绿树开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2608920" y="3139200"/>
            <a:ext cx="3677400" cy="3063960"/>
            <a:chOff x="2608920" y="3139200"/>
            <a:chExt cx="3677400" cy="3063960"/>
          </a:xfrm>
        </p:grpSpPr>
        <p:pic>
          <p:nvPicPr>
            <p:cNvPr id="132" name="Picture 6" descr="u=826170702,2521371466&amp;fm=0&amp;gp=46"/>
            <p:cNvPicPr/>
            <p:nvPr/>
          </p:nvPicPr>
          <p:blipFill>
            <a:blip r:embed="rId1"/>
            <a:srcRect l="60691" t="31044" r="33504" b="8899"/>
            <a:stretch/>
          </p:blipFill>
          <p:spPr>
            <a:xfrm rot="352200">
              <a:off x="4427640" y="3718080"/>
              <a:ext cx="36036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" descr="u=3641548654,1696020474&amp;fm=3&amp;gp=49"/>
            <p:cNvPicPr/>
            <p:nvPr/>
          </p:nvPicPr>
          <p:blipFill>
            <a:blip r:embed="rId2"/>
            <a:stretch/>
          </p:blipFill>
          <p:spPr>
            <a:xfrm rot="14179200">
              <a:off x="2836440" y="357948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u=3641548654,1696020474&amp;fm=3&amp;gp=49"/>
            <p:cNvPicPr/>
            <p:nvPr/>
          </p:nvPicPr>
          <p:blipFill>
            <a:blip r:embed="rId3"/>
            <a:stretch/>
          </p:blipFill>
          <p:spPr>
            <a:xfrm rot="20481000">
              <a:off x="4355640" y="378900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9" descr="u=3641548654,1696020474&amp;fm=3&amp;gp=49"/>
            <p:cNvPicPr/>
            <p:nvPr/>
          </p:nvPicPr>
          <p:blipFill>
            <a:blip r:embed="rId4"/>
            <a:stretch/>
          </p:blipFill>
          <p:spPr>
            <a:xfrm rot="14179200">
              <a:off x="2765160" y="4371480"/>
              <a:ext cx="17654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10"/>
          <p:cNvGrpSpPr/>
          <p:nvPr/>
        </p:nvGrpSpPr>
        <p:grpSpPr>
          <a:xfrm>
            <a:off x="5631480" y="1697760"/>
            <a:ext cx="3677400" cy="3063960"/>
            <a:chOff x="5631480" y="1697760"/>
            <a:chExt cx="3677400" cy="3063960"/>
          </a:xfrm>
        </p:grpSpPr>
        <p:pic>
          <p:nvPicPr>
            <p:cNvPr id="137" name="Picture 11" descr="u=826170702,2521371466&amp;fm=0&amp;gp=46"/>
            <p:cNvPicPr/>
            <p:nvPr/>
          </p:nvPicPr>
          <p:blipFill>
            <a:blip r:embed="rId5"/>
            <a:srcRect l="60691" t="31044" r="33504" b="8899"/>
            <a:stretch/>
          </p:blipFill>
          <p:spPr>
            <a:xfrm rot="352200">
              <a:off x="7450200" y="2276640"/>
              <a:ext cx="36036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2" descr="u=3641548654,1696020474&amp;fm=3&amp;gp=49"/>
            <p:cNvPicPr/>
            <p:nvPr/>
          </p:nvPicPr>
          <p:blipFill>
            <a:blip r:embed="rId6"/>
            <a:stretch/>
          </p:blipFill>
          <p:spPr>
            <a:xfrm rot="14179200">
              <a:off x="5859000" y="213804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3" descr="u=3641548654,1696020474&amp;fm=3&amp;gp=49"/>
            <p:cNvPicPr/>
            <p:nvPr/>
          </p:nvPicPr>
          <p:blipFill>
            <a:blip r:embed="rId7"/>
            <a:stretch/>
          </p:blipFill>
          <p:spPr>
            <a:xfrm rot="20481000">
              <a:off x="7378200" y="234756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4" descr="u=3641548654,1696020474&amp;fm=3&amp;gp=49"/>
            <p:cNvPicPr/>
            <p:nvPr/>
          </p:nvPicPr>
          <p:blipFill>
            <a:blip r:embed="rId8"/>
            <a:stretch/>
          </p:blipFill>
          <p:spPr>
            <a:xfrm rot="14179200">
              <a:off x="5787720" y="2930040"/>
              <a:ext cx="1765440" cy="13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5"/>
          <p:cNvGrpSpPr/>
          <p:nvPr/>
        </p:nvGrpSpPr>
        <p:grpSpPr>
          <a:xfrm>
            <a:off x="16560" y="1697760"/>
            <a:ext cx="3677400" cy="3063960"/>
            <a:chOff x="16560" y="1697760"/>
            <a:chExt cx="3677400" cy="3063960"/>
          </a:xfrm>
        </p:grpSpPr>
        <p:pic>
          <p:nvPicPr>
            <p:cNvPr id="142" name="Picture 16" descr="u=826170702,2521371466&amp;fm=0&amp;gp=46"/>
            <p:cNvPicPr/>
            <p:nvPr/>
          </p:nvPicPr>
          <p:blipFill>
            <a:blip r:embed="rId9"/>
            <a:srcRect l="60691" t="31044" r="33504" b="8899"/>
            <a:stretch/>
          </p:blipFill>
          <p:spPr>
            <a:xfrm rot="352200">
              <a:off x="1835280" y="2276640"/>
              <a:ext cx="36036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7" descr="u=3641548654,1696020474&amp;fm=3&amp;gp=49"/>
            <p:cNvPicPr/>
            <p:nvPr/>
          </p:nvPicPr>
          <p:blipFill>
            <a:blip r:embed="rId10"/>
            <a:stretch/>
          </p:blipFill>
          <p:spPr>
            <a:xfrm rot="14179200">
              <a:off x="244080" y="213804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8" descr="u=3641548654,1696020474&amp;fm=3&amp;gp=49"/>
            <p:cNvPicPr/>
            <p:nvPr/>
          </p:nvPicPr>
          <p:blipFill>
            <a:blip r:embed="rId11"/>
            <a:stretch/>
          </p:blipFill>
          <p:spPr>
            <a:xfrm rot="20481000">
              <a:off x="1763280" y="2347560"/>
              <a:ext cx="176544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9" descr="u=3641548654,1696020474&amp;fm=3&amp;gp=49"/>
            <p:cNvPicPr/>
            <p:nvPr/>
          </p:nvPicPr>
          <p:blipFill>
            <a:blip r:embed="rId12"/>
            <a:stretch/>
          </p:blipFill>
          <p:spPr>
            <a:xfrm rot="14179200">
              <a:off x="172800" y="2930040"/>
              <a:ext cx="176544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20"/>
          <p:cNvSpPr/>
          <p:nvPr/>
        </p:nvSpPr>
        <p:spPr>
          <a:xfrm rot="1699800">
            <a:off x="410040" y="32842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4×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 rot="1699800">
            <a:off x="481680" y="24919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7×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 rot="1699800">
            <a:off x="3002760" y="386028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×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 rot="1699800">
            <a:off x="2914920" y="47764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60×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 rot="1699800">
            <a:off x="6026760" y="249192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5×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 rot="1699800">
            <a:off x="6012000" y="33364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60×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 rot="19386600">
            <a:off x="1898280" y="26395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10×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 rot="19101600">
            <a:off x="7538760" y="2781000"/>
            <a:ext cx="13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24×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 rot="19386600">
            <a:off x="4443120" y="414936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80×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20081213212417509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0" descr="2008121321249731"/>
          <p:cNvPicPr/>
          <p:nvPr/>
        </p:nvPicPr>
        <p:blipFill>
          <a:blip r:embed="rId15"/>
          <a:stretch/>
        </p:blipFill>
        <p:spPr>
          <a:xfrm>
            <a:off x="3851280" y="2565360"/>
            <a:ext cx="1508040" cy="1408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2008121321249731"/>
          <p:cNvPicPr/>
          <p:nvPr/>
        </p:nvPicPr>
        <p:blipFill>
          <a:blip r:embed="rId16"/>
          <a:stretch/>
        </p:blipFill>
        <p:spPr>
          <a:xfrm>
            <a:off x="6877080" y="1052640"/>
            <a:ext cx="1508040" cy="1407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2008121321249731"/>
          <p:cNvPicPr/>
          <p:nvPr/>
        </p:nvPicPr>
        <p:blipFill>
          <a:blip r:embed="rId17"/>
          <a:stretch/>
        </p:blipFill>
        <p:spPr>
          <a:xfrm>
            <a:off x="1258920" y="1052640"/>
            <a:ext cx="1508040" cy="14079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3"/>
          <p:cNvSpPr/>
          <p:nvPr/>
        </p:nvSpPr>
        <p:spPr>
          <a:xfrm>
            <a:off x="1549080" y="3860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4"/>
          <p:cNvSpPr/>
          <p:nvPr/>
        </p:nvSpPr>
        <p:spPr>
          <a:xfrm>
            <a:off x="4357080" y="5300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5"/>
          <p:cNvSpPr/>
          <p:nvPr/>
        </p:nvSpPr>
        <p:spPr>
          <a:xfrm>
            <a:off x="1620360" y="3068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6"/>
          <p:cNvSpPr/>
          <p:nvPr/>
        </p:nvSpPr>
        <p:spPr>
          <a:xfrm rot="20398200">
            <a:off x="3272760" y="217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7"/>
          <p:cNvSpPr/>
          <p:nvPr/>
        </p:nvSpPr>
        <p:spPr>
          <a:xfrm rot="1201200">
            <a:off x="4141080" y="4365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 rot="20710800">
            <a:off x="5722560" y="3696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 rot="1384200">
            <a:off x="7518600" y="3960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 rot="1384200">
            <a:off x="7236720" y="306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 rot="19807800">
            <a:off x="8545680" y="23094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2070000" y="-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9440" y="14130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0×50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的积是（    ）位数，积的末尾有（       ）个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最小的两位数和最小的三位数相乘，积是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07960" y="1565280"/>
            <a:ext cx="237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6720" y="4039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会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5796000" y="1989000"/>
            <a:ext cx="2808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 flipV="1">
            <a:off x="2556000" y="2349360"/>
            <a:ext cx="3960720" cy="36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484360" y="2276640"/>
            <a:ext cx="417528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484360" y="5157720"/>
            <a:ext cx="403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V="1">
            <a:off x="2627280" y="3213000"/>
            <a:ext cx="4032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411280" y="3141720"/>
            <a:ext cx="4105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24000" y="1916280"/>
            <a:ext cx="23032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9"/>
          <p:cNvSpPr txBox="1"/>
          <p:nvPr/>
        </p:nvSpPr>
        <p:spPr>
          <a:xfrm>
            <a:off x="539640" y="0"/>
            <a:ext cx="352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找朋友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1" name="Picture 10" descr="200902031130499261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4280"/>
            <a:ext cx="17845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3" name="chimes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282760" y="1341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用简便方法列竖式计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211400" y="278136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0×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15040" y="278136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40×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820120" y="278136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5×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376280" y="58608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 会  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070000" y="-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55640" y="39639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你有简单的方法来比较各个算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大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24000" y="260280"/>
            <a:ext cx="8351640" cy="374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在（  ）里填上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&gt;””&lt;“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或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=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120×20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（      ）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12×200              500×10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（      ）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10×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16×400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（      ）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210×4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              19×300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（       ）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30×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95280" y="28209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23×90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Arial"/>
              </a:rPr>
              <a:t>（    ）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23×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140360" y="281808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20×15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Arial"/>
              </a:rPr>
              <a:t>（        ）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2×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笔"/>
          <p:cNvPicPr/>
          <p:nvPr/>
        </p:nvPicPr>
        <p:blipFill>
          <a:blip r:embed="rId1"/>
          <a:srcRect l="0" t="0" r="54921" b="40602"/>
          <a:stretch/>
        </p:blipFill>
        <p:spPr>
          <a:xfrm>
            <a:off x="539640" y="404640"/>
            <a:ext cx="790560" cy="7020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3"/>
          <p:cNvSpPr/>
          <p:nvPr/>
        </p:nvSpPr>
        <p:spPr>
          <a:xfrm>
            <a:off x="1332000" y="260280"/>
            <a:ext cx="3168720" cy="1008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033640" y="43164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选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”超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095480" y="1237320"/>
            <a:ext cx="38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400×5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简便的写法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wps_clip_image-0"/>
          <p:cNvPicPr/>
          <p:nvPr/>
        </p:nvPicPr>
        <p:blipFill>
          <a:blip r:embed="rId2"/>
          <a:stretch/>
        </p:blipFill>
        <p:spPr>
          <a:xfrm>
            <a:off x="755640" y="1989000"/>
            <a:ext cx="3960720" cy="1033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458280" y="3138120"/>
            <a:ext cx="731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位数与三位数最小的积是（            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0             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             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56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积的末尾有（         ）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      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508×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它们的积是（             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20                 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20                  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17800" y="1197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149800" y="2997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64400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429080" y="522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971640" y="2852640"/>
            <a:ext cx="7488000" cy="1511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用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组成三位数乘两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数的乘法算式，你能写出几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你能写出乘积最大的算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2627280" y="836640"/>
            <a:ext cx="33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试试看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65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×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×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 =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0×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=(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60×(     )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9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(         )×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9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50920" y="836280"/>
            <a:ext cx="40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先观察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再填数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200560" y="242568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未定标题9"/>
          <p:cNvPicPr/>
          <p:nvPr/>
        </p:nvPicPr>
        <p:blipFill>
          <a:blip r:embed="rId1"/>
          <a:stretch/>
        </p:blipFill>
        <p:spPr>
          <a:xfrm>
            <a:off x="6877080" y="3230640"/>
            <a:ext cx="2484360" cy="3627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788000" y="249228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9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716360" y="328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9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276720" y="4005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2050920" y="47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6912000" cy="3603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2393280" y="4592520"/>
            <a:ext cx="50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神舟六号飞船绕地球一周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共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地球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了多少时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几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5800" y="3517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解决问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0090203113049926157"/>
          <p:cNvPicPr/>
          <p:nvPr/>
        </p:nvPicPr>
        <p:blipFill>
          <a:blip r:embed="rId1"/>
          <a:stretch/>
        </p:blipFill>
        <p:spPr>
          <a:xfrm>
            <a:off x="7164360" y="0"/>
            <a:ext cx="178452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3"/>
          <p:cNvSpPr txBox="1"/>
          <p:nvPr/>
        </p:nvSpPr>
        <p:spPr>
          <a:xfrm>
            <a:off x="1619280" y="1341360"/>
            <a:ext cx="4321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口算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311120" y="1125360"/>
            <a:ext cx="628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53200" y="675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热身运动开赛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82840" y="96192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74160" cy="2195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539640" y="1628640"/>
            <a:ext cx="4967280" cy="215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公园的一头大象一天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吃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350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千克食物，饲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员准备了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吨食物，够大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吃</a:t>
            </a: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天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因数末尾若有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先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前面的数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再看（               ）末尾一共有几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就在（        ）的末尾添几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324000" y="260280"/>
            <a:ext cx="1993680" cy="13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考考你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057400" y="259092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相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209680" y="342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两个因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10080" y="419112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826920" y="3068640"/>
            <a:ext cx="5904000" cy="31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813800" y="414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814160" y="32130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887240" y="21337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221800" y="429264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50160" y="3284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053080" y="414972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981440" y="32130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221800" y="21337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200812132124175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3024720" y="981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开心吃水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45400" y="227664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×2=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45760" y="3284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0×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17040" y="4292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×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6521040" y="33577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×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12680" y="33577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×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449760" y="2276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0×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5760" y="2276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×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713040" y="429264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0×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6521040" y="429264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×5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2009412214625247"/>
          <p:cNvPicPr/>
          <p:nvPr/>
        </p:nvPicPr>
        <p:blipFill>
          <a:blip r:embed="rId3"/>
          <a:stretch/>
        </p:blipFill>
        <p:spPr>
          <a:xfrm>
            <a:off x="1763640" y="2060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2009412214624576"/>
          <p:cNvPicPr/>
          <p:nvPr/>
        </p:nvPicPr>
        <p:blipFill>
          <a:blip r:embed="rId4"/>
          <a:stretch/>
        </p:blipFill>
        <p:spPr>
          <a:xfrm>
            <a:off x="7956720" y="1844640"/>
            <a:ext cx="936360" cy="122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2009412214623203"/>
          <p:cNvPicPr/>
          <p:nvPr/>
        </p:nvPicPr>
        <p:blipFill>
          <a:blip r:embed="rId5"/>
          <a:stretch/>
        </p:blipFill>
        <p:spPr>
          <a:xfrm>
            <a:off x="5076720" y="2565360"/>
            <a:ext cx="1212840" cy="1617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2009412214624460"/>
          <p:cNvPicPr/>
          <p:nvPr/>
        </p:nvPicPr>
        <p:blipFill>
          <a:blip r:embed="rId6"/>
          <a:stretch/>
        </p:blipFill>
        <p:spPr>
          <a:xfrm>
            <a:off x="2050920" y="3141720"/>
            <a:ext cx="1384560" cy="968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2009412214625648"/>
          <p:cNvPicPr/>
          <p:nvPr/>
        </p:nvPicPr>
        <p:blipFill>
          <a:blip r:embed="rId7"/>
          <a:stretch/>
        </p:blipFill>
        <p:spPr>
          <a:xfrm>
            <a:off x="5148360" y="1916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2009412214623665"/>
          <p:cNvPicPr/>
          <p:nvPr/>
        </p:nvPicPr>
        <p:blipFill>
          <a:blip r:embed="rId8"/>
          <a:stretch/>
        </p:blipFill>
        <p:spPr>
          <a:xfrm>
            <a:off x="7740720" y="3213000"/>
            <a:ext cx="1403280" cy="86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2009412214624109"/>
          <p:cNvPicPr/>
          <p:nvPr/>
        </p:nvPicPr>
        <p:blipFill>
          <a:blip r:embed="rId9"/>
          <a:stretch/>
        </p:blipFill>
        <p:spPr>
          <a:xfrm>
            <a:off x="1908000" y="4149720"/>
            <a:ext cx="1152720" cy="96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2009412214624576"/>
          <p:cNvPicPr/>
          <p:nvPr/>
        </p:nvPicPr>
        <p:blipFill>
          <a:blip r:embed="rId10"/>
          <a:stretch/>
        </p:blipFill>
        <p:spPr>
          <a:xfrm>
            <a:off x="5435640" y="4076640"/>
            <a:ext cx="78084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2009412214625247"/>
          <p:cNvPicPr/>
          <p:nvPr/>
        </p:nvPicPr>
        <p:blipFill>
          <a:blip r:embed="rId11"/>
          <a:stretch/>
        </p:blipFill>
        <p:spPr>
          <a:xfrm>
            <a:off x="7667640" y="400536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因数中间或末尾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468360" y="1413000"/>
            <a:ext cx="2881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三位数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笔"/>
          <p:cNvPicPr/>
          <p:nvPr/>
        </p:nvPicPr>
        <p:blipFill>
          <a:blip r:embed="rId1"/>
          <a:srcRect l="0" t="0" r="54921" b="40602"/>
          <a:stretch/>
        </p:blipFill>
        <p:spPr>
          <a:xfrm>
            <a:off x="466560" y="693720"/>
            <a:ext cx="790920" cy="7016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1295280" y="533520"/>
            <a:ext cx="3168720" cy="1008000"/>
          </a:xfrm>
          <a:prstGeom prst="horizontalScroll">
            <a:avLst>
              <a:gd name="adj" fmla="val 12500"/>
            </a:avLst>
          </a:prstGeom>
          <a:solidFill>
            <a:srgbClr val="0066ff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19636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639880" y="1484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6×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458800" y="19152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口算：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先用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6×3=318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再在积的末尾添上一个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81840" y="234828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笔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450080" y="2921760"/>
            <a:ext cx="656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6                  106                 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× 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×   3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×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                 3180                3080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627280" y="3716280"/>
            <a:ext cx="792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5219640" y="2637000"/>
            <a:ext cx="0" cy="187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7236000" y="2708280"/>
            <a:ext cx="0" cy="187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4789800" y="3652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789960" y="3652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505960" y="5151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正确不简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666320" y="450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简便又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6857640" y="501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ZA05a9-73"/>
          <p:cNvPicPr/>
          <p:nvPr/>
        </p:nvPicPr>
        <p:blipFill>
          <a:blip r:embed="rId1"/>
          <a:stretch/>
        </p:blipFill>
        <p:spPr>
          <a:xfrm>
            <a:off x="6516720" y="436572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047525016361"/>
          <p:cNvPicPr/>
          <p:nvPr/>
        </p:nvPicPr>
        <p:blipFill>
          <a:blip r:embed="rId2"/>
          <a:stretch/>
        </p:blipFill>
        <p:spPr>
          <a:xfrm>
            <a:off x="3995640" y="333360"/>
            <a:ext cx="3168720" cy="191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Q2009512144925"/>
          <p:cNvPicPr/>
          <p:nvPr/>
        </p:nvPicPr>
        <p:blipFill>
          <a:blip r:embed="rId3"/>
          <a:stretch/>
        </p:blipFill>
        <p:spPr>
          <a:xfrm>
            <a:off x="250920" y="2492280"/>
            <a:ext cx="2592360" cy="217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047_thumb_G_1252212933659"/>
          <p:cNvPicPr/>
          <p:nvPr/>
        </p:nvPicPr>
        <p:blipFill>
          <a:blip r:embed="rId4"/>
          <a:stretch/>
        </p:blipFill>
        <p:spPr>
          <a:xfrm>
            <a:off x="4859280" y="2708280"/>
            <a:ext cx="2521080" cy="1584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692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回   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067280" y="2276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823040" y="4653000"/>
            <a:ext cx="10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459200" y="3500280"/>
            <a:ext cx="13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814640" y="602136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顺水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逆水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5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口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×3= 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X100=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0×30= 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列竖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 0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 0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 flipV="1">
            <a:off x="1828800" y="36576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4080" y="5486400"/>
            <a:ext cx="11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1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117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117,5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例：特快列车１小时可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06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千米，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时行多少千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008080105033240"/>
          <p:cNvPicPr/>
          <p:nvPr/>
        </p:nvPicPr>
        <p:blipFill>
          <a:blip r:embed="rId1"/>
          <a:stretch/>
        </p:blipFill>
        <p:spPr>
          <a:xfrm>
            <a:off x="609480" y="1905120"/>
            <a:ext cx="480060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62120" y="48769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60X  30 = 4800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千米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26960" y="5715000"/>
            <a:ext cx="52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答：特快列车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时行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800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千米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2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20090203113049926157"/>
          <p:cNvPicPr/>
          <p:nvPr/>
        </p:nvPicPr>
        <p:blipFill>
          <a:blip r:embed="rId1"/>
          <a:stretch/>
        </p:blipFill>
        <p:spPr>
          <a:xfrm>
            <a:off x="7308720" y="-92160"/>
            <a:ext cx="1784520" cy="2801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311120" y="1125360"/>
            <a:ext cx="628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12280" y="684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我会算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82840" y="96192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37720" y="213300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0×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794960" y="14835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简便方法列竖式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3611160" y="221004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0×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5880" y="22082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5×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07:46:24Z</dcterms:created>
  <dc:creator/>
  <dc:description/>
  <cp:keywords/>
  <dc:language>en-US</dc:language>
  <cp:lastModifiedBy>Administrator</cp:lastModifiedBy>
  <dcterms:modified xsi:type="dcterms:W3CDTF">2015-02-18T11:39:15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